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5FE-A9A2-4238-B73E-D7A51B69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921-4528-4338-B38A-993488C4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BF6-6635-4FDA-817C-F03659A0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66CE-4EED-4B3B-B29E-E48CFD03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F3A-68DB-4DA4-B77F-A5D9E103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180-B897-4724-8890-125A2556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A14-7B2F-4EDB-8DFF-C81A506E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3D4-53AA-4D34-830E-85ECD7D3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FAB-D3E0-4F6F-8CEB-89281239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B36-5F20-4DB8-A0D5-E2474894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FC2-D1AD-49B6-A7A0-47B33CA3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E91-7421-4A3B-B633-F5BBD91E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8313-0512-40AF-A571-EE9F9B196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68360" y="-98280"/>
            <a:ext cx="59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卡通简体"/>
              </a:rPr>
              <a:t>中秋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卡通简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卡通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中秋月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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岁岁，十五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年年，团圆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你不在时，我就是月圆的整个天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24000" y="6210360"/>
            <a:ext cx="3934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中秋月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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这一回这一轮镜月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再也照不到我娘亲的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妈妈，天堂可否有月圆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24000" y="6210360"/>
            <a:ext cx="3934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19C-E9F8-45CE-9949-7457D48FC4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中秋月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一轮金色的荡漾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载满人间的相思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再把团圆的美酒向天下有情人赏赐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中秋月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用光和热将自己装满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再把一腔热情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洒向瑟瑟的秋天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210360"/>
            <a:ext cx="3934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方正毡笔黑简体"/>
              </a:rPr>
              <a:t>永远的中秋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19680" y="1557360"/>
            <a:ext cx="33890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6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秋之夜，月色皎洁，古人把圆月视为团圆的象征，因此，又称八月十五为“团圆节”。古往今来，人们常用“月圆、月缺” 来形容“悲欢离合”，客居他乡的游子，更是以月来寄托深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白“举头望明月，低头思故乡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杜甫“露从今夜白，月是故乡明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安石“春风又绿江南岸，明月何时照我还”等诗句，都是千古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唱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十五夜望月》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王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庭地白树栖鸦，冷露无声湿桂花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夜月明人尽望，不知秋思落谁家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6210360"/>
            <a:ext cx="3934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1346" r="0" b="0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620244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小篆体"/>
              </a:rPr>
              <a:t>望月怀远</a:t>
            </a:r>
            <a:br>
              <a:rPr sz="40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张九龄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3640" y="5157720"/>
            <a:ext cx="475308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海上生明月，天涯共此时。</a:t>
            </a:r>
            <a:br>
              <a:rPr sz="2400"/>
            </a:b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情人怨遥夜，竟夕起相思！</a:t>
            </a:r>
            <a:br>
              <a:rPr sz="2400"/>
            </a:b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灭烛怜光满，披衣觉露滋。</a:t>
            </a:r>
            <a:br>
              <a:rPr sz="2400"/>
            </a:b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不堪盈手赠，还寝梦佳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4720" y="2925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月下独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980640"/>
            <a:ext cx="6191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李白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花间一壶酒，独酌无相亲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举杯邀明月，对影成三人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既不解饮，影徒随我身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暂伴月将影，行乐须及春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歌月徘徊，我舞影零乱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醒时同交欢，醉后各分散。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永结无情游，相期邈云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6021360"/>
            <a:ext cx="3933720" cy="647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33720" y="5680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秋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秋的月亮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是那么惆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似一洼秋水的悲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蕴着我无可奈何的感伤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借你纤纤的手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剪一缕朦胧月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我把今夜的孤独收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八月的桂花开始了飘香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我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也找不到了来时的方向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6210360"/>
            <a:ext cx="3934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秋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那也算作一次分离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我年轻的心中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否可以原谅你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像落叶可以原谅野风 无礼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春可以原谅岁月 将她抹去 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蟋蟀停止了吵闹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石榴树挂满了羞红的果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后那一场雨淋湿了野玫瑰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他们说湖边的玫瑰喜欢歌）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会不会坐在月下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听我唱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听我的歌飞进山林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飞越湖水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飞向那一轮圆月 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24000" y="6210360"/>
            <a:ext cx="3934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551664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对中秋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展现你诗人的情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创作一首属于你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秋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21346" r="0" b="0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33720" y="64692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8:35:41Z</dcterms:created>
  <dc:creator>fjp</dc:creator>
  <dc:description/>
  <dc:language>en-US</dc:language>
  <cp:lastModifiedBy>news</cp:lastModifiedBy>
  <dcterms:modified xsi:type="dcterms:W3CDTF">2015-07-21T03:03:43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