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41036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4DA1-D482-4FCF-8AF8-757EE501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822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371680"/>
            <a:ext cx="822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F0BA-AB3C-476F-8157-03C25203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3716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3716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C51-17AC-4A77-AD12-8DDA113D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568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568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3716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3716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3716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030-7A77-4FF8-8BA4-2C2DC3CE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5688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4C3-4834-482B-9FF0-AA3CE3E5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E6E-1A78-4B8A-9D22-63ED9301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3EF3-B4F0-4A46-8806-9C6302E5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A216-8D55-4FB7-BA98-759F0C0A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5240"/>
            <a:ext cx="82296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521-CDEF-416C-8A00-AD170554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3716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53E-EC83-4E39-B0E4-99C98C34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3716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0427-7307-4E90-BA59-BC5BE4CE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371680"/>
            <a:ext cx="822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A00-6C7D-4FB9-B9E3-00DF0ED7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5688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82760" indent="-185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2680" indent="-148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40040" indent="-148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3803760"/>
            <a:ext cx="213372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3803760"/>
            <a:ext cx="289584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3803760"/>
            <a:ext cx="213372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EEAB-239B-485D-9707-AACB49FB0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3.png"/><Relationship Id="rId22" Type="http://schemas.openxmlformats.org/officeDocument/2006/relationships/image" Target="../media/image4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8.png"/><Relationship Id="rId27" Type="http://schemas.openxmlformats.org/officeDocument/2006/relationships/image" Target="../media/image9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13" descr=""/>
          <p:cNvPicPr/>
          <p:nvPr/>
        </p:nvPicPr>
        <p:blipFill>
          <a:blip r:embed="rId16"/>
          <a:stretch/>
        </p:blipFill>
        <p:spPr>
          <a:xfrm>
            <a:off x="7920" y="4680"/>
            <a:ext cx="9137520" cy="4102200"/>
          </a:xfrm>
          <a:prstGeom prst="rect">
            <a:avLst/>
          </a:prstGeom>
          <a:ln w="0">
            <a:noFill/>
          </a:ln>
        </p:spPr>
      </p:pic>
      <p:sp>
        <p:nvSpPr>
          <p:cNvPr id="43" name="椭圆 25"/>
          <p:cNvSpPr/>
          <p:nvPr/>
        </p:nvSpPr>
        <p:spPr>
          <a:xfrm rot="18124200">
            <a:off x="222840" y="-1653480"/>
            <a:ext cx="4535640" cy="453708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椭圆 24"/>
          <p:cNvSpPr/>
          <p:nvPr/>
        </p:nvSpPr>
        <p:spPr>
          <a:xfrm rot="18124200">
            <a:off x="343080" y="-1623960"/>
            <a:ext cx="4535280" cy="453528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23"/>
          <p:cNvSpPr/>
          <p:nvPr/>
        </p:nvSpPr>
        <p:spPr>
          <a:xfrm rot="18124200">
            <a:off x="-525240" y="-833400"/>
            <a:ext cx="4535280" cy="453564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椭圆 1"/>
          <p:cNvSpPr/>
          <p:nvPr/>
        </p:nvSpPr>
        <p:spPr>
          <a:xfrm rot="18124200">
            <a:off x="343080" y="-1652760"/>
            <a:ext cx="4535640" cy="453528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12" descr=""/>
          <p:cNvPicPr/>
          <p:nvPr/>
        </p:nvPicPr>
        <p:blipFill>
          <a:blip r:embed="rId21"/>
          <a:stretch/>
        </p:blipFill>
        <p:spPr>
          <a:xfrm>
            <a:off x="4365720" y="1047600"/>
            <a:ext cx="4782960" cy="3060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4" descr=""/>
          <p:cNvPicPr/>
          <p:nvPr/>
        </p:nvPicPr>
        <p:blipFill>
          <a:blip r:embed="rId22"/>
          <a:stretch/>
        </p:blipFill>
        <p:spPr>
          <a:xfrm>
            <a:off x="-7920" y="3240"/>
            <a:ext cx="5462640" cy="41036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5" descr=""/>
          <p:cNvPicPr/>
          <p:nvPr/>
        </p:nvPicPr>
        <p:blipFill>
          <a:blip r:embed="rId23"/>
          <a:stretch/>
        </p:blipFill>
        <p:spPr>
          <a:xfrm>
            <a:off x="-7920" y="-4680"/>
            <a:ext cx="2809800" cy="31050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6" descr=""/>
          <p:cNvPicPr/>
          <p:nvPr/>
        </p:nvPicPr>
        <p:blipFill>
          <a:blip r:embed="rId24"/>
          <a:stretch/>
        </p:blipFill>
        <p:spPr>
          <a:xfrm>
            <a:off x="2490840" y="1076400"/>
            <a:ext cx="2152440" cy="20890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7" descr=""/>
          <p:cNvPicPr/>
          <p:nvPr/>
        </p:nvPicPr>
        <p:blipFill>
          <a:blip r:embed="rId25"/>
          <a:stretch/>
        </p:blipFill>
        <p:spPr>
          <a:xfrm>
            <a:off x="1581120" y="-34920"/>
            <a:ext cx="2058840" cy="32004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1" descr=""/>
          <p:cNvPicPr/>
          <p:nvPr/>
        </p:nvPicPr>
        <p:blipFill>
          <a:blip r:embed="rId26"/>
          <a:stretch/>
        </p:blipFill>
        <p:spPr>
          <a:xfrm>
            <a:off x="-6480" y="2573280"/>
            <a:ext cx="3497400" cy="15303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8" descr=""/>
          <p:cNvPicPr/>
          <p:nvPr/>
        </p:nvPicPr>
        <p:blipFill>
          <a:blip r:embed="rId27"/>
          <a:stretch/>
        </p:blipFill>
        <p:spPr>
          <a:xfrm>
            <a:off x="2789280" y="2500200"/>
            <a:ext cx="558720" cy="11350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9"/>
          <p:cNvSpPr/>
          <p:nvPr/>
        </p:nvSpPr>
        <p:spPr>
          <a:xfrm>
            <a:off x="3902760" y="395280"/>
            <a:ext cx="47314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25126"/>
                </a:solidFill>
                <a:latin typeface="隶书"/>
                <a:ea typeface="隶书"/>
              </a:rPr>
              <a:t>花好月圆日中秋喜相逢明月寓团圆祝福寄友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25126"/>
                </a:solidFill>
                <a:latin typeface="隶书"/>
                <a:ea typeface="隶书"/>
              </a:rPr>
              <a:t>愿生活如圆月，梦想皆达成，幸福明月光，伴你天下行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25126"/>
                </a:solidFill>
                <a:latin typeface="隶书"/>
                <a:ea typeface="隶书"/>
              </a:rPr>
              <a:t>中秋快乐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10" descr=""/>
          <p:cNvPicPr/>
          <p:nvPr/>
        </p:nvPicPr>
        <p:blipFill>
          <a:blip r:embed="rId28"/>
          <a:stretch/>
        </p:blipFill>
        <p:spPr>
          <a:xfrm>
            <a:off x="2490840" y="1076400"/>
            <a:ext cx="2152440" cy="20890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0" descr=""/>
          <p:cNvPicPr/>
          <p:nvPr/>
        </p:nvPicPr>
        <p:blipFill>
          <a:blip r:embed="rId29"/>
          <a:stretch/>
        </p:blipFill>
        <p:spPr>
          <a:xfrm>
            <a:off x="1581120" y="-34920"/>
            <a:ext cx="2058840" cy="32004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1" descr=""/>
          <p:cNvPicPr/>
          <p:nvPr/>
        </p:nvPicPr>
        <p:blipFill>
          <a:blip r:embed="rId30"/>
          <a:stretch/>
        </p:blipFill>
        <p:spPr>
          <a:xfrm>
            <a:off x="2490840" y="1076400"/>
            <a:ext cx="2152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22" descr=""/>
          <p:cNvPicPr/>
          <p:nvPr/>
        </p:nvPicPr>
        <p:blipFill>
          <a:blip r:embed="rId31"/>
          <a:stretch/>
        </p:blipFill>
        <p:spPr>
          <a:xfrm>
            <a:off x="1581120" y="-34920"/>
            <a:ext cx="2058840" cy="3200400"/>
          </a:xfrm>
          <a:prstGeom prst="rect">
            <a:avLst/>
          </a:prstGeom>
          <a:ln w="0">
            <a:noFill/>
          </a:ln>
        </p:spPr>
      </p:pic>
      <p:sp>
        <p:nvSpPr>
          <p:cNvPr id="59" name="矩形 1"/>
          <p:cNvSpPr/>
          <p:nvPr/>
        </p:nvSpPr>
        <p:spPr>
          <a:xfrm>
            <a:off x="2424960" y="-733320"/>
            <a:ext cx="45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中秋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节日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12"/>
          <p:cNvSpPr/>
          <p:nvPr/>
        </p:nvSpPr>
        <p:spPr>
          <a:xfrm>
            <a:off x="260280" y="36925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3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4462E-006 C -0.00226 0.04524 0.00416 0.20418 -0.01354 0.27223 C -0.03125 0.34029 -0.08698 0.38012 -0.10625 0.40835 E">
                                      <p:cBhvr>
                                        <p:cTn id="8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4462E-006 C -0.00226 0.04524 0.00416 0.20418 -0.01354 0.27223 C -0.03125 0.34029 -0.08698 0.38012 -0.10625 0.40835 E">
                                      <p:cBhvr>
                                        <p:cTn id="8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9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1.14462E-006 C -0.00226 0.04524 0.00416 0.20418 -0.01354 0.27223 C -0.03125 0.34029 -0.08698 0.38012 -0.10625 0.40835 E">
                                      <p:cBhvr>
                                        <p:cTn id="95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5400000">
                                      <p:cBhvr>
                                        <p:cTn id="10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1.14462E-006 C -0.00226 0.04524 0.00416 0.20418 -0.01354 0.27223 C -0.03125 0.34029 -0.08698 0.38012 -0.10625 0.40835 E">
                                      <p:cBhvr>
                                        <p:cTn id="102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2320"/>
            <a:ext cx="820728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760320"/>
            <a:ext cx="8928000" cy="31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200160"/>
            <a:ext cx="138888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1T03:16:11Z</dcterms:modified>
  <cp:revision>1</cp:revision>
  <dc:subject/>
  <dc:title>PowerPoint 演示文稿</dc:title>
</cp:coreProperties>
</file>