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09D-899F-4CE5-A2E5-4494CCD8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617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71440" y="3766680"/>
            <a:ext cx="617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A50-18F9-4EE4-BCD7-27D45889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340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71440" y="376668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34040" y="376668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B64-CCF5-4DA9-943B-6D404031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8360" y="121932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45280" y="121932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71440" y="376668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058360" y="376668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45280" y="376668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216-33EF-49FA-9105-FC38DB1F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71440" y="12193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8DF-5F6C-4E08-B071-DC97EEAA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198-5627-4A0B-B677-B73ACB4D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3011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34040" y="1219320"/>
            <a:ext cx="3011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BE91-118E-4E2E-80B6-D6ED46B9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44E-EB61-4DBC-8E5F-51B7F122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71440" y="-360"/>
            <a:ext cx="6172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3F8-E37B-4595-8096-9B25B9EC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34040" y="1219320"/>
            <a:ext cx="3011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71440" y="376668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792-8E48-4520-A313-44346F26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3011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340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34040" y="376668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B4A-8897-4EDA-89C3-8ED76370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340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71440" y="3766680"/>
            <a:ext cx="617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48A-73FD-457C-91B3-08BBCADB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71440" y="12193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B112-A7F6-481C-8053-7E303E4C2D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971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d817"/>
                </a:solidFill>
                <a:latin typeface="Arial"/>
                <a:ea typeface="宋体"/>
              </a:rPr>
              <a:t>足球</a:t>
            </a:r>
            <a:r>
              <a:rPr b="1" i="1" lang="en-US" sz="4000" spc="-1" strike="noStrike">
                <a:solidFill>
                  <a:srgbClr val="ffd817"/>
                </a:solidFill>
                <a:latin typeface="Arial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d817"/>
                </a:solidFill>
                <a:latin typeface="Arial"/>
                <a:ea typeface="宋体"/>
              </a:rPr>
              <a:t>简约模板免费下载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42667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590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Transitional Page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987640" y="6237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20:00Z</dcterms:created>
  <dc:creator>微软中国</dc:creator>
  <dc:description/>
  <cp:keywords/>
  <dc:language>en-US</dc:language>
  <cp:lastModifiedBy>a</cp:lastModifiedBy>
  <dcterms:modified xsi:type="dcterms:W3CDTF">2015-07-21T04:47:24Z</dcterms:modified>
  <cp:revision>4</cp:revision>
  <dc:subject/>
  <dc:title>4●4●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