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73A4-7129-4511-B5F8-68EEF15CB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6FDA-77A0-4C62-9A04-5C9F9E03F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9694-D14A-4436-AD78-CA1D0713D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426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99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426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99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40DF-25D7-4D2C-B3B0-D830DF95F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67005-F65B-4027-8F4F-7FE69257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71194-5465-4F66-B493-A2BC317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25C33-0E90-4F65-AF61-AE19E76D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A41AE-BBC9-40BC-B6CD-F6A9B8F3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05575-5278-45BE-BC89-0F20563B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47406-5D53-4276-A783-CB4971A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0904-C522-4B83-898A-A27BC9B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808C-27E8-4772-B698-C7106E5FD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19B75-2E7B-4B83-8D90-27A497F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5D8C1-5707-456C-B8D9-A95FE17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ADEA4-1939-4CEA-9185-78FB90E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55319-25E6-449A-9607-C161B68F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426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9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426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9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1CB07-6208-46FD-AB1E-196B2973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49D3-77E6-4DE1-82DB-4E3CCFB0D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D08D-A4DC-4750-87EF-7BACC2CEC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A48F-040E-4CBB-8DBA-82A114E4F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1E53-8E42-4AB0-A238-6439C35D3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717F-1CA7-40B6-8485-6367B3F83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1B10-A649-4599-BA0E-845D9E3C7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358B-AB81-48C5-B060-BA77D56C4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e1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84780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392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333360"/>
            <a:ext cx="611280" cy="653724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e1d0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e1d0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6"/>
          <p:cNvGraphicFramePr/>
          <p:nvPr/>
        </p:nvGraphicFramePr>
        <p:xfrm>
          <a:off x="0" y="223920"/>
          <a:ext cx="6066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3920"/>
                    <a:ext cx="606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b9d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b9d5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6C48-DEA3-42F4-9089-396302699F12}" type="slidenum"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547640" y="0"/>
            <a:ext cx="6985080" cy="63086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4857840" y="0"/>
          <a:ext cx="3666960" cy="20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7840" y="0"/>
                    <a:ext cx="36669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5"/>
          <p:cNvSpPr/>
          <p:nvPr/>
        </p:nvSpPr>
        <p:spPr>
          <a:xfrm>
            <a:off x="1547640" y="4076640"/>
            <a:ext cx="6985080" cy="720720"/>
          </a:xfrm>
          <a:prstGeom prst="rect">
            <a:avLst/>
          </a:prstGeom>
          <a:solidFill>
            <a:srgbClr val="e1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4857840" y="1987560"/>
            <a:ext cx="3673440" cy="2089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193320" y="228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b9d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b9d5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3080" y="6553080"/>
            <a:ext cx="1905120" cy="16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1d091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910D-308D-40D0-B2C8-F7FE15D6C1FC}" type="slidenum">
              <a:rPr b="0" lang="en-US" sz="1400" spc="-1" strike="noStrike">
                <a:solidFill>
                  <a:srgbClr val="e1d091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57200" y="656424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365724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endParaRPr b="1" lang="en-US" sz="4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525680" y="30492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166e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46200" y="5234760"/>
            <a:ext cx="6988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95520" y="5335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证券投资分析概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5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行业分析  </a:t>
            </a:r>
            <a:r>
              <a:rPr b="1" lang="zh-CN" sz="2800" spc="-1" strike="noStrike">
                <a:solidFill>
                  <a:srgbClr val="fef9e2"/>
                </a:solidFill>
                <a:latin typeface="Verdana"/>
              </a:rPr>
              <a:t>有未来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4600" y="3581280"/>
            <a:ext cx="2970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朝阳行业前途无量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Verdana"/>
                <a:ea typeface="宋体"/>
              </a:rPr>
              <a:t>节能环保</a:t>
            </a: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Verdana"/>
                <a:ea typeface="宋体"/>
              </a:rPr>
              <a:t>新兴信息产业</a:t>
            </a: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Verdana"/>
                <a:ea typeface="宋体"/>
              </a:rPr>
              <a:t>生物产业</a:t>
            </a: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Verdana"/>
                <a:ea typeface="宋体"/>
              </a:rPr>
              <a:t>新能源</a:t>
            </a: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Verdana"/>
                <a:ea typeface="宋体"/>
              </a:rPr>
              <a:t>新能源汽车</a:t>
            </a: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Verdana"/>
                <a:ea typeface="宋体"/>
              </a:rPr>
              <a:t>高端装备制造业</a:t>
            </a: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Verdana"/>
                <a:ea typeface="宋体"/>
              </a:rPr>
              <a:t>新材料</a:t>
            </a: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</p:txBody>
      </p:sp>
      <p:pic>
        <p:nvPicPr>
          <p:cNvPr id="196" name="Picture 4" descr="未命名"/>
          <p:cNvPicPr/>
          <p:nvPr/>
        </p:nvPicPr>
        <p:blipFill>
          <a:blip r:embed="rId1"/>
          <a:stretch/>
        </p:blipFill>
        <p:spPr>
          <a:xfrm>
            <a:off x="990720" y="914400"/>
            <a:ext cx="2514600" cy="2666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未命名"/>
          <p:cNvPicPr/>
          <p:nvPr/>
        </p:nvPicPr>
        <p:blipFill>
          <a:blip r:embed="rId2"/>
          <a:stretch/>
        </p:blipFill>
        <p:spPr>
          <a:xfrm>
            <a:off x="4495680" y="3809880"/>
            <a:ext cx="4000680" cy="24066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4572000" y="838080"/>
            <a:ext cx="26668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1cb"/>
                </a:solidFill>
                <a:latin typeface="Arial"/>
                <a:ea typeface="宋体"/>
              </a:rPr>
              <a:t>夕阳行业黯淡无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Arial"/>
              </a:rPr>
              <a:t>郎咸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Arial"/>
              </a:rPr>
              <a:t>没有夕阳行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Arial"/>
              </a:rPr>
              <a:t>只有夕阳思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Arial"/>
                <a:ea typeface="宋体"/>
              </a:rPr>
              <a:t>胶卷行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c4d36"/>
                </a:solidFill>
                <a:latin typeface="Arial"/>
                <a:ea typeface="宋体"/>
              </a:rPr>
              <a:t>手机：诺基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7238880" y="190512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微软雅黑"/>
              </a:rPr>
              <a:t>植物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微软雅黑"/>
              </a:rPr>
              <a:t>不治之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200400" y="426708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微软雅黑"/>
              </a:rPr>
              <a:t>四有青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038480" y="68580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公司分析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819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财务报表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所在行业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产品和市场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文化和管理层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实地考察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876920" y="1371600"/>
            <a:ext cx="41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女怕嫁错郎 男怕入错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不是大家都喜欢都要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欲治兵 先选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接地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双箭头 798"/>
          <p:cNvSpPr/>
          <p:nvPr/>
        </p:nvSpPr>
        <p:spPr>
          <a:xfrm flipV="1">
            <a:off x="3048120" y="17524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双箭头 799"/>
          <p:cNvSpPr/>
          <p:nvPr/>
        </p:nvSpPr>
        <p:spPr>
          <a:xfrm flipV="1">
            <a:off x="3048120" y="25142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7"/>
          <p:cNvCxnSpPr>
            <a:endCxn id="206" idx="1"/>
          </p:cNvCxnSpPr>
          <p:nvPr/>
        </p:nvCxnSpPr>
        <p:spPr>
          <a:xfrm>
            <a:off x="3352680" y="3276360"/>
            <a:ext cx="152496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0" name="双箭头 801"/>
          <p:cNvSpPr/>
          <p:nvPr/>
        </p:nvSpPr>
        <p:spPr>
          <a:xfrm>
            <a:off x="3505320" y="373392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9"/>
          <p:cNvCxnSpPr/>
          <p:nvPr/>
        </p:nvCxnSpPr>
        <p:spPr>
          <a:xfrm>
            <a:off x="2742840" y="4343040"/>
            <a:ext cx="2057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9e2"/>
                </a:solidFill>
                <a:latin typeface="Verdana"/>
                <a:ea typeface="宋体"/>
              </a:rPr>
              <a:t>策略方法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c4d36"/>
              </a:solidFill>
              <a:latin typeface="Verdan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1828800" y="990720"/>
            <a:ext cx="6248160" cy="914040"/>
            <a:chOff x="1828800" y="990720"/>
            <a:chExt cx="6248160" cy="914040"/>
          </a:xfrm>
        </p:grpSpPr>
        <p:sp>
          <p:nvSpPr>
            <p:cNvPr id="216" name="AutoShape 5"/>
            <p:cNvSpPr/>
            <p:nvPr/>
          </p:nvSpPr>
          <p:spPr>
            <a:xfrm>
              <a:off x="2332440" y="1149480"/>
              <a:ext cx="574452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aea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爱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学习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强自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6"/>
            <p:cNvSpPr/>
            <p:nvPr/>
          </p:nvSpPr>
          <p:spPr>
            <a:xfrm>
              <a:off x="1828800" y="990720"/>
              <a:ext cx="906840" cy="91404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7"/>
            <p:cNvSpPr/>
            <p:nvPr/>
          </p:nvSpPr>
          <p:spPr>
            <a:xfrm>
              <a:off x="2634840" y="1223280"/>
              <a:ext cx="45349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8"/>
            <p:cNvSpPr/>
            <p:nvPr/>
          </p:nvSpPr>
          <p:spPr>
            <a:xfrm>
              <a:off x="2063160" y="1121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ef9e2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1906560" y="5029200"/>
            <a:ext cx="6170040" cy="990360"/>
            <a:chOff x="1906560" y="5029200"/>
            <a:chExt cx="6170040" cy="990360"/>
          </a:xfrm>
        </p:grpSpPr>
        <p:sp>
          <p:nvSpPr>
            <p:cNvPr id="221" name="AutoShape 10"/>
            <p:cNvSpPr/>
            <p:nvPr/>
          </p:nvSpPr>
          <p:spPr>
            <a:xfrm>
              <a:off x="2403720" y="5201280"/>
              <a:ext cx="5672880" cy="660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aea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擒贼擒王 龙头股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强势个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1906560" y="5029200"/>
              <a:ext cx="895680" cy="99036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2702520" y="5281200"/>
              <a:ext cx="44787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3"/>
            <p:cNvSpPr/>
            <p:nvPr/>
          </p:nvSpPr>
          <p:spPr>
            <a:xfrm>
              <a:off x="2135520" y="5171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ef9e2"/>
                  </a:solidFill>
                  <a:latin typeface="Arial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4"/>
          <p:cNvGrpSpPr/>
          <p:nvPr/>
        </p:nvGrpSpPr>
        <p:grpSpPr>
          <a:xfrm>
            <a:off x="1830240" y="4038480"/>
            <a:ext cx="6246720" cy="914040"/>
            <a:chOff x="1830240" y="4038480"/>
            <a:chExt cx="6246720" cy="914040"/>
          </a:xfrm>
        </p:grpSpPr>
        <p:sp>
          <p:nvSpPr>
            <p:cNvPr id="226" name="AutoShape 15"/>
            <p:cNvSpPr/>
            <p:nvPr/>
          </p:nvSpPr>
          <p:spPr>
            <a:xfrm>
              <a:off x="2333880" y="4197240"/>
              <a:ext cx="574308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aea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顺势而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6"/>
            <p:cNvSpPr/>
            <p:nvPr/>
          </p:nvSpPr>
          <p:spPr>
            <a:xfrm>
              <a:off x="1830240" y="4038480"/>
              <a:ext cx="906840" cy="91404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2635920" y="4271040"/>
              <a:ext cx="4534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8"/>
            <p:cNvSpPr/>
            <p:nvPr/>
          </p:nvSpPr>
          <p:spPr>
            <a:xfrm>
              <a:off x="2064240" y="4169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ef9e2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9"/>
          <p:cNvGrpSpPr/>
          <p:nvPr/>
        </p:nvGrpSpPr>
        <p:grpSpPr>
          <a:xfrm>
            <a:off x="1828800" y="3048120"/>
            <a:ext cx="6248160" cy="914040"/>
            <a:chOff x="1828800" y="3048120"/>
            <a:chExt cx="6248160" cy="914040"/>
          </a:xfrm>
        </p:grpSpPr>
        <p:sp>
          <p:nvSpPr>
            <p:cNvPr id="231" name="AutoShape 20"/>
            <p:cNvSpPr/>
            <p:nvPr/>
          </p:nvSpPr>
          <p:spPr>
            <a:xfrm>
              <a:off x="2332440" y="3206880"/>
              <a:ext cx="574452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aea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定位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掌控局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21"/>
            <p:cNvSpPr/>
            <p:nvPr/>
          </p:nvSpPr>
          <p:spPr>
            <a:xfrm>
              <a:off x="1828800" y="3048120"/>
              <a:ext cx="906840" cy="91404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2634840" y="3280680"/>
              <a:ext cx="45349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3"/>
            <p:cNvSpPr/>
            <p:nvPr/>
          </p:nvSpPr>
          <p:spPr>
            <a:xfrm>
              <a:off x="2063160" y="3178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ef9e2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1830240" y="1981080"/>
            <a:ext cx="6246720" cy="990360"/>
            <a:chOff x="1830240" y="1981080"/>
            <a:chExt cx="6246720" cy="990360"/>
          </a:xfrm>
        </p:grpSpPr>
        <p:sp>
          <p:nvSpPr>
            <p:cNvPr id="236" name="AutoShape 25"/>
            <p:cNvSpPr/>
            <p:nvPr/>
          </p:nvSpPr>
          <p:spPr>
            <a:xfrm>
              <a:off x="2333880" y="2153160"/>
              <a:ext cx="5743080" cy="660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aea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结果控制过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6"/>
            <p:cNvSpPr/>
            <p:nvPr/>
          </p:nvSpPr>
          <p:spPr>
            <a:xfrm>
              <a:off x="1830240" y="1981080"/>
              <a:ext cx="906840" cy="99036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7"/>
            <p:cNvSpPr/>
            <p:nvPr/>
          </p:nvSpPr>
          <p:spPr>
            <a:xfrm>
              <a:off x="2635920" y="2233080"/>
              <a:ext cx="45342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8"/>
            <p:cNvSpPr/>
            <p:nvPr/>
          </p:nvSpPr>
          <p:spPr>
            <a:xfrm>
              <a:off x="2064240" y="2122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ef9e2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429000" y="5257800"/>
          <a:ext cx="2374920" cy="108900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08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截断亏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让利润奔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定位 </a:t>
            </a:r>
            <a:r>
              <a:rPr b="1" lang="zh-CN" sz="2800" spc="-1" strike="noStrike">
                <a:solidFill>
                  <a:srgbClr val="fef9e2"/>
                </a:solidFill>
                <a:latin typeface="Verdana"/>
              </a:rPr>
              <a:t>掌控局面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828800" y="29718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不是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一定会犯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334120" y="114300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迷不悟 越亏越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局面失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05520" y="2895480"/>
            <a:ext cx="392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设止损位置 严格止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山再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828800" y="1066680"/>
            <a:ext cx="238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不尊重市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偏不信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809880" y="1447920"/>
            <a:ext cx="1524240" cy="533160"/>
          </a:xfrm>
          <a:prstGeom prst="rightArrow">
            <a:avLst>
              <a:gd name="adj1" fmla="val 50000"/>
              <a:gd name="adj2" fmla="val 71472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3581280" y="3048120"/>
            <a:ext cx="1524240" cy="533160"/>
          </a:xfrm>
          <a:prstGeom prst="rightArrow">
            <a:avLst>
              <a:gd name="adj1" fmla="val 50000"/>
              <a:gd name="adj2" fmla="val 71472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8580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rot="8400000">
            <a:off x="1143000" y="2057400"/>
            <a:ext cx="853920" cy="852480"/>
          </a:xfrm>
          <a:custGeom>
            <a:avLst/>
            <a:gdLst>
              <a:gd name="textAreaLeft" fmla="*/ 121680 w 853920"/>
              <a:gd name="textAreaRight" fmla="*/ 731880 w 85392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d3a5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3733920" y="4038480"/>
            <a:ext cx="1752480" cy="1143000"/>
          </a:xfrm>
          <a:prstGeom prst="downArrowCallout">
            <a:avLst>
              <a:gd name="adj1" fmla="val 38334"/>
              <a:gd name="adj2" fmla="val 38331"/>
              <a:gd name="adj3" fmla="val 16667"/>
              <a:gd name="adj4" fmla="val 66667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出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做结果控制过程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3505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想清楚结果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提前做好各种预案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85800" y="3505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现象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06:00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起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现象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B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闹钟坏了，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06:20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起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现象</a:t>
            </a: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C </a:t>
            </a: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：睡过头了，</a:t>
            </a: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06:45</a:t>
            </a: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起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4952880" y="1143000"/>
            <a:ext cx="304920" cy="4191120"/>
          </a:xfrm>
          <a:prstGeom prst="downArrow">
            <a:avLst>
              <a:gd name="adj1" fmla="val 50000"/>
              <a:gd name="adj2" fmla="val 343625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715000" y="35053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预案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A 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：地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预案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B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：改乘出租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预案</a:t>
            </a: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C </a:t>
            </a:r>
            <a:r>
              <a:rPr b="0" lang="zh-CN" sz="2400" spc="-1" strike="noStrike">
                <a:solidFill>
                  <a:srgbClr val="80030f"/>
                </a:solidFill>
                <a:latin typeface="Arial"/>
                <a:ea typeface="宋体"/>
              </a:rPr>
              <a:t>：改签或退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105520" y="14479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坐飞机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客观条件：地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租车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14600" y="5486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止损位   仓位控制     止盈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结果  赚钱是唯一的目标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504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逐利是资本天性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好股票一生守候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坏股票及早分手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6668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Arial"/>
                <a:ea typeface="宋体"/>
              </a:rPr>
              <a:t>买股票，就像找老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Arial"/>
                <a:ea typeface="宋体"/>
              </a:rPr>
              <a:t>只有好女人才值得用一生去守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Arial"/>
                <a:ea typeface="宋体"/>
              </a:rPr>
              <a:t>遭遇坏女人，最好立刻离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4495680" y="1905120"/>
            <a:ext cx="838440" cy="2666880"/>
          </a:xfrm>
          <a:prstGeom prst="downArrow">
            <a:avLst>
              <a:gd name="adj1" fmla="val 50000"/>
              <a:gd name="adj2" fmla="val 79519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未命名"/>
          <p:cNvPicPr/>
          <p:nvPr/>
        </p:nvPicPr>
        <p:blipFill>
          <a:blip r:embed="rId1"/>
          <a:stretch/>
        </p:blipFill>
        <p:spPr>
          <a:xfrm>
            <a:off x="5867280" y="1066680"/>
            <a:ext cx="27338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顺势而为：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做趋势的跟随者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63560" y="914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本趋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等趋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短期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85800" y="990720"/>
            <a:ext cx="30492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d3a5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6095880" y="990720"/>
            <a:ext cx="30492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d3a5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3276720" y="99072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d3a5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未命名"/>
          <p:cNvPicPr/>
          <p:nvPr/>
        </p:nvPicPr>
        <p:blipFill>
          <a:blip r:embed="rId1"/>
          <a:stretch/>
        </p:blipFill>
        <p:spPr>
          <a:xfrm>
            <a:off x="990720" y="1752480"/>
            <a:ext cx="76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注重成本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9520" y="16002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下跌补仓 越陷越深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吸毒上瘾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企稳补仓 降低成本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整装重来</a:t>
            </a: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及时止损 保住本金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亡羊补牢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不频繁交易 省手续费    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不为券商打工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419720" y="2819520"/>
            <a:ext cx="1904760" cy="228600"/>
          </a:xfrm>
          <a:prstGeom prst="rightArrow">
            <a:avLst>
              <a:gd name="adj1" fmla="val 50000"/>
              <a:gd name="adj2" fmla="val 208307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648320" y="480060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4572000" y="3809880"/>
            <a:ext cx="1905120" cy="228600"/>
          </a:xfrm>
          <a:prstGeom prst="rightArrow">
            <a:avLst>
              <a:gd name="adj1" fmla="val 50000"/>
              <a:gd name="adj2" fmla="val 208346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4419720" y="1828800"/>
            <a:ext cx="1904760" cy="228600"/>
          </a:xfrm>
          <a:prstGeom prst="rightArrow">
            <a:avLst>
              <a:gd name="adj1" fmla="val 50000"/>
              <a:gd name="adj2" fmla="val 208307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d091"/>
                </a:solidFill>
                <a:latin typeface="Verdana"/>
                <a:ea typeface="宋体"/>
              </a:rPr>
              <a:t>用数据说话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6095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技术分析：均线理论 黄蓝带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分析：经济数据 公司报表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解析：盈亏分析 量化统计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pic>
        <p:nvPicPr>
          <p:cNvPr id="283" name="Picture 4" descr="未命名"/>
          <p:cNvPicPr/>
          <p:nvPr/>
        </p:nvPicPr>
        <p:blipFill>
          <a:blip r:embed="rId1"/>
          <a:stretch/>
        </p:blipFill>
        <p:spPr>
          <a:xfrm>
            <a:off x="5105520" y="3886200"/>
            <a:ext cx="3619440" cy="24004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7012080" y="2286000"/>
            <a:ext cx="17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  <a:ea typeface="微软雅黑"/>
              </a:rPr>
              <a:t>闻   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7620120" y="3200400"/>
            <a:ext cx="6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543800" y="1371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434960" y="43243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未命名"/>
          <p:cNvPicPr/>
          <p:nvPr/>
        </p:nvPicPr>
        <p:blipFill>
          <a:blip r:embed="rId2"/>
          <a:stretch/>
        </p:blipFill>
        <p:spPr>
          <a:xfrm>
            <a:off x="1905120" y="4038480"/>
            <a:ext cx="2028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会造势，借势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581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主力炒作 必有东风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东风来源 级别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东风持久性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114800" y="4648320"/>
            <a:ext cx="47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诸葛亮一夜东风烧掉曹操百万大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三十六计第一计  瞒天过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未命名"/>
          <p:cNvPicPr/>
          <p:nvPr/>
        </p:nvPicPr>
        <p:blipFill>
          <a:blip r:embed="rId1"/>
          <a:stretch/>
        </p:blipFill>
        <p:spPr>
          <a:xfrm>
            <a:off x="4495680" y="152388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2133720" y="1676520"/>
            <a:ext cx="5181120" cy="914040"/>
            <a:chOff x="2133720" y="1676520"/>
            <a:chExt cx="5181120" cy="914040"/>
          </a:xfrm>
        </p:grpSpPr>
        <p:sp>
          <p:nvSpPr>
            <p:cNvPr id="105" name="AutoShape 5"/>
            <p:cNvSpPr/>
            <p:nvPr/>
          </p:nvSpPr>
          <p:spPr>
            <a:xfrm>
              <a:off x="2551320" y="1835280"/>
              <a:ext cx="476352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4d36"/>
                </a:gs>
                <a:gs pos="100000">
                  <a:srgbClr val="e3d9d4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2133720" y="1676520"/>
              <a:ext cx="752040" cy="91404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2801880" y="1909080"/>
              <a:ext cx="376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市场制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2321640" y="180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2135160" y="2743200"/>
            <a:ext cx="5179680" cy="837720"/>
            <a:chOff x="2135160" y="2743200"/>
            <a:chExt cx="5179680" cy="837720"/>
          </a:xfrm>
        </p:grpSpPr>
        <p:sp>
          <p:nvSpPr>
            <p:cNvPr id="110" name="AutoShape 10"/>
            <p:cNvSpPr/>
            <p:nvPr/>
          </p:nvSpPr>
          <p:spPr>
            <a:xfrm>
              <a:off x="2552760" y="2888640"/>
              <a:ext cx="4762080" cy="558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6ec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2135160" y="2743200"/>
              <a:ext cx="751680" cy="83772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2803320" y="2956320"/>
              <a:ext cx="375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市场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2322720" y="286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133720" y="3733920"/>
            <a:ext cx="5181120" cy="837720"/>
            <a:chOff x="2133720" y="3733920"/>
            <a:chExt cx="5181120" cy="837720"/>
          </a:xfrm>
        </p:grpSpPr>
        <p:sp>
          <p:nvSpPr>
            <p:cNvPr id="115" name="AutoShape 15"/>
            <p:cNvSpPr/>
            <p:nvPr/>
          </p:nvSpPr>
          <p:spPr>
            <a:xfrm>
              <a:off x="2551320" y="3879360"/>
              <a:ext cx="4763520" cy="558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aea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6"/>
            <p:cNvSpPr/>
            <p:nvPr/>
          </p:nvSpPr>
          <p:spPr>
            <a:xfrm>
              <a:off x="2133720" y="3733920"/>
              <a:ext cx="752040" cy="83772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2801880" y="3947040"/>
              <a:ext cx="376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策略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2321640" y="385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9e2"/>
                </a:solidFill>
                <a:latin typeface="Verdana"/>
                <a:ea typeface="宋体"/>
              </a:rPr>
              <a:t>擒贼擒王：关注龙头股</a:t>
            </a:r>
            <a:r>
              <a:rPr b="1" lang="zh-CN" sz="3200" spc="-1" strike="noStrike">
                <a:solidFill>
                  <a:srgbClr val="fef9e2"/>
                </a:solidFill>
                <a:latin typeface="Verdana"/>
              </a:rPr>
              <a:t>强势个性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84240" y="1352520"/>
            <a:ext cx="762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019920" y="4267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放量先行   涨停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一个吃螃蟹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915840" y="1295280"/>
            <a:ext cx="37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于大势   拒绝回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独立 易于常人 不跟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2286000" y="1066680"/>
            <a:ext cx="585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762120" y="5257800"/>
            <a:ext cx="42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价格较低，十元以下为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只有低价，才能成为大众情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867280" y="2133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同板块 多数上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以类聚人以群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3886200" y="205740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5943600" y="2971800"/>
            <a:ext cx="1066680" cy="1295280"/>
          </a:xfrm>
          <a:prstGeom prst="downArrow">
            <a:avLst>
              <a:gd name="adj1" fmla="val 50000"/>
              <a:gd name="adj2" fmla="val 30358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>
            <a:off x="4267080" y="5029200"/>
            <a:ext cx="2210040" cy="533520"/>
          </a:xfrm>
          <a:prstGeom prst="leftArrow">
            <a:avLst>
              <a:gd name="adj1" fmla="val 50000"/>
              <a:gd name="adj2" fmla="val 103559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914400" y="2362320"/>
            <a:ext cx="609480" cy="2666880"/>
          </a:xfrm>
          <a:prstGeom prst="upArrow">
            <a:avLst>
              <a:gd name="adj1" fmla="val 50000"/>
              <a:gd name="adj2" fmla="val 109392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981080" y="2666880"/>
            <a:ext cx="3429000" cy="1981440"/>
          </a:xfrm>
          <a:prstGeom prst="ellipse">
            <a:avLst/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4"/>
          <p:cNvSpPr txBox="1"/>
          <p:nvPr/>
        </p:nvSpPr>
        <p:spPr>
          <a:xfrm>
            <a:off x="2590920" y="2971800"/>
            <a:ext cx="228600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闭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寻找龙头股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敏感洞察力强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3962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羊群效应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枪打出头鸟 走向看头羊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良医治未病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物极必反 适时退出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pic>
        <p:nvPicPr>
          <p:cNvPr id="311" name="Picture 4" descr="未命名"/>
          <p:cNvPicPr/>
          <p:nvPr/>
        </p:nvPicPr>
        <p:blipFill>
          <a:blip r:embed="rId1"/>
          <a:stretch/>
        </p:blipFill>
        <p:spPr>
          <a:xfrm>
            <a:off x="3276720" y="3581280"/>
            <a:ext cx="5630760" cy="26672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5784840" y="1246320"/>
            <a:ext cx="25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市场龙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638680" y="22860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华尔街经典案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搽皮鞋的人给投资大师推荐股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371600" y="1523880"/>
          <a:ext cx="6629400" cy="106668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方法创新：跑不赢指数  买指数基金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ET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简单创新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447920" y="3581280"/>
            <a:ext cx="67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换一个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一个犹太人借银行保险柜存放贵重物品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爱</a:t>
            </a:r>
            <a:r>
              <a:rPr b="1" lang="zh-CN" sz="2800" spc="-1" strike="noStrike">
                <a:solidFill>
                  <a:srgbClr val="fef9e2"/>
                </a:solidFill>
                <a:latin typeface="Verdana"/>
              </a:rPr>
              <a:t>学习</a:t>
            </a: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 强自己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态度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活到老 学到老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不怨天尤人，增加专业修养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方法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研究新技术 新模式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学习成功经验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研究失败案例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pic>
        <p:nvPicPr>
          <p:cNvPr id="321" name="Picture 4" descr="未命名"/>
          <p:cNvPicPr/>
          <p:nvPr/>
        </p:nvPicPr>
        <p:blipFill>
          <a:blip r:embed="rId1"/>
          <a:stretch/>
        </p:blipFill>
        <p:spPr>
          <a:xfrm>
            <a:off x="4879800" y="1276200"/>
            <a:ext cx="3915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57200" y="656424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2"/>
          <p:cNvSpPr txBox="1"/>
          <p:nvPr/>
        </p:nvSpPr>
        <p:spPr>
          <a:xfrm>
            <a:off x="2286000" y="29718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b9d53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b9d53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344320" y="4191120"/>
            <a:ext cx="4452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c4d36"/>
                </a:solidFill>
                <a:latin typeface="Verdana"/>
              </a:rPr>
              <a:t>www.</a:t>
            </a:r>
            <a:r>
              <a:rPr b="0" lang="en-US" sz="2400" spc="-1" strike="noStrike">
                <a:solidFill>
                  <a:srgbClr val="7c4d36"/>
                </a:solidFill>
                <a:latin typeface="Verdana"/>
                <a:ea typeface="宋体"/>
              </a:rPr>
              <a:t>eeppt</a:t>
            </a:r>
            <a:r>
              <a:rPr b="0" lang="zh-CN" sz="2400" spc="-1" strike="noStrike">
                <a:solidFill>
                  <a:srgbClr val="7c4d36"/>
                </a:solidFill>
                <a:latin typeface="Verdana"/>
              </a:rPr>
              <a:t>.com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d091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6A12F-853A-4E0C-99EA-996717AEE7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9e2"/>
                </a:solidFill>
                <a:latin typeface="Verdana"/>
                <a:ea typeface="宋体"/>
              </a:rPr>
              <a:t>市场制度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c4d36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05120" y="1295280"/>
            <a:ext cx="5943240" cy="1142640"/>
            <a:chOff x="1905120" y="1295280"/>
            <a:chExt cx="5943240" cy="1142640"/>
          </a:xfrm>
        </p:grpSpPr>
        <p:sp>
          <p:nvSpPr>
            <p:cNvPr id="123" name="AutoShape 5"/>
            <p:cNvSpPr/>
            <p:nvPr/>
          </p:nvSpPr>
          <p:spPr>
            <a:xfrm>
              <a:off x="2384280" y="1493640"/>
              <a:ext cx="546408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4d36"/>
                </a:gs>
                <a:gs pos="100000">
                  <a:srgbClr val="e3d9d4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交易制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1905120" y="1295280"/>
              <a:ext cx="862560" cy="114264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2671560" y="1586160"/>
              <a:ext cx="431388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2146320" y="145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1982880" y="2666880"/>
            <a:ext cx="5865480" cy="1142640"/>
            <a:chOff x="1982880" y="2666880"/>
            <a:chExt cx="5865480" cy="1142640"/>
          </a:xfrm>
        </p:grpSpPr>
        <p:sp>
          <p:nvSpPr>
            <p:cNvPr id="128" name="AutoShape 10"/>
            <p:cNvSpPr/>
            <p:nvPr/>
          </p:nvSpPr>
          <p:spPr>
            <a:xfrm>
              <a:off x="2455560" y="2865240"/>
              <a:ext cx="539280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4d36"/>
                </a:gs>
                <a:gs pos="100000">
                  <a:srgbClr val="e3d9d4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红制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"/>
            <p:cNvSpPr/>
            <p:nvPr/>
          </p:nvSpPr>
          <p:spPr>
            <a:xfrm>
              <a:off x="1982880" y="2666880"/>
              <a:ext cx="851400" cy="114264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2739600" y="2957760"/>
              <a:ext cx="42573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2218680" y="2830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ef9e2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1981080" y="3962520"/>
            <a:ext cx="5790600" cy="1142640"/>
            <a:chOff x="1981080" y="3962520"/>
            <a:chExt cx="5790600" cy="1142640"/>
          </a:xfrm>
        </p:grpSpPr>
        <p:sp>
          <p:nvSpPr>
            <p:cNvPr id="133" name="AutoShape 15"/>
            <p:cNvSpPr/>
            <p:nvPr/>
          </p:nvSpPr>
          <p:spPr>
            <a:xfrm>
              <a:off x="2447640" y="4160880"/>
              <a:ext cx="532404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4d36"/>
                </a:gs>
                <a:gs pos="100000">
                  <a:srgbClr val="e3d9d4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信用交易制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6"/>
            <p:cNvSpPr/>
            <p:nvPr/>
          </p:nvSpPr>
          <p:spPr>
            <a:xfrm>
              <a:off x="1981080" y="3962520"/>
              <a:ext cx="840600" cy="114264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7"/>
            <p:cNvSpPr/>
            <p:nvPr/>
          </p:nvSpPr>
          <p:spPr>
            <a:xfrm>
              <a:off x="2728080" y="4253400"/>
              <a:ext cx="42033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2211480" y="4125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ef9e2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066680" y="54864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9e2"/>
                </a:solidFill>
                <a:latin typeface="Verdana"/>
                <a:ea typeface="宋体"/>
              </a:rPr>
              <a:t>交易制度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3360" y="1142640"/>
            <a:ext cx="510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集合竞价： 二级批发时段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上午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15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至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</a:rPr>
              <a:t>25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一般交易：零售时段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9:30-11:30  13:00-15:00 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大宗交易：甩卖阶段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15:00-15:30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T+1/T+0</a:t>
            </a: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交易制度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Verdana"/>
                <a:ea typeface="宋体"/>
              </a:rPr>
              <a:t>涨跌停板制度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f9e2"/>
                </a:solidFill>
                <a:latin typeface="Verdana"/>
                <a:ea typeface="宋体"/>
              </a:rPr>
              <a:t>守时：分红制度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43" name="AutoShape 3"/>
          <p:cNvSpPr/>
          <p:nvPr/>
        </p:nvSpPr>
        <p:spPr>
          <a:xfrm flipH="1">
            <a:off x="4876920" y="30481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5880" y="4495680"/>
            <a:ext cx="2610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除权除息日是指上市公司发放股息红利的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90720" y="4648320"/>
            <a:ext cx="153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办酒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791320" y="1143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股权登记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当天卖出股票不能参与分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38276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领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未命名"/>
          <p:cNvPicPr/>
          <p:nvPr/>
        </p:nvPicPr>
        <p:blipFill>
          <a:blip r:embed="rId1"/>
          <a:stretch/>
        </p:blipFill>
        <p:spPr>
          <a:xfrm>
            <a:off x="2590920" y="2057400"/>
            <a:ext cx="2877840" cy="27241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1"/>
          <p:cNvSpPr/>
          <p:nvPr/>
        </p:nvSpPr>
        <p:spPr>
          <a:xfrm flipV="1">
            <a:off x="2286000" y="1522800"/>
            <a:ext cx="3429000" cy="304920"/>
          </a:xfrm>
          <a:prstGeom prst="rightArrow">
            <a:avLst>
              <a:gd name="adj1" fmla="val 50000"/>
              <a:gd name="adj2" fmla="val 281139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 flipV="1">
            <a:off x="2514600" y="5105520"/>
            <a:ext cx="3429000" cy="304560"/>
          </a:xfrm>
          <a:prstGeom prst="rightArrow">
            <a:avLst>
              <a:gd name="adj1" fmla="val 50000"/>
              <a:gd name="adj2" fmla="val 281472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6477120" y="2362320"/>
            <a:ext cx="761760" cy="2057400"/>
          </a:xfrm>
          <a:prstGeom prst="downArrow">
            <a:avLst>
              <a:gd name="adj1" fmla="val 50000"/>
              <a:gd name="adj2" fmla="val 67521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7315200" y="251460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交易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信用交易  </a:t>
            </a:r>
            <a:r>
              <a:rPr b="1" lang="zh-CN" sz="2800" spc="-1" strike="noStrike">
                <a:solidFill>
                  <a:srgbClr val="fef9e2"/>
                </a:solidFill>
                <a:latin typeface="Verdana"/>
              </a:rPr>
              <a:t>放大操作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0400" y="1219320"/>
            <a:ext cx="2436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融资交易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融券交易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股指期货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pic>
        <p:nvPicPr>
          <p:cNvPr id="158" name="Picture 4" descr="未命名"/>
          <p:cNvPicPr/>
          <p:nvPr/>
        </p:nvPicPr>
        <p:blipFill>
          <a:blip r:embed="rId1"/>
          <a:stretch/>
        </p:blipFill>
        <p:spPr>
          <a:xfrm>
            <a:off x="4800600" y="3733920"/>
            <a:ext cx="4000680" cy="2549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477120" y="175248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益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风险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3352680" y="2057400"/>
            <a:ext cx="2819520" cy="838080"/>
          </a:xfrm>
          <a:prstGeom prst="flowChartDecision">
            <a:avLst/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杠杆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38080" y="4800600"/>
            <a:ext cx="36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1cb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501cb"/>
                </a:solidFill>
                <a:latin typeface="Arial"/>
                <a:ea typeface="宋体"/>
              </a:rPr>
              <a:t>块钱干</a:t>
            </a:r>
            <a:r>
              <a:rPr b="0" lang="zh-CN" sz="2800" spc="-1" strike="noStrike">
                <a:solidFill>
                  <a:srgbClr val="0501cb"/>
                </a:solidFill>
                <a:latin typeface="Arial"/>
                <a:ea typeface="宋体"/>
              </a:rPr>
              <a:t>100</a:t>
            </a:r>
            <a:r>
              <a:rPr b="0" lang="zh-CN" sz="2800" spc="-1" strike="noStrike">
                <a:solidFill>
                  <a:srgbClr val="0501cb"/>
                </a:solidFill>
                <a:latin typeface="Arial"/>
                <a:ea typeface="宋体"/>
              </a:rPr>
              <a:t>块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9e2"/>
                </a:solidFill>
                <a:latin typeface="Verdana"/>
                <a:ea typeface="宋体"/>
              </a:rPr>
              <a:t>市场分析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219320" y="1447920"/>
            <a:ext cx="7390800" cy="1218600"/>
            <a:chOff x="1219320" y="1447920"/>
            <a:chExt cx="7390800" cy="1218600"/>
          </a:xfrm>
        </p:grpSpPr>
        <p:sp>
          <p:nvSpPr>
            <p:cNvPr id="166" name="AutoShape 5"/>
            <p:cNvSpPr/>
            <p:nvPr/>
          </p:nvSpPr>
          <p:spPr>
            <a:xfrm>
              <a:off x="1815120" y="1659600"/>
              <a:ext cx="6795000" cy="81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6ec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宏观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"/>
            <p:cNvSpPr/>
            <p:nvPr/>
          </p:nvSpPr>
          <p:spPr>
            <a:xfrm>
              <a:off x="1219320" y="1447920"/>
              <a:ext cx="1072800" cy="121860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"/>
            <p:cNvSpPr/>
            <p:nvPr/>
          </p:nvSpPr>
          <p:spPr>
            <a:xfrm>
              <a:off x="2172600" y="1757880"/>
              <a:ext cx="53643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533600" y="1622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9"/>
          <p:cNvGrpSpPr/>
          <p:nvPr/>
        </p:nvGrpSpPr>
        <p:grpSpPr>
          <a:xfrm>
            <a:off x="1219320" y="2819520"/>
            <a:ext cx="7390800" cy="1218600"/>
            <a:chOff x="1219320" y="2819520"/>
            <a:chExt cx="7390800" cy="1218600"/>
          </a:xfrm>
        </p:grpSpPr>
        <p:sp>
          <p:nvSpPr>
            <p:cNvPr id="171" name="AutoShape 10"/>
            <p:cNvSpPr/>
            <p:nvPr/>
          </p:nvSpPr>
          <p:spPr>
            <a:xfrm>
              <a:off x="1815120" y="3031200"/>
              <a:ext cx="6795000" cy="81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6ec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行业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1"/>
            <p:cNvSpPr/>
            <p:nvPr/>
          </p:nvSpPr>
          <p:spPr>
            <a:xfrm>
              <a:off x="1219320" y="2819520"/>
              <a:ext cx="1072800" cy="121860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2172600" y="3129480"/>
              <a:ext cx="53643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533600" y="2994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1219320" y="4267080"/>
            <a:ext cx="7390800" cy="1218960"/>
            <a:chOff x="1219320" y="4267080"/>
            <a:chExt cx="7390800" cy="1218960"/>
          </a:xfrm>
        </p:grpSpPr>
        <p:sp>
          <p:nvSpPr>
            <p:cNvPr id="176" name="AutoShape 15"/>
            <p:cNvSpPr/>
            <p:nvPr/>
          </p:nvSpPr>
          <p:spPr>
            <a:xfrm>
              <a:off x="1815120" y="4478760"/>
              <a:ext cx="6795000" cy="81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6ecdb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公司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6"/>
            <p:cNvSpPr/>
            <p:nvPr/>
          </p:nvSpPr>
          <p:spPr>
            <a:xfrm>
              <a:off x="1219320" y="4267080"/>
              <a:ext cx="1072800" cy="121896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172600" y="4577400"/>
              <a:ext cx="536436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1533600" y="4441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宏观分析 </a:t>
            </a:r>
            <a:r>
              <a:rPr b="1" lang="zh-CN" sz="2800" spc="-1" strike="noStrike">
                <a:solidFill>
                  <a:srgbClr val="fef9e2"/>
                </a:solidFill>
                <a:latin typeface="Verdana"/>
              </a:rPr>
              <a:t>顾全大局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371600"/>
            <a:ext cx="2438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宏观因素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产业因素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区域因素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d36"/>
                </a:solidFill>
                <a:latin typeface="Verdana"/>
                <a:ea typeface="宋体"/>
              </a:rPr>
              <a:t>公司因素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7913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宋体"/>
              </a:rPr>
              <a:t>诸葛亮茅庐定三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724280" y="1143000"/>
            <a:ext cx="457200" cy="5105520"/>
          </a:xfrm>
          <a:prstGeom prst="downArrow">
            <a:avLst>
              <a:gd name="adj1" fmla="val 50000"/>
              <a:gd name="adj2" fmla="val 279173"/>
            </a:avLst>
          </a:prstGeom>
          <a:solidFill>
            <a:srgbClr val="d3a5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791320" y="2590920"/>
            <a:ext cx="26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</a:rPr>
              <a:t>操拥百万之众，挟天子而令诸侯</a:t>
            </a: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r>
              <a:rPr b="1" lang="zh-CN" sz="2000" spc="-1" strike="noStrike">
                <a:solidFill>
                  <a:srgbClr val="692aa2"/>
                </a:solidFill>
                <a:latin typeface="Arial"/>
              </a:rPr>
              <a:t>孙权据江东，历三世，国险而民附，此可为援而不可图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867280" y="4648320"/>
            <a:ext cx="27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</a:rPr>
              <a:t>荆州</a:t>
            </a: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宋体"/>
              </a:rPr>
              <a:t>、</a:t>
            </a:r>
            <a:r>
              <a:rPr b="1" lang="zh-CN" sz="2000" spc="-1" strike="noStrike">
                <a:solidFill>
                  <a:srgbClr val="692aa2"/>
                </a:solidFill>
                <a:latin typeface="Arial"/>
              </a:rPr>
              <a:t>益州乃用武之地，应用荆州刘表、益州刘璋不能守成</a:t>
            </a: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f9e2"/>
                </a:solidFill>
                <a:latin typeface="Verdana"/>
                <a:ea typeface="宋体"/>
              </a:rPr>
              <a:t>敢于</a:t>
            </a:r>
            <a:r>
              <a:rPr b="1" lang="zh-CN" sz="2800" spc="-1" strike="noStrike">
                <a:solidFill>
                  <a:srgbClr val="fef9e2"/>
                </a:solidFill>
                <a:latin typeface="Verdana"/>
              </a:rPr>
              <a:t>冒险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购买力风险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（人民币）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经营风险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（做生意）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操作性风险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7c4d36"/>
                </a:solidFill>
                <a:latin typeface="Verdana"/>
                <a:ea typeface="宋体"/>
              </a:rPr>
              <a:t>（操作失误）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38760" y="990720"/>
            <a:ext cx="4000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块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套房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块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半个茅房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257800" y="35053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有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也有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257800" y="480060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乌龙指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技术性故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a</cp:lastModifiedBy>
  <dcterms:modified xsi:type="dcterms:W3CDTF">2015-07-20T08:04:09Z</dcterms:modified>
  <cp:revision>5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