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F94-9D9A-4FAF-A696-8F3A0555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F89-C872-4E34-A317-F88DAEFF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207-80EC-4E30-8AB0-6CEA67F0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3D3-25FF-4C90-9EFB-9464B908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1CA5-9592-4501-A082-1BA7B086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3931-143F-47DB-9A00-2E231991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9D50-16A5-4B1A-878F-4AF03D1E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B53F-B3B9-47EE-94CE-1EDBC58F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D35A-A514-4470-A6C2-0B432F1C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9B68-D591-4DCD-B25F-B24C0F01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941A-0455-4DD8-A1A0-E2EC8618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E0A-7BC7-4773-B1E0-0A4F4561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BB56-BDC7-40D1-B26C-1A67DE6B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9556-3437-447A-9422-2E2D28B8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54B8-71BE-452F-97CE-73AF1416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28BC-80F9-4D9C-A885-1CE388F2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ACA2-B9EF-4E15-972A-4343A4F7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C1C-6740-4AA2-B51D-CB48533F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0D4-9D99-4925-BE8D-0E8ADCB0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A811-4246-4184-AAD0-804502BA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26A-4AB0-4E3D-B3A4-5BDBF282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AE97-024D-40E2-9F0A-030F23BA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2C4F-7130-4419-8405-C8061A4C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171-D0CC-4751-BBCF-1E8D7FD9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BF42-3B9C-437C-9E53-844C3B8968D2}" type="slidenum">
              <a:rPr b="0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E71A-9902-4AEA-9DAB-93C30A027797}" type="slidenum">
              <a:rPr b="0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  <p:sp>
        <p:nvSpPr>
          <p:cNvPr id="83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휴먼매직체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휴먼매직체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휴먼매직체"/>
            </a:endParaRPr>
          </a:p>
        </p:txBody>
      </p:sp>
      <p:sp>
        <p:nvSpPr>
          <p:cNvPr id="84" name=""/>
          <p:cNvSpPr/>
          <p:nvPr/>
        </p:nvSpPr>
        <p:spPr>
          <a:xfrm>
            <a:off x="2218680" y="1173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휴먼매직체"/>
              </a:rPr>
              <a:t>自然生态平衡</a:t>
            </a:r>
            <a:r>
              <a:rPr b="0" lang="zh-CN" sz="4000" spc="-1" strike="noStrike">
                <a:solidFill>
                  <a:srgbClr val="000000"/>
                </a:solidFill>
                <a:latin typeface="휴먼매직체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휴먼매직체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휴먼매직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860400" y="12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  <p:pic>
        <p:nvPicPr>
          <p:cNvPr id="107" name="Picture 6" descr="http://cbingoimage.naver.com/data/bingo_23/imgbingo_81/cho8592/3882/cho8592_30.jpg"/>
          <p:cNvPicPr/>
          <p:nvPr/>
        </p:nvPicPr>
        <p:blipFill>
          <a:blip r:embed="rId2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휴먼매직체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휴먼매직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51CE-358A-4040-8505-730BE5F762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6324480"/>
            <a:ext cx="4800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매직체"/>
              </a:rPr>
              <a:t>ppt</a:t>
            </a:r>
            <a:r>
              <a:rPr b="0" lang="ko-KR" sz="1800" spc="-1" strike="noStrike">
                <a:solidFill>
                  <a:srgbClr val="000000"/>
                </a:solidFill>
                <a:latin typeface="휴먼매직체"/>
              </a:rPr>
              <a:t>模板素材</a:t>
            </a:r>
            <a:r>
              <a:rPr b="0" lang="zh-CN" sz="1800" spc="-1" strike="noStrike">
                <a:solidFill>
                  <a:srgbClr val="000000"/>
                </a:solidFill>
                <a:latin typeface="휴먼매직체"/>
              </a:rPr>
              <a:t> </a:t>
            </a:r>
            <a:r>
              <a:rPr b="0" lang="ko-KR" sz="1800" spc="-1" strike="noStrike" u="sng">
                <a:solidFill>
                  <a:srgbClr val="009999"/>
                </a:solidFill>
                <a:uFillTx/>
                <a:latin typeface="휴먼매직체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97488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  <p:pic>
        <p:nvPicPr>
          <p:cNvPr id="86" name="Picture 6" descr="http://cbingoimage.naver.com/data/bingo_23/imgbingo_81/cho8592/3882/cho8592_8.jpg"/>
          <p:cNvPicPr/>
          <p:nvPr/>
        </p:nvPicPr>
        <p:blipFill>
          <a:blip r:embed="rId2">
            <a:lum bright="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6110280"/>
            <a:ext cx="4800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매직체"/>
              </a:rPr>
              <a:t>ppt</a:t>
            </a:r>
            <a:r>
              <a:rPr b="0" lang="ko-KR" sz="1800" spc="-1" strike="noStrike">
                <a:solidFill>
                  <a:srgbClr val="000000"/>
                </a:solidFill>
                <a:latin typeface="휴먼매직체"/>
              </a:rPr>
              <a:t>模板素材</a:t>
            </a:r>
            <a:r>
              <a:rPr b="0" lang="zh-CN" sz="1800" spc="-1" strike="noStrike">
                <a:solidFill>
                  <a:srgbClr val="000000"/>
                </a:solidFill>
                <a:latin typeface="휴먼매직체"/>
              </a:rPr>
              <a:t> </a:t>
            </a:r>
            <a:r>
              <a:rPr b="0" lang="ko-KR" sz="1800" spc="-1" strike="noStrike" u="sng">
                <a:solidFill>
                  <a:srgbClr val="009999"/>
                </a:solidFill>
                <a:uFillTx/>
                <a:latin typeface="휴먼매직체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168444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  <p:pic>
        <p:nvPicPr>
          <p:cNvPr id="92" name="Picture 6" descr="http://cbingoimage.naver.com/data/bingo_23/imgbingo_81/cho8592/3882/cho8592_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6324480"/>
            <a:ext cx="4800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매직체"/>
              </a:rPr>
              <a:t>ppt</a:t>
            </a:r>
            <a:r>
              <a:rPr b="0" lang="ko-KR" sz="1800" spc="-1" strike="noStrike">
                <a:solidFill>
                  <a:srgbClr val="000000"/>
                </a:solidFill>
                <a:latin typeface="휴먼매직체"/>
              </a:rPr>
              <a:t>模板素材</a:t>
            </a:r>
            <a:r>
              <a:rPr b="0" lang="zh-CN" sz="1800" spc="-1" strike="noStrike">
                <a:solidFill>
                  <a:srgbClr val="000000"/>
                </a:solidFill>
                <a:latin typeface="휴먼매직체"/>
              </a:rPr>
              <a:t> </a:t>
            </a:r>
            <a:r>
              <a:rPr b="0" lang="ko-KR" sz="1800" spc="-1" strike="noStrike" u="sng">
                <a:solidFill>
                  <a:srgbClr val="009999"/>
                </a:solidFill>
                <a:uFillTx/>
                <a:latin typeface="휴먼매직체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http://cbingoimage.naver.com/data/bingo_23/imgbingo_81/cho8592/3882/cho8592_25.jpg"/>
          <p:cNvPicPr/>
          <p:nvPr/>
        </p:nvPicPr>
        <p:blipFill>
          <a:blip r:embed="rId2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0" y="44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0" y="44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0" y="44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0" y="44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  <p:sp>
        <p:nvSpPr>
          <p:cNvPr id="10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매직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5T06:16:00Z</dcterms:created>
  <dc:creator/>
  <dc:description/>
  <dc:language>en-US</dc:language>
  <cp:lastModifiedBy/>
  <dcterms:modified xsi:type="dcterms:W3CDTF">2015-07-21T01:15:5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