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1CD-06B0-4EB8-95D3-BB4B4737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BEF-2EC0-4711-AD69-BF4D80F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8BB-40F4-4FB7-8C45-8766F698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A46-4FBF-40D5-90A2-FB1FA1DC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837-0A62-4C2D-8F74-2329BF0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FB2-25BD-486E-A735-A853B13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889-4BB9-4493-8B97-B4E872D1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A0A-2735-40A1-BB0B-ED43B1D2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671-42DC-4716-A7A5-09115E5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14B-5809-4663-AB67-DB793F7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B79-A900-4E69-8461-E2DD8CB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92B-0797-4CFA-B74B-22D8E9B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2D4-1BCC-4D2A-9964-489E68045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/beijing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272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5320" y="220500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7" name="矩形 14"/>
            <p:cNvSpPr/>
            <p:nvPr/>
          </p:nvSpPr>
          <p:spPr>
            <a:xfrm>
              <a:off x="5076720" y="71604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50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5589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747-7B45-4801-9534-1D15F503C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4" name="矩形 4" descr=""/>
          <p:cNvPicPr/>
          <p:nvPr/>
        </p:nvPicPr>
        <p:blipFill>
          <a:blip r:embed="rId3"/>
          <a:stretch/>
        </p:blipFill>
        <p:spPr>
          <a:xfrm>
            <a:off x="2498760" y="2163600"/>
            <a:ext cx="4859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6:09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