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82804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A75-A032-428C-AA89-703DAA37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8F0-F9D9-4EE6-A2A8-DC5DFA4F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AF1-77DA-4823-9DFA-FF323969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328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292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00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328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292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D62-6FDC-4A1A-A6D9-DB552E68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1FD2-BE83-4548-B16C-871AC690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8FF6-15A2-44BF-B630-2F85AE5D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9B1-34D8-460D-9232-45797B74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BD44-FDAC-4036-AFA6-53ED79B4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EA2B-48AE-44E5-9FB6-270CF0C9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4000" y="216000"/>
            <a:ext cx="7451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A818-040F-432B-B6E4-603F621E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BF02-5F52-4B92-A4AD-01238930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670-F688-439C-B839-D46AC290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D84B-47C5-4534-8FEE-978C3A5B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FCEE-8D3E-4B33-8605-EFF87CA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2E19-7C9E-4830-8844-4C6830E6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B7F6-32FA-4123-8207-F8AFF71C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3328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52920" y="126036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400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3328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52920" y="3121200"/>
            <a:ext cx="23990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732E-1475-4201-86DD-242CFA3B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E4E-A6FA-449F-BC8A-A4330E54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DDC-8CE5-4531-AA5F-76ADCC3A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ADC-47AB-4E65-A1ED-8F4B84AD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000" y="216000"/>
            <a:ext cx="7451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3E8-7B1D-4059-A416-32450B4C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067-33A3-4437-94F1-5EBAE6CF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2520" y="312120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F58-B676-497B-8A45-05AD4736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2520" y="1260360"/>
            <a:ext cx="363636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000" y="3121200"/>
            <a:ext cx="7451640" cy="1699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501-8A4F-42E6-B908-0469C3F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500" spc="-1" strike="noStrike">
                <a:solidFill>
                  <a:srgbClr val="e0609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marL="290520" indent="-29052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1" marL="628560" indent="-24120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2" marL="968400" indent="-19368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3" marL="1353960" indent="-19332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4" marL="1741320" indent="-193680">
              <a:spcBef>
                <a:spcPts val="425"/>
              </a:spcBef>
              <a:buClr>
                <a:srgbClr val="e0609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5" marL="174132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6" marL="174132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4916160"/>
            <a:ext cx="193212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8520" y="4916160"/>
            <a:ext cx="262260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34240" y="4916160"/>
            <a:ext cx="193176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e0609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1FE-BD50-4E29-96B5-C87A83DB2D4C}" type="slidenum">
              <a:rPr b="0" lang="zh-CN" sz="800" spc="-1" strike="noStrike">
                <a:solidFill>
                  <a:srgbClr val="e0609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" y="216000"/>
            <a:ext cx="7451640" cy="900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500" spc="-1" strike="noStrike">
                <a:solidFill>
                  <a:srgbClr val="e0609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4000" y="1260360"/>
            <a:ext cx="7451640" cy="35625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/>
          </a:bodyPr>
          <a:p>
            <a:pPr marL="290520" indent="-29052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1" marL="628560" indent="-24120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2" marL="968400" indent="-193680">
              <a:spcBef>
                <a:spcPts val="425"/>
              </a:spcBef>
              <a:buClr>
                <a:srgbClr val="e06090"/>
              </a:buClr>
              <a:buFont typeface="Arial"/>
              <a:buChar char="•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3" marL="1353960" indent="-193320">
              <a:spcBef>
                <a:spcPts val="425"/>
              </a:spcBef>
              <a:buClr>
                <a:srgbClr val="e06090"/>
              </a:buClr>
              <a:buFont typeface="Arial"/>
              <a:buChar char="–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4" marL="1741320" indent="-193680">
              <a:spcBef>
                <a:spcPts val="425"/>
              </a:spcBef>
              <a:buClr>
                <a:srgbClr val="e0609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5" marL="174132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  <a:p>
            <a:pPr lvl="6" marL="174132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700" spc="-1" strike="noStrike">
                <a:solidFill>
                  <a:srgbClr val="e0609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14000" y="4916160"/>
            <a:ext cx="193212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28520" y="4916160"/>
            <a:ext cx="262260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934240" y="4916160"/>
            <a:ext cx="1931760" cy="3762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B940-C3C5-4E01-9804-E44F20C219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24000"/>
            <a:ext cx="7037280" cy="1008000"/>
          </a:xfrm>
          <a:prstGeom prst="rect">
            <a:avLst/>
          </a:prstGeom>
          <a:solidFill>
            <a:srgbClr val="ffffe3">
              <a:alpha val="50000"/>
            </a:srgbClr>
          </a:solidFill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5400" spc="-1" strike="noStrike">
                <a:solidFill>
                  <a:srgbClr val="660033"/>
                </a:solidFill>
                <a:latin typeface="微软雅黑"/>
              </a:rPr>
              <a:t>单车行旅</a:t>
            </a:r>
            <a:endParaRPr b="0" lang="en-US" sz="54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4643280" cy="647640"/>
          </a:xfrm>
          <a:prstGeom prst="rect">
            <a:avLst/>
          </a:prstGeom>
          <a:solidFill>
            <a:srgbClr val="ffffe3">
              <a:alpha val="50000"/>
            </a:srgbClr>
          </a:solidFill>
          <a:ln w="0">
            <a:noFill/>
          </a:ln>
        </p:spPr>
        <p:txBody>
          <a:bodyPr lIns="77400" rIns="77400" tIns="38520" bIns="3852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lomo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非主流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模板——</a:t>
            </a:r>
            <a:endParaRPr b="0" lang="en-US" sz="2400" spc="-1" strike="noStrike">
              <a:solidFill>
                <a:srgbClr val="e060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4680" y="4067280"/>
            <a:ext cx="10796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3360" y="149400"/>
            <a:ext cx="7432920" cy="4521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2500" spc="-1" strike="noStrike">
                <a:solidFill>
                  <a:srgbClr val="e06090"/>
                </a:solidFill>
                <a:latin typeface="Arial"/>
              </a:rPr>
              <a:t>使用规范说明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920" y="1000080"/>
            <a:ext cx="8083800" cy="410832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 fontScale="8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2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7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5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3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2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599160" y="262080"/>
            <a:ext cx="12574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F49-2D97-405A-85DC-4D31E7660F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3360" y="149400"/>
            <a:ext cx="7432920" cy="45216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ctr">
            <a:noAutofit/>
          </a:bodyPr>
          <a:p>
            <a:pPr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2500" spc="-1" strike="noStrike">
                <a:solidFill>
                  <a:srgbClr val="e06090"/>
                </a:solidFill>
                <a:latin typeface="Arial"/>
              </a:rPr>
              <a:t>使用规范说明</a:t>
            </a:r>
            <a:endParaRPr b="0" lang="en-US" sz="25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3720" y="1083960"/>
            <a:ext cx="7629840" cy="377028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0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endParaRPr b="0" lang="en-US" sz="1400" spc="-1" strike="noStrike">
              <a:solidFill>
                <a:srgbClr val="e0609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599160" y="262080"/>
            <a:ext cx="12574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490680" y="3324240"/>
            <a:ext cx="74991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7:18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6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