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31E-C473-45B2-B060-A4350E7A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7F8-0F85-482B-A289-70D5F44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7A4C1-3D1E-4E28-B0BE-0E4A7667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9C01C-9A13-4B27-9245-9ABEC70D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7619C-EC3A-4569-B871-5543EEA4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ADB76-799A-489F-B50B-D620733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7859D-563A-4893-9D80-8776122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44FDA-82A0-465A-A19C-E96758A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0C2D9-63EE-46A0-9B0A-45CAF121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0B736-DCB3-4EDB-B5EF-0DA26796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09327-D964-4AED-B5D6-766B5E05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C05B7-EE38-49A6-8A54-478DC7C5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CC9-DF80-4498-9621-2818E7E9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9ADBE-9EE4-4872-9EFD-5BBA9300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41FC4-F052-45DF-8FF5-8A5DFE2F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5F75E-C667-4337-8984-62B9672C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7BF1-BD44-4E8F-A4FB-CE949813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B5461-A2EA-4492-9B9D-524AB5A0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04F4-8158-477E-AA58-C55C8DD2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07AE5-6F8E-4057-A1D9-3A2D9BB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39463-F55C-402A-A4FC-F3C18563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91F3D-D8A8-44C3-8734-3B45651D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27E84-CC30-4027-8D0C-F9DA3C05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FD7-35D7-4568-AAC8-DC26CE62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B27A5-FB81-4E47-98DD-8D3DFA18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22E04-4F04-4000-8711-A10B38B0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7D0E8-F80C-436C-8483-9066366C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78865-9C60-49BB-B616-076A2628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BFBFE-24A4-4FDE-9467-89F56A4D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7A4C3-1156-415A-B12F-5A14A307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766DC-0D29-442D-91F3-DDEDFD87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23219-B80C-4EEA-B365-6051AD5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F4AAB-8E0F-43E8-88BE-29F00C2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13B20-41D5-4C2B-BBF4-3B968BE3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8BE4-1DA0-41C6-B3A1-3AFD98F8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E521B-A97B-4BA2-802F-8E17497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DE5E-BB9F-4048-B2D9-2367E092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FF702-A5F1-4AF2-863E-46650609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0AE26-0094-4069-AF47-E3732D36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66045-D6CA-4970-9139-02F90902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193D2-CEDD-4F02-B353-648F284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188EC-14BE-4D20-8B75-E858BC83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C7564-7D3C-4F85-A980-CB296C3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5CC92-9930-4684-9BB5-18A35F80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FD60D-CE38-47F3-9E97-8178FC8C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CA9A-849D-4CB8-9C4A-B7EC4C0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8267D-E11C-46D0-98E6-1C146015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DDDE1-CB45-4F21-A49E-27D380D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870E7-7EB8-4A6B-80EC-C7D28E1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D6941-5278-44F9-BBDE-F849A748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0D0E5-BA49-4BE9-8770-DC16B6DA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27A4F-026E-4DCF-80AE-AB0E0889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97BD0-D27E-4172-B88B-464761AB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DB41F-2891-4D59-BEC4-A9B73FAB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3A3BE-DE75-4C9F-854D-CC3AF28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48B5A-D72E-407B-98C4-E4863BA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E06F-F996-45F3-8A30-84CCC69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A6C4B-0376-4C7F-B226-01367967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48DF0-5617-4736-9226-1400CD2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ED58F-1393-4510-BAD4-F4C5BE6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A465F-686D-4A18-993B-813AA0B6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27852-9DE7-4EE2-8AB0-24CEB37D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9EA56-A30D-4DA1-B98F-E94A10DC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93D2E-C399-4C8B-821A-6DD998E2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A2F5-51B6-4746-BD2B-1F51C58F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A05F-5748-42DE-8382-58728464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8ACF-1A6F-480E-A75C-9BAC11E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EE5B-4130-4A3D-86C3-5A96ABE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4C3-25D8-4EBD-936F-FDDE21E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9EC0-7B77-49E9-A407-CC9185A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ED8F-9D0C-4FDE-8993-EF021437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BB0E-D341-435D-9483-E360889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E0F3-4AC5-4372-AA6D-3B0F3723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397-DCC7-45DC-A074-07521E5E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EE65-E966-4E76-8718-5061224A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8415-FEB6-4108-A805-A7767867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34A4-9765-481C-901E-939E788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8720-2D38-4B5F-A9F0-C293913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F748-5093-43C0-BD26-EA080592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7DD-206A-4AE2-B273-E455F40A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621A-B26E-41CC-A72F-44D05A8A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4CBB-291B-4F90-A6A2-6FECA96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9926-1EB3-4C10-838D-5DFCA37D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8995-A13F-481C-8BA9-DA4CD79E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1E5B-1C86-456D-9B83-BC484097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A673-BB47-4600-A2FC-6D4EA748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AAC9-51AE-4C54-B207-BFC8E24E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3D75-1D5A-4F2B-B9B1-9F827ED7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7C0F-C581-44A9-8533-3D6E97F7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FEBC-2B22-457A-8DDC-4F408291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5A8-DC47-4020-B987-A3A0599B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2B1C-5B9F-4D89-91F5-595F67D6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ADD4-610D-495D-82AD-32171599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8CF2-83CE-4391-A1D4-5B2F13B0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32B6-65AA-411F-8DDA-AFBBD3B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0F1F0-B088-42FD-AC5D-144BD48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99E8-C629-4B67-A35E-E6364DE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A0BF-C78A-42B3-A2B0-7FEB2ECE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B6F4-83C3-47EB-894D-27D844A4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D771-49AA-4173-ACD9-3239161C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2E03-D019-4358-B0B0-4B3268E1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3AC-2C1A-4326-ACFC-3139F8DC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5850-9A92-40E3-B254-4765371C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3C13-70B0-4602-8A8B-4D4D9F64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C189-03A1-46CA-A3A9-BEC70A03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A60D1-C42D-45A2-AD52-4EBDB3F1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0DBC7-44EB-4946-A52B-6BE07ADA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63DD9-CD2B-4032-A1FB-E59DE88E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9FC9B-76A4-4BD7-9881-E2A5F8F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44F4-A504-46C8-9023-D436F5AF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67B9-5576-4466-9F0A-393768C2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1E80-E829-47F4-9D5A-1D1A4332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68E-2998-46BE-A0AA-4752C40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DC205-CE0D-4447-9118-F7B4DAC5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C561F-2058-4AD5-8017-9DD21D26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14317-7557-497F-BFAA-41E26E1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F848-99E3-469E-AF2C-F0C55B51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0E2BD-F917-410E-B383-81293F41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A23F-5F76-4A2E-9A9E-CEB09A22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6844-078D-4AF9-8C22-73AAB4E6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99E5-664B-435B-8464-7671F96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722E-D85B-4574-A93D-2BAA5F1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DC459-C68F-4AD5-A282-DC2B33E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EBD-4BBD-44AC-A9D1-1859C2DF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0D28-D023-4476-AAA4-2AEC4E0A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233AB-BB0A-43FD-A4B2-B7AFBB1F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4880B-DC21-4303-8029-552BD4E9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40D2C-E517-423C-8253-5A3A6F6B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41A7-B4E4-4E05-8891-A2339DD7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0747B-6412-47C2-8E62-4523CD2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46EC-4A08-4711-9ACE-038306F5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C3DC9-419C-4967-968D-F5875405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5F51-F410-456B-8C9C-CD169A06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AD7A-55B0-47A1-9BFB-8167EFA1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EA9-27A2-457B-B3B5-0EFB2E1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2E81-95A8-492F-90B1-1FFE8CC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C9334-C3CF-432F-AA4B-F433438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8DDE-6D23-4C71-B846-86EEAE05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DD3BA-6E87-4C72-9D67-FBFF79F0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3808-8CB8-43DC-99B7-A35CF7AE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85CA7-4ADA-4396-8E6F-AE6BBA8F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B5E2-65C1-4DB4-83B2-83C1C529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3CE14-2268-4E65-9538-322D9798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53BC-904F-4AB5-9451-1D9B3B15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F130-91FD-457B-9E4C-A41C1BAE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F5F-9C75-4BAF-9B10-9D87F12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D0893-1D4D-459D-B089-AA916DA5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0D80F-4598-4045-A008-68F0BFE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8F586-94C8-4850-91CC-396F37A5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B0019-161B-4F22-93F9-B51CF21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5C40A-3DEC-4855-B237-E6C1D71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A0EB-1B27-4E2B-8816-BB865CB7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80205-E564-4E65-BFDA-7AFF5AC3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0FE4E-6617-4406-908B-98F831A5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2980B-FDBA-43D0-9090-96C766D0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35B2C-A6E3-43EE-9F7A-C9D9C549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449A-60C1-4E5A-91CD-05C8E5CE2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CCBB-24CA-42B0-B467-AC3746FAD9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279B-CC6B-4E7D-9542-85A8EE891F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6AAF-071A-480B-BD69-03537A062F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3C9-E1C9-46BD-B69D-69BA0FF66E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7EB5-8D4A-49F6-9AC0-37C095AE6C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C61-1066-4B56-8D55-D8917FAC79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3DF-ACB3-49E0-B22B-D9773708BF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537-9414-4AFE-BF6B-823B528204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F203-C1D4-4194-8E33-45895B2003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D990-AA21-486E-AA7A-9D543C753A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561-1D17-4178-B681-683B1AFC10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43E5-ED21-4142-9BFB-A0876BEF81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2"/>
          <a:stretch/>
        </p:blipFill>
        <p:spPr>
          <a:xfrm>
            <a:off x="-28440" y="476280"/>
            <a:ext cx="5756040" cy="4317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未标题-1"/>
          <p:cNvPicPr/>
          <p:nvPr/>
        </p:nvPicPr>
        <p:blipFill>
          <a:blip r:embed="rId3"/>
          <a:stretch/>
        </p:blipFill>
        <p:spPr>
          <a:xfrm rot="240000">
            <a:off x="3564000" y="162864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夏日香气 - Summer Scent.wma" descr=""/>
          <p:cNvPicPr/>
          <p:nvPr/>
        </p:nvPicPr>
        <p:blipFill>
          <a:blip r:embed="rId4"/>
          <a:stretch/>
        </p:blipFill>
        <p:spPr>
          <a:xfrm>
            <a:off x="-299880" y="6553080"/>
            <a:ext cx="299880" cy="304920"/>
          </a:xfrm>
          <a:prstGeom prst="rect">
            <a:avLst/>
          </a:prstGeom>
          <a:ln w="0">
            <a:noFill/>
          </a:ln>
        </p:spPr>
      </p:pic>
      <p:sp>
        <p:nvSpPr>
          <p:cNvPr id="536" name="矩形 4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111"/>
          <p:cNvPicPr/>
          <p:nvPr/>
        </p:nvPicPr>
        <p:blipFill>
          <a:blip r:embed="rId2"/>
          <a:stretch/>
        </p:blipFill>
        <p:spPr>
          <a:xfrm>
            <a:off x="1476360" y="299736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未标题-1"/>
          <p:cNvPicPr/>
          <p:nvPr/>
        </p:nvPicPr>
        <p:blipFill>
          <a:blip r:embed="rId2"/>
          <a:stretch/>
        </p:blipFill>
        <p:spPr>
          <a:xfrm>
            <a:off x="324000" y="2781360"/>
            <a:ext cx="2303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无标题"/>
          <p:cNvPicPr/>
          <p:nvPr/>
        </p:nvPicPr>
        <p:blipFill>
          <a:blip r:embed="rId2"/>
          <a:stretch/>
        </p:blipFill>
        <p:spPr>
          <a:xfrm>
            <a:off x="1260360" y="90792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nmm"/>
          <p:cNvPicPr/>
          <p:nvPr/>
        </p:nvPicPr>
        <p:blipFill>
          <a:blip r:embed="rId2"/>
          <a:stretch/>
        </p:blipFill>
        <p:spPr>
          <a:xfrm>
            <a:off x="34920" y="0"/>
            <a:ext cx="9144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550365_094249016_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8:47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3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