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1665360" y="83340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内乘法（一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78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684360" y="95256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34920" y="1917720"/>
            <a:ext cx="527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乘法口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件完整版下载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6453360"/>
            <a:ext cx="50799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9" descr=""/>
          <p:cNvPicPr/>
          <p:nvPr/>
        </p:nvPicPr>
        <p:blipFill>
          <a:blip r:embed="rId2"/>
          <a:stretch/>
        </p:blipFill>
        <p:spPr>
          <a:xfrm>
            <a:off x="2387520" y="2276640"/>
            <a:ext cx="4356360" cy="4336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0" name="TextBox 13"/>
          <p:cNvSpPr/>
          <p:nvPr/>
        </p:nvSpPr>
        <p:spPr>
          <a:xfrm>
            <a:off x="1003320" y="1619280"/>
            <a:ext cx="2009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填表说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1" name="TextBox 6"/>
          <p:cNvSpPr/>
          <p:nvPr/>
        </p:nvSpPr>
        <p:spPr>
          <a:xfrm>
            <a:off x="3070080" y="4103640"/>
            <a:ext cx="571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3070080" y="4738680"/>
            <a:ext cx="571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3070080" y="5351400"/>
            <a:ext cx="571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3070080" y="5943600"/>
            <a:ext cx="571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3576600" y="4103640"/>
            <a:ext cx="74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TextBox 6"/>
          <p:cNvSpPr/>
          <p:nvPr/>
        </p:nvSpPr>
        <p:spPr>
          <a:xfrm>
            <a:off x="3576600" y="4738680"/>
            <a:ext cx="74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3546360" y="5351400"/>
            <a:ext cx="803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3457440" y="5943600"/>
            <a:ext cx="981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3576600" y="3544920"/>
            <a:ext cx="74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4191120" y="4103640"/>
            <a:ext cx="742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TextBox 6"/>
          <p:cNvSpPr/>
          <p:nvPr/>
        </p:nvSpPr>
        <p:spPr>
          <a:xfrm>
            <a:off x="4191120" y="4738680"/>
            <a:ext cx="742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4160880" y="5351400"/>
            <a:ext cx="803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TextBox 6"/>
          <p:cNvSpPr/>
          <p:nvPr/>
        </p:nvSpPr>
        <p:spPr>
          <a:xfrm>
            <a:off x="4071960" y="5943600"/>
            <a:ext cx="981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4191120" y="3544920"/>
            <a:ext cx="742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4191120" y="2921040"/>
            <a:ext cx="742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4792680" y="4103640"/>
            <a:ext cx="74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TextBox 6"/>
          <p:cNvSpPr/>
          <p:nvPr/>
        </p:nvSpPr>
        <p:spPr>
          <a:xfrm>
            <a:off x="4792680" y="4738680"/>
            <a:ext cx="74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4762440" y="5351400"/>
            <a:ext cx="803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4673520" y="5943600"/>
            <a:ext cx="981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4792680" y="3544920"/>
            <a:ext cx="74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4792680" y="2921040"/>
            <a:ext cx="74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5405400" y="4103640"/>
            <a:ext cx="74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5405400" y="4738680"/>
            <a:ext cx="74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5375160" y="5351400"/>
            <a:ext cx="803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5286240" y="5943600"/>
            <a:ext cx="981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5405400" y="3544920"/>
            <a:ext cx="74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5405400" y="2921040"/>
            <a:ext cx="74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TextBox 6"/>
          <p:cNvSpPr/>
          <p:nvPr/>
        </p:nvSpPr>
        <p:spPr>
          <a:xfrm>
            <a:off x="5997600" y="4103640"/>
            <a:ext cx="74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5997600" y="4738680"/>
            <a:ext cx="74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5967360" y="5351400"/>
            <a:ext cx="803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5878440" y="5943600"/>
            <a:ext cx="981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5997600" y="3544920"/>
            <a:ext cx="74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5997600" y="2921040"/>
            <a:ext cx="743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"/>
          <p:cNvSpPr/>
          <p:nvPr/>
        </p:nvSpPr>
        <p:spPr>
          <a:xfrm>
            <a:off x="160200" y="6369120"/>
            <a:ext cx="3376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数学游戏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16" name="Picture 8" descr="34"/>
          <p:cNvPicPr/>
          <p:nvPr/>
        </p:nvPicPr>
        <p:blipFill>
          <a:blip r:embed="rId2"/>
          <a:stretch/>
        </p:blipFill>
        <p:spPr>
          <a:xfrm>
            <a:off x="536400" y="2233440"/>
            <a:ext cx="8064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543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五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8" name="TextBox 5"/>
          <p:cNvSpPr/>
          <p:nvPr/>
        </p:nvSpPr>
        <p:spPr>
          <a:xfrm>
            <a:off x="716040" y="2494080"/>
            <a:ext cx="8103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十三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8"/>
          <p:cNvSpPr/>
          <p:nvPr/>
        </p:nvSpPr>
        <p:spPr>
          <a:xfrm>
            <a:off x="1619280" y="310824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392040" y="1619280"/>
            <a:ext cx="5116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看算式说口诀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" name="Text Box 19"/>
          <p:cNvSpPr/>
          <p:nvPr/>
        </p:nvSpPr>
        <p:spPr>
          <a:xfrm rot="1986600">
            <a:off x="4115520" y="2933280"/>
            <a:ext cx="11527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×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Text Box 20"/>
          <p:cNvSpPr/>
          <p:nvPr/>
        </p:nvSpPr>
        <p:spPr>
          <a:xfrm rot="18444600">
            <a:off x="2700720" y="3143880"/>
            <a:ext cx="1078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4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6" name="Text Box 21"/>
          <p:cNvSpPr/>
          <p:nvPr/>
        </p:nvSpPr>
        <p:spPr>
          <a:xfrm rot="637200">
            <a:off x="1906200" y="4165200"/>
            <a:ext cx="117792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华文新魏"/>
              </a:rPr>
              <a:t>3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×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华文新魏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Text Box 22"/>
          <p:cNvSpPr/>
          <p:nvPr/>
        </p:nvSpPr>
        <p:spPr>
          <a:xfrm rot="19696200">
            <a:off x="6890040" y="3720600"/>
            <a:ext cx="1067040" cy="5814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  <a:ea typeface="华文新魏"/>
              </a:rPr>
              <a:t>4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  <a:ea typeface="宋体"/>
              </a:rPr>
              <a:t>×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  <a:ea typeface="华文新魏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" name="Text Box 23"/>
          <p:cNvSpPr/>
          <p:nvPr/>
        </p:nvSpPr>
        <p:spPr>
          <a:xfrm rot="21550800">
            <a:off x="1184400" y="5013000"/>
            <a:ext cx="1220760" cy="5814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华文新魏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×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Text Box 24"/>
          <p:cNvSpPr/>
          <p:nvPr/>
        </p:nvSpPr>
        <p:spPr>
          <a:xfrm rot="3050400">
            <a:off x="5627880" y="5324760"/>
            <a:ext cx="1197000" cy="581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×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华文新魏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Text Box 25"/>
          <p:cNvSpPr/>
          <p:nvPr/>
        </p:nvSpPr>
        <p:spPr>
          <a:xfrm rot="20514600">
            <a:off x="1187280" y="3000240"/>
            <a:ext cx="122904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×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5867280" y="2565360"/>
            <a:ext cx="113508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  <a:ea typeface="华文新魏"/>
              </a:rPr>
              <a:t>4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  <a:ea typeface="宋体"/>
              </a:rPr>
              <a:t>×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  <a:ea typeface="华文新魏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" name="Text Box 27"/>
          <p:cNvSpPr/>
          <p:nvPr/>
        </p:nvSpPr>
        <p:spPr>
          <a:xfrm rot="1369800">
            <a:off x="3931560" y="5682960"/>
            <a:ext cx="1087560" cy="5814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华文新魏"/>
              </a:rPr>
              <a:t>4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宋体"/>
              </a:rPr>
              <a:t>×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  <a:ea typeface="华文新魏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3" name="Text Box 29"/>
          <p:cNvSpPr/>
          <p:nvPr/>
        </p:nvSpPr>
        <p:spPr>
          <a:xfrm rot="20235000">
            <a:off x="3409920" y="3957120"/>
            <a:ext cx="130968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华文新魏"/>
              </a:rPr>
              <a:t>5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×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华文新魏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Text Box 30"/>
          <p:cNvSpPr/>
          <p:nvPr/>
        </p:nvSpPr>
        <p:spPr>
          <a:xfrm>
            <a:off x="7020000" y="5089680"/>
            <a:ext cx="113508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  <a:ea typeface="华文新魏"/>
              </a:rPr>
              <a:t>4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  <a:ea typeface="宋体"/>
              </a:rPr>
              <a:t>×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  <a:ea typeface="华文新魏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Text Box 31"/>
          <p:cNvSpPr/>
          <p:nvPr/>
        </p:nvSpPr>
        <p:spPr>
          <a:xfrm rot="21550800">
            <a:off x="5305320" y="3863520"/>
            <a:ext cx="1211400" cy="5814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华文新魏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×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Text Box 32"/>
          <p:cNvSpPr/>
          <p:nvPr/>
        </p:nvSpPr>
        <p:spPr>
          <a:xfrm rot="20514600">
            <a:off x="2190600" y="5703480"/>
            <a:ext cx="1225800" cy="581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华文新魏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×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华文新魏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Text Box 33"/>
          <p:cNvSpPr/>
          <p:nvPr/>
        </p:nvSpPr>
        <p:spPr>
          <a:xfrm rot="19410000">
            <a:off x="4067640" y="4688640"/>
            <a:ext cx="113508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  <a:ea typeface="华文新魏"/>
              </a:rPr>
              <a:t>1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  <a:ea typeface="宋体"/>
              </a:rPr>
              <a:t>×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  <a:ea typeface="华文新魏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67"/>
          <p:cNvSpPr/>
          <p:nvPr/>
        </p:nvSpPr>
        <p:spPr>
          <a:xfrm>
            <a:off x="1620720" y="2511360"/>
            <a:ext cx="6120000" cy="60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×4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×4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×5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×2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×5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×2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×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×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×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  ）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×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  ）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392040" y="1619280"/>
            <a:ext cx="4753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说口诀算得数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TextBox 57"/>
          <p:cNvSpPr/>
          <p:nvPr/>
        </p:nvSpPr>
        <p:spPr>
          <a:xfrm>
            <a:off x="3564000" y="2546280"/>
            <a:ext cx="771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TextBox 58"/>
          <p:cNvSpPr/>
          <p:nvPr/>
        </p:nvSpPr>
        <p:spPr>
          <a:xfrm>
            <a:off x="3562200" y="3125880"/>
            <a:ext cx="771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TextBox 60"/>
          <p:cNvSpPr/>
          <p:nvPr/>
        </p:nvSpPr>
        <p:spPr>
          <a:xfrm>
            <a:off x="3562200" y="3733920"/>
            <a:ext cx="771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" name="TextBox 61"/>
          <p:cNvSpPr/>
          <p:nvPr/>
        </p:nvSpPr>
        <p:spPr>
          <a:xfrm>
            <a:off x="2538360" y="5508720"/>
            <a:ext cx="503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" name="TextBox 64"/>
          <p:cNvSpPr/>
          <p:nvPr/>
        </p:nvSpPr>
        <p:spPr>
          <a:xfrm>
            <a:off x="6321600" y="2548080"/>
            <a:ext cx="771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6" name="TextBox 65"/>
          <p:cNvSpPr/>
          <p:nvPr/>
        </p:nvSpPr>
        <p:spPr>
          <a:xfrm>
            <a:off x="6319800" y="3127320"/>
            <a:ext cx="503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TextBox 66"/>
          <p:cNvSpPr/>
          <p:nvPr/>
        </p:nvSpPr>
        <p:spPr>
          <a:xfrm>
            <a:off x="2543040" y="4908600"/>
            <a:ext cx="503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TextBox 67"/>
          <p:cNvSpPr/>
          <p:nvPr/>
        </p:nvSpPr>
        <p:spPr>
          <a:xfrm>
            <a:off x="6319800" y="3730680"/>
            <a:ext cx="503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TextBox 68"/>
          <p:cNvSpPr/>
          <p:nvPr/>
        </p:nvSpPr>
        <p:spPr>
          <a:xfrm>
            <a:off x="6319800" y="4340160"/>
            <a:ext cx="771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0" name="TextBox 69"/>
          <p:cNvSpPr/>
          <p:nvPr/>
        </p:nvSpPr>
        <p:spPr>
          <a:xfrm>
            <a:off x="3562200" y="4338720"/>
            <a:ext cx="503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6" descr=""/>
          <p:cNvPicPr/>
          <p:nvPr/>
        </p:nvPicPr>
        <p:blipFill>
          <a:blip r:embed="rId2"/>
          <a:stretch/>
        </p:blipFill>
        <p:spPr>
          <a:xfrm>
            <a:off x="2873520" y="2973240"/>
            <a:ext cx="3138480" cy="362448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50"/>
          <p:cNvGrpSpPr/>
          <p:nvPr/>
        </p:nvGrpSpPr>
        <p:grpSpPr>
          <a:xfrm>
            <a:off x="4265640" y="3041640"/>
            <a:ext cx="1701720" cy="3367800"/>
            <a:chOff x="4265640" y="3041640"/>
            <a:chExt cx="1701720" cy="3367800"/>
          </a:xfrm>
        </p:grpSpPr>
        <p:sp>
          <p:nvSpPr>
            <p:cNvPr id="113" name="Text Box 8"/>
            <p:cNvSpPr/>
            <p:nvPr/>
          </p:nvSpPr>
          <p:spPr>
            <a:xfrm>
              <a:off x="4265640" y="4165560"/>
              <a:ext cx="10080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楷体_GB2312"/>
                </a:rPr>
                <a:t>十八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4" name="Text Box 9"/>
            <p:cNvSpPr/>
            <p:nvPr/>
          </p:nvSpPr>
          <p:spPr>
            <a:xfrm>
              <a:off x="4265640" y="3041640"/>
              <a:ext cx="12398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楷体_GB2312"/>
                </a:rPr>
                <a:t>得六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5" name="Text Box 10"/>
            <p:cNvSpPr/>
            <p:nvPr/>
          </p:nvSpPr>
          <p:spPr>
            <a:xfrm>
              <a:off x="4265640" y="3598920"/>
              <a:ext cx="105876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楷体_GB2312"/>
                </a:rPr>
                <a:t>十二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6" name="Text Box 23"/>
            <p:cNvSpPr/>
            <p:nvPr/>
          </p:nvSpPr>
          <p:spPr>
            <a:xfrm>
              <a:off x="4265640" y="4738680"/>
              <a:ext cx="1701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楷体_GB2312"/>
                </a:rPr>
                <a:t>二十四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7" name="Text Box 24"/>
            <p:cNvSpPr/>
            <p:nvPr/>
          </p:nvSpPr>
          <p:spPr>
            <a:xfrm>
              <a:off x="4265640" y="5283360"/>
              <a:ext cx="11844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楷体_GB2312"/>
                </a:rPr>
                <a:t>三十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4265640" y="5840280"/>
              <a:ext cx="154476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0000"/>
                  </a:solidFill>
                  <a:latin typeface="楷体_GB2312"/>
                </a:rPr>
                <a:t>三十六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19" name="Rectangle 2"/>
          <p:cNvSpPr/>
          <p:nvPr/>
        </p:nvSpPr>
        <p:spPr>
          <a:xfrm>
            <a:off x="457200" y="44928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深化方法，学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的乘法口诀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0" name="Group 47"/>
          <p:cNvGrpSpPr/>
          <p:nvPr/>
        </p:nvGrpSpPr>
        <p:grpSpPr>
          <a:xfrm>
            <a:off x="324000" y="1644480"/>
            <a:ext cx="3887640" cy="1279440"/>
            <a:chOff x="324000" y="1644480"/>
            <a:chExt cx="3887640" cy="1279440"/>
          </a:xfrm>
        </p:grpSpPr>
        <p:pic>
          <p:nvPicPr>
            <p:cNvPr id="121" name="Picture 25" descr="女天使副本"/>
            <p:cNvPicPr/>
            <p:nvPr/>
          </p:nvPicPr>
          <p:blipFill>
            <a:blip r:embed="rId3"/>
            <a:stretch/>
          </p:blipFill>
          <p:spPr>
            <a:xfrm>
              <a:off x="324000" y="164448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AutoShape 27"/>
            <p:cNvSpPr/>
            <p:nvPr/>
          </p:nvSpPr>
          <p:spPr>
            <a:xfrm>
              <a:off x="1979640" y="1860480"/>
              <a:ext cx="2232000" cy="891000"/>
            </a:xfrm>
            <a:prstGeom prst="wedgeRoundRectCallout">
              <a:avLst>
                <a:gd name="adj1" fmla="val -58736"/>
                <a:gd name="adj2" fmla="val 1720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知道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乘法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口诀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23" name="Group 48"/>
          <p:cNvGrpSpPr/>
          <p:nvPr/>
        </p:nvGrpSpPr>
        <p:grpSpPr>
          <a:xfrm>
            <a:off x="4930920" y="1844640"/>
            <a:ext cx="3902040" cy="1414440"/>
            <a:chOff x="4930920" y="1844640"/>
            <a:chExt cx="3902040" cy="1414440"/>
          </a:xfrm>
        </p:grpSpPr>
        <p:pic>
          <p:nvPicPr>
            <p:cNvPr id="124" name="Picture 26" descr="男天使"/>
            <p:cNvPicPr/>
            <p:nvPr/>
          </p:nvPicPr>
          <p:blipFill>
            <a:blip r:embed="rId4"/>
            <a:stretch/>
          </p:blipFill>
          <p:spPr>
            <a:xfrm>
              <a:off x="7309080" y="184464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AutoShape 29"/>
            <p:cNvSpPr/>
            <p:nvPr/>
          </p:nvSpPr>
          <p:spPr>
            <a:xfrm>
              <a:off x="4930920" y="1855800"/>
              <a:ext cx="2305080" cy="496440"/>
            </a:xfrm>
            <a:prstGeom prst="wedgeRoundRectCallout">
              <a:avLst>
                <a:gd name="adj1" fmla="val 59430"/>
                <a:gd name="adj2" fmla="val 2354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到底对不对呢？请你验证验证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"/>
          <p:cNvPicPr/>
          <p:nvPr/>
        </p:nvPicPr>
        <p:blipFill>
          <a:blip r:embed="rId2"/>
          <a:stretch/>
        </p:blipFill>
        <p:spPr>
          <a:xfrm>
            <a:off x="352440" y="299880"/>
            <a:ext cx="8362800" cy="6276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60200" y="6369120"/>
            <a:ext cx="3376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2"/>
          <p:cNvSpPr/>
          <p:nvPr/>
        </p:nvSpPr>
        <p:spPr>
          <a:xfrm>
            <a:off x="495360" y="5635800"/>
            <a:ext cx="128088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六得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1793880" y="5635800"/>
            <a:ext cx="128124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二六十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3089160" y="5635800"/>
            <a:ext cx="128124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六十八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Rectangle 25"/>
          <p:cNvSpPr/>
          <p:nvPr/>
        </p:nvSpPr>
        <p:spPr>
          <a:xfrm>
            <a:off x="4384800" y="5635800"/>
            <a:ext cx="128088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四六二十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Rectangle 26"/>
          <p:cNvSpPr/>
          <p:nvPr/>
        </p:nvSpPr>
        <p:spPr>
          <a:xfrm>
            <a:off x="5680080" y="5635800"/>
            <a:ext cx="137484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五六三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7085160" y="5635800"/>
            <a:ext cx="137448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六六三十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4" name="Group 46"/>
          <p:cNvGrpSpPr/>
          <p:nvPr/>
        </p:nvGrpSpPr>
        <p:grpSpPr>
          <a:xfrm>
            <a:off x="828720" y="1679400"/>
            <a:ext cx="3959280" cy="1381680"/>
            <a:chOff x="828720" y="1679400"/>
            <a:chExt cx="3959280" cy="1381680"/>
          </a:xfrm>
        </p:grpSpPr>
        <p:pic>
          <p:nvPicPr>
            <p:cNvPr id="135" name="Picture 28" descr="女天使副本"/>
            <p:cNvPicPr/>
            <p:nvPr/>
          </p:nvPicPr>
          <p:blipFill>
            <a:blip r:embed="rId2"/>
            <a:stretch/>
          </p:blipFill>
          <p:spPr>
            <a:xfrm>
              <a:off x="828720" y="167940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AutoShape 29"/>
            <p:cNvSpPr/>
            <p:nvPr/>
          </p:nvSpPr>
          <p:spPr>
            <a:xfrm>
              <a:off x="2484360" y="2170080"/>
              <a:ext cx="2303640" cy="891000"/>
            </a:xfrm>
            <a:prstGeom prst="wedgeRoundRectCallout">
              <a:avLst>
                <a:gd name="adj1" fmla="val -60671"/>
                <a:gd name="adj2" fmla="val 524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们都学过哪些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乘法口诀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37" name="Rectangle 17"/>
          <p:cNvSpPr/>
          <p:nvPr/>
        </p:nvSpPr>
        <p:spPr>
          <a:xfrm>
            <a:off x="495360" y="3295800"/>
            <a:ext cx="128088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一得一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495360" y="3763800"/>
            <a:ext cx="12808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二得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495360" y="4232160"/>
            <a:ext cx="128088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三得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Rectangle 20"/>
          <p:cNvSpPr/>
          <p:nvPr/>
        </p:nvSpPr>
        <p:spPr>
          <a:xfrm>
            <a:off x="495360" y="4699080"/>
            <a:ext cx="12808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四得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Rectangle 21"/>
          <p:cNvSpPr/>
          <p:nvPr/>
        </p:nvSpPr>
        <p:spPr>
          <a:xfrm>
            <a:off x="495360" y="5167440"/>
            <a:ext cx="12808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五得五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1793880" y="3763800"/>
            <a:ext cx="12812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二二得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1793880" y="4232160"/>
            <a:ext cx="128124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二三得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Rectangle 25"/>
          <p:cNvSpPr/>
          <p:nvPr/>
        </p:nvSpPr>
        <p:spPr>
          <a:xfrm>
            <a:off x="1793880" y="4699080"/>
            <a:ext cx="128124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二四得八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Rectangle 26"/>
          <p:cNvSpPr/>
          <p:nvPr/>
        </p:nvSpPr>
        <p:spPr>
          <a:xfrm>
            <a:off x="1793880" y="5167440"/>
            <a:ext cx="12812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二五一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Rectangle 28"/>
          <p:cNvSpPr/>
          <p:nvPr/>
        </p:nvSpPr>
        <p:spPr>
          <a:xfrm>
            <a:off x="3089160" y="4232160"/>
            <a:ext cx="1281240" cy="45720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三得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Rectangle 29"/>
          <p:cNvSpPr/>
          <p:nvPr/>
        </p:nvSpPr>
        <p:spPr>
          <a:xfrm>
            <a:off x="3089160" y="4699080"/>
            <a:ext cx="128124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四十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Rectangle 30"/>
          <p:cNvSpPr/>
          <p:nvPr/>
        </p:nvSpPr>
        <p:spPr>
          <a:xfrm>
            <a:off x="3089160" y="5167440"/>
            <a:ext cx="12812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五十五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Rectangle 32"/>
          <p:cNvSpPr/>
          <p:nvPr/>
        </p:nvSpPr>
        <p:spPr>
          <a:xfrm>
            <a:off x="4384800" y="4699080"/>
            <a:ext cx="128088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四四十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Rectangle 33"/>
          <p:cNvSpPr/>
          <p:nvPr/>
        </p:nvSpPr>
        <p:spPr>
          <a:xfrm>
            <a:off x="4384800" y="5167440"/>
            <a:ext cx="12808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四五二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Rectangle 35"/>
          <p:cNvSpPr/>
          <p:nvPr/>
        </p:nvSpPr>
        <p:spPr>
          <a:xfrm>
            <a:off x="5680080" y="5167440"/>
            <a:ext cx="13748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五五二十五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457200" y="44928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深化方法，学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的乘法口诀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TextBox 13"/>
          <p:cNvSpPr/>
          <p:nvPr/>
        </p:nvSpPr>
        <p:spPr>
          <a:xfrm>
            <a:off x="392040" y="1619280"/>
            <a:ext cx="76359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用一句口诀写出两个乘法算式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149840" y="3860640"/>
            <a:ext cx="1564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×6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1149840" y="4643280"/>
            <a:ext cx="1564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×3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3772080" y="3860640"/>
            <a:ext cx="1564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×6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3772080" y="4645080"/>
            <a:ext cx="1564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×5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6340680" y="3860640"/>
            <a:ext cx="1564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×6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6340680" y="4645080"/>
            <a:ext cx="1564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×4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1" name="Group 26"/>
          <p:cNvGrpSpPr/>
          <p:nvPr/>
        </p:nvGrpSpPr>
        <p:grpSpPr>
          <a:xfrm>
            <a:off x="816120" y="2781360"/>
            <a:ext cx="7459560" cy="2460600"/>
            <a:chOff x="816120" y="2781360"/>
            <a:chExt cx="7459560" cy="2460600"/>
          </a:xfrm>
        </p:grpSpPr>
        <p:sp>
          <p:nvSpPr>
            <p:cNvPr id="162" name="TextBox 4"/>
            <p:cNvSpPr/>
            <p:nvPr/>
          </p:nvSpPr>
          <p:spPr>
            <a:xfrm>
              <a:off x="1022400" y="2781360"/>
              <a:ext cx="18432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三六十八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3" name="TextBox 4"/>
            <p:cNvSpPr/>
            <p:nvPr/>
          </p:nvSpPr>
          <p:spPr>
            <a:xfrm>
              <a:off x="3625920" y="2781360"/>
              <a:ext cx="18432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五六三十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4" name="TextBox 4"/>
            <p:cNvSpPr/>
            <p:nvPr/>
          </p:nvSpPr>
          <p:spPr>
            <a:xfrm>
              <a:off x="6013440" y="2781360"/>
              <a:ext cx="22510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四六二十四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5" name="Line 15"/>
            <p:cNvSpPr/>
            <p:nvPr/>
          </p:nvSpPr>
          <p:spPr>
            <a:xfrm>
              <a:off x="816120" y="4457880"/>
              <a:ext cx="22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6" name="Line 16"/>
            <p:cNvSpPr/>
            <p:nvPr/>
          </p:nvSpPr>
          <p:spPr>
            <a:xfrm>
              <a:off x="816120" y="5241960"/>
              <a:ext cx="22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3440160" y="4457880"/>
              <a:ext cx="22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8" name="Line 22"/>
            <p:cNvSpPr/>
            <p:nvPr/>
          </p:nvSpPr>
          <p:spPr>
            <a:xfrm>
              <a:off x="3440160" y="5241960"/>
              <a:ext cx="22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9" name="Line 23"/>
            <p:cNvSpPr/>
            <p:nvPr/>
          </p:nvSpPr>
          <p:spPr>
            <a:xfrm>
              <a:off x="6043680" y="4457880"/>
              <a:ext cx="22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70" name="Line 24"/>
            <p:cNvSpPr/>
            <p:nvPr/>
          </p:nvSpPr>
          <p:spPr>
            <a:xfrm>
              <a:off x="6043680" y="5241960"/>
              <a:ext cx="22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1346400" y="1619280"/>
            <a:ext cx="561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做一做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3419640" y="4659480"/>
            <a:ext cx="2181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×4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74" name="Picture 7" descr="33"/>
          <p:cNvPicPr/>
          <p:nvPr/>
        </p:nvPicPr>
        <p:blipFill>
          <a:blip r:embed="rId2"/>
          <a:stretch/>
        </p:blipFill>
        <p:spPr>
          <a:xfrm>
            <a:off x="755640" y="2637000"/>
            <a:ext cx="75614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cp:keywords>幻灯片之家 http:/www.eeppt.com</cp:keywords>
  <dc:language>en-US</dc:language>
  <cp:lastModifiedBy/>
  <dcterms:modified xsi:type="dcterms:W3CDTF">2015-07-20T07:44:57Z</dcterms:modified>
  <cp:revision>44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