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6.jpeg" ContentType="image/jpeg"/>
  <Override PartName="/ppt/media/image20.wmf" ContentType="image/x-wmf"/>
  <Override PartName="/ppt/media/image32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.png" ContentType="image/png"/>
  <Override PartName="/ppt/media/image29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39.png" ContentType="image/png"/>
  <Override PartName="/ppt/media/image41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57BF-C97A-401A-976E-AE5DB05B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39A2-6C4B-4F80-B275-12F80C13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0CA28-9CEE-4C9D-A8D1-DA46E234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6B27C-BF1E-408C-AA33-FF271100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3BD75-21A8-4CC1-B97D-B436AF34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3A0D3-AAB7-49EE-BC96-4755F28E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88DB1-76D7-45E8-8F9F-89A369DA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37835-84B1-4E90-A422-52ECA896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61DDD-6E5B-416B-BE0F-131133C6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8D08A-7CF0-4799-A040-B336DE60C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DEC13-713D-4F7C-9022-DFEDA2A97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760D-7499-4868-A262-911E9CA8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8B5-213D-46E6-A524-846A98479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74D8-6F19-4944-90BA-C128584E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03C6-93A1-4B27-9CC6-2A22F15D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FCB9-1358-459E-9D30-1A671A10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2E21-F118-412C-BD7D-07A4F0D5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C8DA-EDCB-466E-A697-D6C15B56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C418-33CB-4C66-A910-D23E1BAB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6531-3F63-4132-9A7B-1BD64272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680-B274-4AE7-8DC4-3090BB64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89E5-53F7-4A84-A1D7-81396E76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F645-51CD-447C-876A-32F15DE1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E408-895B-4344-BBA8-1AA6104A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E338-469E-4FD0-9573-BD7ECBCA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B2C7-8C46-49F0-9613-EC2FF723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A65AA-AFF1-4FA3-BEF1-E9EB8FC0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29E65-084C-4CD2-B312-0A69638C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FD4FA-16BF-4C23-B471-C132C2E5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42422-C3E6-4F0F-BA7A-71C053C6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E6109-4B34-4B62-8C3B-AB2C8D22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405-ACA5-4C91-BDE4-C715E753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A45E0-E0A8-4C53-A382-B548B9D1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FDD9C-980D-48FA-B601-D6E34EAF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C3512-4940-4FDC-90CF-63F62D68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DD18F-9BEE-491B-ADCE-921E53AF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DDE21-2091-42BF-81A5-E302941B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813C2-AB8E-426D-BAB9-563BB6FB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72FAC-B3AD-4EBC-8C7A-FC954DC5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CB49C-0886-462A-A60A-4B810FED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CC18C-3329-4C64-BB97-1FE5C094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86AE5-2413-44EF-845B-1102DB3F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057C-58A7-4A85-AE73-84977E4B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718DE-8F34-4441-8BBF-F9D9E2C6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3D9B4-CC2F-4939-B850-5D9A8BCA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7C377-67C7-4FBF-913A-1B9F59F4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6A861-F43A-4384-BCE7-4E3FD14B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C7196-B6A1-4C9D-A5F8-5B0F4E45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40CC6-4588-49F5-BCAF-7A2CBB4E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21EE4-5FB7-46D5-9011-C34A89E4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AB676-E774-4648-A675-8B8562F1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43D9C-5454-484A-8359-A24E474A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04E00-50BB-43B3-B265-DB5DEB89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733-A639-41F7-8FB9-3EEB8925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F8E03-A014-41BD-931A-5F94FAA8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51602-D74D-4D05-A046-B38F61FE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CD9E2-CA73-40D9-8998-F356581C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80873-A205-4E70-9382-29466430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56BE1-254D-4CAE-A4CF-B641458E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EBFA8-1851-41FB-8D48-A535297B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E482F-013B-4633-818A-FDF675BC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82586-B4C6-4C5D-AF6F-19D92A37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EECE0-9584-4F9C-8F17-B6F582BD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4048E-27D1-49E0-88E9-648545AC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A97C-F4B1-4A61-A314-1DA0F441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46684-D892-4727-B877-9DC09E09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00ECC-6D38-4E9B-8B2C-54AB9429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F01CC-D1D7-47F4-8F3D-DB3F82EC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1EDCB-1F04-4BEA-867C-42A87855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BEB07-F197-4C99-9AA6-6CAEE3E1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E8081-6452-4BFB-8D48-DE2C09DC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A4B4D-C374-4FB1-829B-7E67F16A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E67CA-B60D-42ED-8718-67A51A90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9811E-C244-404C-AF6F-C676809B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D377D-5DB6-459C-B967-4C1999D7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1BE-A17A-48A1-BF4F-9405B55B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D88E7-B2FD-49CD-A7C1-E48D9C56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EE940-5959-49A3-A06A-73F4705EB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0F14E-C0DF-4AEC-8BA3-3DC9B92A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95664-61E4-4534-8687-F30DA811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01B3B-D6D4-4FEB-9AFB-790AEAC1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E4FCD-D55D-4B58-94FD-DBABF452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00B95-484B-4CE2-8772-62592EC9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C79E5-8DE7-46AA-A029-D764C97A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62291-8D22-4DFF-BD3B-F3E0888E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58047-0DF4-474C-BA93-117F1772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81A4-8D89-4C5D-B236-30666A01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E383A-9DCC-4AE1-A41E-EE3D69C1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3FCAC-76EA-49ED-B112-BFDF9AA5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64234-550B-4753-B93F-E72AC061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A9995-16F5-47BE-9C7A-361ED668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2263A-7A1E-43AD-8828-5B5294DB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181F0-C289-4CD7-8FF8-926E3582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1AE1E-8CD2-4D11-8496-41E1C863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1B89A-910A-4020-B36B-3CB168DF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01EE5-A3AC-42EC-9FCA-9EBE4C00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4BFB3-8C34-4E0D-94D2-047612CD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A26E-B913-4FFE-827B-F86EF04F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0F293-F190-474F-963D-25463876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95DEF-D4A8-473C-B8C5-83D8606C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4CE37-7AED-4E4D-BB90-CE06B5FD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05D0B-F1B3-49ED-A3CA-9BF233DF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FE499-F946-4EA8-AF86-73AE2ABC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2B6AC-FA7B-47B7-938D-CCB40359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2405B-052F-4664-A0CB-B8D1B1178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5B296-FD27-4519-811A-9092BD27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48B1D-7B54-482A-82B3-84812A00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DC6EC-604F-4753-9D26-0467C5CE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A2A2-C221-4EC3-A7CA-BF274BAF19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C35B-821C-4878-A00D-E0BA4FD474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AD13-F362-4588-AC69-F6EBA2A790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A0B4-1AC0-4E89-8006-159DE3F218B0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未知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6A18-F028-429C-A32C-355CB8E14F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1C7A-B10C-4375-B7EA-E83DAFB6DC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B6AE-01B1-41CA-A923-F110127C38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22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23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4D2C-1A15-45F4-875E-F63A4CB45FE6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990720" y="15238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1E6A-24E3-44A8-A027-8F38D44332B9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1ppt.com/excel/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6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55120" y="6922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ccff"/>
                </a:solidFill>
                <a:latin typeface="Arial"/>
              </a:rPr>
              <a:t>白鹅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图片1"/>
          <p:cNvPicPr/>
          <p:nvPr/>
        </p:nvPicPr>
        <p:blipFill>
          <a:blip r:embed="rId2"/>
          <a:stretch/>
        </p:blipFill>
        <p:spPr>
          <a:xfrm>
            <a:off x="533520" y="1131840"/>
            <a:ext cx="8359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冲蚀后的白鹅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78920" y="765000"/>
            <a:ext cx="83646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作者笔下的鹅有什么鲜明的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36360" y="1989000"/>
            <a:ext cx="892656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作者从哪几个方面来写白鹅的高傲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5" descr="白鹅"/>
          <p:cNvPicPr/>
          <p:nvPr/>
        </p:nvPicPr>
        <p:blipFill>
          <a:blip r:embed="rId3"/>
          <a:stretch/>
        </p:blipFill>
        <p:spPr>
          <a:xfrm>
            <a:off x="252360" y="3573360"/>
            <a:ext cx="251928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5900"/>
            </a:gs>
            <a:gs pos="50000">
              <a:srgbClr val="0033cc"/>
            </a:gs>
            <a:gs pos="100000">
              <a:srgbClr val="dc5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e9"/>
          <p:cNvPicPr/>
          <p:nvPr/>
        </p:nvPicPr>
        <p:blipFill>
          <a:blip r:embed="rId1"/>
          <a:stretch/>
        </p:blipFill>
        <p:spPr>
          <a:xfrm>
            <a:off x="2340000" y="2033640"/>
            <a:ext cx="4664160" cy="4824360"/>
          </a:xfrm>
          <a:prstGeom prst="rect">
            <a:avLst/>
          </a:prstGeom>
          <a:ln w="0">
            <a:noFill/>
          </a:ln>
        </p:spPr>
      </p:pic>
      <p:pic>
        <p:nvPicPr>
          <p:cNvPr id="409" name="WordArt 3" descr=""/>
          <p:cNvPicPr/>
          <p:nvPr/>
        </p:nvPicPr>
        <p:blipFill>
          <a:blip r:embed="rId2"/>
          <a:stretch/>
        </p:blipFill>
        <p:spPr>
          <a:xfrm>
            <a:off x="1901880" y="804960"/>
            <a:ext cx="593712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971640" y="836640"/>
            <a:ext cx="7129440" cy="669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高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作者对白鹅的第一印象，作者怎么会有这样的印象呢？读了第一自然段， 你就会明白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1042920" y="2852640"/>
            <a:ext cx="63374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它伸长了头颈，左顾右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4"/>
          <p:cNvSpPr/>
          <p:nvPr/>
        </p:nvSpPr>
        <p:spPr>
          <a:xfrm>
            <a:off x="2050920" y="4221000"/>
            <a:ext cx="6121440" cy="2160720"/>
          </a:xfrm>
          <a:prstGeom prst="cloudCallout">
            <a:avLst>
              <a:gd name="adj1" fmla="val -40250"/>
              <a:gd name="adj2" fmla="val -74615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3333ff"/>
                </a:solidFill>
                <a:latin typeface="Arial"/>
              </a:rPr>
              <a:t>联系实际，想想看，如果你到了一个陌生的环境，你会是什么表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Frame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6"/>
          <p:cNvSpPr/>
          <p:nvPr/>
        </p:nvSpPr>
        <p:spPr>
          <a:xfrm>
            <a:off x="1187280" y="206064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白鹅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的高傲表现在哪些方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1258920" y="386064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叫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3419640" y="386064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步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5940360" y="378936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吃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2"/>
          <p:cNvSpPr/>
          <p:nvPr/>
        </p:nvSpPr>
        <p:spPr>
          <a:xfrm>
            <a:off x="252360" y="193716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鹅的高傲，更表现在它的叫声、步态和吃相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1558800" y="4131360"/>
            <a:ext cx="538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过渡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白鹅  背景"/>
          <p:cNvPicPr/>
          <p:nvPr/>
        </p:nvPicPr>
        <p:blipFill>
          <a:blip r:embed="rId2"/>
          <a:stretch/>
        </p:blipFill>
        <p:spPr>
          <a:xfrm>
            <a:off x="34920" y="0"/>
            <a:ext cx="9109080" cy="684216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3"/>
          <p:cNvSpPr/>
          <p:nvPr/>
        </p:nvSpPr>
        <p:spPr>
          <a:xfrm>
            <a:off x="755640" y="1989000"/>
            <a:ext cx="6230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468360" y="2897280"/>
            <a:ext cx="824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过渡句就是联接上下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由一个问题过渡到另一个问题的句子。往往出现在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段落末尾或段落开头，有时也独立成一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内容上这个句子和上下两端都有联系，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所以判断时可以根据位置，也可以根据内容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179280" y="53712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过渡句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白鹅  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23640" y="2781000"/>
            <a:ext cx="844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到北辰山游玩，首先映入眼帘的是瀑布飞落，这是最具奇观的“十二龙潭”。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十二龙潭形态各异，有圆形的、三角形的、半月形的，还有多边形的……潭水清澈见底，好像一面面碧绿的镜子，不时还会泛起阵阵鱼鳞般的波纹，在阳光下闪闪发光。 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北辰山不仅瀑布飞落，而且山峦叠翠。你在山间漫步，远远望去，山即是水，水即是山。近处，龙潭东侧的石岸上雕刻“仙苑”两个大楷字，字迹圆润饱满，庄重大方，这是朱熹的手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白鹅  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292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……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……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乐山大佛不仅是一件宏大的石雕艺术珍品，也是古代石匠智慧与技艺的结晶。在大佛的头颈和两耳后面，开凿了许多条纵横的排水通道，不管多大的雨水，都能很快地从这些人们难以发现的通道排走，既没有破坏大佛的美观与完整，也避免了雨水对大佛的直接冲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Frame18"/>
          <p:cNvPicPr/>
          <p:nvPr/>
        </p:nvPicPr>
        <p:blipFill>
          <a:blip r:embed="rId1"/>
          <a:stretch/>
        </p:blipFill>
        <p:spPr>
          <a:xfrm>
            <a:off x="-169920" y="0"/>
            <a:ext cx="9313920" cy="682164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15640" y="1773000"/>
            <a:ext cx="7272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Garamond"/>
                <a:ea typeface="隶书"/>
              </a:rPr>
              <a:t>自读</a:t>
            </a:r>
            <a:r>
              <a:rPr b="1" lang="zh-CN" sz="3600" spc="-1" strike="noStrike">
                <a:solidFill>
                  <a:srgbClr val="ff6600"/>
                </a:solidFill>
                <a:latin typeface="Garamond"/>
                <a:ea typeface="隶书"/>
              </a:rPr>
              <a:t>3-7</a:t>
            </a:r>
            <a:r>
              <a:rPr b="1" lang="zh-CN" sz="3600" spc="-1" strike="noStrike">
                <a:solidFill>
                  <a:srgbClr val="ff6600"/>
                </a:solidFill>
                <a:latin typeface="Garamond"/>
                <a:ea typeface="隶书"/>
              </a:rPr>
              <a:t>自然段，学习步骤如下：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7280" y="2781360"/>
            <a:ext cx="69012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画一画，画出表现白鹅高傲的词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读一读，有滋有味地读好画出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品一品，仔细体会其中的情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-1465560" y="2420640"/>
            <a:ext cx="867564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2473200" y="62064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《咏鹅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2390400" y="16286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骆宾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978560" y="2668680"/>
            <a:ext cx="2481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鹅、鹅、鹅，</a:t>
            </a:r>
            <a:br>
              <a:rPr sz="4400"/>
            </a:b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  曲项向天歌。</a:t>
            </a:r>
            <a:br>
              <a:rPr sz="4400"/>
            </a:b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  白毛浮绿水，</a:t>
            </a:r>
            <a:br>
              <a:rPr sz="4400"/>
            </a:b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  红掌拨清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e9"/>
          <p:cNvPicPr/>
          <p:nvPr/>
        </p:nvPicPr>
        <p:blipFill>
          <a:blip r:embed="rId2"/>
          <a:stretch/>
        </p:blipFill>
        <p:spPr>
          <a:xfrm>
            <a:off x="5148360" y="1773360"/>
            <a:ext cx="2808360" cy="388764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3"/>
          <p:cNvSpPr/>
          <p:nvPr/>
        </p:nvSpPr>
        <p:spPr>
          <a:xfrm>
            <a:off x="2700360" y="98100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71640" y="98100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　　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凡有生客进来，鹅必然厉声叫嚣；甚至篱笆外有人走路，它也要引吭大叫，不亚于狗的狂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5"/>
          <p:cNvSpPr/>
          <p:nvPr/>
        </p:nvSpPr>
        <p:spPr>
          <a:xfrm>
            <a:off x="4140360" y="2421000"/>
            <a:ext cx="69840" cy="69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6"/>
          <p:cNvGrpSpPr/>
          <p:nvPr/>
        </p:nvGrpSpPr>
        <p:grpSpPr>
          <a:xfrm>
            <a:off x="1228680" y="2938320"/>
            <a:ext cx="1293840" cy="73080"/>
            <a:chOff x="1228680" y="2938320"/>
            <a:chExt cx="1293840" cy="73080"/>
          </a:xfrm>
        </p:grpSpPr>
        <p:sp>
          <p:nvSpPr>
            <p:cNvPr id="437" name="Oval 7"/>
            <p:cNvSpPr/>
            <p:nvPr/>
          </p:nvSpPr>
          <p:spPr>
            <a:xfrm>
              <a:off x="1878120" y="293832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8"/>
            <p:cNvSpPr/>
            <p:nvPr/>
          </p:nvSpPr>
          <p:spPr>
            <a:xfrm>
              <a:off x="2452680" y="294156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9"/>
            <p:cNvSpPr/>
            <p:nvPr/>
          </p:nvSpPr>
          <p:spPr>
            <a:xfrm>
              <a:off x="1228680" y="293832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10"/>
          <p:cNvGrpSpPr/>
          <p:nvPr/>
        </p:nvGrpSpPr>
        <p:grpSpPr>
          <a:xfrm>
            <a:off x="1187280" y="5011560"/>
            <a:ext cx="1366920" cy="73080"/>
            <a:chOff x="1187280" y="5011560"/>
            <a:chExt cx="1366920" cy="73080"/>
          </a:xfrm>
        </p:grpSpPr>
        <p:sp>
          <p:nvSpPr>
            <p:cNvPr id="441" name="Oval 11"/>
            <p:cNvSpPr/>
            <p:nvPr/>
          </p:nvSpPr>
          <p:spPr>
            <a:xfrm>
              <a:off x="1187280" y="50148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2"/>
            <p:cNvSpPr/>
            <p:nvPr/>
          </p:nvSpPr>
          <p:spPr>
            <a:xfrm>
              <a:off x="1908000" y="501156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3"/>
            <p:cNvSpPr/>
            <p:nvPr/>
          </p:nvSpPr>
          <p:spPr>
            <a:xfrm>
              <a:off x="2484360" y="501156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Oval 14"/>
          <p:cNvSpPr/>
          <p:nvPr/>
        </p:nvSpPr>
        <p:spPr>
          <a:xfrm>
            <a:off x="4140360" y="4365720"/>
            <a:ext cx="69840" cy="69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1371600" y="990720"/>
            <a:ext cx="533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468360" y="693720"/>
            <a:ext cx="8280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隶书"/>
              </a:rPr>
              <a:t>厉声叫嚣：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隶书"/>
              </a:rPr>
              <a:t>非常严厉的大声的叫喊、吵闹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隶书"/>
              </a:rPr>
              <a:t>引吭大叫：引吭，就是顿开喉咙的意思，通俗点说，就是放开嗓子的意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隶书"/>
              </a:rPr>
              <a:t>意思就是放开嗓子唱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539640" y="907920"/>
            <a:ext cx="7993080" cy="67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af50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cc0099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cc0099"/>
                </a:solidFill>
                <a:latin typeface="华文新魏"/>
                <a:ea typeface="华文新魏"/>
              </a:rPr>
              <a:t>如果鹅会说汉语，猜猜它会说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华文新魏"/>
                <a:ea typeface="华文新魏"/>
              </a:rPr>
              <a:t>　  见到生客进来，它会用严厉的声音大声叫喊：</a:t>
            </a:r>
            <a:r>
              <a:rPr b="0" lang="zh-CN" sz="3200" spc="-1" strike="noStrike" u="sng">
                <a:solidFill>
                  <a:srgbClr val="cc0099"/>
                </a:solidFill>
                <a:uFillTx/>
                <a:latin typeface="华文新魏"/>
                <a:ea typeface="华文新魏"/>
              </a:rPr>
              <a:t>                   </a:t>
            </a:r>
            <a:r>
              <a:rPr b="0" lang="zh-CN" sz="3200" spc="-1" strike="noStrike">
                <a:solidFill>
                  <a:srgbClr val="cc0099"/>
                </a:solidFill>
                <a:latin typeface="华文新魏"/>
                <a:ea typeface="华文新魏"/>
              </a:rPr>
              <a:t>　　　　　　</a:t>
            </a:r>
            <a:r>
              <a:rPr b="0" lang="zh-CN" sz="3200" spc="-1" strike="noStrike" u="sng">
                <a:solidFill>
                  <a:srgbClr val="cc0099"/>
                </a:solidFill>
                <a:uFillTx/>
                <a:latin typeface="华文新魏"/>
                <a:ea typeface="华文新魏"/>
              </a:rPr>
              <a:t>　　　　　　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华文新魏"/>
                <a:ea typeface="华文新魏"/>
              </a:rPr>
              <a:t>　　当篱笆外有人走路时，它会放大喉咙大吼道：</a:t>
            </a:r>
            <a:r>
              <a:rPr b="0" lang="zh-CN" sz="3200" spc="-1" strike="noStrike" u="sng">
                <a:solidFill>
                  <a:srgbClr val="cc0099"/>
                </a:solidFill>
                <a:uFillTx/>
                <a:latin typeface="华文新魏"/>
                <a:ea typeface="华文新魏"/>
              </a:rPr>
              <a:t> 　　　　　　　　　　　　　　　　　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1692360" y="3429000"/>
            <a:ext cx="64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4"/>
          <p:cNvSpPr/>
          <p:nvPr/>
        </p:nvSpPr>
        <p:spPr>
          <a:xfrm>
            <a:off x="1619280" y="5157720"/>
            <a:ext cx="648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使用规范说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7F62E-20DE-48A5-9D7F-010A2B4639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428760" y="135000"/>
            <a:ext cx="835344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　  </a:t>
            </a:r>
            <a:r>
              <a:rPr b="1" lang="zh-CN" sz="4400" spc="-1" strike="noStrike">
                <a:solidFill>
                  <a:srgbClr val="006633"/>
                </a:solidFill>
                <a:latin typeface="Arial"/>
                <a:ea typeface="楷体_GB2312"/>
              </a:rPr>
              <a:t>鸭的步调急速，有局促不安之相；鹅的步调从容；大模大样的，颇像京剧里的</a:t>
            </a:r>
            <a:r>
              <a:rPr b="0" lang="zh-CN" sz="4400" spc="-1" strike="noStrike" u="sng">
                <a:solidFill>
                  <a:srgbClr val="996600"/>
                </a:solidFill>
                <a:uFillTx/>
                <a:latin typeface="Arial"/>
                <a:ea typeface="楷体_GB2312"/>
                <a:hlinkClick r:id="rId1"/>
              </a:rPr>
              <a:t>净角</a:t>
            </a:r>
            <a:r>
              <a:rPr b="1" lang="zh-CN" sz="4400" spc="-1" strike="noStrike">
                <a:solidFill>
                  <a:srgbClr val="006633"/>
                </a:solidFill>
                <a:latin typeface="Arial"/>
                <a:ea typeface="楷体_GB2312"/>
              </a:rPr>
              <a:t>出场。</a:t>
            </a:r>
            <a:r>
              <a:rPr b="1" lang="zh-CN" sz="3600" spc="-1" strike="noStrike">
                <a:solidFill>
                  <a:srgbClr val="006633"/>
                </a:solidFill>
                <a:latin typeface="Arial"/>
                <a:ea typeface="楷体_GB2312"/>
              </a:rPr>
              <a:t>　</a:t>
            </a:r>
            <a:r>
              <a:rPr b="1" lang="zh-CN" sz="4800" spc="-1" strike="noStrike">
                <a:solidFill>
                  <a:srgbClr val="006633"/>
                </a:solidFill>
                <a:latin typeface="Arial"/>
                <a:ea typeface="隶书"/>
              </a:rPr>
              <a:t>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643280" y="1989000"/>
            <a:ext cx="646200" cy="69840"/>
            <a:chOff x="4643280" y="1989000"/>
            <a:chExt cx="646200" cy="69840"/>
          </a:xfrm>
        </p:grpSpPr>
        <p:sp>
          <p:nvSpPr>
            <p:cNvPr id="455" name="Oval 4"/>
            <p:cNvSpPr/>
            <p:nvPr/>
          </p:nvSpPr>
          <p:spPr>
            <a:xfrm>
              <a:off x="4643280" y="19890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5"/>
            <p:cNvSpPr/>
            <p:nvPr/>
          </p:nvSpPr>
          <p:spPr>
            <a:xfrm>
              <a:off x="5219640" y="19890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6"/>
          <p:cNvGrpSpPr/>
          <p:nvPr/>
        </p:nvGrpSpPr>
        <p:grpSpPr>
          <a:xfrm>
            <a:off x="6343560" y="1989000"/>
            <a:ext cx="1757520" cy="69840"/>
            <a:chOff x="6343560" y="1989000"/>
            <a:chExt cx="1757520" cy="69840"/>
          </a:xfrm>
        </p:grpSpPr>
        <p:sp>
          <p:nvSpPr>
            <p:cNvPr id="458" name="Oval 7"/>
            <p:cNvSpPr/>
            <p:nvPr/>
          </p:nvSpPr>
          <p:spPr>
            <a:xfrm>
              <a:off x="6343560" y="19890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8"/>
            <p:cNvSpPr/>
            <p:nvPr/>
          </p:nvSpPr>
          <p:spPr>
            <a:xfrm>
              <a:off x="7022880" y="19890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9"/>
            <p:cNvSpPr/>
            <p:nvPr/>
          </p:nvSpPr>
          <p:spPr>
            <a:xfrm>
              <a:off x="8031240" y="19890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0"/>
            <p:cNvSpPr/>
            <p:nvPr/>
          </p:nvSpPr>
          <p:spPr>
            <a:xfrm>
              <a:off x="7454880" y="19890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2" name="Picture 11" descr="鹅28"/>
          <p:cNvPicPr/>
          <p:nvPr/>
        </p:nvPicPr>
        <p:blipFill>
          <a:blip r:embed="rId2"/>
          <a:stretch/>
        </p:blipFill>
        <p:spPr>
          <a:xfrm>
            <a:off x="5148360" y="3860640"/>
            <a:ext cx="3544920" cy="2305080"/>
          </a:xfrm>
          <a:prstGeom prst="rect">
            <a:avLst/>
          </a:prstGeom>
          <a:ln w="0">
            <a:noFill/>
          </a:ln>
        </p:spPr>
      </p:pic>
      <p:sp>
        <p:nvSpPr>
          <p:cNvPr id="463" name="AutoShape 12"/>
          <p:cNvSpPr/>
          <p:nvPr/>
        </p:nvSpPr>
        <p:spPr>
          <a:xfrm>
            <a:off x="8675640" y="6237360"/>
            <a:ext cx="468360" cy="620640"/>
          </a:xfrm>
          <a:custGeom>
            <a:avLst/>
            <a:gdLst>
              <a:gd name="textAreaLeft" fmla="*/ 29160 w 468360"/>
              <a:gd name="textAreaRight" fmla="*/ 439200 w 468360"/>
              <a:gd name="textAreaTop" fmla="*/ 29160 h 620640"/>
              <a:gd name="textAreaBottom" fmla="*/ 591480 h 620640"/>
            </a:gdLst>
            <a:ahLst/>
            <a:rect l="textAreaLeft" t="textAreaTop" r="textAreaRight" b="textAreaBottom"/>
            <a:pathLst>
              <a:path w="21600" h="28618">
                <a:moveTo>
                  <a:pt x="0" y="0"/>
                </a:moveTo>
                <a:lnTo>
                  <a:pt x="21600" y="0"/>
                </a:lnTo>
                <a:lnTo>
                  <a:pt x="21600" y="28618"/>
                </a:lnTo>
                <a:lnTo>
                  <a:pt x="0" y="28618"/>
                </a:lnTo>
                <a:close/>
              </a:path>
              <a:path fill="lightenLess" w="21600" h="28618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8618">
                <a:moveTo>
                  <a:pt x="21600" y="0"/>
                </a:moveTo>
                <a:lnTo>
                  <a:pt x="21600" y="28618"/>
                </a:lnTo>
                <a:lnTo>
                  <a:pt x="20250" y="27268"/>
                </a:lnTo>
                <a:lnTo>
                  <a:pt x="20250" y="1350"/>
                </a:lnTo>
                <a:close/>
              </a:path>
              <a:path fill="darkenLess" w="21600" h="28618">
                <a:moveTo>
                  <a:pt x="21600" y="28618"/>
                </a:moveTo>
                <a:lnTo>
                  <a:pt x="0" y="28618"/>
                </a:lnTo>
                <a:lnTo>
                  <a:pt x="1350" y="27268"/>
                </a:lnTo>
                <a:lnTo>
                  <a:pt x="20250" y="27268"/>
                </a:lnTo>
                <a:close/>
              </a:path>
              <a:path fill="lighten" w="21600" h="28618">
                <a:moveTo>
                  <a:pt x="0" y="28618"/>
                </a:moveTo>
                <a:lnTo>
                  <a:pt x="0" y="0"/>
                </a:lnTo>
                <a:lnTo>
                  <a:pt x="1350" y="1350"/>
                </a:lnTo>
                <a:lnTo>
                  <a:pt x="1350" y="27268"/>
                </a:lnTo>
                <a:close/>
              </a:path>
              <a:path fill="darken" w="21600" h="28618">
                <a:moveTo>
                  <a:pt x="3756" y="7265"/>
                </a:moveTo>
                <a:lnTo>
                  <a:pt x="17844" y="14309"/>
                </a:lnTo>
                <a:lnTo>
                  <a:pt x="3756" y="21353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23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395280" y="320760"/>
            <a:ext cx="82072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00a2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京剧是我国的国粹，其中有五种角色：生、旦、净、末、丑。“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/>
              </a:rPr>
              <a:t>净角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”是京剧中的一种角色，通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花脸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3" descr="脸谱2"/>
          <p:cNvPicPr/>
          <p:nvPr/>
        </p:nvPicPr>
        <p:blipFill>
          <a:blip r:embed="rId2"/>
          <a:stretch/>
        </p:blipFill>
        <p:spPr>
          <a:xfrm>
            <a:off x="971640" y="2606760"/>
            <a:ext cx="1728720" cy="16858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" descr="脸谱4"/>
          <p:cNvPicPr/>
          <p:nvPr/>
        </p:nvPicPr>
        <p:blipFill>
          <a:blip r:embed="rId3"/>
          <a:stretch/>
        </p:blipFill>
        <p:spPr>
          <a:xfrm>
            <a:off x="6156360" y="2635200"/>
            <a:ext cx="1728720" cy="16556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净角2"/>
          <p:cNvPicPr/>
          <p:nvPr/>
        </p:nvPicPr>
        <p:blipFill>
          <a:blip r:embed="rId4"/>
          <a:stretch/>
        </p:blipFill>
        <p:spPr>
          <a:xfrm>
            <a:off x="3419640" y="4797360"/>
            <a:ext cx="1944360" cy="17496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6" descr="脸谱7"/>
          <p:cNvPicPr/>
          <p:nvPr/>
        </p:nvPicPr>
        <p:blipFill>
          <a:blip r:embed="rId5"/>
          <a:stretch/>
        </p:blipFill>
        <p:spPr>
          <a:xfrm>
            <a:off x="971640" y="4818240"/>
            <a:ext cx="1727280" cy="1728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脸谱8"/>
          <p:cNvPicPr/>
          <p:nvPr/>
        </p:nvPicPr>
        <p:blipFill>
          <a:blip r:embed="rId6"/>
          <a:stretch/>
        </p:blipFill>
        <p:spPr>
          <a:xfrm>
            <a:off x="6156360" y="4818240"/>
            <a:ext cx="1727280" cy="172872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净角"/>
          <p:cNvPicPr/>
          <p:nvPr/>
        </p:nvPicPr>
        <p:blipFill>
          <a:blip r:embed="rId7"/>
          <a:stretch/>
        </p:blipFill>
        <p:spPr>
          <a:xfrm>
            <a:off x="3419640" y="2635200"/>
            <a:ext cx="19429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107640" y="333000"/>
            <a:ext cx="90010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在京剧中，通称花脸“净角”是怎么样的人物形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539640" y="2467800"/>
            <a:ext cx="6977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Arial"/>
              </a:rPr>
              <a:t>性格温顺的人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Arial"/>
              </a:rPr>
              <a:t>性格刚烈或粗暴的人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4"/>
          <p:cNvSpPr/>
          <p:nvPr/>
        </p:nvSpPr>
        <p:spPr>
          <a:xfrm>
            <a:off x="7021440" y="4510080"/>
            <a:ext cx="863640" cy="719280"/>
          </a:xfrm>
          <a:custGeom>
            <a:avLst/>
            <a:gdLst>
              <a:gd name="textAreaLeft" fmla="*/ 201240 w 863640"/>
              <a:gd name="textAreaRight" fmla="*/ 662040 w 863640"/>
              <a:gd name="textAreaTop" fmla="*/ 75600 h 719280"/>
              <a:gd name="textAreaBottom" fmla="*/ 455400 h 719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82600" y="2542680"/>
            <a:ext cx="7129440" cy="12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"/>
              </a:rPr>
              <a:t> 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"/>
              </a:rPr>
              <a:t>鹅的步调从容，大模大样的，颇像京剧里的净角出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3" descr="小草"/>
          <p:cNvPicPr/>
          <p:nvPr/>
        </p:nvPicPr>
        <p:blipFill>
          <a:blip r:embed="rId1"/>
          <a:stretch/>
        </p:blipFill>
        <p:spPr>
          <a:xfrm>
            <a:off x="6084720" y="4408560"/>
            <a:ext cx="1333800" cy="4381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小草"/>
          <p:cNvPicPr/>
          <p:nvPr/>
        </p:nvPicPr>
        <p:blipFill>
          <a:blip r:embed="rId2"/>
          <a:stretch/>
        </p:blipFill>
        <p:spPr>
          <a:xfrm>
            <a:off x="5646600" y="4846680"/>
            <a:ext cx="1333800" cy="43812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5"/>
          <p:cNvSpPr/>
          <p:nvPr/>
        </p:nvSpPr>
        <p:spPr>
          <a:xfrm>
            <a:off x="1182600" y="15350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鸭的步调急速，有局促不安之相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6" descr="小草"/>
          <p:cNvPicPr/>
          <p:nvPr/>
        </p:nvPicPr>
        <p:blipFill>
          <a:blip r:embed="rId3"/>
          <a:stretch/>
        </p:blipFill>
        <p:spPr>
          <a:xfrm>
            <a:off x="5148360" y="5373720"/>
            <a:ext cx="1333440" cy="438120"/>
          </a:xfrm>
          <a:prstGeom prst="rect">
            <a:avLst/>
          </a:prstGeom>
          <a:ln w="0">
            <a:noFill/>
          </a:ln>
        </p:spPr>
      </p:pic>
      <p:sp>
        <p:nvSpPr>
          <p:cNvPr id="480" name="AutoShape 7"/>
          <p:cNvSpPr/>
          <p:nvPr/>
        </p:nvSpPr>
        <p:spPr>
          <a:xfrm>
            <a:off x="8317080" y="6093000"/>
            <a:ext cx="576000" cy="649080"/>
          </a:xfrm>
          <a:custGeom>
            <a:avLst/>
            <a:gdLst>
              <a:gd name="textAreaLeft" fmla="*/ 36000 w 576000"/>
              <a:gd name="textAreaRight" fmla="*/ 540000 w 576000"/>
              <a:gd name="textAreaTop" fmla="*/ 36000 h 649080"/>
              <a:gd name="textAreaBottom" fmla="*/ 613080 h 649080"/>
            </a:gdLst>
            <a:ahLst/>
            <a:rect l="textAreaLeft" t="textAreaTop" r="textAreaRight" b="textAreaBottom"/>
            <a:pathLst>
              <a:path w="21600" h="24339">
                <a:moveTo>
                  <a:pt x="0" y="0"/>
                </a:moveTo>
                <a:lnTo>
                  <a:pt x="21600" y="0"/>
                </a:lnTo>
                <a:lnTo>
                  <a:pt x="21600" y="24339"/>
                </a:lnTo>
                <a:lnTo>
                  <a:pt x="0" y="24339"/>
                </a:lnTo>
                <a:close/>
              </a:path>
              <a:path fill="lightenLess" w="21600" h="24339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4339">
                <a:moveTo>
                  <a:pt x="21600" y="0"/>
                </a:moveTo>
                <a:lnTo>
                  <a:pt x="21600" y="24339"/>
                </a:lnTo>
                <a:lnTo>
                  <a:pt x="20250" y="22989"/>
                </a:lnTo>
                <a:lnTo>
                  <a:pt x="20250" y="1350"/>
                </a:lnTo>
                <a:close/>
              </a:path>
              <a:path fill="darkenLess" w="21600" h="24339">
                <a:moveTo>
                  <a:pt x="21600" y="24339"/>
                </a:moveTo>
                <a:lnTo>
                  <a:pt x="0" y="24339"/>
                </a:lnTo>
                <a:lnTo>
                  <a:pt x="1350" y="22989"/>
                </a:lnTo>
                <a:lnTo>
                  <a:pt x="20250" y="22989"/>
                </a:lnTo>
                <a:close/>
              </a:path>
              <a:path fill="lighten" w="21600" h="24339">
                <a:moveTo>
                  <a:pt x="0" y="24339"/>
                </a:moveTo>
                <a:lnTo>
                  <a:pt x="0" y="0"/>
                </a:lnTo>
                <a:lnTo>
                  <a:pt x="1350" y="1350"/>
                </a:lnTo>
                <a:lnTo>
                  <a:pt x="1350" y="22989"/>
                </a:lnTo>
                <a:close/>
              </a:path>
              <a:path fill="darken" w="21600" h="24339">
                <a:moveTo>
                  <a:pt x="3756" y="8844"/>
                </a:moveTo>
                <a:lnTo>
                  <a:pt x="7283" y="8844"/>
                </a:lnTo>
                <a:lnTo>
                  <a:pt x="7283" y="14208"/>
                </a:lnTo>
                <a:cubicBezTo>
                  <a:pt x="7283" y="15136"/>
                  <a:pt x="8088" y="15871"/>
                  <a:pt x="9129" y="15871"/>
                </a:cubicBezTo>
                <a:lnTo>
                  <a:pt x="10800" y="15871"/>
                </a:lnTo>
                <a:cubicBezTo>
                  <a:pt x="11841" y="15871"/>
                  <a:pt x="12646" y="15136"/>
                  <a:pt x="12646" y="14208"/>
                </a:cubicBezTo>
                <a:lnTo>
                  <a:pt x="12646" y="8844"/>
                </a:lnTo>
                <a:lnTo>
                  <a:pt x="10800" y="8844"/>
                </a:lnTo>
                <a:lnTo>
                  <a:pt x="14326" y="5318"/>
                </a:lnTo>
                <a:lnTo>
                  <a:pt x="18019" y="8844"/>
                </a:lnTo>
                <a:lnTo>
                  <a:pt x="16173" y="8844"/>
                </a:lnTo>
                <a:lnTo>
                  <a:pt x="16173" y="14208"/>
                </a:lnTo>
                <a:cubicBezTo>
                  <a:pt x="16173" y="16991"/>
                  <a:pt x="13583" y="19563"/>
                  <a:pt x="10800" y="19563"/>
                </a:cubicBezTo>
                <a:lnTo>
                  <a:pt x="9129" y="19563"/>
                </a:lnTo>
                <a:cubicBezTo>
                  <a:pt x="6346" y="19563"/>
                  <a:pt x="3756" y="16991"/>
                  <a:pt x="3756" y="1420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ebe7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684360" y="47628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　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它常傲然地站着，看见人走来也毫不相让；有时非但不让，竟伸过颈子来咬你一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3"/>
          <p:cNvGrpSpPr/>
          <p:nvPr/>
        </p:nvGrpSpPr>
        <p:grpSpPr>
          <a:xfrm>
            <a:off x="971640" y="3213000"/>
            <a:ext cx="646200" cy="71280"/>
            <a:chOff x="971640" y="3213000"/>
            <a:chExt cx="646200" cy="71280"/>
          </a:xfrm>
        </p:grpSpPr>
        <p:sp>
          <p:nvSpPr>
            <p:cNvPr id="483" name="Oval 4"/>
            <p:cNvSpPr/>
            <p:nvPr/>
          </p:nvSpPr>
          <p:spPr>
            <a:xfrm>
              <a:off x="971640" y="321444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5"/>
            <p:cNvSpPr/>
            <p:nvPr/>
          </p:nvSpPr>
          <p:spPr>
            <a:xfrm>
              <a:off x="1548000" y="321300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Group 6"/>
          <p:cNvGrpSpPr/>
          <p:nvPr/>
        </p:nvGrpSpPr>
        <p:grpSpPr>
          <a:xfrm>
            <a:off x="3132000" y="1198440"/>
            <a:ext cx="719280" cy="69840"/>
            <a:chOff x="3132000" y="1198440"/>
            <a:chExt cx="719280" cy="69840"/>
          </a:xfrm>
        </p:grpSpPr>
        <p:sp>
          <p:nvSpPr>
            <p:cNvPr id="486" name="Oval 7"/>
            <p:cNvSpPr/>
            <p:nvPr/>
          </p:nvSpPr>
          <p:spPr>
            <a:xfrm>
              <a:off x="3132000" y="119844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8"/>
            <p:cNvSpPr/>
            <p:nvPr/>
          </p:nvSpPr>
          <p:spPr>
            <a:xfrm>
              <a:off x="3781440" y="1198440"/>
              <a:ext cx="6984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8" name="Picture 9" descr="鹅15"/>
          <p:cNvPicPr/>
          <p:nvPr/>
        </p:nvPicPr>
        <p:blipFill>
          <a:blip r:embed="rId1"/>
          <a:stretch/>
        </p:blipFill>
        <p:spPr>
          <a:xfrm>
            <a:off x="4932360" y="4221000"/>
            <a:ext cx="3544920" cy="1855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0" descr="鹅走路的步态"/>
          <p:cNvPicPr/>
          <p:nvPr/>
        </p:nvPicPr>
        <p:blipFill>
          <a:blip r:embed="rId2"/>
          <a:stretch/>
        </p:blipFill>
        <p:spPr>
          <a:xfrm>
            <a:off x="5435640" y="836640"/>
            <a:ext cx="2587680" cy="3321000"/>
          </a:xfrm>
          <a:prstGeom prst="rect">
            <a:avLst/>
          </a:prstGeom>
          <a:ln w="0">
            <a:noFill/>
          </a:ln>
        </p:spPr>
      </p:pic>
      <p:grpSp>
        <p:nvGrpSpPr>
          <p:cNvPr id="490" name="Group 11"/>
          <p:cNvGrpSpPr/>
          <p:nvPr/>
        </p:nvGrpSpPr>
        <p:grpSpPr>
          <a:xfrm>
            <a:off x="3203640" y="2567160"/>
            <a:ext cx="718560" cy="69840"/>
            <a:chOff x="3203640" y="2567160"/>
            <a:chExt cx="718560" cy="69840"/>
          </a:xfrm>
        </p:grpSpPr>
        <p:sp>
          <p:nvSpPr>
            <p:cNvPr id="491" name="Oval 12"/>
            <p:cNvSpPr/>
            <p:nvPr/>
          </p:nvSpPr>
          <p:spPr>
            <a:xfrm>
              <a:off x="3203640" y="2567160"/>
              <a:ext cx="6948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13"/>
            <p:cNvSpPr/>
            <p:nvPr/>
          </p:nvSpPr>
          <p:spPr>
            <a:xfrm>
              <a:off x="3852720" y="2567160"/>
              <a:ext cx="69480" cy="69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4"/>
          <p:cNvSpPr/>
          <p:nvPr/>
        </p:nvSpPr>
        <p:spPr>
          <a:xfrm>
            <a:off x="684360" y="620640"/>
            <a:ext cx="7488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实鹅吃饭时更高傲、有趣、可笑呢？不信，请你读读课文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1332000" y="2781360"/>
            <a:ext cx="5629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它需要三样东西下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1332000" y="3933720"/>
            <a:ext cx="55450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吃法：三眼一板，一丝不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1403280" y="5013360"/>
            <a:ext cx="45370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、循规蹈矩，不会变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6"/>
          <p:cNvSpPr/>
          <p:nvPr/>
        </p:nvSpPr>
        <p:spPr>
          <a:xfrm>
            <a:off x="5867280" y="2421000"/>
            <a:ext cx="1225800" cy="1079280"/>
          </a:xfrm>
          <a:prstGeom prst="smileyFace">
            <a:avLst>
              <a:gd name="adj" fmla="val 4653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7"/>
          <p:cNvSpPr/>
          <p:nvPr/>
        </p:nvSpPr>
        <p:spPr>
          <a:xfrm>
            <a:off x="7236000" y="3500280"/>
            <a:ext cx="1152360" cy="1079640"/>
          </a:xfrm>
          <a:prstGeom prst="smileyFace">
            <a:avLst>
              <a:gd name="adj" fmla="val 4653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8"/>
          <p:cNvSpPr/>
          <p:nvPr/>
        </p:nvSpPr>
        <p:spPr>
          <a:xfrm>
            <a:off x="6084720" y="4653000"/>
            <a:ext cx="1224000" cy="1079640"/>
          </a:xfrm>
          <a:prstGeom prst="smileyFace">
            <a:avLst>
              <a:gd name="adj" fmla="val 4653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矩形 6"/>
          <p:cNvSpPr/>
          <p:nvPr/>
        </p:nvSpPr>
        <p:spPr>
          <a:xfrm>
            <a:off x="2268360" y="184464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5364000" y="1052280"/>
            <a:ext cx="36720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丰子恺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898—197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著名画家、艺术教育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国美育教育的先驱者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3" descr="W020090515395166267136"/>
          <p:cNvPicPr/>
          <p:nvPr/>
        </p:nvPicPr>
        <p:blipFill>
          <a:blip r:embed="rId1"/>
          <a:stretch/>
        </p:blipFill>
        <p:spPr>
          <a:xfrm>
            <a:off x="1258920" y="620640"/>
            <a:ext cx="3844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826920" y="1557360"/>
            <a:ext cx="7993080" cy="889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需要三样东西下饭：一样是水，一样是泥，一样是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3"/>
          <p:cNvSpPr/>
          <p:nvPr/>
        </p:nvSpPr>
        <p:spPr>
          <a:xfrm>
            <a:off x="2771640" y="3933720"/>
            <a:ext cx="6048360" cy="1943280"/>
          </a:xfrm>
          <a:prstGeom prst="wedgeEllipseCallout">
            <a:avLst>
              <a:gd name="adj1" fmla="val -44092"/>
              <a:gd name="adj2" fmla="val -68791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连吃饭都这么讲究，怎能说它不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高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4"/>
          <p:cNvSpPr/>
          <p:nvPr/>
        </p:nvSpPr>
        <p:spPr>
          <a:xfrm>
            <a:off x="539640" y="5734080"/>
            <a:ext cx="1225800" cy="720720"/>
          </a:xfrm>
          <a:custGeom>
            <a:avLst/>
            <a:gdLst>
              <a:gd name="textAreaLeft" fmla="*/ 45000 w 1225800"/>
              <a:gd name="textAreaRight" fmla="*/ 1180800 w 1225800"/>
              <a:gd name="textAreaTop" fmla="*/ 45000 h 720720"/>
              <a:gd name="textAreaBottom" fmla="*/ 675720 h 720720"/>
            </a:gdLst>
            <a:ahLst/>
            <a:rect l="textAreaLeft" t="textAreaTop" r="textAreaRight" b="textAreaBottom"/>
            <a:pathLst>
              <a:path w="36730" h="21600">
                <a:moveTo>
                  <a:pt x="0" y="0"/>
                </a:moveTo>
                <a:lnTo>
                  <a:pt x="36730" y="0"/>
                </a:lnTo>
                <a:lnTo>
                  <a:pt x="36730" y="21600"/>
                </a:lnTo>
                <a:lnTo>
                  <a:pt x="0" y="21600"/>
                </a:lnTo>
                <a:close/>
              </a:path>
              <a:path fill="lightenLess" w="36730" h="21600">
                <a:moveTo>
                  <a:pt x="0" y="0"/>
                </a:moveTo>
                <a:lnTo>
                  <a:pt x="36730" y="0"/>
                </a:lnTo>
                <a:lnTo>
                  <a:pt x="35380" y="1350"/>
                </a:lnTo>
                <a:lnTo>
                  <a:pt x="1350" y="1350"/>
                </a:lnTo>
                <a:close/>
              </a:path>
              <a:path fill="darken" w="36730" h="21600">
                <a:moveTo>
                  <a:pt x="36730" y="0"/>
                </a:moveTo>
                <a:lnTo>
                  <a:pt x="36730" y="21600"/>
                </a:lnTo>
                <a:lnTo>
                  <a:pt x="35380" y="20250"/>
                </a:lnTo>
                <a:lnTo>
                  <a:pt x="35380" y="1350"/>
                </a:lnTo>
                <a:close/>
              </a:path>
              <a:path fill="darkenLess" w="36730" h="21600">
                <a:moveTo>
                  <a:pt x="3673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5380" y="20250"/>
                </a:lnTo>
                <a:close/>
              </a:path>
              <a:path fill="lighten" w="3673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dfd6c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1116000" y="2997360"/>
            <a:ext cx="7207200" cy="776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譬如吃了一口饭，倘若水盆放在远处，它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一定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新魏"/>
              </a:rPr>
              <a:t>从容不迫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地大踏步走上前去，饮一口水，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再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大踏步走去吃泥，吃草。吃过泥和草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再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回来吃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1187280" y="1197000"/>
            <a:ext cx="6913800" cy="691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先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吃一口冷饭，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再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喝一口水，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然后再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到别处去吃一口泥和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4"/>
          <p:cNvSpPr/>
          <p:nvPr/>
        </p:nvSpPr>
        <p:spPr>
          <a:xfrm>
            <a:off x="539640" y="5734080"/>
            <a:ext cx="1225800" cy="720720"/>
          </a:xfrm>
          <a:custGeom>
            <a:avLst/>
            <a:gdLst>
              <a:gd name="textAreaLeft" fmla="*/ 45000 w 1225800"/>
              <a:gd name="textAreaRight" fmla="*/ 1180800 w 1225800"/>
              <a:gd name="textAreaTop" fmla="*/ 45000 h 720720"/>
              <a:gd name="textAreaBottom" fmla="*/ 675720 h 720720"/>
            </a:gdLst>
            <a:ahLst/>
            <a:rect l="textAreaLeft" t="textAreaTop" r="textAreaRight" b="textAreaBottom"/>
            <a:pathLst>
              <a:path w="36730" h="21600">
                <a:moveTo>
                  <a:pt x="0" y="0"/>
                </a:moveTo>
                <a:lnTo>
                  <a:pt x="36730" y="0"/>
                </a:lnTo>
                <a:lnTo>
                  <a:pt x="36730" y="21600"/>
                </a:lnTo>
                <a:lnTo>
                  <a:pt x="0" y="21600"/>
                </a:lnTo>
                <a:close/>
              </a:path>
              <a:path fill="lightenLess" w="36730" h="21600">
                <a:moveTo>
                  <a:pt x="0" y="0"/>
                </a:moveTo>
                <a:lnTo>
                  <a:pt x="36730" y="0"/>
                </a:lnTo>
                <a:lnTo>
                  <a:pt x="35380" y="1350"/>
                </a:lnTo>
                <a:lnTo>
                  <a:pt x="1350" y="1350"/>
                </a:lnTo>
                <a:close/>
              </a:path>
              <a:path fill="darken" w="36730" h="21600">
                <a:moveTo>
                  <a:pt x="36730" y="0"/>
                </a:moveTo>
                <a:lnTo>
                  <a:pt x="36730" y="21600"/>
                </a:lnTo>
                <a:lnTo>
                  <a:pt x="35380" y="20250"/>
                </a:lnTo>
                <a:lnTo>
                  <a:pt x="35380" y="1350"/>
                </a:lnTo>
                <a:close/>
              </a:path>
              <a:path fill="darkenLess" w="36730" h="21600">
                <a:moveTo>
                  <a:pt x="3673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5380" y="20250"/>
                </a:lnTo>
                <a:close/>
              </a:path>
              <a:path fill="lighten" w="3673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dfd6c3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755640" y="620640"/>
            <a:ext cx="7488360" cy="669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样从容不迫地吃饭，必须有一个人在旁侍候，像饭馆里的堂倌一样。因为附近的狗，都知道我们这位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鹅老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脾气，每逢它吃饭的时候，狗就躲在篱边窥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826920" y="3429000"/>
            <a:ext cx="7632720" cy="1245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不胜其烦，以后便将饭罐和水盆放在一起，免得它走远去，让鸡、狗偷饭吃。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然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所必须的泥和草，所在的地点远近无定。为了找这些食物，它仍是要走远去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Group 2"/>
          <p:cNvGrpSpPr/>
          <p:nvPr/>
        </p:nvGrpSpPr>
        <p:grpSpPr>
          <a:xfrm>
            <a:off x="0" y="4510080"/>
            <a:ext cx="2877840" cy="2347560"/>
            <a:chOff x="0" y="4510080"/>
            <a:chExt cx="2877840" cy="2347560"/>
          </a:xfrm>
        </p:grpSpPr>
        <p:pic>
          <p:nvPicPr>
            <p:cNvPr id="509" name="Picture 6" descr="111111"/>
            <p:cNvPicPr/>
            <p:nvPr/>
          </p:nvPicPr>
          <p:blipFill>
            <a:blip r:embed="rId2"/>
            <a:stretch/>
          </p:blipFill>
          <p:spPr>
            <a:xfrm>
              <a:off x="0" y="4510080"/>
              <a:ext cx="1793880" cy="21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7" descr="草"/>
            <p:cNvPicPr/>
            <p:nvPr/>
          </p:nvPicPr>
          <p:blipFill>
            <a:blip r:embed="rId3"/>
            <a:stretch/>
          </p:blipFill>
          <p:spPr>
            <a:xfrm>
              <a:off x="1060200" y="5358240"/>
              <a:ext cx="1817640" cy="136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8" descr="草"/>
            <p:cNvPicPr/>
            <p:nvPr/>
          </p:nvPicPr>
          <p:blipFill>
            <a:blip r:embed="rId4"/>
            <a:stretch/>
          </p:blipFill>
          <p:spPr>
            <a:xfrm>
              <a:off x="908640" y="5540040"/>
              <a:ext cx="1757160" cy="131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Rectangle 9"/>
          <p:cNvSpPr/>
          <p:nvPr/>
        </p:nvSpPr>
        <p:spPr>
          <a:xfrm>
            <a:off x="684360" y="260280"/>
            <a:ext cx="806436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鹅老爷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         “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老爷”一词原是旧时代对有身份、有地位的人的一种尊称。作者用以称呼白鹅，可见白鹅在他家中有特殊“地位”，享受特殊待遇。于是，白鹅也就有理由表现得“架子十足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900000" y="836640"/>
            <a:ext cx="7201080" cy="751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此循规蹈矩、不会变通的一只鹅。怪不得，它吃饭时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一个人侍候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不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真是架子十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3"/>
          <p:cNvSpPr/>
          <p:nvPr/>
        </p:nvSpPr>
        <p:spPr>
          <a:xfrm>
            <a:off x="1835280" y="3645000"/>
            <a:ext cx="6048360" cy="2592360"/>
          </a:xfrm>
          <a:prstGeom prst="wedgeEllipseCallout">
            <a:avLst>
              <a:gd name="adj1" fmla="val 3754"/>
              <a:gd name="adj2" fmla="val -101930"/>
            </a:avLst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不是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高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性格，吃饭时怎会非有一个人侍候不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5900"/>
            </a:gs>
            <a:gs pos="50000">
              <a:srgbClr val="0033cc"/>
            </a:gs>
            <a:gs pos="100000">
              <a:srgbClr val="dc5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WordArt 2" descr=""/>
          <p:cNvPicPr/>
          <p:nvPr/>
        </p:nvPicPr>
        <p:blipFill>
          <a:blip r:embed="rId1"/>
          <a:stretch/>
        </p:blipFill>
        <p:spPr>
          <a:xfrm>
            <a:off x="1109520" y="658800"/>
            <a:ext cx="6735960" cy="10778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3" descr="鹅走路的步态"/>
          <p:cNvPicPr/>
          <p:nvPr/>
        </p:nvPicPr>
        <p:blipFill>
          <a:blip r:embed="rId2"/>
          <a:stretch/>
        </p:blipFill>
        <p:spPr>
          <a:xfrm>
            <a:off x="2843280" y="2610000"/>
            <a:ext cx="3309840" cy="4248000"/>
          </a:xfrm>
          <a:prstGeom prst="rect">
            <a:avLst/>
          </a:prstGeom>
          <a:ln w="0">
            <a:noFill/>
          </a:ln>
        </p:spPr>
      </p:pic>
      <p:sp>
        <p:nvSpPr>
          <p:cNvPr id="518" name="Oval 4"/>
          <p:cNvSpPr/>
          <p:nvPr/>
        </p:nvSpPr>
        <p:spPr>
          <a:xfrm>
            <a:off x="3925800" y="1919160"/>
            <a:ext cx="212760" cy="2127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4646520" y="1916280"/>
            <a:ext cx="212760" cy="2124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咏鹅.mp3" descr=""/>
          <p:cNvPicPr/>
          <p:nvPr/>
        </p:nvPicPr>
        <p:blipFill>
          <a:blip r:embed="rId3"/>
          <a:stretch/>
        </p:blipFill>
        <p:spPr>
          <a:xfrm>
            <a:off x="8748720" y="6462720"/>
            <a:ext cx="3952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7" dur="54777" fill="hold"/>
                                        <p:tgtEl>
                                          <p:spTgt spid="5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54064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傲慢”一词常被用以形容人轻视别人，对人没有礼貌，作者为什么用这个词来形容白鹅？作者对白鹅怀着一种这样的感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形容人的词语来描绘鹅，把鹅写得富有灵性。作者将鹅说成是“傲慢”性格的表现，显然是把鹅当成了自己生活中的一个朋友，读来有亲切感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次，也表达了作者对白鹅的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1371600" y="990720"/>
            <a:ext cx="533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e jiaogood.mp3" descr=""/>
          <p:cNvPicPr/>
          <p:nvPr/>
        </p:nvPicPr>
        <p:blipFill>
          <a:blip r:embed="rId2"/>
          <a:stretch/>
        </p:blipFill>
        <p:spPr>
          <a:xfrm>
            <a:off x="8155080" y="5788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4"/>
          <p:cNvSpPr/>
          <p:nvPr/>
        </p:nvSpPr>
        <p:spPr>
          <a:xfrm>
            <a:off x="879480" y="1606680"/>
            <a:ext cx="56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男女生比赛，朗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~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1032840" y="639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诵读活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7" dur="9757" fill="hold"/>
                                        <p:tgtEl>
                                          <p:spTgt spid="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u=1004969475,2597673309&amp;gp=1"/>
          <p:cNvPicPr/>
          <p:nvPr/>
        </p:nvPicPr>
        <p:blipFill>
          <a:blip r:embed="rId2"/>
          <a:stretch/>
        </p:blipFill>
        <p:spPr>
          <a:xfrm>
            <a:off x="5638680" y="5006880"/>
            <a:ext cx="2376720" cy="185112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3"/>
          <p:cNvSpPr/>
          <p:nvPr/>
        </p:nvSpPr>
        <p:spPr>
          <a:xfrm>
            <a:off x="0" y="633240"/>
            <a:ext cx="8153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朗读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段，说说作者及其家人喜爱白鹅还有什么原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228600" y="1752480"/>
            <a:ext cx="783756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白鹅对作者一家人物质上和精神上都有贡献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在作者看来，精神上的贡献尤为重要，“因为我们这屋实在太简陋，环境实在太荒凉，生活实在太岑寂了。赖有这一只鹅，点缀庭院，增加生气，慰我寂寥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白鹅  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3"/>
          <p:cNvSpPr/>
          <p:nvPr/>
        </p:nvSpPr>
        <p:spPr>
          <a:xfrm>
            <a:off x="685800" y="373392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609480" y="5348160"/>
            <a:ext cx="907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留恋白鹅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丰子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6"/>
          <p:cNvSpPr/>
          <p:nvPr/>
        </p:nvSpPr>
        <p:spPr>
          <a:xfrm>
            <a:off x="32400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的小屋易主的前几天，我把这鹅送给住在小龙坎的朋友人家。送出之后的几天内，颇有异样的感觉。这感觉与诀别一个人的时候所发生的感觉完全相同，不过分量较为轻微而已。原来一切众生，本是同根，凡属血气，皆有共感。所以这禽鸟比这房屋更是牵惹人情，更能使人留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190835e"/>
          <p:cNvPicPr/>
          <p:nvPr/>
        </p:nvPicPr>
        <p:blipFill>
          <a:blip r:embed="rId2"/>
          <a:stretch/>
        </p:blipFill>
        <p:spPr>
          <a:xfrm>
            <a:off x="6546960" y="762120"/>
            <a:ext cx="2597040" cy="320040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3"/>
          <p:cNvSpPr/>
          <p:nvPr/>
        </p:nvSpPr>
        <p:spPr>
          <a:xfrm>
            <a:off x="1023120" y="5554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隶书"/>
                <a:ea typeface="隶书"/>
              </a:rPr>
              <a:t>作者简介及写作背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0" y="1197000"/>
            <a:ext cx="932508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丰子恺，名仁，浙江省崇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县（今属桐乡市）石门人，长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居住上海。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中国现代漫画家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翻译家、文学家、音乐教育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　《白鹅》写于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946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夏天。抗战期间，丰子恺内迁重庆，住在郊外一座荒村里。当时正值战时，生活条件艰苦、种菜、养鹅，这成了作者排遣苦闷的一种寄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白鹅  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"/>
          <p:cNvSpPr/>
          <p:nvPr/>
        </p:nvSpPr>
        <p:spPr>
          <a:xfrm>
            <a:off x="396720" y="1339920"/>
            <a:ext cx="78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认为作者对白鹅又怎样的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1403280" y="2564280"/>
            <a:ext cx="63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充满了爱意、敬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给你扇扇"/>
          <p:cNvPicPr/>
          <p:nvPr/>
        </p:nvPicPr>
        <p:blipFill>
          <a:blip r:embed="rId2"/>
          <a:stretch/>
        </p:blipFill>
        <p:spPr>
          <a:xfrm>
            <a:off x="108000" y="117360"/>
            <a:ext cx="3241800" cy="42721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捕鸟"/>
          <p:cNvPicPr/>
          <p:nvPr/>
        </p:nvPicPr>
        <p:blipFill>
          <a:blip r:embed="rId3"/>
          <a:stretch/>
        </p:blipFill>
        <p:spPr>
          <a:xfrm>
            <a:off x="3132000" y="2133720"/>
            <a:ext cx="3168720" cy="40179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自行车"/>
          <p:cNvPicPr/>
          <p:nvPr/>
        </p:nvPicPr>
        <p:blipFill>
          <a:blip r:embed="rId4"/>
          <a:stretch/>
        </p:blipFill>
        <p:spPr>
          <a:xfrm>
            <a:off x="6084720" y="3573360"/>
            <a:ext cx="3049920" cy="326556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5"/>
          <p:cNvSpPr/>
          <p:nvPr/>
        </p:nvSpPr>
        <p:spPr>
          <a:xfrm>
            <a:off x="3780000" y="475920"/>
            <a:ext cx="493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</a:rPr>
              <a:t>《给我的孩子们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搭积木"/>
          <p:cNvPicPr/>
          <p:nvPr/>
        </p:nvPicPr>
        <p:blipFill>
          <a:blip r:embed="rId2"/>
          <a:stretch/>
        </p:blipFill>
        <p:spPr>
          <a:xfrm>
            <a:off x="324000" y="117360"/>
            <a:ext cx="3744720" cy="32418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" descr="手推车"/>
          <p:cNvPicPr/>
          <p:nvPr/>
        </p:nvPicPr>
        <p:blipFill>
          <a:blip r:embed="rId3"/>
          <a:stretch/>
        </p:blipFill>
        <p:spPr>
          <a:xfrm>
            <a:off x="4932360" y="44280"/>
            <a:ext cx="3672000" cy="33861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台阶"/>
          <p:cNvPicPr/>
          <p:nvPr/>
        </p:nvPicPr>
        <p:blipFill>
          <a:blip r:embed="rId4"/>
          <a:stretch/>
        </p:blipFill>
        <p:spPr>
          <a:xfrm>
            <a:off x="325440" y="3502080"/>
            <a:ext cx="4032360" cy="3311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埋伏"/>
          <p:cNvPicPr/>
          <p:nvPr/>
        </p:nvPicPr>
        <p:blipFill>
          <a:blip r:embed="rId5"/>
          <a:stretch/>
        </p:blipFill>
        <p:spPr>
          <a:xfrm>
            <a:off x="4788000" y="3573360"/>
            <a:ext cx="3889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自由朗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1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读准字音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读通课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作者笔下的鹅有什么鲜明的特点？用横线画出表现这一特点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白鹅"/>
          <p:cNvPicPr/>
          <p:nvPr/>
        </p:nvPicPr>
        <p:blipFill>
          <a:blip r:embed="rId2"/>
          <a:stretch/>
        </p:blipFill>
        <p:spPr>
          <a:xfrm>
            <a:off x="6013440" y="189000"/>
            <a:ext cx="2211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白鹅  背景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3"/>
          <p:cNvSpPr/>
          <p:nvPr/>
        </p:nvSpPr>
        <p:spPr>
          <a:xfrm>
            <a:off x="539640" y="765000"/>
            <a:ext cx="88203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头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郑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重  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声呵斥  京</a:t>
            </a:r>
            <a:r>
              <a:rPr b="1" lang="zh-CN" sz="4000" spc="-1" strike="noStrike">
                <a:solidFill>
                  <a:srgbClr val="333399"/>
                </a:solidFill>
                <a:latin typeface="黑体"/>
                <a:ea typeface="黑体"/>
              </a:rPr>
              <a:t>剧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叫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嚣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引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吭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叫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倘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若    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敏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窥伺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丝不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苟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一日三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餐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脾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侍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候    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供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养不周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其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2041200" y="44370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shē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1261440" y="350028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Sh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2773800" y="76500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zhè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小草"/>
          <p:cNvPicPr/>
          <p:nvPr/>
        </p:nvPicPr>
        <p:blipFill>
          <a:blip r:embed="rId1"/>
          <a:stretch/>
        </p:blipFill>
        <p:spPr>
          <a:xfrm>
            <a:off x="7380360" y="5373720"/>
            <a:ext cx="1333440" cy="438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小草"/>
          <p:cNvPicPr/>
          <p:nvPr/>
        </p:nvPicPr>
        <p:blipFill>
          <a:blip r:embed="rId2"/>
          <a:stretch/>
        </p:blipFill>
        <p:spPr>
          <a:xfrm>
            <a:off x="6372360" y="5877000"/>
            <a:ext cx="1333440" cy="438120"/>
          </a:xfrm>
          <a:prstGeom prst="rect">
            <a:avLst/>
          </a:prstGeom>
          <a:ln w="0">
            <a:noFill/>
          </a:ln>
        </p:spPr>
      </p:pic>
      <p:sp>
        <p:nvSpPr>
          <p:cNvPr id="401" name="WordArt 4"/>
          <p:cNvSpPr txBox="1"/>
          <p:nvPr/>
        </p:nvSpPr>
        <p:spPr>
          <a:xfrm>
            <a:off x="395280" y="189000"/>
            <a:ext cx="1866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读一读：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684360" y="1052640"/>
            <a:ext cx="7775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头颈、姿态、郑重、狂吠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"/>
              </a:rPr>
              <a:t>颇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京剧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"/>
              </a:rPr>
              <a:t>奢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、譬如、倘若、堂倌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脾气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"/>
              </a:rPr>
              <a:t>窥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、敏捷、蹲着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一日三餐、一丝不苟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"/>
              </a:rPr>
              <a:t>厉声呵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"/>
              </a:rPr>
              <a:t>厉声叫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"/>
              </a:rPr>
              <a:t>引吭大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01:02:3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4:24:03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