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EA9D-75D5-4D40-9B9F-973B42B3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80C3-FA1F-44C9-AB25-5A827A89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0B8E-43DD-47CE-8E32-58429DF1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4300-95FB-4CDE-9993-3213BE99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13D6-7DFF-4F9D-B17D-360BD1AB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4FAD-CB16-439B-96B3-C914B6D9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8023-7A27-4916-8260-7A79C83C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0B9F-5EA6-4BF1-9B4A-3F5CD0F9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3ED5-F2A0-4FC8-8957-B05E646B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EBC1-B44F-4228-A17C-F047B9C7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587-D892-4B8E-925C-B52A849A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9CEB-2EF1-4894-8620-51481B5D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AB3C-C956-4F31-A0A6-D27D4C9C81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EDBC-E9C5-4A88-845A-B94BC3B1EE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pidbbs.c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rapidbbs.cn/" TargetMode="External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rapidbbs.c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rapidbbs.c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rapidbbs.c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rapidbbs.c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rapidbbs.cn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apidbbs.cn/" TargetMode="External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llede 32" descr="Blue sky Corn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570560"/>
          </a:xfrm>
          <a:prstGeom prst="rect">
            <a:avLst/>
          </a:prstGeom>
          <a:ln w="0">
            <a:noFill/>
          </a:ln>
        </p:spPr>
      </p:pic>
      <p:sp>
        <p:nvSpPr>
          <p:cNvPr id="42" name="Tekstboks 31"/>
          <p:cNvSpPr/>
          <p:nvPr/>
        </p:nvSpPr>
        <p:spPr>
          <a:xfrm>
            <a:off x="4084200" y="1055520"/>
            <a:ext cx="10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Calibri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314280" y="195120"/>
            <a:ext cx="8520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VISIONS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TARG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68"/>
          <p:cNvSpPr/>
          <p:nvPr/>
        </p:nvSpPr>
        <p:spPr>
          <a:xfrm>
            <a:off x="1440" y="3029040"/>
            <a:ext cx="4605480" cy="3828960"/>
          </a:xfrm>
          <a:custGeom>
            <a:avLst/>
            <a:gdLst>
              <a:gd name="textAreaLeft" fmla="*/ 0 w 4605480"/>
              <a:gd name="textAreaRight" fmla="*/ 4605840 w 4605480"/>
              <a:gd name="textAreaTop" fmla="*/ 0 h 3828960"/>
              <a:gd name="textAreaBottom" fmla="*/ 3829320 h 3828960"/>
            </a:gdLst>
            <a:ahLst/>
            <a:rect l="textAreaLeft" t="textAreaTop" r="textAreaRight" b="textAreaBottom"/>
            <a:pathLst>
              <a:path w="2612" h="2604">
                <a:moveTo>
                  <a:pt x="0" y="1562"/>
                </a:moveTo>
                <a:lnTo>
                  <a:pt x="0" y="2604"/>
                </a:lnTo>
                <a:lnTo>
                  <a:pt x="1272" y="2604"/>
                </a:lnTo>
                <a:lnTo>
                  <a:pt x="2612" y="0"/>
                </a:lnTo>
                <a:lnTo>
                  <a:pt x="0" y="1562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daeef3"/>
              </a:gs>
            </a:gsLst>
            <a:lin ang="5400000"/>
          </a:gradFill>
          <a:ln w="93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70"/>
          <p:cNvSpPr/>
          <p:nvPr/>
        </p:nvSpPr>
        <p:spPr>
          <a:xfrm>
            <a:off x="2262240" y="3032280"/>
            <a:ext cx="4525920" cy="3825720"/>
          </a:xfrm>
          <a:custGeom>
            <a:avLst/>
            <a:gdLst>
              <a:gd name="textAreaLeft" fmla="*/ 0 w 4525920"/>
              <a:gd name="textAreaRight" fmla="*/ 4526280 w 4525920"/>
              <a:gd name="textAreaTop" fmla="*/ 0 h 3825720"/>
              <a:gd name="textAreaBottom" fmla="*/ 3826080 h 3825720"/>
            </a:gdLst>
            <a:ahLst/>
            <a:rect l="textAreaLeft" t="textAreaTop" r="textAreaRight" b="textAreaBottom"/>
            <a:pathLst>
              <a:path w="2568" h="2602">
                <a:moveTo>
                  <a:pt x="0" y="2602"/>
                </a:moveTo>
                <a:lnTo>
                  <a:pt x="2568" y="2602"/>
                </a:lnTo>
                <a:lnTo>
                  <a:pt x="1338" y="0"/>
                </a:lnTo>
                <a:lnTo>
                  <a:pt x="0" y="2602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daeef3"/>
              </a:gs>
            </a:gsLst>
            <a:lin ang="5400000"/>
          </a:gradFill>
          <a:ln w="93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1"/>
          <p:cNvSpPr/>
          <p:nvPr/>
        </p:nvSpPr>
        <p:spPr>
          <a:xfrm>
            <a:off x="4638600" y="3029040"/>
            <a:ext cx="4502160" cy="3828960"/>
          </a:xfrm>
          <a:custGeom>
            <a:avLst/>
            <a:gdLst>
              <a:gd name="textAreaLeft" fmla="*/ 0 w 4502160"/>
              <a:gd name="textAreaRight" fmla="*/ 4502520 w 4502160"/>
              <a:gd name="textAreaTop" fmla="*/ 0 h 3828960"/>
              <a:gd name="textAreaBottom" fmla="*/ 3829320 h 3828960"/>
            </a:gdLst>
            <a:ahLst/>
            <a:rect l="textAreaLeft" t="textAreaTop" r="textAreaRight" b="textAreaBottom"/>
            <a:pathLst>
              <a:path w="2554" h="2604">
                <a:moveTo>
                  <a:pt x="1230" y="2604"/>
                </a:moveTo>
                <a:lnTo>
                  <a:pt x="1230" y="2604"/>
                </a:lnTo>
                <a:lnTo>
                  <a:pt x="2554" y="2604"/>
                </a:lnTo>
                <a:lnTo>
                  <a:pt x="2554" y="1540"/>
                </a:lnTo>
                <a:lnTo>
                  <a:pt x="0" y="0"/>
                </a:lnTo>
                <a:lnTo>
                  <a:pt x="1230" y="2604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daeef3"/>
              </a:gs>
            </a:gsLst>
            <a:lin ang="5400000"/>
          </a:gradFill>
          <a:ln w="93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kstboks 59"/>
          <p:cNvSpPr/>
          <p:nvPr/>
        </p:nvSpPr>
        <p:spPr>
          <a:xfrm rot="3088800">
            <a:off x="5765760" y="47538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aeef3"/>
                </a:solidFill>
                <a:latin typeface="Calibri"/>
              </a:rPr>
              <a:t>TEXT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kstboks 60"/>
          <p:cNvSpPr/>
          <p:nvPr/>
        </p:nvSpPr>
        <p:spPr>
          <a:xfrm flipV="1" rot="7816200">
            <a:off x="1865160" y="47228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aeef3"/>
                </a:solidFill>
                <a:latin typeface="Calibri"/>
              </a:rPr>
              <a:t>TEXT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kstboks 61"/>
          <p:cNvSpPr/>
          <p:nvPr/>
        </p:nvSpPr>
        <p:spPr>
          <a:xfrm flipV="1" rot="5400000">
            <a:off x="3842640" y="525276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aeef3"/>
                </a:solidFill>
                <a:latin typeface="Calibri"/>
              </a:rPr>
              <a:t>TEXT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e 36"/>
          <p:cNvGrpSpPr/>
          <p:nvPr/>
        </p:nvGrpSpPr>
        <p:grpSpPr>
          <a:xfrm>
            <a:off x="4314960" y="1562040"/>
            <a:ext cx="630000" cy="1524240"/>
            <a:chOff x="4314960" y="1562040"/>
            <a:chExt cx="630000" cy="1524240"/>
          </a:xfrm>
        </p:grpSpPr>
        <p:grpSp>
          <p:nvGrpSpPr>
            <p:cNvPr id="51" name="Gruppe 70"/>
            <p:cNvGrpSpPr/>
            <p:nvPr/>
          </p:nvGrpSpPr>
          <p:grpSpPr>
            <a:xfrm>
              <a:off x="4314960" y="1562040"/>
              <a:ext cx="630000" cy="1524240"/>
              <a:chOff x="4314960" y="1562040"/>
              <a:chExt cx="630000" cy="1524240"/>
            </a:xfrm>
          </p:grpSpPr>
          <p:sp>
            <p:nvSpPr>
              <p:cNvPr id="52" name="Freeform 96"/>
              <p:cNvSpPr/>
              <p:nvPr/>
            </p:nvSpPr>
            <p:spPr>
              <a:xfrm>
                <a:off x="4314960" y="1562040"/>
                <a:ext cx="630000" cy="1524240"/>
              </a:xfrm>
              <a:custGeom>
                <a:avLst/>
                <a:gdLst>
                  <a:gd name="textAreaLeft" fmla="*/ 0 w 630000"/>
                  <a:gd name="textAreaRight" fmla="*/ 630360 w 630000"/>
                  <a:gd name="textAreaTop" fmla="*/ 0 h 1524240"/>
                  <a:gd name="textAreaBottom" fmla="*/ 1524600 h 1524240"/>
                </a:gdLst>
                <a:ahLst/>
                <a:rect l="textAreaLeft" t="textAreaTop" r="textAreaRight" b="textAreaBottom"/>
                <a:pathLst>
                  <a:path w="2148" h="5196">
                    <a:moveTo>
                      <a:pt x="2136" y="254"/>
                    </a:moveTo>
                    <a:lnTo>
                      <a:pt x="2086" y="166"/>
                    </a:lnTo>
                    <a:lnTo>
                      <a:pt x="2078" y="154"/>
                    </a:lnTo>
                    <a:lnTo>
                      <a:pt x="2068" y="142"/>
                    </a:lnTo>
                    <a:lnTo>
                      <a:pt x="2060" y="136"/>
                    </a:lnTo>
                    <a:lnTo>
                      <a:pt x="2054" y="132"/>
                    </a:lnTo>
                    <a:lnTo>
                      <a:pt x="2026" y="126"/>
                    </a:lnTo>
                    <a:lnTo>
                      <a:pt x="2008" y="122"/>
                    </a:lnTo>
                    <a:lnTo>
                      <a:pt x="1990" y="120"/>
                    </a:lnTo>
                    <a:lnTo>
                      <a:pt x="1976" y="120"/>
                    </a:lnTo>
                    <a:lnTo>
                      <a:pt x="1964" y="124"/>
                    </a:lnTo>
                    <a:lnTo>
                      <a:pt x="1938" y="130"/>
                    </a:lnTo>
                    <a:lnTo>
                      <a:pt x="1914" y="140"/>
                    </a:lnTo>
                    <a:lnTo>
                      <a:pt x="1892" y="148"/>
                    </a:lnTo>
                    <a:lnTo>
                      <a:pt x="1872" y="150"/>
                    </a:lnTo>
                    <a:lnTo>
                      <a:pt x="1868" y="152"/>
                    </a:lnTo>
                    <a:lnTo>
                      <a:pt x="1864" y="156"/>
                    </a:lnTo>
                    <a:lnTo>
                      <a:pt x="1858" y="164"/>
                    </a:lnTo>
                    <a:lnTo>
                      <a:pt x="1854" y="176"/>
                    </a:lnTo>
                    <a:lnTo>
                      <a:pt x="1852" y="184"/>
                    </a:lnTo>
                    <a:lnTo>
                      <a:pt x="1854" y="208"/>
                    </a:lnTo>
                    <a:lnTo>
                      <a:pt x="1856" y="234"/>
                    </a:lnTo>
                    <a:lnTo>
                      <a:pt x="1858" y="252"/>
                    </a:lnTo>
                    <a:lnTo>
                      <a:pt x="1860" y="258"/>
                    </a:lnTo>
                    <a:lnTo>
                      <a:pt x="1864" y="264"/>
                    </a:lnTo>
                    <a:lnTo>
                      <a:pt x="1872" y="270"/>
                    </a:lnTo>
                    <a:lnTo>
                      <a:pt x="1882" y="302"/>
                    </a:lnTo>
                    <a:lnTo>
                      <a:pt x="1888" y="330"/>
                    </a:lnTo>
                    <a:lnTo>
                      <a:pt x="1890" y="362"/>
                    </a:lnTo>
                    <a:lnTo>
                      <a:pt x="1888" y="394"/>
                    </a:lnTo>
                    <a:lnTo>
                      <a:pt x="1882" y="428"/>
                    </a:lnTo>
                    <a:lnTo>
                      <a:pt x="1876" y="450"/>
                    </a:lnTo>
                    <a:lnTo>
                      <a:pt x="1866" y="484"/>
                    </a:lnTo>
                    <a:lnTo>
                      <a:pt x="1850" y="516"/>
                    </a:lnTo>
                    <a:lnTo>
                      <a:pt x="1784" y="638"/>
                    </a:lnTo>
                    <a:lnTo>
                      <a:pt x="1752" y="702"/>
                    </a:lnTo>
                    <a:lnTo>
                      <a:pt x="1730" y="744"/>
                    </a:lnTo>
                    <a:lnTo>
                      <a:pt x="1712" y="776"/>
                    </a:lnTo>
                    <a:lnTo>
                      <a:pt x="1694" y="808"/>
                    </a:lnTo>
                    <a:lnTo>
                      <a:pt x="1648" y="878"/>
                    </a:lnTo>
                    <a:lnTo>
                      <a:pt x="1640" y="892"/>
                    </a:lnTo>
                    <a:lnTo>
                      <a:pt x="1632" y="908"/>
                    </a:lnTo>
                    <a:lnTo>
                      <a:pt x="1626" y="924"/>
                    </a:lnTo>
                    <a:lnTo>
                      <a:pt x="1622" y="940"/>
                    </a:lnTo>
                    <a:lnTo>
                      <a:pt x="1610" y="970"/>
                    </a:lnTo>
                    <a:lnTo>
                      <a:pt x="1596" y="1002"/>
                    </a:lnTo>
                    <a:lnTo>
                      <a:pt x="1584" y="1022"/>
                    </a:lnTo>
                    <a:lnTo>
                      <a:pt x="1548" y="1086"/>
                    </a:lnTo>
                    <a:lnTo>
                      <a:pt x="1532" y="1108"/>
                    </a:lnTo>
                    <a:lnTo>
                      <a:pt x="1512" y="1138"/>
                    </a:lnTo>
                    <a:lnTo>
                      <a:pt x="1490" y="1168"/>
                    </a:lnTo>
                    <a:lnTo>
                      <a:pt x="1474" y="1188"/>
                    </a:lnTo>
                    <a:lnTo>
                      <a:pt x="1458" y="1212"/>
                    </a:lnTo>
                    <a:lnTo>
                      <a:pt x="1448" y="1228"/>
                    </a:lnTo>
                    <a:lnTo>
                      <a:pt x="1440" y="1246"/>
                    </a:lnTo>
                    <a:lnTo>
                      <a:pt x="1424" y="1270"/>
                    </a:lnTo>
                    <a:lnTo>
                      <a:pt x="1402" y="1302"/>
                    </a:lnTo>
                    <a:lnTo>
                      <a:pt x="1392" y="1316"/>
                    </a:lnTo>
                    <a:lnTo>
                      <a:pt x="1378" y="1328"/>
                    </a:lnTo>
                    <a:lnTo>
                      <a:pt x="1364" y="1340"/>
                    </a:lnTo>
                    <a:lnTo>
                      <a:pt x="1350" y="1350"/>
                    </a:lnTo>
                    <a:lnTo>
                      <a:pt x="1306" y="1376"/>
                    </a:lnTo>
                    <a:lnTo>
                      <a:pt x="1292" y="1382"/>
                    </a:lnTo>
                    <a:lnTo>
                      <a:pt x="1278" y="1384"/>
                    </a:lnTo>
                    <a:lnTo>
                      <a:pt x="1264" y="1384"/>
                    </a:lnTo>
                    <a:lnTo>
                      <a:pt x="1260" y="1382"/>
                    </a:lnTo>
                    <a:lnTo>
                      <a:pt x="1256" y="1378"/>
                    </a:lnTo>
                    <a:lnTo>
                      <a:pt x="1248" y="1370"/>
                    </a:lnTo>
                    <a:lnTo>
                      <a:pt x="1240" y="1356"/>
                    </a:lnTo>
                    <a:lnTo>
                      <a:pt x="1236" y="1342"/>
                    </a:lnTo>
                    <a:lnTo>
                      <a:pt x="1234" y="1326"/>
                    </a:lnTo>
                    <a:lnTo>
                      <a:pt x="1230" y="1230"/>
                    </a:lnTo>
                    <a:lnTo>
                      <a:pt x="1226" y="1194"/>
                    </a:lnTo>
                    <a:lnTo>
                      <a:pt x="1222" y="1158"/>
                    </a:lnTo>
                    <a:lnTo>
                      <a:pt x="1204" y="1068"/>
                    </a:lnTo>
                    <a:lnTo>
                      <a:pt x="1200" y="1052"/>
                    </a:lnTo>
                    <a:lnTo>
                      <a:pt x="1194" y="1034"/>
                    </a:lnTo>
                    <a:lnTo>
                      <a:pt x="1186" y="1016"/>
                    </a:lnTo>
                    <a:lnTo>
                      <a:pt x="1176" y="1002"/>
                    </a:lnTo>
                    <a:lnTo>
                      <a:pt x="1148" y="962"/>
                    </a:lnTo>
                    <a:lnTo>
                      <a:pt x="1138" y="950"/>
                    </a:lnTo>
                    <a:lnTo>
                      <a:pt x="1124" y="940"/>
                    </a:lnTo>
                    <a:lnTo>
                      <a:pt x="1108" y="932"/>
                    </a:lnTo>
                    <a:lnTo>
                      <a:pt x="1092" y="930"/>
                    </a:lnTo>
                    <a:lnTo>
                      <a:pt x="972" y="926"/>
                    </a:lnTo>
                    <a:lnTo>
                      <a:pt x="954" y="926"/>
                    </a:lnTo>
                    <a:lnTo>
                      <a:pt x="936" y="930"/>
                    </a:lnTo>
                    <a:lnTo>
                      <a:pt x="918" y="936"/>
                    </a:lnTo>
                    <a:lnTo>
                      <a:pt x="904" y="942"/>
                    </a:lnTo>
                    <a:lnTo>
                      <a:pt x="890" y="952"/>
                    </a:lnTo>
                    <a:lnTo>
                      <a:pt x="876" y="960"/>
                    </a:lnTo>
                    <a:lnTo>
                      <a:pt x="860" y="972"/>
                    </a:lnTo>
                    <a:lnTo>
                      <a:pt x="846" y="986"/>
                    </a:lnTo>
                    <a:lnTo>
                      <a:pt x="836" y="998"/>
                    </a:lnTo>
                    <a:lnTo>
                      <a:pt x="804" y="1042"/>
                    </a:lnTo>
                    <a:lnTo>
                      <a:pt x="794" y="1056"/>
                    </a:lnTo>
                    <a:lnTo>
                      <a:pt x="784" y="1072"/>
                    </a:lnTo>
                    <a:lnTo>
                      <a:pt x="776" y="1090"/>
                    </a:lnTo>
                    <a:lnTo>
                      <a:pt x="770" y="1104"/>
                    </a:lnTo>
                    <a:lnTo>
                      <a:pt x="754" y="1152"/>
                    </a:lnTo>
                    <a:lnTo>
                      <a:pt x="746" y="1186"/>
                    </a:lnTo>
                    <a:lnTo>
                      <a:pt x="740" y="1222"/>
                    </a:lnTo>
                    <a:lnTo>
                      <a:pt x="738" y="1272"/>
                    </a:lnTo>
                    <a:lnTo>
                      <a:pt x="734" y="1346"/>
                    </a:lnTo>
                    <a:lnTo>
                      <a:pt x="734" y="1366"/>
                    </a:lnTo>
                    <a:lnTo>
                      <a:pt x="736" y="1382"/>
                    </a:lnTo>
                    <a:lnTo>
                      <a:pt x="742" y="1398"/>
                    </a:lnTo>
                    <a:lnTo>
                      <a:pt x="750" y="1416"/>
                    </a:lnTo>
                    <a:lnTo>
                      <a:pt x="758" y="1428"/>
                    </a:lnTo>
                    <a:lnTo>
                      <a:pt x="764" y="1436"/>
                    </a:lnTo>
                    <a:lnTo>
                      <a:pt x="772" y="1448"/>
                    </a:lnTo>
                    <a:lnTo>
                      <a:pt x="778" y="1458"/>
                    </a:lnTo>
                    <a:lnTo>
                      <a:pt x="778" y="1468"/>
                    </a:lnTo>
                    <a:lnTo>
                      <a:pt x="776" y="1472"/>
                    </a:lnTo>
                    <a:lnTo>
                      <a:pt x="774" y="1474"/>
                    </a:lnTo>
                    <a:lnTo>
                      <a:pt x="770" y="1476"/>
                    </a:lnTo>
                    <a:lnTo>
                      <a:pt x="766" y="1478"/>
                    </a:lnTo>
                    <a:lnTo>
                      <a:pt x="756" y="1474"/>
                    </a:lnTo>
                    <a:lnTo>
                      <a:pt x="744" y="1468"/>
                    </a:lnTo>
                    <a:lnTo>
                      <a:pt x="734" y="1458"/>
                    </a:lnTo>
                    <a:lnTo>
                      <a:pt x="690" y="1406"/>
                    </a:lnTo>
                    <a:lnTo>
                      <a:pt x="678" y="1392"/>
                    </a:lnTo>
                    <a:lnTo>
                      <a:pt x="668" y="1376"/>
                    </a:lnTo>
                    <a:lnTo>
                      <a:pt x="658" y="1360"/>
                    </a:lnTo>
                    <a:lnTo>
                      <a:pt x="650" y="1346"/>
                    </a:lnTo>
                    <a:lnTo>
                      <a:pt x="618" y="1272"/>
                    </a:lnTo>
                    <a:lnTo>
                      <a:pt x="588" y="1208"/>
                    </a:lnTo>
                    <a:lnTo>
                      <a:pt x="528" y="1088"/>
                    </a:lnTo>
                    <a:lnTo>
                      <a:pt x="512" y="1054"/>
                    </a:lnTo>
                    <a:lnTo>
                      <a:pt x="500" y="1020"/>
                    </a:lnTo>
                    <a:lnTo>
                      <a:pt x="468" y="928"/>
                    </a:lnTo>
                    <a:lnTo>
                      <a:pt x="444" y="858"/>
                    </a:lnTo>
                    <a:lnTo>
                      <a:pt x="408" y="758"/>
                    </a:lnTo>
                    <a:lnTo>
                      <a:pt x="398" y="722"/>
                    </a:lnTo>
                    <a:lnTo>
                      <a:pt x="390" y="688"/>
                    </a:lnTo>
                    <a:lnTo>
                      <a:pt x="378" y="606"/>
                    </a:lnTo>
                    <a:lnTo>
                      <a:pt x="374" y="588"/>
                    </a:lnTo>
                    <a:lnTo>
                      <a:pt x="368" y="570"/>
                    </a:lnTo>
                    <a:lnTo>
                      <a:pt x="362" y="554"/>
                    </a:lnTo>
                    <a:lnTo>
                      <a:pt x="354" y="538"/>
                    </a:lnTo>
                    <a:lnTo>
                      <a:pt x="318" y="476"/>
                    </a:lnTo>
                    <a:lnTo>
                      <a:pt x="258" y="362"/>
                    </a:lnTo>
                    <a:lnTo>
                      <a:pt x="252" y="348"/>
                    </a:lnTo>
                    <a:lnTo>
                      <a:pt x="250" y="330"/>
                    </a:lnTo>
                    <a:lnTo>
                      <a:pt x="250" y="312"/>
                    </a:lnTo>
                    <a:lnTo>
                      <a:pt x="254" y="296"/>
                    </a:lnTo>
                    <a:lnTo>
                      <a:pt x="276" y="234"/>
                    </a:lnTo>
                    <a:lnTo>
                      <a:pt x="292" y="188"/>
                    </a:lnTo>
                    <a:lnTo>
                      <a:pt x="300" y="178"/>
                    </a:lnTo>
                    <a:lnTo>
                      <a:pt x="308" y="170"/>
                    </a:lnTo>
                    <a:lnTo>
                      <a:pt x="312" y="164"/>
                    </a:lnTo>
                    <a:lnTo>
                      <a:pt x="318" y="156"/>
                    </a:lnTo>
                    <a:lnTo>
                      <a:pt x="322" y="146"/>
                    </a:lnTo>
                    <a:lnTo>
                      <a:pt x="326" y="134"/>
                    </a:lnTo>
                    <a:lnTo>
                      <a:pt x="332" y="110"/>
                    </a:lnTo>
                    <a:lnTo>
                      <a:pt x="334" y="92"/>
                    </a:lnTo>
                    <a:lnTo>
                      <a:pt x="332" y="84"/>
                    </a:lnTo>
                    <a:lnTo>
                      <a:pt x="330" y="76"/>
                    </a:lnTo>
                    <a:lnTo>
                      <a:pt x="322" y="58"/>
                    </a:lnTo>
                    <a:lnTo>
                      <a:pt x="314" y="50"/>
                    </a:lnTo>
                    <a:lnTo>
                      <a:pt x="304" y="42"/>
                    </a:lnTo>
                    <a:lnTo>
                      <a:pt x="290" y="36"/>
                    </a:lnTo>
                    <a:lnTo>
                      <a:pt x="276" y="30"/>
                    </a:lnTo>
                    <a:lnTo>
                      <a:pt x="178" y="4"/>
                    </a:lnTo>
                    <a:lnTo>
                      <a:pt x="162" y="2"/>
                    </a:lnTo>
                    <a:lnTo>
                      <a:pt x="150" y="0"/>
                    </a:lnTo>
                    <a:lnTo>
                      <a:pt x="138" y="0"/>
                    </a:lnTo>
                    <a:lnTo>
                      <a:pt x="132" y="2"/>
                    </a:lnTo>
                    <a:lnTo>
                      <a:pt x="106" y="18"/>
                    </a:lnTo>
                    <a:lnTo>
                      <a:pt x="92" y="28"/>
                    </a:lnTo>
                    <a:lnTo>
                      <a:pt x="78" y="40"/>
                    </a:lnTo>
                    <a:lnTo>
                      <a:pt x="68" y="50"/>
                    </a:lnTo>
                    <a:lnTo>
                      <a:pt x="60" y="60"/>
                    </a:lnTo>
                    <a:lnTo>
                      <a:pt x="48" y="84"/>
                    </a:lnTo>
                    <a:lnTo>
                      <a:pt x="38" y="108"/>
                    </a:lnTo>
                    <a:lnTo>
                      <a:pt x="28" y="128"/>
                    </a:lnTo>
                    <a:lnTo>
                      <a:pt x="16" y="144"/>
                    </a:lnTo>
                    <a:lnTo>
                      <a:pt x="4" y="158"/>
                    </a:lnTo>
                    <a:lnTo>
                      <a:pt x="2" y="160"/>
                    </a:lnTo>
                    <a:lnTo>
                      <a:pt x="0" y="166"/>
                    </a:lnTo>
                    <a:lnTo>
                      <a:pt x="2" y="174"/>
                    </a:lnTo>
                    <a:lnTo>
                      <a:pt x="6" y="184"/>
                    </a:lnTo>
                    <a:lnTo>
                      <a:pt x="16" y="196"/>
                    </a:lnTo>
                    <a:lnTo>
                      <a:pt x="26" y="206"/>
                    </a:lnTo>
                    <a:lnTo>
                      <a:pt x="34" y="218"/>
                    </a:lnTo>
                    <a:lnTo>
                      <a:pt x="40" y="228"/>
                    </a:lnTo>
                    <a:lnTo>
                      <a:pt x="50" y="240"/>
                    </a:lnTo>
                    <a:lnTo>
                      <a:pt x="60" y="254"/>
                    </a:lnTo>
                    <a:lnTo>
                      <a:pt x="68" y="272"/>
                    </a:lnTo>
                    <a:lnTo>
                      <a:pt x="74" y="292"/>
                    </a:lnTo>
                    <a:lnTo>
                      <a:pt x="74" y="298"/>
                    </a:lnTo>
                    <a:lnTo>
                      <a:pt x="74" y="302"/>
                    </a:lnTo>
                    <a:lnTo>
                      <a:pt x="74" y="316"/>
                    </a:lnTo>
                    <a:lnTo>
                      <a:pt x="76" y="344"/>
                    </a:lnTo>
                    <a:lnTo>
                      <a:pt x="84" y="426"/>
                    </a:lnTo>
                    <a:lnTo>
                      <a:pt x="84" y="442"/>
                    </a:lnTo>
                    <a:lnTo>
                      <a:pt x="82" y="458"/>
                    </a:lnTo>
                    <a:lnTo>
                      <a:pt x="78" y="474"/>
                    </a:lnTo>
                    <a:lnTo>
                      <a:pt x="72" y="488"/>
                    </a:lnTo>
                    <a:lnTo>
                      <a:pt x="66" y="502"/>
                    </a:lnTo>
                    <a:lnTo>
                      <a:pt x="64" y="518"/>
                    </a:lnTo>
                    <a:lnTo>
                      <a:pt x="64" y="534"/>
                    </a:lnTo>
                    <a:lnTo>
                      <a:pt x="66" y="550"/>
                    </a:lnTo>
                    <a:lnTo>
                      <a:pt x="100" y="666"/>
                    </a:lnTo>
                    <a:lnTo>
                      <a:pt x="122" y="734"/>
                    </a:lnTo>
                    <a:lnTo>
                      <a:pt x="230" y="1044"/>
                    </a:lnTo>
                    <a:lnTo>
                      <a:pt x="238" y="1078"/>
                    </a:lnTo>
                    <a:lnTo>
                      <a:pt x="244" y="1114"/>
                    </a:lnTo>
                    <a:lnTo>
                      <a:pt x="246" y="1142"/>
                    </a:lnTo>
                    <a:lnTo>
                      <a:pt x="250" y="1156"/>
                    </a:lnTo>
                    <a:lnTo>
                      <a:pt x="256" y="1170"/>
                    </a:lnTo>
                    <a:lnTo>
                      <a:pt x="264" y="1180"/>
                    </a:lnTo>
                    <a:lnTo>
                      <a:pt x="268" y="1184"/>
                    </a:lnTo>
                    <a:lnTo>
                      <a:pt x="272" y="1186"/>
                    </a:lnTo>
                    <a:lnTo>
                      <a:pt x="282" y="1192"/>
                    </a:lnTo>
                    <a:lnTo>
                      <a:pt x="292" y="1202"/>
                    </a:lnTo>
                    <a:lnTo>
                      <a:pt x="302" y="1214"/>
                    </a:lnTo>
                    <a:lnTo>
                      <a:pt x="308" y="1228"/>
                    </a:lnTo>
                    <a:lnTo>
                      <a:pt x="320" y="1260"/>
                    </a:lnTo>
                    <a:lnTo>
                      <a:pt x="332" y="1294"/>
                    </a:lnTo>
                    <a:lnTo>
                      <a:pt x="340" y="1330"/>
                    </a:lnTo>
                    <a:lnTo>
                      <a:pt x="344" y="1366"/>
                    </a:lnTo>
                    <a:lnTo>
                      <a:pt x="352" y="1400"/>
                    </a:lnTo>
                    <a:lnTo>
                      <a:pt x="364" y="1436"/>
                    </a:lnTo>
                    <a:lnTo>
                      <a:pt x="444" y="1622"/>
                    </a:lnTo>
                    <a:lnTo>
                      <a:pt x="470" y="1690"/>
                    </a:lnTo>
                    <a:lnTo>
                      <a:pt x="522" y="1846"/>
                    </a:lnTo>
                    <a:lnTo>
                      <a:pt x="528" y="1862"/>
                    </a:lnTo>
                    <a:lnTo>
                      <a:pt x="532" y="1880"/>
                    </a:lnTo>
                    <a:lnTo>
                      <a:pt x="534" y="1898"/>
                    </a:lnTo>
                    <a:lnTo>
                      <a:pt x="536" y="1916"/>
                    </a:lnTo>
                    <a:lnTo>
                      <a:pt x="540" y="2044"/>
                    </a:lnTo>
                    <a:lnTo>
                      <a:pt x="540" y="2080"/>
                    </a:lnTo>
                    <a:lnTo>
                      <a:pt x="534" y="2116"/>
                    </a:lnTo>
                    <a:lnTo>
                      <a:pt x="512" y="2206"/>
                    </a:lnTo>
                    <a:lnTo>
                      <a:pt x="502" y="2240"/>
                    </a:lnTo>
                    <a:lnTo>
                      <a:pt x="488" y="2274"/>
                    </a:lnTo>
                    <a:lnTo>
                      <a:pt x="442" y="2364"/>
                    </a:lnTo>
                    <a:lnTo>
                      <a:pt x="410" y="2428"/>
                    </a:lnTo>
                    <a:lnTo>
                      <a:pt x="382" y="2486"/>
                    </a:lnTo>
                    <a:lnTo>
                      <a:pt x="370" y="2508"/>
                    </a:lnTo>
                    <a:lnTo>
                      <a:pt x="588" y="2612"/>
                    </a:lnTo>
                    <a:lnTo>
                      <a:pt x="586" y="2614"/>
                    </a:lnTo>
                    <a:lnTo>
                      <a:pt x="596" y="2616"/>
                    </a:lnTo>
                    <a:lnTo>
                      <a:pt x="600" y="2618"/>
                    </a:lnTo>
                    <a:lnTo>
                      <a:pt x="602" y="2698"/>
                    </a:lnTo>
                    <a:lnTo>
                      <a:pt x="592" y="2740"/>
                    </a:lnTo>
                    <a:lnTo>
                      <a:pt x="594" y="2740"/>
                    </a:lnTo>
                    <a:lnTo>
                      <a:pt x="588" y="2756"/>
                    </a:lnTo>
                    <a:lnTo>
                      <a:pt x="584" y="2824"/>
                    </a:lnTo>
                    <a:lnTo>
                      <a:pt x="580" y="2904"/>
                    </a:lnTo>
                    <a:lnTo>
                      <a:pt x="586" y="2988"/>
                    </a:lnTo>
                    <a:lnTo>
                      <a:pt x="592" y="3056"/>
                    </a:lnTo>
                    <a:lnTo>
                      <a:pt x="592" y="3070"/>
                    </a:lnTo>
                    <a:lnTo>
                      <a:pt x="594" y="3072"/>
                    </a:lnTo>
                    <a:lnTo>
                      <a:pt x="594" y="3076"/>
                    </a:lnTo>
                    <a:lnTo>
                      <a:pt x="594" y="3086"/>
                    </a:lnTo>
                    <a:lnTo>
                      <a:pt x="592" y="3096"/>
                    </a:lnTo>
                    <a:lnTo>
                      <a:pt x="592" y="3102"/>
                    </a:lnTo>
                    <a:lnTo>
                      <a:pt x="592" y="3174"/>
                    </a:lnTo>
                    <a:lnTo>
                      <a:pt x="590" y="3250"/>
                    </a:lnTo>
                    <a:lnTo>
                      <a:pt x="582" y="3396"/>
                    </a:lnTo>
                    <a:lnTo>
                      <a:pt x="582" y="3460"/>
                    </a:lnTo>
                    <a:lnTo>
                      <a:pt x="584" y="3492"/>
                    </a:lnTo>
                    <a:lnTo>
                      <a:pt x="588" y="3526"/>
                    </a:lnTo>
                    <a:lnTo>
                      <a:pt x="592" y="3574"/>
                    </a:lnTo>
                    <a:lnTo>
                      <a:pt x="594" y="3622"/>
                    </a:lnTo>
                    <a:lnTo>
                      <a:pt x="594" y="3670"/>
                    </a:lnTo>
                    <a:lnTo>
                      <a:pt x="592" y="3718"/>
                    </a:lnTo>
                    <a:lnTo>
                      <a:pt x="590" y="3766"/>
                    </a:lnTo>
                    <a:lnTo>
                      <a:pt x="586" y="3814"/>
                    </a:lnTo>
                    <a:lnTo>
                      <a:pt x="576" y="3906"/>
                    </a:lnTo>
                    <a:lnTo>
                      <a:pt x="592" y="3912"/>
                    </a:lnTo>
                    <a:lnTo>
                      <a:pt x="608" y="3916"/>
                    </a:lnTo>
                    <a:lnTo>
                      <a:pt x="638" y="3916"/>
                    </a:lnTo>
                    <a:lnTo>
                      <a:pt x="632" y="3972"/>
                    </a:lnTo>
                    <a:lnTo>
                      <a:pt x="628" y="4000"/>
                    </a:lnTo>
                    <a:lnTo>
                      <a:pt x="628" y="4028"/>
                    </a:lnTo>
                    <a:lnTo>
                      <a:pt x="626" y="4060"/>
                    </a:lnTo>
                    <a:lnTo>
                      <a:pt x="628" y="4092"/>
                    </a:lnTo>
                    <a:lnTo>
                      <a:pt x="632" y="4126"/>
                    </a:lnTo>
                    <a:lnTo>
                      <a:pt x="636" y="4158"/>
                    </a:lnTo>
                    <a:lnTo>
                      <a:pt x="644" y="4202"/>
                    </a:lnTo>
                    <a:lnTo>
                      <a:pt x="652" y="4248"/>
                    </a:lnTo>
                    <a:lnTo>
                      <a:pt x="662" y="4292"/>
                    </a:lnTo>
                    <a:lnTo>
                      <a:pt x="674" y="4336"/>
                    </a:lnTo>
                    <a:lnTo>
                      <a:pt x="700" y="4422"/>
                    </a:lnTo>
                    <a:lnTo>
                      <a:pt x="730" y="4508"/>
                    </a:lnTo>
                    <a:lnTo>
                      <a:pt x="756" y="4578"/>
                    </a:lnTo>
                    <a:lnTo>
                      <a:pt x="768" y="4616"/>
                    </a:lnTo>
                    <a:lnTo>
                      <a:pt x="778" y="4656"/>
                    </a:lnTo>
                    <a:lnTo>
                      <a:pt x="786" y="4694"/>
                    </a:lnTo>
                    <a:lnTo>
                      <a:pt x="790" y="4734"/>
                    </a:lnTo>
                    <a:lnTo>
                      <a:pt x="792" y="4752"/>
                    </a:lnTo>
                    <a:lnTo>
                      <a:pt x="792" y="4770"/>
                    </a:lnTo>
                    <a:lnTo>
                      <a:pt x="790" y="4790"/>
                    </a:lnTo>
                    <a:lnTo>
                      <a:pt x="786" y="4806"/>
                    </a:lnTo>
                    <a:lnTo>
                      <a:pt x="780" y="4850"/>
                    </a:lnTo>
                    <a:lnTo>
                      <a:pt x="776" y="4894"/>
                    </a:lnTo>
                    <a:lnTo>
                      <a:pt x="776" y="4938"/>
                    </a:lnTo>
                    <a:lnTo>
                      <a:pt x="778" y="4980"/>
                    </a:lnTo>
                    <a:lnTo>
                      <a:pt x="782" y="5008"/>
                    </a:lnTo>
                    <a:lnTo>
                      <a:pt x="790" y="5038"/>
                    </a:lnTo>
                    <a:lnTo>
                      <a:pt x="798" y="5066"/>
                    </a:lnTo>
                    <a:lnTo>
                      <a:pt x="802" y="5094"/>
                    </a:lnTo>
                    <a:lnTo>
                      <a:pt x="804" y="5104"/>
                    </a:lnTo>
                    <a:lnTo>
                      <a:pt x="804" y="5114"/>
                    </a:lnTo>
                    <a:lnTo>
                      <a:pt x="802" y="5130"/>
                    </a:lnTo>
                    <a:lnTo>
                      <a:pt x="804" y="5138"/>
                    </a:lnTo>
                    <a:lnTo>
                      <a:pt x="806" y="5146"/>
                    </a:lnTo>
                    <a:lnTo>
                      <a:pt x="812" y="5152"/>
                    </a:lnTo>
                    <a:lnTo>
                      <a:pt x="822" y="5160"/>
                    </a:lnTo>
                    <a:lnTo>
                      <a:pt x="860" y="5174"/>
                    </a:lnTo>
                    <a:lnTo>
                      <a:pt x="886" y="5182"/>
                    </a:lnTo>
                    <a:lnTo>
                      <a:pt x="912" y="5188"/>
                    </a:lnTo>
                    <a:lnTo>
                      <a:pt x="940" y="5194"/>
                    </a:lnTo>
                    <a:lnTo>
                      <a:pt x="964" y="5196"/>
                    </a:lnTo>
                    <a:lnTo>
                      <a:pt x="986" y="5196"/>
                    </a:lnTo>
                    <a:lnTo>
                      <a:pt x="996" y="5194"/>
                    </a:lnTo>
                    <a:lnTo>
                      <a:pt x="1004" y="5190"/>
                    </a:lnTo>
                    <a:lnTo>
                      <a:pt x="1018" y="5182"/>
                    </a:lnTo>
                    <a:lnTo>
                      <a:pt x="1026" y="5172"/>
                    </a:lnTo>
                    <a:lnTo>
                      <a:pt x="1034" y="5162"/>
                    </a:lnTo>
                    <a:lnTo>
                      <a:pt x="1038" y="5152"/>
                    </a:lnTo>
                    <a:lnTo>
                      <a:pt x="1042" y="5160"/>
                    </a:lnTo>
                    <a:lnTo>
                      <a:pt x="1050" y="5166"/>
                    </a:lnTo>
                    <a:lnTo>
                      <a:pt x="1058" y="5170"/>
                    </a:lnTo>
                    <a:lnTo>
                      <a:pt x="1070" y="5174"/>
                    </a:lnTo>
                    <a:lnTo>
                      <a:pt x="1096" y="5176"/>
                    </a:lnTo>
                    <a:lnTo>
                      <a:pt x="1120" y="5176"/>
                    </a:lnTo>
                    <a:lnTo>
                      <a:pt x="1142" y="5172"/>
                    </a:lnTo>
                    <a:lnTo>
                      <a:pt x="1166" y="5166"/>
                    </a:lnTo>
                    <a:lnTo>
                      <a:pt x="1182" y="5160"/>
                    </a:lnTo>
                    <a:lnTo>
                      <a:pt x="1194" y="5154"/>
                    </a:lnTo>
                    <a:lnTo>
                      <a:pt x="1202" y="5146"/>
                    </a:lnTo>
                    <a:lnTo>
                      <a:pt x="1206" y="5136"/>
                    </a:lnTo>
                    <a:lnTo>
                      <a:pt x="1208" y="5128"/>
                    </a:lnTo>
                    <a:lnTo>
                      <a:pt x="1206" y="5118"/>
                    </a:lnTo>
                    <a:lnTo>
                      <a:pt x="1202" y="5108"/>
                    </a:lnTo>
                    <a:lnTo>
                      <a:pt x="1198" y="5096"/>
                    </a:lnTo>
                    <a:lnTo>
                      <a:pt x="1182" y="5074"/>
                    </a:lnTo>
                    <a:lnTo>
                      <a:pt x="1166" y="5052"/>
                    </a:lnTo>
                    <a:lnTo>
                      <a:pt x="1150" y="5028"/>
                    </a:lnTo>
                    <a:lnTo>
                      <a:pt x="1138" y="5006"/>
                    </a:lnTo>
                    <a:lnTo>
                      <a:pt x="1132" y="4990"/>
                    </a:lnTo>
                    <a:lnTo>
                      <a:pt x="1128" y="4970"/>
                    </a:lnTo>
                    <a:lnTo>
                      <a:pt x="1124" y="4928"/>
                    </a:lnTo>
                    <a:lnTo>
                      <a:pt x="1122" y="4892"/>
                    </a:lnTo>
                    <a:lnTo>
                      <a:pt x="1118" y="4864"/>
                    </a:lnTo>
                    <a:lnTo>
                      <a:pt x="1116" y="4840"/>
                    </a:lnTo>
                    <a:lnTo>
                      <a:pt x="1114" y="4814"/>
                    </a:lnTo>
                    <a:lnTo>
                      <a:pt x="1120" y="4788"/>
                    </a:lnTo>
                    <a:lnTo>
                      <a:pt x="1130" y="4746"/>
                    </a:lnTo>
                    <a:lnTo>
                      <a:pt x="1164" y="4632"/>
                    </a:lnTo>
                    <a:lnTo>
                      <a:pt x="1198" y="4522"/>
                    </a:lnTo>
                    <a:lnTo>
                      <a:pt x="1218" y="4462"/>
                    </a:lnTo>
                    <a:lnTo>
                      <a:pt x="1234" y="4410"/>
                    </a:lnTo>
                    <a:lnTo>
                      <a:pt x="1264" y="4318"/>
                    </a:lnTo>
                    <a:lnTo>
                      <a:pt x="1296" y="4226"/>
                    </a:lnTo>
                    <a:lnTo>
                      <a:pt x="1312" y="4172"/>
                    </a:lnTo>
                    <a:lnTo>
                      <a:pt x="1356" y="3948"/>
                    </a:lnTo>
                    <a:lnTo>
                      <a:pt x="1360" y="3942"/>
                    </a:lnTo>
                    <a:lnTo>
                      <a:pt x="1362" y="3926"/>
                    </a:lnTo>
                    <a:lnTo>
                      <a:pt x="1368" y="3870"/>
                    </a:lnTo>
                    <a:lnTo>
                      <a:pt x="1374" y="3690"/>
                    </a:lnTo>
                    <a:lnTo>
                      <a:pt x="1384" y="3470"/>
                    </a:lnTo>
                    <a:lnTo>
                      <a:pt x="1390" y="3364"/>
                    </a:lnTo>
                    <a:lnTo>
                      <a:pt x="1398" y="3270"/>
                    </a:lnTo>
                    <a:lnTo>
                      <a:pt x="1412" y="3164"/>
                    </a:lnTo>
                    <a:lnTo>
                      <a:pt x="1416" y="3136"/>
                    </a:lnTo>
                    <a:lnTo>
                      <a:pt x="1420" y="3128"/>
                    </a:lnTo>
                    <a:lnTo>
                      <a:pt x="1422" y="3120"/>
                    </a:lnTo>
                    <a:lnTo>
                      <a:pt x="1414" y="3024"/>
                    </a:lnTo>
                    <a:lnTo>
                      <a:pt x="1344" y="2810"/>
                    </a:lnTo>
                    <a:lnTo>
                      <a:pt x="1284" y="2690"/>
                    </a:lnTo>
                    <a:lnTo>
                      <a:pt x="1536" y="2594"/>
                    </a:lnTo>
                    <a:lnTo>
                      <a:pt x="1428" y="2368"/>
                    </a:lnTo>
                    <a:lnTo>
                      <a:pt x="1422" y="2352"/>
                    </a:lnTo>
                    <a:lnTo>
                      <a:pt x="1418" y="2334"/>
                    </a:lnTo>
                    <a:lnTo>
                      <a:pt x="1414" y="2314"/>
                    </a:lnTo>
                    <a:lnTo>
                      <a:pt x="1414" y="2298"/>
                    </a:lnTo>
                    <a:lnTo>
                      <a:pt x="1414" y="2244"/>
                    </a:lnTo>
                    <a:lnTo>
                      <a:pt x="1412" y="2210"/>
                    </a:lnTo>
                    <a:lnTo>
                      <a:pt x="1410" y="2178"/>
                    </a:lnTo>
                    <a:lnTo>
                      <a:pt x="1410" y="2164"/>
                    </a:lnTo>
                    <a:lnTo>
                      <a:pt x="1412" y="2148"/>
                    </a:lnTo>
                    <a:lnTo>
                      <a:pt x="1416" y="2132"/>
                    </a:lnTo>
                    <a:lnTo>
                      <a:pt x="1422" y="2118"/>
                    </a:lnTo>
                    <a:lnTo>
                      <a:pt x="1426" y="2112"/>
                    </a:lnTo>
                    <a:lnTo>
                      <a:pt x="1434" y="2096"/>
                    </a:lnTo>
                    <a:lnTo>
                      <a:pt x="1438" y="2078"/>
                    </a:lnTo>
                    <a:lnTo>
                      <a:pt x="1442" y="2060"/>
                    </a:lnTo>
                    <a:lnTo>
                      <a:pt x="1444" y="2044"/>
                    </a:lnTo>
                    <a:lnTo>
                      <a:pt x="1444" y="2032"/>
                    </a:lnTo>
                    <a:lnTo>
                      <a:pt x="1444" y="1958"/>
                    </a:lnTo>
                    <a:lnTo>
                      <a:pt x="1444" y="1878"/>
                    </a:lnTo>
                    <a:lnTo>
                      <a:pt x="1444" y="1814"/>
                    </a:lnTo>
                    <a:lnTo>
                      <a:pt x="1446" y="1802"/>
                    </a:lnTo>
                    <a:lnTo>
                      <a:pt x="1450" y="1786"/>
                    </a:lnTo>
                    <a:lnTo>
                      <a:pt x="1456" y="1772"/>
                    </a:lnTo>
                    <a:lnTo>
                      <a:pt x="1466" y="1758"/>
                    </a:lnTo>
                    <a:lnTo>
                      <a:pt x="1484" y="1732"/>
                    </a:lnTo>
                    <a:lnTo>
                      <a:pt x="1504" y="1702"/>
                    </a:lnTo>
                    <a:lnTo>
                      <a:pt x="1520" y="1668"/>
                    </a:lnTo>
                    <a:lnTo>
                      <a:pt x="1522" y="1666"/>
                    </a:lnTo>
                    <a:lnTo>
                      <a:pt x="1534" y="1634"/>
                    </a:lnTo>
                    <a:lnTo>
                      <a:pt x="1544" y="1602"/>
                    </a:lnTo>
                    <a:lnTo>
                      <a:pt x="1554" y="1570"/>
                    </a:lnTo>
                    <a:lnTo>
                      <a:pt x="1564" y="1538"/>
                    </a:lnTo>
                    <a:lnTo>
                      <a:pt x="1570" y="1520"/>
                    </a:lnTo>
                    <a:lnTo>
                      <a:pt x="1598" y="1454"/>
                    </a:lnTo>
                    <a:lnTo>
                      <a:pt x="1606" y="1434"/>
                    </a:lnTo>
                    <a:lnTo>
                      <a:pt x="1622" y="1402"/>
                    </a:lnTo>
                    <a:lnTo>
                      <a:pt x="1642" y="1372"/>
                    </a:lnTo>
                    <a:lnTo>
                      <a:pt x="1654" y="1354"/>
                    </a:lnTo>
                    <a:lnTo>
                      <a:pt x="1696" y="1296"/>
                    </a:lnTo>
                    <a:lnTo>
                      <a:pt x="1700" y="1292"/>
                    </a:lnTo>
                    <a:lnTo>
                      <a:pt x="1720" y="1268"/>
                    </a:lnTo>
                    <a:lnTo>
                      <a:pt x="1736" y="1252"/>
                    </a:lnTo>
                    <a:lnTo>
                      <a:pt x="1744" y="1244"/>
                    </a:lnTo>
                    <a:lnTo>
                      <a:pt x="1752" y="1234"/>
                    </a:lnTo>
                    <a:lnTo>
                      <a:pt x="1758" y="1220"/>
                    </a:lnTo>
                    <a:lnTo>
                      <a:pt x="1764" y="1206"/>
                    </a:lnTo>
                    <a:lnTo>
                      <a:pt x="1770" y="1190"/>
                    </a:lnTo>
                    <a:lnTo>
                      <a:pt x="1794" y="1124"/>
                    </a:lnTo>
                    <a:lnTo>
                      <a:pt x="1804" y="1096"/>
                    </a:lnTo>
                    <a:lnTo>
                      <a:pt x="1810" y="1070"/>
                    </a:lnTo>
                    <a:lnTo>
                      <a:pt x="1814" y="1058"/>
                    </a:lnTo>
                    <a:lnTo>
                      <a:pt x="1818" y="1044"/>
                    </a:lnTo>
                    <a:lnTo>
                      <a:pt x="1826" y="1030"/>
                    </a:lnTo>
                    <a:lnTo>
                      <a:pt x="1834" y="1016"/>
                    </a:lnTo>
                    <a:lnTo>
                      <a:pt x="1848" y="992"/>
                    </a:lnTo>
                    <a:lnTo>
                      <a:pt x="1886" y="930"/>
                    </a:lnTo>
                    <a:lnTo>
                      <a:pt x="1912" y="886"/>
                    </a:lnTo>
                    <a:lnTo>
                      <a:pt x="1930" y="856"/>
                    </a:lnTo>
                    <a:lnTo>
                      <a:pt x="1948" y="828"/>
                    </a:lnTo>
                    <a:lnTo>
                      <a:pt x="1956" y="814"/>
                    </a:lnTo>
                    <a:lnTo>
                      <a:pt x="1964" y="798"/>
                    </a:lnTo>
                    <a:lnTo>
                      <a:pt x="1970" y="780"/>
                    </a:lnTo>
                    <a:lnTo>
                      <a:pt x="1976" y="764"/>
                    </a:lnTo>
                    <a:lnTo>
                      <a:pt x="1984" y="720"/>
                    </a:lnTo>
                    <a:lnTo>
                      <a:pt x="1998" y="650"/>
                    </a:lnTo>
                    <a:lnTo>
                      <a:pt x="2008" y="598"/>
                    </a:lnTo>
                    <a:lnTo>
                      <a:pt x="2012" y="564"/>
                    </a:lnTo>
                    <a:lnTo>
                      <a:pt x="2014" y="534"/>
                    </a:lnTo>
                    <a:lnTo>
                      <a:pt x="2016" y="522"/>
                    </a:lnTo>
                    <a:lnTo>
                      <a:pt x="2018" y="506"/>
                    </a:lnTo>
                    <a:lnTo>
                      <a:pt x="2024" y="490"/>
                    </a:lnTo>
                    <a:lnTo>
                      <a:pt x="2030" y="476"/>
                    </a:lnTo>
                    <a:lnTo>
                      <a:pt x="2044" y="452"/>
                    </a:lnTo>
                    <a:lnTo>
                      <a:pt x="2056" y="434"/>
                    </a:lnTo>
                    <a:lnTo>
                      <a:pt x="2062" y="428"/>
                    </a:lnTo>
                    <a:lnTo>
                      <a:pt x="2066" y="418"/>
                    </a:lnTo>
                    <a:lnTo>
                      <a:pt x="2070" y="408"/>
                    </a:lnTo>
                    <a:lnTo>
                      <a:pt x="2074" y="398"/>
                    </a:lnTo>
                    <a:lnTo>
                      <a:pt x="2076" y="386"/>
                    </a:lnTo>
                    <a:lnTo>
                      <a:pt x="2082" y="374"/>
                    </a:lnTo>
                    <a:lnTo>
                      <a:pt x="2088" y="364"/>
                    </a:lnTo>
                    <a:lnTo>
                      <a:pt x="2096" y="354"/>
                    </a:lnTo>
                    <a:lnTo>
                      <a:pt x="2124" y="324"/>
                    </a:lnTo>
                    <a:lnTo>
                      <a:pt x="2144" y="298"/>
                    </a:lnTo>
                    <a:lnTo>
                      <a:pt x="2148" y="292"/>
                    </a:lnTo>
                    <a:lnTo>
                      <a:pt x="2146" y="280"/>
                    </a:lnTo>
                    <a:lnTo>
                      <a:pt x="2142" y="266"/>
                    </a:lnTo>
                    <a:lnTo>
                      <a:pt x="2136" y="254"/>
                    </a:lnTo>
                    <a:close/>
                    <a:moveTo>
                      <a:pt x="988" y="5046"/>
                    </a:moveTo>
                    <a:lnTo>
                      <a:pt x="988" y="5046"/>
                    </a:lnTo>
                    <a:lnTo>
                      <a:pt x="982" y="5032"/>
                    </a:lnTo>
                    <a:lnTo>
                      <a:pt x="976" y="5016"/>
                    </a:lnTo>
                    <a:lnTo>
                      <a:pt x="968" y="4986"/>
                    </a:lnTo>
                    <a:lnTo>
                      <a:pt x="962" y="4954"/>
                    </a:lnTo>
                    <a:lnTo>
                      <a:pt x="958" y="4922"/>
                    </a:lnTo>
                    <a:lnTo>
                      <a:pt x="974" y="4938"/>
                    </a:lnTo>
                    <a:lnTo>
                      <a:pt x="980" y="4948"/>
                    </a:lnTo>
                    <a:lnTo>
                      <a:pt x="984" y="4958"/>
                    </a:lnTo>
                    <a:lnTo>
                      <a:pt x="988" y="4980"/>
                    </a:lnTo>
                    <a:lnTo>
                      <a:pt x="990" y="5002"/>
                    </a:lnTo>
                    <a:lnTo>
                      <a:pt x="988" y="5046"/>
                    </a:lnTo>
                    <a:close/>
                    <a:moveTo>
                      <a:pt x="1112" y="4102"/>
                    </a:moveTo>
                    <a:lnTo>
                      <a:pt x="1112" y="4102"/>
                    </a:lnTo>
                    <a:lnTo>
                      <a:pt x="1106" y="4132"/>
                    </a:lnTo>
                    <a:lnTo>
                      <a:pt x="1096" y="4162"/>
                    </a:lnTo>
                    <a:lnTo>
                      <a:pt x="1078" y="4220"/>
                    </a:lnTo>
                    <a:lnTo>
                      <a:pt x="1068" y="4260"/>
                    </a:lnTo>
                    <a:lnTo>
                      <a:pt x="1062" y="4300"/>
                    </a:lnTo>
                    <a:lnTo>
                      <a:pt x="1056" y="4380"/>
                    </a:lnTo>
                    <a:lnTo>
                      <a:pt x="1052" y="4456"/>
                    </a:lnTo>
                    <a:lnTo>
                      <a:pt x="1046" y="4532"/>
                    </a:lnTo>
                    <a:lnTo>
                      <a:pt x="1042" y="4568"/>
                    </a:lnTo>
                    <a:lnTo>
                      <a:pt x="1036" y="4606"/>
                    </a:lnTo>
                    <a:lnTo>
                      <a:pt x="1026" y="4642"/>
                    </a:lnTo>
                    <a:lnTo>
                      <a:pt x="1016" y="4680"/>
                    </a:lnTo>
                    <a:lnTo>
                      <a:pt x="1004" y="4706"/>
                    </a:lnTo>
                    <a:lnTo>
                      <a:pt x="992" y="4730"/>
                    </a:lnTo>
                    <a:lnTo>
                      <a:pt x="976" y="4754"/>
                    </a:lnTo>
                    <a:lnTo>
                      <a:pt x="960" y="4776"/>
                    </a:lnTo>
                    <a:lnTo>
                      <a:pt x="950" y="4786"/>
                    </a:lnTo>
                    <a:lnTo>
                      <a:pt x="938" y="4800"/>
                    </a:lnTo>
                    <a:lnTo>
                      <a:pt x="936" y="4786"/>
                    </a:lnTo>
                    <a:lnTo>
                      <a:pt x="934" y="4778"/>
                    </a:lnTo>
                    <a:lnTo>
                      <a:pt x="930" y="4774"/>
                    </a:lnTo>
                    <a:lnTo>
                      <a:pt x="924" y="4754"/>
                    </a:lnTo>
                    <a:lnTo>
                      <a:pt x="912" y="4698"/>
                    </a:lnTo>
                    <a:lnTo>
                      <a:pt x="900" y="4636"/>
                    </a:lnTo>
                    <a:lnTo>
                      <a:pt x="890" y="4576"/>
                    </a:lnTo>
                    <a:lnTo>
                      <a:pt x="886" y="4550"/>
                    </a:lnTo>
                    <a:lnTo>
                      <a:pt x="884" y="4528"/>
                    </a:lnTo>
                    <a:lnTo>
                      <a:pt x="864" y="4252"/>
                    </a:lnTo>
                    <a:lnTo>
                      <a:pt x="860" y="4198"/>
                    </a:lnTo>
                    <a:lnTo>
                      <a:pt x="854" y="4144"/>
                    </a:lnTo>
                    <a:lnTo>
                      <a:pt x="842" y="4084"/>
                    </a:lnTo>
                    <a:lnTo>
                      <a:pt x="838" y="4054"/>
                    </a:lnTo>
                    <a:lnTo>
                      <a:pt x="838" y="4022"/>
                    </a:lnTo>
                    <a:lnTo>
                      <a:pt x="846" y="3974"/>
                    </a:lnTo>
                    <a:lnTo>
                      <a:pt x="854" y="3926"/>
                    </a:lnTo>
                    <a:lnTo>
                      <a:pt x="860" y="3924"/>
                    </a:lnTo>
                    <a:lnTo>
                      <a:pt x="870" y="3924"/>
                    </a:lnTo>
                    <a:lnTo>
                      <a:pt x="912" y="3922"/>
                    </a:lnTo>
                    <a:lnTo>
                      <a:pt x="952" y="3924"/>
                    </a:lnTo>
                    <a:lnTo>
                      <a:pt x="1032" y="3928"/>
                    </a:lnTo>
                    <a:lnTo>
                      <a:pt x="1112" y="3932"/>
                    </a:lnTo>
                    <a:lnTo>
                      <a:pt x="1114" y="3942"/>
                    </a:lnTo>
                    <a:lnTo>
                      <a:pt x="1116" y="3952"/>
                    </a:lnTo>
                    <a:lnTo>
                      <a:pt x="1120" y="3978"/>
                    </a:lnTo>
                    <a:lnTo>
                      <a:pt x="1120" y="3998"/>
                    </a:lnTo>
                    <a:lnTo>
                      <a:pt x="1120" y="4024"/>
                    </a:lnTo>
                    <a:lnTo>
                      <a:pt x="1118" y="4058"/>
                    </a:lnTo>
                    <a:lnTo>
                      <a:pt x="1112" y="4102"/>
                    </a:lnTo>
                    <a:close/>
                  </a:path>
                </a:pathLst>
              </a:custGeom>
              <a:solidFill>
                <a:srgbClr val="0a0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97"/>
              <p:cNvSpPr/>
              <p:nvPr/>
            </p:nvSpPr>
            <p:spPr>
              <a:xfrm>
                <a:off x="4329000" y="1687320"/>
                <a:ext cx="90360" cy="666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08" h="230">
                    <a:moveTo>
                      <a:pt x="0" y="86"/>
                    </a:moveTo>
                    <a:lnTo>
                      <a:pt x="42" y="230"/>
                    </a:lnTo>
                    <a:lnTo>
                      <a:pt x="162" y="194"/>
                    </a:lnTo>
                    <a:lnTo>
                      <a:pt x="256" y="154"/>
                    </a:lnTo>
                    <a:lnTo>
                      <a:pt x="308" y="100"/>
                    </a:lnTo>
                    <a:lnTo>
                      <a:pt x="256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98"/>
              <p:cNvSpPr/>
              <p:nvPr/>
            </p:nvSpPr>
            <p:spPr>
              <a:xfrm>
                <a:off x="4834080" y="1709640"/>
                <a:ext cx="85680" cy="6336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2" h="216">
                    <a:moveTo>
                      <a:pt x="292" y="84"/>
                    </a:moveTo>
                    <a:lnTo>
                      <a:pt x="230" y="216"/>
                    </a:lnTo>
                    <a:lnTo>
                      <a:pt x="130" y="192"/>
                    </a:lnTo>
                    <a:lnTo>
                      <a:pt x="38" y="154"/>
                    </a:lnTo>
                    <a:lnTo>
                      <a:pt x="0" y="100"/>
                    </a:lnTo>
                    <a:lnTo>
                      <a:pt x="38" y="0"/>
                    </a:lnTo>
                    <a:lnTo>
                      <a:pt x="292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uppe 35"/>
            <p:cNvGrpSpPr/>
            <p:nvPr/>
          </p:nvGrpSpPr>
          <p:grpSpPr>
            <a:xfrm>
              <a:off x="4501440" y="2023200"/>
              <a:ext cx="198720" cy="314640"/>
              <a:chOff x="4501440" y="2023200"/>
              <a:chExt cx="198720" cy="314640"/>
            </a:xfrm>
          </p:grpSpPr>
          <p:sp>
            <p:nvSpPr>
              <p:cNvPr id="56" name="Freeform 113"/>
              <p:cNvSpPr/>
              <p:nvPr/>
            </p:nvSpPr>
            <p:spPr>
              <a:xfrm>
                <a:off x="4501440" y="2023200"/>
                <a:ext cx="198720" cy="31464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314640"/>
                  <a:gd name="textAreaBottom" fmla="*/ 314640 h 314640"/>
                </a:gdLst>
                <a:ahLst/>
                <a:rect l="textAreaLeft" t="textAreaTop" r="textAreaRight" b="textAreaBottom"/>
                <a:pathLst>
                  <a:path w="548" h="1142">
                    <a:moveTo>
                      <a:pt x="530" y="1070"/>
                    </a:moveTo>
                    <a:lnTo>
                      <a:pt x="530" y="1070"/>
                    </a:lnTo>
                    <a:lnTo>
                      <a:pt x="524" y="1080"/>
                    </a:lnTo>
                    <a:lnTo>
                      <a:pt x="516" y="1088"/>
                    </a:lnTo>
                    <a:lnTo>
                      <a:pt x="506" y="1098"/>
                    </a:lnTo>
                    <a:lnTo>
                      <a:pt x="494" y="1104"/>
                    </a:lnTo>
                    <a:lnTo>
                      <a:pt x="480" y="1112"/>
                    </a:lnTo>
                    <a:lnTo>
                      <a:pt x="464" y="1118"/>
                    </a:lnTo>
                    <a:lnTo>
                      <a:pt x="450" y="1122"/>
                    </a:lnTo>
                    <a:lnTo>
                      <a:pt x="432" y="1126"/>
                    </a:lnTo>
                    <a:lnTo>
                      <a:pt x="326" y="1140"/>
                    </a:lnTo>
                    <a:lnTo>
                      <a:pt x="288" y="1142"/>
                    </a:lnTo>
                    <a:lnTo>
                      <a:pt x="246" y="1142"/>
                    </a:lnTo>
                    <a:lnTo>
                      <a:pt x="204" y="1140"/>
                    </a:lnTo>
                    <a:lnTo>
                      <a:pt x="168" y="1134"/>
                    </a:lnTo>
                    <a:lnTo>
                      <a:pt x="72" y="1112"/>
                    </a:lnTo>
                    <a:lnTo>
                      <a:pt x="58" y="1106"/>
                    </a:lnTo>
                    <a:lnTo>
                      <a:pt x="42" y="1098"/>
                    </a:lnTo>
                    <a:lnTo>
                      <a:pt x="30" y="1088"/>
                    </a:lnTo>
                    <a:lnTo>
                      <a:pt x="20" y="1076"/>
                    </a:lnTo>
                    <a:lnTo>
                      <a:pt x="10" y="1062"/>
                    </a:lnTo>
                    <a:lnTo>
                      <a:pt x="4" y="1048"/>
                    </a:lnTo>
                    <a:lnTo>
                      <a:pt x="0" y="1032"/>
                    </a:lnTo>
                    <a:lnTo>
                      <a:pt x="0" y="1014"/>
                    </a:lnTo>
                    <a:lnTo>
                      <a:pt x="26" y="580"/>
                    </a:lnTo>
                    <a:lnTo>
                      <a:pt x="30" y="546"/>
                    </a:lnTo>
                    <a:lnTo>
                      <a:pt x="36" y="506"/>
                    </a:lnTo>
                    <a:lnTo>
                      <a:pt x="44" y="470"/>
                    </a:lnTo>
                    <a:lnTo>
                      <a:pt x="50" y="440"/>
                    </a:lnTo>
                    <a:lnTo>
                      <a:pt x="60" y="410"/>
                    </a:lnTo>
                    <a:lnTo>
                      <a:pt x="68" y="372"/>
                    </a:lnTo>
                    <a:lnTo>
                      <a:pt x="74" y="334"/>
                    </a:lnTo>
                    <a:lnTo>
                      <a:pt x="80" y="298"/>
                    </a:lnTo>
                    <a:lnTo>
                      <a:pt x="84" y="272"/>
                    </a:lnTo>
                    <a:lnTo>
                      <a:pt x="90" y="238"/>
                    </a:lnTo>
                    <a:lnTo>
                      <a:pt x="100" y="202"/>
                    </a:lnTo>
                    <a:lnTo>
                      <a:pt x="112" y="168"/>
                    </a:lnTo>
                    <a:lnTo>
                      <a:pt x="124" y="142"/>
                    </a:lnTo>
                    <a:lnTo>
                      <a:pt x="136" y="120"/>
                    </a:lnTo>
                    <a:lnTo>
                      <a:pt x="150" y="92"/>
                    </a:lnTo>
                    <a:lnTo>
                      <a:pt x="160" y="66"/>
                    </a:lnTo>
                    <a:lnTo>
                      <a:pt x="166" y="42"/>
                    </a:lnTo>
                    <a:lnTo>
                      <a:pt x="172" y="24"/>
                    </a:lnTo>
                    <a:lnTo>
                      <a:pt x="180" y="10"/>
                    </a:lnTo>
                    <a:lnTo>
                      <a:pt x="184" y="4"/>
                    </a:lnTo>
                    <a:lnTo>
                      <a:pt x="188" y="2"/>
                    </a:lnTo>
                    <a:lnTo>
                      <a:pt x="194" y="0"/>
                    </a:lnTo>
                    <a:lnTo>
                      <a:pt x="198" y="0"/>
                    </a:lnTo>
                    <a:lnTo>
                      <a:pt x="206" y="6"/>
                    </a:lnTo>
                    <a:lnTo>
                      <a:pt x="216" y="14"/>
                    </a:lnTo>
                    <a:lnTo>
                      <a:pt x="226" y="24"/>
                    </a:lnTo>
                    <a:lnTo>
                      <a:pt x="236" y="34"/>
                    </a:lnTo>
                    <a:lnTo>
                      <a:pt x="238" y="42"/>
                    </a:lnTo>
                    <a:lnTo>
                      <a:pt x="240" y="50"/>
                    </a:lnTo>
                    <a:lnTo>
                      <a:pt x="240" y="58"/>
                    </a:lnTo>
                    <a:lnTo>
                      <a:pt x="238" y="68"/>
                    </a:lnTo>
                    <a:lnTo>
                      <a:pt x="234" y="80"/>
                    </a:lnTo>
                    <a:lnTo>
                      <a:pt x="228" y="90"/>
                    </a:lnTo>
                    <a:lnTo>
                      <a:pt x="220" y="102"/>
                    </a:lnTo>
                    <a:lnTo>
                      <a:pt x="212" y="112"/>
                    </a:lnTo>
                    <a:lnTo>
                      <a:pt x="210" y="118"/>
                    </a:lnTo>
                    <a:lnTo>
                      <a:pt x="206" y="124"/>
                    </a:lnTo>
                    <a:lnTo>
                      <a:pt x="206" y="132"/>
                    </a:lnTo>
                    <a:lnTo>
                      <a:pt x="206" y="140"/>
                    </a:lnTo>
                    <a:lnTo>
                      <a:pt x="210" y="158"/>
                    </a:lnTo>
                    <a:lnTo>
                      <a:pt x="218" y="178"/>
                    </a:lnTo>
                    <a:lnTo>
                      <a:pt x="228" y="198"/>
                    </a:lnTo>
                    <a:lnTo>
                      <a:pt x="238" y="218"/>
                    </a:lnTo>
                    <a:lnTo>
                      <a:pt x="250" y="234"/>
                    </a:lnTo>
                    <a:lnTo>
                      <a:pt x="260" y="248"/>
                    </a:lnTo>
                    <a:lnTo>
                      <a:pt x="266" y="252"/>
                    </a:lnTo>
                    <a:lnTo>
                      <a:pt x="274" y="254"/>
                    </a:lnTo>
                    <a:lnTo>
                      <a:pt x="282" y="250"/>
                    </a:lnTo>
                    <a:lnTo>
                      <a:pt x="292" y="246"/>
                    </a:lnTo>
                    <a:lnTo>
                      <a:pt x="302" y="238"/>
                    </a:lnTo>
                    <a:lnTo>
                      <a:pt x="312" y="230"/>
                    </a:lnTo>
                    <a:lnTo>
                      <a:pt x="332" y="208"/>
                    </a:lnTo>
                    <a:lnTo>
                      <a:pt x="350" y="184"/>
                    </a:lnTo>
                    <a:lnTo>
                      <a:pt x="364" y="160"/>
                    </a:lnTo>
                    <a:lnTo>
                      <a:pt x="374" y="140"/>
                    </a:lnTo>
                    <a:lnTo>
                      <a:pt x="376" y="134"/>
                    </a:lnTo>
                    <a:lnTo>
                      <a:pt x="376" y="128"/>
                    </a:lnTo>
                    <a:lnTo>
                      <a:pt x="374" y="120"/>
                    </a:lnTo>
                    <a:lnTo>
                      <a:pt x="374" y="110"/>
                    </a:lnTo>
                    <a:lnTo>
                      <a:pt x="374" y="86"/>
                    </a:lnTo>
                    <a:lnTo>
                      <a:pt x="376" y="60"/>
                    </a:lnTo>
                    <a:lnTo>
                      <a:pt x="378" y="34"/>
                    </a:lnTo>
                    <a:lnTo>
                      <a:pt x="380" y="24"/>
                    </a:lnTo>
                    <a:lnTo>
                      <a:pt x="384" y="16"/>
                    </a:lnTo>
                    <a:lnTo>
                      <a:pt x="386" y="12"/>
                    </a:lnTo>
                    <a:lnTo>
                      <a:pt x="390" y="10"/>
                    </a:lnTo>
                    <a:lnTo>
                      <a:pt x="396" y="10"/>
                    </a:lnTo>
                    <a:lnTo>
                      <a:pt x="400" y="14"/>
                    </a:lnTo>
                    <a:lnTo>
                      <a:pt x="404" y="22"/>
                    </a:lnTo>
                    <a:lnTo>
                      <a:pt x="410" y="30"/>
                    </a:lnTo>
                    <a:lnTo>
                      <a:pt x="418" y="54"/>
                    </a:lnTo>
                    <a:lnTo>
                      <a:pt x="422" y="78"/>
                    </a:lnTo>
                    <a:lnTo>
                      <a:pt x="422" y="98"/>
                    </a:lnTo>
                    <a:lnTo>
                      <a:pt x="420" y="106"/>
                    </a:lnTo>
                    <a:lnTo>
                      <a:pt x="416" y="112"/>
                    </a:lnTo>
                    <a:lnTo>
                      <a:pt x="414" y="118"/>
                    </a:lnTo>
                    <a:lnTo>
                      <a:pt x="412" y="128"/>
                    </a:lnTo>
                    <a:lnTo>
                      <a:pt x="412" y="154"/>
                    </a:lnTo>
                    <a:lnTo>
                      <a:pt x="414" y="184"/>
                    </a:lnTo>
                    <a:lnTo>
                      <a:pt x="418" y="218"/>
                    </a:lnTo>
                    <a:lnTo>
                      <a:pt x="424" y="238"/>
                    </a:lnTo>
                    <a:lnTo>
                      <a:pt x="432" y="274"/>
                    </a:lnTo>
                    <a:lnTo>
                      <a:pt x="444" y="314"/>
                    </a:lnTo>
                    <a:lnTo>
                      <a:pt x="458" y="356"/>
                    </a:lnTo>
                    <a:lnTo>
                      <a:pt x="470" y="390"/>
                    </a:lnTo>
                    <a:lnTo>
                      <a:pt x="518" y="504"/>
                    </a:lnTo>
                    <a:lnTo>
                      <a:pt x="530" y="540"/>
                    </a:lnTo>
                    <a:lnTo>
                      <a:pt x="540" y="580"/>
                    </a:lnTo>
                    <a:lnTo>
                      <a:pt x="546" y="622"/>
                    </a:lnTo>
                    <a:lnTo>
                      <a:pt x="548" y="658"/>
                    </a:lnTo>
                    <a:lnTo>
                      <a:pt x="548" y="946"/>
                    </a:lnTo>
                    <a:lnTo>
                      <a:pt x="546" y="980"/>
                    </a:lnTo>
                    <a:lnTo>
                      <a:pt x="542" y="1014"/>
                    </a:lnTo>
                    <a:lnTo>
                      <a:pt x="538" y="1046"/>
                    </a:lnTo>
                    <a:lnTo>
                      <a:pt x="530" y="10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14"/>
              <p:cNvSpPr/>
              <p:nvPr/>
            </p:nvSpPr>
            <p:spPr>
              <a:xfrm>
                <a:off x="4636800" y="2026080"/>
                <a:ext cx="28440" cy="410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80" h="152">
                    <a:moveTo>
                      <a:pt x="6" y="0"/>
                    </a:moveTo>
                    <a:lnTo>
                      <a:pt x="6" y="0"/>
                    </a:lnTo>
                    <a:lnTo>
                      <a:pt x="2" y="34"/>
                    </a:lnTo>
                    <a:lnTo>
                      <a:pt x="0" y="66"/>
                    </a:lnTo>
                    <a:lnTo>
                      <a:pt x="0" y="82"/>
                    </a:lnTo>
                    <a:lnTo>
                      <a:pt x="2" y="96"/>
                    </a:lnTo>
                    <a:lnTo>
                      <a:pt x="4" y="108"/>
                    </a:lnTo>
                    <a:lnTo>
                      <a:pt x="10" y="114"/>
                    </a:lnTo>
                    <a:lnTo>
                      <a:pt x="16" y="118"/>
                    </a:lnTo>
                    <a:lnTo>
                      <a:pt x="26" y="122"/>
                    </a:lnTo>
                    <a:lnTo>
                      <a:pt x="36" y="124"/>
                    </a:lnTo>
                    <a:lnTo>
                      <a:pt x="48" y="130"/>
                    </a:lnTo>
                    <a:lnTo>
                      <a:pt x="64" y="138"/>
                    </a:lnTo>
                    <a:lnTo>
                      <a:pt x="80" y="152"/>
                    </a:lnTo>
                    <a:lnTo>
                      <a:pt x="74" y="128"/>
                    </a:lnTo>
                    <a:lnTo>
                      <a:pt x="56" y="78"/>
                    </a:lnTo>
                    <a:lnTo>
                      <a:pt x="44" y="50"/>
                    </a:lnTo>
                    <a:lnTo>
                      <a:pt x="32" y="26"/>
                    </a:lnTo>
                    <a:lnTo>
                      <a:pt x="26" y="16"/>
                    </a:lnTo>
                    <a:lnTo>
                      <a:pt x="20" y="8"/>
                    </a:lnTo>
                    <a:lnTo>
                      <a:pt x="12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15"/>
              <p:cNvSpPr/>
              <p:nvPr/>
            </p:nvSpPr>
            <p:spPr>
              <a:xfrm>
                <a:off x="4533120" y="2023200"/>
                <a:ext cx="44280" cy="424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122" h="152">
                    <a:moveTo>
                      <a:pt x="112" y="0"/>
                    </a:moveTo>
                    <a:lnTo>
                      <a:pt x="112" y="0"/>
                    </a:lnTo>
                    <a:lnTo>
                      <a:pt x="114" y="10"/>
                    </a:lnTo>
                    <a:lnTo>
                      <a:pt x="118" y="34"/>
                    </a:lnTo>
                    <a:lnTo>
                      <a:pt x="122" y="66"/>
                    </a:lnTo>
                    <a:lnTo>
                      <a:pt x="122" y="82"/>
                    </a:lnTo>
                    <a:lnTo>
                      <a:pt x="120" y="96"/>
                    </a:lnTo>
                    <a:lnTo>
                      <a:pt x="118" y="104"/>
                    </a:lnTo>
                    <a:lnTo>
                      <a:pt x="114" y="108"/>
                    </a:lnTo>
                    <a:lnTo>
                      <a:pt x="108" y="112"/>
                    </a:lnTo>
                    <a:lnTo>
                      <a:pt x="102" y="116"/>
                    </a:lnTo>
                    <a:lnTo>
                      <a:pt x="86" y="122"/>
                    </a:lnTo>
                    <a:lnTo>
                      <a:pt x="66" y="126"/>
                    </a:lnTo>
                    <a:lnTo>
                      <a:pt x="48" y="130"/>
                    </a:lnTo>
                    <a:lnTo>
                      <a:pt x="30" y="136"/>
                    </a:lnTo>
                    <a:lnTo>
                      <a:pt x="12" y="142"/>
                    </a:lnTo>
                    <a:lnTo>
                      <a:pt x="6" y="146"/>
                    </a:lnTo>
                    <a:lnTo>
                      <a:pt x="0" y="152"/>
                    </a:lnTo>
                    <a:lnTo>
                      <a:pt x="10" y="128"/>
                    </a:lnTo>
                    <a:lnTo>
                      <a:pt x="22" y="104"/>
                    </a:lnTo>
                    <a:lnTo>
                      <a:pt x="38" y="78"/>
                    </a:lnTo>
                    <a:lnTo>
                      <a:pt x="54" y="50"/>
                    </a:lnTo>
                    <a:lnTo>
                      <a:pt x="72" y="26"/>
                    </a:lnTo>
                    <a:lnTo>
                      <a:pt x="82" y="16"/>
                    </a:lnTo>
                    <a:lnTo>
                      <a:pt x="92" y="8"/>
                    </a:lnTo>
                    <a:lnTo>
                      <a:pt x="102" y="2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Rektangel 36"/>
          <p:cNvSpPr/>
          <p:nvPr/>
        </p:nvSpPr>
        <p:spPr>
          <a:xfrm>
            <a:off x="495360" y="1268280"/>
            <a:ext cx="15429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d1b10"/>
                </a:solidFill>
                <a:latin typeface="Calibri"/>
              </a:rPr>
              <a:t>Example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This is an example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Go ahead and replace it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"/>
          <p:cNvSpPr/>
          <p:nvPr/>
        </p:nvSpPr>
        <p:spPr>
          <a:xfrm>
            <a:off x="3147120" y="57168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示目标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ktangel 38"/>
          <p:cNvSpPr/>
          <p:nvPr/>
        </p:nvSpPr>
        <p:spPr>
          <a:xfrm flipV="1" rot="10800000">
            <a:off x="0" y="-1080"/>
            <a:ext cx="9144000" cy="580716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f3f3f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uppe 61"/>
          <p:cNvGrpSpPr/>
          <p:nvPr/>
        </p:nvGrpSpPr>
        <p:grpSpPr>
          <a:xfrm>
            <a:off x="3413160" y="1414800"/>
            <a:ext cx="2313360" cy="2365200"/>
            <a:chOff x="3413160" y="1414800"/>
            <a:chExt cx="2313360" cy="2365200"/>
          </a:xfrm>
        </p:grpSpPr>
        <p:grpSp>
          <p:nvGrpSpPr>
            <p:cNvPr id="570" name="Gruppe 59"/>
            <p:cNvGrpSpPr/>
            <p:nvPr/>
          </p:nvGrpSpPr>
          <p:grpSpPr>
            <a:xfrm>
              <a:off x="3413160" y="1414800"/>
              <a:ext cx="2313360" cy="2365200"/>
              <a:chOff x="3413160" y="1414800"/>
              <a:chExt cx="2313360" cy="2365200"/>
            </a:xfrm>
          </p:grpSpPr>
          <p:sp>
            <p:nvSpPr>
              <p:cNvPr id="571" name="Ellipse 41"/>
              <p:cNvSpPr/>
              <p:nvPr/>
            </p:nvSpPr>
            <p:spPr>
              <a:xfrm flipH="1" rot="4534800">
                <a:off x="3591000" y="1654560"/>
                <a:ext cx="1957320" cy="1885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marL="343080" indent="-343080" algn="ctr">
                  <a:lnSpc>
                    <a:spcPct val="100000"/>
                  </a:lnSpc>
                  <a:buClr>
                    <a:srgbClr val="ffffff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Ellipse 42"/>
              <p:cNvSpPr/>
              <p:nvPr/>
            </p:nvSpPr>
            <p:spPr>
              <a:xfrm flipH="1">
                <a:off x="3854520" y="1720800"/>
                <a:ext cx="1384560" cy="1060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c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marL="343080" indent="-343080" algn="ctr">
                  <a:lnSpc>
                    <a:spcPct val="100000"/>
                  </a:lnSpc>
                  <a:buClr>
                    <a:srgbClr val="ffffff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Måne 40"/>
            <p:cNvSpPr/>
            <p:nvPr/>
          </p:nvSpPr>
          <p:spPr>
            <a:xfrm flipH="1" rot="5029800">
              <a:off x="4175640" y="2209320"/>
              <a:ext cx="886320" cy="1794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746" y="339"/>
                    <a:pt x="1891" y="5080"/>
                    <a:pt x="1891" y="10800"/>
                  </a:cubicBezTo>
                  <a:cubicBezTo>
                    <a:pt x="1891" y="16520"/>
                    <a:pt x="11746" y="2126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uppe 28"/>
          <p:cNvGrpSpPr/>
          <p:nvPr/>
        </p:nvGrpSpPr>
        <p:grpSpPr>
          <a:xfrm>
            <a:off x="1440" y="3673440"/>
            <a:ext cx="9139320" cy="3184560"/>
            <a:chOff x="1440" y="3673440"/>
            <a:chExt cx="9139320" cy="3184560"/>
          </a:xfrm>
        </p:grpSpPr>
        <p:sp>
          <p:nvSpPr>
            <p:cNvPr id="575" name="Freeform 68"/>
            <p:cNvSpPr/>
            <p:nvPr/>
          </p:nvSpPr>
          <p:spPr>
            <a:xfrm>
              <a:off x="1440" y="3673440"/>
              <a:ext cx="4605480" cy="3184560"/>
            </a:xfrm>
            <a:custGeom>
              <a:avLst/>
              <a:gdLst>
                <a:gd name="textAreaLeft" fmla="*/ 0 w 4605480"/>
                <a:gd name="textAreaRight" fmla="*/ 4605840 w 4605480"/>
                <a:gd name="textAreaTop" fmla="*/ 0 h 3184560"/>
                <a:gd name="textAreaBottom" fmla="*/ 3184920 h 3184560"/>
              </a:gdLst>
              <a:ahLst/>
              <a:rect l="textAreaLeft" t="textAreaTop" r="textAreaRight" b="textAreaBottom"/>
              <a:pathLst>
                <a:path w="2612" h="2604">
                  <a:moveTo>
                    <a:pt x="0" y="1562"/>
                  </a:moveTo>
                  <a:lnTo>
                    <a:pt x="0" y="2604"/>
                  </a:lnTo>
                  <a:lnTo>
                    <a:pt x="1272" y="2604"/>
                  </a:lnTo>
                  <a:lnTo>
                    <a:pt x="2612" y="0"/>
                  </a:lnTo>
                  <a:lnTo>
                    <a:pt x="0" y="1562"/>
                  </a:lnTo>
                  <a:close/>
                </a:path>
              </a:pathLst>
            </a:custGeom>
            <a:gradFill rotWithShape="0">
              <a:gsLst>
                <a:gs pos="0">
                  <a:srgbClr val="0070c0"/>
                </a:gs>
                <a:gs pos="100000">
                  <a:srgbClr val="daeef3"/>
                </a:gs>
              </a:gsLst>
              <a:lin ang="5400000"/>
            </a:gradFill>
            <a:ln w="936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70"/>
            <p:cNvSpPr/>
            <p:nvPr/>
          </p:nvSpPr>
          <p:spPr>
            <a:xfrm>
              <a:off x="2261880" y="3676320"/>
              <a:ext cx="4527720" cy="3181680"/>
            </a:xfrm>
            <a:custGeom>
              <a:avLst/>
              <a:gdLst>
                <a:gd name="textAreaLeft" fmla="*/ 0 w 4527720"/>
                <a:gd name="textAreaRight" fmla="*/ 4528080 w 4527720"/>
                <a:gd name="textAreaTop" fmla="*/ 0 h 3181680"/>
                <a:gd name="textAreaBottom" fmla="*/ 3182040 h 3181680"/>
              </a:gdLst>
              <a:ahLst/>
              <a:rect l="textAreaLeft" t="textAreaTop" r="textAreaRight" b="textAreaBottom"/>
              <a:pathLst>
                <a:path w="2568" h="2602">
                  <a:moveTo>
                    <a:pt x="0" y="2602"/>
                  </a:moveTo>
                  <a:lnTo>
                    <a:pt x="2568" y="2602"/>
                  </a:lnTo>
                  <a:lnTo>
                    <a:pt x="1338" y="0"/>
                  </a:lnTo>
                  <a:lnTo>
                    <a:pt x="0" y="2602"/>
                  </a:lnTo>
                  <a:close/>
                </a:path>
              </a:pathLst>
            </a:custGeom>
            <a:gradFill rotWithShape="0">
              <a:gsLst>
                <a:gs pos="0">
                  <a:srgbClr val="0070c0"/>
                </a:gs>
                <a:gs pos="100000">
                  <a:srgbClr val="daeef3"/>
                </a:gs>
              </a:gsLst>
              <a:lin ang="5400000"/>
            </a:gradFill>
            <a:ln w="936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71"/>
            <p:cNvSpPr/>
            <p:nvPr/>
          </p:nvSpPr>
          <p:spPr>
            <a:xfrm>
              <a:off x="4638600" y="3673440"/>
              <a:ext cx="4502160" cy="3184560"/>
            </a:xfrm>
            <a:custGeom>
              <a:avLst/>
              <a:gdLst>
                <a:gd name="textAreaLeft" fmla="*/ 0 w 4502160"/>
                <a:gd name="textAreaRight" fmla="*/ 4502520 w 4502160"/>
                <a:gd name="textAreaTop" fmla="*/ 0 h 3184560"/>
                <a:gd name="textAreaBottom" fmla="*/ 3184920 h 3184560"/>
              </a:gdLst>
              <a:ahLst/>
              <a:rect l="textAreaLeft" t="textAreaTop" r="textAreaRight" b="textAreaBottom"/>
              <a:pathLst>
                <a:path w="2554" h="2604">
                  <a:moveTo>
                    <a:pt x="1230" y="2604"/>
                  </a:moveTo>
                  <a:lnTo>
                    <a:pt x="1230" y="2604"/>
                  </a:lnTo>
                  <a:lnTo>
                    <a:pt x="2554" y="2604"/>
                  </a:lnTo>
                  <a:lnTo>
                    <a:pt x="2554" y="1540"/>
                  </a:lnTo>
                  <a:lnTo>
                    <a:pt x="0" y="0"/>
                  </a:lnTo>
                  <a:lnTo>
                    <a:pt x="1230" y="2604"/>
                  </a:lnTo>
                  <a:close/>
                </a:path>
              </a:pathLst>
            </a:custGeom>
            <a:gradFill rotWithShape="0">
              <a:gsLst>
                <a:gs pos="0">
                  <a:srgbClr val="0070c0"/>
                </a:gs>
                <a:gs pos="100000">
                  <a:srgbClr val="daeef3"/>
                </a:gs>
              </a:gsLst>
              <a:lin ang="5400000"/>
            </a:gradFill>
            <a:ln w="936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kstboks 31"/>
          <p:cNvSpPr/>
          <p:nvPr/>
        </p:nvSpPr>
        <p:spPr>
          <a:xfrm>
            <a:off x="4057200" y="2263680"/>
            <a:ext cx="10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Calibri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8"/>
          <p:cNvSpPr/>
          <p:nvPr/>
        </p:nvSpPr>
        <p:spPr>
          <a:xfrm>
            <a:off x="314280" y="195120"/>
            <a:ext cx="8520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VISIONS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TARG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uppe 71"/>
          <p:cNvGrpSpPr/>
          <p:nvPr/>
        </p:nvGrpSpPr>
        <p:grpSpPr>
          <a:xfrm>
            <a:off x="3551400" y="4098960"/>
            <a:ext cx="2101680" cy="2286000"/>
            <a:chOff x="3551400" y="4098960"/>
            <a:chExt cx="2101680" cy="2286000"/>
          </a:xfrm>
        </p:grpSpPr>
        <p:sp>
          <p:nvSpPr>
            <p:cNvPr id="581" name="Rektangel 16"/>
            <p:cNvSpPr/>
            <p:nvPr/>
          </p:nvSpPr>
          <p:spPr>
            <a:xfrm>
              <a:off x="3795840" y="4450320"/>
              <a:ext cx="1620720" cy="14004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ktangel 17"/>
            <p:cNvSpPr/>
            <p:nvPr/>
          </p:nvSpPr>
          <p:spPr>
            <a:xfrm>
              <a:off x="3578040" y="6244920"/>
              <a:ext cx="2031480" cy="140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3" name="Gruppe 40"/>
            <p:cNvGrpSpPr/>
            <p:nvPr/>
          </p:nvGrpSpPr>
          <p:grpSpPr>
            <a:xfrm>
              <a:off x="3551400" y="4098960"/>
              <a:ext cx="2101680" cy="2149920"/>
              <a:chOff x="3551400" y="4098960"/>
              <a:chExt cx="2101680" cy="2149920"/>
            </a:xfrm>
          </p:grpSpPr>
          <p:sp>
            <p:nvSpPr>
              <p:cNvPr id="584" name="Rektangel 19"/>
              <p:cNvSpPr/>
              <p:nvPr/>
            </p:nvSpPr>
            <p:spPr>
              <a:xfrm>
                <a:off x="3795840" y="4363920"/>
                <a:ext cx="1620720" cy="107640"/>
              </a:xfrm>
              <a:prstGeom prst="rect">
                <a:avLst/>
              </a:prstGeom>
              <a:solidFill>
                <a:srgbClr val="1f497d"/>
              </a:solidFill>
              <a:ln w="3240">
                <a:solidFill>
                  <a:srgbClr val="9fa2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gebenet trapez 20"/>
              <p:cNvSpPr/>
              <p:nvPr/>
            </p:nvSpPr>
            <p:spPr>
              <a:xfrm>
                <a:off x="3551400" y="6141240"/>
                <a:ext cx="2085840" cy="107640"/>
              </a:xfrm>
              <a:custGeom>
                <a:avLst/>
                <a:gdLst>
                  <a:gd name="textAreaLeft" fmla="*/ 191520 w 2085840"/>
                  <a:gd name="textAreaRight" fmla="*/ 1894320 w 2085840"/>
                  <a:gd name="textAreaTop" fmla="*/ 9720 h 107640"/>
                  <a:gd name="textAreaBottom" fmla="*/ 9792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71" y="21600"/>
                    </a:lnTo>
                    <a:lnTo>
                      <a:pt x="21229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497d"/>
              </a:solidFill>
              <a:ln w="32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Kombinationstegning 21"/>
              <p:cNvSpPr/>
              <p:nvPr/>
            </p:nvSpPr>
            <p:spPr>
              <a:xfrm>
                <a:off x="3556080" y="4098960"/>
                <a:ext cx="2097000" cy="2051640"/>
              </a:xfrm>
              <a:custGeom>
                <a:avLst/>
                <a:gdLst>
                  <a:gd name="textAreaLeft" fmla="*/ 0 w 2097000"/>
                  <a:gd name="textAreaRight" fmla="*/ 2097360 w 2097000"/>
                  <a:gd name="textAreaTop" fmla="*/ 0 h 2051640"/>
                  <a:gd name="textAreaBottom" fmla="*/ 2052000 h 2051640"/>
                </a:gdLst>
                <a:ahLst/>
                <a:rect l="textAreaLeft" t="textAreaTop" r="textAreaRight" b="textAreaBottom"/>
                <a:pathLst>
                  <a:path w="1584157" h="2061410">
                    <a:moveTo>
                      <a:pt x="1584157" y="2053389"/>
                    </a:moveTo>
                    <a:lnTo>
                      <a:pt x="0" y="2061410"/>
                    </a:lnTo>
                    <a:lnTo>
                      <a:pt x="372979" y="264694"/>
                    </a:lnTo>
                    <a:lnTo>
                      <a:pt x="172452" y="268705"/>
                    </a:lnTo>
                    <a:lnTo>
                      <a:pt x="794084" y="0"/>
                    </a:lnTo>
                    <a:lnTo>
                      <a:pt x="1403684" y="264694"/>
                    </a:lnTo>
                    <a:lnTo>
                      <a:pt x="1203157" y="268705"/>
                    </a:lnTo>
                    <a:lnTo>
                      <a:pt x="1584157" y="205338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88c8"/>
                  </a:gs>
                  <a:gs pos="100000">
                    <a:srgbClr val="78f8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7" name="Gruppe 71"/>
          <p:cNvGrpSpPr/>
          <p:nvPr/>
        </p:nvGrpSpPr>
        <p:grpSpPr>
          <a:xfrm>
            <a:off x="781200" y="3648600"/>
            <a:ext cx="2793240" cy="1602360"/>
            <a:chOff x="781200" y="3648600"/>
            <a:chExt cx="2793240" cy="1602360"/>
          </a:xfrm>
        </p:grpSpPr>
        <p:sp>
          <p:nvSpPr>
            <p:cNvPr id="588" name="Rektangel 44"/>
            <p:cNvSpPr/>
            <p:nvPr/>
          </p:nvSpPr>
          <p:spPr>
            <a:xfrm rot="5013000">
              <a:off x="2494440" y="4287240"/>
              <a:ext cx="1030680" cy="1641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ktangel 45"/>
            <p:cNvSpPr/>
            <p:nvPr/>
          </p:nvSpPr>
          <p:spPr>
            <a:xfrm rot="5013000">
              <a:off x="289080" y="4516920"/>
              <a:ext cx="1292040" cy="1641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0" name="Gruppe 40"/>
            <p:cNvGrpSpPr/>
            <p:nvPr/>
          </p:nvGrpSpPr>
          <p:grpSpPr>
            <a:xfrm>
              <a:off x="924840" y="3648600"/>
              <a:ext cx="2649600" cy="1602360"/>
              <a:chOff x="924840" y="3648600"/>
              <a:chExt cx="2649600" cy="1602360"/>
            </a:xfrm>
          </p:grpSpPr>
          <p:sp>
            <p:nvSpPr>
              <p:cNvPr id="591" name="Rektangel 47"/>
              <p:cNvSpPr/>
              <p:nvPr/>
            </p:nvSpPr>
            <p:spPr>
              <a:xfrm rot="5013000">
                <a:off x="2608200" y="4295880"/>
                <a:ext cx="1031760" cy="124920"/>
              </a:xfrm>
              <a:prstGeom prst="rect">
                <a:avLst/>
              </a:prstGeom>
              <a:solidFill>
                <a:srgbClr val="1f497d"/>
              </a:solidFill>
              <a:ln w="3240">
                <a:solidFill>
                  <a:srgbClr val="9fa2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Ligebenet trapez 48"/>
              <p:cNvSpPr/>
              <p:nvPr/>
            </p:nvSpPr>
            <p:spPr>
              <a:xfrm rot="5013000">
                <a:off x="397080" y="4520880"/>
                <a:ext cx="1329120" cy="124920"/>
              </a:xfrm>
              <a:custGeom>
                <a:avLst/>
                <a:gdLst>
                  <a:gd name="textAreaLeft" fmla="*/ 122040 w 1329120"/>
                  <a:gd name="textAreaRight" fmla="*/ 1207080 w 1329120"/>
                  <a:gd name="textAreaTop" fmla="*/ 11160 h 124920"/>
                  <a:gd name="textAreaBottom" fmla="*/ 113760 h 12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68" y="21600"/>
                    </a:lnTo>
                    <a:lnTo>
                      <a:pt x="2123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497d"/>
              </a:solidFill>
              <a:ln w="3240">
                <a:solidFill>
                  <a:srgbClr val="9fa2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Kombinationstegning 49"/>
              <p:cNvSpPr/>
              <p:nvPr/>
            </p:nvSpPr>
            <p:spPr>
              <a:xfrm rot="5013000">
                <a:off x="1640520" y="3247920"/>
                <a:ext cx="1335240" cy="2397240"/>
              </a:xfrm>
              <a:custGeom>
                <a:avLst/>
                <a:gdLst>
                  <a:gd name="textAreaLeft" fmla="*/ 0 w 1335240"/>
                  <a:gd name="textAreaRight" fmla="*/ 1335600 w 1335240"/>
                  <a:gd name="textAreaTop" fmla="*/ 0 h 2397240"/>
                  <a:gd name="textAreaBottom" fmla="*/ 2397600 h 2397240"/>
                </a:gdLst>
                <a:ahLst/>
                <a:rect l="textAreaLeft" t="textAreaTop" r="textAreaRight" b="textAreaBottom"/>
                <a:pathLst>
                  <a:path w="1584157" h="2061410">
                    <a:moveTo>
                      <a:pt x="1584157" y="2053389"/>
                    </a:moveTo>
                    <a:lnTo>
                      <a:pt x="0" y="2061410"/>
                    </a:lnTo>
                    <a:lnTo>
                      <a:pt x="372979" y="264694"/>
                    </a:lnTo>
                    <a:lnTo>
                      <a:pt x="172452" y="268705"/>
                    </a:lnTo>
                    <a:lnTo>
                      <a:pt x="794084" y="0"/>
                    </a:lnTo>
                    <a:lnTo>
                      <a:pt x="1403684" y="264694"/>
                    </a:lnTo>
                    <a:lnTo>
                      <a:pt x="1203157" y="268705"/>
                    </a:lnTo>
                    <a:lnTo>
                      <a:pt x="1584157" y="205338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88c8"/>
                  </a:gs>
                  <a:gs pos="100000">
                    <a:srgbClr val="78f8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4" name="Gruppe 71"/>
          <p:cNvGrpSpPr/>
          <p:nvPr/>
        </p:nvGrpSpPr>
        <p:grpSpPr>
          <a:xfrm>
            <a:off x="5774760" y="3554640"/>
            <a:ext cx="2916360" cy="1632960"/>
            <a:chOff x="5774760" y="3554640"/>
            <a:chExt cx="2916360" cy="1632960"/>
          </a:xfrm>
        </p:grpSpPr>
        <p:sp>
          <p:nvSpPr>
            <p:cNvPr id="595" name="Rektangel 53"/>
            <p:cNvSpPr/>
            <p:nvPr/>
          </p:nvSpPr>
          <p:spPr>
            <a:xfrm flipV="1" rot="5817600">
              <a:off x="5847840" y="4192560"/>
              <a:ext cx="1029240" cy="1699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ktangel 54"/>
            <p:cNvSpPr/>
            <p:nvPr/>
          </p:nvSpPr>
          <p:spPr>
            <a:xfrm flipV="1" rot="5817600">
              <a:off x="7883640" y="4451400"/>
              <a:ext cx="1290240" cy="1699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uppe 40"/>
            <p:cNvGrpSpPr/>
            <p:nvPr/>
          </p:nvGrpSpPr>
          <p:grpSpPr>
            <a:xfrm>
              <a:off x="5774760" y="3554640"/>
              <a:ext cx="2751480" cy="1628640"/>
              <a:chOff x="5774760" y="3554640"/>
              <a:chExt cx="2751480" cy="1628640"/>
            </a:xfrm>
          </p:grpSpPr>
          <p:sp>
            <p:nvSpPr>
              <p:cNvPr id="598" name="Rektangel 56"/>
              <p:cNvSpPr/>
              <p:nvPr/>
            </p:nvSpPr>
            <p:spPr>
              <a:xfrm flipV="1" rot="5817600">
                <a:off x="5729400" y="4197600"/>
                <a:ext cx="1028520" cy="129960"/>
              </a:xfrm>
              <a:prstGeom prst="rect">
                <a:avLst/>
              </a:prstGeom>
              <a:solidFill>
                <a:srgbClr val="1f497d"/>
              </a:solidFill>
              <a:ln w="3240">
                <a:solidFill>
                  <a:srgbClr val="9fa2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gebenet trapez 57"/>
              <p:cNvSpPr/>
              <p:nvPr/>
            </p:nvSpPr>
            <p:spPr>
              <a:xfrm flipV="1" rot="5817600">
                <a:off x="7718760" y="4452480"/>
                <a:ext cx="1325160" cy="129960"/>
              </a:xfrm>
              <a:custGeom>
                <a:avLst/>
                <a:gdLst>
                  <a:gd name="textAreaLeft" fmla="*/ 121680 w 1325160"/>
                  <a:gd name="textAreaRight" fmla="*/ 1203480 w 1325160"/>
                  <a:gd name="textAreaTop" fmla="*/ 11880 h 129960"/>
                  <a:gd name="textAreaBottom" fmla="*/ 118080 h 12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68" y="21600"/>
                    </a:lnTo>
                    <a:lnTo>
                      <a:pt x="2123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497d"/>
              </a:solidFill>
              <a:ln w="3240">
                <a:solidFill>
                  <a:srgbClr val="9fa2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Kombinationstegning 58"/>
              <p:cNvSpPr/>
              <p:nvPr/>
            </p:nvSpPr>
            <p:spPr>
              <a:xfrm flipV="1" rot="5817600">
                <a:off x="6425640" y="3120480"/>
                <a:ext cx="1331640" cy="2491200"/>
              </a:xfrm>
              <a:custGeom>
                <a:avLst/>
                <a:gdLst>
                  <a:gd name="textAreaLeft" fmla="*/ 0 w 1331640"/>
                  <a:gd name="textAreaRight" fmla="*/ 1332000 w 1331640"/>
                  <a:gd name="textAreaTop" fmla="*/ 360 h 2491200"/>
                  <a:gd name="textAreaBottom" fmla="*/ 2491920 h 2491200"/>
                </a:gdLst>
                <a:ahLst/>
                <a:rect l="textAreaLeft" t="textAreaTop" r="textAreaRight" b="textAreaBottom"/>
                <a:pathLst>
                  <a:path w="1584157" h="2061410">
                    <a:moveTo>
                      <a:pt x="1584157" y="2053389"/>
                    </a:moveTo>
                    <a:lnTo>
                      <a:pt x="0" y="2061410"/>
                    </a:lnTo>
                    <a:lnTo>
                      <a:pt x="372979" y="264694"/>
                    </a:lnTo>
                    <a:lnTo>
                      <a:pt x="172452" y="268705"/>
                    </a:lnTo>
                    <a:lnTo>
                      <a:pt x="794084" y="0"/>
                    </a:lnTo>
                    <a:lnTo>
                      <a:pt x="1403684" y="264694"/>
                    </a:lnTo>
                    <a:lnTo>
                      <a:pt x="1203157" y="268705"/>
                    </a:lnTo>
                    <a:lnTo>
                      <a:pt x="1584157" y="205338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88c8"/>
                  </a:gs>
                  <a:gs pos="100000">
                    <a:srgbClr val="78f8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Tekstboks 29"/>
          <p:cNvSpPr/>
          <p:nvPr/>
        </p:nvSpPr>
        <p:spPr>
          <a:xfrm rot="279600">
            <a:off x="6394680" y="414324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aeef3"/>
                </a:solidFill>
                <a:latin typeface="Calibri"/>
              </a:rPr>
              <a:t>TEXT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kstboks 30"/>
          <p:cNvSpPr/>
          <p:nvPr/>
        </p:nvSpPr>
        <p:spPr>
          <a:xfrm flipV="1" rot="10497600">
            <a:off x="1369800" y="427428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aeef3"/>
                </a:solidFill>
                <a:latin typeface="Calibri"/>
              </a:rPr>
              <a:t>TEXT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kstboks 33"/>
          <p:cNvSpPr/>
          <p:nvPr/>
        </p:nvSpPr>
        <p:spPr>
          <a:xfrm flipV="1" rot="5400000">
            <a:off x="3633840" y="5070600"/>
            <a:ext cx="18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aeef3"/>
                </a:solidFill>
                <a:latin typeface="Calibri"/>
              </a:rPr>
              <a:t>TEXT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ktangel 35"/>
          <p:cNvSpPr/>
          <p:nvPr/>
        </p:nvSpPr>
        <p:spPr>
          <a:xfrm>
            <a:off x="495360" y="1268280"/>
            <a:ext cx="15429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d1b10"/>
                </a:solidFill>
                <a:latin typeface="Calibri"/>
              </a:rPr>
              <a:t>Example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This is an example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Go ahead and replace it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39"/>
          <p:cNvSpPr/>
          <p:nvPr/>
        </p:nvSpPr>
        <p:spPr>
          <a:xfrm>
            <a:off x="4255920" y="684360"/>
            <a:ext cx="488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Billede 32" descr="Blue sky Corn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570560"/>
          </a:xfrm>
          <a:prstGeom prst="rect">
            <a:avLst/>
          </a:prstGeom>
          <a:ln w="0">
            <a:noFill/>
          </a:ln>
        </p:spPr>
      </p:pic>
      <p:sp>
        <p:nvSpPr>
          <p:cNvPr id="63" name="Tekstboks 31"/>
          <p:cNvSpPr/>
          <p:nvPr/>
        </p:nvSpPr>
        <p:spPr>
          <a:xfrm>
            <a:off x="3945600" y="2222640"/>
            <a:ext cx="131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Calibri"/>
              </a:rPr>
              <a:t>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314280" y="195120"/>
            <a:ext cx="8520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VISIONS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TARG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68"/>
          <p:cNvSpPr/>
          <p:nvPr/>
        </p:nvSpPr>
        <p:spPr>
          <a:xfrm>
            <a:off x="1440" y="3029040"/>
            <a:ext cx="4605480" cy="3828960"/>
          </a:xfrm>
          <a:custGeom>
            <a:avLst/>
            <a:gdLst>
              <a:gd name="textAreaLeft" fmla="*/ 0 w 4605480"/>
              <a:gd name="textAreaRight" fmla="*/ 4605840 w 4605480"/>
              <a:gd name="textAreaTop" fmla="*/ 0 h 3828960"/>
              <a:gd name="textAreaBottom" fmla="*/ 3829320 h 3828960"/>
            </a:gdLst>
            <a:ahLst/>
            <a:rect l="textAreaLeft" t="textAreaTop" r="textAreaRight" b="textAreaBottom"/>
            <a:pathLst>
              <a:path w="2612" h="2604">
                <a:moveTo>
                  <a:pt x="0" y="1562"/>
                </a:moveTo>
                <a:lnTo>
                  <a:pt x="0" y="2604"/>
                </a:lnTo>
                <a:lnTo>
                  <a:pt x="1272" y="2604"/>
                </a:lnTo>
                <a:lnTo>
                  <a:pt x="2612" y="0"/>
                </a:lnTo>
                <a:lnTo>
                  <a:pt x="0" y="1562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69"/>
          <p:cNvSpPr/>
          <p:nvPr/>
        </p:nvSpPr>
        <p:spPr>
          <a:xfrm>
            <a:off x="4667400" y="3025800"/>
            <a:ext cx="4473360" cy="2249640"/>
          </a:xfrm>
          <a:custGeom>
            <a:avLst/>
            <a:gdLst>
              <a:gd name="textAreaLeft" fmla="*/ 0 w 4473360"/>
              <a:gd name="textAreaRight" fmla="*/ 4473720 w 4473360"/>
              <a:gd name="textAreaTop" fmla="*/ 0 h 2249640"/>
              <a:gd name="textAreaBottom" fmla="*/ 2249640 h 2249640"/>
            </a:gdLst>
            <a:ahLst/>
            <a:rect l="textAreaLeft" t="textAreaTop" r="textAreaRight" b="textAreaBottom"/>
            <a:pathLst>
              <a:path w="2538" h="1530">
                <a:moveTo>
                  <a:pt x="2538" y="1530"/>
                </a:moveTo>
                <a:lnTo>
                  <a:pt x="2538" y="0"/>
                </a:lnTo>
                <a:lnTo>
                  <a:pt x="0" y="0"/>
                </a:lnTo>
                <a:lnTo>
                  <a:pt x="2538" y="153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70"/>
          <p:cNvSpPr/>
          <p:nvPr/>
        </p:nvSpPr>
        <p:spPr>
          <a:xfrm>
            <a:off x="2262240" y="3032280"/>
            <a:ext cx="4525920" cy="3825720"/>
          </a:xfrm>
          <a:custGeom>
            <a:avLst/>
            <a:gdLst>
              <a:gd name="textAreaLeft" fmla="*/ 0 w 4525920"/>
              <a:gd name="textAreaRight" fmla="*/ 4526280 w 4525920"/>
              <a:gd name="textAreaTop" fmla="*/ 0 h 3825720"/>
              <a:gd name="textAreaBottom" fmla="*/ 3826080 h 3825720"/>
            </a:gdLst>
            <a:ahLst/>
            <a:rect l="textAreaLeft" t="textAreaTop" r="textAreaRight" b="textAreaBottom"/>
            <a:pathLst>
              <a:path w="2568" h="2602">
                <a:moveTo>
                  <a:pt x="0" y="2602"/>
                </a:moveTo>
                <a:lnTo>
                  <a:pt x="2568" y="2602"/>
                </a:lnTo>
                <a:lnTo>
                  <a:pt x="1338" y="0"/>
                </a:lnTo>
                <a:lnTo>
                  <a:pt x="0" y="2602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71"/>
          <p:cNvSpPr/>
          <p:nvPr/>
        </p:nvSpPr>
        <p:spPr>
          <a:xfrm>
            <a:off x="4638600" y="3029040"/>
            <a:ext cx="4502160" cy="3828960"/>
          </a:xfrm>
          <a:custGeom>
            <a:avLst/>
            <a:gdLst>
              <a:gd name="textAreaLeft" fmla="*/ 0 w 4502160"/>
              <a:gd name="textAreaRight" fmla="*/ 4502520 w 4502160"/>
              <a:gd name="textAreaTop" fmla="*/ 0 h 3828960"/>
              <a:gd name="textAreaBottom" fmla="*/ 3829320 h 3828960"/>
            </a:gdLst>
            <a:ahLst/>
            <a:rect l="textAreaLeft" t="textAreaTop" r="textAreaRight" b="textAreaBottom"/>
            <a:pathLst>
              <a:path w="2554" h="2604">
                <a:moveTo>
                  <a:pt x="1230" y="2604"/>
                </a:moveTo>
                <a:lnTo>
                  <a:pt x="1230" y="2604"/>
                </a:lnTo>
                <a:lnTo>
                  <a:pt x="2554" y="2604"/>
                </a:lnTo>
                <a:lnTo>
                  <a:pt x="2554" y="1540"/>
                </a:lnTo>
                <a:lnTo>
                  <a:pt x="0" y="0"/>
                </a:lnTo>
                <a:lnTo>
                  <a:pt x="1230" y="2604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72"/>
          <p:cNvSpPr/>
          <p:nvPr/>
        </p:nvSpPr>
        <p:spPr>
          <a:xfrm>
            <a:off x="1440" y="3025800"/>
            <a:ext cx="4577040" cy="2282760"/>
          </a:xfrm>
          <a:custGeom>
            <a:avLst/>
            <a:gdLst>
              <a:gd name="textAreaLeft" fmla="*/ 0 w 4577040"/>
              <a:gd name="textAreaRight" fmla="*/ 4577400 w 4577040"/>
              <a:gd name="textAreaTop" fmla="*/ 0 h 2282760"/>
              <a:gd name="textAreaBottom" fmla="*/ 2283120 h 2282760"/>
            </a:gdLst>
            <a:ahLst/>
            <a:rect l="textAreaLeft" t="textAreaTop" r="textAreaRight" b="textAreaBottom"/>
            <a:pathLst>
              <a:path w="2596" h="1552">
                <a:moveTo>
                  <a:pt x="2592" y="0"/>
                </a:moveTo>
                <a:lnTo>
                  <a:pt x="0" y="0"/>
                </a:lnTo>
                <a:lnTo>
                  <a:pt x="0" y="1552"/>
                </a:lnTo>
                <a:lnTo>
                  <a:pt x="2596" y="0"/>
                </a:lnTo>
                <a:lnTo>
                  <a:pt x="2592" y="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ktangel 14"/>
          <p:cNvSpPr/>
          <p:nvPr/>
        </p:nvSpPr>
        <p:spPr>
          <a:xfrm>
            <a:off x="3695760" y="5433840"/>
            <a:ext cx="16192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Calibri"/>
              </a:rPr>
              <a:t>Peopl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Calibri"/>
              </a:rPr>
              <a:t>Go ahead and replace it with your own text.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ktangel 15"/>
          <p:cNvSpPr/>
          <p:nvPr/>
        </p:nvSpPr>
        <p:spPr>
          <a:xfrm>
            <a:off x="952560" y="5433840"/>
            <a:ext cx="16192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Calibri"/>
              </a:rPr>
              <a:t>Process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Calibri"/>
              </a:rPr>
              <a:t>Go ahead and replace it with your own text.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ktangel 16"/>
          <p:cNvSpPr/>
          <p:nvPr/>
        </p:nvSpPr>
        <p:spPr>
          <a:xfrm>
            <a:off x="304920" y="3255840"/>
            <a:ext cx="1619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Calibri"/>
              </a:rPr>
              <a:t>Strategy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Calibri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ktangel 17"/>
          <p:cNvSpPr/>
          <p:nvPr/>
        </p:nvSpPr>
        <p:spPr>
          <a:xfrm>
            <a:off x="6629400" y="5433840"/>
            <a:ext cx="1619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Calibri"/>
              </a:rPr>
              <a:t>Business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Calibri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ktangel 18"/>
          <p:cNvSpPr/>
          <p:nvPr/>
        </p:nvSpPr>
        <p:spPr>
          <a:xfrm>
            <a:off x="7315200" y="3294000"/>
            <a:ext cx="16192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Calibri"/>
              </a:rPr>
              <a:t>Enviro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Calibri"/>
              </a:rPr>
              <a:t>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Calibri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uppe 311"/>
          <p:cNvGrpSpPr/>
          <p:nvPr/>
        </p:nvGrpSpPr>
        <p:grpSpPr>
          <a:xfrm>
            <a:off x="8177040" y="2435400"/>
            <a:ext cx="828720" cy="788760"/>
            <a:chOff x="8177040" y="2435400"/>
            <a:chExt cx="828720" cy="788760"/>
          </a:xfrm>
        </p:grpSpPr>
        <p:grpSp>
          <p:nvGrpSpPr>
            <p:cNvPr id="76" name="Gruppe 179"/>
            <p:cNvGrpSpPr/>
            <p:nvPr/>
          </p:nvGrpSpPr>
          <p:grpSpPr>
            <a:xfrm>
              <a:off x="8473320" y="2825280"/>
              <a:ext cx="532440" cy="398880"/>
              <a:chOff x="8473320" y="2825280"/>
              <a:chExt cx="532440" cy="398880"/>
            </a:xfrm>
          </p:grpSpPr>
          <p:sp>
            <p:nvSpPr>
              <p:cNvPr id="77" name="Freeform 5"/>
              <p:cNvSpPr/>
              <p:nvPr/>
            </p:nvSpPr>
            <p:spPr>
              <a:xfrm>
                <a:off x="8473320" y="2825280"/>
                <a:ext cx="88560" cy="39888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466" h="2087">
                    <a:moveTo>
                      <a:pt x="310" y="5"/>
                    </a:moveTo>
                    <a:lnTo>
                      <a:pt x="305" y="5"/>
                    </a:lnTo>
                    <a:lnTo>
                      <a:pt x="301" y="8"/>
                    </a:lnTo>
                    <a:lnTo>
                      <a:pt x="298" y="12"/>
                    </a:lnTo>
                    <a:lnTo>
                      <a:pt x="296" y="19"/>
                    </a:lnTo>
                    <a:lnTo>
                      <a:pt x="293" y="28"/>
                    </a:lnTo>
                    <a:lnTo>
                      <a:pt x="291" y="40"/>
                    </a:lnTo>
                    <a:lnTo>
                      <a:pt x="289" y="54"/>
                    </a:lnTo>
                    <a:lnTo>
                      <a:pt x="289" y="74"/>
                    </a:lnTo>
                    <a:lnTo>
                      <a:pt x="288" y="164"/>
                    </a:lnTo>
                    <a:lnTo>
                      <a:pt x="285" y="254"/>
                    </a:lnTo>
                    <a:lnTo>
                      <a:pt x="278" y="344"/>
                    </a:lnTo>
                    <a:lnTo>
                      <a:pt x="271" y="434"/>
                    </a:lnTo>
                    <a:lnTo>
                      <a:pt x="261" y="523"/>
                    </a:lnTo>
                    <a:lnTo>
                      <a:pt x="251" y="612"/>
                    </a:lnTo>
                    <a:lnTo>
                      <a:pt x="238" y="701"/>
                    </a:lnTo>
                    <a:lnTo>
                      <a:pt x="225" y="789"/>
                    </a:lnTo>
                    <a:lnTo>
                      <a:pt x="223" y="824"/>
                    </a:lnTo>
                    <a:lnTo>
                      <a:pt x="221" y="865"/>
                    </a:lnTo>
                    <a:lnTo>
                      <a:pt x="218" y="910"/>
                    </a:lnTo>
                    <a:lnTo>
                      <a:pt x="216" y="956"/>
                    </a:lnTo>
                    <a:lnTo>
                      <a:pt x="211" y="1002"/>
                    </a:lnTo>
                    <a:lnTo>
                      <a:pt x="204" y="1044"/>
                    </a:lnTo>
                    <a:lnTo>
                      <a:pt x="194" y="1083"/>
                    </a:lnTo>
                    <a:lnTo>
                      <a:pt x="182" y="1116"/>
                    </a:lnTo>
                    <a:lnTo>
                      <a:pt x="156" y="1114"/>
                    </a:lnTo>
                    <a:lnTo>
                      <a:pt x="133" y="1109"/>
                    </a:lnTo>
                    <a:lnTo>
                      <a:pt x="111" y="1103"/>
                    </a:lnTo>
                    <a:lnTo>
                      <a:pt x="91" y="1096"/>
                    </a:lnTo>
                    <a:lnTo>
                      <a:pt x="69" y="1087"/>
                    </a:lnTo>
                    <a:lnTo>
                      <a:pt x="48" y="1078"/>
                    </a:lnTo>
                    <a:lnTo>
                      <a:pt x="26" y="1071"/>
                    </a:lnTo>
                    <a:lnTo>
                      <a:pt x="3" y="1065"/>
                    </a:lnTo>
                    <a:lnTo>
                      <a:pt x="0" y="1065"/>
                    </a:lnTo>
                    <a:lnTo>
                      <a:pt x="0" y="1068"/>
                    </a:lnTo>
                    <a:lnTo>
                      <a:pt x="1" y="1070"/>
                    </a:lnTo>
                    <a:lnTo>
                      <a:pt x="5" y="1075"/>
                    </a:lnTo>
                    <a:lnTo>
                      <a:pt x="11" y="1082"/>
                    </a:lnTo>
                    <a:lnTo>
                      <a:pt x="23" y="1093"/>
                    </a:lnTo>
                    <a:lnTo>
                      <a:pt x="62" y="1126"/>
                    </a:lnTo>
                    <a:lnTo>
                      <a:pt x="95" y="1151"/>
                    </a:lnTo>
                    <a:lnTo>
                      <a:pt x="119" y="1169"/>
                    </a:lnTo>
                    <a:lnTo>
                      <a:pt x="138" y="1184"/>
                    </a:lnTo>
                    <a:lnTo>
                      <a:pt x="150" y="1196"/>
                    </a:lnTo>
                    <a:lnTo>
                      <a:pt x="160" y="1209"/>
                    </a:lnTo>
                    <a:lnTo>
                      <a:pt x="165" y="1225"/>
                    </a:lnTo>
                    <a:lnTo>
                      <a:pt x="169" y="1246"/>
                    </a:lnTo>
                    <a:lnTo>
                      <a:pt x="169" y="1279"/>
                    </a:lnTo>
                    <a:lnTo>
                      <a:pt x="163" y="1362"/>
                    </a:lnTo>
                    <a:lnTo>
                      <a:pt x="152" y="1479"/>
                    </a:lnTo>
                    <a:lnTo>
                      <a:pt x="137" y="1617"/>
                    </a:lnTo>
                    <a:lnTo>
                      <a:pt x="119" y="1758"/>
                    </a:lnTo>
                    <a:lnTo>
                      <a:pt x="101" y="1889"/>
                    </a:lnTo>
                    <a:lnTo>
                      <a:pt x="85" y="1996"/>
                    </a:lnTo>
                    <a:lnTo>
                      <a:pt x="71" y="2064"/>
                    </a:lnTo>
                    <a:lnTo>
                      <a:pt x="84" y="2076"/>
                    </a:lnTo>
                    <a:lnTo>
                      <a:pt x="100" y="2084"/>
                    </a:lnTo>
                    <a:lnTo>
                      <a:pt x="118" y="2087"/>
                    </a:lnTo>
                    <a:lnTo>
                      <a:pt x="138" y="2086"/>
                    </a:lnTo>
                    <a:lnTo>
                      <a:pt x="157" y="2079"/>
                    </a:lnTo>
                    <a:lnTo>
                      <a:pt x="175" y="2071"/>
                    </a:lnTo>
                    <a:lnTo>
                      <a:pt x="192" y="2058"/>
                    </a:lnTo>
                    <a:lnTo>
                      <a:pt x="205" y="2043"/>
                    </a:lnTo>
                    <a:lnTo>
                      <a:pt x="200" y="1951"/>
                    </a:lnTo>
                    <a:lnTo>
                      <a:pt x="198" y="1858"/>
                    </a:lnTo>
                    <a:lnTo>
                      <a:pt x="199" y="1762"/>
                    </a:lnTo>
                    <a:lnTo>
                      <a:pt x="203" y="1667"/>
                    </a:lnTo>
                    <a:lnTo>
                      <a:pt x="209" y="1572"/>
                    </a:lnTo>
                    <a:lnTo>
                      <a:pt x="221" y="1477"/>
                    </a:lnTo>
                    <a:lnTo>
                      <a:pt x="235" y="1384"/>
                    </a:lnTo>
                    <a:lnTo>
                      <a:pt x="256" y="1294"/>
                    </a:lnTo>
                    <a:lnTo>
                      <a:pt x="256" y="1245"/>
                    </a:lnTo>
                    <a:lnTo>
                      <a:pt x="256" y="1197"/>
                    </a:lnTo>
                    <a:lnTo>
                      <a:pt x="256" y="1147"/>
                    </a:lnTo>
                    <a:lnTo>
                      <a:pt x="258" y="1098"/>
                    </a:lnTo>
                    <a:lnTo>
                      <a:pt x="261" y="1047"/>
                    </a:lnTo>
                    <a:lnTo>
                      <a:pt x="268" y="998"/>
                    </a:lnTo>
                    <a:lnTo>
                      <a:pt x="279" y="949"/>
                    </a:lnTo>
                    <a:lnTo>
                      <a:pt x="294" y="901"/>
                    </a:lnTo>
                    <a:lnTo>
                      <a:pt x="316" y="870"/>
                    </a:lnTo>
                    <a:lnTo>
                      <a:pt x="336" y="846"/>
                    </a:lnTo>
                    <a:lnTo>
                      <a:pt x="353" y="825"/>
                    </a:lnTo>
                    <a:lnTo>
                      <a:pt x="372" y="807"/>
                    </a:lnTo>
                    <a:lnTo>
                      <a:pt x="390" y="788"/>
                    </a:lnTo>
                    <a:lnTo>
                      <a:pt x="412" y="769"/>
                    </a:lnTo>
                    <a:lnTo>
                      <a:pt x="436" y="747"/>
                    </a:lnTo>
                    <a:lnTo>
                      <a:pt x="466" y="720"/>
                    </a:lnTo>
                    <a:lnTo>
                      <a:pt x="463" y="712"/>
                    </a:lnTo>
                    <a:lnTo>
                      <a:pt x="463" y="708"/>
                    </a:lnTo>
                    <a:lnTo>
                      <a:pt x="461" y="705"/>
                    </a:lnTo>
                    <a:lnTo>
                      <a:pt x="460" y="704"/>
                    </a:lnTo>
                    <a:lnTo>
                      <a:pt x="432" y="719"/>
                    </a:lnTo>
                    <a:lnTo>
                      <a:pt x="409" y="735"/>
                    </a:lnTo>
                    <a:lnTo>
                      <a:pt x="386" y="751"/>
                    </a:lnTo>
                    <a:lnTo>
                      <a:pt x="368" y="767"/>
                    </a:lnTo>
                    <a:lnTo>
                      <a:pt x="350" y="781"/>
                    </a:lnTo>
                    <a:lnTo>
                      <a:pt x="332" y="794"/>
                    </a:lnTo>
                    <a:lnTo>
                      <a:pt x="316" y="804"/>
                    </a:lnTo>
                    <a:lnTo>
                      <a:pt x="299" y="812"/>
                    </a:lnTo>
                    <a:lnTo>
                      <a:pt x="296" y="785"/>
                    </a:lnTo>
                    <a:lnTo>
                      <a:pt x="297" y="757"/>
                    </a:lnTo>
                    <a:lnTo>
                      <a:pt x="298" y="727"/>
                    </a:lnTo>
                    <a:lnTo>
                      <a:pt x="301" y="698"/>
                    </a:lnTo>
                    <a:lnTo>
                      <a:pt x="304" y="667"/>
                    </a:lnTo>
                    <a:lnTo>
                      <a:pt x="308" y="637"/>
                    </a:lnTo>
                    <a:lnTo>
                      <a:pt x="311" y="607"/>
                    </a:lnTo>
                    <a:lnTo>
                      <a:pt x="315" y="579"/>
                    </a:lnTo>
                    <a:lnTo>
                      <a:pt x="322" y="508"/>
                    </a:lnTo>
                    <a:lnTo>
                      <a:pt x="330" y="437"/>
                    </a:lnTo>
                    <a:lnTo>
                      <a:pt x="337" y="366"/>
                    </a:lnTo>
                    <a:lnTo>
                      <a:pt x="344" y="296"/>
                    </a:lnTo>
                    <a:lnTo>
                      <a:pt x="350" y="224"/>
                    </a:lnTo>
                    <a:lnTo>
                      <a:pt x="357" y="153"/>
                    </a:lnTo>
                    <a:lnTo>
                      <a:pt x="365" y="81"/>
                    </a:lnTo>
                    <a:lnTo>
                      <a:pt x="374" y="10"/>
                    </a:lnTo>
                    <a:lnTo>
                      <a:pt x="373" y="8"/>
                    </a:lnTo>
                    <a:lnTo>
                      <a:pt x="370" y="6"/>
                    </a:lnTo>
                    <a:lnTo>
                      <a:pt x="365" y="3"/>
                    </a:lnTo>
                    <a:lnTo>
                      <a:pt x="359" y="2"/>
                    </a:lnTo>
                    <a:lnTo>
                      <a:pt x="351" y="0"/>
                    </a:lnTo>
                    <a:lnTo>
                      <a:pt x="340" y="0"/>
                    </a:lnTo>
                    <a:lnTo>
                      <a:pt x="325" y="1"/>
                    </a:lnTo>
                    <a:lnTo>
                      <a:pt x="310" y="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1900"/>
                  </a:gs>
                  <a:gs pos="100000">
                    <a:srgbClr val="17171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" name="Gruppe 153"/>
              <p:cNvGrpSpPr/>
              <p:nvPr/>
            </p:nvGrpSpPr>
            <p:grpSpPr>
              <a:xfrm>
                <a:off x="8530200" y="2849040"/>
                <a:ext cx="475560" cy="273240"/>
                <a:chOff x="8530200" y="2849040"/>
                <a:chExt cx="475560" cy="273240"/>
              </a:xfrm>
            </p:grpSpPr>
            <p:grpSp>
              <p:nvGrpSpPr>
                <p:cNvPr id="79" name="Gruppe 16"/>
                <p:cNvGrpSpPr/>
                <p:nvPr/>
              </p:nvGrpSpPr>
              <p:grpSpPr>
                <a:xfrm>
                  <a:off x="8530200" y="2849040"/>
                  <a:ext cx="475560" cy="273240"/>
                  <a:chOff x="8530200" y="2849040"/>
                  <a:chExt cx="475560" cy="273240"/>
                </a:xfrm>
              </p:grpSpPr>
              <p:sp>
                <p:nvSpPr>
                  <p:cNvPr id="80" name="Freeform 6"/>
                  <p:cNvSpPr/>
                  <p:nvPr/>
                </p:nvSpPr>
                <p:spPr>
                  <a:xfrm rot="778800">
                    <a:off x="8543880" y="2897280"/>
                    <a:ext cx="447480" cy="176760"/>
                  </a:xfrm>
                  <a:custGeom>
                    <a:avLst/>
                    <a:gdLst>
                      <a:gd name="textAreaLeft" fmla="*/ 0 w 447480"/>
                      <a:gd name="textAreaRight" fmla="*/ 447840 w 447480"/>
                      <a:gd name="textAreaTop" fmla="*/ 0 h 176760"/>
                      <a:gd name="textAreaBottom" fmla="*/ 177120 h 176760"/>
                    </a:gdLst>
                    <a:ahLst/>
                    <a:rect l="textAreaLeft" t="textAreaTop" r="textAreaRight" b="textAreaBottom"/>
                    <a:pathLst>
                      <a:path w="7036" h="3760">
                        <a:moveTo>
                          <a:pt x="5332" y="1222"/>
                        </a:moveTo>
                        <a:lnTo>
                          <a:pt x="5332" y="1222"/>
                        </a:lnTo>
                        <a:lnTo>
                          <a:pt x="5386" y="1294"/>
                        </a:lnTo>
                        <a:lnTo>
                          <a:pt x="5438" y="1364"/>
                        </a:lnTo>
                        <a:lnTo>
                          <a:pt x="5490" y="1430"/>
                        </a:lnTo>
                        <a:lnTo>
                          <a:pt x="5542" y="1494"/>
                        </a:lnTo>
                        <a:lnTo>
                          <a:pt x="5594" y="1554"/>
                        </a:lnTo>
                        <a:lnTo>
                          <a:pt x="5644" y="1612"/>
                        </a:lnTo>
                        <a:lnTo>
                          <a:pt x="5696" y="1668"/>
                        </a:lnTo>
                        <a:lnTo>
                          <a:pt x="5748" y="1722"/>
                        </a:lnTo>
                        <a:lnTo>
                          <a:pt x="5800" y="1774"/>
                        </a:lnTo>
                        <a:lnTo>
                          <a:pt x="5850" y="1824"/>
                        </a:lnTo>
                        <a:lnTo>
                          <a:pt x="5902" y="1872"/>
                        </a:lnTo>
                        <a:lnTo>
                          <a:pt x="5954" y="1918"/>
                        </a:lnTo>
                        <a:lnTo>
                          <a:pt x="6056" y="2006"/>
                        </a:lnTo>
                        <a:lnTo>
                          <a:pt x="6160" y="2088"/>
                        </a:lnTo>
                        <a:lnTo>
                          <a:pt x="6264" y="2168"/>
                        </a:lnTo>
                        <a:lnTo>
                          <a:pt x="6370" y="2242"/>
                        </a:lnTo>
                        <a:lnTo>
                          <a:pt x="6476" y="2316"/>
                        </a:lnTo>
                        <a:lnTo>
                          <a:pt x="6584" y="2390"/>
                        </a:lnTo>
                        <a:lnTo>
                          <a:pt x="6806" y="2538"/>
                        </a:lnTo>
                        <a:lnTo>
                          <a:pt x="6920" y="2616"/>
                        </a:lnTo>
                        <a:lnTo>
                          <a:pt x="7036" y="2696"/>
                        </a:lnTo>
                        <a:lnTo>
                          <a:pt x="6882" y="2748"/>
                        </a:lnTo>
                        <a:lnTo>
                          <a:pt x="6700" y="2808"/>
                        </a:lnTo>
                        <a:lnTo>
                          <a:pt x="6272" y="2944"/>
                        </a:lnTo>
                        <a:lnTo>
                          <a:pt x="5784" y="3094"/>
                        </a:lnTo>
                        <a:lnTo>
                          <a:pt x="5266" y="3250"/>
                        </a:lnTo>
                        <a:lnTo>
                          <a:pt x="4752" y="3400"/>
                        </a:lnTo>
                        <a:lnTo>
                          <a:pt x="4272" y="3538"/>
                        </a:lnTo>
                        <a:lnTo>
                          <a:pt x="4056" y="3600"/>
                        </a:lnTo>
                        <a:lnTo>
                          <a:pt x="3860" y="3652"/>
                        </a:lnTo>
                        <a:lnTo>
                          <a:pt x="3690" y="3698"/>
                        </a:lnTo>
                        <a:lnTo>
                          <a:pt x="3546" y="3734"/>
                        </a:lnTo>
                        <a:lnTo>
                          <a:pt x="3502" y="3740"/>
                        </a:lnTo>
                        <a:lnTo>
                          <a:pt x="3434" y="3746"/>
                        </a:lnTo>
                        <a:lnTo>
                          <a:pt x="3346" y="3752"/>
                        </a:lnTo>
                        <a:lnTo>
                          <a:pt x="3242" y="3756"/>
                        </a:lnTo>
                        <a:lnTo>
                          <a:pt x="3122" y="3760"/>
                        </a:lnTo>
                        <a:lnTo>
                          <a:pt x="2992" y="3758"/>
                        </a:lnTo>
                        <a:lnTo>
                          <a:pt x="2854" y="3754"/>
                        </a:lnTo>
                        <a:lnTo>
                          <a:pt x="2782" y="3750"/>
                        </a:lnTo>
                        <a:lnTo>
                          <a:pt x="2710" y="3744"/>
                        </a:lnTo>
                        <a:lnTo>
                          <a:pt x="2638" y="3736"/>
                        </a:lnTo>
                        <a:lnTo>
                          <a:pt x="2564" y="3728"/>
                        </a:lnTo>
                        <a:lnTo>
                          <a:pt x="2492" y="3716"/>
                        </a:lnTo>
                        <a:lnTo>
                          <a:pt x="2420" y="3704"/>
                        </a:lnTo>
                        <a:lnTo>
                          <a:pt x="2348" y="3690"/>
                        </a:lnTo>
                        <a:lnTo>
                          <a:pt x="2278" y="3672"/>
                        </a:lnTo>
                        <a:lnTo>
                          <a:pt x="2210" y="3654"/>
                        </a:lnTo>
                        <a:lnTo>
                          <a:pt x="2144" y="3632"/>
                        </a:lnTo>
                        <a:lnTo>
                          <a:pt x="2080" y="3608"/>
                        </a:lnTo>
                        <a:lnTo>
                          <a:pt x="2018" y="3580"/>
                        </a:lnTo>
                        <a:lnTo>
                          <a:pt x="1960" y="3550"/>
                        </a:lnTo>
                        <a:lnTo>
                          <a:pt x="1906" y="3518"/>
                        </a:lnTo>
                        <a:lnTo>
                          <a:pt x="1880" y="3500"/>
                        </a:lnTo>
                        <a:lnTo>
                          <a:pt x="1856" y="3482"/>
                        </a:lnTo>
                        <a:lnTo>
                          <a:pt x="1832" y="3462"/>
                        </a:lnTo>
                        <a:lnTo>
                          <a:pt x="1810" y="3444"/>
                        </a:lnTo>
                        <a:lnTo>
                          <a:pt x="1788" y="3422"/>
                        </a:lnTo>
                        <a:lnTo>
                          <a:pt x="1768" y="3400"/>
                        </a:lnTo>
                        <a:lnTo>
                          <a:pt x="1750" y="3378"/>
                        </a:lnTo>
                        <a:lnTo>
                          <a:pt x="1732" y="3356"/>
                        </a:lnTo>
                        <a:lnTo>
                          <a:pt x="1682" y="3280"/>
                        </a:lnTo>
                        <a:lnTo>
                          <a:pt x="1638" y="3208"/>
                        </a:lnTo>
                        <a:lnTo>
                          <a:pt x="1600" y="3138"/>
                        </a:lnTo>
                        <a:lnTo>
                          <a:pt x="1564" y="3072"/>
                        </a:lnTo>
                        <a:lnTo>
                          <a:pt x="1534" y="3010"/>
                        </a:lnTo>
                        <a:lnTo>
                          <a:pt x="1508" y="2948"/>
                        </a:lnTo>
                        <a:lnTo>
                          <a:pt x="1484" y="2890"/>
                        </a:lnTo>
                        <a:lnTo>
                          <a:pt x="1466" y="2836"/>
                        </a:lnTo>
                        <a:lnTo>
                          <a:pt x="1448" y="2782"/>
                        </a:lnTo>
                        <a:lnTo>
                          <a:pt x="1434" y="2732"/>
                        </a:lnTo>
                        <a:lnTo>
                          <a:pt x="1422" y="2684"/>
                        </a:lnTo>
                        <a:lnTo>
                          <a:pt x="1412" y="2640"/>
                        </a:lnTo>
                        <a:lnTo>
                          <a:pt x="1396" y="2556"/>
                        </a:lnTo>
                        <a:lnTo>
                          <a:pt x="1382" y="2480"/>
                        </a:lnTo>
                        <a:lnTo>
                          <a:pt x="1368" y="2414"/>
                        </a:lnTo>
                        <a:lnTo>
                          <a:pt x="1362" y="2384"/>
                        </a:lnTo>
                        <a:lnTo>
                          <a:pt x="1354" y="2356"/>
                        </a:lnTo>
                        <a:lnTo>
                          <a:pt x="1344" y="2330"/>
                        </a:lnTo>
                        <a:lnTo>
                          <a:pt x="1332" y="2306"/>
                        </a:lnTo>
                        <a:lnTo>
                          <a:pt x="1318" y="2284"/>
                        </a:lnTo>
                        <a:lnTo>
                          <a:pt x="1302" y="2264"/>
                        </a:lnTo>
                        <a:lnTo>
                          <a:pt x="1284" y="2244"/>
                        </a:lnTo>
                        <a:lnTo>
                          <a:pt x="1262" y="2226"/>
                        </a:lnTo>
                        <a:lnTo>
                          <a:pt x="1238" y="2210"/>
                        </a:lnTo>
                        <a:lnTo>
                          <a:pt x="1208" y="2196"/>
                        </a:lnTo>
                        <a:lnTo>
                          <a:pt x="1176" y="2182"/>
                        </a:lnTo>
                        <a:lnTo>
                          <a:pt x="1138" y="2172"/>
                        </a:lnTo>
                        <a:lnTo>
                          <a:pt x="1096" y="2160"/>
                        </a:lnTo>
                        <a:lnTo>
                          <a:pt x="1048" y="2152"/>
                        </a:lnTo>
                        <a:lnTo>
                          <a:pt x="1020" y="2150"/>
                        </a:lnTo>
                        <a:lnTo>
                          <a:pt x="992" y="2152"/>
                        </a:lnTo>
                        <a:lnTo>
                          <a:pt x="962" y="2158"/>
                        </a:lnTo>
                        <a:lnTo>
                          <a:pt x="928" y="2168"/>
                        </a:lnTo>
                        <a:lnTo>
                          <a:pt x="894" y="2180"/>
                        </a:lnTo>
                        <a:lnTo>
                          <a:pt x="858" y="2198"/>
                        </a:lnTo>
                        <a:lnTo>
                          <a:pt x="822" y="2216"/>
                        </a:lnTo>
                        <a:lnTo>
                          <a:pt x="784" y="2238"/>
                        </a:lnTo>
                        <a:lnTo>
                          <a:pt x="746" y="2262"/>
                        </a:lnTo>
                        <a:lnTo>
                          <a:pt x="706" y="2288"/>
                        </a:lnTo>
                        <a:lnTo>
                          <a:pt x="628" y="2346"/>
                        </a:lnTo>
                        <a:lnTo>
                          <a:pt x="548" y="2406"/>
                        </a:lnTo>
                        <a:lnTo>
                          <a:pt x="470" y="2472"/>
                        </a:lnTo>
                        <a:lnTo>
                          <a:pt x="396" y="2536"/>
                        </a:lnTo>
                        <a:lnTo>
                          <a:pt x="326" y="2600"/>
                        </a:lnTo>
                        <a:lnTo>
                          <a:pt x="206" y="2712"/>
                        </a:lnTo>
                        <a:lnTo>
                          <a:pt x="122" y="2790"/>
                        </a:lnTo>
                        <a:lnTo>
                          <a:pt x="98" y="2810"/>
                        </a:lnTo>
                        <a:lnTo>
                          <a:pt x="90" y="2816"/>
                        </a:lnTo>
                        <a:lnTo>
                          <a:pt x="88" y="2816"/>
                        </a:lnTo>
                        <a:lnTo>
                          <a:pt x="66" y="2798"/>
                        </a:lnTo>
                        <a:lnTo>
                          <a:pt x="50" y="2778"/>
                        </a:lnTo>
                        <a:lnTo>
                          <a:pt x="34" y="2758"/>
                        </a:lnTo>
                        <a:lnTo>
                          <a:pt x="22" y="2738"/>
                        </a:lnTo>
                        <a:lnTo>
                          <a:pt x="14" y="2718"/>
                        </a:lnTo>
                        <a:lnTo>
                          <a:pt x="6" y="2698"/>
                        </a:lnTo>
                        <a:lnTo>
                          <a:pt x="2" y="2676"/>
                        </a:lnTo>
                        <a:lnTo>
                          <a:pt x="0" y="2656"/>
                        </a:lnTo>
                        <a:lnTo>
                          <a:pt x="2" y="2634"/>
                        </a:lnTo>
                        <a:lnTo>
                          <a:pt x="6" y="2614"/>
                        </a:lnTo>
                        <a:lnTo>
                          <a:pt x="10" y="2592"/>
                        </a:lnTo>
                        <a:lnTo>
                          <a:pt x="18" y="2570"/>
                        </a:lnTo>
                        <a:lnTo>
                          <a:pt x="28" y="2550"/>
                        </a:lnTo>
                        <a:lnTo>
                          <a:pt x="40" y="2528"/>
                        </a:lnTo>
                        <a:lnTo>
                          <a:pt x="54" y="2506"/>
                        </a:lnTo>
                        <a:lnTo>
                          <a:pt x="70" y="2484"/>
                        </a:lnTo>
                        <a:lnTo>
                          <a:pt x="86" y="2462"/>
                        </a:lnTo>
                        <a:lnTo>
                          <a:pt x="106" y="2440"/>
                        </a:lnTo>
                        <a:lnTo>
                          <a:pt x="150" y="2396"/>
                        </a:lnTo>
                        <a:lnTo>
                          <a:pt x="198" y="2352"/>
                        </a:lnTo>
                        <a:lnTo>
                          <a:pt x="252" y="2308"/>
                        </a:lnTo>
                        <a:lnTo>
                          <a:pt x="310" y="2264"/>
                        </a:lnTo>
                        <a:lnTo>
                          <a:pt x="372" y="2222"/>
                        </a:lnTo>
                        <a:lnTo>
                          <a:pt x="438" y="2178"/>
                        </a:lnTo>
                        <a:lnTo>
                          <a:pt x="506" y="2136"/>
                        </a:lnTo>
                        <a:lnTo>
                          <a:pt x="576" y="2092"/>
                        </a:lnTo>
                        <a:lnTo>
                          <a:pt x="648" y="2052"/>
                        </a:lnTo>
                        <a:lnTo>
                          <a:pt x="792" y="1970"/>
                        </a:lnTo>
                        <a:lnTo>
                          <a:pt x="1066" y="1822"/>
                        </a:lnTo>
                        <a:lnTo>
                          <a:pt x="1186" y="1754"/>
                        </a:lnTo>
                        <a:lnTo>
                          <a:pt x="1240" y="1724"/>
                        </a:lnTo>
                        <a:lnTo>
                          <a:pt x="1288" y="1694"/>
                        </a:lnTo>
                        <a:lnTo>
                          <a:pt x="1332" y="1666"/>
                        </a:lnTo>
                        <a:lnTo>
                          <a:pt x="1368" y="1640"/>
                        </a:lnTo>
                        <a:lnTo>
                          <a:pt x="1396" y="1618"/>
                        </a:lnTo>
                        <a:lnTo>
                          <a:pt x="1418" y="1596"/>
                        </a:lnTo>
                        <a:lnTo>
                          <a:pt x="1462" y="1538"/>
                        </a:lnTo>
                        <a:lnTo>
                          <a:pt x="1506" y="1478"/>
                        </a:lnTo>
                        <a:lnTo>
                          <a:pt x="1548" y="1416"/>
                        </a:lnTo>
                        <a:lnTo>
                          <a:pt x="1588" y="1354"/>
                        </a:lnTo>
                        <a:lnTo>
                          <a:pt x="1626" y="1290"/>
                        </a:lnTo>
                        <a:lnTo>
                          <a:pt x="1662" y="1226"/>
                        </a:lnTo>
                        <a:lnTo>
                          <a:pt x="1734" y="1096"/>
                        </a:lnTo>
                        <a:lnTo>
                          <a:pt x="1804" y="966"/>
                        </a:lnTo>
                        <a:lnTo>
                          <a:pt x="1874" y="838"/>
                        </a:lnTo>
                        <a:lnTo>
                          <a:pt x="1912" y="776"/>
                        </a:lnTo>
                        <a:lnTo>
                          <a:pt x="1948" y="714"/>
                        </a:lnTo>
                        <a:lnTo>
                          <a:pt x="1988" y="652"/>
                        </a:lnTo>
                        <a:lnTo>
                          <a:pt x="2028" y="592"/>
                        </a:lnTo>
                        <a:lnTo>
                          <a:pt x="2070" y="534"/>
                        </a:lnTo>
                        <a:lnTo>
                          <a:pt x="2116" y="478"/>
                        </a:lnTo>
                        <a:lnTo>
                          <a:pt x="2162" y="424"/>
                        </a:lnTo>
                        <a:lnTo>
                          <a:pt x="2212" y="372"/>
                        </a:lnTo>
                        <a:lnTo>
                          <a:pt x="2264" y="322"/>
                        </a:lnTo>
                        <a:lnTo>
                          <a:pt x="2320" y="276"/>
                        </a:lnTo>
                        <a:lnTo>
                          <a:pt x="2380" y="232"/>
                        </a:lnTo>
                        <a:lnTo>
                          <a:pt x="2412" y="212"/>
                        </a:lnTo>
                        <a:lnTo>
                          <a:pt x="2444" y="192"/>
                        </a:lnTo>
                        <a:lnTo>
                          <a:pt x="2478" y="172"/>
                        </a:lnTo>
                        <a:lnTo>
                          <a:pt x="2512" y="154"/>
                        </a:lnTo>
                        <a:lnTo>
                          <a:pt x="2548" y="136"/>
                        </a:lnTo>
                        <a:lnTo>
                          <a:pt x="2584" y="120"/>
                        </a:lnTo>
                        <a:lnTo>
                          <a:pt x="2622" y="104"/>
                        </a:lnTo>
                        <a:lnTo>
                          <a:pt x="2662" y="90"/>
                        </a:lnTo>
                        <a:lnTo>
                          <a:pt x="2702" y="76"/>
                        </a:lnTo>
                        <a:lnTo>
                          <a:pt x="2742" y="64"/>
                        </a:lnTo>
                        <a:lnTo>
                          <a:pt x="2786" y="52"/>
                        </a:lnTo>
                        <a:lnTo>
                          <a:pt x="2830" y="42"/>
                        </a:lnTo>
                        <a:lnTo>
                          <a:pt x="2876" y="32"/>
                        </a:lnTo>
                        <a:lnTo>
                          <a:pt x="2922" y="24"/>
                        </a:lnTo>
                        <a:lnTo>
                          <a:pt x="2972" y="16"/>
                        </a:lnTo>
                        <a:lnTo>
                          <a:pt x="3022" y="10"/>
                        </a:lnTo>
                        <a:lnTo>
                          <a:pt x="3074" y="6"/>
                        </a:lnTo>
                        <a:lnTo>
                          <a:pt x="3126" y="2"/>
                        </a:lnTo>
                        <a:lnTo>
                          <a:pt x="3180" y="0"/>
                        </a:lnTo>
                        <a:lnTo>
                          <a:pt x="3234" y="0"/>
                        </a:lnTo>
                        <a:lnTo>
                          <a:pt x="3288" y="2"/>
                        </a:lnTo>
                        <a:lnTo>
                          <a:pt x="3340" y="4"/>
                        </a:lnTo>
                        <a:lnTo>
                          <a:pt x="3394" y="10"/>
                        </a:lnTo>
                        <a:lnTo>
                          <a:pt x="3446" y="18"/>
                        </a:lnTo>
                        <a:lnTo>
                          <a:pt x="3500" y="26"/>
                        </a:lnTo>
                        <a:lnTo>
                          <a:pt x="3552" y="36"/>
                        </a:lnTo>
                        <a:lnTo>
                          <a:pt x="3604" y="48"/>
                        </a:lnTo>
                        <a:lnTo>
                          <a:pt x="3654" y="60"/>
                        </a:lnTo>
                        <a:lnTo>
                          <a:pt x="3706" y="74"/>
                        </a:lnTo>
                        <a:lnTo>
                          <a:pt x="3758" y="90"/>
                        </a:lnTo>
                        <a:lnTo>
                          <a:pt x="3808" y="108"/>
                        </a:lnTo>
                        <a:lnTo>
                          <a:pt x="3858" y="126"/>
                        </a:lnTo>
                        <a:lnTo>
                          <a:pt x="3956" y="166"/>
                        </a:lnTo>
                        <a:lnTo>
                          <a:pt x="4054" y="210"/>
                        </a:lnTo>
                        <a:lnTo>
                          <a:pt x="4148" y="256"/>
                        </a:lnTo>
                        <a:lnTo>
                          <a:pt x="4240" y="306"/>
                        </a:lnTo>
                        <a:lnTo>
                          <a:pt x="4330" y="360"/>
                        </a:lnTo>
                        <a:lnTo>
                          <a:pt x="4418" y="414"/>
                        </a:lnTo>
                        <a:lnTo>
                          <a:pt x="4502" y="472"/>
                        </a:lnTo>
                        <a:lnTo>
                          <a:pt x="4582" y="530"/>
                        </a:lnTo>
                        <a:lnTo>
                          <a:pt x="4660" y="588"/>
                        </a:lnTo>
                        <a:lnTo>
                          <a:pt x="4736" y="646"/>
                        </a:lnTo>
                        <a:lnTo>
                          <a:pt x="4806" y="706"/>
                        </a:lnTo>
                        <a:lnTo>
                          <a:pt x="4874" y="762"/>
                        </a:lnTo>
                        <a:lnTo>
                          <a:pt x="4938" y="820"/>
                        </a:lnTo>
                        <a:lnTo>
                          <a:pt x="4998" y="874"/>
                        </a:lnTo>
                        <a:lnTo>
                          <a:pt x="5052" y="926"/>
                        </a:lnTo>
                        <a:lnTo>
                          <a:pt x="5150" y="1022"/>
                        </a:lnTo>
                        <a:lnTo>
                          <a:pt x="5228" y="1104"/>
                        </a:lnTo>
                        <a:lnTo>
                          <a:pt x="5284" y="1166"/>
                        </a:lnTo>
                        <a:lnTo>
                          <a:pt x="5332" y="122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6d2a"/>
                      </a:gs>
                      <a:gs pos="100000">
                        <a:srgbClr val="00bd4f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Freeform 7"/>
                  <p:cNvSpPr/>
                  <p:nvPr/>
                </p:nvSpPr>
                <p:spPr>
                  <a:xfrm rot="778800">
                    <a:off x="8547480" y="2897280"/>
                    <a:ext cx="447480" cy="131040"/>
                  </a:xfrm>
                  <a:custGeom>
                    <a:avLst/>
                    <a:gdLst>
                      <a:gd name="textAreaLeft" fmla="*/ 0 w 447480"/>
                      <a:gd name="textAreaRight" fmla="*/ 447840 w 447480"/>
                      <a:gd name="textAreaTop" fmla="*/ 0 h 131040"/>
                      <a:gd name="textAreaBottom" fmla="*/ 131040 h 131040"/>
                    </a:gdLst>
                    <a:ahLst/>
                    <a:rect l="textAreaLeft" t="textAreaTop" r="textAreaRight" b="textAreaBottom"/>
                    <a:pathLst>
                      <a:path w="7034" h="2792">
                        <a:moveTo>
                          <a:pt x="2336" y="1722"/>
                        </a:moveTo>
                        <a:lnTo>
                          <a:pt x="2336" y="1722"/>
                        </a:lnTo>
                        <a:lnTo>
                          <a:pt x="2382" y="1714"/>
                        </a:lnTo>
                        <a:lnTo>
                          <a:pt x="2432" y="1708"/>
                        </a:lnTo>
                        <a:lnTo>
                          <a:pt x="2484" y="1704"/>
                        </a:lnTo>
                        <a:lnTo>
                          <a:pt x="2542" y="1702"/>
                        </a:lnTo>
                        <a:lnTo>
                          <a:pt x="2602" y="1700"/>
                        </a:lnTo>
                        <a:lnTo>
                          <a:pt x="2666" y="1702"/>
                        </a:lnTo>
                        <a:lnTo>
                          <a:pt x="2734" y="1704"/>
                        </a:lnTo>
                        <a:lnTo>
                          <a:pt x="2804" y="1708"/>
                        </a:lnTo>
                        <a:lnTo>
                          <a:pt x="2878" y="1714"/>
                        </a:lnTo>
                        <a:lnTo>
                          <a:pt x="2954" y="1722"/>
                        </a:lnTo>
                        <a:lnTo>
                          <a:pt x="3114" y="1740"/>
                        </a:lnTo>
                        <a:lnTo>
                          <a:pt x="3284" y="1764"/>
                        </a:lnTo>
                        <a:lnTo>
                          <a:pt x="3462" y="1794"/>
                        </a:lnTo>
                        <a:lnTo>
                          <a:pt x="3646" y="1826"/>
                        </a:lnTo>
                        <a:lnTo>
                          <a:pt x="3836" y="1862"/>
                        </a:lnTo>
                        <a:lnTo>
                          <a:pt x="4032" y="1902"/>
                        </a:lnTo>
                        <a:lnTo>
                          <a:pt x="4230" y="1946"/>
                        </a:lnTo>
                        <a:lnTo>
                          <a:pt x="4430" y="1992"/>
                        </a:lnTo>
                        <a:lnTo>
                          <a:pt x="4632" y="2038"/>
                        </a:lnTo>
                        <a:lnTo>
                          <a:pt x="4834" y="2088"/>
                        </a:lnTo>
                        <a:lnTo>
                          <a:pt x="5032" y="2138"/>
                        </a:lnTo>
                        <a:lnTo>
                          <a:pt x="5422" y="2238"/>
                        </a:lnTo>
                        <a:lnTo>
                          <a:pt x="5792" y="2338"/>
                        </a:lnTo>
                        <a:lnTo>
                          <a:pt x="6132" y="2432"/>
                        </a:lnTo>
                        <a:lnTo>
                          <a:pt x="6430" y="2518"/>
                        </a:lnTo>
                        <a:lnTo>
                          <a:pt x="6680" y="2590"/>
                        </a:lnTo>
                        <a:lnTo>
                          <a:pt x="6870" y="2648"/>
                        </a:lnTo>
                        <a:lnTo>
                          <a:pt x="7034" y="2696"/>
                        </a:lnTo>
                        <a:lnTo>
                          <a:pt x="6918" y="2616"/>
                        </a:lnTo>
                        <a:lnTo>
                          <a:pt x="6804" y="2538"/>
                        </a:lnTo>
                        <a:lnTo>
                          <a:pt x="6582" y="2390"/>
                        </a:lnTo>
                        <a:lnTo>
                          <a:pt x="6474" y="2316"/>
                        </a:lnTo>
                        <a:lnTo>
                          <a:pt x="6368" y="2242"/>
                        </a:lnTo>
                        <a:lnTo>
                          <a:pt x="6262" y="2168"/>
                        </a:lnTo>
                        <a:lnTo>
                          <a:pt x="6158" y="2088"/>
                        </a:lnTo>
                        <a:lnTo>
                          <a:pt x="6054" y="2006"/>
                        </a:lnTo>
                        <a:lnTo>
                          <a:pt x="5952" y="1918"/>
                        </a:lnTo>
                        <a:lnTo>
                          <a:pt x="5900" y="1872"/>
                        </a:lnTo>
                        <a:lnTo>
                          <a:pt x="5848" y="1824"/>
                        </a:lnTo>
                        <a:lnTo>
                          <a:pt x="5798" y="1774"/>
                        </a:lnTo>
                        <a:lnTo>
                          <a:pt x="5746" y="1722"/>
                        </a:lnTo>
                        <a:lnTo>
                          <a:pt x="5694" y="1668"/>
                        </a:lnTo>
                        <a:lnTo>
                          <a:pt x="5642" y="1612"/>
                        </a:lnTo>
                        <a:lnTo>
                          <a:pt x="5592" y="1554"/>
                        </a:lnTo>
                        <a:lnTo>
                          <a:pt x="5540" y="1494"/>
                        </a:lnTo>
                        <a:lnTo>
                          <a:pt x="5488" y="1430"/>
                        </a:lnTo>
                        <a:lnTo>
                          <a:pt x="5436" y="1364"/>
                        </a:lnTo>
                        <a:lnTo>
                          <a:pt x="5384" y="1294"/>
                        </a:lnTo>
                        <a:lnTo>
                          <a:pt x="5330" y="1222"/>
                        </a:lnTo>
                        <a:lnTo>
                          <a:pt x="5282" y="1166"/>
                        </a:lnTo>
                        <a:lnTo>
                          <a:pt x="5226" y="1104"/>
                        </a:lnTo>
                        <a:lnTo>
                          <a:pt x="5148" y="1022"/>
                        </a:lnTo>
                        <a:lnTo>
                          <a:pt x="5050" y="926"/>
                        </a:lnTo>
                        <a:lnTo>
                          <a:pt x="4996" y="874"/>
                        </a:lnTo>
                        <a:lnTo>
                          <a:pt x="4936" y="820"/>
                        </a:lnTo>
                        <a:lnTo>
                          <a:pt x="4872" y="762"/>
                        </a:lnTo>
                        <a:lnTo>
                          <a:pt x="4804" y="706"/>
                        </a:lnTo>
                        <a:lnTo>
                          <a:pt x="4734" y="646"/>
                        </a:lnTo>
                        <a:lnTo>
                          <a:pt x="4658" y="588"/>
                        </a:lnTo>
                        <a:lnTo>
                          <a:pt x="4580" y="530"/>
                        </a:lnTo>
                        <a:lnTo>
                          <a:pt x="4500" y="472"/>
                        </a:lnTo>
                        <a:lnTo>
                          <a:pt x="4416" y="414"/>
                        </a:lnTo>
                        <a:lnTo>
                          <a:pt x="4328" y="360"/>
                        </a:lnTo>
                        <a:lnTo>
                          <a:pt x="4238" y="306"/>
                        </a:lnTo>
                        <a:lnTo>
                          <a:pt x="4146" y="256"/>
                        </a:lnTo>
                        <a:lnTo>
                          <a:pt x="4052" y="210"/>
                        </a:lnTo>
                        <a:lnTo>
                          <a:pt x="3954" y="166"/>
                        </a:lnTo>
                        <a:lnTo>
                          <a:pt x="3856" y="126"/>
                        </a:lnTo>
                        <a:lnTo>
                          <a:pt x="3806" y="108"/>
                        </a:lnTo>
                        <a:lnTo>
                          <a:pt x="3756" y="90"/>
                        </a:lnTo>
                        <a:lnTo>
                          <a:pt x="3704" y="74"/>
                        </a:lnTo>
                        <a:lnTo>
                          <a:pt x="3652" y="60"/>
                        </a:lnTo>
                        <a:lnTo>
                          <a:pt x="3602" y="48"/>
                        </a:lnTo>
                        <a:lnTo>
                          <a:pt x="3550" y="36"/>
                        </a:lnTo>
                        <a:lnTo>
                          <a:pt x="3498" y="26"/>
                        </a:lnTo>
                        <a:lnTo>
                          <a:pt x="3444" y="18"/>
                        </a:lnTo>
                        <a:lnTo>
                          <a:pt x="3392" y="10"/>
                        </a:lnTo>
                        <a:lnTo>
                          <a:pt x="3338" y="4"/>
                        </a:lnTo>
                        <a:lnTo>
                          <a:pt x="3286" y="2"/>
                        </a:lnTo>
                        <a:lnTo>
                          <a:pt x="3232" y="0"/>
                        </a:lnTo>
                        <a:lnTo>
                          <a:pt x="3178" y="0"/>
                        </a:lnTo>
                        <a:lnTo>
                          <a:pt x="3124" y="2"/>
                        </a:lnTo>
                        <a:lnTo>
                          <a:pt x="3072" y="6"/>
                        </a:lnTo>
                        <a:lnTo>
                          <a:pt x="3020" y="10"/>
                        </a:lnTo>
                        <a:lnTo>
                          <a:pt x="2970" y="16"/>
                        </a:lnTo>
                        <a:lnTo>
                          <a:pt x="2920" y="24"/>
                        </a:lnTo>
                        <a:lnTo>
                          <a:pt x="2874" y="32"/>
                        </a:lnTo>
                        <a:lnTo>
                          <a:pt x="2828" y="42"/>
                        </a:lnTo>
                        <a:lnTo>
                          <a:pt x="2784" y="52"/>
                        </a:lnTo>
                        <a:lnTo>
                          <a:pt x="2740" y="64"/>
                        </a:lnTo>
                        <a:lnTo>
                          <a:pt x="2700" y="76"/>
                        </a:lnTo>
                        <a:lnTo>
                          <a:pt x="2660" y="90"/>
                        </a:lnTo>
                        <a:lnTo>
                          <a:pt x="2620" y="104"/>
                        </a:lnTo>
                        <a:lnTo>
                          <a:pt x="2582" y="120"/>
                        </a:lnTo>
                        <a:lnTo>
                          <a:pt x="2546" y="136"/>
                        </a:lnTo>
                        <a:lnTo>
                          <a:pt x="2510" y="154"/>
                        </a:lnTo>
                        <a:lnTo>
                          <a:pt x="2476" y="172"/>
                        </a:lnTo>
                        <a:lnTo>
                          <a:pt x="2442" y="192"/>
                        </a:lnTo>
                        <a:lnTo>
                          <a:pt x="2410" y="212"/>
                        </a:lnTo>
                        <a:lnTo>
                          <a:pt x="2378" y="232"/>
                        </a:lnTo>
                        <a:lnTo>
                          <a:pt x="2318" y="276"/>
                        </a:lnTo>
                        <a:lnTo>
                          <a:pt x="2262" y="322"/>
                        </a:lnTo>
                        <a:lnTo>
                          <a:pt x="2210" y="372"/>
                        </a:lnTo>
                        <a:lnTo>
                          <a:pt x="2160" y="424"/>
                        </a:lnTo>
                        <a:lnTo>
                          <a:pt x="2114" y="478"/>
                        </a:lnTo>
                        <a:lnTo>
                          <a:pt x="2068" y="534"/>
                        </a:lnTo>
                        <a:lnTo>
                          <a:pt x="2026" y="592"/>
                        </a:lnTo>
                        <a:lnTo>
                          <a:pt x="1986" y="652"/>
                        </a:lnTo>
                        <a:lnTo>
                          <a:pt x="1946" y="714"/>
                        </a:lnTo>
                        <a:lnTo>
                          <a:pt x="1910" y="776"/>
                        </a:lnTo>
                        <a:lnTo>
                          <a:pt x="1872" y="838"/>
                        </a:lnTo>
                        <a:lnTo>
                          <a:pt x="1802" y="966"/>
                        </a:lnTo>
                        <a:lnTo>
                          <a:pt x="1732" y="1096"/>
                        </a:lnTo>
                        <a:lnTo>
                          <a:pt x="1660" y="1226"/>
                        </a:lnTo>
                        <a:lnTo>
                          <a:pt x="1624" y="1290"/>
                        </a:lnTo>
                        <a:lnTo>
                          <a:pt x="1586" y="1354"/>
                        </a:lnTo>
                        <a:lnTo>
                          <a:pt x="1546" y="1416"/>
                        </a:lnTo>
                        <a:lnTo>
                          <a:pt x="1504" y="1478"/>
                        </a:lnTo>
                        <a:lnTo>
                          <a:pt x="1460" y="1538"/>
                        </a:lnTo>
                        <a:lnTo>
                          <a:pt x="1416" y="1596"/>
                        </a:lnTo>
                        <a:lnTo>
                          <a:pt x="1394" y="1616"/>
                        </a:lnTo>
                        <a:lnTo>
                          <a:pt x="1366" y="1640"/>
                        </a:lnTo>
                        <a:lnTo>
                          <a:pt x="1332" y="1666"/>
                        </a:lnTo>
                        <a:lnTo>
                          <a:pt x="1290" y="1692"/>
                        </a:lnTo>
                        <a:lnTo>
                          <a:pt x="1244" y="1720"/>
                        </a:lnTo>
                        <a:lnTo>
                          <a:pt x="1192" y="1752"/>
                        </a:lnTo>
                        <a:lnTo>
                          <a:pt x="1074" y="1816"/>
                        </a:lnTo>
                        <a:lnTo>
                          <a:pt x="806" y="1962"/>
                        </a:lnTo>
                        <a:lnTo>
                          <a:pt x="666" y="2040"/>
                        </a:lnTo>
                        <a:lnTo>
                          <a:pt x="526" y="2122"/>
                        </a:lnTo>
                        <a:lnTo>
                          <a:pt x="458" y="2164"/>
                        </a:lnTo>
                        <a:lnTo>
                          <a:pt x="394" y="2206"/>
                        </a:lnTo>
                        <a:lnTo>
                          <a:pt x="330" y="2248"/>
                        </a:lnTo>
                        <a:lnTo>
                          <a:pt x="272" y="2292"/>
                        </a:lnTo>
                        <a:lnTo>
                          <a:pt x="218" y="2334"/>
                        </a:lnTo>
                        <a:lnTo>
                          <a:pt x="168" y="2378"/>
                        </a:lnTo>
                        <a:lnTo>
                          <a:pt x="122" y="2420"/>
                        </a:lnTo>
                        <a:lnTo>
                          <a:pt x="84" y="2464"/>
                        </a:lnTo>
                        <a:lnTo>
                          <a:pt x="66" y="2486"/>
                        </a:lnTo>
                        <a:lnTo>
                          <a:pt x="52" y="2506"/>
                        </a:lnTo>
                        <a:lnTo>
                          <a:pt x="38" y="2528"/>
                        </a:lnTo>
                        <a:lnTo>
                          <a:pt x="26" y="2550"/>
                        </a:lnTo>
                        <a:lnTo>
                          <a:pt x="16" y="2570"/>
                        </a:lnTo>
                        <a:lnTo>
                          <a:pt x="10" y="2592"/>
                        </a:lnTo>
                        <a:lnTo>
                          <a:pt x="4" y="2612"/>
                        </a:lnTo>
                        <a:lnTo>
                          <a:pt x="0" y="2632"/>
                        </a:lnTo>
                        <a:lnTo>
                          <a:pt x="0" y="2654"/>
                        </a:lnTo>
                        <a:lnTo>
                          <a:pt x="0" y="2674"/>
                        </a:lnTo>
                        <a:lnTo>
                          <a:pt x="4" y="2694"/>
                        </a:lnTo>
                        <a:lnTo>
                          <a:pt x="10" y="2714"/>
                        </a:lnTo>
                        <a:lnTo>
                          <a:pt x="18" y="2734"/>
                        </a:lnTo>
                        <a:lnTo>
                          <a:pt x="30" y="2754"/>
                        </a:lnTo>
                        <a:lnTo>
                          <a:pt x="44" y="2774"/>
                        </a:lnTo>
                        <a:lnTo>
                          <a:pt x="60" y="2792"/>
                        </a:lnTo>
                        <a:lnTo>
                          <a:pt x="80" y="2746"/>
                        </a:lnTo>
                        <a:lnTo>
                          <a:pt x="134" y="2670"/>
                        </a:lnTo>
                        <a:lnTo>
                          <a:pt x="188" y="2600"/>
                        </a:lnTo>
                        <a:lnTo>
                          <a:pt x="242" y="2532"/>
                        </a:lnTo>
                        <a:lnTo>
                          <a:pt x="300" y="2470"/>
                        </a:lnTo>
                        <a:lnTo>
                          <a:pt x="358" y="2412"/>
                        </a:lnTo>
                        <a:lnTo>
                          <a:pt x="416" y="2358"/>
                        </a:lnTo>
                        <a:lnTo>
                          <a:pt x="476" y="2308"/>
                        </a:lnTo>
                        <a:lnTo>
                          <a:pt x="538" y="2262"/>
                        </a:lnTo>
                        <a:lnTo>
                          <a:pt x="600" y="2218"/>
                        </a:lnTo>
                        <a:lnTo>
                          <a:pt x="664" y="2178"/>
                        </a:lnTo>
                        <a:lnTo>
                          <a:pt x="730" y="2142"/>
                        </a:lnTo>
                        <a:lnTo>
                          <a:pt x="796" y="2106"/>
                        </a:lnTo>
                        <a:lnTo>
                          <a:pt x="862" y="2076"/>
                        </a:lnTo>
                        <a:lnTo>
                          <a:pt x="930" y="2046"/>
                        </a:lnTo>
                        <a:lnTo>
                          <a:pt x="1000" y="2018"/>
                        </a:lnTo>
                        <a:lnTo>
                          <a:pt x="1070" y="1994"/>
                        </a:lnTo>
                        <a:lnTo>
                          <a:pt x="1142" y="1970"/>
                        </a:lnTo>
                        <a:lnTo>
                          <a:pt x="1214" y="1950"/>
                        </a:lnTo>
                        <a:lnTo>
                          <a:pt x="1288" y="1930"/>
                        </a:lnTo>
                        <a:lnTo>
                          <a:pt x="1362" y="1910"/>
                        </a:lnTo>
                        <a:lnTo>
                          <a:pt x="1438" y="1894"/>
                        </a:lnTo>
                        <a:lnTo>
                          <a:pt x="1514" y="1876"/>
                        </a:lnTo>
                        <a:lnTo>
                          <a:pt x="1670" y="1846"/>
                        </a:lnTo>
                        <a:lnTo>
                          <a:pt x="1832" y="1816"/>
                        </a:lnTo>
                        <a:lnTo>
                          <a:pt x="1996" y="1786"/>
                        </a:lnTo>
                        <a:lnTo>
                          <a:pt x="2164" y="1756"/>
                        </a:lnTo>
                        <a:lnTo>
                          <a:pt x="2336" y="172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2d050"/>
                      </a:gs>
                      <a:gs pos="100000">
                        <a:srgbClr val="00bd4f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" name="Freeform 20"/>
                <p:cNvSpPr/>
                <p:nvPr/>
              </p:nvSpPr>
              <p:spPr>
                <a:xfrm rot="778800">
                  <a:off x="8540640" y="2973240"/>
                  <a:ext cx="444240" cy="48960"/>
                </a:xfrm>
                <a:custGeom>
                  <a:avLst/>
                  <a:gdLst>
                    <a:gd name="textAreaLeft" fmla="*/ 0 w 444240"/>
                    <a:gd name="textAreaRight" fmla="*/ 444600 w 44424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6888" h="1108">
                      <a:moveTo>
                        <a:pt x="2292" y="112"/>
                      </a:moveTo>
                      <a:lnTo>
                        <a:pt x="2292" y="112"/>
                      </a:lnTo>
                      <a:lnTo>
                        <a:pt x="2332" y="108"/>
                      </a:lnTo>
                      <a:lnTo>
                        <a:pt x="2376" y="106"/>
                      </a:lnTo>
                      <a:lnTo>
                        <a:pt x="2422" y="104"/>
                      </a:lnTo>
                      <a:lnTo>
                        <a:pt x="2472" y="104"/>
                      </a:lnTo>
                      <a:lnTo>
                        <a:pt x="2578" y="106"/>
                      </a:lnTo>
                      <a:lnTo>
                        <a:pt x="2694" y="114"/>
                      </a:lnTo>
                      <a:lnTo>
                        <a:pt x="2820" y="126"/>
                      </a:lnTo>
                      <a:lnTo>
                        <a:pt x="2956" y="142"/>
                      </a:lnTo>
                      <a:lnTo>
                        <a:pt x="3098" y="160"/>
                      </a:lnTo>
                      <a:lnTo>
                        <a:pt x="3246" y="184"/>
                      </a:lnTo>
                      <a:lnTo>
                        <a:pt x="3402" y="210"/>
                      </a:lnTo>
                      <a:lnTo>
                        <a:pt x="3564" y="238"/>
                      </a:lnTo>
                      <a:lnTo>
                        <a:pt x="3728" y="270"/>
                      </a:lnTo>
                      <a:lnTo>
                        <a:pt x="3898" y="302"/>
                      </a:lnTo>
                      <a:lnTo>
                        <a:pt x="4070" y="338"/>
                      </a:lnTo>
                      <a:lnTo>
                        <a:pt x="4244" y="376"/>
                      </a:lnTo>
                      <a:lnTo>
                        <a:pt x="4594" y="454"/>
                      </a:lnTo>
                      <a:lnTo>
                        <a:pt x="4944" y="536"/>
                      </a:lnTo>
                      <a:lnTo>
                        <a:pt x="5288" y="622"/>
                      </a:lnTo>
                      <a:lnTo>
                        <a:pt x="5616" y="704"/>
                      </a:lnTo>
                      <a:lnTo>
                        <a:pt x="5924" y="786"/>
                      </a:lnTo>
                      <a:lnTo>
                        <a:pt x="6206" y="862"/>
                      </a:lnTo>
                      <a:lnTo>
                        <a:pt x="6454" y="930"/>
                      </a:lnTo>
                      <a:lnTo>
                        <a:pt x="6664" y="990"/>
                      </a:lnTo>
                      <a:lnTo>
                        <a:pt x="6826" y="1038"/>
                      </a:lnTo>
                      <a:lnTo>
                        <a:pt x="6888" y="1016"/>
                      </a:lnTo>
                      <a:lnTo>
                        <a:pt x="6744" y="918"/>
                      </a:lnTo>
                      <a:lnTo>
                        <a:pt x="6566" y="866"/>
                      </a:lnTo>
                      <a:lnTo>
                        <a:pt x="6346" y="802"/>
                      </a:lnTo>
                      <a:lnTo>
                        <a:pt x="6092" y="732"/>
                      </a:lnTo>
                      <a:lnTo>
                        <a:pt x="5808" y="656"/>
                      </a:lnTo>
                      <a:lnTo>
                        <a:pt x="5500" y="574"/>
                      </a:lnTo>
                      <a:lnTo>
                        <a:pt x="5176" y="492"/>
                      </a:lnTo>
                      <a:lnTo>
                        <a:pt x="4840" y="410"/>
                      </a:lnTo>
                      <a:lnTo>
                        <a:pt x="4498" y="328"/>
                      </a:lnTo>
                      <a:lnTo>
                        <a:pt x="4156" y="252"/>
                      </a:lnTo>
                      <a:lnTo>
                        <a:pt x="3988" y="216"/>
                      </a:lnTo>
                      <a:lnTo>
                        <a:pt x="3822" y="182"/>
                      </a:lnTo>
                      <a:lnTo>
                        <a:pt x="3658" y="150"/>
                      </a:lnTo>
                      <a:lnTo>
                        <a:pt x="3498" y="122"/>
                      </a:lnTo>
                      <a:lnTo>
                        <a:pt x="3344" y="94"/>
                      </a:lnTo>
                      <a:lnTo>
                        <a:pt x="3194" y="70"/>
                      </a:lnTo>
                      <a:lnTo>
                        <a:pt x="3050" y="50"/>
                      </a:lnTo>
                      <a:lnTo>
                        <a:pt x="2914" y="32"/>
                      </a:lnTo>
                      <a:lnTo>
                        <a:pt x="2784" y="18"/>
                      </a:lnTo>
                      <a:lnTo>
                        <a:pt x="2662" y="8"/>
                      </a:lnTo>
                      <a:lnTo>
                        <a:pt x="2550" y="2"/>
                      </a:lnTo>
                      <a:lnTo>
                        <a:pt x="2448" y="0"/>
                      </a:lnTo>
                      <a:lnTo>
                        <a:pt x="2402" y="2"/>
                      </a:lnTo>
                      <a:lnTo>
                        <a:pt x="2356" y="4"/>
                      </a:lnTo>
                      <a:lnTo>
                        <a:pt x="2314" y="8"/>
                      </a:lnTo>
                      <a:lnTo>
                        <a:pt x="2276" y="12"/>
                      </a:lnTo>
                      <a:lnTo>
                        <a:pt x="1938" y="60"/>
                      </a:lnTo>
                      <a:lnTo>
                        <a:pt x="1774" y="86"/>
                      </a:lnTo>
                      <a:lnTo>
                        <a:pt x="1614" y="112"/>
                      </a:lnTo>
                      <a:lnTo>
                        <a:pt x="1458" y="142"/>
                      </a:lnTo>
                      <a:lnTo>
                        <a:pt x="1382" y="158"/>
                      </a:lnTo>
                      <a:lnTo>
                        <a:pt x="1306" y="176"/>
                      </a:lnTo>
                      <a:lnTo>
                        <a:pt x="1232" y="194"/>
                      </a:lnTo>
                      <a:lnTo>
                        <a:pt x="1158" y="216"/>
                      </a:lnTo>
                      <a:lnTo>
                        <a:pt x="1086" y="238"/>
                      </a:lnTo>
                      <a:lnTo>
                        <a:pt x="1014" y="262"/>
                      </a:lnTo>
                      <a:lnTo>
                        <a:pt x="942" y="288"/>
                      </a:lnTo>
                      <a:lnTo>
                        <a:pt x="874" y="318"/>
                      </a:lnTo>
                      <a:lnTo>
                        <a:pt x="804" y="348"/>
                      </a:lnTo>
                      <a:lnTo>
                        <a:pt x="738" y="382"/>
                      </a:lnTo>
                      <a:lnTo>
                        <a:pt x="672" y="418"/>
                      </a:lnTo>
                      <a:lnTo>
                        <a:pt x="606" y="458"/>
                      </a:lnTo>
                      <a:lnTo>
                        <a:pt x="542" y="500"/>
                      </a:lnTo>
                      <a:lnTo>
                        <a:pt x="480" y="544"/>
                      </a:lnTo>
                      <a:lnTo>
                        <a:pt x="418" y="592"/>
                      </a:lnTo>
                      <a:lnTo>
                        <a:pt x="358" y="644"/>
                      </a:lnTo>
                      <a:lnTo>
                        <a:pt x="298" y="700"/>
                      </a:lnTo>
                      <a:lnTo>
                        <a:pt x="240" y="758"/>
                      </a:lnTo>
                      <a:lnTo>
                        <a:pt x="184" y="822"/>
                      </a:lnTo>
                      <a:lnTo>
                        <a:pt x="128" y="890"/>
                      </a:lnTo>
                      <a:lnTo>
                        <a:pt x="74" y="960"/>
                      </a:lnTo>
                      <a:lnTo>
                        <a:pt x="20" y="1036"/>
                      </a:lnTo>
                      <a:lnTo>
                        <a:pt x="0" y="1084"/>
                      </a:lnTo>
                      <a:lnTo>
                        <a:pt x="26" y="1108"/>
                      </a:lnTo>
                      <a:lnTo>
                        <a:pt x="28" y="1106"/>
                      </a:lnTo>
                      <a:lnTo>
                        <a:pt x="32" y="1104"/>
                      </a:lnTo>
                      <a:lnTo>
                        <a:pt x="50" y="1090"/>
                      </a:lnTo>
                      <a:lnTo>
                        <a:pt x="108" y="1034"/>
                      </a:lnTo>
                      <a:lnTo>
                        <a:pt x="160" y="968"/>
                      </a:lnTo>
                      <a:lnTo>
                        <a:pt x="214" y="906"/>
                      </a:lnTo>
                      <a:lnTo>
                        <a:pt x="268" y="846"/>
                      </a:lnTo>
                      <a:lnTo>
                        <a:pt x="324" y="790"/>
                      </a:lnTo>
                      <a:lnTo>
                        <a:pt x="380" y="738"/>
                      </a:lnTo>
                      <a:lnTo>
                        <a:pt x="438" y="688"/>
                      </a:lnTo>
                      <a:lnTo>
                        <a:pt x="496" y="640"/>
                      </a:lnTo>
                      <a:lnTo>
                        <a:pt x="556" y="598"/>
                      </a:lnTo>
                      <a:lnTo>
                        <a:pt x="616" y="556"/>
                      </a:lnTo>
                      <a:lnTo>
                        <a:pt x="678" y="518"/>
                      </a:lnTo>
                      <a:lnTo>
                        <a:pt x="740" y="482"/>
                      </a:lnTo>
                      <a:lnTo>
                        <a:pt x="804" y="450"/>
                      </a:lnTo>
                      <a:lnTo>
                        <a:pt x="870" y="420"/>
                      </a:lnTo>
                      <a:lnTo>
                        <a:pt x="934" y="390"/>
                      </a:lnTo>
                      <a:lnTo>
                        <a:pt x="1002" y="364"/>
                      </a:lnTo>
                      <a:lnTo>
                        <a:pt x="1070" y="340"/>
                      </a:lnTo>
                      <a:lnTo>
                        <a:pt x="1138" y="316"/>
                      </a:lnTo>
                      <a:lnTo>
                        <a:pt x="1208" y="296"/>
                      </a:lnTo>
                      <a:lnTo>
                        <a:pt x="1278" y="276"/>
                      </a:lnTo>
                      <a:lnTo>
                        <a:pt x="1350" y="258"/>
                      </a:lnTo>
                      <a:lnTo>
                        <a:pt x="1424" y="242"/>
                      </a:lnTo>
                      <a:lnTo>
                        <a:pt x="1498" y="226"/>
                      </a:lnTo>
                      <a:lnTo>
                        <a:pt x="1648" y="198"/>
                      </a:lnTo>
                      <a:lnTo>
                        <a:pt x="1804" y="174"/>
                      </a:lnTo>
                      <a:lnTo>
                        <a:pt x="1962" y="152"/>
                      </a:lnTo>
                      <a:lnTo>
                        <a:pt x="2126" y="132"/>
                      </a:lnTo>
                      <a:lnTo>
                        <a:pt x="2292" y="11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d2a"/>
                    </a:gs>
                    <a:gs pos="100000">
                      <a:srgbClr val="007432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" name="Gruppe 10"/>
            <p:cNvGrpSpPr/>
            <p:nvPr/>
          </p:nvGrpSpPr>
          <p:grpSpPr>
            <a:xfrm>
              <a:off x="8405640" y="2435400"/>
              <a:ext cx="374400" cy="425880"/>
              <a:chOff x="8405640" y="2435400"/>
              <a:chExt cx="374400" cy="425880"/>
            </a:xfrm>
          </p:grpSpPr>
          <p:grpSp>
            <p:nvGrpSpPr>
              <p:cNvPr id="84" name="Gruppe 16"/>
              <p:cNvGrpSpPr/>
              <p:nvPr/>
            </p:nvGrpSpPr>
            <p:grpSpPr>
              <a:xfrm>
                <a:off x="8405640" y="2435400"/>
                <a:ext cx="374400" cy="425880"/>
                <a:chOff x="8405640" y="2435400"/>
                <a:chExt cx="374400" cy="425880"/>
              </a:xfrm>
            </p:grpSpPr>
            <p:sp>
              <p:nvSpPr>
                <p:cNvPr id="85" name="Freeform 6"/>
                <p:cNvSpPr/>
                <p:nvPr/>
              </p:nvSpPr>
              <p:spPr>
                <a:xfrm rot="18087600">
                  <a:off x="8411040" y="2541600"/>
                  <a:ext cx="363600" cy="216000"/>
                </a:xfrm>
                <a:custGeom>
                  <a:avLst/>
                  <a:gdLst>
                    <a:gd name="textAreaLeft" fmla="*/ 0 w 363600"/>
                    <a:gd name="textAreaRight" fmla="*/ 363960 w 363600"/>
                    <a:gd name="textAreaTop" fmla="*/ 0 h 216000"/>
                    <a:gd name="textAreaBottom" fmla="*/ 216360 h 216000"/>
                  </a:gdLst>
                  <a:ahLst/>
                  <a:rect l="textAreaLeft" t="textAreaTop" r="textAreaRight" b="textAreaBottom"/>
                  <a:pathLst>
                    <a:path w="7036" h="3760">
                      <a:moveTo>
                        <a:pt x="5332" y="1222"/>
                      </a:moveTo>
                      <a:lnTo>
                        <a:pt x="5332" y="1222"/>
                      </a:lnTo>
                      <a:lnTo>
                        <a:pt x="5386" y="1294"/>
                      </a:lnTo>
                      <a:lnTo>
                        <a:pt x="5438" y="1364"/>
                      </a:lnTo>
                      <a:lnTo>
                        <a:pt x="5490" y="1430"/>
                      </a:lnTo>
                      <a:lnTo>
                        <a:pt x="5542" y="1494"/>
                      </a:lnTo>
                      <a:lnTo>
                        <a:pt x="5594" y="1554"/>
                      </a:lnTo>
                      <a:lnTo>
                        <a:pt x="5644" y="1612"/>
                      </a:lnTo>
                      <a:lnTo>
                        <a:pt x="5696" y="1668"/>
                      </a:lnTo>
                      <a:lnTo>
                        <a:pt x="5748" y="1722"/>
                      </a:lnTo>
                      <a:lnTo>
                        <a:pt x="5800" y="1774"/>
                      </a:lnTo>
                      <a:lnTo>
                        <a:pt x="5850" y="1824"/>
                      </a:lnTo>
                      <a:lnTo>
                        <a:pt x="5902" y="1872"/>
                      </a:lnTo>
                      <a:lnTo>
                        <a:pt x="5954" y="1918"/>
                      </a:lnTo>
                      <a:lnTo>
                        <a:pt x="6056" y="2006"/>
                      </a:lnTo>
                      <a:lnTo>
                        <a:pt x="6160" y="2088"/>
                      </a:lnTo>
                      <a:lnTo>
                        <a:pt x="6264" y="2168"/>
                      </a:lnTo>
                      <a:lnTo>
                        <a:pt x="6370" y="2242"/>
                      </a:lnTo>
                      <a:lnTo>
                        <a:pt x="6476" y="2316"/>
                      </a:lnTo>
                      <a:lnTo>
                        <a:pt x="6584" y="2390"/>
                      </a:lnTo>
                      <a:lnTo>
                        <a:pt x="6806" y="2538"/>
                      </a:lnTo>
                      <a:lnTo>
                        <a:pt x="6920" y="2616"/>
                      </a:lnTo>
                      <a:lnTo>
                        <a:pt x="7036" y="2696"/>
                      </a:lnTo>
                      <a:lnTo>
                        <a:pt x="6882" y="2748"/>
                      </a:lnTo>
                      <a:lnTo>
                        <a:pt x="6700" y="2808"/>
                      </a:lnTo>
                      <a:lnTo>
                        <a:pt x="6272" y="2944"/>
                      </a:lnTo>
                      <a:lnTo>
                        <a:pt x="5784" y="3094"/>
                      </a:lnTo>
                      <a:lnTo>
                        <a:pt x="5266" y="3250"/>
                      </a:lnTo>
                      <a:lnTo>
                        <a:pt x="4752" y="3400"/>
                      </a:lnTo>
                      <a:lnTo>
                        <a:pt x="4272" y="3538"/>
                      </a:lnTo>
                      <a:lnTo>
                        <a:pt x="4056" y="3600"/>
                      </a:lnTo>
                      <a:lnTo>
                        <a:pt x="3860" y="3652"/>
                      </a:lnTo>
                      <a:lnTo>
                        <a:pt x="3690" y="3698"/>
                      </a:lnTo>
                      <a:lnTo>
                        <a:pt x="3546" y="3734"/>
                      </a:lnTo>
                      <a:lnTo>
                        <a:pt x="3502" y="3740"/>
                      </a:lnTo>
                      <a:lnTo>
                        <a:pt x="3434" y="3746"/>
                      </a:lnTo>
                      <a:lnTo>
                        <a:pt x="3346" y="3752"/>
                      </a:lnTo>
                      <a:lnTo>
                        <a:pt x="3242" y="3756"/>
                      </a:lnTo>
                      <a:lnTo>
                        <a:pt x="3122" y="3760"/>
                      </a:lnTo>
                      <a:lnTo>
                        <a:pt x="2992" y="3758"/>
                      </a:lnTo>
                      <a:lnTo>
                        <a:pt x="2854" y="3754"/>
                      </a:lnTo>
                      <a:lnTo>
                        <a:pt x="2782" y="3750"/>
                      </a:lnTo>
                      <a:lnTo>
                        <a:pt x="2710" y="3744"/>
                      </a:lnTo>
                      <a:lnTo>
                        <a:pt x="2638" y="3736"/>
                      </a:lnTo>
                      <a:lnTo>
                        <a:pt x="2564" y="3728"/>
                      </a:lnTo>
                      <a:lnTo>
                        <a:pt x="2492" y="3716"/>
                      </a:lnTo>
                      <a:lnTo>
                        <a:pt x="2420" y="3704"/>
                      </a:lnTo>
                      <a:lnTo>
                        <a:pt x="2348" y="3690"/>
                      </a:lnTo>
                      <a:lnTo>
                        <a:pt x="2278" y="3672"/>
                      </a:lnTo>
                      <a:lnTo>
                        <a:pt x="2210" y="3654"/>
                      </a:lnTo>
                      <a:lnTo>
                        <a:pt x="2144" y="3632"/>
                      </a:lnTo>
                      <a:lnTo>
                        <a:pt x="2080" y="3608"/>
                      </a:lnTo>
                      <a:lnTo>
                        <a:pt x="2018" y="3580"/>
                      </a:lnTo>
                      <a:lnTo>
                        <a:pt x="1960" y="3550"/>
                      </a:lnTo>
                      <a:lnTo>
                        <a:pt x="1906" y="3518"/>
                      </a:lnTo>
                      <a:lnTo>
                        <a:pt x="1880" y="3500"/>
                      </a:lnTo>
                      <a:lnTo>
                        <a:pt x="1856" y="3482"/>
                      </a:lnTo>
                      <a:lnTo>
                        <a:pt x="1832" y="3462"/>
                      </a:lnTo>
                      <a:lnTo>
                        <a:pt x="1810" y="3444"/>
                      </a:lnTo>
                      <a:lnTo>
                        <a:pt x="1788" y="3422"/>
                      </a:lnTo>
                      <a:lnTo>
                        <a:pt x="1768" y="3400"/>
                      </a:lnTo>
                      <a:lnTo>
                        <a:pt x="1750" y="3378"/>
                      </a:lnTo>
                      <a:lnTo>
                        <a:pt x="1732" y="3356"/>
                      </a:lnTo>
                      <a:lnTo>
                        <a:pt x="1682" y="3280"/>
                      </a:lnTo>
                      <a:lnTo>
                        <a:pt x="1638" y="3208"/>
                      </a:lnTo>
                      <a:lnTo>
                        <a:pt x="1600" y="3138"/>
                      </a:lnTo>
                      <a:lnTo>
                        <a:pt x="1564" y="3072"/>
                      </a:lnTo>
                      <a:lnTo>
                        <a:pt x="1534" y="3010"/>
                      </a:lnTo>
                      <a:lnTo>
                        <a:pt x="1508" y="2948"/>
                      </a:lnTo>
                      <a:lnTo>
                        <a:pt x="1484" y="2890"/>
                      </a:lnTo>
                      <a:lnTo>
                        <a:pt x="1466" y="2836"/>
                      </a:lnTo>
                      <a:lnTo>
                        <a:pt x="1448" y="2782"/>
                      </a:lnTo>
                      <a:lnTo>
                        <a:pt x="1434" y="2732"/>
                      </a:lnTo>
                      <a:lnTo>
                        <a:pt x="1422" y="2684"/>
                      </a:lnTo>
                      <a:lnTo>
                        <a:pt x="1412" y="2640"/>
                      </a:lnTo>
                      <a:lnTo>
                        <a:pt x="1396" y="2556"/>
                      </a:lnTo>
                      <a:lnTo>
                        <a:pt x="1382" y="2480"/>
                      </a:lnTo>
                      <a:lnTo>
                        <a:pt x="1368" y="2414"/>
                      </a:lnTo>
                      <a:lnTo>
                        <a:pt x="1362" y="2384"/>
                      </a:lnTo>
                      <a:lnTo>
                        <a:pt x="1354" y="2356"/>
                      </a:lnTo>
                      <a:lnTo>
                        <a:pt x="1344" y="2330"/>
                      </a:lnTo>
                      <a:lnTo>
                        <a:pt x="1332" y="2306"/>
                      </a:lnTo>
                      <a:lnTo>
                        <a:pt x="1318" y="2284"/>
                      </a:lnTo>
                      <a:lnTo>
                        <a:pt x="1302" y="2264"/>
                      </a:lnTo>
                      <a:lnTo>
                        <a:pt x="1284" y="2244"/>
                      </a:lnTo>
                      <a:lnTo>
                        <a:pt x="1262" y="2226"/>
                      </a:lnTo>
                      <a:lnTo>
                        <a:pt x="1238" y="2210"/>
                      </a:lnTo>
                      <a:lnTo>
                        <a:pt x="1208" y="2196"/>
                      </a:lnTo>
                      <a:lnTo>
                        <a:pt x="1176" y="2182"/>
                      </a:lnTo>
                      <a:lnTo>
                        <a:pt x="1138" y="2172"/>
                      </a:lnTo>
                      <a:lnTo>
                        <a:pt x="1096" y="2160"/>
                      </a:lnTo>
                      <a:lnTo>
                        <a:pt x="1048" y="2152"/>
                      </a:lnTo>
                      <a:lnTo>
                        <a:pt x="1020" y="2150"/>
                      </a:lnTo>
                      <a:lnTo>
                        <a:pt x="992" y="2152"/>
                      </a:lnTo>
                      <a:lnTo>
                        <a:pt x="962" y="2158"/>
                      </a:lnTo>
                      <a:lnTo>
                        <a:pt x="928" y="2168"/>
                      </a:lnTo>
                      <a:lnTo>
                        <a:pt x="894" y="2180"/>
                      </a:lnTo>
                      <a:lnTo>
                        <a:pt x="858" y="2198"/>
                      </a:lnTo>
                      <a:lnTo>
                        <a:pt x="822" y="2216"/>
                      </a:lnTo>
                      <a:lnTo>
                        <a:pt x="784" y="2238"/>
                      </a:lnTo>
                      <a:lnTo>
                        <a:pt x="746" y="2262"/>
                      </a:lnTo>
                      <a:lnTo>
                        <a:pt x="706" y="2288"/>
                      </a:lnTo>
                      <a:lnTo>
                        <a:pt x="628" y="2346"/>
                      </a:lnTo>
                      <a:lnTo>
                        <a:pt x="548" y="2406"/>
                      </a:lnTo>
                      <a:lnTo>
                        <a:pt x="470" y="2472"/>
                      </a:lnTo>
                      <a:lnTo>
                        <a:pt x="396" y="2536"/>
                      </a:lnTo>
                      <a:lnTo>
                        <a:pt x="326" y="2600"/>
                      </a:lnTo>
                      <a:lnTo>
                        <a:pt x="206" y="2712"/>
                      </a:lnTo>
                      <a:lnTo>
                        <a:pt x="122" y="2790"/>
                      </a:lnTo>
                      <a:lnTo>
                        <a:pt x="98" y="2810"/>
                      </a:lnTo>
                      <a:lnTo>
                        <a:pt x="90" y="2816"/>
                      </a:lnTo>
                      <a:lnTo>
                        <a:pt x="88" y="2816"/>
                      </a:lnTo>
                      <a:lnTo>
                        <a:pt x="66" y="2798"/>
                      </a:lnTo>
                      <a:lnTo>
                        <a:pt x="50" y="2778"/>
                      </a:lnTo>
                      <a:lnTo>
                        <a:pt x="34" y="2758"/>
                      </a:lnTo>
                      <a:lnTo>
                        <a:pt x="22" y="2738"/>
                      </a:lnTo>
                      <a:lnTo>
                        <a:pt x="14" y="2718"/>
                      </a:lnTo>
                      <a:lnTo>
                        <a:pt x="6" y="2698"/>
                      </a:lnTo>
                      <a:lnTo>
                        <a:pt x="2" y="2676"/>
                      </a:lnTo>
                      <a:lnTo>
                        <a:pt x="0" y="2656"/>
                      </a:lnTo>
                      <a:lnTo>
                        <a:pt x="2" y="2634"/>
                      </a:lnTo>
                      <a:lnTo>
                        <a:pt x="6" y="2614"/>
                      </a:lnTo>
                      <a:lnTo>
                        <a:pt x="10" y="2592"/>
                      </a:lnTo>
                      <a:lnTo>
                        <a:pt x="18" y="2570"/>
                      </a:lnTo>
                      <a:lnTo>
                        <a:pt x="28" y="2550"/>
                      </a:lnTo>
                      <a:lnTo>
                        <a:pt x="40" y="2528"/>
                      </a:lnTo>
                      <a:lnTo>
                        <a:pt x="54" y="2506"/>
                      </a:lnTo>
                      <a:lnTo>
                        <a:pt x="70" y="2484"/>
                      </a:lnTo>
                      <a:lnTo>
                        <a:pt x="86" y="2462"/>
                      </a:lnTo>
                      <a:lnTo>
                        <a:pt x="106" y="2440"/>
                      </a:lnTo>
                      <a:lnTo>
                        <a:pt x="150" y="2396"/>
                      </a:lnTo>
                      <a:lnTo>
                        <a:pt x="198" y="2352"/>
                      </a:lnTo>
                      <a:lnTo>
                        <a:pt x="252" y="2308"/>
                      </a:lnTo>
                      <a:lnTo>
                        <a:pt x="310" y="2264"/>
                      </a:lnTo>
                      <a:lnTo>
                        <a:pt x="372" y="2222"/>
                      </a:lnTo>
                      <a:lnTo>
                        <a:pt x="438" y="2178"/>
                      </a:lnTo>
                      <a:lnTo>
                        <a:pt x="506" y="2136"/>
                      </a:lnTo>
                      <a:lnTo>
                        <a:pt x="576" y="2092"/>
                      </a:lnTo>
                      <a:lnTo>
                        <a:pt x="648" y="2052"/>
                      </a:lnTo>
                      <a:lnTo>
                        <a:pt x="792" y="1970"/>
                      </a:lnTo>
                      <a:lnTo>
                        <a:pt x="1066" y="1822"/>
                      </a:lnTo>
                      <a:lnTo>
                        <a:pt x="1186" y="1754"/>
                      </a:lnTo>
                      <a:lnTo>
                        <a:pt x="1240" y="1724"/>
                      </a:lnTo>
                      <a:lnTo>
                        <a:pt x="1288" y="1694"/>
                      </a:lnTo>
                      <a:lnTo>
                        <a:pt x="1332" y="1666"/>
                      </a:lnTo>
                      <a:lnTo>
                        <a:pt x="1368" y="1640"/>
                      </a:lnTo>
                      <a:lnTo>
                        <a:pt x="1396" y="1618"/>
                      </a:lnTo>
                      <a:lnTo>
                        <a:pt x="1418" y="1596"/>
                      </a:lnTo>
                      <a:lnTo>
                        <a:pt x="1462" y="1538"/>
                      </a:lnTo>
                      <a:lnTo>
                        <a:pt x="1506" y="1478"/>
                      </a:lnTo>
                      <a:lnTo>
                        <a:pt x="1548" y="1416"/>
                      </a:lnTo>
                      <a:lnTo>
                        <a:pt x="1588" y="1354"/>
                      </a:lnTo>
                      <a:lnTo>
                        <a:pt x="1626" y="1290"/>
                      </a:lnTo>
                      <a:lnTo>
                        <a:pt x="1662" y="1226"/>
                      </a:lnTo>
                      <a:lnTo>
                        <a:pt x="1734" y="1096"/>
                      </a:lnTo>
                      <a:lnTo>
                        <a:pt x="1804" y="966"/>
                      </a:lnTo>
                      <a:lnTo>
                        <a:pt x="1874" y="838"/>
                      </a:lnTo>
                      <a:lnTo>
                        <a:pt x="1912" y="776"/>
                      </a:lnTo>
                      <a:lnTo>
                        <a:pt x="1948" y="714"/>
                      </a:lnTo>
                      <a:lnTo>
                        <a:pt x="1988" y="652"/>
                      </a:lnTo>
                      <a:lnTo>
                        <a:pt x="2028" y="592"/>
                      </a:lnTo>
                      <a:lnTo>
                        <a:pt x="2070" y="534"/>
                      </a:lnTo>
                      <a:lnTo>
                        <a:pt x="2116" y="478"/>
                      </a:lnTo>
                      <a:lnTo>
                        <a:pt x="2162" y="424"/>
                      </a:lnTo>
                      <a:lnTo>
                        <a:pt x="2212" y="372"/>
                      </a:lnTo>
                      <a:lnTo>
                        <a:pt x="2264" y="322"/>
                      </a:lnTo>
                      <a:lnTo>
                        <a:pt x="2320" y="276"/>
                      </a:lnTo>
                      <a:lnTo>
                        <a:pt x="2380" y="232"/>
                      </a:lnTo>
                      <a:lnTo>
                        <a:pt x="2412" y="212"/>
                      </a:lnTo>
                      <a:lnTo>
                        <a:pt x="2444" y="192"/>
                      </a:lnTo>
                      <a:lnTo>
                        <a:pt x="2478" y="172"/>
                      </a:lnTo>
                      <a:lnTo>
                        <a:pt x="2512" y="154"/>
                      </a:lnTo>
                      <a:lnTo>
                        <a:pt x="2548" y="136"/>
                      </a:lnTo>
                      <a:lnTo>
                        <a:pt x="2584" y="120"/>
                      </a:lnTo>
                      <a:lnTo>
                        <a:pt x="2622" y="104"/>
                      </a:lnTo>
                      <a:lnTo>
                        <a:pt x="2662" y="90"/>
                      </a:lnTo>
                      <a:lnTo>
                        <a:pt x="2702" y="76"/>
                      </a:lnTo>
                      <a:lnTo>
                        <a:pt x="2742" y="64"/>
                      </a:lnTo>
                      <a:lnTo>
                        <a:pt x="2786" y="52"/>
                      </a:lnTo>
                      <a:lnTo>
                        <a:pt x="2830" y="42"/>
                      </a:lnTo>
                      <a:lnTo>
                        <a:pt x="2876" y="32"/>
                      </a:lnTo>
                      <a:lnTo>
                        <a:pt x="2922" y="24"/>
                      </a:lnTo>
                      <a:lnTo>
                        <a:pt x="2972" y="16"/>
                      </a:lnTo>
                      <a:lnTo>
                        <a:pt x="3022" y="10"/>
                      </a:lnTo>
                      <a:lnTo>
                        <a:pt x="3074" y="6"/>
                      </a:lnTo>
                      <a:lnTo>
                        <a:pt x="3126" y="2"/>
                      </a:lnTo>
                      <a:lnTo>
                        <a:pt x="3180" y="0"/>
                      </a:lnTo>
                      <a:lnTo>
                        <a:pt x="3234" y="0"/>
                      </a:lnTo>
                      <a:lnTo>
                        <a:pt x="3288" y="2"/>
                      </a:lnTo>
                      <a:lnTo>
                        <a:pt x="3340" y="4"/>
                      </a:lnTo>
                      <a:lnTo>
                        <a:pt x="3394" y="10"/>
                      </a:lnTo>
                      <a:lnTo>
                        <a:pt x="3446" y="18"/>
                      </a:lnTo>
                      <a:lnTo>
                        <a:pt x="3500" y="26"/>
                      </a:lnTo>
                      <a:lnTo>
                        <a:pt x="3552" y="36"/>
                      </a:lnTo>
                      <a:lnTo>
                        <a:pt x="3604" y="48"/>
                      </a:lnTo>
                      <a:lnTo>
                        <a:pt x="3654" y="60"/>
                      </a:lnTo>
                      <a:lnTo>
                        <a:pt x="3706" y="74"/>
                      </a:lnTo>
                      <a:lnTo>
                        <a:pt x="3758" y="90"/>
                      </a:lnTo>
                      <a:lnTo>
                        <a:pt x="3808" y="108"/>
                      </a:lnTo>
                      <a:lnTo>
                        <a:pt x="3858" y="126"/>
                      </a:lnTo>
                      <a:lnTo>
                        <a:pt x="3956" y="166"/>
                      </a:lnTo>
                      <a:lnTo>
                        <a:pt x="4054" y="210"/>
                      </a:lnTo>
                      <a:lnTo>
                        <a:pt x="4148" y="256"/>
                      </a:lnTo>
                      <a:lnTo>
                        <a:pt x="4240" y="306"/>
                      </a:lnTo>
                      <a:lnTo>
                        <a:pt x="4330" y="360"/>
                      </a:lnTo>
                      <a:lnTo>
                        <a:pt x="4418" y="414"/>
                      </a:lnTo>
                      <a:lnTo>
                        <a:pt x="4502" y="472"/>
                      </a:lnTo>
                      <a:lnTo>
                        <a:pt x="4582" y="530"/>
                      </a:lnTo>
                      <a:lnTo>
                        <a:pt x="4660" y="588"/>
                      </a:lnTo>
                      <a:lnTo>
                        <a:pt x="4736" y="646"/>
                      </a:lnTo>
                      <a:lnTo>
                        <a:pt x="4806" y="706"/>
                      </a:lnTo>
                      <a:lnTo>
                        <a:pt x="4874" y="762"/>
                      </a:lnTo>
                      <a:lnTo>
                        <a:pt x="4938" y="820"/>
                      </a:lnTo>
                      <a:lnTo>
                        <a:pt x="4998" y="874"/>
                      </a:lnTo>
                      <a:lnTo>
                        <a:pt x="5052" y="926"/>
                      </a:lnTo>
                      <a:lnTo>
                        <a:pt x="5150" y="1022"/>
                      </a:lnTo>
                      <a:lnTo>
                        <a:pt x="5228" y="1104"/>
                      </a:lnTo>
                      <a:lnTo>
                        <a:pt x="5284" y="1166"/>
                      </a:lnTo>
                      <a:lnTo>
                        <a:pt x="5332" y="122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d2a"/>
                    </a:gs>
                    <a:gs pos="100000">
                      <a:srgbClr val="00bd4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7"/>
                <p:cNvSpPr/>
                <p:nvPr/>
              </p:nvSpPr>
              <p:spPr>
                <a:xfrm rot="18087600">
                  <a:off x="8388000" y="2550960"/>
                  <a:ext cx="362160" cy="162360"/>
                </a:xfrm>
                <a:custGeom>
                  <a:avLst/>
                  <a:gdLst>
                    <a:gd name="textAreaLeft" fmla="*/ 0 w 362160"/>
                    <a:gd name="textAreaRight" fmla="*/ 362520 w 362160"/>
                    <a:gd name="textAreaTop" fmla="*/ 0 h 162360"/>
                    <a:gd name="textAreaBottom" fmla="*/ 162720 h 162360"/>
                  </a:gdLst>
                  <a:ahLst/>
                  <a:rect l="textAreaLeft" t="textAreaTop" r="textAreaRight" b="textAreaBottom"/>
                  <a:pathLst>
                    <a:path w="7034" h="2792">
                      <a:moveTo>
                        <a:pt x="2336" y="1722"/>
                      </a:moveTo>
                      <a:lnTo>
                        <a:pt x="2336" y="1722"/>
                      </a:lnTo>
                      <a:lnTo>
                        <a:pt x="2382" y="1714"/>
                      </a:lnTo>
                      <a:lnTo>
                        <a:pt x="2432" y="1708"/>
                      </a:lnTo>
                      <a:lnTo>
                        <a:pt x="2484" y="1704"/>
                      </a:lnTo>
                      <a:lnTo>
                        <a:pt x="2542" y="1702"/>
                      </a:lnTo>
                      <a:lnTo>
                        <a:pt x="2602" y="1700"/>
                      </a:lnTo>
                      <a:lnTo>
                        <a:pt x="2666" y="1702"/>
                      </a:lnTo>
                      <a:lnTo>
                        <a:pt x="2734" y="1704"/>
                      </a:lnTo>
                      <a:lnTo>
                        <a:pt x="2804" y="1708"/>
                      </a:lnTo>
                      <a:lnTo>
                        <a:pt x="2878" y="1714"/>
                      </a:lnTo>
                      <a:lnTo>
                        <a:pt x="2954" y="1722"/>
                      </a:lnTo>
                      <a:lnTo>
                        <a:pt x="3114" y="1740"/>
                      </a:lnTo>
                      <a:lnTo>
                        <a:pt x="3284" y="1764"/>
                      </a:lnTo>
                      <a:lnTo>
                        <a:pt x="3462" y="1794"/>
                      </a:lnTo>
                      <a:lnTo>
                        <a:pt x="3646" y="1826"/>
                      </a:lnTo>
                      <a:lnTo>
                        <a:pt x="3836" y="1862"/>
                      </a:lnTo>
                      <a:lnTo>
                        <a:pt x="4032" y="1902"/>
                      </a:lnTo>
                      <a:lnTo>
                        <a:pt x="4230" y="1946"/>
                      </a:lnTo>
                      <a:lnTo>
                        <a:pt x="4430" y="1992"/>
                      </a:lnTo>
                      <a:lnTo>
                        <a:pt x="4632" y="2038"/>
                      </a:lnTo>
                      <a:lnTo>
                        <a:pt x="4834" y="2088"/>
                      </a:lnTo>
                      <a:lnTo>
                        <a:pt x="5032" y="2138"/>
                      </a:lnTo>
                      <a:lnTo>
                        <a:pt x="5422" y="2238"/>
                      </a:lnTo>
                      <a:lnTo>
                        <a:pt x="5792" y="2338"/>
                      </a:lnTo>
                      <a:lnTo>
                        <a:pt x="6132" y="2432"/>
                      </a:lnTo>
                      <a:lnTo>
                        <a:pt x="6430" y="2518"/>
                      </a:lnTo>
                      <a:lnTo>
                        <a:pt x="6680" y="2590"/>
                      </a:lnTo>
                      <a:lnTo>
                        <a:pt x="6870" y="2648"/>
                      </a:lnTo>
                      <a:lnTo>
                        <a:pt x="7034" y="2696"/>
                      </a:lnTo>
                      <a:lnTo>
                        <a:pt x="6918" y="2616"/>
                      </a:lnTo>
                      <a:lnTo>
                        <a:pt x="6804" y="2538"/>
                      </a:lnTo>
                      <a:lnTo>
                        <a:pt x="6582" y="2390"/>
                      </a:lnTo>
                      <a:lnTo>
                        <a:pt x="6474" y="2316"/>
                      </a:lnTo>
                      <a:lnTo>
                        <a:pt x="6368" y="2242"/>
                      </a:lnTo>
                      <a:lnTo>
                        <a:pt x="6262" y="2168"/>
                      </a:lnTo>
                      <a:lnTo>
                        <a:pt x="6158" y="2088"/>
                      </a:lnTo>
                      <a:lnTo>
                        <a:pt x="6054" y="2006"/>
                      </a:lnTo>
                      <a:lnTo>
                        <a:pt x="5952" y="1918"/>
                      </a:lnTo>
                      <a:lnTo>
                        <a:pt x="5900" y="1872"/>
                      </a:lnTo>
                      <a:lnTo>
                        <a:pt x="5848" y="1824"/>
                      </a:lnTo>
                      <a:lnTo>
                        <a:pt x="5798" y="1774"/>
                      </a:lnTo>
                      <a:lnTo>
                        <a:pt x="5746" y="1722"/>
                      </a:lnTo>
                      <a:lnTo>
                        <a:pt x="5694" y="1668"/>
                      </a:lnTo>
                      <a:lnTo>
                        <a:pt x="5642" y="1612"/>
                      </a:lnTo>
                      <a:lnTo>
                        <a:pt x="5592" y="1554"/>
                      </a:lnTo>
                      <a:lnTo>
                        <a:pt x="5540" y="1494"/>
                      </a:lnTo>
                      <a:lnTo>
                        <a:pt x="5488" y="1430"/>
                      </a:lnTo>
                      <a:lnTo>
                        <a:pt x="5436" y="1364"/>
                      </a:lnTo>
                      <a:lnTo>
                        <a:pt x="5384" y="1294"/>
                      </a:lnTo>
                      <a:lnTo>
                        <a:pt x="5330" y="1222"/>
                      </a:lnTo>
                      <a:lnTo>
                        <a:pt x="5282" y="1166"/>
                      </a:lnTo>
                      <a:lnTo>
                        <a:pt x="5226" y="1104"/>
                      </a:lnTo>
                      <a:lnTo>
                        <a:pt x="5148" y="1022"/>
                      </a:lnTo>
                      <a:lnTo>
                        <a:pt x="5050" y="926"/>
                      </a:lnTo>
                      <a:lnTo>
                        <a:pt x="4996" y="874"/>
                      </a:lnTo>
                      <a:lnTo>
                        <a:pt x="4936" y="820"/>
                      </a:lnTo>
                      <a:lnTo>
                        <a:pt x="4872" y="762"/>
                      </a:lnTo>
                      <a:lnTo>
                        <a:pt x="4804" y="706"/>
                      </a:lnTo>
                      <a:lnTo>
                        <a:pt x="4734" y="646"/>
                      </a:lnTo>
                      <a:lnTo>
                        <a:pt x="4658" y="588"/>
                      </a:lnTo>
                      <a:lnTo>
                        <a:pt x="4580" y="530"/>
                      </a:lnTo>
                      <a:lnTo>
                        <a:pt x="4500" y="472"/>
                      </a:lnTo>
                      <a:lnTo>
                        <a:pt x="4416" y="414"/>
                      </a:lnTo>
                      <a:lnTo>
                        <a:pt x="4328" y="360"/>
                      </a:lnTo>
                      <a:lnTo>
                        <a:pt x="4238" y="306"/>
                      </a:lnTo>
                      <a:lnTo>
                        <a:pt x="4146" y="256"/>
                      </a:lnTo>
                      <a:lnTo>
                        <a:pt x="4052" y="210"/>
                      </a:lnTo>
                      <a:lnTo>
                        <a:pt x="3954" y="166"/>
                      </a:lnTo>
                      <a:lnTo>
                        <a:pt x="3856" y="126"/>
                      </a:lnTo>
                      <a:lnTo>
                        <a:pt x="3806" y="108"/>
                      </a:lnTo>
                      <a:lnTo>
                        <a:pt x="3756" y="90"/>
                      </a:lnTo>
                      <a:lnTo>
                        <a:pt x="3704" y="74"/>
                      </a:lnTo>
                      <a:lnTo>
                        <a:pt x="3652" y="60"/>
                      </a:lnTo>
                      <a:lnTo>
                        <a:pt x="3602" y="48"/>
                      </a:lnTo>
                      <a:lnTo>
                        <a:pt x="3550" y="36"/>
                      </a:lnTo>
                      <a:lnTo>
                        <a:pt x="3498" y="26"/>
                      </a:lnTo>
                      <a:lnTo>
                        <a:pt x="3444" y="18"/>
                      </a:lnTo>
                      <a:lnTo>
                        <a:pt x="3392" y="10"/>
                      </a:lnTo>
                      <a:lnTo>
                        <a:pt x="3338" y="4"/>
                      </a:lnTo>
                      <a:lnTo>
                        <a:pt x="3286" y="2"/>
                      </a:lnTo>
                      <a:lnTo>
                        <a:pt x="3232" y="0"/>
                      </a:lnTo>
                      <a:lnTo>
                        <a:pt x="3178" y="0"/>
                      </a:lnTo>
                      <a:lnTo>
                        <a:pt x="3124" y="2"/>
                      </a:lnTo>
                      <a:lnTo>
                        <a:pt x="3072" y="6"/>
                      </a:lnTo>
                      <a:lnTo>
                        <a:pt x="3020" y="10"/>
                      </a:lnTo>
                      <a:lnTo>
                        <a:pt x="2970" y="16"/>
                      </a:lnTo>
                      <a:lnTo>
                        <a:pt x="2920" y="24"/>
                      </a:lnTo>
                      <a:lnTo>
                        <a:pt x="2874" y="32"/>
                      </a:lnTo>
                      <a:lnTo>
                        <a:pt x="2828" y="42"/>
                      </a:lnTo>
                      <a:lnTo>
                        <a:pt x="2784" y="52"/>
                      </a:lnTo>
                      <a:lnTo>
                        <a:pt x="2740" y="64"/>
                      </a:lnTo>
                      <a:lnTo>
                        <a:pt x="2700" y="76"/>
                      </a:lnTo>
                      <a:lnTo>
                        <a:pt x="2660" y="90"/>
                      </a:lnTo>
                      <a:lnTo>
                        <a:pt x="2620" y="104"/>
                      </a:lnTo>
                      <a:lnTo>
                        <a:pt x="2582" y="120"/>
                      </a:lnTo>
                      <a:lnTo>
                        <a:pt x="2546" y="136"/>
                      </a:lnTo>
                      <a:lnTo>
                        <a:pt x="2510" y="154"/>
                      </a:lnTo>
                      <a:lnTo>
                        <a:pt x="2476" y="172"/>
                      </a:lnTo>
                      <a:lnTo>
                        <a:pt x="2442" y="192"/>
                      </a:lnTo>
                      <a:lnTo>
                        <a:pt x="2410" y="212"/>
                      </a:lnTo>
                      <a:lnTo>
                        <a:pt x="2378" y="232"/>
                      </a:lnTo>
                      <a:lnTo>
                        <a:pt x="2318" y="276"/>
                      </a:lnTo>
                      <a:lnTo>
                        <a:pt x="2262" y="322"/>
                      </a:lnTo>
                      <a:lnTo>
                        <a:pt x="2210" y="372"/>
                      </a:lnTo>
                      <a:lnTo>
                        <a:pt x="2160" y="424"/>
                      </a:lnTo>
                      <a:lnTo>
                        <a:pt x="2114" y="478"/>
                      </a:lnTo>
                      <a:lnTo>
                        <a:pt x="2068" y="534"/>
                      </a:lnTo>
                      <a:lnTo>
                        <a:pt x="2026" y="592"/>
                      </a:lnTo>
                      <a:lnTo>
                        <a:pt x="1986" y="652"/>
                      </a:lnTo>
                      <a:lnTo>
                        <a:pt x="1946" y="714"/>
                      </a:lnTo>
                      <a:lnTo>
                        <a:pt x="1910" y="776"/>
                      </a:lnTo>
                      <a:lnTo>
                        <a:pt x="1872" y="838"/>
                      </a:lnTo>
                      <a:lnTo>
                        <a:pt x="1802" y="966"/>
                      </a:lnTo>
                      <a:lnTo>
                        <a:pt x="1732" y="1096"/>
                      </a:lnTo>
                      <a:lnTo>
                        <a:pt x="1660" y="1226"/>
                      </a:lnTo>
                      <a:lnTo>
                        <a:pt x="1624" y="1290"/>
                      </a:lnTo>
                      <a:lnTo>
                        <a:pt x="1586" y="1354"/>
                      </a:lnTo>
                      <a:lnTo>
                        <a:pt x="1546" y="1416"/>
                      </a:lnTo>
                      <a:lnTo>
                        <a:pt x="1504" y="1478"/>
                      </a:lnTo>
                      <a:lnTo>
                        <a:pt x="1460" y="1538"/>
                      </a:lnTo>
                      <a:lnTo>
                        <a:pt x="1416" y="1596"/>
                      </a:lnTo>
                      <a:lnTo>
                        <a:pt x="1394" y="1616"/>
                      </a:lnTo>
                      <a:lnTo>
                        <a:pt x="1366" y="1640"/>
                      </a:lnTo>
                      <a:lnTo>
                        <a:pt x="1332" y="1666"/>
                      </a:lnTo>
                      <a:lnTo>
                        <a:pt x="1290" y="1692"/>
                      </a:lnTo>
                      <a:lnTo>
                        <a:pt x="1244" y="1720"/>
                      </a:lnTo>
                      <a:lnTo>
                        <a:pt x="1192" y="1752"/>
                      </a:lnTo>
                      <a:lnTo>
                        <a:pt x="1074" y="1816"/>
                      </a:lnTo>
                      <a:lnTo>
                        <a:pt x="806" y="1962"/>
                      </a:lnTo>
                      <a:lnTo>
                        <a:pt x="666" y="2040"/>
                      </a:lnTo>
                      <a:lnTo>
                        <a:pt x="526" y="2122"/>
                      </a:lnTo>
                      <a:lnTo>
                        <a:pt x="458" y="2164"/>
                      </a:lnTo>
                      <a:lnTo>
                        <a:pt x="394" y="2206"/>
                      </a:lnTo>
                      <a:lnTo>
                        <a:pt x="330" y="2248"/>
                      </a:lnTo>
                      <a:lnTo>
                        <a:pt x="272" y="2292"/>
                      </a:lnTo>
                      <a:lnTo>
                        <a:pt x="218" y="2334"/>
                      </a:lnTo>
                      <a:lnTo>
                        <a:pt x="168" y="2378"/>
                      </a:lnTo>
                      <a:lnTo>
                        <a:pt x="122" y="2420"/>
                      </a:lnTo>
                      <a:lnTo>
                        <a:pt x="84" y="2464"/>
                      </a:lnTo>
                      <a:lnTo>
                        <a:pt x="66" y="2486"/>
                      </a:lnTo>
                      <a:lnTo>
                        <a:pt x="52" y="2506"/>
                      </a:lnTo>
                      <a:lnTo>
                        <a:pt x="38" y="2528"/>
                      </a:lnTo>
                      <a:lnTo>
                        <a:pt x="26" y="2550"/>
                      </a:lnTo>
                      <a:lnTo>
                        <a:pt x="16" y="2570"/>
                      </a:lnTo>
                      <a:lnTo>
                        <a:pt x="10" y="2592"/>
                      </a:lnTo>
                      <a:lnTo>
                        <a:pt x="4" y="2612"/>
                      </a:lnTo>
                      <a:lnTo>
                        <a:pt x="0" y="2632"/>
                      </a:lnTo>
                      <a:lnTo>
                        <a:pt x="0" y="2654"/>
                      </a:lnTo>
                      <a:lnTo>
                        <a:pt x="0" y="2674"/>
                      </a:lnTo>
                      <a:lnTo>
                        <a:pt x="4" y="2694"/>
                      </a:lnTo>
                      <a:lnTo>
                        <a:pt x="10" y="2714"/>
                      </a:lnTo>
                      <a:lnTo>
                        <a:pt x="18" y="2734"/>
                      </a:lnTo>
                      <a:lnTo>
                        <a:pt x="30" y="2754"/>
                      </a:lnTo>
                      <a:lnTo>
                        <a:pt x="44" y="2774"/>
                      </a:lnTo>
                      <a:lnTo>
                        <a:pt x="60" y="2792"/>
                      </a:lnTo>
                      <a:lnTo>
                        <a:pt x="80" y="2746"/>
                      </a:lnTo>
                      <a:lnTo>
                        <a:pt x="134" y="2670"/>
                      </a:lnTo>
                      <a:lnTo>
                        <a:pt x="188" y="2600"/>
                      </a:lnTo>
                      <a:lnTo>
                        <a:pt x="242" y="2532"/>
                      </a:lnTo>
                      <a:lnTo>
                        <a:pt x="300" y="2470"/>
                      </a:lnTo>
                      <a:lnTo>
                        <a:pt x="358" y="2412"/>
                      </a:lnTo>
                      <a:lnTo>
                        <a:pt x="416" y="2358"/>
                      </a:lnTo>
                      <a:lnTo>
                        <a:pt x="476" y="2308"/>
                      </a:lnTo>
                      <a:lnTo>
                        <a:pt x="538" y="2262"/>
                      </a:lnTo>
                      <a:lnTo>
                        <a:pt x="600" y="2218"/>
                      </a:lnTo>
                      <a:lnTo>
                        <a:pt x="664" y="2178"/>
                      </a:lnTo>
                      <a:lnTo>
                        <a:pt x="730" y="2142"/>
                      </a:lnTo>
                      <a:lnTo>
                        <a:pt x="796" y="2106"/>
                      </a:lnTo>
                      <a:lnTo>
                        <a:pt x="862" y="2076"/>
                      </a:lnTo>
                      <a:lnTo>
                        <a:pt x="930" y="2046"/>
                      </a:lnTo>
                      <a:lnTo>
                        <a:pt x="1000" y="2018"/>
                      </a:lnTo>
                      <a:lnTo>
                        <a:pt x="1070" y="1994"/>
                      </a:lnTo>
                      <a:lnTo>
                        <a:pt x="1142" y="1970"/>
                      </a:lnTo>
                      <a:lnTo>
                        <a:pt x="1214" y="1950"/>
                      </a:lnTo>
                      <a:lnTo>
                        <a:pt x="1288" y="1930"/>
                      </a:lnTo>
                      <a:lnTo>
                        <a:pt x="1362" y="1910"/>
                      </a:lnTo>
                      <a:lnTo>
                        <a:pt x="1438" y="1894"/>
                      </a:lnTo>
                      <a:lnTo>
                        <a:pt x="1514" y="1876"/>
                      </a:lnTo>
                      <a:lnTo>
                        <a:pt x="1670" y="1846"/>
                      </a:lnTo>
                      <a:lnTo>
                        <a:pt x="1832" y="1816"/>
                      </a:lnTo>
                      <a:lnTo>
                        <a:pt x="1996" y="1786"/>
                      </a:lnTo>
                      <a:lnTo>
                        <a:pt x="2164" y="1756"/>
                      </a:lnTo>
                      <a:lnTo>
                        <a:pt x="2336" y="172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d050"/>
                    </a:gs>
                    <a:gs pos="100000">
                      <a:srgbClr val="00bd4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Freeform 20"/>
              <p:cNvSpPr/>
              <p:nvPr/>
            </p:nvSpPr>
            <p:spPr>
              <a:xfrm rot="18087600">
                <a:off x="8428320" y="2625120"/>
                <a:ext cx="366480" cy="615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6888" h="1108">
                    <a:moveTo>
                      <a:pt x="2292" y="112"/>
                    </a:moveTo>
                    <a:lnTo>
                      <a:pt x="2292" y="112"/>
                    </a:lnTo>
                    <a:lnTo>
                      <a:pt x="2332" y="108"/>
                    </a:lnTo>
                    <a:lnTo>
                      <a:pt x="2376" y="106"/>
                    </a:lnTo>
                    <a:lnTo>
                      <a:pt x="2422" y="104"/>
                    </a:lnTo>
                    <a:lnTo>
                      <a:pt x="2472" y="104"/>
                    </a:lnTo>
                    <a:lnTo>
                      <a:pt x="2578" y="106"/>
                    </a:lnTo>
                    <a:lnTo>
                      <a:pt x="2694" y="114"/>
                    </a:lnTo>
                    <a:lnTo>
                      <a:pt x="2820" y="126"/>
                    </a:lnTo>
                    <a:lnTo>
                      <a:pt x="2956" y="142"/>
                    </a:lnTo>
                    <a:lnTo>
                      <a:pt x="3098" y="160"/>
                    </a:lnTo>
                    <a:lnTo>
                      <a:pt x="3246" y="184"/>
                    </a:lnTo>
                    <a:lnTo>
                      <a:pt x="3402" y="210"/>
                    </a:lnTo>
                    <a:lnTo>
                      <a:pt x="3564" y="238"/>
                    </a:lnTo>
                    <a:lnTo>
                      <a:pt x="3728" y="270"/>
                    </a:lnTo>
                    <a:lnTo>
                      <a:pt x="3898" y="302"/>
                    </a:lnTo>
                    <a:lnTo>
                      <a:pt x="4070" y="338"/>
                    </a:lnTo>
                    <a:lnTo>
                      <a:pt x="4244" y="376"/>
                    </a:lnTo>
                    <a:lnTo>
                      <a:pt x="4594" y="454"/>
                    </a:lnTo>
                    <a:lnTo>
                      <a:pt x="4944" y="536"/>
                    </a:lnTo>
                    <a:lnTo>
                      <a:pt x="5288" y="622"/>
                    </a:lnTo>
                    <a:lnTo>
                      <a:pt x="5616" y="704"/>
                    </a:lnTo>
                    <a:lnTo>
                      <a:pt x="5924" y="786"/>
                    </a:lnTo>
                    <a:lnTo>
                      <a:pt x="6206" y="862"/>
                    </a:lnTo>
                    <a:lnTo>
                      <a:pt x="6454" y="930"/>
                    </a:lnTo>
                    <a:lnTo>
                      <a:pt x="6664" y="990"/>
                    </a:lnTo>
                    <a:lnTo>
                      <a:pt x="6826" y="1038"/>
                    </a:lnTo>
                    <a:lnTo>
                      <a:pt x="6888" y="1016"/>
                    </a:lnTo>
                    <a:lnTo>
                      <a:pt x="6744" y="918"/>
                    </a:lnTo>
                    <a:lnTo>
                      <a:pt x="6566" y="866"/>
                    </a:lnTo>
                    <a:lnTo>
                      <a:pt x="6346" y="802"/>
                    </a:lnTo>
                    <a:lnTo>
                      <a:pt x="6092" y="732"/>
                    </a:lnTo>
                    <a:lnTo>
                      <a:pt x="5808" y="656"/>
                    </a:lnTo>
                    <a:lnTo>
                      <a:pt x="5500" y="574"/>
                    </a:lnTo>
                    <a:lnTo>
                      <a:pt x="5176" y="492"/>
                    </a:lnTo>
                    <a:lnTo>
                      <a:pt x="4840" y="410"/>
                    </a:lnTo>
                    <a:lnTo>
                      <a:pt x="4498" y="328"/>
                    </a:lnTo>
                    <a:lnTo>
                      <a:pt x="4156" y="252"/>
                    </a:lnTo>
                    <a:lnTo>
                      <a:pt x="3988" y="216"/>
                    </a:lnTo>
                    <a:lnTo>
                      <a:pt x="3822" y="182"/>
                    </a:lnTo>
                    <a:lnTo>
                      <a:pt x="3658" y="150"/>
                    </a:lnTo>
                    <a:lnTo>
                      <a:pt x="3498" y="122"/>
                    </a:lnTo>
                    <a:lnTo>
                      <a:pt x="3344" y="94"/>
                    </a:lnTo>
                    <a:lnTo>
                      <a:pt x="3194" y="70"/>
                    </a:lnTo>
                    <a:lnTo>
                      <a:pt x="3050" y="50"/>
                    </a:lnTo>
                    <a:lnTo>
                      <a:pt x="2914" y="32"/>
                    </a:lnTo>
                    <a:lnTo>
                      <a:pt x="2784" y="18"/>
                    </a:lnTo>
                    <a:lnTo>
                      <a:pt x="2662" y="8"/>
                    </a:lnTo>
                    <a:lnTo>
                      <a:pt x="2550" y="2"/>
                    </a:lnTo>
                    <a:lnTo>
                      <a:pt x="2448" y="0"/>
                    </a:lnTo>
                    <a:lnTo>
                      <a:pt x="2402" y="2"/>
                    </a:lnTo>
                    <a:lnTo>
                      <a:pt x="2356" y="4"/>
                    </a:lnTo>
                    <a:lnTo>
                      <a:pt x="2314" y="8"/>
                    </a:lnTo>
                    <a:lnTo>
                      <a:pt x="2276" y="12"/>
                    </a:lnTo>
                    <a:lnTo>
                      <a:pt x="1938" y="60"/>
                    </a:lnTo>
                    <a:lnTo>
                      <a:pt x="1774" y="86"/>
                    </a:lnTo>
                    <a:lnTo>
                      <a:pt x="1614" y="112"/>
                    </a:lnTo>
                    <a:lnTo>
                      <a:pt x="1458" y="142"/>
                    </a:lnTo>
                    <a:lnTo>
                      <a:pt x="1382" y="158"/>
                    </a:lnTo>
                    <a:lnTo>
                      <a:pt x="1306" y="176"/>
                    </a:lnTo>
                    <a:lnTo>
                      <a:pt x="1232" y="194"/>
                    </a:lnTo>
                    <a:lnTo>
                      <a:pt x="1158" y="216"/>
                    </a:lnTo>
                    <a:lnTo>
                      <a:pt x="1086" y="238"/>
                    </a:lnTo>
                    <a:lnTo>
                      <a:pt x="1014" y="262"/>
                    </a:lnTo>
                    <a:lnTo>
                      <a:pt x="942" y="288"/>
                    </a:lnTo>
                    <a:lnTo>
                      <a:pt x="874" y="318"/>
                    </a:lnTo>
                    <a:lnTo>
                      <a:pt x="804" y="348"/>
                    </a:lnTo>
                    <a:lnTo>
                      <a:pt x="738" y="382"/>
                    </a:lnTo>
                    <a:lnTo>
                      <a:pt x="672" y="418"/>
                    </a:lnTo>
                    <a:lnTo>
                      <a:pt x="606" y="458"/>
                    </a:lnTo>
                    <a:lnTo>
                      <a:pt x="542" y="500"/>
                    </a:lnTo>
                    <a:lnTo>
                      <a:pt x="480" y="544"/>
                    </a:lnTo>
                    <a:lnTo>
                      <a:pt x="418" y="592"/>
                    </a:lnTo>
                    <a:lnTo>
                      <a:pt x="358" y="644"/>
                    </a:lnTo>
                    <a:lnTo>
                      <a:pt x="298" y="700"/>
                    </a:lnTo>
                    <a:lnTo>
                      <a:pt x="240" y="758"/>
                    </a:lnTo>
                    <a:lnTo>
                      <a:pt x="184" y="822"/>
                    </a:lnTo>
                    <a:lnTo>
                      <a:pt x="128" y="890"/>
                    </a:lnTo>
                    <a:lnTo>
                      <a:pt x="74" y="960"/>
                    </a:lnTo>
                    <a:lnTo>
                      <a:pt x="20" y="1036"/>
                    </a:lnTo>
                    <a:lnTo>
                      <a:pt x="0" y="1084"/>
                    </a:lnTo>
                    <a:lnTo>
                      <a:pt x="26" y="1108"/>
                    </a:lnTo>
                    <a:lnTo>
                      <a:pt x="28" y="1106"/>
                    </a:lnTo>
                    <a:lnTo>
                      <a:pt x="32" y="1104"/>
                    </a:lnTo>
                    <a:lnTo>
                      <a:pt x="50" y="1090"/>
                    </a:lnTo>
                    <a:lnTo>
                      <a:pt x="108" y="1034"/>
                    </a:lnTo>
                    <a:lnTo>
                      <a:pt x="160" y="968"/>
                    </a:lnTo>
                    <a:lnTo>
                      <a:pt x="214" y="906"/>
                    </a:lnTo>
                    <a:lnTo>
                      <a:pt x="268" y="846"/>
                    </a:lnTo>
                    <a:lnTo>
                      <a:pt x="324" y="790"/>
                    </a:lnTo>
                    <a:lnTo>
                      <a:pt x="380" y="738"/>
                    </a:lnTo>
                    <a:lnTo>
                      <a:pt x="438" y="688"/>
                    </a:lnTo>
                    <a:lnTo>
                      <a:pt x="496" y="640"/>
                    </a:lnTo>
                    <a:lnTo>
                      <a:pt x="556" y="598"/>
                    </a:lnTo>
                    <a:lnTo>
                      <a:pt x="616" y="556"/>
                    </a:lnTo>
                    <a:lnTo>
                      <a:pt x="678" y="518"/>
                    </a:lnTo>
                    <a:lnTo>
                      <a:pt x="740" y="482"/>
                    </a:lnTo>
                    <a:lnTo>
                      <a:pt x="804" y="450"/>
                    </a:lnTo>
                    <a:lnTo>
                      <a:pt x="870" y="420"/>
                    </a:lnTo>
                    <a:lnTo>
                      <a:pt x="934" y="390"/>
                    </a:lnTo>
                    <a:lnTo>
                      <a:pt x="1002" y="364"/>
                    </a:lnTo>
                    <a:lnTo>
                      <a:pt x="1070" y="340"/>
                    </a:lnTo>
                    <a:lnTo>
                      <a:pt x="1138" y="316"/>
                    </a:lnTo>
                    <a:lnTo>
                      <a:pt x="1208" y="296"/>
                    </a:lnTo>
                    <a:lnTo>
                      <a:pt x="1278" y="276"/>
                    </a:lnTo>
                    <a:lnTo>
                      <a:pt x="1350" y="258"/>
                    </a:lnTo>
                    <a:lnTo>
                      <a:pt x="1424" y="242"/>
                    </a:lnTo>
                    <a:lnTo>
                      <a:pt x="1498" y="226"/>
                    </a:lnTo>
                    <a:lnTo>
                      <a:pt x="1648" y="198"/>
                    </a:lnTo>
                    <a:lnTo>
                      <a:pt x="1804" y="174"/>
                    </a:lnTo>
                    <a:lnTo>
                      <a:pt x="1962" y="152"/>
                    </a:lnTo>
                    <a:lnTo>
                      <a:pt x="2126" y="132"/>
                    </a:lnTo>
                    <a:lnTo>
                      <a:pt x="2292" y="1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d2a"/>
                  </a:gs>
                  <a:gs pos="100000">
                    <a:srgbClr val="00743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uppe 153"/>
            <p:cNvGrpSpPr/>
            <p:nvPr/>
          </p:nvGrpSpPr>
          <p:grpSpPr>
            <a:xfrm>
              <a:off x="8177040" y="2899080"/>
              <a:ext cx="330120" cy="196200"/>
              <a:chOff x="8177040" y="2899080"/>
              <a:chExt cx="330120" cy="196200"/>
            </a:xfrm>
          </p:grpSpPr>
          <p:grpSp>
            <p:nvGrpSpPr>
              <p:cNvPr id="89" name="Gruppe 16"/>
              <p:cNvGrpSpPr/>
              <p:nvPr/>
            </p:nvGrpSpPr>
            <p:grpSpPr>
              <a:xfrm>
                <a:off x="8181000" y="2899080"/>
                <a:ext cx="326160" cy="196200"/>
                <a:chOff x="8181000" y="2899080"/>
                <a:chExt cx="326160" cy="196200"/>
              </a:xfrm>
            </p:grpSpPr>
            <p:sp>
              <p:nvSpPr>
                <p:cNvPr id="90" name="Freeform 6"/>
                <p:cNvSpPr/>
                <p:nvPr/>
              </p:nvSpPr>
              <p:spPr>
                <a:xfrm flipH="1" rot="218400">
                  <a:off x="8187480" y="2911680"/>
                  <a:ext cx="314640" cy="173880"/>
                </a:xfrm>
                <a:custGeom>
                  <a:avLst/>
                  <a:gdLst>
                    <a:gd name="textAreaLeft" fmla="*/ 360 w 314640"/>
                    <a:gd name="textAreaRight" fmla="*/ 315360 w 314640"/>
                    <a:gd name="textAreaTop" fmla="*/ 0 h 173880"/>
                    <a:gd name="textAreaBottom" fmla="*/ 173880 h 173880"/>
                  </a:gdLst>
                  <a:ahLst/>
                  <a:rect l="textAreaLeft" t="textAreaTop" r="textAreaRight" b="textAreaBottom"/>
                  <a:pathLst>
                    <a:path w="7036" h="3760">
                      <a:moveTo>
                        <a:pt x="5332" y="1222"/>
                      </a:moveTo>
                      <a:lnTo>
                        <a:pt x="5332" y="1222"/>
                      </a:lnTo>
                      <a:lnTo>
                        <a:pt x="5386" y="1294"/>
                      </a:lnTo>
                      <a:lnTo>
                        <a:pt x="5438" y="1364"/>
                      </a:lnTo>
                      <a:lnTo>
                        <a:pt x="5490" y="1430"/>
                      </a:lnTo>
                      <a:lnTo>
                        <a:pt x="5542" y="1494"/>
                      </a:lnTo>
                      <a:lnTo>
                        <a:pt x="5594" y="1554"/>
                      </a:lnTo>
                      <a:lnTo>
                        <a:pt x="5644" y="1612"/>
                      </a:lnTo>
                      <a:lnTo>
                        <a:pt x="5696" y="1668"/>
                      </a:lnTo>
                      <a:lnTo>
                        <a:pt x="5748" y="1722"/>
                      </a:lnTo>
                      <a:lnTo>
                        <a:pt x="5800" y="1774"/>
                      </a:lnTo>
                      <a:lnTo>
                        <a:pt x="5850" y="1824"/>
                      </a:lnTo>
                      <a:lnTo>
                        <a:pt x="5902" y="1872"/>
                      </a:lnTo>
                      <a:lnTo>
                        <a:pt x="5954" y="1918"/>
                      </a:lnTo>
                      <a:lnTo>
                        <a:pt x="6056" y="2006"/>
                      </a:lnTo>
                      <a:lnTo>
                        <a:pt x="6160" y="2088"/>
                      </a:lnTo>
                      <a:lnTo>
                        <a:pt x="6264" y="2168"/>
                      </a:lnTo>
                      <a:lnTo>
                        <a:pt x="6370" y="2242"/>
                      </a:lnTo>
                      <a:lnTo>
                        <a:pt x="6476" y="2316"/>
                      </a:lnTo>
                      <a:lnTo>
                        <a:pt x="6584" y="2390"/>
                      </a:lnTo>
                      <a:lnTo>
                        <a:pt x="6806" y="2538"/>
                      </a:lnTo>
                      <a:lnTo>
                        <a:pt x="6920" y="2616"/>
                      </a:lnTo>
                      <a:lnTo>
                        <a:pt x="7036" y="2696"/>
                      </a:lnTo>
                      <a:lnTo>
                        <a:pt x="6882" y="2748"/>
                      </a:lnTo>
                      <a:lnTo>
                        <a:pt x="6700" y="2808"/>
                      </a:lnTo>
                      <a:lnTo>
                        <a:pt x="6272" y="2944"/>
                      </a:lnTo>
                      <a:lnTo>
                        <a:pt x="5784" y="3094"/>
                      </a:lnTo>
                      <a:lnTo>
                        <a:pt x="5266" y="3250"/>
                      </a:lnTo>
                      <a:lnTo>
                        <a:pt x="4752" y="3400"/>
                      </a:lnTo>
                      <a:lnTo>
                        <a:pt x="4272" y="3538"/>
                      </a:lnTo>
                      <a:lnTo>
                        <a:pt x="4056" y="3600"/>
                      </a:lnTo>
                      <a:lnTo>
                        <a:pt x="3860" y="3652"/>
                      </a:lnTo>
                      <a:lnTo>
                        <a:pt x="3690" y="3698"/>
                      </a:lnTo>
                      <a:lnTo>
                        <a:pt x="3546" y="3734"/>
                      </a:lnTo>
                      <a:lnTo>
                        <a:pt x="3502" y="3740"/>
                      </a:lnTo>
                      <a:lnTo>
                        <a:pt x="3434" y="3746"/>
                      </a:lnTo>
                      <a:lnTo>
                        <a:pt x="3346" y="3752"/>
                      </a:lnTo>
                      <a:lnTo>
                        <a:pt x="3242" y="3756"/>
                      </a:lnTo>
                      <a:lnTo>
                        <a:pt x="3122" y="3760"/>
                      </a:lnTo>
                      <a:lnTo>
                        <a:pt x="2992" y="3758"/>
                      </a:lnTo>
                      <a:lnTo>
                        <a:pt x="2854" y="3754"/>
                      </a:lnTo>
                      <a:lnTo>
                        <a:pt x="2782" y="3750"/>
                      </a:lnTo>
                      <a:lnTo>
                        <a:pt x="2710" y="3744"/>
                      </a:lnTo>
                      <a:lnTo>
                        <a:pt x="2638" y="3736"/>
                      </a:lnTo>
                      <a:lnTo>
                        <a:pt x="2564" y="3728"/>
                      </a:lnTo>
                      <a:lnTo>
                        <a:pt x="2492" y="3716"/>
                      </a:lnTo>
                      <a:lnTo>
                        <a:pt x="2420" y="3704"/>
                      </a:lnTo>
                      <a:lnTo>
                        <a:pt x="2348" y="3690"/>
                      </a:lnTo>
                      <a:lnTo>
                        <a:pt x="2278" y="3672"/>
                      </a:lnTo>
                      <a:lnTo>
                        <a:pt x="2210" y="3654"/>
                      </a:lnTo>
                      <a:lnTo>
                        <a:pt x="2144" y="3632"/>
                      </a:lnTo>
                      <a:lnTo>
                        <a:pt x="2080" y="3608"/>
                      </a:lnTo>
                      <a:lnTo>
                        <a:pt x="2018" y="3580"/>
                      </a:lnTo>
                      <a:lnTo>
                        <a:pt x="1960" y="3550"/>
                      </a:lnTo>
                      <a:lnTo>
                        <a:pt x="1906" y="3518"/>
                      </a:lnTo>
                      <a:lnTo>
                        <a:pt x="1880" y="3500"/>
                      </a:lnTo>
                      <a:lnTo>
                        <a:pt x="1856" y="3482"/>
                      </a:lnTo>
                      <a:lnTo>
                        <a:pt x="1832" y="3462"/>
                      </a:lnTo>
                      <a:lnTo>
                        <a:pt x="1810" y="3444"/>
                      </a:lnTo>
                      <a:lnTo>
                        <a:pt x="1788" y="3422"/>
                      </a:lnTo>
                      <a:lnTo>
                        <a:pt x="1768" y="3400"/>
                      </a:lnTo>
                      <a:lnTo>
                        <a:pt x="1750" y="3378"/>
                      </a:lnTo>
                      <a:lnTo>
                        <a:pt x="1732" y="3356"/>
                      </a:lnTo>
                      <a:lnTo>
                        <a:pt x="1682" y="3280"/>
                      </a:lnTo>
                      <a:lnTo>
                        <a:pt x="1638" y="3208"/>
                      </a:lnTo>
                      <a:lnTo>
                        <a:pt x="1600" y="3138"/>
                      </a:lnTo>
                      <a:lnTo>
                        <a:pt x="1564" y="3072"/>
                      </a:lnTo>
                      <a:lnTo>
                        <a:pt x="1534" y="3010"/>
                      </a:lnTo>
                      <a:lnTo>
                        <a:pt x="1508" y="2948"/>
                      </a:lnTo>
                      <a:lnTo>
                        <a:pt x="1484" y="2890"/>
                      </a:lnTo>
                      <a:lnTo>
                        <a:pt x="1466" y="2836"/>
                      </a:lnTo>
                      <a:lnTo>
                        <a:pt x="1448" y="2782"/>
                      </a:lnTo>
                      <a:lnTo>
                        <a:pt x="1434" y="2732"/>
                      </a:lnTo>
                      <a:lnTo>
                        <a:pt x="1422" y="2684"/>
                      </a:lnTo>
                      <a:lnTo>
                        <a:pt x="1412" y="2640"/>
                      </a:lnTo>
                      <a:lnTo>
                        <a:pt x="1396" y="2556"/>
                      </a:lnTo>
                      <a:lnTo>
                        <a:pt x="1382" y="2480"/>
                      </a:lnTo>
                      <a:lnTo>
                        <a:pt x="1368" y="2414"/>
                      </a:lnTo>
                      <a:lnTo>
                        <a:pt x="1362" y="2384"/>
                      </a:lnTo>
                      <a:lnTo>
                        <a:pt x="1354" y="2356"/>
                      </a:lnTo>
                      <a:lnTo>
                        <a:pt x="1344" y="2330"/>
                      </a:lnTo>
                      <a:lnTo>
                        <a:pt x="1332" y="2306"/>
                      </a:lnTo>
                      <a:lnTo>
                        <a:pt x="1318" y="2284"/>
                      </a:lnTo>
                      <a:lnTo>
                        <a:pt x="1302" y="2264"/>
                      </a:lnTo>
                      <a:lnTo>
                        <a:pt x="1284" y="2244"/>
                      </a:lnTo>
                      <a:lnTo>
                        <a:pt x="1262" y="2226"/>
                      </a:lnTo>
                      <a:lnTo>
                        <a:pt x="1238" y="2210"/>
                      </a:lnTo>
                      <a:lnTo>
                        <a:pt x="1208" y="2196"/>
                      </a:lnTo>
                      <a:lnTo>
                        <a:pt x="1176" y="2182"/>
                      </a:lnTo>
                      <a:lnTo>
                        <a:pt x="1138" y="2172"/>
                      </a:lnTo>
                      <a:lnTo>
                        <a:pt x="1096" y="2160"/>
                      </a:lnTo>
                      <a:lnTo>
                        <a:pt x="1048" y="2152"/>
                      </a:lnTo>
                      <a:lnTo>
                        <a:pt x="1020" y="2150"/>
                      </a:lnTo>
                      <a:lnTo>
                        <a:pt x="992" y="2152"/>
                      </a:lnTo>
                      <a:lnTo>
                        <a:pt x="962" y="2158"/>
                      </a:lnTo>
                      <a:lnTo>
                        <a:pt x="928" y="2168"/>
                      </a:lnTo>
                      <a:lnTo>
                        <a:pt x="894" y="2180"/>
                      </a:lnTo>
                      <a:lnTo>
                        <a:pt x="858" y="2198"/>
                      </a:lnTo>
                      <a:lnTo>
                        <a:pt x="822" y="2216"/>
                      </a:lnTo>
                      <a:lnTo>
                        <a:pt x="784" y="2238"/>
                      </a:lnTo>
                      <a:lnTo>
                        <a:pt x="746" y="2262"/>
                      </a:lnTo>
                      <a:lnTo>
                        <a:pt x="706" y="2288"/>
                      </a:lnTo>
                      <a:lnTo>
                        <a:pt x="628" y="2346"/>
                      </a:lnTo>
                      <a:lnTo>
                        <a:pt x="548" y="2406"/>
                      </a:lnTo>
                      <a:lnTo>
                        <a:pt x="470" y="2472"/>
                      </a:lnTo>
                      <a:lnTo>
                        <a:pt x="396" y="2536"/>
                      </a:lnTo>
                      <a:lnTo>
                        <a:pt x="326" y="2600"/>
                      </a:lnTo>
                      <a:lnTo>
                        <a:pt x="206" y="2712"/>
                      </a:lnTo>
                      <a:lnTo>
                        <a:pt x="122" y="2790"/>
                      </a:lnTo>
                      <a:lnTo>
                        <a:pt x="98" y="2810"/>
                      </a:lnTo>
                      <a:lnTo>
                        <a:pt x="90" y="2816"/>
                      </a:lnTo>
                      <a:lnTo>
                        <a:pt x="88" y="2816"/>
                      </a:lnTo>
                      <a:lnTo>
                        <a:pt x="66" y="2798"/>
                      </a:lnTo>
                      <a:lnTo>
                        <a:pt x="50" y="2778"/>
                      </a:lnTo>
                      <a:lnTo>
                        <a:pt x="34" y="2758"/>
                      </a:lnTo>
                      <a:lnTo>
                        <a:pt x="22" y="2738"/>
                      </a:lnTo>
                      <a:lnTo>
                        <a:pt x="14" y="2718"/>
                      </a:lnTo>
                      <a:lnTo>
                        <a:pt x="6" y="2698"/>
                      </a:lnTo>
                      <a:lnTo>
                        <a:pt x="2" y="2676"/>
                      </a:lnTo>
                      <a:lnTo>
                        <a:pt x="0" y="2656"/>
                      </a:lnTo>
                      <a:lnTo>
                        <a:pt x="2" y="2634"/>
                      </a:lnTo>
                      <a:lnTo>
                        <a:pt x="6" y="2614"/>
                      </a:lnTo>
                      <a:lnTo>
                        <a:pt x="10" y="2592"/>
                      </a:lnTo>
                      <a:lnTo>
                        <a:pt x="18" y="2570"/>
                      </a:lnTo>
                      <a:lnTo>
                        <a:pt x="28" y="2550"/>
                      </a:lnTo>
                      <a:lnTo>
                        <a:pt x="40" y="2528"/>
                      </a:lnTo>
                      <a:lnTo>
                        <a:pt x="54" y="2506"/>
                      </a:lnTo>
                      <a:lnTo>
                        <a:pt x="70" y="2484"/>
                      </a:lnTo>
                      <a:lnTo>
                        <a:pt x="86" y="2462"/>
                      </a:lnTo>
                      <a:lnTo>
                        <a:pt x="106" y="2440"/>
                      </a:lnTo>
                      <a:lnTo>
                        <a:pt x="150" y="2396"/>
                      </a:lnTo>
                      <a:lnTo>
                        <a:pt x="198" y="2352"/>
                      </a:lnTo>
                      <a:lnTo>
                        <a:pt x="252" y="2308"/>
                      </a:lnTo>
                      <a:lnTo>
                        <a:pt x="310" y="2264"/>
                      </a:lnTo>
                      <a:lnTo>
                        <a:pt x="372" y="2222"/>
                      </a:lnTo>
                      <a:lnTo>
                        <a:pt x="438" y="2178"/>
                      </a:lnTo>
                      <a:lnTo>
                        <a:pt x="506" y="2136"/>
                      </a:lnTo>
                      <a:lnTo>
                        <a:pt x="576" y="2092"/>
                      </a:lnTo>
                      <a:lnTo>
                        <a:pt x="648" y="2052"/>
                      </a:lnTo>
                      <a:lnTo>
                        <a:pt x="792" y="1970"/>
                      </a:lnTo>
                      <a:lnTo>
                        <a:pt x="1066" y="1822"/>
                      </a:lnTo>
                      <a:lnTo>
                        <a:pt x="1186" y="1754"/>
                      </a:lnTo>
                      <a:lnTo>
                        <a:pt x="1240" y="1724"/>
                      </a:lnTo>
                      <a:lnTo>
                        <a:pt x="1288" y="1694"/>
                      </a:lnTo>
                      <a:lnTo>
                        <a:pt x="1332" y="1666"/>
                      </a:lnTo>
                      <a:lnTo>
                        <a:pt x="1368" y="1640"/>
                      </a:lnTo>
                      <a:lnTo>
                        <a:pt x="1396" y="1618"/>
                      </a:lnTo>
                      <a:lnTo>
                        <a:pt x="1418" y="1596"/>
                      </a:lnTo>
                      <a:lnTo>
                        <a:pt x="1462" y="1538"/>
                      </a:lnTo>
                      <a:lnTo>
                        <a:pt x="1506" y="1478"/>
                      </a:lnTo>
                      <a:lnTo>
                        <a:pt x="1548" y="1416"/>
                      </a:lnTo>
                      <a:lnTo>
                        <a:pt x="1588" y="1354"/>
                      </a:lnTo>
                      <a:lnTo>
                        <a:pt x="1626" y="1290"/>
                      </a:lnTo>
                      <a:lnTo>
                        <a:pt x="1662" y="1226"/>
                      </a:lnTo>
                      <a:lnTo>
                        <a:pt x="1734" y="1096"/>
                      </a:lnTo>
                      <a:lnTo>
                        <a:pt x="1804" y="966"/>
                      </a:lnTo>
                      <a:lnTo>
                        <a:pt x="1874" y="838"/>
                      </a:lnTo>
                      <a:lnTo>
                        <a:pt x="1912" y="776"/>
                      </a:lnTo>
                      <a:lnTo>
                        <a:pt x="1948" y="714"/>
                      </a:lnTo>
                      <a:lnTo>
                        <a:pt x="1988" y="652"/>
                      </a:lnTo>
                      <a:lnTo>
                        <a:pt x="2028" y="592"/>
                      </a:lnTo>
                      <a:lnTo>
                        <a:pt x="2070" y="534"/>
                      </a:lnTo>
                      <a:lnTo>
                        <a:pt x="2116" y="478"/>
                      </a:lnTo>
                      <a:lnTo>
                        <a:pt x="2162" y="424"/>
                      </a:lnTo>
                      <a:lnTo>
                        <a:pt x="2212" y="372"/>
                      </a:lnTo>
                      <a:lnTo>
                        <a:pt x="2264" y="322"/>
                      </a:lnTo>
                      <a:lnTo>
                        <a:pt x="2320" y="276"/>
                      </a:lnTo>
                      <a:lnTo>
                        <a:pt x="2380" y="232"/>
                      </a:lnTo>
                      <a:lnTo>
                        <a:pt x="2412" y="212"/>
                      </a:lnTo>
                      <a:lnTo>
                        <a:pt x="2444" y="192"/>
                      </a:lnTo>
                      <a:lnTo>
                        <a:pt x="2478" y="172"/>
                      </a:lnTo>
                      <a:lnTo>
                        <a:pt x="2512" y="154"/>
                      </a:lnTo>
                      <a:lnTo>
                        <a:pt x="2548" y="136"/>
                      </a:lnTo>
                      <a:lnTo>
                        <a:pt x="2584" y="120"/>
                      </a:lnTo>
                      <a:lnTo>
                        <a:pt x="2622" y="104"/>
                      </a:lnTo>
                      <a:lnTo>
                        <a:pt x="2662" y="90"/>
                      </a:lnTo>
                      <a:lnTo>
                        <a:pt x="2702" y="76"/>
                      </a:lnTo>
                      <a:lnTo>
                        <a:pt x="2742" y="64"/>
                      </a:lnTo>
                      <a:lnTo>
                        <a:pt x="2786" y="52"/>
                      </a:lnTo>
                      <a:lnTo>
                        <a:pt x="2830" y="42"/>
                      </a:lnTo>
                      <a:lnTo>
                        <a:pt x="2876" y="32"/>
                      </a:lnTo>
                      <a:lnTo>
                        <a:pt x="2922" y="24"/>
                      </a:lnTo>
                      <a:lnTo>
                        <a:pt x="2972" y="16"/>
                      </a:lnTo>
                      <a:lnTo>
                        <a:pt x="3022" y="10"/>
                      </a:lnTo>
                      <a:lnTo>
                        <a:pt x="3074" y="6"/>
                      </a:lnTo>
                      <a:lnTo>
                        <a:pt x="3126" y="2"/>
                      </a:lnTo>
                      <a:lnTo>
                        <a:pt x="3180" y="0"/>
                      </a:lnTo>
                      <a:lnTo>
                        <a:pt x="3234" y="0"/>
                      </a:lnTo>
                      <a:lnTo>
                        <a:pt x="3288" y="2"/>
                      </a:lnTo>
                      <a:lnTo>
                        <a:pt x="3340" y="4"/>
                      </a:lnTo>
                      <a:lnTo>
                        <a:pt x="3394" y="10"/>
                      </a:lnTo>
                      <a:lnTo>
                        <a:pt x="3446" y="18"/>
                      </a:lnTo>
                      <a:lnTo>
                        <a:pt x="3500" y="26"/>
                      </a:lnTo>
                      <a:lnTo>
                        <a:pt x="3552" y="36"/>
                      </a:lnTo>
                      <a:lnTo>
                        <a:pt x="3604" y="48"/>
                      </a:lnTo>
                      <a:lnTo>
                        <a:pt x="3654" y="60"/>
                      </a:lnTo>
                      <a:lnTo>
                        <a:pt x="3706" y="74"/>
                      </a:lnTo>
                      <a:lnTo>
                        <a:pt x="3758" y="90"/>
                      </a:lnTo>
                      <a:lnTo>
                        <a:pt x="3808" y="108"/>
                      </a:lnTo>
                      <a:lnTo>
                        <a:pt x="3858" y="126"/>
                      </a:lnTo>
                      <a:lnTo>
                        <a:pt x="3956" y="166"/>
                      </a:lnTo>
                      <a:lnTo>
                        <a:pt x="4054" y="210"/>
                      </a:lnTo>
                      <a:lnTo>
                        <a:pt x="4148" y="256"/>
                      </a:lnTo>
                      <a:lnTo>
                        <a:pt x="4240" y="306"/>
                      </a:lnTo>
                      <a:lnTo>
                        <a:pt x="4330" y="360"/>
                      </a:lnTo>
                      <a:lnTo>
                        <a:pt x="4418" y="414"/>
                      </a:lnTo>
                      <a:lnTo>
                        <a:pt x="4502" y="472"/>
                      </a:lnTo>
                      <a:lnTo>
                        <a:pt x="4582" y="530"/>
                      </a:lnTo>
                      <a:lnTo>
                        <a:pt x="4660" y="588"/>
                      </a:lnTo>
                      <a:lnTo>
                        <a:pt x="4736" y="646"/>
                      </a:lnTo>
                      <a:lnTo>
                        <a:pt x="4806" y="706"/>
                      </a:lnTo>
                      <a:lnTo>
                        <a:pt x="4874" y="762"/>
                      </a:lnTo>
                      <a:lnTo>
                        <a:pt x="4938" y="820"/>
                      </a:lnTo>
                      <a:lnTo>
                        <a:pt x="4998" y="874"/>
                      </a:lnTo>
                      <a:lnTo>
                        <a:pt x="5052" y="926"/>
                      </a:lnTo>
                      <a:lnTo>
                        <a:pt x="5150" y="1022"/>
                      </a:lnTo>
                      <a:lnTo>
                        <a:pt x="5228" y="1104"/>
                      </a:lnTo>
                      <a:lnTo>
                        <a:pt x="5284" y="1166"/>
                      </a:lnTo>
                      <a:lnTo>
                        <a:pt x="5332" y="122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d2a"/>
                    </a:gs>
                    <a:gs pos="100000">
                      <a:srgbClr val="00bd4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7"/>
                <p:cNvSpPr/>
                <p:nvPr/>
              </p:nvSpPr>
              <p:spPr>
                <a:xfrm flipH="1" rot="218400">
                  <a:off x="8184600" y="2908800"/>
                  <a:ext cx="314640" cy="128520"/>
                </a:xfrm>
                <a:custGeom>
                  <a:avLst/>
                  <a:gdLst>
                    <a:gd name="textAreaLeft" fmla="*/ 360 w 314640"/>
                    <a:gd name="textAreaRight" fmla="*/ 315360 w 314640"/>
                    <a:gd name="textAreaTop" fmla="*/ 0 h 128520"/>
                    <a:gd name="textAreaBottom" fmla="*/ 128880 h 128520"/>
                  </a:gdLst>
                  <a:ahLst/>
                  <a:rect l="textAreaLeft" t="textAreaTop" r="textAreaRight" b="textAreaBottom"/>
                  <a:pathLst>
                    <a:path w="7034" h="2792">
                      <a:moveTo>
                        <a:pt x="2336" y="1722"/>
                      </a:moveTo>
                      <a:lnTo>
                        <a:pt x="2336" y="1722"/>
                      </a:lnTo>
                      <a:lnTo>
                        <a:pt x="2382" y="1714"/>
                      </a:lnTo>
                      <a:lnTo>
                        <a:pt x="2432" y="1708"/>
                      </a:lnTo>
                      <a:lnTo>
                        <a:pt x="2484" y="1704"/>
                      </a:lnTo>
                      <a:lnTo>
                        <a:pt x="2542" y="1702"/>
                      </a:lnTo>
                      <a:lnTo>
                        <a:pt x="2602" y="1700"/>
                      </a:lnTo>
                      <a:lnTo>
                        <a:pt x="2666" y="1702"/>
                      </a:lnTo>
                      <a:lnTo>
                        <a:pt x="2734" y="1704"/>
                      </a:lnTo>
                      <a:lnTo>
                        <a:pt x="2804" y="1708"/>
                      </a:lnTo>
                      <a:lnTo>
                        <a:pt x="2878" y="1714"/>
                      </a:lnTo>
                      <a:lnTo>
                        <a:pt x="2954" y="1722"/>
                      </a:lnTo>
                      <a:lnTo>
                        <a:pt x="3114" y="1740"/>
                      </a:lnTo>
                      <a:lnTo>
                        <a:pt x="3284" y="1764"/>
                      </a:lnTo>
                      <a:lnTo>
                        <a:pt x="3462" y="1794"/>
                      </a:lnTo>
                      <a:lnTo>
                        <a:pt x="3646" y="1826"/>
                      </a:lnTo>
                      <a:lnTo>
                        <a:pt x="3836" y="1862"/>
                      </a:lnTo>
                      <a:lnTo>
                        <a:pt x="4032" y="1902"/>
                      </a:lnTo>
                      <a:lnTo>
                        <a:pt x="4230" y="1946"/>
                      </a:lnTo>
                      <a:lnTo>
                        <a:pt x="4430" y="1992"/>
                      </a:lnTo>
                      <a:lnTo>
                        <a:pt x="4632" y="2038"/>
                      </a:lnTo>
                      <a:lnTo>
                        <a:pt x="4834" y="2088"/>
                      </a:lnTo>
                      <a:lnTo>
                        <a:pt x="5032" y="2138"/>
                      </a:lnTo>
                      <a:lnTo>
                        <a:pt x="5422" y="2238"/>
                      </a:lnTo>
                      <a:lnTo>
                        <a:pt x="5792" y="2338"/>
                      </a:lnTo>
                      <a:lnTo>
                        <a:pt x="6132" y="2432"/>
                      </a:lnTo>
                      <a:lnTo>
                        <a:pt x="6430" y="2518"/>
                      </a:lnTo>
                      <a:lnTo>
                        <a:pt x="6680" y="2590"/>
                      </a:lnTo>
                      <a:lnTo>
                        <a:pt x="6870" y="2648"/>
                      </a:lnTo>
                      <a:lnTo>
                        <a:pt x="7034" y="2696"/>
                      </a:lnTo>
                      <a:lnTo>
                        <a:pt x="6918" y="2616"/>
                      </a:lnTo>
                      <a:lnTo>
                        <a:pt x="6804" y="2538"/>
                      </a:lnTo>
                      <a:lnTo>
                        <a:pt x="6582" y="2390"/>
                      </a:lnTo>
                      <a:lnTo>
                        <a:pt x="6474" y="2316"/>
                      </a:lnTo>
                      <a:lnTo>
                        <a:pt x="6368" y="2242"/>
                      </a:lnTo>
                      <a:lnTo>
                        <a:pt x="6262" y="2168"/>
                      </a:lnTo>
                      <a:lnTo>
                        <a:pt x="6158" y="2088"/>
                      </a:lnTo>
                      <a:lnTo>
                        <a:pt x="6054" y="2006"/>
                      </a:lnTo>
                      <a:lnTo>
                        <a:pt x="5952" y="1918"/>
                      </a:lnTo>
                      <a:lnTo>
                        <a:pt x="5900" y="1872"/>
                      </a:lnTo>
                      <a:lnTo>
                        <a:pt x="5848" y="1824"/>
                      </a:lnTo>
                      <a:lnTo>
                        <a:pt x="5798" y="1774"/>
                      </a:lnTo>
                      <a:lnTo>
                        <a:pt x="5746" y="1722"/>
                      </a:lnTo>
                      <a:lnTo>
                        <a:pt x="5694" y="1668"/>
                      </a:lnTo>
                      <a:lnTo>
                        <a:pt x="5642" y="1612"/>
                      </a:lnTo>
                      <a:lnTo>
                        <a:pt x="5592" y="1554"/>
                      </a:lnTo>
                      <a:lnTo>
                        <a:pt x="5540" y="1494"/>
                      </a:lnTo>
                      <a:lnTo>
                        <a:pt x="5488" y="1430"/>
                      </a:lnTo>
                      <a:lnTo>
                        <a:pt x="5436" y="1364"/>
                      </a:lnTo>
                      <a:lnTo>
                        <a:pt x="5384" y="1294"/>
                      </a:lnTo>
                      <a:lnTo>
                        <a:pt x="5330" y="1222"/>
                      </a:lnTo>
                      <a:lnTo>
                        <a:pt x="5282" y="1166"/>
                      </a:lnTo>
                      <a:lnTo>
                        <a:pt x="5226" y="1104"/>
                      </a:lnTo>
                      <a:lnTo>
                        <a:pt x="5148" y="1022"/>
                      </a:lnTo>
                      <a:lnTo>
                        <a:pt x="5050" y="926"/>
                      </a:lnTo>
                      <a:lnTo>
                        <a:pt x="4996" y="874"/>
                      </a:lnTo>
                      <a:lnTo>
                        <a:pt x="4936" y="820"/>
                      </a:lnTo>
                      <a:lnTo>
                        <a:pt x="4872" y="762"/>
                      </a:lnTo>
                      <a:lnTo>
                        <a:pt x="4804" y="706"/>
                      </a:lnTo>
                      <a:lnTo>
                        <a:pt x="4734" y="646"/>
                      </a:lnTo>
                      <a:lnTo>
                        <a:pt x="4658" y="588"/>
                      </a:lnTo>
                      <a:lnTo>
                        <a:pt x="4580" y="530"/>
                      </a:lnTo>
                      <a:lnTo>
                        <a:pt x="4500" y="472"/>
                      </a:lnTo>
                      <a:lnTo>
                        <a:pt x="4416" y="414"/>
                      </a:lnTo>
                      <a:lnTo>
                        <a:pt x="4328" y="360"/>
                      </a:lnTo>
                      <a:lnTo>
                        <a:pt x="4238" y="306"/>
                      </a:lnTo>
                      <a:lnTo>
                        <a:pt x="4146" y="256"/>
                      </a:lnTo>
                      <a:lnTo>
                        <a:pt x="4052" y="210"/>
                      </a:lnTo>
                      <a:lnTo>
                        <a:pt x="3954" y="166"/>
                      </a:lnTo>
                      <a:lnTo>
                        <a:pt x="3856" y="126"/>
                      </a:lnTo>
                      <a:lnTo>
                        <a:pt x="3806" y="108"/>
                      </a:lnTo>
                      <a:lnTo>
                        <a:pt x="3756" y="90"/>
                      </a:lnTo>
                      <a:lnTo>
                        <a:pt x="3704" y="74"/>
                      </a:lnTo>
                      <a:lnTo>
                        <a:pt x="3652" y="60"/>
                      </a:lnTo>
                      <a:lnTo>
                        <a:pt x="3602" y="48"/>
                      </a:lnTo>
                      <a:lnTo>
                        <a:pt x="3550" y="36"/>
                      </a:lnTo>
                      <a:lnTo>
                        <a:pt x="3498" y="26"/>
                      </a:lnTo>
                      <a:lnTo>
                        <a:pt x="3444" y="18"/>
                      </a:lnTo>
                      <a:lnTo>
                        <a:pt x="3392" y="10"/>
                      </a:lnTo>
                      <a:lnTo>
                        <a:pt x="3338" y="4"/>
                      </a:lnTo>
                      <a:lnTo>
                        <a:pt x="3286" y="2"/>
                      </a:lnTo>
                      <a:lnTo>
                        <a:pt x="3232" y="0"/>
                      </a:lnTo>
                      <a:lnTo>
                        <a:pt x="3178" y="0"/>
                      </a:lnTo>
                      <a:lnTo>
                        <a:pt x="3124" y="2"/>
                      </a:lnTo>
                      <a:lnTo>
                        <a:pt x="3072" y="6"/>
                      </a:lnTo>
                      <a:lnTo>
                        <a:pt x="3020" y="10"/>
                      </a:lnTo>
                      <a:lnTo>
                        <a:pt x="2970" y="16"/>
                      </a:lnTo>
                      <a:lnTo>
                        <a:pt x="2920" y="24"/>
                      </a:lnTo>
                      <a:lnTo>
                        <a:pt x="2874" y="32"/>
                      </a:lnTo>
                      <a:lnTo>
                        <a:pt x="2828" y="42"/>
                      </a:lnTo>
                      <a:lnTo>
                        <a:pt x="2784" y="52"/>
                      </a:lnTo>
                      <a:lnTo>
                        <a:pt x="2740" y="64"/>
                      </a:lnTo>
                      <a:lnTo>
                        <a:pt x="2700" y="76"/>
                      </a:lnTo>
                      <a:lnTo>
                        <a:pt x="2660" y="90"/>
                      </a:lnTo>
                      <a:lnTo>
                        <a:pt x="2620" y="104"/>
                      </a:lnTo>
                      <a:lnTo>
                        <a:pt x="2582" y="120"/>
                      </a:lnTo>
                      <a:lnTo>
                        <a:pt x="2546" y="136"/>
                      </a:lnTo>
                      <a:lnTo>
                        <a:pt x="2510" y="154"/>
                      </a:lnTo>
                      <a:lnTo>
                        <a:pt x="2476" y="172"/>
                      </a:lnTo>
                      <a:lnTo>
                        <a:pt x="2442" y="192"/>
                      </a:lnTo>
                      <a:lnTo>
                        <a:pt x="2410" y="212"/>
                      </a:lnTo>
                      <a:lnTo>
                        <a:pt x="2378" y="232"/>
                      </a:lnTo>
                      <a:lnTo>
                        <a:pt x="2318" y="276"/>
                      </a:lnTo>
                      <a:lnTo>
                        <a:pt x="2262" y="322"/>
                      </a:lnTo>
                      <a:lnTo>
                        <a:pt x="2210" y="372"/>
                      </a:lnTo>
                      <a:lnTo>
                        <a:pt x="2160" y="424"/>
                      </a:lnTo>
                      <a:lnTo>
                        <a:pt x="2114" y="478"/>
                      </a:lnTo>
                      <a:lnTo>
                        <a:pt x="2068" y="534"/>
                      </a:lnTo>
                      <a:lnTo>
                        <a:pt x="2026" y="592"/>
                      </a:lnTo>
                      <a:lnTo>
                        <a:pt x="1986" y="652"/>
                      </a:lnTo>
                      <a:lnTo>
                        <a:pt x="1946" y="714"/>
                      </a:lnTo>
                      <a:lnTo>
                        <a:pt x="1910" y="776"/>
                      </a:lnTo>
                      <a:lnTo>
                        <a:pt x="1872" y="838"/>
                      </a:lnTo>
                      <a:lnTo>
                        <a:pt x="1802" y="966"/>
                      </a:lnTo>
                      <a:lnTo>
                        <a:pt x="1732" y="1096"/>
                      </a:lnTo>
                      <a:lnTo>
                        <a:pt x="1660" y="1226"/>
                      </a:lnTo>
                      <a:lnTo>
                        <a:pt x="1624" y="1290"/>
                      </a:lnTo>
                      <a:lnTo>
                        <a:pt x="1586" y="1354"/>
                      </a:lnTo>
                      <a:lnTo>
                        <a:pt x="1546" y="1416"/>
                      </a:lnTo>
                      <a:lnTo>
                        <a:pt x="1504" y="1478"/>
                      </a:lnTo>
                      <a:lnTo>
                        <a:pt x="1460" y="1538"/>
                      </a:lnTo>
                      <a:lnTo>
                        <a:pt x="1416" y="1596"/>
                      </a:lnTo>
                      <a:lnTo>
                        <a:pt x="1394" y="1616"/>
                      </a:lnTo>
                      <a:lnTo>
                        <a:pt x="1366" y="1640"/>
                      </a:lnTo>
                      <a:lnTo>
                        <a:pt x="1332" y="1666"/>
                      </a:lnTo>
                      <a:lnTo>
                        <a:pt x="1290" y="1692"/>
                      </a:lnTo>
                      <a:lnTo>
                        <a:pt x="1244" y="1720"/>
                      </a:lnTo>
                      <a:lnTo>
                        <a:pt x="1192" y="1752"/>
                      </a:lnTo>
                      <a:lnTo>
                        <a:pt x="1074" y="1816"/>
                      </a:lnTo>
                      <a:lnTo>
                        <a:pt x="806" y="1962"/>
                      </a:lnTo>
                      <a:lnTo>
                        <a:pt x="666" y="2040"/>
                      </a:lnTo>
                      <a:lnTo>
                        <a:pt x="526" y="2122"/>
                      </a:lnTo>
                      <a:lnTo>
                        <a:pt x="458" y="2164"/>
                      </a:lnTo>
                      <a:lnTo>
                        <a:pt x="394" y="2206"/>
                      </a:lnTo>
                      <a:lnTo>
                        <a:pt x="330" y="2248"/>
                      </a:lnTo>
                      <a:lnTo>
                        <a:pt x="272" y="2292"/>
                      </a:lnTo>
                      <a:lnTo>
                        <a:pt x="218" y="2334"/>
                      </a:lnTo>
                      <a:lnTo>
                        <a:pt x="168" y="2378"/>
                      </a:lnTo>
                      <a:lnTo>
                        <a:pt x="122" y="2420"/>
                      </a:lnTo>
                      <a:lnTo>
                        <a:pt x="84" y="2464"/>
                      </a:lnTo>
                      <a:lnTo>
                        <a:pt x="66" y="2486"/>
                      </a:lnTo>
                      <a:lnTo>
                        <a:pt x="52" y="2506"/>
                      </a:lnTo>
                      <a:lnTo>
                        <a:pt x="38" y="2528"/>
                      </a:lnTo>
                      <a:lnTo>
                        <a:pt x="26" y="2550"/>
                      </a:lnTo>
                      <a:lnTo>
                        <a:pt x="16" y="2570"/>
                      </a:lnTo>
                      <a:lnTo>
                        <a:pt x="10" y="2592"/>
                      </a:lnTo>
                      <a:lnTo>
                        <a:pt x="4" y="2612"/>
                      </a:lnTo>
                      <a:lnTo>
                        <a:pt x="0" y="2632"/>
                      </a:lnTo>
                      <a:lnTo>
                        <a:pt x="0" y="2654"/>
                      </a:lnTo>
                      <a:lnTo>
                        <a:pt x="0" y="2674"/>
                      </a:lnTo>
                      <a:lnTo>
                        <a:pt x="4" y="2694"/>
                      </a:lnTo>
                      <a:lnTo>
                        <a:pt x="10" y="2714"/>
                      </a:lnTo>
                      <a:lnTo>
                        <a:pt x="18" y="2734"/>
                      </a:lnTo>
                      <a:lnTo>
                        <a:pt x="30" y="2754"/>
                      </a:lnTo>
                      <a:lnTo>
                        <a:pt x="44" y="2774"/>
                      </a:lnTo>
                      <a:lnTo>
                        <a:pt x="60" y="2792"/>
                      </a:lnTo>
                      <a:lnTo>
                        <a:pt x="80" y="2746"/>
                      </a:lnTo>
                      <a:lnTo>
                        <a:pt x="134" y="2670"/>
                      </a:lnTo>
                      <a:lnTo>
                        <a:pt x="188" y="2600"/>
                      </a:lnTo>
                      <a:lnTo>
                        <a:pt x="242" y="2532"/>
                      </a:lnTo>
                      <a:lnTo>
                        <a:pt x="300" y="2470"/>
                      </a:lnTo>
                      <a:lnTo>
                        <a:pt x="358" y="2412"/>
                      </a:lnTo>
                      <a:lnTo>
                        <a:pt x="416" y="2358"/>
                      </a:lnTo>
                      <a:lnTo>
                        <a:pt x="476" y="2308"/>
                      </a:lnTo>
                      <a:lnTo>
                        <a:pt x="538" y="2262"/>
                      </a:lnTo>
                      <a:lnTo>
                        <a:pt x="600" y="2218"/>
                      </a:lnTo>
                      <a:lnTo>
                        <a:pt x="664" y="2178"/>
                      </a:lnTo>
                      <a:lnTo>
                        <a:pt x="730" y="2142"/>
                      </a:lnTo>
                      <a:lnTo>
                        <a:pt x="796" y="2106"/>
                      </a:lnTo>
                      <a:lnTo>
                        <a:pt x="862" y="2076"/>
                      </a:lnTo>
                      <a:lnTo>
                        <a:pt x="930" y="2046"/>
                      </a:lnTo>
                      <a:lnTo>
                        <a:pt x="1000" y="2018"/>
                      </a:lnTo>
                      <a:lnTo>
                        <a:pt x="1070" y="1994"/>
                      </a:lnTo>
                      <a:lnTo>
                        <a:pt x="1142" y="1970"/>
                      </a:lnTo>
                      <a:lnTo>
                        <a:pt x="1214" y="1950"/>
                      </a:lnTo>
                      <a:lnTo>
                        <a:pt x="1288" y="1930"/>
                      </a:lnTo>
                      <a:lnTo>
                        <a:pt x="1362" y="1910"/>
                      </a:lnTo>
                      <a:lnTo>
                        <a:pt x="1438" y="1894"/>
                      </a:lnTo>
                      <a:lnTo>
                        <a:pt x="1514" y="1876"/>
                      </a:lnTo>
                      <a:lnTo>
                        <a:pt x="1670" y="1846"/>
                      </a:lnTo>
                      <a:lnTo>
                        <a:pt x="1832" y="1816"/>
                      </a:lnTo>
                      <a:lnTo>
                        <a:pt x="1996" y="1786"/>
                      </a:lnTo>
                      <a:lnTo>
                        <a:pt x="2164" y="1756"/>
                      </a:lnTo>
                      <a:lnTo>
                        <a:pt x="2336" y="172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d050"/>
                    </a:gs>
                    <a:gs pos="100000">
                      <a:srgbClr val="00bd4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" name="Freeform 20"/>
              <p:cNvSpPr/>
              <p:nvPr/>
            </p:nvSpPr>
            <p:spPr>
              <a:xfrm flipH="1" rot="218400">
                <a:off x="8177760" y="2979360"/>
                <a:ext cx="316080" cy="50400"/>
              </a:xfrm>
              <a:custGeom>
                <a:avLst/>
                <a:gdLst>
                  <a:gd name="textAreaLeft" fmla="*/ 360 w 316080"/>
                  <a:gd name="textAreaRight" fmla="*/ 316800 w 3160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888" h="1108">
                    <a:moveTo>
                      <a:pt x="2292" y="112"/>
                    </a:moveTo>
                    <a:lnTo>
                      <a:pt x="2292" y="112"/>
                    </a:lnTo>
                    <a:lnTo>
                      <a:pt x="2332" y="108"/>
                    </a:lnTo>
                    <a:lnTo>
                      <a:pt x="2376" y="106"/>
                    </a:lnTo>
                    <a:lnTo>
                      <a:pt x="2422" y="104"/>
                    </a:lnTo>
                    <a:lnTo>
                      <a:pt x="2472" y="104"/>
                    </a:lnTo>
                    <a:lnTo>
                      <a:pt x="2578" y="106"/>
                    </a:lnTo>
                    <a:lnTo>
                      <a:pt x="2694" y="114"/>
                    </a:lnTo>
                    <a:lnTo>
                      <a:pt x="2820" y="126"/>
                    </a:lnTo>
                    <a:lnTo>
                      <a:pt x="2956" y="142"/>
                    </a:lnTo>
                    <a:lnTo>
                      <a:pt x="3098" y="160"/>
                    </a:lnTo>
                    <a:lnTo>
                      <a:pt x="3246" y="184"/>
                    </a:lnTo>
                    <a:lnTo>
                      <a:pt x="3402" y="210"/>
                    </a:lnTo>
                    <a:lnTo>
                      <a:pt x="3564" y="238"/>
                    </a:lnTo>
                    <a:lnTo>
                      <a:pt x="3728" y="270"/>
                    </a:lnTo>
                    <a:lnTo>
                      <a:pt x="3898" y="302"/>
                    </a:lnTo>
                    <a:lnTo>
                      <a:pt x="4070" y="338"/>
                    </a:lnTo>
                    <a:lnTo>
                      <a:pt x="4244" y="376"/>
                    </a:lnTo>
                    <a:lnTo>
                      <a:pt x="4594" y="454"/>
                    </a:lnTo>
                    <a:lnTo>
                      <a:pt x="4944" y="536"/>
                    </a:lnTo>
                    <a:lnTo>
                      <a:pt x="5288" y="622"/>
                    </a:lnTo>
                    <a:lnTo>
                      <a:pt x="5616" y="704"/>
                    </a:lnTo>
                    <a:lnTo>
                      <a:pt x="5924" y="786"/>
                    </a:lnTo>
                    <a:lnTo>
                      <a:pt x="6206" y="862"/>
                    </a:lnTo>
                    <a:lnTo>
                      <a:pt x="6454" y="930"/>
                    </a:lnTo>
                    <a:lnTo>
                      <a:pt x="6664" y="990"/>
                    </a:lnTo>
                    <a:lnTo>
                      <a:pt x="6826" y="1038"/>
                    </a:lnTo>
                    <a:lnTo>
                      <a:pt x="6888" y="1016"/>
                    </a:lnTo>
                    <a:lnTo>
                      <a:pt x="6744" y="918"/>
                    </a:lnTo>
                    <a:lnTo>
                      <a:pt x="6566" y="866"/>
                    </a:lnTo>
                    <a:lnTo>
                      <a:pt x="6346" y="802"/>
                    </a:lnTo>
                    <a:lnTo>
                      <a:pt x="6092" y="732"/>
                    </a:lnTo>
                    <a:lnTo>
                      <a:pt x="5808" y="656"/>
                    </a:lnTo>
                    <a:lnTo>
                      <a:pt x="5500" y="574"/>
                    </a:lnTo>
                    <a:lnTo>
                      <a:pt x="5176" y="492"/>
                    </a:lnTo>
                    <a:lnTo>
                      <a:pt x="4840" y="410"/>
                    </a:lnTo>
                    <a:lnTo>
                      <a:pt x="4498" y="328"/>
                    </a:lnTo>
                    <a:lnTo>
                      <a:pt x="4156" y="252"/>
                    </a:lnTo>
                    <a:lnTo>
                      <a:pt x="3988" y="216"/>
                    </a:lnTo>
                    <a:lnTo>
                      <a:pt x="3822" y="182"/>
                    </a:lnTo>
                    <a:lnTo>
                      <a:pt x="3658" y="150"/>
                    </a:lnTo>
                    <a:lnTo>
                      <a:pt x="3498" y="122"/>
                    </a:lnTo>
                    <a:lnTo>
                      <a:pt x="3344" y="94"/>
                    </a:lnTo>
                    <a:lnTo>
                      <a:pt x="3194" y="70"/>
                    </a:lnTo>
                    <a:lnTo>
                      <a:pt x="3050" y="50"/>
                    </a:lnTo>
                    <a:lnTo>
                      <a:pt x="2914" y="32"/>
                    </a:lnTo>
                    <a:lnTo>
                      <a:pt x="2784" y="18"/>
                    </a:lnTo>
                    <a:lnTo>
                      <a:pt x="2662" y="8"/>
                    </a:lnTo>
                    <a:lnTo>
                      <a:pt x="2550" y="2"/>
                    </a:lnTo>
                    <a:lnTo>
                      <a:pt x="2448" y="0"/>
                    </a:lnTo>
                    <a:lnTo>
                      <a:pt x="2402" y="2"/>
                    </a:lnTo>
                    <a:lnTo>
                      <a:pt x="2356" y="4"/>
                    </a:lnTo>
                    <a:lnTo>
                      <a:pt x="2314" y="8"/>
                    </a:lnTo>
                    <a:lnTo>
                      <a:pt x="2276" y="12"/>
                    </a:lnTo>
                    <a:lnTo>
                      <a:pt x="1938" y="60"/>
                    </a:lnTo>
                    <a:lnTo>
                      <a:pt x="1774" y="86"/>
                    </a:lnTo>
                    <a:lnTo>
                      <a:pt x="1614" y="112"/>
                    </a:lnTo>
                    <a:lnTo>
                      <a:pt x="1458" y="142"/>
                    </a:lnTo>
                    <a:lnTo>
                      <a:pt x="1382" y="158"/>
                    </a:lnTo>
                    <a:lnTo>
                      <a:pt x="1306" y="176"/>
                    </a:lnTo>
                    <a:lnTo>
                      <a:pt x="1232" y="194"/>
                    </a:lnTo>
                    <a:lnTo>
                      <a:pt x="1158" y="216"/>
                    </a:lnTo>
                    <a:lnTo>
                      <a:pt x="1086" y="238"/>
                    </a:lnTo>
                    <a:lnTo>
                      <a:pt x="1014" y="262"/>
                    </a:lnTo>
                    <a:lnTo>
                      <a:pt x="942" y="288"/>
                    </a:lnTo>
                    <a:lnTo>
                      <a:pt x="874" y="318"/>
                    </a:lnTo>
                    <a:lnTo>
                      <a:pt x="804" y="348"/>
                    </a:lnTo>
                    <a:lnTo>
                      <a:pt x="738" y="382"/>
                    </a:lnTo>
                    <a:lnTo>
                      <a:pt x="672" y="418"/>
                    </a:lnTo>
                    <a:lnTo>
                      <a:pt x="606" y="458"/>
                    </a:lnTo>
                    <a:lnTo>
                      <a:pt x="542" y="500"/>
                    </a:lnTo>
                    <a:lnTo>
                      <a:pt x="480" y="544"/>
                    </a:lnTo>
                    <a:lnTo>
                      <a:pt x="418" y="592"/>
                    </a:lnTo>
                    <a:lnTo>
                      <a:pt x="358" y="644"/>
                    </a:lnTo>
                    <a:lnTo>
                      <a:pt x="298" y="700"/>
                    </a:lnTo>
                    <a:lnTo>
                      <a:pt x="240" y="758"/>
                    </a:lnTo>
                    <a:lnTo>
                      <a:pt x="184" y="822"/>
                    </a:lnTo>
                    <a:lnTo>
                      <a:pt x="128" y="890"/>
                    </a:lnTo>
                    <a:lnTo>
                      <a:pt x="74" y="960"/>
                    </a:lnTo>
                    <a:lnTo>
                      <a:pt x="20" y="1036"/>
                    </a:lnTo>
                    <a:lnTo>
                      <a:pt x="0" y="1084"/>
                    </a:lnTo>
                    <a:lnTo>
                      <a:pt x="26" y="1108"/>
                    </a:lnTo>
                    <a:lnTo>
                      <a:pt x="28" y="1106"/>
                    </a:lnTo>
                    <a:lnTo>
                      <a:pt x="32" y="1104"/>
                    </a:lnTo>
                    <a:lnTo>
                      <a:pt x="50" y="1090"/>
                    </a:lnTo>
                    <a:lnTo>
                      <a:pt x="108" y="1034"/>
                    </a:lnTo>
                    <a:lnTo>
                      <a:pt x="160" y="968"/>
                    </a:lnTo>
                    <a:lnTo>
                      <a:pt x="214" y="906"/>
                    </a:lnTo>
                    <a:lnTo>
                      <a:pt x="268" y="846"/>
                    </a:lnTo>
                    <a:lnTo>
                      <a:pt x="324" y="790"/>
                    </a:lnTo>
                    <a:lnTo>
                      <a:pt x="380" y="738"/>
                    </a:lnTo>
                    <a:lnTo>
                      <a:pt x="438" y="688"/>
                    </a:lnTo>
                    <a:lnTo>
                      <a:pt x="496" y="640"/>
                    </a:lnTo>
                    <a:lnTo>
                      <a:pt x="556" y="598"/>
                    </a:lnTo>
                    <a:lnTo>
                      <a:pt x="616" y="556"/>
                    </a:lnTo>
                    <a:lnTo>
                      <a:pt x="678" y="518"/>
                    </a:lnTo>
                    <a:lnTo>
                      <a:pt x="740" y="482"/>
                    </a:lnTo>
                    <a:lnTo>
                      <a:pt x="804" y="450"/>
                    </a:lnTo>
                    <a:lnTo>
                      <a:pt x="870" y="420"/>
                    </a:lnTo>
                    <a:lnTo>
                      <a:pt x="934" y="390"/>
                    </a:lnTo>
                    <a:lnTo>
                      <a:pt x="1002" y="364"/>
                    </a:lnTo>
                    <a:lnTo>
                      <a:pt x="1070" y="340"/>
                    </a:lnTo>
                    <a:lnTo>
                      <a:pt x="1138" y="316"/>
                    </a:lnTo>
                    <a:lnTo>
                      <a:pt x="1208" y="296"/>
                    </a:lnTo>
                    <a:lnTo>
                      <a:pt x="1278" y="276"/>
                    </a:lnTo>
                    <a:lnTo>
                      <a:pt x="1350" y="258"/>
                    </a:lnTo>
                    <a:lnTo>
                      <a:pt x="1424" y="242"/>
                    </a:lnTo>
                    <a:lnTo>
                      <a:pt x="1498" y="226"/>
                    </a:lnTo>
                    <a:lnTo>
                      <a:pt x="1648" y="198"/>
                    </a:lnTo>
                    <a:lnTo>
                      <a:pt x="1804" y="174"/>
                    </a:lnTo>
                    <a:lnTo>
                      <a:pt x="1962" y="152"/>
                    </a:lnTo>
                    <a:lnTo>
                      <a:pt x="2126" y="132"/>
                    </a:lnTo>
                    <a:lnTo>
                      <a:pt x="2292" y="1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d2a"/>
                  </a:gs>
                  <a:gs pos="100000">
                    <a:srgbClr val="00743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Gruppe 249"/>
          <p:cNvGrpSpPr/>
          <p:nvPr/>
        </p:nvGrpSpPr>
        <p:grpSpPr>
          <a:xfrm>
            <a:off x="4030560" y="4229280"/>
            <a:ext cx="1111320" cy="1112760"/>
            <a:chOff x="4030560" y="4229280"/>
            <a:chExt cx="1111320" cy="1112760"/>
          </a:xfrm>
        </p:grpSpPr>
        <p:grpSp>
          <p:nvGrpSpPr>
            <p:cNvPr id="94" name="Gruppe 92"/>
            <p:cNvGrpSpPr/>
            <p:nvPr/>
          </p:nvGrpSpPr>
          <p:grpSpPr>
            <a:xfrm>
              <a:off x="4030560" y="4269240"/>
              <a:ext cx="398520" cy="1072800"/>
              <a:chOff x="4030560" y="4269240"/>
              <a:chExt cx="398520" cy="1072800"/>
            </a:xfrm>
          </p:grpSpPr>
          <p:grpSp>
            <p:nvGrpSpPr>
              <p:cNvPr id="95" name="Gruppe 52"/>
              <p:cNvGrpSpPr/>
              <p:nvPr/>
            </p:nvGrpSpPr>
            <p:grpSpPr>
              <a:xfrm>
                <a:off x="4030560" y="4269240"/>
                <a:ext cx="398520" cy="1072800"/>
                <a:chOff x="4030560" y="4269240"/>
                <a:chExt cx="398520" cy="1072800"/>
              </a:xfrm>
            </p:grpSpPr>
            <p:sp>
              <p:nvSpPr>
                <p:cNvPr id="96" name="Freeform 137"/>
                <p:cNvSpPr/>
                <p:nvPr/>
              </p:nvSpPr>
              <p:spPr>
                <a:xfrm>
                  <a:off x="4122720" y="4422960"/>
                  <a:ext cx="285840" cy="626760"/>
                </a:xfrm>
                <a:custGeom>
                  <a:avLst/>
                  <a:gdLst>
                    <a:gd name="textAreaLeft" fmla="*/ 0 w 285840"/>
                    <a:gd name="textAreaRight" fmla="*/ 286200 w 285840"/>
                    <a:gd name="textAreaTop" fmla="*/ 0 h 626760"/>
                    <a:gd name="textAreaBottom" fmla="*/ 627120 h 626760"/>
                  </a:gdLst>
                  <a:ahLst/>
                  <a:rect l="textAreaLeft" t="textAreaTop" r="textAreaRight" b="textAreaBottom"/>
                  <a:pathLst>
                    <a:path w="350" h="774">
                      <a:moveTo>
                        <a:pt x="344" y="262"/>
                      </a:moveTo>
                      <a:lnTo>
                        <a:pt x="344" y="262"/>
                      </a:lnTo>
                      <a:lnTo>
                        <a:pt x="322" y="164"/>
                      </a:lnTo>
                      <a:lnTo>
                        <a:pt x="300" y="102"/>
                      </a:lnTo>
                      <a:lnTo>
                        <a:pt x="300" y="96"/>
                      </a:lnTo>
                      <a:lnTo>
                        <a:pt x="300" y="88"/>
                      </a:lnTo>
                      <a:lnTo>
                        <a:pt x="296" y="80"/>
                      </a:lnTo>
                      <a:lnTo>
                        <a:pt x="294" y="76"/>
                      </a:lnTo>
                      <a:lnTo>
                        <a:pt x="294" y="72"/>
                      </a:lnTo>
                      <a:lnTo>
                        <a:pt x="292" y="56"/>
                      </a:lnTo>
                      <a:lnTo>
                        <a:pt x="288" y="46"/>
                      </a:lnTo>
                      <a:lnTo>
                        <a:pt x="284" y="40"/>
                      </a:lnTo>
                      <a:lnTo>
                        <a:pt x="280" y="36"/>
                      </a:lnTo>
                      <a:lnTo>
                        <a:pt x="270" y="30"/>
                      </a:lnTo>
                      <a:lnTo>
                        <a:pt x="260" y="26"/>
                      </a:lnTo>
                      <a:lnTo>
                        <a:pt x="258" y="26"/>
                      </a:lnTo>
                      <a:lnTo>
                        <a:pt x="234" y="20"/>
                      </a:lnTo>
                      <a:lnTo>
                        <a:pt x="226" y="18"/>
                      </a:lnTo>
                      <a:lnTo>
                        <a:pt x="212" y="14"/>
                      </a:lnTo>
                      <a:lnTo>
                        <a:pt x="176" y="8"/>
                      </a:lnTo>
                      <a:lnTo>
                        <a:pt x="120" y="0"/>
                      </a:lnTo>
                      <a:lnTo>
                        <a:pt x="112" y="0"/>
                      </a:lnTo>
                      <a:lnTo>
                        <a:pt x="98" y="4"/>
                      </a:lnTo>
                      <a:lnTo>
                        <a:pt x="84" y="8"/>
                      </a:lnTo>
                      <a:lnTo>
                        <a:pt x="76" y="14"/>
                      </a:lnTo>
                      <a:lnTo>
                        <a:pt x="68" y="18"/>
                      </a:lnTo>
                      <a:lnTo>
                        <a:pt x="58" y="22"/>
                      </a:lnTo>
                      <a:lnTo>
                        <a:pt x="42" y="28"/>
                      </a:lnTo>
                      <a:lnTo>
                        <a:pt x="28" y="32"/>
                      </a:lnTo>
                      <a:lnTo>
                        <a:pt x="12" y="36"/>
                      </a:lnTo>
                      <a:lnTo>
                        <a:pt x="8" y="38"/>
                      </a:lnTo>
                      <a:lnTo>
                        <a:pt x="6" y="42"/>
                      </a:lnTo>
                      <a:lnTo>
                        <a:pt x="4" y="48"/>
                      </a:lnTo>
                      <a:lnTo>
                        <a:pt x="0" y="60"/>
                      </a:lnTo>
                      <a:lnTo>
                        <a:pt x="0" y="70"/>
                      </a:lnTo>
                      <a:lnTo>
                        <a:pt x="2" y="80"/>
                      </a:lnTo>
                      <a:lnTo>
                        <a:pt x="6" y="86"/>
                      </a:lnTo>
                      <a:lnTo>
                        <a:pt x="18" y="106"/>
                      </a:lnTo>
                      <a:lnTo>
                        <a:pt x="30" y="158"/>
                      </a:lnTo>
                      <a:lnTo>
                        <a:pt x="42" y="208"/>
                      </a:lnTo>
                      <a:lnTo>
                        <a:pt x="50" y="224"/>
                      </a:lnTo>
                      <a:lnTo>
                        <a:pt x="56" y="240"/>
                      </a:lnTo>
                      <a:lnTo>
                        <a:pt x="60" y="252"/>
                      </a:lnTo>
                      <a:lnTo>
                        <a:pt x="64" y="266"/>
                      </a:lnTo>
                      <a:lnTo>
                        <a:pt x="72" y="284"/>
                      </a:lnTo>
                      <a:lnTo>
                        <a:pt x="80" y="304"/>
                      </a:lnTo>
                      <a:lnTo>
                        <a:pt x="82" y="312"/>
                      </a:lnTo>
                      <a:lnTo>
                        <a:pt x="84" y="318"/>
                      </a:lnTo>
                      <a:lnTo>
                        <a:pt x="82" y="332"/>
                      </a:lnTo>
                      <a:lnTo>
                        <a:pt x="78" y="346"/>
                      </a:lnTo>
                      <a:lnTo>
                        <a:pt x="72" y="364"/>
                      </a:lnTo>
                      <a:lnTo>
                        <a:pt x="64" y="398"/>
                      </a:lnTo>
                      <a:lnTo>
                        <a:pt x="54" y="438"/>
                      </a:lnTo>
                      <a:lnTo>
                        <a:pt x="48" y="464"/>
                      </a:lnTo>
                      <a:lnTo>
                        <a:pt x="42" y="484"/>
                      </a:lnTo>
                      <a:lnTo>
                        <a:pt x="46" y="488"/>
                      </a:lnTo>
                      <a:lnTo>
                        <a:pt x="52" y="492"/>
                      </a:lnTo>
                      <a:lnTo>
                        <a:pt x="58" y="494"/>
                      </a:lnTo>
                      <a:lnTo>
                        <a:pt x="58" y="506"/>
                      </a:lnTo>
                      <a:lnTo>
                        <a:pt x="58" y="524"/>
                      </a:lnTo>
                      <a:lnTo>
                        <a:pt x="58" y="556"/>
                      </a:lnTo>
                      <a:lnTo>
                        <a:pt x="60" y="606"/>
                      </a:lnTo>
                      <a:lnTo>
                        <a:pt x="62" y="656"/>
                      </a:lnTo>
                      <a:lnTo>
                        <a:pt x="62" y="672"/>
                      </a:lnTo>
                      <a:lnTo>
                        <a:pt x="62" y="682"/>
                      </a:lnTo>
                      <a:lnTo>
                        <a:pt x="62" y="710"/>
                      </a:lnTo>
                      <a:lnTo>
                        <a:pt x="62" y="732"/>
                      </a:lnTo>
                      <a:lnTo>
                        <a:pt x="62" y="752"/>
                      </a:lnTo>
                      <a:lnTo>
                        <a:pt x="72" y="756"/>
                      </a:lnTo>
                      <a:lnTo>
                        <a:pt x="108" y="770"/>
                      </a:lnTo>
                      <a:lnTo>
                        <a:pt x="122" y="774"/>
                      </a:lnTo>
                      <a:lnTo>
                        <a:pt x="136" y="774"/>
                      </a:lnTo>
                      <a:lnTo>
                        <a:pt x="152" y="774"/>
                      </a:lnTo>
                      <a:lnTo>
                        <a:pt x="168" y="770"/>
                      </a:lnTo>
                      <a:lnTo>
                        <a:pt x="196" y="764"/>
                      </a:lnTo>
                      <a:lnTo>
                        <a:pt x="214" y="760"/>
                      </a:lnTo>
                      <a:lnTo>
                        <a:pt x="264" y="746"/>
                      </a:lnTo>
                      <a:lnTo>
                        <a:pt x="288" y="738"/>
                      </a:lnTo>
                      <a:lnTo>
                        <a:pt x="310" y="728"/>
                      </a:lnTo>
                      <a:lnTo>
                        <a:pt x="330" y="716"/>
                      </a:lnTo>
                      <a:lnTo>
                        <a:pt x="328" y="676"/>
                      </a:lnTo>
                      <a:lnTo>
                        <a:pt x="326" y="616"/>
                      </a:lnTo>
                      <a:lnTo>
                        <a:pt x="326" y="532"/>
                      </a:lnTo>
                      <a:lnTo>
                        <a:pt x="324" y="468"/>
                      </a:lnTo>
                      <a:lnTo>
                        <a:pt x="326" y="460"/>
                      </a:lnTo>
                      <a:lnTo>
                        <a:pt x="326" y="446"/>
                      </a:lnTo>
                      <a:lnTo>
                        <a:pt x="324" y="434"/>
                      </a:lnTo>
                      <a:lnTo>
                        <a:pt x="316" y="408"/>
                      </a:lnTo>
                      <a:lnTo>
                        <a:pt x="310" y="392"/>
                      </a:lnTo>
                      <a:lnTo>
                        <a:pt x="308" y="384"/>
                      </a:lnTo>
                      <a:lnTo>
                        <a:pt x="324" y="344"/>
                      </a:lnTo>
                      <a:lnTo>
                        <a:pt x="338" y="314"/>
                      </a:lnTo>
                      <a:lnTo>
                        <a:pt x="342" y="298"/>
                      </a:lnTo>
                      <a:lnTo>
                        <a:pt x="344" y="290"/>
                      </a:lnTo>
                      <a:lnTo>
                        <a:pt x="348" y="280"/>
                      </a:lnTo>
                      <a:lnTo>
                        <a:pt x="350" y="276"/>
                      </a:lnTo>
                      <a:lnTo>
                        <a:pt x="348" y="272"/>
                      </a:lnTo>
                      <a:lnTo>
                        <a:pt x="344" y="262"/>
                      </a:lnTo>
                      <a:close/>
                      <a:moveTo>
                        <a:pt x="280" y="246"/>
                      </a:moveTo>
                      <a:lnTo>
                        <a:pt x="276" y="250"/>
                      </a:lnTo>
                      <a:lnTo>
                        <a:pt x="276" y="256"/>
                      </a:lnTo>
                      <a:lnTo>
                        <a:pt x="272" y="258"/>
                      </a:lnTo>
                      <a:lnTo>
                        <a:pt x="274" y="236"/>
                      </a:lnTo>
                      <a:lnTo>
                        <a:pt x="278" y="236"/>
                      </a:lnTo>
                      <a:lnTo>
                        <a:pt x="280" y="238"/>
                      </a:lnTo>
                      <a:lnTo>
                        <a:pt x="282" y="240"/>
                      </a:lnTo>
                      <a:lnTo>
                        <a:pt x="282" y="246"/>
                      </a:lnTo>
                      <a:lnTo>
                        <a:pt x="280" y="2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139"/>
                <p:cNvSpPr/>
                <p:nvPr/>
              </p:nvSpPr>
              <p:spPr>
                <a:xfrm>
                  <a:off x="4160520" y="4269240"/>
                  <a:ext cx="166680" cy="176040"/>
                </a:xfrm>
                <a:custGeom>
                  <a:avLst/>
                  <a:gdLst>
                    <a:gd name="textAreaLeft" fmla="*/ 0 w 166680"/>
                    <a:gd name="textAreaRight" fmla="*/ 166680 w 166680"/>
                    <a:gd name="textAreaTop" fmla="*/ 0 h 176040"/>
                    <a:gd name="textAreaBottom" fmla="*/ 176400 h 176040"/>
                  </a:gdLst>
                  <a:ahLst/>
                  <a:rect l="textAreaLeft" t="textAreaTop" r="textAreaRight" b="textAreaBottom"/>
                  <a:pathLst>
                    <a:path w="202" h="216">
                      <a:moveTo>
                        <a:pt x="112" y="4"/>
                      </a:moveTo>
                      <a:lnTo>
                        <a:pt x="112" y="4"/>
                      </a:lnTo>
                      <a:lnTo>
                        <a:pt x="120" y="2"/>
                      </a:lnTo>
                      <a:lnTo>
                        <a:pt x="126" y="2"/>
                      </a:lnTo>
                      <a:lnTo>
                        <a:pt x="130" y="4"/>
                      </a:lnTo>
                      <a:lnTo>
                        <a:pt x="146" y="4"/>
                      </a:lnTo>
                      <a:lnTo>
                        <a:pt x="160" y="6"/>
                      </a:lnTo>
                      <a:lnTo>
                        <a:pt x="166" y="8"/>
                      </a:lnTo>
                      <a:lnTo>
                        <a:pt x="172" y="12"/>
                      </a:lnTo>
                      <a:lnTo>
                        <a:pt x="176" y="18"/>
                      </a:lnTo>
                      <a:lnTo>
                        <a:pt x="180" y="24"/>
                      </a:lnTo>
                      <a:lnTo>
                        <a:pt x="184" y="40"/>
                      </a:lnTo>
                      <a:lnTo>
                        <a:pt x="184" y="54"/>
                      </a:lnTo>
                      <a:lnTo>
                        <a:pt x="184" y="62"/>
                      </a:lnTo>
                      <a:lnTo>
                        <a:pt x="188" y="90"/>
                      </a:lnTo>
                      <a:lnTo>
                        <a:pt x="190" y="108"/>
                      </a:lnTo>
                      <a:lnTo>
                        <a:pt x="188" y="122"/>
                      </a:lnTo>
                      <a:lnTo>
                        <a:pt x="180" y="148"/>
                      </a:lnTo>
                      <a:lnTo>
                        <a:pt x="180" y="156"/>
                      </a:lnTo>
                      <a:lnTo>
                        <a:pt x="182" y="166"/>
                      </a:lnTo>
                      <a:lnTo>
                        <a:pt x="188" y="176"/>
                      </a:lnTo>
                      <a:lnTo>
                        <a:pt x="192" y="178"/>
                      </a:lnTo>
                      <a:lnTo>
                        <a:pt x="196" y="180"/>
                      </a:lnTo>
                      <a:lnTo>
                        <a:pt x="192" y="180"/>
                      </a:lnTo>
                      <a:lnTo>
                        <a:pt x="188" y="180"/>
                      </a:lnTo>
                      <a:lnTo>
                        <a:pt x="184" y="180"/>
                      </a:lnTo>
                      <a:lnTo>
                        <a:pt x="188" y="190"/>
                      </a:lnTo>
                      <a:lnTo>
                        <a:pt x="194" y="194"/>
                      </a:lnTo>
                      <a:lnTo>
                        <a:pt x="198" y="196"/>
                      </a:lnTo>
                      <a:lnTo>
                        <a:pt x="202" y="194"/>
                      </a:lnTo>
                      <a:lnTo>
                        <a:pt x="200" y="204"/>
                      </a:lnTo>
                      <a:lnTo>
                        <a:pt x="196" y="212"/>
                      </a:lnTo>
                      <a:lnTo>
                        <a:pt x="192" y="214"/>
                      </a:lnTo>
                      <a:lnTo>
                        <a:pt x="188" y="216"/>
                      </a:lnTo>
                      <a:lnTo>
                        <a:pt x="180" y="216"/>
                      </a:lnTo>
                      <a:lnTo>
                        <a:pt x="170" y="214"/>
                      </a:lnTo>
                      <a:lnTo>
                        <a:pt x="166" y="212"/>
                      </a:lnTo>
                      <a:lnTo>
                        <a:pt x="162" y="208"/>
                      </a:lnTo>
                      <a:lnTo>
                        <a:pt x="158" y="202"/>
                      </a:lnTo>
                      <a:lnTo>
                        <a:pt x="158" y="196"/>
                      </a:lnTo>
                      <a:lnTo>
                        <a:pt x="156" y="192"/>
                      </a:lnTo>
                      <a:lnTo>
                        <a:pt x="154" y="190"/>
                      </a:lnTo>
                      <a:lnTo>
                        <a:pt x="144" y="188"/>
                      </a:lnTo>
                      <a:lnTo>
                        <a:pt x="140" y="186"/>
                      </a:lnTo>
                      <a:lnTo>
                        <a:pt x="136" y="184"/>
                      </a:lnTo>
                      <a:lnTo>
                        <a:pt x="134" y="180"/>
                      </a:lnTo>
                      <a:lnTo>
                        <a:pt x="134" y="176"/>
                      </a:lnTo>
                      <a:lnTo>
                        <a:pt x="78" y="180"/>
                      </a:lnTo>
                      <a:lnTo>
                        <a:pt x="70" y="190"/>
                      </a:lnTo>
                      <a:lnTo>
                        <a:pt x="70" y="194"/>
                      </a:lnTo>
                      <a:lnTo>
                        <a:pt x="70" y="200"/>
                      </a:lnTo>
                      <a:lnTo>
                        <a:pt x="70" y="206"/>
                      </a:lnTo>
                      <a:lnTo>
                        <a:pt x="68" y="208"/>
                      </a:lnTo>
                      <a:lnTo>
                        <a:pt x="64" y="212"/>
                      </a:lnTo>
                      <a:lnTo>
                        <a:pt x="60" y="212"/>
                      </a:lnTo>
                      <a:lnTo>
                        <a:pt x="56" y="214"/>
                      </a:lnTo>
                      <a:lnTo>
                        <a:pt x="48" y="212"/>
                      </a:lnTo>
                      <a:lnTo>
                        <a:pt x="42" y="214"/>
                      </a:lnTo>
                      <a:lnTo>
                        <a:pt x="28" y="216"/>
                      </a:lnTo>
                      <a:lnTo>
                        <a:pt x="22" y="214"/>
                      </a:lnTo>
                      <a:lnTo>
                        <a:pt x="14" y="210"/>
                      </a:lnTo>
                      <a:lnTo>
                        <a:pt x="8" y="204"/>
                      </a:lnTo>
                      <a:lnTo>
                        <a:pt x="6" y="196"/>
                      </a:lnTo>
                      <a:lnTo>
                        <a:pt x="0" y="188"/>
                      </a:lnTo>
                      <a:lnTo>
                        <a:pt x="6" y="190"/>
                      </a:lnTo>
                      <a:lnTo>
                        <a:pt x="12" y="190"/>
                      </a:lnTo>
                      <a:lnTo>
                        <a:pt x="14" y="190"/>
                      </a:lnTo>
                      <a:lnTo>
                        <a:pt x="14" y="188"/>
                      </a:lnTo>
                      <a:lnTo>
                        <a:pt x="18" y="182"/>
                      </a:lnTo>
                      <a:lnTo>
                        <a:pt x="24" y="178"/>
                      </a:lnTo>
                      <a:lnTo>
                        <a:pt x="26" y="172"/>
                      </a:lnTo>
                      <a:lnTo>
                        <a:pt x="26" y="166"/>
                      </a:lnTo>
                      <a:lnTo>
                        <a:pt x="24" y="158"/>
                      </a:lnTo>
                      <a:lnTo>
                        <a:pt x="22" y="146"/>
                      </a:lnTo>
                      <a:lnTo>
                        <a:pt x="18" y="134"/>
                      </a:lnTo>
                      <a:lnTo>
                        <a:pt x="18" y="124"/>
                      </a:lnTo>
                      <a:lnTo>
                        <a:pt x="18" y="114"/>
                      </a:lnTo>
                      <a:lnTo>
                        <a:pt x="22" y="106"/>
                      </a:lnTo>
                      <a:lnTo>
                        <a:pt x="30" y="88"/>
                      </a:lnTo>
                      <a:lnTo>
                        <a:pt x="32" y="78"/>
                      </a:lnTo>
                      <a:lnTo>
                        <a:pt x="36" y="68"/>
                      </a:lnTo>
                      <a:lnTo>
                        <a:pt x="40" y="56"/>
                      </a:lnTo>
                      <a:lnTo>
                        <a:pt x="48" y="42"/>
                      </a:lnTo>
                      <a:lnTo>
                        <a:pt x="60" y="30"/>
                      </a:lnTo>
                      <a:lnTo>
                        <a:pt x="72" y="18"/>
                      </a:lnTo>
                      <a:lnTo>
                        <a:pt x="84" y="10"/>
                      </a:lnTo>
                      <a:lnTo>
                        <a:pt x="94" y="2"/>
                      </a:lnTo>
                      <a:lnTo>
                        <a:pt x="104" y="0"/>
                      </a:lnTo>
                      <a:lnTo>
                        <a:pt x="108" y="2"/>
                      </a:lnTo>
                      <a:lnTo>
                        <a:pt x="1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141"/>
                <p:cNvSpPr/>
                <p:nvPr/>
              </p:nvSpPr>
              <p:spPr>
                <a:xfrm>
                  <a:off x="4219560" y="4289760"/>
                  <a:ext cx="82440" cy="120600"/>
                </a:xfrm>
                <a:custGeom>
                  <a:avLst/>
                  <a:gdLst>
                    <a:gd name="textAreaLeft" fmla="*/ 0 w 82440"/>
                    <a:gd name="textAreaRight" fmla="*/ 82800 w 8244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106" h="150">
                      <a:moveTo>
                        <a:pt x="92" y="20"/>
                      </a:moveTo>
                      <a:lnTo>
                        <a:pt x="92" y="20"/>
                      </a:lnTo>
                      <a:lnTo>
                        <a:pt x="98" y="34"/>
                      </a:lnTo>
                      <a:lnTo>
                        <a:pt x="104" y="46"/>
                      </a:lnTo>
                      <a:lnTo>
                        <a:pt x="106" y="56"/>
                      </a:lnTo>
                      <a:lnTo>
                        <a:pt x="106" y="74"/>
                      </a:lnTo>
                      <a:lnTo>
                        <a:pt x="102" y="96"/>
                      </a:lnTo>
                      <a:lnTo>
                        <a:pt x="100" y="110"/>
                      </a:lnTo>
                      <a:lnTo>
                        <a:pt x="96" y="120"/>
                      </a:lnTo>
                      <a:lnTo>
                        <a:pt x="80" y="146"/>
                      </a:lnTo>
                      <a:lnTo>
                        <a:pt x="76" y="148"/>
                      </a:lnTo>
                      <a:lnTo>
                        <a:pt x="70" y="150"/>
                      </a:lnTo>
                      <a:lnTo>
                        <a:pt x="64" y="150"/>
                      </a:lnTo>
                      <a:lnTo>
                        <a:pt x="54" y="148"/>
                      </a:lnTo>
                      <a:lnTo>
                        <a:pt x="42" y="144"/>
                      </a:lnTo>
                      <a:lnTo>
                        <a:pt x="26" y="136"/>
                      </a:lnTo>
                      <a:lnTo>
                        <a:pt x="16" y="132"/>
                      </a:lnTo>
                      <a:lnTo>
                        <a:pt x="8" y="126"/>
                      </a:lnTo>
                      <a:lnTo>
                        <a:pt x="4" y="122"/>
                      </a:lnTo>
                      <a:lnTo>
                        <a:pt x="2" y="118"/>
                      </a:lnTo>
                      <a:lnTo>
                        <a:pt x="0" y="104"/>
                      </a:lnTo>
                      <a:lnTo>
                        <a:pt x="0" y="98"/>
                      </a:lnTo>
                      <a:lnTo>
                        <a:pt x="4" y="82"/>
                      </a:lnTo>
                      <a:lnTo>
                        <a:pt x="6" y="66"/>
                      </a:lnTo>
                      <a:lnTo>
                        <a:pt x="8" y="50"/>
                      </a:lnTo>
                      <a:lnTo>
                        <a:pt x="8" y="42"/>
                      </a:lnTo>
                      <a:lnTo>
                        <a:pt x="10" y="34"/>
                      </a:lnTo>
                      <a:lnTo>
                        <a:pt x="16" y="26"/>
                      </a:lnTo>
                      <a:lnTo>
                        <a:pt x="20" y="18"/>
                      </a:lnTo>
                      <a:lnTo>
                        <a:pt x="26" y="12"/>
                      </a:lnTo>
                      <a:lnTo>
                        <a:pt x="34" y="6"/>
                      </a:lnTo>
                      <a:lnTo>
                        <a:pt x="40" y="2"/>
                      </a:lnTo>
                      <a:lnTo>
                        <a:pt x="48" y="0"/>
                      </a:lnTo>
                      <a:lnTo>
                        <a:pt x="62" y="2"/>
                      </a:lnTo>
                      <a:lnTo>
                        <a:pt x="74" y="6"/>
                      </a:lnTo>
                      <a:lnTo>
                        <a:pt x="84" y="12"/>
                      </a:lnTo>
                      <a:lnTo>
                        <a:pt x="9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142"/>
                <p:cNvSpPr/>
                <p:nvPr/>
              </p:nvSpPr>
              <p:spPr>
                <a:xfrm>
                  <a:off x="4171680" y="4702320"/>
                  <a:ext cx="101520" cy="7128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124" h="88">
                      <a:moveTo>
                        <a:pt x="50" y="16"/>
                      </a:moveTo>
                      <a:lnTo>
                        <a:pt x="50" y="16"/>
                      </a:lnTo>
                      <a:lnTo>
                        <a:pt x="72" y="6"/>
                      </a:lnTo>
                      <a:lnTo>
                        <a:pt x="84" y="2"/>
                      </a:lnTo>
                      <a:lnTo>
                        <a:pt x="98" y="0"/>
                      </a:lnTo>
                      <a:lnTo>
                        <a:pt x="104" y="2"/>
                      </a:lnTo>
                      <a:lnTo>
                        <a:pt x="106" y="4"/>
                      </a:lnTo>
                      <a:lnTo>
                        <a:pt x="106" y="6"/>
                      </a:lnTo>
                      <a:lnTo>
                        <a:pt x="98" y="10"/>
                      </a:lnTo>
                      <a:lnTo>
                        <a:pt x="76" y="20"/>
                      </a:lnTo>
                      <a:lnTo>
                        <a:pt x="66" y="26"/>
                      </a:lnTo>
                      <a:lnTo>
                        <a:pt x="86" y="26"/>
                      </a:lnTo>
                      <a:lnTo>
                        <a:pt x="104" y="28"/>
                      </a:lnTo>
                      <a:lnTo>
                        <a:pt x="120" y="30"/>
                      </a:lnTo>
                      <a:lnTo>
                        <a:pt x="122" y="32"/>
                      </a:lnTo>
                      <a:lnTo>
                        <a:pt x="124" y="34"/>
                      </a:lnTo>
                      <a:lnTo>
                        <a:pt x="124" y="36"/>
                      </a:lnTo>
                      <a:lnTo>
                        <a:pt x="120" y="38"/>
                      </a:lnTo>
                      <a:lnTo>
                        <a:pt x="112" y="40"/>
                      </a:lnTo>
                      <a:lnTo>
                        <a:pt x="104" y="40"/>
                      </a:lnTo>
                      <a:lnTo>
                        <a:pt x="92" y="40"/>
                      </a:lnTo>
                      <a:lnTo>
                        <a:pt x="70" y="44"/>
                      </a:lnTo>
                      <a:lnTo>
                        <a:pt x="96" y="44"/>
                      </a:lnTo>
                      <a:lnTo>
                        <a:pt x="110" y="44"/>
                      </a:lnTo>
                      <a:lnTo>
                        <a:pt x="114" y="46"/>
                      </a:lnTo>
                      <a:lnTo>
                        <a:pt x="118" y="48"/>
                      </a:lnTo>
                      <a:lnTo>
                        <a:pt x="118" y="50"/>
                      </a:lnTo>
                      <a:lnTo>
                        <a:pt x="116" y="54"/>
                      </a:lnTo>
                      <a:lnTo>
                        <a:pt x="114" y="56"/>
                      </a:lnTo>
                      <a:lnTo>
                        <a:pt x="110" y="56"/>
                      </a:lnTo>
                      <a:lnTo>
                        <a:pt x="62" y="60"/>
                      </a:lnTo>
                      <a:lnTo>
                        <a:pt x="58" y="62"/>
                      </a:lnTo>
                      <a:lnTo>
                        <a:pt x="76" y="66"/>
                      </a:lnTo>
                      <a:lnTo>
                        <a:pt x="88" y="64"/>
                      </a:lnTo>
                      <a:lnTo>
                        <a:pt x="94" y="64"/>
                      </a:lnTo>
                      <a:lnTo>
                        <a:pt x="96" y="66"/>
                      </a:lnTo>
                      <a:lnTo>
                        <a:pt x="98" y="68"/>
                      </a:lnTo>
                      <a:lnTo>
                        <a:pt x="96" y="72"/>
                      </a:lnTo>
                      <a:lnTo>
                        <a:pt x="92" y="74"/>
                      </a:lnTo>
                      <a:lnTo>
                        <a:pt x="86" y="74"/>
                      </a:lnTo>
                      <a:lnTo>
                        <a:pt x="54" y="76"/>
                      </a:lnTo>
                      <a:lnTo>
                        <a:pt x="40" y="80"/>
                      </a:lnTo>
                      <a:lnTo>
                        <a:pt x="26" y="86"/>
                      </a:lnTo>
                      <a:lnTo>
                        <a:pt x="14" y="88"/>
                      </a:lnTo>
                      <a:lnTo>
                        <a:pt x="0" y="88"/>
                      </a:lnTo>
                      <a:lnTo>
                        <a:pt x="12" y="68"/>
                      </a:lnTo>
                      <a:lnTo>
                        <a:pt x="22" y="50"/>
                      </a:lnTo>
                      <a:lnTo>
                        <a:pt x="24" y="42"/>
                      </a:lnTo>
                      <a:lnTo>
                        <a:pt x="26" y="32"/>
                      </a:lnTo>
                      <a:lnTo>
                        <a:pt x="32" y="26"/>
                      </a:lnTo>
                      <a:lnTo>
                        <a:pt x="40" y="20"/>
                      </a:lnTo>
                      <a:lnTo>
                        <a:pt x="5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143"/>
                <p:cNvSpPr/>
                <p:nvPr/>
              </p:nvSpPr>
              <p:spPr>
                <a:xfrm>
                  <a:off x="4157640" y="5011920"/>
                  <a:ext cx="271440" cy="33012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330120"/>
                    <a:gd name="textAreaBottom" fmla="*/ 330480 h 330120"/>
                  </a:gdLst>
                  <a:ahLst/>
                  <a:rect l="textAreaLeft" t="textAreaTop" r="textAreaRight" b="textAreaBottom"/>
                  <a:pathLst>
                    <a:path w="330" h="408">
                      <a:moveTo>
                        <a:pt x="74" y="344"/>
                      </a:moveTo>
                      <a:lnTo>
                        <a:pt x="74" y="344"/>
                      </a:lnTo>
                      <a:lnTo>
                        <a:pt x="60" y="290"/>
                      </a:lnTo>
                      <a:lnTo>
                        <a:pt x="58" y="286"/>
                      </a:lnTo>
                      <a:lnTo>
                        <a:pt x="56" y="274"/>
                      </a:lnTo>
                      <a:lnTo>
                        <a:pt x="56" y="254"/>
                      </a:lnTo>
                      <a:lnTo>
                        <a:pt x="56" y="234"/>
                      </a:lnTo>
                      <a:lnTo>
                        <a:pt x="56" y="220"/>
                      </a:lnTo>
                      <a:lnTo>
                        <a:pt x="92" y="44"/>
                      </a:lnTo>
                      <a:lnTo>
                        <a:pt x="20" y="22"/>
                      </a:lnTo>
                      <a:lnTo>
                        <a:pt x="14" y="32"/>
                      </a:lnTo>
                      <a:lnTo>
                        <a:pt x="10" y="40"/>
                      </a:lnTo>
                      <a:lnTo>
                        <a:pt x="4" y="62"/>
                      </a:lnTo>
                      <a:lnTo>
                        <a:pt x="2" y="88"/>
                      </a:lnTo>
                      <a:lnTo>
                        <a:pt x="0" y="112"/>
                      </a:lnTo>
                      <a:lnTo>
                        <a:pt x="2" y="138"/>
                      </a:lnTo>
                      <a:lnTo>
                        <a:pt x="4" y="160"/>
                      </a:lnTo>
                      <a:lnTo>
                        <a:pt x="10" y="196"/>
                      </a:lnTo>
                      <a:lnTo>
                        <a:pt x="14" y="218"/>
                      </a:lnTo>
                      <a:lnTo>
                        <a:pt x="14" y="238"/>
                      </a:lnTo>
                      <a:lnTo>
                        <a:pt x="14" y="254"/>
                      </a:lnTo>
                      <a:lnTo>
                        <a:pt x="12" y="266"/>
                      </a:lnTo>
                      <a:lnTo>
                        <a:pt x="12" y="264"/>
                      </a:lnTo>
                      <a:lnTo>
                        <a:pt x="6" y="292"/>
                      </a:lnTo>
                      <a:lnTo>
                        <a:pt x="4" y="318"/>
                      </a:lnTo>
                      <a:lnTo>
                        <a:pt x="8" y="322"/>
                      </a:lnTo>
                      <a:lnTo>
                        <a:pt x="12" y="320"/>
                      </a:lnTo>
                      <a:lnTo>
                        <a:pt x="12" y="318"/>
                      </a:lnTo>
                      <a:lnTo>
                        <a:pt x="16" y="336"/>
                      </a:lnTo>
                      <a:lnTo>
                        <a:pt x="16" y="360"/>
                      </a:lnTo>
                      <a:lnTo>
                        <a:pt x="18" y="370"/>
                      </a:lnTo>
                      <a:lnTo>
                        <a:pt x="24" y="386"/>
                      </a:lnTo>
                      <a:lnTo>
                        <a:pt x="28" y="394"/>
                      </a:lnTo>
                      <a:lnTo>
                        <a:pt x="42" y="404"/>
                      </a:lnTo>
                      <a:lnTo>
                        <a:pt x="50" y="406"/>
                      </a:lnTo>
                      <a:lnTo>
                        <a:pt x="58" y="408"/>
                      </a:lnTo>
                      <a:lnTo>
                        <a:pt x="74" y="406"/>
                      </a:lnTo>
                      <a:lnTo>
                        <a:pt x="86" y="404"/>
                      </a:lnTo>
                      <a:lnTo>
                        <a:pt x="92" y="402"/>
                      </a:lnTo>
                      <a:lnTo>
                        <a:pt x="94" y="390"/>
                      </a:lnTo>
                      <a:lnTo>
                        <a:pt x="94" y="384"/>
                      </a:lnTo>
                      <a:lnTo>
                        <a:pt x="92" y="376"/>
                      </a:lnTo>
                      <a:lnTo>
                        <a:pt x="86" y="366"/>
                      </a:lnTo>
                      <a:lnTo>
                        <a:pt x="74" y="344"/>
                      </a:lnTo>
                      <a:close/>
                      <a:moveTo>
                        <a:pt x="326" y="268"/>
                      </a:moveTo>
                      <a:lnTo>
                        <a:pt x="326" y="268"/>
                      </a:lnTo>
                      <a:lnTo>
                        <a:pt x="324" y="266"/>
                      </a:lnTo>
                      <a:lnTo>
                        <a:pt x="318" y="262"/>
                      </a:lnTo>
                      <a:lnTo>
                        <a:pt x="310" y="254"/>
                      </a:lnTo>
                      <a:lnTo>
                        <a:pt x="298" y="246"/>
                      </a:lnTo>
                      <a:lnTo>
                        <a:pt x="292" y="238"/>
                      </a:lnTo>
                      <a:lnTo>
                        <a:pt x="284" y="230"/>
                      </a:lnTo>
                      <a:lnTo>
                        <a:pt x="280" y="224"/>
                      </a:lnTo>
                      <a:lnTo>
                        <a:pt x="274" y="216"/>
                      </a:lnTo>
                      <a:lnTo>
                        <a:pt x="268" y="202"/>
                      </a:lnTo>
                      <a:lnTo>
                        <a:pt x="262" y="184"/>
                      </a:lnTo>
                      <a:lnTo>
                        <a:pt x="260" y="0"/>
                      </a:lnTo>
                      <a:lnTo>
                        <a:pt x="190" y="26"/>
                      </a:lnTo>
                      <a:lnTo>
                        <a:pt x="192" y="42"/>
                      </a:lnTo>
                      <a:lnTo>
                        <a:pt x="192" y="66"/>
                      </a:lnTo>
                      <a:lnTo>
                        <a:pt x="194" y="82"/>
                      </a:lnTo>
                      <a:lnTo>
                        <a:pt x="200" y="112"/>
                      </a:lnTo>
                      <a:lnTo>
                        <a:pt x="212" y="158"/>
                      </a:lnTo>
                      <a:lnTo>
                        <a:pt x="212" y="178"/>
                      </a:lnTo>
                      <a:lnTo>
                        <a:pt x="210" y="186"/>
                      </a:lnTo>
                      <a:lnTo>
                        <a:pt x="206" y="194"/>
                      </a:lnTo>
                      <a:lnTo>
                        <a:pt x="202" y="208"/>
                      </a:lnTo>
                      <a:lnTo>
                        <a:pt x="200" y="222"/>
                      </a:lnTo>
                      <a:lnTo>
                        <a:pt x="202" y="228"/>
                      </a:lnTo>
                      <a:lnTo>
                        <a:pt x="204" y="232"/>
                      </a:lnTo>
                      <a:lnTo>
                        <a:pt x="206" y="238"/>
                      </a:lnTo>
                      <a:lnTo>
                        <a:pt x="208" y="244"/>
                      </a:lnTo>
                      <a:lnTo>
                        <a:pt x="210" y="258"/>
                      </a:lnTo>
                      <a:lnTo>
                        <a:pt x="212" y="276"/>
                      </a:lnTo>
                      <a:lnTo>
                        <a:pt x="218" y="278"/>
                      </a:lnTo>
                      <a:lnTo>
                        <a:pt x="222" y="274"/>
                      </a:lnTo>
                      <a:lnTo>
                        <a:pt x="218" y="232"/>
                      </a:lnTo>
                      <a:lnTo>
                        <a:pt x="224" y="238"/>
                      </a:lnTo>
                      <a:lnTo>
                        <a:pt x="236" y="244"/>
                      </a:lnTo>
                      <a:lnTo>
                        <a:pt x="242" y="250"/>
                      </a:lnTo>
                      <a:lnTo>
                        <a:pt x="244" y="256"/>
                      </a:lnTo>
                      <a:lnTo>
                        <a:pt x="246" y="260"/>
                      </a:lnTo>
                      <a:lnTo>
                        <a:pt x="252" y="276"/>
                      </a:lnTo>
                      <a:lnTo>
                        <a:pt x="258" y="286"/>
                      </a:lnTo>
                      <a:lnTo>
                        <a:pt x="262" y="294"/>
                      </a:lnTo>
                      <a:lnTo>
                        <a:pt x="266" y="298"/>
                      </a:lnTo>
                      <a:lnTo>
                        <a:pt x="274" y="300"/>
                      </a:lnTo>
                      <a:lnTo>
                        <a:pt x="294" y="302"/>
                      </a:lnTo>
                      <a:lnTo>
                        <a:pt x="322" y="304"/>
                      </a:lnTo>
                      <a:lnTo>
                        <a:pt x="324" y="300"/>
                      </a:lnTo>
                      <a:lnTo>
                        <a:pt x="326" y="296"/>
                      </a:lnTo>
                      <a:lnTo>
                        <a:pt x="328" y="288"/>
                      </a:lnTo>
                      <a:lnTo>
                        <a:pt x="330" y="284"/>
                      </a:lnTo>
                      <a:lnTo>
                        <a:pt x="328" y="276"/>
                      </a:lnTo>
                      <a:lnTo>
                        <a:pt x="326" y="2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144"/>
                <p:cNvSpPr/>
                <p:nvPr/>
              </p:nvSpPr>
              <p:spPr>
                <a:xfrm>
                  <a:off x="4030560" y="4432680"/>
                  <a:ext cx="162000" cy="345960"/>
                </a:xfrm>
                <a:custGeom>
                  <a:avLst/>
                  <a:gdLst>
                    <a:gd name="textAreaLeft" fmla="*/ 0 w 162000"/>
                    <a:gd name="textAreaRight" fmla="*/ 162360 w 162000"/>
                    <a:gd name="textAreaTop" fmla="*/ 0 h 345960"/>
                    <a:gd name="textAreaBottom" fmla="*/ 346320 h 345960"/>
                  </a:gdLst>
                  <a:ahLst/>
                  <a:rect l="textAreaLeft" t="textAreaTop" r="textAreaRight" b="textAreaBottom"/>
                  <a:pathLst>
                    <a:path w="202" h="426">
                      <a:moveTo>
                        <a:pt x="166" y="184"/>
                      </a:moveTo>
                      <a:lnTo>
                        <a:pt x="166" y="184"/>
                      </a:lnTo>
                      <a:lnTo>
                        <a:pt x="152" y="196"/>
                      </a:lnTo>
                      <a:lnTo>
                        <a:pt x="140" y="210"/>
                      </a:lnTo>
                      <a:lnTo>
                        <a:pt x="130" y="226"/>
                      </a:lnTo>
                      <a:lnTo>
                        <a:pt x="124" y="236"/>
                      </a:lnTo>
                      <a:lnTo>
                        <a:pt x="118" y="242"/>
                      </a:lnTo>
                      <a:lnTo>
                        <a:pt x="104" y="252"/>
                      </a:lnTo>
                      <a:lnTo>
                        <a:pt x="92" y="258"/>
                      </a:lnTo>
                      <a:lnTo>
                        <a:pt x="88" y="258"/>
                      </a:lnTo>
                      <a:lnTo>
                        <a:pt x="86" y="262"/>
                      </a:lnTo>
                      <a:lnTo>
                        <a:pt x="86" y="266"/>
                      </a:lnTo>
                      <a:lnTo>
                        <a:pt x="90" y="268"/>
                      </a:lnTo>
                      <a:lnTo>
                        <a:pt x="92" y="270"/>
                      </a:lnTo>
                      <a:lnTo>
                        <a:pt x="94" y="272"/>
                      </a:lnTo>
                      <a:lnTo>
                        <a:pt x="98" y="282"/>
                      </a:lnTo>
                      <a:lnTo>
                        <a:pt x="104" y="292"/>
                      </a:lnTo>
                      <a:lnTo>
                        <a:pt x="116" y="306"/>
                      </a:lnTo>
                      <a:lnTo>
                        <a:pt x="134" y="324"/>
                      </a:lnTo>
                      <a:lnTo>
                        <a:pt x="142" y="336"/>
                      </a:lnTo>
                      <a:lnTo>
                        <a:pt x="166" y="348"/>
                      </a:lnTo>
                      <a:lnTo>
                        <a:pt x="184" y="356"/>
                      </a:lnTo>
                      <a:lnTo>
                        <a:pt x="196" y="360"/>
                      </a:lnTo>
                      <a:lnTo>
                        <a:pt x="198" y="362"/>
                      </a:lnTo>
                      <a:lnTo>
                        <a:pt x="198" y="370"/>
                      </a:lnTo>
                      <a:lnTo>
                        <a:pt x="192" y="390"/>
                      </a:lnTo>
                      <a:lnTo>
                        <a:pt x="186" y="400"/>
                      </a:lnTo>
                      <a:lnTo>
                        <a:pt x="180" y="412"/>
                      </a:lnTo>
                      <a:lnTo>
                        <a:pt x="172" y="420"/>
                      </a:lnTo>
                      <a:lnTo>
                        <a:pt x="164" y="426"/>
                      </a:lnTo>
                      <a:lnTo>
                        <a:pt x="48" y="334"/>
                      </a:lnTo>
                      <a:lnTo>
                        <a:pt x="34" y="322"/>
                      </a:lnTo>
                      <a:lnTo>
                        <a:pt x="26" y="314"/>
                      </a:lnTo>
                      <a:lnTo>
                        <a:pt x="20" y="306"/>
                      </a:lnTo>
                      <a:lnTo>
                        <a:pt x="6" y="282"/>
                      </a:lnTo>
                      <a:lnTo>
                        <a:pt x="4" y="278"/>
                      </a:lnTo>
                      <a:lnTo>
                        <a:pt x="0" y="270"/>
                      </a:lnTo>
                      <a:lnTo>
                        <a:pt x="0" y="262"/>
                      </a:lnTo>
                      <a:lnTo>
                        <a:pt x="0" y="258"/>
                      </a:lnTo>
                      <a:lnTo>
                        <a:pt x="4" y="252"/>
                      </a:lnTo>
                      <a:lnTo>
                        <a:pt x="82" y="124"/>
                      </a:lnTo>
                      <a:lnTo>
                        <a:pt x="104" y="62"/>
                      </a:lnTo>
                      <a:lnTo>
                        <a:pt x="112" y="48"/>
                      </a:lnTo>
                      <a:lnTo>
                        <a:pt x="118" y="36"/>
                      </a:lnTo>
                      <a:lnTo>
                        <a:pt x="124" y="28"/>
                      </a:lnTo>
                      <a:lnTo>
                        <a:pt x="130" y="24"/>
                      </a:lnTo>
                      <a:lnTo>
                        <a:pt x="134" y="22"/>
                      </a:lnTo>
                      <a:lnTo>
                        <a:pt x="144" y="20"/>
                      </a:lnTo>
                      <a:lnTo>
                        <a:pt x="202" y="0"/>
                      </a:lnTo>
                      <a:lnTo>
                        <a:pt x="200" y="24"/>
                      </a:lnTo>
                      <a:lnTo>
                        <a:pt x="192" y="78"/>
                      </a:lnTo>
                      <a:lnTo>
                        <a:pt x="188" y="108"/>
                      </a:lnTo>
                      <a:lnTo>
                        <a:pt x="182" y="138"/>
                      </a:lnTo>
                      <a:lnTo>
                        <a:pt x="174" y="164"/>
                      </a:lnTo>
                      <a:lnTo>
                        <a:pt x="166" y="1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Freeform 138"/>
              <p:cNvSpPr/>
              <p:nvPr/>
            </p:nvSpPr>
            <p:spPr>
              <a:xfrm>
                <a:off x="4207680" y="4416840"/>
                <a:ext cx="97560" cy="15912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120" h="196">
                    <a:moveTo>
                      <a:pt x="82" y="2"/>
                    </a:moveTo>
                    <a:lnTo>
                      <a:pt x="82" y="2"/>
                    </a:lnTo>
                    <a:lnTo>
                      <a:pt x="96" y="24"/>
                    </a:lnTo>
                    <a:lnTo>
                      <a:pt x="98" y="34"/>
                    </a:lnTo>
                    <a:lnTo>
                      <a:pt x="102" y="46"/>
                    </a:lnTo>
                    <a:lnTo>
                      <a:pt x="106" y="70"/>
                    </a:lnTo>
                    <a:lnTo>
                      <a:pt x="114" y="120"/>
                    </a:lnTo>
                    <a:lnTo>
                      <a:pt x="118" y="170"/>
                    </a:lnTo>
                    <a:lnTo>
                      <a:pt x="120" y="188"/>
                    </a:lnTo>
                    <a:lnTo>
                      <a:pt x="118" y="196"/>
                    </a:lnTo>
                    <a:lnTo>
                      <a:pt x="106" y="174"/>
                    </a:lnTo>
                    <a:lnTo>
                      <a:pt x="76" y="120"/>
                    </a:lnTo>
                    <a:lnTo>
                      <a:pt x="58" y="90"/>
                    </a:lnTo>
                    <a:lnTo>
                      <a:pt x="38" y="62"/>
                    </a:lnTo>
                    <a:lnTo>
                      <a:pt x="22" y="40"/>
                    </a:lnTo>
                    <a:lnTo>
                      <a:pt x="14" y="32"/>
                    </a:lnTo>
                    <a:lnTo>
                      <a:pt x="8" y="26"/>
                    </a:lnTo>
                    <a:lnTo>
                      <a:pt x="0" y="22"/>
                    </a:lnTo>
                    <a:lnTo>
                      <a:pt x="2" y="12"/>
                    </a:lnTo>
                    <a:lnTo>
                      <a:pt x="36" y="4"/>
                    </a:lnTo>
                    <a:lnTo>
                      <a:pt x="64" y="0"/>
                    </a:lnTo>
                    <a:lnTo>
                      <a:pt x="74" y="0"/>
                    </a:lnTo>
                    <a:lnTo>
                      <a:pt x="8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140"/>
              <p:cNvSpPr/>
              <p:nvPr/>
            </p:nvSpPr>
            <p:spPr>
              <a:xfrm>
                <a:off x="4224240" y="4381560"/>
                <a:ext cx="69840" cy="1108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90" h="140">
                    <a:moveTo>
                      <a:pt x="78" y="48"/>
                    </a:moveTo>
                    <a:lnTo>
                      <a:pt x="78" y="48"/>
                    </a:lnTo>
                    <a:lnTo>
                      <a:pt x="76" y="54"/>
                    </a:lnTo>
                    <a:lnTo>
                      <a:pt x="72" y="68"/>
                    </a:lnTo>
                    <a:lnTo>
                      <a:pt x="72" y="78"/>
                    </a:lnTo>
                    <a:lnTo>
                      <a:pt x="74" y="84"/>
                    </a:lnTo>
                    <a:lnTo>
                      <a:pt x="76" y="90"/>
                    </a:lnTo>
                    <a:lnTo>
                      <a:pt x="82" y="94"/>
                    </a:lnTo>
                    <a:lnTo>
                      <a:pt x="90" y="96"/>
                    </a:lnTo>
                    <a:lnTo>
                      <a:pt x="90" y="102"/>
                    </a:lnTo>
                    <a:lnTo>
                      <a:pt x="90" y="108"/>
                    </a:lnTo>
                    <a:lnTo>
                      <a:pt x="88" y="112"/>
                    </a:lnTo>
                    <a:lnTo>
                      <a:pt x="84" y="118"/>
                    </a:lnTo>
                    <a:lnTo>
                      <a:pt x="82" y="128"/>
                    </a:lnTo>
                    <a:lnTo>
                      <a:pt x="78" y="140"/>
                    </a:lnTo>
                    <a:lnTo>
                      <a:pt x="74" y="138"/>
                    </a:lnTo>
                    <a:lnTo>
                      <a:pt x="78" y="134"/>
                    </a:lnTo>
                    <a:lnTo>
                      <a:pt x="78" y="128"/>
                    </a:lnTo>
                    <a:lnTo>
                      <a:pt x="74" y="122"/>
                    </a:lnTo>
                    <a:lnTo>
                      <a:pt x="68" y="118"/>
                    </a:lnTo>
                    <a:lnTo>
                      <a:pt x="58" y="112"/>
                    </a:lnTo>
                    <a:lnTo>
                      <a:pt x="38" y="102"/>
                    </a:lnTo>
                    <a:lnTo>
                      <a:pt x="28" y="96"/>
                    </a:lnTo>
                    <a:lnTo>
                      <a:pt x="22" y="90"/>
                    </a:lnTo>
                    <a:lnTo>
                      <a:pt x="14" y="82"/>
                    </a:lnTo>
                    <a:lnTo>
                      <a:pt x="8" y="76"/>
                    </a:lnTo>
                    <a:lnTo>
                      <a:pt x="6" y="48"/>
                    </a:lnTo>
                    <a:lnTo>
                      <a:pt x="4" y="28"/>
                    </a:lnTo>
                    <a:lnTo>
                      <a:pt x="0" y="14"/>
                    </a:lnTo>
                    <a:lnTo>
                      <a:pt x="4" y="10"/>
                    </a:lnTo>
                    <a:lnTo>
                      <a:pt x="8" y="2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20" y="6"/>
                    </a:lnTo>
                    <a:lnTo>
                      <a:pt x="44" y="22"/>
                    </a:lnTo>
                    <a:lnTo>
                      <a:pt x="78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Freeform 5"/>
            <p:cNvSpPr/>
            <p:nvPr/>
          </p:nvSpPr>
          <p:spPr>
            <a:xfrm>
              <a:off x="4476600" y="4272120"/>
              <a:ext cx="387360" cy="9972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997200"/>
                <a:gd name="textAreaBottom" fmla="*/ 997560 h 997200"/>
              </a:gdLst>
              <a:ahLst/>
              <a:rect l="textAreaLeft" t="textAreaTop" r="textAreaRight" b="textAreaBottom"/>
              <a:pathLst>
                <a:path w="600" h="1727">
                  <a:moveTo>
                    <a:pt x="588" y="660"/>
                  </a:moveTo>
                  <a:cubicBezTo>
                    <a:pt x="584" y="609"/>
                    <a:pt x="581" y="557"/>
                    <a:pt x="581" y="506"/>
                  </a:cubicBezTo>
                  <a:cubicBezTo>
                    <a:pt x="580" y="455"/>
                    <a:pt x="582" y="399"/>
                    <a:pt x="567" y="349"/>
                  </a:cubicBezTo>
                  <a:cubicBezTo>
                    <a:pt x="562" y="333"/>
                    <a:pt x="560" y="307"/>
                    <a:pt x="545" y="296"/>
                  </a:cubicBezTo>
                  <a:cubicBezTo>
                    <a:pt x="535" y="288"/>
                    <a:pt x="517" y="285"/>
                    <a:pt x="504" y="281"/>
                  </a:cubicBezTo>
                  <a:cubicBezTo>
                    <a:pt x="493" y="277"/>
                    <a:pt x="481" y="274"/>
                    <a:pt x="469" y="272"/>
                  </a:cubicBezTo>
                  <a:cubicBezTo>
                    <a:pt x="477" y="267"/>
                    <a:pt x="490" y="260"/>
                    <a:pt x="486" y="250"/>
                  </a:cubicBezTo>
                  <a:cubicBezTo>
                    <a:pt x="478" y="255"/>
                    <a:pt x="472" y="262"/>
                    <a:pt x="461" y="259"/>
                  </a:cubicBezTo>
                  <a:cubicBezTo>
                    <a:pt x="464" y="250"/>
                    <a:pt x="469" y="241"/>
                    <a:pt x="465" y="231"/>
                  </a:cubicBezTo>
                  <a:cubicBezTo>
                    <a:pt x="463" y="239"/>
                    <a:pt x="461" y="251"/>
                    <a:pt x="452" y="254"/>
                  </a:cubicBezTo>
                  <a:cubicBezTo>
                    <a:pt x="450" y="248"/>
                    <a:pt x="449" y="240"/>
                    <a:pt x="448" y="233"/>
                  </a:cubicBezTo>
                  <a:cubicBezTo>
                    <a:pt x="448" y="244"/>
                    <a:pt x="443" y="255"/>
                    <a:pt x="436" y="251"/>
                  </a:cubicBezTo>
                  <a:cubicBezTo>
                    <a:pt x="433" y="237"/>
                    <a:pt x="431" y="222"/>
                    <a:pt x="427" y="208"/>
                  </a:cubicBezTo>
                  <a:cubicBezTo>
                    <a:pt x="420" y="176"/>
                    <a:pt x="418" y="143"/>
                    <a:pt x="413" y="110"/>
                  </a:cubicBezTo>
                  <a:cubicBezTo>
                    <a:pt x="409" y="91"/>
                    <a:pt x="404" y="67"/>
                    <a:pt x="394" y="48"/>
                  </a:cubicBezTo>
                  <a:cubicBezTo>
                    <a:pt x="392" y="41"/>
                    <a:pt x="389" y="35"/>
                    <a:pt x="386" y="29"/>
                  </a:cubicBezTo>
                  <a:cubicBezTo>
                    <a:pt x="384" y="26"/>
                    <a:pt x="381" y="22"/>
                    <a:pt x="378" y="19"/>
                  </a:cubicBezTo>
                  <a:cubicBezTo>
                    <a:pt x="374" y="14"/>
                    <a:pt x="370" y="11"/>
                    <a:pt x="366" y="11"/>
                  </a:cubicBezTo>
                  <a:cubicBezTo>
                    <a:pt x="356" y="4"/>
                    <a:pt x="344" y="0"/>
                    <a:pt x="334" y="2"/>
                  </a:cubicBezTo>
                  <a:cubicBezTo>
                    <a:pt x="328" y="4"/>
                    <a:pt x="326" y="7"/>
                    <a:pt x="319" y="5"/>
                  </a:cubicBezTo>
                  <a:cubicBezTo>
                    <a:pt x="321" y="6"/>
                    <a:pt x="321" y="6"/>
                    <a:pt x="321" y="6"/>
                  </a:cubicBezTo>
                  <a:cubicBezTo>
                    <a:pt x="211" y="11"/>
                    <a:pt x="239" y="136"/>
                    <a:pt x="235" y="208"/>
                  </a:cubicBezTo>
                  <a:cubicBezTo>
                    <a:pt x="233" y="220"/>
                    <a:pt x="233" y="220"/>
                    <a:pt x="233" y="220"/>
                  </a:cubicBezTo>
                  <a:cubicBezTo>
                    <a:pt x="233" y="219"/>
                    <a:pt x="234" y="219"/>
                    <a:pt x="234" y="218"/>
                  </a:cubicBezTo>
                  <a:cubicBezTo>
                    <a:pt x="234" y="219"/>
                    <a:pt x="234" y="219"/>
                    <a:pt x="234" y="219"/>
                  </a:cubicBezTo>
                  <a:cubicBezTo>
                    <a:pt x="233" y="226"/>
                    <a:pt x="232" y="234"/>
                    <a:pt x="230" y="242"/>
                  </a:cubicBezTo>
                  <a:cubicBezTo>
                    <a:pt x="233" y="220"/>
                    <a:pt x="233" y="220"/>
                    <a:pt x="233" y="220"/>
                  </a:cubicBezTo>
                  <a:cubicBezTo>
                    <a:pt x="233" y="221"/>
                    <a:pt x="232" y="223"/>
                    <a:pt x="232" y="224"/>
                  </a:cubicBezTo>
                  <a:cubicBezTo>
                    <a:pt x="226" y="238"/>
                    <a:pt x="221" y="253"/>
                    <a:pt x="212" y="265"/>
                  </a:cubicBezTo>
                  <a:cubicBezTo>
                    <a:pt x="203" y="278"/>
                    <a:pt x="191" y="292"/>
                    <a:pt x="173" y="291"/>
                  </a:cubicBezTo>
                  <a:cubicBezTo>
                    <a:pt x="165" y="291"/>
                    <a:pt x="156" y="287"/>
                    <a:pt x="153" y="280"/>
                  </a:cubicBezTo>
                  <a:cubicBezTo>
                    <a:pt x="155" y="292"/>
                    <a:pt x="155" y="300"/>
                    <a:pt x="171" y="306"/>
                  </a:cubicBezTo>
                  <a:cubicBezTo>
                    <a:pt x="157" y="307"/>
                    <a:pt x="151" y="297"/>
                    <a:pt x="143" y="289"/>
                  </a:cubicBezTo>
                  <a:cubicBezTo>
                    <a:pt x="144" y="297"/>
                    <a:pt x="151" y="307"/>
                    <a:pt x="158" y="312"/>
                  </a:cubicBezTo>
                  <a:cubicBezTo>
                    <a:pt x="162" y="314"/>
                    <a:pt x="166" y="317"/>
                    <a:pt x="170" y="318"/>
                  </a:cubicBezTo>
                  <a:cubicBezTo>
                    <a:pt x="161" y="321"/>
                    <a:pt x="152" y="324"/>
                    <a:pt x="145" y="329"/>
                  </a:cubicBezTo>
                  <a:cubicBezTo>
                    <a:pt x="135" y="335"/>
                    <a:pt x="138" y="340"/>
                    <a:pt x="135" y="349"/>
                  </a:cubicBezTo>
                  <a:cubicBezTo>
                    <a:pt x="133" y="354"/>
                    <a:pt x="124" y="368"/>
                    <a:pt x="126" y="375"/>
                  </a:cubicBezTo>
                  <a:cubicBezTo>
                    <a:pt x="118" y="398"/>
                    <a:pt x="102" y="421"/>
                    <a:pt x="92" y="443"/>
                  </a:cubicBezTo>
                  <a:cubicBezTo>
                    <a:pt x="85" y="460"/>
                    <a:pt x="77" y="476"/>
                    <a:pt x="68" y="492"/>
                  </a:cubicBezTo>
                  <a:cubicBezTo>
                    <a:pt x="57" y="512"/>
                    <a:pt x="44" y="534"/>
                    <a:pt x="30" y="551"/>
                  </a:cubicBezTo>
                  <a:cubicBezTo>
                    <a:pt x="16" y="568"/>
                    <a:pt x="0" y="578"/>
                    <a:pt x="4" y="599"/>
                  </a:cubicBezTo>
                  <a:cubicBezTo>
                    <a:pt x="16" y="669"/>
                    <a:pt x="113" y="687"/>
                    <a:pt x="157" y="739"/>
                  </a:cubicBezTo>
                  <a:cubicBezTo>
                    <a:pt x="161" y="728"/>
                    <a:pt x="171" y="731"/>
                    <a:pt x="178" y="724"/>
                  </a:cubicBezTo>
                  <a:cubicBezTo>
                    <a:pt x="182" y="720"/>
                    <a:pt x="184" y="712"/>
                    <a:pt x="185" y="706"/>
                  </a:cubicBezTo>
                  <a:cubicBezTo>
                    <a:pt x="183" y="709"/>
                    <a:pt x="179" y="713"/>
                    <a:pt x="171" y="716"/>
                  </a:cubicBezTo>
                  <a:cubicBezTo>
                    <a:pt x="142" y="725"/>
                    <a:pt x="137" y="650"/>
                    <a:pt x="160" y="655"/>
                  </a:cubicBezTo>
                  <a:cubicBezTo>
                    <a:pt x="163" y="655"/>
                    <a:pt x="166" y="655"/>
                    <a:pt x="169" y="655"/>
                  </a:cubicBezTo>
                  <a:cubicBezTo>
                    <a:pt x="143" y="640"/>
                    <a:pt x="121" y="619"/>
                    <a:pt x="100" y="599"/>
                  </a:cubicBezTo>
                  <a:cubicBezTo>
                    <a:pt x="103" y="598"/>
                    <a:pt x="106" y="597"/>
                    <a:pt x="109" y="596"/>
                  </a:cubicBezTo>
                  <a:cubicBezTo>
                    <a:pt x="105" y="592"/>
                    <a:pt x="102" y="586"/>
                    <a:pt x="102" y="580"/>
                  </a:cubicBezTo>
                  <a:cubicBezTo>
                    <a:pt x="121" y="557"/>
                    <a:pt x="132" y="526"/>
                    <a:pt x="152" y="501"/>
                  </a:cubicBezTo>
                  <a:cubicBezTo>
                    <a:pt x="158" y="493"/>
                    <a:pt x="167" y="482"/>
                    <a:pt x="176" y="476"/>
                  </a:cubicBezTo>
                  <a:cubicBezTo>
                    <a:pt x="179" y="474"/>
                    <a:pt x="181" y="473"/>
                    <a:pt x="184" y="471"/>
                  </a:cubicBezTo>
                  <a:cubicBezTo>
                    <a:pt x="185" y="474"/>
                    <a:pt x="186" y="477"/>
                    <a:pt x="187" y="479"/>
                  </a:cubicBezTo>
                  <a:cubicBezTo>
                    <a:pt x="193" y="492"/>
                    <a:pt x="200" y="506"/>
                    <a:pt x="204" y="519"/>
                  </a:cubicBezTo>
                  <a:cubicBezTo>
                    <a:pt x="209" y="535"/>
                    <a:pt x="206" y="546"/>
                    <a:pt x="207" y="560"/>
                  </a:cubicBezTo>
                  <a:cubicBezTo>
                    <a:pt x="209" y="574"/>
                    <a:pt x="219" y="589"/>
                    <a:pt x="221" y="603"/>
                  </a:cubicBezTo>
                  <a:cubicBezTo>
                    <a:pt x="222" y="608"/>
                    <a:pt x="222" y="613"/>
                    <a:pt x="222" y="617"/>
                  </a:cubicBezTo>
                  <a:cubicBezTo>
                    <a:pt x="199" y="623"/>
                    <a:pt x="198" y="646"/>
                    <a:pt x="178" y="659"/>
                  </a:cubicBezTo>
                  <a:cubicBezTo>
                    <a:pt x="178" y="659"/>
                    <a:pt x="177" y="659"/>
                    <a:pt x="177" y="658"/>
                  </a:cubicBezTo>
                  <a:cubicBezTo>
                    <a:pt x="163" y="687"/>
                    <a:pt x="181" y="700"/>
                    <a:pt x="186" y="702"/>
                  </a:cubicBezTo>
                  <a:cubicBezTo>
                    <a:pt x="186" y="702"/>
                    <a:pt x="186" y="702"/>
                    <a:pt x="186" y="701"/>
                  </a:cubicBezTo>
                  <a:cubicBezTo>
                    <a:pt x="190" y="702"/>
                    <a:pt x="194" y="702"/>
                    <a:pt x="198" y="703"/>
                  </a:cubicBezTo>
                  <a:cubicBezTo>
                    <a:pt x="197" y="705"/>
                    <a:pt x="196" y="708"/>
                    <a:pt x="195" y="710"/>
                  </a:cubicBezTo>
                  <a:cubicBezTo>
                    <a:pt x="176" y="749"/>
                    <a:pt x="158" y="791"/>
                    <a:pt x="147" y="832"/>
                  </a:cubicBezTo>
                  <a:cubicBezTo>
                    <a:pt x="154" y="833"/>
                    <a:pt x="195" y="837"/>
                    <a:pt x="202" y="842"/>
                  </a:cubicBezTo>
                  <a:cubicBezTo>
                    <a:pt x="201" y="863"/>
                    <a:pt x="197" y="891"/>
                    <a:pt x="196" y="915"/>
                  </a:cubicBezTo>
                  <a:cubicBezTo>
                    <a:pt x="194" y="963"/>
                    <a:pt x="190" y="990"/>
                    <a:pt x="195" y="1029"/>
                  </a:cubicBezTo>
                  <a:cubicBezTo>
                    <a:pt x="201" y="1081"/>
                    <a:pt x="197" y="1136"/>
                    <a:pt x="190" y="1187"/>
                  </a:cubicBezTo>
                  <a:cubicBezTo>
                    <a:pt x="200" y="1191"/>
                    <a:pt x="209" y="1191"/>
                    <a:pt x="218" y="1191"/>
                  </a:cubicBezTo>
                  <a:cubicBezTo>
                    <a:pt x="216" y="1206"/>
                    <a:pt x="213" y="1221"/>
                    <a:pt x="213" y="1237"/>
                  </a:cubicBezTo>
                  <a:cubicBezTo>
                    <a:pt x="212" y="1255"/>
                    <a:pt x="214" y="1273"/>
                    <a:pt x="217" y="1291"/>
                  </a:cubicBezTo>
                  <a:cubicBezTo>
                    <a:pt x="225" y="1341"/>
                    <a:pt x="240" y="1389"/>
                    <a:pt x="259" y="1436"/>
                  </a:cubicBezTo>
                  <a:cubicBezTo>
                    <a:pt x="274" y="1473"/>
                    <a:pt x="294" y="1521"/>
                    <a:pt x="285" y="1560"/>
                  </a:cubicBezTo>
                  <a:cubicBezTo>
                    <a:pt x="280" y="1583"/>
                    <a:pt x="279" y="1609"/>
                    <a:pt x="281" y="1632"/>
                  </a:cubicBezTo>
                  <a:cubicBezTo>
                    <a:pt x="283" y="1648"/>
                    <a:pt x="290" y="1663"/>
                    <a:pt x="292" y="1679"/>
                  </a:cubicBezTo>
                  <a:cubicBezTo>
                    <a:pt x="294" y="1691"/>
                    <a:pt x="287" y="1699"/>
                    <a:pt x="301" y="1706"/>
                  </a:cubicBezTo>
                  <a:cubicBezTo>
                    <a:pt x="317" y="1713"/>
                    <a:pt x="366" y="1727"/>
                    <a:pt x="383" y="1719"/>
                  </a:cubicBezTo>
                  <a:cubicBezTo>
                    <a:pt x="392" y="1714"/>
                    <a:pt x="396" y="1709"/>
                    <a:pt x="398" y="1703"/>
                  </a:cubicBezTo>
                  <a:cubicBezTo>
                    <a:pt x="401" y="1708"/>
                    <a:pt x="405" y="1711"/>
                    <a:pt x="413" y="1712"/>
                  </a:cubicBezTo>
                  <a:cubicBezTo>
                    <a:pt x="428" y="1715"/>
                    <a:pt x="442" y="1713"/>
                    <a:pt x="456" y="1709"/>
                  </a:cubicBezTo>
                  <a:cubicBezTo>
                    <a:pt x="500" y="1697"/>
                    <a:pt x="454" y="1666"/>
                    <a:pt x="443" y="1643"/>
                  </a:cubicBezTo>
                  <a:cubicBezTo>
                    <a:pt x="439" y="1634"/>
                    <a:pt x="438" y="1622"/>
                    <a:pt x="437" y="1610"/>
                  </a:cubicBezTo>
                  <a:cubicBezTo>
                    <a:pt x="437" y="1588"/>
                    <a:pt x="432" y="1578"/>
                    <a:pt x="433" y="1563"/>
                  </a:cubicBezTo>
                  <a:cubicBezTo>
                    <a:pt x="434" y="1546"/>
                    <a:pt x="475" y="1428"/>
                    <a:pt x="479" y="1417"/>
                  </a:cubicBezTo>
                  <a:cubicBezTo>
                    <a:pt x="482" y="1406"/>
                    <a:pt x="519" y="1310"/>
                    <a:pt x="522" y="1297"/>
                  </a:cubicBezTo>
                  <a:cubicBezTo>
                    <a:pt x="524" y="1287"/>
                    <a:pt x="538" y="1222"/>
                    <a:pt x="542" y="1204"/>
                  </a:cubicBezTo>
                  <a:cubicBezTo>
                    <a:pt x="550" y="1201"/>
                    <a:pt x="549" y="1016"/>
                    <a:pt x="561" y="923"/>
                  </a:cubicBezTo>
                  <a:cubicBezTo>
                    <a:pt x="569" y="860"/>
                    <a:pt x="568" y="859"/>
                    <a:pt x="582" y="855"/>
                  </a:cubicBezTo>
                  <a:cubicBezTo>
                    <a:pt x="587" y="849"/>
                    <a:pt x="591" y="840"/>
                    <a:pt x="594" y="830"/>
                  </a:cubicBezTo>
                  <a:cubicBezTo>
                    <a:pt x="596" y="821"/>
                    <a:pt x="598" y="808"/>
                    <a:pt x="598" y="795"/>
                  </a:cubicBezTo>
                  <a:cubicBezTo>
                    <a:pt x="600" y="750"/>
                    <a:pt x="591" y="706"/>
                    <a:pt x="588" y="660"/>
                  </a:cubicBezTo>
                  <a:close/>
                  <a:moveTo>
                    <a:pt x="376" y="1659"/>
                  </a:moveTo>
                  <a:cubicBezTo>
                    <a:pt x="366" y="1644"/>
                    <a:pt x="365" y="1625"/>
                    <a:pt x="362" y="1608"/>
                  </a:cubicBezTo>
                  <a:cubicBezTo>
                    <a:pt x="367" y="1612"/>
                    <a:pt x="372" y="1616"/>
                    <a:pt x="374" y="1623"/>
                  </a:cubicBezTo>
                  <a:cubicBezTo>
                    <a:pt x="378" y="1635"/>
                    <a:pt x="376" y="1647"/>
                    <a:pt x="376" y="1659"/>
                  </a:cubicBezTo>
                  <a:close/>
                  <a:moveTo>
                    <a:pt x="432" y="1268"/>
                  </a:moveTo>
                  <a:cubicBezTo>
                    <a:pt x="429" y="1284"/>
                    <a:pt x="421" y="1302"/>
                    <a:pt x="416" y="1317"/>
                  </a:cubicBezTo>
                  <a:cubicBezTo>
                    <a:pt x="409" y="1339"/>
                    <a:pt x="408" y="1361"/>
                    <a:pt x="406" y="1383"/>
                  </a:cubicBezTo>
                  <a:cubicBezTo>
                    <a:pt x="404" y="1425"/>
                    <a:pt x="404" y="1467"/>
                    <a:pt x="388" y="1507"/>
                  </a:cubicBezTo>
                  <a:cubicBezTo>
                    <a:pt x="382" y="1522"/>
                    <a:pt x="374" y="1535"/>
                    <a:pt x="363" y="1547"/>
                  </a:cubicBezTo>
                  <a:cubicBezTo>
                    <a:pt x="361" y="1550"/>
                    <a:pt x="357" y="1553"/>
                    <a:pt x="353" y="1557"/>
                  </a:cubicBezTo>
                  <a:cubicBezTo>
                    <a:pt x="353" y="1553"/>
                    <a:pt x="352" y="1549"/>
                    <a:pt x="350" y="1546"/>
                  </a:cubicBezTo>
                  <a:cubicBezTo>
                    <a:pt x="349" y="1543"/>
                    <a:pt x="348" y="1541"/>
                    <a:pt x="347" y="1538"/>
                  </a:cubicBezTo>
                  <a:cubicBezTo>
                    <a:pt x="340" y="1511"/>
                    <a:pt x="330" y="1467"/>
                    <a:pt x="329" y="1444"/>
                  </a:cubicBezTo>
                  <a:cubicBezTo>
                    <a:pt x="327" y="1417"/>
                    <a:pt x="320" y="1330"/>
                    <a:pt x="320" y="1330"/>
                  </a:cubicBezTo>
                  <a:cubicBezTo>
                    <a:pt x="320" y="1330"/>
                    <a:pt x="320" y="1330"/>
                    <a:pt x="320" y="1330"/>
                  </a:cubicBezTo>
                  <a:cubicBezTo>
                    <a:pt x="319" y="1315"/>
                    <a:pt x="317" y="1300"/>
                    <a:pt x="315" y="1285"/>
                  </a:cubicBezTo>
                  <a:cubicBezTo>
                    <a:pt x="312" y="1268"/>
                    <a:pt x="307" y="1252"/>
                    <a:pt x="308" y="1235"/>
                  </a:cubicBezTo>
                  <a:cubicBezTo>
                    <a:pt x="310" y="1221"/>
                    <a:pt x="313" y="1208"/>
                    <a:pt x="315" y="1195"/>
                  </a:cubicBezTo>
                  <a:cubicBezTo>
                    <a:pt x="317" y="1194"/>
                    <a:pt x="319" y="1194"/>
                    <a:pt x="322" y="1194"/>
                  </a:cubicBezTo>
                  <a:cubicBezTo>
                    <a:pt x="335" y="1193"/>
                    <a:pt x="347" y="1193"/>
                    <a:pt x="360" y="1194"/>
                  </a:cubicBezTo>
                  <a:cubicBezTo>
                    <a:pt x="372" y="1195"/>
                    <a:pt x="420" y="1196"/>
                    <a:pt x="432" y="1197"/>
                  </a:cubicBezTo>
                  <a:cubicBezTo>
                    <a:pt x="432" y="1210"/>
                    <a:pt x="440" y="1213"/>
                    <a:pt x="432" y="1268"/>
                  </a:cubicBezTo>
                  <a:close/>
                  <a:moveTo>
                    <a:pt x="426" y="371"/>
                  </a:moveTo>
                  <a:cubicBezTo>
                    <a:pt x="417" y="395"/>
                    <a:pt x="392" y="526"/>
                    <a:pt x="392" y="526"/>
                  </a:cubicBezTo>
                  <a:cubicBezTo>
                    <a:pt x="392" y="526"/>
                    <a:pt x="392" y="526"/>
                    <a:pt x="384" y="526"/>
                  </a:cubicBezTo>
                  <a:cubicBezTo>
                    <a:pt x="384" y="526"/>
                    <a:pt x="384" y="526"/>
                    <a:pt x="301" y="363"/>
                  </a:cubicBezTo>
                  <a:cubicBezTo>
                    <a:pt x="301" y="354"/>
                    <a:pt x="243" y="379"/>
                    <a:pt x="243" y="379"/>
                  </a:cubicBezTo>
                  <a:cubicBezTo>
                    <a:pt x="243" y="379"/>
                    <a:pt x="243" y="346"/>
                    <a:pt x="243" y="273"/>
                  </a:cubicBezTo>
                  <a:cubicBezTo>
                    <a:pt x="243" y="273"/>
                    <a:pt x="243" y="273"/>
                    <a:pt x="276" y="264"/>
                  </a:cubicBezTo>
                  <a:cubicBezTo>
                    <a:pt x="285" y="289"/>
                    <a:pt x="293" y="322"/>
                    <a:pt x="293" y="322"/>
                  </a:cubicBezTo>
                  <a:cubicBezTo>
                    <a:pt x="293" y="322"/>
                    <a:pt x="293" y="322"/>
                    <a:pt x="310" y="354"/>
                  </a:cubicBezTo>
                  <a:cubicBezTo>
                    <a:pt x="384" y="485"/>
                    <a:pt x="384" y="485"/>
                    <a:pt x="384" y="485"/>
                  </a:cubicBezTo>
                  <a:cubicBezTo>
                    <a:pt x="384" y="485"/>
                    <a:pt x="384" y="485"/>
                    <a:pt x="417" y="363"/>
                  </a:cubicBezTo>
                  <a:cubicBezTo>
                    <a:pt x="426" y="354"/>
                    <a:pt x="417" y="297"/>
                    <a:pt x="417" y="297"/>
                  </a:cubicBezTo>
                  <a:cubicBezTo>
                    <a:pt x="417" y="297"/>
                    <a:pt x="417" y="297"/>
                    <a:pt x="417" y="281"/>
                  </a:cubicBezTo>
                  <a:cubicBezTo>
                    <a:pt x="417" y="281"/>
                    <a:pt x="417" y="281"/>
                    <a:pt x="426" y="289"/>
                  </a:cubicBezTo>
                  <a:cubicBezTo>
                    <a:pt x="426" y="289"/>
                    <a:pt x="426" y="289"/>
                    <a:pt x="467" y="371"/>
                  </a:cubicBezTo>
                  <a:cubicBezTo>
                    <a:pt x="467" y="371"/>
                    <a:pt x="467" y="371"/>
                    <a:pt x="426" y="371"/>
                  </a:cubicBezTo>
                  <a:close/>
                  <a:moveTo>
                    <a:pt x="487" y="649"/>
                  </a:moveTo>
                  <a:cubicBezTo>
                    <a:pt x="483" y="649"/>
                    <a:pt x="483" y="649"/>
                    <a:pt x="483" y="649"/>
                  </a:cubicBezTo>
                  <a:cubicBezTo>
                    <a:pt x="483" y="644"/>
                    <a:pt x="475" y="632"/>
                    <a:pt x="474" y="622"/>
                  </a:cubicBezTo>
                  <a:cubicBezTo>
                    <a:pt x="472" y="613"/>
                    <a:pt x="474" y="599"/>
                    <a:pt x="474" y="588"/>
                  </a:cubicBezTo>
                  <a:cubicBezTo>
                    <a:pt x="476" y="556"/>
                    <a:pt x="487" y="525"/>
                    <a:pt x="487" y="493"/>
                  </a:cubicBezTo>
                  <a:cubicBezTo>
                    <a:pt x="487" y="490"/>
                    <a:pt x="487" y="488"/>
                    <a:pt x="487" y="486"/>
                  </a:cubicBezTo>
                  <a:cubicBezTo>
                    <a:pt x="487" y="488"/>
                    <a:pt x="487" y="490"/>
                    <a:pt x="487" y="493"/>
                  </a:cubicBezTo>
                  <a:cubicBezTo>
                    <a:pt x="488" y="525"/>
                    <a:pt x="493" y="556"/>
                    <a:pt x="481" y="587"/>
                  </a:cubicBezTo>
                  <a:cubicBezTo>
                    <a:pt x="484" y="586"/>
                    <a:pt x="487" y="587"/>
                    <a:pt x="489" y="587"/>
                  </a:cubicBezTo>
                  <a:cubicBezTo>
                    <a:pt x="484" y="599"/>
                    <a:pt x="492" y="605"/>
                    <a:pt x="492" y="616"/>
                  </a:cubicBezTo>
                  <a:cubicBezTo>
                    <a:pt x="492" y="627"/>
                    <a:pt x="488" y="638"/>
                    <a:pt x="487" y="64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uppe 51"/>
            <p:cNvGrpSpPr/>
            <p:nvPr/>
          </p:nvGrpSpPr>
          <p:grpSpPr>
            <a:xfrm>
              <a:off x="4282920" y="4229280"/>
              <a:ext cx="330120" cy="1072800"/>
              <a:chOff x="4282920" y="4229280"/>
              <a:chExt cx="330120" cy="1072800"/>
            </a:xfrm>
          </p:grpSpPr>
          <p:sp>
            <p:nvSpPr>
              <p:cNvPr id="106" name="Freeform 125"/>
              <p:cNvSpPr/>
              <p:nvPr/>
            </p:nvSpPr>
            <p:spPr>
              <a:xfrm>
                <a:off x="4282920" y="4229280"/>
                <a:ext cx="330120" cy="107280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1072800"/>
                  <a:gd name="textAreaBottom" fmla="*/ 1073160 h 1072800"/>
                </a:gdLst>
                <a:ahLst/>
                <a:rect l="textAreaLeft" t="textAreaTop" r="textAreaRight" b="textAreaBottom"/>
                <a:pathLst>
                  <a:path w="364" h="1186">
                    <a:moveTo>
                      <a:pt x="350" y="338"/>
                    </a:moveTo>
                    <a:lnTo>
                      <a:pt x="350" y="338"/>
                    </a:lnTo>
                    <a:lnTo>
                      <a:pt x="342" y="314"/>
                    </a:lnTo>
                    <a:lnTo>
                      <a:pt x="336" y="286"/>
                    </a:lnTo>
                    <a:lnTo>
                      <a:pt x="326" y="232"/>
                    </a:lnTo>
                    <a:lnTo>
                      <a:pt x="322" y="224"/>
                    </a:lnTo>
                    <a:lnTo>
                      <a:pt x="318" y="216"/>
                    </a:lnTo>
                    <a:lnTo>
                      <a:pt x="312" y="212"/>
                    </a:lnTo>
                    <a:lnTo>
                      <a:pt x="306" y="210"/>
                    </a:lnTo>
                    <a:lnTo>
                      <a:pt x="278" y="200"/>
                    </a:lnTo>
                    <a:lnTo>
                      <a:pt x="258" y="192"/>
                    </a:lnTo>
                    <a:lnTo>
                      <a:pt x="246" y="186"/>
                    </a:lnTo>
                    <a:lnTo>
                      <a:pt x="240" y="180"/>
                    </a:lnTo>
                    <a:lnTo>
                      <a:pt x="234" y="174"/>
                    </a:lnTo>
                    <a:lnTo>
                      <a:pt x="230" y="168"/>
                    </a:lnTo>
                    <a:lnTo>
                      <a:pt x="224" y="162"/>
                    </a:lnTo>
                    <a:lnTo>
                      <a:pt x="220" y="158"/>
                    </a:lnTo>
                    <a:lnTo>
                      <a:pt x="216" y="156"/>
                    </a:lnTo>
                    <a:lnTo>
                      <a:pt x="216" y="146"/>
                    </a:lnTo>
                    <a:lnTo>
                      <a:pt x="218" y="140"/>
                    </a:lnTo>
                    <a:lnTo>
                      <a:pt x="222" y="136"/>
                    </a:lnTo>
                    <a:lnTo>
                      <a:pt x="228" y="126"/>
                    </a:lnTo>
                    <a:lnTo>
                      <a:pt x="236" y="110"/>
                    </a:lnTo>
                    <a:lnTo>
                      <a:pt x="238" y="102"/>
                    </a:lnTo>
                    <a:lnTo>
                      <a:pt x="238" y="96"/>
                    </a:lnTo>
                    <a:lnTo>
                      <a:pt x="238" y="90"/>
                    </a:lnTo>
                    <a:lnTo>
                      <a:pt x="234" y="88"/>
                    </a:lnTo>
                    <a:lnTo>
                      <a:pt x="236" y="76"/>
                    </a:lnTo>
                    <a:lnTo>
                      <a:pt x="236" y="68"/>
                    </a:lnTo>
                    <a:lnTo>
                      <a:pt x="236" y="56"/>
                    </a:lnTo>
                    <a:lnTo>
                      <a:pt x="232" y="42"/>
                    </a:lnTo>
                    <a:lnTo>
                      <a:pt x="230" y="32"/>
                    </a:lnTo>
                    <a:lnTo>
                      <a:pt x="226" y="24"/>
                    </a:lnTo>
                    <a:lnTo>
                      <a:pt x="222" y="16"/>
                    </a:lnTo>
                    <a:lnTo>
                      <a:pt x="214" y="10"/>
                    </a:lnTo>
                    <a:lnTo>
                      <a:pt x="204" y="4"/>
                    </a:lnTo>
                    <a:lnTo>
                      <a:pt x="192" y="0"/>
                    </a:lnTo>
                    <a:lnTo>
                      <a:pt x="174" y="0"/>
                    </a:lnTo>
                    <a:lnTo>
                      <a:pt x="158" y="2"/>
                    </a:lnTo>
                    <a:lnTo>
                      <a:pt x="146" y="6"/>
                    </a:lnTo>
                    <a:lnTo>
                      <a:pt x="136" y="14"/>
                    </a:lnTo>
                    <a:lnTo>
                      <a:pt x="128" y="20"/>
                    </a:lnTo>
                    <a:lnTo>
                      <a:pt x="124" y="28"/>
                    </a:lnTo>
                    <a:lnTo>
                      <a:pt x="120" y="36"/>
                    </a:lnTo>
                    <a:lnTo>
                      <a:pt x="118" y="44"/>
                    </a:lnTo>
                    <a:lnTo>
                      <a:pt x="116" y="60"/>
                    </a:lnTo>
                    <a:lnTo>
                      <a:pt x="118" y="72"/>
                    </a:lnTo>
                    <a:lnTo>
                      <a:pt x="120" y="82"/>
                    </a:lnTo>
                    <a:lnTo>
                      <a:pt x="118" y="84"/>
                    </a:lnTo>
                    <a:lnTo>
                      <a:pt x="116" y="92"/>
                    </a:lnTo>
                    <a:lnTo>
                      <a:pt x="116" y="98"/>
                    </a:lnTo>
                    <a:lnTo>
                      <a:pt x="118" y="106"/>
                    </a:lnTo>
                    <a:lnTo>
                      <a:pt x="122" y="116"/>
                    </a:lnTo>
                    <a:lnTo>
                      <a:pt x="130" y="126"/>
                    </a:lnTo>
                    <a:lnTo>
                      <a:pt x="132" y="128"/>
                    </a:lnTo>
                    <a:lnTo>
                      <a:pt x="134" y="130"/>
                    </a:lnTo>
                    <a:lnTo>
                      <a:pt x="136" y="136"/>
                    </a:lnTo>
                    <a:lnTo>
                      <a:pt x="138" y="152"/>
                    </a:lnTo>
                    <a:lnTo>
                      <a:pt x="140" y="158"/>
                    </a:lnTo>
                    <a:lnTo>
                      <a:pt x="138" y="164"/>
                    </a:lnTo>
                    <a:lnTo>
                      <a:pt x="134" y="168"/>
                    </a:lnTo>
                    <a:lnTo>
                      <a:pt x="126" y="174"/>
                    </a:lnTo>
                    <a:lnTo>
                      <a:pt x="112" y="186"/>
                    </a:lnTo>
                    <a:lnTo>
                      <a:pt x="102" y="192"/>
                    </a:lnTo>
                    <a:lnTo>
                      <a:pt x="90" y="198"/>
                    </a:lnTo>
                    <a:lnTo>
                      <a:pt x="70" y="204"/>
                    </a:lnTo>
                    <a:lnTo>
                      <a:pt x="62" y="208"/>
                    </a:lnTo>
                    <a:lnTo>
                      <a:pt x="52" y="212"/>
                    </a:lnTo>
                    <a:lnTo>
                      <a:pt x="46" y="216"/>
                    </a:lnTo>
                    <a:lnTo>
                      <a:pt x="42" y="222"/>
                    </a:lnTo>
                    <a:lnTo>
                      <a:pt x="38" y="228"/>
                    </a:lnTo>
                    <a:lnTo>
                      <a:pt x="36" y="236"/>
                    </a:lnTo>
                    <a:lnTo>
                      <a:pt x="32" y="274"/>
                    </a:lnTo>
                    <a:lnTo>
                      <a:pt x="30" y="302"/>
                    </a:lnTo>
                    <a:lnTo>
                      <a:pt x="24" y="392"/>
                    </a:lnTo>
                    <a:lnTo>
                      <a:pt x="18" y="448"/>
                    </a:lnTo>
                    <a:lnTo>
                      <a:pt x="14" y="482"/>
                    </a:lnTo>
                    <a:lnTo>
                      <a:pt x="10" y="514"/>
                    </a:lnTo>
                    <a:lnTo>
                      <a:pt x="8" y="540"/>
                    </a:lnTo>
                    <a:lnTo>
                      <a:pt x="6" y="566"/>
                    </a:lnTo>
                    <a:lnTo>
                      <a:pt x="4" y="588"/>
                    </a:lnTo>
                    <a:lnTo>
                      <a:pt x="6" y="594"/>
                    </a:lnTo>
                    <a:lnTo>
                      <a:pt x="8" y="598"/>
                    </a:lnTo>
                    <a:lnTo>
                      <a:pt x="12" y="598"/>
                    </a:lnTo>
                    <a:lnTo>
                      <a:pt x="4" y="616"/>
                    </a:lnTo>
                    <a:lnTo>
                      <a:pt x="2" y="626"/>
                    </a:lnTo>
                    <a:lnTo>
                      <a:pt x="0" y="638"/>
                    </a:lnTo>
                    <a:lnTo>
                      <a:pt x="2" y="650"/>
                    </a:lnTo>
                    <a:lnTo>
                      <a:pt x="6" y="660"/>
                    </a:lnTo>
                    <a:lnTo>
                      <a:pt x="14" y="670"/>
                    </a:lnTo>
                    <a:lnTo>
                      <a:pt x="26" y="676"/>
                    </a:lnTo>
                    <a:lnTo>
                      <a:pt x="36" y="680"/>
                    </a:lnTo>
                    <a:lnTo>
                      <a:pt x="40" y="680"/>
                    </a:lnTo>
                    <a:lnTo>
                      <a:pt x="42" y="678"/>
                    </a:lnTo>
                    <a:lnTo>
                      <a:pt x="42" y="674"/>
                    </a:lnTo>
                    <a:lnTo>
                      <a:pt x="38" y="670"/>
                    </a:lnTo>
                    <a:lnTo>
                      <a:pt x="36" y="664"/>
                    </a:lnTo>
                    <a:lnTo>
                      <a:pt x="34" y="660"/>
                    </a:lnTo>
                    <a:lnTo>
                      <a:pt x="34" y="654"/>
                    </a:lnTo>
                    <a:lnTo>
                      <a:pt x="36" y="650"/>
                    </a:lnTo>
                    <a:lnTo>
                      <a:pt x="34" y="644"/>
                    </a:lnTo>
                    <a:lnTo>
                      <a:pt x="34" y="636"/>
                    </a:lnTo>
                    <a:lnTo>
                      <a:pt x="38" y="628"/>
                    </a:lnTo>
                    <a:lnTo>
                      <a:pt x="40" y="622"/>
                    </a:lnTo>
                    <a:lnTo>
                      <a:pt x="38" y="616"/>
                    </a:lnTo>
                    <a:lnTo>
                      <a:pt x="38" y="612"/>
                    </a:lnTo>
                    <a:lnTo>
                      <a:pt x="38" y="608"/>
                    </a:lnTo>
                    <a:lnTo>
                      <a:pt x="40" y="606"/>
                    </a:lnTo>
                    <a:lnTo>
                      <a:pt x="42" y="604"/>
                    </a:lnTo>
                    <a:lnTo>
                      <a:pt x="44" y="604"/>
                    </a:lnTo>
                    <a:lnTo>
                      <a:pt x="48" y="602"/>
                    </a:lnTo>
                    <a:lnTo>
                      <a:pt x="50" y="596"/>
                    </a:lnTo>
                    <a:lnTo>
                      <a:pt x="50" y="594"/>
                    </a:lnTo>
                    <a:lnTo>
                      <a:pt x="58" y="534"/>
                    </a:lnTo>
                    <a:lnTo>
                      <a:pt x="56" y="568"/>
                    </a:lnTo>
                    <a:lnTo>
                      <a:pt x="56" y="578"/>
                    </a:lnTo>
                    <a:lnTo>
                      <a:pt x="56" y="586"/>
                    </a:lnTo>
                    <a:lnTo>
                      <a:pt x="60" y="598"/>
                    </a:lnTo>
                    <a:lnTo>
                      <a:pt x="62" y="612"/>
                    </a:lnTo>
                    <a:lnTo>
                      <a:pt x="62" y="644"/>
                    </a:lnTo>
                    <a:lnTo>
                      <a:pt x="64" y="686"/>
                    </a:lnTo>
                    <a:lnTo>
                      <a:pt x="70" y="758"/>
                    </a:lnTo>
                    <a:lnTo>
                      <a:pt x="76" y="832"/>
                    </a:lnTo>
                    <a:lnTo>
                      <a:pt x="78" y="876"/>
                    </a:lnTo>
                    <a:lnTo>
                      <a:pt x="80" y="948"/>
                    </a:lnTo>
                    <a:lnTo>
                      <a:pt x="80" y="990"/>
                    </a:lnTo>
                    <a:lnTo>
                      <a:pt x="76" y="1022"/>
                    </a:lnTo>
                    <a:lnTo>
                      <a:pt x="74" y="1044"/>
                    </a:lnTo>
                    <a:lnTo>
                      <a:pt x="72" y="1068"/>
                    </a:lnTo>
                    <a:lnTo>
                      <a:pt x="74" y="1088"/>
                    </a:lnTo>
                    <a:lnTo>
                      <a:pt x="76" y="1104"/>
                    </a:lnTo>
                    <a:lnTo>
                      <a:pt x="84" y="1124"/>
                    </a:lnTo>
                    <a:lnTo>
                      <a:pt x="86" y="1130"/>
                    </a:lnTo>
                    <a:lnTo>
                      <a:pt x="84" y="1134"/>
                    </a:lnTo>
                    <a:lnTo>
                      <a:pt x="66" y="1150"/>
                    </a:lnTo>
                    <a:lnTo>
                      <a:pt x="56" y="1162"/>
                    </a:lnTo>
                    <a:lnTo>
                      <a:pt x="54" y="1166"/>
                    </a:lnTo>
                    <a:lnTo>
                      <a:pt x="54" y="1170"/>
                    </a:lnTo>
                    <a:lnTo>
                      <a:pt x="56" y="1174"/>
                    </a:lnTo>
                    <a:lnTo>
                      <a:pt x="60" y="1176"/>
                    </a:lnTo>
                    <a:lnTo>
                      <a:pt x="72" y="1180"/>
                    </a:lnTo>
                    <a:lnTo>
                      <a:pt x="86" y="1180"/>
                    </a:lnTo>
                    <a:lnTo>
                      <a:pt x="102" y="1174"/>
                    </a:lnTo>
                    <a:lnTo>
                      <a:pt x="118" y="1168"/>
                    </a:lnTo>
                    <a:lnTo>
                      <a:pt x="134" y="1164"/>
                    </a:lnTo>
                    <a:lnTo>
                      <a:pt x="146" y="1160"/>
                    </a:lnTo>
                    <a:lnTo>
                      <a:pt x="150" y="1158"/>
                    </a:lnTo>
                    <a:lnTo>
                      <a:pt x="152" y="1156"/>
                    </a:lnTo>
                    <a:lnTo>
                      <a:pt x="152" y="1152"/>
                    </a:lnTo>
                    <a:lnTo>
                      <a:pt x="150" y="1146"/>
                    </a:lnTo>
                    <a:lnTo>
                      <a:pt x="148" y="1138"/>
                    </a:lnTo>
                    <a:lnTo>
                      <a:pt x="150" y="1130"/>
                    </a:lnTo>
                    <a:lnTo>
                      <a:pt x="154" y="1116"/>
                    </a:lnTo>
                    <a:lnTo>
                      <a:pt x="156" y="1106"/>
                    </a:lnTo>
                    <a:lnTo>
                      <a:pt x="156" y="1090"/>
                    </a:lnTo>
                    <a:lnTo>
                      <a:pt x="156" y="1052"/>
                    </a:lnTo>
                    <a:lnTo>
                      <a:pt x="156" y="984"/>
                    </a:lnTo>
                    <a:lnTo>
                      <a:pt x="158" y="920"/>
                    </a:lnTo>
                    <a:lnTo>
                      <a:pt x="162" y="886"/>
                    </a:lnTo>
                    <a:lnTo>
                      <a:pt x="164" y="868"/>
                    </a:lnTo>
                    <a:lnTo>
                      <a:pt x="168" y="840"/>
                    </a:lnTo>
                    <a:lnTo>
                      <a:pt x="174" y="772"/>
                    </a:lnTo>
                    <a:lnTo>
                      <a:pt x="178" y="706"/>
                    </a:lnTo>
                    <a:lnTo>
                      <a:pt x="178" y="666"/>
                    </a:lnTo>
                    <a:lnTo>
                      <a:pt x="178" y="624"/>
                    </a:lnTo>
                    <a:lnTo>
                      <a:pt x="182" y="650"/>
                    </a:lnTo>
                    <a:lnTo>
                      <a:pt x="190" y="714"/>
                    </a:lnTo>
                    <a:lnTo>
                      <a:pt x="194" y="756"/>
                    </a:lnTo>
                    <a:lnTo>
                      <a:pt x="196" y="800"/>
                    </a:lnTo>
                    <a:lnTo>
                      <a:pt x="200" y="840"/>
                    </a:lnTo>
                    <a:lnTo>
                      <a:pt x="204" y="878"/>
                    </a:lnTo>
                    <a:lnTo>
                      <a:pt x="206" y="914"/>
                    </a:lnTo>
                    <a:lnTo>
                      <a:pt x="208" y="954"/>
                    </a:lnTo>
                    <a:lnTo>
                      <a:pt x="206" y="1012"/>
                    </a:lnTo>
                    <a:lnTo>
                      <a:pt x="206" y="1040"/>
                    </a:lnTo>
                    <a:lnTo>
                      <a:pt x="206" y="1078"/>
                    </a:lnTo>
                    <a:lnTo>
                      <a:pt x="208" y="1096"/>
                    </a:lnTo>
                    <a:lnTo>
                      <a:pt x="208" y="1112"/>
                    </a:lnTo>
                    <a:lnTo>
                      <a:pt x="212" y="1124"/>
                    </a:lnTo>
                    <a:lnTo>
                      <a:pt x="214" y="1126"/>
                    </a:lnTo>
                    <a:lnTo>
                      <a:pt x="216" y="1128"/>
                    </a:lnTo>
                    <a:lnTo>
                      <a:pt x="218" y="1142"/>
                    </a:lnTo>
                    <a:lnTo>
                      <a:pt x="220" y="1154"/>
                    </a:lnTo>
                    <a:lnTo>
                      <a:pt x="222" y="1162"/>
                    </a:lnTo>
                    <a:lnTo>
                      <a:pt x="226" y="1172"/>
                    </a:lnTo>
                    <a:lnTo>
                      <a:pt x="234" y="1178"/>
                    </a:lnTo>
                    <a:lnTo>
                      <a:pt x="246" y="1184"/>
                    </a:lnTo>
                    <a:lnTo>
                      <a:pt x="252" y="1186"/>
                    </a:lnTo>
                    <a:lnTo>
                      <a:pt x="262" y="1186"/>
                    </a:lnTo>
                    <a:lnTo>
                      <a:pt x="282" y="1182"/>
                    </a:lnTo>
                    <a:lnTo>
                      <a:pt x="290" y="1178"/>
                    </a:lnTo>
                    <a:lnTo>
                      <a:pt x="292" y="1176"/>
                    </a:lnTo>
                    <a:lnTo>
                      <a:pt x="294" y="1174"/>
                    </a:lnTo>
                    <a:lnTo>
                      <a:pt x="292" y="1168"/>
                    </a:lnTo>
                    <a:lnTo>
                      <a:pt x="288" y="1162"/>
                    </a:lnTo>
                    <a:lnTo>
                      <a:pt x="276" y="1148"/>
                    </a:lnTo>
                    <a:lnTo>
                      <a:pt x="274" y="1142"/>
                    </a:lnTo>
                    <a:lnTo>
                      <a:pt x="274" y="1140"/>
                    </a:lnTo>
                    <a:lnTo>
                      <a:pt x="274" y="1138"/>
                    </a:lnTo>
                    <a:lnTo>
                      <a:pt x="280" y="1132"/>
                    </a:lnTo>
                    <a:lnTo>
                      <a:pt x="284" y="1130"/>
                    </a:lnTo>
                    <a:lnTo>
                      <a:pt x="288" y="1128"/>
                    </a:lnTo>
                    <a:lnTo>
                      <a:pt x="288" y="1122"/>
                    </a:lnTo>
                    <a:lnTo>
                      <a:pt x="286" y="936"/>
                    </a:lnTo>
                    <a:lnTo>
                      <a:pt x="288" y="864"/>
                    </a:lnTo>
                    <a:lnTo>
                      <a:pt x="288" y="834"/>
                    </a:lnTo>
                    <a:lnTo>
                      <a:pt x="286" y="810"/>
                    </a:lnTo>
                    <a:lnTo>
                      <a:pt x="286" y="780"/>
                    </a:lnTo>
                    <a:lnTo>
                      <a:pt x="288" y="738"/>
                    </a:lnTo>
                    <a:lnTo>
                      <a:pt x="290" y="660"/>
                    </a:lnTo>
                    <a:lnTo>
                      <a:pt x="290" y="602"/>
                    </a:lnTo>
                    <a:lnTo>
                      <a:pt x="304" y="598"/>
                    </a:lnTo>
                    <a:lnTo>
                      <a:pt x="314" y="590"/>
                    </a:lnTo>
                    <a:lnTo>
                      <a:pt x="322" y="582"/>
                    </a:lnTo>
                    <a:lnTo>
                      <a:pt x="326" y="572"/>
                    </a:lnTo>
                    <a:lnTo>
                      <a:pt x="330" y="564"/>
                    </a:lnTo>
                    <a:lnTo>
                      <a:pt x="330" y="556"/>
                    </a:lnTo>
                    <a:lnTo>
                      <a:pt x="330" y="544"/>
                    </a:lnTo>
                    <a:lnTo>
                      <a:pt x="332" y="536"/>
                    </a:lnTo>
                    <a:lnTo>
                      <a:pt x="334" y="530"/>
                    </a:lnTo>
                    <a:lnTo>
                      <a:pt x="338" y="526"/>
                    </a:lnTo>
                    <a:lnTo>
                      <a:pt x="340" y="526"/>
                    </a:lnTo>
                    <a:lnTo>
                      <a:pt x="344" y="526"/>
                    </a:lnTo>
                    <a:lnTo>
                      <a:pt x="346" y="526"/>
                    </a:lnTo>
                    <a:lnTo>
                      <a:pt x="348" y="524"/>
                    </a:lnTo>
                    <a:lnTo>
                      <a:pt x="352" y="514"/>
                    </a:lnTo>
                    <a:lnTo>
                      <a:pt x="354" y="502"/>
                    </a:lnTo>
                    <a:lnTo>
                      <a:pt x="356" y="492"/>
                    </a:lnTo>
                    <a:lnTo>
                      <a:pt x="358" y="454"/>
                    </a:lnTo>
                    <a:lnTo>
                      <a:pt x="362" y="416"/>
                    </a:lnTo>
                    <a:lnTo>
                      <a:pt x="364" y="396"/>
                    </a:lnTo>
                    <a:lnTo>
                      <a:pt x="362" y="382"/>
                    </a:lnTo>
                    <a:lnTo>
                      <a:pt x="356" y="362"/>
                    </a:lnTo>
                    <a:lnTo>
                      <a:pt x="350" y="3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27"/>
              <p:cNvSpPr/>
              <p:nvPr/>
            </p:nvSpPr>
            <p:spPr>
              <a:xfrm>
                <a:off x="4395960" y="4372920"/>
                <a:ext cx="92160" cy="15552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02" h="172">
                    <a:moveTo>
                      <a:pt x="0" y="14"/>
                    </a:moveTo>
                    <a:lnTo>
                      <a:pt x="0" y="14"/>
                    </a:lnTo>
                    <a:lnTo>
                      <a:pt x="2" y="22"/>
                    </a:lnTo>
                    <a:lnTo>
                      <a:pt x="4" y="32"/>
                    </a:lnTo>
                    <a:lnTo>
                      <a:pt x="8" y="42"/>
                    </a:lnTo>
                    <a:lnTo>
                      <a:pt x="12" y="66"/>
                    </a:lnTo>
                    <a:lnTo>
                      <a:pt x="18" y="106"/>
                    </a:lnTo>
                    <a:lnTo>
                      <a:pt x="24" y="126"/>
                    </a:lnTo>
                    <a:lnTo>
                      <a:pt x="30" y="146"/>
                    </a:lnTo>
                    <a:lnTo>
                      <a:pt x="38" y="162"/>
                    </a:lnTo>
                    <a:lnTo>
                      <a:pt x="42" y="168"/>
                    </a:lnTo>
                    <a:lnTo>
                      <a:pt x="46" y="172"/>
                    </a:lnTo>
                    <a:lnTo>
                      <a:pt x="64" y="144"/>
                    </a:lnTo>
                    <a:lnTo>
                      <a:pt x="78" y="118"/>
                    </a:lnTo>
                    <a:lnTo>
                      <a:pt x="90" y="94"/>
                    </a:lnTo>
                    <a:lnTo>
                      <a:pt x="98" y="72"/>
                    </a:lnTo>
                    <a:lnTo>
                      <a:pt x="102" y="52"/>
                    </a:lnTo>
                    <a:lnTo>
                      <a:pt x="102" y="34"/>
                    </a:lnTo>
                    <a:lnTo>
                      <a:pt x="100" y="16"/>
                    </a:lnTo>
                    <a:lnTo>
                      <a:pt x="100" y="10"/>
                    </a:lnTo>
                    <a:lnTo>
                      <a:pt x="96" y="6"/>
                    </a:lnTo>
                    <a:lnTo>
                      <a:pt x="90" y="0"/>
                    </a:lnTo>
                    <a:lnTo>
                      <a:pt x="88" y="0"/>
                    </a:lnTo>
                    <a:lnTo>
                      <a:pt x="88" y="2"/>
                    </a:lnTo>
                    <a:lnTo>
                      <a:pt x="86" y="6"/>
                    </a:lnTo>
                    <a:lnTo>
                      <a:pt x="86" y="14"/>
                    </a:lnTo>
                    <a:lnTo>
                      <a:pt x="82" y="20"/>
                    </a:lnTo>
                    <a:lnTo>
                      <a:pt x="74" y="30"/>
                    </a:lnTo>
                    <a:lnTo>
                      <a:pt x="66" y="34"/>
                    </a:lnTo>
                    <a:lnTo>
                      <a:pt x="56" y="38"/>
                    </a:lnTo>
                    <a:lnTo>
                      <a:pt x="44" y="38"/>
                    </a:lnTo>
                    <a:lnTo>
                      <a:pt x="32" y="34"/>
                    </a:lnTo>
                    <a:lnTo>
                      <a:pt x="20" y="26"/>
                    </a:lnTo>
                    <a:lnTo>
                      <a:pt x="12" y="16"/>
                    </a:lnTo>
                    <a:lnTo>
                      <a:pt x="6" y="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28"/>
              <p:cNvSpPr/>
              <p:nvPr/>
            </p:nvSpPr>
            <p:spPr>
              <a:xfrm>
                <a:off x="4427280" y="4408560"/>
                <a:ext cx="29880" cy="1252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30" h="136">
                    <a:moveTo>
                      <a:pt x="4" y="134"/>
                    </a:moveTo>
                    <a:lnTo>
                      <a:pt x="4" y="134"/>
                    </a:lnTo>
                    <a:lnTo>
                      <a:pt x="2" y="124"/>
                    </a:lnTo>
                    <a:lnTo>
                      <a:pt x="0" y="104"/>
                    </a:lnTo>
                    <a:lnTo>
                      <a:pt x="2" y="62"/>
                    </a:lnTo>
                    <a:lnTo>
                      <a:pt x="2" y="50"/>
                    </a:lnTo>
                    <a:lnTo>
                      <a:pt x="6" y="40"/>
                    </a:lnTo>
                    <a:lnTo>
                      <a:pt x="10" y="28"/>
                    </a:lnTo>
                    <a:lnTo>
                      <a:pt x="8" y="24"/>
                    </a:lnTo>
                    <a:lnTo>
                      <a:pt x="6" y="1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4" y="2"/>
                    </a:lnTo>
                    <a:lnTo>
                      <a:pt x="14" y="0"/>
                    </a:lnTo>
                    <a:lnTo>
                      <a:pt x="18" y="2"/>
                    </a:lnTo>
                    <a:lnTo>
                      <a:pt x="22" y="4"/>
                    </a:lnTo>
                    <a:lnTo>
                      <a:pt x="26" y="8"/>
                    </a:lnTo>
                    <a:lnTo>
                      <a:pt x="24" y="14"/>
                    </a:lnTo>
                    <a:lnTo>
                      <a:pt x="20" y="20"/>
                    </a:lnTo>
                    <a:lnTo>
                      <a:pt x="20" y="24"/>
                    </a:lnTo>
                    <a:lnTo>
                      <a:pt x="20" y="28"/>
                    </a:lnTo>
                    <a:lnTo>
                      <a:pt x="26" y="66"/>
                    </a:lnTo>
                    <a:lnTo>
                      <a:pt x="30" y="104"/>
                    </a:lnTo>
                    <a:lnTo>
                      <a:pt x="28" y="114"/>
                    </a:lnTo>
                    <a:lnTo>
                      <a:pt x="22" y="126"/>
                    </a:lnTo>
                    <a:lnTo>
                      <a:pt x="18" y="132"/>
                    </a:lnTo>
                    <a:lnTo>
                      <a:pt x="14" y="134"/>
                    </a:lnTo>
                    <a:lnTo>
                      <a:pt x="8" y="136"/>
                    </a:lnTo>
                    <a:lnTo>
                      <a:pt x="4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Freeform 5"/>
            <p:cNvSpPr/>
            <p:nvPr/>
          </p:nvSpPr>
          <p:spPr>
            <a:xfrm>
              <a:off x="4808520" y="4249800"/>
              <a:ext cx="333360" cy="103500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516" h="1608">
                  <a:moveTo>
                    <a:pt x="475" y="785"/>
                  </a:moveTo>
                  <a:cubicBezTo>
                    <a:pt x="474" y="788"/>
                    <a:pt x="466" y="786"/>
                    <a:pt x="463" y="788"/>
                  </a:cubicBezTo>
                  <a:cubicBezTo>
                    <a:pt x="468" y="818"/>
                    <a:pt x="460" y="848"/>
                    <a:pt x="460" y="873"/>
                  </a:cubicBezTo>
                  <a:cubicBezTo>
                    <a:pt x="459" y="895"/>
                    <a:pt x="466" y="920"/>
                    <a:pt x="470" y="944"/>
                  </a:cubicBezTo>
                  <a:cubicBezTo>
                    <a:pt x="481" y="1012"/>
                    <a:pt x="494" y="1085"/>
                    <a:pt x="496" y="1161"/>
                  </a:cubicBezTo>
                  <a:cubicBezTo>
                    <a:pt x="497" y="1241"/>
                    <a:pt x="497" y="1324"/>
                    <a:pt x="497" y="1404"/>
                  </a:cubicBezTo>
                  <a:cubicBezTo>
                    <a:pt x="497" y="1418"/>
                    <a:pt x="496" y="1430"/>
                    <a:pt x="494" y="1442"/>
                  </a:cubicBezTo>
                  <a:cubicBezTo>
                    <a:pt x="492" y="1453"/>
                    <a:pt x="486" y="1462"/>
                    <a:pt x="485" y="1473"/>
                  </a:cubicBezTo>
                  <a:cubicBezTo>
                    <a:pt x="482" y="1490"/>
                    <a:pt x="485" y="1509"/>
                    <a:pt x="473" y="1516"/>
                  </a:cubicBezTo>
                  <a:cubicBezTo>
                    <a:pt x="477" y="1549"/>
                    <a:pt x="516" y="1552"/>
                    <a:pt x="509" y="1592"/>
                  </a:cubicBezTo>
                  <a:cubicBezTo>
                    <a:pt x="483" y="1606"/>
                    <a:pt x="422" y="1608"/>
                    <a:pt x="417" y="1575"/>
                  </a:cubicBezTo>
                  <a:cubicBezTo>
                    <a:pt x="383" y="1580"/>
                    <a:pt x="386" y="1549"/>
                    <a:pt x="386" y="1521"/>
                  </a:cubicBezTo>
                  <a:cubicBezTo>
                    <a:pt x="387" y="1516"/>
                    <a:pt x="377" y="1520"/>
                    <a:pt x="376" y="1516"/>
                  </a:cubicBezTo>
                  <a:cubicBezTo>
                    <a:pt x="352" y="1460"/>
                    <a:pt x="350" y="1375"/>
                    <a:pt x="349" y="1293"/>
                  </a:cubicBezTo>
                  <a:cubicBezTo>
                    <a:pt x="349" y="1248"/>
                    <a:pt x="349" y="1201"/>
                    <a:pt x="351" y="1156"/>
                  </a:cubicBezTo>
                  <a:cubicBezTo>
                    <a:pt x="352" y="1142"/>
                    <a:pt x="355" y="1126"/>
                    <a:pt x="354" y="1113"/>
                  </a:cubicBezTo>
                  <a:cubicBezTo>
                    <a:pt x="353" y="1107"/>
                    <a:pt x="349" y="1097"/>
                    <a:pt x="346" y="1089"/>
                  </a:cubicBezTo>
                  <a:cubicBezTo>
                    <a:pt x="331" y="1049"/>
                    <a:pt x="316" y="1011"/>
                    <a:pt x="301" y="973"/>
                  </a:cubicBezTo>
                  <a:cubicBezTo>
                    <a:pt x="295" y="958"/>
                    <a:pt x="292" y="940"/>
                    <a:pt x="278" y="932"/>
                  </a:cubicBezTo>
                  <a:cubicBezTo>
                    <a:pt x="281" y="1000"/>
                    <a:pt x="279" y="1072"/>
                    <a:pt x="279" y="1144"/>
                  </a:cubicBezTo>
                  <a:cubicBezTo>
                    <a:pt x="279" y="1179"/>
                    <a:pt x="275" y="1213"/>
                    <a:pt x="277" y="1247"/>
                  </a:cubicBezTo>
                  <a:cubicBezTo>
                    <a:pt x="279" y="1282"/>
                    <a:pt x="278" y="1317"/>
                    <a:pt x="283" y="1349"/>
                  </a:cubicBezTo>
                  <a:cubicBezTo>
                    <a:pt x="287" y="1370"/>
                    <a:pt x="293" y="1391"/>
                    <a:pt x="298" y="1412"/>
                  </a:cubicBezTo>
                  <a:cubicBezTo>
                    <a:pt x="305" y="1442"/>
                    <a:pt x="312" y="1467"/>
                    <a:pt x="308" y="1501"/>
                  </a:cubicBezTo>
                  <a:cubicBezTo>
                    <a:pt x="307" y="1508"/>
                    <a:pt x="306" y="1518"/>
                    <a:pt x="304" y="1523"/>
                  </a:cubicBezTo>
                  <a:cubicBezTo>
                    <a:pt x="301" y="1530"/>
                    <a:pt x="292" y="1533"/>
                    <a:pt x="290" y="1540"/>
                  </a:cubicBezTo>
                  <a:cubicBezTo>
                    <a:pt x="287" y="1550"/>
                    <a:pt x="292" y="1563"/>
                    <a:pt x="287" y="1572"/>
                  </a:cubicBezTo>
                  <a:cubicBezTo>
                    <a:pt x="283" y="1577"/>
                    <a:pt x="277" y="1577"/>
                    <a:pt x="270" y="1579"/>
                  </a:cubicBezTo>
                  <a:cubicBezTo>
                    <a:pt x="256" y="1586"/>
                    <a:pt x="238" y="1602"/>
                    <a:pt x="224" y="1605"/>
                  </a:cubicBezTo>
                  <a:cubicBezTo>
                    <a:pt x="216" y="1606"/>
                    <a:pt x="206" y="1603"/>
                    <a:pt x="196" y="1603"/>
                  </a:cubicBezTo>
                  <a:cubicBezTo>
                    <a:pt x="178" y="1601"/>
                    <a:pt x="164" y="1602"/>
                    <a:pt x="166" y="1580"/>
                  </a:cubicBezTo>
                  <a:cubicBezTo>
                    <a:pt x="167" y="1564"/>
                    <a:pt x="186" y="1552"/>
                    <a:pt x="192" y="1541"/>
                  </a:cubicBezTo>
                  <a:cubicBezTo>
                    <a:pt x="201" y="1522"/>
                    <a:pt x="199" y="1480"/>
                    <a:pt x="191" y="1458"/>
                  </a:cubicBezTo>
                  <a:cubicBezTo>
                    <a:pt x="187" y="1449"/>
                    <a:pt x="178" y="1442"/>
                    <a:pt x="176" y="1433"/>
                  </a:cubicBezTo>
                  <a:cubicBezTo>
                    <a:pt x="171" y="1415"/>
                    <a:pt x="172" y="1388"/>
                    <a:pt x="173" y="1366"/>
                  </a:cubicBezTo>
                  <a:cubicBezTo>
                    <a:pt x="174" y="1344"/>
                    <a:pt x="173" y="1323"/>
                    <a:pt x="171" y="1303"/>
                  </a:cubicBezTo>
                  <a:cubicBezTo>
                    <a:pt x="167" y="1261"/>
                    <a:pt x="165" y="1218"/>
                    <a:pt x="161" y="1176"/>
                  </a:cubicBezTo>
                  <a:cubicBezTo>
                    <a:pt x="158" y="1143"/>
                    <a:pt x="145" y="1112"/>
                    <a:pt x="138" y="1082"/>
                  </a:cubicBezTo>
                  <a:cubicBezTo>
                    <a:pt x="134" y="1067"/>
                    <a:pt x="130" y="1050"/>
                    <a:pt x="127" y="1035"/>
                  </a:cubicBezTo>
                  <a:cubicBezTo>
                    <a:pt x="120" y="1006"/>
                    <a:pt x="112" y="977"/>
                    <a:pt x="115" y="941"/>
                  </a:cubicBezTo>
                  <a:cubicBezTo>
                    <a:pt x="89" y="937"/>
                    <a:pt x="66" y="941"/>
                    <a:pt x="51" y="927"/>
                  </a:cubicBezTo>
                  <a:cubicBezTo>
                    <a:pt x="39" y="918"/>
                    <a:pt x="26" y="891"/>
                    <a:pt x="24" y="874"/>
                  </a:cubicBezTo>
                  <a:cubicBezTo>
                    <a:pt x="23" y="866"/>
                    <a:pt x="23" y="859"/>
                    <a:pt x="25" y="852"/>
                  </a:cubicBezTo>
                  <a:cubicBezTo>
                    <a:pt x="25" y="847"/>
                    <a:pt x="15" y="852"/>
                    <a:pt x="14" y="848"/>
                  </a:cubicBezTo>
                  <a:cubicBezTo>
                    <a:pt x="10" y="782"/>
                    <a:pt x="0" y="717"/>
                    <a:pt x="0" y="647"/>
                  </a:cubicBezTo>
                  <a:cubicBezTo>
                    <a:pt x="1" y="592"/>
                    <a:pt x="9" y="536"/>
                    <a:pt x="11" y="479"/>
                  </a:cubicBezTo>
                  <a:cubicBezTo>
                    <a:pt x="12" y="422"/>
                    <a:pt x="15" y="364"/>
                    <a:pt x="24" y="310"/>
                  </a:cubicBezTo>
                  <a:cubicBezTo>
                    <a:pt x="50" y="295"/>
                    <a:pt x="77" y="277"/>
                    <a:pt x="108" y="264"/>
                  </a:cubicBezTo>
                  <a:cubicBezTo>
                    <a:pt x="120" y="259"/>
                    <a:pt x="135" y="256"/>
                    <a:pt x="144" y="249"/>
                  </a:cubicBezTo>
                  <a:cubicBezTo>
                    <a:pt x="154" y="242"/>
                    <a:pt x="174" y="227"/>
                    <a:pt x="176" y="217"/>
                  </a:cubicBezTo>
                  <a:cubicBezTo>
                    <a:pt x="179" y="199"/>
                    <a:pt x="171" y="184"/>
                    <a:pt x="167" y="172"/>
                  </a:cubicBezTo>
                  <a:cubicBezTo>
                    <a:pt x="164" y="166"/>
                    <a:pt x="162" y="159"/>
                    <a:pt x="159" y="156"/>
                  </a:cubicBezTo>
                  <a:cubicBezTo>
                    <a:pt x="154" y="149"/>
                    <a:pt x="146" y="148"/>
                    <a:pt x="142" y="142"/>
                  </a:cubicBezTo>
                  <a:cubicBezTo>
                    <a:pt x="135" y="129"/>
                    <a:pt x="132" y="97"/>
                    <a:pt x="146" y="92"/>
                  </a:cubicBezTo>
                  <a:cubicBezTo>
                    <a:pt x="148" y="42"/>
                    <a:pt x="164" y="7"/>
                    <a:pt x="213" y="3"/>
                  </a:cubicBezTo>
                  <a:cubicBezTo>
                    <a:pt x="269" y="0"/>
                    <a:pt x="302" y="30"/>
                    <a:pt x="295" y="92"/>
                  </a:cubicBezTo>
                  <a:cubicBezTo>
                    <a:pt x="297" y="99"/>
                    <a:pt x="302" y="98"/>
                    <a:pt x="304" y="105"/>
                  </a:cubicBezTo>
                  <a:cubicBezTo>
                    <a:pt x="307" y="119"/>
                    <a:pt x="300" y="137"/>
                    <a:pt x="293" y="144"/>
                  </a:cubicBezTo>
                  <a:cubicBezTo>
                    <a:pt x="290" y="147"/>
                    <a:pt x="287" y="148"/>
                    <a:pt x="285" y="152"/>
                  </a:cubicBezTo>
                  <a:cubicBezTo>
                    <a:pt x="284" y="156"/>
                    <a:pt x="285" y="165"/>
                    <a:pt x="283" y="172"/>
                  </a:cubicBezTo>
                  <a:cubicBezTo>
                    <a:pt x="282" y="181"/>
                    <a:pt x="277" y="197"/>
                    <a:pt x="281" y="210"/>
                  </a:cubicBezTo>
                  <a:cubicBezTo>
                    <a:pt x="282" y="216"/>
                    <a:pt x="296" y="227"/>
                    <a:pt x="304" y="231"/>
                  </a:cubicBezTo>
                  <a:cubicBezTo>
                    <a:pt x="314" y="235"/>
                    <a:pt x="328" y="236"/>
                    <a:pt x="340" y="240"/>
                  </a:cubicBezTo>
                  <a:cubicBezTo>
                    <a:pt x="363" y="247"/>
                    <a:pt x="384" y="253"/>
                    <a:pt x="409" y="260"/>
                  </a:cubicBezTo>
                  <a:cubicBezTo>
                    <a:pt x="423" y="265"/>
                    <a:pt x="437" y="267"/>
                    <a:pt x="444" y="275"/>
                  </a:cubicBezTo>
                  <a:cubicBezTo>
                    <a:pt x="449" y="281"/>
                    <a:pt x="453" y="295"/>
                    <a:pt x="457" y="306"/>
                  </a:cubicBezTo>
                  <a:cubicBezTo>
                    <a:pt x="461" y="317"/>
                    <a:pt x="465" y="329"/>
                    <a:pt x="467" y="338"/>
                  </a:cubicBezTo>
                  <a:cubicBezTo>
                    <a:pt x="470" y="355"/>
                    <a:pt x="469" y="372"/>
                    <a:pt x="472" y="389"/>
                  </a:cubicBezTo>
                  <a:cubicBezTo>
                    <a:pt x="477" y="421"/>
                    <a:pt x="482" y="452"/>
                    <a:pt x="487" y="485"/>
                  </a:cubicBezTo>
                  <a:cubicBezTo>
                    <a:pt x="489" y="501"/>
                    <a:pt x="490" y="518"/>
                    <a:pt x="494" y="532"/>
                  </a:cubicBezTo>
                  <a:cubicBezTo>
                    <a:pt x="497" y="542"/>
                    <a:pt x="507" y="551"/>
                    <a:pt x="507" y="563"/>
                  </a:cubicBezTo>
                  <a:cubicBezTo>
                    <a:pt x="507" y="570"/>
                    <a:pt x="501" y="576"/>
                    <a:pt x="500" y="582"/>
                  </a:cubicBezTo>
                  <a:cubicBezTo>
                    <a:pt x="500" y="588"/>
                    <a:pt x="505" y="593"/>
                    <a:pt x="505" y="599"/>
                  </a:cubicBezTo>
                  <a:cubicBezTo>
                    <a:pt x="506" y="613"/>
                    <a:pt x="500" y="624"/>
                    <a:pt x="498" y="634"/>
                  </a:cubicBezTo>
                  <a:cubicBezTo>
                    <a:pt x="495" y="646"/>
                    <a:pt x="495" y="660"/>
                    <a:pt x="493" y="673"/>
                  </a:cubicBezTo>
                  <a:cubicBezTo>
                    <a:pt x="488" y="708"/>
                    <a:pt x="480" y="750"/>
                    <a:pt x="475" y="785"/>
                  </a:cubicBezTo>
                  <a:close/>
                  <a:moveTo>
                    <a:pt x="177" y="222"/>
                  </a:moveTo>
                  <a:cubicBezTo>
                    <a:pt x="171" y="267"/>
                    <a:pt x="183" y="313"/>
                    <a:pt x="193" y="359"/>
                  </a:cubicBezTo>
                  <a:cubicBezTo>
                    <a:pt x="213" y="461"/>
                    <a:pt x="204" y="581"/>
                    <a:pt x="208" y="694"/>
                  </a:cubicBezTo>
                  <a:cubicBezTo>
                    <a:pt x="266" y="693"/>
                    <a:pt x="327" y="693"/>
                    <a:pt x="383" y="694"/>
                  </a:cubicBezTo>
                  <a:cubicBezTo>
                    <a:pt x="378" y="677"/>
                    <a:pt x="370" y="659"/>
                    <a:pt x="362" y="642"/>
                  </a:cubicBezTo>
                  <a:cubicBezTo>
                    <a:pt x="347" y="606"/>
                    <a:pt x="336" y="567"/>
                    <a:pt x="324" y="529"/>
                  </a:cubicBezTo>
                  <a:cubicBezTo>
                    <a:pt x="318" y="511"/>
                    <a:pt x="310" y="492"/>
                    <a:pt x="306" y="473"/>
                  </a:cubicBezTo>
                  <a:cubicBezTo>
                    <a:pt x="302" y="458"/>
                    <a:pt x="301" y="440"/>
                    <a:pt x="299" y="423"/>
                  </a:cubicBezTo>
                  <a:cubicBezTo>
                    <a:pt x="293" y="371"/>
                    <a:pt x="288" y="317"/>
                    <a:pt x="285" y="267"/>
                  </a:cubicBezTo>
                  <a:cubicBezTo>
                    <a:pt x="284" y="252"/>
                    <a:pt x="288" y="234"/>
                    <a:pt x="281" y="220"/>
                  </a:cubicBezTo>
                  <a:cubicBezTo>
                    <a:pt x="270" y="239"/>
                    <a:pt x="263" y="261"/>
                    <a:pt x="251" y="279"/>
                  </a:cubicBezTo>
                  <a:cubicBezTo>
                    <a:pt x="251" y="290"/>
                    <a:pt x="252" y="301"/>
                    <a:pt x="244" y="305"/>
                  </a:cubicBezTo>
                  <a:cubicBezTo>
                    <a:pt x="242" y="304"/>
                    <a:pt x="245" y="297"/>
                    <a:pt x="243" y="296"/>
                  </a:cubicBezTo>
                  <a:cubicBezTo>
                    <a:pt x="225" y="286"/>
                    <a:pt x="215" y="272"/>
                    <a:pt x="201" y="258"/>
                  </a:cubicBezTo>
                  <a:cubicBezTo>
                    <a:pt x="194" y="250"/>
                    <a:pt x="185" y="241"/>
                    <a:pt x="182" y="232"/>
                  </a:cubicBezTo>
                  <a:cubicBezTo>
                    <a:pt x="181" y="228"/>
                    <a:pt x="183" y="223"/>
                    <a:pt x="179" y="220"/>
                  </a:cubicBezTo>
                  <a:cubicBezTo>
                    <a:pt x="177" y="220"/>
                    <a:pt x="177" y="221"/>
                    <a:pt x="177" y="2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uppe 158"/>
          <p:cNvGrpSpPr/>
          <p:nvPr/>
        </p:nvGrpSpPr>
        <p:grpSpPr>
          <a:xfrm>
            <a:off x="1802160" y="4001040"/>
            <a:ext cx="1684800" cy="1461600"/>
            <a:chOff x="1802160" y="4001040"/>
            <a:chExt cx="1684800" cy="1461600"/>
          </a:xfrm>
        </p:grpSpPr>
        <p:grpSp>
          <p:nvGrpSpPr>
            <p:cNvPr id="111" name="Gruppe 376"/>
            <p:cNvGrpSpPr/>
            <p:nvPr/>
          </p:nvGrpSpPr>
          <p:grpSpPr>
            <a:xfrm>
              <a:off x="2354400" y="4001040"/>
              <a:ext cx="1132560" cy="1128240"/>
              <a:chOff x="2354400" y="4001040"/>
              <a:chExt cx="1132560" cy="1128240"/>
            </a:xfrm>
          </p:grpSpPr>
          <p:sp>
            <p:nvSpPr>
              <p:cNvPr id="112" name="Blokbue 125"/>
              <p:cNvSpPr/>
              <p:nvPr/>
            </p:nvSpPr>
            <p:spPr>
              <a:xfrm rot="10843800">
                <a:off x="2539080" y="4212000"/>
                <a:ext cx="732240" cy="732600"/>
              </a:xfrm>
              <a:custGeom>
                <a:avLst/>
                <a:gdLst>
                  <a:gd name="textAreaLeft" fmla="*/ 0 w 732240"/>
                  <a:gd name="textAreaRight" fmla="*/ 732240 w 732240"/>
                  <a:gd name="textAreaTop" fmla="*/ 0 h 732600"/>
                  <a:gd name="textAreaBottom" fmla="*/ 112320 h 732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213" y="8662"/>
                    </a:moveTo>
                    <a:cubicBezTo>
                      <a:pt x="7044" y="6879"/>
                      <a:pt x="8833" y="5740"/>
                      <a:pt x="10799" y="5740"/>
                    </a:cubicBezTo>
                    <a:cubicBezTo>
                      <a:pt x="12766" y="5740"/>
                      <a:pt x="14555" y="6879"/>
                      <a:pt x="15386" y="8662"/>
                    </a:cubicBezTo>
                    <a:lnTo>
                      <a:pt x="20588" y="6237"/>
                    </a:lnTo>
                    <a:cubicBezTo>
                      <a:pt x="18815" y="2432"/>
                      <a:pt x="14997" y="0"/>
                      <a:pt x="10800" y="0"/>
                    </a:cubicBezTo>
                    <a:cubicBezTo>
                      <a:pt x="6602" y="0"/>
                      <a:pt x="2784" y="2432"/>
                      <a:pt x="1011" y="6237"/>
                    </a:cubicBezTo>
                    <a:lnTo>
                      <a:pt x="6213" y="8662"/>
                    </a:lnTo>
                    <a:close/>
                  </a:path>
                </a:pathLst>
              </a:custGeom>
              <a:solidFill>
                <a:srgbClr val="dae5f1"/>
              </a:solidFill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Blokbue 126"/>
              <p:cNvSpPr/>
              <p:nvPr/>
            </p:nvSpPr>
            <p:spPr>
              <a:xfrm rot="14446800">
                <a:off x="2518560" y="4213440"/>
                <a:ext cx="732600" cy="732240"/>
              </a:xfrm>
              <a:custGeom>
                <a:avLst/>
                <a:gdLst>
                  <a:gd name="textAreaLeft" fmla="*/ 0 w 732600"/>
                  <a:gd name="textAreaRight" fmla="*/ 732960 w 732600"/>
                  <a:gd name="textAreaTop" fmla="*/ 0 h 732240"/>
                  <a:gd name="textAreaBottom" fmla="*/ 111960 h 73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213" y="8662"/>
                    </a:moveTo>
                    <a:cubicBezTo>
                      <a:pt x="7044" y="6879"/>
                      <a:pt x="8833" y="5740"/>
                      <a:pt x="10799" y="5740"/>
                    </a:cubicBezTo>
                    <a:cubicBezTo>
                      <a:pt x="12766" y="5740"/>
                      <a:pt x="14555" y="6879"/>
                      <a:pt x="15386" y="8662"/>
                    </a:cubicBezTo>
                    <a:lnTo>
                      <a:pt x="20588" y="6237"/>
                    </a:lnTo>
                    <a:cubicBezTo>
                      <a:pt x="18815" y="2432"/>
                      <a:pt x="14997" y="0"/>
                      <a:pt x="10800" y="0"/>
                    </a:cubicBezTo>
                    <a:cubicBezTo>
                      <a:pt x="6602" y="0"/>
                      <a:pt x="2784" y="2432"/>
                      <a:pt x="1011" y="6237"/>
                    </a:cubicBezTo>
                    <a:lnTo>
                      <a:pt x="6213" y="8662"/>
                    </a:lnTo>
                    <a:close/>
                  </a:path>
                </a:pathLst>
              </a:custGeom>
              <a:solidFill>
                <a:srgbClr val="dae5f1"/>
              </a:solidFill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Blokbue 127"/>
              <p:cNvSpPr/>
              <p:nvPr/>
            </p:nvSpPr>
            <p:spPr>
              <a:xfrm rot="18033600">
                <a:off x="2513160" y="4192920"/>
                <a:ext cx="732600" cy="732240"/>
              </a:xfrm>
              <a:custGeom>
                <a:avLst/>
                <a:gdLst>
                  <a:gd name="textAreaLeft" fmla="*/ 0 w 732600"/>
                  <a:gd name="textAreaRight" fmla="*/ 732960 w 732600"/>
                  <a:gd name="textAreaTop" fmla="*/ 0 h 732240"/>
                  <a:gd name="textAreaBottom" fmla="*/ 111960 h 73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212" y="8661"/>
                    </a:moveTo>
                    <a:cubicBezTo>
                      <a:pt x="7043" y="6878"/>
                      <a:pt x="8832" y="5739"/>
                      <a:pt x="10799" y="5739"/>
                    </a:cubicBezTo>
                    <a:cubicBezTo>
                      <a:pt x="12767" y="5739"/>
                      <a:pt x="14556" y="6878"/>
                      <a:pt x="15387" y="8661"/>
                    </a:cubicBezTo>
                    <a:lnTo>
                      <a:pt x="20588" y="6237"/>
                    </a:lnTo>
                    <a:cubicBezTo>
                      <a:pt x="18815" y="2432"/>
                      <a:pt x="14997" y="0"/>
                      <a:pt x="10800" y="0"/>
                    </a:cubicBezTo>
                    <a:cubicBezTo>
                      <a:pt x="6602" y="0"/>
                      <a:pt x="2784" y="2432"/>
                      <a:pt x="1011" y="6237"/>
                    </a:cubicBezTo>
                    <a:lnTo>
                      <a:pt x="6212" y="8661"/>
                    </a:lnTo>
                    <a:close/>
                  </a:path>
                </a:pathLst>
              </a:custGeom>
              <a:solidFill>
                <a:srgbClr val="dae5f1"/>
              </a:solidFill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Blokbue 128"/>
              <p:cNvSpPr/>
              <p:nvPr/>
            </p:nvSpPr>
            <p:spPr>
              <a:xfrm rot="13800">
                <a:off x="2525040" y="4178880"/>
                <a:ext cx="732240" cy="732600"/>
              </a:xfrm>
              <a:custGeom>
                <a:avLst/>
                <a:gdLst>
                  <a:gd name="textAreaLeft" fmla="*/ 0 w 732240"/>
                  <a:gd name="textAreaRight" fmla="*/ 732240 w 732240"/>
                  <a:gd name="textAreaTop" fmla="*/ 0 h 732600"/>
                  <a:gd name="textAreaBottom" fmla="*/ 112320 h 732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213" y="8662"/>
                    </a:moveTo>
                    <a:cubicBezTo>
                      <a:pt x="7044" y="6879"/>
                      <a:pt x="8833" y="5740"/>
                      <a:pt x="10799" y="5740"/>
                    </a:cubicBezTo>
                    <a:cubicBezTo>
                      <a:pt x="12766" y="5740"/>
                      <a:pt x="14555" y="6879"/>
                      <a:pt x="15386" y="8662"/>
                    </a:cubicBezTo>
                    <a:lnTo>
                      <a:pt x="20588" y="6237"/>
                    </a:lnTo>
                    <a:cubicBezTo>
                      <a:pt x="18815" y="2432"/>
                      <a:pt x="14997" y="0"/>
                      <a:pt x="10800" y="0"/>
                    </a:cubicBezTo>
                    <a:cubicBezTo>
                      <a:pt x="6602" y="0"/>
                      <a:pt x="2784" y="2432"/>
                      <a:pt x="1011" y="6237"/>
                    </a:cubicBezTo>
                    <a:lnTo>
                      <a:pt x="6213" y="8662"/>
                    </a:lnTo>
                    <a:close/>
                  </a:path>
                </a:pathLst>
              </a:custGeom>
              <a:solidFill>
                <a:srgbClr val="dae5f1"/>
              </a:solidFill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Blokbue 129"/>
              <p:cNvSpPr/>
              <p:nvPr/>
            </p:nvSpPr>
            <p:spPr>
              <a:xfrm rot="3730200">
                <a:off x="2539800" y="4177800"/>
                <a:ext cx="732600" cy="732240"/>
              </a:xfrm>
              <a:custGeom>
                <a:avLst/>
                <a:gdLst>
                  <a:gd name="textAreaLeft" fmla="*/ 0 w 732600"/>
                  <a:gd name="textAreaRight" fmla="*/ 732960 w 732600"/>
                  <a:gd name="textAreaTop" fmla="*/ 0 h 732240"/>
                  <a:gd name="textAreaBottom" fmla="*/ 111960 h 73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213" y="8662"/>
                    </a:moveTo>
                    <a:cubicBezTo>
                      <a:pt x="7044" y="6879"/>
                      <a:pt x="8833" y="5740"/>
                      <a:pt x="10799" y="5740"/>
                    </a:cubicBezTo>
                    <a:cubicBezTo>
                      <a:pt x="12766" y="5740"/>
                      <a:pt x="14555" y="6879"/>
                      <a:pt x="15386" y="8662"/>
                    </a:cubicBezTo>
                    <a:lnTo>
                      <a:pt x="20588" y="6237"/>
                    </a:lnTo>
                    <a:cubicBezTo>
                      <a:pt x="18815" y="2432"/>
                      <a:pt x="14997" y="0"/>
                      <a:pt x="10800" y="0"/>
                    </a:cubicBezTo>
                    <a:cubicBezTo>
                      <a:pt x="6602" y="0"/>
                      <a:pt x="2784" y="2432"/>
                      <a:pt x="1011" y="6237"/>
                    </a:cubicBezTo>
                    <a:lnTo>
                      <a:pt x="6213" y="8662"/>
                    </a:lnTo>
                    <a:close/>
                  </a:path>
                </a:pathLst>
              </a:custGeom>
              <a:solidFill>
                <a:srgbClr val="dae5f1"/>
              </a:solidFill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Cirkulær pil 130"/>
              <p:cNvSpPr/>
              <p:nvPr/>
            </p:nvSpPr>
            <p:spPr>
              <a:xfrm flipH="1" flipV="1" rot="14216400">
                <a:off x="2515680" y="4152600"/>
                <a:ext cx="809640" cy="824400"/>
              </a:xfrm>
              <a:custGeom>
                <a:avLst/>
                <a:gdLst>
                  <a:gd name="textAreaLeft" fmla="*/ 118440 w 809640"/>
                  <a:gd name="textAreaRight" fmla="*/ 691200 w 809640"/>
                  <a:gd name="textAreaTop" fmla="*/ 120600 h 824400"/>
                  <a:gd name="textAreaBottom" fmla="*/ 703800 h 82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937" y="9649"/>
                    </a:moveTo>
                    <a:cubicBezTo>
                      <a:pt x="13455" y="8333"/>
                      <a:pt x="12202" y="7458"/>
                      <a:pt x="10800" y="7458"/>
                    </a:cubicBezTo>
                    <a:cubicBezTo>
                      <a:pt x="10764" y="7458"/>
                      <a:pt x="10729" y="7458"/>
                      <a:pt x="10693" y="7459"/>
                    </a:cubicBezTo>
                    <a:lnTo>
                      <a:pt x="10457" y="5"/>
                    </a:lnTo>
                    <a:cubicBezTo>
                      <a:pt x="10571" y="1"/>
                      <a:pt x="10685" y="0"/>
                      <a:pt x="10799" y="0"/>
                    </a:cubicBezTo>
                    <a:cubicBezTo>
                      <a:pt x="15331" y="0"/>
                      <a:pt x="19380" y="2828"/>
                      <a:pt x="20940" y="7082"/>
                    </a:cubicBezTo>
                    <a:lnTo>
                      <a:pt x="23475" y="6153"/>
                    </a:lnTo>
                    <a:lnTo>
                      <a:pt x="19651" y="14402"/>
                    </a:lnTo>
                    <a:lnTo>
                      <a:pt x="11402" y="10579"/>
                    </a:lnTo>
                    <a:lnTo>
                      <a:pt x="13937" y="9649"/>
                    </a:lnTo>
                    <a:close/>
                  </a:path>
                </a:pathLst>
              </a:custGeom>
              <a:solidFill>
                <a:srgbClr val="c4bd97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uppe 376"/>
            <p:cNvGrpSpPr/>
            <p:nvPr/>
          </p:nvGrpSpPr>
          <p:grpSpPr>
            <a:xfrm>
              <a:off x="1802160" y="4334400"/>
              <a:ext cx="1132560" cy="1128240"/>
              <a:chOff x="1802160" y="4334400"/>
              <a:chExt cx="1132560" cy="1128240"/>
            </a:xfrm>
          </p:grpSpPr>
          <p:sp>
            <p:nvSpPr>
              <p:cNvPr id="119" name="Blokbue 132"/>
              <p:cNvSpPr/>
              <p:nvPr/>
            </p:nvSpPr>
            <p:spPr>
              <a:xfrm rot="10843800">
                <a:off x="1986840" y="4545360"/>
                <a:ext cx="732240" cy="732600"/>
              </a:xfrm>
              <a:custGeom>
                <a:avLst/>
                <a:gdLst>
                  <a:gd name="textAreaLeft" fmla="*/ 0 w 732240"/>
                  <a:gd name="textAreaRight" fmla="*/ 732240 w 732240"/>
                  <a:gd name="textAreaTop" fmla="*/ 0 h 732600"/>
                  <a:gd name="textAreaBottom" fmla="*/ 112320 h 732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213" y="8662"/>
                    </a:moveTo>
                    <a:cubicBezTo>
                      <a:pt x="7044" y="6879"/>
                      <a:pt x="8833" y="5740"/>
                      <a:pt x="10799" y="5740"/>
                    </a:cubicBezTo>
                    <a:cubicBezTo>
                      <a:pt x="12766" y="5740"/>
                      <a:pt x="14555" y="6879"/>
                      <a:pt x="15386" y="8662"/>
                    </a:cubicBezTo>
                    <a:lnTo>
                      <a:pt x="20588" y="6237"/>
                    </a:lnTo>
                    <a:cubicBezTo>
                      <a:pt x="18815" y="2432"/>
                      <a:pt x="14997" y="0"/>
                      <a:pt x="10800" y="0"/>
                    </a:cubicBezTo>
                    <a:cubicBezTo>
                      <a:pt x="6602" y="0"/>
                      <a:pt x="2784" y="2432"/>
                      <a:pt x="1011" y="6237"/>
                    </a:cubicBezTo>
                    <a:lnTo>
                      <a:pt x="6213" y="8662"/>
                    </a:lnTo>
                    <a:close/>
                  </a:path>
                </a:pathLst>
              </a:custGeom>
              <a:solidFill>
                <a:srgbClr val="dae5f1"/>
              </a:solidFill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Blokbue 133"/>
              <p:cNvSpPr/>
              <p:nvPr/>
            </p:nvSpPr>
            <p:spPr>
              <a:xfrm rot="14446800">
                <a:off x="1966320" y="4546800"/>
                <a:ext cx="732600" cy="732240"/>
              </a:xfrm>
              <a:custGeom>
                <a:avLst/>
                <a:gdLst>
                  <a:gd name="textAreaLeft" fmla="*/ 0 w 732600"/>
                  <a:gd name="textAreaRight" fmla="*/ 732960 w 732600"/>
                  <a:gd name="textAreaTop" fmla="*/ 0 h 732240"/>
                  <a:gd name="textAreaBottom" fmla="*/ 111960 h 73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213" y="8662"/>
                    </a:moveTo>
                    <a:cubicBezTo>
                      <a:pt x="7044" y="6879"/>
                      <a:pt x="8833" y="5740"/>
                      <a:pt x="10799" y="5740"/>
                    </a:cubicBezTo>
                    <a:cubicBezTo>
                      <a:pt x="12766" y="5740"/>
                      <a:pt x="14555" y="6879"/>
                      <a:pt x="15386" y="8662"/>
                    </a:cubicBezTo>
                    <a:lnTo>
                      <a:pt x="20588" y="6237"/>
                    </a:lnTo>
                    <a:cubicBezTo>
                      <a:pt x="18815" y="2432"/>
                      <a:pt x="14997" y="0"/>
                      <a:pt x="10800" y="0"/>
                    </a:cubicBezTo>
                    <a:cubicBezTo>
                      <a:pt x="6602" y="0"/>
                      <a:pt x="2784" y="2432"/>
                      <a:pt x="1011" y="6237"/>
                    </a:cubicBezTo>
                    <a:lnTo>
                      <a:pt x="6213" y="8662"/>
                    </a:lnTo>
                    <a:close/>
                  </a:path>
                </a:pathLst>
              </a:custGeom>
              <a:solidFill>
                <a:srgbClr val="dae5f1"/>
              </a:solidFill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Blokbue 134"/>
              <p:cNvSpPr/>
              <p:nvPr/>
            </p:nvSpPr>
            <p:spPr>
              <a:xfrm rot="18033600">
                <a:off x="1960920" y="4526280"/>
                <a:ext cx="732600" cy="732240"/>
              </a:xfrm>
              <a:custGeom>
                <a:avLst/>
                <a:gdLst>
                  <a:gd name="textAreaLeft" fmla="*/ 0 w 732600"/>
                  <a:gd name="textAreaRight" fmla="*/ 732960 w 732600"/>
                  <a:gd name="textAreaTop" fmla="*/ 0 h 732240"/>
                  <a:gd name="textAreaBottom" fmla="*/ 111960 h 73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212" y="8661"/>
                    </a:moveTo>
                    <a:cubicBezTo>
                      <a:pt x="7043" y="6878"/>
                      <a:pt x="8832" y="5739"/>
                      <a:pt x="10799" y="5739"/>
                    </a:cubicBezTo>
                    <a:cubicBezTo>
                      <a:pt x="12767" y="5739"/>
                      <a:pt x="14556" y="6878"/>
                      <a:pt x="15387" y="8661"/>
                    </a:cubicBezTo>
                    <a:lnTo>
                      <a:pt x="20588" y="6237"/>
                    </a:lnTo>
                    <a:cubicBezTo>
                      <a:pt x="18815" y="2432"/>
                      <a:pt x="14997" y="0"/>
                      <a:pt x="10800" y="0"/>
                    </a:cubicBezTo>
                    <a:cubicBezTo>
                      <a:pt x="6602" y="0"/>
                      <a:pt x="2784" y="2432"/>
                      <a:pt x="1011" y="6237"/>
                    </a:cubicBezTo>
                    <a:lnTo>
                      <a:pt x="6212" y="8661"/>
                    </a:lnTo>
                    <a:close/>
                  </a:path>
                </a:pathLst>
              </a:custGeom>
              <a:solidFill>
                <a:srgbClr val="dae5f1"/>
              </a:solidFill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Blokbue 135"/>
              <p:cNvSpPr/>
              <p:nvPr/>
            </p:nvSpPr>
            <p:spPr>
              <a:xfrm rot="13800">
                <a:off x="1972800" y="4512240"/>
                <a:ext cx="732240" cy="732600"/>
              </a:xfrm>
              <a:custGeom>
                <a:avLst/>
                <a:gdLst>
                  <a:gd name="textAreaLeft" fmla="*/ 0 w 732240"/>
                  <a:gd name="textAreaRight" fmla="*/ 732240 w 732240"/>
                  <a:gd name="textAreaTop" fmla="*/ 0 h 732600"/>
                  <a:gd name="textAreaBottom" fmla="*/ 112320 h 732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213" y="8662"/>
                    </a:moveTo>
                    <a:cubicBezTo>
                      <a:pt x="7044" y="6879"/>
                      <a:pt x="8833" y="5740"/>
                      <a:pt x="10799" y="5740"/>
                    </a:cubicBezTo>
                    <a:cubicBezTo>
                      <a:pt x="12766" y="5740"/>
                      <a:pt x="14555" y="6879"/>
                      <a:pt x="15386" y="8662"/>
                    </a:cubicBezTo>
                    <a:lnTo>
                      <a:pt x="20588" y="6237"/>
                    </a:lnTo>
                    <a:cubicBezTo>
                      <a:pt x="18815" y="2432"/>
                      <a:pt x="14997" y="0"/>
                      <a:pt x="10800" y="0"/>
                    </a:cubicBezTo>
                    <a:cubicBezTo>
                      <a:pt x="6602" y="0"/>
                      <a:pt x="2784" y="2432"/>
                      <a:pt x="1011" y="6237"/>
                    </a:cubicBezTo>
                    <a:lnTo>
                      <a:pt x="6213" y="8662"/>
                    </a:lnTo>
                    <a:close/>
                  </a:path>
                </a:pathLst>
              </a:custGeom>
              <a:solidFill>
                <a:srgbClr val="dae5f1"/>
              </a:solidFill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Blokbue 136"/>
              <p:cNvSpPr/>
              <p:nvPr/>
            </p:nvSpPr>
            <p:spPr>
              <a:xfrm rot="3730200">
                <a:off x="1987560" y="4511160"/>
                <a:ext cx="732600" cy="732240"/>
              </a:xfrm>
              <a:custGeom>
                <a:avLst/>
                <a:gdLst>
                  <a:gd name="textAreaLeft" fmla="*/ 0 w 732600"/>
                  <a:gd name="textAreaRight" fmla="*/ 732960 w 732600"/>
                  <a:gd name="textAreaTop" fmla="*/ 0 h 732240"/>
                  <a:gd name="textAreaBottom" fmla="*/ 111960 h 73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213" y="8662"/>
                    </a:moveTo>
                    <a:cubicBezTo>
                      <a:pt x="7044" y="6879"/>
                      <a:pt x="8833" y="5740"/>
                      <a:pt x="10799" y="5740"/>
                    </a:cubicBezTo>
                    <a:cubicBezTo>
                      <a:pt x="12766" y="5740"/>
                      <a:pt x="14555" y="6879"/>
                      <a:pt x="15386" y="8662"/>
                    </a:cubicBezTo>
                    <a:lnTo>
                      <a:pt x="20588" y="6237"/>
                    </a:lnTo>
                    <a:cubicBezTo>
                      <a:pt x="18815" y="2432"/>
                      <a:pt x="14997" y="0"/>
                      <a:pt x="10800" y="0"/>
                    </a:cubicBezTo>
                    <a:cubicBezTo>
                      <a:pt x="6602" y="0"/>
                      <a:pt x="2784" y="2432"/>
                      <a:pt x="1011" y="6237"/>
                    </a:cubicBezTo>
                    <a:lnTo>
                      <a:pt x="6213" y="8662"/>
                    </a:lnTo>
                    <a:close/>
                  </a:path>
                </a:pathLst>
              </a:custGeom>
              <a:solidFill>
                <a:srgbClr val="dae5f1"/>
              </a:solidFill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Cirkulær pil 137"/>
              <p:cNvSpPr/>
              <p:nvPr/>
            </p:nvSpPr>
            <p:spPr>
              <a:xfrm flipH="1" flipV="1" rot="14216400">
                <a:off x="1963440" y="4485960"/>
                <a:ext cx="809640" cy="824400"/>
              </a:xfrm>
              <a:custGeom>
                <a:avLst/>
                <a:gdLst>
                  <a:gd name="textAreaLeft" fmla="*/ 118440 w 809640"/>
                  <a:gd name="textAreaRight" fmla="*/ 691200 w 809640"/>
                  <a:gd name="textAreaTop" fmla="*/ 120600 h 824400"/>
                  <a:gd name="textAreaBottom" fmla="*/ 703800 h 82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937" y="9649"/>
                    </a:moveTo>
                    <a:cubicBezTo>
                      <a:pt x="13455" y="8333"/>
                      <a:pt x="12202" y="7458"/>
                      <a:pt x="10800" y="7458"/>
                    </a:cubicBezTo>
                    <a:cubicBezTo>
                      <a:pt x="10764" y="7458"/>
                      <a:pt x="10729" y="7458"/>
                      <a:pt x="10693" y="7459"/>
                    </a:cubicBezTo>
                    <a:lnTo>
                      <a:pt x="10457" y="5"/>
                    </a:lnTo>
                    <a:cubicBezTo>
                      <a:pt x="10571" y="1"/>
                      <a:pt x="10685" y="0"/>
                      <a:pt x="10799" y="0"/>
                    </a:cubicBezTo>
                    <a:cubicBezTo>
                      <a:pt x="15331" y="0"/>
                      <a:pt x="19380" y="2828"/>
                      <a:pt x="20940" y="7082"/>
                    </a:cubicBezTo>
                    <a:lnTo>
                      <a:pt x="23475" y="6153"/>
                    </a:lnTo>
                    <a:lnTo>
                      <a:pt x="19651" y="14402"/>
                    </a:lnTo>
                    <a:lnTo>
                      <a:pt x="11402" y="10579"/>
                    </a:lnTo>
                    <a:lnTo>
                      <a:pt x="13937" y="9649"/>
                    </a:lnTo>
                    <a:close/>
                  </a:path>
                </a:pathLst>
              </a:custGeom>
              <a:solidFill>
                <a:srgbClr val="c4bd97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Gruppe 230"/>
          <p:cNvGrpSpPr/>
          <p:nvPr/>
        </p:nvGrpSpPr>
        <p:grpSpPr>
          <a:xfrm>
            <a:off x="6605280" y="4533840"/>
            <a:ext cx="749160" cy="912960"/>
            <a:chOff x="6605280" y="4533840"/>
            <a:chExt cx="749160" cy="912960"/>
          </a:xfrm>
        </p:grpSpPr>
        <p:grpSp>
          <p:nvGrpSpPr>
            <p:cNvPr id="126" name="Gruppe 56"/>
            <p:cNvGrpSpPr/>
            <p:nvPr/>
          </p:nvGrpSpPr>
          <p:grpSpPr>
            <a:xfrm>
              <a:off x="6605280" y="4533840"/>
              <a:ext cx="749160" cy="912960"/>
              <a:chOff x="6605280" y="4533840"/>
              <a:chExt cx="749160" cy="912960"/>
            </a:xfrm>
          </p:grpSpPr>
          <p:grpSp>
            <p:nvGrpSpPr>
              <p:cNvPr id="127" name="Gruppe 25"/>
              <p:cNvGrpSpPr/>
              <p:nvPr/>
            </p:nvGrpSpPr>
            <p:grpSpPr>
              <a:xfrm>
                <a:off x="6605280" y="4533840"/>
                <a:ext cx="749160" cy="912960"/>
                <a:chOff x="6605280" y="4533840"/>
                <a:chExt cx="749160" cy="912960"/>
              </a:xfrm>
            </p:grpSpPr>
            <p:sp>
              <p:nvSpPr>
                <p:cNvPr id="128" name="Rektangel 154"/>
                <p:cNvSpPr/>
                <p:nvPr/>
              </p:nvSpPr>
              <p:spPr>
                <a:xfrm rot="16200000">
                  <a:off x="6824160" y="4889160"/>
                  <a:ext cx="757800" cy="200520"/>
                </a:xfrm>
                <a:prstGeom prst="rect">
                  <a:avLst/>
                </a:prstGeom>
                <a:solidFill>
                  <a:srgbClr val="dae5f1"/>
                </a:solidFill>
                <a:ln w="936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Venstre-opadgående pil 155"/>
                <p:cNvSpPr/>
                <p:nvPr/>
              </p:nvSpPr>
              <p:spPr>
                <a:xfrm flipH="1">
                  <a:off x="6604920" y="4533840"/>
                  <a:ext cx="749160" cy="912960"/>
                </a:xfrm>
                <a:custGeom>
                  <a:avLst/>
                  <a:gdLst>
                    <a:gd name="textAreaLeft" fmla="*/ 13320 w 749160"/>
                    <a:gd name="textAreaRight" fmla="*/ 730440 w 749160"/>
                    <a:gd name="textAreaTop" fmla="*/ 863640 h 912960"/>
                    <a:gd name="textAreaBottom" fmla="*/ 890280 h 91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0745" y="0"/>
                      </a:moveTo>
                      <a:lnTo>
                        <a:pt x="19890" y="1066"/>
                      </a:lnTo>
                      <a:lnTo>
                        <a:pt x="20427" y="1066"/>
                      </a:lnTo>
                      <a:lnTo>
                        <a:pt x="20427" y="20427"/>
                      </a:lnTo>
                      <a:lnTo>
                        <a:pt x="1066" y="20427"/>
                      </a:lnTo>
                      <a:lnTo>
                        <a:pt x="1066" y="19890"/>
                      </a:lnTo>
                      <a:lnTo>
                        <a:pt x="0" y="20745"/>
                      </a:lnTo>
                      <a:lnTo>
                        <a:pt x="1066" y="21600"/>
                      </a:lnTo>
                      <a:lnTo>
                        <a:pt x="1066" y="21063"/>
                      </a:lnTo>
                      <a:lnTo>
                        <a:pt x="21063" y="21063"/>
                      </a:lnTo>
                      <a:lnTo>
                        <a:pt x="21063" y="1066"/>
                      </a:lnTo>
                      <a:lnTo>
                        <a:pt x="21600" y="1066"/>
                      </a:lnTo>
                      <a:lnTo>
                        <a:pt x="2074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d8d8d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Rektangel 156"/>
                <p:cNvSpPr/>
                <p:nvPr/>
              </p:nvSpPr>
              <p:spPr>
                <a:xfrm rot="16200000">
                  <a:off x="6608160" y="4883400"/>
                  <a:ext cx="757800" cy="212040"/>
                </a:xfrm>
                <a:prstGeom prst="rect">
                  <a:avLst/>
                </a:prstGeom>
                <a:solidFill>
                  <a:srgbClr val="dae5f1"/>
                </a:solidFill>
                <a:ln w="936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Rektangel 157"/>
                <p:cNvSpPr/>
                <p:nvPr/>
              </p:nvSpPr>
              <p:spPr>
                <a:xfrm rot="16200000">
                  <a:off x="6395400" y="4892760"/>
                  <a:ext cx="757800" cy="193320"/>
                </a:xfrm>
                <a:prstGeom prst="rect">
                  <a:avLst/>
                </a:prstGeom>
                <a:solidFill>
                  <a:srgbClr val="dae5f1"/>
                </a:solidFill>
                <a:ln w="936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uppe 55"/>
              <p:cNvGrpSpPr/>
              <p:nvPr/>
            </p:nvGrpSpPr>
            <p:grpSpPr>
              <a:xfrm>
                <a:off x="6656400" y="4793040"/>
                <a:ext cx="655200" cy="393840"/>
                <a:chOff x="6656400" y="4793040"/>
                <a:chExt cx="655200" cy="393840"/>
              </a:xfrm>
            </p:grpSpPr>
            <p:sp>
              <p:nvSpPr>
                <p:cNvPr id="133" name="Lige forbindelse 151"/>
                <p:cNvSpPr/>
                <p:nvPr/>
              </p:nvSpPr>
              <p:spPr>
                <a:xfrm flipH="1">
                  <a:off x="6656400" y="5186880"/>
                  <a:ext cx="655200" cy="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ge forbindelse 152"/>
                <p:cNvSpPr/>
                <p:nvPr/>
              </p:nvSpPr>
              <p:spPr>
                <a:xfrm flipH="1">
                  <a:off x="6656400" y="4988520"/>
                  <a:ext cx="655200" cy="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ge forbindelse 153"/>
                <p:cNvSpPr/>
                <p:nvPr/>
              </p:nvSpPr>
              <p:spPr>
                <a:xfrm flipH="1">
                  <a:off x="6656400" y="4793040"/>
                  <a:ext cx="655200" cy="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" name="Kombinationstegning 147"/>
            <p:cNvSpPr/>
            <p:nvPr/>
          </p:nvSpPr>
          <p:spPr>
            <a:xfrm>
              <a:off x="6683040" y="4613760"/>
              <a:ext cx="456120" cy="71424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804160" h="3901440">
                  <a:moveTo>
                    <a:pt x="0" y="3901440"/>
                  </a:moveTo>
                  <a:cubicBezTo>
                    <a:pt x="688340" y="3502660"/>
                    <a:pt x="1376680" y="3103880"/>
                    <a:pt x="1844040" y="2453640"/>
                  </a:cubicBezTo>
                  <a:cubicBezTo>
                    <a:pt x="2311400" y="1803400"/>
                    <a:pt x="2557780" y="901700"/>
                    <a:pt x="2804160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Kombinationstegning 148"/>
            <p:cNvSpPr/>
            <p:nvPr/>
          </p:nvSpPr>
          <p:spPr>
            <a:xfrm>
              <a:off x="6683400" y="4613760"/>
              <a:ext cx="628200" cy="71964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719640"/>
                <a:gd name="textAreaBottom" fmla="*/ 720000 h 719640"/>
              </a:gdLst>
              <a:ahLst/>
              <a:rect l="textAreaLeft" t="textAreaTop" r="textAreaRight" b="textAreaBottom"/>
              <a:pathLst>
                <a:path w="4356100" h="3931920">
                  <a:moveTo>
                    <a:pt x="27940" y="3931920"/>
                  </a:moveTo>
                  <a:cubicBezTo>
                    <a:pt x="13970" y="3472180"/>
                    <a:pt x="0" y="3012440"/>
                    <a:pt x="378460" y="2712720"/>
                  </a:cubicBezTo>
                  <a:cubicBezTo>
                    <a:pt x="756920" y="2413000"/>
                    <a:pt x="1770380" y="2453640"/>
                    <a:pt x="2298700" y="2133600"/>
                  </a:cubicBezTo>
                  <a:cubicBezTo>
                    <a:pt x="2827020" y="1813560"/>
                    <a:pt x="3205480" y="1148080"/>
                    <a:pt x="3548380" y="792480"/>
                  </a:cubicBezTo>
                  <a:cubicBezTo>
                    <a:pt x="3891280" y="436880"/>
                    <a:pt x="4123690" y="218440"/>
                    <a:pt x="4356100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prstDash val="sys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uppe 634"/>
          <p:cNvGrpSpPr/>
          <p:nvPr/>
        </p:nvGrpSpPr>
        <p:grpSpPr>
          <a:xfrm>
            <a:off x="1611360" y="2684520"/>
            <a:ext cx="1512360" cy="685800"/>
            <a:chOff x="1611360" y="2684520"/>
            <a:chExt cx="1512360" cy="685800"/>
          </a:xfrm>
        </p:grpSpPr>
        <p:sp>
          <p:nvSpPr>
            <p:cNvPr id="139" name="Rektangel 162"/>
            <p:cNvSpPr/>
            <p:nvPr/>
          </p:nvSpPr>
          <p:spPr>
            <a:xfrm>
              <a:off x="1611360" y="3279960"/>
              <a:ext cx="1494000" cy="90360"/>
            </a:xfrm>
            <a:prstGeom prst="rect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3f3f3"/>
                </a:gs>
              </a:gsLst>
              <a:lin ang="163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uppe 225"/>
            <p:cNvGrpSpPr/>
            <p:nvPr/>
          </p:nvGrpSpPr>
          <p:grpSpPr>
            <a:xfrm>
              <a:off x="1611360" y="2948040"/>
              <a:ext cx="1505160" cy="368280"/>
              <a:chOff x="1611360" y="2948040"/>
              <a:chExt cx="1505160" cy="368280"/>
            </a:xfrm>
          </p:grpSpPr>
          <p:sp>
            <p:nvSpPr>
              <p:cNvPr id="141" name="Freeform 151"/>
              <p:cNvSpPr/>
              <p:nvPr/>
            </p:nvSpPr>
            <p:spPr>
              <a:xfrm>
                <a:off x="1611360" y="2948040"/>
                <a:ext cx="1505160" cy="368280"/>
              </a:xfrm>
              <a:custGeom>
                <a:avLst/>
                <a:gdLst>
                  <a:gd name="textAreaLeft" fmla="*/ 0 w 1505160"/>
                  <a:gd name="textAreaRight" fmla="*/ 1505520 w 1505160"/>
                  <a:gd name="textAreaTop" fmla="*/ 0 h 368280"/>
                  <a:gd name="textAreaBottom" fmla="*/ 368280 h 368280"/>
                </a:gdLst>
                <a:ahLst/>
                <a:rect l="textAreaLeft" t="textAreaTop" r="textAreaRight" b="textAreaBottom"/>
                <a:pathLst>
                  <a:path w="4397" h="1122">
                    <a:moveTo>
                      <a:pt x="1441" y="0"/>
                    </a:moveTo>
                    <a:lnTo>
                      <a:pt x="4397" y="10"/>
                    </a:lnTo>
                    <a:lnTo>
                      <a:pt x="4369" y="1122"/>
                    </a:lnTo>
                    <a:lnTo>
                      <a:pt x="0" y="1028"/>
                    </a:lnTo>
                    <a:lnTo>
                      <a:pt x="0" y="943"/>
                    </a:lnTo>
                    <a:lnTo>
                      <a:pt x="14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52"/>
              <p:cNvSpPr/>
              <p:nvPr/>
            </p:nvSpPr>
            <p:spPr>
              <a:xfrm>
                <a:off x="1619280" y="2950920"/>
                <a:ext cx="1494360" cy="328680"/>
              </a:xfrm>
              <a:custGeom>
                <a:avLst/>
                <a:gdLst>
                  <a:gd name="textAreaLeft" fmla="*/ 0 w 1494360"/>
                  <a:gd name="textAreaRight" fmla="*/ 1494720 w 149436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4369" h="999">
                    <a:moveTo>
                      <a:pt x="0" y="933"/>
                    </a:moveTo>
                    <a:lnTo>
                      <a:pt x="1422" y="0"/>
                    </a:lnTo>
                    <a:lnTo>
                      <a:pt x="4369" y="9"/>
                    </a:lnTo>
                    <a:lnTo>
                      <a:pt x="4322" y="999"/>
                    </a:lnTo>
                    <a:lnTo>
                      <a:pt x="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9c9e"/>
                  </a:gs>
                  <a:gs pos="100000">
                    <a:srgbClr val="08080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53"/>
              <p:cNvSpPr/>
              <p:nvPr/>
            </p:nvSpPr>
            <p:spPr>
              <a:xfrm>
                <a:off x="2054160" y="2950920"/>
                <a:ext cx="1054440" cy="68040"/>
              </a:xfrm>
              <a:custGeom>
                <a:avLst/>
                <a:gdLst>
                  <a:gd name="textAreaLeft" fmla="*/ 0 w 1054440"/>
                  <a:gd name="textAreaRight" fmla="*/ 1054800 w 10544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3080" h="217">
                    <a:moveTo>
                      <a:pt x="0" y="94"/>
                    </a:moveTo>
                    <a:lnTo>
                      <a:pt x="142" y="0"/>
                    </a:lnTo>
                    <a:lnTo>
                      <a:pt x="471" y="0"/>
                    </a:lnTo>
                    <a:lnTo>
                      <a:pt x="358" y="94"/>
                    </a:lnTo>
                    <a:lnTo>
                      <a:pt x="763" y="103"/>
                    </a:lnTo>
                    <a:lnTo>
                      <a:pt x="867" y="0"/>
                    </a:lnTo>
                    <a:lnTo>
                      <a:pt x="1234" y="0"/>
                    </a:lnTo>
                    <a:lnTo>
                      <a:pt x="1149" y="103"/>
                    </a:lnTo>
                    <a:lnTo>
                      <a:pt x="1554" y="113"/>
                    </a:lnTo>
                    <a:lnTo>
                      <a:pt x="1639" y="0"/>
                    </a:lnTo>
                    <a:lnTo>
                      <a:pt x="2016" y="0"/>
                    </a:lnTo>
                    <a:lnTo>
                      <a:pt x="1950" y="113"/>
                    </a:lnTo>
                    <a:lnTo>
                      <a:pt x="2326" y="113"/>
                    </a:lnTo>
                    <a:lnTo>
                      <a:pt x="2373" y="0"/>
                    </a:lnTo>
                    <a:lnTo>
                      <a:pt x="2741" y="9"/>
                    </a:lnTo>
                    <a:lnTo>
                      <a:pt x="2722" y="122"/>
                    </a:lnTo>
                    <a:lnTo>
                      <a:pt x="3080" y="122"/>
                    </a:lnTo>
                    <a:lnTo>
                      <a:pt x="3080" y="217"/>
                    </a:lnTo>
                    <a:lnTo>
                      <a:pt x="2703" y="217"/>
                    </a:lnTo>
                    <a:lnTo>
                      <a:pt x="2722" y="122"/>
                    </a:lnTo>
                    <a:lnTo>
                      <a:pt x="2326" y="113"/>
                    </a:lnTo>
                    <a:lnTo>
                      <a:pt x="2298" y="217"/>
                    </a:lnTo>
                    <a:lnTo>
                      <a:pt x="1893" y="207"/>
                    </a:lnTo>
                    <a:lnTo>
                      <a:pt x="1950" y="113"/>
                    </a:lnTo>
                    <a:lnTo>
                      <a:pt x="1554" y="113"/>
                    </a:lnTo>
                    <a:lnTo>
                      <a:pt x="1479" y="207"/>
                    </a:lnTo>
                    <a:lnTo>
                      <a:pt x="1064" y="207"/>
                    </a:lnTo>
                    <a:lnTo>
                      <a:pt x="1149" y="103"/>
                    </a:lnTo>
                    <a:lnTo>
                      <a:pt x="763" y="103"/>
                    </a:lnTo>
                    <a:lnTo>
                      <a:pt x="660" y="198"/>
                    </a:lnTo>
                    <a:lnTo>
                      <a:pt x="236" y="198"/>
                    </a:lnTo>
                    <a:lnTo>
                      <a:pt x="358" y="94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54"/>
              <p:cNvSpPr/>
              <p:nvPr/>
            </p:nvSpPr>
            <p:spPr>
              <a:xfrm>
                <a:off x="1952640" y="3016080"/>
                <a:ext cx="1152720" cy="68040"/>
              </a:xfrm>
              <a:custGeom>
                <a:avLst/>
                <a:gdLst>
                  <a:gd name="textAreaLeft" fmla="*/ 0 w 1152720"/>
                  <a:gd name="textAreaRight" fmla="*/ 1153080 w 11527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3371" h="216">
                    <a:moveTo>
                      <a:pt x="0" y="94"/>
                    </a:moveTo>
                    <a:lnTo>
                      <a:pt x="151" y="0"/>
                    </a:lnTo>
                    <a:lnTo>
                      <a:pt x="537" y="0"/>
                    </a:lnTo>
                    <a:lnTo>
                      <a:pt x="405" y="103"/>
                    </a:lnTo>
                    <a:lnTo>
                      <a:pt x="866" y="103"/>
                    </a:lnTo>
                    <a:lnTo>
                      <a:pt x="961" y="0"/>
                    </a:lnTo>
                    <a:lnTo>
                      <a:pt x="1365" y="9"/>
                    </a:lnTo>
                    <a:lnTo>
                      <a:pt x="1281" y="103"/>
                    </a:lnTo>
                    <a:lnTo>
                      <a:pt x="1704" y="103"/>
                    </a:lnTo>
                    <a:lnTo>
                      <a:pt x="1789" y="0"/>
                    </a:lnTo>
                    <a:lnTo>
                      <a:pt x="2204" y="0"/>
                    </a:lnTo>
                    <a:lnTo>
                      <a:pt x="2138" y="113"/>
                    </a:lnTo>
                    <a:lnTo>
                      <a:pt x="2561" y="113"/>
                    </a:lnTo>
                    <a:lnTo>
                      <a:pt x="2599" y="19"/>
                    </a:lnTo>
                    <a:lnTo>
                      <a:pt x="3004" y="19"/>
                    </a:lnTo>
                    <a:lnTo>
                      <a:pt x="2976" y="113"/>
                    </a:lnTo>
                    <a:lnTo>
                      <a:pt x="3371" y="122"/>
                    </a:lnTo>
                    <a:lnTo>
                      <a:pt x="3371" y="216"/>
                    </a:lnTo>
                    <a:lnTo>
                      <a:pt x="2957" y="216"/>
                    </a:lnTo>
                    <a:lnTo>
                      <a:pt x="2976" y="113"/>
                    </a:lnTo>
                    <a:lnTo>
                      <a:pt x="2561" y="113"/>
                    </a:lnTo>
                    <a:lnTo>
                      <a:pt x="2524" y="216"/>
                    </a:lnTo>
                    <a:lnTo>
                      <a:pt x="2081" y="216"/>
                    </a:lnTo>
                    <a:lnTo>
                      <a:pt x="2138" y="113"/>
                    </a:lnTo>
                    <a:lnTo>
                      <a:pt x="1704" y="103"/>
                    </a:lnTo>
                    <a:lnTo>
                      <a:pt x="1629" y="207"/>
                    </a:lnTo>
                    <a:lnTo>
                      <a:pt x="1196" y="207"/>
                    </a:lnTo>
                    <a:lnTo>
                      <a:pt x="1281" y="103"/>
                    </a:lnTo>
                    <a:lnTo>
                      <a:pt x="866" y="103"/>
                    </a:lnTo>
                    <a:lnTo>
                      <a:pt x="763" y="207"/>
                    </a:lnTo>
                    <a:lnTo>
                      <a:pt x="283" y="198"/>
                    </a:lnTo>
                    <a:lnTo>
                      <a:pt x="405" y="103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55"/>
              <p:cNvSpPr/>
              <p:nvPr/>
            </p:nvSpPr>
            <p:spPr>
              <a:xfrm>
                <a:off x="1835280" y="3081240"/>
                <a:ext cx="1270440" cy="90360"/>
              </a:xfrm>
              <a:custGeom>
                <a:avLst/>
                <a:gdLst>
                  <a:gd name="textAreaLeft" fmla="*/ 0 w 1270440"/>
                  <a:gd name="textAreaRight" fmla="*/ 1270800 w 127044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3701" h="282">
                    <a:moveTo>
                      <a:pt x="0" y="113"/>
                    </a:moveTo>
                    <a:lnTo>
                      <a:pt x="179" y="0"/>
                    </a:lnTo>
                    <a:lnTo>
                      <a:pt x="622" y="0"/>
                    </a:lnTo>
                    <a:lnTo>
                      <a:pt x="480" y="122"/>
                    </a:lnTo>
                    <a:lnTo>
                      <a:pt x="979" y="122"/>
                    </a:lnTo>
                    <a:lnTo>
                      <a:pt x="1102" y="9"/>
                    </a:lnTo>
                    <a:lnTo>
                      <a:pt x="1535" y="9"/>
                    </a:lnTo>
                    <a:lnTo>
                      <a:pt x="1431" y="132"/>
                    </a:lnTo>
                    <a:lnTo>
                      <a:pt x="1874" y="132"/>
                    </a:lnTo>
                    <a:lnTo>
                      <a:pt x="1968" y="9"/>
                    </a:lnTo>
                    <a:lnTo>
                      <a:pt x="2411" y="18"/>
                    </a:lnTo>
                    <a:lnTo>
                      <a:pt x="2345" y="132"/>
                    </a:lnTo>
                    <a:lnTo>
                      <a:pt x="2816" y="132"/>
                    </a:lnTo>
                    <a:lnTo>
                      <a:pt x="2863" y="18"/>
                    </a:lnTo>
                    <a:lnTo>
                      <a:pt x="3296" y="18"/>
                    </a:lnTo>
                    <a:lnTo>
                      <a:pt x="3268" y="141"/>
                    </a:lnTo>
                    <a:lnTo>
                      <a:pt x="3701" y="141"/>
                    </a:lnTo>
                    <a:lnTo>
                      <a:pt x="3691" y="282"/>
                    </a:lnTo>
                    <a:lnTo>
                      <a:pt x="3239" y="282"/>
                    </a:lnTo>
                    <a:lnTo>
                      <a:pt x="3268" y="141"/>
                    </a:lnTo>
                    <a:lnTo>
                      <a:pt x="2816" y="132"/>
                    </a:lnTo>
                    <a:lnTo>
                      <a:pt x="2769" y="282"/>
                    </a:lnTo>
                    <a:lnTo>
                      <a:pt x="2260" y="273"/>
                    </a:lnTo>
                    <a:lnTo>
                      <a:pt x="2345" y="132"/>
                    </a:lnTo>
                    <a:lnTo>
                      <a:pt x="1874" y="132"/>
                    </a:lnTo>
                    <a:lnTo>
                      <a:pt x="1770" y="273"/>
                    </a:lnTo>
                    <a:lnTo>
                      <a:pt x="1309" y="273"/>
                    </a:lnTo>
                    <a:lnTo>
                      <a:pt x="1431" y="132"/>
                    </a:lnTo>
                    <a:lnTo>
                      <a:pt x="979" y="122"/>
                    </a:lnTo>
                    <a:lnTo>
                      <a:pt x="838" y="273"/>
                    </a:lnTo>
                    <a:lnTo>
                      <a:pt x="301" y="263"/>
                    </a:lnTo>
                    <a:lnTo>
                      <a:pt x="471" y="122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56"/>
              <p:cNvSpPr/>
              <p:nvPr/>
            </p:nvSpPr>
            <p:spPr>
              <a:xfrm>
                <a:off x="1690560" y="3168720"/>
                <a:ext cx="1410120" cy="110880"/>
              </a:xfrm>
              <a:custGeom>
                <a:avLst/>
                <a:gdLst>
                  <a:gd name="textAreaLeft" fmla="*/ 0 w 1410120"/>
                  <a:gd name="textAreaRight" fmla="*/ 1410480 w 141012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4115" h="340">
                    <a:moveTo>
                      <a:pt x="0" y="142"/>
                    </a:moveTo>
                    <a:lnTo>
                      <a:pt x="198" y="0"/>
                    </a:lnTo>
                    <a:lnTo>
                      <a:pt x="725" y="0"/>
                    </a:lnTo>
                    <a:lnTo>
                      <a:pt x="556" y="142"/>
                    </a:lnTo>
                    <a:lnTo>
                      <a:pt x="1121" y="151"/>
                    </a:lnTo>
                    <a:lnTo>
                      <a:pt x="1262" y="10"/>
                    </a:lnTo>
                    <a:lnTo>
                      <a:pt x="1742" y="10"/>
                    </a:lnTo>
                    <a:lnTo>
                      <a:pt x="1611" y="151"/>
                    </a:lnTo>
                    <a:lnTo>
                      <a:pt x="2091" y="151"/>
                    </a:lnTo>
                    <a:lnTo>
                      <a:pt x="2194" y="10"/>
                    </a:lnTo>
                    <a:lnTo>
                      <a:pt x="2684" y="10"/>
                    </a:lnTo>
                    <a:lnTo>
                      <a:pt x="2609" y="161"/>
                    </a:lnTo>
                    <a:lnTo>
                      <a:pt x="3145" y="161"/>
                    </a:lnTo>
                    <a:lnTo>
                      <a:pt x="3193" y="19"/>
                    </a:lnTo>
                    <a:lnTo>
                      <a:pt x="3663" y="19"/>
                    </a:lnTo>
                    <a:lnTo>
                      <a:pt x="3635" y="170"/>
                    </a:lnTo>
                    <a:lnTo>
                      <a:pt x="4115" y="170"/>
                    </a:lnTo>
                    <a:lnTo>
                      <a:pt x="4106" y="340"/>
                    </a:lnTo>
                    <a:lnTo>
                      <a:pt x="3607" y="330"/>
                    </a:lnTo>
                    <a:lnTo>
                      <a:pt x="3635" y="170"/>
                    </a:lnTo>
                    <a:lnTo>
                      <a:pt x="3145" y="161"/>
                    </a:lnTo>
                    <a:lnTo>
                      <a:pt x="3089" y="321"/>
                    </a:lnTo>
                    <a:lnTo>
                      <a:pt x="2515" y="311"/>
                    </a:lnTo>
                    <a:lnTo>
                      <a:pt x="2609" y="161"/>
                    </a:lnTo>
                    <a:lnTo>
                      <a:pt x="2091" y="151"/>
                    </a:lnTo>
                    <a:lnTo>
                      <a:pt x="1968" y="311"/>
                    </a:lnTo>
                    <a:lnTo>
                      <a:pt x="1488" y="302"/>
                    </a:lnTo>
                    <a:lnTo>
                      <a:pt x="1611" y="151"/>
                    </a:lnTo>
                    <a:lnTo>
                      <a:pt x="1121" y="151"/>
                    </a:lnTo>
                    <a:lnTo>
                      <a:pt x="980" y="293"/>
                    </a:lnTo>
                    <a:lnTo>
                      <a:pt x="386" y="283"/>
                    </a:lnTo>
                    <a:lnTo>
                      <a:pt x="556" y="142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uppe 228"/>
            <p:cNvGrpSpPr/>
            <p:nvPr/>
          </p:nvGrpSpPr>
          <p:grpSpPr>
            <a:xfrm>
              <a:off x="2475720" y="2684520"/>
              <a:ext cx="144720" cy="305640"/>
              <a:chOff x="2475720" y="2684520"/>
              <a:chExt cx="144720" cy="305640"/>
            </a:xfrm>
          </p:grpSpPr>
          <p:grpSp>
            <p:nvGrpSpPr>
              <p:cNvPr id="148" name="Gruppe 852"/>
              <p:cNvGrpSpPr/>
              <p:nvPr/>
            </p:nvGrpSpPr>
            <p:grpSpPr>
              <a:xfrm>
                <a:off x="2475720" y="2716920"/>
                <a:ext cx="144720" cy="273240"/>
                <a:chOff x="2475720" y="2716920"/>
                <a:chExt cx="144720" cy="273240"/>
              </a:xfrm>
            </p:grpSpPr>
            <p:sp>
              <p:nvSpPr>
                <p:cNvPr id="149" name="Ellipse 408"/>
                <p:cNvSpPr/>
                <p:nvPr/>
              </p:nvSpPr>
              <p:spPr>
                <a:xfrm>
                  <a:off x="2487600" y="2954880"/>
                  <a:ext cx="132840" cy="3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" name="Gruppe 822"/>
                <p:cNvGrpSpPr/>
                <p:nvPr/>
              </p:nvGrpSpPr>
              <p:grpSpPr>
                <a:xfrm>
                  <a:off x="2475720" y="2716920"/>
                  <a:ext cx="121320" cy="270720"/>
                  <a:chOff x="2475720" y="2716920"/>
                  <a:chExt cx="121320" cy="270720"/>
                </a:xfrm>
              </p:grpSpPr>
              <p:grpSp>
                <p:nvGrpSpPr>
                  <p:cNvPr id="151" name="Gruppe 604"/>
                  <p:cNvGrpSpPr/>
                  <p:nvPr/>
                </p:nvGrpSpPr>
                <p:grpSpPr>
                  <a:xfrm>
                    <a:off x="2475720" y="2716920"/>
                    <a:ext cx="118080" cy="270720"/>
                    <a:chOff x="2475720" y="2716920"/>
                    <a:chExt cx="118080" cy="270720"/>
                  </a:xfrm>
                </p:grpSpPr>
                <p:sp>
                  <p:nvSpPr>
                    <p:cNvPr id="152" name="Freeform 130"/>
                    <p:cNvSpPr/>
                    <p:nvPr/>
                  </p:nvSpPr>
                  <p:spPr>
                    <a:xfrm>
                      <a:off x="2475720" y="2716920"/>
                      <a:ext cx="118080" cy="270720"/>
                    </a:xfrm>
                    <a:custGeom>
                      <a:avLst/>
                      <a:gdLst>
                        <a:gd name="textAreaLeft" fmla="*/ 0 w 118080"/>
                        <a:gd name="textAreaRight" fmla="*/ 118440 w 118080"/>
                        <a:gd name="textAreaTop" fmla="*/ 0 h 270720"/>
                        <a:gd name="textAreaBottom" fmla="*/ 271080 h 270720"/>
                      </a:gdLst>
                      <a:ahLst/>
                      <a:rect l="textAreaLeft" t="textAreaTop" r="textAreaRight" b="textAreaBottom"/>
                      <a:pathLst>
                        <a:path w="493" h="1194">
                          <a:moveTo>
                            <a:pt x="208" y="62"/>
                          </a:moveTo>
                          <a:lnTo>
                            <a:pt x="167" y="83"/>
                          </a:lnTo>
                          <a:lnTo>
                            <a:pt x="145" y="87"/>
                          </a:lnTo>
                          <a:lnTo>
                            <a:pt x="125" y="93"/>
                          </a:lnTo>
                          <a:lnTo>
                            <a:pt x="110" y="100"/>
                          </a:lnTo>
                          <a:lnTo>
                            <a:pt x="99" y="110"/>
                          </a:lnTo>
                          <a:lnTo>
                            <a:pt x="92" y="124"/>
                          </a:lnTo>
                          <a:lnTo>
                            <a:pt x="90" y="141"/>
                          </a:lnTo>
                          <a:lnTo>
                            <a:pt x="93" y="162"/>
                          </a:lnTo>
                          <a:lnTo>
                            <a:pt x="104" y="187"/>
                          </a:lnTo>
                          <a:lnTo>
                            <a:pt x="158" y="242"/>
                          </a:lnTo>
                          <a:lnTo>
                            <a:pt x="158" y="272"/>
                          </a:lnTo>
                          <a:lnTo>
                            <a:pt x="140" y="282"/>
                          </a:lnTo>
                          <a:lnTo>
                            <a:pt x="135" y="302"/>
                          </a:lnTo>
                          <a:lnTo>
                            <a:pt x="138" y="326"/>
                          </a:lnTo>
                          <a:lnTo>
                            <a:pt x="147" y="346"/>
                          </a:lnTo>
                          <a:lnTo>
                            <a:pt x="104" y="360"/>
                          </a:lnTo>
                          <a:lnTo>
                            <a:pt x="89" y="375"/>
                          </a:lnTo>
                          <a:lnTo>
                            <a:pt x="77" y="389"/>
                          </a:lnTo>
                          <a:lnTo>
                            <a:pt x="71" y="402"/>
                          </a:lnTo>
                          <a:lnTo>
                            <a:pt x="70" y="414"/>
                          </a:lnTo>
                          <a:lnTo>
                            <a:pt x="74" y="426"/>
                          </a:lnTo>
                          <a:lnTo>
                            <a:pt x="82" y="437"/>
                          </a:lnTo>
                          <a:lnTo>
                            <a:pt x="94" y="449"/>
                          </a:lnTo>
                          <a:lnTo>
                            <a:pt x="113" y="459"/>
                          </a:lnTo>
                          <a:lnTo>
                            <a:pt x="173" y="480"/>
                          </a:lnTo>
                          <a:lnTo>
                            <a:pt x="168" y="522"/>
                          </a:lnTo>
                          <a:lnTo>
                            <a:pt x="162" y="562"/>
                          </a:lnTo>
                          <a:lnTo>
                            <a:pt x="156" y="601"/>
                          </a:lnTo>
                          <a:lnTo>
                            <a:pt x="150" y="638"/>
                          </a:lnTo>
                          <a:lnTo>
                            <a:pt x="140" y="676"/>
                          </a:lnTo>
                          <a:lnTo>
                            <a:pt x="129" y="713"/>
                          </a:lnTo>
                          <a:lnTo>
                            <a:pt x="115" y="750"/>
                          </a:lnTo>
                          <a:lnTo>
                            <a:pt x="98" y="789"/>
                          </a:lnTo>
                          <a:lnTo>
                            <a:pt x="83" y="796"/>
                          </a:lnTo>
                          <a:lnTo>
                            <a:pt x="70" y="804"/>
                          </a:lnTo>
                          <a:lnTo>
                            <a:pt x="61" y="814"/>
                          </a:lnTo>
                          <a:lnTo>
                            <a:pt x="55" y="823"/>
                          </a:lnTo>
                          <a:lnTo>
                            <a:pt x="53" y="835"/>
                          </a:lnTo>
                          <a:lnTo>
                            <a:pt x="55" y="845"/>
                          </a:lnTo>
                          <a:lnTo>
                            <a:pt x="62" y="857"/>
                          </a:lnTo>
                          <a:lnTo>
                            <a:pt x="75" y="868"/>
                          </a:lnTo>
                          <a:lnTo>
                            <a:pt x="78" y="889"/>
                          </a:lnTo>
                          <a:lnTo>
                            <a:pt x="53" y="896"/>
                          </a:lnTo>
                          <a:lnTo>
                            <a:pt x="34" y="905"/>
                          </a:lnTo>
                          <a:lnTo>
                            <a:pt x="21" y="916"/>
                          </a:lnTo>
                          <a:lnTo>
                            <a:pt x="13" y="928"/>
                          </a:lnTo>
                          <a:lnTo>
                            <a:pt x="8" y="942"/>
                          </a:lnTo>
                          <a:lnTo>
                            <a:pt x="8" y="959"/>
                          </a:lnTo>
                          <a:lnTo>
                            <a:pt x="10" y="978"/>
                          </a:lnTo>
                          <a:lnTo>
                            <a:pt x="15" y="999"/>
                          </a:lnTo>
                          <a:lnTo>
                            <a:pt x="19" y="1032"/>
                          </a:lnTo>
                          <a:lnTo>
                            <a:pt x="0" y="1057"/>
                          </a:lnTo>
                          <a:lnTo>
                            <a:pt x="0" y="1121"/>
                          </a:lnTo>
                          <a:lnTo>
                            <a:pt x="18" y="1137"/>
                          </a:lnTo>
                          <a:lnTo>
                            <a:pt x="41" y="1151"/>
                          </a:lnTo>
                          <a:lnTo>
                            <a:pt x="69" y="1163"/>
                          </a:lnTo>
                          <a:lnTo>
                            <a:pt x="101" y="1174"/>
                          </a:lnTo>
                          <a:lnTo>
                            <a:pt x="135" y="1182"/>
                          </a:lnTo>
                          <a:lnTo>
                            <a:pt x="171" y="1189"/>
                          </a:lnTo>
                          <a:lnTo>
                            <a:pt x="208" y="1192"/>
                          </a:lnTo>
                          <a:lnTo>
                            <a:pt x="246" y="1194"/>
                          </a:lnTo>
                          <a:lnTo>
                            <a:pt x="285" y="1193"/>
                          </a:lnTo>
                          <a:lnTo>
                            <a:pt x="322" y="1190"/>
                          </a:lnTo>
                          <a:lnTo>
                            <a:pt x="359" y="1184"/>
                          </a:lnTo>
                          <a:lnTo>
                            <a:pt x="393" y="1175"/>
                          </a:lnTo>
                          <a:lnTo>
                            <a:pt x="424" y="1162"/>
                          </a:lnTo>
                          <a:lnTo>
                            <a:pt x="451" y="1147"/>
                          </a:lnTo>
                          <a:lnTo>
                            <a:pt x="474" y="1129"/>
                          </a:lnTo>
                          <a:lnTo>
                            <a:pt x="493" y="1107"/>
                          </a:lnTo>
                          <a:lnTo>
                            <a:pt x="493" y="1069"/>
                          </a:lnTo>
                          <a:lnTo>
                            <a:pt x="484" y="1032"/>
                          </a:lnTo>
                          <a:lnTo>
                            <a:pt x="487" y="1005"/>
                          </a:lnTo>
                          <a:lnTo>
                            <a:pt x="489" y="984"/>
                          </a:lnTo>
                          <a:lnTo>
                            <a:pt x="489" y="965"/>
                          </a:lnTo>
                          <a:lnTo>
                            <a:pt x="486" y="950"/>
                          </a:lnTo>
                          <a:lnTo>
                            <a:pt x="480" y="936"/>
                          </a:lnTo>
                          <a:lnTo>
                            <a:pt x="470" y="921"/>
                          </a:lnTo>
                          <a:lnTo>
                            <a:pt x="454" y="906"/>
                          </a:lnTo>
                          <a:lnTo>
                            <a:pt x="433" y="888"/>
                          </a:lnTo>
                          <a:lnTo>
                            <a:pt x="441" y="870"/>
                          </a:lnTo>
                          <a:lnTo>
                            <a:pt x="446" y="855"/>
                          </a:lnTo>
                          <a:lnTo>
                            <a:pt x="449" y="842"/>
                          </a:lnTo>
                          <a:lnTo>
                            <a:pt x="449" y="832"/>
                          </a:lnTo>
                          <a:lnTo>
                            <a:pt x="444" y="823"/>
                          </a:lnTo>
                          <a:lnTo>
                            <a:pt x="438" y="814"/>
                          </a:lnTo>
                          <a:lnTo>
                            <a:pt x="425" y="805"/>
                          </a:lnTo>
                          <a:lnTo>
                            <a:pt x="409" y="793"/>
                          </a:lnTo>
                          <a:lnTo>
                            <a:pt x="389" y="751"/>
                          </a:lnTo>
                          <a:lnTo>
                            <a:pt x="373" y="713"/>
                          </a:lnTo>
                          <a:lnTo>
                            <a:pt x="362" y="677"/>
                          </a:lnTo>
                          <a:lnTo>
                            <a:pt x="355" y="644"/>
                          </a:lnTo>
                          <a:lnTo>
                            <a:pt x="349" y="609"/>
                          </a:lnTo>
                          <a:lnTo>
                            <a:pt x="345" y="572"/>
                          </a:lnTo>
                          <a:lnTo>
                            <a:pt x="344" y="531"/>
                          </a:lnTo>
                          <a:lnTo>
                            <a:pt x="344" y="485"/>
                          </a:lnTo>
                          <a:lnTo>
                            <a:pt x="379" y="471"/>
                          </a:lnTo>
                          <a:lnTo>
                            <a:pt x="404" y="455"/>
                          </a:lnTo>
                          <a:lnTo>
                            <a:pt x="417" y="446"/>
                          </a:lnTo>
                          <a:lnTo>
                            <a:pt x="426" y="435"/>
                          </a:lnTo>
                          <a:lnTo>
                            <a:pt x="433" y="423"/>
                          </a:lnTo>
                          <a:lnTo>
                            <a:pt x="436" y="411"/>
                          </a:lnTo>
                          <a:lnTo>
                            <a:pt x="434" y="398"/>
                          </a:lnTo>
                          <a:lnTo>
                            <a:pt x="427" y="386"/>
                          </a:lnTo>
                          <a:lnTo>
                            <a:pt x="414" y="374"/>
                          </a:lnTo>
                          <a:lnTo>
                            <a:pt x="394" y="364"/>
                          </a:lnTo>
                          <a:lnTo>
                            <a:pt x="368" y="356"/>
                          </a:lnTo>
                          <a:lnTo>
                            <a:pt x="379" y="343"/>
                          </a:lnTo>
                          <a:lnTo>
                            <a:pt x="386" y="330"/>
                          </a:lnTo>
                          <a:lnTo>
                            <a:pt x="390" y="318"/>
                          </a:lnTo>
                          <a:lnTo>
                            <a:pt x="393" y="306"/>
                          </a:lnTo>
                          <a:lnTo>
                            <a:pt x="390" y="295"/>
                          </a:lnTo>
                          <a:lnTo>
                            <a:pt x="386" y="283"/>
                          </a:lnTo>
                          <a:lnTo>
                            <a:pt x="376" y="273"/>
                          </a:lnTo>
                          <a:lnTo>
                            <a:pt x="364" y="261"/>
                          </a:lnTo>
                          <a:lnTo>
                            <a:pt x="389" y="227"/>
                          </a:lnTo>
                          <a:lnTo>
                            <a:pt x="409" y="192"/>
                          </a:lnTo>
                          <a:lnTo>
                            <a:pt x="420" y="170"/>
                          </a:lnTo>
                          <a:lnTo>
                            <a:pt x="428" y="153"/>
                          </a:lnTo>
                          <a:lnTo>
                            <a:pt x="432" y="139"/>
                          </a:lnTo>
                          <a:lnTo>
                            <a:pt x="432" y="128"/>
                          </a:lnTo>
                          <a:lnTo>
                            <a:pt x="426" y="118"/>
                          </a:lnTo>
                          <a:lnTo>
                            <a:pt x="416" y="110"/>
                          </a:lnTo>
                          <a:lnTo>
                            <a:pt x="400" y="102"/>
                          </a:lnTo>
                          <a:lnTo>
                            <a:pt x="378" y="92"/>
                          </a:lnTo>
                          <a:lnTo>
                            <a:pt x="349" y="77"/>
                          </a:lnTo>
                          <a:lnTo>
                            <a:pt x="320" y="68"/>
                          </a:lnTo>
                          <a:lnTo>
                            <a:pt x="322" y="54"/>
                          </a:lnTo>
                          <a:lnTo>
                            <a:pt x="322" y="42"/>
                          </a:lnTo>
                          <a:lnTo>
                            <a:pt x="320" y="32"/>
                          </a:lnTo>
                          <a:lnTo>
                            <a:pt x="315" y="23"/>
                          </a:lnTo>
                          <a:lnTo>
                            <a:pt x="309" y="16"/>
                          </a:lnTo>
                          <a:lnTo>
                            <a:pt x="300" y="10"/>
                          </a:lnTo>
                          <a:lnTo>
                            <a:pt x="291" y="5"/>
                          </a:lnTo>
                          <a:lnTo>
                            <a:pt x="281" y="2"/>
                          </a:lnTo>
                          <a:lnTo>
                            <a:pt x="268" y="0"/>
                          </a:lnTo>
                          <a:lnTo>
                            <a:pt x="256" y="1"/>
                          </a:lnTo>
                          <a:lnTo>
                            <a:pt x="243" y="3"/>
                          </a:lnTo>
                          <a:lnTo>
                            <a:pt x="233" y="8"/>
                          </a:lnTo>
                          <a:lnTo>
                            <a:pt x="222" y="16"/>
                          </a:lnTo>
                          <a:lnTo>
                            <a:pt x="215" y="27"/>
                          </a:lnTo>
                          <a:lnTo>
                            <a:pt x="211" y="42"/>
                          </a:lnTo>
                          <a:lnTo>
                            <a:pt x="208" y="62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80808"/>
                        </a:gs>
                        <a:gs pos="100000">
                          <a:srgbClr val="e6e6e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Freeform 131"/>
                    <p:cNvSpPr/>
                    <p:nvPr/>
                  </p:nvSpPr>
                  <p:spPr>
                    <a:xfrm>
                      <a:off x="2517120" y="2731320"/>
                      <a:ext cx="46080" cy="11160"/>
                    </a:xfrm>
                    <a:custGeom>
                      <a:avLst/>
                      <a:gdLst>
                        <a:gd name="textAreaLeft" fmla="*/ 0 w 46080"/>
                        <a:gd name="textAreaRight" fmla="*/ 46440 w 4608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185" h="58">
                          <a:moveTo>
                            <a:pt x="13" y="8"/>
                          </a:moveTo>
                          <a:lnTo>
                            <a:pt x="0" y="22"/>
                          </a:lnTo>
                          <a:lnTo>
                            <a:pt x="8" y="43"/>
                          </a:lnTo>
                          <a:lnTo>
                            <a:pt x="28" y="49"/>
                          </a:lnTo>
                          <a:lnTo>
                            <a:pt x="53" y="54"/>
                          </a:lnTo>
                          <a:lnTo>
                            <a:pt x="81" y="58"/>
                          </a:lnTo>
                          <a:lnTo>
                            <a:pt x="108" y="56"/>
                          </a:lnTo>
                          <a:lnTo>
                            <a:pt x="135" y="53"/>
                          </a:lnTo>
                          <a:lnTo>
                            <a:pt x="159" y="46"/>
                          </a:lnTo>
                          <a:lnTo>
                            <a:pt x="176" y="33"/>
                          </a:lnTo>
                          <a:lnTo>
                            <a:pt x="185" y="16"/>
                          </a:lnTo>
                          <a:lnTo>
                            <a:pt x="160" y="6"/>
                          </a:lnTo>
                          <a:lnTo>
                            <a:pt x="144" y="0"/>
                          </a:lnTo>
                          <a:lnTo>
                            <a:pt x="139" y="15"/>
                          </a:lnTo>
                          <a:lnTo>
                            <a:pt x="127" y="24"/>
                          </a:lnTo>
                          <a:lnTo>
                            <a:pt x="109" y="29"/>
                          </a:lnTo>
                          <a:lnTo>
                            <a:pt x="89" y="29"/>
                          </a:lnTo>
                          <a:lnTo>
                            <a:pt x="68" y="25"/>
                          </a:lnTo>
                          <a:lnTo>
                            <a:pt x="51" y="20"/>
                          </a:lnTo>
                          <a:lnTo>
                            <a:pt x="38" y="11"/>
                          </a:lnTo>
                          <a:lnTo>
                            <a:pt x="33" y="1"/>
                          </a:lnTo>
                          <a:lnTo>
                            <a:pt x="13" y="8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Freeform 132"/>
                    <p:cNvSpPr/>
                    <p:nvPr/>
                  </p:nvSpPr>
                  <p:spPr>
                    <a:xfrm>
                      <a:off x="2498040" y="2736000"/>
                      <a:ext cx="79920" cy="24120"/>
                    </a:xfrm>
                    <a:custGeom>
                      <a:avLst/>
                      <a:gdLst>
                        <a:gd name="textAreaLeft" fmla="*/ 0 w 79920"/>
                        <a:gd name="textAreaRight" fmla="*/ 80280 w 79920"/>
                        <a:gd name="textAreaTop" fmla="*/ 0 h 24120"/>
                        <a:gd name="textAreaBottom" fmla="*/ 24480 h 24120"/>
                      </a:gdLst>
                      <a:ahLst/>
                      <a:rect l="textAreaLeft" t="textAreaTop" r="textAreaRight" b="textAreaBottom"/>
                      <a:pathLst>
                        <a:path w="329" h="102">
                          <a:moveTo>
                            <a:pt x="32" y="10"/>
                          </a:moveTo>
                          <a:lnTo>
                            <a:pt x="1" y="26"/>
                          </a:lnTo>
                          <a:lnTo>
                            <a:pt x="0" y="43"/>
                          </a:lnTo>
                          <a:lnTo>
                            <a:pt x="3" y="60"/>
                          </a:lnTo>
                          <a:lnTo>
                            <a:pt x="14" y="71"/>
                          </a:lnTo>
                          <a:lnTo>
                            <a:pt x="27" y="81"/>
                          </a:lnTo>
                          <a:lnTo>
                            <a:pt x="46" y="90"/>
                          </a:lnTo>
                          <a:lnTo>
                            <a:pt x="67" y="95"/>
                          </a:lnTo>
                          <a:lnTo>
                            <a:pt x="91" y="100"/>
                          </a:lnTo>
                          <a:lnTo>
                            <a:pt x="117" y="102"/>
                          </a:lnTo>
                          <a:lnTo>
                            <a:pt x="144" y="102"/>
                          </a:lnTo>
                          <a:lnTo>
                            <a:pt x="171" y="102"/>
                          </a:lnTo>
                          <a:lnTo>
                            <a:pt x="199" y="100"/>
                          </a:lnTo>
                          <a:lnTo>
                            <a:pt x="225" y="98"/>
                          </a:lnTo>
                          <a:lnTo>
                            <a:pt x="251" y="94"/>
                          </a:lnTo>
                          <a:lnTo>
                            <a:pt x="273" y="90"/>
                          </a:lnTo>
                          <a:lnTo>
                            <a:pt x="292" y="85"/>
                          </a:lnTo>
                          <a:lnTo>
                            <a:pt x="308" y="79"/>
                          </a:lnTo>
                          <a:lnTo>
                            <a:pt x="319" y="71"/>
                          </a:lnTo>
                          <a:lnTo>
                            <a:pt x="326" y="61"/>
                          </a:lnTo>
                          <a:lnTo>
                            <a:pt x="329" y="50"/>
                          </a:lnTo>
                          <a:lnTo>
                            <a:pt x="329" y="39"/>
                          </a:lnTo>
                          <a:lnTo>
                            <a:pt x="325" y="28"/>
                          </a:lnTo>
                          <a:lnTo>
                            <a:pt x="316" y="18"/>
                          </a:lnTo>
                          <a:lnTo>
                            <a:pt x="303" y="8"/>
                          </a:lnTo>
                          <a:lnTo>
                            <a:pt x="285" y="0"/>
                          </a:lnTo>
                          <a:lnTo>
                            <a:pt x="269" y="18"/>
                          </a:lnTo>
                          <a:lnTo>
                            <a:pt x="252" y="31"/>
                          </a:lnTo>
                          <a:lnTo>
                            <a:pt x="234" y="39"/>
                          </a:lnTo>
                          <a:lnTo>
                            <a:pt x="215" y="43"/>
                          </a:lnTo>
                          <a:lnTo>
                            <a:pt x="194" y="45"/>
                          </a:lnTo>
                          <a:lnTo>
                            <a:pt x="173" y="43"/>
                          </a:lnTo>
                          <a:lnTo>
                            <a:pt x="148" y="41"/>
                          </a:lnTo>
                          <a:lnTo>
                            <a:pt x="122" y="40"/>
                          </a:lnTo>
                          <a:lnTo>
                            <a:pt x="67" y="30"/>
                          </a:lnTo>
                          <a:lnTo>
                            <a:pt x="49" y="3"/>
                          </a:lnTo>
                          <a:lnTo>
                            <a:pt x="32" y="10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Freeform 133"/>
                    <p:cNvSpPr/>
                    <p:nvPr/>
                  </p:nvSpPr>
                  <p:spPr>
                    <a:xfrm>
                      <a:off x="2517120" y="2786040"/>
                      <a:ext cx="54360" cy="7920"/>
                    </a:xfrm>
                    <a:custGeom>
                      <a:avLst/>
                      <a:gdLst>
                        <a:gd name="textAreaLeft" fmla="*/ 0 w 54360"/>
                        <a:gd name="textAreaRight" fmla="*/ 54720 w 5436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204" h="37">
                          <a:moveTo>
                            <a:pt x="12" y="0"/>
                          </a:moveTo>
                          <a:lnTo>
                            <a:pt x="24" y="6"/>
                          </a:lnTo>
                          <a:lnTo>
                            <a:pt x="35" y="12"/>
                          </a:lnTo>
                          <a:lnTo>
                            <a:pt x="47" y="15"/>
                          </a:lnTo>
                          <a:lnTo>
                            <a:pt x="58" y="17"/>
                          </a:lnTo>
                          <a:lnTo>
                            <a:pt x="70" y="20"/>
                          </a:lnTo>
                          <a:lnTo>
                            <a:pt x="82" y="21"/>
                          </a:lnTo>
                          <a:lnTo>
                            <a:pt x="94" y="22"/>
                          </a:lnTo>
                          <a:lnTo>
                            <a:pt x="106" y="21"/>
                          </a:lnTo>
                          <a:lnTo>
                            <a:pt x="119" y="20"/>
                          </a:lnTo>
                          <a:lnTo>
                            <a:pt x="131" y="19"/>
                          </a:lnTo>
                          <a:lnTo>
                            <a:pt x="143" y="16"/>
                          </a:lnTo>
                          <a:lnTo>
                            <a:pt x="156" y="14"/>
                          </a:lnTo>
                          <a:lnTo>
                            <a:pt x="167" y="12"/>
                          </a:lnTo>
                          <a:lnTo>
                            <a:pt x="180" y="8"/>
                          </a:lnTo>
                          <a:lnTo>
                            <a:pt x="192" y="6"/>
                          </a:lnTo>
                          <a:lnTo>
                            <a:pt x="204" y="2"/>
                          </a:lnTo>
                          <a:lnTo>
                            <a:pt x="204" y="14"/>
                          </a:lnTo>
                          <a:lnTo>
                            <a:pt x="196" y="17"/>
                          </a:lnTo>
                          <a:lnTo>
                            <a:pt x="188" y="21"/>
                          </a:lnTo>
                          <a:lnTo>
                            <a:pt x="178" y="24"/>
                          </a:lnTo>
                          <a:lnTo>
                            <a:pt x="167" y="27"/>
                          </a:lnTo>
                          <a:lnTo>
                            <a:pt x="155" y="30"/>
                          </a:lnTo>
                          <a:lnTo>
                            <a:pt x="143" y="32"/>
                          </a:lnTo>
                          <a:lnTo>
                            <a:pt x="129" y="35"/>
                          </a:lnTo>
                          <a:lnTo>
                            <a:pt x="117" y="37"/>
                          </a:lnTo>
                          <a:lnTo>
                            <a:pt x="102" y="37"/>
                          </a:lnTo>
                          <a:lnTo>
                            <a:pt x="88" y="37"/>
                          </a:lnTo>
                          <a:lnTo>
                            <a:pt x="73" y="36"/>
                          </a:lnTo>
                          <a:lnTo>
                            <a:pt x="58" y="34"/>
                          </a:lnTo>
                          <a:lnTo>
                            <a:pt x="44" y="29"/>
                          </a:lnTo>
                          <a:lnTo>
                            <a:pt x="29" y="24"/>
                          </a:lnTo>
                          <a:lnTo>
                            <a:pt x="14" y="17"/>
                          </a:lnTo>
                          <a:lnTo>
                            <a:pt x="0" y="8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Freeform 135"/>
                    <p:cNvSpPr/>
                    <p:nvPr/>
                  </p:nvSpPr>
                  <p:spPr>
                    <a:xfrm>
                      <a:off x="2494800" y="2797560"/>
                      <a:ext cx="83160" cy="22320"/>
                    </a:xfrm>
                    <a:custGeom>
                      <a:avLst/>
                      <a:gdLst>
                        <a:gd name="textAreaLeft" fmla="*/ 0 w 83160"/>
                        <a:gd name="textAreaRight" fmla="*/ 83160 w 83160"/>
                        <a:gd name="textAreaTop" fmla="*/ 0 h 22320"/>
                        <a:gd name="textAreaBottom" fmla="*/ 22680 h 22320"/>
                      </a:gdLst>
                      <a:ahLst/>
                      <a:rect l="textAreaLeft" t="textAreaTop" r="textAreaRight" b="textAreaBottom"/>
                      <a:pathLst>
                        <a:path w="351" h="100">
                          <a:moveTo>
                            <a:pt x="40" y="0"/>
                          </a:moveTo>
                          <a:lnTo>
                            <a:pt x="19" y="9"/>
                          </a:lnTo>
                          <a:lnTo>
                            <a:pt x="6" y="20"/>
                          </a:lnTo>
                          <a:lnTo>
                            <a:pt x="0" y="30"/>
                          </a:lnTo>
                          <a:lnTo>
                            <a:pt x="0" y="42"/>
                          </a:lnTo>
                          <a:lnTo>
                            <a:pt x="7" y="53"/>
                          </a:lnTo>
                          <a:lnTo>
                            <a:pt x="17" y="65"/>
                          </a:lnTo>
                          <a:lnTo>
                            <a:pt x="32" y="75"/>
                          </a:lnTo>
                          <a:lnTo>
                            <a:pt x="50" y="85"/>
                          </a:lnTo>
                          <a:lnTo>
                            <a:pt x="66" y="89"/>
                          </a:lnTo>
                          <a:lnTo>
                            <a:pt x="82" y="92"/>
                          </a:lnTo>
                          <a:lnTo>
                            <a:pt x="97" y="95"/>
                          </a:lnTo>
                          <a:lnTo>
                            <a:pt x="113" y="96"/>
                          </a:lnTo>
                          <a:lnTo>
                            <a:pt x="128" y="98"/>
                          </a:lnTo>
                          <a:lnTo>
                            <a:pt x="144" y="99"/>
                          </a:lnTo>
                          <a:lnTo>
                            <a:pt x="159" y="99"/>
                          </a:lnTo>
                          <a:lnTo>
                            <a:pt x="174" y="100"/>
                          </a:lnTo>
                          <a:lnTo>
                            <a:pt x="189" y="100"/>
                          </a:lnTo>
                          <a:lnTo>
                            <a:pt x="205" y="100"/>
                          </a:lnTo>
                          <a:lnTo>
                            <a:pt x="220" y="99"/>
                          </a:lnTo>
                          <a:lnTo>
                            <a:pt x="236" y="99"/>
                          </a:lnTo>
                          <a:lnTo>
                            <a:pt x="251" y="98"/>
                          </a:lnTo>
                          <a:lnTo>
                            <a:pt x="267" y="97"/>
                          </a:lnTo>
                          <a:lnTo>
                            <a:pt x="284" y="95"/>
                          </a:lnTo>
                          <a:lnTo>
                            <a:pt x="300" y="94"/>
                          </a:lnTo>
                          <a:lnTo>
                            <a:pt x="323" y="81"/>
                          </a:lnTo>
                          <a:lnTo>
                            <a:pt x="339" y="68"/>
                          </a:lnTo>
                          <a:lnTo>
                            <a:pt x="349" y="56"/>
                          </a:lnTo>
                          <a:lnTo>
                            <a:pt x="351" y="43"/>
                          </a:lnTo>
                          <a:lnTo>
                            <a:pt x="348" y="31"/>
                          </a:lnTo>
                          <a:lnTo>
                            <a:pt x="338" y="21"/>
                          </a:lnTo>
                          <a:lnTo>
                            <a:pt x="320" y="12"/>
                          </a:lnTo>
                          <a:lnTo>
                            <a:pt x="296" y="5"/>
                          </a:lnTo>
                          <a:lnTo>
                            <a:pt x="298" y="15"/>
                          </a:lnTo>
                          <a:lnTo>
                            <a:pt x="294" y="23"/>
                          </a:lnTo>
                          <a:lnTo>
                            <a:pt x="284" y="30"/>
                          </a:lnTo>
                          <a:lnTo>
                            <a:pt x="272" y="37"/>
                          </a:lnTo>
                          <a:lnTo>
                            <a:pt x="258" y="38"/>
                          </a:lnTo>
                          <a:lnTo>
                            <a:pt x="245" y="39"/>
                          </a:lnTo>
                          <a:lnTo>
                            <a:pt x="234" y="41"/>
                          </a:lnTo>
                          <a:lnTo>
                            <a:pt x="222" y="42"/>
                          </a:lnTo>
                          <a:lnTo>
                            <a:pt x="211" y="43"/>
                          </a:lnTo>
                          <a:lnTo>
                            <a:pt x="199" y="43"/>
                          </a:lnTo>
                          <a:lnTo>
                            <a:pt x="188" y="44"/>
                          </a:lnTo>
                          <a:lnTo>
                            <a:pt x="178" y="44"/>
                          </a:lnTo>
                          <a:lnTo>
                            <a:pt x="166" y="44"/>
                          </a:lnTo>
                          <a:lnTo>
                            <a:pt x="155" y="44"/>
                          </a:lnTo>
                          <a:lnTo>
                            <a:pt x="143" y="44"/>
                          </a:lnTo>
                          <a:lnTo>
                            <a:pt x="133" y="43"/>
                          </a:lnTo>
                          <a:lnTo>
                            <a:pt x="120" y="42"/>
                          </a:lnTo>
                          <a:lnTo>
                            <a:pt x="108" y="41"/>
                          </a:lnTo>
                          <a:lnTo>
                            <a:pt x="96" y="39"/>
                          </a:lnTo>
                          <a:lnTo>
                            <a:pt x="82" y="37"/>
                          </a:lnTo>
                          <a:lnTo>
                            <a:pt x="73" y="32"/>
                          </a:lnTo>
                          <a:lnTo>
                            <a:pt x="65" y="28"/>
                          </a:lnTo>
                          <a:lnTo>
                            <a:pt x="58" y="23"/>
                          </a:lnTo>
                          <a:lnTo>
                            <a:pt x="52" y="19"/>
                          </a:lnTo>
                          <a:lnTo>
                            <a:pt x="47" y="14"/>
                          </a:lnTo>
                          <a:lnTo>
                            <a:pt x="44" y="11"/>
                          </a:lnTo>
                          <a:lnTo>
                            <a:pt x="42" y="5"/>
                          </a:lnTo>
                          <a:lnTo>
                            <a:pt x="40" y="0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Freeform 147"/>
                    <p:cNvSpPr/>
                    <p:nvPr/>
                  </p:nvSpPr>
                  <p:spPr>
                    <a:xfrm>
                      <a:off x="2491560" y="2895840"/>
                      <a:ext cx="91080" cy="22320"/>
                    </a:xfrm>
                    <a:custGeom>
                      <a:avLst/>
                      <a:gdLst>
                        <a:gd name="textAreaLeft" fmla="*/ 0 w 91080"/>
                        <a:gd name="textAreaRight" fmla="*/ 91440 w 91080"/>
                        <a:gd name="textAreaTop" fmla="*/ 0 h 22320"/>
                        <a:gd name="textAreaBottom" fmla="*/ 22680 h 22320"/>
                      </a:gdLst>
                      <a:ahLst/>
                      <a:rect l="textAreaLeft" t="textAreaTop" r="textAreaRight" b="textAreaBottom"/>
                      <a:pathLst>
                        <a:path w="382" h="96">
                          <a:moveTo>
                            <a:pt x="24" y="4"/>
                          </a:moveTo>
                          <a:lnTo>
                            <a:pt x="68" y="40"/>
                          </a:lnTo>
                          <a:lnTo>
                            <a:pt x="89" y="44"/>
                          </a:lnTo>
                          <a:lnTo>
                            <a:pt x="108" y="48"/>
                          </a:lnTo>
                          <a:lnTo>
                            <a:pt x="127" y="53"/>
                          </a:lnTo>
                          <a:lnTo>
                            <a:pt x="144" y="55"/>
                          </a:lnTo>
                          <a:lnTo>
                            <a:pt x="160" y="57"/>
                          </a:lnTo>
                          <a:lnTo>
                            <a:pt x="176" y="59"/>
                          </a:lnTo>
                          <a:lnTo>
                            <a:pt x="192" y="59"/>
                          </a:lnTo>
                          <a:lnTo>
                            <a:pt x="207" y="59"/>
                          </a:lnTo>
                          <a:lnTo>
                            <a:pt x="222" y="58"/>
                          </a:lnTo>
                          <a:lnTo>
                            <a:pt x="237" y="57"/>
                          </a:lnTo>
                          <a:lnTo>
                            <a:pt x="253" y="54"/>
                          </a:lnTo>
                          <a:lnTo>
                            <a:pt x="270" y="50"/>
                          </a:lnTo>
                          <a:lnTo>
                            <a:pt x="286" y="46"/>
                          </a:lnTo>
                          <a:lnTo>
                            <a:pt x="304" y="39"/>
                          </a:lnTo>
                          <a:lnTo>
                            <a:pt x="323" y="32"/>
                          </a:lnTo>
                          <a:lnTo>
                            <a:pt x="342" y="23"/>
                          </a:lnTo>
                          <a:lnTo>
                            <a:pt x="348" y="10"/>
                          </a:lnTo>
                          <a:lnTo>
                            <a:pt x="352" y="3"/>
                          </a:lnTo>
                          <a:lnTo>
                            <a:pt x="356" y="0"/>
                          </a:lnTo>
                          <a:lnTo>
                            <a:pt x="359" y="1"/>
                          </a:lnTo>
                          <a:lnTo>
                            <a:pt x="363" y="4"/>
                          </a:lnTo>
                          <a:lnTo>
                            <a:pt x="367" y="11"/>
                          </a:lnTo>
                          <a:lnTo>
                            <a:pt x="374" y="20"/>
                          </a:lnTo>
                          <a:lnTo>
                            <a:pt x="382" y="32"/>
                          </a:lnTo>
                          <a:lnTo>
                            <a:pt x="366" y="55"/>
                          </a:lnTo>
                          <a:lnTo>
                            <a:pt x="349" y="65"/>
                          </a:lnTo>
                          <a:lnTo>
                            <a:pt x="329" y="73"/>
                          </a:lnTo>
                          <a:lnTo>
                            <a:pt x="310" y="80"/>
                          </a:lnTo>
                          <a:lnTo>
                            <a:pt x="288" y="86"/>
                          </a:lnTo>
                          <a:lnTo>
                            <a:pt x="266" y="91"/>
                          </a:lnTo>
                          <a:lnTo>
                            <a:pt x="243" y="94"/>
                          </a:lnTo>
                          <a:lnTo>
                            <a:pt x="219" y="96"/>
                          </a:lnTo>
                          <a:lnTo>
                            <a:pt x="196" y="96"/>
                          </a:lnTo>
                          <a:lnTo>
                            <a:pt x="172" y="96"/>
                          </a:lnTo>
                          <a:lnTo>
                            <a:pt x="147" y="95"/>
                          </a:lnTo>
                          <a:lnTo>
                            <a:pt x="124" y="92"/>
                          </a:lnTo>
                          <a:lnTo>
                            <a:pt x="101" y="88"/>
                          </a:lnTo>
                          <a:lnTo>
                            <a:pt x="78" y="84"/>
                          </a:lnTo>
                          <a:lnTo>
                            <a:pt x="58" y="79"/>
                          </a:lnTo>
                          <a:lnTo>
                            <a:pt x="37" y="72"/>
                          </a:lnTo>
                          <a:lnTo>
                            <a:pt x="18" y="65"/>
                          </a:lnTo>
                          <a:lnTo>
                            <a:pt x="12" y="56"/>
                          </a:lnTo>
                          <a:lnTo>
                            <a:pt x="6" y="47"/>
                          </a:lnTo>
                          <a:lnTo>
                            <a:pt x="2" y="38"/>
                          </a:lnTo>
                          <a:lnTo>
                            <a:pt x="0" y="28"/>
                          </a:lnTo>
                          <a:lnTo>
                            <a:pt x="0" y="20"/>
                          </a:lnTo>
                          <a:lnTo>
                            <a:pt x="5" y="13"/>
                          </a:lnTo>
                          <a:lnTo>
                            <a:pt x="12" y="8"/>
                          </a:lnTo>
                          <a:lnTo>
                            <a:pt x="24" y="4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Freeform 148"/>
                    <p:cNvSpPr/>
                    <p:nvPr/>
                  </p:nvSpPr>
                  <p:spPr>
                    <a:xfrm>
                      <a:off x="2475720" y="2918520"/>
                      <a:ext cx="118080" cy="40320"/>
                    </a:xfrm>
                    <a:custGeom>
                      <a:avLst/>
                      <a:gdLst>
                        <a:gd name="textAreaLeft" fmla="*/ 0 w 118080"/>
                        <a:gd name="textAreaRight" fmla="*/ 118440 w 118080"/>
                        <a:gd name="textAreaTop" fmla="*/ 0 h 40320"/>
                        <a:gd name="textAreaBottom" fmla="*/ 40320 h 40320"/>
                      </a:gdLst>
                      <a:ahLst/>
                      <a:rect l="textAreaLeft" t="textAreaTop" r="textAreaRight" b="textAreaBottom"/>
                      <a:pathLst>
                        <a:path w="483" h="184">
                          <a:moveTo>
                            <a:pt x="7" y="102"/>
                          </a:moveTo>
                          <a:lnTo>
                            <a:pt x="18" y="116"/>
                          </a:lnTo>
                          <a:lnTo>
                            <a:pt x="34" y="130"/>
                          </a:lnTo>
                          <a:lnTo>
                            <a:pt x="55" y="143"/>
                          </a:lnTo>
                          <a:lnTo>
                            <a:pt x="80" y="155"/>
                          </a:lnTo>
                          <a:lnTo>
                            <a:pt x="109" y="165"/>
                          </a:lnTo>
                          <a:lnTo>
                            <a:pt x="141" y="173"/>
                          </a:lnTo>
                          <a:lnTo>
                            <a:pt x="176" y="179"/>
                          </a:lnTo>
                          <a:lnTo>
                            <a:pt x="211" y="182"/>
                          </a:lnTo>
                          <a:lnTo>
                            <a:pt x="248" y="184"/>
                          </a:lnTo>
                          <a:lnTo>
                            <a:pt x="285" y="183"/>
                          </a:lnTo>
                          <a:lnTo>
                            <a:pt x="323" y="180"/>
                          </a:lnTo>
                          <a:lnTo>
                            <a:pt x="359" y="173"/>
                          </a:lnTo>
                          <a:lnTo>
                            <a:pt x="393" y="164"/>
                          </a:lnTo>
                          <a:lnTo>
                            <a:pt x="427" y="151"/>
                          </a:lnTo>
                          <a:lnTo>
                            <a:pt x="455" y="135"/>
                          </a:lnTo>
                          <a:lnTo>
                            <a:pt x="482" y="115"/>
                          </a:lnTo>
                          <a:lnTo>
                            <a:pt x="483" y="93"/>
                          </a:lnTo>
                          <a:lnTo>
                            <a:pt x="483" y="77"/>
                          </a:lnTo>
                          <a:lnTo>
                            <a:pt x="482" y="65"/>
                          </a:lnTo>
                          <a:lnTo>
                            <a:pt x="478" y="54"/>
                          </a:lnTo>
                          <a:lnTo>
                            <a:pt x="473" y="44"/>
                          </a:lnTo>
                          <a:lnTo>
                            <a:pt x="463" y="34"/>
                          </a:lnTo>
                          <a:lnTo>
                            <a:pt x="451" y="22"/>
                          </a:lnTo>
                          <a:lnTo>
                            <a:pt x="435" y="7"/>
                          </a:lnTo>
                          <a:lnTo>
                            <a:pt x="416" y="23"/>
                          </a:lnTo>
                          <a:lnTo>
                            <a:pt x="396" y="37"/>
                          </a:lnTo>
                          <a:lnTo>
                            <a:pt x="375" y="50"/>
                          </a:lnTo>
                          <a:lnTo>
                            <a:pt x="353" y="59"/>
                          </a:lnTo>
                          <a:lnTo>
                            <a:pt x="330" y="67"/>
                          </a:lnTo>
                          <a:lnTo>
                            <a:pt x="307" y="73"/>
                          </a:lnTo>
                          <a:lnTo>
                            <a:pt x="284" y="76"/>
                          </a:lnTo>
                          <a:lnTo>
                            <a:pt x="260" y="78"/>
                          </a:lnTo>
                          <a:lnTo>
                            <a:pt x="235" y="78"/>
                          </a:lnTo>
                          <a:lnTo>
                            <a:pt x="211" y="76"/>
                          </a:lnTo>
                          <a:lnTo>
                            <a:pt x="187" y="73"/>
                          </a:lnTo>
                          <a:lnTo>
                            <a:pt x="163" y="68"/>
                          </a:lnTo>
                          <a:lnTo>
                            <a:pt x="140" y="61"/>
                          </a:lnTo>
                          <a:lnTo>
                            <a:pt x="116" y="53"/>
                          </a:lnTo>
                          <a:lnTo>
                            <a:pt x="94" y="44"/>
                          </a:lnTo>
                          <a:lnTo>
                            <a:pt x="72" y="32"/>
                          </a:lnTo>
                          <a:lnTo>
                            <a:pt x="66" y="0"/>
                          </a:lnTo>
                          <a:lnTo>
                            <a:pt x="56" y="5"/>
                          </a:lnTo>
                          <a:lnTo>
                            <a:pt x="42" y="12"/>
                          </a:lnTo>
                          <a:lnTo>
                            <a:pt x="29" y="20"/>
                          </a:lnTo>
                          <a:lnTo>
                            <a:pt x="17" y="30"/>
                          </a:lnTo>
                          <a:lnTo>
                            <a:pt x="7" y="43"/>
                          </a:lnTo>
                          <a:lnTo>
                            <a:pt x="2" y="59"/>
                          </a:lnTo>
                          <a:lnTo>
                            <a:pt x="0" y="78"/>
                          </a:lnTo>
                          <a:lnTo>
                            <a:pt x="7" y="102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9" name="Gruppe 814"/>
                  <p:cNvGrpSpPr/>
                  <p:nvPr/>
                </p:nvGrpSpPr>
                <p:grpSpPr>
                  <a:xfrm>
                    <a:off x="2507040" y="2736360"/>
                    <a:ext cx="90000" cy="239040"/>
                    <a:chOff x="2507040" y="2736360"/>
                    <a:chExt cx="90000" cy="239040"/>
                  </a:xfrm>
                </p:grpSpPr>
                <p:sp>
                  <p:nvSpPr>
                    <p:cNvPr id="160" name="Freeform 316"/>
                    <p:cNvSpPr/>
                    <p:nvPr/>
                  </p:nvSpPr>
                  <p:spPr>
                    <a:xfrm>
                      <a:off x="2529000" y="2805480"/>
                      <a:ext cx="47880" cy="7920"/>
                    </a:xfrm>
                    <a:custGeom>
                      <a:avLst/>
                      <a:gdLst>
                        <a:gd name="textAreaLeft" fmla="*/ 0 w 47880"/>
                        <a:gd name="textAreaRight" fmla="*/ 48240 w 4788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230" h="41">
                          <a:moveTo>
                            <a:pt x="13" y="0"/>
                          </a:moveTo>
                          <a:lnTo>
                            <a:pt x="26" y="6"/>
                          </a:lnTo>
                          <a:lnTo>
                            <a:pt x="39" y="13"/>
                          </a:lnTo>
                          <a:lnTo>
                            <a:pt x="52" y="16"/>
                          </a:lnTo>
                          <a:lnTo>
                            <a:pt x="65" y="19"/>
                          </a:lnTo>
                          <a:lnTo>
                            <a:pt x="78" y="22"/>
                          </a:lnTo>
                          <a:lnTo>
                            <a:pt x="93" y="23"/>
                          </a:lnTo>
                          <a:lnTo>
                            <a:pt x="106" y="24"/>
                          </a:lnTo>
                          <a:lnTo>
                            <a:pt x="120" y="23"/>
                          </a:lnTo>
                          <a:lnTo>
                            <a:pt x="134" y="22"/>
                          </a:lnTo>
                          <a:lnTo>
                            <a:pt x="147" y="20"/>
                          </a:lnTo>
                          <a:lnTo>
                            <a:pt x="161" y="18"/>
                          </a:lnTo>
                          <a:lnTo>
                            <a:pt x="176" y="15"/>
                          </a:lnTo>
                          <a:lnTo>
                            <a:pt x="189" y="13"/>
                          </a:lnTo>
                          <a:lnTo>
                            <a:pt x="203" y="9"/>
                          </a:lnTo>
                          <a:lnTo>
                            <a:pt x="216" y="6"/>
                          </a:lnTo>
                          <a:lnTo>
                            <a:pt x="230" y="2"/>
                          </a:lnTo>
                          <a:lnTo>
                            <a:pt x="230" y="15"/>
                          </a:lnTo>
                          <a:lnTo>
                            <a:pt x="221" y="19"/>
                          </a:lnTo>
                          <a:lnTo>
                            <a:pt x="212" y="23"/>
                          </a:lnTo>
                          <a:lnTo>
                            <a:pt x="200" y="27"/>
                          </a:lnTo>
                          <a:lnTo>
                            <a:pt x="189" y="29"/>
                          </a:lnTo>
                          <a:lnTo>
                            <a:pt x="174" y="33"/>
                          </a:lnTo>
                          <a:lnTo>
                            <a:pt x="161" y="36"/>
                          </a:lnTo>
                          <a:lnTo>
                            <a:pt x="146" y="39"/>
                          </a:lnTo>
                          <a:lnTo>
                            <a:pt x="132" y="41"/>
                          </a:lnTo>
                          <a:lnTo>
                            <a:pt x="115" y="41"/>
                          </a:lnTo>
                          <a:lnTo>
                            <a:pt x="99" y="41"/>
                          </a:lnTo>
                          <a:lnTo>
                            <a:pt x="82" y="40"/>
                          </a:lnTo>
                          <a:lnTo>
                            <a:pt x="65" y="37"/>
                          </a:lnTo>
                          <a:lnTo>
                            <a:pt x="50" y="32"/>
                          </a:lnTo>
                          <a:lnTo>
                            <a:pt x="33" y="27"/>
                          </a:lnTo>
                          <a:lnTo>
                            <a:pt x="16" y="19"/>
                          </a:lnTo>
                          <a:lnTo>
                            <a:pt x="0" y="9"/>
                          </a:lnTo>
                          <a:lnTo>
                            <a:pt x="13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Freeform 330"/>
                    <p:cNvSpPr/>
                    <p:nvPr/>
                  </p:nvSpPr>
                  <p:spPr>
                    <a:xfrm>
                      <a:off x="2507040" y="2916360"/>
                      <a:ext cx="90000" cy="21600"/>
                    </a:xfrm>
                    <a:custGeom>
                      <a:avLst/>
                      <a:gdLst>
                        <a:gd name="textAreaLeft" fmla="*/ 0 w 90000"/>
                        <a:gd name="textAreaRight" fmla="*/ 90000 w 90000"/>
                        <a:gd name="textAreaTop" fmla="*/ 0 h 21600"/>
                        <a:gd name="textAreaBottom" fmla="*/ 21960 h 21600"/>
                      </a:gdLst>
                      <a:ahLst/>
                      <a:rect l="textAreaLeft" t="textAreaTop" r="textAreaRight" b="textAreaBottom"/>
                      <a:pathLst>
                        <a:path w="431" h="109">
                          <a:moveTo>
                            <a:pt x="27" y="5"/>
                          </a:moveTo>
                          <a:lnTo>
                            <a:pt x="77" y="45"/>
                          </a:lnTo>
                          <a:lnTo>
                            <a:pt x="100" y="51"/>
                          </a:lnTo>
                          <a:lnTo>
                            <a:pt x="122" y="54"/>
                          </a:lnTo>
                          <a:lnTo>
                            <a:pt x="143" y="60"/>
                          </a:lnTo>
                          <a:lnTo>
                            <a:pt x="162" y="62"/>
                          </a:lnTo>
                          <a:lnTo>
                            <a:pt x="180" y="65"/>
                          </a:lnTo>
                          <a:lnTo>
                            <a:pt x="199" y="67"/>
                          </a:lnTo>
                          <a:lnTo>
                            <a:pt x="217" y="67"/>
                          </a:lnTo>
                          <a:lnTo>
                            <a:pt x="234" y="67"/>
                          </a:lnTo>
                          <a:lnTo>
                            <a:pt x="251" y="66"/>
                          </a:lnTo>
                          <a:lnTo>
                            <a:pt x="267" y="65"/>
                          </a:lnTo>
                          <a:lnTo>
                            <a:pt x="286" y="61"/>
                          </a:lnTo>
                          <a:lnTo>
                            <a:pt x="304" y="57"/>
                          </a:lnTo>
                          <a:lnTo>
                            <a:pt x="322" y="52"/>
                          </a:lnTo>
                          <a:lnTo>
                            <a:pt x="343" y="44"/>
                          </a:lnTo>
                          <a:lnTo>
                            <a:pt x="363" y="36"/>
                          </a:lnTo>
                          <a:lnTo>
                            <a:pt x="386" y="26"/>
                          </a:lnTo>
                          <a:lnTo>
                            <a:pt x="392" y="12"/>
                          </a:lnTo>
                          <a:lnTo>
                            <a:pt x="397" y="4"/>
                          </a:lnTo>
                          <a:lnTo>
                            <a:pt x="401" y="0"/>
                          </a:lnTo>
                          <a:lnTo>
                            <a:pt x="405" y="1"/>
                          </a:lnTo>
                          <a:lnTo>
                            <a:pt x="409" y="5"/>
                          </a:lnTo>
                          <a:lnTo>
                            <a:pt x="414" y="13"/>
                          </a:lnTo>
                          <a:lnTo>
                            <a:pt x="422" y="23"/>
                          </a:lnTo>
                          <a:lnTo>
                            <a:pt x="431" y="36"/>
                          </a:lnTo>
                          <a:lnTo>
                            <a:pt x="413" y="62"/>
                          </a:lnTo>
                          <a:lnTo>
                            <a:pt x="393" y="74"/>
                          </a:lnTo>
                          <a:lnTo>
                            <a:pt x="371" y="83"/>
                          </a:lnTo>
                          <a:lnTo>
                            <a:pt x="349" y="91"/>
                          </a:lnTo>
                          <a:lnTo>
                            <a:pt x="325" y="97"/>
                          </a:lnTo>
                          <a:lnTo>
                            <a:pt x="300" y="103"/>
                          </a:lnTo>
                          <a:lnTo>
                            <a:pt x="274" y="106"/>
                          </a:lnTo>
                          <a:lnTo>
                            <a:pt x="247" y="109"/>
                          </a:lnTo>
                          <a:lnTo>
                            <a:pt x="221" y="109"/>
                          </a:lnTo>
                          <a:lnTo>
                            <a:pt x="193" y="109"/>
                          </a:lnTo>
                          <a:lnTo>
                            <a:pt x="166" y="108"/>
                          </a:lnTo>
                          <a:lnTo>
                            <a:pt x="140" y="104"/>
                          </a:lnTo>
                          <a:lnTo>
                            <a:pt x="114" y="100"/>
                          </a:lnTo>
                          <a:lnTo>
                            <a:pt x="88" y="95"/>
                          </a:lnTo>
                          <a:lnTo>
                            <a:pt x="65" y="90"/>
                          </a:lnTo>
                          <a:lnTo>
                            <a:pt x="42" y="82"/>
                          </a:lnTo>
                          <a:lnTo>
                            <a:pt x="21" y="74"/>
                          </a:lnTo>
                          <a:lnTo>
                            <a:pt x="13" y="64"/>
                          </a:lnTo>
                          <a:lnTo>
                            <a:pt x="7" y="53"/>
                          </a:lnTo>
                          <a:lnTo>
                            <a:pt x="3" y="43"/>
                          </a:lnTo>
                          <a:lnTo>
                            <a:pt x="0" y="32"/>
                          </a:lnTo>
                          <a:lnTo>
                            <a:pt x="0" y="23"/>
                          </a:lnTo>
                          <a:lnTo>
                            <a:pt x="5" y="16"/>
                          </a:lnTo>
                          <a:lnTo>
                            <a:pt x="13" y="9"/>
                          </a:lnTo>
                          <a:lnTo>
                            <a:pt x="27" y="5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36"/>
                    <p:cNvSpPr/>
                    <p:nvPr/>
                  </p:nvSpPr>
                  <p:spPr>
                    <a:xfrm>
                      <a:off x="2523600" y="2961360"/>
                      <a:ext cx="64440" cy="14040"/>
                    </a:xfrm>
                    <a:custGeom>
                      <a:avLst/>
                      <a:gdLst>
                        <a:gd name="textAreaLeft" fmla="*/ 0 w 64440"/>
                        <a:gd name="textAreaRight" fmla="*/ 64800 w 64440"/>
                        <a:gd name="textAreaTop" fmla="*/ 0 h 14040"/>
                        <a:gd name="textAreaBottom" fmla="*/ 14400 h 14040"/>
                      </a:gdLst>
                      <a:ahLst/>
                      <a:rect l="textAreaLeft" t="textAreaTop" r="textAreaRight" b="textAreaBottom"/>
                      <a:pathLst>
                        <a:path w="309" h="72">
                          <a:moveTo>
                            <a:pt x="0" y="29"/>
                          </a:moveTo>
                          <a:lnTo>
                            <a:pt x="3" y="37"/>
                          </a:lnTo>
                          <a:lnTo>
                            <a:pt x="7" y="45"/>
                          </a:lnTo>
                          <a:lnTo>
                            <a:pt x="11" y="53"/>
                          </a:lnTo>
                          <a:lnTo>
                            <a:pt x="15" y="61"/>
                          </a:lnTo>
                          <a:lnTo>
                            <a:pt x="22" y="62"/>
                          </a:lnTo>
                          <a:lnTo>
                            <a:pt x="29" y="63"/>
                          </a:lnTo>
                          <a:lnTo>
                            <a:pt x="37" y="65"/>
                          </a:lnTo>
                          <a:lnTo>
                            <a:pt x="44" y="66"/>
                          </a:lnTo>
                          <a:lnTo>
                            <a:pt x="51" y="67"/>
                          </a:lnTo>
                          <a:lnTo>
                            <a:pt x="59" y="68"/>
                          </a:lnTo>
                          <a:lnTo>
                            <a:pt x="65" y="71"/>
                          </a:lnTo>
                          <a:lnTo>
                            <a:pt x="73" y="72"/>
                          </a:lnTo>
                          <a:lnTo>
                            <a:pt x="91" y="72"/>
                          </a:lnTo>
                          <a:lnTo>
                            <a:pt x="109" y="71"/>
                          </a:lnTo>
                          <a:lnTo>
                            <a:pt x="127" y="71"/>
                          </a:lnTo>
                          <a:lnTo>
                            <a:pt x="146" y="70"/>
                          </a:lnTo>
                          <a:lnTo>
                            <a:pt x="164" y="70"/>
                          </a:lnTo>
                          <a:lnTo>
                            <a:pt x="183" y="68"/>
                          </a:lnTo>
                          <a:lnTo>
                            <a:pt x="201" y="68"/>
                          </a:lnTo>
                          <a:lnTo>
                            <a:pt x="220" y="67"/>
                          </a:lnTo>
                          <a:lnTo>
                            <a:pt x="231" y="65"/>
                          </a:lnTo>
                          <a:lnTo>
                            <a:pt x="242" y="61"/>
                          </a:lnTo>
                          <a:lnTo>
                            <a:pt x="253" y="58"/>
                          </a:lnTo>
                          <a:lnTo>
                            <a:pt x="265" y="54"/>
                          </a:lnTo>
                          <a:lnTo>
                            <a:pt x="275" y="52"/>
                          </a:lnTo>
                          <a:lnTo>
                            <a:pt x="287" y="48"/>
                          </a:lnTo>
                          <a:lnTo>
                            <a:pt x="297" y="45"/>
                          </a:lnTo>
                          <a:lnTo>
                            <a:pt x="309" y="41"/>
                          </a:lnTo>
                          <a:lnTo>
                            <a:pt x="309" y="26"/>
                          </a:lnTo>
                          <a:lnTo>
                            <a:pt x="307" y="13"/>
                          </a:lnTo>
                          <a:lnTo>
                            <a:pt x="303" y="5"/>
                          </a:lnTo>
                          <a:lnTo>
                            <a:pt x="297" y="1"/>
                          </a:lnTo>
                          <a:lnTo>
                            <a:pt x="290" y="0"/>
                          </a:lnTo>
                          <a:lnTo>
                            <a:pt x="279" y="0"/>
                          </a:lnTo>
                          <a:lnTo>
                            <a:pt x="268" y="4"/>
                          </a:lnTo>
                          <a:lnTo>
                            <a:pt x="252" y="9"/>
                          </a:lnTo>
                          <a:lnTo>
                            <a:pt x="242" y="9"/>
                          </a:lnTo>
                          <a:lnTo>
                            <a:pt x="231" y="10"/>
                          </a:lnTo>
                          <a:lnTo>
                            <a:pt x="221" y="10"/>
                          </a:lnTo>
                          <a:lnTo>
                            <a:pt x="211" y="10"/>
                          </a:lnTo>
                          <a:lnTo>
                            <a:pt x="200" y="10"/>
                          </a:lnTo>
                          <a:lnTo>
                            <a:pt x="188" y="10"/>
                          </a:lnTo>
                          <a:lnTo>
                            <a:pt x="178" y="11"/>
                          </a:lnTo>
                          <a:lnTo>
                            <a:pt x="168" y="11"/>
                          </a:lnTo>
                          <a:lnTo>
                            <a:pt x="140" y="10"/>
                          </a:lnTo>
                          <a:lnTo>
                            <a:pt x="116" y="9"/>
                          </a:lnTo>
                          <a:lnTo>
                            <a:pt x="96" y="6"/>
                          </a:lnTo>
                          <a:lnTo>
                            <a:pt x="77" y="5"/>
                          </a:lnTo>
                          <a:lnTo>
                            <a:pt x="60" y="6"/>
                          </a:lnTo>
                          <a:lnTo>
                            <a:pt x="42" y="9"/>
                          </a:lnTo>
                          <a:lnTo>
                            <a:pt x="22" y="16"/>
                          </a:lnTo>
                          <a:lnTo>
                            <a:pt x="0" y="29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53"/>
                    <p:cNvSpPr/>
                    <p:nvPr/>
                  </p:nvSpPr>
                  <p:spPr>
                    <a:xfrm>
                      <a:off x="2543400" y="2834280"/>
                      <a:ext cx="23400" cy="4680"/>
                    </a:xfrm>
                    <a:custGeom>
                      <a:avLst/>
                      <a:gdLst>
                        <a:gd name="textAreaLeft" fmla="*/ 0 w 23400"/>
                        <a:gd name="textAreaRight" fmla="*/ 23760 w 2340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2" h="25">
                          <a:moveTo>
                            <a:pt x="0" y="11"/>
                          </a:moveTo>
                          <a:lnTo>
                            <a:pt x="5" y="17"/>
                          </a:lnTo>
                          <a:lnTo>
                            <a:pt x="26" y="25"/>
                          </a:lnTo>
                          <a:lnTo>
                            <a:pt x="80" y="20"/>
                          </a:lnTo>
                          <a:lnTo>
                            <a:pt x="112" y="13"/>
                          </a:lnTo>
                          <a:lnTo>
                            <a:pt x="110" y="4"/>
                          </a:lnTo>
                          <a:lnTo>
                            <a:pt x="108" y="0"/>
                          </a:lnTo>
                          <a:lnTo>
                            <a:pt x="103" y="2"/>
                          </a:lnTo>
                          <a:lnTo>
                            <a:pt x="92" y="4"/>
                          </a:lnTo>
                          <a:lnTo>
                            <a:pt x="61" y="6"/>
                          </a:lnTo>
                          <a:lnTo>
                            <a:pt x="51" y="6"/>
                          </a:lnTo>
                          <a:lnTo>
                            <a:pt x="43" y="4"/>
                          </a:lnTo>
                          <a:lnTo>
                            <a:pt x="35" y="4"/>
                          </a:lnTo>
                          <a:lnTo>
                            <a:pt x="29" y="3"/>
                          </a:lnTo>
                          <a:lnTo>
                            <a:pt x="22" y="3"/>
                          </a:lnTo>
                          <a:lnTo>
                            <a:pt x="14" y="4"/>
                          </a:lnTo>
                          <a:lnTo>
                            <a:pt x="8" y="7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63"/>
                    <p:cNvSpPr/>
                    <p:nvPr/>
                  </p:nvSpPr>
                  <p:spPr>
                    <a:xfrm>
                      <a:off x="2544840" y="2771280"/>
                      <a:ext cx="25560" cy="5040"/>
                    </a:xfrm>
                    <a:custGeom>
                      <a:avLst/>
                      <a:gdLst>
                        <a:gd name="textAreaLeft" fmla="*/ 0 w 25560"/>
                        <a:gd name="textAreaRight" fmla="*/ 25920 w 2556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22" h="27">
                          <a:moveTo>
                            <a:pt x="0" y="12"/>
                          </a:moveTo>
                          <a:lnTo>
                            <a:pt x="1" y="14"/>
                          </a:lnTo>
                          <a:lnTo>
                            <a:pt x="2" y="16"/>
                          </a:lnTo>
                          <a:lnTo>
                            <a:pt x="4" y="18"/>
                          </a:lnTo>
                          <a:lnTo>
                            <a:pt x="5" y="21"/>
                          </a:lnTo>
                          <a:lnTo>
                            <a:pt x="11" y="22"/>
                          </a:lnTo>
                          <a:lnTo>
                            <a:pt x="17" y="24"/>
                          </a:lnTo>
                          <a:lnTo>
                            <a:pt x="23" y="26"/>
                          </a:lnTo>
                          <a:lnTo>
                            <a:pt x="28" y="27"/>
                          </a:lnTo>
                          <a:lnTo>
                            <a:pt x="36" y="27"/>
                          </a:lnTo>
                          <a:lnTo>
                            <a:pt x="43" y="26"/>
                          </a:lnTo>
                          <a:lnTo>
                            <a:pt x="50" y="26"/>
                          </a:lnTo>
                          <a:lnTo>
                            <a:pt x="58" y="25"/>
                          </a:lnTo>
                          <a:lnTo>
                            <a:pt x="65" y="25"/>
                          </a:lnTo>
                          <a:lnTo>
                            <a:pt x="72" y="25"/>
                          </a:lnTo>
                          <a:lnTo>
                            <a:pt x="79" y="24"/>
                          </a:lnTo>
                          <a:lnTo>
                            <a:pt x="87" y="24"/>
                          </a:lnTo>
                          <a:lnTo>
                            <a:pt x="96" y="21"/>
                          </a:lnTo>
                          <a:lnTo>
                            <a:pt x="105" y="20"/>
                          </a:lnTo>
                          <a:lnTo>
                            <a:pt x="113" y="17"/>
                          </a:lnTo>
                          <a:lnTo>
                            <a:pt x="122" y="16"/>
                          </a:lnTo>
                          <a:lnTo>
                            <a:pt x="120" y="5"/>
                          </a:lnTo>
                          <a:lnTo>
                            <a:pt x="118" y="0"/>
                          </a:lnTo>
                          <a:lnTo>
                            <a:pt x="111" y="2"/>
                          </a:lnTo>
                          <a:lnTo>
                            <a:pt x="100" y="4"/>
                          </a:lnTo>
                          <a:lnTo>
                            <a:pt x="92" y="5"/>
                          </a:lnTo>
                          <a:lnTo>
                            <a:pt x="83" y="5"/>
                          </a:lnTo>
                          <a:lnTo>
                            <a:pt x="75" y="5"/>
                          </a:lnTo>
                          <a:lnTo>
                            <a:pt x="66" y="5"/>
                          </a:lnTo>
                          <a:lnTo>
                            <a:pt x="56" y="5"/>
                          </a:lnTo>
                          <a:lnTo>
                            <a:pt x="47" y="4"/>
                          </a:lnTo>
                          <a:lnTo>
                            <a:pt x="37" y="4"/>
                          </a:lnTo>
                          <a:lnTo>
                            <a:pt x="31" y="3"/>
                          </a:lnTo>
                          <a:lnTo>
                            <a:pt x="23" y="4"/>
                          </a:lnTo>
                          <a:lnTo>
                            <a:pt x="17" y="5"/>
                          </a:lnTo>
                          <a:lnTo>
                            <a:pt x="9" y="8"/>
                          </a:lnTo>
                          <a:lnTo>
                            <a:pt x="0" y="12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67"/>
                    <p:cNvSpPr/>
                    <p:nvPr/>
                  </p:nvSpPr>
                  <p:spPr>
                    <a:xfrm>
                      <a:off x="2543400" y="2736360"/>
                      <a:ext cx="21960" cy="15840"/>
                    </a:xfrm>
                    <a:custGeom>
                      <a:avLst/>
                      <a:gdLst>
                        <a:gd name="textAreaLeft" fmla="*/ 0 w 21960"/>
                        <a:gd name="textAreaRight" fmla="*/ 22320 w 2196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106" h="80">
                          <a:moveTo>
                            <a:pt x="53" y="0"/>
                          </a:moveTo>
                          <a:lnTo>
                            <a:pt x="64" y="1"/>
                          </a:lnTo>
                          <a:lnTo>
                            <a:pt x="74" y="2"/>
                          </a:lnTo>
                          <a:lnTo>
                            <a:pt x="83" y="6"/>
                          </a:lnTo>
                          <a:lnTo>
                            <a:pt x="91" y="11"/>
                          </a:lnTo>
                          <a:lnTo>
                            <a:pt x="97" y="18"/>
                          </a:lnTo>
                          <a:lnTo>
                            <a:pt x="103" y="24"/>
                          </a:lnTo>
                          <a:lnTo>
                            <a:pt x="105" y="32"/>
                          </a:lnTo>
                          <a:lnTo>
                            <a:pt x="106" y="40"/>
                          </a:lnTo>
                          <a:lnTo>
                            <a:pt x="105" y="48"/>
                          </a:lnTo>
                          <a:lnTo>
                            <a:pt x="103" y="55"/>
                          </a:lnTo>
                          <a:lnTo>
                            <a:pt x="97" y="62"/>
                          </a:lnTo>
                          <a:lnTo>
                            <a:pt x="91" y="68"/>
                          </a:lnTo>
                          <a:lnTo>
                            <a:pt x="83" y="74"/>
                          </a:lnTo>
                          <a:lnTo>
                            <a:pt x="74" y="78"/>
                          </a:lnTo>
                          <a:lnTo>
                            <a:pt x="64" y="79"/>
                          </a:lnTo>
                          <a:lnTo>
                            <a:pt x="53" y="80"/>
                          </a:lnTo>
                          <a:lnTo>
                            <a:pt x="43" y="79"/>
                          </a:lnTo>
                          <a:lnTo>
                            <a:pt x="32" y="78"/>
                          </a:lnTo>
                          <a:lnTo>
                            <a:pt x="23" y="74"/>
                          </a:lnTo>
                          <a:lnTo>
                            <a:pt x="16" y="68"/>
                          </a:lnTo>
                          <a:lnTo>
                            <a:pt x="9" y="62"/>
                          </a:lnTo>
                          <a:lnTo>
                            <a:pt x="4" y="55"/>
                          </a:lnTo>
                          <a:lnTo>
                            <a:pt x="1" y="48"/>
                          </a:lnTo>
                          <a:lnTo>
                            <a:pt x="0" y="40"/>
                          </a:lnTo>
                          <a:lnTo>
                            <a:pt x="1" y="32"/>
                          </a:lnTo>
                          <a:lnTo>
                            <a:pt x="4" y="24"/>
                          </a:lnTo>
                          <a:lnTo>
                            <a:pt x="9" y="18"/>
                          </a:lnTo>
                          <a:lnTo>
                            <a:pt x="16" y="11"/>
                          </a:lnTo>
                          <a:lnTo>
                            <a:pt x="23" y="6"/>
                          </a:lnTo>
                          <a:lnTo>
                            <a:pt x="32" y="2"/>
                          </a:lnTo>
                          <a:lnTo>
                            <a:pt x="43" y="1"/>
                          </a:lnTo>
                          <a:lnTo>
                            <a:pt x="53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66" name="Kors 407"/>
              <p:cNvSpPr/>
              <p:nvPr/>
            </p:nvSpPr>
            <p:spPr>
              <a:xfrm>
                <a:off x="2522520" y="2684520"/>
                <a:ext cx="33120" cy="36360"/>
              </a:xfrm>
              <a:prstGeom prst="plus">
                <a:avLst>
                  <a:gd name="adj" fmla="val 35907"/>
                </a:avLst>
              </a:prstGeom>
              <a:solidFill>
                <a:srgbClr val="17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uppe 248"/>
            <p:cNvGrpSpPr/>
            <p:nvPr/>
          </p:nvGrpSpPr>
          <p:grpSpPr>
            <a:xfrm>
              <a:off x="2733480" y="2767320"/>
              <a:ext cx="118080" cy="255600"/>
              <a:chOff x="2733480" y="2767320"/>
              <a:chExt cx="118080" cy="255600"/>
            </a:xfrm>
          </p:grpSpPr>
          <p:grpSp>
            <p:nvGrpSpPr>
              <p:cNvPr id="168" name="Gruppe 948"/>
              <p:cNvGrpSpPr/>
              <p:nvPr/>
            </p:nvGrpSpPr>
            <p:grpSpPr>
              <a:xfrm>
                <a:off x="2733480" y="2767320"/>
                <a:ext cx="118080" cy="255600"/>
                <a:chOff x="2733480" y="2767320"/>
                <a:chExt cx="118080" cy="255600"/>
              </a:xfrm>
            </p:grpSpPr>
            <p:grpSp>
              <p:nvGrpSpPr>
                <p:cNvPr id="169" name="Gruppe 918"/>
                <p:cNvGrpSpPr/>
                <p:nvPr/>
              </p:nvGrpSpPr>
              <p:grpSpPr>
                <a:xfrm>
                  <a:off x="2733480" y="2820960"/>
                  <a:ext cx="118080" cy="201960"/>
                  <a:chOff x="2733480" y="2820960"/>
                  <a:chExt cx="118080" cy="201960"/>
                </a:xfrm>
              </p:grpSpPr>
              <p:grpSp>
                <p:nvGrpSpPr>
                  <p:cNvPr id="170" name="Gruppe 821"/>
                  <p:cNvGrpSpPr/>
                  <p:nvPr/>
                </p:nvGrpSpPr>
                <p:grpSpPr>
                  <a:xfrm>
                    <a:off x="2744640" y="2820960"/>
                    <a:ext cx="79560" cy="191880"/>
                    <a:chOff x="2744640" y="2820960"/>
                    <a:chExt cx="79560" cy="191880"/>
                  </a:xfrm>
                </p:grpSpPr>
                <p:grpSp>
                  <p:nvGrpSpPr>
                    <p:cNvPr id="171" name="Gruppe 605"/>
                    <p:cNvGrpSpPr/>
                    <p:nvPr/>
                  </p:nvGrpSpPr>
                  <p:grpSpPr>
                    <a:xfrm>
                      <a:off x="2744640" y="2832120"/>
                      <a:ext cx="79560" cy="180720"/>
                      <a:chOff x="2744640" y="2832120"/>
                      <a:chExt cx="79560" cy="180720"/>
                    </a:xfrm>
                  </p:grpSpPr>
                  <p:sp>
                    <p:nvSpPr>
                      <p:cNvPr id="172" name="Freeform 130"/>
                      <p:cNvSpPr/>
                      <p:nvPr/>
                    </p:nvSpPr>
                    <p:spPr>
                      <a:xfrm>
                        <a:off x="2744640" y="2832120"/>
                        <a:ext cx="79560" cy="180720"/>
                      </a:xfrm>
                      <a:custGeom>
                        <a:avLst/>
                        <a:gdLst>
                          <a:gd name="textAreaLeft" fmla="*/ 0 w 79560"/>
                          <a:gd name="textAreaRight" fmla="*/ 79920 w 79560"/>
                          <a:gd name="textAreaTop" fmla="*/ 0 h 180720"/>
                          <a:gd name="textAreaBottom" fmla="*/ 180720 h 180720"/>
                        </a:gdLst>
                        <a:ahLst/>
                        <a:rect l="textAreaLeft" t="textAreaTop" r="textAreaRight" b="textAreaBottom"/>
                        <a:pathLst>
                          <a:path w="493" h="1194">
                            <a:moveTo>
                              <a:pt x="208" y="62"/>
                            </a:moveTo>
                            <a:lnTo>
                              <a:pt x="167" y="83"/>
                            </a:lnTo>
                            <a:lnTo>
                              <a:pt x="145" y="87"/>
                            </a:lnTo>
                            <a:lnTo>
                              <a:pt x="125" y="93"/>
                            </a:lnTo>
                            <a:lnTo>
                              <a:pt x="110" y="100"/>
                            </a:lnTo>
                            <a:lnTo>
                              <a:pt x="99" y="110"/>
                            </a:lnTo>
                            <a:lnTo>
                              <a:pt x="92" y="124"/>
                            </a:lnTo>
                            <a:lnTo>
                              <a:pt x="90" y="141"/>
                            </a:lnTo>
                            <a:lnTo>
                              <a:pt x="93" y="162"/>
                            </a:lnTo>
                            <a:lnTo>
                              <a:pt x="104" y="187"/>
                            </a:lnTo>
                            <a:lnTo>
                              <a:pt x="158" y="242"/>
                            </a:lnTo>
                            <a:lnTo>
                              <a:pt x="158" y="272"/>
                            </a:lnTo>
                            <a:lnTo>
                              <a:pt x="140" y="282"/>
                            </a:lnTo>
                            <a:lnTo>
                              <a:pt x="135" y="302"/>
                            </a:lnTo>
                            <a:lnTo>
                              <a:pt x="138" y="326"/>
                            </a:lnTo>
                            <a:lnTo>
                              <a:pt x="147" y="346"/>
                            </a:lnTo>
                            <a:lnTo>
                              <a:pt x="104" y="360"/>
                            </a:lnTo>
                            <a:lnTo>
                              <a:pt x="89" y="375"/>
                            </a:lnTo>
                            <a:lnTo>
                              <a:pt x="77" y="389"/>
                            </a:lnTo>
                            <a:lnTo>
                              <a:pt x="71" y="402"/>
                            </a:lnTo>
                            <a:lnTo>
                              <a:pt x="70" y="414"/>
                            </a:lnTo>
                            <a:lnTo>
                              <a:pt x="74" y="426"/>
                            </a:lnTo>
                            <a:lnTo>
                              <a:pt x="82" y="437"/>
                            </a:lnTo>
                            <a:lnTo>
                              <a:pt x="94" y="449"/>
                            </a:lnTo>
                            <a:lnTo>
                              <a:pt x="113" y="459"/>
                            </a:lnTo>
                            <a:lnTo>
                              <a:pt x="173" y="480"/>
                            </a:lnTo>
                            <a:lnTo>
                              <a:pt x="168" y="522"/>
                            </a:lnTo>
                            <a:lnTo>
                              <a:pt x="162" y="562"/>
                            </a:lnTo>
                            <a:lnTo>
                              <a:pt x="156" y="601"/>
                            </a:lnTo>
                            <a:lnTo>
                              <a:pt x="150" y="638"/>
                            </a:lnTo>
                            <a:lnTo>
                              <a:pt x="140" y="676"/>
                            </a:lnTo>
                            <a:lnTo>
                              <a:pt x="129" y="713"/>
                            </a:lnTo>
                            <a:lnTo>
                              <a:pt x="115" y="750"/>
                            </a:lnTo>
                            <a:lnTo>
                              <a:pt x="98" y="789"/>
                            </a:lnTo>
                            <a:lnTo>
                              <a:pt x="83" y="796"/>
                            </a:lnTo>
                            <a:lnTo>
                              <a:pt x="70" y="804"/>
                            </a:lnTo>
                            <a:lnTo>
                              <a:pt x="61" y="814"/>
                            </a:lnTo>
                            <a:lnTo>
                              <a:pt x="55" y="823"/>
                            </a:lnTo>
                            <a:lnTo>
                              <a:pt x="53" y="835"/>
                            </a:lnTo>
                            <a:lnTo>
                              <a:pt x="55" y="845"/>
                            </a:lnTo>
                            <a:lnTo>
                              <a:pt x="62" y="857"/>
                            </a:lnTo>
                            <a:lnTo>
                              <a:pt x="75" y="868"/>
                            </a:lnTo>
                            <a:lnTo>
                              <a:pt x="78" y="889"/>
                            </a:lnTo>
                            <a:lnTo>
                              <a:pt x="53" y="896"/>
                            </a:lnTo>
                            <a:lnTo>
                              <a:pt x="34" y="905"/>
                            </a:lnTo>
                            <a:lnTo>
                              <a:pt x="21" y="916"/>
                            </a:lnTo>
                            <a:lnTo>
                              <a:pt x="13" y="928"/>
                            </a:lnTo>
                            <a:lnTo>
                              <a:pt x="8" y="942"/>
                            </a:lnTo>
                            <a:lnTo>
                              <a:pt x="8" y="959"/>
                            </a:lnTo>
                            <a:lnTo>
                              <a:pt x="10" y="978"/>
                            </a:lnTo>
                            <a:lnTo>
                              <a:pt x="15" y="999"/>
                            </a:lnTo>
                            <a:lnTo>
                              <a:pt x="19" y="1032"/>
                            </a:lnTo>
                            <a:lnTo>
                              <a:pt x="0" y="1057"/>
                            </a:lnTo>
                            <a:lnTo>
                              <a:pt x="0" y="1121"/>
                            </a:lnTo>
                            <a:lnTo>
                              <a:pt x="18" y="1137"/>
                            </a:lnTo>
                            <a:lnTo>
                              <a:pt x="41" y="1151"/>
                            </a:lnTo>
                            <a:lnTo>
                              <a:pt x="69" y="1163"/>
                            </a:lnTo>
                            <a:lnTo>
                              <a:pt x="101" y="1174"/>
                            </a:lnTo>
                            <a:lnTo>
                              <a:pt x="135" y="1182"/>
                            </a:lnTo>
                            <a:lnTo>
                              <a:pt x="171" y="1189"/>
                            </a:lnTo>
                            <a:lnTo>
                              <a:pt x="208" y="1192"/>
                            </a:lnTo>
                            <a:lnTo>
                              <a:pt x="246" y="1194"/>
                            </a:lnTo>
                            <a:lnTo>
                              <a:pt x="285" y="1193"/>
                            </a:lnTo>
                            <a:lnTo>
                              <a:pt x="322" y="1190"/>
                            </a:lnTo>
                            <a:lnTo>
                              <a:pt x="359" y="1184"/>
                            </a:lnTo>
                            <a:lnTo>
                              <a:pt x="393" y="1175"/>
                            </a:lnTo>
                            <a:lnTo>
                              <a:pt x="424" y="1162"/>
                            </a:lnTo>
                            <a:lnTo>
                              <a:pt x="451" y="1147"/>
                            </a:lnTo>
                            <a:lnTo>
                              <a:pt x="474" y="1129"/>
                            </a:lnTo>
                            <a:lnTo>
                              <a:pt x="493" y="1107"/>
                            </a:lnTo>
                            <a:lnTo>
                              <a:pt x="493" y="1069"/>
                            </a:lnTo>
                            <a:lnTo>
                              <a:pt x="484" y="1032"/>
                            </a:lnTo>
                            <a:lnTo>
                              <a:pt x="487" y="1005"/>
                            </a:lnTo>
                            <a:lnTo>
                              <a:pt x="489" y="984"/>
                            </a:lnTo>
                            <a:lnTo>
                              <a:pt x="489" y="965"/>
                            </a:lnTo>
                            <a:lnTo>
                              <a:pt x="486" y="950"/>
                            </a:lnTo>
                            <a:lnTo>
                              <a:pt x="480" y="936"/>
                            </a:lnTo>
                            <a:lnTo>
                              <a:pt x="470" y="921"/>
                            </a:lnTo>
                            <a:lnTo>
                              <a:pt x="454" y="906"/>
                            </a:lnTo>
                            <a:lnTo>
                              <a:pt x="433" y="888"/>
                            </a:lnTo>
                            <a:lnTo>
                              <a:pt x="441" y="870"/>
                            </a:lnTo>
                            <a:lnTo>
                              <a:pt x="446" y="855"/>
                            </a:lnTo>
                            <a:lnTo>
                              <a:pt x="449" y="842"/>
                            </a:lnTo>
                            <a:lnTo>
                              <a:pt x="449" y="832"/>
                            </a:lnTo>
                            <a:lnTo>
                              <a:pt x="444" y="823"/>
                            </a:lnTo>
                            <a:lnTo>
                              <a:pt x="438" y="814"/>
                            </a:lnTo>
                            <a:lnTo>
                              <a:pt x="425" y="805"/>
                            </a:lnTo>
                            <a:lnTo>
                              <a:pt x="409" y="793"/>
                            </a:lnTo>
                            <a:lnTo>
                              <a:pt x="389" y="751"/>
                            </a:lnTo>
                            <a:lnTo>
                              <a:pt x="373" y="713"/>
                            </a:lnTo>
                            <a:lnTo>
                              <a:pt x="362" y="677"/>
                            </a:lnTo>
                            <a:lnTo>
                              <a:pt x="355" y="644"/>
                            </a:lnTo>
                            <a:lnTo>
                              <a:pt x="349" y="609"/>
                            </a:lnTo>
                            <a:lnTo>
                              <a:pt x="345" y="572"/>
                            </a:lnTo>
                            <a:lnTo>
                              <a:pt x="344" y="531"/>
                            </a:lnTo>
                            <a:lnTo>
                              <a:pt x="344" y="485"/>
                            </a:lnTo>
                            <a:lnTo>
                              <a:pt x="379" y="471"/>
                            </a:lnTo>
                            <a:lnTo>
                              <a:pt x="404" y="455"/>
                            </a:lnTo>
                            <a:lnTo>
                              <a:pt x="417" y="446"/>
                            </a:lnTo>
                            <a:lnTo>
                              <a:pt x="426" y="435"/>
                            </a:lnTo>
                            <a:lnTo>
                              <a:pt x="433" y="423"/>
                            </a:lnTo>
                            <a:lnTo>
                              <a:pt x="436" y="411"/>
                            </a:lnTo>
                            <a:lnTo>
                              <a:pt x="434" y="398"/>
                            </a:lnTo>
                            <a:lnTo>
                              <a:pt x="427" y="386"/>
                            </a:lnTo>
                            <a:lnTo>
                              <a:pt x="414" y="374"/>
                            </a:lnTo>
                            <a:lnTo>
                              <a:pt x="394" y="364"/>
                            </a:lnTo>
                            <a:lnTo>
                              <a:pt x="368" y="356"/>
                            </a:lnTo>
                            <a:lnTo>
                              <a:pt x="379" y="343"/>
                            </a:lnTo>
                            <a:lnTo>
                              <a:pt x="386" y="330"/>
                            </a:lnTo>
                            <a:lnTo>
                              <a:pt x="390" y="318"/>
                            </a:lnTo>
                            <a:lnTo>
                              <a:pt x="393" y="306"/>
                            </a:lnTo>
                            <a:lnTo>
                              <a:pt x="390" y="295"/>
                            </a:lnTo>
                            <a:lnTo>
                              <a:pt x="386" y="283"/>
                            </a:lnTo>
                            <a:lnTo>
                              <a:pt x="376" y="273"/>
                            </a:lnTo>
                            <a:lnTo>
                              <a:pt x="364" y="261"/>
                            </a:lnTo>
                            <a:lnTo>
                              <a:pt x="389" y="227"/>
                            </a:lnTo>
                            <a:lnTo>
                              <a:pt x="409" y="192"/>
                            </a:lnTo>
                            <a:lnTo>
                              <a:pt x="420" y="170"/>
                            </a:lnTo>
                            <a:lnTo>
                              <a:pt x="428" y="153"/>
                            </a:lnTo>
                            <a:lnTo>
                              <a:pt x="432" y="139"/>
                            </a:lnTo>
                            <a:lnTo>
                              <a:pt x="432" y="128"/>
                            </a:lnTo>
                            <a:lnTo>
                              <a:pt x="426" y="118"/>
                            </a:lnTo>
                            <a:lnTo>
                              <a:pt x="416" y="110"/>
                            </a:lnTo>
                            <a:lnTo>
                              <a:pt x="400" y="102"/>
                            </a:lnTo>
                            <a:lnTo>
                              <a:pt x="378" y="92"/>
                            </a:lnTo>
                            <a:lnTo>
                              <a:pt x="349" y="77"/>
                            </a:lnTo>
                            <a:lnTo>
                              <a:pt x="320" y="68"/>
                            </a:lnTo>
                            <a:lnTo>
                              <a:pt x="322" y="54"/>
                            </a:lnTo>
                            <a:lnTo>
                              <a:pt x="322" y="42"/>
                            </a:lnTo>
                            <a:lnTo>
                              <a:pt x="320" y="32"/>
                            </a:lnTo>
                            <a:lnTo>
                              <a:pt x="315" y="23"/>
                            </a:lnTo>
                            <a:lnTo>
                              <a:pt x="309" y="16"/>
                            </a:lnTo>
                            <a:lnTo>
                              <a:pt x="300" y="10"/>
                            </a:lnTo>
                            <a:lnTo>
                              <a:pt x="291" y="5"/>
                            </a:lnTo>
                            <a:lnTo>
                              <a:pt x="281" y="2"/>
                            </a:lnTo>
                            <a:lnTo>
                              <a:pt x="268" y="0"/>
                            </a:lnTo>
                            <a:lnTo>
                              <a:pt x="256" y="1"/>
                            </a:lnTo>
                            <a:lnTo>
                              <a:pt x="243" y="3"/>
                            </a:lnTo>
                            <a:lnTo>
                              <a:pt x="233" y="8"/>
                            </a:lnTo>
                            <a:lnTo>
                              <a:pt x="222" y="16"/>
                            </a:lnTo>
                            <a:lnTo>
                              <a:pt x="215" y="27"/>
                            </a:lnTo>
                            <a:lnTo>
                              <a:pt x="211" y="42"/>
                            </a:lnTo>
                            <a:lnTo>
                              <a:pt x="208" y="62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080808"/>
                          </a:gs>
                          <a:gs pos="100000">
                            <a:srgbClr val="e6e6e6"/>
                          </a:gs>
                        </a:gsLst>
                        <a:lin ang="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" name="Freeform 131"/>
                      <p:cNvSpPr/>
                      <p:nvPr/>
                    </p:nvSpPr>
                    <p:spPr>
                      <a:xfrm>
                        <a:off x="2771640" y="2842920"/>
                        <a:ext cx="30240" cy="14040"/>
                      </a:xfrm>
                      <a:custGeom>
                        <a:avLst/>
                        <a:gdLst>
                          <a:gd name="textAreaLeft" fmla="*/ 0 w 30240"/>
                          <a:gd name="textAreaRight" fmla="*/ 30600 w 30240"/>
                          <a:gd name="textAreaTop" fmla="*/ 0 h 14040"/>
                          <a:gd name="textAreaBottom" fmla="*/ 14400 h 14040"/>
                        </a:gdLst>
                        <a:ahLst/>
                        <a:rect l="textAreaLeft" t="textAreaTop" r="textAreaRight" b="textAreaBottom"/>
                        <a:pathLst>
                          <a:path w="185" h="58">
                            <a:moveTo>
                              <a:pt x="13" y="8"/>
                            </a:moveTo>
                            <a:lnTo>
                              <a:pt x="0" y="22"/>
                            </a:lnTo>
                            <a:lnTo>
                              <a:pt x="8" y="43"/>
                            </a:lnTo>
                            <a:lnTo>
                              <a:pt x="28" y="49"/>
                            </a:lnTo>
                            <a:lnTo>
                              <a:pt x="53" y="54"/>
                            </a:lnTo>
                            <a:lnTo>
                              <a:pt x="81" y="58"/>
                            </a:lnTo>
                            <a:lnTo>
                              <a:pt x="108" y="56"/>
                            </a:lnTo>
                            <a:lnTo>
                              <a:pt x="135" y="53"/>
                            </a:lnTo>
                            <a:lnTo>
                              <a:pt x="159" y="46"/>
                            </a:lnTo>
                            <a:lnTo>
                              <a:pt x="176" y="33"/>
                            </a:lnTo>
                            <a:lnTo>
                              <a:pt x="185" y="16"/>
                            </a:lnTo>
                            <a:lnTo>
                              <a:pt x="160" y="6"/>
                            </a:lnTo>
                            <a:lnTo>
                              <a:pt x="144" y="0"/>
                            </a:lnTo>
                            <a:lnTo>
                              <a:pt x="139" y="15"/>
                            </a:lnTo>
                            <a:lnTo>
                              <a:pt x="127" y="24"/>
                            </a:lnTo>
                            <a:lnTo>
                              <a:pt x="109" y="29"/>
                            </a:lnTo>
                            <a:lnTo>
                              <a:pt x="89" y="29"/>
                            </a:lnTo>
                            <a:lnTo>
                              <a:pt x="68" y="25"/>
                            </a:lnTo>
                            <a:lnTo>
                              <a:pt x="51" y="20"/>
                            </a:lnTo>
                            <a:lnTo>
                              <a:pt x="38" y="11"/>
                            </a:lnTo>
                            <a:lnTo>
                              <a:pt x="33" y="1"/>
                            </a:lnTo>
                            <a:lnTo>
                              <a:pt x="13" y="8"/>
                            </a:lnTo>
                            <a:close/>
                          </a:path>
                        </a:pathLst>
                      </a:custGeom>
                      <a:solidFill>
                        <a:srgbClr val="17171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" name="Freeform 132"/>
                      <p:cNvSpPr/>
                      <p:nvPr/>
                    </p:nvSpPr>
                    <p:spPr>
                      <a:xfrm>
                        <a:off x="2760480" y="2846160"/>
                        <a:ext cx="52560" cy="14040"/>
                      </a:xfrm>
                      <a:custGeom>
                        <a:avLst/>
                        <a:gdLst>
                          <a:gd name="textAreaLeft" fmla="*/ 0 w 52560"/>
                          <a:gd name="textAreaRight" fmla="*/ 52920 w 52560"/>
                          <a:gd name="textAreaTop" fmla="*/ 0 h 14040"/>
                          <a:gd name="textAreaBottom" fmla="*/ 14400 h 14040"/>
                        </a:gdLst>
                        <a:ahLst/>
                        <a:rect l="textAreaLeft" t="textAreaTop" r="textAreaRight" b="textAreaBottom"/>
                        <a:pathLst>
                          <a:path w="329" h="102">
                            <a:moveTo>
                              <a:pt x="32" y="10"/>
                            </a:moveTo>
                            <a:lnTo>
                              <a:pt x="1" y="26"/>
                            </a:lnTo>
                            <a:lnTo>
                              <a:pt x="0" y="43"/>
                            </a:lnTo>
                            <a:lnTo>
                              <a:pt x="3" y="60"/>
                            </a:lnTo>
                            <a:lnTo>
                              <a:pt x="14" y="71"/>
                            </a:lnTo>
                            <a:lnTo>
                              <a:pt x="27" y="81"/>
                            </a:lnTo>
                            <a:lnTo>
                              <a:pt x="46" y="90"/>
                            </a:lnTo>
                            <a:lnTo>
                              <a:pt x="67" y="95"/>
                            </a:lnTo>
                            <a:lnTo>
                              <a:pt x="91" y="100"/>
                            </a:lnTo>
                            <a:lnTo>
                              <a:pt x="117" y="102"/>
                            </a:lnTo>
                            <a:lnTo>
                              <a:pt x="144" y="102"/>
                            </a:lnTo>
                            <a:lnTo>
                              <a:pt x="171" y="102"/>
                            </a:lnTo>
                            <a:lnTo>
                              <a:pt x="199" y="100"/>
                            </a:lnTo>
                            <a:lnTo>
                              <a:pt x="225" y="98"/>
                            </a:lnTo>
                            <a:lnTo>
                              <a:pt x="251" y="94"/>
                            </a:lnTo>
                            <a:lnTo>
                              <a:pt x="273" y="90"/>
                            </a:lnTo>
                            <a:lnTo>
                              <a:pt x="292" y="85"/>
                            </a:lnTo>
                            <a:lnTo>
                              <a:pt x="308" y="79"/>
                            </a:lnTo>
                            <a:lnTo>
                              <a:pt x="319" y="71"/>
                            </a:lnTo>
                            <a:lnTo>
                              <a:pt x="326" y="61"/>
                            </a:lnTo>
                            <a:lnTo>
                              <a:pt x="329" y="50"/>
                            </a:lnTo>
                            <a:lnTo>
                              <a:pt x="329" y="39"/>
                            </a:lnTo>
                            <a:lnTo>
                              <a:pt x="325" y="28"/>
                            </a:lnTo>
                            <a:lnTo>
                              <a:pt x="316" y="18"/>
                            </a:lnTo>
                            <a:lnTo>
                              <a:pt x="303" y="8"/>
                            </a:lnTo>
                            <a:lnTo>
                              <a:pt x="285" y="0"/>
                            </a:lnTo>
                            <a:lnTo>
                              <a:pt x="269" y="18"/>
                            </a:lnTo>
                            <a:lnTo>
                              <a:pt x="252" y="31"/>
                            </a:lnTo>
                            <a:lnTo>
                              <a:pt x="234" y="39"/>
                            </a:lnTo>
                            <a:lnTo>
                              <a:pt x="215" y="43"/>
                            </a:lnTo>
                            <a:lnTo>
                              <a:pt x="194" y="45"/>
                            </a:lnTo>
                            <a:lnTo>
                              <a:pt x="173" y="43"/>
                            </a:lnTo>
                            <a:lnTo>
                              <a:pt x="148" y="41"/>
                            </a:lnTo>
                            <a:lnTo>
                              <a:pt x="122" y="40"/>
                            </a:lnTo>
                            <a:lnTo>
                              <a:pt x="67" y="30"/>
                            </a:lnTo>
                            <a:lnTo>
                              <a:pt x="49" y="3"/>
                            </a:lnTo>
                            <a:lnTo>
                              <a:pt x="32" y="10"/>
                            </a:lnTo>
                            <a:close/>
                          </a:path>
                        </a:pathLst>
                      </a:custGeom>
                      <a:solidFill>
                        <a:srgbClr val="17171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" name="Freeform 133"/>
                      <p:cNvSpPr/>
                      <p:nvPr/>
                    </p:nvSpPr>
                    <p:spPr>
                      <a:xfrm>
                        <a:off x="2774880" y="2879640"/>
                        <a:ext cx="33480" cy="2880"/>
                      </a:xfrm>
                      <a:custGeom>
                        <a:avLst/>
                        <a:gdLst>
                          <a:gd name="textAreaLeft" fmla="*/ 0 w 33480"/>
                          <a:gd name="textAreaRight" fmla="*/ 33840 w 33480"/>
                          <a:gd name="textAreaTop" fmla="*/ 0 h 2880"/>
                          <a:gd name="textAreaBottom" fmla="*/ 3240 h 2880"/>
                        </a:gdLst>
                        <a:ahLst/>
                        <a:rect l="textAreaLeft" t="textAreaTop" r="textAreaRight" b="textAreaBottom"/>
                        <a:pathLst>
                          <a:path w="204" h="37">
                            <a:moveTo>
                              <a:pt x="12" y="0"/>
                            </a:moveTo>
                            <a:lnTo>
                              <a:pt x="24" y="6"/>
                            </a:lnTo>
                            <a:lnTo>
                              <a:pt x="35" y="12"/>
                            </a:lnTo>
                            <a:lnTo>
                              <a:pt x="47" y="15"/>
                            </a:lnTo>
                            <a:lnTo>
                              <a:pt x="58" y="17"/>
                            </a:lnTo>
                            <a:lnTo>
                              <a:pt x="70" y="20"/>
                            </a:lnTo>
                            <a:lnTo>
                              <a:pt x="82" y="21"/>
                            </a:lnTo>
                            <a:lnTo>
                              <a:pt x="94" y="22"/>
                            </a:lnTo>
                            <a:lnTo>
                              <a:pt x="106" y="21"/>
                            </a:lnTo>
                            <a:lnTo>
                              <a:pt x="119" y="20"/>
                            </a:lnTo>
                            <a:lnTo>
                              <a:pt x="131" y="19"/>
                            </a:lnTo>
                            <a:lnTo>
                              <a:pt x="143" y="16"/>
                            </a:lnTo>
                            <a:lnTo>
                              <a:pt x="156" y="14"/>
                            </a:lnTo>
                            <a:lnTo>
                              <a:pt x="167" y="12"/>
                            </a:lnTo>
                            <a:lnTo>
                              <a:pt x="180" y="8"/>
                            </a:lnTo>
                            <a:lnTo>
                              <a:pt x="192" y="6"/>
                            </a:lnTo>
                            <a:lnTo>
                              <a:pt x="204" y="2"/>
                            </a:lnTo>
                            <a:lnTo>
                              <a:pt x="204" y="14"/>
                            </a:lnTo>
                            <a:lnTo>
                              <a:pt x="196" y="17"/>
                            </a:lnTo>
                            <a:lnTo>
                              <a:pt x="188" y="21"/>
                            </a:lnTo>
                            <a:lnTo>
                              <a:pt x="178" y="24"/>
                            </a:lnTo>
                            <a:lnTo>
                              <a:pt x="167" y="27"/>
                            </a:lnTo>
                            <a:lnTo>
                              <a:pt x="155" y="30"/>
                            </a:lnTo>
                            <a:lnTo>
                              <a:pt x="143" y="32"/>
                            </a:lnTo>
                            <a:lnTo>
                              <a:pt x="129" y="35"/>
                            </a:lnTo>
                            <a:lnTo>
                              <a:pt x="117" y="37"/>
                            </a:lnTo>
                            <a:lnTo>
                              <a:pt x="102" y="37"/>
                            </a:lnTo>
                            <a:lnTo>
                              <a:pt x="88" y="37"/>
                            </a:lnTo>
                            <a:lnTo>
                              <a:pt x="73" y="36"/>
                            </a:lnTo>
                            <a:lnTo>
                              <a:pt x="58" y="34"/>
                            </a:lnTo>
                            <a:lnTo>
                              <a:pt x="44" y="29"/>
                            </a:lnTo>
                            <a:lnTo>
                              <a:pt x="29" y="24"/>
                            </a:lnTo>
                            <a:lnTo>
                              <a:pt x="14" y="17"/>
                            </a:lnTo>
                            <a:lnTo>
                              <a:pt x="0" y="8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17171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" name="Freeform 135"/>
                      <p:cNvSpPr/>
                      <p:nvPr/>
                    </p:nvSpPr>
                    <p:spPr>
                      <a:xfrm>
                        <a:off x="2760480" y="2889000"/>
                        <a:ext cx="52560" cy="15840"/>
                      </a:xfrm>
                      <a:custGeom>
                        <a:avLst/>
                        <a:gdLst>
                          <a:gd name="textAreaLeft" fmla="*/ 0 w 52560"/>
                          <a:gd name="textAreaRight" fmla="*/ 52920 w 52560"/>
                          <a:gd name="textAreaTop" fmla="*/ 0 h 15840"/>
                          <a:gd name="textAreaBottom" fmla="*/ 16200 h 15840"/>
                        </a:gdLst>
                        <a:ahLst/>
                        <a:rect l="textAreaLeft" t="textAreaTop" r="textAreaRight" b="textAreaBottom"/>
                        <a:pathLst>
                          <a:path w="351" h="100">
                            <a:moveTo>
                              <a:pt x="40" y="0"/>
                            </a:moveTo>
                            <a:lnTo>
                              <a:pt x="19" y="9"/>
                            </a:lnTo>
                            <a:lnTo>
                              <a:pt x="6" y="20"/>
                            </a:lnTo>
                            <a:lnTo>
                              <a:pt x="0" y="30"/>
                            </a:lnTo>
                            <a:lnTo>
                              <a:pt x="0" y="42"/>
                            </a:lnTo>
                            <a:lnTo>
                              <a:pt x="7" y="53"/>
                            </a:lnTo>
                            <a:lnTo>
                              <a:pt x="17" y="65"/>
                            </a:lnTo>
                            <a:lnTo>
                              <a:pt x="32" y="75"/>
                            </a:lnTo>
                            <a:lnTo>
                              <a:pt x="50" y="85"/>
                            </a:lnTo>
                            <a:lnTo>
                              <a:pt x="66" y="89"/>
                            </a:lnTo>
                            <a:lnTo>
                              <a:pt x="82" y="92"/>
                            </a:lnTo>
                            <a:lnTo>
                              <a:pt x="97" y="95"/>
                            </a:lnTo>
                            <a:lnTo>
                              <a:pt x="113" y="96"/>
                            </a:lnTo>
                            <a:lnTo>
                              <a:pt x="128" y="98"/>
                            </a:lnTo>
                            <a:lnTo>
                              <a:pt x="144" y="99"/>
                            </a:lnTo>
                            <a:lnTo>
                              <a:pt x="159" y="99"/>
                            </a:lnTo>
                            <a:lnTo>
                              <a:pt x="174" y="100"/>
                            </a:lnTo>
                            <a:lnTo>
                              <a:pt x="189" y="100"/>
                            </a:lnTo>
                            <a:lnTo>
                              <a:pt x="205" y="100"/>
                            </a:lnTo>
                            <a:lnTo>
                              <a:pt x="220" y="99"/>
                            </a:lnTo>
                            <a:lnTo>
                              <a:pt x="236" y="99"/>
                            </a:lnTo>
                            <a:lnTo>
                              <a:pt x="251" y="98"/>
                            </a:lnTo>
                            <a:lnTo>
                              <a:pt x="267" y="97"/>
                            </a:lnTo>
                            <a:lnTo>
                              <a:pt x="284" y="95"/>
                            </a:lnTo>
                            <a:lnTo>
                              <a:pt x="300" y="94"/>
                            </a:lnTo>
                            <a:lnTo>
                              <a:pt x="323" y="81"/>
                            </a:lnTo>
                            <a:lnTo>
                              <a:pt x="339" y="68"/>
                            </a:lnTo>
                            <a:lnTo>
                              <a:pt x="349" y="56"/>
                            </a:lnTo>
                            <a:lnTo>
                              <a:pt x="351" y="43"/>
                            </a:lnTo>
                            <a:lnTo>
                              <a:pt x="348" y="31"/>
                            </a:lnTo>
                            <a:lnTo>
                              <a:pt x="338" y="21"/>
                            </a:lnTo>
                            <a:lnTo>
                              <a:pt x="320" y="12"/>
                            </a:lnTo>
                            <a:lnTo>
                              <a:pt x="296" y="5"/>
                            </a:lnTo>
                            <a:lnTo>
                              <a:pt x="298" y="15"/>
                            </a:lnTo>
                            <a:lnTo>
                              <a:pt x="294" y="23"/>
                            </a:lnTo>
                            <a:lnTo>
                              <a:pt x="284" y="30"/>
                            </a:lnTo>
                            <a:lnTo>
                              <a:pt x="272" y="37"/>
                            </a:lnTo>
                            <a:lnTo>
                              <a:pt x="258" y="38"/>
                            </a:lnTo>
                            <a:lnTo>
                              <a:pt x="245" y="39"/>
                            </a:lnTo>
                            <a:lnTo>
                              <a:pt x="234" y="41"/>
                            </a:lnTo>
                            <a:lnTo>
                              <a:pt x="222" y="42"/>
                            </a:lnTo>
                            <a:lnTo>
                              <a:pt x="211" y="43"/>
                            </a:lnTo>
                            <a:lnTo>
                              <a:pt x="199" y="43"/>
                            </a:lnTo>
                            <a:lnTo>
                              <a:pt x="188" y="44"/>
                            </a:lnTo>
                            <a:lnTo>
                              <a:pt x="178" y="44"/>
                            </a:lnTo>
                            <a:lnTo>
                              <a:pt x="166" y="44"/>
                            </a:lnTo>
                            <a:lnTo>
                              <a:pt x="155" y="44"/>
                            </a:lnTo>
                            <a:lnTo>
                              <a:pt x="143" y="44"/>
                            </a:lnTo>
                            <a:lnTo>
                              <a:pt x="133" y="43"/>
                            </a:lnTo>
                            <a:lnTo>
                              <a:pt x="120" y="42"/>
                            </a:lnTo>
                            <a:lnTo>
                              <a:pt x="108" y="41"/>
                            </a:lnTo>
                            <a:lnTo>
                              <a:pt x="96" y="39"/>
                            </a:lnTo>
                            <a:lnTo>
                              <a:pt x="82" y="37"/>
                            </a:lnTo>
                            <a:lnTo>
                              <a:pt x="73" y="32"/>
                            </a:lnTo>
                            <a:lnTo>
                              <a:pt x="65" y="28"/>
                            </a:lnTo>
                            <a:lnTo>
                              <a:pt x="58" y="23"/>
                            </a:lnTo>
                            <a:lnTo>
                              <a:pt x="52" y="19"/>
                            </a:lnTo>
                            <a:lnTo>
                              <a:pt x="47" y="14"/>
                            </a:lnTo>
                            <a:lnTo>
                              <a:pt x="44" y="11"/>
                            </a:lnTo>
                            <a:lnTo>
                              <a:pt x="42" y="5"/>
                            </a:lnTo>
                            <a:lnTo>
                              <a:pt x="40" y="0"/>
                            </a:lnTo>
                            <a:close/>
                          </a:path>
                        </a:pathLst>
                      </a:custGeom>
                      <a:solidFill>
                        <a:srgbClr val="17171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" name="Freeform 147"/>
                      <p:cNvSpPr/>
                      <p:nvPr/>
                    </p:nvSpPr>
                    <p:spPr>
                      <a:xfrm>
                        <a:off x="2755800" y="2950920"/>
                        <a:ext cx="60480" cy="1404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4040"/>
                          <a:gd name="textAreaBottom" fmla="*/ 14400 h 14040"/>
                        </a:gdLst>
                        <a:ahLst/>
                        <a:rect l="textAreaLeft" t="textAreaTop" r="textAreaRight" b="textAreaBottom"/>
                        <a:pathLst>
                          <a:path w="382" h="96">
                            <a:moveTo>
                              <a:pt x="24" y="4"/>
                            </a:moveTo>
                            <a:lnTo>
                              <a:pt x="68" y="40"/>
                            </a:lnTo>
                            <a:lnTo>
                              <a:pt x="89" y="44"/>
                            </a:lnTo>
                            <a:lnTo>
                              <a:pt x="108" y="48"/>
                            </a:lnTo>
                            <a:lnTo>
                              <a:pt x="127" y="53"/>
                            </a:lnTo>
                            <a:lnTo>
                              <a:pt x="144" y="55"/>
                            </a:lnTo>
                            <a:lnTo>
                              <a:pt x="160" y="57"/>
                            </a:lnTo>
                            <a:lnTo>
                              <a:pt x="176" y="59"/>
                            </a:lnTo>
                            <a:lnTo>
                              <a:pt x="192" y="59"/>
                            </a:lnTo>
                            <a:lnTo>
                              <a:pt x="207" y="59"/>
                            </a:lnTo>
                            <a:lnTo>
                              <a:pt x="222" y="58"/>
                            </a:lnTo>
                            <a:lnTo>
                              <a:pt x="237" y="57"/>
                            </a:lnTo>
                            <a:lnTo>
                              <a:pt x="253" y="54"/>
                            </a:lnTo>
                            <a:lnTo>
                              <a:pt x="270" y="50"/>
                            </a:lnTo>
                            <a:lnTo>
                              <a:pt x="286" y="46"/>
                            </a:lnTo>
                            <a:lnTo>
                              <a:pt x="304" y="39"/>
                            </a:lnTo>
                            <a:lnTo>
                              <a:pt x="323" y="32"/>
                            </a:lnTo>
                            <a:lnTo>
                              <a:pt x="342" y="23"/>
                            </a:lnTo>
                            <a:lnTo>
                              <a:pt x="348" y="10"/>
                            </a:lnTo>
                            <a:lnTo>
                              <a:pt x="352" y="3"/>
                            </a:lnTo>
                            <a:lnTo>
                              <a:pt x="356" y="0"/>
                            </a:lnTo>
                            <a:lnTo>
                              <a:pt x="359" y="1"/>
                            </a:lnTo>
                            <a:lnTo>
                              <a:pt x="363" y="4"/>
                            </a:lnTo>
                            <a:lnTo>
                              <a:pt x="367" y="11"/>
                            </a:lnTo>
                            <a:lnTo>
                              <a:pt x="374" y="20"/>
                            </a:lnTo>
                            <a:lnTo>
                              <a:pt x="382" y="32"/>
                            </a:lnTo>
                            <a:lnTo>
                              <a:pt x="366" y="55"/>
                            </a:lnTo>
                            <a:lnTo>
                              <a:pt x="349" y="65"/>
                            </a:lnTo>
                            <a:lnTo>
                              <a:pt x="329" y="73"/>
                            </a:lnTo>
                            <a:lnTo>
                              <a:pt x="310" y="80"/>
                            </a:lnTo>
                            <a:lnTo>
                              <a:pt x="288" y="86"/>
                            </a:lnTo>
                            <a:lnTo>
                              <a:pt x="266" y="91"/>
                            </a:lnTo>
                            <a:lnTo>
                              <a:pt x="243" y="94"/>
                            </a:lnTo>
                            <a:lnTo>
                              <a:pt x="219" y="96"/>
                            </a:lnTo>
                            <a:lnTo>
                              <a:pt x="196" y="96"/>
                            </a:lnTo>
                            <a:lnTo>
                              <a:pt x="172" y="96"/>
                            </a:lnTo>
                            <a:lnTo>
                              <a:pt x="147" y="95"/>
                            </a:lnTo>
                            <a:lnTo>
                              <a:pt x="124" y="92"/>
                            </a:lnTo>
                            <a:lnTo>
                              <a:pt x="101" y="88"/>
                            </a:lnTo>
                            <a:lnTo>
                              <a:pt x="78" y="84"/>
                            </a:lnTo>
                            <a:lnTo>
                              <a:pt x="58" y="79"/>
                            </a:lnTo>
                            <a:lnTo>
                              <a:pt x="37" y="72"/>
                            </a:lnTo>
                            <a:lnTo>
                              <a:pt x="18" y="65"/>
                            </a:lnTo>
                            <a:lnTo>
                              <a:pt x="12" y="56"/>
                            </a:lnTo>
                            <a:lnTo>
                              <a:pt x="6" y="47"/>
                            </a:lnTo>
                            <a:lnTo>
                              <a:pt x="2" y="38"/>
                            </a:lnTo>
                            <a:lnTo>
                              <a:pt x="0" y="28"/>
                            </a:lnTo>
                            <a:lnTo>
                              <a:pt x="0" y="20"/>
                            </a:lnTo>
                            <a:lnTo>
                              <a:pt x="5" y="13"/>
                            </a:lnTo>
                            <a:lnTo>
                              <a:pt x="12" y="8"/>
                            </a:lnTo>
                            <a:lnTo>
                              <a:pt x="24" y="4"/>
                            </a:lnTo>
                            <a:close/>
                          </a:path>
                        </a:pathLst>
                      </a:custGeom>
                      <a:solidFill>
                        <a:srgbClr val="17171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" name="Freeform 148"/>
                      <p:cNvSpPr/>
                      <p:nvPr/>
                    </p:nvSpPr>
                    <p:spPr>
                      <a:xfrm>
                        <a:off x="2744640" y="2965320"/>
                        <a:ext cx="79560" cy="29880"/>
                      </a:xfrm>
                      <a:custGeom>
                        <a:avLst/>
                        <a:gdLst>
                          <a:gd name="textAreaLeft" fmla="*/ 0 w 79560"/>
                          <a:gd name="textAreaRight" fmla="*/ 79920 w 79560"/>
                          <a:gd name="textAreaTop" fmla="*/ 0 h 29880"/>
                          <a:gd name="textAreaBottom" fmla="*/ 30240 h 29880"/>
                        </a:gdLst>
                        <a:ahLst/>
                        <a:rect l="textAreaLeft" t="textAreaTop" r="textAreaRight" b="textAreaBottom"/>
                        <a:pathLst>
                          <a:path w="483" h="184">
                            <a:moveTo>
                              <a:pt x="7" y="102"/>
                            </a:moveTo>
                            <a:lnTo>
                              <a:pt x="18" y="116"/>
                            </a:lnTo>
                            <a:lnTo>
                              <a:pt x="34" y="130"/>
                            </a:lnTo>
                            <a:lnTo>
                              <a:pt x="55" y="143"/>
                            </a:lnTo>
                            <a:lnTo>
                              <a:pt x="80" y="155"/>
                            </a:lnTo>
                            <a:lnTo>
                              <a:pt x="109" y="165"/>
                            </a:lnTo>
                            <a:lnTo>
                              <a:pt x="141" y="173"/>
                            </a:lnTo>
                            <a:lnTo>
                              <a:pt x="176" y="179"/>
                            </a:lnTo>
                            <a:lnTo>
                              <a:pt x="211" y="182"/>
                            </a:lnTo>
                            <a:lnTo>
                              <a:pt x="248" y="184"/>
                            </a:lnTo>
                            <a:lnTo>
                              <a:pt x="285" y="183"/>
                            </a:lnTo>
                            <a:lnTo>
                              <a:pt x="323" y="180"/>
                            </a:lnTo>
                            <a:lnTo>
                              <a:pt x="359" y="173"/>
                            </a:lnTo>
                            <a:lnTo>
                              <a:pt x="393" y="164"/>
                            </a:lnTo>
                            <a:lnTo>
                              <a:pt x="427" y="151"/>
                            </a:lnTo>
                            <a:lnTo>
                              <a:pt x="455" y="135"/>
                            </a:lnTo>
                            <a:lnTo>
                              <a:pt x="482" y="115"/>
                            </a:lnTo>
                            <a:lnTo>
                              <a:pt x="483" y="93"/>
                            </a:lnTo>
                            <a:lnTo>
                              <a:pt x="483" y="77"/>
                            </a:lnTo>
                            <a:lnTo>
                              <a:pt x="482" y="65"/>
                            </a:lnTo>
                            <a:lnTo>
                              <a:pt x="478" y="54"/>
                            </a:lnTo>
                            <a:lnTo>
                              <a:pt x="473" y="44"/>
                            </a:lnTo>
                            <a:lnTo>
                              <a:pt x="463" y="34"/>
                            </a:lnTo>
                            <a:lnTo>
                              <a:pt x="451" y="22"/>
                            </a:lnTo>
                            <a:lnTo>
                              <a:pt x="435" y="7"/>
                            </a:lnTo>
                            <a:lnTo>
                              <a:pt x="416" y="23"/>
                            </a:lnTo>
                            <a:lnTo>
                              <a:pt x="396" y="37"/>
                            </a:lnTo>
                            <a:lnTo>
                              <a:pt x="375" y="50"/>
                            </a:lnTo>
                            <a:lnTo>
                              <a:pt x="353" y="59"/>
                            </a:lnTo>
                            <a:lnTo>
                              <a:pt x="330" y="67"/>
                            </a:lnTo>
                            <a:lnTo>
                              <a:pt x="307" y="73"/>
                            </a:lnTo>
                            <a:lnTo>
                              <a:pt x="284" y="76"/>
                            </a:lnTo>
                            <a:lnTo>
                              <a:pt x="260" y="78"/>
                            </a:lnTo>
                            <a:lnTo>
                              <a:pt x="235" y="78"/>
                            </a:lnTo>
                            <a:lnTo>
                              <a:pt x="211" y="76"/>
                            </a:lnTo>
                            <a:lnTo>
                              <a:pt x="187" y="73"/>
                            </a:lnTo>
                            <a:lnTo>
                              <a:pt x="163" y="68"/>
                            </a:lnTo>
                            <a:lnTo>
                              <a:pt x="140" y="61"/>
                            </a:lnTo>
                            <a:lnTo>
                              <a:pt x="116" y="53"/>
                            </a:lnTo>
                            <a:lnTo>
                              <a:pt x="94" y="44"/>
                            </a:lnTo>
                            <a:lnTo>
                              <a:pt x="72" y="32"/>
                            </a:lnTo>
                            <a:lnTo>
                              <a:pt x="66" y="0"/>
                            </a:lnTo>
                            <a:lnTo>
                              <a:pt x="56" y="5"/>
                            </a:lnTo>
                            <a:lnTo>
                              <a:pt x="42" y="12"/>
                            </a:lnTo>
                            <a:lnTo>
                              <a:pt x="29" y="20"/>
                            </a:lnTo>
                            <a:lnTo>
                              <a:pt x="17" y="30"/>
                            </a:lnTo>
                            <a:lnTo>
                              <a:pt x="7" y="43"/>
                            </a:lnTo>
                            <a:lnTo>
                              <a:pt x="2" y="59"/>
                            </a:lnTo>
                            <a:lnTo>
                              <a:pt x="0" y="78"/>
                            </a:lnTo>
                            <a:lnTo>
                              <a:pt x="7" y="102"/>
                            </a:lnTo>
                            <a:close/>
                          </a:path>
                        </a:pathLst>
                      </a:custGeom>
                      <a:solidFill>
                        <a:srgbClr val="17171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Freeform 184"/>
                      <p:cNvSpPr/>
                      <p:nvPr/>
                    </p:nvSpPr>
                    <p:spPr>
                      <a:xfrm>
                        <a:off x="2778120" y="2832120"/>
                        <a:ext cx="15840" cy="10800"/>
                      </a:xfrm>
                      <a:custGeom>
                        <a:avLst/>
                        <a:gdLst>
                          <a:gd name="textAreaLeft" fmla="*/ 0 w 15840"/>
                          <a:gd name="textAreaRight" fmla="*/ 16200 w 15840"/>
                          <a:gd name="textAreaTop" fmla="*/ 0 h 10800"/>
                          <a:gd name="textAreaBottom" fmla="*/ 11160 h 10800"/>
                        </a:gdLst>
                        <a:ahLst/>
                        <a:rect l="textAreaLeft" t="textAreaTop" r="textAreaRight" b="textAreaBottom"/>
                        <a:pathLst>
                          <a:path w="95" h="72">
                            <a:moveTo>
                              <a:pt x="48" y="0"/>
                            </a:moveTo>
                            <a:lnTo>
                              <a:pt x="57" y="2"/>
                            </a:lnTo>
                            <a:lnTo>
                              <a:pt x="66" y="3"/>
                            </a:lnTo>
                            <a:lnTo>
                              <a:pt x="74" y="6"/>
                            </a:lnTo>
                            <a:lnTo>
                              <a:pt x="81" y="11"/>
                            </a:lnTo>
                            <a:lnTo>
                              <a:pt x="87" y="16"/>
                            </a:lnTo>
                            <a:lnTo>
                              <a:pt x="91" y="22"/>
                            </a:lnTo>
                            <a:lnTo>
                              <a:pt x="94" y="29"/>
                            </a:lnTo>
                            <a:lnTo>
                              <a:pt x="95" y="36"/>
                            </a:lnTo>
                            <a:lnTo>
                              <a:pt x="94" y="43"/>
                            </a:lnTo>
                            <a:lnTo>
                              <a:pt x="91" y="50"/>
                            </a:lnTo>
                            <a:lnTo>
                              <a:pt x="87" y="56"/>
                            </a:lnTo>
                            <a:lnTo>
                              <a:pt x="81" y="61"/>
                            </a:lnTo>
                            <a:lnTo>
                              <a:pt x="74" y="66"/>
                            </a:lnTo>
                            <a:lnTo>
                              <a:pt x="66" y="69"/>
                            </a:lnTo>
                            <a:lnTo>
                              <a:pt x="57" y="71"/>
                            </a:lnTo>
                            <a:lnTo>
                              <a:pt x="48" y="72"/>
                            </a:lnTo>
                            <a:lnTo>
                              <a:pt x="38" y="71"/>
                            </a:lnTo>
                            <a:lnTo>
                              <a:pt x="29" y="69"/>
                            </a:lnTo>
                            <a:lnTo>
                              <a:pt x="21" y="66"/>
                            </a:lnTo>
                            <a:lnTo>
                              <a:pt x="14" y="61"/>
                            </a:lnTo>
                            <a:lnTo>
                              <a:pt x="8" y="56"/>
                            </a:lnTo>
                            <a:lnTo>
                              <a:pt x="4" y="50"/>
                            </a:lnTo>
                            <a:lnTo>
                              <a:pt x="2" y="43"/>
                            </a:lnTo>
                            <a:lnTo>
                              <a:pt x="0" y="36"/>
                            </a:lnTo>
                            <a:lnTo>
                              <a:pt x="2" y="29"/>
                            </a:lnTo>
                            <a:lnTo>
                              <a:pt x="4" y="22"/>
                            </a:lnTo>
                            <a:lnTo>
                              <a:pt x="8" y="16"/>
                            </a:lnTo>
                            <a:lnTo>
                              <a:pt x="14" y="11"/>
                            </a:lnTo>
                            <a:lnTo>
                              <a:pt x="21" y="6"/>
                            </a:lnTo>
                            <a:lnTo>
                              <a:pt x="29" y="3"/>
                            </a:lnTo>
                            <a:lnTo>
                              <a:pt x="38" y="2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17171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0" name="Gruppe 813"/>
                    <p:cNvGrpSpPr/>
                    <p:nvPr/>
                  </p:nvGrpSpPr>
                  <p:grpSpPr>
                    <a:xfrm>
                      <a:off x="2752560" y="2820960"/>
                      <a:ext cx="66600" cy="177480"/>
                      <a:chOff x="2752560" y="2820960"/>
                      <a:chExt cx="66600" cy="177480"/>
                    </a:xfrm>
                  </p:grpSpPr>
                  <p:sp>
                    <p:nvSpPr>
                      <p:cNvPr id="181" name="Freeform 316"/>
                      <p:cNvSpPr/>
                      <p:nvPr/>
                    </p:nvSpPr>
                    <p:spPr>
                      <a:xfrm>
                        <a:off x="2768760" y="2872080"/>
                        <a:ext cx="35640" cy="5760"/>
                      </a:xfrm>
                      <a:custGeom>
                        <a:avLst/>
                        <a:gdLst>
                          <a:gd name="textAreaLeft" fmla="*/ 0 w 35640"/>
                          <a:gd name="textAreaRight" fmla="*/ 36000 w 35640"/>
                          <a:gd name="textAreaTop" fmla="*/ 0 h 5760"/>
                          <a:gd name="textAreaBottom" fmla="*/ 6120 h 5760"/>
                        </a:gdLst>
                        <a:ahLst/>
                        <a:rect l="textAreaLeft" t="textAreaTop" r="textAreaRight" b="textAreaBottom"/>
                        <a:pathLst>
                          <a:path w="230" h="41">
                            <a:moveTo>
                              <a:pt x="13" y="0"/>
                            </a:moveTo>
                            <a:lnTo>
                              <a:pt x="26" y="6"/>
                            </a:lnTo>
                            <a:lnTo>
                              <a:pt x="39" y="13"/>
                            </a:lnTo>
                            <a:lnTo>
                              <a:pt x="52" y="16"/>
                            </a:lnTo>
                            <a:lnTo>
                              <a:pt x="65" y="19"/>
                            </a:lnTo>
                            <a:lnTo>
                              <a:pt x="78" y="22"/>
                            </a:lnTo>
                            <a:lnTo>
                              <a:pt x="93" y="23"/>
                            </a:lnTo>
                            <a:lnTo>
                              <a:pt x="106" y="24"/>
                            </a:lnTo>
                            <a:lnTo>
                              <a:pt x="120" y="23"/>
                            </a:lnTo>
                            <a:lnTo>
                              <a:pt x="134" y="22"/>
                            </a:lnTo>
                            <a:lnTo>
                              <a:pt x="147" y="20"/>
                            </a:lnTo>
                            <a:lnTo>
                              <a:pt x="161" y="18"/>
                            </a:lnTo>
                            <a:lnTo>
                              <a:pt x="176" y="15"/>
                            </a:lnTo>
                            <a:lnTo>
                              <a:pt x="189" y="13"/>
                            </a:lnTo>
                            <a:lnTo>
                              <a:pt x="203" y="9"/>
                            </a:lnTo>
                            <a:lnTo>
                              <a:pt x="216" y="6"/>
                            </a:lnTo>
                            <a:lnTo>
                              <a:pt x="230" y="2"/>
                            </a:lnTo>
                            <a:lnTo>
                              <a:pt x="230" y="15"/>
                            </a:lnTo>
                            <a:lnTo>
                              <a:pt x="221" y="19"/>
                            </a:lnTo>
                            <a:lnTo>
                              <a:pt x="212" y="23"/>
                            </a:lnTo>
                            <a:lnTo>
                              <a:pt x="200" y="27"/>
                            </a:lnTo>
                            <a:lnTo>
                              <a:pt x="189" y="29"/>
                            </a:lnTo>
                            <a:lnTo>
                              <a:pt x="174" y="33"/>
                            </a:lnTo>
                            <a:lnTo>
                              <a:pt x="161" y="36"/>
                            </a:lnTo>
                            <a:lnTo>
                              <a:pt x="146" y="39"/>
                            </a:lnTo>
                            <a:lnTo>
                              <a:pt x="132" y="41"/>
                            </a:lnTo>
                            <a:lnTo>
                              <a:pt x="115" y="41"/>
                            </a:lnTo>
                            <a:lnTo>
                              <a:pt x="99" y="41"/>
                            </a:lnTo>
                            <a:lnTo>
                              <a:pt x="82" y="40"/>
                            </a:lnTo>
                            <a:lnTo>
                              <a:pt x="65" y="37"/>
                            </a:lnTo>
                            <a:lnTo>
                              <a:pt x="50" y="32"/>
                            </a:lnTo>
                            <a:lnTo>
                              <a:pt x="33" y="27"/>
                            </a:lnTo>
                            <a:lnTo>
                              <a:pt x="16" y="19"/>
                            </a:lnTo>
                            <a:lnTo>
                              <a:pt x="0" y="9"/>
                            </a:lnTo>
                            <a:lnTo>
                              <a:pt x="13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9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" name="Freeform 330"/>
                      <p:cNvSpPr/>
                      <p:nvPr/>
                    </p:nvSpPr>
                    <p:spPr>
                      <a:xfrm>
                        <a:off x="2752560" y="2954520"/>
                        <a:ext cx="66600" cy="15840"/>
                      </a:xfrm>
                      <a:custGeom>
                        <a:avLst/>
                        <a:gdLst>
                          <a:gd name="textAreaLeft" fmla="*/ 0 w 66600"/>
                          <a:gd name="textAreaRight" fmla="*/ 66960 w 66600"/>
                          <a:gd name="textAreaTop" fmla="*/ 0 h 15840"/>
                          <a:gd name="textAreaBottom" fmla="*/ 16200 h 15840"/>
                        </a:gdLst>
                        <a:ahLst/>
                        <a:rect l="textAreaLeft" t="textAreaTop" r="textAreaRight" b="textAreaBottom"/>
                        <a:pathLst>
                          <a:path w="431" h="109">
                            <a:moveTo>
                              <a:pt x="27" y="5"/>
                            </a:moveTo>
                            <a:lnTo>
                              <a:pt x="77" y="45"/>
                            </a:lnTo>
                            <a:lnTo>
                              <a:pt x="100" y="51"/>
                            </a:lnTo>
                            <a:lnTo>
                              <a:pt x="122" y="54"/>
                            </a:lnTo>
                            <a:lnTo>
                              <a:pt x="143" y="60"/>
                            </a:lnTo>
                            <a:lnTo>
                              <a:pt x="162" y="62"/>
                            </a:lnTo>
                            <a:lnTo>
                              <a:pt x="180" y="65"/>
                            </a:lnTo>
                            <a:lnTo>
                              <a:pt x="199" y="67"/>
                            </a:lnTo>
                            <a:lnTo>
                              <a:pt x="217" y="67"/>
                            </a:lnTo>
                            <a:lnTo>
                              <a:pt x="234" y="67"/>
                            </a:lnTo>
                            <a:lnTo>
                              <a:pt x="251" y="66"/>
                            </a:lnTo>
                            <a:lnTo>
                              <a:pt x="267" y="65"/>
                            </a:lnTo>
                            <a:lnTo>
                              <a:pt x="286" y="61"/>
                            </a:lnTo>
                            <a:lnTo>
                              <a:pt x="304" y="57"/>
                            </a:lnTo>
                            <a:lnTo>
                              <a:pt x="322" y="52"/>
                            </a:lnTo>
                            <a:lnTo>
                              <a:pt x="343" y="44"/>
                            </a:lnTo>
                            <a:lnTo>
                              <a:pt x="363" y="36"/>
                            </a:lnTo>
                            <a:lnTo>
                              <a:pt x="386" y="26"/>
                            </a:lnTo>
                            <a:lnTo>
                              <a:pt x="392" y="12"/>
                            </a:lnTo>
                            <a:lnTo>
                              <a:pt x="397" y="4"/>
                            </a:lnTo>
                            <a:lnTo>
                              <a:pt x="401" y="0"/>
                            </a:lnTo>
                            <a:lnTo>
                              <a:pt x="405" y="1"/>
                            </a:lnTo>
                            <a:lnTo>
                              <a:pt x="409" y="5"/>
                            </a:lnTo>
                            <a:lnTo>
                              <a:pt x="414" y="13"/>
                            </a:lnTo>
                            <a:lnTo>
                              <a:pt x="422" y="23"/>
                            </a:lnTo>
                            <a:lnTo>
                              <a:pt x="431" y="36"/>
                            </a:lnTo>
                            <a:lnTo>
                              <a:pt x="413" y="62"/>
                            </a:lnTo>
                            <a:lnTo>
                              <a:pt x="393" y="74"/>
                            </a:lnTo>
                            <a:lnTo>
                              <a:pt x="371" y="83"/>
                            </a:lnTo>
                            <a:lnTo>
                              <a:pt x="349" y="91"/>
                            </a:lnTo>
                            <a:lnTo>
                              <a:pt x="325" y="97"/>
                            </a:lnTo>
                            <a:lnTo>
                              <a:pt x="300" y="103"/>
                            </a:lnTo>
                            <a:lnTo>
                              <a:pt x="274" y="106"/>
                            </a:lnTo>
                            <a:lnTo>
                              <a:pt x="247" y="109"/>
                            </a:lnTo>
                            <a:lnTo>
                              <a:pt x="221" y="109"/>
                            </a:lnTo>
                            <a:lnTo>
                              <a:pt x="193" y="109"/>
                            </a:lnTo>
                            <a:lnTo>
                              <a:pt x="166" y="108"/>
                            </a:lnTo>
                            <a:lnTo>
                              <a:pt x="140" y="104"/>
                            </a:lnTo>
                            <a:lnTo>
                              <a:pt x="114" y="100"/>
                            </a:lnTo>
                            <a:lnTo>
                              <a:pt x="88" y="95"/>
                            </a:lnTo>
                            <a:lnTo>
                              <a:pt x="65" y="90"/>
                            </a:lnTo>
                            <a:lnTo>
                              <a:pt x="42" y="82"/>
                            </a:lnTo>
                            <a:lnTo>
                              <a:pt x="21" y="74"/>
                            </a:lnTo>
                            <a:lnTo>
                              <a:pt x="13" y="64"/>
                            </a:lnTo>
                            <a:lnTo>
                              <a:pt x="7" y="53"/>
                            </a:lnTo>
                            <a:lnTo>
                              <a:pt x="3" y="43"/>
                            </a:lnTo>
                            <a:lnTo>
                              <a:pt x="0" y="32"/>
                            </a:lnTo>
                            <a:lnTo>
                              <a:pt x="0" y="23"/>
                            </a:lnTo>
                            <a:lnTo>
                              <a:pt x="5" y="16"/>
                            </a:lnTo>
                            <a:lnTo>
                              <a:pt x="13" y="9"/>
                            </a:lnTo>
                            <a:lnTo>
                              <a:pt x="27" y="5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9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" name="Freeform 336"/>
                      <p:cNvSpPr/>
                      <p:nvPr/>
                    </p:nvSpPr>
                    <p:spPr>
                      <a:xfrm>
                        <a:off x="2764800" y="2988000"/>
                        <a:ext cx="47880" cy="10440"/>
                      </a:xfrm>
                      <a:custGeom>
                        <a:avLst/>
                        <a:gdLst>
                          <a:gd name="textAreaLeft" fmla="*/ 0 w 47880"/>
                          <a:gd name="textAreaRight" fmla="*/ 48240 w 47880"/>
                          <a:gd name="textAreaTop" fmla="*/ 0 h 10440"/>
                          <a:gd name="textAreaBottom" fmla="*/ 10800 h 10440"/>
                        </a:gdLst>
                        <a:ahLst/>
                        <a:rect l="textAreaLeft" t="textAreaTop" r="textAreaRight" b="textAreaBottom"/>
                        <a:pathLst>
                          <a:path w="309" h="72">
                            <a:moveTo>
                              <a:pt x="0" y="29"/>
                            </a:moveTo>
                            <a:lnTo>
                              <a:pt x="3" y="37"/>
                            </a:lnTo>
                            <a:lnTo>
                              <a:pt x="7" y="45"/>
                            </a:lnTo>
                            <a:lnTo>
                              <a:pt x="11" y="53"/>
                            </a:lnTo>
                            <a:lnTo>
                              <a:pt x="15" y="61"/>
                            </a:lnTo>
                            <a:lnTo>
                              <a:pt x="22" y="62"/>
                            </a:lnTo>
                            <a:lnTo>
                              <a:pt x="29" y="63"/>
                            </a:lnTo>
                            <a:lnTo>
                              <a:pt x="37" y="65"/>
                            </a:lnTo>
                            <a:lnTo>
                              <a:pt x="44" y="66"/>
                            </a:lnTo>
                            <a:lnTo>
                              <a:pt x="51" y="67"/>
                            </a:lnTo>
                            <a:lnTo>
                              <a:pt x="59" y="68"/>
                            </a:lnTo>
                            <a:lnTo>
                              <a:pt x="65" y="71"/>
                            </a:lnTo>
                            <a:lnTo>
                              <a:pt x="73" y="72"/>
                            </a:lnTo>
                            <a:lnTo>
                              <a:pt x="91" y="72"/>
                            </a:lnTo>
                            <a:lnTo>
                              <a:pt x="109" y="71"/>
                            </a:lnTo>
                            <a:lnTo>
                              <a:pt x="127" y="71"/>
                            </a:lnTo>
                            <a:lnTo>
                              <a:pt x="146" y="70"/>
                            </a:lnTo>
                            <a:lnTo>
                              <a:pt x="164" y="70"/>
                            </a:lnTo>
                            <a:lnTo>
                              <a:pt x="183" y="68"/>
                            </a:lnTo>
                            <a:lnTo>
                              <a:pt x="201" y="68"/>
                            </a:lnTo>
                            <a:lnTo>
                              <a:pt x="220" y="67"/>
                            </a:lnTo>
                            <a:lnTo>
                              <a:pt x="231" y="65"/>
                            </a:lnTo>
                            <a:lnTo>
                              <a:pt x="242" y="61"/>
                            </a:lnTo>
                            <a:lnTo>
                              <a:pt x="253" y="58"/>
                            </a:lnTo>
                            <a:lnTo>
                              <a:pt x="265" y="54"/>
                            </a:lnTo>
                            <a:lnTo>
                              <a:pt x="275" y="52"/>
                            </a:lnTo>
                            <a:lnTo>
                              <a:pt x="287" y="48"/>
                            </a:lnTo>
                            <a:lnTo>
                              <a:pt x="297" y="45"/>
                            </a:lnTo>
                            <a:lnTo>
                              <a:pt x="309" y="41"/>
                            </a:lnTo>
                            <a:lnTo>
                              <a:pt x="309" y="26"/>
                            </a:lnTo>
                            <a:lnTo>
                              <a:pt x="307" y="13"/>
                            </a:lnTo>
                            <a:lnTo>
                              <a:pt x="303" y="5"/>
                            </a:lnTo>
                            <a:lnTo>
                              <a:pt x="297" y="1"/>
                            </a:lnTo>
                            <a:lnTo>
                              <a:pt x="290" y="0"/>
                            </a:lnTo>
                            <a:lnTo>
                              <a:pt x="279" y="0"/>
                            </a:lnTo>
                            <a:lnTo>
                              <a:pt x="268" y="4"/>
                            </a:lnTo>
                            <a:lnTo>
                              <a:pt x="252" y="9"/>
                            </a:lnTo>
                            <a:lnTo>
                              <a:pt x="242" y="9"/>
                            </a:lnTo>
                            <a:lnTo>
                              <a:pt x="231" y="10"/>
                            </a:lnTo>
                            <a:lnTo>
                              <a:pt x="221" y="10"/>
                            </a:lnTo>
                            <a:lnTo>
                              <a:pt x="211" y="10"/>
                            </a:lnTo>
                            <a:lnTo>
                              <a:pt x="200" y="10"/>
                            </a:lnTo>
                            <a:lnTo>
                              <a:pt x="188" y="10"/>
                            </a:lnTo>
                            <a:lnTo>
                              <a:pt x="178" y="11"/>
                            </a:lnTo>
                            <a:lnTo>
                              <a:pt x="168" y="11"/>
                            </a:lnTo>
                            <a:lnTo>
                              <a:pt x="140" y="10"/>
                            </a:lnTo>
                            <a:lnTo>
                              <a:pt x="116" y="9"/>
                            </a:lnTo>
                            <a:lnTo>
                              <a:pt x="96" y="6"/>
                            </a:lnTo>
                            <a:lnTo>
                              <a:pt x="77" y="5"/>
                            </a:lnTo>
                            <a:lnTo>
                              <a:pt x="60" y="6"/>
                            </a:lnTo>
                            <a:lnTo>
                              <a:pt x="42" y="9"/>
                            </a:lnTo>
                            <a:lnTo>
                              <a:pt x="22" y="16"/>
                            </a:lnTo>
                            <a:lnTo>
                              <a:pt x="0" y="29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9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" name="Freeform 353"/>
                      <p:cNvSpPr/>
                      <p:nvPr/>
                    </p:nvSpPr>
                    <p:spPr>
                      <a:xfrm>
                        <a:off x="2779560" y="2893680"/>
                        <a:ext cx="17280" cy="3600"/>
                      </a:xfrm>
                      <a:custGeom>
                        <a:avLst/>
                        <a:gdLst>
                          <a:gd name="textAreaLeft" fmla="*/ 0 w 17280"/>
                          <a:gd name="textAreaRight" fmla="*/ 17640 w 17280"/>
                          <a:gd name="textAreaTop" fmla="*/ 0 h 3600"/>
                          <a:gd name="textAreaBottom" fmla="*/ 3960 h 3600"/>
                        </a:gdLst>
                        <a:ahLst/>
                        <a:rect l="textAreaLeft" t="textAreaTop" r="textAreaRight" b="textAreaBottom"/>
                        <a:pathLst>
                          <a:path w="112" h="25">
                            <a:moveTo>
                              <a:pt x="0" y="11"/>
                            </a:moveTo>
                            <a:lnTo>
                              <a:pt x="5" y="17"/>
                            </a:lnTo>
                            <a:lnTo>
                              <a:pt x="26" y="25"/>
                            </a:lnTo>
                            <a:lnTo>
                              <a:pt x="80" y="20"/>
                            </a:lnTo>
                            <a:lnTo>
                              <a:pt x="112" y="13"/>
                            </a:lnTo>
                            <a:lnTo>
                              <a:pt x="110" y="4"/>
                            </a:lnTo>
                            <a:lnTo>
                              <a:pt x="108" y="0"/>
                            </a:lnTo>
                            <a:lnTo>
                              <a:pt x="103" y="2"/>
                            </a:lnTo>
                            <a:lnTo>
                              <a:pt x="92" y="4"/>
                            </a:lnTo>
                            <a:lnTo>
                              <a:pt x="61" y="6"/>
                            </a:lnTo>
                            <a:lnTo>
                              <a:pt x="51" y="6"/>
                            </a:lnTo>
                            <a:lnTo>
                              <a:pt x="43" y="4"/>
                            </a:lnTo>
                            <a:lnTo>
                              <a:pt x="35" y="4"/>
                            </a:lnTo>
                            <a:lnTo>
                              <a:pt x="29" y="3"/>
                            </a:lnTo>
                            <a:lnTo>
                              <a:pt x="22" y="3"/>
                            </a:lnTo>
                            <a:lnTo>
                              <a:pt x="14" y="4"/>
                            </a:lnTo>
                            <a:lnTo>
                              <a:pt x="8" y="7"/>
                            </a:lnTo>
                            <a:lnTo>
                              <a:pt x="0" y="11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9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" name="Freeform 367"/>
                      <p:cNvSpPr/>
                      <p:nvPr/>
                    </p:nvSpPr>
                    <p:spPr>
                      <a:xfrm>
                        <a:off x="2779560" y="2820960"/>
                        <a:ext cx="16200" cy="11520"/>
                      </a:xfrm>
                      <a:custGeom>
                        <a:avLst/>
                        <a:gdLst>
                          <a:gd name="textAreaLeft" fmla="*/ 0 w 16200"/>
                          <a:gd name="textAreaRight" fmla="*/ 16560 w 16200"/>
                          <a:gd name="textAreaTop" fmla="*/ 0 h 11520"/>
                          <a:gd name="textAreaBottom" fmla="*/ 11880 h 11520"/>
                        </a:gdLst>
                        <a:ahLst/>
                        <a:rect l="textAreaLeft" t="textAreaTop" r="textAreaRight" b="textAreaBottom"/>
                        <a:pathLst>
                          <a:path w="106" h="80">
                            <a:moveTo>
                              <a:pt x="53" y="0"/>
                            </a:moveTo>
                            <a:lnTo>
                              <a:pt x="64" y="1"/>
                            </a:lnTo>
                            <a:lnTo>
                              <a:pt x="74" y="2"/>
                            </a:lnTo>
                            <a:lnTo>
                              <a:pt x="83" y="6"/>
                            </a:lnTo>
                            <a:lnTo>
                              <a:pt x="91" y="11"/>
                            </a:lnTo>
                            <a:lnTo>
                              <a:pt x="97" y="18"/>
                            </a:lnTo>
                            <a:lnTo>
                              <a:pt x="103" y="24"/>
                            </a:lnTo>
                            <a:lnTo>
                              <a:pt x="105" y="32"/>
                            </a:lnTo>
                            <a:lnTo>
                              <a:pt x="106" y="40"/>
                            </a:lnTo>
                            <a:lnTo>
                              <a:pt x="105" y="48"/>
                            </a:lnTo>
                            <a:lnTo>
                              <a:pt x="103" y="55"/>
                            </a:lnTo>
                            <a:lnTo>
                              <a:pt x="97" y="62"/>
                            </a:lnTo>
                            <a:lnTo>
                              <a:pt x="91" y="68"/>
                            </a:lnTo>
                            <a:lnTo>
                              <a:pt x="83" y="74"/>
                            </a:lnTo>
                            <a:lnTo>
                              <a:pt x="74" y="78"/>
                            </a:lnTo>
                            <a:lnTo>
                              <a:pt x="64" y="79"/>
                            </a:lnTo>
                            <a:lnTo>
                              <a:pt x="53" y="80"/>
                            </a:lnTo>
                            <a:lnTo>
                              <a:pt x="43" y="79"/>
                            </a:lnTo>
                            <a:lnTo>
                              <a:pt x="32" y="78"/>
                            </a:lnTo>
                            <a:lnTo>
                              <a:pt x="23" y="74"/>
                            </a:lnTo>
                            <a:lnTo>
                              <a:pt x="16" y="68"/>
                            </a:lnTo>
                            <a:lnTo>
                              <a:pt x="9" y="62"/>
                            </a:lnTo>
                            <a:lnTo>
                              <a:pt x="4" y="55"/>
                            </a:lnTo>
                            <a:lnTo>
                              <a:pt x="1" y="48"/>
                            </a:lnTo>
                            <a:lnTo>
                              <a:pt x="0" y="40"/>
                            </a:lnTo>
                            <a:lnTo>
                              <a:pt x="1" y="32"/>
                            </a:lnTo>
                            <a:lnTo>
                              <a:pt x="4" y="24"/>
                            </a:lnTo>
                            <a:lnTo>
                              <a:pt x="9" y="18"/>
                            </a:lnTo>
                            <a:lnTo>
                              <a:pt x="16" y="11"/>
                            </a:lnTo>
                            <a:lnTo>
                              <a:pt x="23" y="6"/>
                            </a:lnTo>
                            <a:lnTo>
                              <a:pt x="32" y="2"/>
                            </a:lnTo>
                            <a:lnTo>
                              <a:pt x="43" y="1"/>
                            </a:lnTo>
                            <a:lnTo>
                              <a:pt x="53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9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86" name="Ellipse 390"/>
                  <p:cNvSpPr/>
                  <p:nvPr/>
                </p:nvSpPr>
                <p:spPr>
                  <a:xfrm>
                    <a:off x="2733480" y="2991600"/>
                    <a:ext cx="118080" cy="31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uppe 943"/>
                <p:cNvGrpSpPr/>
                <p:nvPr/>
              </p:nvGrpSpPr>
              <p:grpSpPr>
                <a:xfrm>
                  <a:off x="2763720" y="2767320"/>
                  <a:ext cx="45360" cy="86760"/>
                  <a:chOff x="2763720" y="2767320"/>
                  <a:chExt cx="45360" cy="86760"/>
                </a:xfrm>
              </p:grpSpPr>
              <p:grpSp>
                <p:nvGrpSpPr>
                  <p:cNvPr id="188" name="Gruppe 916"/>
                  <p:cNvGrpSpPr/>
                  <p:nvPr/>
                </p:nvGrpSpPr>
                <p:grpSpPr>
                  <a:xfrm>
                    <a:off x="2763720" y="2778480"/>
                    <a:ext cx="45360" cy="75600"/>
                    <a:chOff x="2763720" y="2778480"/>
                    <a:chExt cx="45360" cy="75600"/>
                  </a:xfrm>
                </p:grpSpPr>
                <p:sp>
                  <p:nvSpPr>
                    <p:cNvPr id="189" name="Freeform 384"/>
                    <p:cNvSpPr/>
                    <p:nvPr/>
                  </p:nvSpPr>
                  <p:spPr>
                    <a:xfrm>
                      <a:off x="2763720" y="2778480"/>
                      <a:ext cx="45360" cy="7560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75600"/>
                        <a:gd name="textAreaBottom" fmla="*/ 75960 h 75600"/>
                      </a:gdLst>
                      <a:ahLst/>
                      <a:rect l="textAreaLeft" t="textAreaTop" r="textAreaRight" b="textAreaBottom"/>
                      <a:pathLst>
                        <a:path w="784" h="1712">
                          <a:moveTo>
                            <a:pt x="406" y="0"/>
                          </a:moveTo>
                          <a:lnTo>
                            <a:pt x="406" y="0"/>
                          </a:lnTo>
                          <a:lnTo>
                            <a:pt x="364" y="46"/>
                          </a:lnTo>
                          <a:lnTo>
                            <a:pt x="324" y="90"/>
                          </a:lnTo>
                          <a:lnTo>
                            <a:pt x="288" y="136"/>
                          </a:lnTo>
                          <a:lnTo>
                            <a:pt x="254" y="180"/>
                          </a:lnTo>
                          <a:lnTo>
                            <a:pt x="222" y="224"/>
                          </a:lnTo>
                          <a:lnTo>
                            <a:pt x="192" y="268"/>
                          </a:lnTo>
                          <a:lnTo>
                            <a:pt x="166" y="312"/>
                          </a:lnTo>
                          <a:lnTo>
                            <a:pt x="142" y="354"/>
                          </a:lnTo>
                          <a:lnTo>
                            <a:pt x="146" y="352"/>
                          </a:lnTo>
                          <a:lnTo>
                            <a:pt x="152" y="350"/>
                          </a:lnTo>
                          <a:lnTo>
                            <a:pt x="156" y="352"/>
                          </a:lnTo>
                          <a:lnTo>
                            <a:pt x="162" y="356"/>
                          </a:lnTo>
                          <a:lnTo>
                            <a:pt x="168" y="362"/>
                          </a:lnTo>
                          <a:lnTo>
                            <a:pt x="178" y="378"/>
                          </a:lnTo>
                          <a:lnTo>
                            <a:pt x="190" y="400"/>
                          </a:lnTo>
                          <a:lnTo>
                            <a:pt x="200" y="428"/>
                          </a:lnTo>
                          <a:lnTo>
                            <a:pt x="212" y="460"/>
                          </a:lnTo>
                          <a:lnTo>
                            <a:pt x="232" y="530"/>
                          </a:lnTo>
                          <a:lnTo>
                            <a:pt x="248" y="602"/>
                          </a:lnTo>
                          <a:lnTo>
                            <a:pt x="262" y="666"/>
                          </a:lnTo>
                          <a:lnTo>
                            <a:pt x="274" y="728"/>
                          </a:lnTo>
                          <a:lnTo>
                            <a:pt x="246" y="682"/>
                          </a:lnTo>
                          <a:lnTo>
                            <a:pt x="232" y="664"/>
                          </a:lnTo>
                          <a:lnTo>
                            <a:pt x="220" y="648"/>
                          </a:lnTo>
                          <a:lnTo>
                            <a:pt x="208" y="634"/>
                          </a:lnTo>
                          <a:lnTo>
                            <a:pt x="194" y="622"/>
                          </a:lnTo>
                          <a:lnTo>
                            <a:pt x="182" y="612"/>
                          </a:lnTo>
                          <a:lnTo>
                            <a:pt x="172" y="604"/>
                          </a:lnTo>
                          <a:lnTo>
                            <a:pt x="160" y="598"/>
                          </a:lnTo>
                          <a:lnTo>
                            <a:pt x="150" y="594"/>
                          </a:lnTo>
                          <a:lnTo>
                            <a:pt x="138" y="592"/>
                          </a:lnTo>
                          <a:lnTo>
                            <a:pt x="128" y="590"/>
                          </a:lnTo>
                          <a:lnTo>
                            <a:pt x="120" y="590"/>
                          </a:lnTo>
                          <a:lnTo>
                            <a:pt x="110" y="592"/>
                          </a:lnTo>
                          <a:lnTo>
                            <a:pt x="94" y="598"/>
                          </a:lnTo>
                          <a:lnTo>
                            <a:pt x="78" y="606"/>
                          </a:lnTo>
                          <a:lnTo>
                            <a:pt x="64" y="618"/>
                          </a:lnTo>
                          <a:lnTo>
                            <a:pt x="52" y="630"/>
                          </a:lnTo>
                          <a:lnTo>
                            <a:pt x="44" y="642"/>
                          </a:lnTo>
                          <a:lnTo>
                            <a:pt x="30" y="664"/>
                          </a:lnTo>
                          <a:lnTo>
                            <a:pt x="26" y="672"/>
                          </a:lnTo>
                          <a:lnTo>
                            <a:pt x="26" y="650"/>
                          </a:lnTo>
                          <a:lnTo>
                            <a:pt x="14" y="708"/>
                          </a:lnTo>
                          <a:lnTo>
                            <a:pt x="6" y="766"/>
                          </a:lnTo>
                          <a:lnTo>
                            <a:pt x="0" y="822"/>
                          </a:lnTo>
                          <a:lnTo>
                            <a:pt x="0" y="876"/>
                          </a:lnTo>
                          <a:lnTo>
                            <a:pt x="0" y="930"/>
                          </a:lnTo>
                          <a:lnTo>
                            <a:pt x="6" y="982"/>
                          </a:lnTo>
                          <a:lnTo>
                            <a:pt x="12" y="1032"/>
                          </a:lnTo>
                          <a:lnTo>
                            <a:pt x="22" y="1082"/>
                          </a:lnTo>
                          <a:lnTo>
                            <a:pt x="34" y="1130"/>
                          </a:lnTo>
                          <a:lnTo>
                            <a:pt x="48" y="1176"/>
                          </a:lnTo>
                          <a:lnTo>
                            <a:pt x="64" y="1220"/>
                          </a:lnTo>
                          <a:lnTo>
                            <a:pt x="80" y="1262"/>
                          </a:lnTo>
                          <a:lnTo>
                            <a:pt x="98" y="1304"/>
                          </a:lnTo>
                          <a:lnTo>
                            <a:pt x="118" y="1344"/>
                          </a:lnTo>
                          <a:lnTo>
                            <a:pt x="138" y="1382"/>
                          </a:lnTo>
                          <a:lnTo>
                            <a:pt x="160" y="1418"/>
                          </a:lnTo>
                          <a:lnTo>
                            <a:pt x="182" y="1452"/>
                          </a:lnTo>
                          <a:lnTo>
                            <a:pt x="202" y="1484"/>
                          </a:lnTo>
                          <a:lnTo>
                            <a:pt x="246" y="1542"/>
                          </a:lnTo>
                          <a:lnTo>
                            <a:pt x="288" y="1592"/>
                          </a:lnTo>
                          <a:lnTo>
                            <a:pt x="326" y="1634"/>
                          </a:lnTo>
                          <a:lnTo>
                            <a:pt x="358" y="1668"/>
                          </a:lnTo>
                          <a:lnTo>
                            <a:pt x="382" y="1692"/>
                          </a:lnTo>
                          <a:lnTo>
                            <a:pt x="406" y="1712"/>
                          </a:lnTo>
                          <a:lnTo>
                            <a:pt x="444" y="1678"/>
                          </a:lnTo>
                          <a:lnTo>
                            <a:pt x="480" y="1644"/>
                          </a:lnTo>
                          <a:lnTo>
                            <a:pt x="514" y="1610"/>
                          </a:lnTo>
                          <a:lnTo>
                            <a:pt x="546" y="1574"/>
                          </a:lnTo>
                          <a:lnTo>
                            <a:pt x="574" y="1540"/>
                          </a:lnTo>
                          <a:lnTo>
                            <a:pt x="602" y="1504"/>
                          </a:lnTo>
                          <a:lnTo>
                            <a:pt x="626" y="1468"/>
                          </a:lnTo>
                          <a:lnTo>
                            <a:pt x="650" y="1434"/>
                          </a:lnTo>
                          <a:lnTo>
                            <a:pt x="670" y="1398"/>
                          </a:lnTo>
                          <a:lnTo>
                            <a:pt x="690" y="1362"/>
                          </a:lnTo>
                          <a:lnTo>
                            <a:pt x="706" y="1324"/>
                          </a:lnTo>
                          <a:lnTo>
                            <a:pt x="722" y="1288"/>
                          </a:lnTo>
                          <a:lnTo>
                            <a:pt x="734" y="1252"/>
                          </a:lnTo>
                          <a:lnTo>
                            <a:pt x="746" y="1216"/>
                          </a:lnTo>
                          <a:lnTo>
                            <a:pt x="756" y="1180"/>
                          </a:lnTo>
                          <a:lnTo>
                            <a:pt x="764" y="1142"/>
                          </a:lnTo>
                          <a:lnTo>
                            <a:pt x="770" y="1106"/>
                          </a:lnTo>
                          <a:lnTo>
                            <a:pt x="776" y="1070"/>
                          </a:lnTo>
                          <a:lnTo>
                            <a:pt x="780" y="1034"/>
                          </a:lnTo>
                          <a:lnTo>
                            <a:pt x="782" y="998"/>
                          </a:lnTo>
                          <a:lnTo>
                            <a:pt x="784" y="962"/>
                          </a:lnTo>
                          <a:lnTo>
                            <a:pt x="784" y="926"/>
                          </a:lnTo>
                          <a:lnTo>
                            <a:pt x="780" y="856"/>
                          </a:lnTo>
                          <a:lnTo>
                            <a:pt x="770" y="786"/>
                          </a:lnTo>
                          <a:lnTo>
                            <a:pt x="758" y="718"/>
                          </a:lnTo>
                          <a:lnTo>
                            <a:pt x="742" y="652"/>
                          </a:lnTo>
                          <a:lnTo>
                            <a:pt x="724" y="588"/>
                          </a:lnTo>
                          <a:lnTo>
                            <a:pt x="704" y="526"/>
                          </a:lnTo>
                          <a:lnTo>
                            <a:pt x="680" y="466"/>
                          </a:lnTo>
                          <a:lnTo>
                            <a:pt x="656" y="408"/>
                          </a:lnTo>
                          <a:lnTo>
                            <a:pt x="630" y="354"/>
                          </a:lnTo>
                          <a:lnTo>
                            <a:pt x="604" y="302"/>
                          </a:lnTo>
                          <a:lnTo>
                            <a:pt x="576" y="254"/>
                          </a:lnTo>
                          <a:lnTo>
                            <a:pt x="550" y="208"/>
                          </a:lnTo>
                          <a:lnTo>
                            <a:pt x="524" y="166"/>
                          </a:lnTo>
                          <a:lnTo>
                            <a:pt x="478" y="96"/>
                          </a:lnTo>
                          <a:lnTo>
                            <a:pt x="440" y="44"/>
                          </a:lnTo>
                          <a:lnTo>
                            <a:pt x="406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80808"/>
                        </a:gs>
                        <a:gs pos="100000">
                          <a:srgbClr val="e6e6e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Freeform 385"/>
                    <p:cNvSpPr/>
                    <p:nvPr/>
                  </p:nvSpPr>
                  <p:spPr>
                    <a:xfrm>
                      <a:off x="2763720" y="2792520"/>
                      <a:ext cx="15480" cy="1872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8720"/>
                        <a:gd name="textAreaBottom" fmla="*/ 19080 h 18720"/>
                      </a:gdLst>
                      <a:ahLst/>
                      <a:rect l="textAreaLeft" t="textAreaTop" r="textAreaRight" b="textAreaBottom"/>
                      <a:pathLst>
                        <a:path w="248" h="378">
                          <a:moveTo>
                            <a:pt x="248" y="378"/>
                          </a:moveTo>
                          <a:lnTo>
                            <a:pt x="248" y="378"/>
                          </a:lnTo>
                          <a:lnTo>
                            <a:pt x="236" y="316"/>
                          </a:lnTo>
                          <a:lnTo>
                            <a:pt x="222" y="252"/>
                          </a:lnTo>
                          <a:lnTo>
                            <a:pt x="206" y="180"/>
                          </a:lnTo>
                          <a:lnTo>
                            <a:pt x="186" y="110"/>
                          </a:lnTo>
                          <a:lnTo>
                            <a:pt x="174" y="78"/>
                          </a:lnTo>
                          <a:lnTo>
                            <a:pt x="164" y="50"/>
                          </a:lnTo>
                          <a:lnTo>
                            <a:pt x="152" y="28"/>
                          </a:lnTo>
                          <a:lnTo>
                            <a:pt x="142" y="12"/>
                          </a:lnTo>
                          <a:lnTo>
                            <a:pt x="136" y="6"/>
                          </a:lnTo>
                          <a:lnTo>
                            <a:pt x="130" y="2"/>
                          </a:lnTo>
                          <a:lnTo>
                            <a:pt x="126" y="0"/>
                          </a:lnTo>
                          <a:lnTo>
                            <a:pt x="120" y="2"/>
                          </a:lnTo>
                          <a:lnTo>
                            <a:pt x="116" y="4"/>
                          </a:lnTo>
                          <a:lnTo>
                            <a:pt x="94" y="42"/>
                          </a:lnTo>
                          <a:lnTo>
                            <a:pt x="76" y="80"/>
                          </a:lnTo>
                          <a:lnTo>
                            <a:pt x="60" y="118"/>
                          </a:lnTo>
                          <a:lnTo>
                            <a:pt x="44" y="154"/>
                          </a:lnTo>
                          <a:lnTo>
                            <a:pt x="30" y="192"/>
                          </a:lnTo>
                          <a:lnTo>
                            <a:pt x="18" y="228"/>
                          </a:lnTo>
                          <a:lnTo>
                            <a:pt x="8" y="264"/>
                          </a:lnTo>
                          <a:lnTo>
                            <a:pt x="0" y="300"/>
                          </a:lnTo>
                          <a:lnTo>
                            <a:pt x="0" y="322"/>
                          </a:lnTo>
                          <a:lnTo>
                            <a:pt x="4" y="314"/>
                          </a:lnTo>
                          <a:lnTo>
                            <a:pt x="18" y="292"/>
                          </a:lnTo>
                          <a:lnTo>
                            <a:pt x="26" y="280"/>
                          </a:lnTo>
                          <a:lnTo>
                            <a:pt x="38" y="268"/>
                          </a:lnTo>
                          <a:lnTo>
                            <a:pt x="52" y="256"/>
                          </a:lnTo>
                          <a:lnTo>
                            <a:pt x="68" y="248"/>
                          </a:lnTo>
                          <a:lnTo>
                            <a:pt x="84" y="242"/>
                          </a:lnTo>
                          <a:lnTo>
                            <a:pt x="94" y="240"/>
                          </a:lnTo>
                          <a:lnTo>
                            <a:pt x="102" y="240"/>
                          </a:lnTo>
                          <a:lnTo>
                            <a:pt x="112" y="242"/>
                          </a:lnTo>
                          <a:lnTo>
                            <a:pt x="124" y="244"/>
                          </a:lnTo>
                          <a:lnTo>
                            <a:pt x="134" y="248"/>
                          </a:lnTo>
                          <a:lnTo>
                            <a:pt x="146" y="254"/>
                          </a:lnTo>
                          <a:lnTo>
                            <a:pt x="156" y="262"/>
                          </a:lnTo>
                          <a:lnTo>
                            <a:pt x="168" y="272"/>
                          </a:lnTo>
                          <a:lnTo>
                            <a:pt x="182" y="284"/>
                          </a:lnTo>
                          <a:lnTo>
                            <a:pt x="194" y="298"/>
                          </a:lnTo>
                          <a:lnTo>
                            <a:pt x="206" y="314"/>
                          </a:lnTo>
                          <a:lnTo>
                            <a:pt x="220" y="332"/>
                          </a:lnTo>
                          <a:lnTo>
                            <a:pt x="248" y="378"/>
                          </a:lnTo>
                          <a:close/>
                        </a:path>
                      </a:pathLst>
                    </a:custGeom>
                    <a:solidFill>
                      <a:srgbClr val="73737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1" name="Ellipse 386"/>
                  <p:cNvSpPr/>
                  <p:nvPr/>
                </p:nvSpPr>
                <p:spPr>
                  <a:xfrm>
                    <a:off x="2782440" y="2767320"/>
                    <a:ext cx="11160" cy="1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c9c9e"/>
                      </a:gs>
                      <a:gs pos="100000">
                        <a:srgbClr val="0808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2" name="Freeform 316"/>
              <p:cNvSpPr/>
              <p:nvPr/>
            </p:nvSpPr>
            <p:spPr>
              <a:xfrm>
                <a:off x="2771640" y="2842920"/>
                <a:ext cx="25200" cy="61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30" h="41">
                    <a:moveTo>
                      <a:pt x="13" y="0"/>
                    </a:moveTo>
                    <a:lnTo>
                      <a:pt x="26" y="6"/>
                    </a:lnTo>
                    <a:lnTo>
                      <a:pt x="39" y="13"/>
                    </a:lnTo>
                    <a:lnTo>
                      <a:pt x="52" y="16"/>
                    </a:lnTo>
                    <a:lnTo>
                      <a:pt x="65" y="19"/>
                    </a:lnTo>
                    <a:lnTo>
                      <a:pt x="78" y="22"/>
                    </a:lnTo>
                    <a:lnTo>
                      <a:pt x="93" y="23"/>
                    </a:lnTo>
                    <a:lnTo>
                      <a:pt x="106" y="24"/>
                    </a:lnTo>
                    <a:lnTo>
                      <a:pt x="120" y="23"/>
                    </a:lnTo>
                    <a:lnTo>
                      <a:pt x="134" y="22"/>
                    </a:lnTo>
                    <a:lnTo>
                      <a:pt x="147" y="20"/>
                    </a:lnTo>
                    <a:lnTo>
                      <a:pt x="161" y="18"/>
                    </a:lnTo>
                    <a:lnTo>
                      <a:pt x="176" y="15"/>
                    </a:lnTo>
                    <a:lnTo>
                      <a:pt x="189" y="13"/>
                    </a:lnTo>
                    <a:lnTo>
                      <a:pt x="203" y="9"/>
                    </a:lnTo>
                    <a:lnTo>
                      <a:pt x="216" y="6"/>
                    </a:lnTo>
                    <a:lnTo>
                      <a:pt x="230" y="2"/>
                    </a:lnTo>
                    <a:lnTo>
                      <a:pt x="230" y="15"/>
                    </a:lnTo>
                    <a:lnTo>
                      <a:pt x="221" y="19"/>
                    </a:lnTo>
                    <a:lnTo>
                      <a:pt x="212" y="23"/>
                    </a:lnTo>
                    <a:lnTo>
                      <a:pt x="200" y="27"/>
                    </a:lnTo>
                    <a:lnTo>
                      <a:pt x="189" y="29"/>
                    </a:lnTo>
                    <a:lnTo>
                      <a:pt x="174" y="33"/>
                    </a:lnTo>
                    <a:lnTo>
                      <a:pt x="161" y="36"/>
                    </a:lnTo>
                    <a:lnTo>
                      <a:pt x="146" y="39"/>
                    </a:lnTo>
                    <a:lnTo>
                      <a:pt x="132" y="41"/>
                    </a:lnTo>
                    <a:lnTo>
                      <a:pt x="115" y="41"/>
                    </a:lnTo>
                    <a:lnTo>
                      <a:pt x="99" y="41"/>
                    </a:lnTo>
                    <a:lnTo>
                      <a:pt x="82" y="40"/>
                    </a:lnTo>
                    <a:lnTo>
                      <a:pt x="65" y="37"/>
                    </a:lnTo>
                    <a:lnTo>
                      <a:pt x="50" y="32"/>
                    </a:lnTo>
                    <a:lnTo>
                      <a:pt x="33" y="27"/>
                    </a:lnTo>
                    <a:lnTo>
                      <a:pt x="16" y="19"/>
                    </a:lnTo>
                    <a:lnTo>
                      <a:pt x="0" y="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ff">
                  <a:alpha val="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uppe 58"/>
            <p:cNvGrpSpPr/>
            <p:nvPr/>
          </p:nvGrpSpPr>
          <p:grpSpPr>
            <a:xfrm>
              <a:off x="2386080" y="3002040"/>
              <a:ext cx="142200" cy="263160"/>
              <a:chOff x="2386080" y="3002040"/>
              <a:chExt cx="142200" cy="263160"/>
            </a:xfrm>
          </p:grpSpPr>
          <p:sp>
            <p:nvSpPr>
              <p:cNvPr id="194" name="Ellipse 365"/>
              <p:cNvSpPr/>
              <p:nvPr/>
            </p:nvSpPr>
            <p:spPr>
              <a:xfrm flipH="1">
                <a:off x="2386080" y="3231720"/>
                <a:ext cx="126000" cy="33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" name="Gruppe 822"/>
              <p:cNvGrpSpPr/>
              <p:nvPr/>
            </p:nvGrpSpPr>
            <p:grpSpPr>
              <a:xfrm>
                <a:off x="2413440" y="3002040"/>
                <a:ext cx="114840" cy="260280"/>
                <a:chOff x="2413440" y="3002040"/>
                <a:chExt cx="114840" cy="260280"/>
              </a:xfrm>
            </p:grpSpPr>
            <p:grpSp>
              <p:nvGrpSpPr>
                <p:cNvPr id="196" name="Gruppe 604"/>
                <p:cNvGrpSpPr/>
                <p:nvPr/>
              </p:nvGrpSpPr>
              <p:grpSpPr>
                <a:xfrm>
                  <a:off x="2418120" y="3002040"/>
                  <a:ext cx="110160" cy="260280"/>
                  <a:chOff x="2418120" y="3002040"/>
                  <a:chExt cx="110160" cy="260280"/>
                </a:xfrm>
              </p:grpSpPr>
              <p:sp>
                <p:nvSpPr>
                  <p:cNvPr id="197" name="Freeform 130"/>
                  <p:cNvSpPr/>
                  <p:nvPr/>
                </p:nvSpPr>
                <p:spPr>
                  <a:xfrm flipH="1">
                    <a:off x="2418120" y="3002040"/>
                    <a:ext cx="110160" cy="260280"/>
                  </a:xfrm>
                  <a:custGeom>
                    <a:avLst/>
                    <a:gdLst>
                      <a:gd name="textAreaLeft" fmla="*/ 360 w 110160"/>
                      <a:gd name="textAreaRight" fmla="*/ 110880 w 110160"/>
                      <a:gd name="textAreaTop" fmla="*/ 0 h 260280"/>
                      <a:gd name="textAreaBottom" fmla="*/ 260640 h 260280"/>
                    </a:gdLst>
                    <a:ahLst/>
                    <a:rect l="textAreaLeft" t="textAreaTop" r="textAreaRight" b="textAreaBottom"/>
                    <a:pathLst>
                      <a:path w="493" h="1194">
                        <a:moveTo>
                          <a:pt x="208" y="62"/>
                        </a:moveTo>
                        <a:lnTo>
                          <a:pt x="167" y="83"/>
                        </a:lnTo>
                        <a:lnTo>
                          <a:pt x="145" y="87"/>
                        </a:lnTo>
                        <a:lnTo>
                          <a:pt x="125" y="93"/>
                        </a:lnTo>
                        <a:lnTo>
                          <a:pt x="110" y="100"/>
                        </a:lnTo>
                        <a:lnTo>
                          <a:pt x="99" y="110"/>
                        </a:lnTo>
                        <a:lnTo>
                          <a:pt x="92" y="124"/>
                        </a:lnTo>
                        <a:lnTo>
                          <a:pt x="90" y="141"/>
                        </a:lnTo>
                        <a:lnTo>
                          <a:pt x="93" y="162"/>
                        </a:lnTo>
                        <a:lnTo>
                          <a:pt x="104" y="187"/>
                        </a:lnTo>
                        <a:lnTo>
                          <a:pt x="158" y="242"/>
                        </a:lnTo>
                        <a:lnTo>
                          <a:pt x="158" y="272"/>
                        </a:lnTo>
                        <a:lnTo>
                          <a:pt x="140" y="282"/>
                        </a:lnTo>
                        <a:lnTo>
                          <a:pt x="135" y="302"/>
                        </a:lnTo>
                        <a:lnTo>
                          <a:pt x="138" y="326"/>
                        </a:lnTo>
                        <a:lnTo>
                          <a:pt x="147" y="346"/>
                        </a:lnTo>
                        <a:lnTo>
                          <a:pt x="104" y="360"/>
                        </a:lnTo>
                        <a:lnTo>
                          <a:pt x="89" y="375"/>
                        </a:lnTo>
                        <a:lnTo>
                          <a:pt x="77" y="389"/>
                        </a:lnTo>
                        <a:lnTo>
                          <a:pt x="71" y="402"/>
                        </a:lnTo>
                        <a:lnTo>
                          <a:pt x="70" y="414"/>
                        </a:lnTo>
                        <a:lnTo>
                          <a:pt x="74" y="426"/>
                        </a:lnTo>
                        <a:lnTo>
                          <a:pt x="82" y="437"/>
                        </a:lnTo>
                        <a:lnTo>
                          <a:pt x="94" y="449"/>
                        </a:lnTo>
                        <a:lnTo>
                          <a:pt x="113" y="459"/>
                        </a:lnTo>
                        <a:lnTo>
                          <a:pt x="173" y="480"/>
                        </a:lnTo>
                        <a:lnTo>
                          <a:pt x="168" y="522"/>
                        </a:lnTo>
                        <a:lnTo>
                          <a:pt x="162" y="562"/>
                        </a:lnTo>
                        <a:lnTo>
                          <a:pt x="156" y="601"/>
                        </a:lnTo>
                        <a:lnTo>
                          <a:pt x="150" y="638"/>
                        </a:lnTo>
                        <a:lnTo>
                          <a:pt x="140" y="676"/>
                        </a:lnTo>
                        <a:lnTo>
                          <a:pt x="129" y="713"/>
                        </a:lnTo>
                        <a:lnTo>
                          <a:pt x="115" y="750"/>
                        </a:lnTo>
                        <a:lnTo>
                          <a:pt x="98" y="789"/>
                        </a:lnTo>
                        <a:lnTo>
                          <a:pt x="83" y="796"/>
                        </a:lnTo>
                        <a:lnTo>
                          <a:pt x="70" y="804"/>
                        </a:lnTo>
                        <a:lnTo>
                          <a:pt x="61" y="814"/>
                        </a:lnTo>
                        <a:lnTo>
                          <a:pt x="55" y="823"/>
                        </a:lnTo>
                        <a:lnTo>
                          <a:pt x="53" y="835"/>
                        </a:lnTo>
                        <a:lnTo>
                          <a:pt x="55" y="845"/>
                        </a:lnTo>
                        <a:lnTo>
                          <a:pt x="62" y="857"/>
                        </a:lnTo>
                        <a:lnTo>
                          <a:pt x="75" y="868"/>
                        </a:lnTo>
                        <a:lnTo>
                          <a:pt x="78" y="889"/>
                        </a:lnTo>
                        <a:lnTo>
                          <a:pt x="53" y="896"/>
                        </a:lnTo>
                        <a:lnTo>
                          <a:pt x="34" y="905"/>
                        </a:lnTo>
                        <a:lnTo>
                          <a:pt x="21" y="916"/>
                        </a:lnTo>
                        <a:lnTo>
                          <a:pt x="13" y="928"/>
                        </a:lnTo>
                        <a:lnTo>
                          <a:pt x="8" y="942"/>
                        </a:lnTo>
                        <a:lnTo>
                          <a:pt x="8" y="959"/>
                        </a:lnTo>
                        <a:lnTo>
                          <a:pt x="10" y="978"/>
                        </a:lnTo>
                        <a:lnTo>
                          <a:pt x="15" y="999"/>
                        </a:lnTo>
                        <a:lnTo>
                          <a:pt x="19" y="1032"/>
                        </a:lnTo>
                        <a:lnTo>
                          <a:pt x="0" y="1057"/>
                        </a:lnTo>
                        <a:lnTo>
                          <a:pt x="0" y="1121"/>
                        </a:lnTo>
                        <a:lnTo>
                          <a:pt x="18" y="1137"/>
                        </a:lnTo>
                        <a:lnTo>
                          <a:pt x="41" y="1151"/>
                        </a:lnTo>
                        <a:lnTo>
                          <a:pt x="69" y="1163"/>
                        </a:lnTo>
                        <a:lnTo>
                          <a:pt x="101" y="1174"/>
                        </a:lnTo>
                        <a:lnTo>
                          <a:pt x="135" y="1182"/>
                        </a:lnTo>
                        <a:lnTo>
                          <a:pt x="171" y="1189"/>
                        </a:lnTo>
                        <a:lnTo>
                          <a:pt x="208" y="1192"/>
                        </a:lnTo>
                        <a:lnTo>
                          <a:pt x="246" y="1194"/>
                        </a:lnTo>
                        <a:lnTo>
                          <a:pt x="285" y="1193"/>
                        </a:lnTo>
                        <a:lnTo>
                          <a:pt x="322" y="1190"/>
                        </a:lnTo>
                        <a:lnTo>
                          <a:pt x="359" y="1184"/>
                        </a:lnTo>
                        <a:lnTo>
                          <a:pt x="393" y="1175"/>
                        </a:lnTo>
                        <a:lnTo>
                          <a:pt x="424" y="1162"/>
                        </a:lnTo>
                        <a:lnTo>
                          <a:pt x="451" y="1147"/>
                        </a:lnTo>
                        <a:lnTo>
                          <a:pt x="474" y="1129"/>
                        </a:lnTo>
                        <a:lnTo>
                          <a:pt x="493" y="1107"/>
                        </a:lnTo>
                        <a:lnTo>
                          <a:pt x="493" y="1069"/>
                        </a:lnTo>
                        <a:lnTo>
                          <a:pt x="484" y="1032"/>
                        </a:lnTo>
                        <a:lnTo>
                          <a:pt x="487" y="1005"/>
                        </a:lnTo>
                        <a:lnTo>
                          <a:pt x="489" y="984"/>
                        </a:lnTo>
                        <a:lnTo>
                          <a:pt x="489" y="965"/>
                        </a:lnTo>
                        <a:lnTo>
                          <a:pt x="486" y="950"/>
                        </a:lnTo>
                        <a:lnTo>
                          <a:pt x="480" y="936"/>
                        </a:lnTo>
                        <a:lnTo>
                          <a:pt x="470" y="921"/>
                        </a:lnTo>
                        <a:lnTo>
                          <a:pt x="454" y="906"/>
                        </a:lnTo>
                        <a:lnTo>
                          <a:pt x="433" y="888"/>
                        </a:lnTo>
                        <a:lnTo>
                          <a:pt x="441" y="870"/>
                        </a:lnTo>
                        <a:lnTo>
                          <a:pt x="446" y="855"/>
                        </a:lnTo>
                        <a:lnTo>
                          <a:pt x="449" y="842"/>
                        </a:lnTo>
                        <a:lnTo>
                          <a:pt x="449" y="832"/>
                        </a:lnTo>
                        <a:lnTo>
                          <a:pt x="444" y="823"/>
                        </a:lnTo>
                        <a:lnTo>
                          <a:pt x="438" y="814"/>
                        </a:lnTo>
                        <a:lnTo>
                          <a:pt x="425" y="805"/>
                        </a:lnTo>
                        <a:lnTo>
                          <a:pt x="409" y="793"/>
                        </a:lnTo>
                        <a:lnTo>
                          <a:pt x="389" y="751"/>
                        </a:lnTo>
                        <a:lnTo>
                          <a:pt x="373" y="713"/>
                        </a:lnTo>
                        <a:lnTo>
                          <a:pt x="362" y="677"/>
                        </a:lnTo>
                        <a:lnTo>
                          <a:pt x="355" y="644"/>
                        </a:lnTo>
                        <a:lnTo>
                          <a:pt x="349" y="609"/>
                        </a:lnTo>
                        <a:lnTo>
                          <a:pt x="345" y="572"/>
                        </a:lnTo>
                        <a:lnTo>
                          <a:pt x="344" y="531"/>
                        </a:lnTo>
                        <a:lnTo>
                          <a:pt x="344" y="485"/>
                        </a:lnTo>
                        <a:lnTo>
                          <a:pt x="379" y="471"/>
                        </a:lnTo>
                        <a:lnTo>
                          <a:pt x="404" y="455"/>
                        </a:lnTo>
                        <a:lnTo>
                          <a:pt x="417" y="446"/>
                        </a:lnTo>
                        <a:lnTo>
                          <a:pt x="426" y="435"/>
                        </a:lnTo>
                        <a:lnTo>
                          <a:pt x="433" y="423"/>
                        </a:lnTo>
                        <a:lnTo>
                          <a:pt x="436" y="411"/>
                        </a:lnTo>
                        <a:lnTo>
                          <a:pt x="434" y="398"/>
                        </a:lnTo>
                        <a:lnTo>
                          <a:pt x="427" y="386"/>
                        </a:lnTo>
                        <a:lnTo>
                          <a:pt x="414" y="374"/>
                        </a:lnTo>
                        <a:lnTo>
                          <a:pt x="394" y="364"/>
                        </a:lnTo>
                        <a:lnTo>
                          <a:pt x="368" y="356"/>
                        </a:lnTo>
                        <a:lnTo>
                          <a:pt x="379" y="343"/>
                        </a:lnTo>
                        <a:lnTo>
                          <a:pt x="386" y="330"/>
                        </a:lnTo>
                        <a:lnTo>
                          <a:pt x="390" y="318"/>
                        </a:lnTo>
                        <a:lnTo>
                          <a:pt x="393" y="306"/>
                        </a:lnTo>
                        <a:lnTo>
                          <a:pt x="390" y="295"/>
                        </a:lnTo>
                        <a:lnTo>
                          <a:pt x="386" y="283"/>
                        </a:lnTo>
                        <a:lnTo>
                          <a:pt x="376" y="273"/>
                        </a:lnTo>
                        <a:lnTo>
                          <a:pt x="364" y="261"/>
                        </a:lnTo>
                        <a:lnTo>
                          <a:pt x="389" y="227"/>
                        </a:lnTo>
                        <a:lnTo>
                          <a:pt x="409" y="192"/>
                        </a:lnTo>
                        <a:lnTo>
                          <a:pt x="420" y="170"/>
                        </a:lnTo>
                        <a:lnTo>
                          <a:pt x="428" y="153"/>
                        </a:lnTo>
                        <a:lnTo>
                          <a:pt x="432" y="139"/>
                        </a:lnTo>
                        <a:lnTo>
                          <a:pt x="432" y="128"/>
                        </a:lnTo>
                        <a:lnTo>
                          <a:pt x="426" y="118"/>
                        </a:lnTo>
                        <a:lnTo>
                          <a:pt x="416" y="110"/>
                        </a:lnTo>
                        <a:lnTo>
                          <a:pt x="400" y="102"/>
                        </a:lnTo>
                        <a:lnTo>
                          <a:pt x="378" y="92"/>
                        </a:lnTo>
                        <a:lnTo>
                          <a:pt x="349" y="77"/>
                        </a:lnTo>
                        <a:lnTo>
                          <a:pt x="320" y="68"/>
                        </a:lnTo>
                        <a:lnTo>
                          <a:pt x="322" y="54"/>
                        </a:lnTo>
                        <a:lnTo>
                          <a:pt x="322" y="42"/>
                        </a:lnTo>
                        <a:lnTo>
                          <a:pt x="320" y="32"/>
                        </a:lnTo>
                        <a:lnTo>
                          <a:pt x="315" y="23"/>
                        </a:lnTo>
                        <a:lnTo>
                          <a:pt x="309" y="16"/>
                        </a:lnTo>
                        <a:lnTo>
                          <a:pt x="300" y="10"/>
                        </a:lnTo>
                        <a:lnTo>
                          <a:pt x="291" y="5"/>
                        </a:lnTo>
                        <a:lnTo>
                          <a:pt x="281" y="2"/>
                        </a:lnTo>
                        <a:lnTo>
                          <a:pt x="268" y="0"/>
                        </a:lnTo>
                        <a:lnTo>
                          <a:pt x="256" y="1"/>
                        </a:lnTo>
                        <a:lnTo>
                          <a:pt x="243" y="3"/>
                        </a:lnTo>
                        <a:lnTo>
                          <a:pt x="233" y="8"/>
                        </a:lnTo>
                        <a:lnTo>
                          <a:pt x="222" y="16"/>
                        </a:lnTo>
                        <a:lnTo>
                          <a:pt x="215" y="27"/>
                        </a:lnTo>
                        <a:lnTo>
                          <a:pt x="211" y="42"/>
                        </a:lnTo>
                        <a:lnTo>
                          <a:pt x="208" y="6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cacac"/>
                      </a:gs>
                      <a:gs pos="100000">
                        <a:srgbClr val="e6e6e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Freeform 131"/>
                  <p:cNvSpPr/>
                  <p:nvPr/>
                </p:nvSpPr>
                <p:spPr>
                  <a:xfrm flipH="1">
                    <a:off x="2446920" y="3016080"/>
                    <a:ext cx="44280" cy="14040"/>
                  </a:xfrm>
                  <a:custGeom>
                    <a:avLst/>
                    <a:gdLst>
                      <a:gd name="textAreaLeft" fmla="*/ -360 w 44280"/>
                      <a:gd name="textAreaRight" fmla="*/ 44280 w 44280"/>
                      <a:gd name="textAreaTop" fmla="*/ 0 h 14040"/>
                      <a:gd name="textAreaBottom" fmla="*/ 14400 h 14040"/>
                    </a:gdLst>
                    <a:ahLst/>
                    <a:rect l="textAreaLeft" t="textAreaTop" r="textAreaRight" b="textAreaBottom"/>
                    <a:pathLst>
                      <a:path w="185" h="58">
                        <a:moveTo>
                          <a:pt x="13" y="8"/>
                        </a:moveTo>
                        <a:lnTo>
                          <a:pt x="0" y="22"/>
                        </a:lnTo>
                        <a:lnTo>
                          <a:pt x="8" y="43"/>
                        </a:lnTo>
                        <a:lnTo>
                          <a:pt x="28" y="49"/>
                        </a:lnTo>
                        <a:lnTo>
                          <a:pt x="53" y="54"/>
                        </a:lnTo>
                        <a:lnTo>
                          <a:pt x="81" y="58"/>
                        </a:lnTo>
                        <a:lnTo>
                          <a:pt x="108" y="56"/>
                        </a:lnTo>
                        <a:lnTo>
                          <a:pt x="135" y="53"/>
                        </a:lnTo>
                        <a:lnTo>
                          <a:pt x="159" y="46"/>
                        </a:lnTo>
                        <a:lnTo>
                          <a:pt x="176" y="33"/>
                        </a:lnTo>
                        <a:lnTo>
                          <a:pt x="185" y="16"/>
                        </a:lnTo>
                        <a:lnTo>
                          <a:pt x="160" y="6"/>
                        </a:lnTo>
                        <a:lnTo>
                          <a:pt x="144" y="0"/>
                        </a:lnTo>
                        <a:lnTo>
                          <a:pt x="139" y="15"/>
                        </a:lnTo>
                        <a:lnTo>
                          <a:pt x="127" y="24"/>
                        </a:lnTo>
                        <a:lnTo>
                          <a:pt x="109" y="29"/>
                        </a:lnTo>
                        <a:lnTo>
                          <a:pt x="89" y="29"/>
                        </a:lnTo>
                        <a:lnTo>
                          <a:pt x="68" y="25"/>
                        </a:lnTo>
                        <a:lnTo>
                          <a:pt x="51" y="20"/>
                        </a:lnTo>
                        <a:lnTo>
                          <a:pt x="38" y="11"/>
                        </a:lnTo>
                        <a:lnTo>
                          <a:pt x="33" y="1"/>
                        </a:lnTo>
                        <a:lnTo>
                          <a:pt x="13" y="8"/>
                        </a:lnTo>
                        <a:close/>
                      </a:path>
                    </a:pathLst>
                  </a:custGeom>
                  <a:solidFill>
                    <a:srgbClr val="e6e6e6">
                      <a:alpha val="56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132"/>
                  <p:cNvSpPr/>
                  <p:nvPr/>
                </p:nvSpPr>
                <p:spPr>
                  <a:xfrm flipH="1">
                    <a:off x="2436480" y="3024000"/>
                    <a:ext cx="73440" cy="20520"/>
                  </a:xfrm>
                  <a:custGeom>
                    <a:avLst/>
                    <a:gdLst>
                      <a:gd name="textAreaLeft" fmla="*/ 0 w 73440"/>
                      <a:gd name="textAreaRight" fmla="*/ 73440 w 7344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329" h="102">
                        <a:moveTo>
                          <a:pt x="32" y="10"/>
                        </a:moveTo>
                        <a:lnTo>
                          <a:pt x="1" y="26"/>
                        </a:lnTo>
                        <a:lnTo>
                          <a:pt x="0" y="43"/>
                        </a:lnTo>
                        <a:lnTo>
                          <a:pt x="3" y="60"/>
                        </a:lnTo>
                        <a:lnTo>
                          <a:pt x="14" y="71"/>
                        </a:lnTo>
                        <a:lnTo>
                          <a:pt x="27" y="81"/>
                        </a:lnTo>
                        <a:lnTo>
                          <a:pt x="46" y="90"/>
                        </a:lnTo>
                        <a:lnTo>
                          <a:pt x="67" y="95"/>
                        </a:lnTo>
                        <a:lnTo>
                          <a:pt x="91" y="100"/>
                        </a:lnTo>
                        <a:lnTo>
                          <a:pt x="117" y="102"/>
                        </a:lnTo>
                        <a:lnTo>
                          <a:pt x="144" y="102"/>
                        </a:lnTo>
                        <a:lnTo>
                          <a:pt x="171" y="102"/>
                        </a:lnTo>
                        <a:lnTo>
                          <a:pt x="199" y="100"/>
                        </a:lnTo>
                        <a:lnTo>
                          <a:pt x="225" y="98"/>
                        </a:lnTo>
                        <a:lnTo>
                          <a:pt x="251" y="94"/>
                        </a:lnTo>
                        <a:lnTo>
                          <a:pt x="273" y="90"/>
                        </a:lnTo>
                        <a:lnTo>
                          <a:pt x="292" y="85"/>
                        </a:lnTo>
                        <a:lnTo>
                          <a:pt x="308" y="79"/>
                        </a:lnTo>
                        <a:lnTo>
                          <a:pt x="319" y="71"/>
                        </a:lnTo>
                        <a:lnTo>
                          <a:pt x="326" y="61"/>
                        </a:lnTo>
                        <a:lnTo>
                          <a:pt x="329" y="50"/>
                        </a:lnTo>
                        <a:lnTo>
                          <a:pt x="329" y="39"/>
                        </a:lnTo>
                        <a:lnTo>
                          <a:pt x="325" y="28"/>
                        </a:lnTo>
                        <a:lnTo>
                          <a:pt x="316" y="18"/>
                        </a:lnTo>
                        <a:lnTo>
                          <a:pt x="303" y="8"/>
                        </a:lnTo>
                        <a:lnTo>
                          <a:pt x="285" y="0"/>
                        </a:lnTo>
                        <a:lnTo>
                          <a:pt x="269" y="18"/>
                        </a:lnTo>
                        <a:lnTo>
                          <a:pt x="252" y="31"/>
                        </a:lnTo>
                        <a:lnTo>
                          <a:pt x="234" y="39"/>
                        </a:lnTo>
                        <a:lnTo>
                          <a:pt x="215" y="43"/>
                        </a:lnTo>
                        <a:lnTo>
                          <a:pt x="194" y="45"/>
                        </a:lnTo>
                        <a:lnTo>
                          <a:pt x="173" y="43"/>
                        </a:lnTo>
                        <a:lnTo>
                          <a:pt x="148" y="41"/>
                        </a:lnTo>
                        <a:lnTo>
                          <a:pt x="122" y="40"/>
                        </a:lnTo>
                        <a:lnTo>
                          <a:pt x="67" y="30"/>
                        </a:lnTo>
                        <a:lnTo>
                          <a:pt x="49" y="3"/>
                        </a:lnTo>
                        <a:lnTo>
                          <a:pt x="32" y="10"/>
                        </a:lnTo>
                        <a:close/>
                      </a:path>
                    </a:pathLst>
                  </a:custGeom>
                  <a:solidFill>
                    <a:srgbClr val="e6e6e6">
                      <a:alpha val="56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Freeform 133"/>
                  <p:cNvSpPr/>
                  <p:nvPr/>
                </p:nvSpPr>
                <p:spPr>
                  <a:xfrm flipH="1">
                    <a:off x="2447280" y="3070080"/>
                    <a:ext cx="47520" cy="7920"/>
                  </a:xfrm>
                  <a:custGeom>
                    <a:avLst/>
                    <a:gdLst>
                      <a:gd name="textAreaLeft" fmla="*/ 360 w 47520"/>
                      <a:gd name="textAreaRight" fmla="*/ 48240 w 47520"/>
                      <a:gd name="textAreaTop" fmla="*/ 0 h 7920"/>
                      <a:gd name="textAreaBottom" fmla="*/ 8280 h 7920"/>
                    </a:gdLst>
                    <a:ahLst/>
                    <a:rect l="textAreaLeft" t="textAreaTop" r="textAreaRight" b="textAreaBottom"/>
                    <a:pathLst>
                      <a:path w="204" h="37">
                        <a:moveTo>
                          <a:pt x="12" y="0"/>
                        </a:moveTo>
                        <a:lnTo>
                          <a:pt x="24" y="6"/>
                        </a:lnTo>
                        <a:lnTo>
                          <a:pt x="35" y="12"/>
                        </a:lnTo>
                        <a:lnTo>
                          <a:pt x="47" y="15"/>
                        </a:lnTo>
                        <a:lnTo>
                          <a:pt x="58" y="17"/>
                        </a:lnTo>
                        <a:lnTo>
                          <a:pt x="70" y="20"/>
                        </a:lnTo>
                        <a:lnTo>
                          <a:pt x="82" y="21"/>
                        </a:lnTo>
                        <a:lnTo>
                          <a:pt x="94" y="22"/>
                        </a:lnTo>
                        <a:lnTo>
                          <a:pt x="106" y="21"/>
                        </a:lnTo>
                        <a:lnTo>
                          <a:pt x="119" y="20"/>
                        </a:lnTo>
                        <a:lnTo>
                          <a:pt x="131" y="19"/>
                        </a:lnTo>
                        <a:lnTo>
                          <a:pt x="143" y="16"/>
                        </a:lnTo>
                        <a:lnTo>
                          <a:pt x="156" y="14"/>
                        </a:lnTo>
                        <a:lnTo>
                          <a:pt x="167" y="12"/>
                        </a:lnTo>
                        <a:lnTo>
                          <a:pt x="180" y="8"/>
                        </a:lnTo>
                        <a:lnTo>
                          <a:pt x="192" y="6"/>
                        </a:lnTo>
                        <a:lnTo>
                          <a:pt x="204" y="2"/>
                        </a:lnTo>
                        <a:lnTo>
                          <a:pt x="204" y="14"/>
                        </a:lnTo>
                        <a:lnTo>
                          <a:pt x="196" y="17"/>
                        </a:lnTo>
                        <a:lnTo>
                          <a:pt x="188" y="21"/>
                        </a:lnTo>
                        <a:lnTo>
                          <a:pt x="178" y="24"/>
                        </a:lnTo>
                        <a:lnTo>
                          <a:pt x="167" y="27"/>
                        </a:lnTo>
                        <a:lnTo>
                          <a:pt x="155" y="30"/>
                        </a:lnTo>
                        <a:lnTo>
                          <a:pt x="143" y="32"/>
                        </a:lnTo>
                        <a:lnTo>
                          <a:pt x="129" y="35"/>
                        </a:lnTo>
                        <a:lnTo>
                          <a:pt x="117" y="37"/>
                        </a:lnTo>
                        <a:lnTo>
                          <a:pt x="102" y="37"/>
                        </a:lnTo>
                        <a:lnTo>
                          <a:pt x="88" y="37"/>
                        </a:lnTo>
                        <a:lnTo>
                          <a:pt x="73" y="36"/>
                        </a:lnTo>
                        <a:lnTo>
                          <a:pt x="58" y="34"/>
                        </a:lnTo>
                        <a:lnTo>
                          <a:pt x="44" y="29"/>
                        </a:lnTo>
                        <a:lnTo>
                          <a:pt x="29" y="24"/>
                        </a:lnTo>
                        <a:lnTo>
                          <a:pt x="14" y="17"/>
                        </a:lnTo>
                        <a:lnTo>
                          <a:pt x="0" y="8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e6e6e6">
                      <a:alpha val="56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Freeform 135"/>
                  <p:cNvSpPr/>
                  <p:nvPr/>
                </p:nvSpPr>
                <p:spPr>
                  <a:xfrm flipH="1">
                    <a:off x="2432880" y="3081240"/>
                    <a:ext cx="76680" cy="21960"/>
                  </a:xfrm>
                  <a:custGeom>
                    <a:avLst/>
                    <a:gdLst>
                      <a:gd name="textAreaLeft" fmla="*/ -360 w 76680"/>
                      <a:gd name="textAreaRight" fmla="*/ 76680 w 7668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51" h="100">
                        <a:moveTo>
                          <a:pt x="40" y="0"/>
                        </a:moveTo>
                        <a:lnTo>
                          <a:pt x="19" y="9"/>
                        </a:lnTo>
                        <a:lnTo>
                          <a:pt x="6" y="20"/>
                        </a:lnTo>
                        <a:lnTo>
                          <a:pt x="0" y="30"/>
                        </a:lnTo>
                        <a:lnTo>
                          <a:pt x="0" y="42"/>
                        </a:lnTo>
                        <a:lnTo>
                          <a:pt x="7" y="53"/>
                        </a:lnTo>
                        <a:lnTo>
                          <a:pt x="17" y="65"/>
                        </a:lnTo>
                        <a:lnTo>
                          <a:pt x="32" y="75"/>
                        </a:lnTo>
                        <a:lnTo>
                          <a:pt x="50" y="85"/>
                        </a:lnTo>
                        <a:lnTo>
                          <a:pt x="66" y="89"/>
                        </a:lnTo>
                        <a:lnTo>
                          <a:pt x="82" y="92"/>
                        </a:lnTo>
                        <a:lnTo>
                          <a:pt x="97" y="95"/>
                        </a:lnTo>
                        <a:lnTo>
                          <a:pt x="113" y="96"/>
                        </a:lnTo>
                        <a:lnTo>
                          <a:pt x="128" y="98"/>
                        </a:lnTo>
                        <a:lnTo>
                          <a:pt x="144" y="99"/>
                        </a:lnTo>
                        <a:lnTo>
                          <a:pt x="159" y="99"/>
                        </a:lnTo>
                        <a:lnTo>
                          <a:pt x="174" y="100"/>
                        </a:lnTo>
                        <a:lnTo>
                          <a:pt x="189" y="100"/>
                        </a:lnTo>
                        <a:lnTo>
                          <a:pt x="205" y="100"/>
                        </a:lnTo>
                        <a:lnTo>
                          <a:pt x="220" y="99"/>
                        </a:lnTo>
                        <a:lnTo>
                          <a:pt x="236" y="99"/>
                        </a:lnTo>
                        <a:lnTo>
                          <a:pt x="251" y="98"/>
                        </a:lnTo>
                        <a:lnTo>
                          <a:pt x="267" y="97"/>
                        </a:lnTo>
                        <a:lnTo>
                          <a:pt x="284" y="95"/>
                        </a:lnTo>
                        <a:lnTo>
                          <a:pt x="300" y="94"/>
                        </a:lnTo>
                        <a:lnTo>
                          <a:pt x="323" y="81"/>
                        </a:lnTo>
                        <a:lnTo>
                          <a:pt x="339" y="68"/>
                        </a:lnTo>
                        <a:lnTo>
                          <a:pt x="349" y="56"/>
                        </a:lnTo>
                        <a:lnTo>
                          <a:pt x="351" y="43"/>
                        </a:lnTo>
                        <a:lnTo>
                          <a:pt x="348" y="31"/>
                        </a:lnTo>
                        <a:lnTo>
                          <a:pt x="338" y="21"/>
                        </a:lnTo>
                        <a:lnTo>
                          <a:pt x="320" y="12"/>
                        </a:lnTo>
                        <a:lnTo>
                          <a:pt x="296" y="5"/>
                        </a:lnTo>
                        <a:lnTo>
                          <a:pt x="298" y="15"/>
                        </a:lnTo>
                        <a:lnTo>
                          <a:pt x="294" y="23"/>
                        </a:lnTo>
                        <a:lnTo>
                          <a:pt x="284" y="30"/>
                        </a:lnTo>
                        <a:lnTo>
                          <a:pt x="272" y="37"/>
                        </a:lnTo>
                        <a:lnTo>
                          <a:pt x="258" y="38"/>
                        </a:lnTo>
                        <a:lnTo>
                          <a:pt x="245" y="39"/>
                        </a:lnTo>
                        <a:lnTo>
                          <a:pt x="234" y="41"/>
                        </a:lnTo>
                        <a:lnTo>
                          <a:pt x="222" y="42"/>
                        </a:lnTo>
                        <a:lnTo>
                          <a:pt x="211" y="43"/>
                        </a:lnTo>
                        <a:lnTo>
                          <a:pt x="199" y="43"/>
                        </a:lnTo>
                        <a:lnTo>
                          <a:pt x="188" y="44"/>
                        </a:lnTo>
                        <a:lnTo>
                          <a:pt x="178" y="44"/>
                        </a:lnTo>
                        <a:lnTo>
                          <a:pt x="166" y="44"/>
                        </a:lnTo>
                        <a:lnTo>
                          <a:pt x="155" y="44"/>
                        </a:lnTo>
                        <a:lnTo>
                          <a:pt x="143" y="44"/>
                        </a:lnTo>
                        <a:lnTo>
                          <a:pt x="133" y="43"/>
                        </a:lnTo>
                        <a:lnTo>
                          <a:pt x="120" y="42"/>
                        </a:lnTo>
                        <a:lnTo>
                          <a:pt x="108" y="41"/>
                        </a:lnTo>
                        <a:lnTo>
                          <a:pt x="96" y="39"/>
                        </a:lnTo>
                        <a:lnTo>
                          <a:pt x="82" y="37"/>
                        </a:lnTo>
                        <a:lnTo>
                          <a:pt x="73" y="32"/>
                        </a:lnTo>
                        <a:lnTo>
                          <a:pt x="65" y="28"/>
                        </a:lnTo>
                        <a:lnTo>
                          <a:pt x="58" y="23"/>
                        </a:lnTo>
                        <a:lnTo>
                          <a:pt x="52" y="19"/>
                        </a:lnTo>
                        <a:lnTo>
                          <a:pt x="47" y="14"/>
                        </a:lnTo>
                        <a:lnTo>
                          <a:pt x="44" y="11"/>
                        </a:lnTo>
                        <a:lnTo>
                          <a:pt x="42" y="5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e6e6e6">
                      <a:alpha val="56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147"/>
                  <p:cNvSpPr/>
                  <p:nvPr/>
                </p:nvSpPr>
                <p:spPr>
                  <a:xfrm flipH="1">
                    <a:off x="2428560" y="3175200"/>
                    <a:ext cx="88920" cy="21960"/>
                  </a:xfrm>
                  <a:custGeom>
                    <a:avLst/>
                    <a:gdLst>
                      <a:gd name="textAreaLeft" fmla="*/ -360 w 88920"/>
                      <a:gd name="textAreaRight" fmla="*/ 88920 w 889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82" h="96">
                        <a:moveTo>
                          <a:pt x="24" y="4"/>
                        </a:moveTo>
                        <a:lnTo>
                          <a:pt x="68" y="40"/>
                        </a:lnTo>
                        <a:lnTo>
                          <a:pt x="89" y="44"/>
                        </a:lnTo>
                        <a:lnTo>
                          <a:pt x="108" y="48"/>
                        </a:lnTo>
                        <a:lnTo>
                          <a:pt x="127" y="53"/>
                        </a:lnTo>
                        <a:lnTo>
                          <a:pt x="144" y="55"/>
                        </a:lnTo>
                        <a:lnTo>
                          <a:pt x="160" y="57"/>
                        </a:lnTo>
                        <a:lnTo>
                          <a:pt x="176" y="59"/>
                        </a:lnTo>
                        <a:lnTo>
                          <a:pt x="192" y="59"/>
                        </a:lnTo>
                        <a:lnTo>
                          <a:pt x="207" y="59"/>
                        </a:lnTo>
                        <a:lnTo>
                          <a:pt x="222" y="58"/>
                        </a:lnTo>
                        <a:lnTo>
                          <a:pt x="237" y="57"/>
                        </a:lnTo>
                        <a:lnTo>
                          <a:pt x="253" y="54"/>
                        </a:lnTo>
                        <a:lnTo>
                          <a:pt x="270" y="50"/>
                        </a:lnTo>
                        <a:lnTo>
                          <a:pt x="286" y="46"/>
                        </a:lnTo>
                        <a:lnTo>
                          <a:pt x="304" y="39"/>
                        </a:lnTo>
                        <a:lnTo>
                          <a:pt x="323" y="32"/>
                        </a:lnTo>
                        <a:lnTo>
                          <a:pt x="342" y="23"/>
                        </a:lnTo>
                        <a:lnTo>
                          <a:pt x="348" y="10"/>
                        </a:lnTo>
                        <a:lnTo>
                          <a:pt x="352" y="3"/>
                        </a:lnTo>
                        <a:lnTo>
                          <a:pt x="356" y="0"/>
                        </a:lnTo>
                        <a:lnTo>
                          <a:pt x="359" y="1"/>
                        </a:lnTo>
                        <a:lnTo>
                          <a:pt x="363" y="4"/>
                        </a:lnTo>
                        <a:lnTo>
                          <a:pt x="367" y="11"/>
                        </a:lnTo>
                        <a:lnTo>
                          <a:pt x="374" y="20"/>
                        </a:lnTo>
                        <a:lnTo>
                          <a:pt x="382" y="32"/>
                        </a:lnTo>
                        <a:lnTo>
                          <a:pt x="366" y="55"/>
                        </a:lnTo>
                        <a:lnTo>
                          <a:pt x="349" y="65"/>
                        </a:lnTo>
                        <a:lnTo>
                          <a:pt x="329" y="73"/>
                        </a:lnTo>
                        <a:lnTo>
                          <a:pt x="310" y="80"/>
                        </a:lnTo>
                        <a:lnTo>
                          <a:pt x="288" y="86"/>
                        </a:lnTo>
                        <a:lnTo>
                          <a:pt x="266" y="91"/>
                        </a:lnTo>
                        <a:lnTo>
                          <a:pt x="243" y="94"/>
                        </a:lnTo>
                        <a:lnTo>
                          <a:pt x="219" y="96"/>
                        </a:lnTo>
                        <a:lnTo>
                          <a:pt x="196" y="96"/>
                        </a:lnTo>
                        <a:lnTo>
                          <a:pt x="172" y="96"/>
                        </a:lnTo>
                        <a:lnTo>
                          <a:pt x="147" y="95"/>
                        </a:lnTo>
                        <a:lnTo>
                          <a:pt x="124" y="92"/>
                        </a:lnTo>
                        <a:lnTo>
                          <a:pt x="101" y="88"/>
                        </a:lnTo>
                        <a:lnTo>
                          <a:pt x="78" y="84"/>
                        </a:lnTo>
                        <a:lnTo>
                          <a:pt x="58" y="79"/>
                        </a:lnTo>
                        <a:lnTo>
                          <a:pt x="37" y="72"/>
                        </a:lnTo>
                        <a:lnTo>
                          <a:pt x="18" y="65"/>
                        </a:lnTo>
                        <a:lnTo>
                          <a:pt x="12" y="56"/>
                        </a:lnTo>
                        <a:lnTo>
                          <a:pt x="6" y="47"/>
                        </a:lnTo>
                        <a:lnTo>
                          <a:pt x="2" y="38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5" y="13"/>
                        </a:lnTo>
                        <a:lnTo>
                          <a:pt x="12" y="8"/>
                        </a:lnTo>
                        <a:lnTo>
                          <a:pt x="24" y="4"/>
                        </a:lnTo>
                        <a:close/>
                      </a:path>
                    </a:pathLst>
                  </a:custGeom>
                  <a:solidFill>
                    <a:srgbClr val="e6e6e6">
                      <a:alpha val="56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148"/>
                  <p:cNvSpPr/>
                  <p:nvPr/>
                </p:nvSpPr>
                <p:spPr>
                  <a:xfrm flipH="1">
                    <a:off x="2418120" y="3197160"/>
                    <a:ext cx="110160" cy="39600"/>
                  </a:xfrm>
                  <a:custGeom>
                    <a:avLst/>
                    <a:gdLst>
                      <a:gd name="textAreaLeft" fmla="*/ 360 w 110160"/>
                      <a:gd name="textAreaRight" fmla="*/ 110880 w 11016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483" h="184">
                        <a:moveTo>
                          <a:pt x="7" y="102"/>
                        </a:moveTo>
                        <a:lnTo>
                          <a:pt x="18" y="116"/>
                        </a:lnTo>
                        <a:lnTo>
                          <a:pt x="34" y="130"/>
                        </a:lnTo>
                        <a:lnTo>
                          <a:pt x="55" y="143"/>
                        </a:lnTo>
                        <a:lnTo>
                          <a:pt x="80" y="155"/>
                        </a:lnTo>
                        <a:lnTo>
                          <a:pt x="109" y="165"/>
                        </a:lnTo>
                        <a:lnTo>
                          <a:pt x="141" y="173"/>
                        </a:lnTo>
                        <a:lnTo>
                          <a:pt x="176" y="179"/>
                        </a:lnTo>
                        <a:lnTo>
                          <a:pt x="211" y="182"/>
                        </a:lnTo>
                        <a:lnTo>
                          <a:pt x="248" y="184"/>
                        </a:lnTo>
                        <a:lnTo>
                          <a:pt x="285" y="183"/>
                        </a:lnTo>
                        <a:lnTo>
                          <a:pt x="323" y="180"/>
                        </a:lnTo>
                        <a:lnTo>
                          <a:pt x="359" y="173"/>
                        </a:lnTo>
                        <a:lnTo>
                          <a:pt x="393" y="164"/>
                        </a:lnTo>
                        <a:lnTo>
                          <a:pt x="427" y="151"/>
                        </a:lnTo>
                        <a:lnTo>
                          <a:pt x="455" y="135"/>
                        </a:lnTo>
                        <a:lnTo>
                          <a:pt x="482" y="115"/>
                        </a:lnTo>
                        <a:lnTo>
                          <a:pt x="483" y="93"/>
                        </a:lnTo>
                        <a:lnTo>
                          <a:pt x="483" y="77"/>
                        </a:lnTo>
                        <a:lnTo>
                          <a:pt x="482" y="65"/>
                        </a:lnTo>
                        <a:lnTo>
                          <a:pt x="478" y="54"/>
                        </a:lnTo>
                        <a:lnTo>
                          <a:pt x="473" y="44"/>
                        </a:lnTo>
                        <a:lnTo>
                          <a:pt x="463" y="34"/>
                        </a:lnTo>
                        <a:lnTo>
                          <a:pt x="451" y="22"/>
                        </a:lnTo>
                        <a:lnTo>
                          <a:pt x="435" y="7"/>
                        </a:lnTo>
                        <a:lnTo>
                          <a:pt x="416" y="23"/>
                        </a:lnTo>
                        <a:lnTo>
                          <a:pt x="396" y="37"/>
                        </a:lnTo>
                        <a:lnTo>
                          <a:pt x="375" y="50"/>
                        </a:lnTo>
                        <a:lnTo>
                          <a:pt x="353" y="59"/>
                        </a:lnTo>
                        <a:lnTo>
                          <a:pt x="330" y="67"/>
                        </a:lnTo>
                        <a:lnTo>
                          <a:pt x="307" y="73"/>
                        </a:lnTo>
                        <a:lnTo>
                          <a:pt x="284" y="76"/>
                        </a:lnTo>
                        <a:lnTo>
                          <a:pt x="260" y="78"/>
                        </a:lnTo>
                        <a:lnTo>
                          <a:pt x="235" y="78"/>
                        </a:lnTo>
                        <a:lnTo>
                          <a:pt x="211" y="76"/>
                        </a:lnTo>
                        <a:lnTo>
                          <a:pt x="187" y="73"/>
                        </a:lnTo>
                        <a:lnTo>
                          <a:pt x="163" y="68"/>
                        </a:lnTo>
                        <a:lnTo>
                          <a:pt x="140" y="61"/>
                        </a:lnTo>
                        <a:lnTo>
                          <a:pt x="116" y="53"/>
                        </a:lnTo>
                        <a:lnTo>
                          <a:pt x="94" y="44"/>
                        </a:lnTo>
                        <a:lnTo>
                          <a:pt x="72" y="32"/>
                        </a:lnTo>
                        <a:lnTo>
                          <a:pt x="66" y="0"/>
                        </a:lnTo>
                        <a:lnTo>
                          <a:pt x="56" y="5"/>
                        </a:lnTo>
                        <a:lnTo>
                          <a:pt x="42" y="12"/>
                        </a:lnTo>
                        <a:lnTo>
                          <a:pt x="29" y="20"/>
                        </a:lnTo>
                        <a:lnTo>
                          <a:pt x="17" y="30"/>
                        </a:lnTo>
                        <a:lnTo>
                          <a:pt x="7" y="43"/>
                        </a:lnTo>
                        <a:lnTo>
                          <a:pt x="2" y="59"/>
                        </a:lnTo>
                        <a:lnTo>
                          <a:pt x="0" y="78"/>
                        </a:lnTo>
                        <a:lnTo>
                          <a:pt x="7" y="102"/>
                        </a:lnTo>
                        <a:close/>
                      </a:path>
                    </a:pathLst>
                  </a:custGeom>
                  <a:solidFill>
                    <a:srgbClr val="e6e6e6">
                      <a:alpha val="56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184"/>
                  <p:cNvSpPr/>
                  <p:nvPr/>
                </p:nvSpPr>
                <p:spPr>
                  <a:xfrm flipH="1">
                    <a:off x="2462040" y="3002040"/>
                    <a:ext cx="18360" cy="14040"/>
                  </a:xfrm>
                  <a:custGeom>
                    <a:avLst/>
                    <a:gdLst>
                      <a:gd name="textAreaLeft" fmla="*/ -360 w 18360"/>
                      <a:gd name="textAreaRight" fmla="*/ 18360 w 18360"/>
                      <a:gd name="textAreaTop" fmla="*/ 0 h 14040"/>
                      <a:gd name="textAreaBottom" fmla="*/ 14400 h 14040"/>
                    </a:gdLst>
                    <a:ahLst/>
                    <a:rect l="textAreaLeft" t="textAreaTop" r="textAreaRight" b="textAreaBottom"/>
                    <a:pathLst>
                      <a:path w="95" h="72">
                        <a:moveTo>
                          <a:pt x="48" y="0"/>
                        </a:moveTo>
                        <a:lnTo>
                          <a:pt x="57" y="2"/>
                        </a:lnTo>
                        <a:lnTo>
                          <a:pt x="66" y="3"/>
                        </a:lnTo>
                        <a:lnTo>
                          <a:pt x="74" y="6"/>
                        </a:lnTo>
                        <a:lnTo>
                          <a:pt x="81" y="11"/>
                        </a:lnTo>
                        <a:lnTo>
                          <a:pt x="87" y="16"/>
                        </a:lnTo>
                        <a:lnTo>
                          <a:pt x="91" y="22"/>
                        </a:lnTo>
                        <a:lnTo>
                          <a:pt x="94" y="29"/>
                        </a:lnTo>
                        <a:lnTo>
                          <a:pt x="95" y="36"/>
                        </a:lnTo>
                        <a:lnTo>
                          <a:pt x="94" y="43"/>
                        </a:lnTo>
                        <a:lnTo>
                          <a:pt x="91" y="50"/>
                        </a:lnTo>
                        <a:lnTo>
                          <a:pt x="87" y="56"/>
                        </a:lnTo>
                        <a:lnTo>
                          <a:pt x="81" y="61"/>
                        </a:lnTo>
                        <a:lnTo>
                          <a:pt x="74" y="66"/>
                        </a:lnTo>
                        <a:lnTo>
                          <a:pt x="66" y="69"/>
                        </a:lnTo>
                        <a:lnTo>
                          <a:pt x="57" y="71"/>
                        </a:lnTo>
                        <a:lnTo>
                          <a:pt x="48" y="72"/>
                        </a:lnTo>
                        <a:lnTo>
                          <a:pt x="38" y="71"/>
                        </a:lnTo>
                        <a:lnTo>
                          <a:pt x="29" y="69"/>
                        </a:lnTo>
                        <a:lnTo>
                          <a:pt x="21" y="66"/>
                        </a:lnTo>
                        <a:lnTo>
                          <a:pt x="14" y="61"/>
                        </a:lnTo>
                        <a:lnTo>
                          <a:pt x="8" y="56"/>
                        </a:lnTo>
                        <a:lnTo>
                          <a:pt x="4" y="50"/>
                        </a:lnTo>
                        <a:lnTo>
                          <a:pt x="2" y="43"/>
                        </a:lnTo>
                        <a:lnTo>
                          <a:pt x="0" y="36"/>
                        </a:lnTo>
                        <a:lnTo>
                          <a:pt x="2" y="29"/>
                        </a:lnTo>
                        <a:lnTo>
                          <a:pt x="4" y="22"/>
                        </a:lnTo>
                        <a:lnTo>
                          <a:pt x="8" y="16"/>
                        </a:lnTo>
                        <a:lnTo>
                          <a:pt x="14" y="11"/>
                        </a:lnTo>
                        <a:lnTo>
                          <a:pt x="21" y="6"/>
                        </a:lnTo>
                        <a:lnTo>
                          <a:pt x="29" y="3"/>
                        </a:lnTo>
                        <a:lnTo>
                          <a:pt x="38" y="2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e6e6e6">
                      <a:alpha val="56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Gruppe 814"/>
                <p:cNvGrpSpPr/>
                <p:nvPr/>
              </p:nvGrpSpPr>
              <p:grpSpPr>
                <a:xfrm>
                  <a:off x="2413440" y="3054600"/>
                  <a:ext cx="85320" cy="194400"/>
                  <a:chOff x="2413440" y="3054600"/>
                  <a:chExt cx="85320" cy="194400"/>
                </a:xfrm>
              </p:grpSpPr>
              <p:sp>
                <p:nvSpPr>
                  <p:cNvPr id="206" name="Freeform 330"/>
                  <p:cNvSpPr/>
                  <p:nvPr/>
                </p:nvSpPr>
                <p:spPr>
                  <a:xfrm flipH="1">
                    <a:off x="2413080" y="3192480"/>
                    <a:ext cx="85320" cy="20520"/>
                  </a:xfrm>
                  <a:custGeom>
                    <a:avLst/>
                    <a:gdLst>
                      <a:gd name="textAreaLeft" fmla="*/ 0 w 85320"/>
                      <a:gd name="textAreaRight" fmla="*/ 85320 w 853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431" h="109">
                        <a:moveTo>
                          <a:pt x="27" y="5"/>
                        </a:moveTo>
                        <a:lnTo>
                          <a:pt x="77" y="45"/>
                        </a:lnTo>
                        <a:lnTo>
                          <a:pt x="100" y="51"/>
                        </a:lnTo>
                        <a:lnTo>
                          <a:pt x="122" y="54"/>
                        </a:lnTo>
                        <a:lnTo>
                          <a:pt x="143" y="60"/>
                        </a:lnTo>
                        <a:lnTo>
                          <a:pt x="162" y="62"/>
                        </a:lnTo>
                        <a:lnTo>
                          <a:pt x="180" y="65"/>
                        </a:lnTo>
                        <a:lnTo>
                          <a:pt x="199" y="67"/>
                        </a:lnTo>
                        <a:lnTo>
                          <a:pt x="217" y="67"/>
                        </a:lnTo>
                        <a:lnTo>
                          <a:pt x="234" y="67"/>
                        </a:lnTo>
                        <a:lnTo>
                          <a:pt x="251" y="66"/>
                        </a:lnTo>
                        <a:lnTo>
                          <a:pt x="267" y="65"/>
                        </a:lnTo>
                        <a:lnTo>
                          <a:pt x="286" y="61"/>
                        </a:lnTo>
                        <a:lnTo>
                          <a:pt x="304" y="57"/>
                        </a:lnTo>
                        <a:lnTo>
                          <a:pt x="322" y="52"/>
                        </a:lnTo>
                        <a:lnTo>
                          <a:pt x="343" y="44"/>
                        </a:lnTo>
                        <a:lnTo>
                          <a:pt x="363" y="36"/>
                        </a:lnTo>
                        <a:lnTo>
                          <a:pt x="386" y="26"/>
                        </a:lnTo>
                        <a:lnTo>
                          <a:pt x="392" y="12"/>
                        </a:lnTo>
                        <a:lnTo>
                          <a:pt x="397" y="4"/>
                        </a:lnTo>
                        <a:lnTo>
                          <a:pt x="401" y="0"/>
                        </a:lnTo>
                        <a:lnTo>
                          <a:pt x="405" y="1"/>
                        </a:lnTo>
                        <a:lnTo>
                          <a:pt x="409" y="5"/>
                        </a:lnTo>
                        <a:lnTo>
                          <a:pt x="414" y="13"/>
                        </a:lnTo>
                        <a:lnTo>
                          <a:pt x="422" y="23"/>
                        </a:lnTo>
                        <a:lnTo>
                          <a:pt x="431" y="36"/>
                        </a:lnTo>
                        <a:lnTo>
                          <a:pt x="413" y="62"/>
                        </a:lnTo>
                        <a:lnTo>
                          <a:pt x="393" y="74"/>
                        </a:lnTo>
                        <a:lnTo>
                          <a:pt x="371" y="83"/>
                        </a:lnTo>
                        <a:lnTo>
                          <a:pt x="349" y="91"/>
                        </a:lnTo>
                        <a:lnTo>
                          <a:pt x="325" y="97"/>
                        </a:lnTo>
                        <a:lnTo>
                          <a:pt x="300" y="103"/>
                        </a:lnTo>
                        <a:lnTo>
                          <a:pt x="274" y="106"/>
                        </a:lnTo>
                        <a:lnTo>
                          <a:pt x="247" y="109"/>
                        </a:lnTo>
                        <a:lnTo>
                          <a:pt x="221" y="109"/>
                        </a:lnTo>
                        <a:lnTo>
                          <a:pt x="193" y="109"/>
                        </a:lnTo>
                        <a:lnTo>
                          <a:pt x="166" y="108"/>
                        </a:lnTo>
                        <a:lnTo>
                          <a:pt x="140" y="104"/>
                        </a:lnTo>
                        <a:lnTo>
                          <a:pt x="114" y="100"/>
                        </a:lnTo>
                        <a:lnTo>
                          <a:pt x="88" y="95"/>
                        </a:lnTo>
                        <a:lnTo>
                          <a:pt x="65" y="90"/>
                        </a:lnTo>
                        <a:lnTo>
                          <a:pt x="42" y="82"/>
                        </a:lnTo>
                        <a:lnTo>
                          <a:pt x="21" y="74"/>
                        </a:lnTo>
                        <a:lnTo>
                          <a:pt x="13" y="64"/>
                        </a:lnTo>
                        <a:lnTo>
                          <a:pt x="7" y="53"/>
                        </a:lnTo>
                        <a:lnTo>
                          <a:pt x="3" y="43"/>
                        </a:lnTo>
                        <a:lnTo>
                          <a:pt x="0" y="32"/>
                        </a:lnTo>
                        <a:lnTo>
                          <a:pt x="0" y="23"/>
                        </a:lnTo>
                        <a:lnTo>
                          <a:pt x="5" y="16"/>
                        </a:lnTo>
                        <a:lnTo>
                          <a:pt x="13" y="9"/>
                        </a:lnTo>
                        <a:lnTo>
                          <a:pt x="27" y="5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336"/>
                  <p:cNvSpPr/>
                  <p:nvPr/>
                </p:nvSpPr>
                <p:spPr>
                  <a:xfrm flipH="1">
                    <a:off x="2422080" y="3235680"/>
                    <a:ext cx="61200" cy="13320"/>
                  </a:xfrm>
                  <a:custGeom>
                    <a:avLst/>
                    <a:gdLst>
                      <a:gd name="textAreaLeft" fmla="*/ 360 w 61200"/>
                      <a:gd name="textAreaRight" fmla="*/ 61920 w 6120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309" h="72">
                        <a:moveTo>
                          <a:pt x="0" y="29"/>
                        </a:moveTo>
                        <a:lnTo>
                          <a:pt x="3" y="37"/>
                        </a:lnTo>
                        <a:lnTo>
                          <a:pt x="7" y="45"/>
                        </a:lnTo>
                        <a:lnTo>
                          <a:pt x="11" y="53"/>
                        </a:lnTo>
                        <a:lnTo>
                          <a:pt x="15" y="61"/>
                        </a:lnTo>
                        <a:lnTo>
                          <a:pt x="22" y="62"/>
                        </a:lnTo>
                        <a:lnTo>
                          <a:pt x="29" y="63"/>
                        </a:lnTo>
                        <a:lnTo>
                          <a:pt x="37" y="65"/>
                        </a:lnTo>
                        <a:lnTo>
                          <a:pt x="44" y="66"/>
                        </a:lnTo>
                        <a:lnTo>
                          <a:pt x="51" y="67"/>
                        </a:lnTo>
                        <a:lnTo>
                          <a:pt x="59" y="68"/>
                        </a:lnTo>
                        <a:lnTo>
                          <a:pt x="65" y="71"/>
                        </a:lnTo>
                        <a:lnTo>
                          <a:pt x="73" y="72"/>
                        </a:lnTo>
                        <a:lnTo>
                          <a:pt x="91" y="72"/>
                        </a:lnTo>
                        <a:lnTo>
                          <a:pt x="109" y="71"/>
                        </a:lnTo>
                        <a:lnTo>
                          <a:pt x="127" y="71"/>
                        </a:lnTo>
                        <a:lnTo>
                          <a:pt x="146" y="70"/>
                        </a:lnTo>
                        <a:lnTo>
                          <a:pt x="164" y="70"/>
                        </a:lnTo>
                        <a:lnTo>
                          <a:pt x="183" y="68"/>
                        </a:lnTo>
                        <a:lnTo>
                          <a:pt x="201" y="68"/>
                        </a:lnTo>
                        <a:lnTo>
                          <a:pt x="220" y="67"/>
                        </a:lnTo>
                        <a:lnTo>
                          <a:pt x="231" y="65"/>
                        </a:lnTo>
                        <a:lnTo>
                          <a:pt x="242" y="61"/>
                        </a:lnTo>
                        <a:lnTo>
                          <a:pt x="253" y="58"/>
                        </a:lnTo>
                        <a:lnTo>
                          <a:pt x="265" y="54"/>
                        </a:lnTo>
                        <a:lnTo>
                          <a:pt x="275" y="52"/>
                        </a:lnTo>
                        <a:lnTo>
                          <a:pt x="287" y="48"/>
                        </a:lnTo>
                        <a:lnTo>
                          <a:pt x="297" y="45"/>
                        </a:lnTo>
                        <a:lnTo>
                          <a:pt x="309" y="41"/>
                        </a:lnTo>
                        <a:lnTo>
                          <a:pt x="309" y="26"/>
                        </a:lnTo>
                        <a:lnTo>
                          <a:pt x="307" y="13"/>
                        </a:lnTo>
                        <a:lnTo>
                          <a:pt x="303" y="5"/>
                        </a:lnTo>
                        <a:lnTo>
                          <a:pt x="297" y="1"/>
                        </a:lnTo>
                        <a:lnTo>
                          <a:pt x="290" y="0"/>
                        </a:lnTo>
                        <a:lnTo>
                          <a:pt x="279" y="0"/>
                        </a:lnTo>
                        <a:lnTo>
                          <a:pt x="268" y="4"/>
                        </a:lnTo>
                        <a:lnTo>
                          <a:pt x="252" y="9"/>
                        </a:lnTo>
                        <a:lnTo>
                          <a:pt x="242" y="9"/>
                        </a:lnTo>
                        <a:lnTo>
                          <a:pt x="231" y="10"/>
                        </a:lnTo>
                        <a:lnTo>
                          <a:pt x="221" y="10"/>
                        </a:lnTo>
                        <a:lnTo>
                          <a:pt x="211" y="10"/>
                        </a:lnTo>
                        <a:lnTo>
                          <a:pt x="200" y="10"/>
                        </a:lnTo>
                        <a:lnTo>
                          <a:pt x="188" y="10"/>
                        </a:lnTo>
                        <a:lnTo>
                          <a:pt x="178" y="11"/>
                        </a:lnTo>
                        <a:lnTo>
                          <a:pt x="168" y="11"/>
                        </a:lnTo>
                        <a:lnTo>
                          <a:pt x="140" y="10"/>
                        </a:lnTo>
                        <a:lnTo>
                          <a:pt x="116" y="9"/>
                        </a:lnTo>
                        <a:lnTo>
                          <a:pt x="96" y="6"/>
                        </a:lnTo>
                        <a:lnTo>
                          <a:pt x="77" y="5"/>
                        </a:lnTo>
                        <a:lnTo>
                          <a:pt x="60" y="6"/>
                        </a:lnTo>
                        <a:lnTo>
                          <a:pt x="42" y="9"/>
                        </a:lnTo>
                        <a:lnTo>
                          <a:pt x="22" y="16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353"/>
                  <p:cNvSpPr/>
                  <p:nvPr/>
                </p:nvSpPr>
                <p:spPr>
                  <a:xfrm flipH="1">
                    <a:off x="2441880" y="3114720"/>
                    <a:ext cx="21960" cy="4680"/>
                  </a:xfrm>
                  <a:custGeom>
                    <a:avLst/>
                    <a:gdLst>
                      <a:gd name="textAreaLeft" fmla="*/ -360 w 21960"/>
                      <a:gd name="textAreaRight" fmla="*/ 21960 w 2196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112" h="25">
                        <a:moveTo>
                          <a:pt x="0" y="11"/>
                        </a:moveTo>
                        <a:lnTo>
                          <a:pt x="5" y="17"/>
                        </a:lnTo>
                        <a:lnTo>
                          <a:pt x="26" y="25"/>
                        </a:lnTo>
                        <a:lnTo>
                          <a:pt x="80" y="20"/>
                        </a:lnTo>
                        <a:lnTo>
                          <a:pt x="112" y="13"/>
                        </a:lnTo>
                        <a:lnTo>
                          <a:pt x="110" y="4"/>
                        </a:lnTo>
                        <a:lnTo>
                          <a:pt x="108" y="0"/>
                        </a:lnTo>
                        <a:lnTo>
                          <a:pt x="103" y="2"/>
                        </a:lnTo>
                        <a:lnTo>
                          <a:pt x="92" y="4"/>
                        </a:lnTo>
                        <a:lnTo>
                          <a:pt x="61" y="6"/>
                        </a:lnTo>
                        <a:lnTo>
                          <a:pt x="51" y="6"/>
                        </a:lnTo>
                        <a:lnTo>
                          <a:pt x="43" y="4"/>
                        </a:lnTo>
                        <a:lnTo>
                          <a:pt x="35" y="4"/>
                        </a:lnTo>
                        <a:lnTo>
                          <a:pt x="29" y="3"/>
                        </a:lnTo>
                        <a:lnTo>
                          <a:pt x="22" y="3"/>
                        </a:lnTo>
                        <a:lnTo>
                          <a:pt x="14" y="4"/>
                        </a:lnTo>
                        <a:lnTo>
                          <a:pt x="8" y="7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363"/>
                  <p:cNvSpPr/>
                  <p:nvPr/>
                </p:nvSpPr>
                <p:spPr>
                  <a:xfrm flipH="1">
                    <a:off x="2438280" y="3054600"/>
                    <a:ext cx="24120" cy="5040"/>
                  </a:xfrm>
                  <a:custGeom>
                    <a:avLst/>
                    <a:gdLst>
                      <a:gd name="textAreaLeft" fmla="*/ -360 w 24120"/>
                      <a:gd name="textAreaRight" fmla="*/ 24120 w 24120"/>
                      <a:gd name="textAreaTop" fmla="*/ 0 h 5040"/>
                      <a:gd name="textAreaBottom" fmla="*/ 5400 h 5040"/>
                    </a:gdLst>
                    <a:ahLst/>
                    <a:rect l="textAreaLeft" t="textAreaTop" r="textAreaRight" b="textAreaBottom"/>
                    <a:pathLst>
                      <a:path w="122" h="27">
                        <a:moveTo>
                          <a:pt x="0" y="12"/>
                        </a:moveTo>
                        <a:lnTo>
                          <a:pt x="1" y="14"/>
                        </a:lnTo>
                        <a:lnTo>
                          <a:pt x="2" y="16"/>
                        </a:lnTo>
                        <a:lnTo>
                          <a:pt x="4" y="18"/>
                        </a:lnTo>
                        <a:lnTo>
                          <a:pt x="5" y="21"/>
                        </a:lnTo>
                        <a:lnTo>
                          <a:pt x="11" y="22"/>
                        </a:lnTo>
                        <a:lnTo>
                          <a:pt x="17" y="24"/>
                        </a:lnTo>
                        <a:lnTo>
                          <a:pt x="23" y="26"/>
                        </a:lnTo>
                        <a:lnTo>
                          <a:pt x="28" y="27"/>
                        </a:lnTo>
                        <a:lnTo>
                          <a:pt x="36" y="27"/>
                        </a:lnTo>
                        <a:lnTo>
                          <a:pt x="43" y="26"/>
                        </a:lnTo>
                        <a:lnTo>
                          <a:pt x="50" y="26"/>
                        </a:lnTo>
                        <a:lnTo>
                          <a:pt x="58" y="25"/>
                        </a:lnTo>
                        <a:lnTo>
                          <a:pt x="65" y="25"/>
                        </a:lnTo>
                        <a:lnTo>
                          <a:pt x="72" y="25"/>
                        </a:lnTo>
                        <a:lnTo>
                          <a:pt x="79" y="24"/>
                        </a:lnTo>
                        <a:lnTo>
                          <a:pt x="87" y="24"/>
                        </a:lnTo>
                        <a:lnTo>
                          <a:pt x="96" y="21"/>
                        </a:lnTo>
                        <a:lnTo>
                          <a:pt x="105" y="20"/>
                        </a:lnTo>
                        <a:lnTo>
                          <a:pt x="113" y="17"/>
                        </a:lnTo>
                        <a:lnTo>
                          <a:pt x="122" y="16"/>
                        </a:lnTo>
                        <a:lnTo>
                          <a:pt x="120" y="5"/>
                        </a:lnTo>
                        <a:lnTo>
                          <a:pt x="118" y="0"/>
                        </a:lnTo>
                        <a:lnTo>
                          <a:pt x="111" y="2"/>
                        </a:lnTo>
                        <a:lnTo>
                          <a:pt x="100" y="4"/>
                        </a:lnTo>
                        <a:lnTo>
                          <a:pt x="92" y="5"/>
                        </a:lnTo>
                        <a:lnTo>
                          <a:pt x="83" y="5"/>
                        </a:lnTo>
                        <a:lnTo>
                          <a:pt x="75" y="5"/>
                        </a:lnTo>
                        <a:lnTo>
                          <a:pt x="66" y="5"/>
                        </a:lnTo>
                        <a:lnTo>
                          <a:pt x="56" y="5"/>
                        </a:lnTo>
                        <a:lnTo>
                          <a:pt x="47" y="4"/>
                        </a:lnTo>
                        <a:lnTo>
                          <a:pt x="37" y="4"/>
                        </a:lnTo>
                        <a:lnTo>
                          <a:pt x="31" y="3"/>
                        </a:lnTo>
                        <a:lnTo>
                          <a:pt x="23" y="4"/>
                        </a:lnTo>
                        <a:lnTo>
                          <a:pt x="17" y="5"/>
                        </a:lnTo>
                        <a:lnTo>
                          <a:pt x="9" y="8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0" name="Gruppe 75"/>
            <p:cNvGrpSpPr/>
            <p:nvPr/>
          </p:nvGrpSpPr>
          <p:grpSpPr>
            <a:xfrm>
              <a:off x="2590920" y="2752920"/>
              <a:ext cx="127440" cy="235440"/>
              <a:chOff x="2590920" y="2752920"/>
              <a:chExt cx="127440" cy="235440"/>
            </a:xfrm>
          </p:grpSpPr>
          <p:sp>
            <p:nvSpPr>
              <p:cNvPr id="211" name="Ellipse 347"/>
              <p:cNvSpPr/>
              <p:nvPr/>
            </p:nvSpPr>
            <p:spPr>
              <a:xfrm flipH="1">
                <a:off x="2590920" y="2958480"/>
                <a:ext cx="111600" cy="29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Gruppe 822"/>
              <p:cNvGrpSpPr/>
              <p:nvPr/>
            </p:nvGrpSpPr>
            <p:grpSpPr>
              <a:xfrm>
                <a:off x="2615400" y="2752920"/>
                <a:ext cx="102960" cy="227520"/>
                <a:chOff x="2615400" y="2752920"/>
                <a:chExt cx="102960" cy="227520"/>
              </a:xfrm>
            </p:grpSpPr>
            <p:grpSp>
              <p:nvGrpSpPr>
                <p:cNvPr id="213" name="Gruppe 604"/>
                <p:cNvGrpSpPr/>
                <p:nvPr/>
              </p:nvGrpSpPr>
              <p:grpSpPr>
                <a:xfrm>
                  <a:off x="2616120" y="2752920"/>
                  <a:ext cx="102240" cy="227520"/>
                  <a:chOff x="2616120" y="2752920"/>
                  <a:chExt cx="102240" cy="227520"/>
                </a:xfrm>
              </p:grpSpPr>
              <p:sp>
                <p:nvSpPr>
                  <p:cNvPr id="214" name="Freeform 130"/>
                  <p:cNvSpPr/>
                  <p:nvPr/>
                </p:nvSpPr>
                <p:spPr>
                  <a:xfrm flipH="1">
                    <a:off x="2616120" y="2752920"/>
                    <a:ext cx="102240" cy="227520"/>
                  </a:xfrm>
                  <a:custGeom>
                    <a:avLst/>
                    <a:gdLst>
                      <a:gd name="textAreaLeft" fmla="*/ 360 w 102240"/>
                      <a:gd name="textAreaRight" fmla="*/ 102960 w 102240"/>
                      <a:gd name="textAreaTop" fmla="*/ 0 h 227520"/>
                      <a:gd name="textAreaBottom" fmla="*/ 227880 h 227520"/>
                    </a:gdLst>
                    <a:ahLst/>
                    <a:rect l="textAreaLeft" t="textAreaTop" r="textAreaRight" b="textAreaBottom"/>
                    <a:pathLst>
                      <a:path w="493" h="1194">
                        <a:moveTo>
                          <a:pt x="208" y="62"/>
                        </a:moveTo>
                        <a:lnTo>
                          <a:pt x="167" y="83"/>
                        </a:lnTo>
                        <a:lnTo>
                          <a:pt x="145" y="87"/>
                        </a:lnTo>
                        <a:lnTo>
                          <a:pt x="125" y="93"/>
                        </a:lnTo>
                        <a:lnTo>
                          <a:pt x="110" y="100"/>
                        </a:lnTo>
                        <a:lnTo>
                          <a:pt x="99" y="110"/>
                        </a:lnTo>
                        <a:lnTo>
                          <a:pt x="92" y="124"/>
                        </a:lnTo>
                        <a:lnTo>
                          <a:pt x="90" y="141"/>
                        </a:lnTo>
                        <a:lnTo>
                          <a:pt x="93" y="162"/>
                        </a:lnTo>
                        <a:lnTo>
                          <a:pt x="104" y="187"/>
                        </a:lnTo>
                        <a:lnTo>
                          <a:pt x="158" y="242"/>
                        </a:lnTo>
                        <a:lnTo>
                          <a:pt x="158" y="272"/>
                        </a:lnTo>
                        <a:lnTo>
                          <a:pt x="140" y="282"/>
                        </a:lnTo>
                        <a:lnTo>
                          <a:pt x="135" y="302"/>
                        </a:lnTo>
                        <a:lnTo>
                          <a:pt x="138" y="326"/>
                        </a:lnTo>
                        <a:lnTo>
                          <a:pt x="147" y="346"/>
                        </a:lnTo>
                        <a:lnTo>
                          <a:pt x="104" y="360"/>
                        </a:lnTo>
                        <a:lnTo>
                          <a:pt x="89" y="375"/>
                        </a:lnTo>
                        <a:lnTo>
                          <a:pt x="77" y="389"/>
                        </a:lnTo>
                        <a:lnTo>
                          <a:pt x="71" y="402"/>
                        </a:lnTo>
                        <a:lnTo>
                          <a:pt x="70" y="414"/>
                        </a:lnTo>
                        <a:lnTo>
                          <a:pt x="74" y="426"/>
                        </a:lnTo>
                        <a:lnTo>
                          <a:pt x="82" y="437"/>
                        </a:lnTo>
                        <a:lnTo>
                          <a:pt x="94" y="449"/>
                        </a:lnTo>
                        <a:lnTo>
                          <a:pt x="113" y="459"/>
                        </a:lnTo>
                        <a:lnTo>
                          <a:pt x="173" y="480"/>
                        </a:lnTo>
                        <a:lnTo>
                          <a:pt x="168" y="522"/>
                        </a:lnTo>
                        <a:lnTo>
                          <a:pt x="162" y="562"/>
                        </a:lnTo>
                        <a:lnTo>
                          <a:pt x="156" y="601"/>
                        </a:lnTo>
                        <a:lnTo>
                          <a:pt x="150" y="638"/>
                        </a:lnTo>
                        <a:lnTo>
                          <a:pt x="140" y="676"/>
                        </a:lnTo>
                        <a:lnTo>
                          <a:pt x="129" y="713"/>
                        </a:lnTo>
                        <a:lnTo>
                          <a:pt x="115" y="750"/>
                        </a:lnTo>
                        <a:lnTo>
                          <a:pt x="98" y="789"/>
                        </a:lnTo>
                        <a:lnTo>
                          <a:pt x="83" y="796"/>
                        </a:lnTo>
                        <a:lnTo>
                          <a:pt x="70" y="804"/>
                        </a:lnTo>
                        <a:lnTo>
                          <a:pt x="61" y="814"/>
                        </a:lnTo>
                        <a:lnTo>
                          <a:pt x="55" y="823"/>
                        </a:lnTo>
                        <a:lnTo>
                          <a:pt x="53" y="835"/>
                        </a:lnTo>
                        <a:lnTo>
                          <a:pt x="55" y="845"/>
                        </a:lnTo>
                        <a:lnTo>
                          <a:pt x="62" y="857"/>
                        </a:lnTo>
                        <a:lnTo>
                          <a:pt x="75" y="868"/>
                        </a:lnTo>
                        <a:lnTo>
                          <a:pt x="78" y="889"/>
                        </a:lnTo>
                        <a:lnTo>
                          <a:pt x="53" y="896"/>
                        </a:lnTo>
                        <a:lnTo>
                          <a:pt x="34" y="905"/>
                        </a:lnTo>
                        <a:lnTo>
                          <a:pt x="21" y="916"/>
                        </a:lnTo>
                        <a:lnTo>
                          <a:pt x="13" y="928"/>
                        </a:lnTo>
                        <a:lnTo>
                          <a:pt x="8" y="942"/>
                        </a:lnTo>
                        <a:lnTo>
                          <a:pt x="8" y="959"/>
                        </a:lnTo>
                        <a:lnTo>
                          <a:pt x="10" y="978"/>
                        </a:lnTo>
                        <a:lnTo>
                          <a:pt x="15" y="999"/>
                        </a:lnTo>
                        <a:lnTo>
                          <a:pt x="19" y="1032"/>
                        </a:lnTo>
                        <a:lnTo>
                          <a:pt x="0" y="1057"/>
                        </a:lnTo>
                        <a:lnTo>
                          <a:pt x="0" y="1121"/>
                        </a:lnTo>
                        <a:lnTo>
                          <a:pt x="18" y="1137"/>
                        </a:lnTo>
                        <a:lnTo>
                          <a:pt x="41" y="1151"/>
                        </a:lnTo>
                        <a:lnTo>
                          <a:pt x="69" y="1163"/>
                        </a:lnTo>
                        <a:lnTo>
                          <a:pt x="101" y="1174"/>
                        </a:lnTo>
                        <a:lnTo>
                          <a:pt x="135" y="1182"/>
                        </a:lnTo>
                        <a:lnTo>
                          <a:pt x="171" y="1189"/>
                        </a:lnTo>
                        <a:lnTo>
                          <a:pt x="208" y="1192"/>
                        </a:lnTo>
                        <a:lnTo>
                          <a:pt x="246" y="1194"/>
                        </a:lnTo>
                        <a:lnTo>
                          <a:pt x="285" y="1193"/>
                        </a:lnTo>
                        <a:lnTo>
                          <a:pt x="322" y="1190"/>
                        </a:lnTo>
                        <a:lnTo>
                          <a:pt x="359" y="1184"/>
                        </a:lnTo>
                        <a:lnTo>
                          <a:pt x="393" y="1175"/>
                        </a:lnTo>
                        <a:lnTo>
                          <a:pt x="424" y="1162"/>
                        </a:lnTo>
                        <a:lnTo>
                          <a:pt x="451" y="1147"/>
                        </a:lnTo>
                        <a:lnTo>
                          <a:pt x="474" y="1129"/>
                        </a:lnTo>
                        <a:lnTo>
                          <a:pt x="493" y="1107"/>
                        </a:lnTo>
                        <a:lnTo>
                          <a:pt x="493" y="1069"/>
                        </a:lnTo>
                        <a:lnTo>
                          <a:pt x="484" y="1032"/>
                        </a:lnTo>
                        <a:lnTo>
                          <a:pt x="487" y="1005"/>
                        </a:lnTo>
                        <a:lnTo>
                          <a:pt x="489" y="984"/>
                        </a:lnTo>
                        <a:lnTo>
                          <a:pt x="489" y="965"/>
                        </a:lnTo>
                        <a:lnTo>
                          <a:pt x="486" y="950"/>
                        </a:lnTo>
                        <a:lnTo>
                          <a:pt x="480" y="936"/>
                        </a:lnTo>
                        <a:lnTo>
                          <a:pt x="470" y="921"/>
                        </a:lnTo>
                        <a:lnTo>
                          <a:pt x="454" y="906"/>
                        </a:lnTo>
                        <a:lnTo>
                          <a:pt x="433" y="888"/>
                        </a:lnTo>
                        <a:lnTo>
                          <a:pt x="441" y="870"/>
                        </a:lnTo>
                        <a:lnTo>
                          <a:pt x="446" y="855"/>
                        </a:lnTo>
                        <a:lnTo>
                          <a:pt x="449" y="842"/>
                        </a:lnTo>
                        <a:lnTo>
                          <a:pt x="449" y="832"/>
                        </a:lnTo>
                        <a:lnTo>
                          <a:pt x="444" y="823"/>
                        </a:lnTo>
                        <a:lnTo>
                          <a:pt x="438" y="814"/>
                        </a:lnTo>
                        <a:lnTo>
                          <a:pt x="425" y="805"/>
                        </a:lnTo>
                        <a:lnTo>
                          <a:pt x="409" y="793"/>
                        </a:lnTo>
                        <a:lnTo>
                          <a:pt x="389" y="751"/>
                        </a:lnTo>
                        <a:lnTo>
                          <a:pt x="373" y="713"/>
                        </a:lnTo>
                        <a:lnTo>
                          <a:pt x="362" y="677"/>
                        </a:lnTo>
                        <a:lnTo>
                          <a:pt x="355" y="644"/>
                        </a:lnTo>
                        <a:lnTo>
                          <a:pt x="349" y="609"/>
                        </a:lnTo>
                        <a:lnTo>
                          <a:pt x="345" y="572"/>
                        </a:lnTo>
                        <a:lnTo>
                          <a:pt x="344" y="531"/>
                        </a:lnTo>
                        <a:lnTo>
                          <a:pt x="344" y="485"/>
                        </a:lnTo>
                        <a:lnTo>
                          <a:pt x="379" y="471"/>
                        </a:lnTo>
                        <a:lnTo>
                          <a:pt x="404" y="455"/>
                        </a:lnTo>
                        <a:lnTo>
                          <a:pt x="417" y="446"/>
                        </a:lnTo>
                        <a:lnTo>
                          <a:pt x="426" y="435"/>
                        </a:lnTo>
                        <a:lnTo>
                          <a:pt x="433" y="423"/>
                        </a:lnTo>
                        <a:lnTo>
                          <a:pt x="436" y="411"/>
                        </a:lnTo>
                        <a:lnTo>
                          <a:pt x="434" y="398"/>
                        </a:lnTo>
                        <a:lnTo>
                          <a:pt x="427" y="386"/>
                        </a:lnTo>
                        <a:lnTo>
                          <a:pt x="414" y="374"/>
                        </a:lnTo>
                        <a:lnTo>
                          <a:pt x="394" y="364"/>
                        </a:lnTo>
                        <a:lnTo>
                          <a:pt x="368" y="356"/>
                        </a:lnTo>
                        <a:lnTo>
                          <a:pt x="379" y="343"/>
                        </a:lnTo>
                        <a:lnTo>
                          <a:pt x="386" y="330"/>
                        </a:lnTo>
                        <a:lnTo>
                          <a:pt x="390" y="318"/>
                        </a:lnTo>
                        <a:lnTo>
                          <a:pt x="393" y="306"/>
                        </a:lnTo>
                        <a:lnTo>
                          <a:pt x="390" y="295"/>
                        </a:lnTo>
                        <a:lnTo>
                          <a:pt x="386" y="283"/>
                        </a:lnTo>
                        <a:lnTo>
                          <a:pt x="376" y="273"/>
                        </a:lnTo>
                        <a:lnTo>
                          <a:pt x="364" y="261"/>
                        </a:lnTo>
                        <a:lnTo>
                          <a:pt x="389" y="227"/>
                        </a:lnTo>
                        <a:lnTo>
                          <a:pt x="409" y="192"/>
                        </a:lnTo>
                        <a:lnTo>
                          <a:pt x="420" y="170"/>
                        </a:lnTo>
                        <a:lnTo>
                          <a:pt x="428" y="153"/>
                        </a:lnTo>
                        <a:lnTo>
                          <a:pt x="432" y="139"/>
                        </a:lnTo>
                        <a:lnTo>
                          <a:pt x="432" y="128"/>
                        </a:lnTo>
                        <a:lnTo>
                          <a:pt x="426" y="118"/>
                        </a:lnTo>
                        <a:lnTo>
                          <a:pt x="416" y="110"/>
                        </a:lnTo>
                        <a:lnTo>
                          <a:pt x="400" y="102"/>
                        </a:lnTo>
                        <a:lnTo>
                          <a:pt x="378" y="92"/>
                        </a:lnTo>
                        <a:lnTo>
                          <a:pt x="349" y="77"/>
                        </a:lnTo>
                        <a:lnTo>
                          <a:pt x="320" y="68"/>
                        </a:lnTo>
                        <a:lnTo>
                          <a:pt x="322" y="54"/>
                        </a:lnTo>
                        <a:lnTo>
                          <a:pt x="322" y="42"/>
                        </a:lnTo>
                        <a:lnTo>
                          <a:pt x="320" y="32"/>
                        </a:lnTo>
                        <a:lnTo>
                          <a:pt x="315" y="23"/>
                        </a:lnTo>
                        <a:lnTo>
                          <a:pt x="309" y="16"/>
                        </a:lnTo>
                        <a:lnTo>
                          <a:pt x="300" y="10"/>
                        </a:lnTo>
                        <a:lnTo>
                          <a:pt x="291" y="5"/>
                        </a:lnTo>
                        <a:lnTo>
                          <a:pt x="281" y="2"/>
                        </a:lnTo>
                        <a:lnTo>
                          <a:pt x="268" y="0"/>
                        </a:lnTo>
                        <a:lnTo>
                          <a:pt x="256" y="1"/>
                        </a:lnTo>
                        <a:lnTo>
                          <a:pt x="243" y="3"/>
                        </a:lnTo>
                        <a:lnTo>
                          <a:pt x="233" y="8"/>
                        </a:lnTo>
                        <a:lnTo>
                          <a:pt x="222" y="16"/>
                        </a:lnTo>
                        <a:lnTo>
                          <a:pt x="215" y="27"/>
                        </a:lnTo>
                        <a:lnTo>
                          <a:pt x="211" y="42"/>
                        </a:lnTo>
                        <a:lnTo>
                          <a:pt x="208" y="6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80808"/>
                      </a:gs>
                      <a:gs pos="100000">
                        <a:srgbClr val="e6e6e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Freeform 131"/>
                  <p:cNvSpPr/>
                  <p:nvPr/>
                </p:nvSpPr>
                <p:spPr>
                  <a:xfrm flipH="1">
                    <a:off x="2643120" y="2766960"/>
                    <a:ext cx="41400" cy="10800"/>
                  </a:xfrm>
                  <a:custGeom>
                    <a:avLst/>
                    <a:gdLst>
                      <a:gd name="textAreaLeft" fmla="*/ -360 w 41400"/>
                      <a:gd name="textAreaRight" fmla="*/ 41400 w 41400"/>
                      <a:gd name="textAreaTop" fmla="*/ 0 h 10800"/>
                      <a:gd name="textAreaBottom" fmla="*/ 10800 h 10800"/>
                    </a:gdLst>
                    <a:ahLst/>
                    <a:rect l="textAreaLeft" t="textAreaTop" r="textAreaRight" b="textAreaBottom"/>
                    <a:pathLst>
                      <a:path w="185" h="58">
                        <a:moveTo>
                          <a:pt x="13" y="8"/>
                        </a:moveTo>
                        <a:lnTo>
                          <a:pt x="0" y="22"/>
                        </a:lnTo>
                        <a:lnTo>
                          <a:pt x="8" y="43"/>
                        </a:lnTo>
                        <a:lnTo>
                          <a:pt x="28" y="49"/>
                        </a:lnTo>
                        <a:lnTo>
                          <a:pt x="53" y="54"/>
                        </a:lnTo>
                        <a:lnTo>
                          <a:pt x="81" y="58"/>
                        </a:lnTo>
                        <a:lnTo>
                          <a:pt x="108" y="56"/>
                        </a:lnTo>
                        <a:lnTo>
                          <a:pt x="135" y="53"/>
                        </a:lnTo>
                        <a:lnTo>
                          <a:pt x="159" y="46"/>
                        </a:lnTo>
                        <a:lnTo>
                          <a:pt x="176" y="33"/>
                        </a:lnTo>
                        <a:lnTo>
                          <a:pt x="185" y="16"/>
                        </a:lnTo>
                        <a:lnTo>
                          <a:pt x="160" y="6"/>
                        </a:lnTo>
                        <a:lnTo>
                          <a:pt x="144" y="0"/>
                        </a:lnTo>
                        <a:lnTo>
                          <a:pt x="139" y="15"/>
                        </a:lnTo>
                        <a:lnTo>
                          <a:pt x="127" y="24"/>
                        </a:lnTo>
                        <a:lnTo>
                          <a:pt x="109" y="29"/>
                        </a:lnTo>
                        <a:lnTo>
                          <a:pt x="89" y="29"/>
                        </a:lnTo>
                        <a:lnTo>
                          <a:pt x="68" y="25"/>
                        </a:lnTo>
                        <a:lnTo>
                          <a:pt x="51" y="20"/>
                        </a:lnTo>
                        <a:lnTo>
                          <a:pt x="38" y="11"/>
                        </a:lnTo>
                        <a:lnTo>
                          <a:pt x="33" y="1"/>
                        </a:lnTo>
                        <a:lnTo>
                          <a:pt x="13" y="8"/>
                        </a:lnTo>
                        <a:close/>
                      </a:path>
                    </a:pathLst>
                  </a:custGeom>
                  <a:solidFill>
                    <a:srgbClr val="1717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132"/>
                  <p:cNvSpPr/>
                  <p:nvPr/>
                </p:nvSpPr>
                <p:spPr>
                  <a:xfrm flipH="1">
                    <a:off x="2630160" y="2769840"/>
                    <a:ext cx="68760" cy="21600"/>
                  </a:xfrm>
                  <a:custGeom>
                    <a:avLst/>
                    <a:gdLst>
                      <a:gd name="textAreaLeft" fmla="*/ -360 w 68760"/>
                      <a:gd name="textAreaRight" fmla="*/ 68760 w 6876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329" h="102">
                        <a:moveTo>
                          <a:pt x="32" y="10"/>
                        </a:moveTo>
                        <a:lnTo>
                          <a:pt x="1" y="26"/>
                        </a:lnTo>
                        <a:lnTo>
                          <a:pt x="0" y="43"/>
                        </a:lnTo>
                        <a:lnTo>
                          <a:pt x="3" y="60"/>
                        </a:lnTo>
                        <a:lnTo>
                          <a:pt x="14" y="71"/>
                        </a:lnTo>
                        <a:lnTo>
                          <a:pt x="27" y="81"/>
                        </a:lnTo>
                        <a:lnTo>
                          <a:pt x="46" y="90"/>
                        </a:lnTo>
                        <a:lnTo>
                          <a:pt x="67" y="95"/>
                        </a:lnTo>
                        <a:lnTo>
                          <a:pt x="91" y="100"/>
                        </a:lnTo>
                        <a:lnTo>
                          <a:pt x="117" y="102"/>
                        </a:lnTo>
                        <a:lnTo>
                          <a:pt x="144" y="102"/>
                        </a:lnTo>
                        <a:lnTo>
                          <a:pt x="171" y="102"/>
                        </a:lnTo>
                        <a:lnTo>
                          <a:pt x="199" y="100"/>
                        </a:lnTo>
                        <a:lnTo>
                          <a:pt x="225" y="98"/>
                        </a:lnTo>
                        <a:lnTo>
                          <a:pt x="251" y="94"/>
                        </a:lnTo>
                        <a:lnTo>
                          <a:pt x="273" y="90"/>
                        </a:lnTo>
                        <a:lnTo>
                          <a:pt x="292" y="85"/>
                        </a:lnTo>
                        <a:lnTo>
                          <a:pt x="308" y="79"/>
                        </a:lnTo>
                        <a:lnTo>
                          <a:pt x="319" y="71"/>
                        </a:lnTo>
                        <a:lnTo>
                          <a:pt x="326" y="61"/>
                        </a:lnTo>
                        <a:lnTo>
                          <a:pt x="329" y="50"/>
                        </a:lnTo>
                        <a:lnTo>
                          <a:pt x="329" y="39"/>
                        </a:lnTo>
                        <a:lnTo>
                          <a:pt x="325" y="28"/>
                        </a:lnTo>
                        <a:lnTo>
                          <a:pt x="316" y="18"/>
                        </a:lnTo>
                        <a:lnTo>
                          <a:pt x="303" y="8"/>
                        </a:lnTo>
                        <a:lnTo>
                          <a:pt x="285" y="0"/>
                        </a:lnTo>
                        <a:lnTo>
                          <a:pt x="269" y="18"/>
                        </a:lnTo>
                        <a:lnTo>
                          <a:pt x="252" y="31"/>
                        </a:lnTo>
                        <a:lnTo>
                          <a:pt x="234" y="39"/>
                        </a:lnTo>
                        <a:lnTo>
                          <a:pt x="215" y="43"/>
                        </a:lnTo>
                        <a:lnTo>
                          <a:pt x="194" y="45"/>
                        </a:lnTo>
                        <a:lnTo>
                          <a:pt x="173" y="43"/>
                        </a:lnTo>
                        <a:lnTo>
                          <a:pt x="148" y="41"/>
                        </a:lnTo>
                        <a:lnTo>
                          <a:pt x="122" y="40"/>
                        </a:lnTo>
                        <a:lnTo>
                          <a:pt x="67" y="30"/>
                        </a:lnTo>
                        <a:lnTo>
                          <a:pt x="49" y="3"/>
                        </a:lnTo>
                        <a:lnTo>
                          <a:pt x="32" y="10"/>
                        </a:lnTo>
                        <a:close/>
                      </a:path>
                    </a:pathLst>
                  </a:custGeom>
                  <a:solidFill>
                    <a:srgbClr val="1717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Freeform 133"/>
                  <p:cNvSpPr/>
                  <p:nvPr/>
                </p:nvSpPr>
                <p:spPr>
                  <a:xfrm flipH="1">
                    <a:off x="2635560" y="2813760"/>
                    <a:ext cx="44640" cy="2880"/>
                  </a:xfrm>
                  <a:custGeom>
                    <a:avLst/>
                    <a:gdLst>
                      <a:gd name="textAreaLeft" fmla="*/ 360 w 44640"/>
                      <a:gd name="textAreaRight" fmla="*/ 45360 w 44640"/>
                      <a:gd name="textAreaTop" fmla="*/ 0 h 2880"/>
                      <a:gd name="textAreaBottom" fmla="*/ 3240 h 2880"/>
                    </a:gdLst>
                    <a:ahLst/>
                    <a:rect l="textAreaLeft" t="textAreaTop" r="textAreaRight" b="textAreaBottom"/>
                    <a:pathLst>
                      <a:path w="204" h="37">
                        <a:moveTo>
                          <a:pt x="12" y="0"/>
                        </a:moveTo>
                        <a:lnTo>
                          <a:pt x="24" y="6"/>
                        </a:lnTo>
                        <a:lnTo>
                          <a:pt x="35" y="12"/>
                        </a:lnTo>
                        <a:lnTo>
                          <a:pt x="47" y="15"/>
                        </a:lnTo>
                        <a:lnTo>
                          <a:pt x="58" y="17"/>
                        </a:lnTo>
                        <a:lnTo>
                          <a:pt x="70" y="20"/>
                        </a:lnTo>
                        <a:lnTo>
                          <a:pt x="82" y="21"/>
                        </a:lnTo>
                        <a:lnTo>
                          <a:pt x="94" y="22"/>
                        </a:lnTo>
                        <a:lnTo>
                          <a:pt x="106" y="21"/>
                        </a:lnTo>
                        <a:lnTo>
                          <a:pt x="119" y="20"/>
                        </a:lnTo>
                        <a:lnTo>
                          <a:pt x="131" y="19"/>
                        </a:lnTo>
                        <a:lnTo>
                          <a:pt x="143" y="16"/>
                        </a:lnTo>
                        <a:lnTo>
                          <a:pt x="156" y="14"/>
                        </a:lnTo>
                        <a:lnTo>
                          <a:pt x="167" y="12"/>
                        </a:lnTo>
                        <a:lnTo>
                          <a:pt x="180" y="8"/>
                        </a:lnTo>
                        <a:lnTo>
                          <a:pt x="192" y="6"/>
                        </a:lnTo>
                        <a:lnTo>
                          <a:pt x="204" y="2"/>
                        </a:lnTo>
                        <a:lnTo>
                          <a:pt x="204" y="14"/>
                        </a:lnTo>
                        <a:lnTo>
                          <a:pt x="196" y="17"/>
                        </a:lnTo>
                        <a:lnTo>
                          <a:pt x="188" y="21"/>
                        </a:lnTo>
                        <a:lnTo>
                          <a:pt x="178" y="24"/>
                        </a:lnTo>
                        <a:lnTo>
                          <a:pt x="167" y="27"/>
                        </a:lnTo>
                        <a:lnTo>
                          <a:pt x="155" y="30"/>
                        </a:lnTo>
                        <a:lnTo>
                          <a:pt x="143" y="32"/>
                        </a:lnTo>
                        <a:lnTo>
                          <a:pt x="129" y="35"/>
                        </a:lnTo>
                        <a:lnTo>
                          <a:pt x="117" y="37"/>
                        </a:lnTo>
                        <a:lnTo>
                          <a:pt x="102" y="37"/>
                        </a:lnTo>
                        <a:lnTo>
                          <a:pt x="88" y="37"/>
                        </a:lnTo>
                        <a:lnTo>
                          <a:pt x="73" y="36"/>
                        </a:lnTo>
                        <a:lnTo>
                          <a:pt x="58" y="34"/>
                        </a:lnTo>
                        <a:lnTo>
                          <a:pt x="44" y="29"/>
                        </a:lnTo>
                        <a:lnTo>
                          <a:pt x="29" y="24"/>
                        </a:lnTo>
                        <a:lnTo>
                          <a:pt x="14" y="17"/>
                        </a:lnTo>
                        <a:lnTo>
                          <a:pt x="0" y="8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1717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Freeform 135"/>
                  <p:cNvSpPr/>
                  <p:nvPr/>
                </p:nvSpPr>
                <p:spPr>
                  <a:xfrm flipH="1">
                    <a:off x="2630160" y="2824560"/>
                    <a:ext cx="68760" cy="16920"/>
                  </a:xfrm>
                  <a:custGeom>
                    <a:avLst/>
                    <a:gdLst>
                      <a:gd name="textAreaLeft" fmla="*/ -360 w 68760"/>
                      <a:gd name="textAreaRight" fmla="*/ 68760 w 68760"/>
                      <a:gd name="textAreaTop" fmla="*/ 0 h 16920"/>
                      <a:gd name="textAreaBottom" fmla="*/ 17280 h 16920"/>
                    </a:gdLst>
                    <a:ahLst/>
                    <a:rect l="textAreaLeft" t="textAreaTop" r="textAreaRight" b="textAreaBottom"/>
                    <a:pathLst>
                      <a:path w="351" h="100">
                        <a:moveTo>
                          <a:pt x="40" y="0"/>
                        </a:moveTo>
                        <a:lnTo>
                          <a:pt x="19" y="9"/>
                        </a:lnTo>
                        <a:lnTo>
                          <a:pt x="6" y="20"/>
                        </a:lnTo>
                        <a:lnTo>
                          <a:pt x="0" y="30"/>
                        </a:lnTo>
                        <a:lnTo>
                          <a:pt x="0" y="42"/>
                        </a:lnTo>
                        <a:lnTo>
                          <a:pt x="7" y="53"/>
                        </a:lnTo>
                        <a:lnTo>
                          <a:pt x="17" y="65"/>
                        </a:lnTo>
                        <a:lnTo>
                          <a:pt x="32" y="75"/>
                        </a:lnTo>
                        <a:lnTo>
                          <a:pt x="50" y="85"/>
                        </a:lnTo>
                        <a:lnTo>
                          <a:pt x="66" y="89"/>
                        </a:lnTo>
                        <a:lnTo>
                          <a:pt x="82" y="92"/>
                        </a:lnTo>
                        <a:lnTo>
                          <a:pt x="97" y="95"/>
                        </a:lnTo>
                        <a:lnTo>
                          <a:pt x="113" y="96"/>
                        </a:lnTo>
                        <a:lnTo>
                          <a:pt x="128" y="98"/>
                        </a:lnTo>
                        <a:lnTo>
                          <a:pt x="144" y="99"/>
                        </a:lnTo>
                        <a:lnTo>
                          <a:pt x="159" y="99"/>
                        </a:lnTo>
                        <a:lnTo>
                          <a:pt x="174" y="100"/>
                        </a:lnTo>
                        <a:lnTo>
                          <a:pt x="189" y="100"/>
                        </a:lnTo>
                        <a:lnTo>
                          <a:pt x="205" y="100"/>
                        </a:lnTo>
                        <a:lnTo>
                          <a:pt x="220" y="99"/>
                        </a:lnTo>
                        <a:lnTo>
                          <a:pt x="236" y="99"/>
                        </a:lnTo>
                        <a:lnTo>
                          <a:pt x="251" y="98"/>
                        </a:lnTo>
                        <a:lnTo>
                          <a:pt x="267" y="97"/>
                        </a:lnTo>
                        <a:lnTo>
                          <a:pt x="284" y="95"/>
                        </a:lnTo>
                        <a:lnTo>
                          <a:pt x="300" y="94"/>
                        </a:lnTo>
                        <a:lnTo>
                          <a:pt x="323" y="81"/>
                        </a:lnTo>
                        <a:lnTo>
                          <a:pt x="339" y="68"/>
                        </a:lnTo>
                        <a:lnTo>
                          <a:pt x="349" y="56"/>
                        </a:lnTo>
                        <a:lnTo>
                          <a:pt x="351" y="43"/>
                        </a:lnTo>
                        <a:lnTo>
                          <a:pt x="348" y="31"/>
                        </a:lnTo>
                        <a:lnTo>
                          <a:pt x="338" y="21"/>
                        </a:lnTo>
                        <a:lnTo>
                          <a:pt x="320" y="12"/>
                        </a:lnTo>
                        <a:lnTo>
                          <a:pt x="296" y="5"/>
                        </a:lnTo>
                        <a:lnTo>
                          <a:pt x="298" y="15"/>
                        </a:lnTo>
                        <a:lnTo>
                          <a:pt x="294" y="23"/>
                        </a:lnTo>
                        <a:lnTo>
                          <a:pt x="284" y="30"/>
                        </a:lnTo>
                        <a:lnTo>
                          <a:pt x="272" y="37"/>
                        </a:lnTo>
                        <a:lnTo>
                          <a:pt x="258" y="38"/>
                        </a:lnTo>
                        <a:lnTo>
                          <a:pt x="245" y="39"/>
                        </a:lnTo>
                        <a:lnTo>
                          <a:pt x="234" y="41"/>
                        </a:lnTo>
                        <a:lnTo>
                          <a:pt x="222" y="42"/>
                        </a:lnTo>
                        <a:lnTo>
                          <a:pt x="211" y="43"/>
                        </a:lnTo>
                        <a:lnTo>
                          <a:pt x="199" y="43"/>
                        </a:lnTo>
                        <a:lnTo>
                          <a:pt x="188" y="44"/>
                        </a:lnTo>
                        <a:lnTo>
                          <a:pt x="178" y="44"/>
                        </a:lnTo>
                        <a:lnTo>
                          <a:pt x="166" y="44"/>
                        </a:lnTo>
                        <a:lnTo>
                          <a:pt x="155" y="44"/>
                        </a:lnTo>
                        <a:lnTo>
                          <a:pt x="143" y="44"/>
                        </a:lnTo>
                        <a:lnTo>
                          <a:pt x="133" y="43"/>
                        </a:lnTo>
                        <a:lnTo>
                          <a:pt x="120" y="42"/>
                        </a:lnTo>
                        <a:lnTo>
                          <a:pt x="108" y="41"/>
                        </a:lnTo>
                        <a:lnTo>
                          <a:pt x="96" y="39"/>
                        </a:lnTo>
                        <a:lnTo>
                          <a:pt x="82" y="37"/>
                        </a:lnTo>
                        <a:lnTo>
                          <a:pt x="73" y="32"/>
                        </a:lnTo>
                        <a:lnTo>
                          <a:pt x="65" y="28"/>
                        </a:lnTo>
                        <a:lnTo>
                          <a:pt x="58" y="23"/>
                        </a:lnTo>
                        <a:lnTo>
                          <a:pt x="52" y="19"/>
                        </a:lnTo>
                        <a:lnTo>
                          <a:pt x="47" y="14"/>
                        </a:lnTo>
                        <a:lnTo>
                          <a:pt x="44" y="11"/>
                        </a:lnTo>
                        <a:lnTo>
                          <a:pt x="42" y="5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1717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147"/>
                  <p:cNvSpPr/>
                  <p:nvPr/>
                </p:nvSpPr>
                <p:spPr>
                  <a:xfrm flipH="1">
                    <a:off x="2626920" y="2905560"/>
                    <a:ext cx="76680" cy="18720"/>
                  </a:xfrm>
                  <a:custGeom>
                    <a:avLst/>
                    <a:gdLst>
                      <a:gd name="textAreaLeft" fmla="*/ -360 w 76680"/>
                      <a:gd name="textAreaRight" fmla="*/ 76680 w 7668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382" h="96">
                        <a:moveTo>
                          <a:pt x="24" y="4"/>
                        </a:moveTo>
                        <a:lnTo>
                          <a:pt x="68" y="40"/>
                        </a:lnTo>
                        <a:lnTo>
                          <a:pt x="89" y="44"/>
                        </a:lnTo>
                        <a:lnTo>
                          <a:pt x="108" y="48"/>
                        </a:lnTo>
                        <a:lnTo>
                          <a:pt x="127" y="53"/>
                        </a:lnTo>
                        <a:lnTo>
                          <a:pt x="144" y="55"/>
                        </a:lnTo>
                        <a:lnTo>
                          <a:pt x="160" y="57"/>
                        </a:lnTo>
                        <a:lnTo>
                          <a:pt x="176" y="59"/>
                        </a:lnTo>
                        <a:lnTo>
                          <a:pt x="192" y="59"/>
                        </a:lnTo>
                        <a:lnTo>
                          <a:pt x="207" y="59"/>
                        </a:lnTo>
                        <a:lnTo>
                          <a:pt x="222" y="58"/>
                        </a:lnTo>
                        <a:lnTo>
                          <a:pt x="237" y="57"/>
                        </a:lnTo>
                        <a:lnTo>
                          <a:pt x="253" y="54"/>
                        </a:lnTo>
                        <a:lnTo>
                          <a:pt x="270" y="50"/>
                        </a:lnTo>
                        <a:lnTo>
                          <a:pt x="286" y="46"/>
                        </a:lnTo>
                        <a:lnTo>
                          <a:pt x="304" y="39"/>
                        </a:lnTo>
                        <a:lnTo>
                          <a:pt x="323" y="32"/>
                        </a:lnTo>
                        <a:lnTo>
                          <a:pt x="342" y="23"/>
                        </a:lnTo>
                        <a:lnTo>
                          <a:pt x="348" y="10"/>
                        </a:lnTo>
                        <a:lnTo>
                          <a:pt x="352" y="3"/>
                        </a:lnTo>
                        <a:lnTo>
                          <a:pt x="356" y="0"/>
                        </a:lnTo>
                        <a:lnTo>
                          <a:pt x="359" y="1"/>
                        </a:lnTo>
                        <a:lnTo>
                          <a:pt x="363" y="4"/>
                        </a:lnTo>
                        <a:lnTo>
                          <a:pt x="367" y="11"/>
                        </a:lnTo>
                        <a:lnTo>
                          <a:pt x="374" y="20"/>
                        </a:lnTo>
                        <a:lnTo>
                          <a:pt x="382" y="32"/>
                        </a:lnTo>
                        <a:lnTo>
                          <a:pt x="366" y="55"/>
                        </a:lnTo>
                        <a:lnTo>
                          <a:pt x="349" y="65"/>
                        </a:lnTo>
                        <a:lnTo>
                          <a:pt x="329" y="73"/>
                        </a:lnTo>
                        <a:lnTo>
                          <a:pt x="310" y="80"/>
                        </a:lnTo>
                        <a:lnTo>
                          <a:pt x="288" y="86"/>
                        </a:lnTo>
                        <a:lnTo>
                          <a:pt x="266" y="91"/>
                        </a:lnTo>
                        <a:lnTo>
                          <a:pt x="243" y="94"/>
                        </a:lnTo>
                        <a:lnTo>
                          <a:pt x="219" y="96"/>
                        </a:lnTo>
                        <a:lnTo>
                          <a:pt x="196" y="96"/>
                        </a:lnTo>
                        <a:lnTo>
                          <a:pt x="172" y="96"/>
                        </a:lnTo>
                        <a:lnTo>
                          <a:pt x="147" y="95"/>
                        </a:lnTo>
                        <a:lnTo>
                          <a:pt x="124" y="92"/>
                        </a:lnTo>
                        <a:lnTo>
                          <a:pt x="101" y="88"/>
                        </a:lnTo>
                        <a:lnTo>
                          <a:pt x="78" y="84"/>
                        </a:lnTo>
                        <a:lnTo>
                          <a:pt x="58" y="79"/>
                        </a:lnTo>
                        <a:lnTo>
                          <a:pt x="37" y="72"/>
                        </a:lnTo>
                        <a:lnTo>
                          <a:pt x="18" y="65"/>
                        </a:lnTo>
                        <a:lnTo>
                          <a:pt x="12" y="56"/>
                        </a:lnTo>
                        <a:lnTo>
                          <a:pt x="6" y="47"/>
                        </a:lnTo>
                        <a:lnTo>
                          <a:pt x="2" y="38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5" y="13"/>
                        </a:lnTo>
                        <a:lnTo>
                          <a:pt x="12" y="8"/>
                        </a:lnTo>
                        <a:lnTo>
                          <a:pt x="24" y="4"/>
                        </a:lnTo>
                        <a:close/>
                      </a:path>
                    </a:pathLst>
                  </a:custGeom>
                  <a:solidFill>
                    <a:srgbClr val="1717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Freeform 148"/>
                  <p:cNvSpPr/>
                  <p:nvPr/>
                </p:nvSpPr>
                <p:spPr>
                  <a:xfrm flipH="1">
                    <a:off x="2616120" y="2919600"/>
                    <a:ext cx="102240" cy="35640"/>
                  </a:xfrm>
                  <a:custGeom>
                    <a:avLst/>
                    <a:gdLst>
                      <a:gd name="textAreaLeft" fmla="*/ 360 w 102240"/>
                      <a:gd name="textAreaRight" fmla="*/ 102960 w 102240"/>
                      <a:gd name="textAreaTop" fmla="*/ 0 h 35640"/>
                      <a:gd name="textAreaBottom" fmla="*/ 36000 h 35640"/>
                    </a:gdLst>
                    <a:ahLst/>
                    <a:rect l="textAreaLeft" t="textAreaTop" r="textAreaRight" b="textAreaBottom"/>
                    <a:pathLst>
                      <a:path w="483" h="184">
                        <a:moveTo>
                          <a:pt x="7" y="102"/>
                        </a:moveTo>
                        <a:lnTo>
                          <a:pt x="18" y="116"/>
                        </a:lnTo>
                        <a:lnTo>
                          <a:pt x="34" y="130"/>
                        </a:lnTo>
                        <a:lnTo>
                          <a:pt x="55" y="143"/>
                        </a:lnTo>
                        <a:lnTo>
                          <a:pt x="80" y="155"/>
                        </a:lnTo>
                        <a:lnTo>
                          <a:pt x="109" y="165"/>
                        </a:lnTo>
                        <a:lnTo>
                          <a:pt x="141" y="173"/>
                        </a:lnTo>
                        <a:lnTo>
                          <a:pt x="176" y="179"/>
                        </a:lnTo>
                        <a:lnTo>
                          <a:pt x="211" y="182"/>
                        </a:lnTo>
                        <a:lnTo>
                          <a:pt x="248" y="184"/>
                        </a:lnTo>
                        <a:lnTo>
                          <a:pt x="285" y="183"/>
                        </a:lnTo>
                        <a:lnTo>
                          <a:pt x="323" y="180"/>
                        </a:lnTo>
                        <a:lnTo>
                          <a:pt x="359" y="173"/>
                        </a:lnTo>
                        <a:lnTo>
                          <a:pt x="393" y="164"/>
                        </a:lnTo>
                        <a:lnTo>
                          <a:pt x="427" y="151"/>
                        </a:lnTo>
                        <a:lnTo>
                          <a:pt x="455" y="135"/>
                        </a:lnTo>
                        <a:lnTo>
                          <a:pt x="482" y="115"/>
                        </a:lnTo>
                        <a:lnTo>
                          <a:pt x="483" y="93"/>
                        </a:lnTo>
                        <a:lnTo>
                          <a:pt x="483" y="77"/>
                        </a:lnTo>
                        <a:lnTo>
                          <a:pt x="482" y="65"/>
                        </a:lnTo>
                        <a:lnTo>
                          <a:pt x="478" y="54"/>
                        </a:lnTo>
                        <a:lnTo>
                          <a:pt x="473" y="44"/>
                        </a:lnTo>
                        <a:lnTo>
                          <a:pt x="463" y="34"/>
                        </a:lnTo>
                        <a:lnTo>
                          <a:pt x="451" y="22"/>
                        </a:lnTo>
                        <a:lnTo>
                          <a:pt x="435" y="7"/>
                        </a:lnTo>
                        <a:lnTo>
                          <a:pt x="416" y="23"/>
                        </a:lnTo>
                        <a:lnTo>
                          <a:pt x="396" y="37"/>
                        </a:lnTo>
                        <a:lnTo>
                          <a:pt x="375" y="50"/>
                        </a:lnTo>
                        <a:lnTo>
                          <a:pt x="353" y="59"/>
                        </a:lnTo>
                        <a:lnTo>
                          <a:pt x="330" y="67"/>
                        </a:lnTo>
                        <a:lnTo>
                          <a:pt x="307" y="73"/>
                        </a:lnTo>
                        <a:lnTo>
                          <a:pt x="284" y="76"/>
                        </a:lnTo>
                        <a:lnTo>
                          <a:pt x="260" y="78"/>
                        </a:lnTo>
                        <a:lnTo>
                          <a:pt x="235" y="78"/>
                        </a:lnTo>
                        <a:lnTo>
                          <a:pt x="211" y="76"/>
                        </a:lnTo>
                        <a:lnTo>
                          <a:pt x="187" y="73"/>
                        </a:lnTo>
                        <a:lnTo>
                          <a:pt x="163" y="68"/>
                        </a:lnTo>
                        <a:lnTo>
                          <a:pt x="140" y="61"/>
                        </a:lnTo>
                        <a:lnTo>
                          <a:pt x="116" y="53"/>
                        </a:lnTo>
                        <a:lnTo>
                          <a:pt x="94" y="44"/>
                        </a:lnTo>
                        <a:lnTo>
                          <a:pt x="72" y="32"/>
                        </a:lnTo>
                        <a:lnTo>
                          <a:pt x="66" y="0"/>
                        </a:lnTo>
                        <a:lnTo>
                          <a:pt x="56" y="5"/>
                        </a:lnTo>
                        <a:lnTo>
                          <a:pt x="42" y="12"/>
                        </a:lnTo>
                        <a:lnTo>
                          <a:pt x="29" y="20"/>
                        </a:lnTo>
                        <a:lnTo>
                          <a:pt x="17" y="30"/>
                        </a:lnTo>
                        <a:lnTo>
                          <a:pt x="7" y="43"/>
                        </a:lnTo>
                        <a:lnTo>
                          <a:pt x="2" y="59"/>
                        </a:lnTo>
                        <a:lnTo>
                          <a:pt x="0" y="78"/>
                        </a:lnTo>
                        <a:lnTo>
                          <a:pt x="7" y="102"/>
                        </a:lnTo>
                        <a:close/>
                      </a:path>
                    </a:pathLst>
                  </a:custGeom>
                  <a:solidFill>
                    <a:srgbClr val="1717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84"/>
                  <p:cNvSpPr/>
                  <p:nvPr/>
                </p:nvSpPr>
                <p:spPr>
                  <a:xfrm flipH="1">
                    <a:off x="2654280" y="2752920"/>
                    <a:ext cx="19080" cy="14040"/>
                  </a:xfrm>
                  <a:custGeom>
                    <a:avLst/>
                    <a:gdLst>
                      <a:gd name="textAreaLeft" fmla="*/ -360 w 19080"/>
                      <a:gd name="textAreaRight" fmla="*/ 19080 w 19080"/>
                      <a:gd name="textAreaTop" fmla="*/ 0 h 14040"/>
                      <a:gd name="textAreaBottom" fmla="*/ 14400 h 14040"/>
                    </a:gdLst>
                    <a:ahLst/>
                    <a:rect l="textAreaLeft" t="textAreaTop" r="textAreaRight" b="textAreaBottom"/>
                    <a:pathLst>
                      <a:path w="95" h="72">
                        <a:moveTo>
                          <a:pt x="48" y="0"/>
                        </a:moveTo>
                        <a:lnTo>
                          <a:pt x="57" y="2"/>
                        </a:lnTo>
                        <a:lnTo>
                          <a:pt x="66" y="3"/>
                        </a:lnTo>
                        <a:lnTo>
                          <a:pt x="74" y="6"/>
                        </a:lnTo>
                        <a:lnTo>
                          <a:pt x="81" y="11"/>
                        </a:lnTo>
                        <a:lnTo>
                          <a:pt x="87" y="16"/>
                        </a:lnTo>
                        <a:lnTo>
                          <a:pt x="91" y="22"/>
                        </a:lnTo>
                        <a:lnTo>
                          <a:pt x="94" y="29"/>
                        </a:lnTo>
                        <a:lnTo>
                          <a:pt x="95" y="36"/>
                        </a:lnTo>
                        <a:lnTo>
                          <a:pt x="94" y="43"/>
                        </a:lnTo>
                        <a:lnTo>
                          <a:pt x="91" y="50"/>
                        </a:lnTo>
                        <a:lnTo>
                          <a:pt x="87" y="56"/>
                        </a:lnTo>
                        <a:lnTo>
                          <a:pt x="81" y="61"/>
                        </a:lnTo>
                        <a:lnTo>
                          <a:pt x="74" y="66"/>
                        </a:lnTo>
                        <a:lnTo>
                          <a:pt x="66" y="69"/>
                        </a:lnTo>
                        <a:lnTo>
                          <a:pt x="57" y="71"/>
                        </a:lnTo>
                        <a:lnTo>
                          <a:pt x="48" y="72"/>
                        </a:lnTo>
                        <a:lnTo>
                          <a:pt x="38" y="71"/>
                        </a:lnTo>
                        <a:lnTo>
                          <a:pt x="29" y="69"/>
                        </a:lnTo>
                        <a:lnTo>
                          <a:pt x="21" y="66"/>
                        </a:lnTo>
                        <a:lnTo>
                          <a:pt x="14" y="61"/>
                        </a:lnTo>
                        <a:lnTo>
                          <a:pt x="8" y="56"/>
                        </a:lnTo>
                        <a:lnTo>
                          <a:pt x="4" y="50"/>
                        </a:lnTo>
                        <a:lnTo>
                          <a:pt x="2" y="43"/>
                        </a:lnTo>
                        <a:lnTo>
                          <a:pt x="0" y="36"/>
                        </a:lnTo>
                        <a:lnTo>
                          <a:pt x="2" y="29"/>
                        </a:lnTo>
                        <a:lnTo>
                          <a:pt x="4" y="22"/>
                        </a:lnTo>
                        <a:lnTo>
                          <a:pt x="8" y="16"/>
                        </a:lnTo>
                        <a:lnTo>
                          <a:pt x="14" y="11"/>
                        </a:lnTo>
                        <a:lnTo>
                          <a:pt x="21" y="6"/>
                        </a:lnTo>
                        <a:lnTo>
                          <a:pt x="29" y="3"/>
                        </a:lnTo>
                        <a:lnTo>
                          <a:pt x="38" y="2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1717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uppe 814"/>
                <p:cNvGrpSpPr/>
                <p:nvPr/>
              </p:nvGrpSpPr>
              <p:grpSpPr>
                <a:xfrm>
                  <a:off x="2615400" y="2772000"/>
                  <a:ext cx="75600" cy="201600"/>
                  <a:chOff x="2615400" y="2772000"/>
                  <a:chExt cx="75600" cy="201600"/>
                </a:xfrm>
              </p:grpSpPr>
              <p:sp>
                <p:nvSpPr>
                  <p:cNvPr id="223" name="Freeform 316"/>
                  <p:cNvSpPr/>
                  <p:nvPr/>
                </p:nvSpPr>
                <p:spPr>
                  <a:xfrm flipH="1">
                    <a:off x="2632320" y="2830320"/>
                    <a:ext cx="40320" cy="6840"/>
                  </a:xfrm>
                  <a:custGeom>
                    <a:avLst/>
                    <a:gdLst>
                      <a:gd name="textAreaLeft" fmla="*/ 360 w 40320"/>
                      <a:gd name="textAreaRight" fmla="*/ 41040 w 4032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230" h="41">
                        <a:moveTo>
                          <a:pt x="13" y="0"/>
                        </a:moveTo>
                        <a:lnTo>
                          <a:pt x="26" y="6"/>
                        </a:lnTo>
                        <a:lnTo>
                          <a:pt x="39" y="13"/>
                        </a:lnTo>
                        <a:lnTo>
                          <a:pt x="52" y="16"/>
                        </a:lnTo>
                        <a:lnTo>
                          <a:pt x="65" y="19"/>
                        </a:lnTo>
                        <a:lnTo>
                          <a:pt x="78" y="22"/>
                        </a:lnTo>
                        <a:lnTo>
                          <a:pt x="93" y="23"/>
                        </a:lnTo>
                        <a:lnTo>
                          <a:pt x="106" y="24"/>
                        </a:lnTo>
                        <a:lnTo>
                          <a:pt x="120" y="23"/>
                        </a:lnTo>
                        <a:lnTo>
                          <a:pt x="134" y="22"/>
                        </a:lnTo>
                        <a:lnTo>
                          <a:pt x="147" y="20"/>
                        </a:lnTo>
                        <a:lnTo>
                          <a:pt x="161" y="18"/>
                        </a:lnTo>
                        <a:lnTo>
                          <a:pt x="176" y="15"/>
                        </a:lnTo>
                        <a:lnTo>
                          <a:pt x="189" y="13"/>
                        </a:lnTo>
                        <a:lnTo>
                          <a:pt x="203" y="9"/>
                        </a:lnTo>
                        <a:lnTo>
                          <a:pt x="216" y="6"/>
                        </a:lnTo>
                        <a:lnTo>
                          <a:pt x="230" y="2"/>
                        </a:lnTo>
                        <a:lnTo>
                          <a:pt x="230" y="15"/>
                        </a:lnTo>
                        <a:lnTo>
                          <a:pt x="221" y="19"/>
                        </a:lnTo>
                        <a:lnTo>
                          <a:pt x="212" y="23"/>
                        </a:lnTo>
                        <a:lnTo>
                          <a:pt x="200" y="27"/>
                        </a:lnTo>
                        <a:lnTo>
                          <a:pt x="189" y="29"/>
                        </a:lnTo>
                        <a:lnTo>
                          <a:pt x="174" y="33"/>
                        </a:lnTo>
                        <a:lnTo>
                          <a:pt x="161" y="36"/>
                        </a:lnTo>
                        <a:lnTo>
                          <a:pt x="146" y="39"/>
                        </a:lnTo>
                        <a:lnTo>
                          <a:pt x="132" y="41"/>
                        </a:lnTo>
                        <a:lnTo>
                          <a:pt x="115" y="41"/>
                        </a:lnTo>
                        <a:lnTo>
                          <a:pt x="99" y="41"/>
                        </a:lnTo>
                        <a:lnTo>
                          <a:pt x="82" y="40"/>
                        </a:lnTo>
                        <a:lnTo>
                          <a:pt x="65" y="37"/>
                        </a:lnTo>
                        <a:lnTo>
                          <a:pt x="50" y="32"/>
                        </a:lnTo>
                        <a:lnTo>
                          <a:pt x="33" y="27"/>
                        </a:lnTo>
                        <a:lnTo>
                          <a:pt x="16" y="19"/>
                        </a:lnTo>
                        <a:lnTo>
                          <a:pt x="0" y="9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330"/>
                  <p:cNvSpPr/>
                  <p:nvPr/>
                </p:nvSpPr>
                <p:spPr>
                  <a:xfrm flipH="1">
                    <a:off x="2615400" y="2923560"/>
                    <a:ext cx="75600" cy="18000"/>
                  </a:xfrm>
                  <a:custGeom>
                    <a:avLst/>
                    <a:gdLst>
                      <a:gd name="textAreaLeft" fmla="*/ 360 w 75600"/>
                      <a:gd name="textAreaRight" fmla="*/ 76320 w 75600"/>
                      <a:gd name="textAreaTop" fmla="*/ 0 h 18000"/>
                      <a:gd name="textAreaBottom" fmla="*/ 18360 h 18000"/>
                    </a:gdLst>
                    <a:ahLst/>
                    <a:rect l="textAreaLeft" t="textAreaTop" r="textAreaRight" b="textAreaBottom"/>
                    <a:pathLst>
                      <a:path w="431" h="109">
                        <a:moveTo>
                          <a:pt x="27" y="5"/>
                        </a:moveTo>
                        <a:lnTo>
                          <a:pt x="77" y="45"/>
                        </a:lnTo>
                        <a:lnTo>
                          <a:pt x="100" y="51"/>
                        </a:lnTo>
                        <a:lnTo>
                          <a:pt x="122" y="54"/>
                        </a:lnTo>
                        <a:lnTo>
                          <a:pt x="143" y="60"/>
                        </a:lnTo>
                        <a:lnTo>
                          <a:pt x="162" y="62"/>
                        </a:lnTo>
                        <a:lnTo>
                          <a:pt x="180" y="65"/>
                        </a:lnTo>
                        <a:lnTo>
                          <a:pt x="199" y="67"/>
                        </a:lnTo>
                        <a:lnTo>
                          <a:pt x="217" y="67"/>
                        </a:lnTo>
                        <a:lnTo>
                          <a:pt x="234" y="67"/>
                        </a:lnTo>
                        <a:lnTo>
                          <a:pt x="251" y="66"/>
                        </a:lnTo>
                        <a:lnTo>
                          <a:pt x="267" y="65"/>
                        </a:lnTo>
                        <a:lnTo>
                          <a:pt x="286" y="61"/>
                        </a:lnTo>
                        <a:lnTo>
                          <a:pt x="304" y="57"/>
                        </a:lnTo>
                        <a:lnTo>
                          <a:pt x="322" y="52"/>
                        </a:lnTo>
                        <a:lnTo>
                          <a:pt x="343" y="44"/>
                        </a:lnTo>
                        <a:lnTo>
                          <a:pt x="363" y="36"/>
                        </a:lnTo>
                        <a:lnTo>
                          <a:pt x="386" y="26"/>
                        </a:lnTo>
                        <a:lnTo>
                          <a:pt x="392" y="12"/>
                        </a:lnTo>
                        <a:lnTo>
                          <a:pt x="397" y="4"/>
                        </a:lnTo>
                        <a:lnTo>
                          <a:pt x="401" y="0"/>
                        </a:lnTo>
                        <a:lnTo>
                          <a:pt x="405" y="1"/>
                        </a:lnTo>
                        <a:lnTo>
                          <a:pt x="409" y="5"/>
                        </a:lnTo>
                        <a:lnTo>
                          <a:pt x="414" y="13"/>
                        </a:lnTo>
                        <a:lnTo>
                          <a:pt x="422" y="23"/>
                        </a:lnTo>
                        <a:lnTo>
                          <a:pt x="431" y="36"/>
                        </a:lnTo>
                        <a:lnTo>
                          <a:pt x="413" y="62"/>
                        </a:lnTo>
                        <a:lnTo>
                          <a:pt x="393" y="74"/>
                        </a:lnTo>
                        <a:lnTo>
                          <a:pt x="371" y="83"/>
                        </a:lnTo>
                        <a:lnTo>
                          <a:pt x="349" y="91"/>
                        </a:lnTo>
                        <a:lnTo>
                          <a:pt x="325" y="97"/>
                        </a:lnTo>
                        <a:lnTo>
                          <a:pt x="300" y="103"/>
                        </a:lnTo>
                        <a:lnTo>
                          <a:pt x="274" y="106"/>
                        </a:lnTo>
                        <a:lnTo>
                          <a:pt x="247" y="109"/>
                        </a:lnTo>
                        <a:lnTo>
                          <a:pt x="221" y="109"/>
                        </a:lnTo>
                        <a:lnTo>
                          <a:pt x="193" y="109"/>
                        </a:lnTo>
                        <a:lnTo>
                          <a:pt x="166" y="108"/>
                        </a:lnTo>
                        <a:lnTo>
                          <a:pt x="140" y="104"/>
                        </a:lnTo>
                        <a:lnTo>
                          <a:pt x="114" y="100"/>
                        </a:lnTo>
                        <a:lnTo>
                          <a:pt x="88" y="95"/>
                        </a:lnTo>
                        <a:lnTo>
                          <a:pt x="65" y="90"/>
                        </a:lnTo>
                        <a:lnTo>
                          <a:pt x="42" y="82"/>
                        </a:lnTo>
                        <a:lnTo>
                          <a:pt x="21" y="74"/>
                        </a:lnTo>
                        <a:lnTo>
                          <a:pt x="13" y="64"/>
                        </a:lnTo>
                        <a:lnTo>
                          <a:pt x="7" y="53"/>
                        </a:lnTo>
                        <a:lnTo>
                          <a:pt x="3" y="43"/>
                        </a:lnTo>
                        <a:lnTo>
                          <a:pt x="0" y="32"/>
                        </a:lnTo>
                        <a:lnTo>
                          <a:pt x="0" y="23"/>
                        </a:lnTo>
                        <a:lnTo>
                          <a:pt x="5" y="16"/>
                        </a:lnTo>
                        <a:lnTo>
                          <a:pt x="13" y="9"/>
                        </a:lnTo>
                        <a:lnTo>
                          <a:pt x="27" y="5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Freeform 336"/>
                  <p:cNvSpPr/>
                  <p:nvPr/>
                </p:nvSpPr>
                <p:spPr>
                  <a:xfrm flipH="1">
                    <a:off x="2622600" y="2961720"/>
                    <a:ext cx="54360" cy="11880"/>
                  </a:xfrm>
                  <a:custGeom>
                    <a:avLst/>
                    <a:gdLst>
                      <a:gd name="textAreaLeft" fmla="*/ -360 w 54360"/>
                      <a:gd name="textAreaRight" fmla="*/ 54360 w 5436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309" h="72">
                        <a:moveTo>
                          <a:pt x="0" y="29"/>
                        </a:moveTo>
                        <a:lnTo>
                          <a:pt x="3" y="37"/>
                        </a:lnTo>
                        <a:lnTo>
                          <a:pt x="7" y="45"/>
                        </a:lnTo>
                        <a:lnTo>
                          <a:pt x="11" y="53"/>
                        </a:lnTo>
                        <a:lnTo>
                          <a:pt x="15" y="61"/>
                        </a:lnTo>
                        <a:lnTo>
                          <a:pt x="22" y="62"/>
                        </a:lnTo>
                        <a:lnTo>
                          <a:pt x="29" y="63"/>
                        </a:lnTo>
                        <a:lnTo>
                          <a:pt x="37" y="65"/>
                        </a:lnTo>
                        <a:lnTo>
                          <a:pt x="44" y="66"/>
                        </a:lnTo>
                        <a:lnTo>
                          <a:pt x="51" y="67"/>
                        </a:lnTo>
                        <a:lnTo>
                          <a:pt x="59" y="68"/>
                        </a:lnTo>
                        <a:lnTo>
                          <a:pt x="65" y="71"/>
                        </a:lnTo>
                        <a:lnTo>
                          <a:pt x="73" y="72"/>
                        </a:lnTo>
                        <a:lnTo>
                          <a:pt x="91" y="72"/>
                        </a:lnTo>
                        <a:lnTo>
                          <a:pt x="109" y="71"/>
                        </a:lnTo>
                        <a:lnTo>
                          <a:pt x="127" y="71"/>
                        </a:lnTo>
                        <a:lnTo>
                          <a:pt x="146" y="70"/>
                        </a:lnTo>
                        <a:lnTo>
                          <a:pt x="164" y="70"/>
                        </a:lnTo>
                        <a:lnTo>
                          <a:pt x="183" y="68"/>
                        </a:lnTo>
                        <a:lnTo>
                          <a:pt x="201" y="68"/>
                        </a:lnTo>
                        <a:lnTo>
                          <a:pt x="220" y="67"/>
                        </a:lnTo>
                        <a:lnTo>
                          <a:pt x="231" y="65"/>
                        </a:lnTo>
                        <a:lnTo>
                          <a:pt x="242" y="61"/>
                        </a:lnTo>
                        <a:lnTo>
                          <a:pt x="253" y="58"/>
                        </a:lnTo>
                        <a:lnTo>
                          <a:pt x="265" y="54"/>
                        </a:lnTo>
                        <a:lnTo>
                          <a:pt x="275" y="52"/>
                        </a:lnTo>
                        <a:lnTo>
                          <a:pt x="287" y="48"/>
                        </a:lnTo>
                        <a:lnTo>
                          <a:pt x="297" y="45"/>
                        </a:lnTo>
                        <a:lnTo>
                          <a:pt x="309" y="41"/>
                        </a:lnTo>
                        <a:lnTo>
                          <a:pt x="309" y="26"/>
                        </a:lnTo>
                        <a:lnTo>
                          <a:pt x="307" y="13"/>
                        </a:lnTo>
                        <a:lnTo>
                          <a:pt x="303" y="5"/>
                        </a:lnTo>
                        <a:lnTo>
                          <a:pt x="297" y="1"/>
                        </a:lnTo>
                        <a:lnTo>
                          <a:pt x="290" y="0"/>
                        </a:lnTo>
                        <a:lnTo>
                          <a:pt x="279" y="0"/>
                        </a:lnTo>
                        <a:lnTo>
                          <a:pt x="268" y="4"/>
                        </a:lnTo>
                        <a:lnTo>
                          <a:pt x="252" y="9"/>
                        </a:lnTo>
                        <a:lnTo>
                          <a:pt x="242" y="9"/>
                        </a:lnTo>
                        <a:lnTo>
                          <a:pt x="231" y="10"/>
                        </a:lnTo>
                        <a:lnTo>
                          <a:pt x="221" y="10"/>
                        </a:lnTo>
                        <a:lnTo>
                          <a:pt x="211" y="10"/>
                        </a:lnTo>
                        <a:lnTo>
                          <a:pt x="200" y="10"/>
                        </a:lnTo>
                        <a:lnTo>
                          <a:pt x="188" y="10"/>
                        </a:lnTo>
                        <a:lnTo>
                          <a:pt x="178" y="11"/>
                        </a:lnTo>
                        <a:lnTo>
                          <a:pt x="168" y="11"/>
                        </a:lnTo>
                        <a:lnTo>
                          <a:pt x="140" y="10"/>
                        </a:lnTo>
                        <a:lnTo>
                          <a:pt x="116" y="9"/>
                        </a:lnTo>
                        <a:lnTo>
                          <a:pt x="96" y="6"/>
                        </a:lnTo>
                        <a:lnTo>
                          <a:pt x="77" y="5"/>
                        </a:lnTo>
                        <a:lnTo>
                          <a:pt x="60" y="6"/>
                        </a:lnTo>
                        <a:lnTo>
                          <a:pt x="42" y="9"/>
                        </a:lnTo>
                        <a:lnTo>
                          <a:pt x="22" y="16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353"/>
                  <p:cNvSpPr/>
                  <p:nvPr/>
                </p:nvSpPr>
                <p:spPr>
                  <a:xfrm flipH="1">
                    <a:off x="2640960" y="2854800"/>
                    <a:ext cx="19440" cy="3960"/>
                  </a:xfrm>
                  <a:custGeom>
                    <a:avLst/>
                    <a:gdLst>
                      <a:gd name="textAreaLeft" fmla="*/ 360 w 19440"/>
                      <a:gd name="textAreaRight" fmla="*/ 20160 w 19440"/>
                      <a:gd name="textAreaTop" fmla="*/ 0 h 3960"/>
                      <a:gd name="textAreaBottom" fmla="*/ 4320 h 3960"/>
                    </a:gdLst>
                    <a:ahLst/>
                    <a:rect l="textAreaLeft" t="textAreaTop" r="textAreaRight" b="textAreaBottom"/>
                    <a:pathLst>
                      <a:path w="112" h="25">
                        <a:moveTo>
                          <a:pt x="0" y="11"/>
                        </a:moveTo>
                        <a:lnTo>
                          <a:pt x="5" y="17"/>
                        </a:lnTo>
                        <a:lnTo>
                          <a:pt x="26" y="25"/>
                        </a:lnTo>
                        <a:lnTo>
                          <a:pt x="80" y="20"/>
                        </a:lnTo>
                        <a:lnTo>
                          <a:pt x="112" y="13"/>
                        </a:lnTo>
                        <a:lnTo>
                          <a:pt x="110" y="4"/>
                        </a:lnTo>
                        <a:lnTo>
                          <a:pt x="108" y="0"/>
                        </a:lnTo>
                        <a:lnTo>
                          <a:pt x="103" y="2"/>
                        </a:lnTo>
                        <a:lnTo>
                          <a:pt x="92" y="4"/>
                        </a:lnTo>
                        <a:lnTo>
                          <a:pt x="61" y="6"/>
                        </a:lnTo>
                        <a:lnTo>
                          <a:pt x="51" y="6"/>
                        </a:lnTo>
                        <a:lnTo>
                          <a:pt x="43" y="4"/>
                        </a:lnTo>
                        <a:lnTo>
                          <a:pt x="35" y="4"/>
                        </a:lnTo>
                        <a:lnTo>
                          <a:pt x="29" y="3"/>
                        </a:lnTo>
                        <a:lnTo>
                          <a:pt x="22" y="3"/>
                        </a:lnTo>
                        <a:lnTo>
                          <a:pt x="14" y="4"/>
                        </a:lnTo>
                        <a:lnTo>
                          <a:pt x="8" y="7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Freeform 363"/>
                  <p:cNvSpPr/>
                  <p:nvPr/>
                </p:nvSpPr>
                <p:spPr>
                  <a:xfrm flipH="1">
                    <a:off x="2637360" y="2801160"/>
                    <a:ext cx="21240" cy="4320"/>
                  </a:xfrm>
                  <a:custGeom>
                    <a:avLst/>
                    <a:gdLst>
                      <a:gd name="textAreaLeft" fmla="*/ -360 w 21240"/>
                      <a:gd name="textAreaRight" fmla="*/ 21240 w 21240"/>
                      <a:gd name="textAreaTop" fmla="*/ 0 h 4320"/>
                      <a:gd name="textAreaBottom" fmla="*/ 4680 h 4320"/>
                    </a:gdLst>
                    <a:ahLst/>
                    <a:rect l="textAreaLeft" t="textAreaTop" r="textAreaRight" b="textAreaBottom"/>
                    <a:pathLst>
                      <a:path w="122" h="27">
                        <a:moveTo>
                          <a:pt x="0" y="12"/>
                        </a:moveTo>
                        <a:lnTo>
                          <a:pt x="1" y="14"/>
                        </a:lnTo>
                        <a:lnTo>
                          <a:pt x="2" y="16"/>
                        </a:lnTo>
                        <a:lnTo>
                          <a:pt x="4" y="18"/>
                        </a:lnTo>
                        <a:lnTo>
                          <a:pt x="5" y="21"/>
                        </a:lnTo>
                        <a:lnTo>
                          <a:pt x="11" y="22"/>
                        </a:lnTo>
                        <a:lnTo>
                          <a:pt x="17" y="24"/>
                        </a:lnTo>
                        <a:lnTo>
                          <a:pt x="23" y="26"/>
                        </a:lnTo>
                        <a:lnTo>
                          <a:pt x="28" y="27"/>
                        </a:lnTo>
                        <a:lnTo>
                          <a:pt x="36" y="27"/>
                        </a:lnTo>
                        <a:lnTo>
                          <a:pt x="43" y="26"/>
                        </a:lnTo>
                        <a:lnTo>
                          <a:pt x="50" y="26"/>
                        </a:lnTo>
                        <a:lnTo>
                          <a:pt x="58" y="25"/>
                        </a:lnTo>
                        <a:lnTo>
                          <a:pt x="65" y="25"/>
                        </a:lnTo>
                        <a:lnTo>
                          <a:pt x="72" y="25"/>
                        </a:lnTo>
                        <a:lnTo>
                          <a:pt x="79" y="24"/>
                        </a:lnTo>
                        <a:lnTo>
                          <a:pt x="87" y="24"/>
                        </a:lnTo>
                        <a:lnTo>
                          <a:pt x="96" y="21"/>
                        </a:lnTo>
                        <a:lnTo>
                          <a:pt x="105" y="20"/>
                        </a:lnTo>
                        <a:lnTo>
                          <a:pt x="113" y="17"/>
                        </a:lnTo>
                        <a:lnTo>
                          <a:pt x="122" y="16"/>
                        </a:lnTo>
                        <a:lnTo>
                          <a:pt x="120" y="5"/>
                        </a:lnTo>
                        <a:lnTo>
                          <a:pt x="118" y="0"/>
                        </a:lnTo>
                        <a:lnTo>
                          <a:pt x="111" y="2"/>
                        </a:lnTo>
                        <a:lnTo>
                          <a:pt x="100" y="4"/>
                        </a:lnTo>
                        <a:lnTo>
                          <a:pt x="92" y="5"/>
                        </a:lnTo>
                        <a:lnTo>
                          <a:pt x="83" y="5"/>
                        </a:lnTo>
                        <a:lnTo>
                          <a:pt x="75" y="5"/>
                        </a:lnTo>
                        <a:lnTo>
                          <a:pt x="66" y="5"/>
                        </a:lnTo>
                        <a:lnTo>
                          <a:pt x="56" y="5"/>
                        </a:lnTo>
                        <a:lnTo>
                          <a:pt x="47" y="4"/>
                        </a:lnTo>
                        <a:lnTo>
                          <a:pt x="37" y="4"/>
                        </a:lnTo>
                        <a:lnTo>
                          <a:pt x="31" y="3"/>
                        </a:lnTo>
                        <a:lnTo>
                          <a:pt x="23" y="4"/>
                        </a:lnTo>
                        <a:lnTo>
                          <a:pt x="17" y="5"/>
                        </a:lnTo>
                        <a:lnTo>
                          <a:pt x="9" y="8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367"/>
                  <p:cNvSpPr/>
                  <p:nvPr/>
                </p:nvSpPr>
                <p:spPr>
                  <a:xfrm flipH="1">
                    <a:off x="2641680" y="2772000"/>
                    <a:ext cx="18360" cy="13320"/>
                  </a:xfrm>
                  <a:custGeom>
                    <a:avLst/>
                    <a:gdLst>
                      <a:gd name="textAreaLeft" fmla="*/ -360 w 18360"/>
                      <a:gd name="textAreaRight" fmla="*/ 18360 w 1836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106" h="80">
                        <a:moveTo>
                          <a:pt x="53" y="0"/>
                        </a:moveTo>
                        <a:lnTo>
                          <a:pt x="64" y="1"/>
                        </a:lnTo>
                        <a:lnTo>
                          <a:pt x="74" y="2"/>
                        </a:lnTo>
                        <a:lnTo>
                          <a:pt x="83" y="6"/>
                        </a:lnTo>
                        <a:lnTo>
                          <a:pt x="91" y="11"/>
                        </a:lnTo>
                        <a:lnTo>
                          <a:pt x="97" y="18"/>
                        </a:lnTo>
                        <a:lnTo>
                          <a:pt x="103" y="24"/>
                        </a:lnTo>
                        <a:lnTo>
                          <a:pt x="105" y="32"/>
                        </a:lnTo>
                        <a:lnTo>
                          <a:pt x="106" y="40"/>
                        </a:lnTo>
                        <a:lnTo>
                          <a:pt x="105" y="48"/>
                        </a:lnTo>
                        <a:lnTo>
                          <a:pt x="103" y="55"/>
                        </a:lnTo>
                        <a:lnTo>
                          <a:pt x="97" y="62"/>
                        </a:lnTo>
                        <a:lnTo>
                          <a:pt x="91" y="68"/>
                        </a:lnTo>
                        <a:lnTo>
                          <a:pt x="83" y="74"/>
                        </a:lnTo>
                        <a:lnTo>
                          <a:pt x="74" y="78"/>
                        </a:lnTo>
                        <a:lnTo>
                          <a:pt x="64" y="79"/>
                        </a:lnTo>
                        <a:lnTo>
                          <a:pt x="53" y="80"/>
                        </a:lnTo>
                        <a:lnTo>
                          <a:pt x="43" y="79"/>
                        </a:lnTo>
                        <a:lnTo>
                          <a:pt x="32" y="78"/>
                        </a:lnTo>
                        <a:lnTo>
                          <a:pt x="23" y="74"/>
                        </a:lnTo>
                        <a:lnTo>
                          <a:pt x="16" y="68"/>
                        </a:lnTo>
                        <a:lnTo>
                          <a:pt x="9" y="62"/>
                        </a:lnTo>
                        <a:lnTo>
                          <a:pt x="4" y="55"/>
                        </a:lnTo>
                        <a:lnTo>
                          <a:pt x="1" y="48"/>
                        </a:lnTo>
                        <a:lnTo>
                          <a:pt x="0" y="40"/>
                        </a:lnTo>
                        <a:lnTo>
                          <a:pt x="1" y="32"/>
                        </a:lnTo>
                        <a:lnTo>
                          <a:pt x="4" y="24"/>
                        </a:lnTo>
                        <a:lnTo>
                          <a:pt x="9" y="18"/>
                        </a:lnTo>
                        <a:lnTo>
                          <a:pt x="16" y="11"/>
                        </a:lnTo>
                        <a:lnTo>
                          <a:pt x="23" y="6"/>
                        </a:lnTo>
                        <a:lnTo>
                          <a:pt x="32" y="2"/>
                        </a:lnTo>
                        <a:lnTo>
                          <a:pt x="43" y="1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9" name="Gruppe 94"/>
            <p:cNvGrpSpPr/>
            <p:nvPr/>
          </p:nvGrpSpPr>
          <p:grpSpPr>
            <a:xfrm>
              <a:off x="2220120" y="2944440"/>
              <a:ext cx="153000" cy="320040"/>
              <a:chOff x="2220120" y="2944440"/>
              <a:chExt cx="153000" cy="320040"/>
            </a:xfrm>
          </p:grpSpPr>
          <p:grpSp>
            <p:nvGrpSpPr>
              <p:cNvPr id="230" name="Gruppe 852"/>
              <p:cNvGrpSpPr/>
              <p:nvPr/>
            </p:nvGrpSpPr>
            <p:grpSpPr>
              <a:xfrm>
                <a:off x="2220120" y="2980080"/>
                <a:ext cx="153000" cy="284400"/>
                <a:chOff x="2220120" y="2980080"/>
                <a:chExt cx="153000" cy="284400"/>
              </a:xfrm>
            </p:grpSpPr>
            <p:sp>
              <p:nvSpPr>
                <p:cNvPr id="231" name="Ellipse 330"/>
                <p:cNvSpPr/>
                <p:nvPr/>
              </p:nvSpPr>
              <p:spPr>
                <a:xfrm flipH="1">
                  <a:off x="2219760" y="3227760"/>
                  <a:ext cx="138600" cy="36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2" name="Gruppe 822"/>
                <p:cNvGrpSpPr/>
                <p:nvPr/>
              </p:nvGrpSpPr>
              <p:grpSpPr>
                <a:xfrm>
                  <a:off x="2244600" y="2980080"/>
                  <a:ext cx="128520" cy="282240"/>
                  <a:chOff x="2244600" y="2980080"/>
                  <a:chExt cx="128520" cy="282240"/>
                </a:xfrm>
              </p:grpSpPr>
              <p:grpSp>
                <p:nvGrpSpPr>
                  <p:cNvPr id="233" name="Gruppe 604"/>
                  <p:cNvGrpSpPr/>
                  <p:nvPr/>
                </p:nvGrpSpPr>
                <p:grpSpPr>
                  <a:xfrm>
                    <a:off x="2247480" y="2980080"/>
                    <a:ext cx="125640" cy="282240"/>
                    <a:chOff x="2247480" y="2980080"/>
                    <a:chExt cx="125640" cy="282240"/>
                  </a:xfrm>
                </p:grpSpPr>
                <p:sp>
                  <p:nvSpPr>
                    <p:cNvPr id="234" name="Freeform 130"/>
                    <p:cNvSpPr/>
                    <p:nvPr/>
                  </p:nvSpPr>
                  <p:spPr>
                    <a:xfrm flipH="1">
                      <a:off x="2247120" y="2980080"/>
                      <a:ext cx="125640" cy="282240"/>
                    </a:xfrm>
                    <a:custGeom>
                      <a:avLst/>
                      <a:gdLst>
                        <a:gd name="textAreaLeft" fmla="*/ -360 w 125640"/>
                        <a:gd name="textAreaRight" fmla="*/ 125640 w 125640"/>
                        <a:gd name="textAreaTop" fmla="*/ 0 h 282240"/>
                        <a:gd name="textAreaBottom" fmla="*/ 282600 h 282240"/>
                      </a:gdLst>
                      <a:ahLst/>
                      <a:rect l="textAreaLeft" t="textAreaTop" r="textAreaRight" b="textAreaBottom"/>
                      <a:pathLst>
                        <a:path w="493" h="1194">
                          <a:moveTo>
                            <a:pt x="208" y="62"/>
                          </a:moveTo>
                          <a:lnTo>
                            <a:pt x="167" y="83"/>
                          </a:lnTo>
                          <a:lnTo>
                            <a:pt x="145" y="87"/>
                          </a:lnTo>
                          <a:lnTo>
                            <a:pt x="125" y="93"/>
                          </a:lnTo>
                          <a:lnTo>
                            <a:pt x="110" y="100"/>
                          </a:lnTo>
                          <a:lnTo>
                            <a:pt x="99" y="110"/>
                          </a:lnTo>
                          <a:lnTo>
                            <a:pt x="92" y="124"/>
                          </a:lnTo>
                          <a:lnTo>
                            <a:pt x="90" y="141"/>
                          </a:lnTo>
                          <a:lnTo>
                            <a:pt x="93" y="162"/>
                          </a:lnTo>
                          <a:lnTo>
                            <a:pt x="104" y="187"/>
                          </a:lnTo>
                          <a:lnTo>
                            <a:pt x="158" y="242"/>
                          </a:lnTo>
                          <a:lnTo>
                            <a:pt x="158" y="272"/>
                          </a:lnTo>
                          <a:lnTo>
                            <a:pt x="140" y="282"/>
                          </a:lnTo>
                          <a:lnTo>
                            <a:pt x="135" y="302"/>
                          </a:lnTo>
                          <a:lnTo>
                            <a:pt x="138" y="326"/>
                          </a:lnTo>
                          <a:lnTo>
                            <a:pt x="147" y="346"/>
                          </a:lnTo>
                          <a:lnTo>
                            <a:pt x="104" y="360"/>
                          </a:lnTo>
                          <a:lnTo>
                            <a:pt x="89" y="375"/>
                          </a:lnTo>
                          <a:lnTo>
                            <a:pt x="77" y="389"/>
                          </a:lnTo>
                          <a:lnTo>
                            <a:pt x="71" y="402"/>
                          </a:lnTo>
                          <a:lnTo>
                            <a:pt x="70" y="414"/>
                          </a:lnTo>
                          <a:lnTo>
                            <a:pt x="74" y="426"/>
                          </a:lnTo>
                          <a:lnTo>
                            <a:pt x="82" y="437"/>
                          </a:lnTo>
                          <a:lnTo>
                            <a:pt x="94" y="449"/>
                          </a:lnTo>
                          <a:lnTo>
                            <a:pt x="113" y="459"/>
                          </a:lnTo>
                          <a:lnTo>
                            <a:pt x="173" y="480"/>
                          </a:lnTo>
                          <a:lnTo>
                            <a:pt x="168" y="522"/>
                          </a:lnTo>
                          <a:lnTo>
                            <a:pt x="162" y="562"/>
                          </a:lnTo>
                          <a:lnTo>
                            <a:pt x="156" y="601"/>
                          </a:lnTo>
                          <a:lnTo>
                            <a:pt x="150" y="638"/>
                          </a:lnTo>
                          <a:lnTo>
                            <a:pt x="140" y="676"/>
                          </a:lnTo>
                          <a:lnTo>
                            <a:pt x="129" y="713"/>
                          </a:lnTo>
                          <a:lnTo>
                            <a:pt x="115" y="750"/>
                          </a:lnTo>
                          <a:lnTo>
                            <a:pt x="98" y="789"/>
                          </a:lnTo>
                          <a:lnTo>
                            <a:pt x="83" y="796"/>
                          </a:lnTo>
                          <a:lnTo>
                            <a:pt x="70" y="804"/>
                          </a:lnTo>
                          <a:lnTo>
                            <a:pt x="61" y="814"/>
                          </a:lnTo>
                          <a:lnTo>
                            <a:pt x="55" y="823"/>
                          </a:lnTo>
                          <a:lnTo>
                            <a:pt x="53" y="835"/>
                          </a:lnTo>
                          <a:lnTo>
                            <a:pt x="55" y="845"/>
                          </a:lnTo>
                          <a:lnTo>
                            <a:pt x="62" y="857"/>
                          </a:lnTo>
                          <a:lnTo>
                            <a:pt x="75" y="868"/>
                          </a:lnTo>
                          <a:lnTo>
                            <a:pt x="78" y="889"/>
                          </a:lnTo>
                          <a:lnTo>
                            <a:pt x="53" y="896"/>
                          </a:lnTo>
                          <a:lnTo>
                            <a:pt x="34" y="905"/>
                          </a:lnTo>
                          <a:lnTo>
                            <a:pt x="21" y="916"/>
                          </a:lnTo>
                          <a:lnTo>
                            <a:pt x="13" y="928"/>
                          </a:lnTo>
                          <a:lnTo>
                            <a:pt x="8" y="942"/>
                          </a:lnTo>
                          <a:lnTo>
                            <a:pt x="8" y="959"/>
                          </a:lnTo>
                          <a:lnTo>
                            <a:pt x="10" y="978"/>
                          </a:lnTo>
                          <a:lnTo>
                            <a:pt x="15" y="999"/>
                          </a:lnTo>
                          <a:lnTo>
                            <a:pt x="19" y="1032"/>
                          </a:lnTo>
                          <a:lnTo>
                            <a:pt x="0" y="1057"/>
                          </a:lnTo>
                          <a:lnTo>
                            <a:pt x="0" y="1121"/>
                          </a:lnTo>
                          <a:lnTo>
                            <a:pt x="18" y="1137"/>
                          </a:lnTo>
                          <a:lnTo>
                            <a:pt x="41" y="1151"/>
                          </a:lnTo>
                          <a:lnTo>
                            <a:pt x="69" y="1163"/>
                          </a:lnTo>
                          <a:lnTo>
                            <a:pt x="101" y="1174"/>
                          </a:lnTo>
                          <a:lnTo>
                            <a:pt x="135" y="1182"/>
                          </a:lnTo>
                          <a:lnTo>
                            <a:pt x="171" y="1189"/>
                          </a:lnTo>
                          <a:lnTo>
                            <a:pt x="208" y="1192"/>
                          </a:lnTo>
                          <a:lnTo>
                            <a:pt x="246" y="1194"/>
                          </a:lnTo>
                          <a:lnTo>
                            <a:pt x="285" y="1193"/>
                          </a:lnTo>
                          <a:lnTo>
                            <a:pt x="322" y="1190"/>
                          </a:lnTo>
                          <a:lnTo>
                            <a:pt x="359" y="1184"/>
                          </a:lnTo>
                          <a:lnTo>
                            <a:pt x="393" y="1175"/>
                          </a:lnTo>
                          <a:lnTo>
                            <a:pt x="424" y="1162"/>
                          </a:lnTo>
                          <a:lnTo>
                            <a:pt x="451" y="1147"/>
                          </a:lnTo>
                          <a:lnTo>
                            <a:pt x="474" y="1129"/>
                          </a:lnTo>
                          <a:lnTo>
                            <a:pt x="493" y="1107"/>
                          </a:lnTo>
                          <a:lnTo>
                            <a:pt x="493" y="1069"/>
                          </a:lnTo>
                          <a:lnTo>
                            <a:pt x="484" y="1032"/>
                          </a:lnTo>
                          <a:lnTo>
                            <a:pt x="487" y="1005"/>
                          </a:lnTo>
                          <a:lnTo>
                            <a:pt x="489" y="984"/>
                          </a:lnTo>
                          <a:lnTo>
                            <a:pt x="489" y="965"/>
                          </a:lnTo>
                          <a:lnTo>
                            <a:pt x="486" y="950"/>
                          </a:lnTo>
                          <a:lnTo>
                            <a:pt x="480" y="936"/>
                          </a:lnTo>
                          <a:lnTo>
                            <a:pt x="470" y="921"/>
                          </a:lnTo>
                          <a:lnTo>
                            <a:pt x="454" y="906"/>
                          </a:lnTo>
                          <a:lnTo>
                            <a:pt x="433" y="888"/>
                          </a:lnTo>
                          <a:lnTo>
                            <a:pt x="441" y="870"/>
                          </a:lnTo>
                          <a:lnTo>
                            <a:pt x="446" y="855"/>
                          </a:lnTo>
                          <a:lnTo>
                            <a:pt x="449" y="842"/>
                          </a:lnTo>
                          <a:lnTo>
                            <a:pt x="449" y="832"/>
                          </a:lnTo>
                          <a:lnTo>
                            <a:pt x="444" y="823"/>
                          </a:lnTo>
                          <a:lnTo>
                            <a:pt x="438" y="814"/>
                          </a:lnTo>
                          <a:lnTo>
                            <a:pt x="425" y="805"/>
                          </a:lnTo>
                          <a:lnTo>
                            <a:pt x="409" y="793"/>
                          </a:lnTo>
                          <a:lnTo>
                            <a:pt x="389" y="751"/>
                          </a:lnTo>
                          <a:lnTo>
                            <a:pt x="373" y="713"/>
                          </a:lnTo>
                          <a:lnTo>
                            <a:pt x="362" y="677"/>
                          </a:lnTo>
                          <a:lnTo>
                            <a:pt x="355" y="644"/>
                          </a:lnTo>
                          <a:lnTo>
                            <a:pt x="349" y="609"/>
                          </a:lnTo>
                          <a:lnTo>
                            <a:pt x="345" y="572"/>
                          </a:lnTo>
                          <a:lnTo>
                            <a:pt x="344" y="531"/>
                          </a:lnTo>
                          <a:lnTo>
                            <a:pt x="344" y="485"/>
                          </a:lnTo>
                          <a:lnTo>
                            <a:pt x="379" y="471"/>
                          </a:lnTo>
                          <a:lnTo>
                            <a:pt x="404" y="455"/>
                          </a:lnTo>
                          <a:lnTo>
                            <a:pt x="417" y="446"/>
                          </a:lnTo>
                          <a:lnTo>
                            <a:pt x="426" y="435"/>
                          </a:lnTo>
                          <a:lnTo>
                            <a:pt x="433" y="423"/>
                          </a:lnTo>
                          <a:lnTo>
                            <a:pt x="436" y="411"/>
                          </a:lnTo>
                          <a:lnTo>
                            <a:pt x="434" y="398"/>
                          </a:lnTo>
                          <a:lnTo>
                            <a:pt x="427" y="386"/>
                          </a:lnTo>
                          <a:lnTo>
                            <a:pt x="414" y="374"/>
                          </a:lnTo>
                          <a:lnTo>
                            <a:pt x="394" y="364"/>
                          </a:lnTo>
                          <a:lnTo>
                            <a:pt x="368" y="356"/>
                          </a:lnTo>
                          <a:lnTo>
                            <a:pt x="379" y="343"/>
                          </a:lnTo>
                          <a:lnTo>
                            <a:pt x="386" y="330"/>
                          </a:lnTo>
                          <a:lnTo>
                            <a:pt x="390" y="318"/>
                          </a:lnTo>
                          <a:lnTo>
                            <a:pt x="393" y="306"/>
                          </a:lnTo>
                          <a:lnTo>
                            <a:pt x="390" y="295"/>
                          </a:lnTo>
                          <a:lnTo>
                            <a:pt x="386" y="283"/>
                          </a:lnTo>
                          <a:lnTo>
                            <a:pt x="376" y="273"/>
                          </a:lnTo>
                          <a:lnTo>
                            <a:pt x="364" y="261"/>
                          </a:lnTo>
                          <a:lnTo>
                            <a:pt x="389" y="227"/>
                          </a:lnTo>
                          <a:lnTo>
                            <a:pt x="409" y="192"/>
                          </a:lnTo>
                          <a:lnTo>
                            <a:pt x="420" y="170"/>
                          </a:lnTo>
                          <a:lnTo>
                            <a:pt x="428" y="153"/>
                          </a:lnTo>
                          <a:lnTo>
                            <a:pt x="432" y="139"/>
                          </a:lnTo>
                          <a:lnTo>
                            <a:pt x="432" y="128"/>
                          </a:lnTo>
                          <a:lnTo>
                            <a:pt x="426" y="118"/>
                          </a:lnTo>
                          <a:lnTo>
                            <a:pt x="416" y="110"/>
                          </a:lnTo>
                          <a:lnTo>
                            <a:pt x="400" y="102"/>
                          </a:lnTo>
                          <a:lnTo>
                            <a:pt x="378" y="92"/>
                          </a:lnTo>
                          <a:lnTo>
                            <a:pt x="349" y="77"/>
                          </a:lnTo>
                          <a:lnTo>
                            <a:pt x="320" y="68"/>
                          </a:lnTo>
                          <a:lnTo>
                            <a:pt x="322" y="54"/>
                          </a:lnTo>
                          <a:lnTo>
                            <a:pt x="322" y="42"/>
                          </a:lnTo>
                          <a:lnTo>
                            <a:pt x="320" y="32"/>
                          </a:lnTo>
                          <a:lnTo>
                            <a:pt x="315" y="23"/>
                          </a:lnTo>
                          <a:lnTo>
                            <a:pt x="309" y="16"/>
                          </a:lnTo>
                          <a:lnTo>
                            <a:pt x="300" y="10"/>
                          </a:lnTo>
                          <a:lnTo>
                            <a:pt x="291" y="5"/>
                          </a:lnTo>
                          <a:lnTo>
                            <a:pt x="281" y="2"/>
                          </a:lnTo>
                          <a:lnTo>
                            <a:pt x="268" y="0"/>
                          </a:lnTo>
                          <a:lnTo>
                            <a:pt x="256" y="1"/>
                          </a:lnTo>
                          <a:lnTo>
                            <a:pt x="243" y="3"/>
                          </a:lnTo>
                          <a:lnTo>
                            <a:pt x="233" y="8"/>
                          </a:lnTo>
                          <a:lnTo>
                            <a:pt x="222" y="16"/>
                          </a:lnTo>
                          <a:lnTo>
                            <a:pt x="215" y="27"/>
                          </a:lnTo>
                          <a:lnTo>
                            <a:pt x="211" y="42"/>
                          </a:lnTo>
                          <a:lnTo>
                            <a:pt x="208" y="62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acacac"/>
                        </a:gs>
                        <a:gs pos="100000">
                          <a:srgbClr val="e6e6e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131"/>
                    <p:cNvSpPr/>
                    <p:nvPr/>
                  </p:nvSpPr>
                  <p:spPr>
                    <a:xfrm flipH="1">
                      <a:off x="2282040" y="2994840"/>
                      <a:ext cx="49320" cy="11160"/>
                    </a:xfrm>
                    <a:custGeom>
                      <a:avLst/>
                      <a:gdLst>
                        <a:gd name="textAreaLeft" fmla="*/ -360 w 49320"/>
                        <a:gd name="textAreaRight" fmla="*/ 49320 w 4932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185" h="58">
                          <a:moveTo>
                            <a:pt x="13" y="8"/>
                          </a:moveTo>
                          <a:lnTo>
                            <a:pt x="0" y="22"/>
                          </a:lnTo>
                          <a:lnTo>
                            <a:pt x="8" y="43"/>
                          </a:lnTo>
                          <a:lnTo>
                            <a:pt x="28" y="49"/>
                          </a:lnTo>
                          <a:lnTo>
                            <a:pt x="53" y="54"/>
                          </a:lnTo>
                          <a:lnTo>
                            <a:pt x="81" y="58"/>
                          </a:lnTo>
                          <a:lnTo>
                            <a:pt x="108" y="56"/>
                          </a:lnTo>
                          <a:lnTo>
                            <a:pt x="135" y="53"/>
                          </a:lnTo>
                          <a:lnTo>
                            <a:pt x="159" y="46"/>
                          </a:lnTo>
                          <a:lnTo>
                            <a:pt x="176" y="33"/>
                          </a:lnTo>
                          <a:lnTo>
                            <a:pt x="185" y="16"/>
                          </a:lnTo>
                          <a:lnTo>
                            <a:pt x="160" y="6"/>
                          </a:lnTo>
                          <a:lnTo>
                            <a:pt x="144" y="0"/>
                          </a:lnTo>
                          <a:lnTo>
                            <a:pt x="139" y="15"/>
                          </a:lnTo>
                          <a:lnTo>
                            <a:pt x="127" y="24"/>
                          </a:lnTo>
                          <a:lnTo>
                            <a:pt x="109" y="29"/>
                          </a:lnTo>
                          <a:lnTo>
                            <a:pt x="89" y="29"/>
                          </a:lnTo>
                          <a:lnTo>
                            <a:pt x="68" y="25"/>
                          </a:lnTo>
                          <a:lnTo>
                            <a:pt x="51" y="20"/>
                          </a:lnTo>
                          <a:lnTo>
                            <a:pt x="38" y="11"/>
                          </a:lnTo>
                          <a:lnTo>
                            <a:pt x="33" y="1"/>
                          </a:lnTo>
                          <a:lnTo>
                            <a:pt x="13" y="8"/>
                          </a:lnTo>
                          <a:close/>
                        </a:path>
                      </a:pathLst>
                    </a:custGeom>
                    <a:solidFill>
                      <a:srgbClr val="e6e6e6">
                        <a:alpha val="56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Freeform 132"/>
                    <p:cNvSpPr/>
                    <p:nvPr/>
                  </p:nvSpPr>
                  <p:spPr>
                    <a:xfrm flipH="1">
                      <a:off x="2263320" y="3002760"/>
                      <a:ext cx="82800" cy="21240"/>
                    </a:xfrm>
                    <a:custGeom>
                      <a:avLst/>
                      <a:gdLst>
                        <a:gd name="textAreaLeft" fmla="*/ 360 w 82800"/>
                        <a:gd name="textAreaRight" fmla="*/ 83520 w 8280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329" h="102">
                          <a:moveTo>
                            <a:pt x="32" y="10"/>
                          </a:moveTo>
                          <a:lnTo>
                            <a:pt x="1" y="26"/>
                          </a:lnTo>
                          <a:lnTo>
                            <a:pt x="0" y="43"/>
                          </a:lnTo>
                          <a:lnTo>
                            <a:pt x="3" y="60"/>
                          </a:lnTo>
                          <a:lnTo>
                            <a:pt x="14" y="71"/>
                          </a:lnTo>
                          <a:lnTo>
                            <a:pt x="27" y="81"/>
                          </a:lnTo>
                          <a:lnTo>
                            <a:pt x="46" y="90"/>
                          </a:lnTo>
                          <a:lnTo>
                            <a:pt x="67" y="95"/>
                          </a:lnTo>
                          <a:lnTo>
                            <a:pt x="91" y="100"/>
                          </a:lnTo>
                          <a:lnTo>
                            <a:pt x="117" y="102"/>
                          </a:lnTo>
                          <a:lnTo>
                            <a:pt x="144" y="102"/>
                          </a:lnTo>
                          <a:lnTo>
                            <a:pt x="171" y="102"/>
                          </a:lnTo>
                          <a:lnTo>
                            <a:pt x="199" y="100"/>
                          </a:lnTo>
                          <a:lnTo>
                            <a:pt x="225" y="98"/>
                          </a:lnTo>
                          <a:lnTo>
                            <a:pt x="251" y="94"/>
                          </a:lnTo>
                          <a:lnTo>
                            <a:pt x="273" y="90"/>
                          </a:lnTo>
                          <a:lnTo>
                            <a:pt x="292" y="85"/>
                          </a:lnTo>
                          <a:lnTo>
                            <a:pt x="308" y="79"/>
                          </a:lnTo>
                          <a:lnTo>
                            <a:pt x="319" y="71"/>
                          </a:lnTo>
                          <a:lnTo>
                            <a:pt x="326" y="61"/>
                          </a:lnTo>
                          <a:lnTo>
                            <a:pt x="329" y="50"/>
                          </a:lnTo>
                          <a:lnTo>
                            <a:pt x="329" y="39"/>
                          </a:lnTo>
                          <a:lnTo>
                            <a:pt x="325" y="28"/>
                          </a:lnTo>
                          <a:lnTo>
                            <a:pt x="316" y="18"/>
                          </a:lnTo>
                          <a:lnTo>
                            <a:pt x="303" y="8"/>
                          </a:lnTo>
                          <a:lnTo>
                            <a:pt x="285" y="0"/>
                          </a:lnTo>
                          <a:lnTo>
                            <a:pt x="269" y="18"/>
                          </a:lnTo>
                          <a:lnTo>
                            <a:pt x="252" y="31"/>
                          </a:lnTo>
                          <a:lnTo>
                            <a:pt x="234" y="39"/>
                          </a:lnTo>
                          <a:lnTo>
                            <a:pt x="215" y="43"/>
                          </a:lnTo>
                          <a:lnTo>
                            <a:pt x="194" y="45"/>
                          </a:lnTo>
                          <a:lnTo>
                            <a:pt x="173" y="43"/>
                          </a:lnTo>
                          <a:lnTo>
                            <a:pt x="148" y="41"/>
                          </a:lnTo>
                          <a:lnTo>
                            <a:pt x="122" y="40"/>
                          </a:lnTo>
                          <a:lnTo>
                            <a:pt x="67" y="30"/>
                          </a:lnTo>
                          <a:lnTo>
                            <a:pt x="49" y="3"/>
                          </a:lnTo>
                          <a:lnTo>
                            <a:pt x="32" y="10"/>
                          </a:lnTo>
                          <a:close/>
                        </a:path>
                      </a:pathLst>
                    </a:custGeom>
                    <a:solidFill>
                      <a:srgbClr val="e6e6e6">
                        <a:alpha val="56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Freeform 133"/>
                    <p:cNvSpPr/>
                    <p:nvPr/>
                  </p:nvSpPr>
                  <p:spPr>
                    <a:xfrm flipH="1">
                      <a:off x="2282040" y="3050640"/>
                      <a:ext cx="49320" cy="11160"/>
                    </a:xfrm>
                    <a:custGeom>
                      <a:avLst/>
                      <a:gdLst>
                        <a:gd name="textAreaLeft" fmla="*/ -360 w 49320"/>
                        <a:gd name="textAreaRight" fmla="*/ 49320 w 4932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204" h="37">
                          <a:moveTo>
                            <a:pt x="12" y="0"/>
                          </a:moveTo>
                          <a:lnTo>
                            <a:pt x="24" y="6"/>
                          </a:lnTo>
                          <a:lnTo>
                            <a:pt x="35" y="12"/>
                          </a:lnTo>
                          <a:lnTo>
                            <a:pt x="47" y="15"/>
                          </a:lnTo>
                          <a:lnTo>
                            <a:pt x="58" y="17"/>
                          </a:lnTo>
                          <a:lnTo>
                            <a:pt x="70" y="20"/>
                          </a:lnTo>
                          <a:lnTo>
                            <a:pt x="82" y="21"/>
                          </a:lnTo>
                          <a:lnTo>
                            <a:pt x="94" y="22"/>
                          </a:lnTo>
                          <a:lnTo>
                            <a:pt x="106" y="21"/>
                          </a:lnTo>
                          <a:lnTo>
                            <a:pt x="119" y="20"/>
                          </a:lnTo>
                          <a:lnTo>
                            <a:pt x="131" y="19"/>
                          </a:lnTo>
                          <a:lnTo>
                            <a:pt x="143" y="16"/>
                          </a:lnTo>
                          <a:lnTo>
                            <a:pt x="156" y="14"/>
                          </a:lnTo>
                          <a:lnTo>
                            <a:pt x="167" y="12"/>
                          </a:lnTo>
                          <a:lnTo>
                            <a:pt x="180" y="8"/>
                          </a:lnTo>
                          <a:lnTo>
                            <a:pt x="192" y="6"/>
                          </a:lnTo>
                          <a:lnTo>
                            <a:pt x="204" y="2"/>
                          </a:lnTo>
                          <a:lnTo>
                            <a:pt x="204" y="14"/>
                          </a:lnTo>
                          <a:lnTo>
                            <a:pt x="196" y="17"/>
                          </a:lnTo>
                          <a:lnTo>
                            <a:pt x="188" y="21"/>
                          </a:lnTo>
                          <a:lnTo>
                            <a:pt x="178" y="24"/>
                          </a:lnTo>
                          <a:lnTo>
                            <a:pt x="167" y="27"/>
                          </a:lnTo>
                          <a:lnTo>
                            <a:pt x="155" y="30"/>
                          </a:lnTo>
                          <a:lnTo>
                            <a:pt x="143" y="32"/>
                          </a:lnTo>
                          <a:lnTo>
                            <a:pt x="129" y="35"/>
                          </a:lnTo>
                          <a:lnTo>
                            <a:pt x="117" y="37"/>
                          </a:lnTo>
                          <a:lnTo>
                            <a:pt x="102" y="37"/>
                          </a:lnTo>
                          <a:lnTo>
                            <a:pt x="88" y="37"/>
                          </a:lnTo>
                          <a:lnTo>
                            <a:pt x="73" y="36"/>
                          </a:lnTo>
                          <a:lnTo>
                            <a:pt x="58" y="34"/>
                          </a:lnTo>
                          <a:lnTo>
                            <a:pt x="44" y="29"/>
                          </a:lnTo>
                          <a:lnTo>
                            <a:pt x="29" y="24"/>
                          </a:lnTo>
                          <a:lnTo>
                            <a:pt x="14" y="17"/>
                          </a:lnTo>
                          <a:lnTo>
                            <a:pt x="0" y="8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e6e6e6">
                        <a:alpha val="56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135"/>
                    <p:cNvSpPr/>
                    <p:nvPr/>
                  </p:nvSpPr>
                  <p:spPr>
                    <a:xfrm flipH="1">
                      <a:off x="2263320" y="3065400"/>
                      <a:ext cx="90720" cy="26280"/>
                    </a:xfrm>
                    <a:custGeom>
                      <a:avLst/>
                      <a:gdLst>
                        <a:gd name="textAreaLeft" fmla="*/ 0 w 90720"/>
                        <a:gd name="textAreaRight" fmla="*/ 90720 w 90720"/>
                        <a:gd name="textAreaTop" fmla="*/ 0 h 26280"/>
                        <a:gd name="textAreaBottom" fmla="*/ 26640 h 26280"/>
                      </a:gdLst>
                      <a:ahLst/>
                      <a:rect l="textAreaLeft" t="textAreaTop" r="textAreaRight" b="textAreaBottom"/>
                      <a:pathLst>
                        <a:path w="351" h="100">
                          <a:moveTo>
                            <a:pt x="40" y="0"/>
                          </a:moveTo>
                          <a:lnTo>
                            <a:pt x="19" y="9"/>
                          </a:lnTo>
                          <a:lnTo>
                            <a:pt x="6" y="20"/>
                          </a:lnTo>
                          <a:lnTo>
                            <a:pt x="0" y="30"/>
                          </a:lnTo>
                          <a:lnTo>
                            <a:pt x="0" y="42"/>
                          </a:lnTo>
                          <a:lnTo>
                            <a:pt x="7" y="53"/>
                          </a:lnTo>
                          <a:lnTo>
                            <a:pt x="17" y="65"/>
                          </a:lnTo>
                          <a:lnTo>
                            <a:pt x="32" y="75"/>
                          </a:lnTo>
                          <a:lnTo>
                            <a:pt x="50" y="85"/>
                          </a:lnTo>
                          <a:lnTo>
                            <a:pt x="66" y="89"/>
                          </a:lnTo>
                          <a:lnTo>
                            <a:pt x="82" y="92"/>
                          </a:lnTo>
                          <a:lnTo>
                            <a:pt x="97" y="95"/>
                          </a:lnTo>
                          <a:lnTo>
                            <a:pt x="113" y="96"/>
                          </a:lnTo>
                          <a:lnTo>
                            <a:pt x="128" y="98"/>
                          </a:lnTo>
                          <a:lnTo>
                            <a:pt x="144" y="99"/>
                          </a:lnTo>
                          <a:lnTo>
                            <a:pt x="159" y="99"/>
                          </a:lnTo>
                          <a:lnTo>
                            <a:pt x="174" y="100"/>
                          </a:lnTo>
                          <a:lnTo>
                            <a:pt x="189" y="100"/>
                          </a:lnTo>
                          <a:lnTo>
                            <a:pt x="205" y="100"/>
                          </a:lnTo>
                          <a:lnTo>
                            <a:pt x="220" y="99"/>
                          </a:lnTo>
                          <a:lnTo>
                            <a:pt x="236" y="99"/>
                          </a:lnTo>
                          <a:lnTo>
                            <a:pt x="251" y="98"/>
                          </a:lnTo>
                          <a:lnTo>
                            <a:pt x="267" y="97"/>
                          </a:lnTo>
                          <a:lnTo>
                            <a:pt x="284" y="95"/>
                          </a:lnTo>
                          <a:lnTo>
                            <a:pt x="300" y="94"/>
                          </a:lnTo>
                          <a:lnTo>
                            <a:pt x="323" y="81"/>
                          </a:lnTo>
                          <a:lnTo>
                            <a:pt x="339" y="68"/>
                          </a:lnTo>
                          <a:lnTo>
                            <a:pt x="349" y="56"/>
                          </a:lnTo>
                          <a:lnTo>
                            <a:pt x="351" y="43"/>
                          </a:lnTo>
                          <a:lnTo>
                            <a:pt x="348" y="31"/>
                          </a:lnTo>
                          <a:lnTo>
                            <a:pt x="338" y="21"/>
                          </a:lnTo>
                          <a:lnTo>
                            <a:pt x="320" y="12"/>
                          </a:lnTo>
                          <a:lnTo>
                            <a:pt x="296" y="5"/>
                          </a:lnTo>
                          <a:lnTo>
                            <a:pt x="298" y="15"/>
                          </a:lnTo>
                          <a:lnTo>
                            <a:pt x="294" y="23"/>
                          </a:lnTo>
                          <a:lnTo>
                            <a:pt x="284" y="30"/>
                          </a:lnTo>
                          <a:lnTo>
                            <a:pt x="272" y="37"/>
                          </a:lnTo>
                          <a:lnTo>
                            <a:pt x="258" y="38"/>
                          </a:lnTo>
                          <a:lnTo>
                            <a:pt x="245" y="39"/>
                          </a:lnTo>
                          <a:lnTo>
                            <a:pt x="234" y="41"/>
                          </a:lnTo>
                          <a:lnTo>
                            <a:pt x="222" y="42"/>
                          </a:lnTo>
                          <a:lnTo>
                            <a:pt x="211" y="43"/>
                          </a:lnTo>
                          <a:lnTo>
                            <a:pt x="199" y="43"/>
                          </a:lnTo>
                          <a:lnTo>
                            <a:pt x="188" y="44"/>
                          </a:lnTo>
                          <a:lnTo>
                            <a:pt x="178" y="44"/>
                          </a:lnTo>
                          <a:lnTo>
                            <a:pt x="166" y="44"/>
                          </a:lnTo>
                          <a:lnTo>
                            <a:pt x="155" y="44"/>
                          </a:lnTo>
                          <a:lnTo>
                            <a:pt x="143" y="44"/>
                          </a:lnTo>
                          <a:lnTo>
                            <a:pt x="133" y="43"/>
                          </a:lnTo>
                          <a:lnTo>
                            <a:pt x="120" y="42"/>
                          </a:lnTo>
                          <a:lnTo>
                            <a:pt x="108" y="41"/>
                          </a:lnTo>
                          <a:lnTo>
                            <a:pt x="96" y="39"/>
                          </a:lnTo>
                          <a:lnTo>
                            <a:pt x="82" y="37"/>
                          </a:lnTo>
                          <a:lnTo>
                            <a:pt x="73" y="32"/>
                          </a:lnTo>
                          <a:lnTo>
                            <a:pt x="65" y="28"/>
                          </a:lnTo>
                          <a:lnTo>
                            <a:pt x="58" y="23"/>
                          </a:lnTo>
                          <a:lnTo>
                            <a:pt x="52" y="19"/>
                          </a:lnTo>
                          <a:lnTo>
                            <a:pt x="47" y="14"/>
                          </a:lnTo>
                          <a:lnTo>
                            <a:pt x="44" y="11"/>
                          </a:lnTo>
                          <a:lnTo>
                            <a:pt x="42" y="5"/>
                          </a:lnTo>
                          <a:lnTo>
                            <a:pt x="40" y="0"/>
                          </a:lnTo>
                          <a:close/>
                        </a:path>
                      </a:pathLst>
                    </a:custGeom>
                    <a:solidFill>
                      <a:srgbClr val="e6e6e6">
                        <a:alpha val="56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Freeform 147"/>
                    <p:cNvSpPr/>
                    <p:nvPr/>
                  </p:nvSpPr>
                  <p:spPr>
                    <a:xfrm flipH="1">
                      <a:off x="2258640" y="3168720"/>
                      <a:ext cx="98640" cy="26280"/>
                    </a:xfrm>
                    <a:custGeom>
                      <a:avLst/>
                      <a:gdLst>
                        <a:gd name="textAreaLeft" fmla="*/ 360 w 98640"/>
                        <a:gd name="textAreaRight" fmla="*/ 99360 w 98640"/>
                        <a:gd name="textAreaTop" fmla="*/ 0 h 26280"/>
                        <a:gd name="textAreaBottom" fmla="*/ 26640 h 26280"/>
                      </a:gdLst>
                      <a:ahLst/>
                      <a:rect l="textAreaLeft" t="textAreaTop" r="textAreaRight" b="textAreaBottom"/>
                      <a:pathLst>
                        <a:path w="382" h="96">
                          <a:moveTo>
                            <a:pt x="24" y="4"/>
                          </a:moveTo>
                          <a:lnTo>
                            <a:pt x="68" y="40"/>
                          </a:lnTo>
                          <a:lnTo>
                            <a:pt x="89" y="44"/>
                          </a:lnTo>
                          <a:lnTo>
                            <a:pt x="108" y="48"/>
                          </a:lnTo>
                          <a:lnTo>
                            <a:pt x="127" y="53"/>
                          </a:lnTo>
                          <a:lnTo>
                            <a:pt x="144" y="55"/>
                          </a:lnTo>
                          <a:lnTo>
                            <a:pt x="160" y="57"/>
                          </a:lnTo>
                          <a:lnTo>
                            <a:pt x="176" y="59"/>
                          </a:lnTo>
                          <a:lnTo>
                            <a:pt x="192" y="59"/>
                          </a:lnTo>
                          <a:lnTo>
                            <a:pt x="207" y="59"/>
                          </a:lnTo>
                          <a:lnTo>
                            <a:pt x="222" y="58"/>
                          </a:lnTo>
                          <a:lnTo>
                            <a:pt x="237" y="57"/>
                          </a:lnTo>
                          <a:lnTo>
                            <a:pt x="253" y="54"/>
                          </a:lnTo>
                          <a:lnTo>
                            <a:pt x="270" y="50"/>
                          </a:lnTo>
                          <a:lnTo>
                            <a:pt x="286" y="46"/>
                          </a:lnTo>
                          <a:lnTo>
                            <a:pt x="304" y="39"/>
                          </a:lnTo>
                          <a:lnTo>
                            <a:pt x="323" y="32"/>
                          </a:lnTo>
                          <a:lnTo>
                            <a:pt x="342" y="23"/>
                          </a:lnTo>
                          <a:lnTo>
                            <a:pt x="348" y="10"/>
                          </a:lnTo>
                          <a:lnTo>
                            <a:pt x="352" y="3"/>
                          </a:lnTo>
                          <a:lnTo>
                            <a:pt x="356" y="0"/>
                          </a:lnTo>
                          <a:lnTo>
                            <a:pt x="359" y="1"/>
                          </a:lnTo>
                          <a:lnTo>
                            <a:pt x="363" y="4"/>
                          </a:lnTo>
                          <a:lnTo>
                            <a:pt x="367" y="11"/>
                          </a:lnTo>
                          <a:lnTo>
                            <a:pt x="374" y="20"/>
                          </a:lnTo>
                          <a:lnTo>
                            <a:pt x="382" y="32"/>
                          </a:lnTo>
                          <a:lnTo>
                            <a:pt x="366" y="55"/>
                          </a:lnTo>
                          <a:lnTo>
                            <a:pt x="349" y="65"/>
                          </a:lnTo>
                          <a:lnTo>
                            <a:pt x="329" y="73"/>
                          </a:lnTo>
                          <a:lnTo>
                            <a:pt x="310" y="80"/>
                          </a:lnTo>
                          <a:lnTo>
                            <a:pt x="288" y="86"/>
                          </a:lnTo>
                          <a:lnTo>
                            <a:pt x="266" y="91"/>
                          </a:lnTo>
                          <a:lnTo>
                            <a:pt x="243" y="94"/>
                          </a:lnTo>
                          <a:lnTo>
                            <a:pt x="219" y="96"/>
                          </a:lnTo>
                          <a:lnTo>
                            <a:pt x="196" y="96"/>
                          </a:lnTo>
                          <a:lnTo>
                            <a:pt x="172" y="96"/>
                          </a:lnTo>
                          <a:lnTo>
                            <a:pt x="147" y="95"/>
                          </a:lnTo>
                          <a:lnTo>
                            <a:pt x="124" y="92"/>
                          </a:lnTo>
                          <a:lnTo>
                            <a:pt x="101" y="88"/>
                          </a:lnTo>
                          <a:lnTo>
                            <a:pt x="78" y="84"/>
                          </a:lnTo>
                          <a:lnTo>
                            <a:pt x="58" y="79"/>
                          </a:lnTo>
                          <a:lnTo>
                            <a:pt x="37" y="72"/>
                          </a:lnTo>
                          <a:lnTo>
                            <a:pt x="18" y="65"/>
                          </a:lnTo>
                          <a:lnTo>
                            <a:pt x="12" y="56"/>
                          </a:lnTo>
                          <a:lnTo>
                            <a:pt x="6" y="47"/>
                          </a:lnTo>
                          <a:lnTo>
                            <a:pt x="2" y="38"/>
                          </a:lnTo>
                          <a:lnTo>
                            <a:pt x="0" y="28"/>
                          </a:lnTo>
                          <a:lnTo>
                            <a:pt x="0" y="20"/>
                          </a:lnTo>
                          <a:lnTo>
                            <a:pt x="5" y="13"/>
                          </a:lnTo>
                          <a:lnTo>
                            <a:pt x="12" y="8"/>
                          </a:lnTo>
                          <a:lnTo>
                            <a:pt x="24" y="4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6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Freeform 148"/>
                    <p:cNvSpPr/>
                    <p:nvPr/>
                  </p:nvSpPr>
                  <p:spPr>
                    <a:xfrm flipH="1">
                      <a:off x="2247120" y="3191760"/>
                      <a:ext cx="125640" cy="41040"/>
                    </a:xfrm>
                    <a:custGeom>
                      <a:avLst/>
                      <a:gdLst>
                        <a:gd name="textAreaLeft" fmla="*/ -360 w 125640"/>
                        <a:gd name="textAreaRight" fmla="*/ 125640 w 125640"/>
                        <a:gd name="textAreaTop" fmla="*/ 0 h 41040"/>
                        <a:gd name="textAreaBottom" fmla="*/ 41400 h 41040"/>
                      </a:gdLst>
                      <a:ahLst/>
                      <a:rect l="textAreaLeft" t="textAreaTop" r="textAreaRight" b="textAreaBottom"/>
                      <a:pathLst>
                        <a:path w="483" h="184">
                          <a:moveTo>
                            <a:pt x="7" y="102"/>
                          </a:moveTo>
                          <a:lnTo>
                            <a:pt x="18" y="116"/>
                          </a:lnTo>
                          <a:lnTo>
                            <a:pt x="34" y="130"/>
                          </a:lnTo>
                          <a:lnTo>
                            <a:pt x="55" y="143"/>
                          </a:lnTo>
                          <a:lnTo>
                            <a:pt x="80" y="155"/>
                          </a:lnTo>
                          <a:lnTo>
                            <a:pt x="109" y="165"/>
                          </a:lnTo>
                          <a:lnTo>
                            <a:pt x="141" y="173"/>
                          </a:lnTo>
                          <a:lnTo>
                            <a:pt x="176" y="179"/>
                          </a:lnTo>
                          <a:lnTo>
                            <a:pt x="211" y="182"/>
                          </a:lnTo>
                          <a:lnTo>
                            <a:pt x="248" y="184"/>
                          </a:lnTo>
                          <a:lnTo>
                            <a:pt x="285" y="183"/>
                          </a:lnTo>
                          <a:lnTo>
                            <a:pt x="323" y="180"/>
                          </a:lnTo>
                          <a:lnTo>
                            <a:pt x="359" y="173"/>
                          </a:lnTo>
                          <a:lnTo>
                            <a:pt x="393" y="164"/>
                          </a:lnTo>
                          <a:lnTo>
                            <a:pt x="427" y="151"/>
                          </a:lnTo>
                          <a:lnTo>
                            <a:pt x="455" y="135"/>
                          </a:lnTo>
                          <a:lnTo>
                            <a:pt x="482" y="115"/>
                          </a:lnTo>
                          <a:lnTo>
                            <a:pt x="483" y="93"/>
                          </a:lnTo>
                          <a:lnTo>
                            <a:pt x="483" y="77"/>
                          </a:lnTo>
                          <a:lnTo>
                            <a:pt x="482" y="65"/>
                          </a:lnTo>
                          <a:lnTo>
                            <a:pt x="478" y="54"/>
                          </a:lnTo>
                          <a:lnTo>
                            <a:pt x="473" y="44"/>
                          </a:lnTo>
                          <a:lnTo>
                            <a:pt x="463" y="34"/>
                          </a:lnTo>
                          <a:lnTo>
                            <a:pt x="451" y="22"/>
                          </a:lnTo>
                          <a:lnTo>
                            <a:pt x="435" y="7"/>
                          </a:lnTo>
                          <a:lnTo>
                            <a:pt x="416" y="23"/>
                          </a:lnTo>
                          <a:lnTo>
                            <a:pt x="396" y="37"/>
                          </a:lnTo>
                          <a:lnTo>
                            <a:pt x="375" y="50"/>
                          </a:lnTo>
                          <a:lnTo>
                            <a:pt x="353" y="59"/>
                          </a:lnTo>
                          <a:lnTo>
                            <a:pt x="330" y="67"/>
                          </a:lnTo>
                          <a:lnTo>
                            <a:pt x="307" y="73"/>
                          </a:lnTo>
                          <a:lnTo>
                            <a:pt x="284" y="76"/>
                          </a:lnTo>
                          <a:lnTo>
                            <a:pt x="260" y="78"/>
                          </a:lnTo>
                          <a:lnTo>
                            <a:pt x="235" y="78"/>
                          </a:lnTo>
                          <a:lnTo>
                            <a:pt x="211" y="76"/>
                          </a:lnTo>
                          <a:lnTo>
                            <a:pt x="187" y="73"/>
                          </a:lnTo>
                          <a:lnTo>
                            <a:pt x="163" y="68"/>
                          </a:lnTo>
                          <a:lnTo>
                            <a:pt x="140" y="61"/>
                          </a:lnTo>
                          <a:lnTo>
                            <a:pt x="116" y="53"/>
                          </a:lnTo>
                          <a:lnTo>
                            <a:pt x="94" y="44"/>
                          </a:lnTo>
                          <a:lnTo>
                            <a:pt x="72" y="32"/>
                          </a:lnTo>
                          <a:lnTo>
                            <a:pt x="66" y="0"/>
                          </a:lnTo>
                          <a:lnTo>
                            <a:pt x="56" y="5"/>
                          </a:lnTo>
                          <a:lnTo>
                            <a:pt x="42" y="12"/>
                          </a:lnTo>
                          <a:lnTo>
                            <a:pt x="29" y="20"/>
                          </a:lnTo>
                          <a:lnTo>
                            <a:pt x="17" y="30"/>
                          </a:lnTo>
                          <a:lnTo>
                            <a:pt x="7" y="43"/>
                          </a:lnTo>
                          <a:lnTo>
                            <a:pt x="2" y="59"/>
                          </a:lnTo>
                          <a:lnTo>
                            <a:pt x="0" y="78"/>
                          </a:lnTo>
                          <a:lnTo>
                            <a:pt x="7" y="102"/>
                          </a:lnTo>
                          <a:close/>
                        </a:path>
                      </a:pathLst>
                    </a:custGeom>
                    <a:solidFill>
                      <a:srgbClr val="e6e6e6">
                        <a:alpha val="56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1" name="Gruppe 814"/>
                  <p:cNvGrpSpPr/>
                  <p:nvPr/>
                </p:nvGrpSpPr>
                <p:grpSpPr>
                  <a:xfrm>
                    <a:off x="2244600" y="2999160"/>
                    <a:ext cx="93960" cy="250200"/>
                    <a:chOff x="2244600" y="2999160"/>
                    <a:chExt cx="93960" cy="250200"/>
                  </a:xfrm>
                </p:grpSpPr>
                <p:sp>
                  <p:nvSpPr>
                    <p:cNvPr id="242" name="Freeform 316"/>
                    <p:cNvSpPr/>
                    <p:nvPr/>
                  </p:nvSpPr>
                  <p:spPr>
                    <a:xfrm flipH="1">
                      <a:off x="2265120" y="3071520"/>
                      <a:ext cx="50040" cy="8280"/>
                    </a:xfrm>
                    <a:custGeom>
                      <a:avLst/>
                      <a:gdLst>
                        <a:gd name="textAreaLeft" fmla="*/ -360 w 50040"/>
                        <a:gd name="textAreaRight" fmla="*/ 50040 w 50040"/>
                        <a:gd name="textAreaTop" fmla="*/ 0 h 8280"/>
                        <a:gd name="textAreaBottom" fmla="*/ 8640 h 8280"/>
                      </a:gdLst>
                      <a:ahLst/>
                      <a:rect l="textAreaLeft" t="textAreaTop" r="textAreaRight" b="textAreaBottom"/>
                      <a:pathLst>
                        <a:path w="230" h="41">
                          <a:moveTo>
                            <a:pt x="13" y="0"/>
                          </a:moveTo>
                          <a:lnTo>
                            <a:pt x="26" y="6"/>
                          </a:lnTo>
                          <a:lnTo>
                            <a:pt x="39" y="13"/>
                          </a:lnTo>
                          <a:lnTo>
                            <a:pt x="52" y="16"/>
                          </a:lnTo>
                          <a:lnTo>
                            <a:pt x="65" y="19"/>
                          </a:lnTo>
                          <a:lnTo>
                            <a:pt x="78" y="22"/>
                          </a:lnTo>
                          <a:lnTo>
                            <a:pt x="93" y="23"/>
                          </a:lnTo>
                          <a:lnTo>
                            <a:pt x="106" y="24"/>
                          </a:lnTo>
                          <a:lnTo>
                            <a:pt x="120" y="23"/>
                          </a:lnTo>
                          <a:lnTo>
                            <a:pt x="134" y="22"/>
                          </a:lnTo>
                          <a:lnTo>
                            <a:pt x="147" y="20"/>
                          </a:lnTo>
                          <a:lnTo>
                            <a:pt x="161" y="18"/>
                          </a:lnTo>
                          <a:lnTo>
                            <a:pt x="176" y="15"/>
                          </a:lnTo>
                          <a:lnTo>
                            <a:pt x="189" y="13"/>
                          </a:lnTo>
                          <a:lnTo>
                            <a:pt x="203" y="9"/>
                          </a:lnTo>
                          <a:lnTo>
                            <a:pt x="216" y="6"/>
                          </a:lnTo>
                          <a:lnTo>
                            <a:pt x="230" y="2"/>
                          </a:lnTo>
                          <a:lnTo>
                            <a:pt x="230" y="15"/>
                          </a:lnTo>
                          <a:lnTo>
                            <a:pt x="221" y="19"/>
                          </a:lnTo>
                          <a:lnTo>
                            <a:pt x="212" y="23"/>
                          </a:lnTo>
                          <a:lnTo>
                            <a:pt x="200" y="27"/>
                          </a:lnTo>
                          <a:lnTo>
                            <a:pt x="189" y="29"/>
                          </a:lnTo>
                          <a:lnTo>
                            <a:pt x="174" y="33"/>
                          </a:lnTo>
                          <a:lnTo>
                            <a:pt x="161" y="36"/>
                          </a:lnTo>
                          <a:lnTo>
                            <a:pt x="146" y="39"/>
                          </a:lnTo>
                          <a:lnTo>
                            <a:pt x="132" y="41"/>
                          </a:lnTo>
                          <a:lnTo>
                            <a:pt x="115" y="41"/>
                          </a:lnTo>
                          <a:lnTo>
                            <a:pt x="99" y="41"/>
                          </a:lnTo>
                          <a:lnTo>
                            <a:pt x="82" y="40"/>
                          </a:lnTo>
                          <a:lnTo>
                            <a:pt x="65" y="37"/>
                          </a:lnTo>
                          <a:lnTo>
                            <a:pt x="50" y="32"/>
                          </a:lnTo>
                          <a:lnTo>
                            <a:pt x="33" y="27"/>
                          </a:lnTo>
                          <a:lnTo>
                            <a:pt x="16" y="19"/>
                          </a:lnTo>
                          <a:lnTo>
                            <a:pt x="0" y="9"/>
                          </a:lnTo>
                          <a:lnTo>
                            <a:pt x="13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Freeform 330"/>
                    <p:cNvSpPr/>
                    <p:nvPr/>
                  </p:nvSpPr>
                  <p:spPr>
                    <a:xfrm flipH="1">
                      <a:off x="2244240" y="3187440"/>
                      <a:ext cx="93960" cy="22320"/>
                    </a:xfrm>
                    <a:custGeom>
                      <a:avLst/>
                      <a:gdLst>
                        <a:gd name="textAreaLeft" fmla="*/ -360 w 93960"/>
                        <a:gd name="textAreaRight" fmla="*/ 93960 w 93960"/>
                        <a:gd name="textAreaTop" fmla="*/ 0 h 22320"/>
                        <a:gd name="textAreaBottom" fmla="*/ 22680 h 22320"/>
                      </a:gdLst>
                      <a:ahLst/>
                      <a:rect l="textAreaLeft" t="textAreaTop" r="textAreaRight" b="textAreaBottom"/>
                      <a:pathLst>
                        <a:path w="431" h="109">
                          <a:moveTo>
                            <a:pt x="27" y="5"/>
                          </a:moveTo>
                          <a:lnTo>
                            <a:pt x="77" y="45"/>
                          </a:lnTo>
                          <a:lnTo>
                            <a:pt x="100" y="51"/>
                          </a:lnTo>
                          <a:lnTo>
                            <a:pt x="122" y="54"/>
                          </a:lnTo>
                          <a:lnTo>
                            <a:pt x="143" y="60"/>
                          </a:lnTo>
                          <a:lnTo>
                            <a:pt x="162" y="62"/>
                          </a:lnTo>
                          <a:lnTo>
                            <a:pt x="180" y="65"/>
                          </a:lnTo>
                          <a:lnTo>
                            <a:pt x="199" y="67"/>
                          </a:lnTo>
                          <a:lnTo>
                            <a:pt x="217" y="67"/>
                          </a:lnTo>
                          <a:lnTo>
                            <a:pt x="234" y="67"/>
                          </a:lnTo>
                          <a:lnTo>
                            <a:pt x="251" y="66"/>
                          </a:lnTo>
                          <a:lnTo>
                            <a:pt x="267" y="65"/>
                          </a:lnTo>
                          <a:lnTo>
                            <a:pt x="286" y="61"/>
                          </a:lnTo>
                          <a:lnTo>
                            <a:pt x="304" y="57"/>
                          </a:lnTo>
                          <a:lnTo>
                            <a:pt x="322" y="52"/>
                          </a:lnTo>
                          <a:lnTo>
                            <a:pt x="343" y="44"/>
                          </a:lnTo>
                          <a:lnTo>
                            <a:pt x="363" y="36"/>
                          </a:lnTo>
                          <a:lnTo>
                            <a:pt x="386" y="26"/>
                          </a:lnTo>
                          <a:lnTo>
                            <a:pt x="392" y="12"/>
                          </a:lnTo>
                          <a:lnTo>
                            <a:pt x="397" y="4"/>
                          </a:lnTo>
                          <a:lnTo>
                            <a:pt x="401" y="0"/>
                          </a:lnTo>
                          <a:lnTo>
                            <a:pt x="405" y="1"/>
                          </a:lnTo>
                          <a:lnTo>
                            <a:pt x="409" y="5"/>
                          </a:lnTo>
                          <a:lnTo>
                            <a:pt x="414" y="13"/>
                          </a:lnTo>
                          <a:lnTo>
                            <a:pt x="422" y="23"/>
                          </a:lnTo>
                          <a:lnTo>
                            <a:pt x="431" y="36"/>
                          </a:lnTo>
                          <a:lnTo>
                            <a:pt x="413" y="62"/>
                          </a:lnTo>
                          <a:lnTo>
                            <a:pt x="393" y="74"/>
                          </a:lnTo>
                          <a:lnTo>
                            <a:pt x="371" y="83"/>
                          </a:lnTo>
                          <a:lnTo>
                            <a:pt x="349" y="91"/>
                          </a:lnTo>
                          <a:lnTo>
                            <a:pt x="325" y="97"/>
                          </a:lnTo>
                          <a:lnTo>
                            <a:pt x="300" y="103"/>
                          </a:lnTo>
                          <a:lnTo>
                            <a:pt x="274" y="106"/>
                          </a:lnTo>
                          <a:lnTo>
                            <a:pt x="247" y="109"/>
                          </a:lnTo>
                          <a:lnTo>
                            <a:pt x="221" y="109"/>
                          </a:lnTo>
                          <a:lnTo>
                            <a:pt x="193" y="109"/>
                          </a:lnTo>
                          <a:lnTo>
                            <a:pt x="166" y="108"/>
                          </a:lnTo>
                          <a:lnTo>
                            <a:pt x="140" y="104"/>
                          </a:lnTo>
                          <a:lnTo>
                            <a:pt x="114" y="100"/>
                          </a:lnTo>
                          <a:lnTo>
                            <a:pt x="88" y="95"/>
                          </a:lnTo>
                          <a:lnTo>
                            <a:pt x="65" y="90"/>
                          </a:lnTo>
                          <a:lnTo>
                            <a:pt x="42" y="82"/>
                          </a:lnTo>
                          <a:lnTo>
                            <a:pt x="21" y="74"/>
                          </a:lnTo>
                          <a:lnTo>
                            <a:pt x="13" y="64"/>
                          </a:lnTo>
                          <a:lnTo>
                            <a:pt x="7" y="53"/>
                          </a:lnTo>
                          <a:lnTo>
                            <a:pt x="3" y="43"/>
                          </a:lnTo>
                          <a:lnTo>
                            <a:pt x="0" y="32"/>
                          </a:lnTo>
                          <a:lnTo>
                            <a:pt x="0" y="23"/>
                          </a:lnTo>
                          <a:lnTo>
                            <a:pt x="5" y="16"/>
                          </a:lnTo>
                          <a:lnTo>
                            <a:pt x="13" y="9"/>
                          </a:lnTo>
                          <a:lnTo>
                            <a:pt x="27" y="5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336"/>
                    <p:cNvSpPr/>
                    <p:nvPr/>
                  </p:nvSpPr>
                  <p:spPr>
                    <a:xfrm flipH="1">
                      <a:off x="2253600" y="3234600"/>
                      <a:ext cx="67320" cy="14760"/>
                    </a:xfrm>
                    <a:custGeom>
                      <a:avLst/>
                      <a:gdLst>
                        <a:gd name="textAreaLeft" fmla="*/ -360 w 67320"/>
                        <a:gd name="textAreaRight" fmla="*/ 67320 w 67320"/>
                        <a:gd name="textAreaTop" fmla="*/ 0 h 14760"/>
                        <a:gd name="textAreaBottom" fmla="*/ 15120 h 14760"/>
                      </a:gdLst>
                      <a:ahLst/>
                      <a:rect l="textAreaLeft" t="textAreaTop" r="textAreaRight" b="textAreaBottom"/>
                      <a:pathLst>
                        <a:path w="309" h="72">
                          <a:moveTo>
                            <a:pt x="0" y="29"/>
                          </a:moveTo>
                          <a:lnTo>
                            <a:pt x="3" y="37"/>
                          </a:lnTo>
                          <a:lnTo>
                            <a:pt x="7" y="45"/>
                          </a:lnTo>
                          <a:lnTo>
                            <a:pt x="11" y="53"/>
                          </a:lnTo>
                          <a:lnTo>
                            <a:pt x="15" y="61"/>
                          </a:lnTo>
                          <a:lnTo>
                            <a:pt x="22" y="62"/>
                          </a:lnTo>
                          <a:lnTo>
                            <a:pt x="29" y="63"/>
                          </a:lnTo>
                          <a:lnTo>
                            <a:pt x="37" y="65"/>
                          </a:lnTo>
                          <a:lnTo>
                            <a:pt x="44" y="66"/>
                          </a:lnTo>
                          <a:lnTo>
                            <a:pt x="51" y="67"/>
                          </a:lnTo>
                          <a:lnTo>
                            <a:pt x="59" y="68"/>
                          </a:lnTo>
                          <a:lnTo>
                            <a:pt x="65" y="71"/>
                          </a:lnTo>
                          <a:lnTo>
                            <a:pt x="73" y="72"/>
                          </a:lnTo>
                          <a:lnTo>
                            <a:pt x="91" y="72"/>
                          </a:lnTo>
                          <a:lnTo>
                            <a:pt x="109" y="71"/>
                          </a:lnTo>
                          <a:lnTo>
                            <a:pt x="127" y="71"/>
                          </a:lnTo>
                          <a:lnTo>
                            <a:pt x="146" y="70"/>
                          </a:lnTo>
                          <a:lnTo>
                            <a:pt x="164" y="70"/>
                          </a:lnTo>
                          <a:lnTo>
                            <a:pt x="183" y="68"/>
                          </a:lnTo>
                          <a:lnTo>
                            <a:pt x="201" y="68"/>
                          </a:lnTo>
                          <a:lnTo>
                            <a:pt x="220" y="67"/>
                          </a:lnTo>
                          <a:lnTo>
                            <a:pt x="231" y="65"/>
                          </a:lnTo>
                          <a:lnTo>
                            <a:pt x="242" y="61"/>
                          </a:lnTo>
                          <a:lnTo>
                            <a:pt x="253" y="58"/>
                          </a:lnTo>
                          <a:lnTo>
                            <a:pt x="265" y="54"/>
                          </a:lnTo>
                          <a:lnTo>
                            <a:pt x="275" y="52"/>
                          </a:lnTo>
                          <a:lnTo>
                            <a:pt x="287" y="48"/>
                          </a:lnTo>
                          <a:lnTo>
                            <a:pt x="297" y="45"/>
                          </a:lnTo>
                          <a:lnTo>
                            <a:pt x="309" y="41"/>
                          </a:lnTo>
                          <a:lnTo>
                            <a:pt x="309" y="26"/>
                          </a:lnTo>
                          <a:lnTo>
                            <a:pt x="307" y="13"/>
                          </a:lnTo>
                          <a:lnTo>
                            <a:pt x="303" y="5"/>
                          </a:lnTo>
                          <a:lnTo>
                            <a:pt x="297" y="1"/>
                          </a:lnTo>
                          <a:lnTo>
                            <a:pt x="290" y="0"/>
                          </a:lnTo>
                          <a:lnTo>
                            <a:pt x="279" y="0"/>
                          </a:lnTo>
                          <a:lnTo>
                            <a:pt x="268" y="4"/>
                          </a:lnTo>
                          <a:lnTo>
                            <a:pt x="252" y="9"/>
                          </a:lnTo>
                          <a:lnTo>
                            <a:pt x="242" y="9"/>
                          </a:lnTo>
                          <a:lnTo>
                            <a:pt x="231" y="10"/>
                          </a:lnTo>
                          <a:lnTo>
                            <a:pt x="221" y="10"/>
                          </a:lnTo>
                          <a:lnTo>
                            <a:pt x="211" y="10"/>
                          </a:lnTo>
                          <a:lnTo>
                            <a:pt x="200" y="10"/>
                          </a:lnTo>
                          <a:lnTo>
                            <a:pt x="188" y="10"/>
                          </a:lnTo>
                          <a:lnTo>
                            <a:pt x="178" y="11"/>
                          </a:lnTo>
                          <a:lnTo>
                            <a:pt x="168" y="11"/>
                          </a:lnTo>
                          <a:lnTo>
                            <a:pt x="140" y="10"/>
                          </a:lnTo>
                          <a:lnTo>
                            <a:pt x="116" y="9"/>
                          </a:lnTo>
                          <a:lnTo>
                            <a:pt x="96" y="6"/>
                          </a:lnTo>
                          <a:lnTo>
                            <a:pt x="77" y="5"/>
                          </a:lnTo>
                          <a:lnTo>
                            <a:pt x="60" y="6"/>
                          </a:lnTo>
                          <a:lnTo>
                            <a:pt x="42" y="9"/>
                          </a:lnTo>
                          <a:lnTo>
                            <a:pt x="22" y="16"/>
                          </a:lnTo>
                          <a:lnTo>
                            <a:pt x="0" y="29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680" bIns="-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Freeform 353"/>
                    <p:cNvSpPr/>
                    <p:nvPr/>
                  </p:nvSpPr>
                  <p:spPr>
                    <a:xfrm flipH="1">
                      <a:off x="2276280" y="3101760"/>
                      <a:ext cx="24480" cy="5040"/>
                    </a:xfrm>
                    <a:custGeom>
                      <a:avLst/>
                      <a:gdLst>
                        <a:gd name="textAreaLeft" fmla="*/ 360 w 24480"/>
                        <a:gd name="textAreaRight" fmla="*/ 25200 w 2448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12" h="25">
                          <a:moveTo>
                            <a:pt x="0" y="11"/>
                          </a:moveTo>
                          <a:lnTo>
                            <a:pt x="5" y="17"/>
                          </a:lnTo>
                          <a:lnTo>
                            <a:pt x="26" y="25"/>
                          </a:lnTo>
                          <a:lnTo>
                            <a:pt x="80" y="20"/>
                          </a:lnTo>
                          <a:lnTo>
                            <a:pt x="112" y="13"/>
                          </a:lnTo>
                          <a:lnTo>
                            <a:pt x="110" y="4"/>
                          </a:lnTo>
                          <a:lnTo>
                            <a:pt x="108" y="0"/>
                          </a:lnTo>
                          <a:lnTo>
                            <a:pt x="103" y="2"/>
                          </a:lnTo>
                          <a:lnTo>
                            <a:pt x="92" y="4"/>
                          </a:lnTo>
                          <a:lnTo>
                            <a:pt x="61" y="6"/>
                          </a:lnTo>
                          <a:lnTo>
                            <a:pt x="51" y="6"/>
                          </a:lnTo>
                          <a:lnTo>
                            <a:pt x="43" y="4"/>
                          </a:lnTo>
                          <a:lnTo>
                            <a:pt x="35" y="4"/>
                          </a:lnTo>
                          <a:lnTo>
                            <a:pt x="29" y="3"/>
                          </a:lnTo>
                          <a:lnTo>
                            <a:pt x="22" y="3"/>
                          </a:lnTo>
                          <a:lnTo>
                            <a:pt x="14" y="4"/>
                          </a:lnTo>
                          <a:lnTo>
                            <a:pt x="8" y="7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Freeform 363"/>
                    <p:cNvSpPr/>
                    <p:nvPr/>
                  </p:nvSpPr>
                  <p:spPr>
                    <a:xfrm flipH="1">
                      <a:off x="2272320" y="3035520"/>
                      <a:ext cx="26640" cy="5400"/>
                    </a:xfrm>
                    <a:custGeom>
                      <a:avLst/>
                      <a:gdLst>
                        <a:gd name="textAreaLeft" fmla="*/ 360 w 26640"/>
                        <a:gd name="textAreaRight" fmla="*/ 27360 w 26640"/>
                        <a:gd name="textAreaTop" fmla="*/ 0 h 5400"/>
                        <a:gd name="textAreaBottom" fmla="*/ 5760 h 5400"/>
                      </a:gdLst>
                      <a:ahLst/>
                      <a:rect l="textAreaLeft" t="textAreaTop" r="textAreaRight" b="textAreaBottom"/>
                      <a:pathLst>
                        <a:path w="122" h="27">
                          <a:moveTo>
                            <a:pt x="0" y="12"/>
                          </a:moveTo>
                          <a:lnTo>
                            <a:pt x="1" y="14"/>
                          </a:lnTo>
                          <a:lnTo>
                            <a:pt x="2" y="16"/>
                          </a:lnTo>
                          <a:lnTo>
                            <a:pt x="4" y="18"/>
                          </a:lnTo>
                          <a:lnTo>
                            <a:pt x="5" y="21"/>
                          </a:lnTo>
                          <a:lnTo>
                            <a:pt x="11" y="22"/>
                          </a:lnTo>
                          <a:lnTo>
                            <a:pt x="17" y="24"/>
                          </a:lnTo>
                          <a:lnTo>
                            <a:pt x="23" y="26"/>
                          </a:lnTo>
                          <a:lnTo>
                            <a:pt x="28" y="27"/>
                          </a:lnTo>
                          <a:lnTo>
                            <a:pt x="36" y="27"/>
                          </a:lnTo>
                          <a:lnTo>
                            <a:pt x="43" y="26"/>
                          </a:lnTo>
                          <a:lnTo>
                            <a:pt x="50" y="26"/>
                          </a:lnTo>
                          <a:lnTo>
                            <a:pt x="58" y="25"/>
                          </a:lnTo>
                          <a:lnTo>
                            <a:pt x="65" y="25"/>
                          </a:lnTo>
                          <a:lnTo>
                            <a:pt x="72" y="25"/>
                          </a:lnTo>
                          <a:lnTo>
                            <a:pt x="79" y="24"/>
                          </a:lnTo>
                          <a:lnTo>
                            <a:pt x="87" y="24"/>
                          </a:lnTo>
                          <a:lnTo>
                            <a:pt x="96" y="21"/>
                          </a:lnTo>
                          <a:lnTo>
                            <a:pt x="105" y="20"/>
                          </a:lnTo>
                          <a:lnTo>
                            <a:pt x="113" y="17"/>
                          </a:lnTo>
                          <a:lnTo>
                            <a:pt x="122" y="16"/>
                          </a:lnTo>
                          <a:lnTo>
                            <a:pt x="120" y="5"/>
                          </a:lnTo>
                          <a:lnTo>
                            <a:pt x="118" y="0"/>
                          </a:lnTo>
                          <a:lnTo>
                            <a:pt x="111" y="2"/>
                          </a:lnTo>
                          <a:lnTo>
                            <a:pt x="100" y="4"/>
                          </a:lnTo>
                          <a:lnTo>
                            <a:pt x="92" y="5"/>
                          </a:lnTo>
                          <a:lnTo>
                            <a:pt x="83" y="5"/>
                          </a:lnTo>
                          <a:lnTo>
                            <a:pt x="75" y="5"/>
                          </a:lnTo>
                          <a:lnTo>
                            <a:pt x="66" y="5"/>
                          </a:lnTo>
                          <a:lnTo>
                            <a:pt x="56" y="5"/>
                          </a:lnTo>
                          <a:lnTo>
                            <a:pt x="47" y="4"/>
                          </a:lnTo>
                          <a:lnTo>
                            <a:pt x="37" y="4"/>
                          </a:lnTo>
                          <a:lnTo>
                            <a:pt x="31" y="3"/>
                          </a:lnTo>
                          <a:lnTo>
                            <a:pt x="23" y="4"/>
                          </a:lnTo>
                          <a:lnTo>
                            <a:pt x="17" y="5"/>
                          </a:lnTo>
                          <a:lnTo>
                            <a:pt x="9" y="8"/>
                          </a:lnTo>
                          <a:lnTo>
                            <a:pt x="0" y="12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67"/>
                    <p:cNvSpPr/>
                    <p:nvPr/>
                  </p:nvSpPr>
                  <p:spPr>
                    <a:xfrm flipH="1">
                      <a:off x="2277720" y="2999160"/>
                      <a:ext cx="23040" cy="16560"/>
                    </a:xfrm>
                    <a:custGeom>
                      <a:avLst/>
                      <a:gdLst>
                        <a:gd name="textAreaLeft" fmla="*/ 360 w 23040"/>
                        <a:gd name="textAreaRight" fmla="*/ 23760 w 23040"/>
                        <a:gd name="textAreaTop" fmla="*/ 0 h 16560"/>
                        <a:gd name="textAreaBottom" fmla="*/ 16920 h 16560"/>
                      </a:gdLst>
                      <a:ahLst/>
                      <a:rect l="textAreaLeft" t="textAreaTop" r="textAreaRight" b="textAreaBottom"/>
                      <a:pathLst>
                        <a:path w="106" h="80">
                          <a:moveTo>
                            <a:pt x="53" y="0"/>
                          </a:moveTo>
                          <a:lnTo>
                            <a:pt x="64" y="1"/>
                          </a:lnTo>
                          <a:lnTo>
                            <a:pt x="74" y="2"/>
                          </a:lnTo>
                          <a:lnTo>
                            <a:pt x="83" y="6"/>
                          </a:lnTo>
                          <a:lnTo>
                            <a:pt x="91" y="11"/>
                          </a:lnTo>
                          <a:lnTo>
                            <a:pt x="97" y="18"/>
                          </a:lnTo>
                          <a:lnTo>
                            <a:pt x="103" y="24"/>
                          </a:lnTo>
                          <a:lnTo>
                            <a:pt x="105" y="32"/>
                          </a:lnTo>
                          <a:lnTo>
                            <a:pt x="106" y="40"/>
                          </a:lnTo>
                          <a:lnTo>
                            <a:pt x="105" y="48"/>
                          </a:lnTo>
                          <a:lnTo>
                            <a:pt x="103" y="55"/>
                          </a:lnTo>
                          <a:lnTo>
                            <a:pt x="97" y="62"/>
                          </a:lnTo>
                          <a:lnTo>
                            <a:pt x="91" y="68"/>
                          </a:lnTo>
                          <a:lnTo>
                            <a:pt x="83" y="74"/>
                          </a:lnTo>
                          <a:lnTo>
                            <a:pt x="74" y="78"/>
                          </a:lnTo>
                          <a:lnTo>
                            <a:pt x="64" y="79"/>
                          </a:lnTo>
                          <a:lnTo>
                            <a:pt x="53" y="80"/>
                          </a:lnTo>
                          <a:lnTo>
                            <a:pt x="43" y="79"/>
                          </a:lnTo>
                          <a:lnTo>
                            <a:pt x="32" y="78"/>
                          </a:lnTo>
                          <a:lnTo>
                            <a:pt x="23" y="74"/>
                          </a:lnTo>
                          <a:lnTo>
                            <a:pt x="16" y="68"/>
                          </a:lnTo>
                          <a:lnTo>
                            <a:pt x="9" y="62"/>
                          </a:lnTo>
                          <a:lnTo>
                            <a:pt x="4" y="55"/>
                          </a:lnTo>
                          <a:lnTo>
                            <a:pt x="1" y="48"/>
                          </a:lnTo>
                          <a:lnTo>
                            <a:pt x="0" y="40"/>
                          </a:lnTo>
                          <a:lnTo>
                            <a:pt x="1" y="32"/>
                          </a:lnTo>
                          <a:lnTo>
                            <a:pt x="4" y="24"/>
                          </a:lnTo>
                          <a:lnTo>
                            <a:pt x="9" y="18"/>
                          </a:lnTo>
                          <a:lnTo>
                            <a:pt x="16" y="11"/>
                          </a:lnTo>
                          <a:lnTo>
                            <a:pt x="23" y="6"/>
                          </a:lnTo>
                          <a:lnTo>
                            <a:pt x="32" y="2"/>
                          </a:lnTo>
                          <a:lnTo>
                            <a:pt x="43" y="1"/>
                          </a:lnTo>
                          <a:lnTo>
                            <a:pt x="53" y="0"/>
                          </a:lnTo>
                          <a:close/>
                        </a:path>
                      </a:pathLst>
                    </a:custGeom>
                    <a:solidFill>
                      <a:srgbClr val="e6e6e6">
                        <a:alpha val="56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48" name="Kors 329"/>
              <p:cNvSpPr/>
              <p:nvPr/>
            </p:nvSpPr>
            <p:spPr>
              <a:xfrm flipH="1">
                <a:off x="2290320" y="2944440"/>
                <a:ext cx="36360" cy="36360"/>
              </a:xfrm>
              <a:prstGeom prst="plus">
                <a:avLst>
                  <a:gd name="adj" fmla="val 35907"/>
                </a:avLst>
              </a:prstGeom>
              <a:gradFill rotWithShape="0">
                <a:gsLst>
                  <a:gs pos="0">
                    <a:srgbClr val="acacac"/>
                  </a:gs>
                  <a:gs pos="100000">
                    <a:srgbClr val="e6e6e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uppe 116"/>
            <p:cNvGrpSpPr/>
            <p:nvPr/>
          </p:nvGrpSpPr>
          <p:grpSpPr>
            <a:xfrm>
              <a:off x="2652480" y="2998440"/>
              <a:ext cx="137880" cy="176040"/>
              <a:chOff x="2652480" y="2998440"/>
              <a:chExt cx="137880" cy="176040"/>
            </a:xfrm>
          </p:grpSpPr>
          <p:sp>
            <p:nvSpPr>
              <p:cNvPr id="250" name="Ellipse 317"/>
              <p:cNvSpPr/>
              <p:nvPr/>
            </p:nvSpPr>
            <p:spPr>
              <a:xfrm flipH="1">
                <a:off x="2652120" y="3137760"/>
                <a:ext cx="137880" cy="367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1" name="Gruppe 1207"/>
              <p:cNvGrpSpPr/>
              <p:nvPr/>
            </p:nvGrpSpPr>
            <p:grpSpPr>
              <a:xfrm>
                <a:off x="2676600" y="2998440"/>
                <a:ext cx="85680" cy="165960"/>
                <a:chOff x="2676600" y="2998440"/>
                <a:chExt cx="85680" cy="165960"/>
              </a:xfrm>
            </p:grpSpPr>
            <p:sp>
              <p:nvSpPr>
                <p:cNvPr id="252" name="Freeform 484"/>
                <p:cNvSpPr/>
                <p:nvPr/>
              </p:nvSpPr>
              <p:spPr>
                <a:xfrm flipH="1">
                  <a:off x="2676240" y="2998440"/>
                  <a:ext cx="82440" cy="165960"/>
                </a:xfrm>
                <a:custGeom>
                  <a:avLst/>
                  <a:gdLst>
                    <a:gd name="textAreaLeft" fmla="*/ -360 w 82440"/>
                    <a:gd name="textAreaRight" fmla="*/ 82440 w 82440"/>
                    <a:gd name="textAreaTop" fmla="*/ 0 h 165960"/>
                    <a:gd name="textAreaBottom" fmla="*/ 166320 h 165960"/>
                  </a:gdLst>
                  <a:ahLst/>
                  <a:rect l="textAreaLeft" t="textAreaTop" r="textAreaRight" b="textAreaBottom"/>
                  <a:pathLst>
                    <a:path w="998" h="1943">
                      <a:moveTo>
                        <a:pt x="948" y="1627"/>
                      </a:moveTo>
                      <a:lnTo>
                        <a:pt x="961" y="1571"/>
                      </a:lnTo>
                      <a:lnTo>
                        <a:pt x="960" y="1525"/>
                      </a:lnTo>
                      <a:lnTo>
                        <a:pt x="948" y="1490"/>
                      </a:lnTo>
                      <a:lnTo>
                        <a:pt x="930" y="1465"/>
                      </a:lnTo>
                      <a:lnTo>
                        <a:pt x="908" y="1446"/>
                      </a:lnTo>
                      <a:lnTo>
                        <a:pt x="888" y="1434"/>
                      </a:lnTo>
                      <a:lnTo>
                        <a:pt x="872" y="1429"/>
                      </a:lnTo>
                      <a:lnTo>
                        <a:pt x="866" y="1427"/>
                      </a:lnTo>
                      <a:lnTo>
                        <a:pt x="879" y="1402"/>
                      </a:lnTo>
                      <a:lnTo>
                        <a:pt x="884" y="1381"/>
                      </a:lnTo>
                      <a:lnTo>
                        <a:pt x="881" y="1364"/>
                      </a:lnTo>
                      <a:lnTo>
                        <a:pt x="872" y="1350"/>
                      </a:lnTo>
                      <a:lnTo>
                        <a:pt x="862" y="1340"/>
                      </a:lnTo>
                      <a:lnTo>
                        <a:pt x="852" y="1334"/>
                      </a:lnTo>
                      <a:lnTo>
                        <a:pt x="845" y="1330"/>
                      </a:lnTo>
                      <a:lnTo>
                        <a:pt x="842" y="1328"/>
                      </a:lnTo>
                      <a:lnTo>
                        <a:pt x="866" y="1287"/>
                      </a:lnTo>
                      <a:lnTo>
                        <a:pt x="898" y="1224"/>
                      </a:lnTo>
                      <a:lnTo>
                        <a:pt x="917" y="1158"/>
                      </a:lnTo>
                      <a:lnTo>
                        <a:pt x="921" y="1093"/>
                      </a:lnTo>
                      <a:lnTo>
                        <a:pt x="917" y="1030"/>
                      </a:lnTo>
                      <a:lnTo>
                        <a:pt x="904" y="972"/>
                      </a:lnTo>
                      <a:lnTo>
                        <a:pt x="885" y="919"/>
                      </a:lnTo>
                      <a:lnTo>
                        <a:pt x="864" y="876"/>
                      </a:lnTo>
                      <a:lnTo>
                        <a:pt x="842" y="841"/>
                      </a:lnTo>
                      <a:lnTo>
                        <a:pt x="829" y="825"/>
                      </a:lnTo>
                      <a:lnTo>
                        <a:pt x="812" y="804"/>
                      </a:lnTo>
                      <a:lnTo>
                        <a:pt x="792" y="780"/>
                      </a:lnTo>
                      <a:lnTo>
                        <a:pt x="769" y="751"/>
                      </a:lnTo>
                      <a:lnTo>
                        <a:pt x="745" y="722"/>
                      </a:lnTo>
                      <a:lnTo>
                        <a:pt x="719" y="691"/>
                      </a:lnTo>
                      <a:lnTo>
                        <a:pt x="695" y="659"/>
                      </a:lnTo>
                      <a:lnTo>
                        <a:pt x="669" y="628"/>
                      </a:lnTo>
                      <a:lnTo>
                        <a:pt x="646" y="599"/>
                      </a:lnTo>
                      <a:lnTo>
                        <a:pt x="626" y="570"/>
                      </a:lnTo>
                      <a:lnTo>
                        <a:pt x="607" y="546"/>
                      </a:lnTo>
                      <a:lnTo>
                        <a:pt x="592" y="523"/>
                      </a:lnTo>
                      <a:lnTo>
                        <a:pt x="579" y="503"/>
                      </a:lnTo>
                      <a:lnTo>
                        <a:pt x="571" y="487"/>
                      </a:lnTo>
                      <a:lnTo>
                        <a:pt x="567" y="476"/>
                      </a:lnTo>
                      <a:lnTo>
                        <a:pt x="569" y="470"/>
                      </a:lnTo>
                      <a:lnTo>
                        <a:pt x="579" y="463"/>
                      </a:lnTo>
                      <a:lnTo>
                        <a:pt x="589" y="454"/>
                      </a:lnTo>
                      <a:lnTo>
                        <a:pt x="600" y="444"/>
                      </a:lnTo>
                      <a:lnTo>
                        <a:pt x="613" y="434"/>
                      </a:lnTo>
                      <a:lnTo>
                        <a:pt x="626" y="424"/>
                      </a:lnTo>
                      <a:lnTo>
                        <a:pt x="639" y="416"/>
                      </a:lnTo>
                      <a:lnTo>
                        <a:pt x="653" y="408"/>
                      </a:lnTo>
                      <a:lnTo>
                        <a:pt x="669" y="404"/>
                      </a:lnTo>
                      <a:lnTo>
                        <a:pt x="686" y="406"/>
                      </a:lnTo>
                      <a:lnTo>
                        <a:pt x="705" y="413"/>
                      </a:lnTo>
                      <a:lnTo>
                        <a:pt x="726" y="424"/>
                      </a:lnTo>
                      <a:lnTo>
                        <a:pt x="746" y="439"/>
                      </a:lnTo>
                      <a:lnTo>
                        <a:pt x="763" y="453"/>
                      </a:lnTo>
                      <a:lnTo>
                        <a:pt x="779" y="466"/>
                      </a:lnTo>
                      <a:lnTo>
                        <a:pt x="788" y="476"/>
                      </a:lnTo>
                      <a:lnTo>
                        <a:pt x="792" y="479"/>
                      </a:lnTo>
                      <a:lnTo>
                        <a:pt x="808" y="451"/>
                      </a:lnTo>
                      <a:lnTo>
                        <a:pt x="829" y="427"/>
                      </a:lnTo>
                      <a:lnTo>
                        <a:pt x="854" y="404"/>
                      </a:lnTo>
                      <a:lnTo>
                        <a:pt x="879" y="384"/>
                      </a:lnTo>
                      <a:lnTo>
                        <a:pt x="902" y="368"/>
                      </a:lnTo>
                      <a:lnTo>
                        <a:pt x="922" y="357"/>
                      </a:lnTo>
                      <a:lnTo>
                        <a:pt x="935" y="350"/>
                      </a:lnTo>
                      <a:lnTo>
                        <a:pt x="941" y="347"/>
                      </a:lnTo>
                      <a:lnTo>
                        <a:pt x="942" y="304"/>
                      </a:lnTo>
                      <a:lnTo>
                        <a:pt x="937" y="275"/>
                      </a:lnTo>
                      <a:lnTo>
                        <a:pt x="924" y="257"/>
                      </a:lnTo>
                      <a:lnTo>
                        <a:pt x="908" y="246"/>
                      </a:lnTo>
                      <a:lnTo>
                        <a:pt x="899" y="242"/>
                      </a:lnTo>
                      <a:lnTo>
                        <a:pt x="891" y="236"/>
                      </a:lnTo>
                      <a:lnTo>
                        <a:pt x="882" y="229"/>
                      </a:lnTo>
                      <a:lnTo>
                        <a:pt x="875" y="219"/>
                      </a:lnTo>
                      <a:lnTo>
                        <a:pt x="869" y="209"/>
                      </a:lnTo>
                      <a:lnTo>
                        <a:pt x="862" y="198"/>
                      </a:lnTo>
                      <a:lnTo>
                        <a:pt x="855" y="186"/>
                      </a:lnTo>
                      <a:lnTo>
                        <a:pt x="849" y="173"/>
                      </a:lnTo>
                      <a:lnTo>
                        <a:pt x="844" y="168"/>
                      </a:lnTo>
                      <a:lnTo>
                        <a:pt x="834" y="162"/>
                      </a:lnTo>
                      <a:lnTo>
                        <a:pt x="818" y="158"/>
                      </a:lnTo>
                      <a:lnTo>
                        <a:pt x="801" y="155"/>
                      </a:lnTo>
                      <a:lnTo>
                        <a:pt x="779" y="150"/>
                      </a:lnTo>
                      <a:lnTo>
                        <a:pt x="756" y="149"/>
                      </a:lnTo>
                      <a:lnTo>
                        <a:pt x="732" y="146"/>
                      </a:lnTo>
                      <a:lnTo>
                        <a:pt x="708" y="145"/>
                      </a:lnTo>
                      <a:lnTo>
                        <a:pt x="683" y="143"/>
                      </a:lnTo>
                      <a:lnTo>
                        <a:pt x="659" y="142"/>
                      </a:lnTo>
                      <a:lnTo>
                        <a:pt x="637" y="142"/>
                      </a:lnTo>
                      <a:lnTo>
                        <a:pt x="617" y="140"/>
                      </a:lnTo>
                      <a:lnTo>
                        <a:pt x="602" y="140"/>
                      </a:lnTo>
                      <a:lnTo>
                        <a:pt x="589" y="140"/>
                      </a:lnTo>
                      <a:lnTo>
                        <a:pt x="580" y="140"/>
                      </a:lnTo>
                      <a:lnTo>
                        <a:pt x="577" y="140"/>
                      </a:lnTo>
                      <a:lnTo>
                        <a:pt x="574" y="132"/>
                      </a:lnTo>
                      <a:lnTo>
                        <a:pt x="567" y="123"/>
                      </a:lnTo>
                      <a:lnTo>
                        <a:pt x="557" y="118"/>
                      </a:lnTo>
                      <a:lnTo>
                        <a:pt x="544" y="112"/>
                      </a:lnTo>
                      <a:lnTo>
                        <a:pt x="530" y="107"/>
                      </a:lnTo>
                      <a:lnTo>
                        <a:pt x="514" y="105"/>
                      </a:lnTo>
                      <a:lnTo>
                        <a:pt x="497" y="102"/>
                      </a:lnTo>
                      <a:lnTo>
                        <a:pt x="480" y="100"/>
                      </a:lnTo>
                      <a:lnTo>
                        <a:pt x="463" y="99"/>
                      </a:lnTo>
                      <a:lnTo>
                        <a:pt x="445" y="99"/>
                      </a:lnTo>
                      <a:lnTo>
                        <a:pt x="430" y="97"/>
                      </a:lnTo>
                      <a:lnTo>
                        <a:pt x="417" y="97"/>
                      </a:lnTo>
                      <a:lnTo>
                        <a:pt x="405" y="99"/>
                      </a:lnTo>
                      <a:lnTo>
                        <a:pt x="395" y="99"/>
                      </a:lnTo>
                      <a:lnTo>
                        <a:pt x="390" y="99"/>
                      </a:lnTo>
                      <a:lnTo>
                        <a:pt x="388" y="99"/>
                      </a:lnTo>
                      <a:lnTo>
                        <a:pt x="298" y="0"/>
                      </a:lnTo>
                      <a:lnTo>
                        <a:pt x="295" y="0"/>
                      </a:lnTo>
                      <a:lnTo>
                        <a:pt x="289" y="0"/>
                      </a:lnTo>
                      <a:lnTo>
                        <a:pt x="278" y="1"/>
                      </a:lnTo>
                      <a:lnTo>
                        <a:pt x="264" y="4"/>
                      </a:lnTo>
                      <a:lnTo>
                        <a:pt x="251" y="7"/>
                      </a:lnTo>
                      <a:lnTo>
                        <a:pt x="236" y="13"/>
                      </a:lnTo>
                      <a:lnTo>
                        <a:pt x="222" y="19"/>
                      </a:lnTo>
                      <a:lnTo>
                        <a:pt x="205" y="26"/>
                      </a:lnTo>
                      <a:lnTo>
                        <a:pt x="189" y="34"/>
                      </a:lnTo>
                      <a:lnTo>
                        <a:pt x="170" y="44"/>
                      </a:lnTo>
                      <a:lnTo>
                        <a:pt x="153" y="57"/>
                      </a:lnTo>
                      <a:lnTo>
                        <a:pt x="136" y="72"/>
                      </a:lnTo>
                      <a:lnTo>
                        <a:pt x="118" y="87"/>
                      </a:lnTo>
                      <a:lnTo>
                        <a:pt x="100" y="107"/>
                      </a:lnTo>
                      <a:lnTo>
                        <a:pt x="85" y="129"/>
                      </a:lnTo>
                      <a:lnTo>
                        <a:pt x="67" y="153"/>
                      </a:lnTo>
                      <a:lnTo>
                        <a:pt x="53" y="179"/>
                      </a:lnTo>
                      <a:lnTo>
                        <a:pt x="40" y="209"/>
                      </a:lnTo>
                      <a:lnTo>
                        <a:pt x="27" y="244"/>
                      </a:lnTo>
                      <a:lnTo>
                        <a:pt x="17" y="279"/>
                      </a:lnTo>
                      <a:lnTo>
                        <a:pt x="6" y="337"/>
                      </a:lnTo>
                      <a:lnTo>
                        <a:pt x="0" y="388"/>
                      </a:lnTo>
                      <a:lnTo>
                        <a:pt x="0" y="439"/>
                      </a:lnTo>
                      <a:lnTo>
                        <a:pt x="3" y="484"/>
                      </a:lnTo>
                      <a:lnTo>
                        <a:pt x="12" y="537"/>
                      </a:lnTo>
                      <a:lnTo>
                        <a:pt x="26" y="588"/>
                      </a:lnTo>
                      <a:lnTo>
                        <a:pt x="44" y="635"/>
                      </a:lnTo>
                      <a:lnTo>
                        <a:pt x="65" y="681"/>
                      </a:lnTo>
                      <a:lnTo>
                        <a:pt x="87" y="728"/>
                      </a:lnTo>
                      <a:lnTo>
                        <a:pt x="112" y="774"/>
                      </a:lnTo>
                      <a:lnTo>
                        <a:pt x="135" y="823"/>
                      </a:lnTo>
                      <a:lnTo>
                        <a:pt x="158" y="874"/>
                      </a:lnTo>
                      <a:lnTo>
                        <a:pt x="181" y="944"/>
                      </a:lnTo>
                      <a:lnTo>
                        <a:pt x="186" y="1005"/>
                      </a:lnTo>
                      <a:lnTo>
                        <a:pt x="181" y="1058"/>
                      </a:lnTo>
                      <a:lnTo>
                        <a:pt x="166" y="1102"/>
                      </a:lnTo>
                      <a:lnTo>
                        <a:pt x="145" y="1138"/>
                      </a:lnTo>
                      <a:lnTo>
                        <a:pt x="120" y="1168"/>
                      </a:lnTo>
                      <a:lnTo>
                        <a:pt x="97" y="1189"/>
                      </a:lnTo>
                      <a:lnTo>
                        <a:pt x="76" y="1205"/>
                      </a:lnTo>
                      <a:lnTo>
                        <a:pt x="60" y="1218"/>
                      </a:lnTo>
                      <a:lnTo>
                        <a:pt x="49" y="1231"/>
                      </a:lnTo>
                      <a:lnTo>
                        <a:pt x="40" y="1244"/>
                      </a:lnTo>
                      <a:lnTo>
                        <a:pt x="36" y="1255"/>
                      </a:lnTo>
                      <a:lnTo>
                        <a:pt x="34" y="1265"/>
                      </a:lnTo>
                      <a:lnTo>
                        <a:pt x="34" y="1273"/>
                      </a:lnTo>
                      <a:lnTo>
                        <a:pt x="34" y="1278"/>
                      </a:lnTo>
                      <a:lnTo>
                        <a:pt x="34" y="1280"/>
                      </a:lnTo>
                      <a:lnTo>
                        <a:pt x="43" y="1300"/>
                      </a:lnTo>
                      <a:lnTo>
                        <a:pt x="56" y="1318"/>
                      </a:lnTo>
                      <a:lnTo>
                        <a:pt x="73" y="1334"/>
                      </a:lnTo>
                      <a:lnTo>
                        <a:pt x="90" y="1346"/>
                      </a:lnTo>
                      <a:lnTo>
                        <a:pt x="106" y="1357"/>
                      </a:lnTo>
                      <a:lnTo>
                        <a:pt x="120" y="1364"/>
                      </a:lnTo>
                      <a:lnTo>
                        <a:pt x="129" y="1369"/>
                      </a:lnTo>
                      <a:lnTo>
                        <a:pt x="133" y="1370"/>
                      </a:lnTo>
                      <a:lnTo>
                        <a:pt x="122" y="1387"/>
                      </a:lnTo>
                      <a:lnTo>
                        <a:pt x="120" y="1409"/>
                      </a:lnTo>
                      <a:lnTo>
                        <a:pt x="123" y="1427"/>
                      </a:lnTo>
                      <a:lnTo>
                        <a:pt x="125" y="1436"/>
                      </a:lnTo>
                      <a:lnTo>
                        <a:pt x="80" y="1469"/>
                      </a:lnTo>
                      <a:lnTo>
                        <a:pt x="53" y="1503"/>
                      </a:lnTo>
                      <a:lnTo>
                        <a:pt x="42" y="1538"/>
                      </a:lnTo>
                      <a:lnTo>
                        <a:pt x="40" y="1571"/>
                      </a:lnTo>
                      <a:lnTo>
                        <a:pt x="46" y="1599"/>
                      </a:lnTo>
                      <a:lnTo>
                        <a:pt x="56" y="1622"/>
                      </a:lnTo>
                      <a:lnTo>
                        <a:pt x="63" y="1637"/>
                      </a:lnTo>
                      <a:lnTo>
                        <a:pt x="67" y="1642"/>
                      </a:lnTo>
                      <a:lnTo>
                        <a:pt x="63" y="1644"/>
                      </a:lnTo>
                      <a:lnTo>
                        <a:pt x="54" y="1651"/>
                      </a:lnTo>
                      <a:lnTo>
                        <a:pt x="42" y="1661"/>
                      </a:lnTo>
                      <a:lnTo>
                        <a:pt x="30" y="1675"/>
                      </a:lnTo>
                      <a:lnTo>
                        <a:pt x="20" y="1695"/>
                      </a:lnTo>
                      <a:lnTo>
                        <a:pt x="16" y="1720"/>
                      </a:lnTo>
                      <a:lnTo>
                        <a:pt x="20" y="1748"/>
                      </a:lnTo>
                      <a:lnTo>
                        <a:pt x="34" y="1783"/>
                      </a:lnTo>
                      <a:lnTo>
                        <a:pt x="43" y="1794"/>
                      </a:lnTo>
                      <a:lnTo>
                        <a:pt x="53" y="1806"/>
                      </a:lnTo>
                      <a:lnTo>
                        <a:pt x="66" y="1817"/>
                      </a:lnTo>
                      <a:lnTo>
                        <a:pt x="83" y="1830"/>
                      </a:lnTo>
                      <a:lnTo>
                        <a:pt x="100" y="1841"/>
                      </a:lnTo>
                      <a:lnTo>
                        <a:pt x="122" y="1853"/>
                      </a:lnTo>
                      <a:lnTo>
                        <a:pt x="145" y="1863"/>
                      </a:lnTo>
                      <a:lnTo>
                        <a:pt x="170" y="1874"/>
                      </a:lnTo>
                      <a:lnTo>
                        <a:pt x="198" y="1884"/>
                      </a:lnTo>
                      <a:lnTo>
                        <a:pt x="228" y="1894"/>
                      </a:lnTo>
                      <a:lnTo>
                        <a:pt x="259" y="1903"/>
                      </a:lnTo>
                      <a:lnTo>
                        <a:pt x="292" y="1912"/>
                      </a:lnTo>
                      <a:lnTo>
                        <a:pt x="328" y="1920"/>
                      </a:lnTo>
                      <a:lnTo>
                        <a:pt x="365" y="1927"/>
                      </a:lnTo>
                      <a:lnTo>
                        <a:pt x="405" y="1933"/>
                      </a:lnTo>
                      <a:lnTo>
                        <a:pt x="445" y="1939"/>
                      </a:lnTo>
                      <a:lnTo>
                        <a:pt x="487" y="1942"/>
                      </a:lnTo>
                      <a:lnTo>
                        <a:pt x="529" y="1943"/>
                      </a:lnTo>
                      <a:lnTo>
                        <a:pt x="569" y="1940"/>
                      </a:lnTo>
                      <a:lnTo>
                        <a:pt x="607" y="1936"/>
                      </a:lnTo>
                      <a:lnTo>
                        <a:pt x="646" y="1930"/>
                      </a:lnTo>
                      <a:lnTo>
                        <a:pt x="683" y="1923"/>
                      </a:lnTo>
                      <a:lnTo>
                        <a:pt x="719" y="1913"/>
                      </a:lnTo>
                      <a:lnTo>
                        <a:pt x="753" y="1902"/>
                      </a:lnTo>
                      <a:lnTo>
                        <a:pt x="786" y="1890"/>
                      </a:lnTo>
                      <a:lnTo>
                        <a:pt x="816" y="1877"/>
                      </a:lnTo>
                      <a:lnTo>
                        <a:pt x="845" y="1863"/>
                      </a:lnTo>
                      <a:lnTo>
                        <a:pt x="872" y="1849"/>
                      </a:lnTo>
                      <a:lnTo>
                        <a:pt x="898" y="1834"/>
                      </a:lnTo>
                      <a:lnTo>
                        <a:pt x="919" y="1820"/>
                      </a:lnTo>
                      <a:lnTo>
                        <a:pt x="940" y="1806"/>
                      </a:lnTo>
                      <a:lnTo>
                        <a:pt x="957" y="1791"/>
                      </a:lnTo>
                      <a:lnTo>
                        <a:pt x="985" y="1758"/>
                      </a:lnTo>
                      <a:lnTo>
                        <a:pt x="998" y="1728"/>
                      </a:lnTo>
                      <a:lnTo>
                        <a:pt x="998" y="1700"/>
                      </a:lnTo>
                      <a:lnTo>
                        <a:pt x="991" y="1675"/>
                      </a:lnTo>
                      <a:lnTo>
                        <a:pt x="978" y="1655"/>
                      </a:lnTo>
                      <a:lnTo>
                        <a:pt x="964" y="1639"/>
                      </a:lnTo>
                      <a:lnTo>
                        <a:pt x="952" y="1629"/>
                      </a:lnTo>
                      <a:lnTo>
                        <a:pt x="948" y="162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cacac"/>
                    </a:gs>
                    <a:gs pos="100000">
                      <a:srgbClr val="e6e6e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3" name="Gruppe 1099"/>
                <p:cNvGrpSpPr/>
                <p:nvPr/>
              </p:nvGrpSpPr>
              <p:grpSpPr>
                <a:xfrm>
                  <a:off x="2691720" y="3013560"/>
                  <a:ext cx="70560" cy="140040"/>
                  <a:chOff x="2691720" y="3013560"/>
                  <a:chExt cx="70560" cy="140040"/>
                </a:xfrm>
              </p:grpSpPr>
              <p:sp>
                <p:nvSpPr>
                  <p:cNvPr id="254" name="Freeform 497"/>
                  <p:cNvSpPr/>
                  <p:nvPr/>
                </p:nvSpPr>
                <p:spPr>
                  <a:xfrm flipH="1">
                    <a:off x="2746440" y="3013560"/>
                    <a:ext cx="15120" cy="38520"/>
                  </a:xfrm>
                  <a:custGeom>
                    <a:avLst/>
                    <a:gdLst>
                      <a:gd name="textAreaLeft" fmla="*/ 360 w 15120"/>
                      <a:gd name="textAreaRight" fmla="*/ 15840 w 1512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169" h="454">
                        <a:moveTo>
                          <a:pt x="86" y="276"/>
                        </a:moveTo>
                        <a:lnTo>
                          <a:pt x="73" y="213"/>
                        </a:lnTo>
                        <a:lnTo>
                          <a:pt x="70" y="159"/>
                        </a:lnTo>
                        <a:lnTo>
                          <a:pt x="76" y="110"/>
                        </a:lnTo>
                        <a:lnTo>
                          <a:pt x="85" y="71"/>
                        </a:lnTo>
                        <a:lnTo>
                          <a:pt x="96" y="40"/>
                        </a:lnTo>
                        <a:lnTo>
                          <a:pt x="107" y="18"/>
                        </a:lnTo>
                        <a:lnTo>
                          <a:pt x="117" y="4"/>
                        </a:lnTo>
                        <a:lnTo>
                          <a:pt x="120" y="0"/>
                        </a:lnTo>
                        <a:lnTo>
                          <a:pt x="76" y="31"/>
                        </a:lnTo>
                        <a:lnTo>
                          <a:pt x="42" y="65"/>
                        </a:lnTo>
                        <a:lnTo>
                          <a:pt x="19" y="98"/>
                        </a:lnTo>
                        <a:lnTo>
                          <a:pt x="6" y="134"/>
                        </a:lnTo>
                        <a:lnTo>
                          <a:pt x="0" y="169"/>
                        </a:lnTo>
                        <a:lnTo>
                          <a:pt x="1" y="203"/>
                        </a:lnTo>
                        <a:lnTo>
                          <a:pt x="9" y="237"/>
                        </a:lnTo>
                        <a:lnTo>
                          <a:pt x="22" y="270"/>
                        </a:lnTo>
                        <a:lnTo>
                          <a:pt x="42" y="308"/>
                        </a:lnTo>
                        <a:lnTo>
                          <a:pt x="64" y="342"/>
                        </a:lnTo>
                        <a:lnTo>
                          <a:pt x="89" y="374"/>
                        </a:lnTo>
                        <a:lnTo>
                          <a:pt x="113" y="401"/>
                        </a:lnTo>
                        <a:lnTo>
                          <a:pt x="135" y="422"/>
                        </a:lnTo>
                        <a:lnTo>
                          <a:pt x="152" y="439"/>
                        </a:lnTo>
                        <a:lnTo>
                          <a:pt x="165" y="450"/>
                        </a:lnTo>
                        <a:lnTo>
                          <a:pt x="169" y="454"/>
                        </a:lnTo>
                        <a:lnTo>
                          <a:pt x="153" y="429"/>
                        </a:lnTo>
                        <a:lnTo>
                          <a:pt x="140" y="405"/>
                        </a:lnTo>
                        <a:lnTo>
                          <a:pt x="127" y="382"/>
                        </a:lnTo>
                        <a:lnTo>
                          <a:pt x="117" y="359"/>
                        </a:lnTo>
                        <a:lnTo>
                          <a:pt x="107" y="338"/>
                        </a:lnTo>
                        <a:lnTo>
                          <a:pt x="99" y="316"/>
                        </a:lnTo>
                        <a:lnTo>
                          <a:pt x="92" y="296"/>
                        </a:lnTo>
                        <a:lnTo>
                          <a:pt x="86" y="276"/>
                        </a:lnTo>
                        <a:close/>
                      </a:path>
                    </a:pathLst>
                  </a:custGeom>
                  <a:solidFill>
                    <a:srgbClr val="cfcf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499"/>
                  <p:cNvSpPr/>
                  <p:nvPr/>
                </p:nvSpPr>
                <p:spPr>
                  <a:xfrm flipH="1">
                    <a:off x="2727360" y="3063240"/>
                    <a:ext cx="31320" cy="45720"/>
                  </a:xfrm>
                  <a:custGeom>
                    <a:avLst/>
                    <a:gdLst>
                      <a:gd name="textAreaLeft" fmla="*/ -360 w 31320"/>
                      <a:gd name="textAreaRight" fmla="*/ 31320 w 3132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350" h="540">
                        <a:moveTo>
                          <a:pt x="85" y="0"/>
                        </a:moveTo>
                        <a:lnTo>
                          <a:pt x="86" y="4"/>
                        </a:lnTo>
                        <a:lnTo>
                          <a:pt x="92" y="14"/>
                        </a:lnTo>
                        <a:lnTo>
                          <a:pt x="99" y="31"/>
                        </a:lnTo>
                        <a:lnTo>
                          <a:pt x="108" y="53"/>
                        </a:lnTo>
                        <a:lnTo>
                          <a:pt x="118" y="80"/>
                        </a:lnTo>
                        <a:lnTo>
                          <a:pt x="126" y="110"/>
                        </a:lnTo>
                        <a:lnTo>
                          <a:pt x="133" y="143"/>
                        </a:lnTo>
                        <a:lnTo>
                          <a:pt x="141" y="179"/>
                        </a:lnTo>
                        <a:lnTo>
                          <a:pt x="143" y="215"/>
                        </a:lnTo>
                        <a:lnTo>
                          <a:pt x="142" y="252"/>
                        </a:lnTo>
                        <a:lnTo>
                          <a:pt x="136" y="289"/>
                        </a:lnTo>
                        <a:lnTo>
                          <a:pt x="126" y="325"/>
                        </a:lnTo>
                        <a:lnTo>
                          <a:pt x="109" y="358"/>
                        </a:lnTo>
                        <a:lnTo>
                          <a:pt x="85" y="388"/>
                        </a:lnTo>
                        <a:lnTo>
                          <a:pt x="52" y="415"/>
                        </a:lnTo>
                        <a:lnTo>
                          <a:pt x="10" y="438"/>
                        </a:lnTo>
                        <a:lnTo>
                          <a:pt x="7" y="441"/>
                        </a:lnTo>
                        <a:lnTo>
                          <a:pt x="3" y="450"/>
                        </a:lnTo>
                        <a:lnTo>
                          <a:pt x="0" y="461"/>
                        </a:lnTo>
                        <a:lnTo>
                          <a:pt x="2" y="475"/>
                        </a:lnTo>
                        <a:lnTo>
                          <a:pt x="13" y="491"/>
                        </a:lnTo>
                        <a:lnTo>
                          <a:pt x="37" y="508"/>
                        </a:lnTo>
                        <a:lnTo>
                          <a:pt x="79" y="523"/>
                        </a:lnTo>
                        <a:lnTo>
                          <a:pt x="142" y="537"/>
                        </a:lnTo>
                        <a:lnTo>
                          <a:pt x="174" y="540"/>
                        </a:lnTo>
                        <a:lnTo>
                          <a:pt x="204" y="537"/>
                        </a:lnTo>
                        <a:lnTo>
                          <a:pt x="231" y="528"/>
                        </a:lnTo>
                        <a:lnTo>
                          <a:pt x="257" y="516"/>
                        </a:lnTo>
                        <a:lnTo>
                          <a:pt x="279" y="498"/>
                        </a:lnTo>
                        <a:lnTo>
                          <a:pt x="300" y="475"/>
                        </a:lnTo>
                        <a:lnTo>
                          <a:pt x="317" y="448"/>
                        </a:lnTo>
                        <a:lnTo>
                          <a:pt x="331" y="418"/>
                        </a:lnTo>
                        <a:lnTo>
                          <a:pt x="341" y="382"/>
                        </a:lnTo>
                        <a:lnTo>
                          <a:pt x="347" y="344"/>
                        </a:lnTo>
                        <a:lnTo>
                          <a:pt x="350" y="301"/>
                        </a:lnTo>
                        <a:lnTo>
                          <a:pt x="345" y="255"/>
                        </a:lnTo>
                        <a:lnTo>
                          <a:pt x="338" y="206"/>
                        </a:lnTo>
                        <a:lnTo>
                          <a:pt x="325" y="154"/>
                        </a:lnTo>
                        <a:lnTo>
                          <a:pt x="305" y="99"/>
                        </a:lnTo>
                        <a:lnTo>
                          <a:pt x="281" y="41"/>
                        </a:lnTo>
                        <a:lnTo>
                          <a:pt x="282" y="53"/>
                        </a:lnTo>
                        <a:lnTo>
                          <a:pt x="284" y="81"/>
                        </a:lnTo>
                        <a:lnTo>
                          <a:pt x="284" y="124"/>
                        </a:lnTo>
                        <a:lnTo>
                          <a:pt x="281" y="176"/>
                        </a:lnTo>
                        <a:lnTo>
                          <a:pt x="274" y="230"/>
                        </a:lnTo>
                        <a:lnTo>
                          <a:pt x="261" y="285"/>
                        </a:lnTo>
                        <a:lnTo>
                          <a:pt x="239" y="334"/>
                        </a:lnTo>
                        <a:lnTo>
                          <a:pt x="208" y="372"/>
                        </a:lnTo>
                        <a:lnTo>
                          <a:pt x="208" y="362"/>
                        </a:lnTo>
                        <a:lnTo>
                          <a:pt x="208" y="335"/>
                        </a:lnTo>
                        <a:lnTo>
                          <a:pt x="206" y="293"/>
                        </a:lnTo>
                        <a:lnTo>
                          <a:pt x="199" y="242"/>
                        </a:lnTo>
                        <a:lnTo>
                          <a:pt x="185" y="183"/>
                        </a:lnTo>
                        <a:lnTo>
                          <a:pt x="163" y="120"/>
                        </a:lnTo>
                        <a:lnTo>
                          <a:pt x="131" y="58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solidFill>
                    <a:srgbClr val="cfcf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Freeform 503"/>
                  <p:cNvSpPr/>
                  <p:nvPr/>
                </p:nvSpPr>
                <p:spPr>
                  <a:xfrm flipH="1">
                    <a:off x="2736360" y="3114000"/>
                    <a:ext cx="17640" cy="6480"/>
                  </a:xfrm>
                  <a:custGeom>
                    <a:avLst/>
                    <a:gdLst>
                      <a:gd name="textAreaLeft" fmla="*/ -360 w 17640"/>
                      <a:gd name="textAreaRight" fmla="*/ 17640 w 17640"/>
                      <a:gd name="textAreaTop" fmla="*/ 0 h 6480"/>
                      <a:gd name="textAreaBottom" fmla="*/ 6840 h 6480"/>
                    </a:gdLst>
                    <a:ahLst/>
                    <a:rect l="textAreaLeft" t="textAreaTop" r="textAreaRight" b="textAreaBottom"/>
                    <a:pathLst>
                      <a:path w="196" h="80">
                        <a:moveTo>
                          <a:pt x="196" y="53"/>
                        </a:moveTo>
                        <a:lnTo>
                          <a:pt x="191" y="52"/>
                        </a:lnTo>
                        <a:lnTo>
                          <a:pt x="174" y="48"/>
                        </a:lnTo>
                        <a:lnTo>
                          <a:pt x="149" y="42"/>
                        </a:lnTo>
                        <a:lnTo>
                          <a:pt x="122" y="33"/>
                        </a:lnTo>
                        <a:lnTo>
                          <a:pt x="92" y="25"/>
                        </a:lnTo>
                        <a:lnTo>
                          <a:pt x="65" y="17"/>
                        </a:lnTo>
                        <a:lnTo>
                          <a:pt x="43" y="9"/>
                        </a:lnTo>
                        <a:lnTo>
                          <a:pt x="29" y="3"/>
                        </a:lnTo>
                        <a:lnTo>
                          <a:pt x="20" y="0"/>
                        </a:lnTo>
                        <a:lnTo>
                          <a:pt x="13" y="0"/>
                        </a:lnTo>
                        <a:lnTo>
                          <a:pt x="6" y="5"/>
                        </a:lnTo>
                        <a:lnTo>
                          <a:pt x="2" y="12"/>
                        </a:lnTo>
                        <a:lnTo>
                          <a:pt x="0" y="20"/>
                        </a:lnTo>
                        <a:lnTo>
                          <a:pt x="3" y="32"/>
                        </a:lnTo>
                        <a:lnTo>
                          <a:pt x="10" y="42"/>
                        </a:lnTo>
                        <a:lnTo>
                          <a:pt x="22" y="53"/>
                        </a:lnTo>
                        <a:lnTo>
                          <a:pt x="39" y="63"/>
                        </a:lnTo>
                        <a:lnTo>
                          <a:pt x="62" y="72"/>
                        </a:lnTo>
                        <a:lnTo>
                          <a:pt x="89" y="78"/>
                        </a:lnTo>
                        <a:lnTo>
                          <a:pt x="118" y="80"/>
                        </a:lnTo>
                        <a:lnTo>
                          <a:pt x="143" y="79"/>
                        </a:lnTo>
                        <a:lnTo>
                          <a:pt x="168" y="75"/>
                        </a:lnTo>
                        <a:lnTo>
                          <a:pt x="186" y="66"/>
                        </a:lnTo>
                        <a:lnTo>
                          <a:pt x="196" y="53"/>
                        </a:lnTo>
                        <a:close/>
                      </a:path>
                    </a:pathLst>
                  </a:custGeom>
                  <a:solidFill>
                    <a:srgbClr val="cfcf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Freeform 504"/>
                  <p:cNvSpPr/>
                  <p:nvPr/>
                </p:nvSpPr>
                <p:spPr>
                  <a:xfrm flipH="1">
                    <a:off x="2736360" y="3122640"/>
                    <a:ext cx="22680" cy="16560"/>
                  </a:xfrm>
                  <a:custGeom>
                    <a:avLst/>
                    <a:gdLst>
                      <a:gd name="textAreaLeft" fmla="*/ -360 w 22680"/>
                      <a:gd name="textAreaRight" fmla="*/ 22680 w 2268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250" h="196">
                        <a:moveTo>
                          <a:pt x="91" y="16"/>
                        </a:moveTo>
                        <a:lnTo>
                          <a:pt x="89" y="14"/>
                        </a:lnTo>
                        <a:lnTo>
                          <a:pt x="83" y="11"/>
                        </a:lnTo>
                        <a:lnTo>
                          <a:pt x="75" y="7"/>
                        </a:lnTo>
                        <a:lnTo>
                          <a:pt x="65" y="3"/>
                        </a:lnTo>
                        <a:lnTo>
                          <a:pt x="53" y="1"/>
                        </a:lnTo>
                        <a:lnTo>
                          <a:pt x="40" y="0"/>
                        </a:lnTo>
                        <a:lnTo>
                          <a:pt x="30" y="3"/>
                        </a:lnTo>
                        <a:lnTo>
                          <a:pt x="20" y="9"/>
                        </a:lnTo>
                        <a:lnTo>
                          <a:pt x="12" y="19"/>
                        </a:lnTo>
                        <a:lnTo>
                          <a:pt x="6" y="33"/>
                        </a:lnTo>
                        <a:lnTo>
                          <a:pt x="2" y="50"/>
                        </a:lnTo>
                        <a:lnTo>
                          <a:pt x="0" y="69"/>
                        </a:lnTo>
                        <a:lnTo>
                          <a:pt x="2" y="89"/>
                        </a:lnTo>
                        <a:lnTo>
                          <a:pt x="8" y="109"/>
                        </a:lnTo>
                        <a:lnTo>
                          <a:pt x="19" y="128"/>
                        </a:lnTo>
                        <a:lnTo>
                          <a:pt x="36" y="145"/>
                        </a:lnTo>
                        <a:lnTo>
                          <a:pt x="58" y="160"/>
                        </a:lnTo>
                        <a:lnTo>
                          <a:pt x="82" y="172"/>
                        </a:lnTo>
                        <a:lnTo>
                          <a:pt x="106" y="183"/>
                        </a:lnTo>
                        <a:lnTo>
                          <a:pt x="132" y="191"/>
                        </a:lnTo>
                        <a:lnTo>
                          <a:pt x="156" y="195"/>
                        </a:lnTo>
                        <a:lnTo>
                          <a:pt x="181" y="196"/>
                        </a:lnTo>
                        <a:lnTo>
                          <a:pt x="202" y="193"/>
                        </a:lnTo>
                        <a:lnTo>
                          <a:pt x="221" y="188"/>
                        </a:lnTo>
                        <a:lnTo>
                          <a:pt x="235" y="176"/>
                        </a:lnTo>
                        <a:lnTo>
                          <a:pt x="244" y="159"/>
                        </a:lnTo>
                        <a:lnTo>
                          <a:pt x="250" y="138"/>
                        </a:lnTo>
                        <a:lnTo>
                          <a:pt x="248" y="115"/>
                        </a:lnTo>
                        <a:lnTo>
                          <a:pt x="244" y="92"/>
                        </a:lnTo>
                        <a:lnTo>
                          <a:pt x="234" y="73"/>
                        </a:lnTo>
                        <a:lnTo>
                          <a:pt x="218" y="59"/>
                        </a:lnTo>
                        <a:lnTo>
                          <a:pt x="198" y="52"/>
                        </a:lnTo>
                        <a:lnTo>
                          <a:pt x="175" y="47"/>
                        </a:lnTo>
                        <a:lnTo>
                          <a:pt x="155" y="43"/>
                        </a:lnTo>
                        <a:lnTo>
                          <a:pt x="136" y="37"/>
                        </a:lnTo>
                        <a:lnTo>
                          <a:pt x="121" y="31"/>
                        </a:lnTo>
                        <a:lnTo>
                          <a:pt x="108" y="26"/>
                        </a:lnTo>
                        <a:lnTo>
                          <a:pt x="99" y="20"/>
                        </a:lnTo>
                        <a:lnTo>
                          <a:pt x="92" y="17"/>
                        </a:lnTo>
                        <a:lnTo>
                          <a:pt x="91" y="16"/>
                        </a:lnTo>
                        <a:close/>
                      </a:path>
                    </a:pathLst>
                  </a:custGeom>
                  <a:solidFill>
                    <a:srgbClr val="cfcf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Freeform 505"/>
                  <p:cNvSpPr/>
                  <p:nvPr/>
                </p:nvSpPr>
                <p:spPr>
                  <a:xfrm flipH="1">
                    <a:off x="2735640" y="3139560"/>
                    <a:ext cx="26280" cy="14040"/>
                  </a:xfrm>
                  <a:custGeom>
                    <a:avLst/>
                    <a:gdLst>
                      <a:gd name="textAreaLeft" fmla="*/ -360 w 26280"/>
                      <a:gd name="textAreaRight" fmla="*/ 26280 w 26280"/>
                      <a:gd name="textAreaTop" fmla="*/ 0 h 14040"/>
                      <a:gd name="textAreaBottom" fmla="*/ 14400 h 14040"/>
                    </a:gdLst>
                    <a:ahLst/>
                    <a:rect l="textAreaLeft" t="textAreaTop" r="textAreaRight" b="textAreaBottom"/>
                    <a:pathLst>
                      <a:path w="292" h="168">
                        <a:moveTo>
                          <a:pt x="107" y="57"/>
                        </a:moveTo>
                        <a:lnTo>
                          <a:pt x="92" y="50"/>
                        </a:lnTo>
                        <a:lnTo>
                          <a:pt x="76" y="42"/>
                        </a:lnTo>
                        <a:lnTo>
                          <a:pt x="60" y="33"/>
                        </a:lnTo>
                        <a:lnTo>
                          <a:pt x="46" y="23"/>
                        </a:lnTo>
                        <a:lnTo>
                          <a:pt x="34" y="14"/>
                        </a:lnTo>
                        <a:lnTo>
                          <a:pt x="24" y="7"/>
                        </a:lnTo>
                        <a:lnTo>
                          <a:pt x="19" y="2"/>
                        </a:lnTo>
                        <a:lnTo>
                          <a:pt x="16" y="0"/>
                        </a:lnTo>
                        <a:lnTo>
                          <a:pt x="14" y="2"/>
                        </a:lnTo>
                        <a:lnTo>
                          <a:pt x="10" y="3"/>
                        </a:lnTo>
                        <a:lnTo>
                          <a:pt x="6" y="9"/>
                        </a:lnTo>
                        <a:lnTo>
                          <a:pt x="1" y="16"/>
                        </a:lnTo>
                        <a:lnTo>
                          <a:pt x="0" y="26"/>
                        </a:lnTo>
                        <a:lnTo>
                          <a:pt x="3" y="39"/>
                        </a:lnTo>
                        <a:lnTo>
                          <a:pt x="10" y="55"/>
                        </a:lnTo>
                        <a:lnTo>
                          <a:pt x="24" y="75"/>
                        </a:lnTo>
                        <a:lnTo>
                          <a:pt x="42" y="90"/>
                        </a:lnTo>
                        <a:lnTo>
                          <a:pt x="64" y="106"/>
                        </a:lnTo>
                        <a:lnTo>
                          <a:pt x="92" y="122"/>
                        </a:lnTo>
                        <a:lnTo>
                          <a:pt x="123" y="136"/>
                        </a:lnTo>
                        <a:lnTo>
                          <a:pt x="155" y="149"/>
                        </a:lnTo>
                        <a:lnTo>
                          <a:pt x="188" y="159"/>
                        </a:lnTo>
                        <a:lnTo>
                          <a:pt x="218" y="165"/>
                        </a:lnTo>
                        <a:lnTo>
                          <a:pt x="245" y="168"/>
                        </a:lnTo>
                        <a:lnTo>
                          <a:pt x="266" y="165"/>
                        </a:lnTo>
                        <a:lnTo>
                          <a:pt x="281" y="156"/>
                        </a:lnTo>
                        <a:lnTo>
                          <a:pt x="289" y="145"/>
                        </a:lnTo>
                        <a:lnTo>
                          <a:pt x="292" y="131"/>
                        </a:lnTo>
                        <a:lnTo>
                          <a:pt x="289" y="118"/>
                        </a:lnTo>
                        <a:lnTo>
                          <a:pt x="282" y="106"/>
                        </a:lnTo>
                        <a:lnTo>
                          <a:pt x="269" y="98"/>
                        </a:lnTo>
                        <a:lnTo>
                          <a:pt x="253" y="93"/>
                        </a:lnTo>
                        <a:lnTo>
                          <a:pt x="229" y="92"/>
                        </a:lnTo>
                        <a:lnTo>
                          <a:pt x="208" y="89"/>
                        </a:lnTo>
                        <a:lnTo>
                          <a:pt x="189" y="85"/>
                        </a:lnTo>
                        <a:lnTo>
                          <a:pt x="170" y="80"/>
                        </a:lnTo>
                        <a:lnTo>
                          <a:pt x="155" y="76"/>
                        </a:lnTo>
                        <a:lnTo>
                          <a:pt x="139" y="70"/>
                        </a:lnTo>
                        <a:lnTo>
                          <a:pt x="123" y="63"/>
                        </a:lnTo>
                        <a:lnTo>
                          <a:pt x="107" y="57"/>
                        </a:lnTo>
                        <a:close/>
                      </a:path>
                    </a:pathLst>
                  </a:custGeom>
                  <a:solidFill>
                    <a:srgbClr val="cfcf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506"/>
                  <p:cNvSpPr/>
                  <p:nvPr/>
                </p:nvSpPr>
                <p:spPr>
                  <a:xfrm flipH="1">
                    <a:off x="2691360" y="3121920"/>
                    <a:ext cx="16920" cy="8640"/>
                  </a:xfrm>
                  <a:custGeom>
                    <a:avLst/>
                    <a:gdLst>
                      <a:gd name="textAreaLeft" fmla="*/ -360 w 16920"/>
                      <a:gd name="textAreaRight" fmla="*/ 16920 w 16920"/>
                      <a:gd name="textAreaTop" fmla="*/ 0 h 8640"/>
                      <a:gd name="textAreaBottom" fmla="*/ 9000 h 8640"/>
                    </a:gdLst>
                    <a:ahLst/>
                    <a:rect l="textAreaLeft" t="textAreaTop" r="textAreaRight" b="textAreaBottom"/>
                    <a:pathLst>
                      <a:path w="189" h="104">
                        <a:moveTo>
                          <a:pt x="115" y="102"/>
                        </a:moveTo>
                        <a:lnTo>
                          <a:pt x="118" y="100"/>
                        </a:lnTo>
                        <a:lnTo>
                          <a:pt x="128" y="97"/>
                        </a:lnTo>
                        <a:lnTo>
                          <a:pt x="141" y="92"/>
                        </a:lnTo>
                        <a:lnTo>
                          <a:pt x="155" y="84"/>
                        </a:lnTo>
                        <a:lnTo>
                          <a:pt x="169" y="76"/>
                        </a:lnTo>
                        <a:lnTo>
                          <a:pt x="181" y="66"/>
                        </a:lnTo>
                        <a:lnTo>
                          <a:pt x="188" y="54"/>
                        </a:lnTo>
                        <a:lnTo>
                          <a:pt x="189" y="43"/>
                        </a:lnTo>
                        <a:lnTo>
                          <a:pt x="185" y="31"/>
                        </a:lnTo>
                        <a:lnTo>
                          <a:pt x="178" y="21"/>
                        </a:lnTo>
                        <a:lnTo>
                          <a:pt x="168" y="13"/>
                        </a:lnTo>
                        <a:lnTo>
                          <a:pt x="157" y="7"/>
                        </a:lnTo>
                        <a:lnTo>
                          <a:pt x="142" y="3"/>
                        </a:lnTo>
                        <a:lnTo>
                          <a:pt x="128" y="0"/>
                        </a:lnTo>
                        <a:lnTo>
                          <a:pt x="114" y="0"/>
                        </a:lnTo>
                        <a:lnTo>
                          <a:pt x="98" y="1"/>
                        </a:lnTo>
                        <a:lnTo>
                          <a:pt x="81" y="4"/>
                        </a:lnTo>
                        <a:lnTo>
                          <a:pt x="62" y="8"/>
                        </a:lnTo>
                        <a:lnTo>
                          <a:pt x="43" y="13"/>
                        </a:lnTo>
                        <a:lnTo>
                          <a:pt x="25" y="18"/>
                        </a:lnTo>
                        <a:lnTo>
                          <a:pt x="10" y="26"/>
                        </a:lnTo>
                        <a:lnTo>
                          <a:pt x="2" y="34"/>
                        </a:lnTo>
                        <a:lnTo>
                          <a:pt x="0" y="46"/>
                        </a:lnTo>
                        <a:lnTo>
                          <a:pt x="8" y="60"/>
                        </a:lnTo>
                        <a:lnTo>
                          <a:pt x="19" y="74"/>
                        </a:lnTo>
                        <a:lnTo>
                          <a:pt x="32" y="84"/>
                        </a:lnTo>
                        <a:lnTo>
                          <a:pt x="43" y="93"/>
                        </a:lnTo>
                        <a:lnTo>
                          <a:pt x="55" y="99"/>
                        </a:lnTo>
                        <a:lnTo>
                          <a:pt x="68" y="103"/>
                        </a:lnTo>
                        <a:lnTo>
                          <a:pt x="82" y="104"/>
                        </a:lnTo>
                        <a:lnTo>
                          <a:pt x="98" y="103"/>
                        </a:lnTo>
                        <a:lnTo>
                          <a:pt x="115" y="102"/>
                        </a:lnTo>
                        <a:close/>
                      </a:path>
                    </a:pathLst>
                  </a:custGeom>
                  <a:solidFill>
                    <a:srgbClr val="cfcf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507"/>
                  <p:cNvSpPr/>
                  <p:nvPr/>
                </p:nvSpPr>
                <p:spPr>
                  <a:xfrm flipH="1">
                    <a:off x="2694600" y="3056760"/>
                    <a:ext cx="22320" cy="46440"/>
                  </a:xfrm>
                  <a:custGeom>
                    <a:avLst/>
                    <a:gdLst>
                      <a:gd name="textAreaLeft" fmla="*/ 360 w 22320"/>
                      <a:gd name="textAreaRight" fmla="*/ 23040 w 22320"/>
                      <a:gd name="textAreaTop" fmla="*/ 0 h 46440"/>
                      <a:gd name="textAreaBottom" fmla="*/ 46800 h 46440"/>
                    </a:gdLst>
                    <a:ahLst/>
                    <a:rect l="textAreaLeft" t="textAreaTop" r="textAreaRight" b="textAreaBottom"/>
                    <a:pathLst>
                      <a:path w="246" h="548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8" y="5"/>
                        </a:lnTo>
                        <a:lnTo>
                          <a:pt x="17" y="12"/>
                        </a:lnTo>
                        <a:lnTo>
                          <a:pt x="30" y="22"/>
                        </a:lnTo>
                        <a:lnTo>
                          <a:pt x="46" y="35"/>
                        </a:lnTo>
                        <a:lnTo>
                          <a:pt x="63" y="51"/>
                        </a:lnTo>
                        <a:lnTo>
                          <a:pt x="81" y="68"/>
                        </a:lnTo>
                        <a:lnTo>
                          <a:pt x="100" y="87"/>
                        </a:lnTo>
                        <a:lnTo>
                          <a:pt x="122" y="110"/>
                        </a:lnTo>
                        <a:lnTo>
                          <a:pt x="142" y="133"/>
                        </a:lnTo>
                        <a:lnTo>
                          <a:pt x="162" y="157"/>
                        </a:lnTo>
                        <a:lnTo>
                          <a:pt x="180" y="184"/>
                        </a:lnTo>
                        <a:lnTo>
                          <a:pt x="199" y="213"/>
                        </a:lnTo>
                        <a:lnTo>
                          <a:pt x="215" y="242"/>
                        </a:lnTo>
                        <a:lnTo>
                          <a:pt x="228" y="273"/>
                        </a:lnTo>
                        <a:lnTo>
                          <a:pt x="239" y="305"/>
                        </a:lnTo>
                        <a:lnTo>
                          <a:pt x="246" y="343"/>
                        </a:lnTo>
                        <a:lnTo>
                          <a:pt x="246" y="381"/>
                        </a:lnTo>
                        <a:lnTo>
                          <a:pt x="240" y="417"/>
                        </a:lnTo>
                        <a:lnTo>
                          <a:pt x="230" y="450"/>
                        </a:lnTo>
                        <a:lnTo>
                          <a:pt x="219" y="481"/>
                        </a:lnTo>
                        <a:lnTo>
                          <a:pt x="205" y="507"/>
                        </a:lnTo>
                        <a:lnTo>
                          <a:pt x="192" y="528"/>
                        </a:lnTo>
                        <a:lnTo>
                          <a:pt x="182" y="544"/>
                        </a:lnTo>
                        <a:lnTo>
                          <a:pt x="170" y="548"/>
                        </a:lnTo>
                        <a:lnTo>
                          <a:pt x="157" y="538"/>
                        </a:lnTo>
                        <a:lnTo>
                          <a:pt x="144" y="517"/>
                        </a:lnTo>
                        <a:lnTo>
                          <a:pt x="130" y="490"/>
                        </a:lnTo>
                        <a:lnTo>
                          <a:pt x="119" y="458"/>
                        </a:lnTo>
                        <a:lnTo>
                          <a:pt x="109" y="427"/>
                        </a:lnTo>
                        <a:lnTo>
                          <a:pt x="101" y="399"/>
                        </a:lnTo>
                        <a:lnTo>
                          <a:pt x="99" y="379"/>
                        </a:lnTo>
                        <a:lnTo>
                          <a:pt x="100" y="361"/>
                        </a:lnTo>
                        <a:lnTo>
                          <a:pt x="100" y="333"/>
                        </a:lnTo>
                        <a:lnTo>
                          <a:pt x="100" y="299"/>
                        </a:lnTo>
                        <a:lnTo>
                          <a:pt x="96" y="258"/>
                        </a:lnTo>
                        <a:lnTo>
                          <a:pt x="86" y="206"/>
                        </a:lnTo>
                        <a:lnTo>
                          <a:pt x="67" y="147"/>
                        </a:lnTo>
                        <a:lnTo>
                          <a:pt x="40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fcf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61" name="Gruppe 147"/>
            <p:cNvGrpSpPr/>
            <p:nvPr/>
          </p:nvGrpSpPr>
          <p:grpSpPr>
            <a:xfrm>
              <a:off x="2927160" y="3056400"/>
              <a:ext cx="172800" cy="169560"/>
              <a:chOff x="2927160" y="3056400"/>
              <a:chExt cx="172800" cy="169560"/>
            </a:xfrm>
          </p:grpSpPr>
          <p:grpSp>
            <p:nvGrpSpPr>
              <p:cNvPr id="262" name="Gruppe 893"/>
              <p:cNvGrpSpPr/>
              <p:nvPr/>
            </p:nvGrpSpPr>
            <p:grpSpPr>
              <a:xfrm>
                <a:off x="2927160" y="3072240"/>
                <a:ext cx="172800" cy="153720"/>
                <a:chOff x="2927160" y="3072240"/>
                <a:chExt cx="172800" cy="153720"/>
              </a:xfrm>
            </p:grpSpPr>
            <p:sp>
              <p:nvSpPr>
                <p:cNvPr id="263" name="Ellipse 301"/>
                <p:cNvSpPr/>
                <p:nvPr/>
              </p:nvSpPr>
              <p:spPr>
                <a:xfrm flipH="1">
                  <a:off x="2927160" y="3188160"/>
                  <a:ext cx="172800" cy="3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4" name="Gruppe 823"/>
                <p:cNvGrpSpPr/>
                <p:nvPr/>
              </p:nvGrpSpPr>
              <p:grpSpPr>
                <a:xfrm>
                  <a:off x="2957760" y="3072240"/>
                  <a:ext cx="121320" cy="142920"/>
                  <a:chOff x="2957760" y="3072240"/>
                  <a:chExt cx="121320" cy="142920"/>
                </a:xfrm>
              </p:grpSpPr>
              <p:grpSp>
                <p:nvGrpSpPr>
                  <p:cNvPr id="265" name="Gruppe 605"/>
                  <p:cNvGrpSpPr/>
                  <p:nvPr/>
                </p:nvGrpSpPr>
                <p:grpSpPr>
                  <a:xfrm>
                    <a:off x="2957760" y="3081600"/>
                    <a:ext cx="121320" cy="133560"/>
                    <a:chOff x="2957760" y="3081600"/>
                    <a:chExt cx="121320" cy="133560"/>
                  </a:xfrm>
                </p:grpSpPr>
                <p:sp>
                  <p:nvSpPr>
                    <p:cNvPr id="266" name="Freeform 130"/>
                    <p:cNvSpPr/>
                    <p:nvPr/>
                  </p:nvSpPr>
                  <p:spPr>
                    <a:xfrm flipH="1">
                      <a:off x="2957400" y="3081600"/>
                      <a:ext cx="121320" cy="133560"/>
                    </a:xfrm>
                    <a:custGeom>
                      <a:avLst/>
                      <a:gdLst>
                        <a:gd name="textAreaLeft" fmla="*/ -360 w 121320"/>
                        <a:gd name="textAreaRight" fmla="*/ 121320 w 121320"/>
                        <a:gd name="textAreaTop" fmla="*/ 0 h 133560"/>
                        <a:gd name="textAreaBottom" fmla="*/ 133920 h 133560"/>
                      </a:gdLst>
                      <a:ahLst/>
                      <a:rect l="textAreaLeft" t="textAreaTop" r="textAreaRight" b="textAreaBottom"/>
                      <a:pathLst>
                        <a:path w="493" h="1194">
                          <a:moveTo>
                            <a:pt x="208" y="62"/>
                          </a:moveTo>
                          <a:lnTo>
                            <a:pt x="167" y="83"/>
                          </a:lnTo>
                          <a:lnTo>
                            <a:pt x="145" y="87"/>
                          </a:lnTo>
                          <a:lnTo>
                            <a:pt x="125" y="93"/>
                          </a:lnTo>
                          <a:lnTo>
                            <a:pt x="110" y="100"/>
                          </a:lnTo>
                          <a:lnTo>
                            <a:pt x="99" y="110"/>
                          </a:lnTo>
                          <a:lnTo>
                            <a:pt x="92" y="124"/>
                          </a:lnTo>
                          <a:lnTo>
                            <a:pt x="90" y="141"/>
                          </a:lnTo>
                          <a:lnTo>
                            <a:pt x="93" y="162"/>
                          </a:lnTo>
                          <a:lnTo>
                            <a:pt x="104" y="187"/>
                          </a:lnTo>
                          <a:lnTo>
                            <a:pt x="158" y="242"/>
                          </a:lnTo>
                          <a:lnTo>
                            <a:pt x="158" y="272"/>
                          </a:lnTo>
                          <a:lnTo>
                            <a:pt x="140" y="282"/>
                          </a:lnTo>
                          <a:lnTo>
                            <a:pt x="135" y="302"/>
                          </a:lnTo>
                          <a:lnTo>
                            <a:pt x="138" y="326"/>
                          </a:lnTo>
                          <a:lnTo>
                            <a:pt x="147" y="346"/>
                          </a:lnTo>
                          <a:lnTo>
                            <a:pt x="104" y="360"/>
                          </a:lnTo>
                          <a:lnTo>
                            <a:pt x="89" y="375"/>
                          </a:lnTo>
                          <a:lnTo>
                            <a:pt x="77" y="389"/>
                          </a:lnTo>
                          <a:lnTo>
                            <a:pt x="71" y="402"/>
                          </a:lnTo>
                          <a:lnTo>
                            <a:pt x="70" y="414"/>
                          </a:lnTo>
                          <a:lnTo>
                            <a:pt x="74" y="426"/>
                          </a:lnTo>
                          <a:lnTo>
                            <a:pt x="82" y="437"/>
                          </a:lnTo>
                          <a:lnTo>
                            <a:pt x="94" y="449"/>
                          </a:lnTo>
                          <a:lnTo>
                            <a:pt x="113" y="459"/>
                          </a:lnTo>
                          <a:lnTo>
                            <a:pt x="173" y="480"/>
                          </a:lnTo>
                          <a:lnTo>
                            <a:pt x="168" y="522"/>
                          </a:lnTo>
                          <a:lnTo>
                            <a:pt x="162" y="562"/>
                          </a:lnTo>
                          <a:lnTo>
                            <a:pt x="156" y="601"/>
                          </a:lnTo>
                          <a:lnTo>
                            <a:pt x="150" y="638"/>
                          </a:lnTo>
                          <a:lnTo>
                            <a:pt x="140" y="676"/>
                          </a:lnTo>
                          <a:lnTo>
                            <a:pt x="129" y="713"/>
                          </a:lnTo>
                          <a:lnTo>
                            <a:pt x="115" y="750"/>
                          </a:lnTo>
                          <a:lnTo>
                            <a:pt x="98" y="789"/>
                          </a:lnTo>
                          <a:lnTo>
                            <a:pt x="83" y="796"/>
                          </a:lnTo>
                          <a:lnTo>
                            <a:pt x="70" y="804"/>
                          </a:lnTo>
                          <a:lnTo>
                            <a:pt x="61" y="814"/>
                          </a:lnTo>
                          <a:lnTo>
                            <a:pt x="55" y="823"/>
                          </a:lnTo>
                          <a:lnTo>
                            <a:pt x="53" y="835"/>
                          </a:lnTo>
                          <a:lnTo>
                            <a:pt x="55" y="845"/>
                          </a:lnTo>
                          <a:lnTo>
                            <a:pt x="62" y="857"/>
                          </a:lnTo>
                          <a:lnTo>
                            <a:pt x="75" y="868"/>
                          </a:lnTo>
                          <a:lnTo>
                            <a:pt x="78" y="889"/>
                          </a:lnTo>
                          <a:lnTo>
                            <a:pt x="53" y="896"/>
                          </a:lnTo>
                          <a:lnTo>
                            <a:pt x="34" y="905"/>
                          </a:lnTo>
                          <a:lnTo>
                            <a:pt x="21" y="916"/>
                          </a:lnTo>
                          <a:lnTo>
                            <a:pt x="13" y="928"/>
                          </a:lnTo>
                          <a:lnTo>
                            <a:pt x="8" y="942"/>
                          </a:lnTo>
                          <a:lnTo>
                            <a:pt x="8" y="959"/>
                          </a:lnTo>
                          <a:lnTo>
                            <a:pt x="10" y="978"/>
                          </a:lnTo>
                          <a:lnTo>
                            <a:pt x="15" y="999"/>
                          </a:lnTo>
                          <a:lnTo>
                            <a:pt x="19" y="1032"/>
                          </a:lnTo>
                          <a:lnTo>
                            <a:pt x="0" y="1057"/>
                          </a:lnTo>
                          <a:lnTo>
                            <a:pt x="0" y="1121"/>
                          </a:lnTo>
                          <a:lnTo>
                            <a:pt x="18" y="1137"/>
                          </a:lnTo>
                          <a:lnTo>
                            <a:pt x="41" y="1151"/>
                          </a:lnTo>
                          <a:lnTo>
                            <a:pt x="69" y="1163"/>
                          </a:lnTo>
                          <a:lnTo>
                            <a:pt x="101" y="1174"/>
                          </a:lnTo>
                          <a:lnTo>
                            <a:pt x="135" y="1182"/>
                          </a:lnTo>
                          <a:lnTo>
                            <a:pt x="171" y="1189"/>
                          </a:lnTo>
                          <a:lnTo>
                            <a:pt x="208" y="1192"/>
                          </a:lnTo>
                          <a:lnTo>
                            <a:pt x="246" y="1194"/>
                          </a:lnTo>
                          <a:lnTo>
                            <a:pt x="285" y="1193"/>
                          </a:lnTo>
                          <a:lnTo>
                            <a:pt x="322" y="1190"/>
                          </a:lnTo>
                          <a:lnTo>
                            <a:pt x="359" y="1184"/>
                          </a:lnTo>
                          <a:lnTo>
                            <a:pt x="393" y="1175"/>
                          </a:lnTo>
                          <a:lnTo>
                            <a:pt x="424" y="1162"/>
                          </a:lnTo>
                          <a:lnTo>
                            <a:pt x="451" y="1147"/>
                          </a:lnTo>
                          <a:lnTo>
                            <a:pt x="474" y="1129"/>
                          </a:lnTo>
                          <a:lnTo>
                            <a:pt x="493" y="1107"/>
                          </a:lnTo>
                          <a:lnTo>
                            <a:pt x="493" y="1069"/>
                          </a:lnTo>
                          <a:lnTo>
                            <a:pt x="484" y="1032"/>
                          </a:lnTo>
                          <a:lnTo>
                            <a:pt x="487" y="1005"/>
                          </a:lnTo>
                          <a:lnTo>
                            <a:pt x="489" y="984"/>
                          </a:lnTo>
                          <a:lnTo>
                            <a:pt x="489" y="965"/>
                          </a:lnTo>
                          <a:lnTo>
                            <a:pt x="486" y="950"/>
                          </a:lnTo>
                          <a:lnTo>
                            <a:pt x="480" y="936"/>
                          </a:lnTo>
                          <a:lnTo>
                            <a:pt x="470" y="921"/>
                          </a:lnTo>
                          <a:lnTo>
                            <a:pt x="454" y="906"/>
                          </a:lnTo>
                          <a:lnTo>
                            <a:pt x="433" y="888"/>
                          </a:lnTo>
                          <a:lnTo>
                            <a:pt x="441" y="870"/>
                          </a:lnTo>
                          <a:lnTo>
                            <a:pt x="446" y="855"/>
                          </a:lnTo>
                          <a:lnTo>
                            <a:pt x="449" y="842"/>
                          </a:lnTo>
                          <a:lnTo>
                            <a:pt x="449" y="832"/>
                          </a:lnTo>
                          <a:lnTo>
                            <a:pt x="444" y="823"/>
                          </a:lnTo>
                          <a:lnTo>
                            <a:pt x="438" y="814"/>
                          </a:lnTo>
                          <a:lnTo>
                            <a:pt x="425" y="805"/>
                          </a:lnTo>
                          <a:lnTo>
                            <a:pt x="409" y="793"/>
                          </a:lnTo>
                          <a:lnTo>
                            <a:pt x="389" y="751"/>
                          </a:lnTo>
                          <a:lnTo>
                            <a:pt x="373" y="713"/>
                          </a:lnTo>
                          <a:lnTo>
                            <a:pt x="362" y="677"/>
                          </a:lnTo>
                          <a:lnTo>
                            <a:pt x="355" y="644"/>
                          </a:lnTo>
                          <a:lnTo>
                            <a:pt x="349" y="609"/>
                          </a:lnTo>
                          <a:lnTo>
                            <a:pt x="345" y="572"/>
                          </a:lnTo>
                          <a:lnTo>
                            <a:pt x="344" y="531"/>
                          </a:lnTo>
                          <a:lnTo>
                            <a:pt x="344" y="485"/>
                          </a:lnTo>
                          <a:lnTo>
                            <a:pt x="379" y="471"/>
                          </a:lnTo>
                          <a:lnTo>
                            <a:pt x="404" y="455"/>
                          </a:lnTo>
                          <a:lnTo>
                            <a:pt x="417" y="446"/>
                          </a:lnTo>
                          <a:lnTo>
                            <a:pt x="426" y="435"/>
                          </a:lnTo>
                          <a:lnTo>
                            <a:pt x="433" y="423"/>
                          </a:lnTo>
                          <a:lnTo>
                            <a:pt x="436" y="411"/>
                          </a:lnTo>
                          <a:lnTo>
                            <a:pt x="434" y="398"/>
                          </a:lnTo>
                          <a:lnTo>
                            <a:pt x="427" y="386"/>
                          </a:lnTo>
                          <a:lnTo>
                            <a:pt x="414" y="374"/>
                          </a:lnTo>
                          <a:lnTo>
                            <a:pt x="394" y="364"/>
                          </a:lnTo>
                          <a:lnTo>
                            <a:pt x="368" y="356"/>
                          </a:lnTo>
                          <a:lnTo>
                            <a:pt x="379" y="343"/>
                          </a:lnTo>
                          <a:lnTo>
                            <a:pt x="386" y="330"/>
                          </a:lnTo>
                          <a:lnTo>
                            <a:pt x="390" y="318"/>
                          </a:lnTo>
                          <a:lnTo>
                            <a:pt x="393" y="306"/>
                          </a:lnTo>
                          <a:lnTo>
                            <a:pt x="390" y="295"/>
                          </a:lnTo>
                          <a:lnTo>
                            <a:pt x="386" y="283"/>
                          </a:lnTo>
                          <a:lnTo>
                            <a:pt x="376" y="273"/>
                          </a:lnTo>
                          <a:lnTo>
                            <a:pt x="364" y="261"/>
                          </a:lnTo>
                          <a:lnTo>
                            <a:pt x="389" y="227"/>
                          </a:lnTo>
                          <a:lnTo>
                            <a:pt x="409" y="192"/>
                          </a:lnTo>
                          <a:lnTo>
                            <a:pt x="420" y="170"/>
                          </a:lnTo>
                          <a:lnTo>
                            <a:pt x="428" y="153"/>
                          </a:lnTo>
                          <a:lnTo>
                            <a:pt x="432" y="139"/>
                          </a:lnTo>
                          <a:lnTo>
                            <a:pt x="432" y="128"/>
                          </a:lnTo>
                          <a:lnTo>
                            <a:pt x="426" y="118"/>
                          </a:lnTo>
                          <a:lnTo>
                            <a:pt x="416" y="110"/>
                          </a:lnTo>
                          <a:lnTo>
                            <a:pt x="400" y="102"/>
                          </a:lnTo>
                          <a:lnTo>
                            <a:pt x="378" y="92"/>
                          </a:lnTo>
                          <a:lnTo>
                            <a:pt x="349" y="77"/>
                          </a:lnTo>
                          <a:lnTo>
                            <a:pt x="320" y="68"/>
                          </a:lnTo>
                          <a:lnTo>
                            <a:pt x="322" y="54"/>
                          </a:lnTo>
                          <a:lnTo>
                            <a:pt x="322" y="42"/>
                          </a:lnTo>
                          <a:lnTo>
                            <a:pt x="320" y="32"/>
                          </a:lnTo>
                          <a:lnTo>
                            <a:pt x="315" y="23"/>
                          </a:lnTo>
                          <a:lnTo>
                            <a:pt x="309" y="16"/>
                          </a:lnTo>
                          <a:lnTo>
                            <a:pt x="300" y="10"/>
                          </a:lnTo>
                          <a:lnTo>
                            <a:pt x="291" y="5"/>
                          </a:lnTo>
                          <a:lnTo>
                            <a:pt x="281" y="2"/>
                          </a:lnTo>
                          <a:lnTo>
                            <a:pt x="268" y="0"/>
                          </a:lnTo>
                          <a:lnTo>
                            <a:pt x="256" y="1"/>
                          </a:lnTo>
                          <a:lnTo>
                            <a:pt x="243" y="3"/>
                          </a:lnTo>
                          <a:lnTo>
                            <a:pt x="233" y="8"/>
                          </a:lnTo>
                          <a:lnTo>
                            <a:pt x="222" y="16"/>
                          </a:lnTo>
                          <a:lnTo>
                            <a:pt x="215" y="27"/>
                          </a:lnTo>
                          <a:lnTo>
                            <a:pt x="211" y="42"/>
                          </a:lnTo>
                          <a:lnTo>
                            <a:pt x="208" y="62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acacac"/>
                        </a:gs>
                        <a:gs pos="100000">
                          <a:srgbClr val="e6e6e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Freeform 131"/>
                    <p:cNvSpPr/>
                    <p:nvPr/>
                  </p:nvSpPr>
                  <p:spPr>
                    <a:xfrm flipH="1">
                      <a:off x="2991600" y="3089520"/>
                      <a:ext cx="44640" cy="6120"/>
                    </a:xfrm>
                    <a:custGeom>
                      <a:avLst/>
                      <a:gdLst>
                        <a:gd name="textAreaLeft" fmla="*/ 360 w 44640"/>
                        <a:gd name="textAreaRight" fmla="*/ 45360 w 4464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185" h="58">
                          <a:moveTo>
                            <a:pt x="13" y="8"/>
                          </a:moveTo>
                          <a:lnTo>
                            <a:pt x="0" y="22"/>
                          </a:lnTo>
                          <a:lnTo>
                            <a:pt x="8" y="43"/>
                          </a:lnTo>
                          <a:lnTo>
                            <a:pt x="28" y="49"/>
                          </a:lnTo>
                          <a:lnTo>
                            <a:pt x="53" y="54"/>
                          </a:lnTo>
                          <a:lnTo>
                            <a:pt x="81" y="58"/>
                          </a:lnTo>
                          <a:lnTo>
                            <a:pt x="108" y="56"/>
                          </a:lnTo>
                          <a:lnTo>
                            <a:pt x="135" y="53"/>
                          </a:lnTo>
                          <a:lnTo>
                            <a:pt x="159" y="46"/>
                          </a:lnTo>
                          <a:lnTo>
                            <a:pt x="176" y="33"/>
                          </a:lnTo>
                          <a:lnTo>
                            <a:pt x="185" y="16"/>
                          </a:lnTo>
                          <a:lnTo>
                            <a:pt x="160" y="6"/>
                          </a:lnTo>
                          <a:lnTo>
                            <a:pt x="144" y="0"/>
                          </a:lnTo>
                          <a:lnTo>
                            <a:pt x="139" y="15"/>
                          </a:lnTo>
                          <a:lnTo>
                            <a:pt x="127" y="24"/>
                          </a:lnTo>
                          <a:lnTo>
                            <a:pt x="109" y="29"/>
                          </a:lnTo>
                          <a:lnTo>
                            <a:pt x="89" y="29"/>
                          </a:lnTo>
                          <a:lnTo>
                            <a:pt x="68" y="25"/>
                          </a:lnTo>
                          <a:lnTo>
                            <a:pt x="51" y="20"/>
                          </a:lnTo>
                          <a:lnTo>
                            <a:pt x="38" y="11"/>
                          </a:lnTo>
                          <a:lnTo>
                            <a:pt x="33" y="1"/>
                          </a:lnTo>
                          <a:lnTo>
                            <a:pt x="13" y="8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132"/>
                    <p:cNvSpPr/>
                    <p:nvPr/>
                  </p:nvSpPr>
                  <p:spPr>
                    <a:xfrm flipH="1">
                      <a:off x="2973240" y="3092400"/>
                      <a:ext cx="79920" cy="11160"/>
                    </a:xfrm>
                    <a:custGeom>
                      <a:avLst/>
                      <a:gdLst>
                        <a:gd name="textAreaLeft" fmla="*/ 360 w 79920"/>
                        <a:gd name="textAreaRight" fmla="*/ 80640 w 7992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329" h="102">
                          <a:moveTo>
                            <a:pt x="32" y="10"/>
                          </a:moveTo>
                          <a:lnTo>
                            <a:pt x="1" y="26"/>
                          </a:lnTo>
                          <a:lnTo>
                            <a:pt x="0" y="43"/>
                          </a:lnTo>
                          <a:lnTo>
                            <a:pt x="3" y="60"/>
                          </a:lnTo>
                          <a:lnTo>
                            <a:pt x="14" y="71"/>
                          </a:lnTo>
                          <a:lnTo>
                            <a:pt x="27" y="81"/>
                          </a:lnTo>
                          <a:lnTo>
                            <a:pt x="46" y="90"/>
                          </a:lnTo>
                          <a:lnTo>
                            <a:pt x="67" y="95"/>
                          </a:lnTo>
                          <a:lnTo>
                            <a:pt x="91" y="100"/>
                          </a:lnTo>
                          <a:lnTo>
                            <a:pt x="117" y="102"/>
                          </a:lnTo>
                          <a:lnTo>
                            <a:pt x="144" y="102"/>
                          </a:lnTo>
                          <a:lnTo>
                            <a:pt x="171" y="102"/>
                          </a:lnTo>
                          <a:lnTo>
                            <a:pt x="199" y="100"/>
                          </a:lnTo>
                          <a:lnTo>
                            <a:pt x="225" y="98"/>
                          </a:lnTo>
                          <a:lnTo>
                            <a:pt x="251" y="94"/>
                          </a:lnTo>
                          <a:lnTo>
                            <a:pt x="273" y="90"/>
                          </a:lnTo>
                          <a:lnTo>
                            <a:pt x="292" y="85"/>
                          </a:lnTo>
                          <a:lnTo>
                            <a:pt x="308" y="79"/>
                          </a:lnTo>
                          <a:lnTo>
                            <a:pt x="319" y="71"/>
                          </a:lnTo>
                          <a:lnTo>
                            <a:pt x="326" y="61"/>
                          </a:lnTo>
                          <a:lnTo>
                            <a:pt x="329" y="50"/>
                          </a:lnTo>
                          <a:lnTo>
                            <a:pt x="329" y="39"/>
                          </a:lnTo>
                          <a:lnTo>
                            <a:pt x="325" y="28"/>
                          </a:lnTo>
                          <a:lnTo>
                            <a:pt x="316" y="18"/>
                          </a:lnTo>
                          <a:lnTo>
                            <a:pt x="303" y="8"/>
                          </a:lnTo>
                          <a:lnTo>
                            <a:pt x="285" y="0"/>
                          </a:lnTo>
                          <a:lnTo>
                            <a:pt x="269" y="18"/>
                          </a:lnTo>
                          <a:lnTo>
                            <a:pt x="252" y="31"/>
                          </a:lnTo>
                          <a:lnTo>
                            <a:pt x="234" y="39"/>
                          </a:lnTo>
                          <a:lnTo>
                            <a:pt x="215" y="43"/>
                          </a:lnTo>
                          <a:lnTo>
                            <a:pt x="194" y="45"/>
                          </a:lnTo>
                          <a:lnTo>
                            <a:pt x="173" y="43"/>
                          </a:lnTo>
                          <a:lnTo>
                            <a:pt x="148" y="41"/>
                          </a:lnTo>
                          <a:lnTo>
                            <a:pt x="122" y="40"/>
                          </a:lnTo>
                          <a:lnTo>
                            <a:pt x="67" y="30"/>
                          </a:lnTo>
                          <a:lnTo>
                            <a:pt x="49" y="3"/>
                          </a:lnTo>
                          <a:lnTo>
                            <a:pt x="32" y="10"/>
                          </a:lnTo>
                          <a:close/>
                        </a:path>
                      </a:pathLst>
                    </a:custGeom>
                    <a:solidFill>
                      <a:srgbClr val="cfcfc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Freeform 133"/>
                    <p:cNvSpPr/>
                    <p:nvPr/>
                  </p:nvSpPr>
                  <p:spPr>
                    <a:xfrm flipH="1">
                      <a:off x="2991600" y="3113280"/>
                      <a:ext cx="47520" cy="7920"/>
                    </a:xfrm>
                    <a:custGeom>
                      <a:avLst/>
                      <a:gdLst>
                        <a:gd name="textAreaLeft" fmla="*/ 360 w 47520"/>
                        <a:gd name="textAreaRight" fmla="*/ 48240 w 475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204" h="37">
                          <a:moveTo>
                            <a:pt x="12" y="0"/>
                          </a:moveTo>
                          <a:lnTo>
                            <a:pt x="24" y="6"/>
                          </a:lnTo>
                          <a:lnTo>
                            <a:pt x="35" y="12"/>
                          </a:lnTo>
                          <a:lnTo>
                            <a:pt x="47" y="15"/>
                          </a:lnTo>
                          <a:lnTo>
                            <a:pt x="58" y="17"/>
                          </a:lnTo>
                          <a:lnTo>
                            <a:pt x="70" y="20"/>
                          </a:lnTo>
                          <a:lnTo>
                            <a:pt x="82" y="21"/>
                          </a:lnTo>
                          <a:lnTo>
                            <a:pt x="94" y="22"/>
                          </a:lnTo>
                          <a:lnTo>
                            <a:pt x="106" y="21"/>
                          </a:lnTo>
                          <a:lnTo>
                            <a:pt x="119" y="20"/>
                          </a:lnTo>
                          <a:lnTo>
                            <a:pt x="131" y="19"/>
                          </a:lnTo>
                          <a:lnTo>
                            <a:pt x="143" y="16"/>
                          </a:lnTo>
                          <a:lnTo>
                            <a:pt x="156" y="14"/>
                          </a:lnTo>
                          <a:lnTo>
                            <a:pt x="167" y="12"/>
                          </a:lnTo>
                          <a:lnTo>
                            <a:pt x="180" y="8"/>
                          </a:lnTo>
                          <a:lnTo>
                            <a:pt x="192" y="6"/>
                          </a:lnTo>
                          <a:lnTo>
                            <a:pt x="204" y="2"/>
                          </a:lnTo>
                          <a:lnTo>
                            <a:pt x="204" y="14"/>
                          </a:lnTo>
                          <a:lnTo>
                            <a:pt x="196" y="17"/>
                          </a:lnTo>
                          <a:lnTo>
                            <a:pt x="188" y="21"/>
                          </a:lnTo>
                          <a:lnTo>
                            <a:pt x="178" y="24"/>
                          </a:lnTo>
                          <a:lnTo>
                            <a:pt x="167" y="27"/>
                          </a:lnTo>
                          <a:lnTo>
                            <a:pt x="155" y="30"/>
                          </a:lnTo>
                          <a:lnTo>
                            <a:pt x="143" y="32"/>
                          </a:lnTo>
                          <a:lnTo>
                            <a:pt x="129" y="35"/>
                          </a:lnTo>
                          <a:lnTo>
                            <a:pt x="117" y="37"/>
                          </a:lnTo>
                          <a:lnTo>
                            <a:pt x="102" y="37"/>
                          </a:lnTo>
                          <a:lnTo>
                            <a:pt x="88" y="37"/>
                          </a:lnTo>
                          <a:lnTo>
                            <a:pt x="73" y="36"/>
                          </a:lnTo>
                          <a:lnTo>
                            <a:pt x="58" y="34"/>
                          </a:lnTo>
                          <a:lnTo>
                            <a:pt x="44" y="29"/>
                          </a:lnTo>
                          <a:lnTo>
                            <a:pt x="29" y="24"/>
                          </a:lnTo>
                          <a:lnTo>
                            <a:pt x="14" y="17"/>
                          </a:lnTo>
                          <a:lnTo>
                            <a:pt x="0" y="8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cfcfc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Freeform 135"/>
                    <p:cNvSpPr/>
                    <p:nvPr/>
                  </p:nvSpPr>
                  <p:spPr>
                    <a:xfrm flipH="1">
                      <a:off x="2972880" y="3121200"/>
                      <a:ext cx="87480" cy="11160"/>
                    </a:xfrm>
                    <a:custGeom>
                      <a:avLst/>
                      <a:gdLst>
                        <a:gd name="textAreaLeft" fmla="*/ -360 w 87480"/>
                        <a:gd name="textAreaRight" fmla="*/ 87480 w 8748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351" h="100">
                          <a:moveTo>
                            <a:pt x="40" y="0"/>
                          </a:moveTo>
                          <a:lnTo>
                            <a:pt x="19" y="9"/>
                          </a:lnTo>
                          <a:lnTo>
                            <a:pt x="6" y="20"/>
                          </a:lnTo>
                          <a:lnTo>
                            <a:pt x="0" y="30"/>
                          </a:lnTo>
                          <a:lnTo>
                            <a:pt x="0" y="42"/>
                          </a:lnTo>
                          <a:lnTo>
                            <a:pt x="7" y="53"/>
                          </a:lnTo>
                          <a:lnTo>
                            <a:pt x="17" y="65"/>
                          </a:lnTo>
                          <a:lnTo>
                            <a:pt x="32" y="75"/>
                          </a:lnTo>
                          <a:lnTo>
                            <a:pt x="50" y="85"/>
                          </a:lnTo>
                          <a:lnTo>
                            <a:pt x="66" y="89"/>
                          </a:lnTo>
                          <a:lnTo>
                            <a:pt x="82" y="92"/>
                          </a:lnTo>
                          <a:lnTo>
                            <a:pt x="97" y="95"/>
                          </a:lnTo>
                          <a:lnTo>
                            <a:pt x="113" y="96"/>
                          </a:lnTo>
                          <a:lnTo>
                            <a:pt x="128" y="98"/>
                          </a:lnTo>
                          <a:lnTo>
                            <a:pt x="144" y="99"/>
                          </a:lnTo>
                          <a:lnTo>
                            <a:pt x="159" y="99"/>
                          </a:lnTo>
                          <a:lnTo>
                            <a:pt x="174" y="100"/>
                          </a:lnTo>
                          <a:lnTo>
                            <a:pt x="189" y="100"/>
                          </a:lnTo>
                          <a:lnTo>
                            <a:pt x="205" y="100"/>
                          </a:lnTo>
                          <a:lnTo>
                            <a:pt x="220" y="99"/>
                          </a:lnTo>
                          <a:lnTo>
                            <a:pt x="236" y="99"/>
                          </a:lnTo>
                          <a:lnTo>
                            <a:pt x="251" y="98"/>
                          </a:lnTo>
                          <a:lnTo>
                            <a:pt x="267" y="97"/>
                          </a:lnTo>
                          <a:lnTo>
                            <a:pt x="284" y="95"/>
                          </a:lnTo>
                          <a:lnTo>
                            <a:pt x="300" y="94"/>
                          </a:lnTo>
                          <a:lnTo>
                            <a:pt x="323" y="81"/>
                          </a:lnTo>
                          <a:lnTo>
                            <a:pt x="339" y="68"/>
                          </a:lnTo>
                          <a:lnTo>
                            <a:pt x="349" y="56"/>
                          </a:lnTo>
                          <a:lnTo>
                            <a:pt x="351" y="43"/>
                          </a:lnTo>
                          <a:lnTo>
                            <a:pt x="348" y="31"/>
                          </a:lnTo>
                          <a:lnTo>
                            <a:pt x="338" y="21"/>
                          </a:lnTo>
                          <a:lnTo>
                            <a:pt x="320" y="12"/>
                          </a:lnTo>
                          <a:lnTo>
                            <a:pt x="296" y="5"/>
                          </a:lnTo>
                          <a:lnTo>
                            <a:pt x="298" y="15"/>
                          </a:lnTo>
                          <a:lnTo>
                            <a:pt x="294" y="23"/>
                          </a:lnTo>
                          <a:lnTo>
                            <a:pt x="284" y="30"/>
                          </a:lnTo>
                          <a:lnTo>
                            <a:pt x="272" y="37"/>
                          </a:lnTo>
                          <a:lnTo>
                            <a:pt x="258" y="38"/>
                          </a:lnTo>
                          <a:lnTo>
                            <a:pt x="245" y="39"/>
                          </a:lnTo>
                          <a:lnTo>
                            <a:pt x="234" y="41"/>
                          </a:lnTo>
                          <a:lnTo>
                            <a:pt x="222" y="42"/>
                          </a:lnTo>
                          <a:lnTo>
                            <a:pt x="211" y="43"/>
                          </a:lnTo>
                          <a:lnTo>
                            <a:pt x="199" y="43"/>
                          </a:lnTo>
                          <a:lnTo>
                            <a:pt x="188" y="44"/>
                          </a:lnTo>
                          <a:lnTo>
                            <a:pt x="178" y="44"/>
                          </a:lnTo>
                          <a:lnTo>
                            <a:pt x="166" y="44"/>
                          </a:lnTo>
                          <a:lnTo>
                            <a:pt x="155" y="44"/>
                          </a:lnTo>
                          <a:lnTo>
                            <a:pt x="143" y="44"/>
                          </a:lnTo>
                          <a:lnTo>
                            <a:pt x="133" y="43"/>
                          </a:lnTo>
                          <a:lnTo>
                            <a:pt x="120" y="42"/>
                          </a:lnTo>
                          <a:lnTo>
                            <a:pt x="108" y="41"/>
                          </a:lnTo>
                          <a:lnTo>
                            <a:pt x="96" y="39"/>
                          </a:lnTo>
                          <a:lnTo>
                            <a:pt x="82" y="37"/>
                          </a:lnTo>
                          <a:lnTo>
                            <a:pt x="73" y="32"/>
                          </a:lnTo>
                          <a:lnTo>
                            <a:pt x="65" y="28"/>
                          </a:lnTo>
                          <a:lnTo>
                            <a:pt x="58" y="23"/>
                          </a:lnTo>
                          <a:lnTo>
                            <a:pt x="52" y="19"/>
                          </a:lnTo>
                          <a:lnTo>
                            <a:pt x="47" y="14"/>
                          </a:lnTo>
                          <a:lnTo>
                            <a:pt x="44" y="11"/>
                          </a:lnTo>
                          <a:lnTo>
                            <a:pt x="42" y="5"/>
                          </a:lnTo>
                          <a:lnTo>
                            <a:pt x="40" y="0"/>
                          </a:lnTo>
                          <a:close/>
                        </a:path>
                      </a:pathLst>
                    </a:custGeom>
                    <a:solidFill>
                      <a:srgbClr val="cfcfc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147"/>
                    <p:cNvSpPr/>
                    <p:nvPr/>
                  </p:nvSpPr>
                  <p:spPr>
                    <a:xfrm flipH="1">
                      <a:off x="2968200" y="3172320"/>
                      <a:ext cx="95400" cy="11160"/>
                    </a:xfrm>
                    <a:custGeom>
                      <a:avLst/>
                      <a:gdLst>
                        <a:gd name="textAreaLeft" fmla="*/ -360 w 95400"/>
                        <a:gd name="textAreaRight" fmla="*/ 95400 w 9540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382" h="96">
                          <a:moveTo>
                            <a:pt x="24" y="4"/>
                          </a:moveTo>
                          <a:lnTo>
                            <a:pt x="68" y="40"/>
                          </a:lnTo>
                          <a:lnTo>
                            <a:pt x="89" y="44"/>
                          </a:lnTo>
                          <a:lnTo>
                            <a:pt x="108" y="48"/>
                          </a:lnTo>
                          <a:lnTo>
                            <a:pt x="127" y="53"/>
                          </a:lnTo>
                          <a:lnTo>
                            <a:pt x="144" y="55"/>
                          </a:lnTo>
                          <a:lnTo>
                            <a:pt x="160" y="57"/>
                          </a:lnTo>
                          <a:lnTo>
                            <a:pt x="176" y="59"/>
                          </a:lnTo>
                          <a:lnTo>
                            <a:pt x="192" y="59"/>
                          </a:lnTo>
                          <a:lnTo>
                            <a:pt x="207" y="59"/>
                          </a:lnTo>
                          <a:lnTo>
                            <a:pt x="222" y="58"/>
                          </a:lnTo>
                          <a:lnTo>
                            <a:pt x="237" y="57"/>
                          </a:lnTo>
                          <a:lnTo>
                            <a:pt x="253" y="54"/>
                          </a:lnTo>
                          <a:lnTo>
                            <a:pt x="270" y="50"/>
                          </a:lnTo>
                          <a:lnTo>
                            <a:pt x="286" y="46"/>
                          </a:lnTo>
                          <a:lnTo>
                            <a:pt x="304" y="39"/>
                          </a:lnTo>
                          <a:lnTo>
                            <a:pt x="323" y="32"/>
                          </a:lnTo>
                          <a:lnTo>
                            <a:pt x="342" y="23"/>
                          </a:lnTo>
                          <a:lnTo>
                            <a:pt x="348" y="10"/>
                          </a:lnTo>
                          <a:lnTo>
                            <a:pt x="352" y="3"/>
                          </a:lnTo>
                          <a:lnTo>
                            <a:pt x="356" y="0"/>
                          </a:lnTo>
                          <a:lnTo>
                            <a:pt x="359" y="1"/>
                          </a:lnTo>
                          <a:lnTo>
                            <a:pt x="363" y="4"/>
                          </a:lnTo>
                          <a:lnTo>
                            <a:pt x="367" y="11"/>
                          </a:lnTo>
                          <a:lnTo>
                            <a:pt x="374" y="20"/>
                          </a:lnTo>
                          <a:lnTo>
                            <a:pt x="382" y="32"/>
                          </a:lnTo>
                          <a:lnTo>
                            <a:pt x="366" y="55"/>
                          </a:lnTo>
                          <a:lnTo>
                            <a:pt x="349" y="65"/>
                          </a:lnTo>
                          <a:lnTo>
                            <a:pt x="329" y="73"/>
                          </a:lnTo>
                          <a:lnTo>
                            <a:pt x="310" y="80"/>
                          </a:lnTo>
                          <a:lnTo>
                            <a:pt x="288" y="86"/>
                          </a:lnTo>
                          <a:lnTo>
                            <a:pt x="266" y="91"/>
                          </a:lnTo>
                          <a:lnTo>
                            <a:pt x="243" y="94"/>
                          </a:lnTo>
                          <a:lnTo>
                            <a:pt x="219" y="96"/>
                          </a:lnTo>
                          <a:lnTo>
                            <a:pt x="196" y="96"/>
                          </a:lnTo>
                          <a:lnTo>
                            <a:pt x="172" y="96"/>
                          </a:lnTo>
                          <a:lnTo>
                            <a:pt x="147" y="95"/>
                          </a:lnTo>
                          <a:lnTo>
                            <a:pt x="124" y="92"/>
                          </a:lnTo>
                          <a:lnTo>
                            <a:pt x="101" y="88"/>
                          </a:lnTo>
                          <a:lnTo>
                            <a:pt x="78" y="84"/>
                          </a:lnTo>
                          <a:lnTo>
                            <a:pt x="58" y="79"/>
                          </a:lnTo>
                          <a:lnTo>
                            <a:pt x="37" y="72"/>
                          </a:lnTo>
                          <a:lnTo>
                            <a:pt x="18" y="65"/>
                          </a:lnTo>
                          <a:lnTo>
                            <a:pt x="12" y="56"/>
                          </a:lnTo>
                          <a:lnTo>
                            <a:pt x="6" y="47"/>
                          </a:lnTo>
                          <a:lnTo>
                            <a:pt x="2" y="38"/>
                          </a:lnTo>
                          <a:lnTo>
                            <a:pt x="0" y="28"/>
                          </a:lnTo>
                          <a:lnTo>
                            <a:pt x="0" y="20"/>
                          </a:lnTo>
                          <a:lnTo>
                            <a:pt x="5" y="13"/>
                          </a:lnTo>
                          <a:lnTo>
                            <a:pt x="12" y="8"/>
                          </a:lnTo>
                          <a:lnTo>
                            <a:pt x="24" y="4"/>
                          </a:lnTo>
                          <a:close/>
                        </a:path>
                      </a:pathLst>
                    </a:custGeom>
                    <a:solidFill>
                      <a:srgbClr val="cfcfc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Freeform 148"/>
                    <p:cNvSpPr/>
                    <p:nvPr/>
                  </p:nvSpPr>
                  <p:spPr>
                    <a:xfrm flipH="1">
                      <a:off x="2957400" y="3183480"/>
                      <a:ext cx="121320" cy="17280"/>
                    </a:xfrm>
                    <a:custGeom>
                      <a:avLst/>
                      <a:gdLst>
                        <a:gd name="textAreaLeft" fmla="*/ -360 w 121320"/>
                        <a:gd name="textAreaRight" fmla="*/ 121320 w 121320"/>
                        <a:gd name="textAreaTop" fmla="*/ 0 h 17280"/>
                        <a:gd name="textAreaBottom" fmla="*/ 17640 h 17280"/>
                      </a:gdLst>
                      <a:ahLst/>
                      <a:rect l="textAreaLeft" t="textAreaTop" r="textAreaRight" b="textAreaBottom"/>
                      <a:pathLst>
                        <a:path w="483" h="184">
                          <a:moveTo>
                            <a:pt x="7" y="102"/>
                          </a:moveTo>
                          <a:lnTo>
                            <a:pt x="18" y="116"/>
                          </a:lnTo>
                          <a:lnTo>
                            <a:pt x="34" y="130"/>
                          </a:lnTo>
                          <a:lnTo>
                            <a:pt x="55" y="143"/>
                          </a:lnTo>
                          <a:lnTo>
                            <a:pt x="80" y="155"/>
                          </a:lnTo>
                          <a:lnTo>
                            <a:pt x="109" y="165"/>
                          </a:lnTo>
                          <a:lnTo>
                            <a:pt x="141" y="173"/>
                          </a:lnTo>
                          <a:lnTo>
                            <a:pt x="176" y="179"/>
                          </a:lnTo>
                          <a:lnTo>
                            <a:pt x="211" y="182"/>
                          </a:lnTo>
                          <a:lnTo>
                            <a:pt x="248" y="184"/>
                          </a:lnTo>
                          <a:lnTo>
                            <a:pt x="285" y="183"/>
                          </a:lnTo>
                          <a:lnTo>
                            <a:pt x="323" y="180"/>
                          </a:lnTo>
                          <a:lnTo>
                            <a:pt x="359" y="173"/>
                          </a:lnTo>
                          <a:lnTo>
                            <a:pt x="393" y="164"/>
                          </a:lnTo>
                          <a:lnTo>
                            <a:pt x="427" y="151"/>
                          </a:lnTo>
                          <a:lnTo>
                            <a:pt x="455" y="135"/>
                          </a:lnTo>
                          <a:lnTo>
                            <a:pt x="482" y="115"/>
                          </a:lnTo>
                          <a:lnTo>
                            <a:pt x="483" y="93"/>
                          </a:lnTo>
                          <a:lnTo>
                            <a:pt x="483" y="77"/>
                          </a:lnTo>
                          <a:lnTo>
                            <a:pt x="482" y="65"/>
                          </a:lnTo>
                          <a:lnTo>
                            <a:pt x="478" y="54"/>
                          </a:lnTo>
                          <a:lnTo>
                            <a:pt x="473" y="44"/>
                          </a:lnTo>
                          <a:lnTo>
                            <a:pt x="463" y="34"/>
                          </a:lnTo>
                          <a:lnTo>
                            <a:pt x="451" y="22"/>
                          </a:lnTo>
                          <a:lnTo>
                            <a:pt x="435" y="7"/>
                          </a:lnTo>
                          <a:lnTo>
                            <a:pt x="416" y="23"/>
                          </a:lnTo>
                          <a:lnTo>
                            <a:pt x="396" y="37"/>
                          </a:lnTo>
                          <a:lnTo>
                            <a:pt x="375" y="50"/>
                          </a:lnTo>
                          <a:lnTo>
                            <a:pt x="353" y="59"/>
                          </a:lnTo>
                          <a:lnTo>
                            <a:pt x="330" y="67"/>
                          </a:lnTo>
                          <a:lnTo>
                            <a:pt x="307" y="73"/>
                          </a:lnTo>
                          <a:lnTo>
                            <a:pt x="284" y="76"/>
                          </a:lnTo>
                          <a:lnTo>
                            <a:pt x="260" y="78"/>
                          </a:lnTo>
                          <a:lnTo>
                            <a:pt x="235" y="78"/>
                          </a:lnTo>
                          <a:lnTo>
                            <a:pt x="211" y="76"/>
                          </a:lnTo>
                          <a:lnTo>
                            <a:pt x="187" y="73"/>
                          </a:lnTo>
                          <a:lnTo>
                            <a:pt x="163" y="68"/>
                          </a:lnTo>
                          <a:lnTo>
                            <a:pt x="140" y="61"/>
                          </a:lnTo>
                          <a:lnTo>
                            <a:pt x="116" y="53"/>
                          </a:lnTo>
                          <a:lnTo>
                            <a:pt x="94" y="44"/>
                          </a:lnTo>
                          <a:lnTo>
                            <a:pt x="72" y="32"/>
                          </a:lnTo>
                          <a:lnTo>
                            <a:pt x="66" y="0"/>
                          </a:lnTo>
                          <a:lnTo>
                            <a:pt x="56" y="5"/>
                          </a:lnTo>
                          <a:lnTo>
                            <a:pt x="42" y="12"/>
                          </a:lnTo>
                          <a:lnTo>
                            <a:pt x="29" y="20"/>
                          </a:lnTo>
                          <a:lnTo>
                            <a:pt x="17" y="30"/>
                          </a:lnTo>
                          <a:lnTo>
                            <a:pt x="7" y="43"/>
                          </a:lnTo>
                          <a:lnTo>
                            <a:pt x="2" y="59"/>
                          </a:lnTo>
                          <a:lnTo>
                            <a:pt x="0" y="78"/>
                          </a:lnTo>
                          <a:lnTo>
                            <a:pt x="7" y="102"/>
                          </a:lnTo>
                          <a:close/>
                        </a:path>
                      </a:pathLst>
                    </a:custGeom>
                    <a:solidFill>
                      <a:srgbClr val="cfcfc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Freeform 184"/>
                    <p:cNvSpPr/>
                    <p:nvPr/>
                  </p:nvSpPr>
                  <p:spPr>
                    <a:xfrm flipH="1">
                      <a:off x="3002040" y="3081600"/>
                      <a:ext cx="21240" cy="7920"/>
                    </a:xfrm>
                    <a:custGeom>
                      <a:avLst/>
                      <a:gdLst>
                        <a:gd name="textAreaLeft" fmla="*/ -360 w 21240"/>
                        <a:gd name="textAreaRight" fmla="*/ 21240 w 2124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95" h="72">
                          <a:moveTo>
                            <a:pt x="48" y="0"/>
                          </a:moveTo>
                          <a:lnTo>
                            <a:pt x="57" y="2"/>
                          </a:lnTo>
                          <a:lnTo>
                            <a:pt x="66" y="3"/>
                          </a:lnTo>
                          <a:lnTo>
                            <a:pt x="74" y="6"/>
                          </a:lnTo>
                          <a:lnTo>
                            <a:pt x="81" y="11"/>
                          </a:lnTo>
                          <a:lnTo>
                            <a:pt x="87" y="16"/>
                          </a:lnTo>
                          <a:lnTo>
                            <a:pt x="91" y="22"/>
                          </a:lnTo>
                          <a:lnTo>
                            <a:pt x="94" y="29"/>
                          </a:lnTo>
                          <a:lnTo>
                            <a:pt x="95" y="36"/>
                          </a:lnTo>
                          <a:lnTo>
                            <a:pt x="94" y="43"/>
                          </a:lnTo>
                          <a:lnTo>
                            <a:pt x="91" y="50"/>
                          </a:lnTo>
                          <a:lnTo>
                            <a:pt x="87" y="56"/>
                          </a:lnTo>
                          <a:lnTo>
                            <a:pt x="81" y="61"/>
                          </a:lnTo>
                          <a:lnTo>
                            <a:pt x="74" y="66"/>
                          </a:lnTo>
                          <a:lnTo>
                            <a:pt x="66" y="69"/>
                          </a:lnTo>
                          <a:lnTo>
                            <a:pt x="57" y="71"/>
                          </a:lnTo>
                          <a:lnTo>
                            <a:pt x="48" y="72"/>
                          </a:lnTo>
                          <a:lnTo>
                            <a:pt x="38" y="71"/>
                          </a:lnTo>
                          <a:lnTo>
                            <a:pt x="29" y="69"/>
                          </a:lnTo>
                          <a:lnTo>
                            <a:pt x="21" y="66"/>
                          </a:lnTo>
                          <a:lnTo>
                            <a:pt x="14" y="61"/>
                          </a:lnTo>
                          <a:lnTo>
                            <a:pt x="8" y="56"/>
                          </a:lnTo>
                          <a:lnTo>
                            <a:pt x="4" y="50"/>
                          </a:lnTo>
                          <a:lnTo>
                            <a:pt x="2" y="43"/>
                          </a:lnTo>
                          <a:lnTo>
                            <a:pt x="0" y="36"/>
                          </a:lnTo>
                          <a:lnTo>
                            <a:pt x="2" y="29"/>
                          </a:lnTo>
                          <a:lnTo>
                            <a:pt x="4" y="22"/>
                          </a:lnTo>
                          <a:lnTo>
                            <a:pt x="8" y="16"/>
                          </a:lnTo>
                          <a:lnTo>
                            <a:pt x="14" y="11"/>
                          </a:lnTo>
                          <a:lnTo>
                            <a:pt x="21" y="6"/>
                          </a:lnTo>
                          <a:lnTo>
                            <a:pt x="29" y="3"/>
                          </a:lnTo>
                          <a:lnTo>
                            <a:pt x="38" y="2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4" name="Gruppe 813"/>
                  <p:cNvGrpSpPr/>
                  <p:nvPr/>
                </p:nvGrpSpPr>
                <p:grpSpPr>
                  <a:xfrm>
                    <a:off x="2974320" y="3072240"/>
                    <a:ext cx="73080" cy="129240"/>
                    <a:chOff x="2974320" y="3072240"/>
                    <a:chExt cx="73080" cy="129240"/>
                  </a:xfrm>
                </p:grpSpPr>
                <p:sp>
                  <p:nvSpPr>
                    <p:cNvPr id="275" name="Freeform 316"/>
                    <p:cNvSpPr/>
                    <p:nvPr/>
                  </p:nvSpPr>
                  <p:spPr>
                    <a:xfrm flipH="1">
                      <a:off x="2986560" y="3109320"/>
                      <a:ext cx="54360" cy="4320"/>
                    </a:xfrm>
                    <a:custGeom>
                      <a:avLst/>
                      <a:gdLst>
                        <a:gd name="textAreaLeft" fmla="*/ -360 w 54360"/>
                        <a:gd name="textAreaRight" fmla="*/ 54360 w 54360"/>
                        <a:gd name="textAreaTop" fmla="*/ 0 h 4320"/>
                        <a:gd name="textAreaBottom" fmla="*/ 4680 h 4320"/>
                      </a:gdLst>
                      <a:ahLst/>
                      <a:rect l="textAreaLeft" t="textAreaTop" r="textAreaRight" b="textAreaBottom"/>
                      <a:pathLst>
                        <a:path w="230" h="41">
                          <a:moveTo>
                            <a:pt x="13" y="0"/>
                          </a:moveTo>
                          <a:lnTo>
                            <a:pt x="26" y="6"/>
                          </a:lnTo>
                          <a:lnTo>
                            <a:pt x="39" y="13"/>
                          </a:lnTo>
                          <a:lnTo>
                            <a:pt x="52" y="16"/>
                          </a:lnTo>
                          <a:lnTo>
                            <a:pt x="65" y="19"/>
                          </a:lnTo>
                          <a:lnTo>
                            <a:pt x="78" y="22"/>
                          </a:lnTo>
                          <a:lnTo>
                            <a:pt x="93" y="23"/>
                          </a:lnTo>
                          <a:lnTo>
                            <a:pt x="106" y="24"/>
                          </a:lnTo>
                          <a:lnTo>
                            <a:pt x="120" y="23"/>
                          </a:lnTo>
                          <a:lnTo>
                            <a:pt x="134" y="22"/>
                          </a:lnTo>
                          <a:lnTo>
                            <a:pt x="147" y="20"/>
                          </a:lnTo>
                          <a:lnTo>
                            <a:pt x="161" y="18"/>
                          </a:lnTo>
                          <a:lnTo>
                            <a:pt x="176" y="15"/>
                          </a:lnTo>
                          <a:lnTo>
                            <a:pt x="189" y="13"/>
                          </a:lnTo>
                          <a:lnTo>
                            <a:pt x="203" y="9"/>
                          </a:lnTo>
                          <a:lnTo>
                            <a:pt x="216" y="6"/>
                          </a:lnTo>
                          <a:lnTo>
                            <a:pt x="230" y="2"/>
                          </a:lnTo>
                          <a:lnTo>
                            <a:pt x="230" y="15"/>
                          </a:lnTo>
                          <a:lnTo>
                            <a:pt x="221" y="19"/>
                          </a:lnTo>
                          <a:lnTo>
                            <a:pt x="212" y="23"/>
                          </a:lnTo>
                          <a:lnTo>
                            <a:pt x="200" y="27"/>
                          </a:lnTo>
                          <a:lnTo>
                            <a:pt x="189" y="29"/>
                          </a:lnTo>
                          <a:lnTo>
                            <a:pt x="174" y="33"/>
                          </a:lnTo>
                          <a:lnTo>
                            <a:pt x="161" y="36"/>
                          </a:lnTo>
                          <a:lnTo>
                            <a:pt x="146" y="39"/>
                          </a:lnTo>
                          <a:lnTo>
                            <a:pt x="132" y="41"/>
                          </a:lnTo>
                          <a:lnTo>
                            <a:pt x="115" y="41"/>
                          </a:lnTo>
                          <a:lnTo>
                            <a:pt x="99" y="41"/>
                          </a:lnTo>
                          <a:lnTo>
                            <a:pt x="82" y="40"/>
                          </a:lnTo>
                          <a:lnTo>
                            <a:pt x="65" y="37"/>
                          </a:lnTo>
                          <a:lnTo>
                            <a:pt x="50" y="32"/>
                          </a:lnTo>
                          <a:lnTo>
                            <a:pt x="33" y="27"/>
                          </a:lnTo>
                          <a:lnTo>
                            <a:pt x="16" y="19"/>
                          </a:lnTo>
                          <a:lnTo>
                            <a:pt x="0" y="9"/>
                          </a:lnTo>
                          <a:lnTo>
                            <a:pt x="13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336"/>
                    <p:cNvSpPr/>
                    <p:nvPr/>
                  </p:nvSpPr>
                  <p:spPr>
                    <a:xfrm flipH="1">
                      <a:off x="2973960" y="3193920"/>
                      <a:ext cx="73080" cy="7560"/>
                    </a:xfrm>
                    <a:custGeom>
                      <a:avLst/>
                      <a:gdLst>
                        <a:gd name="textAreaLeft" fmla="*/ -360 w 73080"/>
                        <a:gd name="textAreaRight" fmla="*/ 73080 w 73080"/>
                        <a:gd name="textAreaTop" fmla="*/ 0 h 7560"/>
                        <a:gd name="textAreaBottom" fmla="*/ 7920 h 7560"/>
                      </a:gdLst>
                      <a:ahLst/>
                      <a:rect l="textAreaLeft" t="textAreaTop" r="textAreaRight" b="textAreaBottom"/>
                      <a:pathLst>
                        <a:path w="309" h="72">
                          <a:moveTo>
                            <a:pt x="0" y="29"/>
                          </a:moveTo>
                          <a:lnTo>
                            <a:pt x="3" y="37"/>
                          </a:lnTo>
                          <a:lnTo>
                            <a:pt x="7" y="45"/>
                          </a:lnTo>
                          <a:lnTo>
                            <a:pt x="11" y="53"/>
                          </a:lnTo>
                          <a:lnTo>
                            <a:pt x="15" y="61"/>
                          </a:lnTo>
                          <a:lnTo>
                            <a:pt x="22" y="62"/>
                          </a:lnTo>
                          <a:lnTo>
                            <a:pt x="29" y="63"/>
                          </a:lnTo>
                          <a:lnTo>
                            <a:pt x="37" y="65"/>
                          </a:lnTo>
                          <a:lnTo>
                            <a:pt x="44" y="66"/>
                          </a:lnTo>
                          <a:lnTo>
                            <a:pt x="51" y="67"/>
                          </a:lnTo>
                          <a:lnTo>
                            <a:pt x="59" y="68"/>
                          </a:lnTo>
                          <a:lnTo>
                            <a:pt x="65" y="71"/>
                          </a:lnTo>
                          <a:lnTo>
                            <a:pt x="73" y="72"/>
                          </a:lnTo>
                          <a:lnTo>
                            <a:pt x="91" y="72"/>
                          </a:lnTo>
                          <a:lnTo>
                            <a:pt x="109" y="71"/>
                          </a:lnTo>
                          <a:lnTo>
                            <a:pt x="127" y="71"/>
                          </a:lnTo>
                          <a:lnTo>
                            <a:pt x="146" y="70"/>
                          </a:lnTo>
                          <a:lnTo>
                            <a:pt x="164" y="70"/>
                          </a:lnTo>
                          <a:lnTo>
                            <a:pt x="183" y="68"/>
                          </a:lnTo>
                          <a:lnTo>
                            <a:pt x="201" y="68"/>
                          </a:lnTo>
                          <a:lnTo>
                            <a:pt x="220" y="67"/>
                          </a:lnTo>
                          <a:lnTo>
                            <a:pt x="231" y="65"/>
                          </a:lnTo>
                          <a:lnTo>
                            <a:pt x="242" y="61"/>
                          </a:lnTo>
                          <a:lnTo>
                            <a:pt x="253" y="58"/>
                          </a:lnTo>
                          <a:lnTo>
                            <a:pt x="265" y="54"/>
                          </a:lnTo>
                          <a:lnTo>
                            <a:pt x="275" y="52"/>
                          </a:lnTo>
                          <a:lnTo>
                            <a:pt x="287" y="48"/>
                          </a:lnTo>
                          <a:lnTo>
                            <a:pt x="297" y="45"/>
                          </a:lnTo>
                          <a:lnTo>
                            <a:pt x="309" y="41"/>
                          </a:lnTo>
                          <a:lnTo>
                            <a:pt x="309" y="26"/>
                          </a:lnTo>
                          <a:lnTo>
                            <a:pt x="307" y="13"/>
                          </a:lnTo>
                          <a:lnTo>
                            <a:pt x="303" y="5"/>
                          </a:lnTo>
                          <a:lnTo>
                            <a:pt x="297" y="1"/>
                          </a:lnTo>
                          <a:lnTo>
                            <a:pt x="290" y="0"/>
                          </a:lnTo>
                          <a:lnTo>
                            <a:pt x="279" y="0"/>
                          </a:lnTo>
                          <a:lnTo>
                            <a:pt x="268" y="4"/>
                          </a:lnTo>
                          <a:lnTo>
                            <a:pt x="252" y="9"/>
                          </a:lnTo>
                          <a:lnTo>
                            <a:pt x="242" y="9"/>
                          </a:lnTo>
                          <a:lnTo>
                            <a:pt x="231" y="10"/>
                          </a:lnTo>
                          <a:lnTo>
                            <a:pt x="221" y="10"/>
                          </a:lnTo>
                          <a:lnTo>
                            <a:pt x="211" y="10"/>
                          </a:lnTo>
                          <a:lnTo>
                            <a:pt x="200" y="10"/>
                          </a:lnTo>
                          <a:lnTo>
                            <a:pt x="188" y="10"/>
                          </a:lnTo>
                          <a:lnTo>
                            <a:pt x="178" y="11"/>
                          </a:lnTo>
                          <a:lnTo>
                            <a:pt x="168" y="11"/>
                          </a:lnTo>
                          <a:lnTo>
                            <a:pt x="140" y="10"/>
                          </a:lnTo>
                          <a:lnTo>
                            <a:pt x="116" y="9"/>
                          </a:lnTo>
                          <a:lnTo>
                            <a:pt x="96" y="6"/>
                          </a:lnTo>
                          <a:lnTo>
                            <a:pt x="77" y="5"/>
                          </a:lnTo>
                          <a:lnTo>
                            <a:pt x="60" y="6"/>
                          </a:lnTo>
                          <a:lnTo>
                            <a:pt x="42" y="9"/>
                          </a:lnTo>
                          <a:lnTo>
                            <a:pt x="22" y="16"/>
                          </a:lnTo>
                          <a:lnTo>
                            <a:pt x="0" y="29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353"/>
                    <p:cNvSpPr/>
                    <p:nvPr/>
                  </p:nvSpPr>
                  <p:spPr>
                    <a:xfrm flipH="1">
                      <a:off x="2998440" y="3125160"/>
                      <a:ext cx="26280" cy="2520"/>
                    </a:xfrm>
                    <a:custGeom>
                      <a:avLst/>
                      <a:gdLst>
                        <a:gd name="textAreaLeft" fmla="*/ -360 w 26280"/>
                        <a:gd name="textAreaRight" fmla="*/ 26280 w 26280"/>
                        <a:gd name="textAreaTop" fmla="*/ 0 h 2520"/>
                        <a:gd name="textAreaBottom" fmla="*/ 2880 h 2520"/>
                      </a:gdLst>
                      <a:ahLst/>
                      <a:rect l="textAreaLeft" t="textAreaTop" r="textAreaRight" b="textAreaBottom"/>
                      <a:pathLst>
                        <a:path w="112" h="25">
                          <a:moveTo>
                            <a:pt x="0" y="11"/>
                          </a:moveTo>
                          <a:lnTo>
                            <a:pt x="5" y="17"/>
                          </a:lnTo>
                          <a:lnTo>
                            <a:pt x="26" y="25"/>
                          </a:lnTo>
                          <a:lnTo>
                            <a:pt x="80" y="20"/>
                          </a:lnTo>
                          <a:lnTo>
                            <a:pt x="112" y="13"/>
                          </a:lnTo>
                          <a:lnTo>
                            <a:pt x="110" y="4"/>
                          </a:lnTo>
                          <a:lnTo>
                            <a:pt x="108" y="0"/>
                          </a:lnTo>
                          <a:lnTo>
                            <a:pt x="103" y="2"/>
                          </a:lnTo>
                          <a:lnTo>
                            <a:pt x="92" y="4"/>
                          </a:lnTo>
                          <a:lnTo>
                            <a:pt x="61" y="6"/>
                          </a:lnTo>
                          <a:lnTo>
                            <a:pt x="51" y="6"/>
                          </a:lnTo>
                          <a:lnTo>
                            <a:pt x="43" y="4"/>
                          </a:lnTo>
                          <a:lnTo>
                            <a:pt x="35" y="4"/>
                          </a:lnTo>
                          <a:lnTo>
                            <a:pt x="29" y="3"/>
                          </a:lnTo>
                          <a:lnTo>
                            <a:pt x="22" y="3"/>
                          </a:lnTo>
                          <a:lnTo>
                            <a:pt x="14" y="4"/>
                          </a:lnTo>
                          <a:lnTo>
                            <a:pt x="8" y="7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Freeform 367"/>
                    <p:cNvSpPr/>
                    <p:nvPr/>
                  </p:nvSpPr>
                  <p:spPr>
                    <a:xfrm flipH="1">
                      <a:off x="2999880" y="3072240"/>
                      <a:ext cx="24840" cy="8280"/>
                    </a:xfrm>
                    <a:custGeom>
                      <a:avLst/>
                      <a:gdLst>
                        <a:gd name="textAreaLeft" fmla="*/ -360 w 24840"/>
                        <a:gd name="textAreaRight" fmla="*/ 24840 w 24840"/>
                        <a:gd name="textAreaTop" fmla="*/ 0 h 8280"/>
                        <a:gd name="textAreaBottom" fmla="*/ 8640 h 8280"/>
                      </a:gdLst>
                      <a:ahLst/>
                      <a:rect l="textAreaLeft" t="textAreaTop" r="textAreaRight" b="textAreaBottom"/>
                      <a:pathLst>
                        <a:path w="106" h="80">
                          <a:moveTo>
                            <a:pt x="53" y="0"/>
                          </a:moveTo>
                          <a:lnTo>
                            <a:pt x="64" y="1"/>
                          </a:lnTo>
                          <a:lnTo>
                            <a:pt x="74" y="2"/>
                          </a:lnTo>
                          <a:lnTo>
                            <a:pt x="83" y="6"/>
                          </a:lnTo>
                          <a:lnTo>
                            <a:pt x="91" y="11"/>
                          </a:lnTo>
                          <a:lnTo>
                            <a:pt x="97" y="18"/>
                          </a:lnTo>
                          <a:lnTo>
                            <a:pt x="103" y="24"/>
                          </a:lnTo>
                          <a:lnTo>
                            <a:pt x="105" y="32"/>
                          </a:lnTo>
                          <a:lnTo>
                            <a:pt x="106" y="40"/>
                          </a:lnTo>
                          <a:lnTo>
                            <a:pt x="105" y="48"/>
                          </a:lnTo>
                          <a:lnTo>
                            <a:pt x="103" y="55"/>
                          </a:lnTo>
                          <a:lnTo>
                            <a:pt x="97" y="62"/>
                          </a:lnTo>
                          <a:lnTo>
                            <a:pt x="91" y="68"/>
                          </a:lnTo>
                          <a:lnTo>
                            <a:pt x="83" y="74"/>
                          </a:lnTo>
                          <a:lnTo>
                            <a:pt x="74" y="78"/>
                          </a:lnTo>
                          <a:lnTo>
                            <a:pt x="64" y="79"/>
                          </a:lnTo>
                          <a:lnTo>
                            <a:pt x="53" y="80"/>
                          </a:lnTo>
                          <a:lnTo>
                            <a:pt x="43" y="79"/>
                          </a:lnTo>
                          <a:lnTo>
                            <a:pt x="32" y="78"/>
                          </a:lnTo>
                          <a:lnTo>
                            <a:pt x="23" y="74"/>
                          </a:lnTo>
                          <a:lnTo>
                            <a:pt x="16" y="68"/>
                          </a:lnTo>
                          <a:lnTo>
                            <a:pt x="9" y="62"/>
                          </a:lnTo>
                          <a:lnTo>
                            <a:pt x="4" y="55"/>
                          </a:lnTo>
                          <a:lnTo>
                            <a:pt x="1" y="48"/>
                          </a:lnTo>
                          <a:lnTo>
                            <a:pt x="0" y="40"/>
                          </a:lnTo>
                          <a:lnTo>
                            <a:pt x="1" y="32"/>
                          </a:lnTo>
                          <a:lnTo>
                            <a:pt x="4" y="24"/>
                          </a:lnTo>
                          <a:lnTo>
                            <a:pt x="9" y="18"/>
                          </a:lnTo>
                          <a:lnTo>
                            <a:pt x="16" y="11"/>
                          </a:lnTo>
                          <a:lnTo>
                            <a:pt x="23" y="6"/>
                          </a:lnTo>
                          <a:lnTo>
                            <a:pt x="32" y="2"/>
                          </a:lnTo>
                          <a:lnTo>
                            <a:pt x="43" y="1"/>
                          </a:lnTo>
                          <a:lnTo>
                            <a:pt x="53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79" name="Freeform 383"/>
              <p:cNvSpPr/>
              <p:nvPr/>
            </p:nvSpPr>
            <p:spPr>
              <a:xfrm flipH="1">
                <a:off x="2962080" y="3056400"/>
                <a:ext cx="104760" cy="5040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808" h="400">
                    <a:moveTo>
                      <a:pt x="780" y="350"/>
                    </a:moveTo>
                    <a:lnTo>
                      <a:pt x="808" y="10"/>
                    </a:lnTo>
                    <a:lnTo>
                      <a:pt x="644" y="12"/>
                    </a:lnTo>
                    <a:lnTo>
                      <a:pt x="644" y="140"/>
                    </a:lnTo>
                    <a:lnTo>
                      <a:pt x="520" y="130"/>
                    </a:lnTo>
                    <a:lnTo>
                      <a:pt x="510" y="8"/>
                    </a:lnTo>
                    <a:lnTo>
                      <a:pt x="330" y="0"/>
                    </a:lnTo>
                    <a:lnTo>
                      <a:pt x="336" y="132"/>
                    </a:lnTo>
                    <a:lnTo>
                      <a:pt x="206" y="134"/>
                    </a:lnTo>
                    <a:lnTo>
                      <a:pt x="202" y="4"/>
                    </a:lnTo>
                    <a:lnTo>
                      <a:pt x="0" y="18"/>
                    </a:lnTo>
                    <a:lnTo>
                      <a:pt x="24" y="342"/>
                    </a:lnTo>
                    <a:lnTo>
                      <a:pt x="130" y="400"/>
                    </a:lnTo>
                    <a:lnTo>
                      <a:pt x="688" y="400"/>
                    </a:lnTo>
                    <a:lnTo>
                      <a:pt x="780" y="3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acac"/>
                  </a:gs>
                  <a:gs pos="100000">
                    <a:srgbClr val="e6e6e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uppe 186"/>
            <p:cNvGrpSpPr/>
            <p:nvPr/>
          </p:nvGrpSpPr>
          <p:grpSpPr>
            <a:xfrm>
              <a:off x="2934000" y="2843280"/>
              <a:ext cx="189720" cy="153360"/>
              <a:chOff x="2934000" y="2843280"/>
              <a:chExt cx="189720" cy="153360"/>
            </a:xfrm>
          </p:grpSpPr>
          <p:grpSp>
            <p:nvGrpSpPr>
              <p:cNvPr id="281" name="Gruppe 893"/>
              <p:cNvGrpSpPr/>
              <p:nvPr/>
            </p:nvGrpSpPr>
            <p:grpSpPr>
              <a:xfrm>
                <a:off x="2934000" y="2862720"/>
                <a:ext cx="189720" cy="133920"/>
                <a:chOff x="2934000" y="2862720"/>
                <a:chExt cx="189720" cy="133920"/>
              </a:xfrm>
            </p:grpSpPr>
            <p:sp>
              <p:nvSpPr>
                <p:cNvPr id="282" name="Ellipse 282"/>
                <p:cNvSpPr/>
                <p:nvPr/>
              </p:nvSpPr>
              <p:spPr>
                <a:xfrm flipH="1">
                  <a:off x="2933640" y="2967120"/>
                  <a:ext cx="189720" cy="2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3" name="Gruppe 823"/>
                <p:cNvGrpSpPr/>
                <p:nvPr/>
              </p:nvGrpSpPr>
              <p:grpSpPr>
                <a:xfrm>
                  <a:off x="2987640" y="2862720"/>
                  <a:ext cx="109800" cy="124920"/>
                  <a:chOff x="2987640" y="2862720"/>
                  <a:chExt cx="109800" cy="124920"/>
                </a:xfrm>
              </p:grpSpPr>
              <p:grpSp>
                <p:nvGrpSpPr>
                  <p:cNvPr id="284" name="Gruppe 605"/>
                  <p:cNvGrpSpPr/>
                  <p:nvPr/>
                </p:nvGrpSpPr>
                <p:grpSpPr>
                  <a:xfrm>
                    <a:off x="2987640" y="2868480"/>
                    <a:ext cx="109800" cy="119160"/>
                    <a:chOff x="2987640" y="2868480"/>
                    <a:chExt cx="109800" cy="119160"/>
                  </a:xfrm>
                </p:grpSpPr>
                <p:sp>
                  <p:nvSpPr>
                    <p:cNvPr id="285" name="Freeform 130"/>
                    <p:cNvSpPr/>
                    <p:nvPr/>
                  </p:nvSpPr>
                  <p:spPr>
                    <a:xfrm flipH="1">
                      <a:off x="2987280" y="2868480"/>
                      <a:ext cx="109800" cy="119160"/>
                    </a:xfrm>
                    <a:custGeom>
                      <a:avLst/>
                      <a:gdLst>
                        <a:gd name="textAreaLeft" fmla="*/ -360 w 109800"/>
                        <a:gd name="textAreaRight" fmla="*/ 109800 w 109800"/>
                        <a:gd name="textAreaTop" fmla="*/ 0 h 119160"/>
                        <a:gd name="textAreaBottom" fmla="*/ 119520 h 119160"/>
                      </a:gdLst>
                      <a:ahLst/>
                      <a:rect l="textAreaLeft" t="textAreaTop" r="textAreaRight" b="textAreaBottom"/>
                      <a:pathLst>
                        <a:path w="493" h="1194">
                          <a:moveTo>
                            <a:pt x="208" y="62"/>
                          </a:moveTo>
                          <a:lnTo>
                            <a:pt x="167" y="83"/>
                          </a:lnTo>
                          <a:lnTo>
                            <a:pt x="145" y="87"/>
                          </a:lnTo>
                          <a:lnTo>
                            <a:pt x="125" y="93"/>
                          </a:lnTo>
                          <a:lnTo>
                            <a:pt x="110" y="100"/>
                          </a:lnTo>
                          <a:lnTo>
                            <a:pt x="99" y="110"/>
                          </a:lnTo>
                          <a:lnTo>
                            <a:pt x="92" y="124"/>
                          </a:lnTo>
                          <a:lnTo>
                            <a:pt x="90" y="141"/>
                          </a:lnTo>
                          <a:lnTo>
                            <a:pt x="93" y="162"/>
                          </a:lnTo>
                          <a:lnTo>
                            <a:pt x="104" y="187"/>
                          </a:lnTo>
                          <a:lnTo>
                            <a:pt x="158" y="242"/>
                          </a:lnTo>
                          <a:lnTo>
                            <a:pt x="158" y="272"/>
                          </a:lnTo>
                          <a:lnTo>
                            <a:pt x="140" y="282"/>
                          </a:lnTo>
                          <a:lnTo>
                            <a:pt x="135" y="302"/>
                          </a:lnTo>
                          <a:lnTo>
                            <a:pt x="138" y="326"/>
                          </a:lnTo>
                          <a:lnTo>
                            <a:pt x="147" y="346"/>
                          </a:lnTo>
                          <a:lnTo>
                            <a:pt x="104" y="360"/>
                          </a:lnTo>
                          <a:lnTo>
                            <a:pt x="89" y="375"/>
                          </a:lnTo>
                          <a:lnTo>
                            <a:pt x="77" y="389"/>
                          </a:lnTo>
                          <a:lnTo>
                            <a:pt x="71" y="402"/>
                          </a:lnTo>
                          <a:lnTo>
                            <a:pt x="70" y="414"/>
                          </a:lnTo>
                          <a:lnTo>
                            <a:pt x="74" y="426"/>
                          </a:lnTo>
                          <a:lnTo>
                            <a:pt x="82" y="437"/>
                          </a:lnTo>
                          <a:lnTo>
                            <a:pt x="94" y="449"/>
                          </a:lnTo>
                          <a:lnTo>
                            <a:pt x="113" y="459"/>
                          </a:lnTo>
                          <a:lnTo>
                            <a:pt x="173" y="480"/>
                          </a:lnTo>
                          <a:lnTo>
                            <a:pt x="168" y="522"/>
                          </a:lnTo>
                          <a:lnTo>
                            <a:pt x="162" y="562"/>
                          </a:lnTo>
                          <a:lnTo>
                            <a:pt x="156" y="601"/>
                          </a:lnTo>
                          <a:lnTo>
                            <a:pt x="150" y="638"/>
                          </a:lnTo>
                          <a:lnTo>
                            <a:pt x="140" y="676"/>
                          </a:lnTo>
                          <a:lnTo>
                            <a:pt x="129" y="713"/>
                          </a:lnTo>
                          <a:lnTo>
                            <a:pt x="115" y="750"/>
                          </a:lnTo>
                          <a:lnTo>
                            <a:pt x="98" y="789"/>
                          </a:lnTo>
                          <a:lnTo>
                            <a:pt x="83" y="796"/>
                          </a:lnTo>
                          <a:lnTo>
                            <a:pt x="70" y="804"/>
                          </a:lnTo>
                          <a:lnTo>
                            <a:pt x="61" y="814"/>
                          </a:lnTo>
                          <a:lnTo>
                            <a:pt x="55" y="823"/>
                          </a:lnTo>
                          <a:lnTo>
                            <a:pt x="53" y="835"/>
                          </a:lnTo>
                          <a:lnTo>
                            <a:pt x="55" y="845"/>
                          </a:lnTo>
                          <a:lnTo>
                            <a:pt x="62" y="857"/>
                          </a:lnTo>
                          <a:lnTo>
                            <a:pt x="75" y="868"/>
                          </a:lnTo>
                          <a:lnTo>
                            <a:pt x="78" y="889"/>
                          </a:lnTo>
                          <a:lnTo>
                            <a:pt x="53" y="896"/>
                          </a:lnTo>
                          <a:lnTo>
                            <a:pt x="34" y="905"/>
                          </a:lnTo>
                          <a:lnTo>
                            <a:pt x="21" y="916"/>
                          </a:lnTo>
                          <a:lnTo>
                            <a:pt x="13" y="928"/>
                          </a:lnTo>
                          <a:lnTo>
                            <a:pt x="8" y="942"/>
                          </a:lnTo>
                          <a:lnTo>
                            <a:pt x="8" y="959"/>
                          </a:lnTo>
                          <a:lnTo>
                            <a:pt x="10" y="978"/>
                          </a:lnTo>
                          <a:lnTo>
                            <a:pt x="15" y="999"/>
                          </a:lnTo>
                          <a:lnTo>
                            <a:pt x="19" y="1032"/>
                          </a:lnTo>
                          <a:lnTo>
                            <a:pt x="0" y="1057"/>
                          </a:lnTo>
                          <a:lnTo>
                            <a:pt x="0" y="1121"/>
                          </a:lnTo>
                          <a:lnTo>
                            <a:pt x="18" y="1137"/>
                          </a:lnTo>
                          <a:lnTo>
                            <a:pt x="41" y="1151"/>
                          </a:lnTo>
                          <a:lnTo>
                            <a:pt x="69" y="1163"/>
                          </a:lnTo>
                          <a:lnTo>
                            <a:pt x="101" y="1174"/>
                          </a:lnTo>
                          <a:lnTo>
                            <a:pt x="135" y="1182"/>
                          </a:lnTo>
                          <a:lnTo>
                            <a:pt x="171" y="1189"/>
                          </a:lnTo>
                          <a:lnTo>
                            <a:pt x="208" y="1192"/>
                          </a:lnTo>
                          <a:lnTo>
                            <a:pt x="246" y="1194"/>
                          </a:lnTo>
                          <a:lnTo>
                            <a:pt x="285" y="1193"/>
                          </a:lnTo>
                          <a:lnTo>
                            <a:pt x="322" y="1190"/>
                          </a:lnTo>
                          <a:lnTo>
                            <a:pt x="359" y="1184"/>
                          </a:lnTo>
                          <a:lnTo>
                            <a:pt x="393" y="1175"/>
                          </a:lnTo>
                          <a:lnTo>
                            <a:pt x="424" y="1162"/>
                          </a:lnTo>
                          <a:lnTo>
                            <a:pt x="451" y="1147"/>
                          </a:lnTo>
                          <a:lnTo>
                            <a:pt x="474" y="1129"/>
                          </a:lnTo>
                          <a:lnTo>
                            <a:pt x="493" y="1107"/>
                          </a:lnTo>
                          <a:lnTo>
                            <a:pt x="493" y="1069"/>
                          </a:lnTo>
                          <a:lnTo>
                            <a:pt x="484" y="1032"/>
                          </a:lnTo>
                          <a:lnTo>
                            <a:pt x="487" y="1005"/>
                          </a:lnTo>
                          <a:lnTo>
                            <a:pt x="489" y="984"/>
                          </a:lnTo>
                          <a:lnTo>
                            <a:pt x="489" y="965"/>
                          </a:lnTo>
                          <a:lnTo>
                            <a:pt x="486" y="950"/>
                          </a:lnTo>
                          <a:lnTo>
                            <a:pt x="480" y="936"/>
                          </a:lnTo>
                          <a:lnTo>
                            <a:pt x="470" y="921"/>
                          </a:lnTo>
                          <a:lnTo>
                            <a:pt x="454" y="906"/>
                          </a:lnTo>
                          <a:lnTo>
                            <a:pt x="433" y="888"/>
                          </a:lnTo>
                          <a:lnTo>
                            <a:pt x="441" y="870"/>
                          </a:lnTo>
                          <a:lnTo>
                            <a:pt x="446" y="855"/>
                          </a:lnTo>
                          <a:lnTo>
                            <a:pt x="449" y="842"/>
                          </a:lnTo>
                          <a:lnTo>
                            <a:pt x="449" y="832"/>
                          </a:lnTo>
                          <a:lnTo>
                            <a:pt x="444" y="823"/>
                          </a:lnTo>
                          <a:lnTo>
                            <a:pt x="438" y="814"/>
                          </a:lnTo>
                          <a:lnTo>
                            <a:pt x="425" y="805"/>
                          </a:lnTo>
                          <a:lnTo>
                            <a:pt x="409" y="793"/>
                          </a:lnTo>
                          <a:lnTo>
                            <a:pt x="389" y="751"/>
                          </a:lnTo>
                          <a:lnTo>
                            <a:pt x="373" y="713"/>
                          </a:lnTo>
                          <a:lnTo>
                            <a:pt x="362" y="677"/>
                          </a:lnTo>
                          <a:lnTo>
                            <a:pt x="355" y="644"/>
                          </a:lnTo>
                          <a:lnTo>
                            <a:pt x="349" y="609"/>
                          </a:lnTo>
                          <a:lnTo>
                            <a:pt x="345" y="572"/>
                          </a:lnTo>
                          <a:lnTo>
                            <a:pt x="344" y="531"/>
                          </a:lnTo>
                          <a:lnTo>
                            <a:pt x="344" y="485"/>
                          </a:lnTo>
                          <a:lnTo>
                            <a:pt x="379" y="471"/>
                          </a:lnTo>
                          <a:lnTo>
                            <a:pt x="404" y="455"/>
                          </a:lnTo>
                          <a:lnTo>
                            <a:pt x="417" y="446"/>
                          </a:lnTo>
                          <a:lnTo>
                            <a:pt x="426" y="435"/>
                          </a:lnTo>
                          <a:lnTo>
                            <a:pt x="433" y="423"/>
                          </a:lnTo>
                          <a:lnTo>
                            <a:pt x="436" y="411"/>
                          </a:lnTo>
                          <a:lnTo>
                            <a:pt x="434" y="398"/>
                          </a:lnTo>
                          <a:lnTo>
                            <a:pt x="427" y="386"/>
                          </a:lnTo>
                          <a:lnTo>
                            <a:pt x="414" y="374"/>
                          </a:lnTo>
                          <a:lnTo>
                            <a:pt x="394" y="364"/>
                          </a:lnTo>
                          <a:lnTo>
                            <a:pt x="368" y="356"/>
                          </a:lnTo>
                          <a:lnTo>
                            <a:pt x="379" y="343"/>
                          </a:lnTo>
                          <a:lnTo>
                            <a:pt x="386" y="330"/>
                          </a:lnTo>
                          <a:lnTo>
                            <a:pt x="390" y="318"/>
                          </a:lnTo>
                          <a:lnTo>
                            <a:pt x="393" y="306"/>
                          </a:lnTo>
                          <a:lnTo>
                            <a:pt x="390" y="295"/>
                          </a:lnTo>
                          <a:lnTo>
                            <a:pt x="386" y="283"/>
                          </a:lnTo>
                          <a:lnTo>
                            <a:pt x="376" y="273"/>
                          </a:lnTo>
                          <a:lnTo>
                            <a:pt x="364" y="261"/>
                          </a:lnTo>
                          <a:lnTo>
                            <a:pt x="389" y="227"/>
                          </a:lnTo>
                          <a:lnTo>
                            <a:pt x="409" y="192"/>
                          </a:lnTo>
                          <a:lnTo>
                            <a:pt x="420" y="170"/>
                          </a:lnTo>
                          <a:lnTo>
                            <a:pt x="428" y="153"/>
                          </a:lnTo>
                          <a:lnTo>
                            <a:pt x="432" y="139"/>
                          </a:lnTo>
                          <a:lnTo>
                            <a:pt x="432" y="128"/>
                          </a:lnTo>
                          <a:lnTo>
                            <a:pt x="426" y="118"/>
                          </a:lnTo>
                          <a:lnTo>
                            <a:pt x="416" y="110"/>
                          </a:lnTo>
                          <a:lnTo>
                            <a:pt x="400" y="102"/>
                          </a:lnTo>
                          <a:lnTo>
                            <a:pt x="378" y="92"/>
                          </a:lnTo>
                          <a:lnTo>
                            <a:pt x="349" y="77"/>
                          </a:lnTo>
                          <a:lnTo>
                            <a:pt x="320" y="68"/>
                          </a:lnTo>
                          <a:lnTo>
                            <a:pt x="322" y="54"/>
                          </a:lnTo>
                          <a:lnTo>
                            <a:pt x="322" y="42"/>
                          </a:lnTo>
                          <a:lnTo>
                            <a:pt x="320" y="32"/>
                          </a:lnTo>
                          <a:lnTo>
                            <a:pt x="315" y="23"/>
                          </a:lnTo>
                          <a:lnTo>
                            <a:pt x="309" y="16"/>
                          </a:lnTo>
                          <a:lnTo>
                            <a:pt x="300" y="10"/>
                          </a:lnTo>
                          <a:lnTo>
                            <a:pt x="291" y="5"/>
                          </a:lnTo>
                          <a:lnTo>
                            <a:pt x="281" y="2"/>
                          </a:lnTo>
                          <a:lnTo>
                            <a:pt x="268" y="0"/>
                          </a:lnTo>
                          <a:lnTo>
                            <a:pt x="256" y="1"/>
                          </a:lnTo>
                          <a:lnTo>
                            <a:pt x="243" y="3"/>
                          </a:lnTo>
                          <a:lnTo>
                            <a:pt x="233" y="8"/>
                          </a:lnTo>
                          <a:lnTo>
                            <a:pt x="222" y="16"/>
                          </a:lnTo>
                          <a:lnTo>
                            <a:pt x="215" y="27"/>
                          </a:lnTo>
                          <a:lnTo>
                            <a:pt x="211" y="42"/>
                          </a:lnTo>
                          <a:lnTo>
                            <a:pt x="208" y="62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80808"/>
                        </a:gs>
                        <a:gs pos="100000">
                          <a:srgbClr val="e6e6e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131"/>
                    <p:cNvSpPr/>
                    <p:nvPr/>
                  </p:nvSpPr>
                  <p:spPr>
                    <a:xfrm flipH="1">
                      <a:off x="3017520" y="2876400"/>
                      <a:ext cx="41400" cy="2880"/>
                    </a:xfrm>
                    <a:custGeom>
                      <a:avLst/>
                      <a:gdLst>
                        <a:gd name="textAreaLeft" fmla="*/ -360 w 41400"/>
                        <a:gd name="textAreaRight" fmla="*/ 41400 w 41400"/>
                        <a:gd name="textAreaTop" fmla="*/ 0 h 2880"/>
                        <a:gd name="textAreaBottom" fmla="*/ 3240 h 2880"/>
                      </a:gdLst>
                      <a:ahLst/>
                      <a:rect l="textAreaLeft" t="textAreaTop" r="textAreaRight" b="textAreaBottom"/>
                      <a:pathLst>
                        <a:path w="185" h="58">
                          <a:moveTo>
                            <a:pt x="13" y="8"/>
                          </a:moveTo>
                          <a:lnTo>
                            <a:pt x="0" y="22"/>
                          </a:lnTo>
                          <a:lnTo>
                            <a:pt x="8" y="43"/>
                          </a:lnTo>
                          <a:lnTo>
                            <a:pt x="28" y="49"/>
                          </a:lnTo>
                          <a:lnTo>
                            <a:pt x="53" y="54"/>
                          </a:lnTo>
                          <a:lnTo>
                            <a:pt x="81" y="58"/>
                          </a:lnTo>
                          <a:lnTo>
                            <a:pt x="108" y="56"/>
                          </a:lnTo>
                          <a:lnTo>
                            <a:pt x="135" y="53"/>
                          </a:lnTo>
                          <a:lnTo>
                            <a:pt x="159" y="46"/>
                          </a:lnTo>
                          <a:lnTo>
                            <a:pt x="176" y="33"/>
                          </a:lnTo>
                          <a:lnTo>
                            <a:pt x="185" y="16"/>
                          </a:lnTo>
                          <a:lnTo>
                            <a:pt x="160" y="6"/>
                          </a:lnTo>
                          <a:lnTo>
                            <a:pt x="144" y="0"/>
                          </a:lnTo>
                          <a:lnTo>
                            <a:pt x="139" y="15"/>
                          </a:lnTo>
                          <a:lnTo>
                            <a:pt x="127" y="24"/>
                          </a:lnTo>
                          <a:lnTo>
                            <a:pt x="109" y="29"/>
                          </a:lnTo>
                          <a:lnTo>
                            <a:pt x="89" y="29"/>
                          </a:lnTo>
                          <a:lnTo>
                            <a:pt x="68" y="25"/>
                          </a:lnTo>
                          <a:lnTo>
                            <a:pt x="51" y="20"/>
                          </a:lnTo>
                          <a:lnTo>
                            <a:pt x="38" y="11"/>
                          </a:lnTo>
                          <a:lnTo>
                            <a:pt x="33" y="1"/>
                          </a:lnTo>
                          <a:lnTo>
                            <a:pt x="13" y="8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Freeform 132"/>
                    <p:cNvSpPr/>
                    <p:nvPr/>
                  </p:nvSpPr>
                  <p:spPr>
                    <a:xfrm flipH="1">
                      <a:off x="3003120" y="2879280"/>
                      <a:ext cx="71640" cy="6120"/>
                    </a:xfrm>
                    <a:custGeom>
                      <a:avLst/>
                      <a:gdLst>
                        <a:gd name="textAreaLeft" fmla="*/ -360 w 71640"/>
                        <a:gd name="textAreaRight" fmla="*/ 71640 w 7164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329" h="102">
                          <a:moveTo>
                            <a:pt x="32" y="10"/>
                          </a:moveTo>
                          <a:lnTo>
                            <a:pt x="1" y="26"/>
                          </a:lnTo>
                          <a:lnTo>
                            <a:pt x="0" y="43"/>
                          </a:lnTo>
                          <a:lnTo>
                            <a:pt x="3" y="60"/>
                          </a:lnTo>
                          <a:lnTo>
                            <a:pt x="14" y="71"/>
                          </a:lnTo>
                          <a:lnTo>
                            <a:pt x="27" y="81"/>
                          </a:lnTo>
                          <a:lnTo>
                            <a:pt x="46" y="90"/>
                          </a:lnTo>
                          <a:lnTo>
                            <a:pt x="67" y="95"/>
                          </a:lnTo>
                          <a:lnTo>
                            <a:pt x="91" y="100"/>
                          </a:lnTo>
                          <a:lnTo>
                            <a:pt x="117" y="102"/>
                          </a:lnTo>
                          <a:lnTo>
                            <a:pt x="144" y="102"/>
                          </a:lnTo>
                          <a:lnTo>
                            <a:pt x="171" y="102"/>
                          </a:lnTo>
                          <a:lnTo>
                            <a:pt x="199" y="100"/>
                          </a:lnTo>
                          <a:lnTo>
                            <a:pt x="225" y="98"/>
                          </a:lnTo>
                          <a:lnTo>
                            <a:pt x="251" y="94"/>
                          </a:lnTo>
                          <a:lnTo>
                            <a:pt x="273" y="90"/>
                          </a:lnTo>
                          <a:lnTo>
                            <a:pt x="292" y="85"/>
                          </a:lnTo>
                          <a:lnTo>
                            <a:pt x="308" y="79"/>
                          </a:lnTo>
                          <a:lnTo>
                            <a:pt x="319" y="71"/>
                          </a:lnTo>
                          <a:lnTo>
                            <a:pt x="326" y="61"/>
                          </a:lnTo>
                          <a:lnTo>
                            <a:pt x="329" y="50"/>
                          </a:lnTo>
                          <a:lnTo>
                            <a:pt x="329" y="39"/>
                          </a:lnTo>
                          <a:lnTo>
                            <a:pt x="325" y="28"/>
                          </a:lnTo>
                          <a:lnTo>
                            <a:pt x="316" y="18"/>
                          </a:lnTo>
                          <a:lnTo>
                            <a:pt x="303" y="8"/>
                          </a:lnTo>
                          <a:lnTo>
                            <a:pt x="285" y="0"/>
                          </a:lnTo>
                          <a:lnTo>
                            <a:pt x="269" y="18"/>
                          </a:lnTo>
                          <a:lnTo>
                            <a:pt x="252" y="31"/>
                          </a:lnTo>
                          <a:lnTo>
                            <a:pt x="234" y="39"/>
                          </a:lnTo>
                          <a:lnTo>
                            <a:pt x="215" y="43"/>
                          </a:lnTo>
                          <a:lnTo>
                            <a:pt x="194" y="45"/>
                          </a:lnTo>
                          <a:lnTo>
                            <a:pt x="173" y="43"/>
                          </a:lnTo>
                          <a:lnTo>
                            <a:pt x="148" y="41"/>
                          </a:lnTo>
                          <a:lnTo>
                            <a:pt x="122" y="40"/>
                          </a:lnTo>
                          <a:lnTo>
                            <a:pt x="67" y="30"/>
                          </a:lnTo>
                          <a:lnTo>
                            <a:pt x="49" y="3"/>
                          </a:lnTo>
                          <a:lnTo>
                            <a:pt x="32" y="10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Freeform 133"/>
                    <p:cNvSpPr/>
                    <p:nvPr/>
                  </p:nvSpPr>
                  <p:spPr>
                    <a:xfrm flipH="1">
                      <a:off x="3017880" y="2900160"/>
                      <a:ext cx="46080" cy="360"/>
                    </a:xfrm>
                    <a:custGeom>
                      <a:avLst/>
                      <a:gdLst>
                        <a:gd name="textAreaLeft" fmla="*/ 360 w 46080"/>
                        <a:gd name="textAreaRight" fmla="*/ 46800 w 46080"/>
                        <a:gd name="textAreaTop" fmla="*/ 0 h 360"/>
                        <a:gd name="textAreaBottom" fmla="*/ 720 h 360"/>
                      </a:gdLst>
                      <a:ahLst/>
                      <a:rect l="textAreaLeft" t="textAreaTop" r="textAreaRight" b="textAreaBottom"/>
                      <a:pathLst>
                        <a:path w="204" h="37">
                          <a:moveTo>
                            <a:pt x="12" y="0"/>
                          </a:moveTo>
                          <a:lnTo>
                            <a:pt x="24" y="6"/>
                          </a:lnTo>
                          <a:lnTo>
                            <a:pt x="35" y="12"/>
                          </a:lnTo>
                          <a:lnTo>
                            <a:pt x="47" y="15"/>
                          </a:lnTo>
                          <a:lnTo>
                            <a:pt x="58" y="17"/>
                          </a:lnTo>
                          <a:lnTo>
                            <a:pt x="70" y="20"/>
                          </a:lnTo>
                          <a:lnTo>
                            <a:pt x="82" y="21"/>
                          </a:lnTo>
                          <a:lnTo>
                            <a:pt x="94" y="22"/>
                          </a:lnTo>
                          <a:lnTo>
                            <a:pt x="106" y="21"/>
                          </a:lnTo>
                          <a:lnTo>
                            <a:pt x="119" y="20"/>
                          </a:lnTo>
                          <a:lnTo>
                            <a:pt x="131" y="19"/>
                          </a:lnTo>
                          <a:lnTo>
                            <a:pt x="143" y="16"/>
                          </a:lnTo>
                          <a:lnTo>
                            <a:pt x="156" y="14"/>
                          </a:lnTo>
                          <a:lnTo>
                            <a:pt x="167" y="12"/>
                          </a:lnTo>
                          <a:lnTo>
                            <a:pt x="180" y="8"/>
                          </a:lnTo>
                          <a:lnTo>
                            <a:pt x="192" y="6"/>
                          </a:lnTo>
                          <a:lnTo>
                            <a:pt x="204" y="2"/>
                          </a:lnTo>
                          <a:lnTo>
                            <a:pt x="204" y="14"/>
                          </a:lnTo>
                          <a:lnTo>
                            <a:pt x="196" y="17"/>
                          </a:lnTo>
                          <a:lnTo>
                            <a:pt x="188" y="21"/>
                          </a:lnTo>
                          <a:lnTo>
                            <a:pt x="178" y="24"/>
                          </a:lnTo>
                          <a:lnTo>
                            <a:pt x="167" y="27"/>
                          </a:lnTo>
                          <a:lnTo>
                            <a:pt x="155" y="30"/>
                          </a:lnTo>
                          <a:lnTo>
                            <a:pt x="143" y="32"/>
                          </a:lnTo>
                          <a:lnTo>
                            <a:pt x="129" y="35"/>
                          </a:lnTo>
                          <a:lnTo>
                            <a:pt x="117" y="37"/>
                          </a:lnTo>
                          <a:lnTo>
                            <a:pt x="102" y="37"/>
                          </a:lnTo>
                          <a:lnTo>
                            <a:pt x="88" y="37"/>
                          </a:lnTo>
                          <a:lnTo>
                            <a:pt x="73" y="36"/>
                          </a:lnTo>
                          <a:lnTo>
                            <a:pt x="58" y="34"/>
                          </a:lnTo>
                          <a:lnTo>
                            <a:pt x="44" y="29"/>
                          </a:lnTo>
                          <a:lnTo>
                            <a:pt x="29" y="24"/>
                          </a:lnTo>
                          <a:lnTo>
                            <a:pt x="14" y="17"/>
                          </a:lnTo>
                          <a:lnTo>
                            <a:pt x="0" y="8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135"/>
                    <p:cNvSpPr/>
                    <p:nvPr/>
                  </p:nvSpPr>
                  <p:spPr>
                    <a:xfrm flipH="1">
                      <a:off x="3003120" y="2904840"/>
                      <a:ext cx="78120" cy="10800"/>
                    </a:xfrm>
                    <a:custGeom>
                      <a:avLst/>
                      <a:gdLst>
                        <a:gd name="textAreaLeft" fmla="*/ -360 w 78120"/>
                        <a:gd name="textAreaRight" fmla="*/ 78120 w 78120"/>
                        <a:gd name="textAreaTop" fmla="*/ 0 h 10800"/>
                        <a:gd name="textAreaBottom" fmla="*/ 11160 h 10800"/>
                      </a:gdLst>
                      <a:ahLst/>
                      <a:rect l="textAreaLeft" t="textAreaTop" r="textAreaRight" b="textAreaBottom"/>
                      <a:pathLst>
                        <a:path w="351" h="100">
                          <a:moveTo>
                            <a:pt x="40" y="0"/>
                          </a:moveTo>
                          <a:lnTo>
                            <a:pt x="19" y="9"/>
                          </a:lnTo>
                          <a:lnTo>
                            <a:pt x="6" y="20"/>
                          </a:lnTo>
                          <a:lnTo>
                            <a:pt x="0" y="30"/>
                          </a:lnTo>
                          <a:lnTo>
                            <a:pt x="0" y="42"/>
                          </a:lnTo>
                          <a:lnTo>
                            <a:pt x="7" y="53"/>
                          </a:lnTo>
                          <a:lnTo>
                            <a:pt x="17" y="65"/>
                          </a:lnTo>
                          <a:lnTo>
                            <a:pt x="32" y="75"/>
                          </a:lnTo>
                          <a:lnTo>
                            <a:pt x="50" y="85"/>
                          </a:lnTo>
                          <a:lnTo>
                            <a:pt x="66" y="89"/>
                          </a:lnTo>
                          <a:lnTo>
                            <a:pt x="82" y="92"/>
                          </a:lnTo>
                          <a:lnTo>
                            <a:pt x="97" y="95"/>
                          </a:lnTo>
                          <a:lnTo>
                            <a:pt x="113" y="96"/>
                          </a:lnTo>
                          <a:lnTo>
                            <a:pt x="128" y="98"/>
                          </a:lnTo>
                          <a:lnTo>
                            <a:pt x="144" y="99"/>
                          </a:lnTo>
                          <a:lnTo>
                            <a:pt x="159" y="99"/>
                          </a:lnTo>
                          <a:lnTo>
                            <a:pt x="174" y="100"/>
                          </a:lnTo>
                          <a:lnTo>
                            <a:pt x="189" y="100"/>
                          </a:lnTo>
                          <a:lnTo>
                            <a:pt x="205" y="100"/>
                          </a:lnTo>
                          <a:lnTo>
                            <a:pt x="220" y="99"/>
                          </a:lnTo>
                          <a:lnTo>
                            <a:pt x="236" y="99"/>
                          </a:lnTo>
                          <a:lnTo>
                            <a:pt x="251" y="98"/>
                          </a:lnTo>
                          <a:lnTo>
                            <a:pt x="267" y="97"/>
                          </a:lnTo>
                          <a:lnTo>
                            <a:pt x="284" y="95"/>
                          </a:lnTo>
                          <a:lnTo>
                            <a:pt x="300" y="94"/>
                          </a:lnTo>
                          <a:lnTo>
                            <a:pt x="323" y="81"/>
                          </a:lnTo>
                          <a:lnTo>
                            <a:pt x="339" y="68"/>
                          </a:lnTo>
                          <a:lnTo>
                            <a:pt x="349" y="56"/>
                          </a:lnTo>
                          <a:lnTo>
                            <a:pt x="351" y="43"/>
                          </a:lnTo>
                          <a:lnTo>
                            <a:pt x="348" y="31"/>
                          </a:lnTo>
                          <a:lnTo>
                            <a:pt x="338" y="21"/>
                          </a:lnTo>
                          <a:lnTo>
                            <a:pt x="320" y="12"/>
                          </a:lnTo>
                          <a:lnTo>
                            <a:pt x="296" y="5"/>
                          </a:lnTo>
                          <a:lnTo>
                            <a:pt x="298" y="15"/>
                          </a:lnTo>
                          <a:lnTo>
                            <a:pt x="294" y="23"/>
                          </a:lnTo>
                          <a:lnTo>
                            <a:pt x="284" y="30"/>
                          </a:lnTo>
                          <a:lnTo>
                            <a:pt x="272" y="37"/>
                          </a:lnTo>
                          <a:lnTo>
                            <a:pt x="258" y="38"/>
                          </a:lnTo>
                          <a:lnTo>
                            <a:pt x="245" y="39"/>
                          </a:lnTo>
                          <a:lnTo>
                            <a:pt x="234" y="41"/>
                          </a:lnTo>
                          <a:lnTo>
                            <a:pt x="222" y="42"/>
                          </a:lnTo>
                          <a:lnTo>
                            <a:pt x="211" y="43"/>
                          </a:lnTo>
                          <a:lnTo>
                            <a:pt x="199" y="43"/>
                          </a:lnTo>
                          <a:lnTo>
                            <a:pt x="188" y="44"/>
                          </a:lnTo>
                          <a:lnTo>
                            <a:pt x="178" y="44"/>
                          </a:lnTo>
                          <a:lnTo>
                            <a:pt x="166" y="44"/>
                          </a:lnTo>
                          <a:lnTo>
                            <a:pt x="155" y="44"/>
                          </a:lnTo>
                          <a:lnTo>
                            <a:pt x="143" y="44"/>
                          </a:lnTo>
                          <a:lnTo>
                            <a:pt x="133" y="43"/>
                          </a:lnTo>
                          <a:lnTo>
                            <a:pt x="120" y="42"/>
                          </a:lnTo>
                          <a:lnTo>
                            <a:pt x="108" y="41"/>
                          </a:lnTo>
                          <a:lnTo>
                            <a:pt x="96" y="39"/>
                          </a:lnTo>
                          <a:lnTo>
                            <a:pt x="82" y="37"/>
                          </a:lnTo>
                          <a:lnTo>
                            <a:pt x="73" y="32"/>
                          </a:lnTo>
                          <a:lnTo>
                            <a:pt x="65" y="28"/>
                          </a:lnTo>
                          <a:lnTo>
                            <a:pt x="58" y="23"/>
                          </a:lnTo>
                          <a:lnTo>
                            <a:pt x="52" y="19"/>
                          </a:lnTo>
                          <a:lnTo>
                            <a:pt x="47" y="14"/>
                          </a:lnTo>
                          <a:lnTo>
                            <a:pt x="44" y="11"/>
                          </a:lnTo>
                          <a:lnTo>
                            <a:pt x="42" y="5"/>
                          </a:lnTo>
                          <a:lnTo>
                            <a:pt x="40" y="0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Freeform 147"/>
                    <p:cNvSpPr/>
                    <p:nvPr/>
                  </p:nvSpPr>
                  <p:spPr>
                    <a:xfrm flipH="1">
                      <a:off x="2998800" y="2948040"/>
                      <a:ext cx="82800" cy="7920"/>
                    </a:xfrm>
                    <a:custGeom>
                      <a:avLst/>
                      <a:gdLst>
                        <a:gd name="textAreaLeft" fmla="*/ 360 w 82800"/>
                        <a:gd name="textAreaRight" fmla="*/ 83520 w 8280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382" h="96">
                          <a:moveTo>
                            <a:pt x="24" y="4"/>
                          </a:moveTo>
                          <a:lnTo>
                            <a:pt x="68" y="40"/>
                          </a:lnTo>
                          <a:lnTo>
                            <a:pt x="89" y="44"/>
                          </a:lnTo>
                          <a:lnTo>
                            <a:pt x="108" y="48"/>
                          </a:lnTo>
                          <a:lnTo>
                            <a:pt x="127" y="53"/>
                          </a:lnTo>
                          <a:lnTo>
                            <a:pt x="144" y="55"/>
                          </a:lnTo>
                          <a:lnTo>
                            <a:pt x="160" y="57"/>
                          </a:lnTo>
                          <a:lnTo>
                            <a:pt x="176" y="59"/>
                          </a:lnTo>
                          <a:lnTo>
                            <a:pt x="192" y="59"/>
                          </a:lnTo>
                          <a:lnTo>
                            <a:pt x="207" y="59"/>
                          </a:lnTo>
                          <a:lnTo>
                            <a:pt x="222" y="58"/>
                          </a:lnTo>
                          <a:lnTo>
                            <a:pt x="237" y="57"/>
                          </a:lnTo>
                          <a:lnTo>
                            <a:pt x="253" y="54"/>
                          </a:lnTo>
                          <a:lnTo>
                            <a:pt x="270" y="50"/>
                          </a:lnTo>
                          <a:lnTo>
                            <a:pt x="286" y="46"/>
                          </a:lnTo>
                          <a:lnTo>
                            <a:pt x="304" y="39"/>
                          </a:lnTo>
                          <a:lnTo>
                            <a:pt x="323" y="32"/>
                          </a:lnTo>
                          <a:lnTo>
                            <a:pt x="342" y="23"/>
                          </a:lnTo>
                          <a:lnTo>
                            <a:pt x="348" y="10"/>
                          </a:lnTo>
                          <a:lnTo>
                            <a:pt x="352" y="3"/>
                          </a:lnTo>
                          <a:lnTo>
                            <a:pt x="356" y="0"/>
                          </a:lnTo>
                          <a:lnTo>
                            <a:pt x="359" y="1"/>
                          </a:lnTo>
                          <a:lnTo>
                            <a:pt x="363" y="4"/>
                          </a:lnTo>
                          <a:lnTo>
                            <a:pt x="367" y="11"/>
                          </a:lnTo>
                          <a:lnTo>
                            <a:pt x="374" y="20"/>
                          </a:lnTo>
                          <a:lnTo>
                            <a:pt x="382" y="32"/>
                          </a:lnTo>
                          <a:lnTo>
                            <a:pt x="366" y="55"/>
                          </a:lnTo>
                          <a:lnTo>
                            <a:pt x="349" y="65"/>
                          </a:lnTo>
                          <a:lnTo>
                            <a:pt x="329" y="73"/>
                          </a:lnTo>
                          <a:lnTo>
                            <a:pt x="310" y="80"/>
                          </a:lnTo>
                          <a:lnTo>
                            <a:pt x="288" y="86"/>
                          </a:lnTo>
                          <a:lnTo>
                            <a:pt x="266" y="91"/>
                          </a:lnTo>
                          <a:lnTo>
                            <a:pt x="243" y="94"/>
                          </a:lnTo>
                          <a:lnTo>
                            <a:pt x="219" y="96"/>
                          </a:lnTo>
                          <a:lnTo>
                            <a:pt x="196" y="96"/>
                          </a:lnTo>
                          <a:lnTo>
                            <a:pt x="172" y="96"/>
                          </a:lnTo>
                          <a:lnTo>
                            <a:pt x="147" y="95"/>
                          </a:lnTo>
                          <a:lnTo>
                            <a:pt x="124" y="92"/>
                          </a:lnTo>
                          <a:lnTo>
                            <a:pt x="101" y="88"/>
                          </a:lnTo>
                          <a:lnTo>
                            <a:pt x="78" y="84"/>
                          </a:lnTo>
                          <a:lnTo>
                            <a:pt x="58" y="79"/>
                          </a:lnTo>
                          <a:lnTo>
                            <a:pt x="37" y="72"/>
                          </a:lnTo>
                          <a:lnTo>
                            <a:pt x="18" y="65"/>
                          </a:lnTo>
                          <a:lnTo>
                            <a:pt x="12" y="56"/>
                          </a:lnTo>
                          <a:lnTo>
                            <a:pt x="6" y="47"/>
                          </a:lnTo>
                          <a:lnTo>
                            <a:pt x="2" y="38"/>
                          </a:lnTo>
                          <a:lnTo>
                            <a:pt x="0" y="28"/>
                          </a:lnTo>
                          <a:lnTo>
                            <a:pt x="0" y="20"/>
                          </a:lnTo>
                          <a:lnTo>
                            <a:pt x="5" y="13"/>
                          </a:lnTo>
                          <a:lnTo>
                            <a:pt x="12" y="8"/>
                          </a:lnTo>
                          <a:lnTo>
                            <a:pt x="24" y="4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Freeform 148"/>
                    <p:cNvSpPr/>
                    <p:nvPr/>
                  </p:nvSpPr>
                  <p:spPr>
                    <a:xfrm flipH="1">
                      <a:off x="2987280" y="2955960"/>
                      <a:ext cx="109800" cy="17280"/>
                    </a:xfrm>
                    <a:custGeom>
                      <a:avLst/>
                      <a:gdLst>
                        <a:gd name="textAreaLeft" fmla="*/ -360 w 109800"/>
                        <a:gd name="textAreaRight" fmla="*/ 109800 w 109800"/>
                        <a:gd name="textAreaTop" fmla="*/ 0 h 17280"/>
                        <a:gd name="textAreaBottom" fmla="*/ 17640 h 17280"/>
                      </a:gdLst>
                      <a:ahLst/>
                      <a:rect l="textAreaLeft" t="textAreaTop" r="textAreaRight" b="textAreaBottom"/>
                      <a:pathLst>
                        <a:path w="483" h="184">
                          <a:moveTo>
                            <a:pt x="7" y="102"/>
                          </a:moveTo>
                          <a:lnTo>
                            <a:pt x="18" y="116"/>
                          </a:lnTo>
                          <a:lnTo>
                            <a:pt x="34" y="130"/>
                          </a:lnTo>
                          <a:lnTo>
                            <a:pt x="55" y="143"/>
                          </a:lnTo>
                          <a:lnTo>
                            <a:pt x="80" y="155"/>
                          </a:lnTo>
                          <a:lnTo>
                            <a:pt x="109" y="165"/>
                          </a:lnTo>
                          <a:lnTo>
                            <a:pt x="141" y="173"/>
                          </a:lnTo>
                          <a:lnTo>
                            <a:pt x="176" y="179"/>
                          </a:lnTo>
                          <a:lnTo>
                            <a:pt x="211" y="182"/>
                          </a:lnTo>
                          <a:lnTo>
                            <a:pt x="248" y="184"/>
                          </a:lnTo>
                          <a:lnTo>
                            <a:pt x="285" y="183"/>
                          </a:lnTo>
                          <a:lnTo>
                            <a:pt x="323" y="180"/>
                          </a:lnTo>
                          <a:lnTo>
                            <a:pt x="359" y="173"/>
                          </a:lnTo>
                          <a:lnTo>
                            <a:pt x="393" y="164"/>
                          </a:lnTo>
                          <a:lnTo>
                            <a:pt x="427" y="151"/>
                          </a:lnTo>
                          <a:lnTo>
                            <a:pt x="455" y="135"/>
                          </a:lnTo>
                          <a:lnTo>
                            <a:pt x="482" y="115"/>
                          </a:lnTo>
                          <a:lnTo>
                            <a:pt x="483" y="93"/>
                          </a:lnTo>
                          <a:lnTo>
                            <a:pt x="483" y="77"/>
                          </a:lnTo>
                          <a:lnTo>
                            <a:pt x="482" y="65"/>
                          </a:lnTo>
                          <a:lnTo>
                            <a:pt x="478" y="54"/>
                          </a:lnTo>
                          <a:lnTo>
                            <a:pt x="473" y="44"/>
                          </a:lnTo>
                          <a:lnTo>
                            <a:pt x="463" y="34"/>
                          </a:lnTo>
                          <a:lnTo>
                            <a:pt x="451" y="22"/>
                          </a:lnTo>
                          <a:lnTo>
                            <a:pt x="435" y="7"/>
                          </a:lnTo>
                          <a:lnTo>
                            <a:pt x="416" y="23"/>
                          </a:lnTo>
                          <a:lnTo>
                            <a:pt x="396" y="37"/>
                          </a:lnTo>
                          <a:lnTo>
                            <a:pt x="375" y="50"/>
                          </a:lnTo>
                          <a:lnTo>
                            <a:pt x="353" y="59"/>
                          </a:lnTo>
                          <a:lnTo>
                            <a:pt x="330" y="67"/>
                          </a:lnTo>
                          <a:lnTo>
                            <a:pt x="307" y="73"/>
                          </a:lnTo>
                          <a:lnTo>
                            <a:pt x="284" y="76"/>
                          </a:lnTo>
                          <a:lnTo>
                            <a:pt x="260" y="78"/>
                          </a:lnTo>
                          <a:lnTo>
                            <a:pt x="235" y="78"/>
                          </a:lnTo>
                          <a:lnTo>
                            <a:pt x="211" y="76"/>
                          </a:lnTo>
                          <a:lnTo>
                            <a:pt x="187" y="73"/>
                          </a:lnTo>
                          <a:lnTo>
                            <a:pt x="163" y="68"/>
                          </a:lnTo>
                          <a:lnTo>
                            <a:pt x="140" y="61"/>
                          </a:lnTo>
                          <a:lnTo>
                            <a:pt x="116" y="53"/>
                          </a:lnTo>
                          <a:lnTo>
                            <a:pt x="94" y="44"/>
                          </a:lnTo>
                          <a:lnTo>
                            <a:pt x="72" y="32"/>
                          </a:lnTo>
                          <a:lnTo>
                            <a:pt x="66" y="0"/>
                          </a:lnTo>
                          <a:lnTo>
                            <a:pt x="56" y="5"/>
                          </a:lnTo>
                          <a:lnTo>
                            <a:pt x="42" y="12"/>
                          </a:lnTo>
                          <a:lnTo>
                            <a:pt x="29" y="20"/>
                          </a:lnTo>
                          <a:lnTo>
                            <a:pt x="17" y="30"/>
                          </a:lnTo>
                          <a:lnTo>
                            <a:pt x="7" y="43"/>
                          </a:lnTo>
                          <a:lnTo>
                            <a:pt x="2" y="59"/>
                          </a:lnTo>
                          <a:lnTo>
                            <a:pt x="0" y="78"/>
                          </a:lnTo>
                          <a:lnTo>
                            <a:pt x="7" y="102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Freeform 184"/>
                    <p:cNvSpPr/>
                    <p:nvPr/>
                  </p:nvSpPr>
                  <p:spPr>
                    <a:xfrm flipH="1">
                      <a:off x="3028680" y="2868480"/>
                      <a:ext cx="19080" cy="7920"/>
                    </a:xfrm>
                    <a:custGeom>
                      <a:avLst/>
                      <a:gdLst>
                        <a:gd name="textAreaLeft" fmla="*/ -360 w 19080"/>
                        <a:gd name="textAreaRight" fmla="*/ 19080 w 1908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95" h="72">
                          <a:moveTo>
                            <a:pt x="48" y="0"/>
                          </a:moveTo>
                          <a:lnTo>
                            <a:pt x="57" y="2"/>
                          </a:lnTo>
                          <a:lnTo>
                            <a:pt x="66" y="3"/>
                          </a:lnTo>
                          <a:lnTo>
                            <a:pt x="74" y="6"/>
                          </a:lnTo>
                          <a:lnTo>
                            <a:pt x="81" y="11"/>
                          </a:lnTo>
                          <a:lnTo>
                            <a:pt x="87" y="16"/>
                          </a:lnTo>
                          <a:lnTo>
                            <a:pt x="91" y="22"/>
                          </a:lnTo>
                          <a:lnTo>
                            <a:pt x="94" y="29"/>
                          </a:lnTo>
                          <a:lnTo>
                            <a:pt x="95" y="36"/>
                          </a:lnTo>
                          <a:lnTo>
                            <a:pt x="94" y="43"/>
                          </a:lnTo>
                          <a:lnTo>
                            <a:pt x="91" y="50"/>
                          </a:lnTo>
                          <a:lnTo>
                            <a:pt x="87" y="56"/>
                          </a:lnTo>
                          <a:lnTo>
                            <a:pt x="81" y="61"/>
                          </a:lnTo>
                          <a:lnTo>
                            <a:pt x="74" y="66"/>
                          </a:lnTo>
                          <a:lnTo>
                            <a:pt x="66" y="69"/>
                          </a:lnTo>
                          <a:lnTo>
                            <a:pt x="57" y="71"/>
                          </a:lnTo>
                          <a:lnTo>
                            <a:pt x="48" y="72"/>
                          </a:lnTo>
                          <a:lnTo>
                            <a:pt x="38" y="71"/>
                          </a:lnTo>
                          <a:lnTo>
                            <a:pt x="29" y="69"/>
                          </a:lnTo>
                          <a:lnTo>
                            <a:pt x="21" y="66"/>
                          </a:lnTo>
                          <a:lnTo>
                            <a:pt x="14" y="61"/>
                          </a:lnTo>
                          <a:lnTo>
                            <a:pt x="8" y="56"/>
                          </a:lnTo>
                          <a:lnTo>
                            <a:pt x="4" y="50"/>
                          </a:lnTo>
                          <a:lnTo>
                            <a:pt x="2" y="43"/>
                          </a:lnTo>
                          <a:lnTo>
                            <a:pt x="0" y="36"/>
                          </a:lnTo>
                          <a:lnTo>
                            <a:pt x="2" y="29"/>
                          </a:lnTo>
                          <a:lnTo>
                            <a:pt x="4" y="22"/>
                          </a:lnTo>
                          <a:lnTo>
                            <a:pt x="8" y="16"/>
                          </a:lnTo>
                          <a:lnTo>
                            <a:pt x="14" y="11"/>
                          </a:lnTo>
                          <a:lnTo>
                            <a:pt x="21" y="6"/>
                          </a:lnTo>
                          <a:lnTo>
                            <a:pt x="29" y="3"/>
                          </a:lnTo>
                          <a:lnTo>
                            <a:pt x="38" y="2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" name="Gruppe 813"/>
                  <p:cNvGrpSpPr/>
                  <p:nvPr/>
                </p:nvGrpSpPr>
                <p:grpSpPr>
                  <a:xfrm>
                    <a:off x="2995920" y="2862720"/>
                    <a:ext cx="90360" cy="114840"/>
                    <a:chOff x="2995920" y="2862720"/>
                    <a:chExt cx="90360" cy="114840"/>
                  </a:xfrm>
                </p:grpSpPr>
                <p:sp>
                  <p:nvSpPr>
                    <p:cNvPr id="294" name="Freeform 316"/>
                    <p:cNvSpPr/>
                    <p:nvPr/>
                  </p:nvSpPr>
                  <p:spPr>
                    <a:xfrm flipH="1">
                      <a:off x="3016080" y="2895840"/>
                      <a:ext cx="48240" cy="3600"/>
                    </a:xfrm>
                    <a:custGeom>
                      <a:avLst/>
                      <a:gdLst>
                        <a:gd name="textAreaLeft" fmla="*/ 360 w 48240"/>
                        <a:gd name="textAreaRight" fmla="*/ 48960 w 48240"/>
                        <a:gd name="textAreaTop" fmla="*/ 0 h 3600"/>
                        <a:gd name="textAreaBottom" fmla="*/ 3960 h 3600"/>
                      </a:gdLst>
                      <a:ahLst/>
                      <a:rect l="textAreaLeft" t="textAreaTop" r="textAreaRight" b="textAreaBottom"/>
                      <a:pathLst>
                        <a:path w="230" h="41">
                          <a:moveTo>
                            <a:pt x="13" y="0"/>
                          </a:moveTo>
                          <a:lnTo>
                            <a:pt x="26" y="6"/>
                          </a:lnTo>
                          <a:lnTo>
                            <a:pt x="39" y="13"/>
                          </a:lnTo>
                          <a:lnTo>
                            <a:pt x="52" y="16"/>
                          </a:lnTo>
                          <a:lnTo>
                            <a:pt x="65" y="19"/>
                          </a:lnTo>
                          <a:lnTo>
                            <a:pt x="78" y="22"/>
                          </a:lnTo>
                          <a:lnTo>
                            <a:pt x="93" y="23"/>
                          </a:lnTo>
                          <a:lnTo>
                            <a:pt x="106" y="24"/>
                          </a:lnTo>
                          <a:lnTo>
                            <a:pt x="120" y="23"/>
                          </a:lnTo>
                          <a:lnTo>
                            <a:pt x="134" y="22"/>
                          </a:lnTo>
                          <a:lnTo>
                            <a:pt x="147" y="20"/>
                          </a:lnTo>
                          <a:lnTo>
                            <a:pt x="161" y="18"/>
                          </a:lnTo>
                          <a:lnTo>
                            <a:pt x="176" y="15"/>
                          </a:lnTo>
                          <a:lnTo>
                            <a:pt x="189" y="13"/>
                          </a:lnTo>
                          <a:lnTo>
                            <a:pt x="203" y="9"/>
                          </a:lnTo>
                          <a:lnTo>
                            <a:pt x="216" y="6"/>
                          </a:lnTo>
                          <a:lnTo>
                            <a:pt x="230" y="2"/>
                          </a:lnTo>
                          <a:lnTo>
                            <a:pt x="230" y="15"/>
                          </a:lnTo>
                          <a:lnTo>
                            <a:pt x="221" y="19"/>
                          </a:lnTo>
                          <a:lnTo>
                            <a:pt x="212" y="23"/>
                          </a:lnTo>
                          <a:lnTo>
                            <a:pt x="200" y="27"/>
                          </a:lnTo>
                          <a:lnTo>
                            <a:pt x="189" y="29"/>
                          </a:lnTo>
                          <a:lnTo>
                            <a:pt x="174" y="33"/>
                          </a:lnTo>
                          <a:lnTo>
                            <a:pt x="161" y="36"/>
                          </a:lnTo>
                          <a:lnTo>
                            <a:pt x="146" y="39"/>
                          </a:lnTo>
                          <a:lnTo>
                            <a:pt x="132" y="41"/>
                          </a:lnTo>
                          <a:lnTo>
                            <a:pt x="115" y="41"/>
                          </a:lnTo>
                          <a:lnTo>
                            <a:pt x="99" y="41"/>
                          </a:lnTo>
                          <a:lnTo>
                            <a:pt x="82" y="40"/>
                          </a:lnTo>
                          <a:lnTo>
                            <a:pt x="65" y="37"/>
                          </a:lnTo>
                          <a:lnTo>
                            <a:pt x="50" y="32"/>
                          </a:lnTo>
                          <a:lnTo>
                            <a:pt x="33" y="27"/>
                          </a:lnTo>
                          <a:lnTo>
                            <a:pt x="16" y="19"/>
                          </a:lnTo>
                          <a:lnTo>
                            <a:pt x="0" y="9"/>
                          </a:lnTo>
                          <a:lnTo>
                            <a:pt x="13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Freeform 330"/>
                    <p:cNvSpPr/>
                    <p:nvPr/>
                  </p:nvSpPr>
                  <p:spPr>
                    <a:xfrm flipH="1">
                      <a:off x="2995560" y="2949120"/>
                      <a:ext cx="90360" cy="10080"/>
                    </a:xfrm>
                    <a:custGeom>
                      <a:avLst/>
                      <a:gdLst>
                        <a:gd name="textAreaLeft" fmla="*/ -360 w 90360"/>
                        <a:gd name="textAreaRight" fmla="*/ 90360 w 90360"/>
                        <a:gd name="textAreaTop" fmla="*/ 0 h 10080"/>
                        <a:gd name="textAreaBottom" fmla="*/ 10440 h 10080"/>
                      </a:gdLst>
                      <a:ahLst/>
                      <a:rect l="textAreaLeft" t="textAreaTop" r="textAreaRight" b="textAreaBottom"/>
                      <a:pathLst>
                        <a:path w="431" h="109">
                          <a:moveTo>
                            <a:pt x="27" y="5"/>
                          </a:moveTo>
                          <a:lnTo>
                            <a:pt x="77" y="45"/>
                          </a:lnTo>
                          <a:lnTo>
                            <a:pt x="100" y="51"/>
                          </a:lnTo>
                          <a:lnTo>
                            <a:pt x="122" y="54"/>
                          </a:lnTo>
                          <a:lnTo>
                            <a:pt x="143" y="60"/>
                          </a:lnTo>
                          <a:lnTo>
                            <a:pt x="162" y="62"/>
                          </a:lnTo>
                          <a:lnTo>
                            <a:pt x="180" y="65"/>
                          </a:lnTo>
                          <a:lnTo>
                            <a:pt x="199" y="67"/>
                          </a:lnTo>
                          <a:lnTo>
                            <a:pt x="217" y="67"/>
                          </a:lnTo>
                          <a:lnTo>
                            <a:pt x="234" y="67"/>
                          </a:lnTo>
                          <a:lnTo>
                            <a:pt x="251" y="66"/>
                          </a:lnTo>
                          <a:lnTo>
                            <a:pt x="267" y="65"/>
                          </a:lnTo>
                          <a:lnTo>
                            <a:pt x="286" y="61"/>
                          </a:lnTo>
                          <a:lnTo>
                            <a:pt x="304" y="57"/>
                          </a:lnTo>
                          <a:lnTo>
                            <a:pt x="322" y="52"/>
                          </a:lnTo>
                          <a:lnTo>
                            <a:pt x="343" y="44"/>
                          </a:lnTo>
                          <a:lnTo>
                            <a:pt x="363" y="36"/>
                          </a:lnTo>
                          <a:lnTo>
                            <a:pt x="386" y="26"/>
                          </a:lnTo>
                          <a:lnTo>
                            <a:pt x="392" y="12"/>
                          </a:lnTo>
                          <a:lnTo>
                            <a:pt x="397" y="4"/>
                          </a:lnTo>
                          <a:lnTo>
                            <a:pt x="401" y="0"/>
                          </a:lnTo>
                          <a:lnTo>
                            <a:pt x="405" y="1"/>
                          </a:lnTo>
                          <a:lnTo>
                            <a:pt x="409" y="5"/>
                          </a:lnTo>
                          <a:lnTo>
                            <a:pt x="414" y="13"/>
                          </a:lnTo>
                          <a:lnTo>
                            <a:pt x="422" y="23"/>
                          </a:lnTo>
                          <a:lnTo>
                            <a:pt x="431" y="36"/>
                          </a:lnTo>
                          <a:lnTo>
                            <a:pt x="413" y="62"/>
                          </a:lnTo>
                          <a:lnTo>
                            <a:pt x="393" y="74"/>
                          </a:lnTo>
                          <a:lnTo>
                            <a:pt x="371" y="83"/>
                          </a:lnTo>
                          <a:lnTo>
                            <a:pt x="349" y="91"/>
                          </a:lnTo>
                          <a:lnTo>
                            <a:pt x="325" y="97"/>
                          </a:lnTo>
                          <a:lnTo>
                            <a:pt x="300" y="103"/>
                          </a:lnTo>
                          <a:lnTo>
                            <a:pt x="274" y="106"/>
                          </a:lnTo>
                          <a:lnTo>
                            <a:pt x="247" y="109"/>
                          </a:lnTo>
                          <a:lnTo>
                            <a:pt x="221" y="109"/>
                          </a:lnTo>
                          <a:lnTo>
                            <a:pt x="193" y="109"/>
                          </a:lnTo>
                          <a:lnTo>
                            <a:pt x="166" y="108"/>
                          </a:lnTo>
                          <a:lnTo>
                            <a:pt x="140" y="104"/>
                          </a:lnTo>
                          <a:lnTo>
                            <a:pt x="114" y="100"/>
                          </a:lnTo>
                          <a:lnTo>
                            <a:pt x="88" y="95"/>
                          </a:lnTo>
                          <a:lnTo>
                            <a:pt x="65" y="90"/>
                          </a:lnTo>
                          <a:lnTo>
                            <a:pt x="42" y="82"/>
                          </a:lnTo>
                          <a:lnTo>
                            <a:pt x="21" y="74"/>
                          </a:lnTo>
                          <a:lnTo>
                            <a:pt x="13" y="64"/>
                          </a:lnTo>
                          <a:lnTo>
                            <a:pt x="7" y="53"/>
                          </a:lnTo>
                          <a:lnTo>
                            <a:pt x="3" y="43"/>
                          </a:lnTo>
                          <a:lnTo>
                            <a:pt x="0" y="32"/>
                          </a:lnTo>
                          <a:lnTo>
                            <a:pt x="0" y="23"/>
                          </a:lnTo>
                          <a:lnTo>
                            <a:pt x="5" y="16"/>
                          </a:lnTo>
                          <a:lnTo>
                            <a:pt x="13" y="9"/>
                          </a:lnTo>
                          <a:lnTo>
                            <a:pt x="27" y="5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Freeform 336"/>
                    <p:cNvSpPr/>
                    <p:nvPr/>
                  </p:nvSpPr>
                  <p:spPr>
                    <a:xfrm flipH="1">
                      <a:off x="3004920" y="2970720"/>
                      <a:ext cx="64800" cy="6840"/>
                    </a:xfrm>
                    <a:custGeom>
                      <a:avLst/>
                      <a:gdLst>
                        <a:gd name="textAreaLeft" fmla="*/ 360 w 64800"/>
                        <a:gd name="textAreaRight" fmla="*/ 65520 w 64800"/>
                        <a:gd name="textAreaTop" fmla="*/ 0 h 6840"/>
                        <a:gd name="textAreaBottom" fmla="*/ 7200 h 6840"/>
                      </a:gdLst>
                      <a:ahLst/>
                      <a:rect l="textAreaLeft" t="textAreaTop" r="textAreaRight" b="textAreaBottom"/>
                      <a:pathLst>
                        <a:path w="309" h="72">
                          <a:moveTo>
                            <a:pt x="0" y="29"/>
                          </a:moveTo>
                          <a:lnTo>
                            <a:pt x="3" y="37"/>
                          </a:lnTo>
                          <a:lnTo>
                            <a:pt x="7" y="45"/>
                          </a:lnTo>
                          <a:lnTo>
                            <a:pt x="11" y="53"/>
                          </a:lnTo>
                          <a:lnTo>
                            <a:pt x="15" y="61"/>
                          </a:lnTo>
                          <a:lnTo>
                            <a:pt x="22" y="62"/>
                          </a:lnTo>
                          <a:lnTo>
                            <a:pt x="29" y="63"/>
                          </a:lnTo>
                          <a:lnTo>
                            <a:pt x="37" y="65"/>
                          </a:lnTo>
                          <a:lnTo>
                            <a:pt x="44" y="66"/>
                          </a:lnTo>
                          <a:lnTo>
                            <a:pt x="51" y="67"/>
                          </a:lnTo>
                          <a:lnTo>
                            <a:pt x="59" y="68"/>
                          </a:lnTo>
                          <a:lnTo>
                            <a:pt x="65" y="71"/>
                          </a:lnTo>
                          <a:lnTo>
                            <a:pt x="73" y="72"/>
                          </a:lnTo>
                          <a:lnTo>
                            <a:pt x="91" y="72"/>
                          </a:lnTo>
                          <a:lnTo>
                            <a:pt x="109" y="71"/>
                          </a:lnTo>
                          <a:lnTo>
                            <a:pt x="127" y="71"/>
                          </a:lnTo>
                          <a:lnTo>
                            <a:pt x="146" y="70"/>
                          </a:lnTo>
                          <a:lnTo>
                            <a:pt x="164" y="70"/>
                          </a:lnTo>
                          <a:lnTo>
                            <a:pt x="183" y="68"/>
                          </a:lnTo>
                          <a:lnTo>
                            <a:pt x="201" y="68"/>
                          </a:lnTo>
                          <a:lnTo>
                            <a:pt x="220" y="67"/>
                          </a:lnTo>
                          <a:lnTo>
                            <a:pt x="231" y="65"/>
                          </a:lnTo>
                          <a:lnTo>
                            <a:pt x="242" y="61"/>
                          </a:lnTo>
                          <a:lnTo>
                            <a:pt x="253" y="58"/>
                          </a:lnTo>
                          <a:lnTo>
                            <a:pt x="265" y="54"/>
                          </a:lnTo>
                          <a:lnTo>
                            <a:pt x="275" y="52"/>
                          </a:lnTo>
                          <a:lnTo>
                            <a:pt x="287" y="48"/>
                          </a:lnTo>
                          <a:lnTo>
                            <a:pt x="297" y="45"/>
                          </a:lnTo>
                          <a:lnTo>
                            <a:pt x="309" y="41"/>
                          </a:lnTo>
                          <a:lnTo>
                            <a:pt x="309" y="26"/>
                          </a:lnTo>
                          <a:lnTo>
                            <a:pt x="307" y="13"/>
                          </a:lnTo>
                          <a:lnTo>
                            <a:pt x="303" y="5"/>
                          </a:lnTo>
                          <a:lnTo>
                            <a:pt x="297" y="1"/>
                          </a:lnTo>
                          <a:lnTo>
                            <a:pt x="290" y="0"/>
                          </a:lnTo>
                          <a:lnTo>
                            <a:pt x="279" y="0"/>
                          </a:lnTo>
                          <a:lnTo>
                            <a:pt x="268" y="4"/>
                          </a:lnTo>
                          <a:lnTo>
                            <a:pt x="252" y="9"/>
                          </a:lnTo>
                          <a:lnTo>
                            <a:pt x="242" y="9"/>
                          </a:lnTo>
                          <a:lnTo>
                            <a:pt x="231" y="10"/>
                          </a:lnTo>
                          <a:lnTo>
                            <a:pt x="221" y="10"/>
                          </a:lnTo>
                          <a:lnTo>
                            <a:pt x="211" y="10"/>
                          </a:lnTo>
                          <a:lnTo>
                            <a:pt x="200" y="10"/>
                          </a:lnTo>
                          <a:lnTo>
                            <a:pt x="188" y="10"/>
                          </a:lnTo>
                          <a:lnTo>
                            <a:pt x="178" y="11"/>
                          </a:lnTo>
                          <a:lnTo>
                            <a:pt x="168" y="11"/>
                          </a:lnTo>
                          <a:lnTo>
                            <a:pt x="140" y="10"/>
                          </a:lnTo>
                          <a:lnTo>
                            <a:pt x="116" y="9"/>
                          </a:lnTo>
                          <a:lnTo>
                            <a:pt x="96" y="6"/>
                          </a:lnTo>
                          <a:lnTo>
                            <a:pt x="77" y="5"/>
                          </a:lnTo>
                          <a:lnTo>
                            <a:pt x="60" y="6"/>
                          </a:lnTo>
                          <a:lnTo>
                            <a:pt x="42" y="9"/>
                          </a:lnTo>
                          <a:lnTo>
                            <a:pt x="22" y="16"/>
                          </a:lnTo>
                          <a:lnTo>
                            <a:pt x="0" y="29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353"/>
                    <p:cNvSpPr/>
                    <p:nvPr/>
                  </p:nvSpPr>
                  <p:spPr>
                    <a:xfrm flipH="1">
                      <a:off x="3026160" y="2909880"/>
                      <a:ext cx="23400" cy="2160"/>
                    </a:xfrm>
                    <a:custGeom>
                      <a:avLst/>
                      <a:gdLst>
                        <a:gd name="textAreaLeft" fmla="*/ -360 w 23400"/>
                        <a:gd name="textAreaRight" fmla="*/ 23400 w 23400"/>
                        <a:gd name="textAreaTop" fmla="*/ 0 h 2160"/>
                        <a:gd name="textAreaBottom" fmla="*/ 2520 h 2160"/>
                      </a:gdLst>
                      <a:ahLst/>
                      <a:rect l="textAreaLeft" t="textAreaTop" r="textAreaRight" b="textAreaBottom"/>
                      <a:pathLst>
                        <a:path w="112" h="25">
                          <a:moveTo>
                            <a:pt x="0" y="11"/>
                          </a:moveTo>
                          <a:lnTo>
                            <a:pt x="5" y="17"/>
                          </a:lnTo>
                          <a:lnTo>
                            <a:pt x="26" y="25"/>
                          </a:lnTo>
                          <a:lnTo>
                            <a:pt x="80" y="20"/>
                          </a:lnTo>
                          <a:lnTo>
                            <a:pt x="112" y="13"/>
                          </a:lnTo>
                          <a:lnTo>
                            <a:pt x="110" y="4"/>
                          </a:lnTo>
                          <a:lnTo>
                            <a:pt x="108" y="0"/>
                          </a:lnTo>
                          <a:lnTo>
                            <a:pt x="103" y="2"/>
                          </a:lnTo>
                          <a:lnTo>
                            <a:pt x="92" y="4"/>
                          </a:lnTo>
                          <a:lnTo>
                            <a:pt x="61" y="6"/>
                          </a:lnTo>
                          <a:lnTo>
                            <a:pt x="51" y="6"/>
                          </a:lnTo>
                          <a:lnTo>
                            <a:pt x="43" y="4"/>
                          </a:lnTo>
                          <a:lnTo>
                            <a:pt x="35" y="4"/>
                          </a:lnTo>
                          <a:lnTo>
                            <a:pt x="29" y="3"/>
                          </a:lnTo>
                          <a:lnTo>
                            <a:pt x="22" y="3"/>
                          </a:lnTo>
                          <a:lnTo>
                            <a:pt x="14" y="4"/>
                          </a:lnTo>
                          <a:lnTo>
                            <a:pt x="8" y="7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Freeform 367"/>
                    <p:cNvSpPr/>
                    <p:nvPr/>
                  </p:nvSpPr>
                  <p:spPr>
                    <a:xfrm flipH="1">
                      <a:off x="3027600" y="2862720"/>
                      <a:ext cx="21960" cy="7560"/>
                    </a:xfrm>
                    <a:custGeom>
                      <a:avLst/>
                      <a:gdLst>
                        <a:gd name="textAreaLeft" fmla="*/ -360 w 21960"/>
                        <a:gd name="textAreaRight" fmla="*/ 21960 w 21960"/>
                        <a:gd name="textAreaTop" fmla="*/ 0 h 7560"/>
                        <a:gd name="textAreaBottom" fmla="*/ 7920 h 7560"/>
                      </a:gdLst>
                      <a:ahLst/>
                      <a:rect l="textAreaLeft" t="textAreaTop" r="textAreaRight" b="textAreaBottom"/>
                      <a:pathLst>
                        <a:path w="106" h="80">
                          <a:moveTo>
                            <a:pt x="53" y="0"/>
                          </a:moveTo>
                          <a:lnTo>
                            <a:pt x="64" y="1"/>
                          </a:lnTo>
                          <a:lnTo>
                            <a:pt x="74" y="2"/>
                          </a:lnTo>
                          <a:lnTo>
                            <a:pt x="83" y="6"/>
                          </a:lnTo>
                          <a:lnTo>
                            <a:pt x="91" y="11"/>
                          </a:lnTo>
                          <a:lnTo>
                            <a:pt x="97" y="18"/>
                          </a:lnTo>
                          <a:lnTo>
                            <a:pt x="103" y="24"/>
                          </a:lnTo>
                          <a:lnTo>
                            <a:pt x="105" y="32"/>
                          </a:lnTo>
                          <a:lnTo>
                            <a:pt x="106" y="40"/>
                          </a:lnTo>
                          <a:lnTo>
                            <a:pt x="105" y="48"/>
                          </a:lnTo>
                          <a:lnTo>
                            <a:pt x="103" y="55"/>
                          </a:lnTo>
                          <a:lnTo>
                            <a:pt x="97" y="62"/>
                          </a:lnTo>
                          <a:lnTo>
                            <a:pt x="91" y="68"/>
                          </a:lnTo>
                          <a:lnTo>
                            <a:pt x="83" y="74"/>
                          </a:lnTo>
                          <a:lnTo>
                            <a:pt x="74" y="78"/>
                          </a:lnTo>
                          <a:lnTo>
                            <a:pt x="64" y="79"/>
                          </a:lnTo>
                          <a:lnTo>
                            <a:pt x="53" y="80"/>
                          </a:lnTo>
                          <a:lnTo>
                            <a:pt x="43" y="79"/>
                          </a:lnTo>
                          <a:lnTo>
                            <a:pt x="32" y="78"/>
                          </a:lnTo>
                          <a:lnTo>
                            <a:pt x="23" y="74"/>
                          </a:lnTo>
                          <a:lnTo>
                            <a:pt x="16" y="68"/>
                          </a:lnTo>
                          <a:lnTo>
                            <a:pt x="9" y="62"/>
                          </a:lnTo>
                          <a:lnTo>
                            <a:pt x="4" y="55"/>
                          </a:lnTo>
                          <a:lnTo>
                            <a:pt x="1" y="48"/>
                          </a:lnTo>
                          <a:lnTo>
                            <a:pt x="0" y="40"/>
                          </a:lnTo>
                          <a:lnTo>
                            <a:pt x="1" y="32"/>
                          </a:lnTo>
                          <a:lnTo>
                            <a:pt x="4" y="24"/>
                          </a:lnTo>
                          <a:lnTo>
                            <a:pt x="9" y="18"/>
                          </a:lnTo>
                          <a:lnTo>
                            <a:pt x="16" y="11"/>
                          </a:lnTo>
                          <a:lnTo>
                            <a:pt x="23" y="6"/>
                          </a:lnTo>
                          <a:lnTo>
                            <a:pt x="32" y="2"/>
                          </a:lnTo>
                          <a:lnTo>
                            <a:pt x="43" y="1"/>
                          </a:lnTo>
                          <a:lnTo>
                            <a:pt x="53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99" name="Freeform 383"/>
              <p:cNvSpPr/>
              <p:nvPr/>
            </p:nvSpPr>
            <p:spPr>
              <a:xfrm flipH="1">
                <a:off x="2995200" y="2843280"/>
                <a:ext cx="90360" cy="42840"/>
              </a:xfrm>
              <a:custGeom>
                <a:avLst/>
                <a:gdLst>
                  <a:gd name="textAreaLeft" fmla="*/ -360 w 90360"/>
                  <a:gd name="textAreaRight" fmla="*/ 90360 w 903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808" h="400">
                    <a:moveTo>
                      <a:pt x="780" y="350"/>
                    </a:moveTo>
                    <a:lnTo>
                      <a:pt x="808" y="10"/>
                    </a:lnTo>
                    <a:lnTo>
                      <a:pt x="644" y="12"/>
                    </a:lnTo>
                    <a:lnTo>
                      <a:pt x="644" y="140"/>
                    </a:lnTo>
                    <a:lnTo>
                      <a:pt x="520" y="130"/>
                    </a:lnTo>
                    <a:lnTo>
                      <a:pt x="510" y="8"/>
                    </a:lnTo>
                    <a:lnTo>
                      <a:pt x="330" y="0"/>
                    </a:lnTo>
                    <a:lnTo>
                      <a:pt x="336" y="132"/>
                    </a:lnTo>
                    <a:lnTo>
                      <a:pt x="206" y="134"/>
                    </a:lnTo>
                    <a:lnTo>
                      <a:pt x="202" y="4"/>
                    </a:lnTo>
                    <a:lnTo>
                      <a:pt x="0" y="18"/>
                    </a:lnTo>
                    <a:lnTo>
                      <a:pt x="24" y="342"/>
                    </a:lnTo>
                    <a:lnTo>
                      <a:pt x="130" y="400"/>
                    </a:lnTo>
                    <a:lnTo>
                      <a:pt x="688" y="400"/>
                    </a:lnTo>
                    <a:lnTo>
                      <a:pt x="780" y="3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0808"/>
                  </a:gs>
                  <a:gs pos="100000">
                    <a:srgbClr val="e6e6e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uppe 206"/>
            <p:cNvGrpSpPr/>
            <p:nvPr/>
          </p:nvGrpSpPr>
          <p:grpSpPr>
            <a:xfrm>
              <a:off x="2318760" y="2843280"/>
              <a:ext cx="138240" cy="180360"/>
              <a:chOff x="2318760" y="2843280"/>
              <a:chExt cx="138240" cy="180360"/>
            </a:xfrm>
          </p:grpSpPr>
          <p:grpSp>
            <p:nvGrpSpPr>
              <p:cNvPr id="301" name="Gruppe 1100"/>
              <p:cNvGrpSpPr/>
              <p:nvPr/>
            </p:nvGrpSpPr>
            <p:grpSpPr>
              <a:xfrm>
                <a:off x="2346840" y="2843280"/>
                <a:ext cx="91080" cy="169560"/>
                <a:chOff x="2346840" y="2843280"/>
                <a:chExt cx="91080" cy="169560"/>
              </a:xfrm>
            </p:grpSpPr>
            <p:sp>
              <p:nvSpPr>
                <p:cNvPr id="302" name="Freeform 484"/>
                <p:cNvSpPr/>
                <p:nvPr/>
              </p:nvSpPr>
              <p:spPr>
                <a:xfrm flipH="1">
                  <a:off x="2346480" y="2843280"/>
                  <a:ext cx="91080" cy="16956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169560"/>
                    <a:gd name="textAreaBottom" fmla="*/ 169920 h 169560"/>
                  </a:gdLst>
                  <a:ahLst/>
                  <a:rect l="textAreaLeft" t="textAreaTop" r="textAreaRight" b="textAreaBottom"/>
                  <a:pathLst>
                    <a:path w="998" h="1943">
                      <a:moveTo>
                        <a:pt x="948" y="1627"/>
                      </a:moveTo>
                      <a:lnTo>
                        <a:pt x="961" y="1571"/>
                      </a:lnTo>
                      <a:lnTo>
                        <a:pt x="960" y="1525"/>
                      </a:lnTo>
                      <a:lnTo>
                        <a:pt x="948" y="1490"/>
                      </a:lnTo>
                      <a:lnTo>
                        <a:pt x="930" y="1465"/>
                      </a:lnTo>
                      <a:lnTo>
                        <a:pt x="908" y="1446"/>
                      </a:lnTo>
                      <a:lnTo>
                        <a:pt x="888" y="1434"/>
                      </a:lnTo>
                      <a:lnTo>
                        <a:pt x="872" y="1429"/>
                      </a:lnTo>
                      <a:lnTo>
                        <a:pt x="866" y="1427"/>
                      </a:lnTo>
                      <a:lnTo>
                        <a:pt x="879" y="1402"/>
                      </a:lnTo>
                      <a:lnTo>
                        <a:pt x="884" y="1381"/>
                      </a:lnTo>
                      <a:lnTo>
                        <a:pt x="881" y="1364"/>
                      </a:lnTo>
                      <a:lnTo>
                        <a:pt x="872" y="1350"/>
                      </a:lnTo>
                      <a:lnTo>
                        <a:pt x="862" y="1340"/>
                      </a:lnTo>
                      <a:lnTo>
                        <a:pt x="852" y="1334"/>
                      </a:lnTo>
                      <a:lnTo>
                        <a:pt x="845" y="1330"/>
                      </a:lnTo>
                      <a:lnTo>
                        <a:pt x="842" y="1328"/>
                      </a:lnTo>
                      <a:lnTo>
                        <a:pt x="866" y="1287"/>
                      </a:lnTo>
                      <a:lnTo>
                        <a:pt x="898" y="1224"/>
                      </a:lnTo>
                      <a:lnTo>
                        <a:pt x="917" y="1158"/>
                      </a:lnTo>
                      <a:lnTo>
                        <a:pt x="921" y="1093"/>
                      </a:lnTo>
                      <a:lnTo>
                        <a:pt x="917" y="1030"/>
                      </a:lnTo>
                      <a:lnTo>
                        <a:pt x="904" y="972"/>
                      </a:lnTo>
                      <a:lnTo>
                        <a:pt x="885" y="919"/>
                      </a:lnTo>
                      <a:lnTo>
                        <a:pt x="864" y="876"/>
                      </a:lnTo>
                      <a:lnTo>
                        <a:pt x="842" y="841"/>
                      </a:lnTo>
                      <a:lnTo>
                        <a:pt x="829" y="825"/>
                      </a:lnTo>
                      <a:lnTo>
                        <a:pt x="812" y="804"/>
                      </a:lnTo>
                      <a:lnTo>
                        <a:pt x="792" y="780"/>
                      </a:lnTo>
                      <a:lnTo>
                        <a:pt x="769" y="751"/>
                      </a:lnTo>
                      <a:lnTo>
                        <a:pt x="745" y="722"/>
                      </a:lnTo>
                      <a:lnTo>
                        <a:pt x="719" y="691"/>
                      </a:lnTo>
                      <a:lnTo>
                        <a:pt x="695" y="659"/>
                      </a:lnTo>
                      <a:lnTo>
                        <a:pt x="669" y="628"/>
                      </a:lnTo>
                      <a:lnTo>
                        <a:pt x="646" y="599"/>
                      </a:lnTo>
                      <a:lnTo>
                        <a:pt x="626" y="570"/>
                      </a:lnTo>
                      <a:lnTo>
                        <a:pt x="607" y="546"/>
                      </a:lnTo>
                      <a:lnTo>
                        <a:pt x="592" y="523"/>
                      </a:lnTo>
                      <a:lnTo>
                        <a:pt x="579" y="503"/>
                      </a:lnTo>
                      <a:lnTo>
                        <a:pt x="571" y="487"/>
                      </a:lnTo>
                      <a:lnTo>
                        <a:pt x="567" y="476"/>
                      </a:lnTo>
                      <a:lnTo>
                        <a:pt x="569" y="470"/>
                      </a:lnTo>
                      <a:lnTo>
                        <a:pt x="579" y="463"/>
                      </a:lnTo>
                      <a:lnTo>
                        <a:pt x="589" y="454"/>
                      </a:lnTo>
                      <a:lnTo>
                        <a:pt x="600" y="444"/>
                      </a:lnTo>
                      <a:lnTo>
                        <a:pt x="613" y="434"/>
                      </a:lnTo>
                      <a:lnTo>
                        <a:pt x="626" y="424"/>
                      </a:lnTo>
                      <a:lnTo>
                        <a:pt x="639" y="416"/>
                      </a:lnTo>
                      <a:lnTo>
                        <a:pt x="653" y="408"/>
                      </a:lnTo>
                      <a:lnTo>
                        <a:pt x="669" y="404"/>
                      </a:lnTo>
                      <a:lnTo>
                        <a:pt x="686" y="406"/>
                      </a:lnTo>
                      <a:lnTo>
                        <a:pt x="705" y="413"/>
                      </a:lnTo>
                      <a:lnTo>
                        <a:pt x="726" y="424"/>
                      </a:lnTo>
                      <a:lnTo>
                        <a:pt x="746" y="439"/>
                      </a:lnTo>
                      <a:lnTo>
                        <a:pt x="763" y="453"/>
                      </a:lnTo>
                      <a:lnTo>
                        <a:pt x="779" y="466"/>
                      </a:lnTo>
                      <a:lnTo>
                        <a:pt x="788" y="476"/>
                      </a:lnTo>
                      <a:lnTo>
                        <a:pt x="792" y="479"/>
                      </a:lnTo>
                      <a:lnTo>
                        <a:pt x="808" y="451"/>
                      </a:lnTo>
                      <a:lnTo>
                        <a:pt x="829" y="427"/>
                      </a:lnTo>
                      <a:lnTo>
                        <a:pt x="854" y="404"/>
                      </a:lnTo>
                      <a:lnTo>
                        <a:pt x="879" y="384"/>
                      </a:lnTo>
                      <a:lnTo>
                        <a:pt x="902" y="368"/>
                      </a:lnTo>
                      <a:lnTo>
                        <a:pt x="922" y="357"/>
                      </a:lnTo>
                      <a:lnTo>
                        <a:pt x="935" y="350"/>
                      </a:lnTo>
                      <a:lnTo>
                        <a:pt x="941" y="347"/>
                      </a:lnTo>
                      <a:lnTo>
                        <a:pt x="942" y="304"/>
                      </a:lnTo>
                      <a:lnTo>
                        <a:pt x="937" y="275"/>
                      </a:lnTo>
                      <a:lnTo>
                        <a:pt x="924" y="257"/>
                      </a:lnTo>
                      <a:lnTo>
                        <a:pt x="908" y="246"/>
                      </a:lnTo>
                      <a:lnTo>
                        <a:pt x="899" y="242"/>
                      </a:lnTo>
                      <a:lnTo>
                        <a:pt x="891" y="236"/>
                      </a:lnTo>
                      <a:lnTo>
                        <a:pt x="882" y="229"/>
                      </a:lnTo>
                      <a:lnTo>
                        <a:pt x="875" y="219"/>
                      </a:lnTo>
                      <a:lnTo>
                        <a:pt x="869" y="209"/>
                      </a:lnTo>
                      <a:lnTo>
                        <a:pt x="862" y="198"/>
                      </a:lnTo>
                      <a:lnTo>
                        <a:pt x="855" y="186"/>
                      </a:lnTo>
                      <a:lnTo>
                        <a:pt x="849" y="173"/>
                      </a:lnTo>
                      <a:lnTo>
                        <a:pt x="844" y="168"/>
                      </a:lnTo>
                      <a:lnTo>
                        <a:pt x="834" y="162"/>
                      </a:lnTo>
                      <a:lnTo>
                        <a:pt x="818" y="158"/>
                      </a:lnTo>
                      <a:lnTo>
                        <a:pt x="801" y="155"/>
                      </a:lnTo>
                      <a:lnTo>
                        <a:pt x="779" y="150"/>
                      </a:lnTo>
                      <a:lnTo>
                        <a:pt x="756" y="149"/>
                      </a:lnTo>
                      <a:lnTo>
                        <a:pt x="732" y="146"/>
                      </a:lnTo>
                      <a:lnTo>
                        <a:pt x="708" y="145"/>
                      </a:lnTo>
                      <a:lnTo>
                        <a:pt x="683" y="143"/>
                      </a:lnTo>
                      <a:lnTo>
                        <a:pt x="659" y="142"/>
                      </a:lnTo>
                      <a:lnTo>
                        <a:pt x="637" y="142"/>
                      </a:lnTo>
                      <a:lnTo>
                        <a:pt x="617" y="140"/>
                      </a:lnTo>
                      <a:lnTo>
                        <a:pt x="602" y="140"/>
                      </a:lnTo>
                      <a:lnTo>
                        <a:pt x="589" y="140"/>
                      </a:lnTo>
                      <a:lnTo>
                        <a:pt x="580" y="140"/>
                      </a:lnTo>
                      <a:lnTo>
                        <a:pt x="577" y="140"/>
                      </a:lnTo>
                      <a:lnTo>
                        <a:pt x="574" y="132"/>
                      </a:lnTo>
                      <a:lnTo>
                        <a:pt x="567" y="123"/>
                      </a:lnTo>
                      <a:lnTo>
                        <a:pt x="557" y="118"/>
                      </a:lnTo>
                      <a:lnTo>
                        <a:pt x="544" y="112"/>
                      </a:lnTo>
                      <a:lnTo>
                        <a:pt x="530" y="107"/>
                      </a:lnTo>
                      <a:lnTo>
                        <a:pt x="514" y="105"/>
                      </a:lnTo>
                      <a:lnTo>
                        <a:pt x="497" y="102"/>
                      </a:lnTo>
                      <a:lnTo>
                        <a:pt x="480" y="100"/>
                      </a:lnTo>
                      <a:lnTo>
                        <a:pt x="463" y="99"/>
                      </a:lnTo>
                      <a:lnTo>
                        <a:pt x="445" y="99"/>
                      </a:lnTo>
                      <a:lnTo>
                        <a:pt x="430" y="97"/>
                      </a:lnTo>
                      <a:lnTo>
                        <a:pt x="417" y="97"/>
                      </a:lnTo>
                      <a:lnTo>
                        <a:pt x="405" y="99"/>
                      </a:lnTo>
                      <a:lnTo>
                        <a:pt x="395" y="99"/>
                      </a:lnTo>
                      <a:lnTo>
                        <a:pt x="390" y="99"/>
                      </a:lnTo>
                      <a:lnTo>
                        <a:pt x="388" y="99"/>
                      </a:lnTo>
                      <a:lnTo>
                        <a:pt x="298" y="0"/>
                      </a:lnTo>
                      <a:lnTo>
                        <a:pt x="295" y="0"/>
                      </a:lnTo>
                      <a:lnTo>
                        <a:pt x="289" y="0"/>
                      </a:lnTo>
                      <a:lnTo>
                        <a:pt x="278" y="1"/>
                      </a:lnTo>
                      <a:lnTo>
                        <a:pt x="264" y="4"/>
                      </a:lnTo>
                      <a:lnTo>
                        <a:pt x="251" y="7"/>
                      </a:lnTo>
                      <a:lnTo>
                        <a:pt x="236" y="13"/>
                      </a:lnTo>
                      <a:lnTo>
                        <a:pt x="222" y="19"/>
                      </a:lnTo>
                      <a:lnTo>
                        <a:pt x="205" y="26"/>
                      </a:lnTo>
                      <a:lnTo>
                        <a:pt x="189" y="34"/>
                      </a:lnTo>
                      <a:lnTo>
                        <a:pt x="170" y="44"/>
                      </a:lnTo>
                      <a:lnTo>
                        <a:pt x="153" y="57"/>
                      </a:lnTo>
                      <a:lnTo>
                        <a:pt x="136" y="72"/>
                      </a:lnTo>
                      <a:lnTo>
                        <a:pt x="118" y="87"/>
                      </a:lnTo>
                      <a:lnTo>
                        <a:pt x="100" y="107"/>
                      </a:lnTo>
                      <a:lnTo>
                        <a:pt x="85" y="129"/>
                      </a:lnTo>
                      <a:lnTo>
                        <a:pt x="67" y="153"/>
                      </a:lnTo>
                      <a:lnTo>
                        <a:pt x="53" y="179"/>
                      </a:lnTo>
                      <a:lnTo>
                        <a:pt x="40" y="209"/>
                      </a:lnTo>
                      <a:lnTo>
                        <a:pt x="27" y="244"/>
                      </a:lnTo>
                      <a:lnTo>
                        <a:pt x="17" y="279"/>
                      </a:lnTo>
                      <a:lnTo>
                        <a:pt x="6" y="337"/>
                      </a:lnTo>
                      <a:lnTo>
                        <a:pt x="0" y="388"/>
                      </a:lnTo>
                      <a:lnTo>
                        <a:pt x="0" y="439"/>
                      </a:lnTo>
                      <a:lnTo>
                        <a:pt x="3" y="484"/>
                      </a:lnTo>
                      <a:lnTo>
                        <a:pt x="12" y="537"/>
                      </a:lnTo>
                      <a:lnTo>
                        <a:pt x="26" y="588"/>
                      </a:lnTo>
                      <a:lnTo>
                        <a:pt x="44" y="635"/>
                      </a:lnTo>
                      <a:lnTo>
                        <a:pt x="65" y="681"/>
                      </a:lnTo>
                      <a:lnTo>
                        <a:pt x="87" y="728"/>
                      </a:lnTo>
                      <a:lnTo>
                        <a:pt x="112" y="774"/>
                      </a:lnTo>
                      <a:lnTo>
                        <a:pt x="135" y="823"/>
                      </a:lnTo>
                      <a:lnTo>
                        <a:pt x="158" y="874"/>
                      </a:lnTo>
                      <a:lnTo>
                        <a:pt x="181" y="944"/>
                      </a:lnTo>
                      <a:lnTo>
                        <a:pt x="186" y="1005"/>
                      </a:lnTo>
                      <a:lnTo>
                        <a:pt x="181" y="1058"/>
                      </a:lnTo>
                      <a:lnTo>
                        <a:pt x="166" y="1102"/>
                      </a:lnTo>
                      <a:lnTo>
                        <a:pt x="145" y="1138"/>
                      </a:lnTo>
                      <a:lnTo>
                        <a:pt x="120" y="1168"/>
                      </a:lnTo>
                      <a:lnTo>
                        <a:pt x="97" y="1189"/>
                      </a:lnTo>
                      <a:lnTo>
                        <a:pt x="76" y="1205"/>
                      </a:lnTo>
                      <a:lnTo>
                        <a:pt x="60" y="1218"/>
                      </a:lnTo>
                      <a:lnTo>
                        <a:pt x="49" y="1231"/>
                      </a:lnTo>
                      <a:lnTo>
                        <a:pt x="40" y="1244"/>
                      </a:lnTo>
                      <a:lnTo>
                        <a:pt x="36" y="1255"/>
                      </a:lnTo>
                      <a:lnTo>
                        <a:pt x="34" y="1265"/>
                      </a:lnTo>
                      <a:lnTo>
                        <a:pt x="34" y="1273"/>
                      </a:lnTo>
                      <a:lnTo>
                        <a:pt x="34" y="1278"/>
                      </a:lnTo>
                      <a:lnTo>
                        <a:pt x="34" y="1280"/>
                      </a:lnTo>
                      <a:lnTo>
                        <a:pt x="43" y="1300"/>
                      </a:lnTo>
                      <a:lnTo>
                        <a:pt x="56" y="1318"/>
                      </a:lnTo>
                      <a:lnTo>
                        <a:pt x="73" y="1334"/>
                      </a:lnTo>
                      <a:lnTo>
                        <a:pt x="90" y="1346"/>
                      </a:lnTo>
                      <a:lnTo>
                        <a:pt x="106" y="1357"/>
                      </a:lnTo>
                      <a:lnTo>
                        <a:pt x="120" y="1364"/>
                      </a:lnTo>
                      <a:lnTo>
                        <a:pt x="129" y="1369"/>
                      </a:lnTo>
                      <a:lnTo>
                        <a:pt x="133" y="1370"/>
                      </a:lnTo>
                      <a:lnTo>
                        <a:pt x="122" y="1387"/>
                      </a:lnTo>
                      <a:lnTo>
                        <a:pt x="120" y="1409"/>
                      </a:lnTo>
                      <a:lnTo>
                        <a:pt x="123" y="1427"/>
                      </a:lnTo>
                      <a:lnTo>
                        <a:pt x="125" y="1436"/>
                      </a:lnTo>
                      <a:lnTo>
                        <a:pt x="80" y="1469"/>
                      </a:lnTo>
                      <a:lnTo>
                        <a:pt x="53" y="1503"/>
                      </a:lnTo>
                      <a:lnTo>
                        <a:pt x="42" y="1538"/>
                      </a:lnTo>
                      <a:lnTo>
                        <a:pt x="40" y="1571"/>
                      </a:lnTo>
                      <a:lnTo>
                        <a:pt x="46" y="1599"/>
                      </a:lnTo>
                      <a:lnTo>
                        <a:pt x="56" y="1622"/>
                      </a:lnTo>
                      <a:lnTo>
                        <a:pt x="63" y="1637"/>
                      </a:lnTo>
                      <a:lnTo>
                        <a:pt x="67" y="1642"/>
                      </a:lnTo>
                      <a:lnTo>
                        <a:pt x="63" y="1644"/>
                      </a:lnTo>
                      <a:lnTo>
                        <a:pt x="54" y="1651"/>
                      </a:lnTo>
                      <a:lnTo>
                        <a:pt x="42" y="1661"/>
                      </a:lnTo>
                      <a:lnTo>
                        <a:pt x="30" y="1675"/>
                      </a:lnTo>
                      <a:lnTo>
                        <a:pt x="20" y="1695"/>
                      </a:lnTo>
                      <a:lnTo>
                        <a:pt x="16" y="1720"/>
                      </a:lnTo>
                      <a:lnTo>
                        <a:pt x="20" y="1748"/>
                      </a:lnTo>
                      <a:lnTo>
                        <a:pt x="34" y="1783"/>
                      </a:lnTo>
                      <a:lnTo>
                        <a:pt x="43" y="1794"/>
                      </a:lnTo>
                      <a:lnTo>
                        <a:pt x="53" y="1806"/>
                      </a:lnTo>
                      <a:lnTo>
                        <a:pt x="66" y="1817"/>
                      </a:lnTo>
                      <a:lnTo>
                        <a:pt x="83" y="1830"/>
                      </a:lnTo>
                      <a:lnTo>
                        <a:pt x="100" y="1841"/>
                      </a:lnTo>
                      <a:lnTo>
                        <a:pt x="122" y="1853"/>
                      </a:lnTo>
                      <a:lnTo>
                        <a:pt x="145" y="1863"/>
                      </a:lnTo>
                      <a:lnTo>
                        <a:pt x="170" y="1874"/>
                      </a:lnTo>
                      <a:lnTo>
                        <a:pt x="198" y="1884"/>
                      </a:lnTo>
                      <a:lnTo>
                        <a:pt x="228" y="1894"/>
                      </a:lnTo>
                      <a:lnTo>
                        <a:pt x="259" y="1903"/>
                      </a:lnTo>
                      <a:lnTo>
                        <a:pt x="292" y="1912"/>
                      </a:lnTo>
                      <a:lnTo>
                        <a:pt x="328" y="1920"/>
                      </a:lnTo>
                      <a:lnTo>
                        <a:pt x="365" y="1927"/>
                      </a:lnTo>
                      <a:lnTo>
                        <a:pt x="405" y="1933"/>
                      </a:lnTo>
                      <a:lnTo>
                        <a:pt x="445" y="1939"/>
                      </a:lnTo>
                      <a:lnTo>
                        <a:pt x="487" y="1942"/>
                      </a:lnTo>
                      <a:lnTo>
                        <a:pt x="529" y="1943"/>
                      </a:lnTo>
                      <a:lnTo>
                        <a:pt x="569" y="1940"/>
                      </a:lnTo>
                      <a:lnTo>
                        <a:pt x="607" y="1936"/>
                      </a:lnTo>
                      <a:lnTo>
                        <a:pt x="646" y="1930"/>
                      </a:lnTo>
                      <a:lnTo>
                        <a:pt x="683" y="1923"/>
                      </a:lnTo>
                      <a:lnTo>
                        <a:pt x="719" y="1913"/>
                      </a:lnTo>
                      <a:lnTo>
                        <a:pt x="753" y="1902"/>
                      </a:lnTo>
                      <a:lnTo>
                        <a:pt x="786" y="1890"/>
                      </a:lnTo>
                      <a:lnTo>
                        <a:pt x="816" y="1877"/>
                      </a:lnTo>
                      <a:lnTo>
                        <a:pt x="845" y="1863"/>
                      </a:lnTo>
                      <a:lnTo>
                        <a:pt x="872" y="1849"/>
                      </a:lnTo>
                      <a:lnTo>
                        <a:pt x="898" y="1834"/>
                      </a:lnTo>
                      <a:lnTo>
                        <a:pt x="919" y="1820"/>
                      </a:lnTo>
                      <a:lnTo>
                        <a:pt x="940" y="1806"/>
                      </a:lnTo>
                      <a:lnTo>
                        <a:pt x="957" y="1791"/>
                      </a:lnTo>
                      <a:lnTo>
                        <a:pt x="985" y="1758"/>
                      </a:lnTo>
                      <a:lnTo>
                        <a:pt x="998" y="1728"/>
                      </a:lnTo>
                      <a:lnTo>
                        <a:pt x="998" y="1700"/>
                      </a:lnTo>
                      <a:lnTo>
                        <a:pt x="991" y="1675"/>
                      </a:lnTo>
                      <a:lnTo>
                        <a:pt x="978" y="1655"/>
                      </a:lnTo>
                      <a:lnTo>
                        <a:pt x="964" y="1639"/>
                      </a:lnTo>
                      <a:lnTo>
                        <a:pt x="952" y="1629"/>
                      </a:lnTo>
                      <a:lnTo>
                        <a:pt x="948" y="162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80808"/>
                    </a:gs>
                    <a:gs pos="100000">
                      <a:srgbClr val="acaca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3" name="Gruppe 1099"/>
                <p:cNvGrpSpPr/>
                <p:nvPr/>
              </p:nvGrpSpPr>
              <p:grpSpPr>
                <a:xfrm>
                  <a:off x="2361600" y="2862000"/>
                  <a:ext cx="74160" cy="143280"/>
                  <a:chOff x="2361600" y="2862000"/>
                  <a:chExt cx="74160" cy="143280"/>
                </a:xfrm>
              </p:grpSpPr>
              <p:sp>
                <p:nvSpPr>
                  <p:cNvPr id="304" name="Freeform 497"/>
                  <p:cNvSpPr/>
                  <p:nvPr/>
                </p:nvSpPr>
                <p:spPr>
                  <a:xfrm flipH="1">
                    <a:off x="2418480" y="2862000"/>
                    <a:ext cx="16200" cy="39240"/>
                  </a:xfrm>
                  <a:custGeom>
                    <a:avLst/>
                    <a:gdLst>
                      <a:gd name="textAreaLeft" fmla="*/ -360 w 16200"/>
                      <a:gd name="textAreaRight" fmla="*/ 16200 w 16200"/>
                      <a:gd name="textAreaTop" fmla="*/ 0 h 39240"/>
                      <a:gd name="textAreaBottom" fmla="*/ 39600 h 39240"/>
                    </a:gdLst>
                    <a:ahLst/>
                    <a:rect l="textAreaLeft" t="textAreaTop" r="textAreaRight" b="textAreaBottom"/>
                    <a:pathLst>
                      <a:path w="169" h="454">
                        <a:moveTo>
                          <a:pt x="86" y="276"/>
                        </a:moveTo>
                        <a:lnTo>
                          <a:pt x="73" y="213"/>
                        </a:lnTo>
                        <a:lnTo>
                          <a:pt x="70" y="159"/>
                        </a:lnTo>
                        <a:lnTo>
                          <a:pt x="76" y="110"/>
                        </a:lnTo>
                        <a:lnTo>
                          <a:pt x="85" y="71"/>
                        </a:lnTo>
                        <a:lnTo>
                          <a:pt x="96" y="40"/>
                        </a:lnTo>
                        <a:lnTo>
                          <a:pt x="107" y="18"/>
                        </a:lnTo>
                        <a:lnTo>
                          <a:pt x="117" y="4"/>
                        </a:lnTo>
                        <a:lnTo>
                          <a:pt x="120" y="0"/>
                        </a:lnTo>
                        <a:lnTo>
                          <a:pt x="76" y="31"/>
                        </a:lnTo>
                        <a:lnTo>
                          <a:pt x="42" y="65"/>
                        </a:lnTo>
                        <a:lnTo>
                          <a:pt x="19" y="98"/>
                        </a:lnTo>
                        <a:lnTo>
                          <a:pt x="6" y="134"/>
                        </a:lnTo>
                        <a:lnTo>
                          <a:pt x="0" y="169"/>
                        </a:lnTo>
                        <a:lnTo>
                          <a:pt x="1" y="203"/>
                        </a:lnTo>
                        <a:lnTo>
                          <a:pt x="9" y="237"/>
                        </a:lnTo>
                        <a:lnTo>
                          <a:pt x="22" y="270"/>
                        </a:lnTo>
                        <a:lnTo>
                          <a:pt x="42" y="308"/>
                        </a:lnTo>
                        <a:lnTo>
                          <a:pt x="64" y="342"/>
                        </a:lnTo>
                        <a:lnTo>
                          <a:pt x="89" y="374"/>
                        </a:lnTo>
                        <a:lnTo>
                          <a:pt x="113" y="401"/>
                        </a:lnTo>
                        <a:lnTo>
                          <a:pt x="135" y="422"/>
                        </a:lnTo>
                        <a:lnTo>
                          <a:pt x="152" y="439"/>
                        </a:lnTo>
                        <a:lnTo>
                          <a:pt x="165" y="450"/>
                        </a:lnTo>
                        <a:lnTo>
                          <a:pt x="169" y="454"/>
                        </a:lnTo>
                        <a:lnTo>
                          <a:pt x="153" y="429"/>
                        </a:lnTo>
                        <a:lnTo>
                          <a:pt x="140" y="405"/>
                        </a:lnTo>
                        <a:lnTo>
                          <a:pt x="127" y="382"/>
                        </a:lnTo>
                        <a:lnTo>
                          <a:pt x="117" y="359"/>
                        </a:lnTo>
                        <a:lnTo>
                          <a:pt x="107" y="338"/>
                        </a:lnTo>
                        <a:lnTo>
                          <a:pt x="99" y="316"/>
                        </a:lnTo>
                        <a:lnTo>
                          <a:pt x="92" y="296"/>
                        </a:lnTo>
                        <a:lnTo>
                          <a:pt x="86" y="276"/>
                        </a:lnTo>
                        <a:close/>
                      </a:path>
                    </a:pathLst>
                  </a:custGeom>
                  <a:solidFill>
                    <a:srgbClr val="34363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499"/>
                  <p:cNvSpPr/>
                  <p:nvPr/>
                </p:nvSpPr>
                <p:spPr>
                  <a:xfrm flipH="1">
                    <a:off x="2399040" y="2912760"/>
                    <a:ext cx="33120" cy="46800"/>
                  </a:xfrm>
                  <a:custGeom>
                    <a:avLst/>
                    <a:gdLst>
                      <a:gd name="textAreaLeft" fmla="*/ 360 w 33120"/>
                      <a:gd name="textAreaRight" fmla="*/ 33840 w 3312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350" h="540">
                        <a:moveTo>
                          <a:pt x="85" y="0"/>
                        </a:moveTo>
                        <a:lnTo>
                          <a:pt x="86" y="4"/>
                        </a:lnTo>
                        <a:lnTo>
                          <a:pt x="92" y="14"/>
                        </a:lnTo>
                        <a:lnTo>
                          <a:pt x="99" y="31"/>
                        </a:lnTo>
                        <a:lnTo>
                          <a:pt x="108" y="53"/>
                        </a:lnTo>
                        <a:lnTo>
                          <a:pt x="118" y="80"/>
                        </a:lnTo>
                        <a:lnTo>
                          <a:pt x="126" y="110"/>
                        </a:lnTo>
                        <a:lnTo>
                          <a:pt x="133" y="143"/>
                        </a:lnTo>
                        <a:lnTo>
                          <a:pt x="141" y="179"/>
                        </a:lnTo>
                        <a:lnTo>
                          <a:pt x="143" y="215"/>
                        </a:lnTo>
                        <a:lnTo>
                          <a:pt x="142" y="252"/>
                        </a:lnTo>
                        <a:lnTo>
                          <a:pt x="136" y="289"/>
                        </a:lnTo>
                        <a:lnTo>
                          <a:pt x="126" y="325"/>
                        </a:lnTo>
                        <a:lnTo>
                          <a:pt x="109" y="358"/>
                        </a:lnTo>
                        <a:lnTo>
                          <a:pt x="85" y="388"/>
                        </a:lnTo>
                        <a:lnTo>
                          <a:pt x="52" y="415"/>
                        </a:lnTo>
                        <a:lnTo>
                          <a:pt x="10" y="438"/>
                        </a:lnTo>
                        <a:lnTo>
                          <a:pt x="7" y="441"/>
                        </a:lnTo>
                        <a:lnTo>
                          <a:pt x="3" y="450"/>
                        </a:lnTo>
                        <a:lnTo>
                          <a:pt x="0" y="461"/>
                        </a:lnTo>
                        <a:lnTo>
                          <a:pt x="2" y="475"/>
                        </a:lnTo>
                        <a:lnTo>
                          <a:pt x="13" y="491"/>
                        </a:lnTo>
                        <a:lnTo>
                          <a:pt x="37" y="508"/>
                        </a:lnTo>
                        <a:lnTo>
                          <a:pt x="79" y="523"/>
                        </a:lnTo>
                        <a:lnTo>
                          <a:pt x="142" y="537"/>
                        </a:lnTo>
                        <a:lnTo>
                          <a:pt x="174" y="540"/>
                        </a:lnTo>
                        <a:lnTo>
                          <a:pt x="204" y="537"/>
                        </a:lnTo>
                        <a:lnTo>
                          <a:pt x="231" y="528"/>
                        </a:lnTo>
                        <a:lnTo>
                          <a:pt x="257" y="516"/>
                        </a:lnTo>
                        <a:lnTo>
                          <a:pt x="279" y="498"/>
                        </a:lnTo>
                        <a:lnTo>
                          <a:pt x="300" y="475"/>
                        </a:lnTo>
                        <a:lnTo>
                          <a:pt x="317" y="448"/>
                        </a:lnTo>
                        <a:lnTo>
                          <a:pt x="331" y="418"/>
                        </a:lnTo>
                        <a:lnTo>
                          <a:pt x="341" y="382"/>
                        </a:lnTo>
                        <a:lnTo>
                          <a:pt x="347" y="344"/>
                        </a:lnTo>
                        <a:lnTo>
                          <a:pt x="350" y="301"/>
                        </a:lnTo>
                        <a:lnTo>
                          <a:pt x="345" y="255"/>
                        </a:lnTo>
                        <a:lnTo>
                          <a:pt x="338" y="206"/>
                        </a:lnTo>
                        <a:lnTo>
                          <a:pt x="325" y="154"/>
                        </a:lnTo>
                        <a:lnTo>
                          <a:pt x="305" y="99"/>
                        </a:lnTo>
                        <a:lnTo>
                          <a:pt x="281" y="41"/>
                        </a:lnTo>
                        <a:lnTo>
                          <a:pt x="282" y="53"/>
                        </a:lnTo>
                        <a:lnTo>
                          <a:pt x="284" y="81"/>
                        </a:lnTo>
                        <a:lnTo>
                          <a:pt x="284" y="124"/>
                        </a:lnTo>
                        <a:lnTo>
                          <a:pt x="281" y="176"/>
                        </a:lnTo>
                        <a:lnTo>
                          <a:pt x="274" y="230"/>
                        </a:lnTo>
                        <a:lnTo>
                          <a:pt x="261" y="285"/>
                        </a:lnTo>
                        <a:lnTo>
                          <a:pt x="239" y="334"/>
                        </a:lnTo>
                        <a:lnTo>
                          <a:pt x="208" y="372"/>
                        </a:lnTo>
                        <a:lnTo>
                          <a:pt x="208" y="362"/>
                        </a:lnTo>
                        <a:lnTo>
                          <a:pt x="208" y="335"/>
                        </a:lnTo>
                        <a:lnTo>
                          <a:pt x="206" y="293"/>
                        </a:lnTo>
                        <a:lnTo>
                          <a:pt x="199" y="242"/>
                        </a:lnTo>
                        <a:lnTo>
                          <a:pt x="185" y="183"/>
                        </a:lnTo>
                        <a:lnTo>
                          <a:pt x="163" y="120"/>
                        </a:lnTo>
                        <a:lnTo>
                          <a:pt x="131" y="58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solidFill>
                    <a:srgbClr val="34363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Freeform 503"/>
                  <p:cNvSpPr/>
                  <p:nvPr/>
                </p:nvSpPr>
                <p:spPr>
                  <a:xfrm flipH="1">
                    <a:off x="2408760" y="2964600"/>
                    <a:ext cx="18720" cy="6840"/>
                  </a:xfrm>
                  <a:custGeom>
                    <a:avLst/>
                    <a:gdLst>
                      <a:gd name="textAreaLeft" fmla="*/ 360 w 18720"/>
                      <a:gd name="textAreaRight" fmla="*/ 19440 w 1872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196" h="80">
                        <a:moveTo>
                          <a:pt x="196" y="53"/>
                        </a:moveTo>
                        <a:lnTo>
                          <a:pt x="191" y="52"/>
                        </a:lnTo>
                        <a:lnTo>
                          <a:pt x="174" y="48"/>
                        </a:lnTo>
                        <a:lnTo>
                          <a:pt x="149" y="42"/>
                        </a:lnTo>
                        <a:lnTo>
                          <a:pt x="122" y="33"/>
                        </a:lnTo>
                        <a:lnTo>
                          <a:pt x="92" y="25"/>
                        </a:lnTo>
                        <a:lnTo>
                          <a:pt x="65" y="17"/>
                        </a:lnTo>
                        <a:lnTo>
                          <a:pt x="43" y="9"/>
                        </a:lnTo>
                        <a:lnTo>
                          <a:pt x="29" y="3"/>
                        </a:lnTo>
                        <a:lnTo>
                          <a:pt x="20" y="0"/>
                        </a:lnTo>
                        <a:lnTo>
                          <a:pt x="13" y="0"/>
                        </a:lnTo>
                        <a:lnTo>
                          <a:pt x="6" y="5"/>
                        </a:lnTo>
                        <a:lnTo>
                          <a:pt x="2" y="12"/>
                        </a:lnTo>
                        <a:lnTo>
                          <a:pt x="0" y="20"/>
                        </a:lnTo>
                        <a:lnTo>
                          <a:pt x="3" y="32"/>
                        </a:lnTo>
                        <a:lnTo>
                          <a:pt x="10" y="42"/>
                        </a:lnTo>
                        <a:lnTo>
                          <a:pt x="22" y="53"/>
                        </a:lnTo>
                        <a:lnTo>
                          <a:pt x="39" y="63"/>
                        </a:lnTo>
                        <a:lnTo>
                          <a:pt x="62" y="72"/>
                        </a:lnTo>
                        <a:lnTo>
                          <a:pt x="89" y="78"/>
                        </a:lnTo>
                        <a:lnTo>
                          <a:pt x="118" y="80"/>
                        </a:lnTo>
                        <a:lnTo>
                          <a:pt x="143" y="79"/>
                        </a:lnTo>
                        <a:lnTo>
                          <a:pt x="168" y="75"/>
                        </a:lnTo>
                        <a:lnTo>
                          <a:pt x="186" y="66"/>
                        </a:lnTo>
                        <a:lnTo>
                          <a:pt x="196" y="53"/>
                        </a:lnTo>
                        <a:close/>
                      </a:path>
                    </a:pathLst>
                  </a:custGeom>
                  <a:solidFill>
                    <a:srgbClr val="34363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Freeform 504"/>
                  <p:cNvSpPr/>
                  <p:nvPr/>
                </p:nvSpPr>
                <p:spPr>
                  <a:xfrm flipH="1">
                    <a:off x="2408760" y="2973600"/>
                    <a:ext cx="23760" cy="16920"/>
                  </a:xfrm>
                  <a:custGeom>
                    <a:avLst/>
                    <a:gdLst>
                      <a:gd name="textAreaLeft" fmla="*/ 360 w 23760"/>
                      <a:gd name="textAreaRight" fmla="*/ 24480 w 23760"/>
                      <a:gd name="textAreaTop" fmla="*/ 0 h 16920"/>
                      <a:gd name="textAreaBottom" fmla="*/ 17280 h 16920"/>
                    </a:gdLst>
                    <a:ahLst/>
                    <a:rect l="textAreaLeft" t="textAreaTop" r="textAreaRight" b="textAreaBottom"/>
                    <a:pathLst>
                      <a:path w="250" h="196">
                        <a:moveTo>
                          <a:pt x="91" y="16"/>
                        </a:moveTo>
                        <a:lnTo>
                          <a:pt x="89" y="14"/>
                        </a:lnTo>
                        <a:lnTo>
                          <a:pt x="83" y="11"/>
                        </a:lnTo>
                        <a:lnTo>
                          <a:pt x="75" y="7"/>
                        </a:lnTo>
                        <a:lnTo>
                          <a:pt x="65" y="3"/>
                        </a:lnTo>
                        <a:lnTo>
                          <a:pt x="53" y="1"/>
                        </a:lnTo>
                        <a:lnTo>
                          <a:pt x="40" y="0"/>
                        </a:lnTo>
                        <a:lnTo>
                          <a:pt x="30" y="3"/>
                        </a:lnTo>
                        <a:lnTo>
                          <a:pt x="20" y="9"/>
                        </a:lnTo>
                        <a:lnTo>
                          <a:pt x="12" y="19"/>
                        </a:lnTo>
                        <a:lnTo>
                          <a:pt x="6" y="33"/>
                        </a:lnTo>
                        <a:lnTo>
                          <a:pt x="2" y="50"/>
                        </a:lnTo>
                        <a:lnTo>
                          <a:pt x="0" y="69"/>
                        </a:lnTo>
                        <a:lnTo>
                          <a:pt x="2" y="89"/>
                        </a:lnTo>
                        <a:lnTo>
                          <a:pt x="8" y="109"/>
                        </a:lnTo>
                        <a:lnTo>
                          <a:pt x="19" y="128"/>
                        </a:lnTo>
                        <a:lnTo>
                          <a:pt x="36" y="145"/>
                        </a:lnTo>
                        <a:lnTo>
                          <a:pt x="58" y="160"/>
                        </a:lnTo>
                        <a:lnTo>
                          <a:pt x="82" y="172"/>
                        </a:lnTo>
                        <a:lnTo>
                          <a:pt x="106" y="183"/>
                        </a:lnTo>
                        <a:lnTo>
                          <a:pt x="132" y="191"/>
                        </a:lnTo>
                        <a:lnTo>
                          <a:pt x="156" y="195"/>
                        </a:lnTo>
                        <a:lnTo>
                          <a:pt x="181" y="196"/>
                        </a:lnTo>
                        <a:lnTo>
                          <a:pt x="202" y="193"/>
                        </a:lnTo>
                        <a:lnTo>
                          <a:pt x="221" y="188"/>
                        </a:lnTo>
                        <a:lnTo>
                          <a:pt x="235" y="176"/>
                        </a:lnTo>
                        <a:lnTo>
                          <a:pt x="244" y="159"/>
                        </a:lnTo>
                        <a:lnTo>
                          <a:pt x="250" y="138"/>
                        </a:lnTo>
                        <a:lnTo>
                          <a:pt x="248" y="115"/>
                        </a:lnTo>
                        <a:lnTo>
                          <a:pt x="244" y="92"/>
                        </a:lnTo>
                        <a:lnTo>
                          <a:pt x="234" y="73"/>
                        </a:lnTo>
                        <a:lnTo>
                          <a:pt x="218" y="59"/>
                        </a:lnTo>
                        <a:lnTo>
                          <a:pt x="198" y="52"/>
                        </a:lnTo>
                        <a:lnTo>
                          <a:pt x="175" y="47"/>
                        </a:lnTo>
                        <a:lnTo>
                          <a:pt x="155" y="43"/>
                        </a:lnTo>
                        <a:lnTo>
                          <a:pt x="136" y="37"/>
                        </a:lnTo>
                        <a:lnTo>
                          <a:pt x="121" y="31"/>
                        </a:lnTo>
                        <a:lnTo>
                          <a:pt x="108" y="26"/>
                        </a:lnTo>
                        <a:lnTo>
                          <a:pt x="99" y="20"/>
                        </a:lnTo>
                        <a:lnTo>
                          <a:pt x="92" y="17"/>
                        </a:lnTo>
                        <a:lnTo>
                          <a:pt x="91" y="16"/>
                        </a:lnTo>
                        <a:close/>
                      </a:path>
                    </a:pathLst>
                  </a:custGeom>
                  <a:solidFill>
                    <a:srgbClr val="34363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Freeform 505"/>
                  <p:cNvSpPr/>
                  <p:nvPr/>
                </p:nvSpPr>
                <p:spPr>
                  <a:xfrm flipH="1">
                    <a:off x="2407680" y="2990880"/>
                    <a:ext cx="27720" cy="14400"/>
                  </a:xfrm>
                  <a:custGeom>
                    <a:avLst/>
                    <a:gdLst>
                      <a:gd name="textAreaLeft" fmla="*/ -360 w 27720"/>
                      <a:gd name="textAreaRight" fmla="*/ 27720 w 2772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292" h="168">
                        <a:moveTo>
                          <a:pt x="107" y="57"/>
                        </a:moveTo>
                        <a:lnTo>
                          <a:pt x="92" y="50"/>
                        </a:lnTo>
                        <a:lnTo>
                          <a:pt x="76" y="42"/>
                        </a:lnTo>
                        <a:lnTo>
                          <a:pt x="60" y="33"/>
                        </a:lnTo>
                        <a:lnTo>
                          <a:pt x="46" y="23"/>
                        </a:lnTo>
                        <a:lnTo>
                          <a:pt x="34" y="14"/>
                        </a:lnTo>
                        <a:lnTo>
                          <a:pt x="24" y="7"/>
                        </a:lnTo>
                        <a:lnTo>
                          <a:pt x="19" y="2"/>
                        </a:lnTo>
                        <a:lnTo>
                          <a:pt x="16" y="0"/>
                        </a:lnTo>
                        <a:lnTo>
                          <a:pt x="14" y="2"/>
                        </a:lnTo>
                        <a:lnTo>
                          <a:pt x="10" y="3"/>
                        </a:lnTo>
                        <a:lnTo>
                          <a:pt x="6" y="9"/>
                        </a:lnTo>
                        <a:lnTo>
                          <a:pt x="1" y="16"/>
                        </a:lnTo>
                        <a:lnTo>
                          <a:pt x="0" y="26"/>
                        </a:lnTo>
                        <a:lnTo>
                          <a:pt x="3" y="39"/>
                        </a:lnTo>
                        <a:lnTo>
                          <a:pt x="10" y="55"/>
                        </a:lnTo>
                        <a:lnTo>
                          <a:pt x="24" y="75"/>
                        </a:lnTo>
                        <a:lnTo>
                          <a:pt x="42" y="90"/>
                        </a:lnTo>
                        <a:lnTo>
                          <a:pt x="64" y="106"/>
                        </a:lnTo>
                        <a:lnTo>
                          <a:pt x="92" y="122"/>
                        </a:lnTo>
                        <a:lnTo>
                          <a:pt x="123" y="136"/>
                        </a:lnTo>
                        <a:lnTo>
                          <a:pt x="155" y="149"/>
                        </a:lnTo>
                        <a:lnTo>
                          <a:pt x="188" y="159"/>
                        </a:lnTo>
                        <a:lnTo>
                          <a:pt x="218" y="165"/>
                        </a:lnTo>
                        <a:lnTo>
                          <a:pt x="245" y="168"/>
                        </a:lnTo>
                        <a:lnTo>
                          <a:pt x="266" y="165"/>
                        </a:lnTo>
                        <a:lnTo>
                          <a:pt x="281" y="156"/>
                        </a:lnTo>
                        <a:lnTo>
                          <a:pt x="289" y="145"/>
                        </a:lnTo>
                        <a:lnTo>
                          <a:pt x="292" y="131"/>
                        </a:lnTo>
                        <a:lnTo>
                          <a:pt x="289" y="118"/>
                        </a:lnTo>
                        <a:lnTo>
                          <a:pt x="282" y="106"/>
                        </a:lnTo>
                        <a:lnTo>
                          <a:pt x="269" y="98"/>
                        </a:lnTo>
                        <a:lnTo>
                          <a:pt x="253" y="93"/>
                        </a:lnTo>
                        <a:lnTo>
                          <a:pt x="229" y="92"/>
                        </a:lnTo>
                        <a:lnTo>
                          <a:pt x="208" y="89"/>
                        </a:lnTo>
                        <a:lnTo>
                          <a:pt x="189" y="85"/>
                        </a:lnTo>
                        <a:lnTo>
                          <a:pt x="170" y="80"/>
                        </a:lnTo>
                        <a:lnTo>
                          <a:pt x="155" y="76"/>
                        </a:lnTo>
                        <a:lnTo>
                          <a:pt x="139" y="70"/>
                        </a:lnTo>
                        <a:lnTo>
                          <a:pt x="123" y="63"/>
                        </a:lnTo>
                        <a:lnTo>
                          <a:pt x="107" y="57"/>
                        </a:lnTo>
                        <a:close/>
                      </a:path>
                    </a:pathLst>
                  </a:custGeom>
                  <a:solidFill>
                    <a:srgbClr val="34363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Freeform 506"/>
                  <p:cNvSpPr/>
                  <p:nvPr/>
                </p:nvSpPr>
                <p:spPr>
                  <a:xfrm flipH="1">
                    <a:off x="2361240" y="2972880"/>
                    <a:ext cx="17640" cy="9000"/>
                  </a:xfrm>
                  <a:custGeom>
                    <a:avLst/>
                    <a:gdLst>
                      <a:gd name="textAreaLeft" fmla="*/ -360 w 17640"/>
                      <a:gd name="textAreaRight" fmla="*/ 17640 w 1764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89" h="104">
                        <a:moveTo>
                          <a:pt x="115" y="102"/>
                        </a:moveTo>
                        <a:lnTo>
                          <a:pt x="118" y="100"/>
                        </a:lnTo>
                        <a:lnTo>
                          <a:pt x="128" y="97"/>
                        </a:lnTo>
                        <a:lnTo>
                          <a:pt x="141" y="92"/>
                        </a:lnTo>
                        <a:lnTo>
                          <a:pt x="155" y="84"/>
                        </a:lnTo>
                        <a:lnTo>
                          <a:pt x="169" y="76"/>
                        </a:lnTo>
                        <a:lnTo>
                          <a:pt x="181" y="66"/>
                        </a:lnTo>
                        <a:lnTo>
                          <a:pt x="188" y="54"/>
                        </a:lnTo>
                        <a:lnTo>
                          <a:pt x="189" y="43"/>
                        </a:lnTo>
                        <a:lnTo>
                          <a:pt x="185" y="31"/>
                        </a:lnTo>
                        <a:lnTo>
                          <a:pt x="178" y="21"/>
                        </a:lnTo>
                        <a:lnTo>
                          <a:pt x="168" y="13"/>
                        </a:lnTo>
                        <a:lnTo>
                          <a:pt x="157" y="7"/>
                        </a:lnTo>
                        <a:lnTo>
                          <a:pt x="142" y="3"/>
                        </a:lnTo>
                        <a:lnTo>
                          <a:pt x="128" y="0"/>
                        </a:lnTo>
                        <a:lnTo>
                          <a:pt x="114" y="0"/>
                        </a:lnTo>
                        <a:lnTo>
                          <a:pt x="98" y="1"/>
                        </a:lnTo>
                        <a:lnTo>
                          <a:pt x="81" y="4"/>
                        </a:lnTo>
                        <a:lnTo>
                          <a:pt x="62" y="8"/>
                        </a:lnTo>
                        <a:lnTo>
                          <a:pt x="43" y="13"/>
                        </a:lnTo>
                        <a:lnTo>
                          <a:pt x="25" y="18"/>
                        </a:lnTo>
                        <a:lnTo>
                          <a:pt x="10" y="26"/>
                        </a:lnTo>
                        <a:lnTo>
                          <a:pt x="2" y="34"/>
                        </a:lnTo>
                        <a:lnTo>
                          <a:pt x="0" y="46"/>
                        </a:lnTo>
                        <a:lnTo>
                          <a:pt x="8" y="60"/>
                        </a:lnTo>
                        <a:lnTo>
                          <a:pt x="19" y="74"/>
                        </a:lnTo>
                        <a:lnTo>
                          <a:pt x="32" y="84"/>
                        </a:lnTo>
                        <a:lnTo>
                          <a:pt x="43" y="93"/>
                        </a:lnTo>
                        <a:lnTo>
                          <a:pt x="55" y="99"/>
                        </a:lnTo>
                        <a:lnTo>
                          <a:pt x="68" y="103"/>
                        </a:lnTo>
                        <a:lnTo>
                          <a:pt x="82" y="104"/>
                        </a:lnTo>
                        <a:lnTo>
                          <a:pt x="98" y="103"/>
                        </a:lnTo>
                        <a:lnTo>
                          <a:pt x="115" y="102"/>
                        </a:lnTo>
                        <a:close/>
                      </a:path>
                    </a:pathLst>
                  </a:custGeom>
                  <a:solidFill>
                    <a:srgbClr val="34363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Freeform 507"/>
                  <p:cNvSpPr/>
                  <p:nvPr/>
                </p:nvSpPr>
                <p:spPr>
                  <a:xfrm flipH="1">
                    <a:off x="2364480" y="2906280"/>
                    <a:ext cx="23400" cy="47520"/>
                  </a:xfrm>
                  <a:custGeom>
                    <a:avLst/>
                    <a:gdLst>
                      <a:gd name="textAreaLeft" fmla="*/ -360 w 23400"/>
                      <a:gd name="textAreaRight" fmla="*/ 23400 w 23400"/>
                      <a:gd name="textAreaTop" fmla="*/ 0 h 47520"/>
                      <a:gd name="textAreaBottom" fmla="*/ 47880 h 47520"/>
                    </a:gdLst>
                    <a:ahLst/>
                    <a:rect l="textAreaLeft" t="textAreaTop" r="textAreaRight" b="textAreaBottom"/>
                    <a:pathLst>
                      <a:path w="246" h="548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8" y="5"/>
                        </a:lnTo>
                        <a:lnTo>
                          <a:pt x="17" y="12"/>
                        </a:lnTo>
                        <a:lnTo>
                          <a:pt x="30" y="22"/>
                        </a:lnTo>
                        <a:lnTo>
                          <a:pt x="46" y="35"/>
                        </a:lnTo>
                        <a:lnTo>
                          <a:pt x="63" y="51"/>
                        </a:lnTo>
                        <a:lnTo>
                          <a:pt x="81" y="68"/>
                        </a:lnTo>
                        <a:lnTo>
                          <a:pt x="100" y="87"/>
                        </a:lnTo>
                        <a:lnTo>
                          <a:pt x="122" y="110"/>
                        </a:lnTo>
                        <a:lnTo>
                          <a:pt x="142" y="133"/>
                        </a:lnTo>
                        <a:lnTo>
                          <a:pt x="162" y="157"/>
                        </a:lnTo>
                        <a:lnTo>
                          <a:pt x="180" y="184"/>
                        </a:lnTo>
                        <a:lnTo>
                          <a:pt x="199" y="213"/>
                        </a:lnTo>
                        <a:lnTo>
                          <a:pt x="215" y="242"/>
                        </a:lnTo>
                        <a:lnTo>
                          <a:pt x="228" y="273"/>
                        </a:lnTo>
                        <a:lnTo>
                          <a:pt x="239" y="305"/>
                        </a:lnTo>
                        <a:lnTo>
                          <a:pt x="246" y="343"/>
                        </a:lnTo>
                        <a:lnTo>
                          <a:pt x="246" y="381"/>
                        </a:lnTo>
                        <a:lnTo>
                          <a:pt x="240" y="417"/>
                        </a:lnTo>
                        <a:lnTo>
                          <a:pt x="230" y="450"/>
                        </a:lnTo>
                        <a:lnTo>
                          <a:pt x="219" y="481"/>
                        </a:lnTo>
                        <a:lnTo>
                          <a:pt x="205" y="507"/>
                        </a:lnTo>
                        <a:lnTo>
                          <a:pt x="192" y="528"/>
                        </a:lnTo>
                        <a:lnTo>
                          <a:pt x="182" y="544"/>
                        </a:lnTo>
                        <a:lnTo>
                          <a:pt x="170" y="548"/>
                        </a:lnTo>
                        <a:lnTo>
                          <a:pt x="157" y="538"/>
                        </a:lnTo>
                        <a:lnTo>
                          <a:pt x="144" y="517"/>
                        </a:lnTo>
                        <a:lnTo>
                          <a:pt x="130" y="490"/>
                        </a:lnTo>
                        <a:lnTo>
                          <a:pt x="119" y="458"/>
                        </a:lnTo>
                        <a:lnTo>
                          <a:pt x="109" y="427"/>
                        </a:lnTo>
                        <a:lnTo>
                          <a:pt x="101" y="399"/>
                        </a:lnTo>
                        <a:lnTo>
                          <a:pt x="99" y="379"/>
                        </a:lnTo>
                        <a:lnTo>
                          <a:pt x="100" y="361"/>
                        </a:lnTo>
                        <a:lnTo>
                          <a:pt x="100" y="333"/>
                        </a:lnTo>
                        <a:lnTo>
                          <a:pt x="100" y="299"/>
                        </a:lnTo>
                        <a:lnTo>
                          <a:pt x="96" y="258"/>
                        </a:lnTo>
                        <a:lnTo>
                          <a:pt x="86" y="206"/>
                        </a:lnTo>
                        <a:lnTo>
                          <a:pt x="67" y="147"/>
                        </a:lnTo>
                        <a:lnTo>
                          <a:pt x="40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4363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1" name="Ellipse 270"/>
              <p:cNvSpPr/>
              <p:nvPr/>
            </p:nvSpPr>
            <p:spPr>
              <a:xfrm flipH="1">
                <a:off x="2318760" y="2986920"/>
                <a:ext cx="138240" cy="367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Gruppe 218"/>
            <p:cNvGrpSpPr/>
            <p:nvPr/>
          </p:nvGrpSpPr>
          <p:grpSpPr>
            <a:xfrm>
              <a:off x="2870640" y="2900880"/>
              <a:ext cx="125640" cy="158760"/>
              <a:chOff x="2870640" y="2900880"/>
              <a:chExt cx="125640" cy="158760"/>
            </a:xfrm>
          </p:grpSpPr>
          <p:sp>
            <p:nvSpPr>
              <p:cNvPr id="313" name="Ellipse 250"/>
              <p:cNvSpPr/>
              <p:nvPr/>
            </p:nvSpPr>
            <p:spPr>
              <a:xfrm flipH="1">
                <a:off x="2870280" y="3026160"/>
                <a:ext cx="125640" cy="33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4" name="Gruppe 850"/>
              <p:cNvGrpSpPr/>
              <p:nvPr/>
            </p:nvGrpSpPr>
            <p:grpSpPr>
              <a:xfrm>
                <a:off x="2892600" y="2900880"/>
                <a:ext cx="72000" cy="151920"/>
                <a:chOff x="2892600" y="2900880"/>
                <a:chExt cx="72000" cy="151920"/>
              </a:xfrm>
            </p:grpSpPr>
            <p:grpSp>
              <p:nvGrpSpPr>
                <p:cNvPr id="315" name="Gruppe 823"/>
                <p:cNvGrpSpPr/>
                <p:nvPr/>
              </p:nvGrpSpPr>
              <p:grpSpPr>
                <a:xfrm>
                  <a:off x="2892600" y="2908440"/>
                  <a:ext cx="72000" cy="144360"/>
                  <a:chOff x="2892600" y="2908440"/>
                  <a:chExt cx="72000" cy="144360"/>
                </a:xfrm>
              </p:grpSpPr>
              <p:grpSp>
                <p:nvGrpSpPr>
                  <p:cNvPr id="316" name="Gruppe 605"/>
                  <p:cNvGrpSpPr/>
                  <p:nvPr/>
                </p:nvGrpSpPr>
                <p:grpSpPr>
                  <a:xfrm>
                    <a:off x="2892600" y="2919240"/>
                    <a:ext cx="72000" cy="133560"/>
                    <a:chOff x="2892600" y="2919240"/>
                    <a:chExt cx="72000" cy="133560"/>
                  </a:xfrm>
                </p:grpSpPr>
                <p:sp>
                  <p:nvSpPr>
                    <p:cNvPr id="317" name="Freeform 130"/>
                    <p:cNvSpPr/>
                    <p:nvPr/>
                  </p:nvSpPr>
                  <p:spPr>
                    <a:xfrm flipH="1">
                      <a:off x="2892600" y="2919240"/>
                      <a:ext cx="72000" cy="133560"/>
                    </a:xfrm>
                    <a:custGeom>
                      <a:avLst/>
                      <a:gdLst>
                        <a:gd name="textAreaLeft" fmla="*/ 360 w 72000"/>
                        <a:gd name="textAreaRight" fmla="*/ 72720 w 72000"/>
                        <a:gd name="textAreaTop" fmla="*/ 0 h 133560"/>
                        <a:gd name="textAreaBottom" fmla="*/ 133920 h 133560"/>
                      </a:gdLst>
                      <a:ahLst/>
                      <a:rect l="textAreaLeft" t="textAreaTop" r="textAreaRight" b="textAreaBottom"/>
                      <a:pathLst>
                        <a:path w="493" h="1194">
                          <a:moveTo>
                            <a:pt x="208" y="62"/>
                          </a:moveTo>
                          <a:lnTo>
                            <a:pt x="167" y="83"/>
                          </a:lnTo>
                          <a:lnTo>
                            <a:pt x="145" y="87"/>
                          </a:lnTo>
                          <a:lnTo>
                            <a:pt x="125" y="93"/>
                          </a:lnTo>
                          <a:lnTo>
                            <a:pt x="110" y="100"/>
                          </a:lnTo>
                          <a:lnTo>
                            <a:pt x="99" y="110"/>
                          </a:lnTo>
                          <a:lnTo>
                            <a:pt x="92" y="124"/>
                          </a:lnTo>
                          <a:lnTo>
                            <a:pt x="90" y="141"/>
                          </a:lnTo>
                          <a:lnTo>
                            <a:pt x="93" y="162"/>
                          </a:lnTo>
                          <a:lnTo>
                            <a:pt x="104" y="187"/>
                          </a:lnTo>
                          <a:lnTo>
                            <a:pt x="158" y="242"/>
                          </a:lnTo>
                          <a:lnTo>
                            <a:pt x="158" y="272"/>
                          </a:lnTo>
                          <a:lnTo>
                            <a:pt x="140" y="282"/>
                          </a:lnTo>
                          <a:lnTo>
                            <a:pt x="135" y="302"/>
                          </a:lnTo>
                          <a:lnTo>
                            <a:pt x="138" y="326"/>
                          </a:lnTo>
                          <a:lnTo>
                            <a:pt x="147" y="346"/>
                          </a:lnTo>
                          <a:lnTo>
                            <a:pt x="104" y="360"/>
                          </a:lnTo>
                          <a:lnTo>
                            <a:pt x="89" y="375"/>
                          </a:lnTo>
                          <a:lnTo>
                            <a:pt x="77" y="389"/>
                          </a:lnTo>
                          <a:lnTo>
                            <a:pt x="71" y="402"/>
                          </a:lnTo>
                          <a:lnTo>
                            <a:pt x="70" y="414"/>
                          </a:lnTo>
                          <a:lnTo>
                            <a:pt x="74" y="426"/>
                          </a:lnTo>
                          <a:lnTo>
                            <a:pt x="82" y="437"/>
                          </a:lnTo>
                          <a:lnTo>
                            <a:pt x="94" y="449"/>
                          </a:lnTo>
                          <a:lnTo>
                            <a:pt x="113" y="459"/>
                          </a:lnTo>
                          <a:lnTo>
                            <a:pt x="173" y="480"/>
                          </a:lnTo>
                          <a:lnTo>
                            <a:pt x="168" y="522"/>
                          </a:lnTo>
                          <a:lnTo>
                            <a:pt x="162" y="562"/>
                          </a:lnTo>
                          <a:lnTo>
                            <a:pt x="156" y="601"/>
                          </a:lnTo>
                          <a:lnTo>
                            <a:pt x="150" y="638"/>
                          </a:lnTo>
                          <a:lnTo>
                            <a:pt x="140" y="676"/>
                          </a:lnTo>
                          <a:lnTo>
                            <a:pt x="129" y="713"/>
                          </a:lnTo>
                          <a:lnTo>
                            <a:pt x="115" y="750"/>
                          </a:lnTo>
                          <a:lnTo>
                            <a:pt x="98" y="789"/>
                          </a:lnTo>
                          <a:lnTo>
                            <a:pt x="83" y="796"/>
                          </a:lnTo>
                          <a:lnTo>
                            <a:pt x="70" y="804"/>
                          </a:lnTo>
                          <a:lnTo>
                            <a:pt x="61" y="814"/>
                          </a:lnTo>
                          <a:lnTo>
                            <a:pt x="55" y="823"/>
                          </a:lnTo>
                          <a:lnTo>
                            <a:pt x="53" y="835"/>
                          </a:lnTo>
                          <a:lnTo>
                            <a:pt x="55" y="845"/>
                          </a:lnTo>
                          <a:lnTo>
                            <a:pt x="62" y="857"/>
                          </a:lnTo>
                          <a:lnTo>
                            <a:pt x="75" y="868"/>
                          </a:lnTo>
                          <a:lnTo>
                            <a:pt x="78" y="889"/>
                          </a:lnTo>
                          <a:lnTo>
                            <a:pt x="53" y="896"/>
                          </a:lnTo>
                          <a:lnTo>
                            <a:pt x="34" y="905"/>
                          </a:lnTo>
                          <a:lnTo>
                            <a:pt x="21" y="916"/>
                          </a:lnTo>
                          <a:lnTo>
                            <a:pt x="13" y="928"/>
                          </a:lnTo>
                          <a:lnTo>
                            <a:pt x="8" y="942"/>
                          </a:lnTo>
                          <a:lnTo>
                            <a:pt x="8" y="959"/>
                          </a:lnTo>
                          <a:lnTo>
                            <a:pt x="10" y="978"/>
                          </a:lnTo>
                          <a:lnTo>
                            <a:pt x="15" y="999"/>
                          </a:lnTo>
                          <a:lnTo>
                            <a:pt x="19" y="1032"/>
                          </a:lnTo>
                          <a:lnTo>
                            <a:pt x="0" y="1057"/>
                          </a:lnTo>
                          <a:lnTo>
                            <a:pt x="0" y="1121"/>
                          </a:lnTo>
                          <a:lnTo>
                            <a:pt x="18" y="1137"/>
                          </a:lnTo>
                          <a:lnTo>
                            <a:pt x="41" y="1151"/>
                          </a:lnTo>
                          <a:lnTo>
                            <a:pt x="69" y="1163"/>
                          </a:lnTo>
                          <a:lnTo>
                            <a:pt x="101" y="1174"/>
                          </a:lnTo>
                          <a:lnTo>
                            <a:pt x="135" y="1182"/>
                          </a:lnTo>
                          <a:lnTo>
                            <a:pt x="171" y="1189"/>
                          </a:lnTo>
                          <a:lnTo>
                            <a:pt x="208" y="1192"/>
                          </a:lnTo>
                          <a:lnTo>
                            <a:pt x="246" y="1194"/>
                          </a:lnTo>
                          <a:lnTo>
                            <a:pt x="285" y="1193"/>
                          </a:lnTo>
                          <a:lnTo>
                            <a:pt x="322" y="1190"/>
                          </a:lnTo>
                          <a:lnTo>
                            <a:pt x="359" y="1184"/>
                          </a:lnTo>
                          <a:lnTo>
                            <a:pt x="393" y="1175"/>
                          </a:lnTo>
                          <a:lnTo>
                            <a:pt x="424" y="1162"/>
                          </a:lnTo>
                          <a:lnTo>
                            <a:pt x="451" y="1147"/>
                          </a:lnTo>
                          <a:lnTo>
                            <a:pt x="474" y="1129"/>
                          </a:lnTo>
                          <a:lnTo>
                            <a:pt x="493" y="1107"/>
                          </a:lnTo>
                          <a:lnTo>
                            <a:pt x="493" y="1069"/>
                          </a:lnTo>
                          <a:lnTo>
                            <a:pt x="484" y="1032"/>
                          </a:lnTo>
                          <a:lnTo>
                            <a:pt x="487" y="1005"/>
                          </a:lnTo>
                          <a:lnTo>
                            <a:pt x="489" y="984"/>
                          </a:lnTo>
                          <a:lnTo>
                            <a:pt x="489" y="965"/>
                          </a:lnTo>
                          <a:lnTo>
                            <a:pt x="486" y="950"/>
                          </a:lnTo>
                          <a:lnTo>
                            <a:pt x="480" y="936"/>
                          </a:lnTo>
                          <a:lnTo>
                            <a:pt x="470" y="921"/>
                          </a:lnTo>
                          <a:lnTo>
                            <a:pt x="454" y="906"/>
                          </a:lnTo>
                          <a:lnTo>
                            <a:pt x="433" y="888"/>
                          </a:lnTo>
                          <a:lnTo>
                            <a:pt x="441" y="870"/>
                          </a:lnTo>
                          <a:lnTo>
                            <a:pt x="446" y="855"/>
                          </a:lnTo>
                          <a:lnTo>
                            <a:pt x="449" y="842"/>
                          </a:lnTo>
                          <a:lnTo>
                            <a:pt x="449" y="832"/>
                          </a:lnTo>
                          <a:lnTo>
                            <a:pt x="444" y="823"/>
                          </a:lnTo>
                          <a:lnTo>
                            <a:pt x="438" y="814"/>
                          </a:lnTo>
                          <a:lnTo>
                            <a:pt x="425" y="805"/>
                          </a:lnTo>
                          <a:lnTo>
                            <a:pt x="409" y="793"/>
                          </a:lnTo>
                          <a:lnTo>
                            <a:pt x="389" y="751"/>
                          </a:lnTo>
                          <a:lnTo>
                            <a:pt x="373" y="713"/>
                          </a:lnTo>
                          <a:lnTo>
                            <a:pt x="362" y="677"/>
                          </a:lnTo>
                          <a:lnTo>
                            <a:pt x="355" y="644"/>
                          </a:lnTo>
                          <a:lnTo>
                            <a:pt x="349" y="609"/>
                          </a:lnTo>
                          <a:lnTo>
                            <a:pt x="345" y="572"/>
                          </a:lnTo>
                          <a:lnTo>
                            <a:pt x="344" y="531"/>
                          </a:lnTo>
                          <a:lnTo>
                            <a:pt x="344" y="485"/>
                          </a:lnTo>
                          <a:lnTo>
                            <a:pt x="379" y="471"/>
                          </a:lnTo>
                          <a:lnTo>
                            <a:pt x="404" y="455"/>
                          </a:lnTo>
                          <a:lnTo>
                            <a:pt x="417" y="446"/>
                          </a:lnTo>
                          <a:lnTo>
                            <a:pt x="426" y="435"/>
                          </a:lnTo>
                          <a:lnTo>
                            <a:pt x="433" y="423"/>
                          </a:lnTo>
                          <a:lnTo>
                            <a:pt x="436" y="411"/>
                          </a:lnTo>
                          <a:lnTo>
                            <a:pt x="434" y="398"/>
                          </a:lnTo>
                          <a:lnTo>
                            <a:pt x="427" y="386"/>
                          </a:lnTo>
                          <a:lnTo>
                            <a:pt x="414" y="374"/>
                          </a:lnTo>
                          <a:lnTo>
                            <a:pt x="394" y="364"/>
                          </a:lnTo>
                          <a:lnTo>
                            <a:pt x="368" y="356"/>
                          </a:lnTo>
                          <a:lnTo>
                            <a:pt x="379" y="343"/>
                          </a:lnTo>
                          <a:lnTo>
                            <a:pt x="386" y="330"/>
                          </a:lnTo>
                          <a:lnTo>
                            <a:pt x="390" y="318"/>
                          </a:lnTo>
                          <a:lnTo>
                            <a:pt x="393" y="306"/>
                          </a:lnTo>
                          <a:lnTo>
                            <a:pt x="390" y="295"/>
                          </a:lnTo>
                          <a:lnTo>
                            <a:pt x="386" y="283"/>
                          </a:lnTo>
                          <a:lnTo>
                            <a:pt x="376" y="273"/>
                          </a:lnTo>
                          <a:lnTo>
                            <a:pt x="364" y="261"/>
                          </a:lnTo>
                          <a:lnTo>
                            <a:pt x="389" y="227"/>
                          </a:lnTo>
                          <a:lnTo>
                            <a:pt x="409" y="192"/>
                          </a:lnTo>
                          <a:lnTo>
                            <a:pt x="420" y="170"/>
                          </a:lnTo>
                          <a:lnTo>
                            <a:pt x="428" y="153"/>
                          </a:lnTo>
                          <a:lnTo>
                            <a:pt x="432" y="139"/>
                          </a:lnTo>
                          <a:lnTo>
                            <a:pt x="432" y="128"/>
                          </a:lnTo>
                          <a:lnTo>
                            <a:pt x="426" y="118"/>
                          </a:lnTo>
                          <a:lnTo>
                            <a:pt x="416" y="110"/>
                          </a:lnTo>
                          <a:lnTo>
                            <a:pt x="400" y="102"/>
                          </a:lnTo>
                          <a:lnTo>
                            <a:pt x="378" y="92"/>
                          </a:lnTo>
                          <a:lnTo>
                            <a:pt x="349" y="77"/>
                          </a:lnTo>
                          <a:lnTo>
                            <a:pt x="320" y="68"/>
                          </a:lnTo>
                          <a:lnTo>
                            <a:pt x="322" y="54"/>
                          </a:lnTo>
                          <a:lnTo>
                            <a:pt x="322" y="42"/>
                          </a:lnTo>
                          <a:lnTo>
                            <a:pt x="320" y="32"/>
                          </a:lnTo>
                          <a:lnTo>
                            <a:pt x="315" y="23"/>
                          </a:lnTo>
                          <a:lnTo>
                            <a:pt x="309" y="16"/>
                          </a:lnTo>
                          <a:lnTo>
                            <a:pt x="300" y="10"/>
                          </a:lnTo>
                          <a:lnTo>
                            <a:pt x="291" y="5"/>
                          </a:lnTo>
                          <a:lnTo>
                            <a:pt x="281" y="2"/>
                          </a:lnTo>
                          <a:lnTo>
                            <a:pt x="268" y="0"/>
                          </a:lnTo>
                          <a:lnTo>
                            <a:pt x="256" y="1"/>
                          </a:lnTo>
                          <a:lnTo>
                            <a:pt x="243" y="3"/>
                          </a:lnTo>
                          <a:lnTo>
                            <a:pt x="233" y="8"/>
                          </a:lnTo>
                          <a:lnTo>
                            <a:pt x="222" y="16"/>
                          </a:lnTo>
                          <a:lnTo>
                            <a:pt x="215" y="27"/>
                          </a:lnTo>
                          <a:lnTo>
                            <a:pt x="211" y="42"/>
                          </a:lnTo>
                          <a:lnTo>
                            <a:pt x="208" y="62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80808"/>
                        </a:gs>
                        <a:gs pos="100000">
                          <a:srgbClr val="e6e6e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31"/>
                    <p:cNvSpPr/>
                    <p:nvPr/>
                  </p:nvSpPr>
                  <p:spPr>
                    <a:xfrm flipH="1">
                      <a:off x="2911320" y="2927160"/>
                      <a:ext cx="26640" cy="6120"/>
                    </a:xfrm>
                    <a:custGeom>
                      <a:avLst/>
                      <a:gdLst>
                        <a:gd name="textAreaLeft" fmla="*/ 360 w 26640"/>
                        <a:gd name="textAreaRight" fmla="*/ 27360 w 2664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185" h="58">
                          <a:moveTo>
                            <a:pt x="13" y="8"/>
                          </a:moveTo>
                          <a:lnTo>
                            <a:pt x="0" y="22"/>
                          </a:lnTo>
                          <a:lnTo>
                            <a:pt x="8" y="43"/>
                          </a:lnTo>
                          <a:lnTo>
                            <a:pt x="28" y="49"/>
                          </a:lnTo>
                          <a:lnTo>
                            <a:pt x="53" y="54"/>
                          </a:lnTo>
                          <a:lnTo>
                            <a:pt x="81" y="58"/>
                          </a:lnTo>
                          <a:lnTo>
                            <a:pt x="108" y="56"/>
                          </a:lnTo>
                          <a:lnTo>
                            <a:pt x="135" y="53"/>
                          </a:lnTo>
                          <a:lnTo>
                            <a:pt x="159" y="46"/>
                          </a:lnTo>
                          <a:lnTo>
                            <a:pt x="176" y="33"/>
                          </a:lnTo>
                          <a:lnTo>
                            <a:pt x="185" y="16"/>
                          </a:lnTo>
                          <a:lnTo>
                            <a:pt x="160" y="6"/>
                          </a:lnTo>
                          <a:lnTo>
                            <a:pt x="144" y="0"/>
                          </a:lnTo>
                          <a:lnTo>
                            <a:pt x="139" y="15"/>
                          </a:lnTo>
                          <a:lnTo>
                            <a:pt x="127" y="24"/>
                          </a:lnTo>
                          <a:lnTo>
                            <a:pt x="109" y="29"/>
                          </a:lnTo>
                          <a:lnTo>
                            <a:pt x="89" y="29"/>
                          </a:lnTo>
                          <a:lnTo>
                            <a:pt x="68" y="25"/>
                          </a:lnTo>
                          <a:lnTo>
                            <a:pt x="51" y="20"/>
                          </a:lnTo>
                          <a:lnTo>
                            <a:pt x="38" y="11"/>
                          </a:lnTo>
                          <a:lnTo>
                            <a:pt x="33" y="1"/>
                          </a:lnTo>
                          <a:lnTo>
                            <a:pt x="13" y="8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Freeform 132"/>
                    <p:cNvSpPr/>
                    <p:nvPr/>
                  </p:nvSpPr>
                  <p:spPr>
                    <a:xfrm flipH="1">
                      <a:off x="2903760" y="2930040"/>
                      <a:ext cx="45360" cy="1116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329" h="102">
                          <a:moveTo>
                            <a:pt x="32" y="10"/>
                          </a:moveTo>
                          <a:lnTo>
                            <a:pt x="1" y="26"/>
                          </a:lnTo>
                          <a:lnTo>
                            <a:pt x="0" y="43"/>
                          </a:lnTo>
                          <a:lnTo>
                            <a:pt x="3" y="60"/>
                          </a:lnTo>
                          <a:lnTo>
                            <a:pt x="14" y="71"/>
                          </a:lnTo>
                          <a:lnTo>
                            <a:pt x="27" y="81"/>
                          </a:lnTo>
                          <a:lnTo>
                            <a:pt x="46" y="90"/>
                          </a:lnTo>
                          <a:lnTo>
                            <a:pt x="67" y="95"/>
                          </a:lnTo>
                          <a:lnTo>
                            <a:pt x="91" y="100"/>
                          </a:lnTo>
                          <a:lnTo>
                            <a:pt x="117" y="102"/>
                          </a:lnTo>
                          <a:lnTo>
                            <a:pt x="144" y="102"/>
                          </a:lnTo>
                          <a:lnTo>
                            <a:pt x="171" y="102"/>
                          </a:lnTo>
                          <a:lnTo>
                            <a:pt x="199" y="100"/>
                          </a:lnTo>
                          <a:lnTo>
                            <a:pt x="225" y="98"/>
                          </a:lnTo>
                          <a:lnTo>
                            <a:pt x="251" y="94"/>
                          </a:lnTo>
                          <a:lnTo>
                            <a:pt x="273" y="90"/>
                          </a:lnTo>
                          <a:lnTo>
                            <a:pt x="292" y="85"/>
                          </a:lnTo>
                          <a:lnTo>
                            <a:pt x="308" y="79"/>
                          </a:lnTo>
                          <a:lnTo>
                            <a:pt x="319" y="71"/>
                          </a:lnTo>
                          <a:lnTo>
                            <a:pt x="326" y="61"/>
                          </a:lnTo>
                          <a:lnTo>
                            <a:pt x="329" y="50"/>
                          </a:lnTo>
                          <a:lnTo>
                            <a:pt x="329" y="39"/>
                          </a:lnTo>
                          <a:lnTo>
                            <a:pt x="325" y="28"/>
                          </a:lnTo>
                          <a:lnTo>
                            <a:pt x="316" y="18"/>
                          </a:lnTo>
                          <a:lnTo>
                            <a:pt x="303" y="8"/>
                          </a:lnTo>
                          <a:lnTo>
                            <a:pt x="285" y="0"/>
                          </a:lnTo>
                          <a:lnTo>
                            <a:pt x="269" y="18"/>
                          </a:lnTo>
                          <a:lnTo>
                            <a:pt x="252" y="31"/>
                          </a:lnTo>
                          <a:lnTo>
                            <a:pt x="234" y="39"/>
                          </a:lnTo>
                          <a:lnTo>
                            <a:pt x="215" y="43"/>
                          </a:lnTo>
                          <a:lnTo>
                            <a:pt x="194" y="45"/>
                          </a:lnTo>
                          <a:lnTo>
                            <a:pt x="173" y="43"/>
                          </a:lnTo>
                          <a:lnTo>
                            <a:pt x="148" y="41"/>
                          </a:lnTo>
                          <a:lnTo>
                            <a:pt x="122" y="40"/>
                          </a:lnTo>
                          <a:lnTo>
                            <a:pt x="67" y="30"/>
                          </a:lnTo>
                          <a:lnTo>
                            <a:pt x="49" y="3"/>
                          </a:lnTo>
                          <a:lnTo>
                            <a:pt x="32" y="10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Freeform 133"/>
                    <p:cNvSpPr/>
                    <p:nvPr/>
                  </p:nvSpPr>
                  <p:spPr>
                    <a:xfrm flipH="1">
                      <a:off x="2910960" y="2955600"/>
                      <a:ext cx="29880" cy="2880"/>
                    </a:xfrm>
                    <a:custGeom>
                      <a:avLst/>
                      <a:gdLst>
                        <a:gd name="textAreaLeft" fmla="*/ -360 w 29880"/>
                        <a:gd name="textAreaRight" fmla="*/ 29880 w 29880"/>
                        <a:gd name="textAreaTop" fmla="*/ 0 h 2880"/>
                        <a:gd name="textAreaBottom" fmla="*/ 3240 h 2880"/>
                      </a:gdLst>
                      <a:ahLst/>
                      <a:rect l="textAreaLeft" t="textAreaTop" r="textAreaRight" b="textAreaBottom"/>
                      <a:pathLst>
                        <a:path w="204" h="37">
                          <a:moveTo>
                            <a:pt x="12" y="0"/>
                          </a:moveTo>
                          <a:lnTo>
                            <a:pt x="24" y="6"/>
                          </a:lnTo>
                          <a:lnTo>
                            <a:pt x="35" y="12"/>
                          </a:lnTo>
                          <a:lnTo>
                            <a:pt x="47" y="15"/>
                          </a:lnTo>
                          <a:lnTo>
                            <a:pt x="58" y="17"/>
                          </a:lnTo>
                          <a:lnTo>
                            <a:pt x="70" y="20"/>
                          </a:lnTo>
                          <a:lnTo>
                            <a:pt x="82" y="21"/>
                          </a:lnTo>
                          <a:lnTo>
                            <a:pt x="94" y="22"/>
                          </a:lnTo>
                          <a:lnTo>
                            <a:pt x="106" y="21"/>
                          </a:lnTo>
                          <a:lnTo>
                            <a:pt x="119" y="20"/>
                          </a:lnTo>
                          <a:lnTo>
                            <a:pt x="131" y="19"/>
                          </a:lnTo>
                          <a:lnTo>
                            <a:pt x="143" y="16"/>
                          </a:lnTo>
                          <a:lnTo>
                            <a:pt x="156" y="14"/>
                          </a:lnTo>
                          <a:lnTo>
                            <a:pt x="167" y="12"/>
                          </a:lnTo>
                          <a:lnTo>
                            <a:pt x="180" y="8"/>
                          </a:lnTo>
                          <a:lnTo>
                            <a:pt x="192" y="6"/>
                          </a:lnTo>
                          <a:lnTo>
                            <a:pt x="204" y="2"/>
                          </a:lnTo>
                          <a:lnTo>
                            <a:pt x="204" y="14"/>
                          </a:lnTo>
                          <a:lnTo>
                            <a:pt x="196" y="17"/>
                          </a:lnTo>
                          <a:lnTo>
                            <a:pt x="188" y="21"/>
                          </a:lnTo>
                          <a:lnTo>
                            <a:pt x="178" y="24"/>
                          </a:lnTo>
                          <a:lnTo>
                            <a:pt x="167" y="27"/>
                          </a:lnTo>
                          <a:lnTo>
                            <a:pt x="155" y="30"/>
                          </a:lnTo>
                          <a:lnTo>
                            <a:pt x="143" y="32"/>
                          </a:lnTo>
                          <a:lnTo>
                            <a:pt x="129" y="35"/>
                          </a:lnTo>
                          <a:lnTo>
                            <a:pt x="117" y="37"/>
                          </a:lnTo>
                          <a:lnTo>
                            <a:pt x="102" y="37"/>
                          </a:lnTo>
                          <a:lnTo>
                            <a:pt x="88" y="37"/>
                          </a:lnTo>
                          <a:lnTo>
                            <a:pt x="73" y="36"/>
                          </a:lnTo>
                          <a:lnTo>
                            <a:pt x="58" y="34"/>
                          </a:lnTo>
                          <a:lnTo>
                            <a:pt x="44" y="29"/>
                          </a:lnTo>
                          <a:lnTo>
                            <a:pt x="29" y="24"/>
                          </a:lnTo>
                          <a:lnTo>
                            <a:pt x="14" y="17"/>
                          </a:lnTo>
                          <a:lnTo>
                            <a:pt x="0" y="8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35"/>
                    <p:cNvSpPr/>
                    <p:nvPr/>
                  </p:nvSpPr>
                  <p:spPr>
                    <a:xfrm flipH="1">
                      <a:off x="2903400" y="2958840"/>
                      <a:ext cx="50040" cy="11160"/>
                    </a:xfrm>
                    <a:custGeom>
                      <a:avLst/>
                      <a:gdLst>
                        <a:gd name="textAreaLeft" fmla="*/ -360 w 50040"/>
                        <a:gd name="textAreaRight" fmla="*/ 50040 w 5004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351" h="100">
                          <a:moveTo>
                            <a:pt x="40" y="0"/>
                          </a:moveTo>
                          <a:lnTo>
                            <a:pt x="19" y="9"/>
                          </a:lnTo>
                          <a:lnTo>
                            <a:pt x="6" y="20"/>
                          </a:lnTo>
                          <a:lnTo>
                            <a:pt x="0" y="30"/>
                          </a:lnTo>
                          <a:lnTo>
                            <a:pt x="0" y="42"/>
                          </a:lnTo>
                          <a:lnTo>
                            <a:pt x="7" y="53"/>
                          </a:lnTo>
                          <a:lnTo>
                            <a:pt x="17" y="65"/>
                          </a:lnTo>
                          <a:lnTo>
                            <a:pt x="32" y="75"/>
                          </a:lnTo>
                          <a:lnTo>
                            <a:pt x="50" y="85"/>
                          </a:lnTo>
                          <a:lnTo>
                            <a:pt x="66" y="89"/>
                          </a:lnTo>
                          <a:lnTo>
                            <a:pt x="82" y="92"/>
                          </a:lnTo>
                          <a:lnTo>
                            <a:pt x="97" y="95"/>
                          </a:lnTo>
                          <a:lnTo>
                            <a:pt x="113" y="96"/>
                          </a:lnTo>
                          <a:lnTo>
                            <a:pt x="128" y="98"/>
                          </a:lnTo>
                          <a:lnTo>
                            <a:pt x="144" y="99"/>
                          </a:lnTo>
                          <a:lnTo>
                            <a:pt x="159" y="99"/>
                          </a:lnTo>
                          <a:lnTo>
                            <a:pt x="174" y="100"/>
                          </a:lnTo>
                          <a:lnTo>
                            <a:pt x="189" y="100"/>
                          </a:lnTo>
                          <a:lnTo>
                            <a:pt x="205" y="100"/>
                          </a:lnTo>
                          <a:lnTo>
                            <a:pt x="220" y="99"/>
                          </a:lnTo>
                          <a:lnTo>
                            <a:pt x="236" y="99"/>
                          </a:lnTo>
                          <a:lnTo>
                            <a:pt x="251" y="98"/>
                          </a:lnTo>
                          <a:lnTo>
                            <a:pt x="267" y="97"/>
                          </a:lnTo>
                          <a:lnTo>
                            <a:pt x="284" y="95"/>
                          </a:lnTo>
                          <a:lnTo>
                            <a:pt x="300" y="94"/>
                          </a:lnTo>
                          <a:lnTo>
                            <a:pt x="323" y="81"/>
                          </a:lnTo>
                          <a:lnTo>
                            <a:pt x="339" y="68"/>
                          </a:lnTo>
                          <a:lnTo>
                            <a:pt x="349" y="56"/>
                          </a:lnTo>
                          <a:lnTo>
                            <a:pt x="351" y="43"/>
                          </a:lnTo>
                          <a:lnTo>
                            <a:pt x="348" y="31"/>
                          </a:lnTo>
                          <a:lnTo>
                            <a:pt x="338" y="21"/>
                          </a:lnTo>
                          <a:lnTo>
                            <a:pt x="320" y="12"/>
                          </a:lnTo>
                          <a:lnTo>
                            <a:pt x="296" y="5"/>
                          </a:lnTo>
                          <a:lnTo>
                            <a:pt x="298" y="15"/>
                          </a:lnTo>
                          <a:lnTo>
                            <a:pt x="294" y="23"/>
                          </a:lnTo>
                          <a:lnTo>
                            <a:pt x="284" y="30"/>
                          </a:lnTo>
                          <a:lnTo>
                            <a:pt x="272" y="37"/>
                          </a:lnTo>
                          <a:lnTo>
                            <a:pt x="258" y="38"/>
                          </a:lnTo>
                          <a:lnTo>
                            <a:pt x="245" y="39"/>
                          </a:lnTo>
                          <a:lnTo>
                            <a:pt x="234" y="41"/>
                          </a:lnTo>
                          <a:lnTo>
                            <a:pt x="222" y="42"/>
                          </a:lnTo>
                          <a:lnTo>
                            <a:pt x="211" y="43"/>
                          </a:lnTo>
                          <a:lnTo>
                            <a:pt x="199" y="43"/>
                          </a:lnTo>
                          <a:lnTo>
                            <a:pt x="188" y="44"/>
                          </a:lnTo>
                          <a:lnTo>
                            <a:pt x="178" y="44"/>
                          </a:lnTo>
                          <a:lnTo>
                            <a:pt x="166" y="44"/>
                          </a:lnTo>
                          <a:lnTo>
                            <a:pt x="155" y="44"/>
                          </a:lnTo>
                          <a:lnTo>
                            <a:pt x="143" y="44"/>
                          </a:lnTo>
                          <a:lnTo>
                            <a:pt x="133" y="43"/>
                          </a:lnTo>
                          <a:lnTo>
                            <a:pt x="120" y="42"/>
                          </a:lnTo>
                          <a:lnTo>
                            <a:pt x="108" y="41"/>
                          </a:lnTo>
                          <a:lnTo>
                            <a:pt x="96" y="39"/>
                          </a:lnTo>
                          <a:lnTo>
                            <a:pt x="82" y="37"/>
                          </a:lnTo>
                          <a:lnTo>
                            <a:pt x="73" y="32"/>
                          </a:lnTo>
                          <a:lnTo>
                            <a:pt x="65" y="28"/>
                          </a:lnTo>
                          <a:lnTo>
                            <a:pt x="58" y="23"/>
                          </a:lnTo>
                          <a:lnTo>
                            <a:pt x="52" y="19"/>
                          </a:lnTo>
                          <a:lnTo>
                            <a:pt x="47" y="14"/>
                          </a:lnTo>
                          <a:lnTo>
                            <a:pt x="44" y="11"/>
                          </a:lnTo>
                          <a:lnTo>
                            <a:pt x="42" y="5"/>
                          </a:lnTo>
                          <a:lnTo>
                            <a:pt x="40" y="0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Freeform 147"/>
                    <p:cNvSpPr/>
                    <p:nvPr/>
                  </p:nvSpPr>
                  <p:spPr>
                    <a:xfrm flipH="1">
                      <a:off x="2900520" y="3009960"/>
                      <a:ext cx="53280" cy="11160"/>
                    </a:xfrm>
                    <a:custGeom>
                      <a:avLst/>
                      <a:gdLst>
                        <a:gd name="textAreaLeft" fmla="*/ 360 w 53280"/>
                        <a:gd name="textAreaRight" fmla="*/ 54000 w 5328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382" h="96">
                          <a:moveTo>
                            <a:pt x="24" y="4"/>
                          </a:moveTo>
                          <a:lnTo>
                            <a:pt x="68" y="40"/>
                          </a:lnTo>
                          <a:lnTo>
                            <a:pt x="89" y="44"/>
                          </a:lnTo>
                          <a:lnTo>
                            <a:pt x="108" y="48"/>
                          </a:lnTo>
                          <a:lnTo>
                            <a:pt x="127" y="53"/>
                          </a:lnTo>
                          <a:lnTo>
                            <a:pt x="144" y="55"/>
                          </a:lnTo>
                          <a:lnTo>
                            <a:pt x="160" y="57"/>
                          </a:lnTo>
                          <a:lnTo>
                            <a:pt x="176" y="59"/>
                          </a:lnTo>
                          <a:lnTo>
                            <a:pt x="192" y="59"/>
                          </a:lnTo>
                          <a:lnTo>
                            <a:pt x="207" y="59"/>
                          </a:lnTo>
                          <a:lnTo>
                            <a:pt x="222" y="58"/>
                          </a:lnTo>
                          <a:lnTo>
                            <a:pt x="237" y="57"/>
                          </a:lnTo>
                          <a:lnTo>
                            <a:pt x="253" y="54"/>
                          </a:lnTo>
                          <a:lnTo>
                            <a:pt x="270" y="50"/>
                          </a:lnTo>
                          <a:lnTo>
                            <a:pt x="286" y="46"/>
                          </a:lnTo>
                          <a:lnTo>
                            <a:pt x="304" y="39"/>
                          </a:lnTo>
                          <a:lnTo>
                            <a:pt x="323" y="32"/>
                          </a:lnTo>
                          <a:lnTo>
                            <a:pt x="342" y="23"/>
                          </a:lnTo>
                          <a:lnTo>
                            <a:pt x="348" y="10"/>
                          </a:lnTo>
                          <a:lnTo>
                            <a:pt x="352" y="3"/>
                          </a:lnTo>
                          <a:lnTo>
                            <a:pt x="356" y="0"/>
                          </a:lnTo>
                          <a:lnTo>
                            <a:pt x="359" y="1"/>
                          </a:lnTo>
                          <a:lnTo>
                            <a:pt x="363" y="4"/>
                          </a:lnTo>
                          <a:lnTo>
                            <a:pt x="367" y="11"/>
                          </a:lnTo>
                          <a:lnTo>
                            <a:pt x="374" y="20"/>
                          </a:lnTo>
                          <a:lnTo>
                            <a:pt x="382" y="32"/>
                          </a:lnTo>
                          <a:lnTo>
                            <a:pt x="366" y="55"/>
                          </a:lnTo>
                          <a:lnTo>
                            <a:pt x="349" y="65"/>
                          </a:lnTo>
                          <a:lnTo>
                            <a:pt x="329" y="73"/>
                          </a:lnTo>
                          <a:lnTo>
                            <a:pt x="310" y="80"/>
                          </a:lnTo>
                          <a:lnTo>
                            <a:pt x="288" y="86"/>
                          </a:lnTo>
                          <a:lnTo>
                            <a:pt x="266" y="91"/>
                          </a:lnTo>
                          <a:lnTo>
                            <a:pt x="243" y="94"/>
                          </a:lnTo>
                          <a:lnTo>
                            <a:pt x="219" y="96"/>
                          </a:lnTo>
                          <a:lnTo>
                            <a:pt x="196" y="96"/>
                          </a:lnTo>
                          <a:lnTo>
                            <a:pt x="172" y="96"/>
                          </a:lnTo>
                          <a:lnTo>
                            <a:pt x="147" y="95"/>
                          </a:lnTo>
                          <a:lnTo>
                            <a:pt x="124" y="92"/>
                          </a:lnTo>
                          <a:lnTo>
                            <a:pt x="101" y="88"/>
                          </a:lnTo>
                          <a:lnTo>
                            <a:pt x="78" y="84"/>
                          </a:lnTo>
                          <a:lnTo>
                            <a:pt x="58" y="79"/>
                          </a:lnTo>
                          <a:lnTo>
                            <a:pt x="37" y="72"/>
                          </a:lnTo>
                          <a:lnTo>
                            <a:pt x="18" y="65"/>
                          </a:lnTo>
                          <a:lnTo>
                            <a:pt x="12" y="56"/>
                          </a:lnTo>
                          <a:lnTo>
                            <a:pt x="6" y="47"/>
                          </a:lnTo>
                          <a:lnTo>
                            <a:pt x="2" y="38"/>
                          </a:lnTo>
                          <a:lnTo>
                            <a:pt x="0" y="28"/>
                          </a:lnTo>
                          <a:lnTo>
                            <a:pt x="0" y="20"/>
                          </a:lnTo>
                          <a:lnTo>
                            <a:pt x="5" y="13"/>
                          </a:lnTo>
                          <a:lnTo>
                            <a:pt x="12" y="8"/>
                          </a:lnTo>
                          <a:lnTo>
                            <a:pt x="24" y="4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Freeform 148"/>
                    <p:cNvSpPr/>
                    <p:nvPr/>
                  </p:nvSpPr>
                  <p:spPr>
                    <a:xfrm flipH="1">
                      <a:off x="2892600" y="3016440"/>
                      <a:ext cx="72000" cy="22320"/>
                    </a:xfrm>
                    <a:custGeom>
                      <a:avLst/>
                      <a:gdLst>
                        <a:gd name="textAreaLeft" fmla="*/ 360 w 72000"/>
                        <a:gd name="textAreaRight" fmla="*/ 72720 w 72000"/>
                        <a:gd name="textAreaTop" fmla="*/ 0 h 22320"/>
                        <a:gd name="textAreaBottom" fmla="*/ 22680 h 22320"/>
                      </a:gdLst>
                      <a:ahLst/>
                      <a:rect l="textAreaLeft" t="textAreaTop" r="textAreaRight" b="textAreaBottom"/>
                      <a:pathLst>
                        <a:path w="483" h="184">
                          <a:moveTo>
                            <a:pt x="7" y="102"/>
                          </a:moveTo>
                          <a:lnTo>
                            <a:pt x="18" y="116"/>
                          </a:lnTo>
                          <a:lnTo>
                            <a:pt x="34" y="130"/>
                          </a:lnTo>
                          <a:lnTo>
                            <a:pt x="55" y="143"/>
                          </a:lnTo>
                          <a:lnTo>
                            <a:pt x="80" y="155"/>
                          </a:lnTo>
                          <a:lnTo>
                            <a:pt x="109" y="165"/>
                          </a:lnTo>
                          <a:lnTo>
                            <a:pt x="141" y="173"/>
                          </a:lnTo>
                          <a:lnTo>
                            <a:pt x="176" y="179"/>
                          </a:lnTo>
                          <a:lnTo>
                            <a:pt x="211" y="182"/>
                          </a:lnTo>
                          <a:lnTo>
                            <a:pt x="248" y="184"/>
                          </a:lnTo>
                          <a:lnTo>
                            <a:pt x="285" y="183"/>
                          </a:lnTo>
                          <a:lnTo>
                            <a:pt x="323" y="180"/>
                          </a:lnTo>
                          <a:lnTo>
                            <a:pt x="359" y="173"/>
                          </a:lnTo>
                          <a:lnTo>
                            <a:pt x="393" y="164"/>
                          </a:lnTo>
                          <a:lnTo>
                            <a:pt x="427" y="151"/>
                          </a:lnTo>
                          <a:lnTo>
                            <a:pt x="455" y="135"/>
                          </a:lnTo>
                          <a:lnTo>
                            <a:pt x="482" y="115"/>
                          </a:lnTo>
                          <a:lnTo>
                            <a:pt x="483" y="93"/>
                          </a:lnTo>
                          <a:lnTo>
                            <a:pt x="483" y="77"/>
                          </a:lnTo>
                          <a:lnTo>
                            <a:pt x="482" y="65"/>
                          </a:lnTo>
                          <a:lnTo>
                            <a:pt x="478" y="54"/>
                          </a:lnTo>
                          <a:lnTo>
                            <a:pt x="473" y="44"/>
                          </a:lnTo>
                          <a:lnTo>
                            <a:pt x="463" y="34"/>
                          </a:lnTo>
                          <a:lnTo>
                            <a:pt x="451" y="22"/>
                          </a:lnTo>
                          <a:lnTo>
                            <a:pt x="435" y="7"/>
                          </a:lnTo>
                          <a:lnTo>
                            <a:pt x="416" y="23"/>
                          </a:lnTo>
                          <a:lnTo>
                            <a:pt x="396" y="37"/>
                          </a:lnTo>
                          <a:lnTo>
                            <a:pt x="375" y="50"/>
                          </a:lnTo>
                          <a:lnTo>
                            <a:pt x="353" y="59"/>
                          </a:lnTo>
                          <a:lnTo>
                            <a:pt x="330" y="67"/>
                          </a:lnTo>
                          <a:lnTo>
                            <a:pt x="307" y="73"/>
                          </a:lnTo>
                          <a:lnTo>
                            <a:pt x="284" y="76"/>
                          </a:lnTo>
                          <a:lnTo>
                            <a:pt x="260" y="78"/>
                          </a:lnTo>
                          <a:lnTo>
                            <a:pt x="235" y="78"/>
                          </a:lnTo>
                          <a:lnTo>
                            <a:pt x="211" y="76"/>
                          </a:lnTo>
                          <a:lnTo>
                            <a:pt x="187" y="73"/>
                          </a:lnTo>
                          <a:lnTo>
                            <a:pt x="163" y="68"/>
                          </a:lnTo>
                          <a:lnTo>
                            <a:pt x="140" y="61"/>
                          </a:lnTo>
                          <a:lnTo>
                            <a:pt x="116" y="53"/>
                          </a:lnTo>
                          <a:lnTo>
                            <a:pt x="94" y="44"/>
                          </a:lnTo>
                          <a:lnTo>
                            <a:pt x="72" y="32"/>
                          </a:lnTo>
                          <a:lnTo>
                            <a:pt x="66" y="0"/>
                          </a:lnTo>
                          <a:lnTo>
                            <a:pt x="56" y="5"/>
                          </a:lnTo>
                          <a:lnTo>
                            <a:pt x="42" y="12"/>
                          </a:lnTo>
                          <a:lnTo>
                            <a:pt x="29" y="20"/>
                          </a:lnTo>
                          <a:lnTo>
                            <a:pt x="17" y="30"/>
                          </a:lnTo>
                          <a:lnTo>
                            <a:pt x="7" y="43"/>
                          </a:lnTo>
                          <a:lnTo>
                            <a:pt x="2" y="59"/>
                          </a:lnTo>
                          <a:lnTo>
                            <a:pt x="0" y="78"/>
                          </a:lnTo>
                          <a:lnTo>
                            <a:pt x="7" y="102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84"/>
                    <p:cNvSpPr/>
                    <p:nvPr/>
                  </p:nvSpPr>
                  <p:spPr>
                    <a:xfrm flipH="1">
                      <a:off x="2918880" y="2919240"/>
                      <a:ext cx="15480" cy="7920"/>
                    </a:xfrm>
                    <a:custGeom>
                      <a:avLst/>
                      <a:gdLst>
                        <a:gd name="textAreaLeft" fmla="*/ -360 w 15480"/>
                        <a:gd name="textAreaRight" fmla="*/ 15480 w 1548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95" h="72">
                          <a:moveTo>
                            <a:pt x="48" y="0"/>
                          </a:moveTo>
                          <a:lnTo>
                            <a:pt x="57" y="2"/>
                          </a:lnTo>
                          <a:lnTo>
                            <a:pt x="66" y="3"/>
                          </a:lnTo>
                          <a:lnTo>
                            <a:pt x="74" y="6"/>
                          </a:lnTo>
                          <a:lnTo>
                            <a:pt x="81" y="11"/>
                          </a:lnTo>
                          <a:lnTo>
                            <a:pt x="87" y="16"/>
                          </a:lnTo>
                          <a:lnTo>
                            <a:pt x="91" y="22"/>
                          </a:lnTo>
                          <a:lnTo>
                            <a:pt x="94" y="29"/>
                          </a:lnTo>
                          <a:lnTo>
                            <a:pt x="95" y="36"/>
                          </a:lnTo>
                          <a:lnTo>
                            <a:pt x="94" y="43"/>
                          </a:lnTo>
                          <a:lnTo>
                            <a:pt x="91" y="50"/>
                          </a:lnTo>
                          <a:lnTo>
                            <a:pt x="87" y="56"/>
                          </a:lnTo>
                          <a:lnTo>
                            <a:pt x="81" y="61"/>
                          </a:lnTo>
                          <a:lnTo>
                            <a:pt x="74" y="66"/>
                          </a:lnTo>
                          <a:lnTo>
                            <a:pt x="66" y="69"/>
                          </a:lnTo>
                          <a:lnTo>
                            <a:pt x="57" y="71"/>
                          </a:lnTo>
                          <a:lnTo>
                            <a:pt x="48" y="72"/>
                          </a:lnTo>
                          <a:lnTo>
                            <a:pt x="38" y="71"/>
                          </a:lnTo>
                          <a:lnTo>
                            <a:pt x="29" y="69"/>
                          </a:lnTo>
                          <a:lnTo>
                            <a:pt x="21" y="66"/>
                          </a:lnTo>
                          <a:lnTo>
                            <a:pt x="14" y="61"/>
                          </a:lnTo>
                          <a:lnTo>
                            <a:pt x="8" y="56"/>
                          </a:lnTo>
                          <a:lnTo>
                            <a:pt x="4" y="50"/>
                          </a:lnTo>
                          <a:lnTo>
                            <a:pt x="2" y="43"/>
                          </a:lnTo>
                          <a:lnTo>
                            <a:pt x="0" y="36"/>
                          </a:lnTo>
                          <a:lnTo>
                            <a:pt x="2" y="29"/>
                          </a:lnTo>
                          <a:lnTo>
                            <a:pt x="4" y="22"/>
                          </a:lnTo>
                          <a:lnTo>
                            <a:pt x="8" y="16"/>
                          </a:lnTo>
                          <a:lnTo>
                            <a:pt x="14" y="11"/>
                          </a:lnTo>
                          <a:lnTo>
                            <a:pt x="21" y="6"/>
                          </a:lnTo>
                          <a:lnTo>
                            <a:pt x="29" y="3"/>
                          </a:lnTo>
                          <a:lnTo>
                            <a:pt x="38" y="2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Gruppe 813"/>
                  <p:cNvGrpSpPr/>
                  <p:nvPr/>
                </p:nvGrpSpPr>
                <p:grpSpPr>
                  <a:xfrm>
                    <a:off x="2896560" y="2908440"/>
                    <a:ext cx="60120" cy="129600"/>
                    <a:chOff x="2896560" y="2908440"/>
                    <a:chExt cx="60120" cy="129600"/>
                  </a:xfrm>
                </p:grpSpPr>
                <p:sp>
                  <p:nvSpPr>
                    <p:cNvPr id="326" name="Freeform 316"/>
                    <p:cNvSpPr/>
                    <p:nvPr/>
                  </p:nvSpPr>
                  <p:spPr>
                    <a:xfrm flipH="1">
                      <a:off x="2909520" y="2945880"/>
                      <a:ext cx="32040" cy="4320"/>
                    </a:xfrm>
                    <a:custGeom>
                      <a:avLst/>
                      <a:gdLst>
                        <a:gd name="textAreaLeft" fmla="*/ -360 w 32040"/>
                        <a:gd name="textAreaRight" fmla="*/ 32040 w 32040"/>
                        <a:gd name="textAreaTop" fmla="*/ 0 h 4320"/>
                        <a:gd name="textAreaBottom" fmla="*/ 4680 h 4320"/>
                      </a:gdLst>
                      <a:ahLst/>
                      <a:rect l="textAreaLeft" t="textAreaTop" r="textAreaRight" b="textAreaBottom"/>
                      <a:pathLst>
                        <a:path w="230" h="41">
                          <a:moveTo>
                            <a:pt x="13" y="0"/>
                          </a:moveTo>
                          <a:lnTo>
                            <a:pt x="26" y="6"/>
                          </a:lnTo>
                          <a:lnTo>
                            <a:pt x="39" y="13"/>
                          </a:lnTo>
                          <a:lnTo>
                            <a:pt x="52" y="16"/>
                          </a:lnTo>
                          <a:lnTo>
                            <a:pt x="65" y="19"/>
                          </a:lnTo>
                          <a:lnTo>
                            <a:pt x="78" y="22"/>
                          </a:lnTo>
                          <a:lnTo>
                            <a:pt x="93" y="23"/>
                          </a:lnTo>
                          <a:lnTo>
                            <a:pt x="106" y="24"/>
                          </a:lnTo>
                          <a:lnTo>
                            <a:pt x="120" y="23"/>
                          </a:lnTo>
                          <a:lnTo>
                            <a:pt x="134" y="22"/>
                          </a:lnTo>
                          <a:lnTo>
                            <a:pt x="147" y="20"/>
                          </a:lnTo>
                          <a:lnTo>
                            <a:pt x="161" y="18"/>
                          </a:lnTo>
                          <a:lnTo>
                            <a:pt x="176" y="15"/>
                          </a:lnTo>
                          <a:lnTo>
                            <a:pt x="189" y="13"/>
                          </a:lnTo>
                          <a:lnTo>
                            <a:pt x="203" y="9"/>
                          </a:lnTo>
                          <a:lnTo>
                            <a:pt x="216" y="6"/>
                          </a:lnTo>
                          <a:lnTo>
                            <a:pt x="230" y="2"/>
                          </a:lnTo>
                          <a:lnTo>
                            <a:pt x="230" y="15"/>
                          </a:lnTo>
                          <a:lnTo>
                            <a:pt x="221" y="19"/>
                          </a:lnTo>
                          <a:lnTo>
                            <a:pt x="212" y="23"/>
                          </a:lnTo>
                          <a:lnTo>
                            <a:pt x="200" y="27"/>
                          </a:lnTo>
                          <a:lnTo>
                            <a:pt x="189" y="29"/>
                          </a:lnTo>
                          <a:lnTo>
                            <a:pt x="174" y="33"/>
                          </a:lnTo>
                          <a:lnTo>
                            <a:pt x="161" y="36"/>
                          </a:lnTo>
                          <a:lnTo>
                            <a:pt x="146" y="39"/>
                          </a:lnTo>
                          <a:lnTo>
                            <a:pt x="132" y="41"/>
                          </a:lnTo>
                          <a:lnTo>
                            <a:pt x="115" y="41"/>
                          </a:lnTo>
                          <a:lnTo>
                            <a:pt x="99" y="41"/>
                          </a:lnTo>
                          <a:lnTo>
                            <a:pt x="82" y="40"/>
                          </a:lnTo>
                          <a:lnTo>
                            <a:pt x="65" y="37"/>
                          </a:lnTo>
                          <a:lnTo>
                            <a:pt x="50" y="32"/>
                          </a:lnTo>
                          <a:lnTo>
                            <a:pt x="33" y="27"/>
                          </a:lnTo>
                          <a:lnTo>
                            <a:pt x="16" y="19"/>
                          </a:lnTo>
                          <a:lnTo>
                            <a:pt x="0" y="9"/>
                          </a:lnTo>
                          <a:lnTo>
                            <a:pt x="13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Freeform 330"/>
                    <p:cNvSpPr/>
                    <p:nvPr/>
                  </p:nvSpPr>
                  <p:spPr>
                    <a:xfrm flipH="1">
                      <a:off x="2896200" y="3006000"/>
                      <a:ext cx="60120" cy="11520"/>
                    </a:xfrm>
                    <a:custGeom>
                      <a:avLst/>
                      <a:gdLst>
                        <a:gd name="textAreaLeft" fmla="*/ -360 w 60120"/>
                        <a:gd name="textAreaRight" fmla="*/ 60120 w 60120"/>
                        <a:gd name="textAreaTop" fmla="*/ 0 h 11520"/>
                        <a:gd name="textAreaBottom" fmla="*/ 11880 h 11520"/>
                      </a:gdLst>
                      <a:ahLst/>
                      <a:rect l="textAreaLeft" t="textAreaTop" r="textAreaRight" b="textAreaBottom"/>
                      <a:pathLst>
                        <a:path w="431" h="109">
                          <a:moveTo>
                            <a:pt x="27" y="5"/>
                          </a:moveTo>
                          <a:lnTo>
                            <a:pt x="77" y="45"/>
                          </a:lnTo>
                          <a:lnTo>
                            <a:pt x="100" y="51"/>
                          </a:lnTo>
                          <a:lnTo>
                            <a:pt x="122" y="54"/>
                          </a:lnTo>
                          <a:lnTo>
                            <a:pt x="143" y="60"/>
                          </a:lnTo>
                          <a:lnTo>
                            <a:pt x="162" y="62"/>
                          </a:lnTo>
                          <a:lnTo>
                            <a:pt x="180" y="65"/>
                          </a:lnTo>
                          <a:lnTo>
                            <a:pt x="199" y="67"/>
                          </a:lnTo>
                          <a:lnTo>
                            <a:pt x="217" y="67"/>
                          </a:lnTo>
                          <a:lnTo>
                            <a:pt x="234" y="67"/>
                          </a:lnTo>
                          <a:lnTo>
                            <a:pt x="251" y="66"/>
                          </a:lnTo>
                          <a:lnTo>
                            <a:pt x="267" y="65"/>
                          </a:lnTo>
                          <a:lnTo>
                            <a:pt x="286" y="61"/>
                          </a:lnTo>
                          <a:lnTo>
                            <a:pt x="304" y="57"/>
                          </a:lnTo>
                          <a:lnTo>
                            <a:pt x="322" y="52"/>
                          </a:lnTo>
                          <a:lnTo>
                            <a:pt x="343" y="44"/>
                          </a:lnTo>
                          <a:lnTo>
                            <a:pt x="363" y="36"/>
                          </a:lnTo>
                          <a:lnTo>
                            <a:pt x="386" y="26"/>
                          </a:lnTo>
                          <a:lnTo>
                            <a:pt x="392" y="12"/>
                          </a:lnTo>
                          <a:lnTo>
                            <a:pt x="397" y="4"/>
                          </a:lnTo>
                          <a:lnTo>
                            <a:pt x="401" y="0"/>
                          </a:lnTo>
                          <a:lnTo>
                            <a:pt x="405" y="1"/>
                          </a:lnTo>
                          <a:lnTo>
                            <a:pt x="409" y="5"/>
                          </a:lnTo>
                          <a:lnTo>
                            <a:pt x="414" y="13"/>
                          </a:lnTo>
                          <a:lnTo>
                            <a:pt x="422" y="23"/>
                          </a:lnTo>
                          <a:lnTo>
                            <a:pt x="431" y="36"/>
                          </a:lnTo>
                          <a:lnTo>
                            <a:pt x="413" y="62"/>
                          </a:lnTo>
                          <a:lnTo>
                            <a:pt x="393" y="74"/>
                          </a:lnTo>
                          <a:lnTo>
                            <a:pt x="371" y="83"/>
                          </a:lnTo>
                          <a:lnTo>
                            <a:pt x="349" y="91"/>
                          </a:lnTo>
                          <a:lnTo>
                            <a:pt x="325" y="97"/>
                          </a:lnTo>
                          <a:lnTo>
                            <a:pt x="300" y="103"/>
                          </a:lnTo>
                          <a:lnTo>
                            <a:pt x="274" y="106"/>
                          </a:lnTo>
                          <a:lnTo>
                            <a:pt x="247" y="109"/>
                          </a:lnTo>
                          <a:lnTo>
                            <a:pt x="221" y="109"/>
                          </a:lnTo>
                          <a:lnTo>
                            <a:pt x="193" y="109"/>
                          </a:lnTo>
                          <a:lnTo>
                            <a:pt x="166" y="108"/>
                          </a:lnTo>
                          <a:lnTo>
                            <a:pt x="140" y="104"/>
                          </a:lnTo>
                          <a:lnTo>
                            <a:pt x="114" y="100"/>
                          </a:lnTo>
                          <a:lnTo>
                            <a:pt x="88" y="95"/>
                          </a:lnTo>
                          <a:lnTo>
                            <a:pt x="65" y="90"/>
                          </a:lnTo>
                          <a:lnTo>
                            <a:pt x="42" y="82"/>
                          </a:lnTo>
                          <a:lnTo>
                            <a:pt x="21" y="74"/>
                          </a:lnTo>
                          <a:lnTo>
                            <a:pt x="13" y="64"/>
                          </a:lnTo>
                          <a:lnTo>
                            <a:pt x="7" y="53"/>
                          </a:lnTo>
                          <a:lnTo>
                            <a:pt x="3" y="43"/>
                          </a:lnTo>
                          <a:lnTo>
                            <a:pt x="0" y="32"/>
                          </a:lnTo>
                          <a:lnTo>
                            <a:pt x="0" y="23"/>
                          </a:lnTo>
                          <a:lnTo>
                            <a:pt x="5" y="16"/>
                          </a:lnTo>
                          <a:lnTo>
                            <a:pt x="13" y="9"/>
                          </a:lnTo>
                          <a:lnTo>
                            <a:pt x="27" y="5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Freeform 336"/>
                    <p:cNvSpPr/>
                    <p:nvPr/>
                  </p:nvSpPr>
                  <p:spPr>
                    <a:xfrm flipH="1">
                      <a:off x="2902680" y="3030480"/>
                      <a:ext cx="43200" cy="7560"/>
                    </a:xfrm>
                    <a:custGeom>
                      <a:avLst/>
                      <a:gdLst>
                        <a:gd name="textAreaLeft" fmla="*/ 360 w 43200"/>
                        <a:gd name="textAreaRight" fmla="*/ 43920 w 43200"/>
                        <a:gd name="textAreaTop" fmla="*/ 0 h 7560"/>
                        <a:gd name="textAreaBottom" fmla="*/ 7920 h 7560"/>
                      </a:gdLst>
                      <a:ahLst/>
                      <a:rect l="textAreaLeft" t="textAreaTop" r="textAreaRight" b="textAreaBottom"/>
                      <a:pathLst>
                        <a:path w="309" h="72">
                          <a:moveTo>
                            <a:pt x="0" y="29"/>
                          </a:moveTo>
                          <a:lnTo>
                            <a:pt x="3" y="37"/>
                          </a:lnTo>
                          <a:lnTo>
                            <a:pt x="7" y="45"/>
                          </a:lnTo>
                          <a:lnTo>
                            <a:pt x="11" y="53"/>
                          </a:lnTo>
                          <a:lnTo>
                            <a:pt x="15" y="61"/>
                          </a:lnTo>
                          <a:lnTo>
                            <a:pt x="22" y="62"/>
                          </a:lnTo>
                          <a:lnTo>
                            <a:pt x="29" y="63"/>
                          </a:lnTo>
                          <a:lnTo>
                            <a:pt x="37" y="65"/>
                          </a:lnTo>
                          <a:lnTo>
                            <a:pt x="44" y="66"/>
                          </a:lnTo>
                          <a:lnTo>
                            <a:pt x="51" y="67"/>
                          </a:lnTo>
                          <a:lnTo>
                            <a:pt x="59" y="68"/>
                          </a:lnTo>
                          <a:lnTo>
                            <a:pt x="65" y="71"/>
                          </a:lnTo>
                          <a:lnTo>
                            <a:pt x="73" y="72"/>
                          </a:lnTo>
                          <a:lnTo>
                            <a:pt x="91" y="72"/>
                          </a:lnTo>
                          <a:lnTo>
                            <a:pt x="109" y="71"/>
                          </a:lnTo>
                          <a:lnTo>
                            <a:pt x="127" y="71"/>
                          </a:lnTo>
                          <a:lnTo>
                            <a:pt x="146" y="70"/>
                          </a:lnTo>
                          <a:lnTo>
                            <a:pt x="164" y="70"/>
                          </a:lnTo>
                          <a:lnTo>
                            <a:pt x="183" y="68"/>
                          </a:lnTo>
                          <a:lnTo>
                            <a:pt x="201" y="68"/>
                          </a:lnTo>
                          <a:lnTo>
                            <a:pt x="220" y="67"/>
                          </a:lnTo>
                          <a:lnTo>
                            <a:pt x="231" y="65"/>
                          </a:lnTo>
                          <a:lnTo>
                            <a:pt x="242" y="61"/>
                          </a:lnTo>
                          <a:lnTo>
                            <a:pt x="253" y="58"/>
                          </a:lnTo>
                          <a:lnTo>
                            <a:pt x="265" y="54"/>
                          </a:lnTo>
                          <a:lnTo>
                            <a:pt x="275" y="52"/>
                          </a:lnTo>
                          <a:lnTo>
                            <a:pt x="287" y="48"/>
                          </a:lnTo>
                          <a:lnTo>
                            <a:pt x="297" y="45"/>
                          </a:lnTo>
                          <a:lnTo>
                            <a:pt x="309" y="41"/>
                          </a:lnTo>
                          <a:lnTo>
                            <a:pt x="309" y="26"/>
                          </a:lnTo>
                          <a:lnTo>
                            <a:pt x="307" y="13"/>
                          </a:lnTo>
                          <a:lnTo>
                            <a:pt x="303" y="5"/>
                          </a:lnTo>
                          <a:lnTo>
                            <a:pt x="297" y="1"/>
                          </a:lnTo>
                          <a:lnTo>
                            <a:pt x="290" y="0"/>
                          </a:lnTo>
                          <a:lnTo>
                            <a:pt x="279" y="0"/>
                          </a:lnTo>
                          <a:lnTo>
                            <a:pt x="268" y="4"/>
                          </a:lnTo>
                          <a:lnTo>
                            <a:pt x="252" y="9"/>
                          </a:lnTo>
                          <a:lnTo>
                            <a:pt x="242" y="9"/>
                          </a:lnTo>
                          <a:lnTo>
                            <a:pt x="231" y="10"/>
                          </a:lnTo>
                          <a:lnTo>
                            <a:pt x="221" y="10"/>
                          </a:lnTo>
                          <a:lnTo>
                            <a:pt x="211" y="10"/>
                          </a:lnTo>
                          <a:lnTo>
                            <a:pt x="200" y="10"/>
                          </a:lnTo>
                          <a:lnTo>
                            <a:pt x="188" y="10"/>
                          </a:lnTo>
                          <a:lnTo>
                            <a:pt x="178" y="11"/>
                          </a:lnTo>
                          <a:lnTo>
                            <a:pt x="168" y="11"/>
                          </a:lnTo>
                          <a:lnTo>
                            <a:pt x="140" y="10"/>
                          </a:lnTo>
                          <a:lnTo>
                            <a:pt x="116" y="9"/>
                          </a:lnTo>
                          <a:lnTo>
                            <a:pt x="96" y="6"/>
                          </a:lnTo>
                          <a:lnTo>
                            <a:pt x="77" y="5"/>
                          </a:lnTo>
                          <a:lnTo>
                            <a:pt x="60" y="6"/>
                          </a:lnTo>
                          <a:lnTo>
                            <a:pt x="42" y="9"/>
                          </a:lnTo>
                          <a:lnTo>
                            <a:pt x="22" y="16"/>
                          </a:lnTo>
                          <a:lnTo>
                            <a:pt x="0" y="29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Freeform 353"/>
                    <p:cNvSpPr/>
                    <p:nvPr/>
                  </p:nvSpPr>
                  <p:spPr>
                    <a:xfrm flipH="1">
                      <a:off x="2916720" y="2961720"/>
                      <a:ext cx="15480" cy="2520"/>
                    </a:xfrm>
                    <a:custGeom>
                      <a:avLst/>
                      <a:gdLst>
                        <a:gd name="textAreaLeft" fmla="*/ -360 w 15480"/>
                        <a:gd name="textAreaRight" fmla="*/ 15480 w 15480"/>
                        <a:gd name="textAreaTop" fmla="*/ 0 h 2520"/>
                        <a:gd name="textAreaBottom" fmla="*/ 2880 h 2520"/>
                      </a:gdLst>
                      <a:ahLst/>
                      <a:rect l="textAreaLeft" t="textAreaTop" r="textAreaRight" b="textAreaBottom"/>
                      <a:pathLst>
                        <a:path w="112" h="25">
                          <a:moveTo>
                            <a:pt x="0" y="11"/>
                          </a:moveTo>
                          <a:lnTo>
                            <a:pt x="5" y="17"/>
                          </a:lnTo>
                          <a:lnTo>
                            <a:pt x="26" y="25"/>
                          </a:lnTo>
                          <a:lnTo>
                            <a:pt x="80" y="20"/>
                          </a:lnTo>
                          <a:lnTo>
                            <a:pt x="112" y="13"/>
                          </a:lnTo>
                          <a:lnTo>
                            <a:pt x="110" y="4"/>
                          </a:lnTo>
                          <a:lnTo>
                            <a:pt x="108" y="0"/>
                          </a:lnTo>
                          <a:lnTo>
                            <a:pt x="103" y="2"/>
                          </a:lnTo>
                          <a:lnTo>
                            <a:pt x="92" y="4"/>
                          </a:lnTo>
                          <a:lnTo>
                            <a:pt x="61" y="6"/>
                          </a:lnTo>
                          <a:lnTo>
                            <a:pt x="51" y="6"/>
                          </a:lnTo>
                          <a:lnTo>
                            <a:pt x="43" y="4"/>
                          </a:lnTo>
                          <a:lnTo>
                            <a:pt x="35" y="4"/>
                          </a:lnTo>
                          <a:lnTo>
                            <a:pt x="29" y="3"/>
                          </a:lnTo>
                          <a:lnTo>
                            <a:pt x="22" y="3"/>
                          </a:lnTo>
                          <a:lnTo>
                            <a:pt x="14" y="4"/>
                          </a:lnTo>
                          <a:lnTo>
                            <a:pt x="8" y="7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Freeform 367"/>
                    <p:cNvSpPr/>
                    <p:nvPr/>
                  </p:nvSpPr>
                  <p:spPr>
                    <a:xfrm flipH="1">
                      <a:off x="2917440" y="2908440"/>
                      <a:ext cx="14760" cy="8280"/>
                    </a:xfrm>
                    <a:custGeom>
                      <a:avLst/>
                      <a:gdLst>
                        <a:gd name="textAreaLeft" fmla="*/ -360 w 14760"/>
                        <a:gd name="textAreaRight" fmla="*/ 14760 w 14760"/>
                        <a:gd name="textAreaTop" fmla="*/ 0 h 8280"/>
                        <a:gd name="textAreaBottom" fmla="*/ 8640 h 8280"/>
                      </a:gdLst>
                      <a:ahLst/>
                      <a:rect l="textAreaLeft" t="textAreaTop" r="textAreaRight" b="textAreaBottom"/>
                      <a:pathLst>
                        <a:path w="106" h="80">
                          <a:moveTo>
                            <a:pt x="53" y="0"/>
                          </a:moveTo>
                          <a:lnTo>
                            <a:pt x="64" y="1"/>
                          </a:lnTo>
                          <a:lnTo>
                            <a:pt x="74" y="2"/>
                          </a:lnTo>
                          <a:lnTo>
                            <a:pt x="83" y="6"/>
                          </a:lnTo>
                          <a:lnTo>
                            <a:pt x="91" y="11"/>
                          </a:lnTo>
                          <a:lnTo>
                            <a:pt x="97" y="18"/>
                          </a:lnTo>
                          <a:lnTo>
                            <a:pt x="103" y="24"/>
                          </a:lnTo>
                          <a:lnTo>
                            <a:pt x="105" y="32"/>
                          </a:lnTo>
                          <a:lnTo>
                            <a:pt x="106" y="40"/>
                          </a:lnTo>
                          <a:lnTo>
                            <a:pt x="105" y="48"/>
                          </a:lnTo>
                          <a:lnTo>
                            <a:pt x="103" y="55"/>
                          </a:lnTo>
                          <a:lnTo>
                            <a:pt x="97" y="62"/>
                          </a:lnTo>
                          <a:lnTo>
                            <a:pt x="91" y="68"/>
                          </a:lnTo>
                          <a:lnTo>
                            <a:pt x="83" y="74"/>
                          </a:lnTo>
                          <a:lnTo>
                            <a:pt x="74" y="78"/>
                          </a:lnTo>
                          <a:lnTo>
                            <a:pt x="64" y="79"/>
                          </a:lnTo>
                          <a:lnTo>
                            <a:pt x="53" y="80"/>
                          </a:lnTo>
                          <a:lnTo>
                            <a:pt x="43" y="79"/>
                          </a:lnTo>
                          <a:lnTo>
                            <a:pt x="32" y="78"/>
                          </a:lnTo>
                          <a:lnTo>
                            <a:pt x="23" y="74"/>
                          </a:lnTo>
                          <a:lnTo>
                            <a:pt x="16" y="68"/>
                          </a:lnTo>
                          <a:lnTo>
                            <a:pt x="9" y="62"/>
                          </a:lnTo>
                          <a:lnTo>
                            <a:pt x="4" y="55"/>
                          </a:lnTo>
                          <a:lnTo>
                            <a:pt x="1" y="48"/>
                          </a:lnTo>
                          <a:lnTo>
                            <a:pt x="0" y="40"/>
                          </a:lnTo>
                          <a:lnTo>
                            <a:pt x="1" y="32"/>
                          </a:lnTo>
                          <a:lnTo>
                            <a:pt x="4" y="24"/>
                          </a:lnTo>
                          <a:lnTo>
                            <a:pt x="9" y="18"/>
                          </a:lnTo>
                          <a:lnTo>
                            <a:pt x="16" y="11"/>
                          </a:lnTo>
                          <a:lnTo>
                            <a:pt x="23" y="6"/>
                          </a:lnTo>
                          <a:lnTo>
                            <a:pt x="32" y="2"/>
                          </a:lnTo>
                          <a:lnTo>
                            <a:pt x="43" y="1"/>
                          </a:lnTo>
                          <a:lnTo>
                            <a:pt x="53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31" name="Ellipse 253"/>
                <p:cNvSpPr/>
                <p:nvPr/>
              </p:nvSpPr>
              <p:spPr>
                <a:xfrm flipH="1">
                  <a:off x="2900160" y="2900880"/>
                  <a:ext cx="54000" cy="5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80808"/>
                    </a:gs>
                    <a:gs pos="100000">
                      <a:srgbClr val="e6e6e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2" name="Gruppe 259"/>
            <p:cNvGrpSpPr/>
            <p:nvPr/>
          </p:nvGrpSpPr>
          <p:grpSpPr>
            <a:xfrm>
              <a:off x="2333880" y="3020040"/>
              <a:ext cx="125640" cy="157320"/>
              <a:chOff x="2333880" y="3020040"/>
              <a:chExt cx="125640" cy="157320"/>
            </a:xfrm>
          </p:grpSpPr>
          <p:sp>
            <p:nvSpPr>
              <p:cNvPr id="333" name="Ellipse 232"/>
              <p:cNvSpPr/>
              <p:nvPr/>
            </p:nvSpPr>
            <p:spPr>
              <a:xfrm flipH="1">
                <a:off x="2333520" y="3143880"/>
                <a:ext cx="125640" cy="33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4" name="Gruppe 850"/>
              <p:cNvGrpSpPr/>
              <p:nvPr/>
            </p:nvGrpSpPr>
            <p:grpSpPr>
              <a:xfrm>
                <a:off x="2358000" y="3020040"/>
                <a:ext cx="68400" cy="144360"/>
                <a:chOff x="2358000" y="3020040"/>
                <a:chExt cx="68400" cy="144360"/>
              </a:xfrm>
            </p:grpSpPr>
            <p:grpSp>
              <p:nvGrpSpPr>
                <p:cNvPr id="335" name="Gruppe 823"/>
                <p:cNvGrpSpPr/>
                <p:nvPr/>
              </p:nvGrpSpPr>
              <p:grpSpPr>
                <a:xfrm>
                  <a:off x="2358000" y="3026880"/>
                  <a:ext cx="68400" cy="137520"/>
                  <a:chOff x="2358000" y="3026880"/>
                  <a:chExt cx="68400" cy="137520"/>
                </a:xfrm>
              </p:grpSpPr>
              <p:grpSp>
                <p:nvGrpSpPr>
                  <p:cNvPr id="336" name="Gruppe 605"/>
                  <p:cNvGrpSpPr/>
                  <p:nvPr/>
                </p:nvGrpSpPr>
                <p:grpSpPr>
                  <a:xfrm>
                    <a:off x="2358000" y="3034800"/>
                    <a:ext cx="68400" cy="129600"/>
                    <a:chOff x="2358000" y="3034800"/>
                    <a:chExt cx="68400" cy="129600"/>
                  </a:xfrm>
                </p:grpSpPr>
                <p:sp>
                  <p:nvSpPr>
                    <p:cNvPr id="337" name="Freeform 130"/>
                    <p:cNvSpPr/>
                    <p:nvPr/>
                  </p:nvSpPr>
                  <p:spPr>
                    <a:xfrm flipH="1">
                      <a:off x="2358000" y="3034800"/>
                      <a:ext cx="68400" cy="129600"/>
                    </a:xfrm>
                    <a:custGeom>
                      <a:avLst/>
                      <a:gdLst>
                        <a:gd name="textAreaLeft" fmla="*/ 360 w 68400"/>
                        <a:gd name="textAreaRight" fmla="*/ 69120 w 68400"/>
                        <a:gd name="textAreaTop" fmla="*/ 0 h 129600"/>
                        <a:gd name="textAreaBottom" fmla="*/ 129960 h 129600"/>
                      </a:gdLst>
                      <a:ahLst/>
                      <a:rect l="textAreaLeft" t="textAreaTop" r="textAreaRight" b="textAreaBottom"/>
                      <a:pathLst>
                        <a:path w="493" h="1194">
                          <a:moveTo>
                            <a:pt x="208" y="62"/>
                          </a:moveTo>
                          <a:lnTo>
                            <a:pt x="167" y="83"/>
                          </a:lnTo>
                          <a:lnTo>
                            <a:pt x="145" y="87"/>
                          </a:lnTo>
                          <a:lnTo>
                            <a:pt x="125" y="93"/>
                          </a:lnTo>
                          <a:lnTo>
                            <a:pt x="110" y="100"/>
                          </a:lnTo>
                          <a:lnTo>
                            <a:pt x="99" y="110"/>
                          </a:lnTo>
                          <a:lnTo>
                            <a:pt x="92" y="124"/>
                          </a:lnTo>
                          <a:lnTo>
                            <a:pt x="90" y="141"/>
                          </a:lnTo>
                          <a:lnTo>
                            <a:pt x="93" y="162"/>
                          </a:lnTo>
                          <a:lnTo>
                            <a:pt x="104" y="187"/>
                          </a:lnTo>
                          <a:lnTo>
                            <a:pt x="158" y="242"/>
                          </a:lnTo>
                          <a:lnTo>
                            <a:pt x="158" y="272"/>
                          </a:lnTo>
                          <a:lnTo>
                            <a:pt x="140" y="282"/>
                          </a:lnTo>
                          <a:lnTo>
                            <a:pt x="135" y="302"/>
                          </a:lnTo>
                          <a:lnTo>
                            <a:pt x="138" y="326"/>
                          </a:lnTo>
                          <a:lnTo>
                            <a:pt x="147" y="346"/>
                          </a:lnTo>
                          <a:lnTo>
                            <a:pt x="104" y="360"/>
                          </a:lnTo>
                          <a:lnTo>
                            <a:pt x="89" y="375"/>
                          </a:lnTo>
                          <a:lnTo>
                            <a:pt x="77" y="389"/>
                          </a:lnTo>
                          <a:lnTo>
                            <a:pt x="71" y="402"/>
                          </a:lnTo>
                          <a:lnTo>
                            <a:pt x="70" y="414"/>
                          </a:lnTo>
                          <a:lnTo>
                            <a:pt x="74" y="426"/>
                          </a:lnTo>
                          <a:lnTo>
                            <a:pt x="82" y="437"/>
                          </a:lnTo>
                          <a:lnTo>
                            <a:pt x="94" y="449"/>
                          </a:lnTo>
                          <a:lnTo>
                            <a:pt x="113" y="459"/>
                          </a:lnTo>
                          <a:lnTo>
                            <a:pt x="173" y="480"/>
                          </a:lnTo>
                          <a:lnTo>
                            <a:pt x="168" y="522"/>
                          </a:lnTo>
                          <a:lnTo>
                            <a:pt x="162" y="562"/>
                          </a:lnTo>
                          <a:lnTo>
                            <a:pt x="156" y="601"/>
                          </a:lnTo>
                          <a:lnTo>
                            <a:pt x="150" y="638"/>
                          </a:lnTo>
                          <a:lnTo>
                            <a:pt x="140" y="676"/>
                          </a:lnTo>
                          <a:lnTo>
                            <a:pt x="129" y="713"/>
                          </a:lnTo>
                          <a:lnTo>
                            <a:pt x="115" y="750"/>
                          </a:lnTo>
                          <a:lnTo>
                            <a:pt x="98" y="789"/>
                          </a:lnTo>
                          <a:lnTo>
                            <a:pt x="83" y="796"/>
                          </a:lnTo>
                          <a:lnTo>
                            <a:pt x="70" y="804"/>
                          </a:lnTo>
                          <a:lnTo>
                            <a:pt x="61" y="814"/>
                          </a:lnTo>
                          <a:lnTo>
                            <a:pt x="55" y="823"/>
                          </a:lnTo>
                          <a:lnTo>
                            <a:pt x="53" y="835"/>
                          </a:lnTo>
                          <a:lnTo>
                            <a:pt x="55" y="845"/>
                          </a:lnTo>
                          <a:lnTo>
                            <a:pt x="62" y="857"/>
                          </a:lnTo>
                          <a:lnTo>
                            <a:pt x="75" y="868"/>
                          </a:lnTo>
                          <a:lnTo>
                            <a:pt x="78" y="889"/>
                          </a:lnTo>
                          <a:lnTo>
                            <a:pt x="53" y="896"/>
                          </a:lnTo>
                          <a:lnTo>
                            <a:pt x="34" y="905"/>
                          </a:lnTo>
                          <a:lnTo>
                            <a:pt x="21" y="916"/>
                          </a:lnTo>
                          <a:lnTo>
                            <a:pt x="13" y="928"/>
                          </a:lnTo>
                          <a:lnTo>
                            <a:pt x="8" y="942"/>
                          </a:lnTo>
                          <a:lnTo>
                            <a:pt x="8" y="959"/>
                          </a:lnTo>
                          <a:lnTo>
                            <a:pt x="10" y="978"/>
                          </a:lnTo>
                          <a:lnTo>
                            <a:pt x="15" y="999"/>
                          </a:lnTo>
                          <a:lnTo>
                            <a:pt x="19" y="1032"/>
                          </a:lnTo>
                          <a:lnTo>
                            <a:pt x="0" y="1057"/>
                          </a:lnTo>
                          <a:lnTo>
                            <a:pt x="0" y="1121"/>
                          </a:lnTo>
                          <a:lnTo>
                            <a:pt x="18" y="1137"/>
                          </a:lnTo>
                          <a:lnTo>
                            <a:pt x="41" y="1151"/>
                          </a:lnTo>
                          <a:lnTo>
                            <a:pt x="69" y="1163"/>
                          </a:lnTo>
                          <a:lnTo>
                            <a:pt x="101" y="1174"/>
                          </a:lnTo>
                          <a:lnTo>
                            <a:pt x="135" y="1182"/>
                          </a:lnTo>
                          <a:lnTo>
                            <a:pt x="171" y="1189"/>
                          </a:lnTo>
                          <a:lnTo>
                            <a:pt x="208" y="1192"/>
                          </a:lnTo>
                          <a:lnTo>
                            <a:pt x="246" y="1194"/>
                          </a:lnTo>
                          <a:lnTo>
                            <a:pt x="285" y="1193"/>
                          </a:lnTo>
                          <a:lnTo>
                            <a:pt x="322" y="1190"/>
                          </a:lnTo>
                          <a:lnTo>
                            <a:pt x="359" y="1184"/>
                          </a:lnTo>
                          <a:lnTo>
                            <a:pt x="393" y="1175"/>
                          </a:lnTo>
                          <a:lnTo>
                            <a:pt x="424" y="1162"/>
                          </a:lnTo>
                          <a:lnTo>
                            <a:pt x="451" y="1147"/>
                          </a:lnTo>
                          <a:lnTo>
                            <a:pt x="474" y="1129"/>
                          </a:lnTo>
                          <a:lnTo>
                            <a:pt x="493" y="1107"/>
                          </a:lnTo>
                          <a:lnTo>
                            <a:pt x="493" y="1069"/>
                          </a:lnTo>
                          <a:lnTo>
                            <a:pt x="484" y="1032"/>
                          </a:lnTo>
                          <a:lnTo>
                            <a:pt x="487" y="1005"/>
                          </a:lnTo>
                          <a:lnTo>
                            <a:pt x="489" y="984"/>
                          </a:lnTo>
                          <a:lnTo>
                            <a:pt x="489" y="965"/>
                          </a:lnTo>
                          <a:lnTo>
                            <a:pt x="486" y="950"/>
                          </a:lnTo>
                          <a:lnTo>
                            <a:pt x="480" y="936"/>
                          </a:lnTo>
                          <a:lnTo>
                            <a:pt x="470" y="921"/>
                          </a:lnTo>
                          <a:lnTo>
                            <a:pt x="454" y="906"/>
                          </a:lnTo>
                          <a:lnTo>
                            <a:pt x="433" y="888"/>
                          </a:lnTo>
                          <a:lnTo>
                            <a:pt x="441" y="870"/>
                          </a:lnTo>
                          <a:lnTo>
                            <a:pt x="446" y="855"/>
                          </a:lnTo>
                          <a:lnTo>
                            <a:pt x="449" y="842"/>
                          </a:lnTo>
                          <a:lnTo>
                            <a:pt x="449" y="832"/>
                          </a:lnTo>
                          <a:lnTo>
                            <a:pt x="444" y="823"/>
                          </a:lnTo>
                          <a:lnTo>
                            <a:pt x="438" y="814"/>
                          </a:lnTo>
                          <a:lnTo>
                            <a:pt x="425" y="805"/>
                          </a:lnTo>
                          <a:lnTo>
                            <a:pt x="409" y="793"/>
                          </a:lnTo>
                          <a:lnTo>
                            <a:pt x="389" y="751"/>
                          </a:lnTo>
                          <a:lnTo>
                            <a:pt x="373" y="713"/>
                          </a:lnTo>
                          <a:lnTo>
                            <a:pt x="362" y="677"/>
                          </a:lnTo>
                          <a:lnTo>
                            <a:pt x="355" y="644"/>
                          </a:lnTo>
                          <a:lnTo>
                            <a:pt x="349" y="609"/>
                          </a:lnTo>
                          <a:lnTo>
                            <a:pt x="345" y="572"/>
                          </a:lnTo>
                          <a:lnTo>
                            <a:pt x="344" y="531"/>
                          </a:lnTo>
                          <a:lnTo>
                            <a:pt x="344" y="485"/>
                          </a:lnTo>
                          <a:lnTo>
                            <a:pt x="379" y="471"/>
                          </a:lnTo>
                          <a:lnTo>
                            <a:pt x="404" y="455"/>
                          </a:lnTo>
                          <a:lnTo>
                            <a:pt x="417" y="446"/>
                          </a:lnTo>
                          <a:lnTo>
                            <a:pt x="426" y="435"/>
                          </a:lnTo>
                          <a:lnTo>
                            <a:pt x="433" y="423"/>
                          </a:lnTo>
                          <a:lnTo>
                            <a:pt x="436" y="411"/>
                          </a:lnTo>
                          <a:lnTo>
                            <a:pt x="434" y="398"/>
                          </a:lnTo>
                          <a:lnTo>
                            <a:pt x="427" y="386"/>
                          </a:lnTo>
                          <a:lnTo>
                            <a:pt x="414" y="374"/>
                          </a:lnTo>
                          <a:lnTo>
                            <a:pt x="394" y="364"/>
                          </a:lnTo>
                          <a:lnTo>
                            <a:pt x="368" y="356"/>
                          </a:lnTo>
                          <a:lnTo>
                            <a:pt x="379" y="343"/>
                          </a:lnTo>
                          <a:lnTo>
                            <a:pt x="386" y="330"/>
                          </a:lnTo>
                          <a:lnTo>
                            <a:pt x="390" y="318"/>
                          </a:lnTo>
                          <a:lnTo>
                            <a:pt x="393" y="306"/>
                          </a:lnTo>
                          <a:lnTo>
                            <a:pt x="390" y="295"/>
                          </a:lnTo>
                          <a:lnTo>
                            <a:pt x="386" y="283"/>
                          </a:lnTo>
                          <a:lnTo>
                            <a:pt x="376" y="273"/>
                          </a:lnTo>
                          <a:lnTo>
                            <a:pt x="364" y="261"/>
                          </a:lnTo>
                          <a:lnTo>
                            <a:pt x="389" y="227"/>
                          </a:lnTo>
                          <a:lnTo>
                            <a:pt x="409" y="192"/>
                          </a:lnTo>
                          <a:lnTo>
                            <a:pt x="420" y="170"/>
                          </a:lnTo>
                          <a:lnTo>
                            <a:pt x="428" y="153"/>
                          </a:lnTo>
                          <a:lnTo>
                            <a:pt x="432" y="139"/>
                          </a:lnTo>
                          <a:lnTo>
                            <a:pt x="432" y="128"/>
                          </a:lnTo>
                          <a:lnTo>
                            <a:pt x="426" y="118"/>
                          </a:lnTo>
                          <a:lnTo>
                            <a:pt x="416" y="110"/>
                          </a:lnTo>
                          <a:lnTo>
                            <a:pt x="400" y="102"/>
                          </a:lnTo>
                          <a:lnTo>
                            <a:pt x="378" y="92"/>
                          </a:lnTo>
                          <a:lnTo>
                            <a:pt x="349" y="77"/>
                          </a:lnTo>
                          <a:lnTo>
                            <a:pt x="320" y="68"/>
                          </a:lnTo>
                          <a:lnTo>
                            <a:pt x="322" y="54"/>
                          </a:lnTo>
                          <a:lnTo>
                            <a:pt x="322" y="42"/>
                          </a:lnTo>
                          <a:lnTo>
                            <a:pt x="320" y="32"/>
                          </a:lnTo>
                          <a:lnTo>
                            <a:pt x="315" y="23"/>
                          </a:lnTo>
                          <a:lnTo>
                            <a:pt x="309" y="16"/>
                          </a:lnTo>
                          <a:lnTo>
                            <a:pt x="300" y="10"/>
                          </a:lnTo>
                          <a:lnTo>
                            <a:pt x="291" y="5"/>
                          </a:lnTo>
                          <a:lnTo>
                            <a:pt x="281" y="2"/>
                          </a:lnTo>
                          <a:lnTo>
                            <a:pt x="268" y="0"/>
                          </a:lnTo>
                          <a:lnTo>
                            <a:pt x="256" y="1"/>
                          </a:lnTo>
                          <a:lnTo>
                            <a:pt x="243" y="3"/>
                          </a:lnTo>
                          <a:lnTo>
                            <a:pt x="233" y="8"/>
                          </a:lnTo>
                          <a:lnTo>
                            <a:pt x="222" y="16"/>
                          </a:lnTo>
                          <a:lnTo>
                            <a:pt x="215" y="27"/>
                          </a:lnTo>
                          <a:lnTo>
                            <a:pt x="211" y="42"/>
                          </a:lnTo>
                          <a:lnTo>
                            <a:pt x="208" y="62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acacac"/>
                        </a:gs>
                        <a:gs pos="100000">
                          <a:srgbClr val="e6e6e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Freeform 131"/>
                    <p:cNvSpPr/>
                    <p:nvPr/>
                  </p:nvSpPr>
                  <p:spPr>
                    <a:xfrm flipH="1">
                      <a:off x="2378880" y="3045240"/>
                      <a:ext cx="25200" cy="5760"/>
                    </a:xfrm>
                    <a:custGeom>
                      <a:avLst/>
                      <a:gdLst>
                        <a:gd name="textAreaLeft" fmla="*/ 360 w 25200"/>
                        <a:gd name="textAreaRight" fmla="*/ 25920 w 25200"/>
                        <a:gd name="textAreaTop" fmla="*/ 0 h 5760"/>
                        <a:gd name="textAreaBottom" fmla="*/ 6120 h 5760"/>
                      </a:gdLst>
                      <a:ahLst/>
                      <a:rect l="textAreaLeft" t="textAreaTop" r="textAreaRight" b="textAreaBottom"/>
                      <a:pathLst>
                        <a:path w="185" h="58">
                          <a:moveTo>
                            <a:pt x="13" y="8"/>
                          </a:moveTo>
                          <a:lnTo>
                            <a:pt x="0" y="22"/>
                          </a:lnTo>
                          <a:lnTo>
                            <a:pt x="8" y="43"/>
                          </a:lnTo>
                          <a:lnTo>
                            <a:pt x="28" y="49"/>
                          </a:lnTo>
                          <a:lnTo>
                            <a:pt x="53" y="54"/>
                          </a:lnTo>
                          <a:lnTo>
                            <a:pt x="81" y="58"/>
                          </a:lnTo>
                          <a:lnTo>
                            <a:pt x="108" y="56"/>
                          </a:lnTo>
                          <a:lnTo>
                            <a:pt x="135" y="53"/>
                          </a:lnTo>
                          <a:lnTo>
                            <a:pt x="159" y="46"/>
                          </a:lnTo>
                          <a:lnTo>
                            <a:pt x="176" y="33"/>
                          </a:lnTo>
                          <a:lnTo>
                            <a:pt x="185" y="16"/>
                          </a:lnTo>
                          <a:lnTo>
                            <a:pt x="160" y="6"/>
                          </a:lnTo>
                          <a:lnTo>
                            <a:pt x="144" y="0"/>
                          </a:lnTo>
                          <a:lnTo>
                            <a:pt x="139" y="15"/>
                          </a:lnTo>
                          <a:lnTo>
                            <a:pt x="127" y="24"/>
                          </a:lnTo>
                          <a:lnTo>
                            <a:pt x="109" y="29"/>
                          </a:lnTo>
                          <a:lnTo>
                            <a:pt x="89" y="29"/>
                          </a:lnTo>
                          <a:lnTo>
                            <a:pt x="68" y="25"/>
                          </a:lnTo>
                          <a:lnTo>
                            <a:pt x="51" y="20"/>
                          </a:lnTo>
                          <a:lnTo>
                            <a:pt x="38" y="11"/>
                          </a:lnTo>
                          <a:lnTo>
                            <a:pt x="33" y="1"/>
                          </a:lnTo>
                          <a:lnTo>
                            <a:pt x="13" y="8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Freeform 132"/>
                    <p:cNvSpPr/>
                    <p:nvPr/>
                  </p:nvSpPr>
                  <p:spPr>
                    <a:xfrm flipH="1">
                      <a:off x="2371320" y="3048120"/>
                      <a:ext cx="40320" cy="10440"/>
                    </a:xfrm>
                    <a:custGeom>
                      <a:avLst/>
                      <a:gdLst>
                        <a:gd name="textAreaLeft" fmla="*/ 360 w 40320"/>
                        <a:gd name="textAreaRight" fmla="*/ 41040 w 40320"/>
                        <a:gd name="textAreaTop" fmla="*/ 0 h 10440"/>
                        <a:gd name="textAreaBottom" fmla="*/ 10800 h 10440"/>
                      </a:gdLst>
                      <a:ahLst/>
                      <a:rect l="textAreaLeft" t="textAreaTop" r="textAreaRight" b="textAreaBottom"/>
                      <a:pathLst>
                        <a:path w="329" h="102">
                          <a:moveTo>
                            <a:pt x="32" y="10"/>
                          </a:moveTo>
                          <a:lnTo>
                            <a:pt x="1" y="26"/>
                          </a:lnTo>
                          <a:lnTo>
                            <a:pt x="0" y="43"/>
                          </a:lnTo>
                          <a:lnTo>
                            <a:pt x="3" y="60"/>
                          </a:lnTo>
                          <a:lnTo>
                            <a:pt x="14" y="71"/>
                          </a:lnTo>
                          <a:lnTo>
                            <a:pt x="27" y="81"/>
                          </a:lnTo>
                          <a:lnTo>
                            <a:pt x="46" y="90"/>
                          </a:lnTo>
                          <a:lnTo>
                            <a:pt x="67" y="95"/>
                          </a:lnTo>
                          <a:lnTo>
                            <a:pt x="91" y="100"/>
                          </a:lnTo>
                          <a:lnTo>
                            <a:pt x="117" y="102"/>
                          </a:lnTo>
                          <a:lnTo>
                            <a:pt x="144" y="102"/>
                          </a:lnTo>
                          <a:lnTo>
                            <a:pt x="171" y="102"/>
                          </a:lnTo>
                          <a:lnTo>
                            <a:pt x="199" y="100"/>
                          </a:lnTo>
                          <a:lnTo>
                            <a:pt x="225" y="98"/>
                          </a:lnTo>
                          <a:lnTo>
                            <a:pt x="251" y="94"/>
                          </a:lnTo>
                          <a:lnTo>
                            <a:pt x="273" y="90"/>
                          </a:lnTo>
                          <a:lnTo>
                            <a:pt x="292" y="85"/>
                          </a:lnTo>
                          <a:lnTo>
                            <a:pt x="308" y="79"/>
                          </a:lnTo>
                          <a:lnTo>
                            <a:pt x="319" y="71"/>
                          </a:lnTo>
                          <a:lnTo>
                            <a:pt x="326" y="61"/>
                          </a:lnTo>
                          <a:lnTo>
                            <a:pt x="329" y="50"/>
                          </a:lnTo>
                          <a:lnTo>
                            <a:pt x="329" y="39"/>
                          </a:lnTo>
                          <a:lnTo>
                            <a:pt x="325" y="28"/>
                          </a:lnTo>
                          <a:lnTo>
                            <a:pt x="316" y="18"/>
                          </a:lnTo>
                          <a:lnTo>
                            <a:pt x="303" y="8"/>
                          </a:lnTo>
                          <a:lnTo>
                            <a:pt x="285" y="0"/>
                          </a:lnTo>
                          <a:lnTo>
                            <a:pt x="269" y="18"/>
                          </a:lnTo>
                          <a:lnTo>
                            <a:pt x="252" y="31"/>
                          </a:lnTo>
                          <a:lnTo>
                            <a:pt x="234" y="39"/>
                          </a:lnTo>
                          <a:lnTo>
                            <a:pt x="215" y="43"/>
                          </a:lnTo>
                          <a:lnTo>
                            <a:pt x="194" y="45"/>
                          </a:lnTo>
                          <a:lnTo>
                            <a:pt x="173" y="43"/>
                          </a:lnTo>
                          <a:lnTo>
                            <a:pt x="148" y="41"/>
                          </a:lnTo>
                          <a:lnTo>
                            <a:pt x="122" y="40"/>
                          </a:lnTo>
                          <a:lnTo>
                            <a:pt x="67" y="30"/>
                          </a:lnTo>
                          <a:lnTo>
                            <a:pt x="49" y="3"/>
                          </a:lnTo>
                          <a:lnTo>
                            <a:pt x="32" y="10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Freeform 133"/>
                    <p:cNvSpPr/>
                    <p:nvPr/>
                  </p:nvSpPr>
                  <p:spPr>
                    <a:xfrm flipH="1">
                      <a:off x="2378880" y="3069000"/>
                      <a:ext cx="25200" cy="5760"/>
                    </a:xfrm>
                    <a:custGeom>
                      <a:avLst/>
                      <a:gdLst>
                        <a:gd name="textAreaLeft" fmla="*/ 360 w 25200"/>
                        <a:gd name="textAreaRight" fmla="*/ 25920 w 25200"/>
                        <a:gd name="textAreaTop" fmla="*/ 0 h 5760"/>
                        <a:gd name="textAreaBottom" fmla="*/ 6120 h 5760"/>
                      </a:gdLst>
                      <a:ahLst/>
                      <a:rect l="textAreaLeft" t="textAreaTop" r="textAreaRight" b="textAreaBottom"/>
                      <a:pathLst>
                        <a:path w="204" h="37">
                          <a:moveTo>
                            <a:pt x="12" y="0"/>
                          </a:moveTo>
                          <a:lnTo>
                            <a:pt x="24" y="6"/>
                          </a:lnTo>
                          <a:lnTo>
                            <a:pt x="35" y="12"/>
                          </a:lnTo>
                          <a:lnTo>
                            <a:pt x="47" y="15"/>
                          </a:lnTo>
                          <a:lnTo>
                            <a:pt x="58" y="17"/>
                          </a:lnTo>
                          <a:lnTo>
                            <a:pt x="70" y="20"/>
                          </a:lnTo>
                          <a:lnTo>
                            <a:pt x="82" y="21"/>
                          </a:lnTo>
                          <a:lnTo>
                            <a:pt x="94" y="22"/>
                          </a:lnTo>
                          <a:lnTo>
                            <a:pt x="106" y="21"/>
                          </a:lnTo>
                          <a:lnTo>
                            <a:pt x="119" y="20"/>
                          </a:lnTo>
                          <a:lnTo>
                            <a:pt x="131" y="19"/>
                          </a:lnTo>
                          <a:lnTo>
                            <a:pt x="143" y="16"/>
                          </a:lnTo>
                          <a:lnTo>
                            <a:pt x="156" y="14"/>
                          </a:lnTo>
                          <a:lnTo>
                            <a:pt x="167" y="12"/>
                          </a:lnTo>
                          <a:lnTo>
                            <a:pt x="180" y="8"/>
                          </a:lnTo>
                          <a:lnTo>
                            <a:pt x="192" y="6"/>
                          </a:lnTo>
                          <a:lnTo>
                            <a:pt x="204" y="2"/>
                          </a:lnTo>
                          <a:lnTo>
                            <a:pt x="204" y="14"/>
                          </a:lnTo>
                          <a:lnTo>
                            <a:pt x="196" y="17"/>
                          </a:lnTo>
                          <a:lnTo>
                            <a:pt x="188" y="21"/>
                          </a:lnTo>
                          <a:lnTo>
                            <a:pt x="178" y="24"/>
                          </a:lnTo>
                          <a:lnTo>
                            <a:pt x="167" y="27"/>
                          </a:lnTo>
                          <a:lnTo>
                            <a:pt x="155" y="30"/>
                          </a:lnTo>
                          <a:lnTo>
                            <a:pt x="143" y="32"/>
                          </a:lnTo>
                          <a:lnTo>
                            <a:pt x="129" y="35"/>
                          </a:lnTo>
                          <a:lnTo>
                            <a:pt x="117" y="37"/>
                          </a:lnTo>
                          <a:lnTo>
                            <a:pt x="102" y="37"/>
                          </a:lnTo>
                          <a:lnTo>
                            <a:pt x="88" y="37"/>
                          </a:lnTo>
                          <a:lnTo>
                            <a:pt x="73" y="36"/>
                          </a:lnTo>
                          <a:lnTo>
                            <a:pt x="58" y="34"/>
                          </a:lnTo>
                          <a:lnTo>
                            <a:pt x="44" y="29"/>
                          </a:lnTo>
                          <a:lnTo>
                            <a:pt x="29" y="24"/>
                          </a:lnTo>
                          <a:lnTo>
                            <a:pt x="14" y="17"/>
                          </a:lnTo>
                          <a:lnTo>
                            <a:pt x="0" y="8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cfcfc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Freeform 135"/>
                    <p:cNvSpPr/>
                    <p:nvPr/>
                  </p:nvSpPr>
                  <p:spPr>
                    <a:xfrm flipH="1">
                      <a:off x="2368440" y="3075120"/>
                      <a:ext cx="47520" cy="10440"/>
                    </a:xfrm>
                    <a:custGeom>
                      <a:avLst/>
                      <a:gdLst>
                        <a:gd name="textAreaLeft" fmla="*/ 360 w 47520"/>
                        <a:gd name="textAreaRight" fmla="*/ 48240 w 47520"/>
                        <a:gd name="textAreaTop" fmla="*/ 0 h 10440"/>
                        <a:gd name="textAreaBottom" fmla="*/ 10800 h 10440"/>
                      </a:gdLst>
                      <a:ahLst/>
                      <a:rect l="textAreaLeft" t="textAreaTop" r="textAreaRight" b="textAreaBottom"/>
                      <a:pathLst>
                        <a:path w="351" h="100">
                          <a:moveTo>
                            <a:pt x="40" y="0"/>
                          </a:moveTo>
                          <a:lnTo>
                            <a:pt x="19" y="9"/>
                          </a:lnTo>
                          <a:lnTo>
                            <a:pt x="6" y="20"/>
                          </a:lnTo>
                          <a:lnTo>
                            <a:pt x="0" y="30"/>
                          </a:lnTo>
                          <a:lnTo>
                            <a:pt x="0" y="42"/>
                          </a:lnTo>
                          <a:lnTo>
                            <a:pt x="7" y="53"/>
                          </a:lnTo>
                          <a:lnTo>
                            <a:pt x="17" y="65"/>
                          </a:lnTo>
                          <a:lnTo>
                            <a:pt x="32" y="75"/>
                          </a:lnTo>
                          <a:lnTo>
                            <a:pt x="50" y="85"/>
                          </a:lnTo>
                          <a:lnTo>
                            <a:pt x="66" y="89"/>
                          </a:lnTo>
                          <a:lnTo>
                            <a:pt x="82" y="92"/>
                          </a:lnTo>
                          <a:lnTo>
                            <a:pt x="97" y="95"/>
                          </a:lnTo>
                          <a:lnTo>
                            <a:pt x="113" y="96"/>
                          </a:lnTo>
                          <a:lnTo>
                            <a:pt x="128" y="98"/>
                          </a:lnTo>
                          <a:lnTo>
                            <a:pt x="144" y="99"/>
                          </a:lnTo>
                          <a:lnTo>
                            <a:pt x="159" y="99"/>
                          </a:lnTo>
                          <a:lnTo>
                            <a:pt x="174" y="100"/>
                          </a:lnTo>
                          <a:lnTo>
                            <a:pt x="189" y="100"/>
                          </a:lnTo>
                          <a:lnTo>
                            <a:pt x="205" y="100"/>
                          </a:lnTo>
                          <a:lnTo>
                            <a:pt x="220" y="99"/>
                          </a:lnTo>
                          <a:lnTo>
                            <a:pt x="236" y="99"/>
                          </a:lnTo>
                          <a:lnTo>
                            <a:pt x="251" y="98"/>
                          </a:lnTo>
                          <a:lnTo>
                            <a:pt x="267" y="97"/>
                          </a:lnTo>
                          <a:lnTo>
                            <a:pt x="284" y="95"/>
                          </a:lnTo>
                          <a:lnTo>
                            <a:pt x="300" y="94"/>
                          </a:lnTo>
                          <a:lnTo>
                            <a:pt x="323" y="81"/>
                          </a:lnTo>
                          <a:lnTo>
                            <a:pt x="339" y="68"/>
                          </a:lnTo>
                          <a:lnTo>
                            <a:pt x="349" y="56"/>
                          </a:lnTo>
                          <a:lnTo>
                            <a:pt x="351" y="43"/>
                          </a:lnTo>
                          <a:lnTo>
                            <a:pt x="348" y="31"/>
                          </a:lnTo>
                          <a:lnTo>
                            <a:pt x="338" y="21"/>
                          </a:lnTo>
                          <a:lnTo>
                            <a:pt x="320" y="12"/>
                          </a:lnTo>
                          <a:lnTo>
                            <a:pt x="296" y="5"/>
                          </a:lnTo>
                          <a:lnTo>
                            <a:pt x="298" y="15"/>
                          </a:lnTo>
                          <a:lnTo>
                            <a:pt x="294" y="23"/>
                          </a:lnTo>
                          <a:lnTo>
                            <a:pt x="284" y="30"/>
                          </a:lnTo>
                          <a:lnTo>
                            <a:pt x="272" y="37"/>
                          </a:lnTo>
                          <a:lnTo>
                            <a:pt x="258" y="38"/>
                          </a:lnTo>
                          <a:lnTo>
                            <a:pt x="245" y="39"/>
                          </a:lnTo>
                          <a:lnTo>
                            <a:pt x="234" y="41"/>
                          </a:lnTo>
                          <a:lnTo>
                            <a:pt x="222" y="42"/>
                          </a:lnTo>
                          <a:lnTo>
                            <a:pt x="211" y="43"/>
                          </a:lnTo>
                          <a:lnTo>
                            <a:pt x="199" y="43"/>
                          </a:lnTo>
                          <a:lnTo>
                            <a:pt x="188" y="44"/>
                          </a:lnTo>
                          <a:lnTo>
                            <a:pt x="178" y="44"/>
                          </a:lnTo>
                          <a:lnTo>
                            <a:pt x="166" y="44"/>
                          </a:lnTo>
                          <a:lnTo>
                            <a:pt x="155" y="44"/>
                          </a:lnTo>
                          <a:lnTo>
                            <a:pt x="143" y="44"/>
                          </a:lnTo>
                          <a:lnTo>
                            <a:pt x="133" y="43"/>
                          </a:lnTo>
                          <a:lnTo>
                            <a:pt x="120" y="42"/>
                          </a:lnTo>
                          <a:lnTo>
                            <a:pt x="108" y="41"/>
                          </a:lnTo>
                          <a:lnTo>
                            <a:pt x="96" y="39"/>
                          </a:lnTo>
                          <a:lnTo>
                            <a:pt x="82" y="37"/>
                          </a:lnTo>
                          <a:lnTo>
                            <a:pt x="73" y="32"/>
                          </a:lnTo>
                          <a:lnTo>
                            <a:pt x="65" y="28"/>
                          </a:lnTo>
                          <a:lnTo>
                            <a:pt x="58" y="23"/>
                          </a:lnTo>
                          <a:lnTo>
                            <a:pt x="52" y="19"/>
                          </a:lnTo>
                          <a:lnTo>
                            <a:pt x="47" y="14"/>
                          </a:lnTo>
                          <a:lnTo>
                            <a:pt x="44" y="11"/>
                          </a:lnTo>
                          <a:lnTo>
                            <a:pt x="42" y="5"/>
                          </a:lnTo>
                          <a:lnTo>
                            <a:pt x="40" y="0"/>
                          </a:lnTo>
                          <a:close/>
                        </a:path>
                      </a:pathLst>
                    </a:custGeom>
                    <a:solidFill>
                      <a:srgbClr val="cfcfc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Freeform 147"/>
                    <p:cNvSpPr/>
                    <p:nvPr/>
                  </p:nvSpPr>
                  <p:spPr>
                    <a:xfrm flipH="1">
                      <a:off x="2368080" y="3119760"/>
                      <a:ext cx="50760" cy="10440"/>
                    </a:xfrm>
                    <a:custGeom>
                      <a:avLst/>
                      <a:gdLst>
                        <a:gd name="textAreaLeft" fmla="*/ -360 w 50760"/>
                        <a:gd name="textAreaRight" fmla="*/ 50760 w 50760"/>
                        <a:gd name="textAreaTop" fmla="*/ 0 h 10440"/>
                        <a:gd name="textAreaBottom" fmla="*/ 10800 h 10440"/>
                      </a:gdLst>
                      <a:ahLst/>
                      <a:rect l="textAreaLeft" t="textAreaTop" r="textAreaRight" b="textAreaBottom"/>
                      <a:pathLst>
                        <a:path w="382" h="96">
                          <a:moveTo>
                            <a:pt x="24" y="4"/>
                          </a:moveTo>
                          <a:lnTo>
                            <a:pt x="68" y="40"/>
                          </a:lnTo>
                          <a:lnTo>
                            <a:pt x="89" y="44"/>
                          </a:lnTo>
                          <a:lnTo>
                            <a:pt x="108" y="48"/>
                          </a:lnTo>
                          <a:lnTo>
                            <a:pt x="127" y="53"/>
                          </a:lnTo>
                          <a:lnTo>
                            <a:pt x="144" y="55"/>
                          </a:lnTo>
                          <a:lnTo>
                            <a:pt x="160" y="57"/>
                          </a:lnTo>
                          <a:lnTo>
                            <a:pt x="176" y="59"/>
                          </a:lnTo>
                          <a:lnTo>
                            <a:pt x="192" y="59"/>
                          </a:lnTo>
                          <a:lnTo>
                            <a:pt x="207" y="59"/>
                          </a:lnTo>
                          <a:lnTo>
                            <a:pt x="222" y="58"/>
                          </a:lnTo>
                          <a:lnTo>
                            <a:pt x="237" y="57"/>
                          </a:lnTo>
                          <a:lnTo>
                            <a:pt x="253" y="54"/>
                          </a:lnTo>
                          <a:lnTo>
                            <a:pt x="270" y="50"/>
                          </a:lnTo>
                          <a:lnTo>
                            <a:pt x="286" y="46"/>
                          </a:lnTo>
                          <a:lnTo>
                            <a:pt x="304" y="39"/>
                          </a:lnTo>
                          <a:lnTo>
                            <a:pt x="323" y="32"/>
                          </a:lnTo>
                          <a:lnTo>
                            <a:pt x="342" y="23"/>
                          </a:lnTo>
                          <a:lnTo>
                            <a:pt x="348" y="10"/>
                          </a:lnTo>
                          <a:lnTo>
                            <a:pt x="352" y="3"/>
                          </a:lnTo>
                          <a:lnTo>
                            <a:pt x="356" y="0"/>
                          </a:lnTo>
                          <a:lnTo>
                            <a:pt x="359" y="1"/>
                          </a:lnTo>
                          <a:lnTo>
                            <a:pt x="363" y="4"/>
                          </a:lnTo>
                          <a:lnTo>
                            <a:pt x="367" y="11"/>
                          </a:lnTo>
                          <a:lnTo>
                            <a:pt x="374" y="20"/>
                          </a:lnTo>
                          <a:lnTo>
                            <a:pt x="382" y="32"/>
                          </a:lnTo>
                          <a:lnTo>
                            <a:pt x="366" y="55"/>
                          </a:lnTo>
                          <a:lnTo>
                            <a:pt x="349" y="65"/>
                          </a:lnTo>
                          <a:lnTo>
                            <a:pt x="329" y="73"/>
                          </a:lnTo>
                          <a:lnTo>
                            <a:pt x="310" y="80"/>
                          </a:lnTo>
                          <a:lnTo>
                            <a:pt x="288" y="86"/>
                          </a:lnTo>
                          <a:lnTo>
                            <a:pt x="266" y="91"/>
                          </a:lnTo>
                          <a:lnTo>
                            <a:pt x="243" y="94"/>
                          </a:lnTo>
                          <a:lnTo>
                            <a:pt x="219" y="96"/>
                          </a:lnTo>
                          <a:lnTo>
                            <a:pt x="196" y="96"/>
                          </a:lnTo>
                          <a:lnTo>
                            <a:pt x="172" y="96"/>
                          </a:lnTo>
                          <a:lnTo>
                            <a:pt x="147" y="95"/>
                          </a:lnTo>
                          <a:lnTo>
                            <a:pt x="124" y="92"/>
                          </a:lnTo>
                          <a:lnTo>
                            <a:pt x="101" y="88"/>
                          </a:lnTo>
                          <a:lnTo>
                            <a:pt x="78" y="84"/>
                          </a:lnTo>
                          <a:lnTo>
                            <a:pt x="58" y="79"/>
                          </a:lnTo>
                          <a:lnTo>
                            <a:pt x="37" y="72"/>
                          </a:lnTo>
                          <a:lnTo>
                            <a:pt x="18" y="65"/>
                          </a:lnTo>
                          <a:lnTo>
                            <a:pt x="12" y="56"/>
                          </a:lnTo>
                          <a:lnTo>
                            <a:pt x="6" y="47"/>
                          </a:lnTo>
                          <a:lnTo>
                            <a:pt x="2" y="38"/>
                          </a:lnTo>
                          <a:lnTo>
                            <a:pt x="0" y="28"/>
                          </a:lnTo>
                          <a:lnTo>
                            <a:pt x="0" y="20"/>
                          </a:lnTo>
                          <a:lnTo>
                            <a:pt x="5" y="13"/>
                          </a:lnTo>
                          <a:lnTo>
                            <a:pt x="12" y="8"/>
                          </a:lnTo>
                          <a:lnTo>
                            <a:pt x="24" y="4"/>
                          </a:lnTo>
                          <a:close/>
                        </a:path>
                      </a:pathLst>
                    </a:custGeom>
                    <a:solidFill>
                      <a:srgbClr val="cfcfc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Freeform 148"/>
                    <p:cNvSpPr/>
                    <p:nvPr/>
                  </p:nvSpPr>
                  <p:spPr>
                    <a:xfrm flipH="1">
                      <a:off x="2358000" y="3130200"/>
                      <a:ext cx="68400" cy="17640"/>
                    </a:xfrm>
                    <a:custGeom>
                      <a:avLst/>
                      <a:gdLst>
                        <a:gd name="textAreaLeft" fmla="*/ 360 w 68400"/>
                        <a:gd name="textAreaRight" fmla="*/ 69120 w 6840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483" h="184">
                          <a:moveTo>
                            <a:pt x="7" y="102"/>
                          </a:moveTo>
                          <a:lnTo>
                            <a:pt x="18" y="116"/>
                          </a:lnTo>
                          <a:lnTo>
                            <a:pt x="34" y="130"/>
                          </a:lnTo>
                          <a:lnTo>
                            <a:pt x="55" y="143"/>
                          </a:lnTo>
                          <a:lnTo>
                            <a:pt x="80" y="155"/>
                          </a:lnTo>
                          <a:lnTo>
                            <a:pt x="109" y="165"/>
                          </a:lnTo>
                          <a:lnTo>
                            <a:pt x="141" y="173"/>
                          </a:lnTo>
                          <a:lnTo>
                            <a:pt x="176" y="179"/>
                          </a:lnTo>
                          <a:lnTo>
                            <a:pt x="211" y="182"/>
                          </a:lnTo>
                          <a:lnTo>
                            <a:pt x="248" y="184"/>
                          </a:lnTo>
                          <a:lnTo>
                            <a:pt x="285" y="183"/>
                          </a:lnTo>
                          <a:lnTo>
                            <a:pt x="323" y="180"/>
                          </a:lnTo>
                          <a:lnTo>
                            <a:pt x="359" y="173"/>
                          </a:lnTo>
                          <a:lnTo>
                            <a:pt x="393" y="164"/>
                          </a:lnTo>
                          <a:lnTo>
                            <a:pt x="427" y="151"/>
                          </a:lnTo>
                          <a:lnTo>
                            <a:pt x="455" y="135"/>
                          </a:lnTo>
                          <a:lnTo>
                            <a:pt x="482" y="115"/>
                          </a:lnTo>
                          <a:lnTo>
                            <a:pt x="483" y="93"/>
                          </a:lnTo>
                          <a:lnTo>
                            <a:pt x="483" y="77"/>
                          </a:lnTo>
                          <a:lnTo>
                            <a:pt x="482" y="65"/>
                          </a:lnTo>
                          <a:lnTo>
                            <a:pt x="478" y="54"/>
                          </a:lnTo>
                          <a:lnTo>
                            <a:pt x="473" y="44"/>
                          </a:lnTo>
                          <a:lnTo>
                            <a:pt x="463" y="34"/>
                          </a:lnTo>
                          <a:lnTo>
                            <a:pt x="451" y="22"/>
                          </a:lnTo>
                          <a:lnTo>
                            <a:pt x="435" y="7"/>
                          </a:lnTo>
                          <a:lnTo>
                            <a:pt x="416" y="23"/>
                          </a:lnTo>
                          <a:lnTo>
                            <a:pt x="396" y="37"/>
                          </a:lnTo>
                          <a:lnTo>
                            <a:pt x="375" y="50"/>
                          </a:lnTo>
                          <a:lnTo>
                            <a:pt x="353" y="59"/>
                          </a:lnTo>
                          <a:lnTo>
                            <a:pt x="330" y="67"/>
                          </a:lnTo>
                          <a:lnTo>
                            <a:pt x="307" y="73"/>
                          </a:lnTo>
                          <a:lnTo>
                            <a:pt x="284" y="76"/>
                          </a:lnTo>
                          <a:lnTo>
                            <a:pt x="260" y="78"/>
                          </a:lnTo>
                          <a:lnTo>
                            <a:pt x="235" y="78"/>
                          </a:lnTo>
                          <a:lnTo>
                            <a:pt x="211" y="76"/>
                          </a:lnTo>
                          <a:lnTo>
                            <a:pt x="187" y="73"/>
                          </a:lnTo>
                          <a:lnTo>
                            <a:pt x="163" y="68"/>
                          </a:lnTo>
                          <a:lnTo>
                            <a:pt x="140" y="61"/>
                          </a:lnTo>
                          <a:lnTo>
                            <a:pt x="116" y="53"/>
                          </a:lnTo>
                          <a:lnTo>
                            <a:pt x="94" y="44"/>
                          </a:lnTo>
                          <a:lnTo>
                            <a:pt x="72" y="32"/>
                          </a:lnTo>
                          <a:lnTo>
                            <a:pt x="66" y="0"/>
                          </a:lnTo>
                          <a:lnTo>
                            <a:pt x="56" y="5"/>
                          </a:lnTo>
                          <a:lnTo>
                            <a:pt x="42" y="12"/>
                          </a:lnTo>
                          <a:lnTo>
                            <a:pt x="29" y="20"/>
                          </a:lnTo>
                          <a:lnTo>
                            <a:pt x="17" y="30"/>
                          </a:lnTo>
                          <a:lnTo>
                            <a:pt x="7" y="43"/>
                          </a:lnTo>
                          <a:lnTo>
                            <a:pt x="2" y="59"/>
                          </a:lnTo>
                          <a:lnTo>
                            <a:pt x="0" y="78"/>
                          </a:lnTo>
                          <a:lnTo>
                            <a:pt x="7" y="102"/>
                          </a:lnTo>
                          <a:close/>
                        </a:path>
                      </a:pathLst>
                    </a:custGeom>
                    <a:solidFill>
                      <a:srgbClr val="cfcfc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Freeform 184"/>
                    <p:cNvSpPr/>
                    <p:nvPr/>
                  </p:nvSpPr>
                  <p:spPr>
                    <a:xfrm flipH="1">
                      <a:off x="2385720" y="3034800"/>
                      <a:ext cx="10440" cy="10440"/>
                    </a:xfrm>
                    <a:custGeom>
                      <a:avLst/>
                      <a:gdLst>
                        <a:gd name="textAreaLeft" fmla="*/ -360 w 10440"/>
                        <a:gd name="textAreaRight" fmla="*/ 10440 w 10440"/>
                        <a:gd name="textAreaTop" fmla="*/ 0 h 10440"/>
                        <a:gd name="textAreaBottom" fmla="*/ 10800 h 10440"/>
                      </a:gdLst>
                      <a:ahLst/>
                      <a:rect l="textAreaLeft" t="textAreaTop" r="textAreaRight" b="textAreaBottom"/>
                      <a:pathLst>
                        <a:path w="95" h="72">
                          <a:moveTo>
                            <a:pt x="48" y="0"/>
                          </a:moveTo>
                          <a:lnTo>
                            <a:pt x="57" y="2"/>
                          </a:lnTo>
                          <a:lnTo>
                            <a:pt x="66" y="3"/>
                          </a:lnTo>
                          <a:lnTo>
                            <a:pt x="74" y="6"/>
                          </a:lnTo>
                          <a:lnTo>
                            <a:pt x="81" y="11"/>
                          </a:lnTo>
                          <a:lnTo>
                            <a:pt x="87" y="16"/>
                          </a:lnTo>
                          <a:lnTo>
                            <a:pt x="91" y="22"/>
                          </a:lnTo>
                          <a:lnTo>
                            <a:pt x="94" y="29"/>
                          </a:lnTo>
                          <a:lnTo>
                            <a:pt x="95" y="36"/>
                          </a:lnTo>
                          <a:lnTo>
                            <a:pt x="94" y="43"/>
                          </a:lnTo>
                          <a:lnTo>
                            <a:pt x="91" y="50"/>
                          </a:lnTo>
                          <a:lnTo>
                            <a:pt x="87" y="56"/>
                          </a:lnTo>
                          <a:lnTo>
                            <a:pt x="81" y="61"/>
                          </a:lnTo>
                          <a:lnTo>
                            <a:pt x="74" y="66"/>
                          </a:lnTo>
                          <a:lnTo>
                            <a:pt x="66" y="69"/>
                          </a:lnTo>
                          <a:lnTo>
                            <a:pt x="57" y="71"/>
                          </a:lnTo>
                          <a:lnTo>
                            <a:pt x="48" y="72"/>
                          </a:lnTo>
                          <a:lnTo>
                            <a:pt x="38" y="71"/>
                          </a:lnTo>
                          <a:lnTo>
                            <a:pt x="29" y="69"/>
                          </a:lnTo>
                          <a:lnTo>
                            <a:pt x="21" y="66"/>
                          </a:lnTo>
                          <a:lnTo>
                            <a:pt x="14" y="61"/>
                          </a:lnTo>
                          <a:lnTo>
                            <a:pt x="8" y="56"/>
                          </a:lnTo>
                          <a:lnTo>
                            <a:pt x="4" y="50"/>
                          </a:lnTo>
                          <a:lnTo>
                            <a:pt x="2" y="43"/>
                          </a:lnTo>
                          <a:lnTo>
                            <a:pt x="0" y="36"/>
                          </a:lnTo>
                          <a:lnTo>
                            <a:pt x="2" y="29"/>
                          </a:lnTo>
                          <a:lnTo>
                            <a:pt x="4" y="22"/>
                          </a:lnTo>
                          <a:lnTo>
                            <a:pt x="8" y="16"/>
                          </a:lnTo>
                          <a:lnTo>
                            <a:pt x="14" y="11"/>
                          </a:lnTo>
                          <a:lnTo>
                            <a:pt x="21" y="6"/>
                          </a:lnTo>
                          <a:lnTo>
                            <a:pt x="29" y="3"/>
                          </a:lnTo>
                          <a:lnTo>
                            <a:pt x="38" y="2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Gruppe 813"/>
                  <p:cNvGrpSpPr/>
                  <p:nvPr/>
                </p:nvGrpSpPr>
                <p:grpSpPr>
                  <a:xfrm>
                    <a:off x="2366280" y="3026880"/>
                    <a:ext cx="42840" cy="128880"/>
                    <a:chOff x="2366280" y="3026880"/>
                    <a:chExt cx="42840" cy="128880"/>
                  </a:xfrm>
                </p:grpSpPr>
                <p:sp>
                  <p:nvSpPr>
                    <p:cNvPr id="346" name="Freeform 316"/>
                    <p:cNvSpPr/>
                    <p:nvPr/>
                  </p:nvSpPr>
                  <p:spPr>
                    <a:xfrm flipH="1">
                      <a:off x="2373120" y="3063960"/>
                      <a:ext cx="32040" cy="4320"/>
                    </a:xfrm>
                    <a:custGeom>
                      <a:avLst/>
                      <a:gdLst>
                        <a:gd name="textAreaLeft" fmla="*/ -360 w 32040"/>
                        <a:gd name="textAreaRight" fmla="*/ 32040 w 32040"/>
                        <a:gd name="textAreaTop" fmla="*/ 0 h 4320"/>
                        <a:gd name="textAreaBottom" fmla="*/ 4680 h 4320"/>
                      </a:gdLst>
                      <a:ahLst/>
                      <a:rect l="textAreaLeft" t="textAreaTop" r="textAreaRight" b="textAreaBottom"/>
                      <a:pathLst>
                        <a:path w="230" h="41">
                          <a:moveTo>
                            <a:pt x="13" y="0"/>
                          </a:moveTo>
                          <a:lnTo>
                            <a:pt x="26" y="6"/>
                          </a:lnTo>
                          <a:lnTo>
                            <a:pt x="39" y="13"/>
                          </a:lnTo>
                          <a:lnTo>
                            <a:pt x="52" y="16"/>
                          </a:lnTo>
                          <a:lnTo>
                            <a:pt x="65" y="19"/>
                          </a:lnTo>
                          <a:lnTo>
                            <a:pt x="78" y="22"/>
                          </a:lnTo>
                          <a:lnTo>
                            <a:pt x="93" y="23"/>
                          </a:lnTo>
                          <a:lnTo>
                            <a:pt x="106" y="24"/>
                          </a:lnTo>
                          <a:lnTo>
                            <a:pt x="120" y="23"/>
                          </a:lnTo>
                          <a:lnTo>
                            <a:pt x="134" y="22"/>
                          </a:lnTo>
                          <a:lnTo>
                            <a:pt x="147" y="20"/>
                          </a:lnTo>
                          <a:lnTo>
                            <a:pt x="161" y="18"/>
                          </a:lnTo>
                          <a:lnTo>
                            <a:pt x="176" y="15"/>
                          </a:lnTo>
                          <a:lnTo>
                            <a:pt x="189" y="13"/>
                          </a:lnTo>
                          <a:lnTo>
                            <a:pt x="203" y="9"/>
                          </a:lnTo>
                          <a:lnTo>
                            <a:pt x="216" y="6"/>
                          </a:lnTo>
                          <a:lnTo>
                            <a:pt x="230" y="2"/>
                          </a:lnTo>
                          <a:lnTo>
                            <a:pt x="230" y="15"/>
                          </a:lnTo>
                          <a:lnTo>
                            <a:pt x="221" y="19"/>
                          </a:lnTo>
                          <a:lnTo>
                            <a:pt x="212" y="23"/>
                          </a:lnTo>
                          <a:lnTo>
                            <a:pt x="200" y="27"/>
                          </a:lnTo>
                          <a:lnTo>
                            <a:pt x="189" y="29"/>
                          </a:lnTo>
                          <a:lnTo>
                            <a:pt x="174" y="33"/>
                          </a:lnTo>
                          <a:lnTo>
                            <a:pt x="161" y="36"/>
                          </a:lnTo>
                          <a:lnTo>
                            <a:pt x="146" y="39"/>
                          </a:lnTo>
                          <a:lnTo>
                            <a:pt x="132" y="41"/>
                          </a:lnTo>
                          <a:lnTo>
                            <a:pt x="115" y="41"/>
                          </a:lnTo>
                          <a:lnTo>
                            <a:pt x="99" y="41"/>
                          </a:lnTo>
                          <a:lnTo>
                            <a:pt x="82" y="40"/>
                          </a:lnTo>
                          <a:lnTo>
                            <a:pt x="65" y="37"/>
                          </a:lnTo>
                          <a:lnTo>
                            <a:pt x="50" y="32"/>
                          </a:lnTo>
                          <a:lnTo>
                            <a:pt x="33" y="27"/>
                          </a:lnTo>
                          <a:lnTo>
                            <a:pt x="16" y="19"/>
                          </a:lnTo>
                          <a:lnTo>
                            <a:pt x="0" y="9"/>
                          </a:lnTo>
                          <a:lnTo>
                            <a:pt x="13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Freeform 336"/>
                    <p:cNvSpPr/>
                    <p:nvPr/>
                  </p:nvSpPr>
                  <p:spPr>
                    <a:xfrm flipH="1">
                      <a:off x="2365920" y="3148200"/>
                      <a:ext cx="42840" cy="7560"/>
                    </a:xfrm>
                    <a:custGeom>
                      <a:avLst/>
                      <a:gdLst>
                        <a:gd name="textAreaLeft" fmla="*/ -360 w 42840"/>
                        <a:gd name="textAreaRight" fmla="*/ 42840 w 42840"/>
                        <a:gd name="textAreaTop" fmla="*/ 0 h 7560"/>
                        <a:gd name="textAreaBottom" fmla="*/ 7920 h 7560"/>
                      </a:gdLst>
                      <a:ahLst/>
                      <a:rect l="textAreaLeft" t="textAreaTop" r="textAreaRight" b="textAreaBottom"/>
                      <a:pathLst>
                        <a:path w="309" h="72">
                          <a:moveTo>
                            <a:pt x="0" y="29"/>
                          </a:moveTo>
                          <a:lnTo>
                            <a:pt x="3" y="37"/>
                          </a:lnTo>
                          <a:lnTo>
                            <a:pt x="7" y="45"/>
                          </a:lnTo>
                          <a:lnTo>
                            <a:pt x="11" y="53"/>
                          </a:lnTo>
                          <a:lnTo>
                            <a:pt x="15" y="61"/>
                          </a:lnTo>
                          <a:lnTo>
                            <a:pt x="22" y="62"/>
                          </a:lnTo>
                          <a:lnTo>
                            <a:pt x="29" y="63"/>
                          </a:lnTo>
                          <a:lnTo>
                            <a:pt x="37" y="65"/>
                          </a:lnTo>
                          <a:lnTo>
                            <a:pt x="44" y="66"/>
                          </a:lnTo>
                          <a:lnTo>
                            <a:pt x="51" y="67"/>
                          </a:lnTo>
                          <a:lnTo>
                            <a:pt x="59" y="68"/>
                          </a:lnTo>
                          <a:lnTo>
                            <a:pt x="65" y="71"/>
                          </a:lnTo>
                          <a:lnTo>
                            <a:pt x="73" y="72"/>
                          </a:lnTo>
                          <a:lnTo>
                            <a:pt x="91" y="72"/>
                          </a:lnTo>
                          <a:lnTo>
                            <a:pt x="109" y="71"/>
                          </a:lnTo>
                          <a:lnTo>
                            <a:pt x="127" y="71"/>
                          </a:lnTo>
                          <a:lnTo>
                            <a:pt x="146" y="70"/>
                          </a:lnTo>
                          <a:lnTo>
                            <a:pt x="164" y="70"/>
                          </a:lnTo>
                          <a:lnTo>
                            <a:pt x="183" y="68"/>
                          </a:lnTo>
                          <a:lnTo>
                            <a:pt x="201" y="68"/>
                          </a:lnTo>
                          <a:lnTo>
                            <a:pt x="220" y="67"/>
                          </a:lnTo>
                          <a:lnTo>
                            <a:pt x="231" y="65"/>
                          </a:lnTo>
                          <a:lnTo>
                            <a:pt x="242" y="61"/>
                          </a:lnTo>
                          <a:lnTo>
                            <a:pt x="253" y="58"/>
                          </a:lnTo>
                          <a:lnTo>
                            <a:pt x="265" y="54"/>
                          </a:lnTo>
                          <a:lnTo>
                            <a:pt x="275" y="52"/>
                          </a:lnTo>
                          <a:lnTo>
                            <a:pt x="287" y="48"/>
                          </a:lnTo>
                          <a:lnTo>
                            <a:pt x="297" y="45"/>
                          </a:lnTo>
                          <a:lnTo>
                            <a:pt x="309" y="41"/>
                          </a:lnTo>
                          <a:lnTo>
                            <a:pt x="309" y="26"/>
                          </a:lnTo>
                          <a:lnTo>
                            <a:pt x="307" y="13"/>
                          </a:lnTo>
                          <a:lnTo>
                            <a:pt x="303" y="5"/>
                          </a:lnTo>
                          <a:lnTo>
                            <a:pt x="297" y="1"/>
                          </a:lnTo>
                          <a:lnTo>
                            <a:pt x="290" y="0"/>
                          </a:lnTo>
                          <a:lnTo>
                            <a:pt x="279" y="0"/>
                          </a:lnTo>
                          <a:lnTo>
                            <a:pt x="268" y="4"/>
                          </a:lnTo>
                          <a:lnTo>
                            <a:pt x="252" y="9"/>
                          </a:lnTo>
                          <a:lnTo>
                            <a:pt x="242" y="9"/>
                          </a:lnTo>
                          <a:lnTo>
                            <a:pt x="231" y="10"/>
                          </a:lnTo>
                          <a:lnTo>
                            <a:pt x="221" y="10"/>
                          </a:lnTo>
                          <a:lnTo>
                            <a:pt x="211" y="10"/>
                          </a:lnTo>
                          <a:lnTo>
                            <a:pt x="200" y="10"/>
                          </a:lnTo>
                          <a:lnTo>
                            <a:pt x="188" y="10"/>
                          </a:lnTo>
                          <a:lnTo>
                            <a:pt x="178" y="11"/>
                          </a:lnTo>
                          <a:lnTo>
                            <a:pt x="168" y="11"/>
                          </a:lnTo>
                          <a:lnTo>
                            <a:pt x="140" y="10"/>
                          </a:lnTo>
                          <a:lnTo>
                            <a:pt x="116" y="9"/>
                          </a:lnTo>
                          <a:lnTo>
                            <a:pt x="96" y="6"/>
                          </a:lnTo>
                          <a:lnTo>
                            <a:pt x="77" y="5"/>
                          </a:lnTo>
                          <a:lnTo>
                            <a:pt x="60" y="6"/>
                          </a:lnTo>
                          <a:lnTo>
                            <a:pt x="42" y="9"/>
                          </a:lnTo>
                          <a:lnTo>
                            <a:pt x="22" y="16"/>
                          </a:lnTo>
                          <a:lnTo>
                            <a:pt x="0" y="29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Freeform 353"/>
                    <p:cNvSpPr/>
                    <p:nvPr/>
                  </p:nvSpPr>
                  <p:spPr>
                    <a:xfrm flipH="1">
                      <a:off x="2380320" y="3079800"/>
                      <a:ext cx="15480" cy="2520"/>
                    </a:xfrm>
                    <a:custGeom>
                      <a:avLst/>
                      <a:gdLst>
                        <a:gd name="textAreaLeft" fmla="*/ -360 w 15480"/>
                        <a:gd name="textAreaRight" fmla="*/ 15480 w 15480"/>
                        <a:gd name="textAreaTop" fmla="*/ 0 h 2520"/>
                        <a:gd name="textAreaBottom" fmla="*/ 2880 h 2520"/>
                      </a:gdLst>
                      <a:ahLst/>
                      <a:rect l="textAreaLeft" t="textAreaTop" r="textAreaRight" b="textAreaBottom"/>
                      <a:pathLst>
                        <a:path w="112" h="25">
                          <a:moveTo>
                            <a:pt x="0" y="11"/>
                          </a:moveTo>
                          <a:lnTo>
                            <a:pt x="5" y="17"/>
                          </a:lnTo>
                          <a:lnTo>
                            <a:pt x="26" y="25"/>
                          </a:lnTo>
                          <a:lnTo>
                            <a:pt x="80" y="20"/>
                          </a:lnTo>
                          <a:lnTo>
                            <a:pt x="112" y="13"/>
                          </a:lnTo>
                          <a:lnTo>
                            <a:pt x="110" y="4"/>
                          </a:lnTo>
                          <a:lnTo>
                            <a:pt x="108" y="0"/>
                          </a:lnTo>
                          <a:lnTo>
                            <a:pt x="103" y="2"/>
                          </a:lnTo>
                          <a:lnTo>
                            <a:pt x="92" y="4"/>
                          </a:lnTo>
                          <a:lnTo>
                            <a:pt x="61" y="6"/>
                          </a:lnTo>
                          <a:lnTo>
                            <a:pt x="51" y="6"/>
                          </a:lnTo>
                          <a:lnTo>
                            <a:pt x="43" y="4"/>
                          </a:lnTo>
                          <a:lnTo>
                            <a:pt x="35" y="4"/>
                          </a:lnTo>
                          <a:lnTo>
                            <a:pt x="29" y="3"/>
                          </a:lnTo>
                          <a:lnTo>
                            <a:pt x="22" y="3"/>
                          </a:lnTo>
                          <a:lnTo>
                            <a:pt x="14" y="4"/>
                          </a:lnTo>
                          <a:lnTo>
                            <a:pt x="8" y="7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Freeform 367"/>
                    <p:cNvSpPr/>
                    <p:nvPr/>
                  </p:nvSpPr>
                  <p:spPr>
                    <a:xfrm flipH="1">
                      <a:off x="2381040" y="3026880"/>
                      <a:ext cx="14760" cy="8280"/>
                    </a:xfrm>
                    <a:custGeom>
                      <a:avLst/>
                      <a:gdLst>
                        <a:gd name="textAreaLeft" fmla="*/ -360 w 14760"/>
                        <a:gd name="textAreaRight" fmla="*/ 14760 w 14760"/>
                        <a:gd name="textAreaTop" fmla="*/ 0 h 8280"/>
                        <a:gd name="textAreaBottom" fmla="*/ 8640 h 8280"/>
                      </a:gdLst>
                      <a:ahLst/>
                      <a:rect l="textAreaLeft" t="textAreaTop" r="textAreaRight" b="textAreaBottom"/>
                      <a:pathLst>
                        <a:path w="106" h="80">
                          <a:moveTo>
                            <a:pt x="53" y="0"/>
                          </a:moveTo>
                          <a:lnTo>
                            <a:pt x="64" y="1"/>
                          </a:lnTo>
                          <a:lnTo>
                            <a:pt x="74" y="2"/>
                          </a:lnTo>
                          <a:lnTo>
                            <a:pt x="83" y="6"/>
                          </a:lnTo>
                          <a:lnTo>
                            <a:pt x="91" y="11"/>
                          </a:lnTo>
                          <a:lnTo>
                            <a:pt x="97" y="18"/>
                          </a:lnTo>
                          <a:lnTo>
                            <a:pt x="103" y="24"/>
                          </a:lnTo>
                          <a:lnTo>
                            <a:pt x="105" y="32"/>
                          </a:lnTo>
                          <a:lnTo>
                            <a:pt x="106" y="40"/>
                          </a:lnTo>
                          <a:lnTo>
                            <a:pt x="105" y="48"/>
                          </a:lnTo>
                          <a:lnTo>
                            <a:pt x="103" y="55"/>
                          </a:lnTo>
                          <a:lnTo>
                            <a:pt x="97" y="62"/>
                          </a:lnTo>
                          <a:lnTo>
                            <a:pt x="91" y="68"/>
                          </a:lnTo>
                          <a:lnTo>
                            <a:pt x="83" y="74"/>
                          </a:lnTo>
                          <a:lnTo>
                            <a:pt x="74" y="78"/>
                          </a:lnTo>
                          <a:lnTo>
                            <a:pt x="64" y="79"/>
                          </a:lnTo>
                          <a:lnTo>
                            <a:pt x="53" y="80"/>
                          </a:lnTo>
                          <a:lnTo>
                            <a:pt x="43" y="79"/>
                          </a:lnTo>
                          <a:lnTo>
                            <a:pt x="32" y="78"/>
                          </a:lnTo>
                          <a:lnTo>
                            <a:pt x="23" y="74"/>
                          </a:lnTo>
                          <a:lnTo>
                            <a:pt x="16" y="68"/>
                          </a:lnTo>
                          <a:lnTo>
                            <a:pt x="9" y="62"/>
                          </a:lnTo>
                          <a:lnTo>
                            <a:pt x="4" y="55"/>
                          </a:lnTo>
                          <a:lnTo>
                            <a:pt x="1" y="48"/>
                          </a:lnTo>
                          <a:lnTo>
                            <a:pt x="0" y="40"/>
                          </a:lnTo>
                          <a:lnTo>
                            <a:pt x="1" y="32"/>
                          </a:lnTo>
                          <a:lnTo>
                            <a:pt x="4" y="24"/>
                          </a:lnTo>
                          <a:lnTo>
                            <a:pt x="9" y="18"/>
                          </a:lnTo>
                          <a:lnTo>
                            <a:pt x="16" y="11"/>
                          </a:lnTo>
                          <a:lnTo>
                            <a:pt x="23" y="6"/>
                          </a:lnTo>
                          <a:lnTo>
                            <a:pt x="32" y="2"/>
                          </a:lnTo>
                          <a:lnTo>
                            <a:pt x="43" y="1"/>
                          </a:lnTo>
                          <a:lnTo>
                            <a:pt x="53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50" name="Ellipse 235"/>
                <p:cNvSpPr/>
                <p:nvPr/>
              </p:nvSpPr>
              <p:spPr>
                <a:xfrm flipH="1">
                  <a:off x="2365200" y="3020040"/>
                  <a:ext cx="51120" cy="47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acac"/>
                    </a:gs>
                    <a:gs pos="100000">
                      <a:srgbClr val="e6e6e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" name="Gruppe 291"/>
            <p:cNvGrpSpPr/>
            <p:nvPr/>
          </p:nvGrpSpPr>
          <p:grpSpPr>
            <a:xfrm>
              <a:off x="2822040" y="3012840"/>
              <a:ext cx="125640" cy="160560"/>
              <a:chOff x="2822040" y="3012840"/>
              <a:chExt cx="125640" cy="160560"/>
            </a:xfrm>
          </p:grpSpPr>
          <p:sp>
            <p:nvSpPr>
              <p:cNvPr id="352" name="Ellipse 214"/>
              <p:cNvSpPr/>
              <p:nvPr/>
            </p:nvSpPr>
            <p:spPr>
              <a:xfrm flipH="1">
                <a:off x="2821680" y="3139920"/>
                <a:ext cx="125640" cy="33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3" name="Gruppe 850"/>
              <p:cNvGrpSpPr/>
              <p:nvPr/>
            </p:nvGrpSpPr>
            <p:grpSpPr>
              <a:xfrm>
                <a:off x="2842920" y="3012840"/>
                <a:ext cx="72000" cy="147960"/>
                <a:chOff x="2842920" y="3012840"/>
                <a:chExt cx="72000" cy="147960"/>
              </a:xfrm>
            </p:grpSpPr>
            <p:grpSp>
              <p:nvGrpSpPr>
                <p:cNvPr id="354" name="Gruppe 823"/>
                <p:cNvGrpSpPr/>
                <p:nvPr/>
              </p:nvGrpSpPr>
              <p:grpSpPr>
                <a:xfrm>
                  <a:off x="2842920" y="3022200"/>
                  <a:ext cx="72000" cy="138600"/>
                  <a:chOff x="2842920" y="3022200"/>
                  <a:chExt cx="72000" cy="138600"/>
                </a:xfrm>
              </p:grpSpPr>
              <p:grpSp>
                <p:nvGrpSpPr>
                  <p:cNvPr id="355" name="Gruppe 605"/>
                  <p:cNvGrpSpPr/>
                  <p:nvPr/>
                </p:nvGrpSpPr>
                <p:grpSpPr>
                  <a:xfrm>
                    <a:off x="2842920" y="3026880"/>
                    <a:ext cx="72000" cy="133920"/>
                    <a:chOff x="2842920" y="3026880"/>
                    <a:chExt cx="72000" cy="133920"/>
                  </a:xfrm>
                </p:grpSpPr>
                <p:sp>
                  <p:nvSpPr>
                    <p:cNvPr id="356" name="Freeform 130"/>
                    <p:cNvSpPr/>
                    <p:nvPr/>
                  </p:nvSpPr>
                  <p:spPr>
                    <a:xfrm flipH="1">
                      <a:off x="2842920" y="3026880"/>
                      <a:ext cx="72000" cy="133920"/>
                    </a:xfrm>
                    <a:custGeom>
                      <a:avLst/>
                      <a:gdLst>
                        <a:gd name="textAreaLeft" fmla="*/ 360 w 72000"/>
                        <a:gd name="textAreaRight" fmla="*/ 72720 w 72000"/>
                        <a:gd name="textAreaTop" fmla="*/ 0 h 133920"/>
                        <a:gd name="textAreaBottom" fmla="*/ 134280 h 133920"/>
                      </a:gdLst>
                      <a:ahLst/>
                      <a:rect l="textAreaLeft" t="textAreaTop" r="textAreaRight" b="textAreaBottom"/>
                      <a:pathLst>
                        <a:path w="493" h="1194">
                          <a:moveTo>
                            <a:pt x="208" y="62"/>
                          </a:moveTo>
                          <a:lnTo>
                            <a:pt x="167" y="83"/>
                          </a:lnTo>
                          <a:lnTo>
                            <a:pt x="145" y="87"/>
                          </a:lnTo>
                          <a:lnTo>
                            <a:pt x="125" y="93"/>
                          </a:lnTo>
                          <a:lnTo>
                            <a:pt x="110" y="100"/>
                          </a:lnTo>
                          <a:lnTo>
                            <a:pt x="99" y="110"/>
                          </a:lnTo>
                          <a:lnTo>
                            <a:pt x="92" y="124"/>
                          </a:lnTo>
                          <a:lnTo>
                            <a:pt x="90" y="141"/>
                          </a:lnTo>
                          <a:lnTo>
                            <a:pt x="93" y="162"/>
                          </a:lnTo>
                          <a:lnTo>
                            <a:pt x="104" y="187"/>
                          </a:lnTo>
                          <a:lnTo>
                            <a:pt x="158" y="242"/>
                          </a:lnTo>
                          <a:lnTo>
                            <a:pt x="158" y="272"/>
                          </a:lnTo>
                          <a:lnTo>
                            <a:pt x="140" y="282"/>
                          </a:lnTo>
                          <a:lnTo>
                            <a:pt x="135" y="302"/>
                          </a:lnTo>
                          <a:lnTo>
                            <a:pt x="138" y="326"/>
                          </a:lnTo>
                          <a:lnTo>
                            <a:pt x="147" y="346"/>
                          </a:lnTo>
                          <a:lnTo>
                            <a:pt x="104" y="360"/>
                          </a:lnTo>
                          <a:lnTo>
                            <a:pt x="89" y="375"/>
                          </a:lnTo>
                          <a:lnTo>
                            <a:pt x="77" y="389"/>
                          </a:lnTo>
                          <a:lnTo>
                            <a:pt x="71" y="402"/>
                          </a:lnTo>
                          <a:lnTo>
                            <a:pt x="70" y="414"/>
                          </a:lnTo>
                          <a:lnTo>
                            <a:pt x="74" y="426"/>
                          </a:lnTo>
                          <a:lnTo>
                            <a:pt x="82" y="437"/>
                          </a:lnTo>
                          <a:lnTo>
                            <a:pt x="94" y="449"/>
                          </a:lnTo>
                          <a:lnTo>
                            <a:pt x="113" y="459"/>
                          </a:lnTo>
                          <a:lnTo>
                            <a:pt x="173" y="480"/>
                          </a:lnTo>
                          <a:lnTo>
                            <a:pt x="168" y="522"/>
                          </a:lnTo>
                          <a:lnTo>
                            <a:pt x="162" y="562"/>
                          </a:lnTo>
                          <a:lnTo>
                            <a:pt x="156" y="601"/>
                          </a:lnTo>
                          <a:lnTo>
                            <a:pt x="150" y="638"/>
                          </a:lnTo>
                          <a:lnTo>
                            <a:pt x="140" y="676"/>
                          </a:lnTo>
                          <a:lnTo>
                            <a:pt x="129" y="713"/>
                          </a:lnTo>
                          <a:lnTo>
                            <a:pt x="115" y="750"/>
                          </a:lnTo>
                          <a:lnTo>
                            <a:pt x="98" y="789"/>
                          </a:lnTo>
                          <a:lnTo>
                            <a:pt x="83" y="796"/>
                          </a:lnTo>
                          <a:lnTo>
                            <a:pt x="70" y="804"/>
                          </a:lnTo>
                          <a:lnTo>
                            <a:pt x="61" y="814"/>
                          </a:lnTo>
                          <a:lnTo>
                            <a:pt x="55" y="823"/>
                          </a:lnTo>
                          <a:lnTo>
                            <a:pt x="53" y="835"/>
                          </a:lnTo>
                          <a:lnTo>
                            <a:pt x="55" y="845"/>
                          </a:lnTo>
                          <a:lnTo>
                            <a:pt x="62" y="857"/>
                          </a:lnTo>
                          <a:lnTo>
                            <a:pt x="75" y="868"/>
                          </a:lnTo>
                          <a:lnTo>
                            <a:pt x="78" y="889"/>
                          </a:lnTo>
                          <a:lnTo>
                            <a:pt x="53" y="896"/>
                          </a:lnTo>
                          <a:lnTo>
                            <a:pt x="34" y="905"/>
                          </a:lnTo>
                          <a:lnTo>
                            <a:pt x="21" y="916"/>
                          </a:lnTo>
                          <a:lnTo>
                            <a:pt x="13" y="928"/>
                          </a:lnTo>
                          <a:lnTo>
                            <a:pt x="8" y="942"/>
                          </a:lnTo>
                          <a:lnTo>
                            <a:pt x="8" y="959"/>
                          </a:lnTo>
                          <a:lnTo>
                            <a:pt x="10" y="978"/>
                          </a:lnTo>
                          <a:lnTo>
                            <a:pt x="15" y="999"/>
                          </a:lnTo>
                          <a:lnTo>
                            <a:pt x="19" y="1032"/>
                          </a:lnTo>
                          <a:lnTo>
                            <a:pt x="0" y="1057"/>
                          </a:lnTo>
                          <a:lnTo>
                            <a:pt x="0" y="1121"/>
                          </a:lnTo>
                          <a:lnTo>
                            <a:pt x="18" y="1137"/>
                          </a:lnTo>
                          <a:lnTo>
                            <a:pt x="41" y="1151"/>
                          </a:lnTo>
                          <a:lnTo>
                            <a:pt x="69" y="1163"/>
                          </a:lnTo>
                          <a:lnTo>
                            <a:pt x="101" y="1174"/>
                          </a:lnTo>
                          <a:lnTo>
                            <a:pt x="135" y="1182"/>
                          </a:lnTo>
                          <a:lnTo>
                            <a:pt x="171" y="1189"/>
                          </a:lnTo>
                          <a:lnTo>
                            <a:pt x="208" y="1192"/>
                          </a:lnTo>
                          <a:lnTo>
                            <a:pt x="246" y="1194"/>
                          </a:lnTo>
                          <a:lnTo>
                            <a:pt x="285" y="1193"/>
                          </a:lnTo>
                          <a:lnTo>
                            <a:pt x="322" y="1190"/>
                          </a:lnTo>
                          <a:lnTo>
                            <a:pt x="359" y="1184"/>
                          </a:lnTo>
                          <a:lnTo>
                            <a:pt x="393" y="1175"/>
                          </a:lnTo>
                          <a:lnTo>
                            <a:pt x="424" y="1162"/>
                          </a:lnTo>
                          <a:lnTo>
                            <a:pt x="451" y="1147"/>
                          </a:lnTo>
                          <a:lnTo>
                            <a:pt x="474" y="1129"/>
                          </a:lnTo>
                          <a:lnTo>
                            <a:pt x="493" y="1107"/>
                          </a:lnTo>
                          <a:lnTo>
                            <a:pt x="493" y="1069"/>
                          </a:lnTo>
                          <a:lnTo>
                            <a:pt x="484" y="1032"/>
                          </a:lnTo>
                          <a:lnTo>
                            <a:pt x="487" y="1005"/>
                          </a:lnTo>
                          <a:lnTo>
                            <a:pt x="489" y="984"/>
                          </a:lnTo>
                          <a:lnTo>
                            <a:pt x="489" y="965"/>
                          </a:lnTo>
                          <a:lnTo>
                            <a:pt x="486" y="950"/>
                          </a:lnTo>
                          <a:lnTo>
                            <a:pt x="480" y="936"/>
                          </a:lnTo>
                          <a:lnTo>
                            <a:pt x="470" y="921"/>
                          </a:lnTo>
                          <a:lnTo>
                            <a:pt x="454" y="906"/>
                          </a:lnTo>
                          <a:lnTo>
                            <a:pt x="433" y="888"/>
                          </a:lnTo>
                          <a:lnTo>
                            <a:pt x="441" y="870"/>
                          </a:lnTo>
                          <a:lnTo>
                            <a:pt x="446" y="855"/>
                          </a:lnTo>
                          <a:lnTo>
                            <a:pt x="449" y="842"/>
                          </a:lnTo>
                          <a:lnTo>
                            <a:pt x="449" y="832"/>
                          </a:lnTo>
                          <a:lnTo>
                            <a:pt x="444" y="823"/>
                          </a:lnTo>
                          <a:lnTo>
                            <a:pt x="438" y="814"/>
                          </a:lnTo>
                          <a:lnTo>
                            <a:pt x="425" y="805"/>
                          </a:lnTo>
                          <a:lnTo>
                            <a:pt x="409" y="793"/>
                          </a:lnTo>
                          <a:lnTo>
                            <a:pt x="389" y="751"/>
                          </a:lnTo>
                          <a:lnTo>
                            <a:pt x="373" y="713"/>
                          </a:lnTo>
                          <a:lnTo>
                            <a:pt x="362" y="677"/>
                          </a:lnTo>
                          <a:lnTo>
                            <a:pt x="355" y="644"/>
                          </a:lnTo>
                          <a:lnTo>
                            <a:pt x="349" y="609"/>
                          </a:lnTo>
                          <a:lnTo>
                            <a:pt x="345" y="572"/>
                          </a:lnTo>
                          <a:lnTo>
                            <a:pt x="344" y="531"/>
                          </a:lnTo>
                          <a:lnTo>
                            <a:pt x="344" y="485"/>
                          </a:lnTo>
                          <a:lnTo>
                            <a:pt x="379" y="471"/>
                          </a:lnTo>
                          <a:lnTo>
                            <a:pt x="404" y="455"/>
                          </a:lnTo>
                          <a:lnTo>
                            <a:pt x="417" y="446"/>
                          </a:lnTo>
                          <a:lnTo>
                            <a:pt x="426" y="435"/>
                          </a:lnTo>
                          <a:lnTo>
                            <a:pt x="433" y="423"/>
                          </a:lnTo>
                          <a:lnTo>
                            <a:pt x="436" y="411"/>
                          </a:lnTo>
                          <a:lnTo>
                            <a:pt x="434" y="398"/>
                          </a:lnTo>
                          <a:lnTo>
                            <a:pt x="427" y="386"/>
                          </a:lnTo>
                          <a:lnTo>
                            <a:pt x="414" y="374"/>
                          </a:lnTo>
                          <a:lnTo>
                            <a:pt x="394" y="364"/>
                          </a:lnTo>
                          <a:lnTo>
                            <a:pt x="368" y="356"/>
                          </a:lnTo>
                          <a:lnTo>
                            <a:pt x="379" y="343"/>
                          </a:lnTo>
                          <a:lnTo>
                            <a:pt x="386" y="330"/>
                          </a:lnTo>
                          <a:lnTo>
                            <a:pt x="390" y="318"/>
                          </a:lnTo>
                          <a:lnTo>
                            <a:pt x="393" y="306"/>
                          </a:lnTo>
                          <a:lnTo>
                            <a:pt x="390" y="295"/>
                          </a:lnTo>
                          <a:lnTo>
                            <a:pt x="386" y="283"/>
                          </a:lnTo>
                          <a:lnTo>
                            <a:pt x="376" y="273"/>
                          </a:lnTo>
                          <a:lnTo>
                            <a:pt x="364" y="261"/>
                          </a:lnTo>
                          <a:lnTo>
                            <a:pt x="389" y="227"/>
                          </a:lnTo>
                          <a:lnTo>
                            <a:pt x="409" y="192"/>
                          </a:lnTo>
                          <a:lnTo>
                            <a:pt x="420" y="170"/>
                          </a:lnTo>
                          <a:lnTo>
                            <a:pt x="428" y="153"/>
                          </a:lnTo>
                          <a:lnTo>
                            <a:pt x="432" y="139"/>
                          </a:lnTo>
                          <a:lnTo>
                            <a:pt x="432" y="128"/>
                          </a:lnTo>
                          <a:lnTo>
                            <a:pt x="426" y="118"/>
                          </a:lnTo>
                          <a:lnTo>
                            <a:pt x="416" y="110"/>
                          </a:lnTo>
                          <a:lnTo>
                            <a:pt x="400" y="102"/>
                          </a:lnTo>
                          <a:lnTo>
                            <a:pt x="378" y="92"/>
                          </a:lnTo>
                          <a:lnTo>
                            <a:pt x="349" y="77"/>
                          </a:lnTo>
                          <a:lnTo>
                            <a:pt x="320" y="68"/>
                          </a:lnTo>
                          <a:lnTo>
                            <a:pt x="322" y="54"/>
                          </a:lnTo>
                          <a:lnTo>
                            <a:pt x="322" y="42"/>
                          </a:lnTo>
                          <a:lnTo>
                            <a:pt x="320" y="32"/>
                          </a:lnTo>
                          <a:lnTo>
                            <a:pt x="315" y="23"/>
                          </a:lnTo>
                          <a:lnTo>
                            <a:pt x="309" y="16"/>
                          </a:lnTo>
                          <a:lnTo>
                            <a:pt x="300" y="10"/>
                          </a:lnTo>
                          <a:lnTo>
                            <a:pt x="291" y="5"/>
                          </a:lnTo>
                          <a:lnTo>
                            <a:pt x="281" y="2"/>
                          </a:lnTo>
                          <a:lnTo>
                            <a:pt x="268" y="0"/>
                          </a:lnTo>
                          <a:lnTo>
                            <a:pt x="256" y="1"/>
                          </a:lnTo>
                          <a:lnTo>
                            <a:pt x="243" y="3"/>
                          </a:lnTo>
                          <a:lnTo>
                            <a:pt x="233" y="8"/>
                          </a:lnTo>
                          <a:lnTo>
                            <a:pt x="222" y="16"/>
                          </a:lnTo>
                          <a:lnTo>
                            <a:pt x="215" y="27"/>
                          </a:lnTo>
                          <a:lnTo>
                            <a:pt x="211" y="42"/>
                          </a:lnTo>
                          <a:lnTo>
                            <a:pt x="208" y="62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acacac"/>
                        </a:gs>
                        <a:gs pos="100000">
                          <a:srgbClr val="e6e6e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Freeform 131"/>
                    <p:cNvSpPr/>
                    <p:nvPr/>
                  </p:nvSpPr>
                  <p:spPr>
                    <a:xfrm flipH="1">
                      <a:off x="2863080" y="3034800"/>
                      <a:ext cx="26640" cy="6120"/>
                    </a:xfrm>
                    <a:custGeom>
                      <a:avLst/>
                      <a:gdLst>
                        <a:gd name="textAreaLeft" fmla="*/ 360 w 26640"/>
                        <a:gd name="textAreaRight" fmla="*/ 27360 w 2664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185" h="58">
                          <a:moveTo>
                            <a:pt x="13" y="8"/>
                          </a:moveTo>
                          <a:lnTo>
                            <a:pt x="0" y="22"/>
                          </a:lnTo>
                          <a:lnTo>
                            <a:pt x="8" y="43"/>
                          </a:lnTo>
                          <a:lnTo>
                            <a:pt x="28" y="49"/>
                          </a:lnTo>
                          <a:lnTo>
                            <a:pt x="53" y="54"/>
                          </a:lnTo>
                          <a:lnTo>
                            <a:pt x="81" y="58"/>
                          </a:lnTo>
                          <a:lnTo>
                            <a:pt x="108" y="56"/>
                          </a:lnTo>
                          <a:lnTo>
                            <a:pt x="135" y="53"/>
                          </a:lnTo>
                          <a:lnTo>
                            <a:pt x="159" y="46"/>
                          </a:lnTo>
                          <a:lnTo>
                            <a:pt x="176" y="33"/>
                          </a:lnTo>
                          <a:lnTo>
                            <a:pt x="185" y="16"/>
                          </a:lnTo>
                          <a:lnTo>
                            <a:pt x="160" y="6"/>
                          </a:lnTo>
                          <a:lnTo>
                            <a:pt x="144" y="0"/>
                          </a:lnTo>
                          <a:lnTo>
                            <a:pt x="139" y="15"/>
                          </a:lnTo>
                          <a:lnTo>
                            <a:pt x="127" y="24"/>
                          </a:lnTo>
                          <a:lnTo>
                            <a:pt x="109" y="29"/>
                          </a:lnTo>
                          <a:lnTo>
                            <a:pt x="89" y="29"/>
                          </a:lnTo>
                          <a:lnTo>
                            <a:pt x="68" y="25"/>
                          </a:lnTo>
                          <a:lnTo>
                            <a:pt x="51" y="20"/>
                          </a:lnTo>
                          <a:lnTo>
                            <a:pt x="38" y="11"/>
                          </a:lnTo>
                          <a:lnTo>
                            <a:pt x="33" y="1"/>
                          </a:lnTo>
                          <a:lnTo>
                            <a:pt x="13" y="8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Freeform 132"/>
                    <p:cNvSpPr/>
                    <p:nvPr/>
                  </p:nvSpPr>
                  <p:spPr>
                    <a:xfrm flipH="1">
                      <a:off x="2854440" y="3038040"/>
                      <a:ext cx="45360" cy="1116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329" h="102">
                          <a:moveTo>
                            <a:pt x="32" y="10"/>
                          </a:moveTo>
                          <a:lnTo>
                            <a:pt x="1" y="26"/>
                          </a:lnTo>
                          <a:lnTo>
                            <a:pt x="0" y="43"/>
                          </a:lnTo>
                          <a:lnTo>
                            <a:pt x="3" y="60"/>
                          </a:lnTo>
                          <a:lnTo>
                            <a:pt x="14" y="71"/>
                          </a:lnTo>
                          <a:lnTo>
                            <a:pt x="27" y="81"/>
                          </a:lnTo>
                          <a:lnTo>
                            <a:pt x="46" y="90"/>
                          </a:lnTo>
                          <a:lnTo>
                            <a:pt x="67" y="95"/>
                          </a:lnTo>
                          <a:lnTo>
                            <a:pt x="91" y="100"/>
                          </a:lnTo>
                          <a:lnTo>
                            <a:pt x="117" y="102"/>
                          </a:lnTo>
                          <a:lnTo>
                            <a:pt x="144" y="102"/>
                          </a:lnTo>
                          <a:lnTo>
                            <a:pt x="171" y="102"/>
                          </a:lnTo>
                          <a:lnTo>
                            <a:pt x="199" y="100"/>
                          </a:lnTo>
                          <a:lnTo>
                            <a:pt x="225" y="98"/>
                          </a:lnTo>
                          <a:lnTo>
                            <a:pt x="251" y="94"/>
                          </a:lnTo>
                          <a:lnTo>
                            <a:pt x="273" y="90"/>
                          </a:lnTo>
                          <a:lnTo>
                            <a:pt x="292" y="85"/>
                          </a:lnTo>
                          <a:lnTo>
                            <a:pt x="308" y="79"/>
                          </a:lnTo>
                          <a:lnTo>
                            <a:pt x="319" y="71"/>
                          </a:lnTo>
                          <a:lnTo>
                            <a:pt x="326" y="61"/>
                          </a:lnTo>
                          <a:lnTo>
                            <a:pt x="329" y="50"/>
                          </a:lnTo>
                          <a:lnTo>
                            <a:pt x="329" y="39"/>
                          </a:lnTo>
                          <a:lnTo>
                            <a:pt x="325" y="28"/>
                          </a:lnTo>
                          <a:lnTo>
                            <a:pt x="316" y="18"/>
                          </a:lnTo>
                          <a:lnTo>
                            <a:pt x="303" y="8"/>
                          </a:lnTo>
                          <a:lnTo>
                            <a:pt x="285" y="0"/>
                          </a:lnTo>
                          <a:lnTo>
                            <a:pt x="269" y="18"/>
                          </a:lnTo>
                          <a:lnTo>
                            <a:pt x="252" y="31"/>
                          </a:lnTo>
                          <a:lnTo>
                            <a:pt x="234" y="39"/>
                          </a:lnTo>
                          <a:lnTo>
                            <a:pt x="215" y="43"/>
                          </a:lnTo>
                          <a:lnTo>
                            <a:pt x="194" y="45"/>
                          </a:lnTo>
                          <a:lnTo>
                            <a:pt x="173" y="43"/>
                          </a:lnTo>
                          <a:lnTo>
                            <a:pt x="148" y="41"/>
                          </a:lnTo>
                          <a:lnTo>
                            <a:pt x="122" y="40"/>
                          </a:lnTo>
                          <a:lnTo>
                            <a:pt x="67" y="30"/>
                          </a:lnTo>
                          <a:lnTo>
                            <a:pt x="49" y="3"/>
                          </a:lnTo>
                          <a:lnTo>
                            <a:pt x="32" y="10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Freeform 133"/>
                    <p:cNvSpPr/>
                    <p:nvPr/>
                  </p:nvSpPr>
                  <p:spPr>
                    <a:xfrm flipH="1">
                      <a:off x="2862720" y="3063600"/>
                      <a:ext cx="28440" cy="2880"/>
                    </a:xfrm>
                    <a:custGeom>
                      <a:avLst/>
                      <a:gdLst>
                        <a:gd name="textAreaLeft" fmla="*/ -360 w 28440"/>
                        <a:gd name="textAreaRight" fmla="*/ 28440 w 28440"/>
                        <a:gd name="textAreaTop" fmla="*/ 0 h 2880"/>
                        <a:gd name="textAreaBottom" fmla="*/ 3240 h 2880"/>
                      </a:gdLst>
                      <a:ahLst/>
                      <a:rect l="textAreaLeft" t="textAreaTop" r="textAreaRight" b="textAreaBottom"/>
                      <a:pathLst>
                        <a:path w="204" h="37">
                          <a:moveTo>
                            <a:pt x="12" y="0"/>
                          </a:moveTo>
                          <a:lnTo>
                            <a:pt x="24" y="6"/>
                          </a:lnTo>
                          <a:lnTo>
                            <a:pt x="35" y="12"/>
                          </a:lnTo>
                          <a:lnTo>
                            <a:pt x="47" y="15"/>
                          </a:lnTo>
                          <a:lnTo>
                            <a:pt x="58" y="17"/>
                          </a:lnTo>
                          <a:lnTo>
                            <a:pt x="70" y="20"/>
                          </a:lnTo>
                          <a:lnTo>
                            <a:pt x="82" y="21"/>
                          </a:lnTo>
                          <a:lnTo>
                            <a:pt x="94" y="22"/>
                          </a:lnTo>
                          <a:lnTo>
                            <a:pt x="106" y="21"/>
                          </a:lnTo>
                          <a:lnTo>
                            <a:pt x="119" y="20"/>
                          </a:lnTo>
                          <a:lnTo>
                            <a:pt x="131" y="19"/>
                          </a:lnTo>
                          <a:lnTo>
                            <a:pt x="143" y="16"/>
                          </a:lnTo>
                          <a:lnTo>
                            <a:pt x="156" y="14"/>
                          </a:lnTo>
                          <a:lnTo>
                            <a:pt x="167" y="12"/>
                          </a:lnTo>
                          <a:lnTo>
                            <a:pt x="180" y="8"/>
                          </a:lnTo>
                          <a:lnTo>
                            <a:pt x="192" y="6"/>
                          </a:lnTo>
                          <a:lnTo>
                            <a:pt x="204" y="2"/>
                          </a:lnTo>
                          <a:lnTo>
                            <a:pt x="204" y="14"/>
                          </a:lnTo>
                          <a:lnTo>
                            <a:pt x="196" y="17"/>
                          </a:lnTo>
                          <a:lnTo>
                            <a:pt x="188" y="21"/>
                          </a:lnTo>
                          <a:lnTo>
                            <a:pt x="178" y="24"/>
                          </a:lnTo>
                          <a:lnTo>
                            <a:pt x="167" y="27"/>
                          </a:lnTo>
                          <a:lnTo>
                            <a:pt x="155" y="30"/>
                          </a:lnTo>
                          <a:lnTo>
                            <a:pt x="143" y="32"/>
                          </a:lnTo>
                          <a:lnTo>
                            <a:pt x="129" y="35"/>
                          </a:lnTo>
                          <a:lnTo>
                            <a:pt x="117" y="37"/>
                          </a:lnTo>
                          <a:lnTo>
                            <a:pt x="102" y="37"/>
                          </a:lnTo>
                          <a:lnTo>
                            <a:pt x="88" y="37"/>
                          </a:lnTo>
                          <a:lnTo>
                            <a:pt x="73" y="36"/>
                          </a:lnTo>
                          <a:lnTo>
                            <a:pt x="58" y="34"/>
                          </a:lnTo>
                          <a:lnTo>
                            <a:pt x="44" y="29"/>
                          </a:lnTo>
                          <a:lnTo>
                            <a:pt x="29" y="24"/>
                          </a:lnTo>
                          <a:lnTo>
                            <a:pt x="14" y="17"/>
                          </a:lnTo>
                          <a:lnTo>
                            <a:pt x="0" y="8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cfcfc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Freeform 135"/>
                    <p:cNvSpPr/>
                    <p:nvPr/>
                  </p:nvSpPr>
                  <p:spPr>
                    <a:xfrm flipH="1">
                      <a:off x="2851560" y="3066840"/>
                      <a:ext cx="51840" cy="11160"/>
                    </a:xfrm>
                    <a:custGeom>
                      <a:avLst/>
                      <a:gdLst>
                        <a:gd name="textAreaLeft" fmla="*/ 360 w 51840"/>
                        <a:gd name="textAreaRight" fmla="*/ 52560 w 5184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351" h="100">
                          <a:moveTo>
                            <a:pt x="40" y="0"/>
                          </a:moveTo>
                          <a:lnTo>
                            <a:pt x="19" y="9"/>
                          </a:lnTo>
                          <a:lnTo>
                            <a:pt x="6" y="20"/>
                          </a:lnTo>
                          <a:lnTo>
                            <a:pt x="0" y="30"/>
                          </a:lnTo>
                          <a:lnTo>
                            <a:pt x="0" y="42"/>
                          </a:lnTo>
                          <a:lnTo>
                            <a:pt x="7" y="53"/>
                          </a:lnTo>
                          <a:lnTo>
                            <a:pt x="17" y="65"/>
                          </a:lnTo>
                          <a:lnTo>
                            <a:pt x="32" y="75"/>
                          </a:lnTo>
                          <a:lnTo>
                            <a:pt x="50" y="85"/>
                          </a:lnTo>
                          <a:lnTo>
                            <a:pt x="66" y="89"/>
                          </a:lnTo>
                          <a:lnTo>
                            <a:pt x="82" y="92"/>
                          </a:lnTo>
                          <a:lnTo>
                            <a:pt x="97" y="95"/>
                          </a:lnTo>
                          <a:lnTo>
                            <a:pt x="113" y="96"/>
                          </a:lnTo>
                          <a:lnTo>
                            <a:pt x="128" y="98"/>
                          </a:lnTo>
                          <a:lnTo>
                            <a:pt x="144" y="99"/>
                          </a:lnTo>
                          <a:lnTo>
                            <a:pt x="159" y="99"/>
                          </a:lnTo>
                          <a:lnTo>
                            <a:pt x="174" y="100"/>
                          </a:lnTo>
                          <a:lnTo>
                            <a:pt x="189" y="100"/>
                          </a:lnTo>
                          <a:lnTo>
                            <a:pt x="205" y="100"/>
                          </a:lnTo>
                          <a:lnTo>
                            <a:pt x="220" y="99"/>
                          </a:lnTo>
                          <a:lnTo>
                            <a:pt x="236" y="99"/>
                          </a:lnTo>
                          <a:lnTo>
                            <a:pt x="251" y="98"/>
                          </a:lnTo>
                          <a:lnTo>
                            <a:pt x="267" y="97"/>
                          </a:lnTo>
                          <a:lnTo>
                            <a:pt x="284" y="95"/>
                          </a:lnTo>
                          <a:lnTo>
                            <a:pt x="300" y="94"/>
                          </a:lnTo>
                          <a:lnTo>
                            <a:pt x="323" y="81"/>
                          </a:lnTo>
                          <a:lnTo>
                            <a:pt x="339" y="68"/>
                          </a:lnTo>
                          <a:lnTo>
                            <a:pt x="349" y="56"/>
                          </a:lnTo>
                          <a:lnTo>
                            <a:pt x="351" y="43"/>
                          </a:lnTo>
                          <a:lnTo>
                            <a:pt x="348" y="31"/>
                          </a:lnTo>
                          <a:lnTo>
                            <a:pt x="338" y="21"/>
                          </a:lnTo>
                          <a:lnTo>
                            <a:pt x="320" y="12"/>
                          </a:lnTo>
                          <a:lnTo>
                            <a:pt x="296" y="5"/>
                          </a:lnTo>
                          <a:lnTo>
                            <a:pt x="298" y="15"/>
                          </a:lnTo>
                          <a:lnTo>
                            <a:pt x="294" y="23"/>
                          </a:lnTo>
                          <a:lnTo>
                            <a:pt x="284" y="30"/>
                          </a:lnTo>
                          <a:lnTo>
                            <a:pt x="272" y="37"/>
                          </a:lnTo>
                          <a:lnTo>
                            <a:pt x="258" y="38"/>
                          </a:lnTo>
                          <a:lnTo>
                            <a:pt x="245" y="39"/>
                          </a:lnTo>
                          <a:lnTo>
                            <a:pt x="234" y="41"/>
                          </a:lnTo>
                          <a:lnTo>
                            <a:pt x="222" y="42"/>
                          </a:lnTo>
                          <a:lnTo>
                            <a:pt x="211" y="43"/>
                          </a:lnTo>
                          <a:lnTo>
                            <a:pt x="199" y="43"/>
                          </a:lnTo>
                          <a:lnTo>
                            <a:pt x="188" y="44"/>
                          </a:lnTo>
                          <a:lnTo>
                            <a:pt x="178" y="44"/>
                          </a:lnTo>
                          <a:lnTo>
                            <a:pt x="166" y="44"/>
                          </a:lnTo>
                          <a:lnTo>
                            <a:pt x="155" y="44"/>
                          </a:lnTo>
                          <a:lnTo>
                            <a:pt x="143" y="44"/>
                          </a:lnTo>
                          <a:lnTo>
                            <a:pt x="133" y="43"/>
                          </a:lnTo>
                          <a:lnTo>
                            <a:pt x="120" y="42"/>
                          </a:lnTo>
                          <a:lnTo>
                            <a:pt x="108" y="41"/>
                          </a:lnTo>
                          <a:lnTo>
                            <a:pt x="96" y="39"/>
                          </a:lnTo>
                          <a:lnTo>
                            <a:pt x="82" y="37"/>
                          </a:lnTo>
                          <a:lnTo>
                            <a:pt x="73" y="32"/>
                          </a:lnTo>
                          <a:lnTo>
                            <a:pt x="65" y="28"/>
                          </a:lnTo>
                          <a:lnTo>
                            <a:pt x="58" y="23"/>
                          </a:lnTo>
                          <a:lnTo>
                            <a:pt x="52" y="19"/>
                          </a:lnTo>
                          <a:lnTo>
                            <a:pt x="47" y="14"/>
                          </a:lnTo>
                          <a:lnTo>
                            <a:pt x="44" y="11"/>
                          </a:lnTo>
                          <a:lnTo>
                            <a:pt x="42" y="5"/>
                          </a:lnTo>
                          <a:lnTo>
                            <a:pt x="40" y="0"/>
                          </a:lnTo>
                          <a:close/>
                        </a:path>
                      </a:pathLst>
                    </a:custGeom>
                    <a:solidFill>
                      <a:srgbClr val="cfcfc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Freeform 147"/>
                    <p:cNvSpPr/>
                    <p:nvPr/>
                  </p:nvSpPr>
                  <p:spPr>
                    <a:xfrm flipH="1">
                      <a:off x="2851200" y="3117960"/>
                      <a:ext cx="55440" cy="11160"/>
                    </a:xfrm>
                    <a:custGeom>
                      <a:avLst/>
                      <a:gdLst>
                        <a:gd name="textAreaLeft" fmla="*/ 360 w 55440"/>
                        <a:gd name="textAreaRight" fmla="*/ 56160 w 5544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382" h="96">
                          <a:moveTo>
                            <a:pt x="24" y="4"/>
                          </a:moveTo>
                          <a:lnTo>
                            <a:pt x="68" y="40"/>
                          </a:lnTo>
                          <a:lnTo>
                            <a:pt x="89" y="44"/>
                          </a:lnTo>
                          <a:lnTo>
                            <a:pt x="108" y="48"/>
                          </a:lnTo>
                          <a:lnTo>
                            <a:pt x="127" y="53"/>
                          </a:lnTo>
                          <a:lnTo>
                            <a:pt x="144" y="55"/>
                          </a:lnTo>
                          <a:lnTo>
                            <a:pt x="160" y="57"/>
                          </a:lnTo>
                          <a:lnTo>
                            <a:pt x="176" y="59"/>
                          </a:lnTo>
                          <a:lnTo>
                            <a:pt x="192" y="59"/>
                          </a:lnTo>
                          <a:lnTo>
                            <a:pt x="207" y="59"/>
                          </a:lnTo>
                          <a:lnTo>
                            <a:pt x="222" y="58"/>
                          </a:lnTo>
                          <a:lnTo>
                            <a:pt x="237" y="57"/>
                          </a:lnTo>
                          <a:lnTo>
                            <a:pt x="253" y="54"/>
                          </a:lnTo>
                          <a:lnTo>
                            <a:pt x="270" y="50"/>
                          </a:lnTo>
                          <a:lnTo>
                            <a:pt x="286" y="46"/>
                          </a:lnTo>
                          <a:lnTo>
                            <a:pt x="304" y="39"/>
                          </a:lnTo>
                          <a:lnTo>
                            <a:pt x="323" y="32"/>
                          </a:lnTo>
                          <a:lnTo>
                            <a:pt x="342" y="23"/>
                          </a:lnTo>
                          <a:lnTo>
                            <a:pt x="348" y="10"/>
                          </a:lnTo>
                          <a:lnTo>
                            <a:pt x="352" y="3"/>
                          </a:lnTo>
                          <a:lnTo>
                            <a:pt x="356" y="0"/>
                          </a:lnTo>
                          <a:lnTo>
                            <a:pt x="359" y="1"/>
                          </a:lnTo>
                          <a:lnTo>
                            <a:pt x="363" y="4"/>
                          </a:lnTo>
                          <a:lnTo>
                            <a:pt x="367" y="11"/>
                          </a:lnTo>
                          <a:lnTo>
                            <a:pt x="374" y="20"/>
                          </a:lnTo>
                          <a:lnTo>
                            <a:pt x="382" y="32"/>
                          </a:lnTo>
                          <a:lnTo>
                            <a:pt x="366" y="55"/>
                          </a:lnTo>
                          <a:lnTo>
                            <a:pt x="349" y="65"/>
                          </a:lnTo>
                          <a:lnTo>
                            <a:pt x="329" y="73"/>
                          </a:lnTo>
                          <a:lnTo>
                            <a:pt x="310" y="80"/>
                          </a:lnTo>
                          <a:lnTo>
                            <a:pt x="288" y="86"/>
                          </a:lnTo>
                          <a:lnTo>
                            <a:pt x="266" y="91"/>
                          </a:lnTo>
                          <a:lnTo>
                            <a:pt x="243" y="94"/>
                          </a:lnTo>
                          <a:lnTo>
                            <a:pt x="219" y="96"/>
                          </a:lnTo>
                          <a:lnTo>
                            <a:pt x="196" y="96"/>
                          </a:lnTo>
                          <a:lnTo>
                            <a:pt x="172" y="96"/>
                          </a:lnTo>
                          <a:lnTo>
                            <a:pt x="147" y="95"/>
                          </a:lnTo>
                          <a:lnTo>
                            <a:pt x="124" y="92"/>
                          </a:lnTo>
                          <a:lnTo>
                            <a:pt x="101" y="88"/>
                          </a:lnTo>
                          <a:lnTo>
                            <a:pt x="78" y="84"/>
                          </a:lnTo>
                          <a:lnTo>
                            <a:pt x="58" y="79"/>
                          </a:lnTo>
                          <a:lnTo>
                            <a:pt x="37" y="72"/>
                          </a:lnTo>
                          <a:lnTo>
                            <a:pt x="18" y="65"/>
                          </a:lnTo>
                          <a:lnTo>
                            <a:pt x="12" y="56"/>
                          </a:lnTo>
                          <a:lnTo>
                            <a:pt x="6" y="47"/>
                          </a:lnTo>
                          <a:lnTo>
                            <a:pt x="2" y="38"/>
                          </a:lnTo>
                          <a:lnTo>
                            <a:pt x="0" y="28"/>
                          </a:lnTo>
                          <a:lnTo>
                            <a:pt x="0" y="20"/>
                          </a:lnTo>
                          <a:lnTo>
                            <a:pt x="5" y="13"/>
                          </a:lnTo>
                          <a:lnTo>
                            <a:pt x="12" y="8"/>
                          </a:lnTo>
                          <a:lnTo>
                            <a:pt x="24" y="4"/>
                          </a:lnTo>
                          <a:close/>
                        </a:path>
                      </a:pathLst>
                    </a:custGeom>
                    <a:solidFill>
                      <a:srgbClr val="cfcfc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Freeform 148"/>
                    <p:cNvSpPr/>
                    <p:nvPr/>
                  </p:nvSpPr>
                  <p:spPr>
                    <a:xfrm flipH="1">
                      <a:off x="2842920" y="3124080"/>
                      <a:ext cx="72000" cy="22320"/>
                    </a:xfrm>
                    <a:custGeom>
                      <a:avLst/>
                      <a:gdLst>
                        <a:gd name="textAreaLeft" fmla="*/ 360 w 72000"/>
                        <a:gd name="textAreaRight" fmla="*/ 72720 w 72000"/>
                        <a:gd name="textAreaTop" fmla="*/ 0 h 22320"/>
                        <a:gd name="textAreaBottom" fmla="*/ 22680 h 22320"/>
                      </a:gdLst>
                      <a:ahLst/>
                      <a:rect l="textAreaLeft" t="textAreaTop" r="textAreaRight" b="textAreaBottom"/>
                      <a:pathLst>
                        <a:path w="483" h="184">
                          <a:moveTo>
                            <a:pt x="7" y="102"/>
                          </a:moveTo>
                          <a:lnTo>
                            <a:pt x="18" y="116"/>
                          </a:lnTo>
                          <a:lnTo>
                            <a:pt x="34" y="130"/>
                          </a:lnTo>
                          <a:lnTo>
                            <a:pt x="55" y="143"/>
                          </a:lnTo>
                          <a:lnTo>
                            <a:pt x="80" y="155"/>
                          </a:lnTo>
                          <a:lnTo>
                            <a:pt x="109" y="165"/>
                          </a:lnTo>
                          <a:lnTo>
                            <a:pt x="141" y="173"/>
                          </a:lnTo>
                          <a:lnTo>
                            <a:pt x="176" y="179"/>
                          </a:lnTo>
                          <a:lnTo>
                            <a:pt x="211" y="182"/>
                          </a:lnTo>
                          <a:lnTo>
                            <a:pt x="248" y="184"/>
                          </a:lnTo>
                          <a:lnTo>
                            <a:pt x="285" y="183"/>
                          </a:lnTo>
                          <a:lnTo>
                            <a:pt x="323" y="180"/>
                          </a:lnTo>
                          <a:lnTo>
                            <a:pt x="359" y="173"/>
                          </a:lnTo>
                          <a:lnTo>
                            <a:pt x="393" y="164"/>
                          </a:lnTo>
                          <a:lnTo>
                            <a:pt x="427" y="151"/>
                          </a:lnTo>
                          <a:lnTo>
                            <a:pt x="455" y="135"/>
                          </a:lnTo>
                          <a:lnTo>
                            <a:pt x="482" y="115"/>
                          </a:lnTo>
                          <a:lnTo>
                            <a:pt x="483" y="93"/>
                          </a:lnTo>
                          <a:lnTo>
                            <a:pt x="483" y="77"/>
                          </a:lnTo>
                          <a:lnTo>
                            <a:pt x="482" y="65"/>
                          </a:lnTo>
                          <a:lnTo>
                            <a:pt x="478" y="54"/>
                          </a:lnTo>
                          <a:lnTo>
                            <a:pt x="473" y="44"/>
                          </a:lnTo>
                          <a:lnTo>
                            <a:pt x="463" y="34"/>
                          </a:lnTo>
                          <a:lnTo>
                            <a:pt x="451" y="22"/>
                          </a:lnTo>
                          <a:lnTo>
                            <a:pt x="435" y="7"/>
                          </a:lnTo>
                          <a:lnTo>
                            <a:pt x="416" y="23"/>
                          </a:lnTo>
                          <a:lnTo>
                            <a:pt x="396" y="37"/>
                          </a:lnTo>
                          <a:lnTo>
                            <a:pt x="375" y="50"/>
                          </a:lnTo>
                          <a:lnTo>
                            <a:pt x="353" y="59"/>
                          </a:lnTo>
                          <a:lnTo>
                            <a:pt x="330" y="67"/>
                          </a:lnTo>
                          <a:lnTo>
                            <a:pt x="307" y="73"/>
                          </a:lnTo>
                          <a:lnTo>
                            <a:pt x="284" y="76"/>
                          </a:lnTo>
                          <a:lnTo>
                            <a:pt x="260" y="78"/>
                          </a:lnTo>
                          <a:lnTo>
                            <a:pt x="235" y="78"/>
                          </a:lnTo>
                          <a:lnTo>
                            <a:pt x="211" y="76"/>
                          </a:lnTo>
                          <a:lnTo>
                            <a:pt x="187" y="73"/>
                          </a:lnTo>
                          <a:lnTo>
                            <a:pt x="163" y="68"/>
                          </a:lnTo>
                          <a:lnTo>
                            <a:pt x="140" y="61"/>
                          </a:lnTo>
                          <a:lnTo>
                            <a:pt x="116" y="53"/>
                          </a:lnTo>
                          <a:lnTo>
                            <a:pt x="94" y="44"/>
                          </a:lnTo>
                          <a:lnTo>
                            <a:pt x="72" y="32"/>
                          </a:lnTo>
                          <a:lnTo>
                            <a:pt x="66" y="0"/>
                          </a:lnTo>
                          <a:lnTo>
                            <a:pt x="56" y="5"/>
                          </a:lnTo>
                          <a:lnTo>
                            <a:pt x="42" y="12"/>
                          </a:lnTo>
                          <a:lnTo>
                            <a:pt x="29" y="20"/>
                          </a:lnTo>
                          <a:lnTo>
                            <a:pt x="17" y="30"/>
                          </a:lnTo>
                          <a:lnTo>
                            <a:pt x="7" y="43"/>
                          </a:lnTo>
                          <a:lnTo>
                            <a:pt x="2" y="59"/>
                          </a:lnTo>
                          <a:lnTo>
                            <a:pt x="0" y="78"/>
                          </a:lnTo>
                          <a:lnTo>
                            <a:pt x="7" y="102"/>
                          </a:lnTo>
                          <a:close/>
                        </a:path>
                      </a:pathLst>
                    </a:custGeom>
                    <a:solidFill>
                      <a:srgbClr val="cfcfc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Freeform 184"/>
                    <p:cNvSpPr/>
                    <p:nvPr/>
                  </p:nvSpPr>
                  <p:spPr>
                    <a:xfrm flipH="1">
                      <a:off x="2871360" y="3026880"/>
                      <a:ext cx="15120" cy="7920"/>
                    </a:xfrm>
                    <a:custGeom>
                      <a:avLst/>
                      <a:gdLst>
                        <a:gd name="textAreaLeft" fmla="*/ 360 w 15120"/>
                        <a:gd name="textAreaRight" fmla="*/ 15840 w 151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95" h="72">
                          <a:moveTo>
                            <a:pt x="48" y="0"/>
                          </a:moveTo>
                          <a:lnTo>
                            <a:pt x="57" y="2"/>
                          </a:lnTo>
                          <a:lnTo>
                            <a:pt x="66" y="3"/>
                          </a:lnTo>
                          <a:lnTo>
                            <a:pt x="74" y="6"/>
                          </a:lnTo>
                          <a:lnTo>
                            <a:pt x="81" y="11"/>
                          </a:lnTo>
                          <a:lnTo>
                            <a:pt x="87" y="16"/>
                          </a:lnTo>
                          <a:lnTo>
                            <a:pt x="91" y="22"/>
                          </a:lnTo>
                          <a:lnTo>
                            <a:pt x="94" y="29"/>
                          </a:lnTo>
                          <a:lnTo>
                            <a:pt x="95" y="36"/>
                          </a:lnTo>
                          <a:lnTo>
                            <a:pt x="94" y="43"/>
                          </a:lnTo>
                          <a:lnTo>
                            <a:pt x="91" y="50"/>
                          </a:lnTo>
                          <a:lnTo>
                            <a:pt x="87" y="56"/>
                          </a:lnTo>
                          <a:lnTo>
                            <a:pt x="81" y="61"/>
                          </a:lnTo>
                          <a:lnTo>
                            <a:pt x="74" y="66"/>
                          </a:lnTo>
                          <a:lnTo>
                            <a:pt x="66" y="69"/>
                          </a:lnTo>
                          <a:lnTo>
                            <a:pt x="57" y="71"/>
                          </a:lnTo>
                          <a:lnTo>
                            <a:pt x="48" y="72"/>
                          </a:lnTo>
                          <a:lnTo>
                            <a:pt x="38" y="71"/>
                          </a:lnTo>
                          <a:lnTo>
                            <a:pt x="29" y="69"/>
                          </a:lnTo>
                          <a:lnTo>
                            <a:pt x="21" y="66"/>
                          </a:lnTo>
                          <a:lnTo>
                            <a:pt x="14" y="61"/>
                          </a:lnTo>
                          <a:lnTo>
                            <a:pt x="8" y="56"/>
                          </a:lnTo>
                          <a:lnTo>
                            <a:pt x="4" y="50"/>
                          </a:lnTo>
                          <a:lnTo>
                            <a:pt x="2" y="43"/>
                          </a:lnTo>
                          <a:lnTo>
                            <a:pt x="0" y="36"/>
                          </a:lnTo>
                          <a:lnTo>
                            <a:pt x="2" y="29"/>
                          </a:lnTo>
                          <a:lnTo>
                            <a:pt x="4" y="22"/>
                          </a:lnTo>
                          <a:lnTo>
                            <a:pt x="8" y="16"/>
                          </a:lnTo>
                          <a:lnTo>
                            <a:pt x="14" y="11"/>
                          </a:lnTo>
                          <a:lnTo>
                            <a:pt x="21" y="6"/>
                          </a:lnTo>
                          <a:lnTo>
                            <a:pt x="29" y="3"/>
                          </a:lnTo>
                          <a:lnTo>
                            <a:pt x="38" y="2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uppe 813"/>
                  <p:cNvGrpSpPr/>
                  <p:nvPr/>
                </p:nvGrpSpPr>
                <p:grpSpPr>
                  <a:xfrm>
                    <a:off x="2854080" y="3022200"/>
                    <a:ext cx="42840" cy="129600"/>
                    <a:chOff x="2854080" y="3022200"/>
                    <a:chExt cx="42840" cy="129600"/>
                  </a:xfrm>
                </p:grpSpPr>
                <p:sp>
                  <p:nvSpPr>
                    <p:cNvPr id="365" name="Freeform 316"/>
                    <p:cNvSpPr/>
                    <p:nvPr/>
                  </p:nvSpPr>
                  <p:spPr>
                    <a:xfrm flipH="1">
                      <a:off x="2860920" y="3059640"/>
                      <a:ext cx="32040" cy="4320"/>
                    </a:xfrm>
                    <a:custGeom>
                      <a:avLst/>
                      <a:gdLst>
                        <a:gd name="textAreaLeft" fmla="*/ -360 w 32040"/>
                        <a:gd name="textAreaRight" fmla="*/ 32040 w 32040"/>
                        <a:gd name="textAreaTop" fmla="*/ 0 h 4320"/>
                        <a:gd name="textAreaBottom" fmla="*/ 4680 h 4320"/>
                      </a:gdLst>
                      <a:ahLst/>
                      <a:rect l="textAreaLeft" t="textAreaTop" r="textAreaRight" b="textAreaBottom"/>
                      <a:pathLst>
                        <a:path w="230" h="41">
                          <a:moveTo>
                            <a:pt x="13" y="0"/>
                          </a:moveTo>
                          <a:lnTo>
                            <a:pt x="26" y="6"/>
                          </a:lnTo>
                          <a:lnTo>
                            <a:pt x="39" y="13"/>
                          </a:lnTo>
                          <a:lnTo>
                            <a:pt x="52" y="16"/>
                          </a:lnTo>
                          <a:lnTo>
                            <a:pt x="65" y="19"/>
                          </a:lnTo>
                          <a:lnTo>
                            <a:pt x="78" y="22"/>
                          </a:lnTo>
                          <a:lnTo>
                            <a:pt x="93" y="23"/>
                          </a:lnTo>
                          <a:lnTo>
                            <a:pt x="106" y="24"/>
                          </a:lnTo>
                          <a:lnTo>
                            <a:pt x="120" y="23"/>
                          </a:lnTo>
                          <a:lnTo>
                            <a:pt x="134" y="22"/>
                          </a:lnTo>
                          <a:lnTo>
                            <a:pt x="147" y="20"/>
                          </a:lnTo>
                          <a:lnTo>
                            <a:pt x="161" y="18"/>
                          </a:lnTo>
                          <a:lnTo>
                            <a:pt x="176" y="15"/>
                          </a:lnTo>
                          <a:lnTo>
                            <a:pt x="189" y="13"/>
                          </a:lnTo>
                          <a:lnTo>
                            <a:pt x="203" y="9"/>
                          </a:lnTo>
                          <a:lnTo>
                            <a:pt x="216" y="6"/>
                          </a:lnTo>
                          <a:lnTo>
                            <a:pt x="230" y="2"/>
                          </a:lnTo>
                          <a:lnTo>
                            <a:pt x="230" y="15"/>
                          </a:lnTo>
                          <a:lnTo>
                            <a:pt x="221" y="19"/>
                          </a:lnTo>
                          <a:lnTo>
                            <a:pt x="212" y="23"/>
                          </a:lnTo>
                          <a:lnTo>
                            <a:pt x="200" y="27"/>
                          </a:lnTo>
                          <a:lnTo>
                            <a:pt x="189" y="29"/>
                          </a:lnTo>
                          <a:lnTo>
                            <a:pt x="174" y="33"/>
                          </a:lnTo>
                          <a:lnTo>
                            <a:pt x="161" y="36"/>
                          </a:lnTo>
                          <a:lnTo>
                            <a:pt x="146" y="39"/>
                          </a:lnTo>
                          <a:lnTo>
                            <a:pt x="132" y="41"/>
                          </a:lnTo>
                          <a:lnTo>
                            <a:pt x="115" y="41"/>
                          </a:lnTo>
                          <a:lnTo>
                            <a:pt x="99" y="41"/>
                          </a:lnTo>
                          <a:lnTo>
                            <a:pt x="82" y="40"/>
                          </a:lnTo>
                          <a:lnTo>
                            <a:pt x="65" y="37"/>
                          </a:lnTo>
                          <a:lnTo>
                            <a:pt x="50" y="32"/>
                          </a:lnTo>
                          <a:lnTo>
                            <a:pt x="33" y="27"/>
                          </a:lnTo>
                          <a:lnTo>
                            <a:pt x="16" y="19"/>
                          </a:lnTo>
                          <a:lnTo>
                            <a:pt x="0" y="9"/>
                          </a:lnTo>
                          <a:lnTo>
                            <a:pt x="13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Freeform 336"/>
                    <p:cNvSpPr/>
                    <p:nvPr/>
                  </p:nvSpPr>
                  <p:spPr>
                    <a:xfrm flipH="1">
                      <a:off x="2853720" y="3144240"/>
                      <a:ext cx="42840" cy="7560"/>
                    </a:xfrm>
                    <a:custGeom>
                      <a:avLst/>
                      <a:gdLst>
                        <a:gd name="textAreaLeft" fmla="*/ -360 w 42840"/>
                        <a:gd name="textAreaRight" fmla="*/ 42840 w 42840"/>
                        <a:gd name="textAreaTop" fmla="*/ 0 h 7560"/>
                        <a:gd name="textAreaBottom" fmla="*/ 7920 h 7560"/>
                      </a:gdLst>
                      <a:ahLst/>
                      <a:rect l="textAreaLeft" t="textAreaTop" r="textAreaRight" b="textAreaBottom"/>
                      <a:pathLst>
                        <a:path w="309" h="72">
                          <a:moveTo>
                            <a:pt x="0" y="29"/>
                          </a:moveTo>
                          <a:lnTo>
                            <a:pt x="3" y="37"/>
                          </a:lnTo>
                          <a:lnTo>
                            <a:pt x="7" y="45"/>
                          </a:lnTo>
                          <a:lnTo>
                            <a:pt x="11" y="53"/>
                          </a:lnTo>
                          <a:lnTo>
                            <a:pt x="15" y="61"/>
                          </a:lnTo>
                          <a:lnTo>
                            <a:pt x="22" y="62"/>
                          </a:lnTo>
                          <a:lnTo>
                            <a:pt x="29" y="63"/>
                          </a:lnTo>
                          <a:lnTo>
                            <a:pt x="37" y="65"/>
                          </a:lnTo>
                          <a:lnTo>
                            <a:pt x="44" y="66"/>
                          </a:lnTo>
                          <a:lnTo>
                            <a:pt x="51" y="67"/>
                          </a:lnTo>
                          <a:lnTo>
                            <a:pt x="59" y="68"/>
                          </a:lnTo>
                          <a:lnTo>
                            <a:pt x="65" y="71"/>
                          </a:lnTo>
                          <a:lnTo>
                            <a:pt x="73" y="72"/>
                          </a:lnTo>
                          <a:lnTo>
                            <a:pt x="91" y="72"/>
                          </a:lnTo>
                          <a:lnTo>
                            <a:pt x="109" y="71"/>
                          </a:lnTo>
                          <a:lnTo>
                            <a:pt x="127" y="71"/>
                          </a:lnTo>
                          <a:lnTo>
                            <a:pt x="146" y="70"/>
                          </a:lnTo>
                          <a:lnTo>
                            <a:pt x="164" y="70"/>
                          </a:lnTo>
                          <a:lnTo>
                            <a:pt x="183" y="68"/>
                          </a:lnTo>
                          <a:lnTo>
                            <a:pt x="201" y="68"/>
                          </a:lnTo>
                          <a:lnTo>
                            <a:pt x="220" y="67"/>
                          </a:lnTo>
                          <a:lnTo>
                            <a:pt x="231" y="65"/>
                          </a:lnTo>
                          <a:lnTo>
                            <a:pt x="242" y="61"/>
                          </a:lnTo>
                          <a:lnTo>
                            <a:pt x="253" y="58"/>
                          </a:lnTo>
                          <a:lnTo>
                            <a:pt x="265" y="54"/>
                          </a:lnTo>
                          <a:lnTo>
                            <a:pt x="275" y="52"/>
                          </a:lnTo>
                          <a:lnTo>
                            <a:pt x="287" y="48"/>
                          </a:lnTo>
                          <a:lnTo>
                            <a:pt x="297" y="45"/>
                          </a:lnTo>
                          <a:lnTo>
                            <a:pt x="309" y="41"/>
                          </a:lnTo>
                          <a:lnTo>
                            <a:pt x="309" y="26"/>
                          </a:lnTo>
                          <a:lnTo>
                            <a:pt x="307" y="13"/>
                          </a:lnTo>
                          <a:lnTo>
                            <a:pt x="303" y="5"/>
                          </a:lnTo>
                          <a:lnTo>
                            <a:pt x="297" y="1"/>
                          </a:lnTo>
                          <a:lnTo>
                            <a:pt x="290" y="0"/>
                          </a:lnTo>
                          <a:lnTo>
                            <a:pt x="279" y="0"/>
                          </a:lnTo>
                          <a:lnTo>
                            <a:pt x="268" y="4"/>
                          </a:lnTo>
                          <a:lnTo>
                            <a:pt x="252" y="9"/>
                          </a:lnTo>
                          <a:lnTo>
                            <a:pt x="242" y="9"/>
                          </a:lnTo>
                          <a:lnTo>
                            <a:pt x="231" y="10"/>
                          </a:lnTo>
                          <a:lnTo>
                            <a:pt x="221" y="10"/>
                          </a:lnTo>
                          <a:lnTo>
                            <a:pt x="211" y="10"/>
                          </a:lnTo>
                          <a:lnTo>
                            <a:pt x="200" y="10"/>
                          </a:lnTo>
                          <a:lnTo>
                            <a:pt x="188" y="10"/>
                          </a:lnTo>
                          <a:lnTo>
                            <a:pt x="178" y="11"/>
                          </a:lnTo>
                          <a:lnTo>
                            <a:pt x="168" y="11"/>
                          </a:lnTo>
                          <a:lnTo>
                            <a:pt x="140" y="10"/>
                          </a:lnTo>
                          <a:lnTo>
                            <a:pt x="116" y="9"/>
                          </a:lnTo>
                          <a:lnTo>
                            <a:pt x="96" y="6"/>
                          </a:lnTo>
                          <a:lnTo>
                            <a:pt x="77" y="5"/>
                          </a:lnTo>
                          <a:lnTo>
                            <a:pt x="60" y="6"/>
                          </a:lnTo>
                          <a:lnTo>
                            <a:pt x="42" y="9"/>
                          </a:lnTo>
                          <a:lnTo>
                            <a:pt x="22" y="16"/>
                          </a:lnTo>
                          <a:lnTo>
                            <a:pt x="0" y="29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Freeform 353"/>
                    <p:cNvSpPr/>
                    <p:nvPr/>
                  </p:nvSpPr>
                  <p:spPr>
                    <a:xfrm flipH="1">
                      <a:off x="2868120" y="3075480"/>
                      <a:ext cx="15480" cy="2520"/>
                    </a:xfrm>
                    <a:custGeom>
                      <a:avLst/>
                      <a:gdLst>
                        <a:gd name="textAreaLeft" fmla="*/ -360 w 15480"/>
                        <a:gd name="textAreaRight" fmla="*/ 15480 w 15480"/>
                        <a:gd name="textAreaTop" fmla="*/ 0 h 2520"/>
                        <a:gd name="textAreaBottom" fmla="*/ 2880 h 2520"/>
                      </a:gdLst>
                      <a:ahLst/>
                      <a:rect l="textAreaLeft" t="textAreaTop" r="textAreaRight" b="textAreaBottom"/>
                      <a:pathLst>
                        <a:path w="112" h="25">
                          <a:moveTo>
                            <a:pt x="0" y="11"/>
                          </a:moveTo>
                          <a:lnTo>
                            <a:pt x="5" y="17"/>
                          </a:lnTo>
                          <a:lnTo>
                            <a:pt x="26" y="25"/>
                          </a:lnTo>
                          <a:lnTo>
                            <a:pt x="80" y="20"/>
                          </a:lnTo>
                          <a:lnTo>
                            <a:pt x="112" y="13"/>
                          </a:lnTo>
                          <a:lnTo>
                            <a:pt x="110" y="4"/>
                          </a:lnTo>
                          <a:lnTo>
                            <a:pt x="108" y="0"/>
                          </a:lnTo>
                          <a:lnTo>
                            <a:pt x="103" y="2"/>
                          </a:lnTo>
                          <a:lnTo>
                            <a:pt x="92" y="4"/>
                          </a:lnTo>
                          <a:lnTo>
                            <a:pt x="61" y="6"/>
                          </a:lnTo>
                          <a:lnTo>
                            <a:pt x="51" y="6"/>
                          </a:lnTo>
                          <a:lnTo>
                            <a:pt x="43" y="4"/>
                          </a:lnTo>
                          <a:lnTo>
                            <a:pt x="35" y="4"/>
                          </a:lnTo>
                          <a:lnTo>
                            <a:pt x="29" y="3"/>
                          </a:lnTo>
                          <a:lnTo>
                            <a:pt x="22" y="3"/>
                          </a:lnTo>
                          <a:lnTo>
                            <a:pt x="14" y="4"/>
                          </a:lnTo>
                          <a:lnTo>
                            <a:pt x="8" y="7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Freeform 367"/>
                    <p:cNvSpPr/>
                    <p:nvPr/>
                  </p:nvSpPr>
                  <p:spPr>
                    <a:xfrm flipH="1">
                      <a:off x="2868840" y="3022200"/>
                      <a:ext cx="14760" cy="8280"/>
                    </a:xfrm>
                    <a:custGeom>
                      <a:avLst/>
                      <a:gdLst>
                        <a:gd name="textAreaLeft" fmla="*/ -360 w 14760"/>
                        <a:gd name="textAreaRight" fmla="*/ 14760 w 14760"/>
                        <a:gd name="textAreaTop" fmla="*/ 0 h 8280"/>
                        <a:gd name="textAreaBottom" fmla="*/ 8640 h 8280"/>
                      </a:gdLst>
                      <a:ahLst/>
                      <a:rect l="textAreaLeft" t="textAreaTop" r="textAreaRight" b="textAreaBottom"/>
                      <a:pathLst>
                        <a:path w="106" h="80">
                          <a:moveTo>
                            <a:pt x="53" y="0"/>
                          </a:moveTo>
                          <a:lnTo>
                            <a:pt x="64" y="1"/>
                          </a:lnTo>
                          <a:lnTo>
                            <a:pt x="74" y="2"/>
                          </a:lnTo>
                          <a:lnTo>
                            <a:pt x="83" y="6"/>
                          </a:lnTo>
                          <a:lnTo>
                            <a:pt x="91" y="11"/>
                          </a:lnTo>
                          <a:lnTo>
                            <a:pt x="97" y="18"/>
                          </a:lnTo>
                          <a:lnTo>
                            <a:pt x="103" y="24"/>
                          </a:lnTo>
                          <a:lnTo>
                            <a:pt x="105" y="32"/>
                          </a:lnTo>
                          <a:lnTo>
                            <a:pt x="106" y="40"/>
                          </a:lnTo>
                          <a:lnTo>
                            <a:pt x="105" y="48"/>
                          </a:lnTo>
                          <a:lnTo>
                            <a:pt x="103" y="55"/>
                          </a:lnTo>
                          <a:lnTo>
                            <a:pt x="97" y="62"/>
                          </a:lnTo>
                          <a:lnTo>
                            <a:pt x="91" y="68"/>
                          </a:lnTo>
                          <a:lnTo>
                            <a:pt x="83" y="74"/>
                          </a:lnTo>
                          <a:lnTo>
                            <a:pt x="74" y="78"/>
                          </a:lnTo>
                          <a:lnTo>
                            <a:pt x="64" y="79"/>
                          </a:lnTo>
                          <a:lnTo>
                            <a:pt x="53" y="80"/>
                          </a:lnTo>
                          <a:lnTo>
                            <a:pt x="43" y="79"/>
                          </a:lnTo>
                          <a:lnTo>
                            <a:pt x="32" y="78"/>
                          </a:lnTo>
                          <a:lnTo>
                            <a:pt x="23" y="74"/>
                          </a:lnTo>
                          <a:lnTo>
                            <a:pt x="16" y="68"/>
                          </a:lnTo>
                          <a:lnTo>
                            <a:pt x="9" y="62"/>
                          </a:lnTo>
                          <a:lnTo>
                            <a:pt x="4" y="55"/>
                          </a:lnTo>
                          <a:lnTo>
                            <a:pt x="1" y="48"/>
                          </a:lnTo>
                          <a:lnTo>
                            <a:pt x="0" y="40"/>
                          </a:lnTo>
                          <a:lnTo>
                            <a:pt x="1" y="32"/>
                          </a:lnTo>
                          <a:lnTo>
                            <a:pt x="4" y="24"/>
                          </a:lnTo>
                          <a:lnTo>
                            <a:pt x="9" y="18"/>
                          </a:lnTo>
                          <a:lnTo>
                            <a:pt x="16" y="11"/>
                          </a:lnTo>
                          <a:lnTo>
                            <a:pt x="23" y="6"/>
                          </a:lnTo>
                          <a:lnTo>
                            <a:pt x="32" y="2"/>
                          </a:lnTo>
                          <a:lnTo>
                            <a:pt x="43" y="1"/>
                          </a:lnTo>
                          <a:lnTo>
                            <a:pt x="53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69" name="Ellipse 217"/>
                <p:cNvSpPr/>
                <p:nvPr/>
              </p:nvSpPr>
              <p:spPr>
                <a:xfrm flipH="1">
                  <a:off x="2850120" y="3012840"/>
                  <a:ext cx="49320" cy="5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acac"/>
                    </a:gs>
                    <a:gs pos="100000">
                      <a:srgbClr val="e6e6e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0" name="Gruppe 329"/>
            <p:cNvGrpSpPr/>
            <p:nvPr/>
          </p:nvGrpSpPr>
          <p:grpSpPr>
            <a:xfrm>
              <a:off x="2148840" y="3009240"/>
              <a:ext cx="125640" cy="160560"/>
              <a:chOff x="2148840" y="3009240"/>
              <a:chExt cx="125640" cy="160560"/>
            </a:xfrm>
          </p:grpSpPr>
          <p:sp>
            <p:nvSpPr>
              <p:cNvPr id="371" name="Ellipse 196"/>
              <p:cNvSpPr/>
              <p:nvPr/>
            </p:nvSpPr>
            <p:spPr>
              <a:xfrm flipH="1">
                <a:off x="2148480" y="3136320"/>
                <a:ext cx="125640" cy="33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" name="Gruppe 850"/>
              <p:cNvGrpSpPr/>
              <p:nvPr/>
            </p:nvGrpSpPr>
            <p:grpSpPr>
              <a:xfrm>
                <a:off x="2171880" y="3009240"/>
                <a:ext cx="68400" cy="147960"/>
                <a:chOff x="2171880" y="3009240"/>
                <a:chExt cx="68400" cy="147960"/>
              </a:xfrm>
            </p:grpSpPr>
            <p:grpSp>
              <p:nvGrpSpPr>
                <p:cNvPr id="373" name="Gruppe 823"/>
                <p:cNvGrpSpPr/>
                <p:nvPr/>
              </p:nvGrpSpPr>
              <p:grpSpPr>
                <a:xfrm>
                  <a:off x="2171880" y="3017880"/>
                  <a:ext cx="68400" cy="139320"/>
                  <a:chOff x="2171880" y="3017880"/>
                  <a:chExt cx="68400" cy="139320"/>
                </a:xfrm>
              </p:grpSpPr>
              <p:grpSp>
                <p:nvGrpSpPr>
                  <p:cNvPr id="374" name="Gruppe 605"/>
                  <p:cNvGrpSpPr/>
                  <p:nvPr/>
                </p:nvGrpSpPr>
                <p:grpSpPr>
                  <a:xfrm>
                    <a:off x="2171880" y="3026520"/>
                    <a:ext cx="68400" cy="130680"/>
                    <a:chOff x="2171880" y="3026520"/>
                    <a:chExt cx="68400" cy="130680"/>
                  </a:xfrm>
                </p:grpSpPr>
                <p:sp>
                  <p:nvSpPr>
                    <p:cNvPr id="375" name="Freeform 130"/>
                    <p:cNvSpPr/>
                    <p:nvPr/>
                  </p:nvSpPr>
                  <p:spPr>
                    <a:xfrm flipH="1">
                      <a:off x="2171880" y="3026520"/>
                      <a:ext cx="68400" cy="130680"/>
                    </a:xfrm>
                    <a:custGeom>
                      <a:avLst/>
                      <a:gdLst>
                        <a:gd name="textAreaLeft" fmla="*/ 360 w 68400"/>
                        <a:gd name="textAreaRight" fmla="*/ 69120 w 68400"/>
                        <a:gd name="textAreaTop" fmla="*/ 0 h 130680"/>
                        <a:gd name="textAreaBottom" fmla="*/ 131040 h 130680"/>
                      </a:gdLst>
                      <a:ahLst/>
                      <a:rect l="textAreaLeft" t="textAreaTop" r="textAreaRight" b="textAreaBottom"/>
                      <a:pathLst>
                        <a:path w="493" h="1194">
                          <a:moveTo>
                            <a:pt x="208" y="62"/>
                          </a:moveTo>
                          <a:lnTo>
                            <a:pt x="167" y="83"/>
                          </a:lnTo>
                          <a:lnTo>
                            <a:pt x="145" y="87"/>
                          </a:lnTo>
                          <a:lnTo>
                            <a:pt x="125" y="93"/>
                          </a:lnTo>
                          <a:lnTo>
                            <a:pt x="110" y="100"/>
                          </a:lnTo>
                          <a:lnTo>
                            <a:pt x="99" y="110"/>
                          </a:lnTo>
                          <a:lnTo>
                            <a:pt x="92" y="124"/>
                          </a:lnTo>
                          <a:lnTo>
                            <a:pt x="90" y="141"/>
                          </a:lnTo>
                          <a:lnTo>
                            <a:pt x="93" y="162"/>
                          </a:lnTo>
                          <a:lnTo>
                            <a:pt x="104" y="187"/>
                          </a:lnTo>
                          <a:lnTo>
                            <a:pt x="158" y="242"/>
                          </a:lnTo>
                          <a:lnTo>
                            <a:pt x="158" y="272"/>
                          </a:lnTo>
                          <a:lnTo>
                            <a:pt x="140" y="282"/>
                          </a:lnTo>
                          <a:lnTo>
                            <a:pt x="135" y="302"/>
                          </a:lnTo>
                          <a:lnTo>
                            <a:pt x="138" y="326"/>
                          </a:lnTo>
                          <a:lnTo>
                            <a:pt x="147" y="346"/>
                          </a:lnTo>
                          <a:lnTo>
                            <a:pt x="104" y="360"/>
                          </a:lnTo>
                          <a:lnTo>
                            <a:pt x="89" y="375"/>
                          </a:lnTo>
                          <a:lnTo>
                            <a:pt x="77" y="389"/>
                          </a:lnTo>
                          <a:lnTo>
                            <a:pt x="71" y="402"/>
                          </a:lnTo>
                          <a:lnTo>
                            <a:pt x="70" y="414"/>
                          </a:lnTo>
                          <a:lnTo>
                            <a:pt x="74" y="426"/>
                          </a:lnTo>
                          <a:lnTo>
                            <a:pt x="82" y="437"/>
                          </a:lnTo>
                          <a:lnTo>
                            <a:pt x="94" y="449"/>
                          </a:lnTo>
                          <a:lnTo>
                            <a:pt x="113" y="459"/>
                          </a:lnTo>
                          <a:lnTo>
                            <a:pt x="173" y="480"/>
                          </a:lnTo>
                          <a:lnTo>
                            <a:pt x="168" y="522"/>
                          </a:lnTo>
                          <a:lnTo>
                            <a:pt x="162" y="562"/>
                          </a:lnTo>
                          <a:lnTo>
                            <a:pt x="156" y="601"/>
                          </a:lnTo>
                          <a:lnTo>
                            <a:pt x="150" y="638"/>
                          </a:lnTo>
                          <a:lnTo>
                            <a:pt x="140" y="676"/>
                          </a:lnTo>
                          <a:lnTo>
                            <a:pt x="129" y="713"/>
                          </a:lnTo>
                          <a:lnTo>
                            <a:pt x="115" y="750"/>
                          </a:lnTo>
                          <a:lnTo>
                            <a:pt x="98" y="789"/>
                          </a:lnTo>
                          <a:lnTo>
                            <a:pt x="83" y="796"/>
                          </a:lnTo>
                          <a:lnTo>
                            <a:pt x="70" y="804"/>
                          </a:lnTo>
                          <a:lnTo>
                            <a:pt x="61" y="814"/>
                          </a:lnTo>
                          <a:lnTo>
                            <a:pt x="55" y="823"/>
                          </a:lnTo>
                          <a:lnTo>
                            <a:pt x="53" y="835"/>
                          </a:lnTo>
                          <a:lnTo>
                            <a:pt x="55" y="845"/>
                          </a:lnTo>
                          <a:lnTo>
                            <a:pt x="62" y="857"/>
                          </a:lnTo>
                          <a:lnTo>
                            <a:pt x="75" y="868"/>
                          </a:lnTo>
                          <a:lnTo>
                            <a:pt x="78" y="889"/>
                          </a:lnTo>
                          <a:lnTo>
                            <a:pt x="53" y="896"/>
                          </a:lnTo>
                          <a:lnTo>
                            <a:pt x="34" y="905"/>
                          </a:lnTo>
                          <a:lnTo>
                            <a:pt x="21" y="916"/>
                          </a:lnTo>
                          <a:lnTo>
                            <a:pt x="13" y="928"/>
                          </a:lnTo>
                          <a:lnTo>
                            <a:pt x="8" y="942"/>
                          </a:lnTo>
                          <a:lnTo>
                            <a:pt x="8" y="959"/>
                          </a:lnTo>
                          <a:lnTo>
                            <a:pt x="10" y="978"/>
                          </a:lnTo>
                          <a:lnTo>
                            <a:pt x="15" y="999"/>
                          </a:lnTo>
                          <a:lnTo>
                            <a:pt x="19" y="1032"/>
                          </a:lnTo>
                          <a:lnTo>
                            <a:pt x="0" y="1057"/>
                          </a:lnTo>
                          <a:lnTo>
                            <a:pt x="0" y="1121"/>
                          </a:lnTo>
                          <a:lnTo>
                            <a:pt x="18" y="1137"/>
                          </a:lnTo>
                          <a:lnTo>
                            <a:pt x="41" y="1151"/>
                          </a:lnTo>
                          <a:lnTo>
                            <a:pt x="69" y="1163"/>
                          </a:lnTo>
                          <a:lnTo>
                            <a:pt x="101" y="1174"/>
                          </a:lnTo>
                          <a:lnTo>
                            <a:pt x="135" y="1182"/>
                          </a:lnTo>
                          <a:lnTo>
                            <a:pt x="171" y="1189"/>
                          </a:lnTo>
                          <a:lnTo>
                            <a:pt x="208" y="1192"/>
                          </a:lnTo>
                          <a:lnTo>
                            <a:pt x="246" y="1194"/>
                          </a:lnTo>
                          <a:lnTo>
                            <a:pt x="285" y="1193"/>
                          </a:lnTo>
                          <a:lnTo>
                            <a:pt x="322" y="1190"/>
                          </a:lnTo>
                          <a:lnTo>
                            <a:pt x="359" y="1184"/>
                          </a:lnTo>
                          <a:lnTo>
                            <a:pt x="393" y="1175"/>
                          </a:lnTo>
                          <a:lnTo>
                            <a:pt x="424" y="1162"/>
                          </a:lnTo>
                          <a:lnTo>
                            <a:pt x="451" y="1147"/>
                          </a:lnTo>
                          <a:lnTo>
                            <a:pt x="474" y="1129"/>
                          </a:lnTo>
                          <a:lnTo>
                            <a:pt x="493" y="1107"/>
                          </a:lnTo>
                          <a:lnTo>
                            <a:pt x="493" y="1069"/>
                          </a:lnTo>
                          <a:lnTo>
                            <a:pt x="484" y="1032"/>
                          </a:lnTo>
                          <a:lnTo>
                            <a:pt x="487" y="1005"/>
                          </a:lnTo>
                          <a:lnTo>
                            <a:pt x="489" y="984"/>
                          </a:lnTo>
                          <a:lnTo>
                            <a:pt x="489" y="965"/>
                          </a:lnTo>
                          <a:lnTo>
                            <a:pt x="486" y="950"/>
                          </a:lnTo>
                          <a:lnTo>
                            <a:pt x="480" y="936"/>
                          </a:lnTo>
                          <a:lnTo>
                            <a:pt x="470" y="921"/>
                          </a:lnTo>
                          <a:lnTo>
                            <a:pt x="454" y="906"/>
                          </a:lnTo>
                          <a:lnTo>
                            <a:pt x="433" y="888"/>
                          </a:lnTo>
                          <a:lnTo>
                            <a:pt x="441" y="870"/>
                          </a:lnTo>
                          <a:lnTo>
                            <a:pt x="446" y="855"/>
                          </a:lnTo>
                          <a:lnTo>
                            <a:pt x="449" y="842"/>
                          </a:lnTo>
                          <a:lnTo>
                            <a:pt x="449" y="832"/>
                          </a:lnTo>
                          <a:lnTo>
                            <a:pt x="444" y="823"/>
                          </a:lnTo>
                          <a:lnTo>
                            <a:pt x="438" y="814"/>
                          </a:lnTo>
                          <a:lnTo>
                            <a:pt x="425" y="805"/>
                          </a:lnTo>
                          <a:lnTo>
                            <a:pt x="409" y="793"/>
                          </a:lnTo>
                          <a:lnTo>
                            <a:pt x="389" y="751"/>
                          </a:lnTo>
                          <a:lnTo>
                            <a:pt x="373" y="713"/>
                          </a:lnTo>
                          <a:lnTo>
                            <a:pt x="362" y="677"/>
                          </a:lnTo>
                          <a:lnTo>
                            <a:pt x="355" y="644"/>
                          </a:lnTo>
                          <a:lnTo>
                            <a:pt x="349" y="609"/>
                          </a:lnTo>
                          <a:lnTo>
                            <a:pt x="345" y="572"/>
                          </a:lnTo>
                          <a:lnTo>
                            <a:pt x="344" y="531"/>
                          </a:lnTo>
                          <a:lnTo>
                            <a:pt x="344" y="485"/>
                          </a:lnTo>
                          <a:lnTo>
                            <a:pt x="379" y="471"/>
                          </a:lnTo>
                          <a:lnTo>
                            <a:pt x="404" y="455"/>
                          </a:lnTo>
                          <a:lnTo>
                            <a:pt x="417" y="446"/>
                          </a:lnTo>
                          <a:lnTo>
                            <a:pt x="426" y="435"/>
                          </a:lnTo>
                          <a:lnTo>
                            <a:pt x="433" y="423"/>
                          </a:lnTo>
                          <a:lnTo>
                            <a:pt x="436" y="411"/>
                          </a:lnTo>
                          <a:lnTo>
                            <a:pt x="434" y="398"/>
                          </a:lnTo>
                          <a:lnTo>
                            <a:pt x="427" y="386"/>
                          </a:lnTo>
                          <a:lnTo>
                            <a:pt x="414" y="374"/>
                          </a:lnTo>
                          <a:lnTo>
                            <a:pt x="394" y="364"/>
                          </a:lnTo>
                          <a:lnTo>
                            <a:pt x="368" y="356"/>
                          </a:lnTo>
                          <a:lnTo>
                            <a:pt x="379" y="343"/>
                          </a:lnTo>
                          <a:lnTo>
                            <a:pt x="386" y="330"/>
                          </a:lnTo>
                          <a:lnTo>
                            <a:pt x="390" y="318"/>
                          </a:lnTo>
                          <a:lnTo>
                            <a:pt x="393" y="306"/>
                          </a:lnTo>
                          <a:lnTo>
                            <a:pt x="390" y="295"/>
                          </a:lnTo>
                          <a:lnTo>
                            <a:pt x="386" y="283"/>
                          </a:lnTo>
                          <a:lnTo>
                            <a:pt x="376" y="273"/>
                          </a:lnTo>
                          <a:lnTo>
                            <a:pt x="364" y="261"/>
                          </a:lnTo>
                          <a:lnTo>
                            <a:pt x="389" y="227"/>
                          </a:lnTo>
                          <a:lnTo>
                            <a:pt x="409" y="192"/>
                          </a:lnTo>
                          <a:lnTo>
                            <a:pt x="420" y="170"/>
                          </a:lnTo>
                          <a:lnTo>
                            <a:pt x="428" y="153"/>
                          </a:lnTo>
                          <a:lnTo>
                            <a:pt x="432" y="139"/>
                          </a:lnTo>
                          <a:lnTo>
                            <a:pt x="432" y="128"/>
                          </a:lnTo>
                          <a:lnTo>
                            <a:pt x="426" y="118"/>
                          </a:lnTo>
                          <a:lnTo>
                            <a:pt x="416" y="110"/>
                          </a:lnTo>
                          <a:lnTo>
                            <a:pt x="400" y="102"/>
                          </a:lnTo>
                          <a:lnTo>
                            <a:pt x="378" y="92"/>
                          </a:lnTo>
                          <a:lnTo>
                            <a:pt x="349" y="77"/>
                          </a:lnTo>
                          <a:lnTo>
                            <a:pt x="320" y="68"/>
                          </a:lnTo>
                          <a:lnTo>
                            <a:pt x="322" y="54"/>
                          </a:lnTo>
                          <a:lnTo>
                            <a:pt x="322" y="42"/>
                          </a:lnTo>
                          <a:lnTo>
                            <a:pt x="320" y="32"/>
                          </a:lnTo>
                          <a:lnTo>
                            <a:pt x="315" y="23"/>
                          </a:lnTo>
                          <a:lnTo>
                            <a:pt x="309" y="16"/>
                          </a:lnTo>
                          <a:lnTo>
                            <a:pt x="300" y="10"/>
                          </a:lnTo>
                          <a:lnTo>
                            <a:pt x="291" y="5"/>
                          </a:lnTo>
                          <a:lnTo>
                            <a:pt x="281" y="2"/>
                          </a:lnTo>
                          <a:lnTo>
                            <a:pt x="268" y="0"/>
                          </a:lnTo>
                          <a:lnTo>
                            <a:pt x="256" y="1"/>
                          </a:lnTo>
                          <a:lnTo>
                            <a:pt x="243" y="3"/>
                          </a:lnTo>
                          <a:lnTo>
                            <a:pt x="233" y="8"/>
                          </a:lnTo>
                          <a:lnTo>
                            <a:pt x="222" y="16"/>
                          </a:lnTo>
                          <a:lnTo>
                            <a:pt x="215" y="27"/>
                          </a:lnTo>
                          <a:lnTo>
                            <a:pt x="211" y="42"/>
                          </a:lnTo>
                          <a:lnTo>
                            <a:pt x="208" y="62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acacac"/>
                        </a:gs>
                        <a:gs pos="100000">
                          <a:srgbClr val="e6e6e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Freeform 131"/>
                    <p:cNvSpPr/>
                    <p:nvPr/>
                  </p:nvSpPr>
                  <p:spPr>
                    <a:xfrm flipH="1">
                      <a:off x="2190600" y="3034800"/>
                      <a:ext cx="27000" cy="6480"/>
                    </a:xfrm>
                    <a:custGeom>
                      <a:avLst/>
                      <a:gdLst>
                        <a:gd name="textAreaLeft" fmla="*/ -360 w 27000"/>
                        <a:gd name="textAreaRight" fmla="*/ 27000 w 2700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185" h="58">
                          <a:moveTo>
                            <a:pt x="13" y="8"/>
                          </a:moveTo>
                          <a:lnTo>
                            <a:pt x="0" y="22"/>
                          </a:lnTo>
                          <a:lnTo>
                            <a:pt x="8" y="43"/>
                          </a:lnTo>
                          <a:lnTo>
                            <a:pt x="28" y="49"/>
                          </a:lnTo>
                          <a:lnTo>
                            <a:pt x="53" y="54"/>
                          </a:lnTo>
                          <a:lnTo>
                            <a:pt x="81" y="58"/>
                          </a:lnTo>
                          <a:lnTo>
                            <a:pt x="108" y="56"/>
                          </a:lnTo>
                          <a:lnTo>
                            <a:pt x="135" y="53"/>
                          </a:lnTo>
                          <a:lnTo>
                            <a:pt x="159" y="46"/>
                          </a:lnTo>
                          <a:lnTo>
                            <a:pt x="176" y="33"/>
                          </a:lnTo>
                          <a:lnTo>
                            <a:pt x="185" y="16"/>
                          </a:lnTo>
                          <a:lnTo>
                            <a:pt x="160" y="6"/>
                          </a:lnTo>
                          <a:lnTo>
                            <a:pt x="144" y="0"/>
                          </a:lnTo>
                          <a:lnTo>
                            <a:pt x="139" y="15"/>
                          </a:lnTo>
                          <a:lnTo>
                            <a:pt x="127" y="24"/>
                          </a:lnTo>
                          <a:lnTo>
                            <a:pt x="109" y="29"/>
                          </a:lnTo>
                          <a:lnTo>
                            <a:pt x="89" y="29"/>
                          </a:lnTo>
                          <a:lnTo>
                            <a:pt x="68" y="25"/>
                          </a:lnTo>
                          <a:lnTo>
                            <a:pt x="51" y="20"/>
                          </a:lnTo>
                          <a:lnTo>
                            <a:pt x="38" y="11"/>
                          </a:lnTo>
                          <a:lnTo>
                            <a:pt x="33" y="1"/>
                          </a:lnTo>
                          <a:lnTo>
                            <a:pt x="13" y="8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Freeform 132"/>
                    <p:cNvSpPr/>
                    <p:nvPr/>
                  </p:nvSpPr>
                  <p:spPr>
                    <a:xfrm flipH="1">
                      <a:off x="2182680" y="3038040"/>
                      <a:ext cx="41400" cy="11520"/>
                    </a:xfrm>
                    <a:custGeom>
                      <a:avLst/>
                      <a:gdLst>
                        <a:gd name="textAreaLeft" fmla="*/ -360 w 41400"/>
                        <a:gd name="textAreaRight" fmla="*/ 41400 w 41400"/>
                        <a:gd name="textAreaTop" fmla="*/ 0 h 11520"/>
                        <a:gd name="textAreaBottom" fmla="*/ 11880 h 11520"/>
                      </a:gdLst>
                      <a:ahLst/>
                      <a:rect l="textAreaLeft" t="textAreaTop" r="textAreaRight" b="textAreaBottom"/>
                      <a:pathLst>
                        <a:path w="329" h="102">
                          <a:moveTo>
                            <a:pt x="32" y="10"/>
                          </a:moveTo>
                          <a:lnTo>
                            <a:pt x="1" y="26"/>
                          </a:lnTo>
                          <a:lnTo>
                            <a:pt x="0" y="43"/>
                          </a:lnTo>
                          <a:lnTo>
                            <a:pt x="3" y="60"/>
                          </a:lnTo>
                          <a:lnTo>
                            <a:pt x="14" y="71"/>
                          </a:lnTo>
                          <a:lnTo>
                            <a:pt x="27" y="81"/>
                          </a:lnTo>
                          <a:lnTo>
                            <a:pt x="46" y="90"/>
                          </a:lnTo>
                          <a:lnTo>
                            <a:pt x="67" y="95"/>
                          </a:lnTo>
                          <a:lnTo>
                            <a:pt x="91" y="100"/>
                          </a:lnTo>
                          <a:lnTo>
                            <a:pt x="117" y="102"/>
                          </a:lnTo>
                          <a:lnTo>
                            <a:pt x="144" y="102"/>
                          </a:lnTo>
                          <a:lnTo>
                            <a:pt x="171" y="102"/>
                          </a:lnTo>
                          <a:lnTo>
                            <a:pt x="199" y="100"/>
                          </a:lnTo>
                          <a:lnTo>
                            <a:pt x="225" y="98"/>
                          </a:lnTo>
                          <a:lnTo>
                            <a:pt x="251" y="94"/>
                          </a:lnTo>
                          <a:lnTo>
                            <a:pt x="273" y="90"/>
                          </a:lnTo>
                          <a:lnTo>
                            <a:pt x="292" y="85"/>
                          </a:lnTo>
                          <a:lnTo>
                            <a:pt x="308" y="79"/>
                          </a:lnTo>
                          <a:lnTo>
                            <a:pt x="319" y="71"/>
                          </a:lnTo>
                          <a:lnTo>
                            <a:pt x="326" y="61"/>
                          </a:lnTo>
                          <a:lnTo>
                            <a:pt x="329" y="50"/>
                          </a:lnTo>
                          <a:lnTo>
                            <a:pt x="329" y="39"/>
                          </a:lnTo>
                          <a:lnTo>
                            <a:pt x="325" y="28"/>
                          </a:lnTo>
                          <a:lnTo>
                            <a:pt x="316" y="18"/>
                          </a:lnTo>
                          <a:lnTo>
                            <a:pt x="303" y="8"/>
                          </a:lnTo>
                          <a:lnTo>
                            <a:pt x="285" y="0"/>
                          </a:lnTo>
                          <a:lnTo>
                            <a:pt x="269" y="18"/>
                          </a:lnTo>
                          <a:lnTo>
                            <a:pt x="252" y="31"/>
                          </a:lnTo>
                          <a:lnTo>
                            <a:pt x="234" y="39"/>
                          </a:lnTo>
                          <a:lnTo>
                            <a:pt x="215" y="43"/>
                          </a:lnTo>
                          <a:lnTo>
                            <a:pt x="194" y="45"/>
                          </a:lnTo>
                          <a:lnTo>
                            <a:pt x="173" y="43"/>
                          </a:lnTo>
                          <a:lnTo>
                            <a:pt x="148" y="41"/>
                          </a:lnTo>
                          <a:lnTo>
                            <a:pt x="122" y="40"/>
                          </a:lnTo>
                          <a:lnTo>
                            <a:pt x="67" y="30"/>
                          </a:lnTo>
                          <a:lnTo>
                            <a:pt x="49" y="3"/>
                          </a:lnTo>
                          <a:lnTo>
                            <a:pt x="32" y="10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Freeform 133"/>
                    <p:cNvSpPr/>
                    <p:nvPr/>
                  </p:nvSpPr>
                  <p:spPr>
                    <a:xfrm flipH="1">
                      <a:off x="2190600" y="3064320"/>
                      <a:ext cx="27000" cy="360"/>
                    </a:xfrm>
                    <a:custGeom>
                      <a:avLst/>
                      <a:gdLst>
                        <a:gd name="textAreaLeft" fmla="*/ -360 w 27000"/>
                        <a:gd name="textAreaRight" fmla="*/ 27000 w 27000"/>
                        <a:gd name="textAreaTop" fmla="*/ 0 h 360"/>
                        <a:gd name="textAreaBottom" fmla="*/ 720 h 360"/>
                      </a:gdLst>
                      <a:ahLst/>
                      <a:rect l="textAreaLeft" t="textAreaTop" r="textAreaRight" b="textAreaBottom"/>
                      <a:pathLst>
                        <a:path w="204" h="37">
                          <a:moveTo>
                            <a:pt x="12" y="0"/>
                          </a:moveTo>
                          <a:lnTo>
                            <a:pt x="24" y="6"/>
                          </a:lnTo>
                          <a:lnTo>
                            <a:pt x="35" y="12"/>
                          </a:lnTo>
                          <a:lnTo>
                            <a:pt x="47" y="15"/>
                          </a:lnTo>
                          <a:lnTo>
                            <a:pt x="58" y="17"/>
                          </a:lnTo>
                          <a:lnTo>
                            <a:pt x="70" y="20"/>
                          </a:lnTo>
                          <a:lnTo>
                            <a:pt x="82" y="21"/>
                          </a:lnTo>
                          <a:lnTo>
                            <a:pt x="94" y="22"/>
                          </a:lnTo>
                          <a:lnTo>
                            <a:pt x="106" y="21"/>
                          </a:lnTo>
                          <a:lnTo>
                            <a:pt x="119" y="20"/>
                          </a:lnTo>
                          <a:lnTo>
                            <a:pt x="131" y="19"/>
                          </a:lnTo>
                          <a:lnTo>
                            <a:pt x="143" y="16"/>
                          </a:lnTo>
                          <a:lnTo>
                            <a:pt x="156" y="14"/>
                          </a:lnTo>
                          <a:lnTo>
                            <a:pt x="167" y="12"/>
                          </a:lnTo>
                          <a:lnTo>
                            <a:pt x="180" y="8"/>
                          </a:lnTo>
                          <a:lnTo>
                            <a:pt x="192" y="6"/>
                          </a:lnTo>
                          <a:lnTo>
                            <a:pt x="204" y="2"/>
                          </a:lnTo>
                          <a:lnTo>
                            <a:pt x="204" y="14"/>
                          </a:lnTo>
                          <a:lnTo>
                            <a:pt x="196" y="17"/>
                          </a:lnTo>
                          <a:lnTo>
                            <a:pt x="188" y="21"/>
                          </a:lnTo>
                          <a:lnTo>
                            <a:pt x="178" y="24"/>
                          </a:lnTo>
                          <a:lnTo>
                            <a:pt x="167" y="27"/>
                          </a:lnTo>
                          <a:lnTo>
                            <a:pt x="155" y="30"/>
                          </a:lnTo>
                          <a:lnTo>
                            <a:pt x="143" y="32"/>
                          </a:lnTo>
                          <a:lnTo>
                            <a:pt x="129" y="35"/>
                          </a:lnTo>
                          <a:lnTo>
                            <a:pt x="117" y="37"/>
                          </a:lnTo>
                          <a:lnTo>
                            <a:pt x="102" y="37"/>
                          </a:lnTo>
                          <a:lnTo>
                            <a:pt x="88" y="37"/>
                          </a:lnTo>
                          <a:lnTo>
                            <a:pt x="73" y="36"/>
                          </a:lnTo>
                          <a:lnTo>
                            <a:pt x="58" y="34"/>
                          </a:lnTo>
                          <a:lnTo>
                            <a:pt x="44" y="29"/>
                          </a:lnTo>
                          <a:lnTo>
                            <a:pt x="29" y="24"/>
                          </a:lnTo>
                          <a:lnTo>
                            <a:pt x="14" y="17"/>
                          </a:lnTo>
                          <a:lnTo>
                            <a:pt x="0" y="8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cfcfc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Freeform 135"/>
                    <p:cNvSpPr/>
                    <p:nvPr/>
                  </p:nvSpPr>
                  <p:spPr>
                    <a:xfrm flipH="1">
                      <a:off x="2179440" y="3067920"/>
                      <a:ext cx="49320" cy="11520"/>
                    </a:xfrm>
                    <a:custGeom>
                      <a:avLst/>
                      <a:gdLst>
                        <a:gd name="textAreaLeft" fmla="*/ -360 w 49320"/>
                        <a:gd name="textAreaRight" fmla="*/ 49320 w 49320"/>
                        <a:gd name="textAreaTop" fmla="*/ 0 h 11520"/>
                        <a:gd name="textAreaBottom" fmla="*/ 11880 h 11520"/>
                      </a:gdLst>
                      <a:ahLst/>
                      <a:rect l="textAreaLeft" t="textAreaTop" r="textAreaRight" b="textAreaBottom"/>
                      <a:pathLst>
                        <a:path w="351" h="100">
                          <a:moveTo>
                            <a:pt x="40" y="0"/>
                          </a:moveTo>
                          <a:lnTo>
                            <a:pt x="19" y="9"/>
                          </a:lnTo>
                          <a:lnTo>
                            <a:pt x="6" y="20"/>
                          </a:lnTo>
                          <a:lnTo>
                            <a:pt x="0" y="30"/>
                          </a:lnTo>
                          <a:lnTo>
                            <a:pt x="0" y="42"/>
                          </a:lnTo>
                          <a:lnTo>
                            <a:pt x="7" y="53"/>
                          </a:lnTo>
                          <a:lnTo>
                            <a:pt x="17" y="65"/>
                          </a:lnTo>
                          <a:lnTo>
                            <a:pt x="32" y="75"/>
                          </a:lnTo>
                          <a:lnTo>
                            <a:pt x="50" y="85"/>
                          </a:lnTo>
                          <a:lnTo>
                            <a:pt x="66" y="89"/>
                          </a:lnTo>
                          <a:lnTo>
                            <a:pt x="82" y="92"/>
                          </a:lnTo>
                          <a:lnTo>
                            <a:pt x="97" y="95"/>
                          </a:lnTo>
                          <a:lnTo>
                            <a:pt x="113" y="96"/>
                          </a:lnTo>
                          <a:lnTo>
                            <a:pt x="128" y="98"/>
                          </a:lnTo>
                          <a:lnTo>
                            <a:pt x="144" y="99"/>
                          </a:lnTo>
                          <a:lnTo>
                            <a:pt x="159" y="99"/>
                          </a:lnTo>
                          <a:lnTo>
                            <a:pt x="174" y="100"/>
                          </a:lnTo>
                          <a:lnTo>
                            <a:pt x="189" y="100"/>
                          </a:lnTo>
                          <a:lnTo>
                            <a:pt x="205" y="100"/>
                          </a:lnTo>
                          <a:lnTo>
                            <a:pt x="220" y="99"/>
                          </a:lnTo>
                          <a:lnTo>
                            <a:pt x="236" y="99"/>
                          </a:lnTo>
                          <a:lnTo>
                            <a:pt x="251" y="98"/>
                          </a:lnTo>
                          <a:lnTo>
                            <a:pt x="267" y="97"/>
                          </a:lnTo>
                          <a:lnTo>
                            <a:pt x="284" y="95"/>
                          </a:lnTo>
                          <a:lnTo>
                            <a:pt x="300" y="94"/>
                          </a:lnTo>
                          <a:lnTo>
                            <a:pt x="323" y="81"/>
                          </a:lnTo>
                          <a:lnTo>
                            <a:pt x="339" y="68"/>
                          </a:lnTo>
                          <a:lnTo>
                            <a:pt x="349" y="56"/>
                          </a:lnTo>
                          <a:lnTo>
                            <a:pt x="351" y="43"/>
                          </a:lnTo>
                          <a:lnTo>
                            <a:pt x="348" y="31"/>
                          </a:lnTo>
                          <a:lnTo>
                            <a:pt x="338" y="21"/>
                          </a:lnTo>
                          <a:lnTo>
                            <a:pt x="320" y="12"/>
                          </a:lnTo>
                          <a:lnTo>
                            <a:pt x="296" y="5"/>
                          </a:lnTo>
                          <a:lnTo>
                            <a:pt x="298" y="15"/>
                          </a:lnTo>
                          <a:lnTo>
                            <a:pt x="294" y="23"/>
                          </a:lnTo>
                          <a:lnTo>
                            <a:pt x="284" y="30"/>
                          </a:lnTo>
                          <a:lnTo>
                            <a:pt x="272" y="37"/>
                          </a:lnTo>
                          <a:lnTo>
                            <a:pt x="258" y="38"/>
                          </a:lnTo>
                          <a:lnTo>
                            <a:pt x="245" y="39"/>
                          </a:lnTo>
                          <a:lnTo>
                            <a:pt x="234" y="41"/>
                          </a:lnTo>
                          <a:lnTo>
                            <a:pt x="222" y="42"/>
                          </a:lnTo>
                          <a:lnTo>
                            <a:pt x="211" y="43"/>
                          </a:lnTo>
                          <a:lnTo>
                            <a:pt x="199" y="43"/>
                          </a:lnTo>
                          <a:lnTo>
                            <a:pt x="188" y="44"/>
                          </a:lnTo>
                          <a:lnTo>
                            <a:pt x="178" y="44"/>
                          </a:lnTo>
                          <a:lnTo>
                            <a:pt x="166" y="44"/>
                          </a:lnTo>
                          <a:lnTo>
                            <a:pt x="155" y="44"/>
                          </a:lnTo>
                          <a:lnTo>
                            <a:pt x="143" y="44"/>
                          </a:lnTo>
                          <a:lnTo>
                            <a:pt x="133" y="43"/>
                          </a:lnTo>
                          <a:lnTo>
                            <a:pt x="120" y="42"/>
                          </a:lnTo>
                          <a:lnTo>
                            <a:pt x="108" y="41"/>
                          </a:lnTo>
                          <a:lnTo>
                            <a:pt x="96" y="39"/>
                          </a:lnTo>
                          <a:lnTo>
                            <a:pt x="82" y="37"/>
                          </a:lnTo>
                          <a:lnTo>
                            <a:pt x="73" y="32"/>
                          </a:lnTo>
                          <a:lnTo>
                            <a:pt x="65" y="28"/>
                          </a:lnTo>
                          <a:lnTo>
                            <a:pt x="58" y="23"/>
                          </a:lnTo>
                          <a:lnTo>
                            <a:pt x="52" y="19"/>
                          </a:lnTo>
                          <a:lnTo>
                            <a:pt x="47" y="14"/>
                          </a:lnTo>
                          <a:lnTo>
                            <a:pt x="44" y="11"/>
                          </a:lnTo>
                          <a:lnTo>
                            <a:pt x="42" y="5"/>
                          </a:lnTo>
                          <a:lnTo>
                            <a:pt x="40" y="0"/>
                          </a:lnTo>
                          <a:close/>
                        </a:path>
                      </a:pathLst>
                    </a:custGeom>
                    <a:solidFill>
                      <a:srgbClr val="cfcfc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Freeform 147"/>
                    <p:cNvSpPr/>
                    <p:nvPr/>
                  </p:nvSpPr>
                  <p:spPr>
                    <a:xfrm flipH="1">
                      <a:off x="2179800" y="3112560"/>
                      <a:ext cx="52560" cy="11520"/>
                    </a:xfrm>
                    <a:custGeom>
                      <a:avLst/>
                      <a:gdLst>
                        <a:gd name="textAreaLeft" fmla="*/ 360 w 52560"/>
                        <a:gd name="textAreaRight" fmla="*/ 53280 w 52560"/>
                        <a:gd name="textAreaTop" fmla="*/ 0 h 11520"/>
                        <a:gd name="textAreaBottom" fmla="*/ 11880 h 11520"/>
                      </a:gdLst>
                      <a:ahLst/>
                      <a:rect l="textAreaLeft" t="textAreaTop" r="textAreaRight" b="textAreaBottom"/>
                      <a:pathLst>
                        <a:path w="382" h="96">
                          <a:moveTo>
                            <a:pt x="24" y="4"/>
                          </a:moveTo>
                          <a:lnTo>
                            <a:pt x="68" y="40"/>
                          </a:lnTo>
                          <a:lnTo>
                            <a:pt x="89" y="44"/>
                          </a:lnTo>
                          <a:lnTo>
                            <a:pt x="108" y="48"/>
                          </a:lnTo>
                          <a:lnTo>
                            <a:pt x="127" y="53"/>
                          </a:lnTo>
                          <a:lnTo>
                            <a:pt x="144" y="55"/>
                          </a:lnTo>
                          <a:lnTo>
                            <a:pt x="160" y="57"/>
                          </a:lnTo>
                          <a:lnTo>
                            <a:pt x="176" y="59"/>
                          </a:lnTo>
                          <a:lnTo>
                            <a:pt x="192" y="59"/>
                          </a:lnTo>
                          <a:lnTo>
                            <a:pt x="207" y="59"/>
                          </a:lnTo>
                          <a:lnTo>
                            <a:pt x="222" y="58"/>
                          </a:lnTo>
                          <a:lnTo>
                            <a:pt x="237" y="57"/>
                          </a:lnTo>
                          <a:lnTo>
                            <a:pt x="253" y="54"/>
                          </a:lnTo>
                          <a:lnTo>
                            <a:pt x="270" y="50"/>
                          </a:lnTo>
                          <a:lnTo>
                            <a:pt x="286" y="46"/>
                          </a:lnTo>
                          <a:lnTo>
                            <a:pt x="304" y="39"/>
                          </a:lnTo>
                          <a:lnTo>
                            <a:pt x="323" y="32"/>
                          </a:lnTo>
                          <a:lnTo>
                            <a:pt x="342" y="23"/>
                          </a:lnTo>
                          <a:lnTo>
                            <a:pt x="348" y="10"/>
                          </a:lnTo>
                          <a:lnTo>
                            <a:pt x="352" y="3"/>
                          </a:lnTo>
                          <a:lnTo>
                            <a:pt x="356" y="0"/>
                          </a:lnTo>
                          <a:lnTo>
                            <a:pt x="359" y="1"/>
                          </a:lnTo>
                          <a:lnTo>
                            <a:pt x="363" y="4"/>
                          </a:lnTo>
                          <a:lnTo>
                            <a:pt x="367" y="11"/>
                          </a:lnTo>
                          <a:lnTo>
                            <a:pt x="374" y="20"/>
                          </a:lnTo>
                          <a:lnTo>
                            <a:pt x="382" y="32"/>
                          </a:lnTo>
                          <a:lnTo>
                            <a:pt x="366" y="55"/>
                          </a:lnTo>
                          <a:lnTo>
                            <a:pt x="349" y="65"/>
                          </a:lnTo>
                          <a:lnTo>
                            <a:pt x="329" y="73"/>
                          </a:lnTo>
                          <a:lnTo>
                            <a:pt x="310" y="80"/>
                          </a:lnTo>
                          <a:lnTo>
                            <a:pt x="288" y="86"/>
                          </a:lnTo>
                          <a:lnTo>
                            <a:pt x="266" y="91"/>
                          </a:lnTo>
                          <a:lnTo>
                            <a:pt x="243" y="94"/>
                          </a:lnTo>
                          <a:lnTo>
                            <a:pt x="219" y="96"/>
                          </a:lnTo>
                          <a:lnTo>
                            <a:pt x="196" y="96"/>
                          </a:lnTo>
                          <a:lnTo>
                            <a:pt x="172" y="96"/>
                          </a:lnTo>
                          <a:lnTo>
                            <a:pt x="147" y="95"/>
                          </a:lnTo>
                          <a:lnTo>
                            <a:pt x="124" y="92"/>
                          </a:lnTo>
                          <a:lnTo>
                            <a:pt x="101" y="88"/>
                          </a:lnTo>
                          <a:lnTo>
                            <a:pt x="78" y="84"/>
                          </a:lnTo>
                          <a:lnTo>
                            <a:pt x="58" y="79"/>
                          </a:lnTo>
                          <a:lnTo>
                            <a:pt x="37" y="72"/>
                          </a:lnTo>
                          <a:lnTo>
                            <a:pt x="18" y="65"/>
                          </a:lnTo>
                          <a:lnTo>
                            <a:pt x="12" y="56"/>
                          </a:lnTo>
                          <a:lnTo>
                            <a:pt x="6" y="47"/>
                          </a:lnTo>
                          <a:lnTo>
                            <a:pt x="2" y="38"/>
                          </a:lnTo>
                          <a:lnTo>
                            <a:pt x="0" y="28"/>
                          </a:lnTo>
                          <a:lnTo>
                            <a:pt x="0" y="20"/>
                          </a:lnTo>
                          <a:lnTo>
                            <a:pt x="5" y="13"/>
                          </a:lnTo>
                          <a:lnTo>
                            <a:pt x="12" y="8"/>
                          </a:lnTo>
                          <a:lnTo>
                            <a:pt x="24" y="4"/>
                          </a:lnTo>
                          <a:close/>
                        </a:path>
                      </a:pathLst>
                    </a:custGeom>
                    <a:solidFill>
                      <a:srgbClr val="cfcfc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Freeform 148"/>
                    <p:cNvSpPr/>
                    <p:nvPr/>
                  </p:nvSpPr>
                  <p:spPr>
                    <a:xfrm flipH="1">
                      <a:off x="2171880" y="3120840"/>
                      <a:ext cx="68400" cy="21240"/>
                    </a:xfrm>
                    <a:custGeom>
                      <a:avLst/>
                      <a:gdLst>
                        <a:gd name="textAreaLeft" fmla="*/ 360 w 68400"/>
                        <a:gd name="textAreaRight" fmla="*/ 69120 w 6840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483" h="184">
                          <a:moveTo>
                            <a:pt x="7" y="102"/>
                          </a:moveTo>
                          <a:lnTo>
                            <a:pt x="18" y="116"/>
                          </a:lnTo>
                          <a:lnTo>
                            <a:pt x="34" y="130"/>
                          </a:lnTo>
                          <a:lnTo>
                            <a:pt x="55" y="143"/>
                          </a:lnTo>
                          <a:lnTo>
                            <a:pt x="80" y="155"/>
                          </a:lnTo>
                          <a:lnTo>
                            <a:pt x="109" y="165"/>
                          </a:lnTo>
                          <a:lnTo>
                            <a:pt x="141" y="173"/>
                          </a:lnTo>
                          <a:lnTo>
                            <a:pt x="176" y="179"/>
                          </a:lnTo>
                          <a:lnTo>
                            <a:pt x="211" y="182"/>
                          </a:lnTo>
                          <a:lnTo>
                            <a:pt x="248" y="184"/>
                          </a:lnTo>
                          <a:lnTo>
                            <a:pt x="285" y="183"/>
                          </a:lnTo>
                          <a:lnTo>
                            <a:pt x="323" y="180"/>
                          </a:lnTo>
                          <a:lnTo>
                            <a:pt x="359" y="173"/>
                          </a:lnTo>
                          <a:lnTo>
                            <a:pt x="393" y="164"/>
                          </a:lnTo>
                          <a:lnTo>
                            <a:pt x="427" y="151"/>
                          </a:lnTo>
                          <a:lnTo>
                            <a:pt x="455" y="135"/>
                          </a:lnTo>
                          <a:lnTo>
                            <a:pt x="482" y="115"/>
                          </a:lnTo>
                          <a:lnTo>
                            <a:pt x="483" y="93"/>
                          </a:lnTo>
                          <a:lnTo>
                            <a:pt x="483" y="77"/>
                          </a:lnTo>
                          <a:lnTo>
                            <a:pt x="482" y="65"/>
                          </a:lnTo>
                          <a:lnTo>
                            <a:pt x="478" y="54"/>
                          </a:lnTo>
                          <a:lnTo>
                            <a:pt x="473" y="44"/>
                          </a:lnTo>
                          <a:lnTo>
                            <a:pt x="463" y="34"/>
                          </a:lnTo>
                          <a:lnTo>
                            <a:pt x="451" y="22"/>
                          </a:lnTo>
                          <a:lnTo>
                            <a:pt x="435" y="7"/>
                          </a:lnTo>
                          <a:lnTo>
                            <a:pt x="416" y="23"/>
                          </a:lnTo>
                          <a:lnTo>
                            <a:pt x="396" y="37"/>
                          </a:lnTo>
                          <a:lnTo>
                            <a:pt x="375" y="50"/>
                          </a:lnTo>
                          <a:lnTo>
                            <a:pt x="353" y="59"/>
                          </a:lnTo>
                          <a:lnTo>
                            <a:pt x="330" y="67"/>
                          </a:lnTo>
                          <a:lnTo>
                            <a:pt x="307" y="73"/>
                          </a:lnTo>
                          <a:lnTo>
                            <a:pt x="284" y="76"/>
                          </a:lnTo>
                          <a:lnTo>
                            <a:pt x="260" y="78"/>
                          </a:lnTo>
                          <a:lnTo>
                            <a:pt x="235" y="78"/>
                          </a:lnTo>
                          <a:lnTo>
                            <a:pt x="211" y="76"/>
                          </a:lnTo>
                          <a:lnTo>
                            <a:pt x="187" y="73"/>
                          </a:lnTo>
                          <a:lnTo>
                            <a:pt x="163" y="68"/>
                          </a:lnTo>
                          <a:lnTo>
                            <a:pt x="140" y="61"/>
                          </a:lnTo>
                          <a:lnTo>
                            <a:pt x="116" y="53"/>
                          </a:lnTo>
                          <a:lnTo>
                            <a:pt x="94" y="44"/>
                          </a:lnTo>
                          <a:lnTo>
                            <a:pt x="72" y="32"/>
                          </a:lnTo>
                          <a:lnTo>
                            <a:pt x="66" y="0"/>
                          </a:lnTo>
                          <a:lnTo>
                            <a:pt x="56" y="5"/>
                          </a:lnTo>
                          <a:lnTo>
                            <a:pt x="42" y="12"/>
                          </a:lnTo>
                          <a:lnTo>
                            <a:pt x="29" y="20"/>
                          </a:lnTo>
                          <a:lnTo>
                            <a:pt x="17" y="30"/>
                          </a:lnTo>
                          <a:lnTo>
                            <a:pt x="7" y="43"/>
                          </a:lnTo>
                          <a:lnTo>
                            <a:pt x="2" y="59"/>
                          </a:lnTo>
                          <a:lnTo>
                            <a:pt x="0" y="78"/>
                          </a:lnTo>
                          <a:lnTo>
                            <a:pt x="7" y="102"/>
                          </a:lnTo>
                          <a:close/>
                        </a:path>
                      </a:pathLst>
                    </a:custGeom>
                    <a:solidFill>
                      <a:srgbClr val="cfcfc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Freeform 184"/>
                    <p:cNvSpPr/>
                    <p:nvPr/>
                  </p:nvSpPr>
                  <p:spPr>
                    <a:xfrm flipH="1">
                      <a:off x="2198520" y="3026520"/>
                      <a:ext cx="11160" cy="8280"/>
                    </a:xfrm>
                    <a:custGeom>
                      <a:avLst/>
                      <a:gdLst>
                        <a:gd name="textAreaLeft" fmla="*/ -360 w 11160"/>
                        <a:gd name="textAreaRight" fmla="*/ 11160 w 11160"/>
                        <a:gd name="textAreaTop" fmla="*/ 0 h 8280"/>
                        <a:gd name="textAreaBottom" fmla="*/ 8640 h 8280"/>
                      </a:gdLst>
                      <a:ahLst/>
                      <a:rect l="textAreaLeft" t="textAreaTop" r="textAreaRight" b="textAreaBottom"/>
                      <a:pathLst>
                        <a:path w="95" h="72">
                          <a:moveTo>
                            <a:pt x="48" y="0"/>
                          </a:moveTo>
                          <a:lnTo>
                            <a:pt x="57" y="2"/>
                          </a:lnTo>
                          <a:lnTo>
                            <a:pt x="66" y="3"/>
                          </a:lnTo>
                          <a:lnTo>
                            <a:pt x="74" y="6"/>
                          </a:lnTo>
                          <a:lnTo>
                            <a:pt x="81" y="11"/>
                          </a:lnTo>
                          <a:lnTo>
                            <a:pt x="87" y="16"/>
                          </a:lnTo>
                          <a:lnTo>
                            <a:pt x="91" y="22"/>
                          </a:lnTo>
                          <a:lnTo>
                            <a:pt x="94" y="29"/>
                          </a:lnTo>
                          <a:lnTo>
                            <a:pt x="95" y="36"/>
                          </a:lnTo>
                          <a:lnTo>
                            <a:pt x="94" y="43"/>
                          </a:lnTo>
                          <a:lnTo>
                            <a:pt x="91" y="50"/>
                          </a:lnTo>
                          <a:lnTo>
                            <a:pt x="87" y="56"/>
                          </a:lnTo>
                          <a:lnTo>
                            <a:pt x="81" y="61"/>
                          </a:lnTo>
                          <a:lnTo>
                            <a:pt x="74" y="66"/>
                          </a:lnTo>
                          <a:lnTo>
                            <a:pt x="66" y="69"/>
                          </a:lnTo>
                          <a:lnTo>
                            <a:pt x="57" y="71"/>
                          </a:lnTo>
                          <a:lnTo>
                            <a:pt x="48" y="72"/>
                          </a:lnTo>
                          <a:lnTo>
                            <a:pt x="38" y="71"/>
                          </a:lnTo>
                          <a:lnTo>
                            <a:pt x="29" y="69"/>
                          </a:lnTo>
                          <a:lnTo>
                            <a:pt x="21" y="66"/>
                          </a:lnTo>
                          <a:lnTo>
                            <a:pt x="14" y="61"/>
                          </a:lnTo>
                          <a:lnTo>
                            <a:pt x="8" y="56"/>
                          </a:lnTo>
                          <a:lnTo>
                            <a:pt x="4" y="50"/>
                          </a:lnTo>
                          <a:lnTo>
                            <a:pt x="2" y="43"/>
                          </a:lnTo>
                          <a:lnTo>
                            <a:pt x="0" y="36"/>
                          </a:lnTo>
                          <a:lnTo>
                            <a:pt x="2" y="29"/>
                          </a:lnTo>
                          <a:lnTo>
                            <a:pt x="4" y="22"/>
                          </a:lnTo>
                          <a:lnTo>
                            <a:pt x="8" y="16"/>
                          </a:lnTo>
                          <a:lnTo>
                            <a:pt x="14" y="11"/>
                          </a:lnTo>
                          <a:lnTo>
                            <a:pt x="21" y="6"/>
                          </a:lnTo>
                          <a:lnTo>
                            <a:pt x="29" y="3"/>
                          </a:lnTo>
                          <a:lnTo>
                            <a:pt x="38" y="2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Gruppe 813"/>
                  <p:cNvGrpSpPr/>
                  <p:nvPr/>
                </p:nvGrpSpPr>
                <p:grpSpPr>
                  <a:xfrm>
                    <a:off x="2181240" y="3017880"/>
                    <a:ext cx="42840" cy="130320"/>
                    <a:chOff x="2181240" y="3017880"/>
                    <a:chExt cx="42840" cy="130320"/>
                  </a:xfrm>
                </p:grpSpPr>
                <p:sp>
                  <p:nvSpPr>
                    <p:cNvPr id="384" name="Freeform 316"/>
                    <p:cNvSpPr/>
                    <p:nvPr/>
                  </p:nvSpPr>
                  <p:spPr>
                    <a:xfrm flipH="1">
                      <a:off x="2188080" y="3055320"/>
                      <a:ext cx="32040" cy="4320"/>
                    </a:xfrm>
                    <a:custGeom>
                      <a:avLst/>
                      <a:gdLst>
                        <a:gd name="textAreaLeft" fmla="*/ -360 w 32040"/>
                        <a:gd name="textAreaRight" fmla="*/ 32040 w 32040"/>
                        <a:gd name="textAreaTop" fmla="*/ 0 h 4320"/>
                        <a:gd name="textAreaBottom" fmla="*/ 4680 h 4320"/>
                      </a:gdLst>
                      <a:ahLst/>
                      <a:rect l="textAreaLeft" t="textAreaTop" r="textAreaRight" b="textAreaBottom"/>
                      <a:pathLst>
                        <a:path w="230" h="41">
                          <a:moveTo>
                            <a:pt x="13" y="0"/>
                          </a:moveTo>
                          <a:lnTo>
                            <a:pt x="26" y="6"/>
                          </a:lnTo>
                          <a:lnTo>
                            <a:pt x="39" y="13"/>
                          </a:lnTo>
                          <a:lnTo>
                            <a:pt x="52" y="16"/>
                          </a:lnTo>
                          <a:lnTo>
                            <a:pt x="65" y="19"/>
                          </a:lnTo>
                          <a:lnTo>
                            <a:pt x="78" y="22"/>
                          </a:lnTo>
                          <a:lnTo>
                            <a:pt x="93" y="23"/>
                          </a:lnTo>
                          <a:lnTo>
                            <a:pt x="106" y="24"/>
                          </a:lnTo>
                          <a:lnTo>
                            <a:pt x="120" y="23"/>
                          </a:lnTo>
                          <a:lnTo>
                            <a:pt x="134" y="22"/>
                          </a:lnTo>
                          <a:lnTo>
                            <a:pt x="147" y="20"/>
                          </a:lnTo>
                          <a:lnTo>
                            <a:pt x="161" y="18"/>
                          </a:lnTo>
                          <a:lnTo>
                            <a:pt x="176" y="15"/>
                          </a:lnTo>
                          <a:lnTo>
                            <a:pt x="189" y="13"/>
                          </a:lnTo>
                          <a:lnTo>
                            <a:pt x="203" y="9"/>
                          </a:lnTo>
                          <a:lnTo>
                            <a:pt x="216" y="6"/>
                          </a:lnTo>
                          <a:lnTo>
                            <a:pt x="230" y="2"/>
                          </a:lnTo>
                          <a:lnTo>
                            <a:pt x="230" y="15"/>
                          </a:lnTo>
                          <a:lnTo>
                            <a:pt x="221" y="19"/>
                          </a:lnTo>
                          <a:lnTo>
                            <a:pt x="212" y="23"/>
                          </a:lnTo>
                          <a:lnTo>
                            <a:pt x="200" y="27"/>
                          </a:lnTo>
                          <a:lnTo>
                            <a:pt x="189" y="29"/>
                          </a:lnTo>
                          <a:lnTo>
                            <a:pt x="174" y="33"/>
                          </a:lnTo>
                          <a:lnTo>
                            <a:pt x="161" y="36"/>
                          </a:lnTo>
                          <a:lnTo>
                            <a:pt x="146" y="39"/>
                          </a:lnTo>
                          <a:lnTo>
                            <a:pt x="132" y="41"/>
                          </a:lnTo>
                          <a:lnTo>
                            <a:pt x="115" y="41"/>
                          </a:lnTo>
                          <a:lnTo>
                            <a:pt x="99" y="41"/>
                          </a:lnTo>
                          <a:lnTo>
                            <a:pt x="82" y="40"/>
                          </a:lnTo>
                          <a:lnTo>
                            <a:pt x="65" y="37"/>
                          </a:lnTo>
                          <a:lnTo>
                            <a:pt x="50" y="32"/>
                          </a:lnTo>
                          <a:lnTo>
                            <a:pt x="33" y="27"/>
                          </a:lnTo>
                          <a:lnTo>
                            <a:pt x="16" y="19"/>
                          </a:lnTo>
                          <a:lnTo>
                            <a:pt x="0" y="9"/>
                          </a:lnTo>
                          <a:lnTo>
                            <a:pt x="13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Freeform 336"/>
                    <p:cNvSpPr/>
                    <p:nvPr/>
                  </p:nvSpPr>
                  <p:spPr>
                    <a:xfrm flipH="1">
                      <a:off x="2180880" y="3140640"/>
                      <a:ext cx="42840" cy="7560"/>
                    </a:xfrm>
                    <a:custGeom>
                      <a:avLst/>
                      <a:gdLst>
                        <a:gd name="textAreaLeft" fmla="*/ -360 w 42840"/>
                        <a:gd name="textAreaRight" fmla="*/ 42840 w 42840"/>
                        <a:gd name="textAreaTop" fmla="*/ 0 h 7560"/>
                        <a:gd name="textAreaBottom" fmla="*/ 7920 h 7560"/>
                      </a:gdLst>
                      <a:ahLst/>
                      <a:rect l="textAreaLeft" t="textAreaTop" r="textAreaRight" b="textAreaBottom"/>
                      <a:pathLst>
                        <a:path w="309" h="72">
                          <a:moveTo>
                            <a:pt x="0" y="29"/>
                          </a:moveTo>
                          <a:lnTo>
                            <a:pt x="3" y="37"/>
                          </a:lnTo>
                          <a:lnTo>
                            <a:pt x="7" y="45"/>
                          </a:lnTo>
                          <a:lnTo>
                            <a:pt x="11" y="53"/>
                          </a:lnTo>
                          <a:lnTo>
                            <a:pt x="15" y="61"/>
                          </a:lnTo>
                          <a:lnTo>
                            <a:pt x="22" y="62"/>
                          </a:lnTo>
                          <a:lnTo>
                            <a:pt x="29" y="63"/>
                          </a:lnTo>
                          <a:lnTo>
                            <a:pt x="37" y="65"/>
                          </a:lnTo>
                          <a:lnTo>
                            <a:pt x="44" y="66"/>
                          </a:lnTo>
                          <a:lnTo>
                            <a:pt x="51" y="67"/>
                          </a:lnTo>
                          <a:lnTo>
                            <a:pt x="59" y="68"/>
                          </a:lnTo>
                          <a:lnTo>
                            <a:pt x="65" y="71"/>
                          </a:lnTo>
                          <a:lnTo>
                            <a:pt x="73" y="72"/>
                          </a:lnTo>
                          <a:lnTo>
                            <a:pt x="91" y="72"/>
                          </a:lnTo>
                          <a:lnTo>
                            <a:pt x="109" y="71"/>
                          </a:lnTo>
                          <a:lnTo>
                            <a:pt x="127" y="71"/>
                          </a:lnTo>
                          <a:lnTo>
                            <a:pt x="146" y="70"/>
                          </a:lnTo>
                          <a:lnTo>
                            <a:pt x="164" y="70"/>
                          </a:lnTo>
                          <a:lnTo>
                            <a:pt x="183" y="68"/>
                          </a:lnTo>
                          <a:lnTo>
                            <a:pt x="201" y="68"/>
                          </a:lnTo>
                          <a:lnTo>
                            <a:pt x="220" y="67"/>
                          </a:lnTo>
                          <a:lnTo>
                            <a:pt x="231" y="65"/>
                          </a:lnTo>
                          <a:lnTo>
                            <a:pt x="242" y="61"/>
                          </a:lnTo>
                          <a:lnTo>
                            <a:pt x="253" y="58"/>
                          </a:lnTo>
                          <a:lnTo>
                            <a:pt x="265" y="54"/>
                          </a:lnTo>
                          <a:lnTo>
                            <a:pt x="275" y="52"/>
                          </a:lnTo>
                          <a:lnTo>
                            <a:pt x="287" y="48"/>
                          </a:lnTo>
                          <a:lnTo>
                            <a:pt x="297" y="45"/>
                          </a:lnTo>
                          <a:lnTo>
                            <a:pt x="309" y="41"/>
                          </a:lnTo>
                          <a:lnTo>
                            <a:pt x="309" y="26"/>
                          </a:lnTo>
                          <a:lnTo>
                            <a:pt x="307" y="13"/>
                          </a:lnTo>
                          <a:lnTo>
                            <a:pt x="303" y="5"/>
                          </a:lnTo>
                          <a:lnTo>
                            <a:pt x="297" y="1"/>
                          </a:lnTo>
                          <a:lnTo>
                            <a:pt x="290" y="0"/>
                          </a:lnTo>
                          <a:lnTo>
                            <a:pt x="279" y="0"/>
                          </a:lnTo>
                          <a:lnTo>
                            <a:pt x="268" y="4"/>
                          </a:lnTo>
                          <a:lnTo>
                            <a:pt x="252" y="9"/>
                          </a:lnTo>
                          <a:lnTo>
                            <a:pt x="242" y="9"/>
                          </a:lnTo>
                          <a:lnTo>
                            <a:pt x="231" y="10"/>
                          </a:lnTo>
                          <a:lnTo>
                            <a:pt x="221" y="10"/>
                          </a:lnTo>
                          <a:lnTo>
                            <a:pt x="211" y="10"/>
                          </a:lnTo>
                          <a:lnTo>
                            <a:pt x="200" y="10"/>
                          </a:lnTo>
                          <a:lnTo>
                            <a:pt x="188" y="10"/>
                          </a:lnTo>
                          <a:lnTo>
                            <a:pt x="178" y="11"/>
                          </a:lnTo>
                          <a:lnTo>
                            <a:pt x="168" y="11"/>
                          </a:lnTo>
                          <a:lnTo>
                            <a:pt x="140" y="10"/>
                          </a:lnTo>
                          <a:lnTo>
                            <a:pt x="116" y="9"/>
                          </a:lnTo>
                          <a:lnTo>
                            <a:pt x="96" y="6"/>
                          </a:lnTo>
                          <a:lnTo>
                            <a:pt x="77" y="5"/>
                          </a:lnTo>
                          <a:lnTo>
                            <a:pt x="60" y="6"/>
                          </a:lnTo>
                          <a:lnTo>
                            <a:pt x="42" y="9"/>
                          </a:lnTo>
                          <a:lnTo>
                            <a:pt x="22" y="16"/>
                          </a:lnTo>
                          <a:lnTo>
                            <a:pt x="0" y="29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Freeform 353"/>
                    <p:cNvSpPr/>
                    <p:nvPr/>
                  </p:nvSpPr>
                  <p:spPr>
                    <a:xfrm flipH="1">
                      <a:off x="2195280" y="3071160"/>
                      <a:ext cx="15480" cy="2520"/>
                    </a:xfrm>
                    <a:custGeom>
                      <a:avLst/>
                      <a:gdLst>
                        <a:gd name="textAreaLeft" fmla="*/ -360 w 15480"/>
                        <a:gd name="textAreaRight" fmla="*/ 15480 w 15480"/>
                        <a:gd name="textAreaTop" fmla="*/ 0 h 2520"/>
                        <a:gd name="textAreaBottom" fmla="*/ 2880 h 2520"/>
                      </a:gdLst>
                      <a:ahLst/>
                      <a:rect l="textAreaLeft" t="textAreaTop" r="textAreaRight" b="textAreaBottom"/>
                      <a:pathLst>
                        <a:path w="112" h="25">
                          <a:moveTo>
                            <a:pt x="0" y="11"/>
                          </a:moveTo>
                          <a:lnTo>
                            <a:pt x="5" y="17"/>
                          </a:lnTo>
                          <a:lnTo>
                            <a:pt x="26" y="25"/>
                          </a:lnTo>
                          <a:lnTo>
                            <a:pt x="80" y="20"/>
                          </a:lnTo>
                          <a:lnTo>
                            <a:pt x="112" y="13"/>
                          </a:lnTo>
                          <a:lnTo>
                            <a:pt x="110" y="4"/>
                          </a:lnTo>
                          <a:lnTo>
                            <a:pt x="108" y="0"/>
                          </a:lnTo>
                          <a:lnTo>
                            <a:pt x="103" y="2"/>
                          </a:lnTo>
                          <a:lnTo>
                            <a:pt x="92" y="4"/>
                          </a:lnTo>
                          <a:lnTo>
                            <a:pt x="61" y="6"/>
                          </a:lnTo>
                          <a:lnTo>
                            <a:pt x="51" y="6"/>
                          </a:lnTo>
                          <a:lnTo>
                            <a:pt x="43" y="4"/>
                          </a:lnTo>
                          <a:lnTo>
                            <a:pt x="35" y="4"/>
                          </a:lnTo>
                          <a:lnTo>
                            <a:pt x="29" y="3"/>
                          </a:lnTo>
                          <a:lnTo>
                            <a:pt x="22" y="3"/>
                          </a:lnTo>
                          <a:lnTo>
                            <a:pt x="14" y="4"/>
                          </a:lnTo>
                          <a:lnTo>
                            <a:pt x="8" y="7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Freeform 367"/>
                    <p:cNvSpPr/>
                    <p:nvPr/>
                  </p:nvSpPr>
                  <p:spPr>
                    <a:xfrm flipH="1">
                      <a:off x="2196000" y="3017880"/>
                      <a:ext cx="14760" cy="8640"/>
                    </a:xfrm>
                    <a:custGeom>
                      <a:avLst/>
                      <a:gdLst>
                        <a:gd name="textAreaLeft" fmla="*/ -360 w 14760"/>
                        <a:gd name="textAreaRight" fmla="*/ 14760 w 14760"/>
                        <a:gd name="textAreaTop" fmla="*/ 0 h 8640"/>
                        <a:gd name="textAreaBottom" fmla="*/ 9000 h 8640"/>
                      </a:gdLst>
                      <a:ahLst/>
                      <a:rect l="textAreaLeft" t="textAreaTop" r="textAreaRight" b="textAreaBottom"/>
                      <a:pathLst>
                        <a:path w="106" h="80">
                          <a:moveTo>
                            <a:pt x="53" y="0"/>
                          </a:moveTo>
                          <a:lnTo>
                            <a:pt x="64" y="1"/>
                          </a:lnTo>
                          <a:lnTo>
                            <a:pt x="74" y="2"/>
                          </a:lnTo>
                          <a:lnTo>
                            <a:pt x="83" y="6"/>
                          </a:lnTo>
                          <a:lnTo>
                            <a:pt x="91" y="11"/>
                          </a:lnTo>
                          <a:lnTo>
                            <a:pt x="97" y="18"/>
                          </a:lnTo>
                          <a:lnTo>
                            <a:pt x="103" y="24"/>
                          </a:lnTo>
                          <a:lnTo>
                            <a:pt x="105" y="32"/>
                          </a:lnTo>
                          <a:lnTo>
                            <a:pt x="106" y="40"/>
                          </a:lnTo>
                          <a:lnTo>
                            <a:pt x="105" y="48"/>
                          </a:lnTo>
                          <a:lnTo>
                            <a:pt x="103" y="55"/>
                          </a:lnTo>
                          <a:lnTo>
                            <a:pt x="97" y="62"/>
                          </a:lnTo>
                          <a:lnTo>
                            <a:pt x="91" y="68"/>
                          </a:lnTo>
                          <a:lnTo>
                            <a:pt x="83" y="74"/>
                          </a:lnTo>
                          <a:lnTo>
                            <a:pt x="74" y="78"/>
                          </a:lnTo>
                          <a:lnTo>
                            <a:pt x="64" y="79"/>
                          </a:lnTo>
                          <a:lnTo>
                            <a:pt x="53" y="80"/>
                          </a:lnTo>
                          <a:lnTo>
                            <a:pt x="43" y="79"/>
                          </a:lnTo>
                          <a:lnTo>
                            <a:pt x="32" y="78"/>
                          </a:lnTo>
                          <a:lnTo>
                            <a:pt x="23" y="74"/>
                          </a:lnTo>
                          <a:lnTo>
                            <a:pt x="16" y="68"/>
                          </a:lnTo>
                          <a:lnTo>
                            <a:pt x="9" y="62"/>
                          </a:lnTo>
                          <a:lnTo>
                            <a:pt x="4" y="55"/>
                          </a:lnTo>
                          <a:lnTo>
                            <a:pt x="1" y="48"/>
                          </a:lnTo>
                          <a:lnTo>
                            <a:pt x="0" y="40"/>
                          </a:lnTo>
                          <a:lnTo>
                            <a:pt x="1" y="32"/>
                          </a:lnTo>
                          <a:lnTo>
                            <a:pt x="4" y="24"/>
                          </a:lnTo>
                          <a:lnTo>
                            <a:pt x="9" y="18"/>
                          </a:lnTo>
                          <a:lnTo>
                            <a:pt x="16" y="11"/>
                          </a:lnTo>
                          <a:lnTo>
                            <a:pt x="23" y="6"/>
                          </a:lnTo>
                          <a:lnTo>
                            <a:pt x="32" y="2"/>
                          </a:lnTo>
                          <a:lnTo>
                            <a:pt x="43" y="1"/>
                          </a:lnTo>
                          <a:lnTo>
                            <a:pt x="53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88" name="Ellipse 199"/>
                <p:cNvSpPr/>
                <p:nvPr/>
              </p:nvSpPr>
              <p:spPr>
                <a:xfrm flipH="1">
                  <a:off x="2178720" y="3009240"/>
                  <a:ext cx="49320" cy="5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acac"/>
                    </a:gs>
                    <a:gs pos="100000">
                      <a:srgbClr val="e6e6e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9" name="Gruppe 348"/>
            <p:cNvGrpSpPr/>
            <p:nvPr/>
          </p:nvGrpSpPr>
          <p:grpSpPr>
            <a:xfrm>
              <a:off x="2071440" y="2930040"/>
              <a:ext cx="125640" cy="158760"/>
              <a:chOff x="2071440" y="2930040"/>
              <a:chExt cx="125640" cy="158760"/>
            </a:xfrm>
          </p:grpSpPr>
          <p:sp>
            <p:nvSpPr>
              <p:cNvPr id="390" name="Ellipse 178"/>
              <p:cNvSpPr/>
              <p:nvPr/>
            </p:nvSpPr>
            <p:spPr>
              <a:xfrm flipH="1">
                <a:off x="2071080" y="3055320"/>
                <a:ext cx="125640" cy="33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" name="Gruppe 850"/>
              <p:cNvGrpSpPr/>
              <p:nvPr/>
            </p:nvGrpSpPr>
            <p:grpSpPr>
              <a:xfrm>
                <a:off x="2096280" y="2930040"/>
                <a:ext cx="68040" cy="147960"/>
                <a:chOff x="2096280" y="2930040"/>
                <a:chExt cx="68040" cy="147960"/>
              </a:xfrm>
            </p:grpSpPr>
            <p:grpSp>
              <p:nvGrpSpPr>
                <p:cNvPr id="392" name="Gruppe 823"/>
                <p:cNvGrpSpPr/>
                <p:nvPr/>
              </p:nvGrpSpPr>
              <p:grpSpPr>
                <a:xfrm>
                  <a:off x="2096280" y="2936880"/>
                  <a:ext cx="68040" cy="141120"/>
                  <a:chOff x="2096280" y="2936880"/>
                  <a:chExt cx="68040" cy="141120"/>
                </a:xfrm>
              </p:grpSpPr>
              <p:grpSp>
                <p:nvGrpSpPr>
                  <p:cNvPr id="393" name="Gruppe 605"/>
                  <p:cNvGrpSpPr/>
                  <p:nvPr/>
                </p:nvGrpSpPr>
                <p:grpSpPr>
                  <a:xfrm>
                    <a:off x="2096280" y="2943720"/>
                    <a:ext cx="68040" cy="134280"/>
                    <a:chOff x="2096280" y="2943720"/>
                    <a:chExt cx="68040" cy="134280"/>
                  </a:xfrm>
                </p:grpSpPr>
                <p:sp>
                  <p:nvSpPr>
                    <p:cNvPr id="394" name="Freeform 130"/>
                    <p:cNvSpPr/>
                    <p:nvPr/>
                  </p:nvSpPr>
                  <p:spPr>
                    <a:xfrm flipH="1">
                      <a:off x="2095920" y="2943720"/>
                      <a:ext cx="68040" cy="134280"/>
                    </a:xfrm>
                    <a:custGeom>
                      <a:avLst/>
                      <a:gdLst>
                        <a:gd name="textAreaLeft" fmla="*/ -360 w 68040"/>
                        <a:gd name="textAreaRight" fmla="*/ 68040 w 68040"/>
                        <a:gd name="textAreaTop" fmla="*/ 0 h 134280"/>
                        <a:gd name="textAreaBottom" fmla="*/ 134640 h 134280"/>
                      </a:gdLst>
                      <a:ahLst/>
                      <a:rect l="textAreaLeft" t="textAreaTop" r="textAreaRight" b="textAreaBottom"/>
                      <a:pathLst>
                        <a:path w="493" h="1194">
                          <a:moveTo>
                            <a:pt x="208" y="62"/>
                          </a:moveTo>
                          <a:lnTo>
                            <a:pt x="167" y="83"/>
                          </a:lnTo>
                          <a:lnTo>
                            <a:pt x="145" y="87"/>
                          </a:lnTo>
                          <a:lnTo>
                            <a:pt x="125" y="93"/>
                          </a:lnTo>
                          <a:lnTo>
                            <a:pt x="110" y="100"/>
                          </a:lnTo>
                          <a:lnTo>
                            <a:pt x="99" y="110"/>
                          </a:lnTo>
                          <a:lnTo>
                            <a:pt x="92" y="124"/>
                          </a:lnTo>
                          <a:lnTo>
                            <a:pt x="90" y="141"/>
                          </a:lnTo>
                          <a:lnTo>
                            <a:pt x="93" y="162"/>
                          </a:lnTo>
                          <a:lnTo>
                            <a:pt x="104" y="187"/>
                          </a:lnTo>
                          <a:lnTo>
                            <a:pt x="158" y="242"/>
                          </a:lnTo>
                          <a:lnTo>
                            <a:pt x="158" y="272"/>
                          </a:lnTo>
                          <a:lnTo>
                            <a:pt x="140" y="282"/>
                          </a:lnTo>
                          <a:lnTo>
                            <a:pt x="135" y="302"/>
                          </a:lnTo>
                          <a:lnTo>
                            <a:pt x="138" y="326"/>
                          </a:lnTo>
                          <a:lnTo>
                            <a:pt x="147" y="346"/>
                          </a:lnTo>
                          <a:lnTo>
                            <a:pt x="104" y="360"/>
                          </a:lnTo>
                          <a:lnTo>
                            <a:pt x="89" y="375"/>
                          </a:lnTo>
                          <a:lnTo>
                            <a:pt x="77" y="389"/>
                          </a:lnTo>
                          <a:lnTo>
                            <a:pt x="71" y="402"/>
                          </a:lnTo>
                          <a:lnTo>
                            <a:pt x="70" y="414"/>
                          </a:lnTo>
                          <a:lnTo>
                            <a:pt x="74" y="426"/>
                          </a:lnTo>
                          <a:lnTo>
                            <a:pt x="82" y="437"/>
                          </a:lnTo>
                          <a:lnTo>
                            <a:pt x="94" y="449"/>
                          </a:lnTo>
                          <a:lnTo>
                            <a:pt x="113" y="459"/>
                          </a:lnTo>
                          <a:lnTo>
                            <a:pt x="173" y="480"/>
                          </a:lnTo>
                          <a:lnTo>
                            <a:pt x="168" y="522"/>
                          </a:lnTo>
                          <a:lnTo>
                            <a:pt x="162" y="562"/>
                          </a:lnTo>
                          <a:lnTo>
                            <a:pt x="156" y="601"/>
                          </a:lnTo>
                          <a:lnTo>
                            <a:pt x="150" y="638"/>
                          </a:lnTo>
                          <a:lnTo>
                            <a:pt x="140" y="676"/>
                          </a:lnTo>
                          <a:lnTo>
                            <a:pt x="129" y="713"/>
                          </a:lnTo>
                          <a:lnTo>
                            <a:pt x="115" y="750"/>
                          </a:lnTo>
                          <a:lnTo>
                            <a:pt x="98" y="789"/>
                          </a:lnTo>
                          <a:lnTo>
                            <a:pt x="83" y="796"/>
                          </a:lnTo>
                          <a:lnTo>
                            <a:pt x="70" y="804"/>
                          </a:lnTo>
                          <a:lnTo>
                            <a:pt x="61" y="814"/>
                          </a:lnTo>
                          <a:lnTo>
                            <a:pt x="55" y="823"/>
                          </a:lnTo>
                          <a:lnTo>
                            <a:pt x="53" y="835"/>
                          </a:lnTo>
                          <a:lnTo>
                            <a:pt x="55" y="845"/>
                          </a:lnTo>
                          <a:lnTo>
                            <a:pt x="62" y="857"/>
                          </a:lnTo>
                          <a:lnTo>
                            <a:pt x="75" y="868"/>
                          </a:lnTo>
                          <a:lnTo>
                            <a:pt x="78" y="889"/>
                          </a:lnTo>
                          <a:lnTo>
                            <a:pt x="53" y="896"/>
                          </a:lnTo>
                          <a:lnTo>
                            <a:pt x="34" y="905"/>
                          </a:lnTo>
                          <a:lnTo>
                            <a:pt x="21" y="916"/>
                          </a:lnTo>
                          <a:lnTo>
                            <a:pt x="13" y="928"/>
                          </a:lnTo>
                          <a:lnTo>
                            <a:pt x="8" y="942"/>
                          </a:lnTo>
                          <a:lnTo>
                            <a:pt x="8" y="959"/>
                          </a:lnTo>
                          <a:lnTo>
                            <a:pt x="10" y="978"/>
                          </a:lnTo>
                          <a:lnTo>
                            <a:pt x="15" y="999"/>
                          </a:lnTo>
                          <a:lnTo>
                            <a:pt x="19" y="1032"/>
                          </a:lnTo>
                          <a:lnTo>
                            <a:pt x="0" y="1057"/>
                          </a:lnTo>
                          <a:lnTo>
                            <a:pt x="0" y="1121"/>
                          </a:lnTo>
                          <a:lnTo>
                            <a:pt x="18" y="1137"/>
                          </a:lnTo>
                          <a:lnTo>
                            <a:pt x="41" y="1151"/>
                          </a:lnTo>
                          <a:lnTo>
                            <a:pt x="69" y="1163"/>
                          </a:lnTo>
                          <a:lnTo>
                            <a:pt x="101" y="1174"/>
                          </a:lnTo>
                          <a:lnTo>
                            <a:pt x="135" y="1182"/>
                          </a:lnTo>
                          <a:lnTo>
                            <a:pt x="171" y="1189"/>
                          </a:lnTo>
                          <a:lnTo>
                            <a:pt x="208" y="1192"/>
                          </a:lnTo>
                          <a:lnTo>
                            <a:pt x="246" y="1194"/>
                          </a:lnTo>
                          <a:lnTo>
                            <a:pt x="285" y="1193"/>
                          </a:lnTo>
                          <a:lnTo>
                            <a:pt x="322" y="1190"/>
                          </a:lnTo>
                          <a:lnTo>
                            <a:pt x="359" y="1184"/>
                          </a:lnTo>
                          <a:lnTo>
                            <a:pt x="393" y="1175"/>
                          </a:lnTo>
                          <a:lnTo>
                            <a:pt x="424" y="1162"/>
                          </a:lnTo>
                          <a:lnTo>
                            <a:pt x="451" y="1147"/>
                          </a:lnTo>
                          <a:lnTo>
                            <a:pt x="474" y="1129"/>
                          </a:lnTo>
                          <a:lnTo>
                            <a:pt x="493" y="1107"/>
                          </a:lnTo>
                          <a:lnTo>
                            <a:pt x="493" y="1069"/>
                          </a:lnTo>
                          <a:lnTo>
                            <a:pt x="484" y="1032"/>
                          </a:lnTo>
                          <a:lnTo>
                            <a:pt x="487" y="1005"/>
                          </a:lnTo>
                          <a:lnTo>
                            <a:pt x="489" y="984"/>
                          </a:lnTo>
                          <a:lnTo>
                            <a:pt x="489" y="965"/>
                          </a:lnTo>
                          <a:lnTo>
                            <a:pt x="486" y="950"/>
                          </a:lnTo>
                          <a:lnTo>
                            <a:pt x="480" y="936"/>
                          </a:lnTo>
                          <a:lnTo>
                            <a:pt x="470" y="921"/>
                          </a:lnTo>
                          <a:lnTo>
                            <a:pt x="454" y="906"/>
                          </a:lnTo>
                          <a:lnTo>
                            <a:pt x="433" y="888"/>
                          </a:lnTo>
                          <a:lnTo>
                            <a:pt x="441" y="870"/>
                          </a:lnTo>
                          <a:lnTo>
                            <a:pt x="446" y="855"/>
                          </a:lnTo>
                          <a:lnTo>
                            <a:pt x="449" y="842"/>
                          </a:lnTo>
                          <a:lnTo>
                            <a:pt x="449" y="832"/>
                          </a:lnTo>
                          <a:lnTo>
                            <a:pt x="444" y="823"/>
                          </a:lnTo>
                          <a:lnTo>
                            <a:pt x="438" y="814"/>
                          </a:lnTo>
                          <a:lnTo>
                            <a:pt x="425" y="805"/>
                          </a:lnTo>
                          <a:lnTo>
                            <a:pt x="409" y="793"/>
                          </a:lnTo>
                          <a:lnTo>
                            <a:pt x="389" y="751"/>
                          </a:lnTo>
                          <a:lnTo>
                            <a:pt x="373" y="713"/>
                          </a:lnTo>
                          <a:lnTo>
                            <a:pt x="362" y="677"/>
                          </a:lnTo>
                          <a:lnTo>
                            <a:pt x="355" y="644"/>
                          </a:lnTo>
                          <a:lnTo>
                            <a:pt x="349" y="609"/>
                          </a:lnTo>
                          <a:lnTo>
                            <a:pt x="345" y="572"/>
                          </a:lnTo>
                          <a:lnTo>
                            <a:pt x="344" y="531"/>
                          </a:lnTo>
                          <a:lnTo>
                            <a:pt x="344" y="485"/>
                          </a:lnTo>
                          <a:lnTo>
                            <a:pt x="379" y="471"/>
                          </a:lnTo>
                          <a:lnTo>
                            <a:pt x="404" y="455"/>
                          </a:lnTo>
                          <a:lnTo>
                            <a:pt x="417" y="446"/>
                          </a:lnTo>
                          <a:lnTo>
                            <a:pt x="426" y="435"/>
                          </a:lnTo>
                          <a:lnTo>
                            <a:pt x="433" y="423"/>
                          </a:lnTo>
                          <a:lnTo>
                            <a:pt x="436" y="411"/>
                          </a:lnTo>
                          <a:lnTo>
                            <a:pt x="434" y="398"/>
                          </a:lnTo>
                          <a:lnTo>
                            <a:pt x="427" y="386"/>
                          </a:lnTo>
                          <a:lnTo>
                            <a:pt x="414" y="374"/>
                          </a:lnTo>
                          <a:lnTo>
                            <a:pt x="394" y="364"/>
                          </a:lnTo>
                          <a:lnTo>
                            <a:pt x="368" y="356"/>
                          </a:lnTo>
                          <a:lnTo>
                            <a:pt x="379" y="343"/>
                          </a:lnTo>
                          <a:lnTo>
                            <a:pt x="386" y="330"/>
                          </a:lnTo>
                          <a:lnTo>
                            <a:pt x="390" y="318"/>
                          </a:lnTo>
                          <a:lnTo>
                            <a:pt x="393" y="306"/>
                          </a:lnTo>
                          <a:lnTo>
                            <a:pt x="390" y="295"/>
                          </a:lnTo>
                          <a:lnTo>
                            <a:pt x="386" y="283"/>
                          </a:lnTo>
                          <a:lnTo>
                            <a:pt x="376" y="273"/>
                          </a:lnTo>
                          <a:lnTo>
                            <a:pt x="364" y="261"/>
                          </a:lnTo>
                          <a:lnTo>
                            <a:pt x="389" y="227"/>
                          </a:lnTo>
                          <a:lnTo>
                            <a:pt x="409" y="192"/>
                          </a:lnTo>
                          <a:lnTo>
                            <a:pt x="420" y="170"/>
                          </a:lnTo>
                          <a:lnTo>
                            <a:pt x="428" y="153"/>
                          </a:lnTo>
                          <a:lnTo>
                            <a:pt x="432" y="139"/>
                          </a:lnTo>
                          <a:lnTo>
                            <a:pt x="432" y="128"/>
                          </a:lnTo>
                          <a:lnTo>
                            <a:pt x="426" y="118"/>
                          </a:lnTo>
                          <a:lnTo>
                            <a:pt x="416" y="110"/>
                          </a:lnTo>
                          <a:lnTo>
                            <a:pt x="400" y="102"/>
                          </a:lnTo>
                          <a:lnTo>
                            <a:pt x="378" y="92"/>
                          </a:lnTo>
                          <a:lnTo>
                            <a:pt x="349" y="77"/>
                          </a:lnTo>
                          <a:lnTo>
                            <a:pt x="320" y="68"/>
                          </a:lnTo>
                          <a:lnTo>
                            <a:pt x="322" y="54"/>
                          </a:lnTo>
                          <a:lnTo>
                            <a:pt x="322" y="42"/>
                          </a:lnTo>
                          <a:lnTo>
                            <a:pt x="320" y="32"/>
                          </a:lnTo>
                          <a:lnTo>
                            <a:pt x="315" y="23"/>
                          </a:lnTo>
                          <a:lnTo>
                            <a:pt x="309" y="16"/>
                          </a:lnTo>
                          <a:lnTo>
                            <a:pt x="300" y="10"/>
                          </a:lnTo>
                          <a:lnTo>
                            <a:pt x="291" y="5"/>
                          </a:lnTo>
                          <a:lnTo>
                            <a:pt x="281" y="2"/>
                          </a:lnTo>
                          <a:lnTo>
                            <a:pt x="268" y="0"/>
                          </a:lnTo>
                          <a:lnTo>
                            <a:pt x="256" y="1"/>
                          </a:lnTo>
                          <a:lnTo>
                            <a:pt x="243" y="3"/>
                          </a:lnTo>
                          <a:lnTo>
                            <a:pt x="233" y="8"/>
                          </a:lnTo>
                          <a:lnTo>
                            <a:pt x="222" y="16"/>
                          </a:lnTo>
                          <a:lnTo>
                            <a:pt x="215" y="27"/>
                          </a:lnTo>
                          <a:lnTo>
                            <a:pt x="211" y="42"/>
                          </a:lnTo>
                          <a:lnTo>
                            <a:pt x="208" y="62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acacac"/>
                        </a:gs>
                        <a:gs pos="100000">
                          <a:srgbClr val="e6e6e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Freeform 131"/>
                    <p:cNvSpPr/>
                    <p:nvPr/>
                  </p:nvSpPr>
                  <p:spPr>
                    <a:xfrm flipH="1">
                      <a:off x="2116440" y="2951640"/>
                      <a:ext cx="27000" cy="6120"/>
                    </a:xfrm>
                    <a:custGeom>
                      <a:avLst/>
                      <a:gdLst>
                        <a:gd name="textAreaLeft" fmla="*/ -360 w 27000"/>
                        <a:gd name="textAreaRight" fmla="*/ 27000 w 2700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185" h="58">
                          <a:moveTo>
                            <a:pt x="13" y="8"/>
                          </a:moveTo>
                          <a:lnTo>
                            <a:pt x="0" y="22"/>
                          </a:lnTo>
                          <a:lnTo>
                            <a:pt x="8" y="43"/>
                          </a:lnTo>
                          <a:lnTo>
                            <a:pt x="28" y="49"/>
                          </a:lnTo>
                          <a:lnTo>
                            <a:pt x="53" y="54"/>
                          </a:lnTo>
                          <a:lnTo>
                            <a:pt x="81" y="58"/>
                          </a:lnTo>
                          <a:lnTo>
                            <a:pt x="108" y="56"/>
                          </a:lnTo>
                          <a:lnTo>
                            <a:pt x="135" y="53"/>
                          </a:lnTo>
                          <a:lnTo>
                            <a:pt x="159" y="46"/>
                          </a:lnTo>
                          <a:lnTo>
                            <a:pt x="176" y="33"/>
                          </a:lnTo>
                          <a:lnTo>
                            <a:pt x="185" y="16"/>
                          </a:lnTo>
                          <a:lnTo>
                            <a:pt x="160" y="6"/>
                          </a:lnTo>
                          <a:lnTo>
                            <a:pt x="144" y="0"/>
                          </a:lnTo>
                          <a:lnTo>
                            <a:pt x="139" y="15"/>
                          </a:lnTo>
                          <a:lnTo>
                            <a:pt x="127" y="24"/>
                          </a:lnTo>
                          <a:lnTo>
                            <a:pt x="109" y="29"/>
                          </a:lnTo>
                          <a:lnTo>
                            <a:pt x="89" y="29"/>
                          </a:lnTo>
                          <a:lnTo>
                            <a:pt x="68" y="25"/>
                          </a:lnTo>
                          <a:lnTo>
                            <a:pt x="51" y="20"/>
                          </a:lnTo>
                          <a:lnTo>
                            <a:pt x="38" y="11"/>
                          </a:lnTo>
                          <a:lnTo>
                            <a:pt x="33" y="1"/>
                          </a:lnTo>
                          <a:lnTo>
                            <a:pt x="13" y="8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Freeform 132"/>
                    <p:cNvSpPr/>
                    <p:nvPr/>
                  </p:nvSpPr>
                  <p:spPr>
                    <a:xfrm flipH="1">
                      <a:off x="2107800" y="2954880"/>
                      <a:ext cx="44280" cy="11160"/>
                    </a:xfrm>
                    <a:custGeom>
                      <a:avLst/>
                      <a:gdLst>
                        <a:gd name="textAreaLeft" fmla="*/ -360 w 44280"/>
                        <a:gd name="textAreaRight" fmla="*/ 44280 w 4428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329" h="102">
                          <a:moveTo>
                            <a:pt x="32" y="10"/>
                          </a:moveTo>
                          <a:lnTo>
                            <a:pt x="1" y="26"/>
                          </a:lnTo>
                          <a:lnTo>
                            <a:pt x="0" y="43"/>
                          </a:lnTo>
                          <a:lnTo>
                            <a:pt x="3" y="60"/>
                          </a:lnTo>
                          <a:lnTo>
                            <a:pt x="14" y="71"/>
                          </a:lnTo>
                          <a:lnTo>
                            <a:pt x="27" y="81"/>
                          </a:lnTo>
                          <a:lnTo>
                            <a:pt x="46" y="90"/>
                          </a:lnTo>
                          <a:lnTo>
                            <a:pt x="67" y="95"/>
                          </a:lnTo>
                          <a:lnTo>
                            <a:pt x="91" y="100"/>
                          </a:lnTo>
                          <a:lnTo>
                            <a:pt x="117" y="102"/>
                          </a:lnTo>
                          <a:lnTo>
                            <a:pt x="144" y="102"/>
                          </a:lnTo>
                          <a:lnTo>
                            <a:pt x="171" y="102"/>
                          </a:lnTo>
                          <a:lnTo>
                            <a:pt x="199" y="100"/>
                          </a:lnTo>
                          <a:lnTo>
                            <a:pt x="225" y="98"/>
                          </a:lnTo>
                          <a:lnTo>
                            <a:pt x="251" y="94"/>
                          </a:lnTo>
                          <a:lnTo>
                            <a:pt x="273" y="90"/>
                          </a:lnTo>
                          <a:lnTo>
                            <a:pt x="292" y="85"/>
                          </a:lnTo>
                          <a:lnTo>
                            <a:pt x="308" y="79"/>
                          </a:lnTo>
                          <a:lnTo>
                            <a:pt x="319" y="71"/>
                          </a:lnTo>
                          <a:lnTo>
                            <a:pt x="326" y="61"/>
                          </a:lnTo>
                          <a:lnTo>
                            <a:pt x="329" y="50"/>
                          </a:lnTo>
                          <a:lnTo>
                            <a:pt x="329" y="39"/>
                          </a:lnTo>
                          <a:lnTo>
                            <a:pt x="325" y="28"/>
                          </a:lnTo>
                          <a:lnTo>
                            <a:pt x="316" y="18"/>
                          </a:lnTo>
                          <a:lnTo>
                            <a:pt x="303" y="8"/>
                          </a:lnTo>
                          <a:lnTo>
                            <a:pt x="285" y="0"/>
                          </a:lnTo>
                          <a:lnTo>
                            <a:pt x="269" y="18"/>
                          </a:lnTo>
                          <a:lnTo>
                            <a:pt x="252" y="31"/>
                          </a:lnTo>
                          <a:lnTo>
                            <a:pt x="234" y="39"/>
                          </a:lnTo>
                          <a:lnTo>
                            <a:pt x="215" y="43"/>
                          </a:lnTo>
                          <a:lnTo>
                            <a:pt x="194" y="45"/>
                          </a:lnTo>
                          <a:lnTo>
                            <a:pt x="173" y="43"/>
                          </a:lnTo>
                          <a:lnTo>
                            <a:pt x="148" y="41"/>
                          </a:lnTo>
                          <a:lnTo>
                            <a:pt x="122" y="40"/>
                          </a:lnTo>
                          <a:lnTo>
                            <a:pt x="67" y="30"/>
                          </a:lnTo>
                          <a:lnTo>
                            <a:pt x="49" y="3"/>
                          </a:lnTo>
                          <a:lnTo>
                            <a:pt x="32" y="10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Freeform 133"/>
                    <p:cNvSpPr/>
                    <p:nvPr/>
                  </p:nvSpPr>
                  <p:spPr>
                    <a:xfrm flipH="1">
                      <a:off x="2116440" y="2980440"/>
                      <a:ext cx="27000" cy="2880"/>
                    </a:xfrm>
                    <a:custGeom>
                      <a:avLst/>
                      <a:gdLst>
                        <a:gd name="textAreaLeft" fmla="*/ -360 w 27000"/>
                        <a:gd name="textAreaRight" fmla="*/ 27000 w 27000"/>
                        <a:gd name="textAreaTop" fmla="*/ 0 h 2880"/>
                        <a:gd name="textAreaBottom" fmla="*/ 3240 h 2880"/>
                      </a:gdLst>
                      <a:ahLst/>
                      <a:rect l="textAreaLeft" t="textAreaTop" r="textAreaRight" b="textAreaBottom"/>
                      <a:pathLst>
                        <a:path w="204" h="37">
                          <a:moveTo>
                            <a:pt x="12" y="0"/>
                          </a:moveTo>
                          <a:lnTo>
                            <a:pt x="24" y="6"/>
                          </a:lnTo>
                          <a:lnTo>
                            <a:pt x="35" y="12"/>
                          </a:lnTo>
                          <a:lnTo>
                            <a:pt x="47" y="15"/>
                          </a:lnTo>
                          <a:lnTo>
                            <a:pt x="58" y="17"/>
                          </a:lnTo>
                          <a:lnTo>
                            <a:pt x="70" y="20"/>
                          </a:lnTo>
                          <a:lnTo>
                            <a:pt x="82" y="21"/>
                          </a:lnTo>
                          <a:lnTo>
                            <a:pt x="94" y="22"/>
                          </a:lnTo>
                          <a:lnTo>
                            <a:pt x="106" y="21"/>
                          </a:lnTo>
                          <a:lnTo>
                            <a:pt x="119" y="20"/>
                          </a:lnTo>
                          <a:lnTo>
                            <a:pt x="131" y="19"/>
                          </a:lnTo>
                          <a:lnTo>
                            <a:pt x="143" y="16"/>
                          </a:lnTo>
                          <a:lnTo>
                            <a:pt x="156" y="14"/>
                          </a:lnTo>
                          <a:lnTo>
                            <a:pt x="167" y="12"/>
                          </a:lnTo>
                          <a:lnTo>
                            <a:pt x="180" y="8"/>
                          </a:lnTo>
                          <a:lnTo>
                            <a:pt x="192" y="6"/>
                          </a:lnTo>
                          <a:lnTo>
                            <a:pt x="204" y="2"/>
                          </a:lnTo>
                          <a:lnTo>
                            <a:pt x="204" y="14"/>
                          </a:lnTo>
                          <a:lnTo>
                            <a:pt x="196" y="17"/>
                          </a:lnTo>
                          <a:lnTo>
                            <a:pt x="188" y="21"/>
                          </a:lnTo>
                          <a:lnTo>
                            <a:pt x="178" y="24"/>
                          </a:lnTo>
                          <a:lnTo>
                            <a:pt x="167" y="27"/>
                          </a:lnTo>
                          <a:lnTo>
                            <a:pt x="155" y="30"/>
                          </a:lnTo>
                          <a:lnTo>
                            <a:pt x="143" y="32"/>
                          </a:lnTo>
                          <a:lnTo>
                            <a:pt x="129" y="35"/>
                          </a:lnTo>
                          <a:lnTo>
                            <a:pt x="117" y="37"/>
                          </a:lnTo>
                          <a:lnTo>
                            <a:pt x="102" y="37"/>
                          </a:lnTo>
                          <a:lnTo>
                            <a:pt x="88" y="37"/>
                          </a:lnTo>
                          <a:lnTo>
                            <a:pt x="73" y="36"/>
                          </a:lnTo>
                          <a:lnTo>
                            <a:pt x="58" y="34"/>
                          </a:lnTo>
                          <a:lnTo>
                            <a:pt x="44" y="29"/>
                          </a:lnTo>
                          <a:lnTo>
                            <a:pt x="29" y="24"/>
                          </a:lnTo>
                          <a:lnTo>
                            <a:pt x="14" y="17"/>
                          </a:lnTo>
                          <a:lnTo>
                            <a:pt x="0" y="8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cfcfc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Freeform 135"/>
                    <p:cNvSpPr/>
                    <p:nvPr/>
                  </p:nvSpPr>
                  <p:spPr>
                    <a:xfrm flipH="1">
                      <a:off x="2104920" y="2983680"/>
                      <a:ext cx="47520" cy="11160"/>
                    </a:xfrm>
                    <a:custGeom>
                      <a:avLst/>
                      <a:gdLst>
                        <a:gd name="textAreaLeft" fmla="*/ 360 w 47520"/>
                        <a:gd name="textAreaRight" fmla="*/ 48240 w 4752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351" h="100">
                          <a:moveTo>
                            <a:pt x="40" y="0"/>
                          </a:moveTo>
                          <a:lnTo>
                            <a:pt x="19" y="9"/>
                          </a:lnTo>
                          <a:lnTo>
                            <a:pt x="6" y="20"/>
                          </a:lnTo>
                          <a:lnTo>
                            <a:pt x="0" y="30"/>
                          </a:lnTo>
                          <a:lnTo>
                            <a:pt x="0" y="42"/>
                          </a:lnTo>
                          <a:lnTo>
                            <a:pt x="7" y="53"/>
                          </a:lnTo>
                          <a:lnTo>
                            <a:pt x="17" y="65"/>
                          </a:lnTo>
                          <a:lnTo>
                            <a:pt x="32" y="75"/>
                          </a:lnTo>
                          <a:lnTo>
                            <a:pt x="50" y="85"/>
                          </a:lnTo>
                          <a:lnTo>
                            <a:pt x="66" y="89"/>
                          </a:lnTo>
                          <a:lnTo>
                            <a:pt x="82" y="92"/>
                          </a:lnTo>
                          <a:lnTo>
                            <a:pt x="97" y="95"/>
                          </a:lnTo>
                          <a:lnTo>
                            <a:pt x="113" y="96"/>
                          </a:lnTo>
                          <a:lnTo>
                            <a:pt x="128" y="98"/>
                          </a:lnTo>
                          <a:lnTo>
                            <a:pt x="144" y="99"/>
                          </a:lnTo>
                          <a:lnTo>
                            <a:pt x="159" y="99"/>
                          </a:lnTo>
                          <a:lnTo>
                            <a:pt x="174" y="100"/>
                          </a:lnTo>
                          <a:lnTo>
                            <a:pt x="189" y="100"/>
                          </a:lnTo>
                          <a:lnTo>
                            <a:pt x="205" y="100"/>
                          </a:lnTo>
                          <a:lnTo>
                            <a:pt x="220" y="99"/>
                          </a:lnTo>
                          <a:lnTo>
                            <a:pt x="236" y="99"/>
                          </a:lnTo>
                          <a:lnTo>
                            <a:pt x="251" y="98"/>
                          </a:lnTo>
                          <a:lnTo>
                            <a:pt x="267" y="97"/>
                          </a:lnTo>
                          <a:lnTo>
                            <a:pt x="284" y="95"/>
                          </a:lnTo>
                          <a:lnTo>
                            <a:pt x="300" y="94"/>
                          </a:lnTo>
                          <a:lnTo>
                            <a:pt x="323" y="81"/>
                          </a:lnTo>
                          <a:lnTo>
                            <a:pt x="339" y="68"/>
                          </a:lnTo>
                          <a:lnTo>
                            <a:pt x="349" y="56"/>
                          </a:lnTo>
                          <a:lnTo>
                            <a:pt x="351" y="43"/>
                          </a:lnTo>
                          <a:lnTo>
                            <a:pt x="348" y="31"/>
                          </a:lnTo>
                          <a:lnTo>
                            <a:pt x="338" y="21"/>
                          </a:lnTo>
                          <a:lnTo>
                            <a:pt x="320" y="12"/>
                          </a:lnTo>
                          <a:lnTo>
                            <a:pt x="296" y="5"/>
                          </a:lnTo>
                          <a:lnTo>
                            <a:pt x="298" y="15"/>
                          </a:lnTo>
                          <a:lnTo>
                            <a:pt x="294" y="23"/>
                          </a:lnTo>
                          <a:lnTo>
                            <a:pt x="284" y="30"/>
                          </a:lnTo>
                          <a:lnTo>
                            <a:pt x="272" y="37"/>
                          </a:lnTo>
                          <a:lnTo>
                            <a:pt x="258" y="38"/>
                          </a:lnTo>
                          <a:lnTo>
                            <a:pt x="245" y="39"/>
                          </a:lnTo>
                          <a:lnTo>
                            <a:pt x="234" y="41"/>
                          </a:lnTo>
                          <a:lnTo>
                            <a:pt x="222" y="42"/>
                          </a:lnTo>
                          <a:lnTo>
                            <a:pt x="211" y="43"/>
                          </a:lnTo>
                          <a:lnTo>
                            <a:pt x="199" y="43"/>
                          </a:lnTo>
                          <a:lnTo>
                            <a:pt x="188" y="44"/>
                          </a:lnTo>
                          <a:lnTo>
                            <a:pt x="178" y="44"/>
                          </a:lnTo>
                          <a:lnTo>
                            <a:pt x="166" y="44"/>
                          </a:lnTo>
                          <a:lnTo>
                            <a:pt x="155" y="44"/>
                          </a:lnTo>
                          <a:lnTo>
                            <a:pt x="143" y="44"/>
                          </a:lnTo>
                          <a:lnTo>
                            <a:pt x="133" y="43"/>
                          </a:lnTo>
                          <a:lnTo>
                            <a:pt x="120" y="42"/>
                          </a:lnTo>
                          <a:lnTo>
                            <a:pt x="108" y="41"/>
                          </a:lnTo>
                          <a:lnTo>
                            <a:pt x="96" y="39"/>
                          </a:lnTo>
                          <a:lnTo>
                            <a:pt x="82" y="37"/>
                          </a:lnTo>
                          <a:lnTo>
                            <a:pt x="73" y="32"/>
                          </a:lnTo>
                          <a:lnTo>
                            <a:pt x="65" y="28"/>
                          </a:lnTo>
                          <a:lnTo>
                            <a:pt x="58" y="23"/>
                          </a:lnTo>
                          <a:lnTo>
                            <a:pt x="52" y="19"/>
                          </a:lnTo>
                          <a:lnTo>
                            <a:pt x="47" y="14"/>
                          </a:lnTo>
                          <a:lnTo>
                            <a:pt x="44" y="11"/>
                          </a:lnTo>
                          <a:lnTo>
                            <a:pt x="42" y="5"/>
                          </a:lnTo>
                          <a:lnTo>
                            <a:pt x="40" y="0"/>
                          </a:lnTo>
                          <a:close/>
                        </a:path>
                      </a:pathLst>
                    </a:custGeom>
                    <a:solidFill>
                      <a:srgbClr val="cfcfc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Freeform 147"/>
                    <p:cNvSpPr/>
                    <p:nvPr/>
                  </p:nvSpPr>
                  <p:spPr>
                    <a:xfrm flipH="1">
                      <a:off x="2104920" y="3034800"/>
                      <a:ext cx="51120" cy="11160"/>
                    </a:xfrm>
                    <a:custGeom>
                      <a:avLst/>
                      <a:gdLst>
                        <a:gd name="textAreaLeft" fmla="*/ 360 w 51120"/>
                        <a:gd name="textAreaRight" fmla="*/ 51840 w 5112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382" h="96">
                          <a:moveTo>
                            <a:pt x="24" y="4"/>
                          </a:moveTo>
                          <a:lnTo>
                            <a:pt x="68" y="40"/>
                          </a:lnTo>
                          <a:lnTo>
                            <a:pt x="89" y="44"/>
                          </a:lnTo>
                          <a:lnTo>
                            <a:pt x="108" y="48"/>
                          </a:lnTo>
                          <a:lnTo>
                            <a:pt x="127" y="53"/>
                          </a:lnTo>
                          <a:lnTo>
                            <a:pt x="144" y="55"/>
                          </a:lnTo>
                          <a:lnTo>
                            <a:pt x="160" y="57"/>
                          </a:lnTo>
                          <a:lnTo>
                            <a:pt x="176" y="59"/>
                          </a:lnTo>
                          <a:lnTo>
                            <a:pt x="192" y="59"/>
                          </a:lnTo>
                          <a:lnTo>
                            <a:pt x="207" y="59"/>
                          </a:lnTo>
                          <a:lnTo>
                            <a:pt x="222" y="58"/>
                          </a:lnTo>
                          <a:lnTo>
                            <a:pt x="237" y="57"/>
                          </a:lnTo>
                          <a:lnTo>
                            <a:pt x="253" y="54"/>
                          </a:lnTo>
                          <a:lnTo>
                            <a:pt x="270" y="50"/>
                          </a:lnTo>
                          <a:lnTo>
                            <a:pt x="286" y="46"/>
                          </a:lnTo>
                          <a:lnTo>
                            <a:pt x="304" y="39"/>
                          </a:lnTo>
                          <a:lnTo>
                            <a:pt x="323" y="32"/>
                          </a:lnTo>
                          <a:lnTo>
                            <a:pt x="342" y="23"/>
                          </a:lnTo>
                          <a:lnTo>
                            <a:pt x="348" y="10"/>
                          </a:lnTo>
                          <a:lnTo>
                            <a:pt x="352" y="3"/>
                          </a:lnTo>
                          <a:lnTo>
                            <a:pt x="356" y="0"/>
                          </a:lnTo>
                          <a:lnTo>
                            <a:pt x="359" y="1"/>
                          </a:lnTo>
                          <a:lnTo>
                            <a:pt x="363" y="4"/>
                          </a:lnTo>
                          <a:lnTo>
                            <a:pt x="367" y="11"/>
                          </a:lnTo>
                          <a:lnTo>
                            <a:pt x="374" y="20"/>
                          </a:lnTo>
                          <a:lnTo>
                            <a:pt x="382" y="32"/>
                          </a:lnTo>
                          <a:lnTo>
                            <a:pt x="366" y="55"/>
                          </a:lnTo>
                          <a:lnTo>
                            <a:pt x="349" y="65"/>
                          </a:lnTo>
                          <a:lnTo>
                            <a:pt x="329" y="73"/>
                          </a:lnTo>
                          <a:lnTo>
                            <a:pt x="310" y="80"/>
                          </a:lnTo>
                          <a:lnTo>
                            <a:pt x="288" y="86"/>
                          </a:lnTo>
                          <a:lnTo>
                            <a:pt x="266" y="91"/>
                          </a:lnTo>
                          <a:lnTo>
                            <a:pt x="243" y="94"/>
                          </a:lnTo>
                          <a:lnTo>
                            <a:pt x="219" y="96"/>
                          </a:lnTo>
                          <a:lnTo>
                            <a:pt x="196" y="96"/>
                          </a:lnTo>
                          <a:lnTo>
                            <a:pt x="172" y="96"/>
                          </a:lnTo>
                          <a:lnTo>
                            <a:pt x="147" y="95"/>
                          </a:lnTo>
                          <a:lnTo>
                            <a:pt x="124" y="92"/>
                          </a:lnTo>
                          <a:lnTo>
                            <a:pt x="101" y="88"/>
                          </a:lnTo>
                          <a:lnTo>
                            <a:pt x="78" y="84"/>
                          </a:lnTo>
                          <a:lnTo>
                            <a:pt x="58" y="79"/>
                          </a:lnTo>
                          <a:lnTo>
                            <a:pt x="37" y="72"/>
                          </a:lnTo>
                          <a:lnTo>
                            <a:pt x="18" y="65"/>
                          </a:lnTo>
                          <a:lnTo>
                            <a:pt x="12" y="56"/>
                          </a:lnTo>
                          <a:lnTo>
                            <a:pt x="6" y="47"/>
                          </a:lnTo>
                          <a:lnTo>
                            <a:pt x="2" y="38"/>
                          </a:lnTo>
                          <a:lnTo>
                            <a:pt x="0" y="28"/>
                          </a:lnTo>
                          <a:lnTo>
                            <a:pt x="0" y="20"/>
                          </a:lnTo>
                          <a:lnTo>
                            <a:pt x="5" y="13"/>
                          </a:lnTo>
                          <a:lnTo>
                            <a:pt x="12" y="8"/>
                          </a:lnTo>
                          <a:lnTo>
                            <a:pt x="24" y="4"/>
                          </a:lnTo>
                          <a:close/>
                        </a:path>
                      </a:pathLst>
                    </a:custGeom>
                    <a:solidFill>
                      <a:srgbClr val="cfcfc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Freeform 148"/>
                    <p:cNvSpPr/>
                    <p:nvPr/>
                  </p:nvSpPr>
                  <p:spPr>
                    <a:xfrm flipH="1">
                      <a:off x="2095920" y="3041280"/>
                      <a:ext cx="68040" cy="22320"/>
                    </a:xfrm>
                    <a:custGeom>
                      <a:avLst/>
                      <a:gdLst>
                        <a:gd name="textAreaLeft" fmla="*/ -360 w 68040"/>
                        <a:gd name="textAreaRight" fmla="*/ 68040 w 68040"/>
                        <a:gd name="textAreaTop" fmla="*/ 0 h 22320"/>
                        <a:gd name="textAreaBottom" fmla="*/ 22680 h 22320"/>
                      </a:gdLst>
                      <a:ahLst/>
                      <a:rect l="textAreaLeft" t="textAreaTop" r="textAreaRight" b="textAreaBottom"/>
                      <a:pathLst>
                        <a:path w="483" h="184">
                          <a:moveTo>
                            <a:pt x="7" y="102"/>
                          </a:moveTo>
                          <a:lnTo>
                            <a:pt x="18" y="116"/>
                          </a:lnTo>
                          <a:lnTo>
                            <a:pt x="34" y="130"/>
                          </a:lnTo>
                          <a:lnTo>
                            <a:pt x="55" y="143"/>
                          </a:lnTo>
                          <a:lnTo>
                            <a:pt x="80" y="155"/>
                          </a:lnTo>
                          <a:lnTo>
                            <a:pt x="109" y="165"/>
                          </a:lnTo>
                          <a:lnTo>
                            <a:pt x="141" y="173"/>
                          </a:lnTo>
                          <a:lnTo>
                            <a:pt x="176" y="179"/>
                          </a:lnTo>
                          <a:lnTo>
                            <a:pt x="211" y="182"/>
                          </a:lnTo>
                          <a:lnTo>
                            <a:pt x="248" y="184"/>
                          </a:lnTo>
                          <a:lnTo>
                            <a:pt x="285" y="183"/>
                          </a:lnTo>
                          <a:lnTo>
                            <a:pt x="323" y="180"/>
                          </a:lnTo>
                          <a:lnTo>
                            <a:pt x="359" y="173"/>
                          </a:lnTo>
                          <a:lnTo>
                            <a:pt x="393" y="164"/>
                          </a:lnTo>
                          <a:lnTo>
                            <a:pt x="427" y="151"/>
                          </a:lnTo>
                          <a:lnTo>
                            <a:pt x="455" y="135"/>
                          </a:lnTo>
                          <a:lnTo>
                            <a:pt x="482" y="115"/>
                          </a:lnTo>
                          <a:lnTo>
                            <a:pt x="483" y="93"/>
                          </a:lnTo>
                          <a:lnTo>
                            <a:pt x="483" y="77"/>
                          </a:lnTo>
                          <a:lnTo>
                            <a:pt x="482" y="65"/>
                          </a:lnTo>
                          <a:lnTo>
                            <a:pt x="478" y="54"/>
                          </a:lnTo>
                          <a:lnTo>
                            <a:pt x="473" y="44"/>
                          </a:lnTo>
                          <a:lnTo>
                            <a:pt x="463" y="34"/>
                          </a:lnTo>
                          <a:lnTo>
                            <a:pt x="451" y="22"/>
                          </a:lnTo>
                          <a:lnTo>
                            <a:pt x="435" y="7"/>
                          </a:lnTo>
                          <a:lnTo>
                            <a:pt x="416" y="23"/>
                          </a:lnTo>
                          <a:lnTo>
                            <a:pt x="396" y="37"/>
                          </a:lnTo>
                          <a:lnTo>
                            <a:pt x="375" y="50"/>
                          </a:lnTo>
                          <a:lnTo>
                            <a:pt x="353" y="59"/>
                          </a:lnTo>
                          <a:lnTo>
                            <a:pt x="330" y="67"/>
                          </a:lnTo>
                          <a:lnTo>
                            <a:pt x="307" y="73"/>
                          </a:lnTo>
                          <a:lnTo>
                            <a:pt x="284" y="76"/>
                          </a:lnTo>
                          <a:lnTo>
                            <a:pt x="260" y="78"/>
                          </a:lnTo>
                          <a:lnTo>
                            <a:pt x="235" y="78"/>
                          </a:lnTo>
                          <a:lnTo>
                            <a:pt x="211" y="76"/>
                          </a:lnTo>
                          <a:lnTo>
                            <a:pt x="187" y="73"/>
                          </a:lnTo>
                          <a:lnTo>
                            <a:pt x="163" y="68"/>
                          </a:lnTo>
                          <a:lnTo>
                            <a:pt x="140" y="61"/>
                          </a:lnTo>
                          <a:lnTo>
                            <a:pt x="116" y="53"/>
                          </a:lnTo>
                          <a:lnTo>
                            <a:pt x="94" y="44"/>
                          </a:lnTo>
                          <a:lnTo>
                            <a:pt x="72" y="32"/>
                          </a:lnTo>
                          <a:lnTo>
                            <a:pt x="66" y="0"/>
                          </a:lnTo>
                          <a:lnTo>
                            <a:pt x="56" y="5"/>
                          </a:lnTo>
                          <a:lnTo>
                            <a:pt x="42" y="12"/>
                          </a:lnTo>
                          <a:lnTo>
                            <a:pt x="29" y="20"/>
                          </a:lnTo>
                          <a:lnTo>
                            <a:pt x="17" y="30"/>
                          </a:lnTo>
                          <a:lnTo>
                            <a:pt x="7" y="43"/>
                          </a:lnTo>
                          <a:lnTo>
                            <a:pt x="2" y="59"/>
                          </a:lnTo>
                          <a:lnTo>
                            <a:pt x="0" y="78"/>
                          </a:lnTo>
                          <a:lnTo>
                            <a:pt x="7" y="102"/>
                          </a:lnTo>
                          <a:close/>
                        </a:path>
                      </a:pathLst>
                    </a:custGeom>
                    <a:solidFill>
                      <a:srgbClr val="cfcfc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Freeform 184"/>
                    <p:cNvSpPr/>
                    <p:nvPr/>
                  </p:nvSpPr>
                  <p:spPr>
                    <a:xfrm flipH="1">
                      <a:off x="2123280" y="2943720"/>
                      <a:ext cx="11880" cy="7920"/>
                    </a:xfrm>
                    <a:custGeom>
                      <a:avLst/>
                      <a:gdLst>
                        <a:gd name="textAreaLeft" fmla="*/ -360 w 11880"/>
                        <a:gd name="textAreaRight" fmla="*/ 11880 w 1188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95" h="72">
                          <a:moveTo>
                            <a:pt x="48" y="0"/>
                          </a:moveTo>
                          <a:lnTo>
                            <a:pt x="57" y="2"/>
                          </a:lnTo>
                          <a:lnTo>
                            <a:pt x="66" y="3"/>
                          </a:lnTo>
                          <a:lnTo>
                            <a:pt x="74" y="6"/>
                          </a:lnTo>
                          <a:lnTo>
                            <a:pt x="81" y="11"/>
                          </a:lnTo>
                          <a:lnTo>
                            <a:pt x="87" y="16"/>
                          </a:lnTo>
                          <a:lnTo>
                            <a:pt x="91" y="22"/>
                          </a:lnTo>
                          <a:lnTo>
                            <a:pt x="94" y="29"/>
                          </a:lnTo>
                          <a:lnTo>
                            <a:pt x="95" y="36"/>
                          </a:lnTo>
                          <a:lnTo>
                            <a:pt x="94" y="43"/>
                          </a:lnTo>
                          <a:lnTo>
                            <a:pt x="91" y="50"/>
                          </a:lnTo>
                          <a:lnTo>
                            <a:pt x="87" y="56"/>
                          </a:lnTo>
                          <a:lnTo>
                            <a:pt x="81" y="61"/>
                          </a:lnTo>
                          <a:lnTo>
                            <a:pt x="74" y="66"/>
                          </a:lnTo>
                          <a:lnTo>
                            <a:pt x="66" y="69"/>
                          </a:lnTo>
                          <a:lnTo>
                            <a:pt x="57" y="71"/>
                          </a:lnTo>
                          <a:lnTo>
                            <a:pt x="48" y="72"/>
                          </a:lnTo>
                          <a:lnTo>
                            <a:pt x="38" y="71"/>
                          </a:lnTo>
                          <a:lnTo>
                            <a:pt x="29" y="69"/>
                          </a:lnTo>
                          <a:lnTo>
                            <a:pt x="21" y="66"/>
                          </a:lnTo>
                          <a:lnTo>
                            <a:pt x="14" y="61"/>
                          </a:lnTo>
                          <a:lnTo>
                            <a:pt x="8" y="56"/>
                          </a:lnTo>
                          <a:lnTo>
                            <a:pt x="4" y="50"/>
                          </a:lnTo>
                          <a:lnTo>
                            <a:pt x="2" y="43"/>
                          </a:lnTo>
                          <a:lnTo>
                            <a:pt x="0" y="36"/>
                          </a:lnTo>
                          <a:lnTo>
                            <a:pt x="2" y="29"/>
                          </a:lnTo>
                          <a:lnTo>
                            <a:pt x="4" y="22"/>
                          </a:lnTo>
                          <a:lnTo>
                            <a:pt x="8" y="16"/>
                          </a:lnTo>
                          <a:lnTo>
                            <a:pt x="14" y="11"/>
                          </a:lnTo>
                          <a:lnTo>
                            <a:pt x="21" y="6"/>
                          </a:lnTo>
                          <a:lnTo>
                            <a:pt x="29" y="3"/>
                          </a:lnTo>
                          <a:lnTo>
                            <a:pt x="38" y="2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Gruppe 813"/>
                  <p:cNvGrpSpPr/>
                  <p:nvPr/>
                </p:nvGrpSpPr>
                <p:grpSpPr>
                  <a:xfrm>
                    <a:off x="2103480" y="2936880"/>
                    <a:ext cx="42840" cy="129960"/>
                    <a:chOff x="2103480" y="2936880"/>
                    <a:chExt cx="42840" cy="129960"/>
                  </a:xfrm>
                </p:grpSpPr>
                <p:sp>
                  <p:nvSpPr>
                    <p:cNvPr id="403" name="Freeform 316"/>
                    <p:cNvSpPr/>
                    <p:nvPr/>
                  </p:nvSpPr>
                  <p:spPr>
                    <a:xfrm flipH="1">
                      <a:off x="2110320" y="2974320"/>
                      <a:ext cx="32040" cy="4320"/>
                    </a:xfrm>
                    <a:custGeom>
                      <a:avLst/>
                      <a:gdLst>
                        <a:gd name="textAreaLeft" fmla="*/ -360 w 32040"/>
                        <a:gd name="textAreaRight" fmla="*/ 32040 w 32040"/>
                        <a:gd name="textAreaTop" fmla="*/ 0 h 4320"/>
                        <a:gd name="textAreaBottom" fmla="*/ 4680 h 4320"/>
                      </a:gdLst>
                      <a:ahLst/>
                      <a:rect l="textAreaLeft" t="textAreaTop" r="textAreaRight" b="textAreaBottom"/>
                      <a:pathLst>
                        <a:path w="230" h="41">
                          <a:moveTo>
                            <a:pt x="13" y="0"/>
                          </a:moveTo>
                          <a:lnTo>
                            <a:pt x="26" y="6"/>
                          </a:lnTo>
                          <a:lnTo>
                            <a:pt x="39" y="13"/>
                          </a:lnTo>
                          <a:lnTo>
                            <a:pt x="52" y="16"/>
                          </a:lnTo>
                          <a:lnTo>
                            <a:pt x="65" y="19"/>
                          </a:lnTo>
                          <a:lnTo>
                            <a:pt x="78" y="22"/>
                          </a:lnTo>
                          <a:lnTo>
                            <a:pt x="93" y="23"/>
                          </a:lnTo>
                          <a:lnTo>
                            <a:pt x="106" y="24"/>
                          </a:lnTo>
                          <a:lnTo>
                            <a:pt x="120" y="23"/>
                          </a:lnTo>
                          <a:lnTo>
                            <a:pt x="134" y="22"/>
                          </a:lnTo>
                          <a:lnTo>
                            <a:pt x="147" y="20"/>
                          </a:lnTo>
                          <a:lnTo>
                            <a:pt x="161" y="18"/>
                          </a:lnTo>
                          <a:lnTo>
                            <a:pt x="176" y="15"/>
                          </a:lnTo>
                          <a:lnTo>
                            <a:pt x="189" y="13"/>
                          </a:lnTo>
                          <a:lnTo>
                            <a:pt x="203" y="9"/>
                          </a:lnTo>
                          <a:lnTo>
                            <a:pt x="216" y="6"/>
                          </a:lnTo>
                          <a:lnTo>
                            <a:pt x="230" y="2"/>
                          </a:lnTo>
                          <a:lnTo>
                            <a:pt x="230" y="15"/>
                          </a:lnTo>
                          <a:lnTo>
                            <a:pt x="221" y="19"/>
                          </a:lnTo>
                          <a:lnTo>
                            <a:pt x="212" y="23"/>
                          </a:lnTo>
                          <a:lnTo>
                            <a:pt x="200" y="27"/>
                          </a:lnTo>
                          <a:lnTo>
                            <a:pt x="189" y="29"/>
                          </a:lnTo>
                          <a:lnTo>
                            <a:pt x="174" y="33"/>
                          </a:lnTo>
                          <a:lnTo>
                            <a:pt x="161" y="36"/>
                          </a:lnTo>
                          <a:lnTo>
                            <a:pt x="146" y="39"/>
                          </a:lnTo>
                          <a:lnTo>
                            <a:pt x="132" y="41"/>
                          </a:lnTo>
                          <a:lnTo>
                            <a:pt x="115" y="41"/>
                          </a:lnTo>
                          <a:lnTo>
                            <a:pt x="99" y="41"/>
                          </a:lnTo>
                          <a:lnTo>
                            <a:pt x="82" y="40"/>
                          </a:lnTo>
                          <a:lnTo>
                            <a:pt x="65" y="37"/>
                          </a:lnTo>
                          <a:lnTo>
                            <a:pt x="50" y="32"/>
                          </a:lnTo>
                          <a:lnTo>
                            <a:pt x="33" y="27"/>
                          </a:lnTo>
                          <a:lnTo>
                            <a:pt x="16" y="19"/>
                          </a:lnTo>
                          <a:lnTo>
                            <a:pt x="0" y="9"/>
                          </a:lnTo>
                          <a:lnTo>
                            <a:pt x="13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Freeform 336"/>
                    <p:cNvSpPr/>
                    <p:nvPr/>
                  </p:nvSpPr>
                  <p:spPr>
                    <a:xfrm flipH="1">
                      <a:off x="2103120" y="3059280"/>
                      <a:ext cx="42840" cy="7560"/>
                    </a:xfrm>
                    <a:custGeom>
                      <a:avLst/>
                      <a:gdLst>
                        <a:gd name="textAreaLeft" fmla="*/ -360 w 42840"/>
                        <a:gd name="textAreaRight" fmla="*/ 42840 w 42840"/>
                        <a:gd name="textAreaTop" fmla="*/ 0 h 7560"/>
                        <a:gd name="textAreaBottom" fmla="*/ 7920 h 7560"/>
                      </a:gdLst>
                      <a:ahLst/>
                      <a:rect l="textAreaLeft" t="textAreaTop" r="textAreaRight" b="textAreaBottom"/>
                      <a:pathLst>
                        <a:path w="309" h="72">
                          <a:moveTo>
                            <a:pt x="0" y="29"/>
                          </a:moveTo>
                          <a:lnTo>
                            <a:pt x="3" y="37"/>
                          </a:lnTo>
                          <a:lnTo>
                            <a:pt x="7" y="45"/>
                          </a:lnTo>
                          <a:lnTo>
                            <a:pt x="11" y="53"/>
                          </a:lnTo>
                          <a:lnTo>
                            <a:pt x="15" y="61"/>
                          </a:lnTo>
                          <a:lnTo>
                            <a:pt x="22" y="62"/>
                          </a:lnTo>
                          <a:lnTo>
                            <a:pt x="29" y="63"/>
                          </a:lnTo>
                          <a:lnTo>
                            <a:pt x="37" y="65"/>
                          </a:lnTo>
                          <a:lnTo>
                            <a:pt x="44" y="66"/>
                          </a:lnTo>
                          <a:lnTo>
                            <a:pt x="51" y="67"/>
                          </a:lnTo>
                          <a:lnTo>
                            <a:pt x="59" y="68"/>
                          </a:lnTo>
                          <a:lnTo>
                            <a:pt x="65" y="71"/>
                          </a:lnTo>
                          <a:lnTo>
                            <a:pt x="73" y="72"/>
                          </a:lnTo>
                          <a:lnTo>
                            <a:pt x="91" y="72"/>
                          </a:lnTo>
                          <a:lnTo>
                            <a:pt x="109" y="71"/>
                          </a:lnTo>
                          <a:lnTo>
                            <a:pt x="127" y="71"/>
                          </a:lnTo>
                          <a:lnTo>
                            <a:pt x="146" y="70"/>
                          </a:lnTo>
                          <a:lnTo>
                            <a:pt x="164" y="70"/>
                          </a:lnTo>
                          <a:lnTo>
                            <a:pt x="183" y="68"/>
                          </a:lnTo>
                          <a:lnTo>
                            <a:pt x="201" y="68"/>
                          </a:lnTo>
                          <a:lnTo>
                            <a:pt x="220" y="67"/>
                          </a:lnTo>
                          <a:lnTo>
                            <a:pt x="231" y="65"/>
                          </a:lnTo>
                          <a:lnTo>
                            <a:pt x="242" y="61"/>
                          </a:lnTo>
                          <a:lnTo>
                            <a:pt x="253" y="58"/>
                          </a:lnTo>
                          <a:lnTo>
                            <a:pt x="265" y="54"/>
                          </a:lnTo>
                          <a:lnTo>
                            <a:pt x="275" y="52"/>
                          </a:lnTo>
                          <a:lnTo>
                            <a:pt x="287" y="48"/>
                          </a:lnTo>
                          <a:lnTo>
                            <a:pt x="297" y="45"/>
                          </a:lnTo>
                          <a:lnTo>
                            <a:pt x="309" y="41"/>
                          </a:lnTo>
                          <a:lnTo>
                            <a:pt x="309" y="26"/>
                          </a:lnTo>
                          <a:lnTo>
                            <a:pt x="307" y="13"/>
                          </a:lnTo>
                          <a:lnTo>
                            <a:pt x="303" y="5"/>
                          </a:lnTo>
                          <a:lnTo>
                            <a:pt x="297" y="1"/>
                          </a:lnTo>
                          <a:lnTo>
                            <a:pt x="290" y="0"/>
                          </a:lnTo>
                          <a:lnTo>
                            <a:pt x="279" y="0"/>
                          </a:lnTo>
                          <a:lnTo>
                            <a:pt x="268" y="4"/>
                          </a:lnTo>
                          <a:lnTo>
                            <a:pt x="252" y="9"/>
                          </a:lnTo>
                          <a:lnTo>
                            <a:pt x="242" y="9"/>
                          </a:lnTo>
                          <a:lnTo>
                            <a:pt x="231" y="10"/>
                          </a:lnTo>
                          <a:lnTo>
                            <a:pt x="221" y="10"/>
                          </a:lnTo>
                          <a:lnTo>
                            <a:pt x="211" y="10"/>
                          </a:lnTo>
                          <a:lnTo>
                            <a:pt x="200" y="10"/>
                          </a:lnTo>
                          <a:lnTo>
                            <a:pt x="188" y="10"/>
                          </a:lnTo>
                          <a:lnTo>
                            <a:pt x="178" y="11"/>
                          </a:lnTo>
                          <a:lnTo>
                            <a:pt x="168" y="11"/>
                          </a:lnTo>
                          <a:lnTo>
                            <a:pt x="140" y="10"/>
                          </a:lnTo>
                          <a:lnTo>
                            <a:pt x="116" y="9"/>
                          </a:lnTo>
                          <a:lnTo>
                            <a:pt x="96" y="6"/>
                          </a:lnTo>
                          <a:lnTo>
                            <a:pt x="77" y="5"/>
                          </a:lnTo>
                          <a:lnTo>
                            <a:pt x="60" y="6"/>
                          </a:lnTo>
                          <a:lnTo>
                            <a:pt x="42" y="9"/>
                          </a:lnTo>
                          <a:lnTo>
                            <a:pt x="22" y="16"/>
                          </a:lnTo>
                          <a:lnTo>
                            <a:pt x="0" y="29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Freeform 353"/>
                    <p:cNvSpPr/>
                    <p:nvPr/>
                  </p:nvSpPr>
                  <p:spPr>
                    <a:xfrm flipH="1">
                      <a:off x="2117520" y="2990160"/>
                      <a:ext cx="15480" cy="2520"/>
                    </a:xfrm>
                    <a:custGeom>
                      <a:avLst/>
                      <a:gdLst>
                        <a:gd name="textAreaLeft" fmla="*/ -360 w 15480"/>
                        <a:gd name="textAreaRight" fmla="*/ 15480 w 15480"/>
                        <a:gd name="textAreaTop" fmla="*/ 0 h 2520"/>
                        <a:gd name="textAreaBottom" fmla="*/ 2880 h 2520"/>
                      </a:gdLst>
                      <a:ahLst/>
                      <a:rect l="textAreaLeft" t="textAreaTop" r="textAreaRight" b="textAreaBottom"/>
                      <a:pathLst>
                        <a:path w="112" h="25">
                          <a:moveTo>
                            <a:pt x="0" y="11"/>
                          </a:moveTo>
                          <a:lnTo>
                            <a:pt x="5" y="17"/>
                          </a:lnTo>
                          <a:lnTo>
                            <a:pt x="26" y="25"/>
                          </a:lnTo>
                          <a:lnTo>
                            <a:pt x="80" y="20"/>
                          </a:lnTo>
                          <a:lnTo>
                            <a:pt x="112" y="13"/>
                          </a:lnTo>
                          <a:lnTo>
                            <a:pt x="110" y="4"/>
                          </a:lnTo>
                          <a:lnTo>
                            <a:pt x="108" y="0"/>
                          </a:lnTo>
                          <a:lnTo>
                            <a:pt x="103" y="2"/>
                          </a:lnTo>
                          <a:lnTo>
                            <a:pt x="92" y="4"/>
                          </a:lnTo>
                          <a:lnTo>
                            <a:pt x="61" y="6"/>
                          </a:lnTo>
                          <a:lnTo>
                            <a:pt x="51" y="6"/>
                          </a:lnTo>
                          <a:lnTo>
                            <a:pt x="43" y="4"/>
                          </a:lnTo>
                          <a:lnTo>
                            <a:pt x="35" y="4"/>
                          </a:lnTo>
                          <a:lnTo>
                            <a:pt x="29" y="3"/>
                          </a:lnTo>
                          <a:lnTo>
                            <a:pt x="22" y="3"/>
                          </a:lnTo>
                          <a:lnTo>
                            <a:pt x="14" y="4"/>
                          </a:lnTo>
                          <a:lnTo>
                            <a:pt x="8" y="7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Freeform 367"/>
                    <p:cNvSpPr/>
                    <p:nvPr/>
                  </p:nvSpPr>
                  <p:spPr>
                    <a:xfrm flipH="1">
                      <a:off x="2118240" y="2936880"/>
                      <a:ext cx="14760" cy="8640"/>
                    </a:xfrm>
                    <a:custGeom>
                      <a:avLst/>
                      <a:gdLst>
                        <a:gd name="textAreaLeft" fmla="*/ -360 w 14760"/>
                        <a:gd name="textAreaRight" fmla="*/ 14760 w 14760"/>
                        <a:gd name="textAreaTop" fmla="*/ 0 h 8640"/>
                        <a:gd name="textAreaBottom" fmla="*/ 9000 h 8640"/>
                      </a:gdLst>
                      <a:ahLst/>
                      <a:rect l="textAreaLeft" t="textAreaTop" r="textAreaRight" b="textAreaBottom"/>
                      <a:pathLst>
                        <a:path w="106" h="80">
                          <a:moveTo>
                            <a:pt x="53" y="0"/>
                          </a:moveTo>
                          <a:lnTo>
                            <a:pt x="64" y="1"/>
                          </a:lnTo>
                          <a:lnTo>
                            <a:pt x="74" y="2"/>
                          </a:lnTo>
                          <a:lnTo>
                            <a:pt x="83" y="6"/>
                          </a:lnTo>
                          <a:lnTo>
                            <a:pt x="91" y="11"/>
                          </a:lnTo>
                          <a:lnTo>
                            <a:pt x="97" y="18"/>
                          </a:lnTo>
                          <a:lnTo>
                            <a:pt x="103" y="24"/>
                          </a:lnTo>
                          <a:lnTo>
                            <a:pt x="105" y="32"/>
                          </a:lnTo>
                          <a:lnTo>
                            <a:pt x="106" y="40"/>
                          </a:lnTo>
                          <a:lnTo>
                            <a:pt x="105" y="48"/>
                          </a:lnTo>
                          <a:lnTo>
                            <a:pt x="103" y="55"/>
                          </a:lnTo>
                          <a:lnTo>
                            <a:pt x="97" y="62"/>
                          </a:lnTo>
                          <a:lnTo>
                            <a:pt x="91" y="68"/>
                          </a:lnTo>
                          <a:lnTo>
                            <a:pt x="83" y="74"/>
                          </a:lnTo>
                          <a:lnTo>
                            <a:pt x="74" y="78"/>
                          </a:lnTo>
                          <a:lnTo>
                            <a:pt x="64" y="79"/>
                          </a:lnTo>
                          <a:lnTo>
                            <a:pt x="53" y="80"/>
                          </a:lnTo>
                          <a:lnTo>
                            <a:pt x="43" y="79"/>
                          </a:lnTo>
                          <a:lnTo>
                            <a:pt x="32" y="78"/>
                          </a:lnTo>
                          <a:lnTo>
                            <a:pt x="23" y="74"/>
                          </a:lnTo>
                          <a:lnTo>
                            <a:pt x="16" y="68"/>
                          </a:lnTo>
                          <a:lnTo>
                            <a:pt x="9" y="62"/>
                          </a:lnTo>
                          <a:lnTo>
                            <a:pt x="4" y="55"/>
                          </a:lnTo>
                          <a:lnTo>
                            <a:pt x="1" y="48"/>
                          </a:lnTo>
                          <a:lnTo>
                            <a:pt x="0" y="40"/>
                          </a:lnTo>
                          <a:lnTo>
                            <a:pt x="1" y="32"/>
                          </a:lnTo>
                          <a:lnTo>
                            <a:pt x="4" y="24"/>
                          </a:lnTo>
                          <a:lnTo>
                            <a:pt x="9" y="18"/>
                          </a:lnTo>
                          <a:lnTo>
                            <a:pt x="16" y="11"/>
                          </a:lnTo>
                          <a:lnTo>
                            <a:pt x="23" y="6"/>
                          </a:lnTo>
                          <a:lnTo>
                            <a:pt x="32" y="2"/>
                          </a:lnTo>
                          <a:lnTo>
                            <a:pt x="43" y="1"/>
                          </a:lnTo>
                          <a:lnTo>
                            <a:pt x="53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07" name="Ellipse 181"/>
                <p:cNvSpPr/>
                <p:nvPr/>
              </p:nvSpPr>
              <p:spPr>
                <a:xfrm flipH="1">
                  <a:off x="2104560" y="2930040"/>
                  <a:ext cx="44280" cy="5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acac"/>
                    </a:gs>
                    <a:gs pos="100000">
                      <a:srgbClr val="e6e6e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8" name="TextBox 350">
            <a:hlinkClick r:id="rId2"/>
          </p:cNvPr>
          <p:cNvSpPr/>
          <p:nvPr/>
        </p:nvSpPr>
        <p:spPr>
          <a:xfrm>
            <a:off x="4255920" y="311040"/>
            <a:ext cx="48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ktangel 15"/>
          <p:cNvSpPr/>
          <p:nvPr/>
        </p:nvSpPr>
        <p:spPr>
          <a:xfrm flipV="1" rot="10800000">
            <a:off x="0" y="-1080"/>
            <a:ext cx="9144000" cy="30322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f3f3f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uppe 13"/>
          <p:cNvGrpSpPr/>
          <p:nvPr/>
        </p:nvGrpSpPr>
        <p:grpSpPr>
          <a:xfrm>
            <a:off x="336600" y="895320"/>
            <a:ext cx="2603520" cy="1808280"/>
            <a:chOff x="336600" y="895320"/>
            <a:chExt cx="2603520" cy="1808280"/>
          </a:xfrm>
        </p:grpSpPr>
        <p:sp>
          <p:nvSpPr>
            <p:cNvPr id="411" name="Rektangel 18"/>
            <p:cNvSpPr/>
            <p:nvPr/>
          </p:nvSpPr>
          <p:spPr>
            <a:xfrm>
              <a:off x="336600" y="895320"/>
              <a:ext cx="2603520" cy="1808280"/>
            </a:xfrm>
            <a:prstGeom prst="rect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Tekstboks 31"/>
          <p:cNvSpPr/>
          <p:nvPr/>
        </p:nvSpPr>
        <p:spPr>
          <a:xfrm>
            <a:off x="4084200" y="2389320"/>
            <a:ext cx="10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Calibri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314280" y="195120"/>
            <a:ext cx="8520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VISIONS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TARGETS – HOW TO REACH OUR GO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68"/>
          <p:cNvSpPr/>
          <p:nvPr/>
        </p:nvSpPr>
        <p:spPr>
          <a:xfrm>
            <a:off x="1440" y="3029040"/>
            <a:ext cx="4605480" cy="3828960"/>
          </a:xfrm>
          <a:custGeom>
            <a:avLst/>
            <a:gdLst>
              <a:gd name="textAreaLeft" fmla="*/ 0 w 4605480"/>
              <a:gd name="textAreaRight" fmla="*/ 4605840 w 4605480"/>
              <a:gd name="textAreaTop" fmla="*/ 0 h 3828960"/>
              <a:gd name="textAreaBottom" fmla="*/ 3829320 h 3828960"/>
            </a:gdLst>
            <a:ahLst/>
            <a:rect l="textAreaLeft" t="textAreaTop" r="textAreaRight" b="textAreaBottom"/>
            <a:pathLst>
              <a:path w="2612" h="2604">
                <a:moveTo>
                  <a:pt x="0" y="1562"/>
                </a:moveTo>
                <a:lnTo>
                  <a:pt x="0" y="2604"/>
                </a:lnTo>
                <a:lnTo>
                  <a:pt x="1272" y="2604"/>
                </a:lnTo>
                <a:lnTo>
                  <a:pt x="2612" y="0"/>
                </a:lnTo>
                <a:lnTo>
                  <a:pt x="0" y="1562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69"/>
          <p:cNvSpPr/>
          <p:nvPr/>
        </p:nvSpPr>
        <p:spPr>
          <a:xfrm>
            <a:off x="4667400" y="3025800"/>
            <a:ext cx="4473360" cy="2249640"/>
          </a:xfrm>
          <a:custGeom>
            <a:avLst/>
            <a:gdLst>
              <a:gd name="textAreaLeft" fmla="*/ 0 w 4473360"/>
              <a:gd name="textAreaRight" fmla="*/ 4473720 w 4473360"/>
              <a:gd name="textAreaTop" fmla="*/ 0 h 2249640"/>
              <a:gd name="textAreaBottom" fmla="*/ 2249640 h 2249640"/>
            </a:gdLst>
            <a:ahLst/>
            <a:rect l="textAreaLeft" t="textAreaTop" r="textAreaRight" b="textAreaBottom"/>
            <a:pathLst>
              <a:path w="2538" h="1530">
                <a:moveTo>
                  <a:pt x="2538" y="1530"/>
                </a:moveTo>
                <a:lnTo>
                  <a:pt x="2538" y="0"/>
                </a:lnTo>
                <a:lnTo>
                  <a:pt x="0" y="0"/>
                </a:lnTo>
                <a:lnTo>
                  <a:pt x="2538" y="153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70"/>
          <p:cNvSpPr/>
          <p:nvPr/>
        </p:nvSpPr>
        <p:spPr>
          <a:xfrm>
            <a:off x="2262240" y="3032280"/>
            <a:ext cx="4525920" cy="3825720"/>
          </a:xfrm>
          <a:custGeom>
            <a:avLst/>
            <a:gdLst>
              <a:gd name="textAreaLeft" fmla="*/ 0 w 4525920"/>
              <a:gd name="textAreaRight" fmla="*/ 4526280 w 4525920"/>
              <a:gd name="textAreaTop" fmla="*/ 0 h 3825720"/>
              <a:gd name="textAreaBottom" fmla="*/ 3826080 h 3825720"/>
            </a:gdLst>
            <a:ahLst/>
            <a:rect l="textAreaLeft" t="textAreaTop" r="textAreaRight" b="textAreaBottom"/>
            <a:pathLst>
              <a:path w="2568" h="2602">
                <a:moveTo>
                  <a:pt x="0" y="2602"/>
                </a:moveTo>
                <a:lnTo>
                  <a:pt x="2568" y="2602"/>
                </a:lnTo>
                <a:lnTo>
                  <a:pt x="1338" y="0"/>
                </a:lnTo>
                <a:lnTo>
                  <a:pt x="0" y="2602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71"/>
          <p:cNvSpPr/>
          <p:nvPr/>
        </p:nvSpPr>
        <p:spPr>
          <a:xfrm>
            <a:off x="4638600" y="3029040"/>
            <a:ext cx="4502160" cy="3828960"/>
          </a:xfrm>
          <a:custGeom>
            <a:avLst/>
            <a:gdLst>
              <a:gd name="textAreaLeft" fmla="*/ 0 w 4502160"/>
              <a:gd name="textAreaRight" fmla="*/ 4502520 w 4502160"/>
              <a:gd name="textAreaTop" fmla="*/ 0 h 3828960"/>
              <a:gd name="textAreaBottom" fmla="*/ 3829320 h 3828960"/>
            </a:gdLst>
            <a:ahLst/>
            <a:rect l="textAreaLeft" t="textAreaTop" r="textAreaRight" b="textAreaBottom"/>
            <a:pathLst>
              <a:path w="2554" h="2604">
                <a:moveTo>
                  <a:pt x="1230" y="2604"/>
                </a:moveTo>
                <a:lnTo>
                  <a:pt x="1230" y="2604"/>
                </a:lnTo>
                <a:lnTo>
                  <a:pt x="2554" y="2604"/>
                </a:lnTo>
                <a:lnTo>
                  <a:pt x="2554" y="1540"/>
                </a:lnTo>
                <a:lnTo>
                  <a:pt x="0" y="0"/>
                </a:lnTo>
                <a:lnTo>
                  <a:pt x="1230" y="2604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72"/>
          <p:cNvSpPr/>
          <p:nvPr/>
        </p:nvSpPr>
        <p:spPr>
          <a:xfrm>
            <a:off x="1440" y="3025800"/>
            <a:ext cx="4577040" cy="2282760"/>
          </a:xfrm>
          <a:custGeom>
            <a:avLst/>
            <a:gdLst>
              <a:gd name="textAreaLeft" fmla="*/ 0 w 4577040"/>
              <a:gd name="textAreaRight" fmla="*/ 4577400 w 4577040"/>
              <a:gd name="textAreaTop" fmla="*/ 0 h 2282760"/>
              <a:gd name="textAreaBottom" fmla="*/ 2283120 h 2282760"/>
            </a:gdLst>
            <a:ahLst/>
            <a:rect l="textAreaLeft" t="textAreaTop" r="textAreaRight" b="textAreaBottom"/>
            <a:pathLst>
              <a:path w="2596" h="1552">
                <a:moveTo>
                  <a:pt x="2592" y="0"/>
                </a:moveTo>
                <a:lnTo>
                  <a:pt x="0" y="0"/>
                </a:lnTo>
                <a:lnTo>
                  <a:pt x="0" y="1552"/>
                </a:lnTo>
                <a:lnTo>
                  <a:pt x="2596" y="0"/>
                </a:lnTo>
                <a:lnTo>
                  <a:pt x="2592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ktangel 21"/>
          <p:cNvSpPr/>
          <p:nvPr/>
        </p:nvSpPr>
        <p:spPr>
          <a:xfrm>
            <a:off x="426960" y="1116000"/>
            <a:ext cx="2551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b10"/>
                </a:solidFill>
                <a:latin typeface="Calibri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Go ahead and replace it with your own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This is an example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Go ahead and replace it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66" descr="slideshoplogo.png"/>
          <p:cNvPicPr/>
          <p:nvPr/>
        </p:nvPicPr>
        <p:blipFill>
          <a:blip r:embed="rId2"/>
          <a:stretch/>
        </p:blipFill>
        <p:spPr>
          <a:xfrm>
            <a:off x="230040" y="6173640"/>
            <a:ext cx="1689120" cy="495360"/>
          </a:xfrm>
          <a:prstGeom prst="rect">
            <a:avLst/>
          </a:prstGeom>
          <a:ln w="0">
            <a:noFill/>
          </a:ln>
        </p:spPr>
      </p:pic>
      <p:sp>
        <p:nvSpPr>
          <p:cNvPr id="421" name="TextBox 16">
            <a:hlinkClick r:id="rId3"/>
          </p:cNvPr>
          <p:cNvSpPr/>
          <p:nvPr/>
        </p:nvSpPr>
        <p:spPr>
          <a:xfrm>
            <a:off x="4255920" y="684360"/>
            <a:ext cx="488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6"/>
          <p:cNvSpPr/>
          <p:nvPr/>
        </p:nvSpPr>
        <p:spPr>
          <a:xfrm>
            <a:off x="2587680" y="6267600"/>
            <a:ext cx="5184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ktangel 14"/>
          <p:cNvSpPr/>
          <p:nvPr/>
        </p:nvSpPr>
        <p:spPr>
          <a:xfrm flipV="1" rot="10800000">
            <a:off x="0" y="-1080"/>
            <a:ext cx="9144000" cy="30322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f3f3f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uppe 13"/>
          <p:cNvGrpSpPr/>
          <p:nvPr/>
        </p:nvGrpSpPr>
        <p:grpSpPr>
          <a:xfrm>
            <a:off x="336600" y="895320"/>
            <a:ext cx="2603520" cy="1808280"/>
            <a:chOff x="336600" y="895320"/>
            <a:chExt cx="2603520" cy="1808280"/>
          </a:xfrm>
        </p:grpSpPr>
        <p:sp>
          <p:nvSpPr>
            <p:cNvPr id="425" name="Rektangel 17"/>
            <p:cNvSpPr/>
            <p:nvPr/>
          </p:nvSpPr>
          <p:spPr>
            <a:xfrm>
              <a:off x="336600" y="895320"/>
              <a:ext cx="2603520" cy="1808280"/>
            </a:xfrm>
            <a:prstGeom prst="rect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Tekstboks 31"/>
          <p:cNvSpPr/>
          <p:nvPr/>
        </p:nvSpPr>
        <p:spPr>
          <a:xfrm>
            <a:off x="4084200" y="2389320"/>
            <a:ext cx="10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Calibri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314280" y="195120"/>
            <a:ext cx="8520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VISIONS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TARGETS – HOW TO REACH OUR GO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68"/>
          <p:cNvSpPr/>
          <p:nvPr/>
        </p:nvSpPr>
        <p:spPr>
          <a:xfrm>
            <a:off x="1440" y="3029040"/>
            <a:ext cx="4605480" cy="3828960"/>
          </a:xfrm>
          <a:custGeom>
            <a:avLst/>
            <a:gdLst>
              <a:gd name="textAreaLeft" fmla="*/ 0 w 4605480"/>
              <a:gd name="textAreaRight" fmla="*/ 4605840 w 4605480"/>
              <a:gd name="textAreaTop" fmla="*/ 0 h 3828960"/>
              <a:gd name="textAreaBottom" fmla="*/ 3829320 h 3828960"/>
            </a:gdLst>
            <a:ahLst/>
            <a:rect l="textAreaLeft" t="textAreaTop" r="textAreaRight" b="textAreaBottom"/>
            <a:pathLst>
              <a:path w="2612" h="2604">
                <a:moveTo>
                  <a:pt x="0" y="1562"/>
                </a:moveTo>
                <a:lnTo>
                  <a:pt x="0" y="2604"/>
                </a:lnTo>
                <a:lnTo>
                  <a:pt x="1272" y="2604"/>
                </a:lnTo>
                <a:lnTo>
                  <a:pt x="2612" y="0"/>
                </a:lnTo>
                <a:lnTo>
                  <a:pt x="0" y="156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69"/>
          <p:cNvSpPr/>
          <p:nvPr/>
        </p:nvSpPr>
        <p:spPr>
          <a:xfrm>
            <a:off x="4667400" y="3025800"/>
            <a:ext cx="4473360" cy="2249640"/>
          </a:xfrm>
          <a:custGeom>
            <a:avLst/>
            <a:gdLst>
              <a:gd name="textAreaLeft" fmla="*/ 0 w 4473360"/>
              <a:gd name="textAreaRight" fmla="*/ 4473720 w 4473360"/>
              <a:gd name="textAreaTop" fmla="*/ 0 h 2249640"/>
              <a:gd name="textAreaBottom" fmla="*/ 2249640 h 2249640"/>
            </a:gdLst>
            <a:ahLst/>
            <a:rect l="textAreaLeft" t="textAreaTop" r="textAreaRight" b="textAreaBottom"/>
            <a:pathLst>
              <a:path w="2538" h="1530">
                <a:moveTo>
                  <a:pt x="2538" y="1530"/>
                </a:moveTo>
                <a:lnTo>
                  <a:pt x="2538" y="0"/>
                </a:lnTo>
                <a:lnTo>
                  <a:pt x="0" y="0"/>
                </a:lnTo>
                <a:lnTo>
                  <a:pt x="2538" y="153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70"/>
          <p:cNvSpPr/>
          <p:nvPr/>
        </p:nvSpPr>
        <p:spPr>
          <a:xfrm>
            <a:off x="2262240" y="3032280"/>
            <a:ext cx="4525920" cy="3825720"/>
          </a:xfrm>
          <a:custGeom>
            <a:avLst/>
            <a:gdLst>
              <a:gd name="textAreaLeft" fmla="*/ 0 w 4525920"/>
              <a:gd name="textAreaRight" fmla="*/ 4526280 w 4525920"/>
              <a:gd name="textAreaTop" fmla="*/ 0 h 3825720"/>
              <a:gd name="textAreaBottom" fmla="*/ 3826080 h 3825720"/>
            </a:gdLst>
            <a:ahLst/>
            <a:rect l="textAreaLeft" t="textAreaTop" r="textAreaRight" b="textAreaBottom"/>
            <a:pathLst>
              <a:path w="2568" h="2602">
                <a:moveTo>
                  <a:pt x="0" y="2602"/>
                </a:moveTo>
                <a:lnTo>
                  <a:pt x="2568" y="2602"/>
                </a:lnTo>
                <a:lnTo>
                  <a:pt x="1338" y="0"/>
                </a:lnTo>
                <a:lnTo>
                  <a:pt x="0" y="2602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71"/>
          <p:cNvSpPr/>
          <p:nvPr/>
        </p:nvSpPr>
        <p:spPr>
          <a:xfrm>
            <a:off x="4638600" y="3029040"/>
            <a:ext cx="4502160" cy="3828960"/>
          </a:xfrm>
          <a:custGeom>
            <a:avLst/>
            <a:gdLst>
              <a:gd name="textAreaLeft" fmla="*/ 0 w 4502160"/>
              <a:gd name="textAreaRight" fmla="*/ 4502520 w 4502160"/>
              <a:gd name="textAreaTop" fmla="*/ 0 h 3828960"/>
              <a:gd name="textAreaBottom" fmla="*/ 3829320 h 3828960"/>
            </a:gdLst>
            <a:ahLst/>
            <a:rect l="textAreaLeft" t="textAreaTop" r="textAreaRight" b="textAreaBottom"/>
            <a:pathLst>
              <a:path w="2554" h="2604">
                <a:moveTo>
                  <a:pt x="1230" y="2604"/>
                </a:moveTo>
                <a:lnTo>
                  <a:pt x="1230" y="2604"/>
                </a:lnTo>
                <a:lnTo>
                  <a:pt x="2554" y="2604"/>
                </a:lnTo>
                <a:lnTo>
                  <a:pt x="2554" y="1540"/>
                </a:lnTo>
                <a:lnTo>
                  <a:pt x="0" y="0"/>
                </a:lnTo>
                <a:lnTo>
                  <a:pt x="1230" y="2604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72"/>
          <p:cNvSpPr/>
          <p:nvPr/>
        </p:nvSpPr>
        <p:spPr>
          <a:xfrm>
            <a:off x="1440" y="3025800"/>
            <a:ext cx="4577040" cy="2282760"/>
          </a:xfrm>
          <a:custGeom>
            <a:avLst/>
            <a:gdLst>
              <a:gd name="textAreaLeft" fmla="*/ 0 w 4577040"/>
              <a:gd name="textAreaRight" fmla="*/ 4577400 w 4577040"/>
              <a:gd name="textAreaTop" fmla="*/ 0 h 2282760"/>
              <a:gd name="textAreaBottom" fmla="*/ 2283120 h 2282760"/>
            </a:gdLst>
            <a:ahLst/>
            <a:rect l="textAreaLeft" t="textAreaTop" r="textAreaRight" b="textAreaBottom"/>
            <a:pathLst>
              <a:path w="2596" h="1552">
                <a:moveTo>
                  <a:pt x="2592" y="0"/>
                </a:moveTo>
                <a:lnTo>
                  <a:pt x="0" y="0"/>
                </a:lnTo>
                <a:lnTo>
                  <a:pt x="0" y="1552"/>
                </a:lnTo>
                <a:lnTo>
                  <a:pt x="2596" y="0"/>
                </a:lnTo>
                <a:lnTo>
                  <a:pt x="2592" y="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ktangel 18"/>
          <p:cNvSpPr/>
          <p:nvPr/>
        </p:nvSpPr>
        <p:spPr>
          <a:xfrm>
            <a:off x="426960" y="1116000"/>
            <a:ext cx="2551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b10"/>
                </a:solidFill>
                <a:latin typeface="Calibri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Go ahead and replace it with your own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This is an example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Go ahead and replace it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5">
            <a:hlinkClick r:id="rId2"/>
          </p:cNvPr>
          <p:cNvSpPr/>
          <p:nvPr/>
        </p:nvSpPr>
        <p:spPr>
          <a:xfrm>
            <a:off x="4255920" y="684360"/>
            <a:ext cx="488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ktangel 14"/>
          <p:cNvSpPr/>
          <p:nvPr/>
        </p:nvSpPr>
        <p:spPr>
          <a:xfrm flipV="1" rot="10800000">
            <a:off x="0" y="-1080"/>
            <a:ext cx="9144000" cy="30322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f3f3f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uppe 13"/>
          <p:cNvGrpSpPr/>
          <p:nvPr/>
        </p:nvGrpSpPr>
        <p:grpSpPr>
          <a:xfrm>
            <a:off x="336600" y="895320"/>
            <a:ext cx="2603520" cy="1808280"/>
            <a:chOff x="336600" y="895320"/>
            <a:chExt cx="2603520" cy="1808280"/>
          </a:xfrm>
        </p:grpSpPr>
        <p:sp>
          <p:nvSpPr>
            <p:cNvPr id="437" name="Rektangel 17"/>
            <p:cNvSpPr/>
            <p:nvPr/>
          </p:nvSpPr>
          <p:spPr>
            <a:xfrm>
              <a:off x="336600" y="895320"/>
              <a:ext cx="2603520" cy="1808280"/>
            </a:xfrm>
            <a:prstGeom prst="rect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kstboks 31"/>
          <p:cNvSpPr/>
          <p:nvPr/>
        </p:nvSpPr>
        <p:spPr>
          <a:xfrm>
            <a:off x="4084200" y="2389320"/>
            <a:ext cx="10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Calibri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314280" y="195120"/>
            <a:ext cx="8520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VISIONS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TARGETS – HOW TO REACH OUR GO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68"/>
          <p:cNvSpPr/>
          <p:nvPr/>
        </p:nvSpPr>
        <p:spPr>
          <a:xfrm>
            <a:off x="1440" y="3029040"/>
            <a:ext cx="4605480" cy="3828960"/>
          </a:xfrm>
          <a:custGeom>
            <a:avLst/>
            <a:gdLst>
              <a:gd name="textAreaLeft" fmla="*/ 0 w 4605480"/>
              <a:gd name="textAreaRight" fmla="*/ 4605840 w 4605480"/>
              <a:gd name="textAreaTop" fmla="*/ 0 h 3828960"/>
              <a:gd name="textAreaBottom" fmla="*/ 3829320 h 3828960"/>
            </a:gdLst>
            <a:ahLst/>
            <a:rect l="textAreaLeft" t="textAreaTop" r="textAreaRight" b="textAreaBottom"/>
            <a:pathLst>
              <a:path w="2612" h="2604">
                <a:moveTo>
                  <a:pt x="0" y="1562"/>
                </a:moveTo>
                <a:lnTo>
                  <a:pt x="0" y="2604"/>
                </a:lnTo>
                <a:lnTo>
                  <a:pt x="1272" y="2604"/>
                </a:lnTo>
                <a:lnTo>
                  <a:pt x="2612" y="0"/>
                </a:lnTo>
                <a:lnTo>
                  <a:pt x="0" y="1562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69"/>
          <p:cNvSpPr/>
          <p:nvPr/>
        </p:nvSpPr>
        <p:spPr>
          <a:xfrm>
            <a:off x="4667400" y="3025800"/>
            <a:ext cx="4473360" cy="2249640"/>
          </a:xfrm>
          <a:custGeom>
            <a:avLst/>
            <a:gdLst>
              <a:gd name="textAreaLeft" fmla="*/ 0 w 4473360"/>
              <a:gd name="textAreaRight" fmla="*/ 4473720 w 4473360"/>
              <a:gd name="textAreaTop" fmla="*/ 0 h 2249640"/>
              <a:gd name="textAreaBottom" fmla="*/ 2249640 h 2249640"/>
            </a:gdLst>
            <a:ahLst/>
            <a:rect l="textAreaLeft" t="textAreaTop" r="textAreaRight" b="textAreaBottom"/>
            <a:pathLst>
              <a:path w="2538" h="1530">
                <a:moveTo>
                  <a:pt x="2538" y="1530"/>
                </a:moveTo>
                <a:lnTo>
                  <a:pt x="2538" y="0"/>
                </a:lnTo>
                <a:lnTo>
                  <a:pt x="0" y="0"/>
                </a:lnTo>
                <a:lnTo>
                  <a:pt x="2538" y="153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70"/>
          <p:cNvSpPr/>
          <p:nvPr/>
        </p:nvSpPr>
        <p:spPr>
          <a:xfrm>
            <a:off x="2262240" y="3032280"/>
            <a:ext cx="4525920" cy="3825720"/>
          </a:xfrm>
          <a:custGeom>
            <a:avLst/>
            <a:gdLst>
              <a:gd name="textAreaLeft" fmla="*/ 0 w 4525920"/>
              <a:gd name="textAreaRight" fmla="*/ 4526280 w 4525920"/>
              <a:gd name="textAreaTop" fmla="*/ 0 h 3825720"/>
              <a:gd name="textAreaBottom" fmla="*/ 3826080 h 3825720"/>
            </a:gdLst>
            <a:ahLst/>
            <a:rect l="textAreaLeft" t="textAreaTop" r="textAreaRight" b="textAreaBottom"/>
            <a:pathLst>
              <a:path w="2568" h="2602">
                <a:moveTo>
                  <a:pt x="0" y="2602"/>
                </a:moveTo>
                <a:lnTo>
                  <a:pt x="2568" y="2602"/>
                </a:lnTo>
                <a:lnTo>
                  <a:pt x="1338" y="0"/>
                </a:lnTo>
                <a:lnTo>
                  <a:pt x="0" y="260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71"/>
          <p:cNvSpPr/>
          <p:nvPr/>
        </p:nvSpPr>
        <p:spPr>
          <a:xfrm>
            <a:off x="4638600" y="3029040"/>
            <a:ext cx="4502160" cy="3828960"/>
          </a:xfrm>
          <a:custGeom>
            <a:avLst/>
            <a:gdLst>
              <a:gd name="textAreaLeft" fmla="*/ 0 w 4502160"/>
              <a:gd name="textAreaRight" fmla="*/ 4502520 w 4502160"/>
              <a:gd name="textAreaTop" fmla="*/ 0 h 3828960"/>
              <a:gd name="textAreaBottom" fmla="*/ 3829320 h 3828960"/>
            </a:gdLst>
            <a:ahLst/>
            <a:rect l="textAreaLeft" t="textAreaTop" r="textAreaRight" b="textAreaBottom"/>
            <a:pathLst>
              <a:path w="2554" h="2604">
                <a:moveTo>
                  <a:pt x="1230" y="2604"/>
                </a:moveTo>
                <a:lnTo>
                  <a:pt x="1230" y="2604"/>
                </a:lnTo>
                <a:lnTo>
                  <a:pt x="2554" y="2604"/>
                </a:lnTo>
                <a:lnTo>
                  <a:pt x="2554" y="1540"/>
                </a:lnTo>
                <a:lnTo>
                  <a:pt x="0" y="0"/>
                </a:lnTo>
                <a:lnTo>
                  <a:pt x="1230" y="2604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72"/>
          <p:cNvSpPr/>
          <p:nvPr/>
        </p:nvSpPr>
        <p:spPr>
          <a:xfrm>
            <a:off x="1440" y="3025800"/>
            <a:ext cx="4577040" cy="2282760"/>
          </a:xfrm>
          <a:custGeom>
            <a:avLst/>
            <a:gdLst>
              <a:gd name="textAreaLeft" fmla="*/ 0 w 4577040"/>
              <a:gd name="textAreaRight" fmla="*/ 4577400 w 4577040"/>
              <a:gd name="textAreaTop" fmla="*/ 0 h 2282760"/>
              <a:gd name="textAreaBottom" fmla="*/ 2283120 h 2282760"/>
            </a:gdLst>
            <a:ahLst/>
            <a:rect l="textAreaLeft" t="textAreaTop" r="textAreaRight" b="textAreaBottom"/>
            <a:pathLst>
              <a:path w="2596" h="1552">
                <a:moveTo>
                  <a:pt x="2592" y="0"/>
                </a:moveTo>
                <a:lnTo>
                  <a:pt x="0" y="0"/>
                </a:lnTo>
                <a:lnTo>
                  <a:pt x="0" y="1552"/>
                </a:lnTo>
                <a:lnTo>
                  <a:pt x="2596" y="0"/>
                </a:lnTo>
                <a:lnTo>
                  <a:pt x="2592" y="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ktangel 21"/>
          <p:cNvSpPr/>
          <p:nvPr/>
        </p:nvSpPr>
        <p:spPr>
          <a:xfrm>
            <a:off x="426960" y="1116000"/>
            <a:ext cx="2551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b10"/>
                </a:solidFill>
                <a:latin typeface="Calibri"/>
              </a:rPr>
              <a:t>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Go ahead and replace it with your own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This is an example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Go ahead and replace it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3">
            <a:hlinkClick r:id="rId2"/>
          </p:cNvPr>
          <p:cNvSpPr/>
          <p:nvPr/>
        </p:nvSpPr>
        <p:spPr>
          <a:xfrm>
            <a:off x="4255920" y="684360"/>
            <a:ext cx="488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ktangel 16"/>
          <p:cNvSpPr/>
          <p:nvPr/>
        </p:nvSpPr>
        <p:spPr>
          <a:xfrm flipV="1" rot="10800000">
            <a:off x="0" y="-1080"/>
            <a:ext cx="9144000" cy="30322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f3f3f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uppe 13"/>
          <p:cNvGrpSpPr/>
          <p:nvPr/>
        </p:nvGrpSpPr>
        <p:grpSpPr>
          <a:xfrm>
            <a:off x="336600" y="895320"/>
            <a:ext cx="2603520" cy="1808280"/>
            <a:chOff x="336600" y="895320"/>
            <a:chExt cx="2603520" cy="1808280"/>
          </a:xfrm>
        </p:grpSpPr>
        <p:sp>
          <p:nvSpPr>
            <p:cNvPr id="449" name="Rektangel 22"/>
            <p:cNvSpPr/>
            <p:nvPr/>
          </p:nvSpPr>
          <p:spPr>
            <a:xfrm>
              <a:off x="336600" y="895320"/>
              <a:ext cx="2603520" cy="1808280"/>
            </a:xfrm>
            <a:prstGeom prst="rect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Rectangle 8"/>
          <p:cNvSpPr/>
          <p:nvPr/>
        </p:nvSpPr>
        <p:spPr>
          <a:xfrm>
            <a:off x="314280" y="195120"/>
            <a:ext cx="8520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VISIONS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TARGETS – HOW TO REACH OUR GO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kstboks 31"/>
          <p:cNvSpPr/>
          <p:nvPr/>
        </p:nvSpPr>
        <p:spPr>
          <a:xfrm>
            <a:off x="4084200" y="2389320"/>
            <a:ext cx="10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Calibri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68"/>
          <p:cNvSpPr/>
          <p:nvPr/>
        </p:nvSpPr>
        <p:spPr>
          <a:xfrm>
            <a:off x="1440" y="3029040"/>
            <a:ext cx="4605480" cy="3828960"/>
          </a:xfrm>
          <a:custGeom>
            <a:avLst/>
            <a:gdLst>
              <a:gd name="textAreaLeft" fmla="*/ 0 w 4605480"/>
              <a:gd name="textAreaRight" fmla="*/ 4605840 w 4605480"/>
              <a:gd name="textAreaTop" fmla="*/ 0 h 3828960"/>
              <a:gd name="textAreaBottom" fmla="*/ 3829320 h 3828960"/>
            </a:gdLst>
            <a:ahLst/>
            <a:rect l="textAreaLeft" t="textAreaTop" r="textAreaRight" b="textAreaBottom"/>
            <a:pathLst>
              <a:path w="2612" h="2604">
                <a:moveTo>
                  <a:pt x="0" y="1562"/>
                </a:moveTo>
                <a:lnTo>
                  <a:pt x="0" y="2604"/>
                </a:lnTo>
                <a:lnTo>
                  <a:pt x="1272" y="2604"/>
                </a:lnTo>
                <a:lnTo>
                  <a:pt x="2612" y="0"/>
                </a:lnTo>
                <a:lnTo>
                  <a:pt x="0" y="1562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69"/>
          <p:cNvSpPr/>
          <p:nvPr/>
        </p:nvSpPr>
        <p:spPr>
          <a:xfrm>
            <a:off x="4667400" y="3025800"/>
            <a:ext cx="4473360" cy="2249640"/>
          </a:xfrm>
          <a:custGeom>
            <a:avLst/>
            <a:gdLst>
              <a:gd name="textAreaLeft" fmla="*/ 0 w 4473360"/>
              <a:gd name="textAreaRight" fmla="*/ 4473720 w 4473360"/>
              <a:gd name="textAreaTop" fmla="*/ 0 h 2249640"/>
              <a:gd name="textAreaBottom" fmla="*/ 2249640 h 2249640"/>
            </a:gdLst>
            <a:ahLst/>
            <a:rect l="textAreaLeft" t="textAreaTop" r="textAreaRight" b="textAreaBottom"/>
            <a:pathLst>
              <a:path w="2538" h="1530">
                <a:moveTo>
                  <a:pt x="2538" y="1530"/>
                </a:moveTo>
                <a:lnTo>
                  <a:pt x="2538" y="0"/>
                </a:lnTo>
                <a:lnTo>
                  <a:pt x="0" y="0"/>
                </a:lnTo>
                <a:lnTo>
                  <a:pt x="2538" y="153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70"/>
          <p:cNvSpPr/>
          <p:nvPr/>
        </p:nvSpPr>
        <p:spPr>
          <a:xfrm>
            <a:off x="2262240" y="3032280"/>
            <a:ext cx="4525920" cy="3825720"/>
          </a:xfrm>
          <a:custGeom>
            <a:avLst/>
            <a:gdLst>
              <a:gd name="textAreaLeft" fmla="*/ 0 w 4525920"/>
              <a:gd name="textAreaRight" fmla="*/ 4526280 w 4525920"/>
              <a:gd name="textAreaTop" fmla="*/ 0 h 3825720"/>
              <a:gd name="textAreaBottom" fmla="*/ 3826080 h 3825720"/>
            </a:gdLst>
            <a:ahLst/>
            <a:rect l="textAreaLeft" t="textAreaTop" r="textAreaRight" b="textAreaBottom"/>
            <a:pathLst>
              <a:path w="2568" h="2602">
                <a:moveTo>
                  <a:pt x="0" y="2602"/>
                </a:moveTo>
                <a:lnTo>
                  <a:pt x="2568" y="2602"/>
                </a:lnTo>
                <a:lnTo>
                  <a:pt x="1338" y="0"/>
                </a:lnTo>
                <a:lnTo>
                  <a:pt x="0" y="2602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71"/>
          <p:cNvSpPr/>
          <p:nvPr/>
        </p:nvSpPr>
        <p:spPr>
          <a:xfrm>
            <a:off x="4638600" y="3029040"/>
            <a:ext cx="4502160" cy="3828960"/>
          </a:xfrm>
          <a:custGeom>
            <a:avLst/>
            <a:gdLst>
              <a:gd name="textAreaLeft" fmla="*/ 0 w 4502160"/>
              <a:gd name="textAreaRight" fmla="*/ 4502520 w 4502160"/>
              <a:gd name="textAreaTop" fmla="*/ 0 h 3828960"/>
              <a:gd name="textAreaBottom" fmla="*/ 3829320 h 3828960"/>
            </a:gdLst>
            <a:ahLst/>
            <a:rect l="textAreaLeft" t="textAreaTop" r="textAreaRight" b="textAreaBottom"/>
            <a:pathLst>
              <a:path w="2554" h="2604">
                <a:moveTo>
                  <a:pt x="1230" y="2604"/>
                </a:moveTo>
                <a:lnTo>
                  <a:pt x="1230" y="2604"/>
                </a:lnTo>
                <a:lnTo>
                  <a:pt x="2554" y="2604"/>
                </a:lnTo>
                <a:lnTo>
                  <a:pt x="2554" y="1540"/>
                </a:lnTo>
                <a:lnTo>
                  <a:pt x="0" y="0"/>
                </a:lnTo>
                <a:lnTo>
                  <a:pt x="1230" y="260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72"/>
          <p:cNvSpPr/>
          <p:nvPr/>
        </p:nvSpPr>
        <p:spPr>
          <a:xfrm>
            <a:off x="1440" y="3025800"/>
            <a:ext cx="4577040" cy="2282760"/>
          </a:xfrm>
          <a:custGeom>
            <a:avLst/>
            <a:gdLst>
              <a:gd name="textAreaLeft" fmla="*/ 0 w 4577040"/>
              <a:gd name="textAreaRight" fmla="*/ 4577400 w 4577040"/>
              <a:gd name="textAreaTop" fmla="*/ 0 h 2282760"/>
              <a:gd name="textAreaBottom" fmla="*/ 2283120 h 2282760"/>
            </a:gdLst>
            <a:ahLst/>
            <a:rect l="textAreaLeft" t="textAreaTop" r="textAreaRight" b="textAreaBottom"/>
            <a:pathLst>
              <a:path w="2596" h="1552">
                <a:moveTo>
                  <a:pt x="2592" y="0"/>
                </a:moveTo>
                <a:lnTo>
                  <a:pt x="0" y="0"/>
                </a:lnTo>
                <a:lnTo>
                  <a:pt x="0" y="1552"/>
                </a:lnTo>
                <a:lnTo>
                  <a:pt x="2596" y="0"/>
                </a:lnTo>
                <a:lnTo>
                  <a:pt x="2592" y="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ktangel 21"/>
          <p:cNvSpPr/>
          <p:nvPr/>
        </p:nvSpPr>
        <p:spPr>
          <a:xfrm>
            <a:off x="426960" y="1116000"/>
            <a:ext cx="2551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b10"/>
                </a:solidFill>
                <a:latin typeface="Calibri"/>
              </a:rPr>
              <a:t>Business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Go ahead and replace it with your own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This is an example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Go ahead and replace it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3">
            <a:hlinkClick r:id="rId2"/>
          </p:cNvPr>
          <p:cNvSpPr/>
          <p:nvPr/>
        </p:nvSpPr>
        <p:spPr>
          <a:xfrm>
            <a:off x="4255920" y="684360"/>
            <a:ext cx="488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ktangel 16"/>
          <p:cNvSpPr/>
          <p:nvPr/>
        </p:nvSpPr>
        <p:spPr>
          <a:xfrm flipV="1" rot="10800000">
            <a:off x="0" y="-1080"/>
            <a:ext cx="9144000" cy="30322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f3f3f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8"/>
          <p:cNvSpPr/>
          <p:nvPr/>
        </p:nvSpPr>
        <p:spPr>
          <a:xfrm>
            <a:off x="314280" y="195120"/>
            <a:ext cx="8520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VISIONS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TARGETS – HOW TO REACH OUR GO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kstboks 31"/>
          <p:cNvSpPr/>
          <p:nvPr/>
        </p:nvSpPr>
        <p:spPr>
          <a:xfrm>
            <a:off x="4084200" y="2389320"/>
            <a:ext cx="10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Calibri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68"/>
          <p:cNvSpPr/>
          <p:nvPr/>
        </p:nvSpPr>
        <p:spPr>
          <a:xfrm>
            <a:off x="1440" y="3029040"/>
            <a:ext cx="4605480" cy="3828960"/>
          </a:xfrm>
          <a:custGeom>
            <a:avLst/>
            <a:gdLst>
              <a:gd name="textAreaLeft" fmla="*/ 0 w 4605480"/>
              <a:gd name="textAreaRight" fmla="*/ 4605840 w 4605480"/>
              <a:gd name="textAreaTop" fmla="*/ 0 h 3828960"/>
              <a:gd name="textAreaBottom" fmla="*/ 3829320 h 3828960"/>
            </a:gdLst>
            <a:ahLst/>
            <a:rect l="textAreaLeft" t="textAreaTop" r="textAreaRight" b="textAreaBottom"/>
            <a:pathLst>
              <a:path w="2612" h="2604">
                <a:moveTo>
                  <a:pt x="0" y="1562"/>
                </a:moveTo>
                <a:lnTo>
                  <a:pt x="0" y="2604"/>
                </a:lnTo>
                <a:lnTo>
                  <a:pt x="1272" y="2604"/>
                </a:lnTo>
                <a:lnTo>
                  <a:pt x="2612" y="0"/>
                </a:lnTo>
                <a:lnTo>
                  <a:pt x="0" y="1562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69"/>
          <p:cNvSpPr/>
          <p:nvPr/>
        </p:nvSpPr>
        <p:spPr>
          <a:xfrm>
            <a:off x="4667400" y="3025800"/>
            <a:ext cx="4473360" cy="2249640"/>
          </a:xfrm>
          <a:custGeom>
            <a:avLst/>
            <a:gdLst>
              <a:gd name="textAreaLeft" fmla="*/ 0 w 4473360"/>
              <a:gd name="textAreaRight" fmla="*/ 4473720 w 4473360"/>
              <a:gd name="textAreaTop" fmla="*/ 0 h 2249640"/>
              <a:gd name="textAreaBottom" fmla="*/ 2249640 h 2249640"/>
            </a:gdLst>
            <a:ahLst/>
            <a:rect l="textAreaLeft" t="textAreaTop" r="textAreaRight" b="textAreaBottom"/>
            <a:pathLst>
              <a:path w="2538" h="1530">
                <a:moveTo>
                  <a:pt x="2538" y="1530"/>
                </a:moveTo>
                <a:lnTo>
                  <a:pt x="2538" y="0"/>
                </a:lnTo>
                <a:lnTo>
                  <a:pt x="0" y="0"/>
                </a:lnTo>
                <a:lnTo>
                  <a:pt x="2538" y="153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70"/>
          <p:cNvSpPr/>
          <p:nvPr/>
        </p:nvSpPr>
        <p:spPr>
          <a:xfrm>
            <a:off x="2262240" y="3032280"/>
            <a:ext cx="4525920" cy="3825720"/>
          </a:xfrm>
          <a:custGeom>
            <a:avLst/>
            <a:gdLst>
              <a:gd name="textAreaLeft" fmla="*/ 0 w 4525920"/>
              <a:gd name="textAreaRight" fmla="*/ 4526280 w 4525920"/>
              <a:gd name="textAreaTop" fmla="*/ 0 h 3825720"/>
              <a:gd name="textAreaBottom" fmla="*/ 3826080 h 3825720"/>
            </a:gdLst>
            <a:ahLst/>
            <a:rect l="textAreaLeft" t="textAreaTop" r="textAreaRight" b="textAreaBottom"/>
            <a:pathLst>
              <a:path w="2568" h="2602">
                <a:moveTo>
                  <a:pt x="0" y="2602"/>
                </a:moveTo>
                <a:lnTo>
                  <a:pt x="2568" y="2602"/>
                </a:lnTo>
                <a:lnTo>
                  <a:pt x="1338" y="0"/>
                </a:lnTo>
                <a:lnTo>
                  <a:pt x="0" y="2602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71"/>
          <p:cNvSpPr/>
          <p:nvPr/>
        </p:nvSpPr>
        <p:spPr>
          <a:xfrm>
            <a:off x="4638600" y="3029040"/>
            <a:ext cx="4502160" cy="3828960"/>
          </a:xfrm>
          <a:custGeom>
            <a:avLst/>
            <a:gdLst>
              <a:gd name="textAreaLeft" fmla="*/ 0 w 4502160"/>
              <a:gd name="textAreaRight" fmla="*/ 4502520 w 4502160"/>
              <a:gd name="textAreaTop" fmla="*/ 0 h 3828960"/>
              <a:gd name="textAreaBottom" fmla="*/ 3829320 h 3828960"/>
            </a:gdLst>
            <a:ahLst/>
            <a:rect l="textAreaLeft" t="textAreaTop" r="textAreaRight" b="textAreaBottom"/>
            <a:pathLst>
              <a:path w="2554" h="2604">
                <a:moveTo>
                  <a:pt x="1230" y="2604"/>
                </a:moveTo>
                <a:lnTo>
                  <a:pt x="1230" y="2604"/>
                </a:lnTo>
                <a:lnTo>
                  <a:pt x="2554" y="2604"/>
                </a:lnTo>
                <a:lnTo>
                  <a:pt x="2554" y="1540"/>
                </a:lnTo>
                <a:lnTo>
                  <a:pt x="0" y="0"/>
                </a:lnTo>
                <a:lnTo>
                  <a:pt x="1230" y="2604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72"/>
          <p:cNvSpPr/>
          <p:nvPr/>
        </p:nvSpPr>
        <p:spPr>
          <a:xfrm>
            <a:off x="1440" y="3025800"/>
            <a:ext cx="4577040" cy="2282760"/>
          </a:xfrm>
          <a:custGeom>
            <a:avLst/>
            <a:gdLst>
              <a:gd name="textAreaLeft" fmla="*/ 0 w 4577040"/>
              <a:gd name="textAreaRight" fmla="*/ 4577400 w 4577040"/>
              <a:gd name="textAreaTop" fmla="*/ 0 h 2282760"/>
              <a:gd name="textAreaBottom" fmla="*/ 2283120 h 2282760"/>
            </a:gdLst>
            <a:ahLst/>
            <a:rect l="textAreaLeft" t="textAreaTop" r="textAreaRight" b="textAreaBottom"/>
            <a:pathLst>
              <a:path w="2596" h="1552">
                <a:moveTo>
                  <a:pt x="2592" y="0"/>
                </a:moveTo>
                <a:lnTo>
                  <a:pt x="0" y="0"/>
                </a:lnTo>
                <a:lnTo>
                  <a:pt x="0" y="1552"/>
                </a:lnTo>
                <a:lnTo>
                  <a:pt x="2596" y="0"/>
                </a:lnTo>
                <a:lnTo>
                  <a:pt x="2592" y="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uppe 13"/>
          <p:cNvGrpSpPr/>
          <p:nvPr/>
        </p:nvGrpSpPr>
        <p:grpSpPr>
          <a:xfrm>
            <a:off x="336600" y="895320"/>
            <a:ext cx="2603520" cy="1808280"/>
            <a:chOff x="336600" y="895320"/>
            <a:chExt cx="2603520" cy="1808280"/>
          </a:xfrm>
        </p:grpSpPr>
        <p:sp>
          <p:nvSpPr>
            <p:cNvPr id="468" name="Rektangel 20"/>
            <p:cNvSpPr/>
            <p:nvPr/>
          </p:nvSpPr>
          <p:spPr>
            <a:xfrm>
              <a:off x="336600" y="895320"/>
              <a:ext cx="2603520" cy="1808280"/>
            </a:xfrm>
            <a:prstGeom prst="rect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ktangel 21"/>
          <p:cNvSpPr/>
          <p:nvPr/>
        </p:nvSpPr>
        <p:spPr>
          <a:xfrm>
            <a:off x="426960" y="1116000"/>
            <a:ext cx="2551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b10"/>
                </a:solidFill>
                <a:latin typeface="Calibri"/>
              </a:rPr>
              <a:t>Enviromental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Go ahead and replace it with your own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This is an example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Go ahead and replace it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4">
            <a:hlinkClick r:id="rId2"/>
          </p:cNvPr>
          <p:cNvSpPr/>
          <p:nvPr/>
        </p:nvSpPr>
        <p:spPr>
          <a:xfrm>
            <a:off x="4255920" y="684360"/>
            <a:ext cx="488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Freeform 68"/>
          <p:cNvSpPr/>
          <p:nvPr/>
        </p:nvSpPr>
        <p:spPr>
          <a:xfrm>
            <a:off x="1440" y="3029040"/>
            <a:ext cx="4605480" cy="3828960"/>
          </a:xfrm>
          <a:custGeom>
            <a:avLst/>
            <a:gdLst>
              <a:gd name="textAreaLeft" fmla="*/ 0 w 4605480"/>
              <a:gd name="textAreaRight" fmla="*/ 4605840 w 4605480"/>
              <a:gd name="textAreaTop" fmla="*/ 0 h 3828960"/>
              <a:gd name="textAreaBottom" fmla="*/ 3829320 h 3828960"/>
            </a:gdLst>
            <a:ahLst/>
            <a:rect l="textAreaLeft" t="textAreaTop" r="textAreaRight" b="textAreaBottom"/>
            <a:pathLst>
              <a:path w="2612" h="2604">
                <a:moveTo>
                  <a:pt x="0" y="1562"/>
                </a:moveTo>
                <a:lnTo>
                  <a:pt x="0" y="2604"/>
                </a:lnTo>
                <a:lnTo>
                  <a:pt x="1272" y="2604"/>
                </a:lnTo>
                <a:lnTo>
                  <a:pt x="2612" y="0"/>
                </a:lnTo>
                <a:lnTo>
                  <a:pt x="0" y="1562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daeef3"/>
              </a:gs>
            </a:gsLst>
            <a:lin ang="5400000"/>
          </a:gradFill>
          <a:ln w="93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69"/>
          <p:cNvSpPr/>
          <p:nvPr/>
        </p:nvSpPr>
        <p:spPr>
          <a:xfrm>
            <a:off x="4667400" y="3025800"/>
            <a:ext cx="4473360" cy="2249640"/>
          </a:xfrm>
          <a:custGeom>
            <a:avLst/>
            <a:gdLst>
              <a:gd name="textAreaLeft" fmla="*/ 0 w 4473360"/>
              <a:gd name="textAreaRight" fmla="*/ 4473720 w 4473360"/>
              <a:gd name="textAreaTop" fmla="*/ 0 h 2249640"/>
              <a:gd name="textAreaBottom" fmla="*/ 2249640 h 2249640"/>
            </a:gdLst>
            <a:ahLst/>
            <a:rect l="textAreaLeft" t="textAreaTop" r="textAreaRight" b="textAreaBottom"/>
            <a:pathLst>
              <a:path w="2538" h="1530">
                <a:moveTo>
                  <a:pt x="2538" y="1530"/>
                </a:moveTo>
                <a:lnTo>
                  <a:pt x="2538" y="0"/>
                </a:lnTo>
                <a:lnTo>
                  <a:pt x="0" y="0"/>
                </a:lnTo>
                <a:lnTo>
                  <a:pt x="2538" y="1530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daeef3"/>
              </a:gs>
            </a:gsLst>
            <a:lin ang="5400000"/>
          </a:gradFill>
          <a:ln w="93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70"/>
          <p:cNvSpPr/>
          <p:nvPr/>
        </p:nvSpPr>
        <p:spPr>
          <a:xfrm>
            <a:off x="2262240" y="3032280"/>
            <a:ext cx="4525920" cy="3825720"/>
          </a:xfrm>
          <a:custGeom>
            <a:avLst/>
            <a:gdLst>
              <a:gd name="textAreaLeft" fmla="*/ 0 w 4525920"/>
              <a:gd name="textAreaRight" fmla="*/ 4526280 w 4525920"/>
              <a:gd name="textAreaTop" fmla="*/ 0 h 3825720"/>
              <a:gd name="textAreaBottom" fmla="*/ 3826080 h 3825720"/>
            </a:gdLst>
            <a:ahLst/>
            <a:rect l="textAreaLeft" t="textAreaTop" r="textAreaRight" b="textAreaBottom"/>
            <a:pathLst>
              <a:path w="2568" h="2602">
                <a:moveTo>
                  <a:pt x="0" y="2602"/>
                </a:moveTo>
                <a:lnTo>
                  <a:pt x="2568" y="2602"/>
                </a:lnTo>
                <a:lnTo>
                  <a:pt x="1338" y="0"/>
                </a:lnTo>
                <a:lnTo>
                  <a:pt x="0" y="2602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daeef3"/>
              </a:gs>
            </a:gsLst>
            <a:lin ang="5400000"/>
          </a:gradFill>
          <a:ln w="93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71"/>
          <p:cNvSpPr/>
          <p:nvPr/>
        </p:nvSpPr>
        <p:spPr>
          <a:xfrm>
            <a:off x="4638600" y="3029040"/>
            <a:ext cx="4502160" cy="3828960"/>
          </a:xfrm>
          <a:custGeom>
            <a:avLst/>
            <a:gdLst>
              <a:gd name="textAreaLeft" fmla="*/ 0 w 4502160"/>
              <a:gd name="textAreaRight" fmla="*/ 4502520 w 4502160"/>
              <a:gd name="textAreaTop" fmla="*/ 0 h 3828960"/>
              <a:gd name="textAreaBottom" fmla="*/ 3829320 h 3828960"/>
            </a:gdLst>
            <a:ahLst/>
            <a:rect l="textAreaLeft" t="textAreaTop" r="textAreaRight" b="textAreaBottom"/>
            <a:pathLst>
              <a:path w="2554" h="2604">
                <a:moveTo>
                  <a:pt x="1230" y="2604"/>
                </a:moveTo>
                <a:lnTo>
                  <a:pt x="1230" y="2604"/>
                </a:lnTo>
                <a:lnTo>
                  <a:pt x="2554" y="2604"/>
                </a:lnTo>
                <a:lnTo>
                  <a:pt x="2554" y="1540"/>
                </a:lnTo>
                <a:lnTo>
                  <a:pt x="0" y="0"/>
                </a:lnTo>
                <a:lnTo>
                  <a:pt x="1230" y="2604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daeef3"/>
              </a:gs>
            </a:gsLst>
            <a:lin ang="5400000"/>
          </a:gradFill>
          <a:ln w="93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72"/>
          <p:cNvSpPr/>
          <p:nvPr/>
        </p:nvSpPr>
        <p:spPr>
          <a:xfrm>
            <a:off x="1440" y="3025800"/>
            <a:ext cx="4577040" cy="2282760"/>
          </a:xfrm>
          <a:custGeom>
            <a:avLst/>
            <a:gdLst>
              <a:gd name="textAreaLeft" fmla="*/ 0 w 4577040"/>
              <a:gd name="textAreaRight" fmla="*/ 4577400 w 4577040"/>
              <a:gd name="textAreaTop" fmla="*/ 0 h 2282760"/>
              <a:gd name="textAreaBottom" fmla="*/ 2283120 h 2282760"/>
            </a:gdLst>
            <a:ahLst/>
            <a:rect l="textAreaLeft" t="textAreaTop" r="textAreaRight" b="textAreaBottom"/>
            <a:pathLst>
              <a:path w="2596" h="1552">
                <a:moveTo>
                  <a:pt x="2592" y="0"/>
                </a:moveTo>
                <a:lnTo>
                  <a:pt x="0" y="0"/>
                </a:lnTo>
                <a:lnTo>
                  <a:pt x="0" y="1552"/>
                </a:lnTo>
                <a:lnTo>
                  <a:pt x="2596" y="0"/>
                </a:lnTo>
                <a:lnTo>
                  <a:pt x="2592" y="0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daeef3"/>
              </a:gs>
            </a:gsLst>
            <a:lin ang="5400000"/>
          </a:gradFill>
          <a:ln w="93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kstboks 366"/>
          <p:cNvSpPr/>
          <p:nvPr/>
        </p:nvSpPr>
        <p:spPr>
          <a:xfrm rot="2793600">
            <a:off x="5937120" y="47988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aeef3"/>
                </a:solidFill>
                <a:latin typeface="Calibri"/>
              </a:rPr>
              <a:t>TEXT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kstboks 367"/>
          <p:cNvSpPr/>
          <p:nvPr/>
        </p:nvSpPr>
        <p:spPr>
          <a:xfrm rot="1240800">
            <a:off x="6549480" y="366984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aeef3"/>
                </a:solidFill>
                <a:latin typeface="Calibri"/>
              </a:rPr>
              <a:t>TEXT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kstboks 368"/>
          <p:cNvSpPr/>
          <p:nvPr/>
        </p:nvSpPr>
        <p:spPr>
          <a:xfrm flipV="1" rot="9247800">
            <a:off x="1179000" y="372960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aeef3"/>
                </a:solidFill>
                <a:latin typeface="Calibri"/>
              </a:rPr>
              <a:t>TEXT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kstboks 381"/>
          <p:cNvSpPr/>
          <p:nvPr/>
        </p:nvSpPr>
        <p:spPr>
          <a:xfrm flipV="1" rot="8344200">
            <a:off x="1780560" y="477612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aeef3"/>
                </a:solidFill>
                <a:latin typeface="Calibri"/>
              </a:rPr>
              <a:t>TEXT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uppe 71"/>
          <p:cNvGrpSpPr/>
          <p:nvPr/>
        </p:nvGrpSpPr>
        <p:grpSpPr>
          <a:xfrm>
            <a:off x="3521160" y="3948120"/>
            <a:ext cx="2101680" cy="2786040"/>
            <a:chOff x="3521160" y="3948120"/>
            <a:chExt cx="2101680" cy="2786040"/>
          </a:xfrm>
        </p:grpSpPr>
        <p:sp>
          <p:nvSpPr>
            <p:cNvPr id="481" name="Rektangel 385"/>
            <p:cNvSpPr/>
            <p:nvPr/>
          </p:nvSpPr>
          <p:spPr>
            <a:xfrm>
              <a:off x="3765600" y="4373280"/>
              <a:ext cx="1620720" cy="1699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ktangel 389"/>
            <p:cNvSpPr/>
            <p:nvPr/>
          </p:nvSpPr>
          <p:spPr>
            <a:xfrm>
              <a:off x="3547800" y="6564240"/>
              <a:ext cx="2031480" cy="169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Gruppe 40"/>
            <p:cNvGrpSpPr/>
            <p:nvPr/>
          </p:nvGrpSpPr>
          <p:grpSpPr>
            <a:xfrm>
              <a:off x="3521160" y="3948120"/>
              <a:ext cx="2101680" cy="2602800"/>
              <a:chOff x="3521160" y="3948120"/>
              <a:chExt cx="2101680" cy="2602800"/>
            </a:xfrm>
          </p:grpSpPr>
          <p:sp>
            <p:nvSpPr>
              <p:cNvPr id="484" name="Rektangel 392"/>
              <p:cNvSpPr/>
              <p:nvPr/>
            </p:nvSpPr>
            <p:spPr>
              <a:xfrm>
                <a:off x="3765600" y="4268880"/>
                <a:ext cx="1620720" cy="129960"/>
              </a:xfrm>
              <a:prstGeom prst="rect">
                <a:avLst/>
              </a:prstGeom>
              <a:solidFill>
                <a:srgbClr val="1f497d"/>
              </a:solidFill>
              <a:ln w="3240">
                <a:solidFill>
                  <a:srgbClr val="9fa2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Ligebenet trapez 406"/>
              <p:cNvSpPr/>
              <p:nvPr/>
            </p:nvSpPr>
            <p:spPr>
              <a:xfrm>
                <a:off x="3521160" y="6420960"/>
                <a:ext cx="2085840" cy="129960"/>
              </a:xfrm>
              <a:custGeom>
                <a:avLst/>
                <a:gdLst>
                  <a:gd name="textAreaLeft" fmla="*/ 191520 w 2085840"/>
                  <a:gd name="textAreaRight" fmla="*/ 1894320 w 2085840"/>
                  <a:gd name="textAreaTop" fmla="*/ 11880 h 129960"/>
                  <a:gd name="textAreaBottom" fmla="*/ 118080 h 12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70" y="21600"/>
                    </a:lnTo>
                    <a:lnTo>
                      <a:pt x="2123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497d"/>
              </a:solidFill>
              <a:ln w="32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Kombinationstegning 409"/>
              <p:cNvSpPr/>
              <p:nvPr/>
            </p:nvSpPr>
            <p:spPr>
              <a:xfrm>
                <a:off x="3525840" y="3948120"/>
                <a:ext cx="2097000" cy="2484000"/>
              </a:xfrm>
              <a:custGeom>
                <a:avLst/>
                <a:gdLst>
                  <a:gd name="textAreaLeft" fmla="*/ 0 w 2097000"/>
                  <a:gd name="textAreaRight" fmla="*/ 2097360 w 2097000"/>
                  <a:gd name="textAreaTop" fmla="*/ 0 h 2484000"/>
                  <a:gd name="textAreaBottom" fmla="*/ 2484360 h 2484000"/>
                </a:gdLst>
                <a:ahLst/>
                <a:rect l="textAreaLeft" t="textAreaTop" r="textAreaRight" b="textAreaBottom"/>
                <a:pathLst>
                  <a:path w="1584157" h="2061410">
                    <a:moveTo>
                      <a:pt x="1584157" y="2053389"/>
                    </a:moveTo>
                    <a:lnTo>
                      <a:pt x="0" y="2061410"/>
                    </a:lnTo>
                    <a:lnTo>
                      <a:pt x="372979" y="264694"/>
                    </a:lnTo>
                    <a:lnTo>
                      <a:pt x="172452" y="268705"/>
                    </a:lnTo>
                    <a:lnTo>
                      <a:pt x="794084" y="0"/>
                    </a:lnTo>
                    <a:lnTo>
                      <a:pt x="1403684" y="264694"/>
                    </a:lnTo>
                    <a:lnTo>
                      <a:pt x="1203157" y="268705"/>
                    </a:lnTo>
                    <a:lnTo>
                      <a:pt x="1584157" y="205338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88c8"/>
                  </a:gs>
                  <a:gs pos="100000">
                    <a:srgbClr val="78f8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7" name="Tekstboks 31"/>
          <p:cNvSpPr/>
          <p:nvPr/>
        </p:nvSpPr>
        <p:spPr>
          <a:xfrm>
            <a:off x="3705480" y="2222640"/>
            <a:ext cx="182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Calibri"/>
              </a:rPr>
              <a:t>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314280" y="195120"/>
            <a:ext cx="8520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VISIONS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TARG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ktangel 350"/>
          <p:cNvSpPr/>
          <p:nvPr/>
        </p:nvSpPr>
        <p:spPr>
          <a:xfrm>
            <a:off x="495360" y="1268280"/>
            <a:ext cx="15429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d1b10"/>
                </a:solidFill>
                <a:latin typeface="Calibri"/>
              </a:rPr>
              <a:t>Example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This is an example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Go ahead and replace it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kstboks 383"/>
          <p:cNvSpPr/>
          <p:nvPr/>
        </p:nvSpPr>
        <p:spPr>
          <a:xfrm flipV="1" rot="5400000">
            <a:off x="3633840" y="5162760"/>
            <a:ext cx="18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aeef3"/>
                </a:solidFill>
                <a:latin typeface="Calibri"/>
              </a:rPr>
              <a:t>TEXT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22">
            <a:hlinkClick r:id="rId1"/>
          </p:cNvPr>
          <p:cNvSpPr/>
          <p:nvPr/>
        </p:nvSpPr>
        <p:spPr>
          <a:xfrm>
            <a:off x="4255920" y="684360"/>
            <a:ext cx="488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reeform 13"/>
          <p:cNvSpPr/>
          <p:nvPr/>
        </p:nvSpPr>
        <p:spPr>
          <a:xfrm>
            <a:off x="3506760" y="3065400"/>
            <a:ext cx="2251080" cy="3789360"/>
          </a:xfrm>
          <a:custGeom>
            <a:avLst/>
            <a:gdLst>
              <a:gd name="textAreaLeft" fmla="*/ 0 w 2251080"/>
              <a:gd name="textAreaRight" fmla="*/ 2251440 w 2251080"/>
              <a:gd name="textAreaTop" fmla="*/ 0 h 3789360"/>
              <a:gd name="textAreaBottom" fmla="*/ 3789720 h 3789360"/>
            </a:gdLst>
            <a:ahLst/>
            <a:rect l="textAreaLeft" t="textAreaTop" r="textAreaRight" b="textAreaBottom"/>
            <a:pathLst>
              <a:path w="1278" h="2602">
                <a:moveTo>
                  <a:pt x="0" y="2602"/>
                </a:moveTo>
                <a:lnTo>
                  <a:pt x="1278" y="2602"/>
                </a:lnTo>
                <a:lnTo>
                  <a:pt x="638" y="0"/>
                </a:lnTo>
                <a:lnTo>
                  <a:pt x="0" y="2602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daeef3"/>
              </a:gs>
            </a:gsLst>
            <a:lin ang="5400000"/>
          </a:gradFill>
          <a:ln w="93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6"/>
          <p:cNvSpPr/>
          <p:nvPr/>
        </p:nvSpPr>
        <p:spPr>
          <a:xfrm>
            <a:off x="-6480" y="3073320"/>
            <a:ext cx="4587840" cy="3783240"/>
          </a:xfrm>
          <a:custGeom>
            <a:avLst/>
            <a:gdLst>
              <a:gd name="textAreaLeft" fmla="*/ 0 w 4587840"/>
              <a:gd name="textAreaRight" fmla="*/ 4588200 w 4587840"/>
              <a:gd name="textAreaTop" fmla="*/ 0 h 3783240"/>
              <a:gd name="textAreaBottom" fmla="*/ 3783600 h 3783240"/>
            </a:gdLst>
            <a:ahLst/>
            <a:rect l="textAreaLeft" t="textAreaTop" r="textAreaRight" b="textAreaBottom"/>
            <a:pathLst>
              <a:path w="2604" h="2598">
                <a:moveTo>
                  <a:pt x="0" y="1576"/>
                </a:moveTo>
                <a:lnTo>
                  <a:pt x="0" y="2598"/>
                </a:lnTo>
                <a:lnTo>
                  <a:pt x="554" y="2598"/>
                </a:lnTo>
                <a:lnTo>
                  <a:pt x="2604" y="0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daeef3"/>
              </a:gs>
            </a:gsLst>
            <a:lin ang="5400000"/>
          </a:gradFill>
          <a:ln w="93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8"/>
          <p:cNvSpPr/>
          <p:nvPr/>
        </p:nvSpPr>
        <p:spPr>
          <a:xfrm>
            <a:off x="4697280" y="3063960"/>
            <a:ext cx="4443480" cy="2198520"/>
          </a:xfrm>
          <a:custGeom>
            <a:avLst/>
            <a:gdLst>
              <a:gd name="textAreaLeft" fmla="*/ 0 w 4443480"/>
              <a:gd name="textAreaRight" fmla="*/ 4443840 w 4443480"/>
              <a:gd name="textAreaTop" fmla="*/ 0 h 2198520"/>
              <a:gd name="textAreaBottom" fmla="*/ 2198880 h 2198520"/>
            </a:gdLst>
            <a:ahLst/>
            <a:rect l="textAreaLeft" t="textAreaTop" r="textAreaRight" b="textAreaBottom"/>
            <a:pathLst>
              <a:path w="2522" h="1510">
                <a:moveTo>
                  <a:pt x="2522" y="1510"/>
                </a:moveTo>
                <a:lnTo>
                  <a:pt x="2522" y="528"/>
                </a:lnTo>
                <a:lnTo>
                  <a:pt x="0" y="0"/>
                </a:lnTo>
                <a:lnTo>
                  <a:pt x="2522" y="1510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daeef3"/>
              </a:gs>
            </a:gsLst>
            <a:lin ang="5400000"/>
          </a:gradFill>
          <a:ln w="93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9"/>
          <p:cNvSpPr/>
          <p:nvPr/>
        </p:nvSpPr>
        <p:spPr>
          <a:xfrm>
            <a:off x="1008000" y="3070080"/>
            <a:ext cx="3611520" cy="3786480"/>
          </a:xfrm>
          <a:custGeom>
            <a:avLst/>
            <a:gdLst>
              <a:gd name="textAreaLeft" fmla="*/ 0 w 3611520"/>
              <a:gd name="textAreaRight" fmla="*/ 3611880 w 3611520"/>
              <a:gd name="textAreaTop" fmla="*/ 0 h 3786480"/>
              <a:gd name="textAreaBottom" fmla="*/ 3786480 h 3786480"/>
            </a:gdLst>
            <a:ahLst/>
            <a:rect l="textAreaLeft" t="textAreaTop" r="textAreaRight" b="textAreaBottom"/>
            <a:pathLst>
              <a:path w="2050" h="2600">
                <a:moveTo>
                  <a:pt x="0" y="2600"/>
                </a:moveTo>
                <a:lnTo>
                  <a:pt x="1410" y="2600"/>
                </a:lnTo>
                <a:lnTo>
                  <a:pt x="2050" y="0"/>
                </a:lnTo>
                <a:lnTo>
                  <a:pt x="0" y="2600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daeef3"/>
              </a:gs>
            </a:gsLst>
            <a:lin ang="5400000"/>
          </a:gradFill>
          <a:ln w="93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10"/>
          <p:cNvSpPr/>
          <p:nvPr/>
        </p:nvSpPr>
        <p:spPr>
          <a:xfrm>
            <a:off x="-4680" y="3040200"/>
            <a:ext cx="4594320" cy="806400"/>
          </a:xfrm>
          <a:custGeom>
            <a:avLst/>
            <a:gdLst>
              <a:gd name="textAreaLeft" fmla="*/ 0 w 4594320"/>
              <a:gd name="textAreaRight" fmla="*/ 4594680 w 459432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2608" h="554">
                <a:moveTo>
                  <a:pt x="2608" y="0"/>
                </a:moveTo>
                <a:lnTo>
                  <a:pt x="0" y="0"/>
                </a:lnTo>
                <a:lnTo>
                  <a:pt x="0" y="554"/>
                </a:lnTo>
                <a:lnTo>
                  <a:pt x="2602" y="2"/>
                </a:lnTo>
                <a:lnTo>
                  <a:pt x="2608" y="0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daeef3"/>
              </a:gs>
            </a:gsLst>
            <a:lin ang="0"/>
          </a:gradFill>
          <a:ln w="93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1"/>
          <p:cNvSpPr/>
          <p:nvPr/>
        </p:nvSpPr>
        <p:spPr>
          <a:xfrm>
            <a:off x="4648320" y="3040200"/>
            <a:ext cx="4492440" cy="777600"/>
          </a:xfrm>
          <a:custGeom>
            <a:avLst/>
            <a:gdLst>
              <a:gd name="textAreaLeft" fmla="*/ 0 w 4492440"/>
              <a:gd name="textAreaRight" fmla="*/ 4492800 w 4492440"/>
              <a:gd name="textAreaTop" fmla="*/ 0 h 777600"/>
              <a:gd name="textAreaBottom" fmla="*/ 777960 h 777600"/>
            </a:gdLst>
            <a:ahLst/>
            <a:rect l="textAreaLeft" t="textAreaTop" r="textAreaRight" b="textAreaBottom"/>
            <a:pathLst>
              <a:path w="2550" h="534">
                <a:moveTo>
                  <a:pt x="2550" y="534"/>
                </a:moveTo>
                <a:lnTo>
                  <a:pt x="2550" y="0"/>
                </a:lnTo>
                <a:lnTo>
                  <a:pt x="0" y="0"/>
                </a:lnTo>
                <a:lnTo>
                  <a:pt x="2" y="0"/>
                </a:lnTo>
                <a:lnTo>
                  <a:pt x="2550" y="534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daeef3"/>
              </a:gs>
            </a:gsLst>
            <a:lin ang="4800000"/>
          </a:gradFill>
          <a:ln w="93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2"/>
          <p:cNvSpPr/>
          <p:nvPr/>
        </p:nvSpPr>
        <p:spPr>
          <a:xfrm>
            <a:off x="-6480" y="3078000"/>
            <a:ext cx="4540320" cy="2270160"/>
          </a:xfrm>
          <a:custGeom>
            <a:avLst/>
            <a:gdLst>
              <a:gd name="textAreaLeft" fmla="*/ 0 w 4540320"/>
              <a:gd name="textAreaRight" fmla="*/ 4540680 w 45403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576" h="1558">
                <a:moveTo>
                  <a:pt x="0" y="546"/>
                </a:moveTo>
                <a:lnTo>
                  <a:pt x="0" y="1558"/>
                </a:lnTo>
                <a:lnTo>
                  <a:pt x="2576" y="0"/>
                </a:lnTo>
                <a:lnTo>
                  <a:pt x="0" y="546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daeef3"/>
              </a:gs>
            </a:gsLst>
            <a:lin ang="5400000"/>
          </a:gradFill>
          <a:ln w="93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4"/>
          <p:cNvSpPr/>
          <p:nvPr/>
        </p:nvSpPr>
        <p:spPr>
          <a:xfrm>
            <a:off x="4668840" y="3078000"/>
            <a:ext cx="4471920" cy="3778560"/>
          </a:xfrm>
          <a:custGeom>
            <a:avLst/>
            <a:gdLst>
              <a:gd name="textAreaLeft" fmla="*/ 0 w 4471920"/>
              <a:gd name="textAreaRight" fmla="*/ 4472280 w 4471920"/>
              <a:gd name="textAreaTop" fmla="*/ 0 h 3778560"/>
              <a:gd name="textAreaBottom" fmla="*/ 3778920 h 3778560"/>
            </a:gdLst>
            <a:ahLst/>
            <a:rect l="textAreaLeft" t="textAreaTop" r="textAreaRight" b="textAreaBottom"/>
            <a:pathLst>
              <a:path w="2538" h="2594">
                <a:moveTo>
                  <a:pt x="2042" y="2594"/>
                </a:moveTo>
                <a:lnTo>
                  <a:pt x="2538" y="2594"/>
                </a:lnTo>
                <a:lnTo>
                  <a:pt x="2538" y="1520"/>
                </a:lnTo>
                <a:lnTo>
                  <a:pt x="0" y="0"/>
                </a:lnTo>
                <a:lnTo>
                  <a:pt x="2042" y="2594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daeef3"/>
              </a:gs>
            </a:gsLst>
            <a:lin ang="5400000"/>
          </a:gradFill>
          <a:ln w="93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5"/>
          <p:cNvSpPr/>
          <p:nvPr/>
        </p:nvSpPr>
        <p:spPr>
          <a:xfrm>
            <a:off x="4651200" y="3081240"/>
            <a:ext cx="3594240" cy="3773520"/>
          </a:xfrm>
          <a:custGeom>
            <a:avLst/>
            <a:gdLst>
              <a:gd name="textAreaLeft" fmla="*/ 0 w 3594240"/>
              <a:gd name="textAreaRight" fmla="*/ 3594600 w 3594240"/>
              <a:gd name="textAreaTop" fmla="*/ 0 h 3773520"/>
              <a:gd name="textAreaBottom" fmla="*/ 3773880 h 3773520"/>
            </a:gdLst>
            <a:ahLst/>
            <a:rect l="textAreaLeft" t="textAreaTop" r="textAreaRight" b="textAreaBottom"/>
            <a:pathLst>
              <a:path w="2040" h="2592">
                <a:moveTo>
                  <a:pt x="638" y="2592"/>
                </a:moveTo>
                <a:lnTo>
                  <a:pt x="2040" y="2592"/>
                </a:lnTo>
                <a:lnTo>
                  <a:pt x="0" y="0"/>
                </a:lnTo>
                <a:lnTo>
                  <a:pt x="638" y="2592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daeef3"/>
              </a:gs>
            </a:gsLst>
            <a:lin ang="5400000"/>
          </a:gradFill>
          <a:ln w="93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Gruppe 71"/>
          <p:cNvGrpSpPr/>
          <p:nvPr/>
        </p:nvGrpSpPr>
        <p:grpSpPr>
          <a:xfrm>
            <a:off x="3521160" y="3948120"/>
            <a:ext cx="2101680" cy="2786040"/>
            <a:chOff x="3521160" y="3948120"/>
            <a:chExt cx="2101680" cy="2786040"/>
          </a:xfrm>
        </p:grpSpPr>
        <p:sp>
          <p:nvSpPr>
            <p:cNvPr id="502" name="Rektangel 91"/>
            <p:cNvSpPr/>
            <p:nvPr/>
          </p:nvSpPr>
          <p:spPr>
            <a:xfrm>
              <a:off x="3765600" y="4373280"/>
              <a:ext cx="1620720" cy="1699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ktangel 98"/>
            <p:cNvSpPr/>
            <p:nvPr/>
          </p:nvSpPr>
          <p:spPr>
            <a:xfrm>
              <a:off x="3547800" y="6564240"/>
              <a:ext cx="2031480" cy="169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Gruppe 40"/>
            <p:cNvGrpSpPr/>
            <p:nvPr/>
          </p:nvGrpSpPr>
          <p:grpSpPr>
            <a:xfrm>
              <a:off x="3521160" y="3948120"/>
              <a:ext cx="2101680" cy="2602800"/>
              <a:chOff x="3521160" y="3948120"/>
              <a:chExt cx="2101680" cy="2602800"/>
            </a:xfrm>
          </p:grpSpPr>
          <p:sp>
            <p:nvSpPr>
              <p:cNvPr id="505" name="Rektangel 103"/>
              <p:cNvSpPr/>
              <p:nvPr/>
            </p:nvSpPr>
            <p:spPr>
              <a:xfrm>
                <a:off x="3765600" y="4268880"/>
                <a:ext cx="1620720" cy="129960"/>
              </a:xfrm>
              <a:prstGeom prst="rect">
                <a:avLst/>
              </a:prstGeom>
              <a:solidFill>
                <a:srgbClr val="1f497d"/>
              </a:solidFill>
              <a:ln w="3240">
                <a:solidFill>
                  <a:srgbClr val="9fa2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gebenet trapez 111"/>
              <p:cNvSpPr/>
              <p:nvPr/>
            </p:nvSpPr>
            <p:spPr>
              <a:xfrm>
                <a:off x="3521160" y="6420960"/>
                <a:ext cx="2085840" cy="129960"/>
              </a:xfrm>
              <a:custGeom>
                <a:avLst/>
                <a:gdLst>
                  <a:gd name="textAreaLeft" fmla="*/ 191520 w 2085840"/>
                  <a:gd name="textAreaRight" fmla="*/ 1894320 w 2085840"/>
                  <a:gd name="textAreaTop" fmla="*/ 11880 h 129960"/>
                  <a:gd name="textAreaBottom" fmla="*/ 118080 h 12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70" y="21600"/>
                    </a:lnTo>
                    <a:lnTo>
                      <a:pt x="2123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497d"/>
              </a:solidFill>
              <a:ln w="32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Kombinationstegning 112"/>
              <p:cNvSpPr/>
              <p:nvPr/>
            </p:nvSpPr>
            <p:spPr>
              <a:xfrm>
                <a:off x="3525840" y="3948120"/>
                <a:ext cx="2097000" cy="2484000"/>
              </a:xfrm>
              <a:custGeom>
                <a:avLst/>
                <a:gdLst>
                  <a:gd name="textAreaLeft" fmla="*/ 0 w 2097000"/>
                  <a:gd name="textAreaRight" fmla="*/ 2097360 w 2097000"/>
                  <a:gd name="textAreaTop" fmla="*/ 0 h 2484000"/>
                  <a:gd name="textAreaBottom" fmla="*/ 2484360 h 2484000"/>
                </a:gdLst>
                <a:ahLst/>
                <a:rect l="textAreaLeft" t="textAreaTop" r="textAreaRight" b="textAreaBottom"/>
                <a:pathLst>
                  <a:path w="1584157" h="2061410">
                    <a:moveTo>
                      <a:pt x="1584157" y="2053389"/>
                    </a:moveTo>
                    <a:lnTo>
                      <a:pt x="0" y="2061410"/>
                    </a:lnTo>
                    <a:lnTo>
                      <a:pt x="372979" y="264694"/>
                    </a:lnTo>
                    <a:lnTo>
                      <a:pt x="172452" y="268705"/>
                    </a:lnTo>
                    <a:lnTo>
                      <a:pt x="794084" y="0"/>
                    </a:lnTo>
                    <a:lnTo>
                      <a:pt x="1403684" y="264694"/>
                    </a:lnTo>
                    <a:lnTo>
                      <a:pt x="1203157" y="268705"/>
                    </a:lnTo>
                    <a:lnTo>
                      <a:pt x="1584157" y="205338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88c8"/>
                  </a:gs>
                  <a:gs pos="100000">
                    <a:srgbClr val="78f8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Rectangle 7"/>
          <p:cNvSpPr/>
          <p:nvPr/>
        </p:nvSpPr>
        <p:spPr>
          <a:xfrm>
            <a:off x="4633920" y="3040200"/>
            <a:ext cx="1440" cy="1440"/>
          </a:xfrm>
          <a:prstGeom prst="rect">
            <a:avLst/>
          </a:prstGeom>
          <a:solidFill>
            <a:srgbClr val="c1514f"/>
          </a:solidFill>
          <a:ln w="93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6"/>
          <p:cNvSpPr/>
          <p:nvPr/>
        </p:nvSpPr>
        <p:spPr>
          <a:xfrm>
            <a:off x="5757840" y="6843600"/>
            <a:ext cx="17640" cy="7920"/>
          </a:xfrm>
          <a:custGeom>
            <a:avLst/>
            <a:gdLst>
              <a:gd name="textAreaLeft" fmla="*/ 0 w 17640"/>
              <a:gd name="textAreaRight" fmla="*/ 18000 w 176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6">
                <a:moveTo>
                  <a:pt x="2" y="6"/>
                </a:moveTo>
                <a:lnTo>
                  <a:pt x="10" y="4"/>
                </a:lnTo>
                <a:lnTo>
                  <a:pt x="10" y="0"/>
                </a:lnTo>
                <a:lnTo>
                  <a:pt x="0" y="0"/>
                </a:lnTo>
                <a:lnTo>
                  <a:pt x="2" y="6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18"/>
          <p:cNvSpPr/>
          <p:nvPr/>
        </p:nvSpPr>
        <p:spPr>
          <a:xfrm>
            <a:off x="8245440" y="6843600"/>
            <a:ext cx="25560" cy="14400"/>
          </a:xfrm>
          <a:custGeom>
            <a:avLst/>
            <a:gdLst>
              <a:gd name="textAreaLeft" fmla="*/ 0 w 25560"/>
              <a:gd name="textAreaRight" fmla="*/ 25920 w 255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4" h="10">
                <a:moveTo>
                  <a:pt x="8" y="10"/>
                </a:moveTo>
                <a:lnTo>
                  <a:pt x="14" y="4"/>
                </a:lnTo>
                <a:lnTo>
                  <a:pt x="12" y="0"/>
                </a:lnTo>
                <a:lnTo>
                  <a:pt x="0" y="0"/>
                </a:lnTo>
                <a:lnTo>
                  <a:pt x="8" y="10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20"/>
          <p:cNvSpPr/>
          <p:nvPr/>
        </p:nvSpPr>
        <p:spPr>
          <a:xfrm>
            <a:off x="4630680" y="3048120"/>
            <a:ext cx="20520" cy="20520"/>
          </a:xfrm>
          <a:custGeom>
            <a:avLst/>
            <a:gdLst>
              <a:gd name="textAreaLeft" fmla="*/ 0 w 20520"/>
              <a:gd name="textAreaRight" fmla="*/ 20880 w 205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2" h="14">
                <a:moveTo>
                  <a:pt x="0" y="0"/>
                </a:moveTo>
                <a:lnTo>
                  <a:pt x="12" y="14"/>
                </a:lnTo>
                <a:lnTo>
                  <a:pt x="10" y="4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21"/>
          <p:cNvSpPr/>
          <p:nvPr/>
        </p:nvSpPr>
        <p:spPr>
          <a:xfrm>
            <a:off x="9140760" y="5262480"/>
            <a:ext cx="3240" cy="19080"/>
          </a:xfrm>
          <a:custGeom>
            <a:avLst/>
            <a:gdLst>
              <a:gd name="textAreaLeft" fmla="*/ 0 w 3240"/>
              <a:gd name="textAreaRight" fmla="*/ 3600 w 32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" h="14">
                <a:moveTo>
                  <a:pt x="2" y="2"/>
                </a:moveTo>
                <a:lnTo>
                  <a:pt x="0" y="0"/>
                </a:lnTo>
                <a:lnTo>
                  <a:pt x="0" y="12"/>
                </a:lnTo>
                <a:lnTo>
                  <a:pt x="0" y="14"/>
                </a:lnTo>
                <a:lnTo>
                  <a:pt x="2" y="2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2"/>
          <p:cNvSpPr/>
          <p:nvPr/>
        </p:nvSpPr>
        <p:spPr>
          <a:xfrm>
            <a:off x="4633920" y="3040200"/>
            <a:ext cx="1440" cy="1440"/>
          </a:xfrm>
          <a:prstGeom prst="rect">
            <a:avLst/>
          </a:pr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23"/>
          <p:cNvSpPr/>
          <p:nvPr/>
        </p:nvSpPr>
        <p:spPr>
          <a:xfrm>
            <a:off x="4645080" y="3040200"/>
            <a:ext cx="6120" cy="6120"/>
          </a:xfrm>
          <a:custGeom>
            <a:avLst/>
            <a:gdLst>
              <a:gd name="textAreaLeft" fmla="*/ 0 w 6120"/>
              <a:gd name="textAreaRight" fmla="*/ 6480 w 6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4" h="4">
                <a:moveTo>
                  <a:pt x="2" y="4"/>
                </a:moveTo>
                <a:lnTo>
                  <a:pt x="4" y="0"/>
                </a:lnTo>
                <a:lnTo>
                  <a:pt x="2" y="0"/>
                </a:lnTo>
                <a:lnTo>
                  <a:pt x="0" y="0"/>
                </a:lnTo>
                <a:lnTo>
                  <a:pt x="2" y="4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24"/>
          <p:cNvSpPr/>
          <p:nvPr/>
        </p:nvSpPr>
        <p:spPr>
          <a:xfrm>
            <a:off x="4633920" y="304020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70" h="127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26"/>
          <p:cNvSpPr/>
          <p:nvPr/>
        </p:nvSpPr>
        <p:spPr>
          <a:xfrm>
            <a:off x="4640400" y="3040200"/>
            <a:ext cx="28440" cy="25200"/>
          </a:xfrm>
          <a:custGeom>
            <a:avLst/>
            <a:gdLst>
              <a:gd name="textAreaLeft" fmla="*/ 0 w 28440"/>
              <a:gd name="textAreaRight" fmla="*/ 28800 w 2844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6" h="18">
                <a:moveTo>
                  <a:pt x="4" y="4"/>
                </a:moveTo>
                <a:lnTo>
                  <a:pt x="2" y="0"/>
                </a:lnTo>
                <a:lnTo>
                  <a:pt x="0" y="0"/>
                </a:lnTo>
                <a:lnTo>
                  <a:pt x="4" y="10"/>
                </a:lnTo>
                <a:lnTo>
                  <a:pt x="16" y="18"/>
                </a:lnTo>
                <a:lnTo>
                  <a:pt x="12" y="12"/>
                </a:lnTo>
                <a:lnTo>
                  <a:pt x="4" y="10"/>
                </a:lnTo>
                <a:lnTo>
                  <a:pt x="4" y="4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27"/>
          <p:cNvSpPr/>
          <p:nvPr/>
        </p:nvSpPr>
        <p:spPr>
          <a:xfrm>
            <a:off x="4633920" y="304020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" h="127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28"/>
          <p:cNvSpPr/>
          <p:nvPr/>
        </p:nvSpPr>
        <p:spPr>
          <a:xfrm>
            <a:off x="4637160" y="303696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2">
                <a:moveTo>
                  <a:pt x="0" y="2"/>
                </a:moveTo>
                <a:lnTo>
                  <a:pt x="2" y="2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29"/>
          <p:cNvSpPr/>
          <p:nvPr/>
        </p:nvSpPr>
        <p:spPr>
          <a:xfrm>
            <a:off x="4633920" y="3040200"/>
            <a:ext cx="14400" cy="14040"/>
          </a:xfrm>
          <a:custGeom>
            <a:avLst/>
            <a:gdLst>
              <a:gd name="textAreaLeft" fmla="*/ 0 w 14400"/>
              <a:gd name="textAreaRight" fmla="*/ 14760 w 1440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8" h="10">
                <a:moveTo>
                  <a:pt x="2" y="0"/>
                </a:moveTo>
                <a:lnTo>
                  <a:pt x="0" y="0"/>
                </a:lnTo>
                <a:lnTo>
                  <a:pt x="0" y="6"/>
                </a:lnTo>
                <a:lnTo>
                  <a:pt x="8" y="10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30"/>
          <p:cNvSpPr/>
          <p:nvPr/>
        </p:nvSpPr>
        <p:spPr>
          <a:xfrm>
            <a:off x="9140760" y="3817800"/>
            <a:ext cx="3240" cy="14400"/>
          </a:xfrm>
          <a:custGeom>
            <a:avLst/>
            <a:gdLst>
              <a:gd name="textAreaLeft" fmla="*/ 0 w 3240"/>
              <a:gd name="textAreaRight" fmla="*/ 3600 w 32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2" h="10">
                <a:moveTo>
                  <a:pt x="0" y="10"/>
                </a:moveTo>
                <a:lnTo>
                  <a:pt x="2" y="0"/>
                </a:lnTo>
                <a:lnTo>
                  <a:pt x="0" y="0"/>
                </a:lnTo>
                <a:lnTo>
                  <a:pt x="0" y="10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32"/>
          <p:cNvSpPr/>
          <p:nvPr/>
        </p:nvSpPr>
        <p:spPr>
          <a:xfrm>
            <a:off x="4648320" y="3040200"/>
            <a:ext cx="48960" cy="23760"/>
          </a:xfrm>
          <a:custGeom>
            <a:avLst/>
            <a:gdLst>
              <a:gd name="textAreaLeft" fmla="*/ 0 w 48960"/>
              <a:gd name="textAreaRight" fmla="*/ 49320 w 489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28" h="16">
                <a:moveTo>
                  <a:pt x="2" y="0"/>
                </a:moveTo>
                <a:lnTo>
                  <a:pt x="0" y="4"/>
                </a:lnTo>
                <a:lnTo>
                  <a:pt x="8" y="12"/>
                </a:lnTo>
                <a:lnTo>
                  <a:pt x="28" y="16"/>
                </a:lnTo>
                <a:lnTo>
                  <a:pt x="2" y="0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33"/>
          <p:cNvSpPr/>
          <p:nvPr/>
        </p:nvSpPr>
        <p:spPr>
          <a:xfrm>
            <a:off x="4648320" y="3046320"/>
            <a:ext cx="14040" cy="11160"/>
          </a:xfrm>
          <a:custGeom>
            <a:avLst/>
            <a:gdLst>
              <a:gd name="textAreaLeft" fmla="*/ 0 w 14040"/>
              <a:gd name="textAreaRight" fmla="*/ 14400 w 140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8" h="8">
                <a:moveTo>
                  <a:pt x="0" y="6"/>
                </a:moveTo>
                <a:lnTo>
                  <a:pt x="8" y="8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34"/>
          <p:cNvSpPr/>
          <p:nvPr/>
        </p:nvSpPr>
        <p:spPr>
          <a:xfrm>
            <a:off x="3492360" y="6843600"/>
            <a:ext cx="14400" cy="7920"/>
          </a:xfrm>
          <a:custGeom>
            <a:avLst/>
            <a:gdLst>
              <a:gd name="textAreaLeft" fmla="*/ 0 w 14400"/>
              <a:gd name="textAreaRight" fmla="*/ 14760 w 144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8" h="6">
                <a:moveTo>
                  <a:pt x="0" y="2"/>
                </a:moveTo>
                <a:lnTo>
                  <a:pt x="8" y="6"/>
                </a:lnTo>
                <a:lnTo>
                  <a:pt x="8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5"/>
          <p:cNvSpPr/>
          <p:nvPr/>
        </p:nvSpPr>
        <p:spPr>
          <a:xfrm>
            <a:off x="4633920" y="3040200"/>
            <a:ext cx="1440" cy="1440"/>
          </a:xfrm>
          <a:prstGeom prst="rect">
            <a:avLst/>
          </a:pr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37"/>
          <p:cNvSpPr/>
          <p:nvPr/>
        </p:nvSpPr>
        <p:spPr>
          <a:xfrm>
            <a:off x="4630680" y="304020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38"/>
          <p:cNvSpPr/>
          <p:nvPr/>
        </p:nvSpPr>
        <p:spPr>
          <a:xfrm>
            <a:off x="4626000" y="3046320"/>
            <a:ext cx="4680" cy="7920"/>
          </a:xfrm>
          <a:custGeom>
            <a:avLst/>
            <a:gdLst>
              <a:gd name="textAreaLeft" fmla="*/ 0 w 4680"/>
              <a:gd name="textAreaRight" fmla="*/ 5040 w 4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6">
                <a:moveTo>
                  <a:pt x="0" y="0"/>
                </a:moveTo>
                <a:lnTo>
                  <a:pt x="2" y="6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39"/>
          <p:cNvSpPr/>
          <p:nvPr/>
        </p:nvSpPr>
        <p:spPr>
          <a:xfrm>
            <a:off x="4630680" y="304020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6">
                <a:moveTo>
                  <a:pt x="0" y="4"/>
                </a:moveTo>
                <a:lnTo>
                  <a:pt x="2" y="0"/>
                </a:ln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2" y="6"/>
                </a:lnTo>
                <a:lnTo>
                  <a:pt x="0" y="4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40"/>
          <p:cNvSpPr/>
          <p:nvPr/>
        </p:nvSpPr>
        <p:spPr>
          <a:xfrm>
            <a:off x="4633920" y="304020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70" h="127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1"/>
          <p:cNvSpPr/>
          <p:nvPr/>
        </p:nvSpPr>
        <p:spPr>
          <a:xfrm>
            <a:off x="4633920" y="3040200"/>
            <a:ext cx="1440" cy="1440"/>
          </a:xfrm>
          <a:prstGeom prst="rect">
            <a:avLst/>
          </a:pr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2"/>
          <p:cNvSpPr/>
          <p:nvPr/>
        </p:nvSpPr>
        <p:spPr>
          <a:xfrm>
            <a:off x="4633920" y="3040200"/>
            <a:ext cx="1440" cy="1440"/>
          </a:xfrm>
          <a:prstGeom prst="rect">
            <a:avLst/>
          </a:pr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43"/>
          <p:cNvSpPr/>
          <p:nvPr/>
        </p:nvSpPr>
        <p:spPr>
          <a:xfrm>
            <a:off x="4630680" y="304020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6">
                <a:moveTo>
                  <a:pt x="2" y="0"/>
                </a:moveTo>
                <a:lnTo>
                  <a:pt x="0" y="4"/>
                </a:lnTo>
                <a:lnTo>
                  <a:pt x="2" y="6"/>
                </a:lnTo>
                <a:lnTo>
                  <a:pt x="2" y="0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44"/>
          <p:cNvSpPr/>
          <p:nvPr/>
        </p:nvSpPr>
        <p:spPr>
          <a:xfrm>
            <a:off x="979560" y="6843600"/>
            <a:ext cx="28440" cy="7920"/>
          </a:xfrm>
          <a:custGeom>
            <a:avLst/>
            <a:gdLst>
              <a:gd name="textAreaLeft" fmla="*/ 0 w 28440"/>
              <a:gd name="textAreaRight" fmla="*/ 28800 w 284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6" h="6">
                <a:moveTo>
                  <a:pt x="0" y="4"/>
                </a:moveTo>
                <a:lnTo>
                  <a:pt x="12" y="6"/>
                </a:lnTo>
                <a:lnTo>
                  <a:pt x="16" y="0"/>
                </a:lnTo>
                <a:lnTo>
                  <a:pt x="2" y="0"/>
                </a:lnTo>
                <a:lnTo>
                  <a:pt x="0" y="4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6"/>
          <p:cNvSpPr/>
          <p:nvPr/>
        </p:nvSpPr>
        <p:spPr>
          <a:xfrm>
            <a:off x="4633920" y="3040200"/>
            <a:ext cx="1440" cy="1440"/>
          </a:xfrm>
          <a:prstGeom prst="rect">
            <a:avLst/>
          </a:pr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7"/>
          <p:cNvSpPr/>
          <p:nvPr/>
        </p:nvSpPr>
        <p:spPr>
          <a:xfrm>
            <a:off x="4633920" y="3040200"/>
            <a:ext cx="1440" cy="1440"/>
          </a:xfrm>
          <a:prstGeom prst="rect">
            <a:avLst/>
          </a:pr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48"/>
          <p:cNvSpPr/>
          <p:nvPr/>
        </p:nvSpPr>
        <p:spPr>
          <a:xfrm>
            <a:off x="4626000" y="3040200"/>
            <a:ext cx="7920" cy="2880"/>
          </a:xfrm>
          <a:custGeom>
            <a:avLst/>
            <a:gdLst>
              <a:gd name="textAreaLeft" fmla="*/ 0 w 7920"/>
              <a:gd name="textAreaRight" fmla="*/ 8280 w 792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4" h="2">
                <a:moveTo>
                  <a:pt x="4" y="0"/>
                </a:moveTo>
                <a:lnTo>
                  <a:pt x="0" y="2"/>
                </a:lnTo>
                <a:lnTo>
                  <a:pt x="4" y="0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49"/>
          <p:cNvSpPr/>
          <p:nvPr/>
        </p:nvSpPr>
        <p:spPr>
          <a:xfrm>
            <a:off x="4633920" y="3040200"/>
            <a:ext cx="1440" cy="1440"/>
          </a:xfrm>
          <a:prstGeom prst="rect">
            <a:avLst/>
          </a:pr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50"/>
          <p:cNvSpPr/>
          <p:nvPr/>
        </p:nvSpPr>
        <p:spPr>
          <a:xfrm>
            <a:off x="4633920" y="3040200"/>
            <a:ext cx="1440" cy="1440"/>
          </a:xfrm>
          <a:prstGeom prst="rect">
            <a:avLst/>
          </a:pr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51"/>
          <p:cNvSpPr/>
          <p:nvPr/>
        </p:nvSpPr>
        <p:spPr>
          <a:xfrm>
            <a:off x="4619520" y="3043080"/>
            <a:ext cx="6480" cy="14400"/>
          </a:xfrm>
          <a:custGeom>
            <a:avLst/>
            <a:gdLst>
              <a:gd name="textAreaLeft" fmla="*/ 0 w 6480"/>
              <a:gd name="textAreaRight" fmla="*/ 6840 w 648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4" h="10">
                <a:moveTo>
                  <a:pt x="0" y="2"/>
                </a:moveTo>
                <a:lnTo>
                  <a:pt x="0" y="10"/>
                </a:lnTo>
                <a:lnTo>
                  <a:pt x="4" y="2"/>
                </a:lnTo>
                <a:lnTo>
                  <a:pt x="4" y="0"/>
                </a:lnTo>
                <a:lnTo>
                  <a:pt x="0" y="2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52"/>
          <p:cNvSpPr/>
          <p:nvPr/>
        </p:nvSpPr>
        <p:spPr>
          <a:xfrm>
            <a:off x="4626000" y="3040200"/>
            <a:ext cx="7920" cy="6120"/>
          </a:xfrm>
          <a:custGeom>
            <a:avLst/>
            <a:gdLst>
              <a:gd name="textAreaLeft" fmla="*/ 0 w 7920"/>
              <a:gd name="textAreaRight" fmla="*/ 8280 w 79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4" h="4">
                <a:moveTo>
                  <a:pt x="2" y="4"/>
                </a:moveTo>
                <a:lnTo>
                  <a:pt x="2" y="2"/>
                </a:lnTo>
                <a:lnTo>
                  <a:pt x="4" y="0"/>
                </a:lnTo>
                <a:lnTo>
                  <a:pt x="0" y="2"/>
                </a:lnTo>
                <a:lnTo>
                  <a:pt x="0" y="4"/>
                </a:lnTo>
                <a:lnTo>
                  <a:pt x="2" y="4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53"/>
          <p:cNvSpPr/>
          <p:nvPr/>
        </p:nvSpPr>
        <p:spPr>
          <a:xfrm>
            <a:off x="4630680" y="30430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27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54"/>
          <p:cNvSpPr/>
          <p:nvPr/>
        </p:nvSpPr>
        <p:spPr>
          <a:xfrm>
            <a:off x="0" y="5335560"/>
            <a:ext cx="6480" cy="22320"/>
          </a:xfrm>
          <a:custGeom>
            <a:avLst/>
            <a:gdLst>
              <a:gd name="textAreaLeft" fmla="*/ 0 w 6480"/>
              <a:gd name="textAreaRight" fmla="*/ 6840 w 64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4" h="16">
                <a:moveTo>
                  <a:pt x="2" y="2"/>
                </a:moveTo>
                <a:lnTo>
                  <a:pt x="0" y="16"/>
                </a:lnTo>
                <a:lnTo>
                  <a:pt x="4" y="14"/>
                </a:lnTo>
                <a:lnTo>
                  <a:pt x="4" y="0"/>
                </a:lnTo>
                <a:lnTo>
                  <a:pt x="2" y="2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55"/>
          <p:cNvSpPr/>
          <p:nvPr/>
        </p:nvSpPr>
        <p:spPr>
          <a:xfrm>
            <a:off x="4633920" y="3040200"/>
            <a:ext cx="1440" cy="1440"/>
          </a:xfrm>
          <a:prstGeom prst="rect">
            <a:avLst/>
          </a:pr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56"/>
          <p:cNvSpPr/>
          <p:nvPr/>
        </p:nvSpPr>
        <p:spPr>
          <a:xfrm>
            <a:off x="4591080" y="3040200"/>
            <a:ext cx="25200" cy="2880"/>
          </a:xfrm>
          <a:custGeom>
            <a:avLst/>
            <a:gdLst>
              <a:gd name="textAreaLeft" fmla="*/ 0 w 25200"/>
              <a:gd name="textAreaRight" fmla="*/ 25560 w 2520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14" h="2">
                <a:moveTo>
                  <a:pt x="12" y="0"/>
                </a:moveTo>
                <a:lnTo>
                  <a:pt x="12" y="2"/>
                </a:lnTo>
                <a:lnTo>
                  <a:pt x="14" y="0"/>
                </a:lnTo>
                <a:lnTo>
                  <a:pt x="6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58"/>
          <p:cNvSpPr/>
          <p:nvPr/>
        </p:nvSpPr>
        <p:spPr>
          <a:xfrm>
            <a:off x="4633920" y="3040200"/>
            <a:ext cx="1440" cy="1440"/>
          </a:xfrm>
          <a:prstGeom prst="rect">
            <a:avLst/>
          </a:pr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59"/>
          <p:cNvSpPr/>
          <p:nvPr/>
        </p:nvSpPr>
        <p:spPr>
          <a:xfrm>
            <a:off x="4594320" y="3057480"/>
            <a:ext cx="4680" cy="3240"/>
          </a:xfrm>
          <a:custGeom>
            <a:avLst/>
            <a:gdLst>
              <a:gd name="textAreaLeft" fmla="*/ 0 w 4680"/>
              <a:gd name="textAreaRight" fmla="*/ 5040 w 46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2">
                <a:moveTo>
                  <a:pt x="0" y="2"/>
                </a:move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60"/>
          <p:cNvSpPr/>
          <p:nvPr/>
        </p:nvSpPr>
        <p:spPr>
          <a:xfrm>
            <a:off x="4613400" y="3040200"/>
            <a:ext cx="20520" cy="10800"/>
          </a:xfrm>
          <a:custGeom>
            <a:avLst/>
            <a:gdLst>
              <a:gd name="textAreaLeft" fmla="*/ 0 w 20520"/>
              <a:gd name="textAreaRight" fmla="*/ 20880 w 2052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2" h="8">
                <a:moveTo>
                  <a:pt x="12" y="0"/>
                </a:moveTo>
                <a:lnTo>
                  <a:pt x="12" y="0"/>
                </a:lnTo>
                <a:lnTo>
                  <a:pt x="2" y="0"/>
                </a:lnTo>
                <a:lnTo>
                  <a:pt x="0" y="2"/>
                </a:lnTo>
                <a:lnTo>
                  <a:pt x="0" y="8"/>
                </a:lnTo>
                <a:lnTo>
                  <a:pt x="8" y="2"/>
                </a:lnTo>
                <a:lnTo>
                  <a:pt x="12" y="0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61"/>
          <p:cNvSpPr/>
          <p:nvPr/>
        </p:nvSpPr>
        <p:spPr>
          <a:xfrm>
            <a:off x="4626000" y="3040200"/>
            <a:ext cx="7920" cy="2880"/>
          </a:xfrm>
          <a:custGeom>
            <a:avLst/>
            <a:gdLst>
              <a:gd name="textAreaLeft" fmla="*/ 0 w 7920"/>
              <a:gd name="textAreaRight" fmla="*/ 8280 w 792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4" h="2">
                <a:moveTo>
                  <a:pt x="0" y="2"/>
                </a:moveTo>
                <a:lnTo>
                  <a:pt x="0" y="2"/>
                </a:lnTo>
                <a:lnTo>
                  <a:pt x="4" y="0"/>
                </a:lnTo>
                <a:lnTo>
                  <a:pt x="0" y="2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62"/>
          <p:cNvSpPr/>
          <p:nvPr/>
        </p:nvSpPr>
        <p:spPr>
          <a:xfrm>
            <a:off x="4633920" y="3040200"/>
            <a:ext cx="1440" cy="1440"/>
          </a:xfrm>
          <a:prstGeom prst="rect">
            <a:avLst/>
          </a:pr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63"/>
          <p:cNvSpPr/>
          <p:nvPr/>
        </p:nvSpPr>
        <p:spPr>
          <a:xfrm>
            <a:off x="3240" y="3846600"/>
            <a:ext cx="3240" cy="14040"/>
          </a:xfrm>
          <a:custGeom>
            <a:avLst/>
            <a:gdLst>
              <a:gd name="textAreaLeft" fmla="*/ 0 w 3240"/>
              <a:gd name="textAreaRight" fmla="*/ 3600 w 32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2" h="10">
                <a:moveTo>
                  <a:pt x="2" y="0"/>
                </a:moveTo>
                <a:lnTo>
                  <a:pt x="0" y="10"/>
                </a:lnTo>
                <a:lnTo>
                  <a:pt x="2" y="10"/>
                </a:lnTo>
                <a:lnTo>
                  <a:pt x="2" y="0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65"/>
          <p:cNvSpPr/>
          <p:nvPr/>
        </p:nvSpPr>
        <p:spPr>
          <a:xfrm>
            <a:off x="4599000" y="3051000"/>
            <a:ext cx="14400" cy="6480"/>
          </a:xfrm>
          <a:custGeom>
            <a:avLst/>
            <a:gdLst>
              <a:gd name="textAreaLeft" fmla="*/ 0 w 14400"/>
              <a:gd name="textAreaRight" fmla="*/ 14760 w 144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8" h="4">
                <a:moveTo>
                  <a:pt x="8" y="2"/>
                </a:moveTo>
                <a:lnTo>
                  <a:pt x="8" y="0"/>
                </a:lnTo>
                <a:lnTo>
                  <a:pt x="0" y="4"/>
                </a:lnTo>
                <a:lnTo>
                  <a:pt x="8" y="2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66"/>
          <p:cNvSpPr/>
          <p:nvPr/>
        </p:nvSpPr>
        <p:spPr>
          <a:xfrm>
            <a:off x="4545000" y="3040200"/>
            <a:ext cx="68400" cy="25200"/>
          </a:xfrm>
          <a:custGeom>
            <a:avLst/>
            <a:gdLst>
              <a:gd name="textAreaLeft" fmla="*/ 0 w 68400"/>
              <a:gd name="textAreaRight" fmla="*/ 68760 w 684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38" h="18">
                <a:moveTo>
                  <a:pt x="38" y="0"/>
                </a:moveTo>
                <a:lnTo>
                  <a:pt x="26" y="2"/>
                </a:lnTo>
                <a:lnTo>
                  <a:pt x="0" y="18"/>
                </a:lnTo>
                <a:lnTo>
                  <a:pt x="28" y="12"/>
                </a:lnTo>
                <a:lnTo>
                  <a:pt x="38" y="2"/>
                </a:lnTo>
                <a:lnTo>
                  <a:pt x="38" y="0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67"/>
          <p:cNvSpPr/>
          <p:nvPr/>
        </p:nvSpPr>
        <p:spPr>
          <a:xfrm>
            <a:off x="4594320" y="3043080"/>
            <a:ext cx="19080" cy="14400"/>
          </a:xfrm>
          <a:custGeom>
            <a:avLst/>
            <a:gdLst>
              <a:gd name="textAreaLeft" fmla="*/ 0 w 19080"/>
              <a:gd name="textAreaRight" fmla="*/ 19440 w 1908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0" h="10">
                <a:moveTo>
                  <a:pt x="0" y="10"/>
                </a:moveTo>
                <a:lnTo>
                  <a:pt x="2" y="10"/>
                </a:lnTo>
                <a:lnTo>
                  <a:pt x="10" y="6"/>
                </a:lnTo>
                <a:lnTo>
                  <a:pt x="10" y="0"/>
                </a:lnTo>
                <a:lnTo>
                  <a:pt x="0" y="10"/>
                </a:lnTo>
                <a:close/>
              </a:path>
            </a:pathLst>
          </a:custGeom>
          <a:solidFill>
            <a:srgbClr val="4f81be"/>
          </a:solidFill>
          <a:ln w="0">
            <a:solidFill>
              <a:srgbClr val="92ccd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kstboks 104"/>
          <p:cNvSpPr/>
          <p:nvPr/>
        </p:nvSpPr>
        <p:spPr>
          <a:xfrm rot="3571800">
            <a:off x="5221800" y="511812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aeef3"/>
                </a:solidFill>
                <a:latin typeface="Calibri"/>
              </a:rPr>
              <a:t>TEXT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kstboks 105"/>
          <p:cNvSpPr/>
          <p:nvPr/>
        </p:nvSpPr>
        <p:spPr>
          <a:xfrm rot="2260800">
            <a:off x="6030720" y="441792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aeef3"/>
                </a:solidFill>
                <a:latin typeface="Calibri"/>
              </a:rPr>
              <a:t>TEXT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kstboks 106"/>
          <p:cNvSpPr/>
          <p:nvPr/>
        </p:nvSpPr>
        <p:spPr>
          <a:xfrm flipV="1" rot="8617800">
            <a:off x="1544400" y="455436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aeef3"/>
                </a:solidFill>
                <a:latin typeface="Calibri"/>
              </a:rPr>
              <a:t>TEXT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kstboks 107"/>
          <p:cNvSpPr/>
          <p:nvPr/>
        </p:nvSpPr>
        <p:spPr>
          <a:xfrm flipV="1" rot="9506400">
            <a:off x="1064520" y="378396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aeef3"/>
                </a:solidFill>
                <a:latin typeface="Calibri"/>
              </a:rPr>
              <a:t>TEXT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kstboks 108"/>
          <p:cNvSpPr/>
          <p:nvPr/>
        </p:nvSpPr>
        <p:spPr>
          <a:xfrm rot="1510200">
            <a:off x="6495840" y="377496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aeef3"/>
                </a:solidFill>
                <a:latin typeface="Calibri"/>
              </a:rPr>
              <a:t>TEXT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kstboks 109"/>
          <p:cNvSpPr/>
          <p:nvPr/>
        </p:nvSpPr>
        <p:spPr>
          <a:xfrm flipV="1" rot="7188000">
            <a:off x="2466000" y="5158080"/>
            <a:ext cx="15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aeef3"/>
                </a:solidFill>
                <a:latin typeface="Calibri"/>
              </a:rPr>
              <a:t>TEXT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kstboks 110"/>
          <p:cNvSpPr/>
          <p:nvPr/>
        </p:nvSpPr>
        <p:spPr>
          <a:xfrm flipV="1" rot="5400000">
            <a:off x="3618000" y="5102280"/>
            <a:ext cx="18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aeef3"/>
                </a:solidFill>
                <a:latin typeface="Calibri"/>
              </a:rPr>
              <a:t>TEXT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ktangel 115"/>
          <p:cNvSpPr/>
          <p:nvPr/>
        </p:nvSpPr>
        <p:spPr>
          <a:xfrm>
            <a:off x="495360" y="1268280"/>
            <a:ext cx="15429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d1b10"/>
                </a:solidFill>
                <a:latin typeface="Calibri"/>
              </a:rPr>
              <a:t>Example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This is an example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Go ahead and replace it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8"/>
          <p:cNvSpPr/>
          <p:nvPr/>
        </p:nvSpPr>
        <p:spPr>
          <a:xfrm>
            <a:off x="314280" y="195120"/>
            <a:ext cx="8520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VISIONS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TARG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kstboks 70"/>
          <p:cNvSpPr/>
          <p:nvPr/>
        </p:nvSpPr>
        <p:spPr>
          <a:xfrm>
            <a:off x="3705480" y="2222640"/>
            <a:ext cx="182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Calibri"/>
              </a:rPr>
              <a:t>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79">
            <a:hlinkClick r:id="rId1"/>
          </p:cNvPr>
          <p:cNvSpPr/>
          <p:nvPr/>
        </p:nvSpPr>
        <p:spPr>
          <a:xfrm>
            <a:off x="4255920" y="684360"/>
            <a:ext cx="488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5"/>
          <p:cNvSpPr/>
          <p:nvPr/>
        </p:nvSpPr>
        <p:spPr>
          <a:xfrm>
            <a:off x="2587680" y="6058080"/>
            <a:ext cx="5184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06:27:00Z</dcterms:created>
  <dc:creator>chinakui</dc:creator>
  <dc:description/>
  <cp:keywords/>
  <dc:language>en-US</dc:language>
  <cp:lastModifiedBy>a</cp:lastModifiedBy>
  <dcterms:modified xsi:type="dcterms:W3CDTF">2015-07-21T03:45:42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_TemplateID">
    <vt:lpwstr>TC101875469</vt:lpwstr>
  </property>
</Properties>
</file>