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CB26-821C-41AB-AABD-E3FB3824A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E8AD-4B7C-4C30-A391-578DF885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2174-2FF2-459B-AAAC-C575BB01A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F5B9-C753-4F55-896D-5DB3A3970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294D-5505-49FE-A3DA-5205D384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D8B3-BE43-4E09-B83B-DC02C02B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43C7-2821-4EDF-8BC6-35F15A4C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0BFF-D0D8-496F-AAA0-6E55E14F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B2F6-0321-440E-A3D2-33388387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DD58-1395-47C5-AC58-DFA35F6F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8603-482A-4A73-B458-3FD78C7F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0FAF-77B5-4493-BF1F-96693C3A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38E8-A9B3-4FB0-93E9-F64130C9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F126-08DE-4F89-99E4-665C5395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ED71-9E5C-45DD-926D-C20AC16C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10AF-41C5-4CD6-B1CC-D6C787AC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7DF1-AB82-4FCD-AF77-ACDD98A22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585C-5048-46D4-A4E0-F0CB17D1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CE00-CE63-4DEC-B577-F2D84835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659A-0456-48A3-BC50-B4B8D918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CD39-C012-44EC-8F7A-3F2E1730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0F26-FC71-4327-9319-29FD1D29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4D15-A065-4721-A84A-C42041AB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3ACE-EAC2-4F33-9075-10D9E23D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E37D-6B7A-40F1-A254-FDC65A6931E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89A9-3C56-43AC-8303-EA4589C42BA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9274-496D-4DB0-98BB-5417D18D0C8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118"/>
          <p:cNvGrpSpPr/>
          <p:nvPr/>
        </p:nvGrpSpPr>
        <p:grpSpPr>
          <a:xfrm>
            <a:off x="395280" y="1574640"/>
            <a:ext cx="8327880" cy="3719520"/>
            <a:chOff x="395280" y="1574640"/>
            <a:chExt cx="8327880" cy="3719520"/>
          </a:xfrm>
        </p:grpSpPr>
        <p:pic>
          <p:nvPicPr>
            <p:cNvPr id="85" name="Picture 125" descr=""/>
            <p:cNvPicPr/>
            <p:nvPr/>
          </p:nvPicPr>
          <p:blipFill>
            <a:blip r:embed="rId2">
              <a:lum bright="-30000"/>
            </a:blip>
            <a:stretch/>
          </p:blipFill>
          <p:spPr>
            <a:xfrm>
              <a:off x="3295800" y="4051800"/>
              <a:ext cx="3119400" cy="86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" name="Group 166"/>
            <p:cNvGrpSpPr/>
            <p:nvPr/>
          </p:nvGrpSpPr>
          <p:grpSpPr>
            <a:xfrm>
              <a:off x="3548880" y="1790280"/>
              <a:ext cx="2634840" cy="2630880"/>
              <a:chOff x="3548880" y="1790280"/>
              <a:chExt cx="2634840" cy="2630880"/>
            </a:xfrm>
          </p:grpSpPr>
          <p:sp>
            <p:nvSpPr>
              <p:cNvPr id="87" name="Oval 6"/>
              <p:cNvSpPr/>
              <p:nvPr/>
            </p:nvSpPr>
            <p:spPr>
              <a:xfrm>
                <a:off x="3548880" y="1790280"/>
                <a:ext cx="2634840" cy="2630880"/>
              </a:xfrm>
              <a:prstGeom prst="ellipse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8"/>
              <p:cNvSpPr/>
              <p:nvPr/>
            </p:nvSpPr>
            <p:spPr>
              <a:xfrm>
                <a:off x="3557160" y="1797120"/>
                <a:ext cx="2617920" cy="2616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9"/>
              <p:cNvSpPr/>
              <p:nvPr/>
            </p:nvSpPr>
            <p:spPr>
              <a:xfrm>
                <a:off x="3827160" y="2067120"/>
                <a:ext cx="2079360" cy="207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10"/>
              <p:cNvSpPr/>
              <p:nvPr/>
            </p:nvSpPr>
            <p:spPr>
              <a:xfrm>
                <a:off x="4087080" y="2325960"/>
                <a:ext cx="1557720" cy="1558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11"/>
              <p:cNvSpPr/>
              <p:nvPr/>
            </p:nvSpPr>
            <p:spPr>
              <a:xfrm>
                <a:off x="4332960" y="2572920"/>
                <a:ext cx="1068480" cy="1064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12"/>
              <p:cNvSpPr/>
              <p:nvPr/>
            </p:nvSpPr>
            <p:spPr>
              <a:xfrm flipV="1">
                <a:off x="4546080" y="2784240"/>
                <a:ext cx="642240" cy="641880"/>
              </a:xfrm>
              <a:prstGeom prst="ellipse">
                <a:avLst/>
              </a:pr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117"/>
            <p:cNvGrpSpPr/>
            <p:nvPr/>
          </p:nvGrpSpPr>
          <p:grpSpPr>
            <a:xfrm>
              <a:off x="4289760" y="2639880"/>
              <a:ext cx="462600" cy="462600"/>
              <a:chOff x="4289760" y="2639880"/>
              <a:chExt cx="462600" cy="462600"/>
            </a:xfrm>
          </p:grpSpPr>
          <p:sp>
            <p:nvSpPr>
              <p:cNvPr id="94" name="Oval 113"/>
              <p:cNvSpPr/>
              <p:nvPr/>
            </p:nvSpPr>
            <p:spPr>
              <a:xfrm>
                <a:off x="4362120" y="2712240"/>
                <a:ext cx="317880" cy="317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Oval 115"/>
              <p:cNvSpPr/>
              <p:nvPr/>
            </p:nvSpPr>
            <p:spPr>
              <a:xfrm>
                <a:off x="4453560" y="2803680"/>
                <a:ext cx="135000" cy="135000"/>
              </a:xfrm>
              <a:prstGeom prst="ellipse">
                <a:avLst/>
              </a:prstGeom>
              <a:solidFill>
                <a:srgbClr val="bcbcb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Oval 116"/>
              <p:cNvSpPr/>
              <p:nvPr/>
            </p:nvSpPr>
            <p:spPr>
              <a:xfrm>
                <a:off x="4289760" y="2639880"/>
                <a:ext cx="462600" cy="46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35"/>
            <p:cNvGrpSpPr/>
            <p:nvPr/>
          </p:nvGrpSpPr>
          <p:grpSpPr>
            <a:xfrm>
              <a:off x="5145480" y="2480760"/>
              <a:ext cx="462600" cy="462600"/>
              <a:chOff x="5145480" y="2480760"/>
              <a:chExt cx="462600" cy="462600"/>
            </a:xfrm>
          </p:grpSpPr>
          <p:sp>
            <p:nvSpPr>
              <p:cNvPr id="98" name="Oval 136"/>
              <p:cNvSpPr/>
              <p:nvPr/>
            </p:nvSpPr>
            <p:spPr>
              <a:xfrm>
                <a:off x="5217840" y="2553120"/>
                <a:ext cx="317880" cy="317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137"/>
              <p:cNvSpPr/>
              <p:nvPr/>
            </p:nvSpPr>
            <p:spPr>
              <a:xfrm>
                <a:off x="5309280" y="2644560"/>
                <a:ext cx="135000" cy="135000"/>
              </a:xfrm>
              <a:prstGeom prst="ellipse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138"/>
              <p:cNvSpPr/>
              <p:nvPr/>
            </p:nvSpPr>
            <p:spPr>
              <a:xfrm>
                <a:off x="5145480" y="2480760"/>
                <a:ext cx="462600" cy="46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139"/>
            <p:cNvGrpSpPr/>
            <p:nvPr/>
          </p:nvGrpSpPr>
          <p:grpSpPr>
            <a:xfrm>
              <a:off x="4675320" y="3007080"/>
              <a:ext cx="462600" cy="462600"/>
              <a:chOff x="4675320" y="3007080"/>
              <a:chExt cx="462600" cy="462600"/>
            </a:xfrm>
          </p:grpSpPr>
          <p:sp>
            <p:nvSpPr>
              <p:cNvPr id="102" name="Oval 140"/>
              <p:cNvSpPr/>
              <p:nvPr/>
            </p:nvSpPr>
            <p:spPr>
              <a:xfrm>
                <a:off x="4747680" y="3079440"/>
                <a:ext cx="317880" cy="317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141"/>
              <p:cNvSpPr/>
              <p:nvPr/>
            </p:nvSpPr>
            <p:spPr>
              <a:xfrm>
                <a:off x="4839120" y="3170880"/>
                <a:ext cx="135000" cy="135000"/>
              </a:xfrm>
              <a:prstGeom prst="ellipse">
                <a:avLst/>
              </a:prstGeom>
              <a:solidFill>
                <a:srgbClr val="6d03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142"/>
              <p:cNvSpPr/>
              <p:nvPr/>
            </p:nvSpPr>
            <p:spPr>
              <a:xfrm>
                <a:off x="4675320" y="3007080"/>
                <a:ext cx="462600" cy="46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203"/>
            <p:cNvGrpSpPr/>
            <p:nvPr/>
          </p:nvGrpSpPr>
          <p:grpSpPr>
            <a:xfrm>
              <a:off x="3039840" y="2013480"/>
              <a:ext cx="1483200" cy="1312560"/>
              <a:chOff x="3039840" y="2013480"/>
              <a:chExt cx="1483200" cy="1312560"/>
            </a:xfrm>
          </p:grpSpPr>
          <p:grpSp>
            <p:nvGrpSpPr>
              <p:cNvPr id="106" name="Group 204"/>
              <p:cNvGrpSpPr/>
              <p:nvPr/>
            </p:nvGrpSpPr>
            <p:grpSpPr>
              <a:xfrm>
                <a:off x="3039840" y="2013480"/>
                <a:ext cx="1415880" cy="1312560"/>
                <a:chOff x="3039840" y="2013480"/>
                <a:chExt cx="1415880" cy="1312560"/>
              </a:xfrm>
            </p:grpSpPr>
            <p:sp>
              <p:nvSpPr>
                <p:cNvPr id="107" name="Freeform 205"/>
                <p:cNvSpPr/>
                <p:nvPr/>
              </p:nvSpPr>
              <p:spPr>
                <a:xfrm rot="19522800">
                  <a:off x="3728880" y="2439360"/>
                  <a:ext cx="591480" cy="659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206"/>
                <p:cNvSpPr/>
                <p:nvPr/>
              </p:nvSpPr>
              <p:spPr>
                <a:xfrm rot="19522800">
                  <a:off x="3124800" y="2591280"/>
                  <a:ext cx="811440" cy="552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9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207"/>
                <p:cNvSpPr/>
                <p:nvPr/>
              </p:nvSpPr>
              <p:spPr>
                <a:xfrm rot="19522800">
                  <a:off x="3273480" y="2114640"/>
                  <a:ext cx="619920" cy="8463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64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208"/>
                <p:cNvSpPr/>
                <p:nvPr/>
              </p:nvSpPr>
              <p:spPr>
                <a:xfrm rot="19522800">
                  <a:off x="3454200" y="2487600"/>
                  <a:ext cx="486000" cy="6724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9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209"/>
                <p:cNvSpPr/>
                <p:nvPr/>
              </p:nvSpPr>
              <p:spPr>
                <a:xfrm rot="19522800">
                  <a:off x="3359880" y="2395440"/>
                  <a:ext cx="703080" cy="511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91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Group 210"/>
              <p:cNvGrpSpPr/>
              <p:nvPr/>
            </p:nvGrpSpPr>
            <p:grpSpPr>
              <a:xfrm>
                <a:off x="4228920" y="2740680"/>
                <a:ext cx="294120" cy="230400"/>
                <a:chOff x="4228920" y="2740680"/>
                <a:chExt cx="294120" cy="230400"/>
              </a:xfrm>
            </p:grpSpPr>
            <p:sp>
              <p:nvSpPr>
                <p:cNvPr id="113" name="Freeform 211"/>
                <p:cNvSpPr/>
                <p:nvPr/>
              </p:nvSpPr>
              <p:spPr>
                <a:xfrm rot="19522800">
                  <a:off x="4405680" y="2817720"/>
                  <a:ext cx="98280" cy="968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91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212"/>
                <p:cNvSpPr/>
                <p:nvPr/>
              </p:nvSpPr>
              <p:spPr>
                <a:xfrm rot="19522800">
                  <a:off x="4259880" y="2774520"/>
                  <a:ext cx="170280" cy="1623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9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Group 213"/>
              <p:cNvGrpSpPr/>
              <p:nvPr/>
            </p:nvGrpSpPr>
            <p:grpSpPr>
              <a:xfrm>
                <a:off x="4241880" y="2782800"/>
                <a:ext cx="203400" cy="126000"/>
                <a:chOff x="4241880" y="2782800"/>
                <a:chExt cx="203400" cy="126000"/>
              </a:xfrm>
            </p:grpSpPr>
            <p:sp>
              <p:nvSpPr>
                <p:cNvPr id="116" name="Freeform 214"/>
                <p:cNvSpPr/>
                <p:nvPr/>
              </p:nvSpPr>
              <p:spPr>
                <a:xfrm rot="19522800">
                  <a:off x="4275000" y="2809080"/>
                  <a:ext cx="96840" cy="79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Freeform 215"/>
                <p:cNvSpPr/>
                <p:nvPr/>
              </p:nvSpPr>
              <p:spPr>
                <a:xfrm rot="19522800">
                  <a:off x="4256640" y="2803680"/>
                  <a:ext cx="100800" cy="83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216"/>
                <p:cNvSpPr/>
                <p:nvPr/>
              </p:nvSpPr>
              <p:spPr>
                <a:xfrm rot="19522800">
                  <a:off x="4292640" y="2813400"/>
                  <a:ext cx="93240" cy="74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217"/>
                <p:cNvSpPr/>
                <p:nvPr/>
              </p:nvSpPr>
              <p:spPr>
                <a:xfrm rot="19522800">
                  <a:off x="4343040" y="2827440"/>
                  <a:ext cx="79200" cy="633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218"/>
                <p:cNvSpPr/>
                <p:nvPr/>
              </p:nvSpPr>
              <p:spPr>
                <a:xfrm rot="19522800">
                  <a:off x="4329000" y="2823480"/>
                  <a:ext cx="81720" cy="676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219"/>
                <p:cNvSpPr/>
                <p:nvPr/>
              </p:nvSpPr>
              <p:spPr>
                <a:xfrm rot="19522800">
                  <a:off x="4358520" y="2830680"/>
                  <a:ext cx="75600" cy="622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" name="Group 257"/>
            <p:cNvGrpSpPr/>
            <p:nvPr/>
          </p:nvGrpSpPr>
          <p:grpSpPr>
            <a:xfrm>
              <a:off x="5371560" y="1816920"/>
              <a:ext cx="1518120" cy="1291320"/>
              <a:chOff x="5371560" y="1816920"/>
              <a:chExt cx="1518120" cy="1291320"/>
            </a:xfrm>
          </p:grpSpPr>
          <p:grpSp>
            <p:nvGrpSpPr>
              <p:cNvPr id="123" name="Group 254"/>
              <p:cNvGrpSpPr/>
              <p:nvPr/>
            </p:nvGrpSpPr>
            <p:grpSpPr>
              <a:xfrm>
                <a:off x="5436000" y="1816920"/>
                <a:ext cx="1453680" cy="1291320"/>
                <a:chOff x="5436000" y="1816920"/>
                <a:chExt cx="1453680" cy="1291320"/>
              </a:xfrm>
            </p:grpSpPr>
            <p:sp>
              <p:nvSpPr>
                <p:cNvPr id="124" name="Freeform 239"/>
                <p:cNvSpPr/>
                <p:nvPr/>
              </p:nvSpPr>
              <p:spPr>
                <a:xfrm rot="7222800">
                  <a:off x="5574240" y="2272680"/>
                  <a:ext cx="590760" cy="659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5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240"/>
                <p:cNvSpPr/>
                <p:nvPr/>
              </p:nvSpPr>
              <p:spPr>
                <a:xfrm rot="7222800">
                  <a:off x="5871240" y="2029680"/>
                  <a:ext cx="810720" cy="552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62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241"/>
                <p:cNvSpPr/>
                <p:nvPr/>
              </p:nvSpPr>
              <p:spPr>
                <a:xfrm rot="7222800">
                  <a:off x="6058080" y="2203920"/>
                  <a:ext cx="619560" cy="8460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97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242"/>
                <p:cNvSpPr/>
                <p:nvPr/>
              </p:nvSpPr>
              <p:spPr>
                <a:xfrm rot="7222800">
                  <a:off x="5900040" y="2076840"/>
                  <a:ext cx="484920" cy="673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62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243"/>
                <p:cNvSpPr/>
                <p:nvPr/>
              </p:nvSpPr>
              <p:spPr>
                <a:xfrm rot="7222800">
                  <a:off x="5852880" y="2320200"/>
                  <a:ext cx="701280" cy="5119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256"/>
              <p:cNvGrpSpPr/>
              <p:nvPr/>
            </p:nvGrpSpPr>
            <p:grpSpPr>
              <a:xfrm>
                <a:off x="5371560" y="2544840"/>
                <a:ext cx="285120" cy="230760"/>
                <a:chOff x="5371560" y="2544840"/>
                <a:chExt cx="285120" cy="230760"/>
              </a:xfrm>
            </p:grpSpPr>
            <p:sp>
              <p:nvSpPr>
                <p:cNvPr id="130" name="Freeform 245"/>
                <p:cNvSpPr/>
                <p:nvPr/>
              </p:nvSpPr>
              <p:spPr>
                <a:xfrm rot="7222800">
                  <a:off x="5389200" y="2648160"/>
                  <a:ext cx="98640" cy="982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246"/>
                <p:cNvSpPr/>
                <p:nvPr/>
              </p:nvSpPr>
              <p:spPr>
                <a:xfrm rot="7222800">
                  <a:off x="5456880" y="2577960"/>
                  <a:ext cx="171000" cy="1641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62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255"/>
              <p:cNvGrpSpPr/>
              <p:nvPr/>
            </p:nvGrpSpPr>
            <p:grpSpPr>
              <a:xfrm>
                <a:off x="5449680" y="2587320"/>
                <a:ext cx="193320" cy="135720"/>
                <a:chOff x="5449680" y="2587320"/>
                <a:chExt cx="193320" cy="135720"/>
              </a:xfrm>
            </p:grpSpPr>
            <p:sp>
              <p:nvSpPr>
                <p:cNvPr id="133" name="Freeform 248"/>
                <p:cNvSpPr/>
                <p:nvPr/>
              </p:nvSpPr>
              <p:spPr>
                <a:xfrm rot="7222800">
                  <a:off x="5520960" y="2618280"/>
                  <a:ext cx="94320" cy="799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62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249"/>
                <p:cNvSpPr/>
                <p:nvPr/>
              </p:nvSpPr>
              <p:spPr>
                <a:xfrm rot="7222800">
                  <a:off x="5532120" y="2609280"/>
                  <a:ext cx="99000" cy="83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62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250"/>
                <p:cNvSpPr/>
                <p:nvPr/>
              </p:nvSpPr>
              <p:spPr>
                <a:xfrm rot="7222800">
                  <a:off x="5502960" y="2622600"/>
                  <a:ext cx="91080" cy="74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62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251"/>
                <p:cNvSpPr/>
                <p:nvPr/>
              </p:nvSpPr>
              <p:spPr>
                <a:xfrm rot="7222800">
                  <a:off x="5470920" y="2642040"/>
                  <a:ext cx="77760" cy="630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62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252"/>
                <p:cNvSpPr/>
                <p:nvPr/>
              </p:nvSpPr>
              <p:spPr>
                <a:xfrm rot="7222800">
                  <a:off x="5482080" y="2635200"/>
                  <a:ext cx="80280" cy="676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62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253"/>
                <p:cNvSpPr/>
                <p:nvPr/>
              </p:nvSpPr>
              <p:spPr>
                <a:xfrm rot="7222800">
                  <a:off x="5458320" y="2642760"/>
                  <a:ext cx="74160" cy="630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62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295"/>
            <p:cNvGrpSpPr/>
            <p:nvPr/>
          </p:nvGrpSpPr>
          <p:grpSpPr>
            <a:xfrm>
              <a:off x="4903560" y="3236760"/>
              <a:ext cx="1177920" cy="1211760"/>
              <a:chOff x="4903560" y="3236760"/>
              <a:chExt cx="1177920" cy="1211760"/>
            </a:xfrm>
          </p:grpSpPr>
          <p:grpSp>
            <p:nvGrpSpPr>
              <p:cNvPr id="140" name="Group 292"/>
              <p:cNvGrpSpPr/>
              <p:nvPr/>
            </p:nvGrpSpPr>
            <p:grpSpPr>
              <a:xfrm>
                <a:off x="4947840" y="3276720"/>
                <a:ext cx="1133640" cy="1171800"/>
                <a:chOff x="4947840" y="3276720"/>
                <a:chExt cx="1133640" cy="1171800"/>
              </a:xfrm>
            </p:grpSpPr>
            <p:sp>
              <p:nvSpPr>
                <p:cNvPr id="141" name="Freeform 277"/>
                <p:cNvSpPr/>
                <p:nvPr/>
              </p:nvSpPr>
              <p:spPr>
                <a:xfrm rot="10843800">
                  <a:off x="4951800" y="3279960"/>
                  <a:ext cx="573480" cy="6404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155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278"/>
                <p:cNvSpPr/>
                <p:nvPr/>
              </p:nvSpPr>
              <p:spPr>
                <a:xfrm rot="10843800">
                  <a:off x="5290200" y="3531960"/>
                  <a:ext cx="787680" cy="536760"/>
                </a:xfrm>
                <a:prstGeom prst="pie">
                  <a:avLst/>
                </a:prstGeom>
                <a:solidFill>
                  <a:srgbClr val="ab05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279"/>
                <p:cNvSpPr/>
                <p:nvPr/>
              </p:nvSpPr>
              <p:spPr>
                <a:xfrm rot="10843800">
                  <a:off x="5156280" y="3623400"/>
                  <a:ext cx="600840" cy="821160"/>
                </a:xfrm>
                <a:prstGeom prst="pie">
                  <a:avLst/>
                </a:prstGeom>
                <a:solidFill>
                  <a:srgbClr val="ab05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280"/>
                <p:cNvSpPr/>
                <p:nvPr/>
              </p:nvSpPr>
              <p:spPr>
                <a:xfrm rot="10843800">
                  <a:off x="5292720" y="3414600"/>
                  <a:ext cx="470880" cy="6526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65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281"/>
                <p:cNvSpPr/>
                <p:nvPr/>
              </p:nvSpPr>
              <p:spPr>
                <a:xfrm rot="10843800">
                  <a:off x="5079240" y="3620520"/>
                  <a:ext cx="681840" cy="4971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885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Group 294"/>
              <p:cNvGrpSpPr/>
              <p:nvPr/>
            </p:nvGrpSpPr>
            <p:grpSpPr>
              <a:xfrm>
                <a:off x="4903560" y="3236760"/>
                <a:ext cx="213480" cy="198360"/>
                <a:chOff x="4903560" y="3236760"/>
                <a:chExt cx="213480" cy="198360"/>
              </a:xfrm>
            </p:grpSpPr>
            <p:sp>
              <p:nvSpPr>
                <p:cNvPr id="147" name="Freeform 283"/>
                <p:cNvSpPr/>
                <p:nvPr/>
              </p:nvSpPr>
              <p:spPr>
                <a:xfrm rot="10843800">
                  <a:off x="4903920" y="3237120"/>
                  <a:ext cx="96480" cy="946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885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284"/>
                <p:cNvSpPr/>
                <p:nvPr/>
              </p:nvSpPr>
              <p:spPr>
                <a:xfrm rot="10843800">
                  <a:off x="4950720" y="3276720"/>
                  <a:ext cx="164880" cy="1573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65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Group 293"/>
              <p:cNvGrpSpPr/>
              <p:nvPr/>
            </p:nvGrpSpPr>
            <p:grpSpPr>
              <a:xfrm>
                <a:off x="4957920" y="3290400"/>
                <a:ext cx="150120" cy="133560"/>
                <a:chOff x="4957920" y="3290400"/>
                <a:chExt cx="150120" cy="133560"/>
              </a:xfrm>
            </p:grpSpPr>
            <p:sp>
              <p:nvSpPr>
                <p:cNvPr id="150" name="Freeform 286"/>
                <p:cNvSpPr/>
                <p:nvPr/>
              </p:nvSpPr>
              <p:spPr>
                <a:xfrm rot="10843800">
                  <a:off x="4998600" y="3332880"/>
                  <a:ext cx="93960" cy="75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65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287"/>
                <p:cNvSpPr/>
                <p:nvPr/>
              </p:nvSpPr>
              <p:spPr>
                <a:xfrm rot="10843800">
                  <a:off x="5008680" y="3342960"/>
                  <a:ext cx="98640" cy="802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65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288"/>
                <p:cNvSpPr/>
                <p:nvPr/>
              </p:nvSpPr>
              <p:spPr>
                <a:xfrm rot="10843800">
                  <a:off x="4989600" y="3326400"/>
                  <a:ext cx="91440" cy="720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65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289"/>
                <p:cNvSpPr/>
                <p:nvPr/>
              </p:nvSpPr>
              <p:spPr>
                <a:xfrm rot="10843800">
                  <a:off x="4967640" y="3297960"/>
                  <a:ext cx="77040" cy="61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65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290"/>
                <p:cNvSpPr/>
                <p:nvPr/>
              </p:nvSpPr>
              <p:spPr>
                <a:xfrm rot="10843800">
                  <a:off x="4973760" y="3306600"/>
                  <a:ext cx="80640" cy="648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65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291"/>
                <p:cNvSpPr/>
                <p:nvPr/>
              </p:nvSpPr>
              <p:spPr>
                <a:xfrm rot="10843800">
                  <a:off x="4958280" y="3290760"/>
                  <a:ext cx="73440" cy="601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65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6" name="TextBox 128"/>
            <p:cNvSpPr/>
            <p:nvPr/>
          </p:nvSpPr>
          <p:spPr>
            <a:xfrm>
              <a:off x="395280" y="2027520"/>
              <a:ext cx="299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秘诀是需要的是一种能抓住那些参与者想像力，使之愿意付出努力，同时又对实现愿景有所帮助的描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129"/>
            <p:cNvSpPr/>
            <p:nvPr/>
          </p:nvSpPr>
          <p:spPr>
            <a:xfrm>
              <a:off x="658080" y="1574640"/>
              <a:ext cx="209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愿景转化成目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130"/>
            <p:cNvSpPr/>
            <p:nvPr/>
          </p:nvSpPr>
          <p:spPr>
            <a:xfrm>
              <a:off x="6376320" y="3231000"/>
              <a:ext cx="23468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这是与其他成员拥有共同目标和远景的基础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并转化目标为要采取的步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131"/>
            <p:cNvSpPr/>
            <p:nvPr/>
          </p:nvSpPr>
          <p:spPr>
            <a:xfrm>
              <a:off x="6679080" y="2871000"/>
              <a:ext cx="161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成员明确目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132"/>
            <p:cNvSpPr/>
            <p:nvPr/>
          </p:nvSpPr>
          <p:spPr>
            <a:xfrm>
              <a:off x="1235880" y="4423680"/>
              <a:ext cx="5131800" cy="8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团队目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是激发所有参与者的活力、精神、积极性和技能的关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任意多边形 133"/>
            <p:cNvSpPr/>
            <p:nvPr/>
          </p:nvSpPr>
          <p:spPr>
            <a:xfrm>
              <a:off x="4008240" y="3264840"/>
              <a:ext cx="865080" cy="1225440"/>
            </a:xfrm>
            <a:prstGeom prst="pie">
              <a:avLst/>
            </a:prstGeom>
            <a:noFill/>
            <a:ln w="19080">
              <a:solidFill>
                <a:srgbClr val="df3a07"/>
              </a:solidFill>
              <a:prstDash val="dash"/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任意多边形 134"/>
            <p:cNvSpPr/>
            <p:nvPr/>
          </p:nvSpPr>
          <p:spPr>
            <a:xfrm>
              <a:off x="5369400" y="2760120"/>
              <a:ext cx="937080" cy="279360"/>
            </a:xfrm>
            <a:prstGeom prst="pie">
              <a:avLst/>
            </a:prstGeom>
            <a:noFill/>
            <a:ln w="19080">
              <a:solidFill>
                <a:srgbClr val="00b0f0"/>
              </a:solidFill>
              <a:prstDash val="dash"/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任意多边形 135"/>
            <p:cNvSpPr/>
            <p:nvPr/>
          </p:nvSpPr>
          <p:spPr>
            <a:xfrm>
              <a:off x="2837520" y="1758960"/>
              <a:ext cx="1684440" cy="1063800"/>
            </a:xfrm>
            <a:prstGeom prst="pie">
              <a:avLst/>
            </a:prstGeom>
            <a:noFill/>
            <a:ln w="19080">
              <a:solidFill>
                <a:srgbClr val="00b0f0"/>
              </a:solidFill>
              <a:prstDash val="dash"/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54000" y="64119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80000" y="765000"/>
            <a:ext cx="558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靶心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B6A0-DA54-483F-8CDA-D76326A181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41:37Z</dcterms:modified>
  <cp:revision>96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Presentation">
    <vt:lpwstr>锐普图表</vt:lpwstr>
  </property>
</Properties>
</file>