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9026-9527-414E-8BFA-0E67A7E0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7C0-C679-4013-99CA-C52D0F7C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F80-534B-46A8-9AB0-015F671A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8EE-7125-4BF9-B10B-2B8A115E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C66-A1EE-4708-A4A3-684258BB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CBC4-3FF1-4FBB-9DD2-C8C7EEFF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98FC-76A0-405B-8568-A050605B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1FA-5D46-4280-A2BE-39D58E53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F04C-ECDA-4BE8-B8D2-7ABD448D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6BE-DBBB-466F-81DB-755516E4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E79-A49F-4609-9F91-629838C0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6671-1899-44F2-A8E9-CEE2F8C0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E976-60B1-4776-BE81-45E249694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&amp;tn=baiduimagedetail&amp;word=%BA%FA%CA%CA&amp;in=5132&amp;cl=2&amp;lm=-1&amp;pn=7&amp;rn=1&amp;di=47638957410&amp;ln=2000&amp;fr=&amp;fmq=&amp;ic=0&amp;s=0&amp;se=1&amp;sme=0&amp;tab=&amp;width=&amp;height=&amp;face=0&amp;is=&amp;istype=2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43000" y="730080"/>
            <a:ext cx="65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西师大版语文六年级下册第七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143000" y="259092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毕业赠言在线下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毕业2"/>
          <p:cNvPicPr/>
          <p:nvPr/>
        </p:nvPicPr>
        <p:blipFill>
          <a:blip r:embed="rId2"/>
          <a:stretch/>
        </p:blipFill>
        <p:spPr>
          <a:xfrm>
            <a:off x="609480" y="4572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毕业3"/>
          <p:cNvPicPr/>
          <p:nvPr/>
        </p:nvPicPr>
        <p:blipFill>
          <a:blip r:embed="rId2"/>
          <a:stretch/>
        </p:blipFill>
        <p:spPr>
          <a:xfrm>
            <a:off x="457200" y="30492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4" descr="u=2642079106,2997144185&amp;fm=0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0" y="0"/>
            <a:ext cx="49035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4952880" y="1066680"/>
            <a:ext cx="320040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胡适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891———196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，原名马洪骍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xing)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，字适之，安徽绩溪人。学者、作家。主要著作有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中国哲 学史大纲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上） 、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尝试集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白话文学史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胡适文存（四集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990720" y="205740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用自己喜欢的方式读课文，读准字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这篇演讲的中心是什么？是分哪几部讲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1295280" y="533520"/>
            <a:ext cx="3124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自读提示：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006-E430-4877-9B73-DA5366C496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读一读"/>
          <p:cNvPicPr/>
          <p:nvPr/>
        </p:nvPicPr>
        <p:blipFill>
          <a:blip r:embed="rId2"/>
          <a:stretch/>
        </p:blipFill>
        <p:spPr>
          <a:xfrm>
            <a:off x="1447920" y="0"/>
            <a:ext cx="2025360" cy="24098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1600200" y="2819520"/>
            <a:ext cx="6400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淘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撙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衣节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铸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抛弃        一去不复返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年富力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600200" y="2286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ài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zǔ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h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676520" y="762120"/>
            <a:ext cx="51814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篇演讲的主题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要抛弃学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600200" y="25909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课文是分   部分讲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371600" y="3352680"/>
            <a:ext cx="76201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、是提出赠言：不要抛弃学问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、是论说学问的重要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;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、告诫学生们要创造条件做学问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抓紧要时间坚持做学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、是表达希望和祝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20040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阅读质疑"/>
          <p:cNvPicPr/>
          <p:nvPr/>
        </p:nvPicPr>
        <p:blipFill>
          <a:blip r:embed="rId2"/>
          <a:stretch/>
        </p:blipFill>
        <p:spPr>
          <a:xfrm>
            <a:off x="1066680" y="228600"/>
            <a:ext cx="2438640" cy="13460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600200" y="1676520"/>
            <a:ext cx="44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为什么不要抛弃学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523880" y="25146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少年一去不复返，等到精力衰减时，要做学问就来不及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三五年不学习，就会被后来者淘汰，到时再补救就来不及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600200" y="44197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怎样做学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600200" y="525780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主动创造条件做学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抓紧时间做学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阅读质疑"/>
          <p:cNvPicPr/>
          <p:nvPr/>
        </p:nvPicPr>
        <p:blipFill>
          <a:blip r:embed="rId2"/>
          <a:stretch/>
        </p:blipFill>
        <p:spPr>
          <a:xfrm>
            <a:off x="1066680" y="609480"/>
            <a:ext cx="2438640" cy="13464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143000" y="2209680"/>
            <a:ext cx="6705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达尔文的例子为了说明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676520" y="32464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个例子告诉我们时间是靠挤出来的。作者用此例告诫同学们要珍惜时间做学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细读感悟"/>
          <p:cNvPicPr/>
          <p:nvPr/>
        </p:nvPicPr>
        <p:blipFill>
          <a:blip r:embed="rId2"/>
          <a:stretch/>
        </p:blipFill>
        <p:spPr>
          <a:xfrm>
            <a:off x="1371600" y="228600"/>
            <a:ext cx="2514600" cy="1219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914400" y="198108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易卜生说：“你的最大责任是把你这块材料铸造成器。”学问便是铸造的工具，抛弃了学问便是毁了你们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里用易卜生的一句话来告诉我们要想成才，就必须不抛弃学问，不然的话就是毁了自己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676520" y="68580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说教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828800" y="19051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说课的内容是西师大小学六年级语文下册第七单元的第四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毕业赠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临近毕业，同学们有许多话要对同学、老师、母校说。”毕业赠言“为大家提供了一次表达情感、交流思想的机会；一个展示个性、展示感情的平台，。本文是胡适先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在中国公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级毕业典礼上的讲演。它语言精练、生动、形象，富有时代感，饱含感情，给人以启迪。这篇文章演讲的中心话题是：不要抛弃学问。全文思路清晰，行文流畅，层次分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3"/>
          <p:cNvSpPr txBox="1"/>
          <p:nvPr/>
        </p:nvSpPr>
        <p:spPr>
          <a:xfrm>
            <a:off x="1143000" y="380880"/>
            <a:ext cx="25909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合作交流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219320" y="144792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读了课文之后，我受到很大启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295280" y="243828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—————————————   ————————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066680" y="358128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—————————————     ——————————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143000" y="4876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————————————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812960" y="2362320"/>
            <a:ext cx="45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无论什么时候，什么境遇都不要放弃学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1905120" y="3505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学习要趁年轻，珍惜时间，多做学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828800" y="472428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热爱学习，终生不要抛弃学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1676520" y="258120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即将毕业了，你们有什么要对母校、老师、同学说的吗？请自由发表见解！也可以动笔写下来送给老师和同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6"/>
          <p:cNvSpPr txBox="1"/>
          <p:nvPr/>
        </p:nvSpPr>
        <p:spPr>
          <a:xfrm>
            <a:off x="1600200" y="380880"/>
            <a:ext cx="2743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小练笔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 rot="185400">
            <a:off x="988920" y="320760"/>
            <a:ext cx="2743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74000"/>
                </a:gradFill>
                <a:latin typeface="宋体"/>
              </a:rPr>
              <a:t>作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74000"/>
              </a:gradFill>
              <a:latin typeface="宋体"/>
              <a:ea typeface="宋体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209680" y="2743200"/>
            <a:ext cx="51818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最喜欢的同学、老师写赠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600200" y="762120"/>
            <a:ext cx="3124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板书设计：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00680" y="2203560"/>
            <a:ext cx="22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8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毕业赠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612960" y="30877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要抛弃学问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514600" y="3962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珍惜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029200" y="3962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造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600200" y="5335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说学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1371600" y="1600200"/>
            <a:ext cx="678168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六年级学生已经掌握了一些学习语文的好方法，也具备了一定的阅读、分析、理解能力，这节课中，我主要通过学生读一读、想一想、议一议、说一说等教学活动，调动学生积极思维，把课堂归还给学生，让学生做课堂的主人，相信学生一定能在老师的启发引导下，学好本篇文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9999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523880" y="37476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教学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752480" y="1676520"/>
            <a:ext cx="6324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课文，谈谈自己受到的启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正确、流利、有感情地朗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一写毕业赠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523880" y="24624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重、难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295280" y="1712880"/>
            <a:ext cx="678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学生在阅读中感悟“不要抛弃学问”的重要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激发学生热爱学习，终生不要抛弃学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600200" y="10666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说教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048120" y="1981080"/>
            <a:ext cx="3558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品读赏析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作探究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1447920" y="7621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教学流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676520" y="1905120"/>
            <a:ext cx="4278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谈话，揭示课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自读，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再读，读中解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总结，拓展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布置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4"/>
          <p:cNvSpPr/>
          <p:nvPr/>
        </p:nvSpPr>
        <p:spPr>
          <a:xfrm>
            <a:off x="2971800" y="243828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毕业"/>
          <p:cNvPicPr/>
          <p:nvPr/>
        </p:nvPicPr>
        <p:blipFill>
          <a:blip r:embed="rId2"/>
          <a:stretch/>
        </p:blipFill>
        <p:spPr>
          <a:xfrm>
            <a:off x="2057400" y="1523880"/>
            <a:ext cx="4648320" cy="3413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创设情境"/>
          <p:cNvPicPr/>
          <p:nvPr/>
        </p:nvPicPr>
        <p:blipFill>
          <a:blip r:embed="rId3"/>
          <a:stretch/>
        </p:blipFill>
        <p:spPr>
          <a:xfrm>
            <a:off x="457200" y="228600"/>
            <a:ext cx="283536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898_200807042048372"/>
          <p:cNvPicPr/>
          <p:nvPr/>
        </p:nvPicPr>
        <p:blipFill>
          <a:blip r:embed="rId2"/>
          <a:stretch/>
        </p:blipFill>
        <p:spPr>
          <a:xfrm>
            <a:off x="1523880" y="12193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1T11:38:5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3:35:26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