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503-AA21-4013-886C-8FFEDA29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FFB-1C04-4127-AE28-DC49DC28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FB294-DB1B-438A-89DA-B12E0F73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2D0E-01D0-468F-B9B9-C61C9941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2639A-F9E2-4A87-9055-A5ECB3D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35793-B540-48DB-A552-87A58D05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9E83F-8DD9-48C9-ACAF-06BA2E4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D7B37-C9DD-4CA1-840D-0D1B83A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3D0BB-9723-40FA-A471-82EADFE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1A15A-3E47-4227-B117-B189C288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675C7-4488-48BC-BB5B-93BA69FE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BAB77-FCE4-4F96-8901-A2C3908A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A23-6161-418A-81D8-7737BA96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95280-06E8-42AD-92BB-0936480E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0C4C9-D120-40E0-AF47-72C87D5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84DF5-BB0C-421E-BD67-DDE1687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91467-C396-4111-87B7-6036237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D5591-59BD-42D2-AA00-E61B434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CF952-7D41-4638-B89F-99EC60D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8AB7F-6E61-4C90-BEFE-7282A86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0BD94-20AD-4C41-ADB3-1A8D35A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68F0E-84A8-4202-8556-93C415E8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806CF-1042-4DE8-874C-D2ECA708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B71-616F-485A-97C5-3C580F08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B0ABB-A3B3-4ACB-A53B-BD9A5835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6DDFC-2CB8-4ABB-A33D-C480D138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3D2C2-33E5-4A14-ADDE-F029F52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44849-189F-48A0-A84F-C64EC975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CB3C0-BB8F-482B-A79B-D9A3692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3C9B3-9915-4D7B-9752-2E83368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7D71B-66F1-4EF2-A986-B4E2F282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C40D-0914-4192-BBC9-7F15F619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366A7-32FF-4531-8685-4605AE08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0D15-D7F6-4DD6-B51F-C13462D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41B-EBB8-4F62-8EA5-DE6D351F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1AC52-D160-46B1-B07F-36A235DB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5C19C-680B-4A2E-A66C-D9304F1B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7CFD6-FA57-43E2-ADD4-15954BEC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CB357-F19C-4B29-83F1-1B560360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28DEE-ABE0-4BA2-B72C-D8870D82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2BF4E-3843-4425-8CC3-1A86B91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F1859-5576-4DC7-B312-E28CCFAF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9603A-A6E9-4185-A172-75774A25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7A0F5-CB32-4851-BCEC-5246577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8AC93-C658-4269-A0F4-E5D2404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D19B-05AB-4285-8012-1578F9A0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1CB71-E46B-4DCA-AEFD-D896AB9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F4995-15E5-4BB5-A4C1-F868C51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50F01-5824-44CB-8C76-729B4463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F174F-D862-4617-BDE7-4F4908D7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A730D-51FF-483B-943F-B435221F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F50E2-7D5D-4411-9ED1-34004204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5B633-3CD3-4BFB-A57F-09177237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EEE31-06AE-4DAD-B30A-BB398F6E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6E337-EA22-47FE-B36A-A4F5A62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5E7B6-ED78-4863-A591-0CCA7535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4225-1890-42A9-89FF-F6DBDF27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C4267-909F-4915-9A48-D1F65D67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80C74-952A-4456-92D0-70086BE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52218-0834-40DC-B8D2-E56C09FD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F8E70-3D3D-494B-A2C6-99CCC51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B4609-B151-4D3B-AD0F-2B48169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1CFA9-27D9-4F57-96EA-66EABDDD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5904F-B424-4A6D-85CA-C28204ED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E7A-1ED4-4D51-9053-02E79726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A450-4412-497D-9369-D127D6C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7A11-CF2B-4370-9EC1-E9AB1FE9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40BF-F7B4-40BE-AEEE-F91B3D50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B29-3981-426A-B085-3B96FCE3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FFBC-A2C2-4A12-A07A-714156E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755B-75E7-479F-A3EE-1F351C9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89B-7D2A-4A70-81C7-012A6A7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BDDB-97AF-4DBC-A048-E6515E54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E100-72AF-4ED6-AB8B-B93F8E97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8F94-9E2A-49AA-87B2-7F1402A3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8828-9CAF-4FC6-A621-113DDDE3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190D-3E69-4C4E-BCCB-C37611C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7C61D-92E7-4B71-8B5B-F071C74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98DC-121E-4478-B5AF-6FB4A81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6AA-056F-441D-9A27-2DB183B7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3F31-0BAD-492E-9C7B-795EBC3C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B927-48AD-464C-A923-CE4B6A6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FDE4-4095-4EE3-BE14-874BB46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38DC-61A2-4D34-BEEE-E431DC8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49F6-F775-46F1-9B93-AAC4F3A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9CA5-9054-467A-BC2D-5C7111A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CD69-B98F-4DB4-9AD3-23A1F974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FB69-14C4-43AC-967E-8CC87CBA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B19B-A8DB-4E0E-8F7D-FDF96EF3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6CBC-84D2-4B1F-93F2-440A96BA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8E8-1D91-4CFC-9CA0-375943A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23BC-C7B2-4C3A-B75D-9D399CB6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A992-612E-46F7-9590-E542860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D362-DC0A-4356-9CE3-CA2B641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03F8-8C65-4847-AB76-EB9D316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1C07-4556-4D07-BF1F-5A22CBB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062F-1A44-41D6-BBB0-4B755C5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E2C4E-96E9-42C5-B73A-59EDE8D4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CFC3-3B33-462B-A357-2D3893C9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946E-49D3-4FA2-B721-28D0D4C2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3E94-91D4-49A9-9ED0-F905A57B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E0D-A3F2-4D86-B308-AF5057C7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757E4-E1A0-4990-AF74-76A2F8E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9391A-3083-43CC-9111-91CF0C3F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BBB7-75A2-467F-8286-B48B8A26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54FC-5840-4233-A090-83AC393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EDE4-846C-443C-8A36-9BB84B73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91C9-83F5-495E-B002-0A1B06F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CDDE5-0864-4C0F-9DD2-DA04657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D4F6-B3E5-42D1-BC6C-F27D0D79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454E-BDAE-4116-BF91-4DDF9E0A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DFD6-46BF-46E8-97E0-10C74708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8A3-458A-4ED4-93E4-BEE0055E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B4A1-72FB-4459-852B-59CE2922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68A8-F5D5-42DF-8D2C-4E6FF91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6DC7-5B28-4991-AB6F-0CC5D8D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2283-E355-4E15-B4DF-54C6316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F29C-37D3-4FD0-AFFA-B1DC174E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D71F-DA10-4F8E-8788-CC97CC4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F997F-89FA-447A-B0FE-3AB2EE9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281D-C01E-4933-8AA2-03A5C92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7FE3E-D852-4551-AC51-C5322A5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98AD-823A-4E15-887B-39BF649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010-43AD-4AB9-BEEC-63C2BE8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7D12-790A-456D-BF6D-790EDBFE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CC0C8-B274-4B9C-B1FD-B8DBE956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61B0D-985D-4E43-A954-3772E98B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E6154-6E4E-4A58-92AE-E47CB0E5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49E3F-6199-4762-AFB0-50FFA08D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76398-7F5F-4E76-9103-BA6F834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2381-25D4-4A7B-847D-EE55EBB2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8640-D9EF-41FA-A2D1-87F613F8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9A28D-A1D5-422B-BA69-627632E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E76A8-A1A3-4FF0-B030-A936E1C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F33-079C-4F6C-AD20-D257451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E7E88-879F-4C2A-8708-FA50A99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93F55-B0EF-4178-9AA3-186F69AF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3768-3269-44F1-8997-4129BE73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DDFBF-0499-4668-BA40-9162AAF3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C204-4E06-48E5-93F8-A1174944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D678A-1658-43D3-B3B0-BF5B82D4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A2FC1-4B9A-4D31-9A42-8DF2A33E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7922-9407-4EBB-B957-019B50C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229F-A2AE-4A76-8E0D-5566963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C68A5-627F-4CAB-91BA-001B0D4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5A9-0E00-412D-82F0-0E2D6D2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DB5D-59A1-4488-976F-3E71280A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FBEA-5986-4069-B4A2-2CE5F09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B9D3-E10C-40EE-A6A8-32DEC12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90D0-72FB-472A-AC5B-54F1C02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EC9E3-970C-45BE-B4F5-D277AEF4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07E61-4A2B-4F0D-A848-5441168B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BE633-9EE8-4E8B-B15D-49B6D9A4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2CBEE-F6D5-4DCC-938F-89214D15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52F16-A395-47D7-B159-2A8E7A2C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E418-0829-4614-A293-93F85A0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13D-5044-4DC3-B29B-40BBCFDBC8F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F22F-D522-4553-850D-1560655BD1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32C-C296-40C5-AE34-F5829962B9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5683-AC65-4A19-B7E3-9C920A24D8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264-9F55-4417-ACD4-73E581BBA0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9F4C-E614-425B-8E5F-6F15A30941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FAAE-F153-412B-B814-45D64DFB1A7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644-2ECD-48D4-A629-D841E40BC3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6838-F031-40E6-937A-0651267EF0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09C-A1BB-497D-A6A7-92D92EB226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5F48-5CC6-42AA-BB4B-626ECFF88A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245E-DF8D-477F-A35B-A2D8931821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CA61-3A43-4AD0-9766-B6AF665298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21AF-8BA5-4F00-9E90-2AEEEDA7AF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9205-3A92-4AE6-A34D-976F3AA1DF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110B-852B-44FA-9EB0-E815F5EA42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4156-6CD5-4658-A9D5-29DEF20C274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93C3-D478-47DD-BB0F-031347E2DA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25BB-124F-473E-9C17-CEF7630F28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51C-CD1B-4963-BAE5-CF29C39684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F97D-AFBB-4857-BD04-CC450EE7C6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E441-305F-44F5-AB9B-635461D40A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5848-1A45-47FC-9612-428E1E5C6D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CE5-3739-4103-8DA0-5432ABE615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0C0-2447-4CDF-90A0-BB1E9153AA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158E-EDB3-48CE-94A9-E8E2B9A38E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6"/>
          <p:cNvSpPr/>
          <p:nvPr/>
        </p:nvSpPr>
        <p:spPr>
          <a:xfrm>
            <a:off x="535788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0" y="65120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"/>
          <p:cNvSpPr/>
          <p:nvPr/>
        </p:nvSpPr>
        <p:spPr>
          <a:xfrm>
            <a:off x="2585880" y="981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姑娘唯美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47" descr="1.png"/>
          <p:cNvPicPr/>
          <p:nvPr/>
        </p:nvPicPr>
        <p:blipFill>
          <a:blip r:embed="rId2"/>
          <a:stretch/>
        </p:blipFill>
        <p:spPr>
          <a:xfrm>
            <a:off x="4643280" y="2143080"/>
            <a:ext cx="2216160" cy="10796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48" descr="2.png"/>
          <p:cNvPicPr/>
          <p:nvPr/>
        </p:nvPicPr>
        <p:blipFill>
          <a:blip r:embed="rId3"/>
          <a:stretch/>
        </p:blipFill>
        <p:spPr>
          <a:xfrm>
            <a:off x="6546960" y="1714680"/>
            <a:ext cx="2181240" cy="11491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9" descr="1.png"/>
          <p:cNvPicPr/>
          <p:nvPr/>
        </p:nvPicPr>
        <p:blipFill>
          <a:blip r:embed="rId4"/>
          <a:stretch/>
        </p:blipFill>
        <p:spPr>
          <a:xfrm>
            <a:off x="712800" y="2857680"/>
            <a:ext cx="2216160" cy="1079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0" descr="2.png"/>
          <p:cNvPicPr/>
          <p:nvPr/>
        </p:nvPicPr>
        <p:blipFill>
          <a:blip r:embed="rId5"/>
          <a:stretch/>
        </p:blipFill>
        <p:spPr>
          <a:xfrm>
            <a:off x="2571840" y="2500200"/>
            <a:ext cx="2181240" cy="11494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0"/>
          <p:cNvSpPr/>
          <p:nvPr/>
        </p:nvSpPr>
        <p:spPr>
          <a:xfrm flipH="1">
            <a:off x="99936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1"/>
          <p:cNvSpPr/>
          <p:nvPr/>
        </p:nvSpPr>
        <p:spPr>
          <a:xfrm>
            <a:off x="4786200" y="2571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292896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2"/>
          <p:cNvSpPr/>
          <p:nvPr/>
        </p:nvSpPr>
        <p:spPr>
          <a:xfrm>
            <a:off x="7283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51" descr="1.png"/>
          <p:cNvPicPr/>
          <p:nvPr/>
        </p:nvPicPr>
        <p:blipFill>
          <a:blip r:embed="rId2"/>
          <a:stretch/>
        </p:blipFill>
        <p:spPr>
          <a:xfrm>
            <a:off x="2058840" y="2214720"/>
            <a:ext cx="6513840" cy="3187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2" descr="2.png"/>
          <p:cNvPicPr/>
          <p:nvPr/>
        </p:nvPicPr>
        <p:blipFill>
          <a:blip r:embed="rId3"/>
          <a:stretch/>
        </p:blipFill>
        <p:spPr>
          <a:xfrm>
            <a:off x="1928880" y="1928880"/>
            <a:ext cx="5994360" cy="32004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4"/>
          <p:cNvSpPr/>
          <p:nvPr/>
        </p:nvSpPr>
        <p:spPr>
          <a:xfrm>
            <a:off x="3283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5"/>
          <p:cNvSpPr/>
          <p:nvPr/>
        </p:nvSpPr>
        <p:spPr>
          <a:xfrm>
            <a:off x="6569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9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0"/>
          <p:cNvSpPr/>
          <p:nvPr/>
        </p:nvSpPr>
        <p:spPr>
          <a:xfrm>
            <a:off x="642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42" descr="1.png"/>
          <p:cNvPicPr/>
          <p:nvPr/>
        </p:nvPicPr>
        <p:blipFill>
          <a:blip r:embed="rId2"/>
          <a:stretch/>
        </p:blipFill>
        <p:spPr>
          <a:xfrm>
            <a:off x="2071800" y="1285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43" descr="1.png"/>
          <p:cNvPicPr/>
          <p:nvPr/>
        </p:nvPicPr>
        <p:blipFill>
          <a:blip r:embed="rId3"/>
          <a:stretch/>
        </p:blipFill>
        <p:spPr>
          <a:xfrm>
            <a:off x="5037120" y="1393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44" descr="1.png"/>
          <p:cNvPicPr/>
          <p:nvPr/>
        </p:nvPicPr>
        <p:blipFill>
          <a:blip r:embed="rId4"/>
          <a:stretch/>
        </p:blipFill>
        <p:spPr>
          <a:xfrm>
            <a:off x="2143080" y="3251160"/>
            <a:ext cx="3035520" cy="18925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45" descr="1.png"/>
          <p:cNvPicPr/>
          <p:nvPr/>
        </p:nvPicPr>
        <p:blipFill>
          <a:blip r:embed="rId5"/>
          <a:stretch/>
        </p:blipFill>
        <p:spPr>
          <a:xfrm>
            <a:off x="5180040" y="3251160"/>
            <a:ext cx="3035160" cy="1892520"/>
          </a:xfrm>
          <a:prstGeom prst="rect">
            <a:avLst/>
          </a:prstGeom>
          <a:ln w="0">
            <a:noFill/>
          </a:ln>
        </p:spPr>
      </p:pic>
      <p:sp>
        <p:nvSpPr>
          <p:cNvPr id="5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0"/>
          <p:cNvSpPr/>
          <p:nvPr/>
        </p:nvSpPr>
        <p:spPr>
          <a:xfrm>
            <a:off x="3069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1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7"/>
          <p:cNvSpPr/>
          <p:nvPr/>
        </p:nvSpPr>
        <p:spPr>
          <a:xfrm>
            <a:off x="6212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44" descr="1.png"/>
          <p:cNvPicPr/>
          <p:nvPr/>
        </p:nvPicPr>
        <p:blipFill>
          <a:blip r:embed="rId2"/>
          <a:stretch/>
        </p:blipFill>
        <p:spPr>
          <a:xfrm>
            <a:off x="3071880" y="1654200"/>
            <a:ext cx="2733480" cy="36036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45" descr="2.png"/>
          <p:cNvPicPr/>
          <p:nvPr/>
        </p:nvPicPr>
        <p:blipFill>
          <a:blip r:embed="rId3"/>
          <a:stretch/>
        </p:blipFill>
        <p:spPr>
          <a:xfrm>
            <a:off x="5592600" y="3238560"/>
            <a:ext cx="546120" cy="7621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46" descr="3.png"/>
          <p:cNvPicPr/>
          <p:nvPr/>
        </p:nvPicPr>
        <p:blipFill>
          <a:blip r:embed="rId4"/>
          <a:stretch/>
        </p:blipFill>
        <p:spPr>
          <a:xfrm>
            <a:off x="6093000" y="1919160"/>
            <a:ext cx="2401560" cy="336708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47" descr="1.png"/>
          <p:cNvPicPr/>
          <p:nvPr/>
        </p:nvPicPr>
        <p:blipFill>
          <a:blip r:embed="rId5"/>
          <a:stretch/>
        </p:blipFill>
        <p:spPr>
          <a:xfrm>
            <a:off x="714240" y="1654200"/>
            <a:ext cx="2735280" cy="36036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8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9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39" descr="2.png"/>
          <p:cNvPicPr/>
          <p:nvPr/>
        </p:nvPicPr>
        <p:blipFill>
          <a:blip r:embed="rId2"/>
          <a:stretch/>
        </p:blipFill>
        <p:spPr>
          <a:xfrm>
            <a:off x="3605040" y="2165400"/>
            <a:ext cx="2444760" cy="22654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8" descr="1.png"/>
          <p:cNvPicPr/>
          <p:nvPr/>
        </p:nvPicPr>
        <p:blipFill>
          <a:blip r:embed="rId3"/>
          <a:stretch/>
        </p:blipFill>
        <p:spPr>
          <a:xfrm>
            <a:off x="2281320" y="642960"/>
            <a:ext cx="5219640" cy="54738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3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4"/>
          <p:cNvSpPr/>
          <p:nvPr/>
        </p:nvSpPr>
        <p:spPr>
          <a:xfrm>
            <a:off x="2211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31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40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41" descr="1.png"/>
          <p:cNvPicPr/>
          <p:nvPr/>
        </p:nvPicPr>
        <p:blipFill>
          <a:blip r:embed="rId2"/>
          <a:stretch/>
        </p:blipFill>
        <p:spPr>
          <a:xfrm>
            <a:off x="2603520" y="1015920"/>
            <a:ext cx="4826160" cy="482616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42" descr="2.png"/>
          <p:cNvPicPr/>
          <p:nvPr/>
        </p:nvPicPr>
        <p:blipFill>
          <a:blip r:embed="rId3"/>
          <a:stretch/>
        </p:blipFill>
        <p:spPr>
          <a:xfrm>
            <a:off x="2830680" y="1177920"/>
            <a:ext cx="4241520" cy="4394160"/>
          </a:xfrm>
          <a:prstGeom prst="rect">
            <a:avLst/>
          </a:prstGeom>
          <a:ln w="0">
            <a:noFill/>
          </a:ln>
        </p:spPr>
      </p:pic>
      <p:sp>
        <p:nvSpPr>
          <p:cNvPr id="6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2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3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7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43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1187280" y="623736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2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