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D16-F229-4775-95B1-99B30D35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8B23-DCBE-430A-8BAB-C1C6E2CD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B84-307A-4897-88BF-34863E22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4E8-E5F8-4C3F-96E9-2AF8D7A0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77D-2FB6-474F-BA75-0B977687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4CF-25B1-4167-BF3A-D48BD5EF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00CF-E88B-4041-A8D7-E96214B0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9D53-00B7-42D7-A2E1-65A25394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D5B2-11C0-42D9-93E2-0CF9EC40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F68-FB0E-43D7-AF22-4EC18882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711-093B-4EB7-BFF5-0E94E973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4E6-164C-42F8-A5F8-C1529142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7BB6-214F-475D-9A3B-0006A3A70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baike.baidu.com/view/21759.htm" TargetMode="External"/><Relationship Id="rId2" Type="http://schemas.openxmlformats.org/officeDocument/2006/relationships/hyperlink" Target="http://baike.baidu.com/view/94413.htm" TargetMode="External"/><Relationship Id="rId3" Type="http://schemas.openxmlformats.org/officeDocument/2006/relationships/hyperlink" Target="http://baike.baidu.com/view/44669.htm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6560" y="67932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吃水不忘挖井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PT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件完整版下载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43" name="图片 2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4964040" cy="407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 Black"/>
              </a:rPr>
              <a:t>毛主席在江西瑞金领导革命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8080"/>
                </a:solidFill>
                <a:latin typeface="Arial"/>
              </a:rPr>
              <a:t>江西瑞金是一片具有光荣革命历史的红土地。第二次国内革命战争时期，瑞金是中国共产党创建的中央革命根据地的中心，是中华苏维埃共和国的诞生地和所在地，被誉为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8080"/>
                </a:solidFill>
                <a:latin typeface="Arial"/>
              </a:rPr>
              <a:t>红都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8080"/>
                </a:solidFill>
                <a:latin typeface="Arial"/>
              </a:rPr>
              <a:t>。毛泽东、朱德、邓小平等老一辈无产阶级革命家曾长期在瑞金工作、战斗和生活过。解放后，瑞金已成为人们缅怀老一辈无产阶级革命家丰功伟绩、进行革命传统教育和爱国主义教育的圣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332000" y="1197000"/>
            <a:ext cx="676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BAS00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2556000" y="148428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692360" y="1197000"/>
            <a:ext cx="6732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村子里没有井，吃水要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很远的地方去挑。毛主席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带领战士和乡 亲们挖了一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332000" y="1197000"/>
            <a:ext cx="676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BAS00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2556000" y="148428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692360" y="1197000"/>
            <a:ext cx="6732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村子里没有井，吃水要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很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的地方去挑。毛主席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带领战士和乡 亲们挖了一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38"/>
          <p:cNvPicPr/>
          <p:nvPr/>
        </p:nvPicPr>
        <p:blipFill>
          <a:blip r:embed="rId1"/>
          <a:stretch/>
        </p:blipFill>
        <p:spPr>
          <a:xfrm>
            <a:off x="914400" y="228600"/>
            <a:ext cx="1127160" cy="1295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2209680" y="7621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380880" y="2209320"/>
            <a:ext cx="3199680" cy="3076200"/>
            <a:chOff x="380880" y="2209320"/>
            <a:chExt cx="3199680" cy="3076200"/>
          </a:xfrm>
        </p:grpSpPr>
        <p:sp>
          <p:nvSpPr>
            <p:cNvPr id="96" name="Rectangle 5"/>
            <p:cNvSpPr/>
            <p:nvPr/>
          </p:nvSpPr>
          <p:spPr>
            <a:xfrm>
              <a:off x="380880" y="2220120"/>
              <a:ext cx="3199680" cy="306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6"/>
            <p:cNvSpPr/>
            <p:nvPr/>
          </p:nvSpPr>
          <p:spPr>
            <a:xfrm>
              <a:off x="380880" y="37526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7"/>
            <p:cNvSpPr/>
            <p:nvPr/>
          </p:nvSpPr>
          <p:spPr>
            <a:xfrm flipV="1">
              <a:off x="1977480" y="2209320"/>
              <a:ext cx="3240" cy="3065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Rectangle 8"/>
          <p:cNvSpPr/>
          <p:nvPr/>
        </p:nvSpPr>
        <p:spPr>
          <a:xfrm>
            <a:off x="1214640" y="19810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很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9"/>
          <p:cNvGrpSpPr/>
          <p:nvPr/>
        </p:nvGrpSpPr>
        <p:grpSpPr>
          <a:xfrm>
            <a:off x="4114800" y="2209320"/>
            <a:ext cx="3199680" cy="3076200"/>
            <a:chOff x="4114800" y="2209320"/>
            <a:chExt cx="3199680" cy="3076200"/>
          </a:xfrm>
        </p:grpSpPr>
        <p:sp>
          <p:nvSpPr>
            <p:cNvPr id="101" name="Rectangle 10"/>
            <p:cNvSpPr/>
            <p:nvPr/>
          </p:nvSpPr>
          <p:spPr>
            <a:xfrm>
              <a:off x="4114800" y="2220120"/>
              <a:ext cx="3199680" cy="306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>
              <a:off x="4114800" y="37526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 flipV="1">
              <a:off x="5711400" y="2209320"/>
              <a:ext cx="3240" cy="3065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332000" y="1197000"/>
            <a:ext cx="676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BAS00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2556000" y="148428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692360" y="1197000"/>
            <a:ext cx="6732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村子里没有井，吃水要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很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的地方去挑。毛主席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带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战士和乡 亲们挖了一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38"/>
          <p:cNvPicPr/>
          <p:nvPr/>
        </p:nvPicPr>
        <p:blipFill>
          <a:blip r:embed="rId1"/>
          <a:stretch/>
        </p:blipFill>
        <p:spPr>
          <a:xfrm>
            <a:off x="914400" y="228600"/>
            <a:ext cx="1127160" cy="1295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2209680" y="7621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395280" y="2276280"/>
            <a:ext cx="3199680" cy="3076200"/>
            <a:chOff x="395280" y="2276280"/>
            <a:chExt cx="3199680" cy="3076200"/>
          </a:xfrm>
        </p:grpSpPr>
        <p:sp>
          <p:nvSpPr>
            <p:cNvPr id="111" name="Rectangle 5"/>
            <p:cNvSpPr/>
            <p:nvPr/>
          </p:nvSpPr>
          <p:spPr>
            <a:xfrm>
              <a:off x="395280" y="2287080"/>
              <a:ext cx="3199680" cy="306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6"/>
            <p:cNvSpPr/>
            <p:nvPr/>
          </p:nvSpPr>
          <p:spPr>
            <a:xfrm>
              <a:off x="395280" y="381960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7"/>
            <p:cNvSpPr/>
            <p:nvPr/>
          </p:nvSpPr>
          <p:spPr>
            <a:xfrm flipV="1">
              <a:off x="1991880" y="2276280"/>
              <a:ext cx="3240" cy="3065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Rectangle 8"/>
          <p:cNvSpPr/>
          <p:nvPr/>
        </p:nvSpPr>
        <p:spPr>
          <a:xfrm>
            <a:off x="1194120" y="2060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士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4114800" y="2209320"/>
            <a:ext cx="3199680" cy="3076200"/>
            <a:chOff x="4114800" y="2209320"/>
            <a:chExt cx="3199680" cy="3076200"/>
          </a:xfrm>
        </p:grpSpPr>
        <p:sp>
          <p:nvSpPr>
            <p:cNvPr id="116" name="Rectangle 10"/>
            <p:cNvSpPr/>
            <p:nvPr/>
          </p:nvSpPr>
          <p:spPr>
            <a:xfrm>
              <a:off x="4114800" y="2220120"/>
              <a:ext cx="3199680" cy="306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>
              <a:off x="4114800" y="37526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 flipV="1">
              <a:off x="5711400" y="2209320"/>
              <a:ext cx="3240" cy="3065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Text Box 13"/>
          <p:cNvSpPr/>
          <p:nvPr/>
        </p:nvSpPr>
        <p:spPr>
          <a:xfrm>
            <a:off x="4356000" y="2060640"/>
            <a:ext cx="2819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乡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BAS00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1835280" y="981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解放以后，乡亲们在井旁边立了一块大石碑，上面刻着：“吃水不忘挖井人，时刻想念毛主席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03"/>
          <p:cNvPicPr/>
          <p:nvPr/>
        </p:nvPicPr>
        <p:blipFill>
          <a:blip r:embed="rId2"/>
          <a:stretch/>
        </p:blipFill>
        <p:spPr>
          <a:xfrm>
            <a:off x="6443640" y="4437000"/>
            <a:ext cx="2700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BAS00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835280" y="981000"/>
            <a:ext cx="6192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解放以后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乡亲们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井旁边立了一块大石碑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上面刻着：“吃水不忘挖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人，时刻想念毛主席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03"/>
          <p:cNvPicPr/>
          <p:nvPr/>
        </p:nvPicPr>
        <p:blipFill>
          <a:blip r:embed="rId2"/>
          <a:stretch/>
        </p:blipFill>
        <p:spPr>
          <a:xfrm>
            <a:off x="6443640" y="4437000"/>
            <a:ext cx="2700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38"/>
          <p:cNvPicPr/>
          <p:nvPr/>
        </p:nvPicPr>
        <p:blipFill>
          <a:blip r:embed="rId1"/>
          <a:stretch/>
        </p:blipFill>
        <p:spPr>
          <a:xfrm>
            <a:off x="914400" y="228600"/>
            <a:ext cx="1127160" cy="1295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2209680" y="7621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395280" y="2276280"/>
            <a:ext cx="3199680" cy="3076200"/>
            <a:chOff x="395280" y="2276280"/>
            <a:chExt cx="3199680" cy="3076200"/>
          </a:xfrm>
        </p:grpSpPr>
        <p:sp>
          <p:nvSpPr>
            <p:cNvPr id="129" name="Rectangle 5"/>
            <p:cNvSpPr/>
            <p:nvPr/>
          </p:nvSpPr>
          <p:spPr>
            <a:xfrm>
              <a:off x="395280" y="2287080"/>
              <a:ext cx="3199680" cy="306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>
              <a:off x="395280" y="381960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 flipV="1">
              <a:off x="1991880" y="2276280"/>
              <a:ext cx="3240" cy="3065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Rectangle 8"/>
          <p:cNvSpPr/>
          <p:nvPr/>
        </p:nvSpPr>
        <p:spPr>
          <a:xfrm>
            <a:off x="1265400" y="2060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以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9"/>
          <p:cNvGrpSpPr/>
          <p:nvPr/>
        </p:nvGrpSpPr>
        <p:grpSpPr>
          <a:xfrm>
            <a:off x="4114800" y="2209320"/>
            <a:ext cx="3199680" cy="3076200"/>
            <a:chOff x="4114800" y="2209320"/>
            <a:chExt cx="3199680" cy="3076200"/>
          </a:xfrm>
        </p:grpSpPr>
        <p:sp>
          <p:nvSpPr>
            <p:cNvPr id="134" name="Rectangle 10"/>
            <p:cNvSpPr/>
            <p:nvPr/>
          </p:nvSpPr>
          <p:spPr>
            <a:xfrm>
              <a:off x="4114800" y="2220120"/>
              <a:ext cx="3199680" cy="306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>
              <a:off x="4114800" y="37526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 flipV="1">
              <a:off x="5711400" y="2209320"/>
              <a:ext cx="3240" cy="3065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Text Box 13"/>
          <p:cNvSpPr/>
          <p:nvPr/>
        </p:nvSpPr>
        <p:spPr>
          <a:xfrm>
            <a:off x="4356000" y="2060640"/>
            <a:ext cx="2819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后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BAS00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1835280" y="981000"/>
            <a:ext cx="6192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解放以后，乡亲们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井旁边立了一块大石碑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上面刻着：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吃水不忘挖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，时刻想念毛主席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03"/>
          <p:cNvPicPr/>
          <p:nvPr/>
        </p:nvPicPr>
        <p:blipFill>
          <a:blip r:embed="rId2"/>
          <a:stretch/>
        </p:blipFill>
        <p:spPr>
          <a:xfrm>
            <a:off x="6443640" y="4437000"/>
            <a:ext cx="2700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>
            <a:hlinkClick r:id="rId2"/>
          </p:cNvPr>
          <p:cNvSpPr/>
          <p:nvPr/>
        </p:nvSpPr>
        <p:spPr>
          <a:xfrm>
            <a:off x="7740720" y="5950080"/>
            <a:ext cx="1152360" cy="503280"/>
          </a:xfrm>
          <a:custGeom>
            <a:avLst/>
            <a:gdLst>
              <a:gd name="textAreaLeft" fmla="*/ 31320 w 1152360"/>
              <a:gd name="textAreaRight" fmla="*/ 1121040 w 1152360"/>
              <a:gd name="textAreaTop" fmla="*/ 31320 h 503280"/>
              <a:gd name="textAreaBottom" fmla="*/ 471960 h 503280"/>
            </a:gdLst>
            <a:ahLst/>
            <a:rect l="textAreaLeft" t="textAreaTop" r="textAreaRight" b="textAreaBottom"/>
            <a:pathLst>
              <a:path w="49438" h="21600">
                <a:moveTo>
                  <a:pt x="0" y="0"/>
                </a:moveTo>
                <a:lnTo>
                  <a:pt x="49438" y="0"/>
                </a:lnTo>
                <a:lnTo>
                  <a:pt x="49438" y="21600"/>
                </a:lnTo>
                <a:lnTo>
                  <a:pt x="0" y="21600"/>
                </a:lnTo>
                <a:close/>
              </a:path>
              <a:path fill="lightenLess" w="49438" h="21600">
                <a:moveTo>
                  <a:pt x="0" y="0"/>
                </a:moveTo>
                <a:lnTo>
                  <a:pt x="49438" y="0"/>
                </a:lnTo>
                <a:lnTo>
                  <a:pt x="48088" y="1350"/>
                </a:lnTo>
                <a:lnTo>
                  <a:pt x="1350" y="1350"/>
                </a:lnTo>
                <a:close/>
              </a:path>
              <a:path fill="darken" w="49438" h="21600">
                <a:moveTo>
                  <a:pt x="49438" y="0"/>
                </a:moveTo>
                <a:lnTo>
                  <a:pt x="49438" y="21600"/>
                </a:lnTo>
                <a:lnTo>
                  <a:pt x="48088" y="20250"/>
                </a:lnTo>
                <a:lnTo>
                  <a:pt x="48088" y="1350"/>
                </a:lnTo>
                <a:close/>
              </a:path>
              <a:path fill="darkenLess" w="49438" h="21600">
                <a:moveTo>
                  <a:pt x="4943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8088" y="20250"/>
                </a:lnTo>
                <a:close/>
              </a:path>
              <a:path fill="lighten" w="4943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认读词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685800" y="549360"/>
            <a:ext cx="815328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不忘 挖井人 瑞金城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叫沙洲坝 领导 毛主席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很远 战士 以后 乡亲们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革命  解放  时刻  想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石碑  时候  挑水  带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3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187280" y="1557360"/>
            <a:ext cx="7010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问：谁是挖井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332000" y="3933720"/>
            <a:ext cx="597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900000" y="836640"/>
            <a:ext cx="936720" cy="649440"/>
          </a:xfrm>
          <a:custGeom>
            <a:avLst/>
            <a:gdLst>
              <a:gd name="textAreaLeft" fmla="*/ 40320 w 936720"/>
              <a:gd name="textAreaRight" fmla="*/ 896400 w 936720"/>
              <a:gd name="textAreaTop" fmla="*/ 40320 h 649440"/>
              <a:gd name="textAreaBottom" fmla="*/ 609120 h 649440"/>
            </a:gdLst>
            <a:ahLst/>
            <a:rect l="textAreaLeft" t="textAreaTop" r="textAreaRight" b="textAreaBottom"/>
            <a:pathLst>
              <a:path w="31149" h="21600">
                <a:moveTo>
                  <a:pt x="0" y="0"/>
                </a:moveTo>
                <a:lnTo>
                  <a:pt x="31149" y="0"/>
                </a:lnTo>
                <a:lnTo>
                  <a:pt x="31149" y="21600"/>
                </a:lnTo>
                <a:lnTo>
                  <a:pt x="0" y="21600"/>
                </a:lnTo>
                <a:close/>
              </a:path>
              <a:path fill="lightenLess" w="31149" h="21600">
                <a:moveTo>
                  <a:pt x="0" y="0"/>
                </a:moveTo>
                <a:lnTo>
                  <a:pt x="31149" y="0"/>
                </a:lnTo>
                <a:lnTo>
                  <a:pt x="29799" y="1350"/>
                </a:lnTo>
                <a:lnTo>
                  <a:pt x="1350" y="1350"/>
                </a:lnTo>
                <a:close/>
              </a:path>
              <a:path fill="darken" w="31149" h="21600">
                <a:moveTo>
                  <a:pt x="31149" y="0"/>
                </a:moveTo>
                <a:lnTo>
                  <a:pt x="31149" y="21600"/>
                </a:lnTo>
                <a:lnTo>
                  <a:pt x="29799" y="20250"/>
                </a:lnTo>
                <a:lnTo>
                  <a:pt x="29799" y="1350"/>
                </a:lnTo>
                <a:close/>
              </a:path>
              <a:path fill="darkenLess" w="31149" h="21600">
                <a:moveTo>
                  <a:pt x="311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799" y="20250"/>
                </a:lnTo>
                <a:close/>
              </a:path>
              <a:path fill="lighten" w="311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149" h="21600">
                <a:moveTo>
                  <a:pt x="15575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31149" h="21600">
                <a:moveTo>
                  <a:pt x="16686" y="14300"/>
                </a:moveTo>
                <a:lnTo>
                  <a:pt x="16686" y="12331"/>
                </a:lnTo>
                <a:cubicBezTo>
                  <a:pt x="16686" y="11500"/>
                  <a:pt x="17018" y="10800"/>
                  <a:pt x="17622" y="10800"/>
                </a:cubicBezTo>
                <a:cubicBezTo>
                  <a:pt x="18760" y="10800"/>
                  <a:pt x="19661" y="9426"/>
                  <a:pt x="19661" y="7834"/>
                </a:cubicBezTo>
                <a:cubicBezTo>
                  <a:pt x="19661" y="5506"/>
                  <a:pt x="17797" y="3756"/>
                  <a:pt x="15575" y="3756"/>
                </a:cubicBezTo>
                <a:cubicBezTo>
                  <a:pt x="13352" y="3756"/>
                  <a:pt x="11672" y="5506"/>
                  <a:pt x="11672" y="7834"/>
                </a:cubicBezTo>
                <a:lnTo>
                  <a:pt x="13536" y="7834"/>
                </a:lnTo>
                <a:cubicBezTo>
                  <a:pt x="13536" y="6688"/>
                  <a:pt x="14463" y="5795"/>
                  <a:pt x="15575" y="5795"/>
                </a:cubicBezTo>
                <a:cubicBezTo>
                  <a:pt x="16686" y="5795"/>
                  <a:pt x="17622" y="6688"/>
                  <a:pt x="17622" y="7834"/>
                </a:cubicBezTo>
                <a:cubicBezTo>
                  <a:pt x="17622" y="8578"/>
                  <a:pt x="17150" y="9313"/>
                  <a:pt x="16686" y="9313"/>
                </a:cubicBezTo>
                <a:cubicBezTo>
                  <a:pt x="15575" y="9313"/>
                  <a:pt x="14463" y="10800"/>
                  <a:pt x="14463" y="12331"/>
                </a:cubicBezTo>
                <a:lnTo>
                  <a:pt x="14463" y="143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187280" y="1557360"/>
            <a:ext cx="7010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问：谁是挖井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答：毛主席、战士们、乡亲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332000" y="3933720"/>
            <a:ext cx="597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900000" y="836640"/>
            <a:ext cx="936720" cy="649440"/>
          </a:xfrm>
          <a:custGeom>
            <a:avLst/>
            <a:gdLst>
              <a:gd name="textAreaLeft" fmla="*/ 40320 w 936720"/>
              <a:gd name="textAreaRight" fmla="*/ 896400 w 936720"/>
              <a:gd name="textAreaTop" fmla="*/ 40320 h 649440"/>
              <a:gd name="textAreaBottom" fmla="*/ 609120 h 649440"/>
            </a:gdLst>
            <a:ahLst/>
            <a:rect l="textAreaLeft" t="textAreaTop" r="textAreaRight" b="textAreaBottom"/>
            <a:pathLst>
              <a:path w="31149" h="21600">
                <a:moveTo>
                  <a:pt x="0" y="0"/>
                </a:moveTo>
                <a:lnTo>
                  <a:pt x="31149" y="0"/>
                </a:lnTo>
                <a:lnTo>
                  <a:pt x="31149" y="21600"/>
                </a:lnTo>
                <a:lnTo>
                  <a:pt x="0" y="21600"/>
                </a:lnTo>
                <a:close/>
              </a:path>
              <a:path fill="lightenLess" w="31149" h="21600">
                <a:moveTo>
                  <a:pt x="0" y="0"/>
                </a:moveTo>
                <a:lnTo>
                  <a:pt x="31149" y="0"/>
                </a:lnTo>
                <a:lnTo>
                  <a:pt x="29799" y="1350"/>
                </a:lnTo>
                <a:lnTo>
                  <a:pt x="1350" y="1350"/>
                </a:lnTo>
                <a:close/>
              </a:path>
              <a:path fill="darken" w="31149" h="21600">
                <a:moveTo>
                  <a:pt x="31149" y="0"/>
                </a:moveTo>
                <a:lnTo>
                  <a:pt x="31149" y="21600"/>
                </a:lnTo>
                <a:lnTo>
                  <a:pt x="29799" y="20250"/>
                </a:lnTo>
                <a:lnTo>
                  <a:pt x="29799" y="1350"/>
                </a:lnTo>
                <a:close/>
              </a:path>
              <a:path fill="darkenLess" w="31149" h="21600">
                <a:moveTo>
                  <a:pt x="311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799" y="20250"/>
                </a:lnTo>
                <a:close/>
              </a:path>
              <a:path fill="lighten" w="311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149" h="21600">
                <a:moveTo>
                  <a:pt x="15575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31149" h="21600">
                <a:moveTo>
                  <a:pt x="16686" y="14300"/>
                </a:moveTo>
                <a:lnTo>
                  <a:pt x="16686" y="12331"/>
                </a:lnTo>
                <a:cubicBezTo>
                  <a:pt x="16686" y="11500"/>
                  <a:pt x="17018" y="10800"/>
                  <a:pt x="17622" y="10800"/>
                </a:cubicBezTo>
                <a:cubicBezTo>
                  <a:pt x="18760" y="10800"/>
                  <a:pt x="19661" y="9426"/>
                  <a:pt x="19661" y="7834"/>
                </a:cubicBezTo>
                <a:cubicBezTo>
                  <a:pt x="19661" y="5506"/>
                  <a:pt x="17797" y="3756"/>
                  <a:pt x="15575" y="3756"/>
                </a:cubicBezTo>
                <a:cubicBezTo>
                  <a:pt x="13352" y="3756"/>
                  <a:pt x="11672" y="5506"/>
                  <a:pt x="11672" y="7834"/>
                </a:cubicBezTo>
                <a:lnTo>
                  <a:pt x="13536" y="7834"/>
                </a:lnTo>
                <a:cubicBezTo>
                  <a:pt x="13536" y="6688"/>
                  <a:pt x="14463" y="5795"/>
                  <a:pt x="15575" y="5795"/>
                </a:cubicBezTo>
                <a:cubicBezTo>
                  <a:pt x="16686" y="5795"/>
                  <a:pt x="17622" y="6688"/>
                  <a:pt x="17622" y="7834"/>
                </a:cubicBezTo>
                <a:cubicBezTo>
                  <a:pt x="17622" y="8578"/>
                  <a:pt x="17150" y="9313"/>
                  <a:pt x="16686" y="9313"/>
                </a:cubicBezTo>
                <a:cubicBezTo>
                  <a:pt x="15575" y="9313"/>
                  <a:pt x="14463" y="10800"/>
                  <a:pt x="14463" y="12331"/>
                </a:cubicBezTo>
                <a:lnTo>
                  <a:pt x="14463" y="143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187280" y="1557360"/>
            <a:ext cx="7010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问：谁是挖井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答：毛主席、战士们、乡亲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332000" y="3933720"/>
            <a:ext cx="59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问：谁不忘挖井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900000" y="836640"/>
            <a:ext cx="936720" cy="649440"/>
          </a:xfrm>
          <a:custGeom>
            <a:avLst/>
            <a:gdLst>
              <a:gd name="textAreaLeft" fmla="*/ 40320 w 936720"/>
              <a:gd name="textAreaRight" fmla="*/ 896400 w 936720"/>
              <a:gd name="textAreaTop" fmla="*/ 40320 h 649440"/>
              <a:gd name="textAreaBottom" fmla="*/ 609120 h 649440"/>
            </a:gdLst>
            <a:ahLst/>
            <a:rect l="textAreaLeft" t="textAreaTop" r="textAreaRight" b="textAreaBottom"/>
            <a:pathLst>
              <a:path w="31149" h="21600">
                <a:moveTo>
                  <a:pt x="0" y="0"/>
                </a:moveTo>
                <a:lnTo>
                  <a:pt x="31149" y="0"/>
                </a:lnTo>
                <a:lnTo>
                  <a:pt x="31149" y="21600"/>
                </a:lnTo>
                <a:lnTo>
                  <a:pt x="0" y="21600"/>
                </a:lnTo>
                <a:close/>
              </a:path>
              <a:path fill="lightenLess" w="31149" h="21600">
                <a:moveTo>
                  <a:pt x="0" y="0"/>
                </a:moveTo>
                <a:lnTo>
                  <a:pt x="31149" y="0"/>
                </a:lnTo>
                <a:lnTo>
                  <a:pt x="29799" y="1350"/>
                </a:lnTo>
                <a:lnTo>
                  <a:pt x="1350" y="1350"/>
                </a:lnTo>
                <a:close/>
              </a:path>
              <a:path fill="darken" w="31149" h="21600">
                <a:moveTo>
                  <a:pt x="31149" y="0"/>
                </a:moveTo>
                <a:lnTo>
                  <a:pt x="31149" y="21600"/>
                </a:lnTo>
                <a:lnTo>
                  <a:pt x="29799" y="20250"/>
                </a:lnTo>
                <a:lnTo>
                  <a:pt x="29799" y="1350"/>
                </a:lnTo>
                <a:close/>
              </a:path>
              <a:path fill="darkenLess" w="31149" h="21600">
                <a:moveTo>
                  <a:pt x="311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799" y="20250"/>
                </a:lnTo>
                <a:close/>
              </a:path>
              <a:path fill="lighten" w="311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149" h="21600">
                <a:moveTo>
                  <a:pt x="15575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31149" h="21600">
                <a:moveTo>
                  <a:pt x="16686" y="14300"/>
                </a:moveTo>
                <a:lnTo>
                  <a:pt x="16686" y="12331"/>
                </a:lnTo>
                <a:cubicBezTo>
                  <a:pt x="16686" y="11500"/>
                  <a:pt x="17018" y="10800"/>
                  <a:pt x="17622" y="10800"/>
                </a:cubicBezTo>
                <a:cubicBezTo>
                  <a:pt x="18760" y="10800"/>
                  <a:pt x="19661" y="9426"/>
                  <a:pt x="19661" y="7834"/>
                </a:cubicBezTo>
                <a:cubicBezTo>
                  <a:pt x="19661" y="5506"/>
                  <a:pt x="17797" y="3756"/>
                  <a:pt x="15575" y="3756"/>
                </a:cubicBezTo>
                <a:cubicBezTo>
                  <a:pt x="13352" y="3756"/>
                  <a:pt x="11672" y="5506"/>
                  <a:pt x="11672" y="7834"/>
                </a:cubicBezTo>
                <a:lnTo>
                  <a:pt x="13536" y="7834"/>
                </a:lnTo>
                <a:cubicBezTo>
                  <a:pt x="13536" y="6688"/>
                  <a:pt x="14463" y="5795"/>
                  <a:pt x="15575" y="5795"/>
                </a:cubicBezTo>
                <a:cubicBezTo>
                  <a:pt x="16686" y="5795"/>
                  <a:pt x="17622" y="6688"/>
                  <a:pt x="17622" y="7834"/>
                </a:cubicBezTo>
                <a:cubicBezTo>
                  <a:pt x="17622" y="8578"/>
                  <a:pt x="17150" y="9313"/>
                  <a:pt x="16686" y="9313"/>
                </a:cubicBezTo>
                <a:cubicBezTo>
                  <a:pt x="15575" y="9313"/>
                  <a:pt x="14463" y="10800"/>
                  <a:pt x="14463" y="12331"/>
                </a:cubicBezTo>
                <a:lnTo>
                  <a:pt x="14463" y="143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7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使用规范说明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736C-A53F-437F-93A2-B65F5FA2F0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87280" y="1557360"/>
            <a:ext cx="7010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问：谁是挖井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答：毛主席、战士们、乡亲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332000" y="3933720"/>
            <a:ext cx="59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问：谁不忘挖井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答：沙洲坝的乡亲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900000" y="836640"/>
            <a:ext cx="936720" cy="649440"/>
          </a:xfrm>
          <a:custGeom>
            <a:avLst/>
            <a:gdLst>
              <a:gd name="textAreaLeft" fmla="*/ 40320 w 936720"/>
              <a:gd name="textAreaRight" fmla="*/ 896400 w 936720"/>
              <a:gd name="textAreaTop" fmla="*/ 40320 h 649440"/>
              <a:gd name="textAreaBottom" fmla="*/ 609120 h 649440"/>
            </a:gdLst>
            <a:ahLst/>
            <a:rect l="textAreaLeft" t="textAreaTop" r="textAreaRight" b="textAreaBottom"/>
            <a:pathLst>
              <a:path w="31149" h="21600">
                <a:moveTo>
                  <a:pt x="0" y="0"/>
                </a:moveTo>
                <a:lnTo>
                  <a:pt x="31149" y="0"/>
                </a:lnTo>
                <a:lnTo>
                  <a:pt x="31149" y="21600"/>
                </a:lnTo>
                <a:lnTo>
                  <a:pt x="0" y="21600"/>
                </a:lnTo>
                <a:close/>
              </a:path>
              <a:path fill="lightenLess" w="31149" h="21600">
                <a:moveTo>
                  <a:pt x="0" y="0"/>
                </a:moveTo>
                <a:lnTo>
                  <a:pt x="31149" y="0"/>
                </a:lnTo>
                <a:lnTo>
                  <a:pt x="29799" y="1350"/>
                </a:lnTo>
                <a:lnTo>
                  <a:pt x="1350" y="1350"/>
                </a:lnTo>
                <a:close/>
              </a:path>
              <a:path fill="darken" w="31149" h="21600">
                <a:moveTo>
                  <a:pt x="31149" y="0"/>
                </a:moveTo>
                <a:lnTo>
                  <a:pt x="31149" y="21600"/>
                </a:lnTo>
                <a:lnTo>
                  <a:pt x="29799" y="20250"/>
                </a:lnTo>
                <a:lnTo>
                  <a:pt x="29799" y="1350"/>
                </a:lnTo>
                <a:close/>
              </a:path>
              <a:path fill="darkenLess" w="31149" h="21600">
                <a:moveTo>
                  <a:pt x="311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799" y="20250"/>
                </a:lnTo>
                <a:close/>
              </a:path>
              <a:path fill="lighten" w="311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149" h="21600">
                <a:moveTo>
                  <a:pt x="15575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31149" h="21600">
                <a:moveTo>
                  <a:pt x="16686" y="14300"/>
                </a:moveTo>
                <a:lnTo>
                  <a:pt x="16686" y="12331"/>
                </a:lnTo>
                <a:cubicBezTo>
                  <a:pt x="16686" y="11500"/>
                  <a:pt x="17018" y="10800"/>
                  <a:pt x="17622" y="10800"/>
                </a:cubicBezTo>
                <a:cubicBezTo>
                  <a:pt x="18760" y="10800"/>
                  <a:pt x="19661" y="9426"/>
                  <a:pt x="19661" y="7834"/>
                </a:cubicBezTo>
                <a:cubicBezTo>
                  <a:pt x="19661" y="5506"/>
                  <a:pt x="17797" y="3756"/>
                  <a:pt x="15575" y="3756"/>
                </a:cubicBezTo>
                <a:cubicBezTo>
                  <a:pt x="13352" y="3756"/>
                  <a:pt x="11672" y="5506"/>
                  <a:pt x="11672" y="7834"/>
                </a:cubicBezTo>
                <a:lnTo>
                  <a:pt x="13536" y="7834"/>
                </a:lnTo>
                <a:cubicBezTo>
                  <a:pt x="13536" y="6688"/>
                  <a:pt x="14463" y="5795"/>
                  <a:pt x="15575" y="5795"/>
                </a:cubicBezTo>
                <a:cubicBezTo>
                  <a:pt x="16686" y="5795"/>
                  <a:pt x="17622" y="6688"/>
                  <a:pt x="17622" y="7834"/>
                </a:cubicBezTo>
                <a:cubicBezTo>
                  <a:pt x="17622" y="8578"/>
                  <a:pt x="17150" y="9313"/>
                  <a:pt x="16686" y="9313"/>
                </a:cubicBezTo>
                <a:cubicBezTo>
                  <a:pt x="15575" y="9313"/>
                  <a:pt x="14463" y="10800"/>
                  <a:pt x="14463" y="12331"/>
                </a:cubicBezTo>
                <a:lnTo>
                  <a:pt x="14463" y="143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问：为什么不能忘记挖井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楷体_GB2312"/>
              </a:rPr>
              <a:t>答：因为挖井人关爱乡亲们，让乡亲们吃水不再困难，为他们做了好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06436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    我们的幸福生活来之不易。珍惜美好的生活。记住所有爱我们和关心我们的人</a:t>
            </a:r>
            <a:r>
              <a:rPr b="0" lang="en-US" sz="45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——</a:t>
            </a:r>
            <a:r>
              <a:rPr b="0" lang="zh-CN" sz="45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我们的先辈、我们的父母、我们的老师</a:t>
            </a:r>
            <a:r>
              <a:rPr b="0" lang="en-US" sz="4500" spc="-1" strike="noStrike">
                <a:solidFill>
                  <a:srgbClr val="0066ff"/>
                </a:solidFill>
                <a:latin typeface="宋体"/>
                <a:ea typeface="楷体_GB2312"/>
              </a:rPr>
              <a:t>……</a:t>
            </a:r>
            <a:r>
              <a:rPr b="0" lang="zh-CN" sz="45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让我们永远记住他们的恩情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6300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 Black"/>
              </a:rPr>
              <a:t>毛泽东简介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413000"/>
            <a:ext cx="7543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8080"/>
                </a:solidFill>
                <a:latin typeface="Arial"/>
              </a:rPr>
              <a:t>伟大的马克思主义者，无产阶级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革命家</a:t>
            </a:r>
            <a:r>
              <a:rPr b="0" lang="zh-CN" sz="2800" spc="-1" strike="noStrike">
                <a:solidFill>
                  <a:srgbClr val="008080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Arial"/>
              </a:rPr>
              <a:t>战略家和理论家，中国共产党、中国人民解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Arial"/>
              </a:rPr>
              <a:t>军和中华人民共和国的主要缔造者和领导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1921</a:t>
            </a:r>
            <a:r>
              <a:rPr b="0" lang="zh-CN" sz="2800" spc="-1" strike="noStrike">
                <a:solidFill>
                  <a:srgbClr val="00808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8080"/>
                </a:solidFill>
                <a:latin typeface="Arial"/>
              </a:rPr>
              <a:t>月，出席中国共产党建党的第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Arial"/>
              </a:rPr>
              <a:t>次全国代表大会。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1931</a:t>
            </a:r>
            <a:r>
              <a:rPr b="0" lang="zh-CN" sz="2800" spc="-1" strike="noStrike">
                <a:solidFill>
                  <a:srgbClr val="008080"/>
                </a:solidFill>
                <a:latin typeface="Arial"/>
              </a:rPr>
              <a:t>年，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中华苏维埃共和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Arial"/>
              </a:rPr>
              <a:t>临时政府在江西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瑞金</a:t>
            </a:r>
            <a:r>
              <a:rPr b="0" lang="zh-CN" sz="2800" spc="-1" strike="noStrike">
                <a:solidFill>
                  <a:srgbClr val="008080"/>
                </a:solidFill>
                <a:latin typeface="Arial"/>
              </a:rPr>
              <a:t>成立，被选为主席，同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Arial"/>
              </a:rPr>
              <a:t>德领导红一方面军战胜了国民党军队的多次</a:t>
            </a:r>
            <a:r>
              <a:rPr b="0" lang="zh-CN" sz="2800" spc="-1" strike="noStrike">
                <a:solidFill>
                  <a:srgbClr val="00808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8080"/>
                </a:solidFill>
                <a:latin typeface="Arial"/>
              </a:rPr>
              <a:t>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Arial"/>
              </a:rPr>
              <a:t>剿</a:t>
            </a:r>
            <a:r>
              <a:rPr b="0" lang="zh-CN" sz="2800" spc="-1" strike="noStrike">
                <a:solidFill>
                  <a:srgbClr val="008080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008080"/>
                </a:solidFill>
                <a:latin typeface="Arial"/>
              </a:rPr>
              <a:t>。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1949</a:t>
            </a:r>
            <a:r>
              <a:rPr b="0" lang="zh-CN" sz="2800" spc="-1" strike="noStrike">
                <a:solidFill>
                  <a:srgbClr val="00808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808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8080"/>
                </a:solidFill>
                <a:latin typeface="Arial"/>
              </a:rPr>
              <a:t>日，中华人民共和国建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Arial"/>
              </a:rPr>
              <a:t>他当选为中央人民政府主席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432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80"/>
                </a:solidFill>
                <a:latin typeface="Arial Black"/>
              </a:rPr>
              <a:t>青年毛泽东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4d3eecf25b23dc76342acc6f"/>
          <p:cNvPicPr/>
          <p:nvPr/>
        </p:nvPicPr>
        <p:blipFill>
          <a:blip r:embed="rId1"/>
          <a:stretch/>
        </p:blipFill>
        <p:spPr>
          <a:xfrm>
            <a:off x="1763640" y="1197000"/>
            <a:ext cx="55152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2880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1" lang="zh-CN" sz="4400" spc="-1" strike="noStrike">
                <a:solidFill>
                  <a:srgbClr val="008080"/>
                </a:solidFill>
                <a:latin typeface="Arial Black"/>
              </a:rPr>
              <a:t>红军时期的毛主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dd4f67ec3653afd0b3fb9521"/>
          <p:cNvPicPr/>
          <p:nvPr/>
        </p:nvPicPr>
        <p:blipFill>
          <a:blip r:embed="rId1"/>
          <a:stretch/>
        </p:blipFill>
        <p:spPr>
          <a:xfrm>
            <a:off x="1476360" y="1052640"/>
            <a:ext cx="5715000" cy="78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1763640" y="5493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BAS00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979640" y="1773360"/>
            <a:ext cx="630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瑞金城外有个小村子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沙洲坝。毛主席在江西领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革命的时候，就在那儿住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148360" y="2349360"/>
            <a:ext cx="93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667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08080"/>
                </a:solidFill>
                <a:latin typeface="Arial Black"/>
              </a:rPr>
              <a:t>1949</a:t>
            </a:r>
            <a:r>
              <a:rPr b="1" lang="zh-CN" sz="4400" spc="-1" strike="noStrike">
                <a:solidFill>
                  <a:srgbClr val="008080"/>
                </a:solidFill>
                <a:latin typeface="Arial Black"/>
              </a:rPr>
              <a:t>年开国大典时的毛主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9fb9a2a105b2d3a3461064e1"/>
          <p:cNvPicPr/>
          <p:nvPr/>
        </p:nvPicPr>
        <p:blipFill>
          <a:blip r:embed="rId1"/>
          <a:stretch/>
        </p:blipFill>
        <p:spPr>
          <a:xfrm>
            <a:off x="2268360" y="1457280"/>
            <a:ext cx="40006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5040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80"/>
                </a:solidFill>
                <a:latin typeface="Arial Black"/>
              </a:rPr>
              <a:t>解放后的毛主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f247d28264621bfc9123d9a4"/>
          <p:cNvPicPr/>
          <p:nvPr/>
        </p:nvPicPr>
        <p:blipFill>
          <a:blip r:embed="rId1"/>
          <a:stretch/>
        </p:blipFill>
        <p:spPr>
          <a:xfrm>
            <a:off x="1763640" y="1341360"/>
            <a:ext cx="4286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64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80"/>
                </a:solidFill>
                <a:latin typeface="Arial Black"/>
              </a:rPr>
              <a:t>毛主席像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1009759_1230675782JHW3"/>
          <p:cNvPicPr/>
          <p:nvPr/>
        </p:nvPicPr>
        <p:blipFill>
          <a:blip r:embed="rId1"/>
          <a:stretch/>
        </p:blipFill>
        <p:spPr>
          <a:xfrm>
            <a:off x="2268360" y="1447920"/>
            <a:ext cx="4048200" cy="5410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填空：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（    ）石碑    一（    ）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（    ）鲜花    一（    ）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（    ）山羊    一（    ）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（    ）池塘    一（    ）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（         ）   一句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枝（         ）   一双（ 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填空：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（块）石碑    一（口）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（束）鲜花    一（棵）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（只）山羊    一（只）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（个）池塘    一（本）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（学生）   一句（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枝（毛笔）   一双（手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填空：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8080"/>
                </a:solidFill>
                <a:latin typeface="Arial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8080"/>
                </a:solidFill>
                <a:latin typeface="Arial"/>
              </a:rPr>
              <a:t>沙洲坝是个（        ），在（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填空：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8080"/>
                </a:solidFill>
                <a:latin typeface="Arial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8080"/>
                </a:solidFill>
                <a:latin typeface="Arial"/>
              </a:rPr>
              <a:t>沙洲坝是个（小村子），在（瑞金城外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38"/>
          <p:cNvPicPr/>
          <p:nvPr/>
        </p:nvPicPr>
        <p:blipFill>
          <a:blip r:embed="rId1"/>
          <a:stretch/>
        </p:blipFill>
        <p:spPr>
          <a:xfrm>
            <a:off x="914400" y="228600"/>
            <a:ext cx="1127160" cy="1295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209680" y="7621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380880" y="2209320"/>
            <a:ext cx="3199680" cy="3076200"/>
            <a:chOff x="380880" y="2209320"/>
            <a:chExt cx="3199680" cy="3076200"/>
          </a:xfrm>
        </p:grpSpPr>
        <p:sp>
          <p:nvSpPr>
            <p:cNvPr id="58" name="Rectangle 5"/>
            <p:cNvSpPr/>
            <p:nvPr/>
          </p:nvSpPr>
          <p:spPr>
            <a:xfrm>
              <a:off x="380880" y="2220120"/>
              <a:ext cx="3199680" cy="306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>
              <a:off x="380880" y="37526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7"/>
            <p:cNvSpPr/>
            <p:nvPr/>
          </p:nvSpPr>
          <p:spPr>
            <a:xfrm flipV="1">
              <a:off x="1977480" y="2209320"/>
              <a:ext cx="3240" cy="3065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Rectangle 8"/>
          <p:cNvSpPr/>
          <p:nvPr/>
        </p:nvSpPr>
        <p:spPr>
          <a:xfrm>
            <a:off x="1265400" y="198900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金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9"/>
          <p:cNvGrpSpPr/>
          <p:nvPr/>
        </p:nvGrpSpPr>
        <p:grpSpPr>
          <a:xfrm>
            <a:off x="4114800" y="2209320"/>
            <a:ext cx="3199680" cy="3076200"/>
            <a:chOff x="4114800" y="2209320"/>
            <a:chExt cx="3199680" cy="3076200"/>
          </a:xfrm>
        </p:grpSpPr>
        <p:sp>
          <p:nvSpPr>
            <p:cNvPr id="63" name="Rectangle 10"/>
            <p:cNvSpPr/>
            <p:nvPr/>
          </p:nvSpPr>
          <p:spPr>
            <a:xfrm>
              <a:off x="4114800" y="2220120"/>
              <a:ext cx="3199680" cy="306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4114800" y="37526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 flipV="1">
              <a:off x="5711400" y="2209320"/>
              <a:ext cx="3240" cy="3065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Text Box 13"/>
          <p:cNvSpPr/>
          <p:nvPr/>
        </p:nvSpPr>
        <p:spPr>
          <a:xfrm>
            <a:off x="4356000" y="1989000"/>
            <a:ext cx="2819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叫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填空：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8080"/>
                </a:solidFill>
                <a:latin typeface="Arial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8080"/>
                </a:solidFill>
                <a:latin typeface="Arial"/>
              </a:rPr>
              <a:t>沙洲坝是个（小村子），在（瑞金城外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808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8080"/>
                </a:solidFill>
                <a:latin typeface="Arial"/>
              </a:rPr>
              <a:t>毛主席在（           ）住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填空：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8080"/>
                </a:solidFill>
                <a:latin typeface="Arial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8080"/>
                </a:solidFill>
                <a:latin typeface="Arial"/>
              </a:rPr>
              <a:t>沙洲坝是个（小村子），在（瑞金城外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808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8080"/>
                </a:solidFill>
                <a:latin typeface="Arial"/>
              </a:rPr>
              <a:t>毛主席在（沙洲坝）住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38"/>
          <p:cNvPicPr/>
          <p:nvPr/>
        </p:nvPicPr>
        <p:blipFill>
          <a:blip r:embed="rId1"/>
          <a:stretch/>
        </p:blipFill>
        <p:spPr>
          <a:xfrm>
            <a:off x="914400" y="228600"/>
            <a:ext cx="1127160" cy="1295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2209680" y="7621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380880" y="2209320"/>
            <a:ext cx="3199680" cy="3076200"/>
            <a:chOff x="380880" y="2209320"/>
            <a:chExt cx="3199680" cy="3076200"/>
          </a:xfrm>
        </p:grpSpPr>
        <p:sp>
          <p:nvSpPr>
            <p:cNvPr id="74" name="Rectangle 5"/>
            <p:cNvSpPr/>
            <p:nvPr/>
          </p:nvSpPr>
          <p:spPr>
            <a:xfrm>
              <a:off x="380880" y="2220120"/>
              <a:ext cx="3199680" cy="306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6"/>
            <p:cNvSpPr/>
            <p:nvPr/>
          </p:nvSpPr>
          <p:spPr>
            <a:xfrm>
              <a:off x="380880" y="37526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7"/>
            <p:cNvSpPr/>
            <p:nvPr/>
          </p:nvSpPr>
          <p:spPr>
            <a:xfrm flipV="1">
              <a:off x="1977480" y="2209320"/>
              <a:ext cx="3240" cy="3065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8"/>
          <p:cNvSpPr/>
          <p:nvPr/>
        </p:nvSpPr>
        <p:spPr>
          <a:xfrm>
            <a:off x="1194120" y="198900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主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9"/>
          <p:cNvGrpSpPr/>
          <p:nvPr/>
        </p:nvGrpSpPr>
        <p:grpSpPr>
          <a:xfrm>
            <a:off x="4114800" y="2209320"/>
            <a:ext cx="3199680" cy="3076200"/>
            <a:chOff x="4114800" y="2209320"/>
            <a:chExt cx="3199680" cy="3076200"/>
          </a:xfrm>
        </p:grpSpPr>
        <p:sp>
          <p:nvSpPr>
            <p:cNvPr id="79" name="Rectangle 10"/>
            <p:cNvSpPr/>
            <p:nvPr/>
          </p:nvSpPr>
          <p:spPr>
            <a:xfrm>
              <a:off x="4114800" y="2220120"/>
              <a:ext cx="3199680" cy="306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1"/>
            <p:cNvSpPr/>
            <p:nvPr/>
          </p:nvSpPr>
          <p:spPr>
            <a:xfrm>
              <a:off x="4114800" y="37526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12"/>
            <p:cNvSpPr/>
            <p:nvPr/>
          </p:nvSpPr>
          <p:spPr>
            <a:xfrm flipV="1">
              <a:off x="5711400" y="2209320"/>
              <a:ext cx="3240" cy="3065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02:38:38Z</dcterms:created>
  <dc:creator/>
  <dc:description/>
  <cp:keywords>幻灯片之家 http:/www.eeppt.com</cp:keywords>
  <dc:language>en-US</dc:language>
  <cp:lastModifiedBy/>
  <dcterms:modified xsi:type="dcterms:W3CDTF">2015-07-20T07:45:01Z</dcterms:modified>
  <cp:revision>7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