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E81-0E4E-4914-9305-705AB567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08-220C-487A-8CC3-17104F6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D06-DA76-4B3F-B2B1-65EC1075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17AD-82C7-4B78-AF53-9F54F15E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4CD-67D4-46AC-B314-9F09BAA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003-CD8C-4E27-B53E-EA0BA37A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0B4-9EA7-4903-8032-9AF8790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C4F-5AB1-4277-8B51-D759E6C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E6D-4E01-4B23-9959-111FA724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F86-368A-4CF8-971E-C0DD03B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85B-8A8B-4832-BF8D-DD950B0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983-0B8D-4A14-BE8E-BF3B5D5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500-834B-4435-A8FB-7C29B8BB9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42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未知"/>
          <p:cNvSpPr/>
          <p:nvPr/>
        </p:nvSpPr>
        <p:spPr>
          <a:xfrm>
            <a:off x="-34920" y="2852640"/>
            <a:ext cx="9223200" cy="2473560"/>
          </a:xfrm>
          <a:custGeom>
            <a:avLst/>
            <a:gdLst/>
            <a:ahLst/>
            <a:rect l="l" t="t" r="r" b="b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49" name="未知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54" name="未知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59" name="未知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64" name="未知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-23400" y="4489560"/>
            <a:ext cx="2385360" cy="856440"/>
            <a:chOff x="-23400" y="4489560"/>
            <a:chExt cx="2385360" cy="856440"/>
          </a:xfrm>
        </p:grpSpPr>
        <p:sp>
          <p:nvSpPr>
            <p:cNvPr id="69" name="未知"/>
            <p:cNvSpPr/>
            <p:nvPr/>
          </p:nvSpPr>
          <p:spPr>
            <a:xfrm rot="326400">
              <a:off x="1581120" y="468756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rot="326400">
              <a:off x="1121760" y="463032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326400">
              <a:off x="528840" y="458748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326400">
              <a:off x="4320" y="4523760"/>
              <a:ext cx="75276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4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74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未知"/>
          <p:cNvSpPr/>
          <p:nvPr/>
        </p:nvSpPr>
        <p:spPr>
          <a:xfrm>
            <a:off x="-536400" y="4365720"/>
            <a:ext cx="10561320" cy="1655640"/>
          </a:xfrm>
          <a:custGeom>
            <a:avLst/>
            <a:gdLst/>
            <a:ahLst/>
            <a:rect l="l" t="t" r="r" b="b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未知"/>
          <p:cNvSpPr/>
          <p:nvPr/>
        </p:nvSpPr>
        <p:spPr>
          <a:xfrm>
            <a:off x="-466560" y="4365720"/>
            <a:ext cx="7092720" cy="1628640"/>
          </a:xfrm>
          <a:custGeom>
            <a:avLst/>
            <a:gdLst/>
            <a:ahLst/>
            <a:rect l="l" t="t" r="r" b="b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1" name="Cloud"/>
            <p:cNvSpPr/>
            <p:nvPr/>
          </p:nvSpPr>
          <p:spPr>
            <a:xfrm>
              <a:off x="2652120" y="2383920"/>
              <a:ext cx="897120" cy="42804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040"/>
                <a:gd name="textAreaBottom" fmla="*/ 34416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2519280" y="243288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2567520" y="2233440"/>
              <a:ext cx="701280" cy="427680"/>
            </a:xfrm>
            <a:custGeom>
              <a:avLst/>
              <a:gdLst>
                <a:gd name="textAreaLeft" fmla="*/ 96120 w 701280"/>
                <a:gd name="textAreaRight" fmla="*/ 555120 w 701280"/>
                <a:gd name="textAreaTop" fmla="*/ 64440 h 427680"/>
                <a:gd name="textAreaBottom" fmla="*/ 34380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Cloud"/>
            <p:cNvSpPr/>
            <p:nvPr/>
          </p:nvSpPr>
          <p:spPr>
            <a:xfrm>
              <a:off x="2567520" y="2060640"/>
              <a:ext cx="540000" cy="63864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8640"/>
                <a:gd name="textAreaBottom" fmla="*/ 513000 h 6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48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88" name="Cloud"/>
            <p:cNvSpPr/>
            <p:nvPr/>
          </p:nvSpPr>
          <p:spPr>
            <a:xfrm>
              <a:off x="8142840" y="1902600"/>
              <a:ext cx="530280" cy="26604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8092800" y="1809000"/>
              <a:ext cx="414720" cy="26604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0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1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300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7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7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0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0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50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2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10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55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96" name="未知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未知"/>
          <p:cNvSpPr/>
          <p:nvPr/>
        </p:nvSpPr>
        <p:spPr>
          <a:xfrm>
            <a:off x="0" y="4784760"/>
            <a:ext cx="7631280" cy="2073240"/>
          </a:xfrm>
          <a:custGeom>
            <a:avLst/>
            <a:gdLst/>
            <a:ahLst/>
            <a:rect l="l" t="t" r="r" b="b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2"/>
          <p:cNvGrpSpPr/>
          <p:nvPr/>
        </p:nvGrpSpPr>
        <p:grpSpPr>
          <a:xfrm>
            <a:off x="-34920" y="6237360"/>
            <a:ext cx="2547720" cy="647280"/>
            <a:chOff x="-34920" y="6237360"/>
            <a:chExt cx="2547720" cy="647280"/>
          </a:xfrm>
        </p:grpSpPr>
        <p:sp>
          <p:nvSpPr>
            <p:cNvPr id="102" name="未知"/>
            <p:cNvSpPr/>
            <p:nvPr/>
          </p:nvSpPr>
          <p:spPr>
            <a:xfrm>
              <a:off x="1692720" y="625140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1188360" y="623736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541080" y="625140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-34920" y="6237360"/>
              <a:ext cx="82008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67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07" name="Group 68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08" name="未知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73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13" name="未知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78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18" name="未知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83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23" name="未知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88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28" name="未知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未知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/>
            <a:ahLst/>
            <a:rect l="l" t="t" r="r" b="b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4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34" name="Group 95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35" name="未知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0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45" name="未知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10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50" name="未知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15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155" name="未知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20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160" name="未知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25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165" name="未知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130"/>
          <p:cNvGrpSpPr/>
          <p:nvPr/>
        </p:nvGrpSpPr>
        <p:grpSpPr>
          <a:xfrm>
            <a:off x="6585480" y="5155200"/>
            <a:ext cx="367920" cy="367920"/>
            <a:chOff x="6585480" y="5155200"/>
            <a:chExt cx="367920" cy="367920"/>
          </a:xfrm>
        </p:grpSpPr>
        <p:grpSp>
          <p:nvGrpSpPr>
            <p:cNvPr id="170" name="Group 13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1" name="Group 13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2" name="Oval 133"/>
                <p:cNvSpPr/>
                <p:nvPr/>
              </p:nvSpPr>
              <p:spPr>
                <a:xfrm>
                  <a:off x="6588000" y="5298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3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35"/>
              <p:cNvGrpSpPr/>
              <p:nvPr/>
            </p:nvGrpSpPr>
            <p:grpSpPr>
              <a:xfrm>
                <a:off x="6611400" y="5181480"/>
                <a:ext cx="315000" cy="315720"/>
                <a:chOff x="6611400" y="5181480"/>
                <a:chExt cx="315000" cy="315720"/>
              </a:xfrm>
            </p:grpSpPr>
            <p:sp>
              <p:nvSpPr>
                <p:cNvPr id="175" name="Oval 136"/>
                <p:cNvSpPr/>
                <p:nvPr/>
              </p:nvSpPr>
              <p:spPr>
                <a:xfrm rot="2700000">
                  <a:off x="658728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3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38"/>
            <p:cNvGrpSpPr/>
            <p:nvPr/>
          </p:nvGrpSpPr>
          <p:grpSpPr>
            <a:xfrm>
              <a:off x="6585480" y="5155200"/>
              <a:ext cx="367920" cy="367920"/>
              <a:chOff x="6585480" y="5155200"/>
              <a:chExt cx="367920" cy="367920"/>
            </a:xfrm>
          </p:grpSpPr>
          <p:grpSp>
            <p:nvGrpSpPr>
              <p:cNvPr id="178" name="Group 139"/>
              <p:cNvGrpSpPr/>
              <p:nvPr/>
            </p:nvGrpSpPr>
            <p:grpSpPr>
              <a:xfrm>
                <a:off x="6585480" y="5155200"/>
                <a:ext cx="367920" cy="367920"/>
                <a:chOff x="6585480" y="5155200"/>
                <a:chExt cx="367920" cy="367920"/>
              </a:xfrm>
            </p:grpSpPr>
            <p:sp>
              <p:nvSpPr>
                <p:cNvPr id="179" name="Oval 140"/>
                <p:cNvSpPr/>
                <p:nvPr/>
              </p:nvSpPr>
              <p:spPr>
                <a:xfrm rot="1320000">
                  <a:off x="65876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4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42"/>
              <p:cNvGrpSpPr/>
              <p:nvPr/>
            </p:nvGrpSpPr>
            <p:grpSpPr>
              <a:xfrm>
                <a:off x="6585840" y="5156280"/>
                <a:ext cx="366480" cy="366480"/>
                <a:chOff x="6585840" y="5156280"/>
                <a:chExt cx="366480" cy="366480"/>
              </a:xfrm>
            </p:grpSpPr>
            <p:sp>
              <p:nvSpPr>
                <p:cNvPr id="182" name="Oval 143"/>
                <p:cNvSpPr/>
                <p:nvPr/>
              </p:nvSpPr>
              <p:spPr>
                <a:xfrm rot="402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4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Oval 14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46"/>
          <p:cNvGrpSpPr/>
          <p:nvPr/>
        </p:nvGrpSpPr>
        <p:grpSpPr>
          <a:xfrm>
            <a:off x="6082200" y="5226840"/>
            <a:ext cx="367920" cy="367560"/>
            <a:chOff x="6082200" y="5226840"/>
            <a:chExt cx="367920" cy="367560"/>
          </a:xfrm>
        </p:grpSpPr>
        <p:grpSp>
          <p:nvGrpSpPr>
            <p:cNvPr id="186" name="Group 14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87" name="Group 14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88" name="Oval 149"/>
                <p:cNvSpPr/>
                <p:nvPr/>
              </p:nvSpPr>
              <p:spPr>
                <a:xfrm>
                  <a:off x="6084720" y="537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5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51"/>
              <p:cNvGrpSpPr/>
              <p:nvPr/>
            </p:nvGrpSpPr>
            <p:grpSpPr>
              <a:xfrm>
                <a:off x="6108120" y="5253120"/>
                <a:ext cx="315000" cy="315720"/>
                <a:chOff x="6108120" y="5253120"/>
                <a:chExt cx="315000" cy="315720"/>
              </a:xfrm>
            </p:grpSpPr>
            <p:sp>
              <p:nvSpPr>
                <p:cNvPr id="191" name="Oval 152"/>
                <p:cNvSpPr/>
                <p:nvPr/>
              </p:nvSpPr>
              <p:spPr>
                <a:xfrm rot="270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5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154"/>
            <p:cNvGrpSpPr/>
            <p:nvPr/>
          </p:nvGrpSpPr>
          <p:grpSpPr>
            <a:xfrm>
              <a:off x="6082200" y="5226840"/>
              <a:ext cx="367920" cy="367560"/>
              <a:chOff x="6082200" y="5226840"/>
              <a:chExt cx="367920" cy="367560"/>
            </a:xfrm>
          </p:grpSpPr>
          <p:grpSp>
            <p:nvGrpSpPr>
              <p:cNvPr id="194" name="Group 155"/>
              <p:cNvGrpSpPr/>
              <p:nvPr/>
            </p:nvGrpSpPr>
            <p:grpSpPr>
              <a:xfrm>
                <a:off x="6082200" y="5226840"/>
                <a:ext cx="367920" cy="367560"/>
                <a:chOff x="6082200" y="5226840"/>
                <a:chExt cx="367920" cy="367560"/>
              </a:xfrm>
            </p:grpSpPr>
            <p:sp>
              <p:nvSpPr>
                <p:cNvPr id="195" name="Oval 156"/>
                <p:cNvSpPr/>
                <p:nvPr/>
              </p:nvSpPr>
              <p:spPr>
                <a:xfrm rot="1320000">
                  <a:off x="6084360" y="537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5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58"/>
              <p:cNvGrpSpPr/>
              <p:nvPr/>
            </p:nvGrpSpPr>
            <p:grpSpPr>
              <a:xfrm>
                <a:off x="6082560" y="5227920"/>
                <a:ext cx="366480" cy="366120"/>
                <a:chOff x="6082560" y="5227920"/>
                <a:chExt cx="366480" cy="366120"/>
              </a:xfrm>
            </p:grpSpPr>
            <p:sp>
              <p:nvSpPr>
                <p:cNvPr id="198" name="Oval 159"/>
                <p:cNvSpPr/>
                <p:nvPr/>
              </p:nvSpPr>
              <p:spPr>
                <a:xfrm rot="402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6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Oval 16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6657120" y="5587200"/>
            <a:ext cx="367920" cy="367560"/>
            <a:chOff x="6657120" y="5587200"/>
            <a:chExt cx="367920" cy="367560"/>
          </a:xfrm>
        </p:grpSpPr>
        <p:grpSp>
          <p:nvGrpSpPr>
            <p:cNvPr id="202" name="Group 16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03" name="Group 16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04" name="Oval 165"/>
                <p:cNvSpPr/>
                <p:nvPr/>
              </p:nvSpPr>
              <p:spPr>
                <a:xfrm>
                  <a:off x="6659640" y="5730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67"/>
              <p:cNvGrpSpPr/>
              <p:nvPr/>
            </p:nvGrpSpPr>
            <p:grpSpPr>
              <a:xfrm>
                <a:off x="6683040" y="5613480"/>
                <a:ext cx="315000" cy="315720"/>
                <a:chOff x="6683040" y="5613480"/>
                <a:chExt cx="315000" cy="315720"/>
              </a:xfrm>
            </p:grpSpPr>
            <p:sp>
              <p:nvSpPr>
                <p:cNvPr id="207" name="Oval 168"/>
                <p:cNvSpPr/>
                <p:nvPr/>
              </p:nvSpPr>
              <p:spPr>
                <a:xfrm rot="270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6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170"/>
            <p:cNvGrpSpPr/>
            <p:nvPr/>
          </p:nvGrpSpPr>
          <p:grpSpPr>
            <a:xfrm>
              <a:off x="6657120" y="5587200"/>
              <a:ext cx="367920" cy="367560"/>
              <a:chOff x="6657120" y="5587200"/>
              <a:chExt cx="367920" cy="367560"/>
            </a:xfrm>
          </p:grpSpPr>
          <p:grpSp>
            <p:nvGrpSpPr>
              <p:cNvPr id="210" name="Group 171"/>
              <p:cNvGrpSpPr/>
              <p:nvPr/>
            </p:nvGrpSpPr>
            <p:grpSpPr>
              <a:xfrm>
                <a:off x="6657120" y="5587200"/>
                <a:ext cx="367920" cy="367560"/>
                <a:chOff x="6657120" y="5587200"/>
                <a:chExt cx="367920" cy="367560"/>
              </a:xfrm>
            </p:grpSpPr>
            <p:sp>
              <p:nvSpPr>
                <p:cNvPr id="211" name="Oval 172"/>
                <p:cNvSpPr/>
                <p:nvPr/>
              </p:nvSpPr>
              <p:spPr>
                <a:xfrm rot="1320000">
                  <a:off x="6659280" y="573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17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174"/>
              <p:cNvGrpSpPr/>
              <p:nvPr/>
            </p:nvGrpSpPr>
            <p:grpSpPr>
              <a:xfrm>
                <a:off x="6657480" y="5588280"/>
                <a:ext cx="366480" cy="366120"/>
                <a:chOff x="6657480" y="5588280"/>
                <a:chExt cx="366480" cy="366120"/>
              </a:xfrm>
            </p:grpSpPr>
            <p:sp>
              <p:nvSpPr>
                <p:cNvPr id="214" name="Oval 175"/>
                <p:cNvSpPr/>
                <p:nvPr/>
              </p:nvSpPr>
              <p:spPr>
                <a:xfrm rot="402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7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Oval 17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78"/>
          <p:cNvGrpSpPr/>
          <p:nvPr/>
        </p:nvGrpSpPr>
        <p:grpSpPr>
          <a:xfrm>
            <a:off x="7450200" y="5661000"/>
            <a:ext cx="218520" cy="218520"/>
            <a:chOff x="7450200" y="5661000"/>
            <a:chExt cx="218520" cy="218520"/>
          </a:xfrm>
        </p:grpSpPr>
        <p:grpSp>
          <p:nvGrpSpPr>
            <p:cNvPr id="218" name="Group 179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19" name="Group 180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0" name="Oval 181"/>
                <p:cNvSpPr/>
                <p:nvPr/>
              </p:nvSpPr>
              <p:spPr>
                <a:xfrm>
                  <a:off x="745164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2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83"/>
              <p:cNvGrpSpPr/>
              <p:nvPr/>
            </p:nvGrpSpPr>
            <p:grpSpPr>
              <a:xfrm>
                <a:off x="7465680" y="5676480"/>
                <a:ext cx="187560" cy="187560"/>
                <a:chOff x="7465680" y="5676480"/>
                <a:chExt cx="187560" cy="187560"/>
              </a:xfrm>
            </p:grpSpPr>
            <p:sp>
              <p:nvSpPr>
                <p:cNvPr id="223" name="Oval 184"/>
                <p:cNvSpPr/>
                <p:nvPr/>
              </p:nvSpPr>
              <p:spPr>
                <a:xfrm rot="27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85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6"/>
            <p:cNvGrpSpPr/>
            <p:nvPr/>
          </p:nvGrpSpPr>
          <p:grpSpPr>
            <a:xfrm>
              <a:off x="7450200" y="5661000"/>
              <a:ext cx="218520" cy="218520"/>
              <a:chOff x="7450200" y="5661000"/>
              <a:chExt cx="218520" cy="218520"/>
            </a:xfrm>
          </p:grpSpPr>
          <p:grpSp>
            <p:nvGrpSpPr>
              <p:cNvPr id="226" name="Group 187"/>
              <p:cNvGrpSpPr/>
              <p:nvPr/>
            </p:nvGrpSpPr>
            <p:grpSpPr>
              <a:xfrm>
                <a:off x="7450200" y="5661000"/>
                <a:ext cx="218520" cy="218520"/>
                <a:chOff x="7450200" y="5661000"/>
                <a:chExt cx="218520" cy="218520"/>
              </a:xfrm>
            </p:grpSpPr>
            <p:sp>
              <p:nvSpPr>
                <p:cNvPr id="227" name="Oval 188"/>
                <p:cNvSpPr/>
                <p:nvPr/>
              </p:nvSpPr>
              <p:spPr>
                <a:xfrm rot="132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89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190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0" name="Oval 191"/>
                <p:cNvSpPr/>
                <p:nvPr/>
              </p:nvSpPr>
              <p:spPr>
                <a:xfrm rot="4020000">
                  <a:off x="745092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92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Oval 193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94"/>
          <p:cNvGrpSpPr/>
          <p:nvPr/>
        </p:nvGrpSpPr>
        <p:grpSpPr>
          <a:xfrm>
            <a:off x="4421880" y="5371200"/>
            <a:ext cx="367920" cy="367920"/>
            <a:chOff x="4421880" y="5371200"/>
            <a:chExt cx="367920" cy="367920"/>
          </a:xfrm>
        </p:grpSpPr>
        <p:grpSp>
          <p:nvGrpSpPr>
            <p:cNvPr id="234" name="Group 195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35" name="Group 196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36" name="Oval 197"/>
                <p:cNvSpPr/>
                <p:nvPr/>
              </p:nvSpPr>
              <p:spPr>
                <a:xfrm>
                  <a:off x="4424400" y="551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98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199"/>
              <p:cNvGrpSpPr/>
              <p:nvPr/>
            </p:nvGrpSpPr>
            <p:grpSpPr>
              <a:xfrm>
                <a:off x="4447800" y="5397480"/>
                <a:ext cx="315000" cy="315720"/>
                <a:chOff x="4447800" y="5397480"/>
                <a:chExt cx="315000" cy="315720"/>
              </a:xfrm>
            </p:grpSpPr>
            <p:sp>
              <p:nvSpPr>
                <p:cNvPr id="239" name="Oval 200"/>
                <p:cNvSpPr/>
                <p:nvPr/>
              </p:nvSpPr>
              <p:spPr>
                <a:xfrm rot="2700000">
                  <a:off x="442368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201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202"/>
            <p:cNvGrpSpPr/>
            <p:nvPr/>
          </p:nvGrpSpPr>
          <p:grpSpPr>
            <a:xfrm>
              <a:off x="4421880" y="5371200"/>
              <a:ext cx="367920" cy="367920"/>
              <a:chOff x="4421880" y="5371200"/>
              <a:chExt cx="367920" cy="367920"/>
            </a:xfrm>
          </p:grpSpPr>
          <p:grpSp>
            <p:nvGrpSpPr>
              <p:cNvPr id="242" name="Group 203"/>
              <p:cNvGrpSpPr/>
              <p:nvPr/>
            </p:nvGrpSpPr>
            <p:grpSpPr>
              <a:xfrm>
                <a:off x="4421880" y="5371200"/>
                <a:ext cx="367920" cy="367920"/>
                <a:chOff x="4421880" y="5371200"/>
                <a:chExt cx="367920" cy="367920"/>
              </a:xfrm>
            </p:grpSpPr>
            <p:sp>
              <p:nvSpPr>
                <p:cNvPr id="243" name="Oval 204"/>
                <p:cNvSpPr/>
                <p:nvPr/>
              </p:nvSpPr>
              <p:spPr>
                <a:xfrm rot="1320000">
                  <a:off x="442404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05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06"/>
              <p:cNvGrpSpPr/>
              <p:nvPr/>
            </p:nvGrpSpPr>
            <p:grpSpPr>
              <a:xfrm>
                <a:off x="4422240" y="5372280"/>
                <a:ext cx="366480" cy="366480"/>
                <a:chOff x="4422240" y="5372280"/>
                <a:chExt cx="366480" cy="366480"/>
              </a:xfrm>
            </p:grpSpPr>
            <p:sp>
              <p:nvSpPr>
                <p:cNvPr id="246" name="Oval 207"/>
                <p:cNvSpPr/>
                <p:nvPr/>
              </p:nvSpPr>
              <p:spPr>
                <a:xfrm rot="402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08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Oval 209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0"/>
          <p:cNvGrpSpPr/>
          <p:nvPr/>
        </p:nvGrpSpPr>
        <p:grpSpPr>
          <a:xfrm>
            <a:off x="3989880" y="5514120"/>
            <a:ext cx="367920" cy="367920"/>
            <a:chOff x="3989880" y="5514120"/>
            <a:chExt cx="367920" cy="367920"/>
          </a:xfrm>
        </p:grpSpPr>
        <p:grpSp>
          <p:nvGrpSpPr>
            <p:cNvPr id="250" name="Group 211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1" name="Group 212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2" name="Oval 213"/>
                <p:cNvSpPr/>
                <p:nvPr/>
              </p:nvSpPr>
              <p:spPr>
                <a:xfrm>
                  <a:off x="3992400" y="565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214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15"/>
              <p:cNvGrpSpPr/>
              <p:nvPr/>
            </p:nvGrpSpPr>
            <p:grpSpPr>
              <a:xfrm>
                <a:off x="4015800" y="5540400"/>
                <a:ext cx="315000" cy="315720"/>
                <a:chOff x="4015800" y="5540400"/>
                <a:chExt cx="315000" cy="315720"/>
              </a:xfrm>
            </p:grpSpPr>
            <p:sp>
              <p:nvSpPr>
                <p:cNvPr id="255" name="Oval 216"/>
                <p:cNvSpPr/>
                <p:nvPr/>
              </p:nvSpPr>
              <p:spPr>
                <a:xfrm rot="2700000">
                  <a:off x="399168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17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218"/>
            <p:cNvGrpSpPr/>
            <p:nvPr/>
          </p:nvGrpSpPr>
          <p:grpSpPr>
            <a:xfrm>
              <a:off x="3989880" y="5514120"/>
              <a:ext cx="367920" cy="367920"/>
              <a:chOff x="3989880" y="5514120"/>
              <a:chExt cx="367920" cy="367920"/>
            </a:xfrm>
          </p:grpSpPr>
          <p:grpSp>
            <p:nvGrpSpPr>
              <p:cNvPr id="258" name="Group 219"/>
              <p:cNvGrpSpPr/>
              <p:nvPr/>
            </p:nvGrpSpPr>
            <p:grpSpPr>
              <a:xfrm>
                <a:off x="3989880" y="5514120"/>
                <a:ext cx="367920" cy="367920"/>
                <a:chOff x="3989880" y="5514120"/>
                <a:chExt cx="367920" cy="367920"/>
              </a:xfrm>
            </p:grpSpPr>
            <p:sp>
              <p:nvSpPr>
                <p:cNvPr id="259" name="Oval 220"/>
                <p:cNvSpPr/>
                <p:nvPr/>
              </p:nvSpPr>
              <p:spPr>
                <a:xfrm rot="1320000">
                  <a:off x="399204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21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22"/>
              <p:cNvGrpSpPr/>
              <p:nvPr/>
            </p:nvGrpSpPr>
            <p:grpSpPr>
              <a:xfrm>
                <a:off x="3990240" y="5515200"/>
                <a:ext cx="366480" cy="366480"/>
                <a:chOff x="3990240" y="5515200"/>
                <a:chExt cx="366480" cy="366480"/>
              </a:xfrm>
            </p:grpSpPr>
            <p:sp>
              <p:nvSpPr>
                <p:cNvPr id="262" name="Oval 223"/>
                <p:cNvSpPr/>
                <p:nvPr/>
              </p:nvSpPr>
              <p:spPr>
                <a:xfrm rot="402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24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225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26"/>
          <p:cNvGrpSpPr/>
          <p:nvPr/>
        </p:nvGrpSpPr>
        <p:grpSpPr>
          <a:xfrm>
            <a:off x="3705120" y="5805720"/>
            <a:ext cx="218160" cy="218520"/>
            <a:chOff x="3705120" y="5805720"/>
            <a:chExt cx="218160" cy="218520"/>
          </a:xfrm>
        </p:grpSpPr>
        <p:grpSp>
          <p:nvGrpSpPr>
            <p:cNvPr id="266" name="Group 227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67" name="Group 228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68" name="Oval 229"/>
                <p:cNvSpPr/>
                <p:nvPr/>
              </p:nvSpPr>
              <p:spPr>
                <a:xfrm>
                  <a:off x="3706920" y="589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30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31"/>
              <p:cNvGrpSpPr/>
              <p:nvPr/>
            </p:nvGrpSpPr>
            <p:grpSpPr>
              <a:xfrm>
                <a:off x="3720600" y="5821560"/>
                <a:ext cx="187560" cy="187560"/>
                <a:chOff x="3720600" y="5821560"/>
                <a:chExt cx="187560" cy="187560"/>
              </a:xfrm>
            </p:grpSpPr>
            <p:sp>
              <p:nvSpPr>
                <p:cNvPr id="271" name="Oval 232"/>
                <p:cNvSpPr/>
                <p:nvPr/>
              </p:nvSpPr>
              <p:spPr>
                <a:xfrm rot="2700000">
                  <a:off x="370620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3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Group 234"/>
            <p:cNvGrpSpPr/>
            <p:nvPr/>
          </p:nvGrpSpPr>
          <p:grpSpPr>
            <a:xfrm>
              <a:off x="3705120" y="5805720"/>
              <a:ext cx="218160" cy="218520"/>
              <a:chOff x="3705120" y="5805720"/>
              <a:chExt cx="218160" cy="218520"/>
            </a:xfrm>
          </p:grpSpPr>
          <p:grpSp>
            <p:nvGrpSpPr>
              <p:cNvPr id="274" name="Group 235"/>
              <p:cNvGrpSpPr/>
              <p:nvPr/>
            </p:nvGrpSpPr>
            <p:grpSpPr>
              <a:xfrm>
                <a:off x="3705120" y="5805720"/>
                <a:ext cx="218160" cy="218160"/>
                <a:chOff x="3705120" y="5805720"/>
                <a:chExt cx="218160" cy="218160"/>
              </a:xfrm>
            </p:grpSpPr>
            <p:sp>
              <p:nvSpPr>
                <p:cNvPr id="275" name="Oval 236"/>
                <p:cNvSpPr/>
                <p:nvPr/>
              </p:nvSpPr>
              <p:spPr>
                <a:xfrm rot="1320000">
                  <a:off x="3706200" y="589104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37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238"/>
              <p:cNvGrpSpPr/>
              <p:nvPr/>
            </p:nvGrpSpPr>
            <p:grpSpPr>
              <a:xfrm>
                <a:off x="3705480" y="5806440"/>
                <a:ext cx="217800" cy="217800"/>
                <a:chOff x="3705480" y="5806440"/>
                <a:chExt cx="217800" cy="217800"/>
              </a:xfrm>
            </p:grpSpPr>
            <p:sp>
              <p:nvSpPr>
                <p:cNvPr id="278" name="Oval 239"/>
                <p:cNvSpPr/>
                <p:nvPr/>
              </p:nvSpPr>
              <p:spPr>
                <a:xfrm rot="4020000">
                  <a:off x="370584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40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Oval 241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42"/>
          <p:cNvGrpSpPr/>
          <p:nvPr/>
        </p:nvGrpSpPr>
        <p:grpSpPr>
          <a:xfrm>
            <a:off x="8458200" y="5300640"/>
            <a:ext cx="218520" cy="218520"/>
            <a:chOff x="8458200" y="5300640"/>
            <a:chExt cx="218520" cy="218520"/>
          </a:xfrm>
        </p:grpSpPr>
        <p:grpSp>
          <p:nvGrpSpPr>
            <p:cNvPr id="282" name="Group 243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83" name="Group 244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84" name="Oval 245"/>
                <p:cNvSpPr/>
                <p:nvPr/>
              </p:nvSpPr>
              <p:spPr>
                <a:xfrm>
                  <a:off x="8459640" y="538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246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47"/>
              <p:cNvGrpSpPr/>
              <p:nvPr/>
            </p:nvGrpSpPr>
            <p:grpSpPr>
              <a:xfrm>
                <a:off x="8473680" y="5316120"/>
                <a:ext cx="187560" cy="187560"/>
                <a:chOff x="8473680" y="5316120"/>
                <a:chExt cx="187560" cy="187560"/>
              </a:xfrm>
            </p:grpSpPr>
            <p:sp>
              <p:nvSpPr>
                <p:cNvPr id="287" name="Oval 248"/>
                <p:cNvSpPr/>
                <p:nvPr/>
              </p:nvSpPr>
              <p:spPr>
                <a:xfrm rot="27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49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250"/>
            <p:cNvGrpSpPr/>
            <p:nvPr/>
          </p:nvGrpSpPr>
          <p:grpSpPr>
            <a:xfrm>
              <a:off x="8458200" y="5300640"/>
              <a:ext cx="218520" cy="218520"/>
              <a:chOff x="8458200" y="5300640"/>
              <a:chExt cx="218520" cy="218520"/>
            </a:xfrm>
          </p:grpSpPr>
          <p:grpSp>
            <p:nvGrpSpPr>
              <p:cNvPr id="290" name="Group 251"/>
              <p:cNvGrpSpPr/>
              <p:nvPr/>
            </p:nvGrpSpPr>
            <p:grpSpPr>
              <a:xfrm>
                <a:off x="8458200" y="5300640"/>
                <a:ext cx="218520" cy="218520"/>
                <a:chOff x="8458200" y="5300640"/>
                <a:chExt cx="218520" cy="218520"/>
              </a:xfrm>
            </p:grpSpPr>
            <p:sp>
              <p:nvSpPr>
                <p:cNvPr id="291" name="Oval 252"/>
                <p:cNvSpPr/>
                <p:nvPr/>
              </p:nvSpPr>
              <p:spPr>
                <a:xfrm rot="132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3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54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294" name="Oval 255"/>
                <p:cNvSpPr/>
                <p:nvPr/>
              </p:nvSpPr>
              <p:spPr>
                <a:xfrm rot="4020000">
                  <a:off x="845892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56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Oval 257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8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298" name="Group 259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99" name="Group 260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0" name="Oval 261"/>
                <p:cNvSpPr/>
                <p:nvPr/>
              </p:nvSpPr>
              <p:spPr>
                <a:xfrm>
                  <a:off x="5146560" y="553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262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263"/>
              <p:cNvGrpSpPr/>
              <p:nvPr/>
            </p:nvGrpSpPr>
            <p:grpSpPr>
              <a:xfrm>
                <a:off x="5160960" y="5460840"/>
                <a:ext cx="187200" cy="187560"/>
                <a:chOff x="5160960" y="5460840"/>
                <a:chExt cx="187200" cy="187560"/>
              </a:xfrm>
            </p:grpSpPr>
            <p:sp>
              <p:nvSpPr>
                <p:cNvPr id="303" name="Oval 264"/>
                <p:cNvSpPr/>
                <p:nvPr/>
              </p:nvSpPr>
              <p:spPr>
                <a:xfrm rot="27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65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266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06" name="Group 267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07" name="Oval 268"/>
                <p:cNvSpPr/>
                <p:nvPr/>
              </p:nvSpPr>
              <p:spPr>
                <a:xfrm rot="1320000">
                  <a:off x="5146200" y="553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69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270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0" name="Oval 271"/>
                <p:cNvSpPr/>
                <p:nvPr/>
              </p:nvSpPr>
              <p:spPr>
                <a:xfrm rot="40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2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273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74"/>
          <p:cNvGrpSpPr/>
          <p:nvPr/>
        </p:nvGrpSpPr>
        <p:grpSpPr>
          <a:xfrm>
            <a:off x="8097840" y="5229360"/>
            <a:ext cx="218520" cy="218520"/>
            <a:chOff x="8097840" y="5229360"/>
            <a:chExt cx="218520" cy="218520"/>
          </a:xfrm>
        </p:grpSpPr>
        <p:grpSp>
          <p:nvGrpSpPr>
            <p:cNvPr id="314" name="Group 275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15" name="Group 276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16" name="Oval 277"/>
                <p:cNvSpPr/>
                <p:nvPr/>
              </p:nvSpPr>
              <p:spPr>
                <a:xfrm>
                  <a:off x="8099280" y="5314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278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79"/>
              <p:cNvGrpSpPr/>
              <p:nvPr/>
            </p:nvGrpSpPr>
            <p:grpSpPr>
              <a:xfrm>
                <a:off x="8113320" y="5244840"/>
                <a:ext cx="187560" cy="187560"/>
                <a:chOff x="8113320" y="5244840"/>
                <a:chExt cx="187560" cy="187560"/>
              </a:xfrm>
            </p:grpSpPr>
            <p:sp>
              <p:nvSpPr>
                <p:cNvPr id="319" name="Oval 280"/>
                <p:cNvSpPr/>
                <p:nvPr/>
              </p:nvSpPr>
              <p:spPr>
                <a:xfrm rot="27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81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282"/>
            <p:cNvGrpSpPr/>
            <p:nvPr/>
          </p:nvGrpSpPr>
          <p:grpSpPr>
            <a:xfrm>
              <a:off x="8097840" y="5229360"/>
              <a:ext cx="218520" cy="218520"/>
              <a:chOff x="8097840" y="5229360"/>
              <a:chExt cx="218520" cy="218520"/>
            </a:xfrm>
          </p:grpSpPr>
          <p:grpSp>
            <p:nvGrpSpPr>
              <p:cNvPr id="322" name="Group 283"/>
              <p:cNvGrpSpPr/>
              <p:nvPr/>
            </p:nvGrpSpPr>
            <p:grpSpPr>
              <a:xfrm>
                <a:off x="8097840" y="5229360"/>
                <a:ext cx="218520" cy="218520"/>
                <a:chOff x="8097840" y="5229360"/>
                <a:chExt cx="218520" cy="218520"/>
              </a:xfrm>
            </p:grpSpPr>
            <p:sp>
              <p:nvSpPr>
                <p:cNvPr id="323" name="Oval 284"/>
                <p:cNvSpPr/>
                <p:nvPr/>
              </p:nvSpPr>
              <p:spPr>
                <a:xfrm rot="132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285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86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26" name="Oval 287"/>
                <p:cNvSpPr/>
                <p:nvPr/>
              </p:nvSpPr>
              <p:spPr>
                <a:xfrm rot="4020000">
                  <a:off x="809856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288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Oval 289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90"/>
          <p:cNvGrpSpPr/>
          <p:nvPr/>
        </p:nvGrpSpPr>
        <p:grpSpPr>
          <a:xfrm>
            <a:off x="5650200" y="5372280"/>
            <a:ext cx="218160" cy="218520"/>
            <a:chOff x="5650200" y="5372280"/>
            <a:chExt cx="218160" cy="218520"/>
          </a:xfrm>
        </p:grpSpPr>
        <p:grpSp>
          <p:nvGrpSpPr>
            <p:cNvPr id="330" name="Group 291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1" name="Group 292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2" name="Oval 293"/>
                <p:cNvSpPr/>
                <p:nvPr/>
              </p:nvSpPr>
              <p:spPr>
                <a:xfrm>
                  <a:off x="565164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94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95"/>
              <p:cNvGrpSpPr/>
              <p:nvPr/>
            </p:nvGrpSpPr>
            <p:grpSpPr>
              <a:xfrm>
                <a:off x="5665320" y="5388120"/>
                <a:ext cx="187200" cy="187560"/>
                <a:chOff x="5665320" y="5388120"/>
                <a:chExt cx="187200" cy="187560"/>
              </a:xfrm>
            </p:grpSpPr>
            <p:sp>
              <p:nvSpPr>
                <p:cNvPr id="335" name="Oval 296"/>
                <p:cNvSpPr/>
                <p:nvPr/>
              </p:nvSpPr>
              <p:spPr>
                <a:xfrm rot="2700000">
                  <a:off x="5650920" y="5457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297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298"/>
            <p:cNvGrpSpPr/>
            <p:nvPr/>
          </p:nvGrpSpPr>
          <p:grpSpPr>
            <a:xfrm>
              <a:off x="5650200" y="5372280"/>
              <a:ext cx="218160" cy="218520"/>
              <a:chOff x="5650200" y="5372280"/>
              <a:chExt cx="218160" cy="218520"/>
            </a:xfrm>
          </p:grpSpPr>
          <p:grpSp>
            <p:nvGrpSpPr>
              <p:cNvPr id="338" name="Group 299"/>
              <p:cNvGrpSpPr/>
              <p:nvPr/>
            </p:nvGrpSpPr>
            <p:grpSpPr>
              <a:xfrm>
                <a:off x="5650200" y="5372280"/>
                <a:ext cx="218160" cy="218520"/>
                <a:chOff x="5650200" y="5372280"/>
                <a:chExt cx="218160" cy="218520"/>
              </a:xfrm>
            </p:grpSpPr>
            <p:sp>
              <p:nvSpPr>
                <p:cNvPr id="339" name="Oval 300"/>
                <p:cNvSpPr/>
                <p:nvPr/>
              </p:nvSpPr>
              <p:spPr>
                <a:xfrm rot="1320000">
                  <a:off x="565128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301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302"/>
              <p:cNvGrpSpPr/>
              <p:nvPr/>
            </p:nvGrpSpPr>
            <p:grpSpPr>
              <a:xfrm>
                <a:off x="5650200" y="5373000"/>
                <a:ext cx="217800" cy="217800"/>
                <a:chOff x="5650200" y="5373000"/>
                <a:chExt cx="217800" cy="217800"/>
              </a:xfrm>
            </p:grpSpPr>
            <p:sp>
              <p:nvSpPr>
                <p:cNvPr id="342" name="Oval 303"/>
                <p:cNvSpPr/>
                <p:nvPr/>
              </p:nvSpPr>
              <p:spPr>
                <a:xfrm rot="4020000">
                  <a:off x="565056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04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Oval 305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06"/>
          <p:cNvGrpSpPr/>
          <p:nvPr/>
        </p:nvGrpSpPr>
        <p:grpSpPr>
          <a:xfrm>
            <a:off x="7595280" y="6021720"/>
            <a:ext cx="146160" cy="146880"/>
            <a:chOff x="7595280" y="6021720"/>
            <a:chExt cx="146160" cy="146880"/>
          </a:xfrm>
        </p:grpSpPr>
        <p:grpSp>
          <p:nvGrpSpPr>
            <p:cNvPr id="346" name="Group 307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47" name="Group 308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48" name="Oval 309"/>
                <p:cNvSpPr/>
                <p:nvPr/>
              </p:nvSpPr>
              <p:spPr>
                <a:xfrm>
                  <a:off x="7596360" y="6078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310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311"/>
              <p:cNvGrpSpPr/>
              <p:nvPr/>
            </p:nvGrpSpPr>
            <p:grpSpPr>
              <a:xfrm>
                <a:off x="7605360" y="6032520"/>
                <a:ext cx="125280" cy="126000"/>
                <a:chOff x="7605360" y="6032520"/>
                <a:chExt cx="125280" cy="126000"/>
              </a:xfrm>
            </p:grpSpPr>
            <p:sp>
              <p:nvSpPr>
                <p:cNvPr id="351" name="Oval 312"/>
                <p:cNvSpPr/>
                <p:nvPr/>
              </p:nvSpPr>
              <p:spPr>
                <a:xfrm rot="2700000">
                  <a:off x="7595280" y="607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313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Group 314"/>
            <p:cNvGrpSpPr/>
            <p:nvPr/>
          </p:nvGrpSpPr>
          <p:grpSpPr>
            <a:xfrm>
              <a:off x="7595280" y="6021720"/>
              <a:ext cx="146160" cy="146880"/>
              <a:chOff x="7595280" y="6021720"/>
              <a:chExt cx="146160" cy="146880"/>
            </a:xfrm>
          </p:grpSpPr>
          <p:grpSp>
            <p:nvGrpSpPr>
              <p:cNvPr id="354" name="Group 315"/>
              <p:cNvGrpSpPr/>
              <p:nvPr/>
            </p:nvGrpSpPr>
            <p:grpSpPr>
              <a:xfrm>
                <a:off x="7595280" y="6021720"/>
                <a:ext cx="146160" cy="146520"/>
                <a:chOff x="7595280" y="6021720"/>
                <a:chExt cx="146160" cy="146520"/>
              </a:xfrm>
            </p:grpSpPr>
            <p:sp>
              <p:nvSpPr>
                <p:cNvPr id="355" name="Oval 316"/>
                <p:cNvSpPr/>
                <p:nvPr/>
              </p:nvSpPr>
              <p:spPr>
                <a:xfrm rot="1320000">
                  <a:off x="759600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317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318"/>
              <p:cNvGrpSpPr/>
              <p:nvPr/>
            </p:nvGrpSpPr>
            <p:grpSpPr>
              <a:xfrm>
                <a:off x="7595280" y="6022440"/>
                <a:ext cx="145800" cy="146160"/>
                <a:chOff x="7595280" y="6022440"/>
                <a:chExt cx="145800" cy="146160"/>
              </a:xfrm>
            </p:grpSpPr>
            <p:sp>
              <p:nvSpPr>
                <p:cNvPr id="358" name="Oval 319"/>
                <p:cNvSpPr/>
                <p:nvPr/>
              </p:nvSpPr>
              <p:spPr>
                <a:xfrm rot="4020000">
                  <a:off x="7595280" y="6078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320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Oval 321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22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2" name="Group 323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63" name="Group 324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64" name="Oval 325"/>
                <p:cNvSpPr/>
                <p:nvPr/>
              </p:nvSpPr>
              <p:spPr>
                <a:xfrm>
                  <a:off x="3851280" y="62236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326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Group 327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67" name="Oval 328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329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Group 330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0" name="Group 331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1" name="Oval 332"/>
                <p:cNvSpPr/>
                <p:nvPr/>
              </p:nvSpPr>
              <p:spPr>
                <a:xfrm rot="132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33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334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74" name="Oval 335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336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Oval 337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38"/>
          <p:cNvGrpSpPr/>
          <p:nvPr/>
        </p:nvGrpSpPr>
        <p:grpSpPr>
          <a:xfrm>
            <a:off x="8603280" y="5661360"/>
            <a:ext cx="146160" cy="146880"/>
            <a:chOff x="8603280" y="5661360"/>
            <a:chExt cx="146160" cy="146880"/>
          </a:xfrm>
        </p:grpSpPr>
        <p:grpSp>
          <p:nvGrpSpPr>
            <p:cNvPr id="378" name="Group 339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79" name="Group 340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0" name="Oval 341"/>
                <p:cNvSpPr/>
                <p:nvPr/>
              </p:nvSpPr>
              <p:spPr>
                <a:xfrm>
                  <a:off x="8604360" y="571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42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343"/>
              <p:cNvGrpSpPr/>
              <p:nvPr/>
            </p:nvGrpSpPr>
            <p:grpSpPr>
              <a:xfrm>
                <a:off x="8613360" y="5672160"/>
                <a:ext cx="125280" cy="126000"/>
                <a:chOff x="8613360" y="5672160"/>
                <a:chExt cx="125280" cy="126000"/>
              </a:xfrm>
            </p:grpSpPr>
            <p:sp>
              <p:nvSpPr>
                <p:cNvPr id="383" name="Oval 344"/>
                <p:cNvSpPr/>
                <p:nvPr/>
              </p:nvSpPr>
              <p:spPr>
                <a:xfrm rot="2700000">
                  <a:off x="8603280" y="571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45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346"/>
            <p:cNvGrpSpPr/>
            <p:nvPr/>
          </p:nvGrpSpPr>
          <p:grpSpPr>
            <a:xfrm>
              <a:off x="8603280" y="5661360"/>
              <a:ext cx="146160" cy="146880"/>
              <a:chOff x="8603280" y="5661360"/>
              <a:chExt cx="146160" cy="146880"/>
            </a:xfrm>
          </p:grpSpPr>
          <p:grpSp>
            <p:nvGrpSpPr>
              <p:cNvPr id="386" name="Group 347"/>
              <p:cNvGrpSpPr/>
              <p:nvPr/>
            </p:nvGrpSpPr>
            <p:grpSpPr>
              <a:xfrm>
                <a:off x="8603280" y="5661360"/>
                <a:ext cx="146160" cy="146520"/>
                <a:chOff x="8603280" y="5661360"/>
                <a:chExt cx="146160" cy="146520"/>
              </a:xfrm>
            </p:grpSpPr>
            <p:sp>
              <p:nvSpPr>
                <p:cNvPr id="387" name="Oval 348"/>
                <p:cNvSpPr/>
                <p:nvPr/>
              </p:nvSpPr>
              <p:spPr>
                <a:xfrm rot="1320000">
                  <a:off x="860400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349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350"/>
              <p:cNvGrpSpPr/>
              <p:nvPr/>
            </p:nvGrpSpPr>
            <p:grpSpPr>
              <a:xfrm>
                <a:off x="8603280" y="5662080"/>
                <a:ext cx="145800" cy="146160"/>
                <a:chOff x="8603280" y="5662080"/>
                <a:chExt cx="145800" cy="146160"/>
              </a:xfrm>
            </p:grpSpPr>
            <p:sp>
              <p:nvSpPr>
                <p:cNvPr id="390" name="Oval 351"/>
                <p:cNvSpPr/>
                <p:nvPr/>
              </p:nvSpPr>
              <p:spPr>
                <a:xfrm rot="4020000">
                  <a:off x="8603280" y="571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352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Oval 353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54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394" name="Group 355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395" name="Group 356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396" name="Oval 357"/>
                <p:cNvSpPr/>
                <p:nvPr/>
              </p:nvSpPr>
              <p:spPr>
                <a:xfrm>
                  <a:off x="5291280" y="586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358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359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399" name="Oval 360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361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1" name="Group 362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2" name="Group 363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03" name="Oval 364"/>
                <p:cNvSpPr/>
                <p:nvPr/>
              </p:nvSpPr>
              <p:spPr>
                <a:xfrm rot="132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365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366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06" name="Oval 367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68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Oval 369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70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0" name="Group 371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1" name="Group 372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2" name="Oval 373"/>
                <p:cNvSpPr/>
                <p:nvPr/>
              </p:nvSpPr>
              <p:spPr>
                <a:xfrm>
                  <a:off x="8244000" y="5647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74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375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15" name="Oval 376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77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378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18" name="Group 379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19" name="Oval 380"/>
                <p:cNvSpPr/>
                <p:nvPr/>
              </p:nvSpPr>
              <p:spPr>
                <a:xfrm rot="132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381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382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2" name="Oval 383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384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Oval 385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86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26" name="Group 387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27" name="Group 388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28" name="Oval 389"/>
                <p:cNvSpPr/>
                <p:nvPr/>
              </p:nvSpPr>
              <p:spPr>
                <a:xfrm>
                  <a:off x="5362560" y="550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390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391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1" name="Oval 392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393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394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34" name="Group 395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35" name="Oval 396"/>
                <p:cNvSpPr/>
                <p:nvPr/>
              </p:nvSpPr>
              <p:spPr>
                <a:xfrm rot="132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397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398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38" name="Oval 399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00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Oval 401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2"/>
          <p:cNvGrpSpPr/>
          <p:nvPr/>
        </p:nvGrpSpPr>
        <p:grpSpPr>
          <a:xfrm>
            <a:off x="1400760" y="5658480"/>
            <a:ext cx="367920" cy="367920"/>
            <a:chOff x="1400760" y="5658480"/>
            <a:chExt cx="367920" cy="367920"/>
          </a:xfrm>
        </p:grpSpPr>
        <p:grpSp>
          <p:nvGrpSpPr>
            <p:cNvPr id="442" name="Group 403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43" name="Group 404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44" name="Oval 405"/>
                <p:cNvSpPr/>
                <p:nvPr/>
              </p:nvSpPr>
              <p:spPr>
                <a:xfrm>
                  <a:off x="1403280" y="580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406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407"/>
              <p:cNvGrpSpPr/>
              <p:nvPr/>
            </p:nvGrpSpPr>
            <p:grpSpPr>
              <a:xfrm>
                <a:off x="1426680" y="5684760"/>
                <a:ext cx="315000" cy="315720"/>
                <a:chOff x="1426680" y="5684760"/>
                <a:chExt cx="315000" cy="315720"/>
              </a:xfrm>
            </p:grpSpPr>
            <p:sp>
              <p:nvSpPr>
                <p:cNvPr id="447" name="Oval 408"/>
                <p:cNvSpPr/>
                <p:nvPr/>
              </p:nvSpPr>
              <p:spPr>
                <a:xfrm rot="2700000">
                  <a:off x="14025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09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410"/>
            <p:cNvGrpSpPr/>
            <p:nvPr/>
          </p:nvGrpSpPr>
          <p:grpSpPr>
            <a:xfrm>
              <a:off x="1400760" y="5658480"/>
              <a:ext cx="367920" cy="367920"/>
              <a:chOff x="1400760" y="5658480"/>
              <a:chExt cx="367920" cy="367920"/>
            </a:xfrm>
          </p:grpSpPr>
          <p:grpSp>
            <p:nvGrpSpPr>
              <p:cNvPr id="450" name="Group 411"/>
              <p:cNvGrpSpPr/>
              <p:nvPr/>
            </p:nvGrpSpPr>
            <p:grpSpPr>
              <a:xfrm>
                <a:off x="1400760" y="5658480"/>
                <a:ext cx="367920" cy="367920"/>
                <a:chOff x="1400760" y="5658480"/>
                <a:chExt cx="367920" cy="367920"/>
              </a:xfrm>
            </p:grpSpPr>
            <p:sp>
              <p:nvSpPr>
                <p:cNvPr id="451" name="Oval 412"/>
                <p:cNvSpPr/>
                <p:nvPr/>
              </p:nvSpPr>
              <p:spPr>
                <a:xfrm rot="1320000">
                  <a:off x="14029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413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14"/>
              <p:cNvGrpSpPr/>
              <p:nvPr/>
            </p:nvGrpSpPr>
            <p:grpSpPr>
              <a:xfrm>
                <a:off x="1401120" y="5659560"/>
                <a:ext cx="366480" cy="366480"/>
                <a:chOff x="1401120" y="5659560"/>
                <a:chExt cx="366480" cy="366480"/>
              </a:xfrm>
            </p:grpSpPr>
            <p:sp>
              <p:nvSpPr>
                <p:cNvPr id="454" name="Oval 415"/>
                <p:cNvSpPr/>
                <p:nvPr/>
              </p:nvSpPr>
              <p:spPr>
                <a:xfrm rot="402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416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Oval 417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18"/>
          <p:cNvGrpSpPr/>
          <p:nvPr/>
        </p:nvGrpSpPr>
        <p:grpSpPr>
          <a:xfrm>
            <a:off x="2193120" y="5659920"/>
            <a:ext cx="367560" cy="367920"/>
            <a:chOff x="2193120" y="5659920"/>
            <a:chExt cx="367560" cy="367920"/>
          </a:xfrm>
        </p:grpSpPr>
        <p:grpSp>
          <p:nvGrpSpPr>
            <p:cNvPr id="458" name="Group 419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59" name="Group 420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0" name="Oval 421"/>
                <p:cNvSpPr/>
                <p:nvPr/>
              </p:nvSpPr>
              <p:spPr>
                <a:xfrm>
                  <a:off x="2195640" y="58035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422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423"/>
              <p:cNvGrpSpPr/>
              <p:nvPr/>
            </p:nvGrpSpPr>
            <p:grpSpPr>
              <a:xfrm>
                <a:off x="2219040" y="5686200"/>
                <a:ext cx="315000" cy="315720"/>
                <a:chOff x="2219040" y="5686200"/>
                <a:chExt cx="315000" cy="315720"/>
              </a:xfrm>
            </p:grpSpPr>
            <p:sp>
              <p:nvSpPr>
                <p:cNvPr id="463" name="Oval 424"/>
                <p:cNvSpPr/>
                <p:nvPr/>
              </p:nvSpPr>
              <p:spPr>
                <a:xfrm rot="2700000">
                  <a:off x="2194920" y="580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425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Group 426"/>
            <p:cNvGrpSpPr/>
            <p:nvPr/>
          </p:nvGrpSpPr>
          <p:grpSpPr>
            <a:xfrm>
              <a:off x="2193120" y="5659920"/>
              <a:ext cx="367560" cy="367920"/>
              <a:chOff x="2193120" y="5659920"/>
              <a:chExt cx="367560" cy="367920"/>
            </a:xfrm>
          </p:grpSpPr>
          <p:grpSp>
            <p:nvGrpSpPr>
              <p:cNvPr id="466" name="Group 427"/>
              <p:cNvGrpSpPr/>
              <p:nvPr/>
            </p:nvGrpSpPr>
            <p:grpSpPr>
              <a:xfrm>
                <a:off x="2193120" y="5659920"/>
                <a:ext cx="367560" cy="367920"/>
                <a:chOff x="2193120" y="5659920"/>
                <a:chExt cx="367560" cy="367920"/>
              </a:xfrm>
            </p:grpSpPr>
            <p:sp>
              <p:nvSpPr>
                <p:cNvPr id="467" name="Oval 428"/>
                <p:cNvSpPr/>
                <p:nvPr/>
              </p:nvSpPr>
              <p:spPr>
                <a:xfrm rot="1320000">
                  <a:off x="2195280" y="5803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29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30"/>
              <p:cNvGrpSpPr/>
              <p:nvPr/>
            </p:nvGrpSpPr>
            <p:grpSpPr>
              <a:xfrm>
                <a:off x="2193840" y="5661000"/>
                <a:ext cx="366120" cy="366480"/>
                <a:chOff x="2193840" y="5661000"/>
                <a:chExt cx="366120" cy="366480"/>
              </a:xfrm>
            </p:grpSpPr>
            <p:sp>
              <p:nvSpPr>
                <p:cNvPr id="470" name="Oval 431"/>
                <p:cNvSpPr/>
                <p:nvPr/>
              </p:nvSpPr>
              <p:spPr>
                <a:xfrm rot="402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432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" name="Oval 433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34"/>
          <p:cNvGrpSpPr/>
          <p:nvPr/>
        </p:nvGrpSpPr>
        <p:grpSpPr>
          <a:xfrm>
            <a:off x="1113480" y="5082120"/>
            <a:ext cx="367920" cy="367920"/>
            <a:chOff x="1113480" y="5082120"/>
            <a:chExt cx="367920" cy="367920"/>
          </a:xfrm>
        </p:grpSpPr>
        <p:grpSp>
          <p:nvGrpSpPr>
            <p:cNvPr id="474" name="Group 435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75" name="Group 436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76" name="Oval 437"/>
                <p:cNvSpPr/>
                <p:nvPr/>
              </p:nvSpPr>
              <p:spPr>
                <a:xfrm>
                  <a:off x="1116000" y="5225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438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439"/>
              <p:cNvGrpSpPr/>
              <p:nvPr/>
            </p:nvGrpSpPr>
            <p:grpSpPr>
              <a:xfrm>
                <a:off x="1139400" y="5108400"/>
                <a:ext cx="315000" cy="315720"/>
                <a:chOff x="1139400" y="5108400"/>
                <a:chExt cx="315000" cy="315720"/>
              </a:xfrm>
            </p:grpSpPr>
            <p:sp>
              <p:nvSpPr>
                <p:cNvPr id="479" name="Oval 440"/>
                <p:cNvSpPr/>
                <p:nvPr/>
              </p:nvSpPr>
              <p:spPr>
                <a:xfrm rot="2700000">
                  <a:off x="111528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441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442"/>
            <p:cNvGrpSpPr/>
            <p:nvPr/>
          </p:nvGrpSpPr>
          <p:grpSpPr>
            <a:xfrm>
              <a:off x="1113480" y="5082120"/>
              <a:ext cx="367920" cy="367920"/>
              <a:chOff x="1113480" y="5082120"/>
              <a:chExt cx="367920" cy="367920"/>
            </a:xfrm>
          </p:grpSpPr>
          <p:grpSp>
            <p:nvGrpSpPr>
              <p:cNvPr id="482" name="Group 443"/>
              <p:cNvGrpSpPr/>
              <p:nvPr/>
            </p:nvGrpSpPr>
            <p:grpSpPr>
              <a:xfrm>
                <a:off x="1113480" y="5082120"/>
                <a:ext cx="367920" cy="367920"/>
                <a:chOff x="1113480" y="5082120"/>
                <a:chExt cx="367920" cy="367920"/>
              </a:xfrm>
            </p:grpSpPr>
            <p:sp>
              <p:nvSpPr>
                <p:cNvPr id="483" name="Oval 444"/>
                <p:cNvSpPr/>
                <p:nvPr/>
              </p:nvSpPr>
              <p:spPr>
                <a:xfrm rot="1320000">
                  <a:off x="111564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45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446"/>
              <p:cNvGrpSpPr/>
              <p:nvPr/>
            </p:nvGrpSpPr>
            <p:grpSpPr>
              <a:xfrm>
                <a:off x="1113840" y="5083200"/>
                <a:ext cx="366480" cy="366480"/>
                <a:chOff x="1113840" y="5083200"/>
                <a:chExt cx="366480" cy="366480"/>
              </a:xfrm>
            </p:grpSpPr>
            <p:sp>
              <p:nvSpPr>
                <p:cNvPr id="486" name="Oval 447"/>
                <p:cNvSpPr/>
                <p:nvPr/>
              </p:nvSpPr>
              <p:spPr>
                <a:xfrm rot="402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448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Oval 449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450"/>
          <p:cNvGrpSpPr/>
          <p:nvPr/>
        </p:nvGrpSpPr>
        <p:grpSpPr>
          <a:xfrm>
            <a:off x="1904040" y="5299560"/>
            <a:ext cx="367920" cy="367920"/>
            <a:chOff x="1904040" y="5299560"/>
            <a:chExt cx="367920" cy="367920"/>
          </a:xfrm>
        </p:grpSpPr>
        <p:grpSp>
          <p:nvGrpSpPr>
            <p:cNvPr id="490" name="Group 451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1" name="Group 452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2" name="Oval 453"/>
                <p:cNvSpPr/>
                <p:nvPr/>
              </p:nvSpPr>
              <p:spPr>
                <a:xfrm>
                  <a:off x="1906560" y="544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454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455"/>
              <p:cNvGrpSpPr/>
              <p:nvPr/>
            </p:nvGrpSpPr>
            <p:grpSpPr>
              <a:xfrm>
                <a:off x="1929960" y="5325840"/>
                <a:ext cx="315000" cy="315720"/>
                <a:chOff x="1929960" y="5325840"/>
                <a:chExt cx="315000" cy="315720"/>
              </a:xfrm>
            </p:grpSpPr>
            <p:sp>
              <p:nvSpPr>
                <p:cNvPr id="495" name="Oval 456"/>
                <p:cNvSpPr/>
                <p:nvPr/>
              </p:nvSpPr>
              <p:spPr>
                <a:xfrm rot="2700000">
                  <a:off x="190584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457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458"/>
            <p:cNvGrpSpPr/>
            <p:nvPr/>
          </p:nvGrpSpPr>
          <p:grpSpPr>
            <a:xfrm>
              <a:off x="1904040" y="5299560"/>
              <a:ext cx="367920" cy="367920"/>
              <a:chOff x="1904040" y="5299560"/>
              <a:chExt cx="367920" cy="367920"/>
            </a:xfrm>
          </p:grpSpPr>
          <p:grpSp>
            <p:nvGrpSpPr>
              <p:cNvPr id="498" name="Group 459"/>
              <p:cNvGrpSpPr/>
              <p:nvPr/>
            </p:nvGrpSpPr>
            <p:grpSpPr>
              <a:xfrm>
                <a:off x="1904040" y="5299560"/>
                <a:ext cx="367920" cy="367920"/>
                <a:chOff x="1904040" y="5299560"/>
                <a:chExt cx="367920" cy="367920"/>
              </a:xfrm>
            </p:grpSpPr>
            <p:sp>
              <p:nvSpPr>
                <p:cNvPr id="499" name="Oval 460"/>
                <p:cNvSpPr/>
                <p:nvPr/>
              </p:nvSpPr>
              <p:spPr>
                <a:xfrm rot="1320000">
                  <a:off x="190620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461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462"/>
              <p:cNvGrpSpPr/>
              <p:nvPr/>
            </p:nvGrpSpPr>
            <p:grpSpPr>
              <a:xfrm>
                <a:off x="1904400" y="5300640"/>
                <a:ext cx="366480" cy="366480"/>
                <a:chOff x="1904400" y="5300640"/>
                <a:chExt cx="366480" cy="366480"/>
              </a:xfrm>
            </p:grpSpPr>
            <p:sp>
              <p:nvSpPr>
                <p:cNvPr id="502" name="Oval 463"/>
                <p:cNvSpPr/>
                <p:nvPr/>
              </p:nvSpPr>
              <p:spPr>
                <a:xfrm rot="402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464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4" name="Oval 465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466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06" name="Group 467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07" name="Group 468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08" name="Oval 469"/>
                <p:cNvSpPr/>
                <p:nvPr/>
              </p:nvSpPr>
              <p:spPr>
                <a:xfrm>
                  <a:off x="2627280" y="5891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470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471"/>
              <p:cNvGrpSpPr/>
              <p:nvPr/>
            </p:nvGrpSpPr>
            <p:grpSpPr>
              <a:xfrm>
                <a:off x="2641680" y="5821200"/>
                <a:ext cx="187200" cy="187560"/>
                <a:chOff x="2641680" y="5821200"/>
                <a:chExt cx="187200" cy="187560"/>
              </a:xfrm>
            </p:grpSpPr>
            <p:sp>
              <p:nvSpPr>
                <p:cNvPr id="511" name="Oval 472"/>
                <p:cNvSpPr/>
                <p:nvPr/>
              </p:nvSpPr>
              <p:spPr>
                <a:xfrm rot="27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473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Group 474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14" name="Group 475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15" name="Oval 476"/>
                <p:cNvSpPr/>
                <p:nvPr/>
              </p:nvSpPr>
              <p:spPr>
                <a:xfrm rot="1320000">
                  <a:off x="262692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477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478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18" name="Oval 479"/>
                <p:cNvSpPr/>
                <p:nvPr/>
              </p:nvSpPr>
              <p:spPr>
                <a:xfrm rot="40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480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Oval 481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482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2" name="Group 483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23" name="Group 484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24" name="Oval 485"/>
                <p:cNvSpPr/>
                <p:nvPr/>
              </p:nvSpPr>
              <p:spPr>
                <a:xfrm>
                  <a:off x="898560" y="58910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486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487"/>
              <p:cNvGrpSpPr/>
              <p:nvPr/>
            </p:nvGrpSpPr>
            <p:grpSpPr>
              <a:xfrm>
                <a:off x="912960" y="5821200"/>
                <a:ext cx="187200" cy="187560"/>
                <a:chOff x="912960" y="5821200"/>
                <a:chExt cx="187200" cy="187560"/>
              </a:xfrm>
            </p:grpSpPr>
            <p:sp>
              <p:nvSpPr>
                <p:cNvPr id="527" name="Oval 488"/>
                <p:cNvSpPr/>
                <p:nvPr/>
              </p:nvSpPr>
              <p:spPr>
                <a:xfrm rot="27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489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490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0" name="Group 491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1" name="Oval 492"/>
                <p:cNvSpPr/>
                <p:nvPr/>
              </p:nvSpPr>
              <p:spPr>
                <a:xfrm rot="1320000">
                  <a:off x="89820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493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494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34" name="Oval 495"/>
                <p:cNvSpPr/>
                <p:nvPr/>
              </p:nvSpPr>
              <p:spPr>
                <a:xfrm rot="40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496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Oval 497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498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38" name="Group 499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39" name="Group 500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0" name="Oval 501"/>
                <p:cNvSpPr/>
                <p:nvPr/>
              </p:nvSpPr>
              <p:spPr>
                <a:xfrm>
                  <a:off x="3203640" y="60775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02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03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43" name="Oval 504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05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506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46" name="Group 507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47" name="Oval 508"/>
                <p:cNvSpPr/>
                <p:nvPr/>
              </p:nvSpPr>
              <p:spPr>
                <a:xfrm rot="132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509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510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0" name="Oval 511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12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Oval 513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514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54" name="Group 515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55" name="Group 516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56" name="Oval 517"/>
                <p:cNvSpPr/>
                <p:nvPr/>
              </p:nvSpPr>
              <p:spPr>
                <a:xfrm>
                  <a:off x="2771640" y="62236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18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519"/>
              <p:cNvGrpSpPr/>
              <p:nvPr/>
            </p:nvGrpSpPr>
            <p:grpSpPr>
              <a:xfrm>
                <a:off x="2781000" y="6176880"/>
                <a:ext cx="125640" cy="125640"/>
                <a:chOff x="2781000" y="6176880"/>
                <a:chExt cx="125640" cy="125640"/>
              </a:xfrm>
            </p:grpSpPr>
            <p:sp>
              <p:nvSpPr>
                <p:cNvPr id="559" name="Oval 520"/>
                <p:cNvSpPr/>
                <p:nvPr/>
              </p:nvSpPr>
              <p:spPr>
                <a:xfrm rot="2700000">
                  <a:off x="277164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521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1" name="Group 522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2" name="Group 523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63" name="Oval 524"/>
                <p:cNvSpPr/>
                <p:nvPr/>
              </p:nvSpPr>
              <p:spPr>
                <a:xfrm rot="1320000">
                  <a:off x="277128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525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526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66" name="Oval 527"/>
                <p:cNvSpPr/>
                <p:nvPr/>
              </p:nvSpPr>
              <p:spPr>
                <a:xfrm rot="40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528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Oval 529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530"/>
          <p:cNvGrpSpPr/>
          <p:nvPr/>
        </p:nvGrpSpPr>
        <p:grpSpPr>
          <a:xfrm>
            <a:off x="5362560" y="5946840"/>
            <a:ext cx="218520" cy="218520"/>
            <a:chOff x="5362560" y="5946840"/>
            <a:chExt cx="218520" cy="218520"/>
          </a:xfrm>
        </p:grpSpPr>
        <p:grpSp>
          <p:nvGrpSpPr>
            <p:cNvPr id="570" name="Group 531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1" name="Group 532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2" name="Oval 533"/>
                <p:cNvSpPr/>
                <p:nvPr/>
              </p:nvSpPr>
              <p:spPr>
                <a:xfrm>
                  <a:off x="5364000" y="603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Oval 534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535"/>
              <p:cNvGrpSpPr/>
              <p:nvPr/>
            </p:nvGrpSpPr>
            <p:grpSpPr>
              <a:xfrm>
                <a:off x="5378040" y="5962320"/>
                <a:ext cx="187560" cy="187560"/>
                <a:chOff x="5378040" y="5962320"/>
                <a:chExt cx="187560" cy="187560"/>
              </a:xfrm>
            </p:grpSpPr>
            <p:sp>
              <p:nvSpPr>
                <p:cNvPr id="575" name="Oval 536"/>
                <p:cNvSpPr/>
                <p:nvPr/>
              </p:nvSpPr>
              <p:spPr>
                <a:xfrm rot="27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537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Group 538"/>
            <p:cNvGrpSpPr/>
            <p:nvPr/>
          </p:nvGrpSpPr>
          <p:grpSpPr>
            <a:xfrm>
              <a:off x="5362560" y="5946840"/>
              <a:ext cx="218520" cy="218520"/>
              <a:chOff x="5362560" y="5946840"/>
              <a:chExt cx="218520" cy="218520"/>
            </a:xfrm>
          </p:grpSpPr>
          <p:grpSp>
            <p:nvGrpSpPr>
              <p:cNvPr id="578" name="Group 539"/>
              <p:cNvGrpSpPr/>
              <p:nvPr/>
            </p:nvGrpSpPr>
            <p:grpSpPr>
              <a:xfrm>
                <a:off x="5362560" y="5946840"/>
                <a:ext cx="218520" cy="218520"/>
                <a:chOff x="5362560" y="5946840"/>
                <a:chExt cx="218520" cy="218520"/>
              </a:xfrm>
            </p:grpSpPr>
            <p:sp>
              <p:nvSpPr>
                <p:cNvPr id="579" name="Oval 540"/>
                <p:cNvSpPr/>
                <p:nvPr/>
              </p:nvSpPr>
              <p:spPr>
                <a:xfrm rot="132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Oval 541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542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2" name="Oval 543"/>
                <p:cNvSpPr/>
                <p:nvPr/>
              </p:nvSpPr>
              <p:spPr>
                <a:xfrm rot="4020000">
                  <a:off x="536328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544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Oval 545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546"/>
          <p:cNvGrpSpPr/>
          <p:nvPr/>
        </p:nvGrpSpPr>
        <p:grpSpPr>
          <a:xfrm>
            <a:off x="6370920" y="5586480"/>
            <a:ext cx="218160" cy="218520"/>
            <a:chOff x="6370920" y="5586480"/>
            <a:chExt cx="218160" cy="218520"/>
          </a:xfrm>
        </p:grpSpPr>
        <p:grpSp>
          <p:nvGrpSpPr>
            <p:cNvPr id="586" name="Group 547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87" name="Group 548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88" name="Oval 549"/>
                <p:cNvSpPr/>
                <p:nvPr/>
              </p:nvSpPr>
              <p:spPr>
                <a:xfrm>
                  <a:off x="637236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550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551"/>
              <p:cNvGrpSpPr/>
              <p:nvPr/>
            </p:nvGrpSpPr>
            <p:grpSpPr>
              <a:xfrm>
                <a:off x="6386040" y="5602320"/>
                <a:ext cx="187200" cy="187560"/>
                <a:chOff x="6386040" y="5602320"/>
                <a:chExt cx="187200" cy="187560"/>
              </a:xfrm>
            </p:grpSpPr>
            <p:sp>
              <p:nvSpPr>
                <p:cNvPr id="591" name="Oval 552"/>
                <p:cNvSpPr/>
                <p:nvPr/>
              </p:nvSpPr>
              <p:spPr>
                <a:xfrm rot="2700000">
                  <a:off x="6371640" y="567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553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554"/>
            <p:cNvGrpSpPr/>
            <p:nvPr/>
          </p:nvGrpSpPr>
          <p:grpSpPr>
            <a:xfrm>
              <a:off x="6370920" y="5586480"/>
              <a:ext cx="218160" cy="218520"/>
              <a:chOff x="6370920" y="5586480"/>
              <a:chExt cx="218160" cy="218520"/>
            </a:xfrm>
          </p:grpSpPr>
          <p:grpSp>
            <p:nvGrpSpPr>
              <p:cNvPr id="594" name="Group 555"/>
              <p:cNvGrpSpPr/>
              <p:nvPr/>
            </p:nvGrpSpPr>
            <p:grpSpPr>
              <a:xfrm>
                <a:off x="6370920" y="5586480"/>
                <a:ext cx="218160" cy="218520"/>
                <a:chOff x="6370920" y="5586480"/>
                <a:chExt cx="218160" cy="218520"/>
              </a:xfrm>
            </p:grpSpPr>
            <p:sp>
              <p:nvSpPr>
                <p:cNvPr id="595" name="Oval 556"/>
                <p:cNvSpPr/>
                <p:nvPr/>
              </p:nvSpPr>
              <p:spPr>
                <a:xfrm rot="1320000">
                  <a:off x="637200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557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558"/>
              <p:cNvGrpSpPr/>
              <p:nvPr/>
            </p:nvGrpSpPr>
            <p:grpSpPr>
              <a:xfrm>
                <a:off x="6370920" y="5587200"/>
                <a:ext cx="217800" cy="217800"/>
                <a:chOff x="6370920" y="5587200"/>
                <a:chExt cx="217800" cy="217800"/>
              </a:xfrm>
            </p:grpSpPr>
            <p:sp>
              <p:nvSpPr>
                <p:cNvPr id="598" name="Oval 559"/>
                <p:cNvSpPr/>
                <p:nvPr/>
              </p:nvSpPr>
              <p:spPr>
                <a:xfrm rot="4020000">
                  <a:off x="637128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560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Oval 561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62"/>
          <p:cNvGrpSpPr/>
          <p:nvPr/>
        </p:nvGrpSpPr>
        <p:grpSpPr>
          <a:xfrm>
            <a:off x="6010560" y="5515200"/>
            <a:ext cx="218160" cy="218520"/>
            <a:chOff x="6010560" y="5515200"/>
            <a:chExt cx="218160" cy="218520"/>
          </a:xfrm>
        </p:grpSpPr>
        <p:grpSp>
          <p:nvGrpSpPr>
            <p:cNvPr id="602" name="Group 563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03" name="Group 564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04" name="Oval 565"/>
                <p:cNvSpPr/>
                <p:nvPr/>
              </p:nvSpPr>
              <p:spPr>
                <a:xfrm>
                  <a:off x="601200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Oval 566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67"/>
              <p:cNvGrpSpPr/>
              <p:nvPr/>
            </p:nvGrpSpPr>
            <p:grpSpPr>
              <a:xfrm>
                <a:off x="6025680" y="5531040"/>
                <a:ext cx="187200" cy="187560"/>
                <a:chOff x="6025680" y="5531040"/>
                <a:chExt cx="187200" cy="187560"/>
              </a:xfrm>
            </p:grpSpPr>
            <p:sp>
              <p:nvSpPr>
                <p:cNvPr id="607" name="Oval 568"/>
                <p:cNvSpPr/>
                <p:nvPr/>
              </p:nvSpPr>
              <p:spPr>
                <a:xfrm rot="2700000">
                  <a:off x="6011280" y="5600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569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Group 570"/>
            <p:cNvGrpSpPr/>
            <p:nvPr/>
          </p:nvGrpSpPr>
          <p:grpSpPr>
            <a:xfrm>
              <a:off x="6010560" y="5515200"/>
              <a:ext cx="218160" cy="218520"/>
              <a:chOff x="6010560" y="5515200"/>
              <a:chExt cx="218160" cy="218520"/>
            </a:xfrm>
          </p:grpSpPr>
          <p:grpSp>
            <p:nvGrpSpPr>
              <p:cNvPr id="610" name="Group 571"/>
              <p:cNvGrpSpPr/>
              <p:nvPr/>
            </p:nvGrpSpPr>
            <p:grpSpPr>
              <a:xfrm>
                <a:off x="6010560" y="5515200"/>
                <a:ext cx="218160" cy="218520"/>
                <a:chOff x="6010560" y="5515200"/>
                <a:chExt cx="218160" cy="218520"/>
              </a:xfrm>
            </p:grpSpPr>
            <p:sp>
              <p:nvSpPr>
                <p:cNvPr id="611" name="Oval 572"/>
                <p:cNvSpPr/>
                <p:nvPr/>
              </p:nvSpPr>
              <p:spPr>
                <a:xfrm rot="1320000">
                  <a:off x="601164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573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574"/>
              <p:cNvGrpSpPr/>
              <p:nvPr/>
            </p:nvGrpSpPr>
            <p:grpSpPr>
              <a:xfrm>
                <a:off x="6010560" y="5515920"/>
                <a:ext cx="217800" cy="217800"/>
                <a:chOff x="6010560" y="5515920"/>
                <a:chExt cx="217800" cy="217800"/>
              </a:xfrm>
            </p:grpSpPr>
            <p:sp>
              <p:nvSpPr>
                <p:cNvPr id="614" name="Oval 575"/>
                <p:cNvSpPr/>
                <p:nvPr/>
              </p:nvSpPr>
              <p:spPr>
                <a:xfrm rot="4020000">
                  <a:off x="601092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576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Oval 577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578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18" name="Group 579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19" name="Group 580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0" name="Oval 581"/>
                <p:cNvSpPr/>
                <p:nvPr/>
              </p:nvSpPr>
              <p:spPr>
                <a:xfrm>
                  <a:off x="579600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582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583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23" name="Oval 584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585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Group 586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26" name="Group 587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27" name="Oval 588"/>
                <p:cNvSpPr/>
                <p:nvPr/>
              </p:nvSpPr>
              <p:spPr>
                <a:xfrm rot="132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Oval 589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590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0" name="Oval 591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592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Oval 593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594"/>
          <p:cNvGrpSpPr/>
          <p:nvPr/>
        </p:nvGrpSpPr>
        <p:grpSpPr>
          <a:xfrm>
            <a:off x="6515640" y="5947200"/>
            <a:ext cx="146160" cy="146880"/>
            <a:chOff x="6515640" y="5947200"/>
            <a:chExt cx="146160" cy="146880"/>
          </a:xfrm>
        </p:grpSpPr>
        <p:grpSp>
          <p:nvGrpSpPr>
            <p:cNvPr id="634" name="Group 595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35" name="Group 596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36" name="Oval 597"/>
                <p:cNvSpPr/>
                <p:nvPr/>
              </p:nvSpPr>
              <p:spPr>
                <a:xfrm>
                  <a:off x="6516720" y="6004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598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599"/>
              <p:cNvGrpSpPr/>
              <p:nvPr/>
            </p:nvGrpSpPr>
            <p:grpSpPr>
              <a:xfrm>
                <a:off x="6525720" y="5958000"/>
                <a:ext cx="125280" cy="126000"/>
                <a:chOff x="6525720" y="5958000"/>
                <a:chExt cx="125280" cy="126000"/>
              </a:xfrm>
            </p:grpSpPr>
            <p:sp>
              <p:nvSpPr>
                <p:cNvPr id="639" name="Oval 600"/>
                <p:cNvSpPr/>
                <p:nvPr/>
              </p:nvSpPr>
              <p:spPr>
                <a:xfrm rot="2700000">
                  <a:off x="6515640" y="6004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601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Group 602"/>
            <p:cNvGrpSpPr/>
            <p:nvPr/>
          </p:nvGrpSpPr>
          <p:grpSpPr>
            <a:xfrm>
              <a:off x="6515640" y="5947200"/>
              <a:ext cx="146160" cy="146880"/>
              <a:chOff x="6515640" y="5947200"/>
              <a:chExt cx="146160" cy="146880"/>
            </a:xfrm>
          </p:grpSpPr>
          <p:grpSp>
            <p:nvGrpSpPr>
              <p:cNvPr id="642" name="Group 603"/>
              <p:cNvGrpSpPr/>
              <p:nvPr/>
            </p:nvGrpSpPr>
            <p:grpSpPr>
              <a:xfrm>
                <a:off x="6515640" y="5947200"/>
                <a:ext cx="146160" cy="146520"/>
                <a:chOff x="6515640" y="5947200"/>
                <a:chExt cx="146160" cy="146520"/>
              </a:xfrm>
            </p:grpSpPr>
            <p:sp>
              <p:nvSpPr>
                <p:cNvPr id="643" name="Oval 604"/>
                <p:cNvSpPr/>
                <p:nvPr/>
              </p:nvSpPr>
              <p:spPr>
                <a:xfrm rot="1320000">
                  <a:off x="651636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605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06"/>
              <p:cNvGrpSpPr/>
              <p:nvPr/>
            </p:nvGrpSpPr>
            <p:grpSpPr>
              <a:xfrm>
                <a:off x="6515640" y="5947920"/>
                <a:ext cx="145800" cy="146160"/>
                <a:chOff x="6515640" y="5947920"/>
                <a:chExt cx="145800" cy="146160"/>
              </a:xfrm>
            </p:grpSpPr>
            <p:sp>
              <p:nvSpPr>
                <p:cNvPr id="646" name="Oval 607"/>
                <p:cNvSpPr/>
                <p:nvPr/>
              </p:nvSpPr>
              <p:spPr>
                <a:xfrm rot="4020000">
                  <a:off x="6515640" y="6004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608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Oval 609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610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0" name="Group 611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1" name="Group 612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2" name="Oval 613"/>
                <p:cNvSpPr/>
                <p:nvPr/>
              </p:nvSpPr>
              <p:spPr>
                <a:xfrm>
                  <a:off x="6156360" y="5933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614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615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55" name="Oval 616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617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618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58" name="Group 619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59" name="Oval 620"/>
                <p:cNvSpPr/>
                <p:nvPr/>
              </p:nvSpPr>
              <p:spPr>
                <a:xfrm rot="132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621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622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2" name="Oval 623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624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Oval 625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26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66" name="Group 627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67" name="Group 628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68" name="Oval 629"/>
                <p:cNvSpPr/>
                <p:nvPr/>
              </p:nvSpPr>
              <p:spPr>
                <a:xfrm>
                  <a:off x="360360" y="5816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630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631"/>
              <p:cNvGrpSpPr/>
              <p:nvPr/>
            </p:nvGrpSpPr>
            <p:grpSpPr>
              <a:xfrm>
                <a:off x="374760" y="5746680"/>
                <a:ext cx="187200" cy="187560"/>
                <a:chOff x="374760" y="5746680"/>
                <a:chExt cx="187200" cy="187560"/>
              </a:xfrm>
            </p:grpSpPr>
            <p:sp>
              <p:nvSpPr>
                <p:cNvPr id="671" name="Oval 632"/>
                <p:cNvSpPr/>
                <p:nvPr/>
              </p:nvSpPr>
              <p:spPr>
                <a:xfrm rot="27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633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634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74" name="Group 635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75" name="Oval 636"/>
                <p:cNvSpPr/>
                <p:nvPr/>
              </p:nvSpPr>
              <p:spPr>
                <a:xfrm rot="1320000">
                  <a:off x="360000" y="5816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637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638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78" name="Oval 639"/>
                <p:cNvSpPr/>
                <p:nvPr/>
              </p:nvSpPr>
              <p:spPr>
                <a:xfrm rot="40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640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" name="Oval 641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642"/>
          <p:cNvGrpSpPr/>
          <p:nvPr/>
        </p:nvGrpSpPr>
        <p:grpSpPr>
          <a:xfrm>
            <a:off x="-1440" y="5659560"/>
            <a:ext cx="218520" cy="218520"/>
            <a:chOff x="-1440" y="5659560"/>
            <a:chExt cx="218520" cy="218520"/>
          </a:xfrm>
        </p:grpSpPr>
        <p:grpSp>
          <p:nvGrpSpPr>
            <p:cNvPr id="682" name="Group 643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83" name="Group 644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84" name="Oval 645"/>
                <p:cNvSpPr/>
                <p:nvPr/>
              </p:nvSpPr>
              <p:spPr>
                <a:xfrm>
                  <a:off x="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646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647"/>
              <p:cNvGrpSpPr/>
              <p:nvPr/>
            </p:nvGrpSpPr>
            <p:grpSpPr>
              <a:xfrm>
                <a:off x="14040" y="5675040"/>
                <a:ext cx="187560" cy="187560"/>
                <a:chOff x="14040" y="5675040"/>
                <a:chExt cx="187560" cy="187560"/>
              </a:xfrm>
            </p:grpSpPr>
            <p:sp>
              <p:nvSpPr>
                <p:cNvPr id="687" name="Oval 648"/>
                <p:cNvSpPr/>
                <p:nvPr/>
              </p:nvSpPr>
              <p:spPr>
                <a:xfrm rot="27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649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" name="Group 650"/>
            <p:cNvGrpSpPr/>
            <p:nvPr/>
          </p:nvGrpSpPr>
          <p:grpSpPr>
            <a:xfrm>
              <a:off x="-1440" y="5659560"/>
              <a:ext cx="218520" cy="218520"/>
              <a:chOff x="-1440" y="5659560"/>
              <a:chExt cx="218520" cy="218520"/>
            </a:xfrm>
          </p:grpSpPr>
          <p:grpSp>
            <p:nvGrpSpPr>
              <p:cNvPr id="690" name="Group 651"/>
              <p:cNvGrpSpPr/>
              <p:nvPr/>
            </p:nvGrpSpPr>
            <p:grpSpPr>
              <a:xfrm>
                <a:off x="-1440" y="5659560"/>
                <a:ext cx="218520" cy="218520"/>
                <a:chOff x="-1440" y="5659560"/>
                <a:chExt cx="218520" cy="218520"/>
              </a:xfrm>
            </p:grpSpPr>
            <p:sp>
              <p:nvSpPr>
                <p:cNvPr id="691" name="Oval 652"/>
                <p:cNvSpPr/>
                <p:nvPr/>
              </p:nvSpPr>
              <p:spPr>
                <a:xfrm rot="132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53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54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694" name="Oval 655"/>
                <p:cNvSpPr/>
                <p:nvPr/>
              </p:nvSpPr>
              <p:spPr>
                <a:xfrm rot="4020000">
                  <a:off x="-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Oval 656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Oval 657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58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698" name="Group 659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699" name="Group 660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0" name="Oval 661"/>
                <p:cNvSpPr/>
                <p:nvPr/>
              </p:nvSpPr>
              <p:spPr>
                <a:xfrm>
                  <a:off x="504720" y="6149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662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663"/>
              <p:cNvGrpSpPr/>
              <p:nvPr/>
            </p:nvGrpSpPr>
            <p:grpSpPr>
              <a:xfrm>
                <a:off x="514080" y="6102360"/>
                <a:ext cx="125640" cy="125640"/>
                <a:chOff x="514080" y="6102360"/>
                <a:chExt cx="125640" cy="125640"/>
              </a:xfrm>
            </p:grpSpPr>
            <p:sp>
              <p:nvSpPr>
                <p:cNvPr id="703" name="Oval 664"/>
                <p:cNvSpPr/>
                <p:nvPr/>
              </p:nvSpPr>
              <p:spPr>
                <a:xfrm rot="2700000">
                  <a:off x="50472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Oval 665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666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06" name="Group 667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07" name="Oval 668"/>
                <p:cNvSpPr/>
                <p:nvPr/>
              </p:nvSpPr>
              <p:spPr>
                <a:xfrm rot="1320000">
                  <a:off x="50436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669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670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0" name="Oval 671"/>
                <p:cNvSpPr/>
                <p:nvPr/>
              </p:nvSpPr>
              <p:spPr>
                <a:xfrm rot="40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672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Oval 673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674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14" name="Group 675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15" name="Group 676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16" name="Oval 677"/>
                <p:cNvSpPr/>
                <p:nvPr/>
              </p:nvSpPr>
              <p:spPr>
                <a:xfrm>
                  <a:off x="144360" y="60775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678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679"/>
              <p:cNvGrpSpPr/>
              <p:nvPr/>
            </p:nvGrpSpPr>
            <p:grpSpPr>
              <a:xfrm>
                <a:off x="153720" y="6030720"/>
                <a:ext cx="125640" cy="125640"/>
                <a:chOff x="153720" y="6030720"/>
                <a:chExt cx="125640" cy="125640"/>
              </a:xfrm>
            </p:grpSpPr>
            <p:sp>
              <p:nvSpPr>
                <p:cNvPr id="719" name="Oval 680"/>
                <p:cNvSpPr/>
                <p:nvPr/>
              </p:nvSpPr>
              <p:spPr>
                <a:xfrm rot="2700000">
                  <a:off x="14436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681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Group 682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2" name="Group 683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23" name="Oval 684"/>
                <p:cNvSpPr/>
                <p:nvPr/>
              </p:nvSpPr>
              <p:spPr>
                <a:xfrm rot="1320000">
                  <a:off x="14400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685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686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26" name="Oval 687"/>
                <p:cNvSpPr/>
                <p:nvPr/>
              </p:nvSpPr>
              <p:spPr>
                <a:xfrm rot="40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688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Oval 689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690"/>
          <p:cNvGrpSpPr/>
          <p:nvPr/>
        </p:nvGrpSpPr>
        <p:grpSpPr>
          <a:xfrm>
            <a:off x="7593840" y="5226840"/>
            <a:ext cx="367560" cy="367560"/>
            <a:chOff x="7593840" y="5226840"/>
            <a:chExt cx="367560" cy="367560"/>
          </a:xfrm>
        </p:grpSpPr>
        <p:grpSp>
          <p:nvGrpSpPr>
            <p:cNvPr id="730" name="Group 691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1" name="Group 692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2" name="Oval 693"/>
                <p:cNvSpPr/>
                <p:nvPr/>
              </p:nvSpPr>
              <p:spPr>
                <a:xfrm>
                  <a:off x="7596360" y="5370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694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695"/>
              <p:cNvGrpSpPr/>
              <p:nvPr/>
            </p:nvGrpSpPr>
            <p:grpSpPr>
              <a:xfrm>
                <a:off x="7619760" y="5253120"/>
                <a:ext cx="315000" cy="315720"/>
                <a:chOff x="7619760" y="5253120"/>
                <a:chExt cx="315000" cy="315720"/>
              </a:xfrm>
            </p:grpSpPr>
            <p:sp>
              <p:nvSpPr>
                <p:cNvPr id="735" name="Oval 696"/>
                <p:cNvSpPr/>
                <p:nvPr/>
              </p:nvSpPr>
              <p:spPr>
                <a:xfrm rot="2700000">
                  <a:off x="759564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697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7" name="Group 698"/>
            <p:cNvGrpSpPr/>
            <p:nvPr/>
          </p:nvGrpSpPr>
          <p:grpSpPr>
            <a:xfrm>
              <a:off x="7593840" y="5226840"/>
              <a:ext cx="367560" cy="367560"/>
              <a:chOff x="7593840" y="5226840"/>
              <a:chExt cx="367560" cy="367560"/>
            </a:xfrm>
          </p:grpSpPr>
          <p:grpSp>
            <p:nvGrpSpPr>
              <p:cNvPr id="738" name="Group 699"/>
              <p:cNvGrpSpPr/>
              <p:nvPr/>
            </p:nvGrpSpPr>
            <p:grpSpPr>
              <a:xfrm>
                <a:off x="7593840" y="5226840"/>
                <a:ext cx="367560" cy="367560"/>
                <a:chOff x="7593840" y="5226840"/>
                <a:chExt cx="367560" cy="367560"/>
              </a:xfrm>
            </p:grpSpPr>
            <p:sp>
              <p:nvSpPr>
                <p:cNvPr id="739" name="Oval 700"/>
                <p:cNvSpPr/>
                <p:nvPr/>
              </p:nvSpPr>
              <p:spPr>
                <a:xfrm rot="1320000">
                  <a:off x="7596000" y="537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01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Group 702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2" name="Oval 703"/>
                <p:cNvSpPr/>
                <p:nvPr/>
              </p:nvSpPr>
              <p:spPr>
                <a:xfrm rot="4020000">
                  <a:off x="759528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04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Oval 705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706"/>
          <p:cNvGrpSpPr/>
          <p:nvPr/>
        </p:nvGrpSpPr>
        <p:grpSpPr>
          <a:xfrm>
            <a:off x="7810560" y="5659560"/>
            <a:ext cx="218520" cy="218520"/>
            <a:chOff x="7810560" y="5659560"/>
            <a:chExt cx="218520" cy="218520"/>
          </a:xfrm>
        </p:grpSpPr>
        <p:grpSp>
          <p:nvGrpSpPr>
            <p:cNvPr id="746" name="Group 707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47" name="Group 708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48" name="Oval 709"/>
                <p:cNvSpPr/>
                <p:nvPr/>
              </p:nvSpPr>
              <p:spPr>
                <a:xfrm>
                  <a:off x="781200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710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711"/>
              <p:cNvGrpSpPr/>
              <p:nvPr/>
            </p:nvGrpSpPr>
            <p:grpSpPr>
              <a:xfrm>
                <a:off x="7826040" y="5675040"/>
                <a:ext cx="187560" cy="187560"/>
                <a:chOff x="7826040" y="5675040"/>
                <a:chExt cx="187560" cy="187560"/>
              </a:xfrm>
            </p:grpSpPr>
            <p:sp>
              <p:nvSpPr>
                <p:cNvPr id="751" name="Oval 712"/>
                <p:cNvSpPr/>
                <p:nvPr/>
              </p:nvSpPr>
              <p:spPr>
                <a:xfrm rot="27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713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Group 714"/>
            <p:cNvGrpSpPr/>
            <p:nvPr/>
          </p:nvGrpSpPr>
          <p:grpSpPr>
            <a:xfrm>
              <a:off x="7810560" y="5659560"/>
              <a:ext cx="218520" cy="218520"/>
              <a:chOff x="7810560" y="5659560"/>
              <a:chExt cx="218520" cy="218520"/>
            </a:xfrm>
          </p:grpSpPr>
          <p:grpSp>
            <p:nvGrpSpPr>
              <p:cNvPr id="754" name="Group 715"/>
              <p:cNvGrpSpPr/>
              <p:nvPr/>
            </p:nvGrpSpPr>
            <p:grpSpPr>
              <a:xfrm>
                <a:off x="7810560" y="5659560"/>
                <a:ext cx="218520" cy="218520"/>
                <a:chOff x="7810560" y="5659560"/>
                <a:chExt cx="218520" cy="218520"/>
              </a:xfrm>
            </p:grpSpPr>
            <p:sp>
              <p:nvSpPr>
                <p:cNvPr id="755" name="Oval 716"/>
                <p:cNvSpPr/>
                <p:nvPr/>
              </p:nvSpPr>
              <p:spPr>
                <a:xfrm rot="132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717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718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58" name="Oval 719"/>
                <p:cNvSpPr/>
                <p:nvPr/>
              </p:nvSpPr>
              <p:spPr>
                <a:xfrm rot="4020000">
                  <a:off x="781128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720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0" name="Oval 721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22"/>
          <p:cNvGrpSpPr/>
          <p:nvPr/>
        </p:nvGrpSpPr>
        <p:grpSpPr>
          <a:xfrm>
            <a:off x="8314560" y="5731560"/>
            <a:ext cx="367560" cy="367920"/>
            <a:chOff x="8314560" y="5731560"/>
            <a:chExt cx="367560" cy="367920"/>
          </a:xfrm>
        </p:grpSpPr>
        <p:grpSp>
          <p:nvGrpSpPr>
            <p:cNvPr id="762" name="Group 723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63" name="Group 724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64" name="Oval 725"/>
                <p:cNvSpPr/>
                <p:nvPr/>
              </p:nvSpPr>
              <p:spPr>
                <a:xfrm>
                  <a:off x="8317080" y="5875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726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727"/>
              <p:cNvGrpSpPr/>
              <p:nvPr/>
            </p:nvGrpSpPr>
            <p:grpSpPr>
              <a:xfrm>
                <a:off x="8340480" y="5757840"/>
                <a:ext cx="315000" cy="315720"/>
                <a:chOff x="8340480" y="5757840"/>
                <a:chExt cx="315000" cy="315720"/>
              </a:xfrm>
            </p:grpSpPr>
            <p:sp>
              <p:nvSpPr>
                <p:cNvPr id="767" name="Oval 728"/>
                <p:cNvSpPr/>
                <p:nvPr/>
              </p:nvSpPr>
              <p:spPr>
                <a:xfrm rot="2700000">
                  <a:off x="8316360" y="587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729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730"/>
            <p:cNvGrpSpPr/>
            <p:nvPr/>
          </p:nvGrpSpPr>
          <p:grpSpPr>
            <a:xfrm>
              <a:off x="8314560" y="5731560"/>
              <a:ext cx="367560" cy="367920"/>
              <a:chOff x="8314560" y="5731560"/>
              <a:chExt cx="367560" cy="367920"/>
            </a:xfrm>
          </p:grpSpPr>
          <p:grpSp>
            <p:nvGrpSpPr>
              <p:cNvPr id="770" name="Group 731"/>
              <p:cNvGrpSpPr/>
              <p:nvPr/>
            </p:nvGrpSpPr>
            <p:grpSpPr>
              <a:xfrm>
                <a:off x="8314560" y="5731560"/>
                <a:ext cx="367560" cy="367920"/>
                <a:chOff x="8314560" y="5731560"/>
                <a:chExt cx="367560" cy="367920"/>
              </a:xfrm>
            </p:grpSpPr>
            <p:sp>
              <p:nvSpPr>
                <p:cNvPr id="771" name="Oval 732"/>
                <p:cNvSpPr/>
                <p:nvPr/>
              </p:nvSpPr>
              <p:spPr>
                <a:xfrm rot="1320000">
                  <a:off x="8316720" y="5874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733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734"/>
              <p:cNvGrpSpPr/>
              <p:nvPr/>
            </p:nvGrpSpPr>
            <p:grpSpPr>
              <a:xfrm>
                <a:off x="8315280" y="5732640"/>
                <a:ext cx="366120" cy="366480"/>
                <a:chOff x="8315280" y="5732640"/>
                <a:chExt cx="366120" cy="366480"/>
              </a:xfrm>
            </p:grpSpPr>
            <p:sp>
              <p:nvSpPr>
                <p:cNvPr id="774" name="Oval 735"/>
                <p:cNvSpPr/>
                <p:nvPr/>
              </p:nvSpPr>
              <p:spPr>
                <a:xfrm rot="402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Oval 736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Oval 737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738"/>
          <p:cNvGrpSpPr/>
          <p:nvPr/>
        </p:nvGrpSpPr>
        <p:grpSpPr>
          <a:xfrm>
            <a:off x="8777880" y="5155200"/>
            <a:ext cx="367920" cy="367920"/>
            <a:chOff x="8777880" y="5155200"/>
            <a:chExt cx="367920" cy="367920"/>
          </a:xfrm>
        </p:grpSpPr>
        <p:grpSp>
          <p:nvGrpSpPr>
            <p:cNvPr id="778" name="Group 739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79" name="Group 740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0" name="Oval 741"/>
                <p:cNvSpPr/>
                <p:nvPr/>
              </p:nvSpPr>
              <p:spPr>
                <a:xfrm>
                  <a:off x="8780400" y="5298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742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743"/>
              <p:cNvGrpSpPr/>
              <p:nvPr/>
            </p:nvGrpSpPr>
            <p:grpSpPr>
              <a:xfrm>
                <a:off x="8803800" y="5181480"/>
                <a:ext cx="315000" cy="315720"/>
                <a:chOff x="8803800" y="5181480"/>
                <a:chExt cx="315000" cy="315720"/>
              </a:xfrm>
            </p:grpSpPr>
            <p:sp>
              <p:nvSpPr>
                <p:cNvPr id="783" name="Oval 744"/>
                <p:cNvSpPr/>
                <p:nvPr/>
              </p:nvSpPr>
              <p:spPr>
                <a:xfrm rot="2700000">
                  <a:off x="877968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Oval 745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Group 746"/>
            <p:cNvGrpSpPr/>
            <p:nvPr/>
          </p:nvGrpSpPr>
          <p:grpSpPr>
            <a:xfrm>
              <a:off x="8777880" y="5155200"/>
              <a:ext cx="367920" cy="367920"/>
              <a:chOff x="8777880" y="5155200"/>
              <a:chExt cx="367920" cy="367920"/>
            </a:xfrm>
          </p:grpSpPr>
          <p:grpSp>
            <p:nvGrpSpPr>
              <p:cNvPr id="786" name="Group 747"/>
              <p:cNvGrpSpPr/>
              <p:nvPr/>
            </p:nvGrpSpPr>
            <p:grpSpPr>
              <a:xfrm>
                <a:off x="8777880" y="5155200"/>
                <a:ext cx="367920" cy="367920"/>
                <a:chOff x="8777880" y="5155200"/>
                <a:chExt cx="367920" cy="367920"/>
              </a:xfrm>
            </p:grpSpPr>
            <p:sp>
              <p:nvSpPr>
                <p:cNvPr id="787" name="Oval 748"/>
                <p:cNvSpPr/>
                <p:nvPr/>
              </p:nvSpPr>
              <p:spPr>
                <a:xfrm rot="1320000">
                  <a:off x="87800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749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750"/>
              <p:cNvGrpSpPr/>
              <p:nvPr/>
            </p:nvGrpSpPr>
            <p:grpSpPr>
              <a:xfrm>
                <a:off x="8778240" y="5156280"/>
                <a:ext cx="366480" cy="366480"/>
                <a:chOff x="8778240" y="5156280"/>
                <a:chExt cx="366480" cy="366480"/>
              </a:xfrm>
            </p:grpSpPr>
            <p:sp>
              <p:nvSpPr>
                <p:cNvPr id="790" name="Oval 751"/>
                <p:cNvSpPr/>
                <p:nvPr/>
              </p:nvSpPr>
              <p:spPr>
                <a:xfrm rot="402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752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Oval 753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754"/>
          <p:cNvGrpSpPr/>
          <p:nvPr/>
        </p:nvGrpSpPr>
        <p:grpSpPr>
          <a:xfrm>
            <a:off x="-573840" y="-432000"/>
            <a:ext cx="2794680" cy="1762200"/>
            <a:chOff x="-573840" y="-432000"/>
            <a:chExt cx="2794680" cy="1762200"/>
          </a:xfrm>
        </p:grpSpPr>
        <p:sp>
          <p:nvSpPr>
            <p:cNvPr id="794" name="未知"/>
            <p:cNvSpPr/>
            <p:nvPr/>
          </p:nvSpPr>
          <p:spPr>
            <a:xfrm flipH="1" rot="7023600">
              <a:off x="739440" y="-576720"/>
              <a:ext cx="275040" cy="215568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 flipH="1" rot="7023600">
              <a:off x="-110520" y="97920"/>
              <a:ext cx="30600" cy="831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757"/>
            <p:cNvGrpSpPr/>
            <p:nvPr/>
          </p:nvGrpSpPr>
          <p:grpSpPr>
            <a:xfrm>
              <a:off x="-573840" y="74520"/>
              <a:ext cx="857520" cy="716400"/>
              <a:chOff x="-573840" y="74520"/>
              <a:chExt cx="857520" cy="716400"/>
            </a:xfrm>
          </p:grpSpPr>
          <p:grpSp>
            <p:nvGrpSpPr>
              <p:cNvPr id="797" name="Group 758"/>
              <p:cNvGrpSpPr/>
              <p:nvPr/>
            </p:nvGrpSpPr>
            <p:grpSpPr>
              <a:xfrm>
                <a:off x="-573840" y="74520"/>
                <a:ext cx="824760" cy="716400"/>
                <a:chOff x="-573840" y="74520"/>
                <a:chExt cx="824760" cy="716400"/>
              </a:xfrm>
            </p:grpSpPr>
            <p:sp>
              <p:nvSpPr>
                <p:cNvPr id="798" name="未知"/>
                <p:cNvSpPr/>
                <p:nvPr/>
              </p:nvSpPr>
              <p:spPr>
                <a:xfrm flipH="1" rot="6883200">
                  <a:off x="-374040" y="92880"/>
                  <a:ext cx="424440" cy="7124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未知"/>
                <p:cNvSpPr/>
                <p:nvPr/>
              </p:nvSpPr>
              <p:spPr>
                <a:xfrm flipH="1" rot="6883200">
                  <a:off x="-310680" y="274680"/>
                  <a:ext cx="359640" cy="3387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未知"/>
                <p:cNvSpPr/>
                <p:nvPr/>
              </p:nvSpPr>
              <p:spPr>
                <a:xfrm flipH="1" rot="6883200">
                  <a:off x="-337320" y="190080"/>
                  <a:ext cx="523800" cy="4204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未知"/>
                <p:cNvSpPr/>
                <p:nvPr/>
              </p:nvSpPr>
              <p:spPr>
                <a:xfrm flipH="1" rot="6883200">
                  <a:off x="-248040" y="469800"/>
                  <a:ext cx="170280" cy="41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未知"/>
                <p:cNvSpPr/>
                <p:nvPr/>
              </p:nvSpPr>
              <p:spPr>
                <a:xfrm flipH="1" rot="6883200">
                  <a:off x="-137160" y="416160"/>
                  <a:ext cx="219960" cy="15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未知"/>
                <p:cNvSpPr/>
                <p:nvPr/>
              </p:nvSpPr>
              <p:spPr>
                <a:xfrm flipH="1" rot="6883200">
                  <a:off x="-65160" y="385560"/>
                  <a:ext cx="242640" cy="205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未知"/>
                <p:cNvSpPr/>
                <p:nvPr/>
              </p:nvSpPr>
              <p:spPr>
                <a:xfrm flipH="1" rot="6883200">
                  <a:off x="-289800" y="493200"/>
                  <a:ext cx="100800" cy="262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未知"/>
                <p:cNvSpPr/>
                <p:nvPr/>
              </p:nvSpPr>
              <p:spPr>
                <a:xfrm flipH="1" rot="6883200">
                  <a:off x="-334800" y="520920"/>
                  <a:ext cx="52560" cy="104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未知"/>
                <p:cNvSpPr/>
                <p:nvPr/>
              </p:nvSpPr>
              <p:spPr>
                <a:xfrm flipH="1" rot="6883200">
                  <a:off x="-348120" y="459000"/>
                  <a:ext cx="38520" cy="734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未知"/>
                <p:cNvSpPr/>
                <p:nvPr/>
              </p:nvSpPr>
              <p:spPr>
                <a:xfrm flipH="1" rot="6883200">
                  <a:off x="-336240" y="391680"/>
                  <a:ext cx="67320" cy="1346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未知"/>
                <p:cNvSpPr/>
                <p:nvPr/>
              </p:nvSpPr>
              <p:spPr>
                <a:xfrm flipH="1" rot="6883200">
                  <a:off x="-318240" y="284760"/>
                  <a:ext cx="107640" cy="236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未知"/>
                <p:cNvSpPr/>
                <p:nvPr/>
              </p:nvSpPr>
              <p:spPr>
                <a:xfrm flipH="1" rot="6883200">
                  <a:off x="-285120" y="167760"/>
                  <a:ext cx="115920" cy="3459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未知"/>
                <p:cNvSpPr/>
                <p:nvPr/>
              </p:nvSpPr>
              <p:spPr>
                <a:xfrm flipH="1" rot="6883200">
                  <a:off x="-335880" y="227880"/>
                  <a:ext cx="12600" cy="1378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未知"/>
                <p:cNvSpPr/>
                <p:nvPr/>
              </p:nvSpPr>
              <p:spPr>
                <a:xfrm flipH="1" rot="6883200">
                  <a:off x="-225000" y="65520"/>
                  <a:ext cx="79920" cy="426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未知"/>
                <p:cNvSpPr/>
                <p:nvPr/>
              </p:nvSpPr>
              <p:spPr>
                <a:xfrm flipH="1" rot="6883200">
                  <a:off x="-253080" y="315000"/>
                  <a:ext cx="59400" cy="676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未知"/>
                <p:cNvSpPr/>
                <p:nvPr/>
              </p:nvSpPr>
              <p:spPr>
                <a:xfrm flipH="1" rot="6883200">
                  <a:off x="-351720" y="330120"/>
                  <a:ext cx="28800" cy="1087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未知"/>
                <p:cNvSpPr/>
                <p:nvPr/>
              </p:nvSpPr>
              <p:spPr>
                <a:xfrm flipH="1" rot="6883200">
                  <a:off x="-204480" y="497880"/>
                  <a:ext cx="62640" cy="23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未知"/>
                <p:cNvSpPr/>
                <p:nvPr/>
              </p:nvSpPr>
              <p:spPr>
                <a:xfrm flipH="1" rot="6883200">
                  <a:off x="-163440" y="522360"/>
                  <a:ext cx="38520" cy="42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未知"/>
                <p:cNvSpPr/>
                <p:nvPr/>
              </p:nvSpPr>
              <p:spPr>
                <a:xfrm flipH="1" rot="6883200">
                  <a:off x="-297720" y="340200"/>
                  <a:ext cx="12600" cy="259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未知"/>
                <p:cNvSpPr/>
                <p:nvPr/>
              </p:nvSpPr>
              <p:spPr>
                <a:xfrm flipH="1" rot="6883200">
                  <a:off x="-93240" y="52488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未知"/>
                <p:cNvSpPr/>
                <p:nvPr/>
              </p:nvSpPr>
              <p:spPr>
                <a:xfrm flipH="1" rot="6883200">
                  <a:off x="4320" y="519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未知"/>
                <p:cNvSpPr/>
                <p:nvPr/>
              </p:nvSpPr>
              <p:spPr>
                <a:xfrm flipH="1" rot="6883200">
                  <a:off x="-227160" y="55836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781"/>
              <p:cNvGrpSpPr/>
              <p:nvPr/>
            </p:nvGrpSpPr>
            <p:grpSpPr>
              <a:xfrm>
                <a:off x="219240" y="232200"/>
                <a:ext cx="64440" cy="51840"/>
                <a:chOff x="219240" y="232200"/>
                <a:chExt cx="64440" cy="51840"/>
              </a:xfrm>
            </p:grpSpPr>
            <p:sp>
              <p:nvSpPr>
                <p:cNvPr id="821" name="未知"/>
                <p:cNvSpPr/>
                <p:nvPr/>
              </p:nvSpPr>
              <p:spPr>
                <a:xfrm flipH="1" rot="11248200">
                  <a:off x="221400" y="235440"/>
                  <a:ext cx="59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未知"/>
                <p:cNvSpPr/>
                <p:nvPr/>
              </p:nvSpPr>
              <p:spPr>
                <a:xfrm flipH="1" rot="14895000">
                  <a:off x="228600" y="237240"/>
                  <a:ext cx="22680" cy="360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Group 784"/>
            <p:cNvGrpSpPr/>
            <p:nvPr/>
          </p:nvGrpSpPr>
          <p:grpSpPr>
            <a:xfrm>
              <a:off x="47880" y="205560"/>
              <a:ext cx="913320" cy="833760"/>
              <a:chOff x="47880" y="205560"/>
              <a:chExt cx="913320" cy="833760"/>
            </a:xfrm>
          </p:grpSpPr>
          <p:grpSp>
            <p:nvGrpSpPr>
              <p:cNvPr id="824" name="Group 785"/>
              <p:cNvGrpSpPr/>
              <p:nvPr/>
            </p:nvGrpSpPr>
            <p:grpSpPr>
              <a:xfrm>
                <a:off x="47880" y="205560"/>
                <a:ext cx="913320" cy="833760"/>
                <a:chOff x="47880" y="205560"/>
                <a:chExt cx="913320" cy="833760"/>
              </a:xfrm>
            </p:grpSpPr>
            <p:sp>
              <p:nvSpPr>
                <p:cNvPr id="825" name="未知"/>
                <p:cNvSpPr/>
                <p:nvPr/>
              </p:nvSpPr>
              <p:spPr>
                <a:xfrm flipH="1" rot="2120400">
                  <a:off x="210240" y="440640"/>
                  <a:ext cx="686520" cy="4402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未知"/>
                <p:cNvSpPr/>
                <p:nvPr/>
              </p:nvSpPr>
              <p:spPr>
                <a:xfrm flipH="1" rot="2120400">
                  <a:off x="248760" y="526680"/>
                  <a:ext cx="5821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未知"/>
                <p:cNvSpPr/>
                <p:nvPr/>
              </p:nvSpPr>
              <p:spPr>
                <a:xfrm flipH="1" rot="2120400">
                  <a:off x="45000" y="426600"/>
                  <a:ext cx="84744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未知"/>
                <p:cNvSpPr/>
                <p:nvPr/>
              </p:nvSpPr>
              <p:spPr>
                <a:xfrm flipH="1" rot="2120400">
                  <a:off x="473040" y="676440"/>
                  <a:ext cx="275400" cy="25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未知"/>
                <p:cNvSpPr/>
                <p:nvPr/>
              </p:nvSpPr>
              <p:spPr>
                <a:xfrm flipH="1" rot="2120400">
                  <a:off x="406080" y="528120"/>
                  <a:ext cx="35604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未知"/>
                <p:cNvSpPr/>
                <p:nvPr/>
              </p:nvSpPr>
              <p:spPr>
                <a:xfrm flipH="1" rot="2120400">
                  <a:off x="361080" y="437040"/>
                  <a:ext cx="39276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未知"/>
                <p:cNvSpPr/>
                <p:nvPr/>
              </p:nvSpPr>
              <p:spPr>
                <a:xfrm flipH="1" rot="2120400">
                  <a:off x="567360" y="755280"/>
                  <a:ext cx="16308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未知"/>
                <p:cNvSpPr/>
                <p:nvPr/>
              </p:nvSpPr>
              <p:spPr>
                <a:xfrm flipH="1" rot="2120400">
                  <a:off x="648000" y="831960"/>
                  <a:ext cx="85320" cy="68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未知"/>
                <p:cNvSpPr/>
                <p:nvPr/>
              </p:nvSpPr>
              <p:spPr>
                <a:xfrm flipH="1" rot="2120400">
                  <a:off x="623880" y="811080"/>
                  <a:ext cx="6228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未知"/>
                <p:cNvSpPr/>
                <p:nvPr/>
              </p:nvSpPr>
              <p:spPr>
                <a:xfrm flipH="1" rot="2120400">
                  <a:off x="543600" y="745920"/>
                  <a:ext cx="10908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未知"/>
                <p:cNvSpPr/>
                <p:nvPr/>
              </p:nvSpPr>
              <p:spPr>
                <a:xfrm flipH="1" rot="2120400">
                  <a:off x="426960" y="645480"/>
                  <a:ext cx="17496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未知"/>
                <p:cNvSpPr/>
                <p:nvPr/>
              </p:nvSpPr>
              <p:spPr>
                <a:xfrm flipH="1" rot="2120400">
                  <a:off x="329040" y="541080"/>
                  <a:ext cx="187560" cy="213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未知"/>
                <p:cNvSpPr/>
                <p:nvPr/>
              </p:nvSpPr>
              <p:spPr>
                <a:xfrm flipH="1" rot="2120400">
                  <a:off x="377280" y="66492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未知"/>
                <p:cNvSpPr/>
                <p:nvPr/>
              </p:nvSpPr>
              <p:spPr>
                <a:xfrm flipH="1" rot="2120400">
                  <a:off x="264600" y="441360"/>
                  <a:ext cx="12960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未知"/>
                <p:cNvSpPr/>
                <p:nvPr/>
              </p:nvSpPr>
              <p:spPr>
                <a:xfrm flipH="1" rot="2120400">
                  <a:off x="384840" y="629640"/>
                  <a:ext cx="96120" cy="414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未知"/>
                <p:cNvSpPr/>
                <p:nvPr/>
              </p:nvSpPr>
              <p:spPr>
                <a:xfrm flipH="1" rot="2120400">
                  <a:off x="482760" y="735120"/>
                  <a:ext cx="4644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未知"/>
                <p:cNvSpPr/>
                <p:nvPr/>
              </p:nvSpPr>
              <p:spPr>
                <a:xfrm flipH="1" rot="2120400">
                  <a:off x="588240" y="703080"/>
                  <a:ext cx="101160" cy="14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未知"/>
                <p:cNvSpPr/>
                <p:nvPr/>
              </p:nvSpPr>
              <p:spPr>
                <a:xfrm flipH="1" rot="2120400">
                  <a:off x="646560" y="694800"/>
                  <a:ext cx="6228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未知"/>
                <p:cNvSpPr/>
                <p:nvPr/>
              </p:nvSpPr>
              <p:spPr>
                <a:xfrm flipH="1" rot="2120400">
                  <a:off x="444240" y="702720"/>
                  <a:ext cx="2052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未知"/>
                <p:cNvSpPr/>
                <p:nvPr/>
              </p:nvSpPr>
              <p:spPr>
                <a:xfrm flipH="1" rot="2120400">
                  <a:off x="639360" y="64656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未知"/>
                <p:cNvSpPr/>
                <p:nvPr/>
              </p:nvSpPr>
              <p:spPr>
                <a:xfrm flipH="1" rot="2120400">
                  <a:off x="613440" y="56052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未知"/>
                <p:cNvSpPr/>
                <p:nvPr/>
              </p:nvSpPr>
              <p:spPr>
                <a:xfrm flipH="1" rot="2120400">
                  <a:off x="712440" y="783000"/>
                  <a:ext cx="1584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808"/>
              <p:cNvGrpSpPr/>
              <p:nvPr/>
            </p:nvGrpSpPr>
            <p:grpSpPr>
              <a:xfrm>
                <a:off x="219600" y="266760"/>
                <a:ext cx="80280" cy="56880"/>
                <a:chOff x="219600" y="266760"/>
                <a:chExt cx="80280" cy="56880"/>
              </a:xfrm>
            </p:grpSpPr>
            <p:sp>
              <p:nvSpPr>
                <p:cNvPr id="848" name="未知"/>
                <p:cNvSpPr/>
                <p:nvPr/>
              </p:nvSpPr>
              <p:spPr>
                <a:xfrm flipH="1" rot="6484800">
                  <a:off x="241200" y="258480"/>
                  <a:ext cx="36360" cy="727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未知"/>
                <p:cNvSpPr/>
                <p:nvPr/>
              </p:nvSpPr>
              <p:spPr>
                <a:xfrm flipH="1" rot="10131600">
                  <a:off x="236880" y="2898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811"/>
            <p:cNvGrpSpPr/>
            <p:nvPr/>
          </p:nvGrpSpPr>
          <p:grpSpPr>
            <a:xfrm>
              <a:off x="15840" y="-432000"/>
              <a:ext cx="1297080" cy="973440"/>
              <a:chOff x="15840" y="-432000"/>
              <a:chExt cx="1297080" cy="973440"/>
            </a:xfrm>
          </p:grpSpPr>
          <p:grpSp>
            <p:nvGrpSpPr>
              <p:cNvPr id="851" name="Group 812"/>
              <p:cNvGrpSpPr/>
              <p:nvPr/>
            </p:nvGrpSpPr>
            <p:grpSpPr>
              <a:xfrm>
                <a:off x="15840" y="-432000"/>
                <a:ext cx="765000" cy="776520"/>
                <a:chOff x="15840" y="-432000"/>
                <a:chExt cx="765000" cy="776520"/>
              </a:xfrm>
            </p:grpSpPr>
            <p:grpSp>
              <p:nvGrpSpPr>
                <p:cNvPr id="852" name="Group 813"/>
                <p:cNvGrpSpPr/>
                <p:nvPr/>
              </p:nvGrpSpPr>
              <p:grpSpPr>
                <a:xfrm>
                  <a:off x="15840" y="-432000"/>
                  <a:ext cx="765000" cy="727200"/>
                  <a:chOff x="15840" y="-432000"/>
                  <a:chExt cx="765000" cy="727200"/>
                </a:xfrm>
              </p:grpSpPr>
              <p:sp>
                <p:nvSpPr>
                  <p:cNvPr id="853" name="未知"/>
                  <p:cNvSpPr/>
                  <p:nvPr/>
                </p:nvSpPr>
                <p:spPr>
                  <a:xfrm rot="7164000">
                    <a:off x="203040" y="-429480"/>
                    <a:ext cx="390240" cy="65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未知"/>
                  <p:cNvSpPr/>
                  <p:nvPr/>
                </p:nvSpPr>
                <p:spPr>
                  <a:xfrm rot="7164000">
                    <a:off x="245880" y="-231480"/>
                    <a:ext cx="33084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未知"/>
                  <p:cNvSpPr/>
                  <p:nvPr/>
                </p:nvSpPr>
                <p:spPr>
                  <a:xfrm rot="7164000">
                    <a:off x="167040" y="-204480"/>
                    <a:ext cx="48168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未知"/>
                  <p:cNvSpPr/>
                  <p:nvPr/>
                </p:nvSpPr>
                <p:spPr>
                  <a:xfrm rot="7164000">
                    <a:off x="349920" y="-144000"/>
                    <a:ext cx="1566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未知"/>
                  <p:cNvSpPr/>
                  <p:nvPr/>
                </p:nvSpPr>
                <p:spPr>
                  <a:xfrm rot="7164000">
                    <a:off x="403200" y="-96840"/>
                    <a:ext cx="2023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未知"/>
                  <p:cNvSpPr/>
                  <p:nvPr/>
                </p:nvSpPr>
                <p:spPr>
                  <a:xfrm rot="7164000">
                    <a:off x="434520" y="-54000"/>
                    <a:ext cx="22320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未知"/>
                  <p:cNvSpPr/>
                  <p:nvPr/>
                </p:nvSpPr>
                <p:spPr>
                  <a:xfrm rot="7164000">
                    <a:off x="352080" y="-201600"/>
                    <a:ext cx="928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未知"/>
                  <p:cNvSpPr/>
                  <p:nvPr/>
                </p:nvSpPr>
                <p:spPr>
                  <a:xfrm rot="7164000">
                    <a:off x="351720" y="-255960"/>
                    <a:ext cx="48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未知"/>
                  <p:cNvSpPr/>
                  <p:nvPr/>
                </p:nvSpPr>
                <p:spPr>
                  <a:xfrm rot="7164000">
                    <a:off x="325080" y="-284400"/>
                    <a:ext cx="352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未知"/>
                  <p:cNvSpPr/>
                  <p:nvPr/>
                </p:nvSpPr>
                <p:spPr>
                  <a:xfrm rot="7164000">
                    <a:off x="297360" y="-273240"/>
                    <a:ext cx="6192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未知"/>
                  <p:cNvSpPr/>
                  <p:nvPr/>
                </p:nvSpPr>
                <p:spPr>
                  <a:xfrm rot="7164000">
                    <a:off x="258120" y="-261720"/>
                    <a:ext cx="9900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未知"/>
                  <p:cNvSpPr/>
                  <p:nvPr/>
                </p:nvSpPr>
                <p:spPr>
                  <a:xfrm rot="7164000">
                    <a:off x="228240" y="-250920"/>
                    <a:ext cx="10656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未知"/>
                  <p:cNvSpPr/>
                  <p:nvPr/>
                </p:nvSpPr>
                <p:spPr>
                  <a:xfrm rot="7164000">
                    <a:off x="187560" y="-209160"/>
                    <a:ext cx="115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未知"/>
                  <p:cNvSpPr/>
                  <p:nvPr/>
                </p:nvSpPr>
                <p:spPr>
                  <a:xfrm rot="7164000">
                    <a:off x="221400" y="-223920"/>
                    <a:ext cx="7344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未知"/>
                  <p:cNvSpPr/>
                  <p:nvPr/>
                </p:nvSpPr>
                <p:spPr>
                  <a:xfrm rot="7164000">
                    <a:off x="262440" y="-123840"/>
                    <a:ext cx="543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未知"/>
                  <p:cNvSpPr/>
                  <p:nvPr/>
                </p:nvSpPr>
                <p:spPr>
                  <a:xfrm rot="7164000">
                    <a:off x="240840" y="-247320"/>
                    <a:ext cx="262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未知"/>
                  <p:cNvSpPr/>
                  <p:nvPr/>
                </p:nvSpPr>
                <p:spPr>
                  <a:xfrm rot="7164000">
                    <a:off x="407880" y="-153000"/>
                    <a:ext cx="57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未知"/>
                  <p:cNvSpPr/>
                  <p:nvPr/>
                </p:nvSpPr>
                <p:spPr>
                  <a:xfrm rot="7164000">
                    <a:off x="460440" y="-1584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未知"/>
                  <p:cNvSpPr/>
                  <p:nvPr/>
                </p:nvSpPr>
                <p:spPr>
                  <a:xfrm rot="7164000">
                    <a:off x="250560" y="-15876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未知"/>
                  <p:cNvSpPr/>
                  <p:nvPr/>
                </p:nvSpPr>
                <p:spPr>
                  <a:xfrm rot="7164000">
                    <a:off x="495360" y="-97560"/>
                    <a:ext cx="100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未知"/>
                  <p:cNvSpPr/>
                  <p:nvPr/>
                </p:nvSpPr>
                <p:spPr>
                  <a:xfrm rot="7164000">
                    <a:off x="546120" y="-25560"/>
                    <a:ext cx="115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未知"/>
                  <p:cNvSpPr/>
                  <p:nvPr/>
                </p:nvSpPr>
                <p:spPr>
                  <a:xfrm rot="7164000">
                    <a:off x="445680" y="-211320"/>
                    <a:ext cx="90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Group 836"/>
                <p:cNvGrpSpPr/>
                <p:nvPr/>
              </p:nvGrpSpPr>
              <p:grpSpPr>
                <a:xfrm>
                  <a:off x="445680" y="276840"/>
                  <a:ext cx="67320" cy="67680"/>
                  <a:chOff x="445680" y="276840"/>
                  <a:chExt cx="67320" cy="67680"/>
                </a:xfrm>
              </p:grpSpPr>
              <p:sp>
                <p:nvSpPr>
                  <p:cNvPr id="876" name="未知"/>
                  <p:cNvSpPr/>
                  <p:nvPr/>
                </p:nvSpPr>
                <p:spPr>
                  <a:xfrm rot="2799000">
                    <a:off x="451800" y="290160"/>
                    <a:ext cx="54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未知"/>
                  <p:cNvSpPr/>
                  <p:nvPr/>
                </p:nvSpPr>
                <p:spPr>
                  <a:xfrm rot="20752800">
                    <a:off x="460800" y="287640"/>
                    <a:ext cx="20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8" name="Group 839"/>
              <p:cNvGrpSpPr/>
              <p:nvPr/>
            </p:nvGrpSpPr>
            <p:grpSpPr>
              <a:xfrm>
                <a:off x="448920" y="32040"/>
                <a:ext cx="864000" cy="509400"/>
                <a:chOff x="448920" y="32040"/>
                <a:chExt cx="864000" cy="509400"/>
              </a:xfrm>
            </p:grpSpPr>
            <p:grpSp>
              <p:nvGrpSpPr>
                <p:cNvPr id="879" name="Group 840"/>
                <p:cNvGrpSpPr/>
                <p:nvPr/>
              </p:nvGrpSpPr>
              <p:grpSpPr>
                <a:xfrm>
                  <a:off x="448920" y="32040"/>
                  <a:ext cx="864000" cy="509400"/>
                  <a:chOff x="448920" y="32040"/>
                  <a:chExt cx="864000" cy="509400"/>
                </a:xfrm>
              </p:grpSpPr>
              <p:sp>
                <p:nvSpPr>
                  <p:cNvPr id="880" name="未知"/>
                  <p:cNvSpPr/>
                  <p:nvPr/>
                </p:nvSpPr>
                <p:spPr>
                  <a:xfrm rot="11388000">
                    <a:off x="658800" y="81720"/>
                    <a:ext cx="623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未知"/>
                  <p:cNvSpPr/>
                  <p:nvPr/>
                </p:nvSpPr>
                <p:spPr>
                  <a:xfrm rot="11388000">
                    <a:off x="678600" y="200160"/>
                    <a:ext cx="5284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未知"/>
                  <p:cNvSpPr/>
                  <p:nvPr/>
                </p:nvSpPr>
                <p:spPr>
                  <a:xfrm rot="11388000">
                    <a:off x="463680" y="178200"/>
                    <a:ext cx="7696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未知"/>
                  <p:cNvSpPr/>
                  <p:nvPr/>
                </p:nvSpPr>
                <p:spPr>
                  <a:xfrm rot="11388000">
                    <a:off x="900000" y="293760"/>
                    <a:ext cx="249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未知"/>
                  <p:cNvSpPr/>
                  <p:nvPr/>
                </p:nvSpPr>
                <p:spPr>
                  <a:xfrm rot="11388000">
                    <a:off x="772920" y="317520"/>
                    <a:ext cx="32328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未知"/>
                  <p:cNvSpPr/>
                  <p:nvPr/>
                </p:nvSpPr>
                <p:spPr>
                  <a:xfrm rot="11388000">
                    <a:off x="691200" y="334440"/>
                    <a:ext cx="35712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未知"/>
                  <p:cNvSpPr/>
                  <p:nvPr/>
                </p:nvSpPr>
                <p:spPr>
                  <a:xfrm rot="11388000">
                    <a:off x="1023120" y="273960"/>
                    <a:ext cx="148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未知"/>
                  <p:cNvSpPr/>
                  <p:nvPr/>
                </p:nvSpPr>
                <p:spPr>
                  <a:xfrm rot="11388000">
                    <a:off x="1131840" y="259560"/>
                    <a:ext cx="77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未知"/>
                  <p:cNvSpPr/>
                  <p:nvPr/>
                </p:nvSpPr>
                <p:spPr>
                  <a:xfrm rot="11388000">
                    <a:off x="1118520" y="218880"/>
                    <a:ext cx="56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未知"/>
                  <p:cNvSpPr/>
                  <p:nvPr/>
                </p:nvSpPr>
                <p:spPr>
                  <a:xfrm rot="11388000">
                    <a:off x="1031040" y="194400"/>
                    <a:ext cx="9900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未知"/>
                  <p:cNvSpPr/>
                  <p:nvPr/>
                </p:nvSpPr>
                <p:spPr>
                  <a:xfrm rot="11388000">
                    <a:off x="903960" y="155160"/>
                    <a:ext cx="15840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未知"/>
                  <p:cNvSpPr/>
                  <p:nvPr/>
                </p:nvSpPr>
                <p:spPr>
                  <a:xfrm rot="11388000">
                    <a:off x="793080" y="110520"/>
                    <a:ext cx="1702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未知"/>
                  <p:cNvSpPr/>
                  <p:nvPr/>
                </p:nvSpPr>
                <p:spPr>
                  <a:xfrm rot="11388000">
                    <a:off x="884160" y="107280"/>
                    <a:ext cx="187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未知"/>
                  <p:cNvSpPr/>
                  <p:nvPr/>
                </p:nvSpPr>
                <p:spPr>
                  <a:xfrm rot="11388000">
                    <a:off x="711360" y="75240"/>
                    <a:ext cx="11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未知"/>
                  <p:cNvSpPr/>
                  <p:nvPr/>
                </p:nvSpPr>
                <p:spPr>
                  <a:xfrm rot="11388000">
                    <a:off x="842400" y="195120"/>
                    <a:ext cx="87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未知"/>
                  <p:cNvSpPr/>
                  <p:nvPr/>
                </p:nvSpPr>
                <p:spPr>
                  <a:xfrm rot="11388000">
                    <a:off x="988560" y="153360"/>
                    <a:ext cx="42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未知"/>
                  <p:cNvSpPr/>
                  <p:nvPr/>
                </p:nvSpPr>
                <p:spPr>
                  <a:xfrm rot="11388000">
                    <a:off x="1010520" y="303120"/>
                    <a:ext cx="921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未知"/>
                  <p:cNvSpPr/>
                  <p:nvPr/>
                </p:nvSpPr>
                <p:spPr>
                  <a:xfrm rot="11388000">
                    <a:off x="1051200" y="326160"/>
                    <a:ext cx="56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未知"/>
                  <p:cNvSpPr/>
                  <p:nvPr/>
                </p:nvSpPr>
                <p:spPr>
                  <a:xfrm rot="11388000">
                    <a:off x="930240" y="181080"/>
                    <a:ext cx="18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未知"/>
                  <p:cNvSpPr/>
                  <p:nvPr/>
                </p:nvSpPr>
                <p:spPr>
                  <a:xfrm rot="11388000">
                    <a:off x="1016280" y="351000"/>
                    <a:ext cx="165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未知"/>
                  <p:cNvSpPr/>
                  <p:nvPr/>
                </p:nvSpPr>
                <p:spPr>
                  <a:xfrm rot="11388000">
                    <a:off x="945000" y="388440"/>
                    <a:ext cx="187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未知"/>
                  <p:cNvSpPr/>
                  <p:nvPr/>
                </p:nvSpPr>
                <p:spPr>
                  <a:xfrm rot="11388000">
                    <a:off x="1149840" y="31212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Group 863"/>
                <p:cNvGrpSpPr/>
                <p:nvPr/>
              </p:nvGrpSpPr>
              <p:grpSpPr>
                <a:xfrm>
                  <a:off x="506880" y="306360"/>
                  <a:ext cx="74160" cy="60480"/>
                  <a:chOff x="506880" y="306360"/>
                  <a:chExt cx="74160" cy="60480"/>
                </a:xfrm>
              </p:grpSpPr>
              <p:sp>
                <p:nvSpPr>
                  <p:cNvPr id="903" name="未知"/>
                  <p:cNvSpPr/>
                  <p:nvPr/>
                </p:nvSpPr>
                <p:spPr>
                  <a:xfrm rot="7023600">
                    <a:off x="526680" y="303480"/>
                    <a:ext cx="34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未知"/>
                  <p:cNvSpPr/>
                  <p:nvPr/>
                </p:nvSpPr>
                <p:spPr>
                  <a:xfrm rot="3376800">
                    <a:off x="528120" y="318600"/>
                    <a:ext cx="33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5" name="Group 866"/>
            <p:cNvGrpSpPr/>
            <p:nvPr/>
          </p:nvGrpSpPr>
          <p:grpSpPr>
            <a:xfrm>
              <a:off x="1062000" y="536760"/>
              <a:ext cx="748800" cy="784800"/>
              <a:chOff x="1062000" y="536760"/>
              <a:chExt cx="748800" cy="784800"/>
            </a:xfrm>
          </p:grpSpPr>
          <p:grpSp>
            <p:nvGrpSpPr>
              <p:cNvPr id="906" name="Group 867"/>
              <p:cNvGrpSpPr/>
              <p:nvPr/>
            </p:nvGrpSpPr>
            <p:grpSpPr>
              <a:xfrm>
                <a:off x="1062000" y="536760"/>
                <a:ext cx="748800" cy="784800"/>
                <a:chOff x="1062000" y="536760"/>
                <a:chExt cx="748800" cy="784800"/>
              </a:xfrm>
            </p:grpSpPr>
            <p:sp>
              <p:nvSpPr>
                <p:cNvPr id="907" name="未知"/>
                <p:cNvSpPr/>
                <p:nvPr/>
              </p:nvSpPr>
              <p:spPr>
                <a:xfrm flipH="1" rot="2658600">
                  <a:off x="1164600" y="784440"/>
                  <a:ext cx="596880" cy="3826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未知"/>
                <p:cNvSpPr/>
                <p:nvPr/>
              </p:nvSpPr>
              <p:spPr>
                <a:xfrm flipH="1" rot="2658600">
                  <a:off x="1201680" y="857520"/>
                  <a:ext cx="506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未知"/>
                <p:cNvSpPr/>
                <p:nvPr/>
              </p:nvSpPr>
              <p:spPr>
                <a:xfrm flipH="1" rot="2658600">
                  <a:off x="1035360" y="761760"/>
                  <a:ext cx="736920" cy="2257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未知"/>
                <p:cNvSpPr/>
                <p:nvPr/>
              </p:nvSpPr>
              <p:spPr>
                <a:xfrm flipH="1" rot="2658600">
                  <a:off x="1388520" y="995760"/>
                  <a:ext cx="23940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未知"/>
                <p:cNvSpPr/>
                <p:nvPr/>
              </p:nvSpPr>
              <p:spPr>
                <a:xfrm flipH="1" rot="2658600">
                  <a:off x="1346400" y="864720"/>
                  <a:ext cx="3096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未知"/>
                <p:cNvSpPr/>
                <p:nvPr/>
              </p:nvSpPr>
              <p:spPr>
                <a:xfrm flipH="1" rot="2658600">
                  <a:off x="1316880" y="783720"/>
                  <a:ext cx="34164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未知"/>
                <p:cNvSpPr/>
                <p:nvPr/>
              </p:nvSpPr>
              <p:spPr>
                <a:xfrm flipH="1" rot="2658600">
                  <a:off x="1459800" y="1069200"/>
                  <a:ext cx="14184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未知"/>
                <p:cNvSpPr/>
                <p:nvPr/>
              </p:nvSpPr>
              <p:spPr>
                <a:xfrm flipH="1" rot="2658600">
                  <a:off x="1520640" y="1140480"/>
                  <a:ext cx="741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未知"/>
                <p:cNvSpPr/>
                <p:nvPr/>
              </p:nvSpPr>
              <p:spPr>
                <a:xfrm flipH="1" rot="2658600">
                  <a:off x="1500120" y="1117800"/>
                  <a:ext cx="54360" cy="388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未知"/>
                <p:cNvSpPr/>
                <p:nvPr/>
              </p:nvSpPr>
              <p:spPr>
                <a:xfrm flipH="1" rot="2658600">
                  <a:off x="1437840" y="1053360"/>
                  <a:ext cx="94680" cy="727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未知"/>
                <p:cNvSpPr/>
                <p:nvPr/>
              </p:nvSpPr>
              <p:spPr>
                <a:xfrm flipH="1" rot="2658600">
                  <a:off x="1346040" y="956520"/>
                  <a:ext cx="15156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未知"/>
                <p:cNvSpPr/>
                <p:nvPr/>
              </p:nvSpPr>
              <p:spPr>
                <a:xfrm flipH="1" rot="2658600">
                  <a:off x="1271520" y="853560"/>
                  <a:ext cx="16308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未知"/>
                <p:cNvSpPr/>
                <p:nvPr/>
              </p:nvSpPr>
              <p:spPr>
                <a:xfrm flipH="1" rot="2658600">
                  <a:off x="1305720" y="955800"/>
                  <a:ext cx="17640" cy="734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未知"/>
                <p:cNvSpPr/>
                <p:nvPr/>
              </p:nvSpPr>
              <p:spPr>
                <a:xfrm flipH="1" rot="2658600">
                  <a:off x="1225800" y="754200"/>
                  <a:ext cx="1126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未知"/>
                <p:cNvSpPr/>
                <p:nvPr/>
              </p:nvSpPr>
              <p:spPr>
                <a:xfrm flipH="1" rot="2658600">
                  <a:off x="1319040" y="930960"/>
                  <a:ext cx="83520" cy="363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未知"/>
                <p:cNvSpPr/>
                <p:nvPr/>
              </p:nvSpPr>
              <p:spPr>
                <a:xfrm flipH="1" rot="2658600">
                  <a:off x="1387800" y="1032120"/>
                  <a:ext cx="40320" cy="58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未知"/>
                <p:cNvSpPr/>
                <p:nvPr/>
              </p:nvSpPr>
              <p:spPr>
                <a:xfrm flipH="1" rot="2658600">
                  <a:off x="1485360" y="1023120"/>
                  <a:ext cx="88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未知"/>
                <p:cNvSpPr/>
                <p:nvPr/>
              </p:nvSpPr>
              <p:spPr>
                <a:xfrm flipH="1" rot="2658600">
                  <a:off x="1536120" y="1020600"/>
                  <a:ext cx="5436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未知"/>
                <p:cNvSpPr/>
                <p:nvPr/>
              </p:nvSpPr>
              <p:spPr>
                <a:xfrm flipH="1" rot="2658600">
                  <a:off x="1363320" y="99792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未知"/>
                <p:cNvSpPr/>
                <p:nvPr/>
              </p:nvSpPr>
              <p:spPr>
                <a:xfrm flipH="1" rot="2658600">
                  <a:off x="1537920" y="97596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未知"/>
                <p:cNvSpPr/>
                <p:nvPr/>
              </p:nvSpPr>
              <p:spPr>
                <a:xfrm flipH="1" rot="2658600">
                  <a:off x="1527840" y="8989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未知"/>
                <p:cNvSpPr/>
                <p:nvPr/>
              </p:nvSpPr>
              <p:spPr>
                <a:xfrm flipH="1" rot="2658600">
                  <a:off x="1583280" y="110232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890"/>
              <p:cNvGrpSpPr/>
              <p:nvPr/>
            </p:nvGrpSpPr>
            <p:grpSpPr>
              <a:xfrm>
                <a:off x="1225800" y="592560"/>
                <a:ext cx="70560" cy="56880"/>
                <a:chOff x="1225800" y="592560"/>
                <a:chExt cx="70560" cy="56880"/>
              </a:xfrm>
            </p:grpSpPr>
            <p:sp>
              <p:nvSpPr>
                <p:cNvPr id="930" name="未知"/>
                <p:cNvSpPr/>
                <p:nvPr/>
              </p:nvSpPr>
              <p:spPr>
                <a:xfrm flipH="1" rot="7023600">
                  <a:off x="1244880" y="589320"/>
                  <a:ext cx="31680" cy="630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未知"/>
                <p:cNvSpPr/>
                <p:nvPr/>
              </p:nvSpPr>
              <p:spPr>
                <a:xfrm flipH="1" rot="10670400">
                  <a:off x="1240560" y="615960"/>
                  <a:ext cx="3168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893"/>
            <p:cNvGrpSpPr/>
            <p:nvPr/>
          </p:nvGrpSpPr>
          <p:grpSpPr>
            <a:xfrm>
              <a:off x="1191960" y="317160"/>
              <a:ext cx="675360" cy="352080"/>
              <a:chOff x="1191960" y="317160"/>
              <a:chExt cx="675360" cy="352080"/>
            </a:xfrm>
          </p:grpSpPr>
          <p:grpSp>
            <p:nvGrpSpPr>
              <p:cNvPr id="933" name="Group 894"/>
              <p:cNvGrpSpPr/>
              <p:nvPr/>
            </p:nvGrpSpPr>
            <p:grpSpPr>
              <a:xfrm>
                <a:off x="1191960" y="317160"/>
                <a:ext cx="675360" cy="352080"/>
                <a:chOff x="1191960" y="317160"/>
                <a:chExt cx="675360" cy="352080"/>
              </a:xfrm>
            </p:grpSpPr>
            <p:sp>
              <p:nvSpPr>
                <p:cNvPr id="934" name="未知"/>
                <p:cNvSpPr/>
                <p:nvPr/>
              </p:nvSpPr>
              <p:spPr>
                <a:xfrm rot="10594800">
                  <a:off x="1350720" y="331560"/>
                  <a:ext cx="50724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未知"/>
                <p:cNvSpPr/>
                <p:nvPr/>
              </p:nvSpPr>
              <p:spPr>
                <a:xfrm rot="10594800">
                  <a:off x="1368720" y="429120"/>
                  <a:ext cx="43020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未知"/>
                <p:cNvSpPr/>
                <p:nvPr/>
              </p:nvSpPr>
              <p:spPr>
                <a:xfrm rot="10594800">
                  <a:off x="1196640" y="429120"/>
                  <a:ext cx="62676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未知"/>
                <p:cNvSpPr/>
                <p:nvPr/>
              </p:nvSpPr>
              <p:spPr>
                <a:xfrm rot="10594800">
                  <a:off x="1548720" y="48816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未知"/>
                <p:cNvSpPr/>
                <p:nvPr/>
              </p:nvSpPr>
              <p:spPr>
                <a:xfrm rot="10594800">
                  <a:off x="1458360" y="522360"/>
                  <a:ext cx="2631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未知"/>
                <p:cNvSpPr/>
                <p:nvPr/>
              </p:nvSpPr>
              <p:spPr>
                <a:xfrm rot="10594800">
                  <a:off x="1399320" y="547560"/>
                  <a:ext cx="290160" cy="928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未知"/>
                <p:cNvSpPr/>
                <p:nvPr/>
              </p:nvSpPr>
              <p:spPr>
                <a:xfrm rot="10594800">
                  <a:off x="1643760" y="460080"/>
                  <a:ext cx="12060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未知"/>
                <p:cNvSpPr/>
                <p:nvPr/>
              </p:nvSpPr>
              <p:spPr>
                <a:xfrm rot="10594800">
                  <a:off x="1726920" y="435960"/>
                  <a:ext cx="6300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未知"/>
                <p:cNvSpPr/>
                <p:nvPr/>
              </p:nvSpPr>
              <p:spPr>
                <a:xfrm rot="10594800">
                  <a:off x="1712880" y="409320"/>
                  <a:ext cx="46080" cy="32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未知"/>
                <p:cNvSpPr/>
                <p:nvPr/>
              </p:nvSpPr>
              <p:spPr>
                <a:xfrm rot="10594800">
                  <a:off x="1641600" y="401760"/>
                  <a:ext cx="8064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未知"/>
                <p:cNvSpPr/>
                <p:nvPr/>
              </p:nvSpPr>
              <p:spPr>
                <a:xfrm rot="10594800">
                  <a:off x="1537560" y="388800"/>
                  <a:ext cx="12924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未知"/>
                <p:cNvSpPr/>
                <p:nvPr/>
              </p:nvSpPr>
              <p:spPr>
                <a:xfrm rot="10594800">
                  <a:off x="1447560" y="371880"/>
                  <a:ext cx="13860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未知"/>
                <p:cNvSpPr/>
                <p:nvPr/>
              </p:nvSpPr>
              <p:spPr>
                <a:xfrm rot="10594800">
                  <a:off x="1509840" y="369000"/>
                  <a:ext cx="1512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未知"/>
                <p:cNvSpPr/>
                <p:nvPr/>
              </p:nvSpPr>
              <p:spPr>
                <a:xfrm rot="10594800">
                  <a:off x="1381320" y="364680"/>
                  <a:ext cx="9576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未知"/>
                <p:cNvSpPr/>
                <p:nvPr/>
              </p:nvSpPr>
              <p:spPr>
                <a:xfrm rot="10594800">
                  <a:off x="1488600" y="437760"/>
                  <a:ext cx="709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未知"/>
                <p:cNvSpPr/>
                <p:nvPr/>
              </p:nvSpPr>
              <p:spPr>
                <a:xfrm rot="10594800">
                  <a:off x="1599120" y="38304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未知"/>
                <p:cNvSpPr/>
                <p:nvPr/>
              </p:nvSpPr>
              <p:spPr>
                <a:xfrm rot="10594800">
                  <a:off x="1639440" y="489960"/>
                  <a:ext cx="7488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未知"/>
                <p:cNvSpPr/>
                <p:nvPr/>
              </p:nvSpPr>
              <p:spPr>
                <a:xfrm rot="10594800">
                  <a:off x="1676880" y="50328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未知"/>
                <p:cNvSpPr/>
                <p:nvPr/>
              </p:nvSpPr>
              <p:spPr>
                <a:xfrm rot="10594800">
                  <a:off x="1554120" y="41832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未知"/>
                <p:cNvSpPr/>
                <p:nvPr/>
              </p:nvSpPr>
              <p:spPr>
                <a:xfrm rot="10594800">
                  <a:off x="1653480" y="531720"/>
                  <a:ext cx="1332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未知"/>
                <p:cNvSpPr/>
                <p:nvPr/>
              </p:nvSpPr>
              <p:spPr>
                <a:xfrm rot="10594800">
                  <a:off x="1603800" y="57384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未知"/>
                <p:cNvSpPr/>
                <p:nvPr/>
              </p:nvSpPr>
              <p:spPr>
                <a:xfrm rot="10594800">
                  <a:off x="1751760" y="47808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917"/>
              <p:cNvGrpSpPr/>
              <p:nvPr/>
            </p:nvGrpSpPr>
            <p:grpSpPr>
              <a:xfrm>
                <a:off x="1248120" y="586080"/>
                <a:ext cx="58680" cy="39960"/>
                <a:chOff x="1248120" y="586080"/>
                <a:chExt cx="58680" cy="39960"/>
              </a:xfrm>
            </p:grpSpPr>
            <p:sp>
              <p:nvSpPr>
                <p:cNvPr id="957" name="未知"/>
                <p:cNvSpPr/>
                <p:nvPr/>
              </p:nvSpPr>
              <p:spPr>
                <a:xfrm rot="6231000">
                  <a:off x="1263960" y="579600"/>
                  <a:ext cx="26640" cy="53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未知"/>
                <p:cNvSpPr/>
                <p:nvPr/>
              </p:nvSpPr>
              <p:spPr>
                <a:xfrm rot="2583600">
                  <a:off x="1262880" y="59292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9" name="Group 920"/>
            <p:cNvGrpSpPr/>
            <p:nvPr/>
          </p:nvGrpSpPr>
          <p:grpSpPr>
            <a:xfrm>
              <a:off x="1652040" y="805680"/>
              <a:ext cx="568800" cy="524520"/>
              <a:chOff x="1652040" y="805680"/>
              <a:chExt cx="568800" cy="524520"/>
            </a:xfrm>
          </p:grpSpPr>
          <p:grpSp>
            <p:nvGrpSpPr>
              <p:cNvPr id="960" name="Group 921"/>
              <p:cNvGrpSpPr/>
              <p:nvPr/>
            </p:nvGrpSpPr>
            <p:grpSpPr>
              <a:xfrm>
                <a:off x="1655280" y="805680"/>
                <a:ext cx="565560" cy="524520"/>
                <a:chOff x="1655280" y="805680"/>
                <a:chExt cx="565560" cy="524520"/>
              </a:xfrm>
            </p:grpSpPr>
            <p:sp>
              <p:nvSpPr>
                <p:cNvPr id="961" name="未知"/>
                <p:cNvSpPr/>
                <p:nvPr/>
              </p:nvSpPr>
              <p:spPr>
                <a:xfrm rot="15123000">
                  <a:off x="1769760" y="852480"/>
                  <a:ext cx="336240" cy="485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未知"/>
                <p:cNvSpPr/>
                <p:nvPr/>
              </p:nvSpPr>
              <p:spPr>
                <a:xfrm rot="15123000">
                  <a:off x="1774800" y="972000"/>
                  <a:ext cx="284760" cy="231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未知"/>
                <p:cNvSpPr/>
                <p:nvPr/>
              </p:nvSpPr>
              <p:spPr>
                <a:xfrm rot="15123000">
                  <a:off x="1674360" y="903600"/>
                  <a:ext cx="414720" cy="287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未知"/>
                <p:cNvSpPr/>
                <p:nvPr/>
              </p:nvSpPr>
              <p:spPr>
                <a:xfrm rot="15123000">
                  <a:off x="1870560" y="1113840"/>
                  <a:ext cx="134640" cy="284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未知"/>
                <p:cNvSpPr/>
                <p:nvPr/>
              </p:nvSpPr>
              <p:spPr>
                <a:xfrm rot="15123000">
                  <a:off x="1756440" y="1060200"/>
                  <a:ext cx="174240" cy="1062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未知"/>
                <p:cNvSpPr/>
                <p:nvPr/>
              </p:nvSpPr>
              <p:spPr>
                <a:xfrm rot="15123000">
                  <a:off x="1689480" y="1028520"/>
                  <a:ext cx="192240" cy="14040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未知"/>
                <p:cNvSpPr/>
                <p:nvPr/>
              </p:nvSpPr>
              <p:spPr>
                <a:xfrm rot="15123000">
                  <a:off x="1949760" y="1140120"/>
                  <a:ext cx="79920" cy="176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未知"/>
                <p:cNvSpPr/>
                <p:nvPr/>
              </p:nvSpPr>
              <p:spPr>
                <a:xfrm rot="15123000">
                  <a:off x="2015280" y="1168920"/>
                  <a:ext cx="417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未知"/>
                <p:cNvSpPr/>
                <p:nvPr/>
              </p:nvSpPr>
              <p:spPr>
                <a:xfrm rot="15123000">
                  <a:off x="2036880" y="1127520"/>
                  <a:ext cx="30600" cy="496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未知"/>
                <p:cNvSpPr/>
                <p:nvPr/>
              </p:nvSpPr>
              <p:spPr>
                <a:xfrm rot="15123000">
                  <a:off x="2009160" y="1073880"/>
                  <a:ext cx="53280" cy="92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未知"/>
                <p:cNvSpPr/>
                <p:nvPr/>
              </p:nvSpPr>
              <p:spPr>
                <a:xfrm rot="15123000">
                  <a:off x="1969920" y="991080"/>
                  <a:ext cx="85320" cy="16200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未知"/>
                <p:cNvSpPr/>
                <p:nvPr/>
              </p:nvSpPr>
              <p:spPr>
                <a:xfrm rot="15123000">
                  <a:off x="1943280" y="902160"/>
                  <a:ext cx="92160" cy="2358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未知"/>
                <p:cNvSpPr/>
                <p:nvPr/>
              </p:nvSpPr>
              <p:spPr>
                <a:xfrm rot="15123000">
                  <a:off x="2058120" y="951120"/>
                  <a:ext cx="10080" cy="93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未知"/>
                <p:cNvSpPr/>
                <p:nvPr/>
              </p:nvSpPr>
              <p:spPr>
                <a:xfrm rot="15123000">
                  <a:off x="1932120" y="820800"/>
                  <a:ext cx="63000" cy="2908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未知"/>
                <p:cNvSpPr/>
                <p:nvPr/>
              </p:nvSpPr>
              <p:spPr>
                <a:xfrm rot="15123000">
                  <a:off x="1963080" y="1002960"/>
                  <a:ext cx="46800" cy="46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未知"/>
                <p:cNvSpPr/>
                <p:nvPr/>
              </p:nvSpPr>
              <p:spPr>
                <a:xfrm rot="15123000">
                  <a:off x="2052000" y="1029600"/>
                  <a:ext cx="23040" cy="741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未知"/>
                <p:cNvSpPr/>
                <p:nvPr/>
              </p:nvSpPr>
              <p:spPr>
                <a:xfrm rot="15123000">
                  <a:off x="1919520" y="113580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未知"/>
                <p:cNvSpPr/>
                <p:nvPr/>
              </p:nvSpPr>
              <p:spPr>
                <a:xfrm rot="15123000">
                  <a:off x="1906920" y="11516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未知"/>
                <p:cNvSpPr/>
                <p:nvPr/>
              </p:nvSpPr>
              <p:spPr>
                <a:xfrm rot="15123000">
                  <a:off x="2028240" y="1029240"/>
                  <a:ext cx="10080" cy="172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未知"/>
                <p:cNvSpPr/>
                <p:nvPr/>
              </p:nvSpPr>
              <p:spPr>
                <a:xfrm rot="15123000">
                  <a:off x="1879200" y="114516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未知"/>
                <p:cNvSpPr/>
                <p:nvPr/>
              </p:nvSpPr>
              <p:spPr>
                <a:xfrm rot="15123000">
                  <a:off x="1810800" y="1129680"/>
                  <a:ext cx="10080" cy="140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未知"/>
                <p:cNvSpPr/>
                <p:nvPr/>
              </p:nvSpPr>
              <p:spPr>
                <a:xfrm rot="15123000">
                  <a:off x="1971360" y="118692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944"/>
              <p:cNvGrpSpPr/>
              <p:nvPr/>
            </p:nvGrpSpPr>
            <p:grpSpPr>
              <a:xfrm>
                <a:off x="1652040" y="888480"/>
                <a:ext cx="43200" cy="36000"/>
                <a:chOff x="1652040" y="888480"/>
                <a:chExt cx="43200" cy="36000"/>
              </a:xfrm>
            </p:grpSpPr>
            <p:sp>
              <p:nvSpPr>
                <p:cNvPr id="984" name="未知"/>
                <p:cNvSpPr/>
                <p:nvPr/>
              </p:nvSpPr>
              <p:spPr>
                <a:xfrm rot="10758000">
                  <a:off x="1652040" y="888480"/>
                  <a:ext cx="39960" cy="35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未知"/>
                <p:cNvSpPr/>
                <p:nvPr/>
              </p:nvSpPr>
              <p:spPr>
                <a:xfrm rot="7111800">
                  <a:off x="1671120" y="89208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6" name="Group 947"/>
          <p:cNvGrpSpPr/>
          <p:nvPr/>
        </p:nvGrpSpPr>
        <p:grpSpPr>
          <a:xfrm>
            <a:off x="-148320" y="31320"/>
            <a:ext cx="2057400" cy="1567800"/>
            <a:chOff x="-148320" y="31320"/>
            <a:chExt cx="2057400" cy="1567800"/>
          </a:xfrm>
        </p:grpSpPr>
        <p:sp>
          <p:nvSpPr>
            <p:cNvPr id="987" name="未知"/>
            <p:cNvSpPr/>
            <p:nvPr/>
          </p:nvSpPr>
          <p:spPr>
            <a:xfrm flipH="1" rot="4059600">
              <a:off x="671400" y="-158400"/>
              <a:ext cx="216720" cy="175896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 flipH="1" rot="4059600">
              <a:off x="26280" y="1094040"/>
              <a:ext cx="24120" cy="6768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Group 950"/>
            <p:cNvGrpSpPr/>
            <p:nvPr/>
          </p:nvGrpSpPr>
          <p:grpSpPr>
            <a:xfrm>
              <a:off x="-142560" y="944280"/>
              <a:ext cx="667800" cy="654840"/>
              <a:chOff x="-142560" y="944280"/>
              <a:chExt cx="667800" cy="654840"/>
            </a:xfrm>
          </p:grpSpPr>
          <p:grpSp>
            <p:nvGrpSpPr>
              <p:cNvPr id="990" name="Group 951"/>
              <p:cNvGrpSpPr/>
              <p:nvPr/>
            </p:nvGrpSpPr>
            <p:grpSpPr>
              <a:xfrm>
                <a:off x="-142560" y="988920"/>
                <a:ext cx="667800" cy="610200"/>
                <a:chOff x="-142560" y="988920"/>
                <a:chExt cx="667800" cy="610200"/>
              </a:xfrm>
            </p:grpSpPr>
            <p:sp>
              <p:nvSpPr>
                <p:cNvPr id="991" name="未知"/>
                <p:cNvSpPr/>
                <p:nvPr/>
              </p:nvSpPr>
              <p:spPr>
                <a:xfrm flipH="1" rot="3919200">
                  <a:off x="23400" y="1035000"/>
                  <a:ext cx="334800" cy="581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未知"/>
                <p:cNvSpPr/>
                <p:nvPr/>
              </p:nvSpPr>
              <p:spPr>
                <a:xfrm flipH="1" rot="3919200">
                  <a:off x="63360" y="1165680"/>
                  <a:ext cx="284040" cy="276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未知"/>
                <p:cNvSpPr/>
                <p:nvPr/>
              </p:nvSpPr>
              <p:spPr>
                <a:xfrm flipH="1" rot="3919200">
                  <a:off x="0" y="1076760"/>
                  <a:ext cx="413640" cy="343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未知"/>
                <p:cNvSpPr/>
                <p:nvPr/>
              </p:nvSpPr>
              <p:spPr>
                <a:xfrm flipH="1" rot="3919200">
                  <a:off x="148320" y="1331280"/>
                  <a:ext cx="134280" cy="338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未知"/>
                <p:cNvSpPr/>
                <p:nvPr/>
              </p:nvSpPr>
              <p:spPr>
                <a:xfrm flipH="1" rot="3919200">
                  <a:off x="203760" y="1203120"/>
                  <a:ext cx="173520" cy="126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未知"/>
                <p:cNvSpPr/>
                <p:nvPr/>
              </p:nvSpPr>
              <p:spPr>
                <a:xfrm flipH="1" rot="3919200">
                  <a:off x="235800" y="1128960"/>
                  <a:ext cx="191520" cy="167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未知"/>
                <p:cNvSpPr/>
                <p:nvPr/>
              </p:nvSpPr>
              <p:spPr>
                <a:xfrm flipH="1" rot="3919200">
                  <a:off x="144000" y="1391400"/>
                  <a:ext cx="79560" cy="21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未知"/>
                <p:cNvSpPr/>
                <p:nvPr/>
              </p:nvSpPr>
              <p:spPr>
                <a:xfrm flipH="1" rot="3919200">
                  <a:off x="138600" y="1449720"/>
                  <a:ext cx="41400" cy="86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未知"/>
                <p:cNvSpPr/>
                <p:nvPr/>
              </p:nvSpPr>
              <p:spPr>
                <a:xfrm flipH="1" rot="3919200">
                  <a:off x="114840" y="1422000"/>
                  <a:ext cx="30240" cy="59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未知"/>
                <p:cNvSpPr/>
                <p:nvPr/>
              </p:nvSpPr>
              <p:spPr>
                <a:xfrm flipH="1" rot="3919200">
                  <a:off x="95040" y="1361160"/>
                  <a:ext cx="52920" cy="110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未知"/>
                <p:cNvSpPr/>
                <p:nvPr/>
              </p:nvSpPr>
              <p:spPr>
                <a:xfrm flipH="1" rot="3919200">
                  <a:off x="65160" y="1268640"/>
                  <a:ext cx="84960" cy="1929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未知"/>
                <p:cNvSpPr/>
                <p:nvPr/>
              </p:nvSpPr>
              <p:spPr>
                <a:xfrm flipH="1" rot="3919200">
                  <a:off x="43920" y="1169640"/>
                  <a:ext cx="91440" cy="28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未知"/>
                <p:cNvSpPr/>
                <p:nvPr/>
              </p:nvSpPr>
              <p:spPr>
                <a:xfrm flipH="1" rot="3919200">
                  <a:off x="3240" y="1294200"/>
                  <a:ext cx="9720" cy="112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未知"/>
                <p:cNvSpPr/>
                <p:nvPr/>
              </p:nvSpPr>
              <p:spPr>
                <a:xfrm flipH="1" rot="3919200">
                  <a:off x="42840" y="1080000"/>
                  <a:ext cx="63000" cy="3477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未知"/>
                <p:cNvSpPr/>
                <p:nvPr/>
              </p:nvSpPr>
              <p:spPr>
                <a:xfrm flipH="1" rot="3919200">
                  <a:off x="73080" y="1285200"/>
                  <a:ext cx="46800" cy="55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未知"/>
                <p:cNvSpPr/>
                <p:nvPr/>
              </p:nvSpPr>
              <p:spPr>
                <a:xfrm flipH="1" rot="3919200">
                  <a:off x="45000" y="1355040"/>
                  <a:ext cx="22680" cy="88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未知"/>
                <p:cNvSpPr/>
                <p:nvPr/>
              </p:nvSpPr>
              <p:spPr>
                <a:xfrm flipH="1" rot="3919200">
                  <a:off x="196920" y="1354320"/>
                  <a:ext cx="48960" cy="190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未知"/>
                <p:cNvSpPr/>
                <p:nvPr/>
              </p:nvSpPr>
              <p:spPr>
                <a:xfrm flipH="1" rot="3919200">
                  <a:off x="243000" y="1346400"/>
                  <a:ext cx="30240" cy="338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未知"/>
                <p:cNvSpPr/>
                <p:nvPr/>
              </p:nvSpPr>
              <p:spPr>
                <a:xfrm flipH="1" rot="3919200">
                  <a:off x="57600" y="1345680"/>
                  <a:ext cx="9720" cy="21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未知"/>
                <p:cNvSpPr/>
                <p:nvPr/>
              </p:nvSpPr>
              <p:spPr>
                <a:xfrm flipH="1" rot="3919200">
                  <a:off x="276840" y="1316880"/>
                  <a:ext cx="8640" cy="122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未知"/>
                <p:cNvSpPr/>
                <p:nvPr/>
              </p:nvSpPr>
              <p:spPr>
                <a:xfrm flipH="1" rot="3919200">
                  <a:off x="327240" y="125352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未知"/>
                <p:cNvSpPr/>
                <p:nvPr/>
              </p:nvSpPr>
              <p:spPr>
                <a:xfrm flipH="1" rot="3919200">
                  <a:off x="223560" y="14169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974"/>
              <p:cNvGrpSpPr/>
              <p:nvPr/>
            </p:nvGrpSpPr>
            <p:grpSpPr>
              <a:xfrm>
                <a:off x="266400" y="944280"/>
                <a:ext cx="59760" cy="58680"/>
                <a:chOff x="266400" y="944280"/>
                <a:chExt cx="59760" cy="58680"/>
              </a:xfrm>
            </p:grpSpPr>
            <p:sp>
              <p:nvSpPr>
                <p:cNvPr id="1014" name="未知"/>
                <p:cNvSpPr/>
                <p:nvPr/>
              </p:nvSpPr>
              <p:spPr>
                <a:xfrm flipH="1" rot="8284200">
                  <a:off x="271800" y="955800"/>
                  <a:ext cx="4860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未知"/>
                <p:cNvSpPr/>
                <p:nvPr/>
              </p:nvSpPr>
              <p:spPr>
                <a:xfrm flipH="1" rot="11931000">
                  <a:off x="279000" y="964080"/>
                  <a:ext cx="18000" cy="295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Group 977"/>
            <p:cNvGrpSpPr/>
            <p:nvPr/>
          </p:nvGrpSpPr>
          <p:grpSpPr>
            <a:xfrm>
              <a:off x="235080" y="762480"/>
              <a:ext cx="784080" cy="473040"/>
              <a:chOff x="235080" y="762480"/>
              <a:chExt cx="784080" cy="473040"/>
            </a:xfrm>
          </p:grpSpPr>
          <p:grpSp>
            <p:nvGrpSpPr>
              <p:cNvPr id="1017" name="Group 978"/>
              <p:cNvGrpSpPr/>
              <p:nvPr/>
            </p:nvGrpSpPr>
            <p:grpSpPr>
              <a:xfrm>
                <a:off x="235080" y="762480"/>
                <a:ext cx="784080" cy="473040"/>
                <a:chOff x="235080" y="762480"/>
                <a:chExt cx="784080" cy="473040"/>
              </a:xfrm>
            </p:grpSpPr>
            <p:sp>
              <p:nvSpPr>
                <p:cNvPr id="1018" name="未知"/>
                <p:cNvSpPr/>
                <p:nvPr/>
              </p:nvSpPr>
              <p:spPr>
                <a:xfrm flipH="1" rot="20756400">
                  <a:off x="425160" y="825120"/>
                  <a:ext cx="56016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未知"/>
                <p:cNvSpPr/>
                <p:nvPr/>
              </p:nvSpPr>
              <p:spPr>
                <a:xfrm flipH="1" rot="20756400">
                  <a:off x="442080" y="909720"/>
                  <a:ext cx="474480" cy="1652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未知"/>
                <p:cNvSpPr/>
                <p:nvPr/>
              </p:nvSpPr>
              <p:spPr>
                <a:xfrm flipH="1" rot="20756400">
                  <a:off x="249480" y="894600"/>
                  <a:ext cx="6915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未知"/>
                <p:cNvSpPr/>
                <p:nvPr/>
              </p:nvSpPr>
              <p:spPr>
                <a:xfrm flipH="1" rot="20756400">
                  <a:off x="640080" y="969120"/>
                  <a:ext cx="22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未知"/>
                <p:cNvSpPr/>
                <p:nvPr/>
              </p:nvSpPr>
              <p:spPr>
                <a:xfrm flipH="1" rot="20756400">
                  <a:off x="523080" y="898920"/>
                  <a:ext cx="2905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未知"/>
                <p:cNvSpPr/>
                <p:nvPr/>
              </p:nvSpPr>
              <p:spPr>
                <a:xfrm flipH="1" rot="20756400">
                  <a:off x="448200" y="864720"/>
                  <a:ext cx="32040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未知"/>
                <p:cNvSpPr/>
                <p:nvPr/>
              </p:nvSpPr>
              <p:spPr>
                <a:xfrm flipH="1" rot="20756400">
                  <a:off x="751680" y="987840"/>
                  <a:ext cx="13320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未知"/>
                <p:cNvSpPr/>
                <p:nvPr/>
              </p:nvSpPr>
              <p:spPr>
                <a:xfrm flipH="1" rot="20756400">
                  <a:off x="850320" y="1002240"/>
                  <a:ext cx="6948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未知"/>
                <p:cNvSpPr/>
                <p:nvPr/>
              </p:nvSpPr>
              <p:spPr>
                <a:xfrm flipH="1" rot="20756400">
                  <a:off x="839160" y="1007640"/>
                  <a:ext cx="507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未知"/>
                <p:cNvSpPr/>
                <p:nvPr/>
              </p:nvSpPr>
              <p:spPr>
                <a:xfrm flipH="1" rot="20756400">
                  <a:off x="761760" y="100368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未知"/>
                <p:cNvSpPr/>
                <p:nvPr/>
              </p:nvSpPr>
              <p:spPr>
                <a:xfrm flipH="1" rot="20756400">
                  <a:off x="648000" y="994680"/>
                  <a:ext cx="14220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未知"/>
                <p:cNvSpPr/>
                <p:nvPr/>
              </p:nvSpPr>
              <p:spPr>
                <a:xfrm flipH="1" rot="20756400">
                  <a:off x="550800" y="986400"/>
                  <a:ext cx="15300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未知"/>
                <p:cNvSpPr/>
                <p:nvPr/>
              </p:nvSpPr>
              <p:spPr>
                <a:xfrm flipH="1" rot="20756400">
                  <a:off x="635400" y="1089360"/>
                  <a:ext cx="16560" cy="67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未知"/>
                <p:cNvSpPr/>
                <p:nvPr/>
              </p:nvSpPr>
              <p:spPr>
                <a:xfrm flipH="1" rot="20756400">
                  <a:off x="478080" y="985320"/>
                  <a:ext cx="1058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未知"/>
                <p:cNvSpPr/>
                <p:nvPr/>
              </p:nvSpPr>
              <p:spPr>
                <a:xfrm flipH="1" rot="20756400">
                  <a:off x="594720" y="1050120"/>
                  <a:ext cx="781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未知"/>
                <p:cNvSpPr/>
                <p:nvPr/>
              </p:nvSpPr>
              <p:spPr>
                <a:xfrm flipH="1" rot="20756400">
                  <a:off x="726840" y="1055880"/>
                  <a:ext cx="37800" cy="525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未知"/>
                <p:cNvSpPr/>
                <p:nvPr/>
              </p:nvSpPr>
              <p:spPr>
                <a:xfrm flipH="1" rot="20756400">
                  <a:off x="739440" y="967320"/>
                  <a:ext cx="8244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未知"/>
                <p:cNvSpPr/>
                <p:nvPr/>
              </p:nvSpPr>
              <p:spPr>
                <a:xfrm flipH="1" rot="20756400">
                  <a:off x="773640" y="937800"/>
                  <a:ext cx="507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未知"/>
                <p:cNvSpPr/>
                <p:nvPr/>
              </p:nvSpPr>
              <p:spPr>
                <a:xfrm flipH="1" rot="20756400">
                  <a:off x="673560" y="1077840"/>
                  <a:ext cx="16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未知"/>
                <p:cNvSpPr/>
                <p:nvPr/>
              </p:nvSpPr>
              <p:spPr>
                <a:xfrm flipH="1" rot="20756400">
                  <a:off x="741960" y="932760"/>
                  <a:ext cx="1476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未知"/>
                <p:cNvSpPr/>
                <p:nvPr/>
              </p:nvSpPr>
              <p:spPr>
                <a:xfrm flipH="1" rot="20756400">
                  <a:off x="675720" y="90360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未知"/>
                <p:cNvSpPr/>
                <p:nvPr/>
              </p:nvSpPr>
              <p:spPr>
                <a:xfrm flipH="1" rot="20756400">
                  <a:off x="864000" y="959040"/>
                  <a:ext cx="1296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1001"/>
              <p:cNvGrpSpPr/>
              <p:nvPr/>
            </p:nvGrpSpPr>
            <p:grpSpPr>
              <a:xfrm>
                <a:off x="292320" y="964440"/>
                <a:ext cx="65520" cy="55440"/>
                <a:chOff x="292320" y="964440"/>
                <a:chExt cx="65520" cy="55440"/>
              </a:xfrm>
            </p:grpSpPr>
            <p:sp>
              <p:nvSpPr>
                <p:cNvPr id="1041" name="未知"/>
                <p:cNvSpPr/>
                <p:nvPr/>
              </p:nvSpPr>
              <p:spPr>
                <a:xfrm flipH="1" rot="3520800">
                  <a:off x="310320" y="962640"/>
                  <a:ext cx="28800" cy="590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未知"/>
                <p:cNvSpPr/>
                <p:nvPr/>
              </p:nvSpPr>
              <p:spPr>
                <a:xfrm flipH="1" rot="7167600">
                  <a:off x="311400" y="98856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3" name="Group 1004"/>
            <p:cNvGrpSpPr/>
            <p:nvPr/>
          </p:nvGrpSpPr>
          <p:grpSpPr>
            <a:xfrm>
              <a:off x="-148320" y="266400"/>
              <a:ext cx="1146240" cy="710640"/>
              <a:chOff x="-148320" y="266400"/>
              <a:chExt cx="1146240" cy="710640"/>
            </a:xfrm>
          </p:grpSpPr>
          <p:grpSp>
            <p:nvGrpSpPr>
              <p:cNvPr id="1044" name="Group 1005"/>
              <p:cNvGrpSpPr/>
              <p:nvPr/>
            </p:nvGrpSpPr>
            <p:grpSpPr>
              <a:xfrm>
                <a:off x="-148320" y="468360"/>
                <a:ext cx="624960" cy="508680"/>
                <a:chOff x="-148320" y="468360"/>
                <a:chExt cx="624960" cy="508680"/>
              </a:xfrm>
            </p:grpSpPr>
            <p:grpSp>
              <p:nvGrpSpPr>
                <p:cNvPr id="1045" name="Group 1006"/>
                <p:cNvGrpSpPr/>
                <p:nvPr/>
              </p:nvGrpSpPr>
              <p:grpSpPr>
                <a:xfrm>
                  <a:off x="-148320" y="468360"/>
                  <a:ext cx="609840" cy="508680"/>
                  <a:chOff x="-148320" y="468360"/>
                  <a:chExt cx="609840" cy="508680"/>
                </a:xfrm>
              </p:grpSpPr>
              <p:sp>
                <p:nvSpPr>
                  <p:cNvPr id="1046" name="未知"/>
                  <p:cNvSpPr/>
                  <p:nvPr/>
                </p:nvSpPr>
                <p:spPr>
                  <a:xfrm rot="4199400">
                    <a:off x="2520" y="435960"/>
                    <a:ext cx="307440" cy="537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未知"/>
                  <p:cNvSpPr/>
                  <p:nvPr/>
                </p:nvSpPr>
                <p:spPr>
                  <a:xfrm rot="4199400">
                    <a:off x="48240" y="581760"/>
                    <a:ext cx="2610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未知"/>
                  <p:cNvSpPr/>
                  <p:nvPr/>
                </p:nvSpPr>
                <p:spPr>
                  <a:xfrm rot="4199400">
                    <a:off x="26640" y="585360"/>
                    <a:ext cx="37980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未知"/>
                  <p:cNvSpPr/>
                  <p:nvPr/>
                </p:nvSpPr>
                <p:spPr>
                  <a:xfrm rot="4199400">
                    <a:off x="96480" y="658800"/>
                    <a:ext cx="123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未知"/>
                  <p:cNvSpPr/>
                  <p:nvPr/>
                </p:nvSpPr>
                <p:spPr>
                  <a:xfrm rot="4199400">
                    <a:off x="179640" y="619920"/>
                    <a:ext cx="1594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未知"/>
                  <p:cNvSpPr/>
                  <p:nvPr/>
                </p:nvSpPr>
                <p:spPr>
                  <a:xfrm rot="4199400">
                    <a:off x="234360" y="609120"/>
                    <a:ext cx="17604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未知"/>
                  <p:cNvSpPr/>
                  <p:nvPr/>
                </p:nvSpPr>
                <p:spPr>
                  <a:xfrm rot="4199400">
                    <a:off x="65880" y="649080"/>
                    <a:ext cx="73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未知"/>
                  <p:cNvSpPr/>
                  <p:nvPr/>
                </p:nvSpPr>
                <p:spPr>
                  <a:xfrm rot="4199400">
                    <a:off x="33120" y="637200"/>
                    <a:ext cx="3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未知"/>
                  <p:cNvSpPr/>
                  <p:nvPr/>
                </p:nvSpPr>
                <p:spPr>
                  <a:xfrm rot="4199400">
                    <a:off x="20160" y="634320"/>
                    <a:ext cx="27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未知"/>
                  <p:cNvSpPr/>
                  <p:nvPr/>
                </p:nvSpPr>
                <p:spPr>
                  <a:xfrm rot="4199400">
                    <a:off x="26640" y="639720"/>
                    <a:ext cx="486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未知"/>
                  <p:cNvSpPr/>
                  <p:nvPr/>
                </p:nvSpPr>
                <p:spPr>
                  <a:xfrm rot="4199400">
                    <a:off x="36720" y="644040"/>
                    <a:ext cx="78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未知"/>
                  <p:cNvSpPr/>
                  <p:nvPr/>
                </p:nvSpPr>
                <p:spPr>
                  <a:xfrm rot="4199400">
                    <a:off x="56880" y="649080"/>
                    <a:ext cx="83880" cy="26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未知"/>
                  <p:cNvSpPr/>
                  <p:nvPr/>
                </p:nvSpPr>
                <p:spPr>
                  <a:xfrm rot="4199400">
                    <a:off x="14760" y="755640"/>
                    <a:ext cx="90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未知"/>
                  <p:cNvSpPr/>
                  <p:nvPr/>
                </p:nvSpPr>
                <p:spPr>
                  <a:xfrm rot="4199400">
                    <a:off x="96480" y="666360"/>
                    <a:ext cx="57960" cy="32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未知"/>
                  <p:cNvSpPr/>
                  <p:nvPr/>
                </p:nvSpPr>
                <p:spPr>
                  <a:xfrm rot="4199400">
                    <a:off x="81000" y="748800"/>
                    <a:ext cx="42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未知"/>
                  <p:cNvSpPr/>
                  <p:nvPr/>
                </p:nvSpPr>
                <p:spPr>
                  <a:xfrm rot="4199400">
                    <a:off x="9360" y="701640"/>
                    <a:ext cx="212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未知"/>
                  <p:cNvSpPr/>
                  <p:nvPr/>
                </p:nvSpPr>
                <p:spPr>
                  <a:xfrm rot="4199400">
                    <a:off x="128520" y="651600"/>
                    <a:ext cx="45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未知"/>
                  <p:cNvSpPr/>
                  <p:nvPr/>
                </p:nvSpPr>
                <p:spPr>
                  <a:xfrm rot="4199400">
                    <a:off x="161280" y="621000"/>
                    <a:ext cx="27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未知"/>
                  <p:cNvSpPr/>
                  <p:nvPr/>
                </p:nvSpPr>
                <p:spPr>
                  <a:xfrm rot="4199400">
                    <a:off x="47520" y="757800"/>
                    <a:ext cx="9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未知"/>
                  <p:cNvSpPr/>
                  <p:nvPr/>
                </p:nvSpPr>
                <p:spPr>
                  <a:xfrm rot="4199400">
                    <a:off x="213120" y="64188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未知"/>
                  <p:cNvSpPr/>
                  <p:nvPr/>
                </p:nvSpPr>
                <p:spPr>
                  <a:xfrm rot="4199400">
                    <a:off x="286200" y="646920"/>
                    <a:ext cx="90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未知"/>
                  <p:cNvSpPr/>
                  <p:nvPr/>
                </p:nvSpPr>
                <p:spPr>
                  <a:xfrm rot="4199400">
                    <a:off x="115200" y="61488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Group 1029"/>
                <p:cNvGrpSpPr/>
                <p:nvPr/>
              </p:nvGrpSpPr>
              <p:grpSpPr>
                <a:xfrm>
                  <a:off x="429120" y="849240"/>
                  <a:ext cx="47520" cy="34920"/>
                  <a:chOff x="429120" y="849240"/>
                  <a:chExt cx="47520" cy="34920"/>
                </a:xfrm>
              </p:grpSpPr>
              <p:sp>
                <p:nvSpPr>
                  <p:cNvPr id="1069" name="未知"/>
                  <p:cNvSpPr/>
                  <p:nvPr/>
                </p:nvSpPr>
                <p:spPr>
                  <a:xfrm rot="21435000">
                    <a:off x="431640" y="849960"/>
                    <a:ext cx="44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未知"/>
                  <p:cNvSpPr/>
                  <p:nvPr/>
                </p:nvSpPr>
                <p:spPr>
                  <a:xfrm rot="17788200">
                    <a:off x="436320" y="855000"/>
                    <a:ext cx="16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Group 1032"/>
              <p:cNvGrpSpPr/>
              <p:nvPr/>
            </p:nvGrpSpPr>
            <p:grpSpPr>
              <a:xfrm>
                <a:off x="338760" y="266400"/>
                <a:ext cx="659160" cy="641160"/>
                <a:chOff x="338760" y="266400"/>
                <a:chExt cx="659160" cy="641160"/>
              </a:xfrm>
            </p:grpSpPr>
            <p:grpSp>
              <p:nvGrpSpPr>
                <p:cNvPr id="1072" name="Group 1033"/>
                <p:cNvGrpSpPr/>
                <p:nvPr/>
              </p:nvGrpSpPr>
              <p:grpSpPr>
                <a:xfrm>
                  <a:off x="338760" y="266400"/>
                  <a:ext cx="659160" cy="641160"/>
                  <a:chOff x="338760" y="266400"/>
                  <a:chExt cx="659160" cy="641160"/>
                </a:xfrm>
              </p:grpSpPr>
              <p:sp>
                <p:nvSpPr>
                  <p:cNvPr id="1073" name="未知"/>
                  <p:cNvSpPr/>
                  <p:nvPr/>
                </p:nvSpPr>
                <p:spPr>
                  <a:xfrm rot="8424000">
                    <a:off x="444600" y="391320"/>
                    <a:ext cx="50868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未知"/>
                  <p:cNvSpPr/>
                  <p:nvPr/>
                </p:nvSpPr>
                <p:spPr>
                  <a:xfrm rot="8424000">
                    <a:off x="474480" y="498600"/>
                    <a:ext cx="43128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未知"/>
                  <p:cNvSpPr/>
                  <p:nvPr/>
                </p:nvSpPr>
                <p:spPr>
                  <a:xfrm rot="8424000">
                    <a:off x="327600" y="538560"/>
                    <a:ext cx="6274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未知"/>
                  <p:cNvSpPr/>
                  <p:nvPr/>
                </p:nvSpPr>
                <p:spPr>
                  <a:xfrm rot="8424000">
                    <a:off x="636840" y="519840"/>
                    <a:ext cx="203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未知"/>
                  <p:cNvSpPr/>
                  <p:nvPr/>
                </p:nvSpPr>
                <p:spPr>
                  <a:xfrm rot="8424000">
                    <a:off x="593640" y="577800"/>
                    <a:ext cx="2638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未知"/>
                  <p:cNvSpPr/>
                  <p:nvPr/>
                </p:nvSpPr>
                <p:spPr>
                  <a:xfrm rot="8424000">
                    <a:off x="564120" y="622800"/>
                    <a:ext cx="2908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未知"/>
                  <p:cNvSpPr/>
                  <p:nvPr/>
                </p:nvSpPr>
                <p:spPr>
                  <a:xfrm rot="8424000">
                    <a:off x="702720" y="465840"/>
                    <a:ext cx="1209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未知"/>
                  <p:cNvSpPr/>
                  <p:nvPr/>
                </p:nvSpPr>
                <p:spPr>
                  <a:xfrm rot="8424000">
                    <a:off x="758880" y="415080"/>
                    <a:ext cx="63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未知"/>
                  <p:cNvSpPr/>
                  <p:nvPr/>
                </p:nvSpPr>
                <p:spPr>
                  <a:xfrm rot="8424000">
                    <a:off x="741600" y="403560"/>
                    <a:ext cx="46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未知"/>
                  <p:cNvSpPr/>
                  <p:nvPr/>
                </p:nvSpPr>
                <p:spPr>
                  <a:xfrm rot="8424000">
                    <a:off x="685080" y="426600"/>
                    <a:ext cx="80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未知"/>
                  <p:cNvSpPr/>
                  <p:nvPr/>
                </p:nvSpPr>
                <p:spPr>
                  <a:xfrm rot="8424000">
                    <a:off x="602640" y="459000"/>
                    <a:ext cx="12924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未知"/>
                  <p:cNvSpPr/>
                  <p:nvPr/>
                </p:nvSpPr>
                <p:spPr>
                  <a:xfrm rot="8424000">
                    <a:off x="533160" y="491760"/>
                    <a:ext cx="1393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未知"/>
                  <p:cNvSpPr/>
                  <p:nvPr/>
                </p:nvSpPr>
                <p:spPr>
                  <a:xfrm rot="8424000">
                    <a:off x="565920" y="497520"/>
                    <a:ext cx="151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 rot="8424000">
                    <a:off x="489960" y="533520"/>
                    <a:ext cx="961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 rot="8424000">
                    <a:off x="574560" y="552240"/>
                    <a:ext cx="70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 rot="8424000">
                    <a:off x="641160" y="452160"/>
                    <a:ext cx="342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 rot="8424000">
                    <a:off x="721440" y="506880"/>
                    <a:ext cx="74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 rot="8424000">
                    <a:off x="764640" y="502560"/>
                    <a:ext cx="464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 rot="8424000">
                    <a:off x="615600" y="516240"/>
                    <a:ext cx="15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 rot="8424000">
                    <a:off x="762120" y="550800"/>
                    <a:ext cx="136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 rot="8424000">
                    <a:off x="748080" y="61380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未知"/>
                  <p:cNvSpPr/>
                  <p:nvPr/>
                </p:nvSpPr>
                <p:spPr>
                  <a:xfrm rot="8424000">
                    <a:off x="809640" y="45000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1056"/>
                <p:cNvGrpSpPr/>
                <p:nvPr/>
              </p:nvGrpSpPr>
              <p:grpSpPr>
                <a:xfrm>
                  <a:off x="471600" y="816120"/>
                  <a:ext cx="59400" cy="45360"/>
                  <a:chOff x="471600" y="816120"/>
                  <a:chExt cx="59400" cy="45360"/>
                </a:xfrm>
              </p:grpSpPr>
              <p:sp>
                <p:nvSpPr>
                  <p:cNvPr id="1096" name="未知"/>
                  <p:cNvSpPr/>
                  <p:nvPr/>
                </p:nvSpPr>
                <p:spPr>
                  <a:xfrm rot="4059600">
                    <a:off x="487440" y="812160"/>
                    <a:ext cx="27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未知"/>
                  <p:cNvSpPr/>
                  <p:nvPr/>
                </p:nvSpPr>
                <p:spPr>
                  <a:xfrm rot="412800">
                    <a:off x="484200" y="82620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8" name="Group 1059"/>
            <p:cNvGrpSpPr/>
            <p:nvPr/>
          </p:nvGrpSpPr>
          <p:grpSpPr>
            <a:xfrm>
              <a:off x="983520" y="433440"/>
              <a:ext cx="657000" cy="344160"/>
              <a:chOff x="983520" y="433440"/>
              <a:chExt cx="657000" cy="344160"/>
            </a:xfrm>
          </p:grpSpPr>
          <p:grpSp>
            <p:nvGrpSpPr>
              <p:cNvPr id="1099" name="Group 1060"/>
              <p:cNvGrpSpPr/>
              <p:nvPr/>
            </p:nvGrpSpPr>
            <p:grpSpPr>
              <a:xfrm>
                <a:off x="983520" y="433440"/>
                <a:ext cx="657000" cy="344160"/>
                <a:chOff x="983520" y="433440"/>
                <a:chExt cx="657000" cy="344160"/>
              </a:xfrm>
            </p:grpSpPr>
            <p:sp>
              <p:nvSpPr>
                <p:cNvPr id="1100" name="未知"/>
                <p:cNvSpPr/>
                <p:nvPr/>
              </p:nvSpPr>
              <p:spPr>
                <a:xfrm flipH="1" rot="21294600">
                  <a:off x="1140840" y="454320"/>
                  <a:ext cx="48708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未知"/>
                <p:cNvSpPr/>
                <p:nvPr/>
              </p:nvSpPr>
              <p:spPr>
                <a:xfrm flipH="1" rot="21294600">
                  <a:off x="1157400" y="524520"/>
                  <a:ext cx="4129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未知"/>
                <p:cNvSpPr/>
                <p:nvPr/>
              </p:nvSpPr>
              <p:spPr>
                <a:xfrm flipH="1" rot="21294600">
                  <a:off x="990000" y="500400"/>
                  <a:ext cx="60156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未知"/>
                <p:cNvSpPr/>
                <p:nvPr/>
              </p:nvSpPr>
              <p:spPr>
                <a:xfrm flipH="1" rot="21294600">
                  <a:off x="1329840" y="586080"/>
                  <a:ext cx="19548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未知"/>
                <p:cNvSpPr/>
                <p:nvPr/>
              </p:nvSpPr>
              <p:spPr>
                <a:xfrm flipH="1" rot="21294600">
                  <a:off x="1234800" y="514440"/>
                  <a:ext cx="25272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未知"/>
                <p:cNvSpPr/>
                <p:nvPr/>
              </p:nvSpPr>
              <p:spPr>
                <a:xfrm flipH="1" rot="21294600">
                  <a:off x="1173600" y="476640"/>
                  <a:ext cx="27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未知"/>
                <p:cNvSpPr/>
                <p:nvPr/>
              </p:nvSpPr>
              <p:spPr>
                <a:xfrm flipH="1" rot="21294600">
                  <a:off x="1423800" y="610920"/>
                  <a:ext cx="115920" cy="108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未知"/>
                <p:cNvSpPr/>
                <p:nvPr/>
              </p:nvSpPr>
              <p:spPr>
                <a:xfrm flipH="1" rot="21294600">
                  <a:off x="1508040" y="632880"/>
                  <a:ext cx="6048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未知"/>
                <p:cNvSpPr/>
                <p:nvPr/>
              </p:nvSpPr>
              <p:spPr>
                <a:xfrm flipH="1" rot="21294600">
                  <a:off x="1495800" y="634680"/>
                  <a:ext cx="442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未知"/>
                <p:cNvSpPr/>
                <p:nvPr/>
              </p:nvSpPr>
              <p:spPr>
                <a:xfrm flipH="1" rot="21294600">
                  <a:off x="1427760" y="622800"/>
                  <a:ext cx="774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未知"/>
                <p:cNvSpPr/>
                <p:nvPr/>
              </p:nvSpPr>
              <p:spPr>
                <a:xfrm flipH="1" rot="21294600">
                  <a:off x="1327320" y="603000"/>
                  <a:ext cx="12384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未知"/>
                <p:cNvSpPr/>
                <p:nvPr/>
              </p:nvSpPr>
              <p:spPr>
                <a:xfrm flipH="1" rot="21294600">
                  <a:off x="1240920" y="583560"/>
                  <a:ext cx="132840" cy="146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未知"/>
                <p:cNvSpPr/>
                <p:nvPr/>
              </p:nvSpPr>
              <p:spPr>
                <a:xfrm flipH="1" rot="21294600">
                  <a:off x="1308240" y="675000"/>
                  <a:ext cx="14400" cy="58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未知"/>
                <p:cNvSpPr/>
                <p:nvPr/>
              </p:nvSpPr>
              <p:spPr>
                <a:xfrm flipH="1" rot="21294600">
                  <a:off x="1176480" y="569160"/>
                  <a:ext cx="9180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未知"/>
                <p:cNvSpPr/>
                <p:nvPr/>
              </p:nvSpPr>
              <p:spPr>
                <a:xfrm flipH="1" rot="21294600">
                  <a:off x="1279800" y="639720"/>
                  <a:ext cx="68040" cy="28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未知"/>
                <p:cNvSpPr/>
                <p:nvPr/>
              </p:nvSpPr>
              <p:spPr>
                <a:xfrm flipH="1" rot="21294600">
                  <a:off x="1391760" y="659520"/>
                  <a:ext cx="3276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未知"/>
                <p:cNvSpPr/>
                <p:nvPr/>
              </p:nvSpPr>
              <p:spPr>
                <a:xfrm flipH="1" rot="21294600">
                  <a:off x="1417320" y="58860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未知"/>
                <p:cNvSpPr/>
                <p:nvPr/>
              </p:nvSpPr>
              <p:spPr>
                <a:xfrm flipH="1" rot="21294600">
                  <a:off x="1449360" y="565200"/>
                  <a:ext cx="442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未知"/>
                <p:cNvSpPr/>
                <p:nvPr/>
              </p:nvSpPr>
              <p:spPr>
                <a:xfrm flipH="1" rot="21294600">
                  <a:off x="1346040" y="66996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未知"/>
                <p:cNvSpPr/>
                <p:nvPr/>
              </p:nvSpPr>
              <p:spPr>
                <a:xfrm flipH="1" rot="21294600">
                  <a:off x="1424160" y="55512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未知"/>
                <p:cNvSpPr/>
                <p:nvPr/>
              </p:nvSpPr>
              <p:spPr>
                <a:xfrm flipH="1" rot="21294600">
                  <a:off x="1371960" y="52092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未知"/>
                <p:cNvSpPr/>
                <p:nvPr/>
              </p:nvSpPr>
              <p:spPr>
                <a:xfrm flipH="1" rot="21294600">
                  <a:off x="1526040" y="59400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1083"/>
              <p:cNvGrpSpPr/>
              <p:nvPr/>
            </p:nvGrpSpPr>
            <p:grpSpPr>
              <a:xfrm>
                <a:off x="1030320" y="525960"/>
                <a:ext cx="57240" cy="43200"/>
                <a:chOff x="1030320" y="525960"/>
                <a:chExt cx="57240" cy="43200"/>
              </a:xfrm>
            </p:grpSpPr>
            <p:sp>
              <p:nvSpPr>
                <p:cNvPr id="1123" name="未知"/>
                <p:cNvSpPr/>
                <p:nvPr/>
              </p:nvSpPr>
              <p:spPr>
                <a:xfrm flipH="1" rot="4059600">
                  <a:off x="1045800" y="521640"/>
                  <a:ext cx="25200" cy="514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未知"/>
                <p:cNvSpPr/>
                <p:nvPr/>
              </p:nvSpPr>
              <p:spPr>
                <a:xfrm flipH="1" rot="7706400">
                  <a:off x="1045800" y="544680"/>
                  <a:ext cx="2592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5" name="Group 1086"/>
            <p:cNvGrpSpPr/>
            <p:nvPr/>
          </p:nvGrpSpPr>
          <p:grpSpPr>
            <a:xfrm>
              <a:off x="919800" y="31320"/>
              <a:ext cx="471240" cy="565200"/>
              <a:chOff x="919800" y="31320"/>
              <a:chExt cx="471240" cy="565200"/>
            </a:xfrm>
          </p:grpSpPr>
          <p:grpSp>
            <p:nvGrpSpPr>
              <p:cNvPr id="1126" name="Group 1087"/>
              <p:cNvGrpSpPr/>
              <p:nvPr/>
            </p:nvGrpSpPr>
            <p:grpSpPr>
              <a:xfrm>
                <a:off x="919800" y="31320"/>
                <a:ext cx="471240" cy="565200"/>
                <a:chOff x="919800" y="31320"/>
                <a:chExt cx="471240" cy="565200"/>
              </a:xfrm>
            </p:grpSpPr>
            <p:sp>
              <p:nvSpPr>
                <p:cNvPr id="1127" name="未知"/>
                <p:cNvSpPr/>
                <p:nvPr/>
              </p:nvSpPr>
              <p:spPr>
                <a:xfrm rot="7630800">
                  <a:off x="957600" y="145800"/>
                  <a:ext cx="41400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未知"/>
                <p:cNvSpPr/>
                <p:nvPr/>
              </p:nvSpPr>
              <p:spPr>
                <a:xfrm rot="7630800">
                  <a:off x="986760" y="231840"/>
                  <a:ext cx="3510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未知"/>
                <p:cNvSpPr/>
                <p:nvPr/>
              </p:nvSpPr>
              <p:spPr>
                <a:xfrm rot="7630800">
                  <a:off x="878400" y="272520"/>
                  <a:ext cx="51120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未知"/>
                <p:cNvSpPr/>
                <p:nvPr/>
              </p:nvSpPr>
              <p:spPr>
                <a:xfrm rot="7630800">
                  <a:off x="1109160" y="239040"/>
                  <a:ext cx="16596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未知"/>
                <p:cNvSpPr/>
                <p:nvPr/>
              </p:nvSpPr>
              <p:spPr>
                <a:xfrm rot="7630800">
                  <a:off x="1089000" y="286920"/>
                  <a:ext cx="214560" cy="550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未知"/>
                <p:cNvSpPr/>
                <p:nvPr/>
              </p:nvSpPr>
              <p:spPr>
                <a:xfrm rot="7630800">
                  <a:off x="1075320" y="326160"/>
                  <a:ext cx="23688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未知"/>
                <p:cNvSpPr/>
                <p:nvPr/>
              </p:nvSpPr>
              <p:spPr>
                <a:xfrm rot="7630800">
                  <a:off x="1152360" y="191520"/>
                  <a:ext cx="98280" cy="9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未知"/>
                <p:cNvSpPr/>
                <p:nvPr/>
              </p:nvSpPr>
              <p:spPr>
                <a:xfrm rot="7630800">
                  <a:off x="1187640" y="147240"/>
                  <a:ext cx="5148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未知"/>
                <p:cNvSpPr/>
                <p:nvPr/>
              </p:nvSpPr>
              <p:spPr>
                <a:xfrm rot="7630800">
                  <a:off x="1175040" y="143640"/>
                  <a:ext cx="37440" cy="25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未知"/>
                <p:cNvSpPr/>
                <p:nvPr/>
              </p:nvSpPr>
              <p:spPr>
                <a:xfrm rot="7630800">
                  <a:off x="1136880" y="169560"/>
                  <a:ext cx="6552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未知"/>
                <p:cNvSpPr/>
                <p:nvPr/>
              </p:nvSpPr>
              <p:spPr>
                <a:xfrm rot="7630800">
                  <a:off x="1080720" y="205560"/>
                  <a:ext cx="10512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未知"/>
                <p:cNvSpPr/>
                <p:nvPr/>
              </p:nvSpPr>
              <p:spPr>
                <a:xfrm rot="7630800">
                  <a:off x="1036800" y="243720"/>
                  <a:ext cx="113040" cy="122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未知"/>
                <p:cNvSpPr/>
                <p:nvPr/>
              </p:nvSpPr>
              <p:spPr>
                <a:xfrm rot="7630800">
                  <a:off x="1057680" y="253440"/>
                  <a:ext cx="12240" cy="48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未知"/>
                <p:cNvSpPr/>
                <p:nvPr/>
              </p:nvSpPr>
              <p:spPr>
                <a:xfrm rot="7630800">
                  <a:off x="1013760" y="288720"/>
                  <a:ext cx="781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未知"/>
                <p:cNvSpPr/>
                <p:nvPr/>
              </p:nvSpPr>
              <p:spPr>
                <a:xfrm rot="7630800">
                  <a:off x="1069560" y="290520"/>
                  <a:ext cx="57960" cy="2412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未知"/>
                <p:cNvSpPr/>
                <p:nvPr/>
              </p:nvSpPr>
              <p:spPr>
                <a:xfrm rot="7630800">
                  <a:off x="1105920" y="20160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未知"/>
                <p:cNvSpPr/>
                <p:nvPr/>
              </p:nvSpPr>
              <p:spPr>
                <a:xfrm rot="7630800">
                  <a:off x="1173600" y="224640"/>
                  <a:ext cx="60840" cy="82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未知"/>
                <p:cNvSpPr/>
                <p:nvPr/>
              </p:nvSpPr>
              <p:spPr>
                <a:xfrm rot="7630800">
                  <a:off x="1208160" y="216000"/>
                  <a:ext cx="3744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未知"/>
                <p:cNvSpPr/>
                <p:nvPr/>
              </p:nvSpPr>
              <p:spPr>
                <a:xfrm rot="7630800">
                  <a:off x="1095120" y="25920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未知"/>
                <p:cNvSpPr/>
                <p:nvPr/>
              </p:nvSpPr>
              <p:spPr>
                <a:xfrm rot="7630800">
                  <a:off x="1214280" y="2574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未知"/>
                <p:cNvSpPr/>
                <p:nvPr/>
              </p:nvSpPr>
              <p:spPr>
                <a:xfrm rot="7630800">
                  <a:off x="1213920" y="30816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未知"/>
                <p:cNvSpPr/>
                <p:nvPr/>
              </p:nvSpPr>
              <p:spPr>
                <a:xfrm rot="7630800">
                  <a:off x="1234440" y="16956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1110"/>
              <p:cNvGrpSpPr/>
              <p:nvPr/>
            </p:nvGrpSpPr>
            <p:grpSpPr>
              <a:xfrm>
                <a:off x="1035720" y="511200"/>
                <a:ext cx="47160" cy="42120"/>
                <a:chOff x="1035720" y="511200"/>
                <a:chExt cx="47160" cy="42120"/>
              </a:xfrm>
            </p:grpSpPr>
            <p:sp>
              <p:nvSpPr>
                <p:cNvPr id="1150" name="未知"/>
                <p:cNvSpPr/>
                <p:nvPr/>
              </p:nvSpPr>
              <p:spPr>
                <a:xfrm rot="3266400">
                  <a:off x="1048680" y="510480"/>
                  <a:ext cx="20880" cy="432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未知"/>
                <p:cNvSpPr/>
                <p:nvPr/>
              </p:nvSpPr>
              <p:spPr>
                <a:xfrm rot="21219600">
                  <a:off x="1044720" y="52308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113"/>
            <p:cNvGrpSpPr/>
            <p:nvPr/>
          </p:nvGrpSpPr>
          <p:grpSpPr>
            <a:xfrm>
              <a:off x="1434600" y="142920"/>
              <a:ext cx="474480" cy="468000"/>
              <a:chOff x="1434600" y="142920"/>
              <a:chExt cx="474480" cy="468000"/>
            </a:xfrm>
          </p:grpSpPr>
          <p:grpSp>
            <p:nvGrpSpPr>
              <p:cNvPr id="1153" name="Group 1114"/>
              <p:cNvGrpSpPr/>
              <p:nvPr/>
            </p:nvGrpSpPr>
            <p:grpSpPr>
              <a:xfrm>
                <a:off x="1456200" y="142920"/>
                <a:ext cx="452880" cy="468000"/>
                <a:chOff x="1456200" y="142920"/>
                <a:chExt cx="452880" cy="468000"/>
              </a:xfrm>
            </p:grpSpPr>
            <p:sp>
              <p:nvSpPr>
                <p:cNvPr id="1154" name="未知"/>
                <p:cNvSpPr/>
                <p:nvPr/>
              </p:nvSpPr>
              <p:spPr>
                <a:xfrm rot="12159000">
                  <a:off x="1577880" y="178200"/>
                  <a:ext cx="264960" cy="3967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未知"/>
                <p:cNvSpPr/>
                <p:nvPr/>
              </p:nvSpPr>
              <p:spPr>
                <a:xfrm rot="12159000">
                  <a:off x="1582560" y="292680"/>
                  <a:ext cx="224640" cy="187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未知"/>
                <p:cNvSpPr/>
                <p:nvPr/>
              </p:nvSpPr>
              <p:spPr>
                <a:xfrm rot="12159000">
                  <a:off x="1488240" y="270360"/>
                  <a:ext cx="327240" cy="2336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未知"/>
                <p:cNvSpPr/>
                <p:nvPr/>
              </p:nvSpPr>
              <p:spPr>
                <a:xfrm rot="12159000">
                  <a:off x="1676160" y="382320"/>
                  <a:ext cx="10656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未知"/>
                <p:cNvSpPr/>
                <p:nvPr/>
              </p:nvSpPr>
              <p:spPr>
                <a:xfrm rot="12159000">
                  <a:off x="1602720" y="402120"/>
                  <a:ext cx="137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未知"/>
                <p:cNvSpPr/>
                <p:nvPr/>
              </p:nvSpPr>
              <p:spPr>
                <a:xfrm rot="12159000">
                  <a:off x="1557000" y="416520"/>
                  <a:ext cx="151560" cy="114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未知"/>
                <p:cNvSpPr/>
                <p:nvPr/>
              </p:nvSpPr>
              <p:spPr>
                <a:xfrm rot="12159000">
                  <a:off x="1737720" y="365760"/>
                  <a:ext cx="63000" cy="144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未知"/>
                <p:cNvSpPr/>
                <p:nvPr/>
              </p:nvSpPr>
              <p:spPr>
                <a:xfrm rot="12159000">
                  <a:off x="1791720" y="353520"/>
                  <a:ext cx="327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未知"/>
                <p:cNvSpPr/>
                <p:nvPr/>
              </p:nvSpPr>
              <p:spPr>
                <a:xfrm rot="12159000">
                  <a:off x="1791720" y="315360"/>
                  <a:ext cx="2376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未知"/>
                <p:cNvSpPr/>
                <p:nvPr/>
              </p:nvSpPr>
              <p:spPr>
                <a:xfrm rot="12159000">
                  <a:off x="1755000" y="291960"/>
                  <a:ext cx="42120" cy="74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未知"/>
                <p:cNvSpPr/>
                <p:nvPr/>
              </p:nvSpPr>
              <p:spPr>
                <a:xfrm rot="12159000">
                  <a:off x="1701360" y="253080"/>
                  <a:ext cx="67320" cy="1317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未知"/>
                <p:cNvSpPr/>
                <p:nvPr/>
              </p:nvSpPr>
              <p:spPr>
                <a:xfrm rot="12159000">
                  <a:off x="1655640" y="209520"/>
                  <a:ext cx="72360" cy="19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未知"/>
                <p:cNvSpPr/>
                <p:nvPr/>
              </p:nvSpPr>
              <p:spPr>
                <a:xfrm rot="12159000">
                  <a:off x="1713960" y="211320"/>
                  <a:ext cx="8280" cy="76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未知"/>
                <p:cNvSpPr/>
                <p:nvPr/>
              </p:nvSpPr>
              <p:spPr>
                <a:xfrm rot="12159000">
                  <a:off x="1622880" y="175680"/>
                  <a:ext cx="50040" cy="237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未知"/>
                <p:cNvSpPr/>
                <p:nvPr/>
              </p:nvSpPr>
              <p:spPr>
                <a:xfrm rot="12159000">
                  <a:off x="1675800" y="29232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未知"/>
                <p:cNvSpPr/>
                <p:nvPr/>
              </p:nvSpPr>
              <p:spPr>
                <a:xfrm rot="12159000">
                  <a:off x="1749960" y="254160"/>
                  <a:ext cx="17640" cy="604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未知"/>
                <p:cNvSpPr/>
                <p:nvPr/>
              </p:nvSpPr>
              <p:spPr>
                <a:xfrm rot="12159000">
                  <a:off x="1722960" y="391680"/>
                  <a:ext cx="3852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未知"/>
                <p:cNvSpPr/>
                <p:nvPr/>
              </p:nvSpPr>
              <p:spPr>
                <a:xfrm rot="12159000">
                  <a:off x="1731960" y="412560"/>
                  <a:ext cx="2376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未知"/>
                <p:cNvSpPr/>
                <p:nvPr/>
              </p:nvSpPr>
              <p:spPr>
                <a:xfrm rot="12159000">
                  <a:off x="1721160" y="28044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未知"/>
                <p:cNvSpPr/>
                <p:nvPr/>
              </p:nvSpPr>
              <p:spPr>
                <a:xfrm rot="12159000">
                  <a:off x="1711080" y="435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未知"/>
                <p:cNvSpPr/>
                <p:nvPr/>
              </p:nvSpPr>
              <p:spPr>
                <a:xfrm rot="12159000">
                  <a:off x="1666440" y="46944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未知"/>
                <p:cNvSpPr/>
                <p:nvPr/>
              </p:nvSpPr>
              <p:spPr>
                <a:xfrm rot="12159000">
                  <a:off x="1783080" y="40104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1137"/>
              <p:cNvGrpSpPr/>
              <p:nvPr/>
            </p:nvGrpSpPr>
            <p:grpSpPr>
              <a:xfrm>
                <a:off x="1434600" y="423000"/>
                <a:ext cx="42840" cy="43560"/>
                <a:chOff x="1434600" y="423000"/>
                <a:chExt cx="42840" cy="43560"/>
              </a:xfrm>
            </p:grpSpPr>
            <p:sp>
              <p:nvSpPr>
                <p:cNvPr id="1177" name="未知"/>
                <p:cNvSpPr/>
                <p:nvPr/>
              </p:nvSpPr>
              <p:spPr>
                <a:xfrm rot="7794000">
                  <a:off x="1439280" y="43056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未知"/>
                <p:cNvSpPr/>
                <p:nvPr/>
              </p:nvSpPr>
              <p:spPr>
                <a:xfrm rot="4147200">
                  <a:off x="1451880" y="429120"/>
                  <a:ext cx="14040" cy="201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9" name="Group 1140"/>
          <p:cNvGrpSpPr/>
          <p:nvPr/>
        </p:nvGrpSpPr>
        <p:grpSpPr>
          <a:xfrm>
            <a:off x="-193320" y="755640"/>
            <a:ext cx="1494000" cy="1305000"/>
            <a:chOff x="-193320" y="755640"/>
            <a:chExt cx="1494000" cy="1305000"/>
          </a:xfrm>
        </p:grpSpPr>
        <p:sp>
          <p:nvSpPr>
            <p:cNvPr id="1180" name="未知"/>
            <p:cNvSpPr/>
            <p:nvPr/>
          </p:nvSpPr>
          <p:spPr>
            <a:xfrm flipH="1" rot="4059600">
              <a:off x="373680" y="722160"/>
              <a:ext cx="216720" cy="119196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 flipH="1" rot="4059600">
              <a:off x="-20520" y="1599840"/>
              <a:ext cx="24120" cy="4572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143"/>
            <p:cNvGrpSpPr/>
            <p:nvPr/>
          </p:nvGrpSpPr>
          <p:grpSpPr>
            <a:xfrm>
              <a:off x="-123840" y="1514160"/>
              <a:ext cx="497880" cy="546480"/>
              <a:chOff x="-123840" y="1514160"/>
              <a:chExt cx="497880" cy="546480"/>
            </a:xfrm>
          </p:grpSpPr>
          <p:grpSp>
            <p:nvGrpSpPr>
              <p:cNvPr id="1183" name="Group 1144"/>
              <p:cNvGrpSpPr/>
              <p:nvPr/>
            </p:nvGrpSpPr>
            <p:grpSpPr>
              <a:xfrm>
                <a:off x="-123840" y="1518840"/>
                <a:ext cx="497880" cy="541800"/>
                <a:chOff x="-123840" y="1518840"/>
                <a:chExt cx="497880" cy="541800"/>
              </a:xfrm>
            </p:grpSpPr>
            <p:sp>
              <p:nvSpPr>
                <p:cNvPr id="1184" name="未知"/>
                <p:cNvSpPr/>
                <p:nvPr/>
              </p:nvSpPr>
              <p:spPr>
                <a:xfrm flipH="1" rot="3919200">
                  <a:off x="-42480" y="1629000"/>
                  <a:ext cx="334800" cy="3942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未知"/>
                <p:cNvSpPr/>
                <p:nvPr/>
              </p:nvSpPr>
              <p:spPr>
                <a:xfrm flipH="1" rot="3919200">
                  <a:off x="-9360" y="1713600"/>
                  <a:ext cx="284040" cy="1872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未知"/>
                <p:cNvSpPr/>
                <p:nvPr/>
              </p:nvSpPr>
              <p:spPr>
                <a:xfrm flipH="1" rot="3919200">
                  <a:off x="-79200" y="1638720"/>
                  <a:ext cx="413640" cy="2329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未知"/>
                <p:cNvSpPr/>
                <p:nvPr/>
              </p:nvSpPr>
              <p:spPr>
                <a:xfrm flipH="1" rot="3919200">
                  <a:off x="78480" y="1838160"/>
                  <a:ext cx="13428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未知"/>
                <p:cNvSpPr/>
                <p:nvPr/>
              </p:nvSpPr>
              <p:spPr>
                <a:xfrm flipH="1" rot="3919200">
                  <a:off x="104040" y="1739880"/>
                  <a:ext cx="173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未知"/>
                <p:cNvSpPr/>
                <p:nvPr/>
              </p:nvSpPr>
              <p:spPr>
                <a:xfrm flipH="1" rot="3919200">
                  <a:off x="119160" y="1679760"/>
                  <a:ext cx="191520" cy="113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未知"/>
                <p:cNvSpPr/>
                <p:nvPr/>
              </p:nvSpPr>
              <p:spPr>
                <a:xfrm flipH="1" rot="3919200">
                  <a:off x="89280" y="1890000"/>
                  <a:ext cx="79560" cy="147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未知"/>
                <p:cNvSpPr/>
                <p:nvPr/>
              </p:nvSpPr>
              <p:spPr>
                <a:xfrm flipH="1" rot="3919200">
                  <a:off x="96120" y="194076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未知"/>
                <p:cNvSpPr/>
                <p:nvPr/>
              </p:nvSpPr>
              <p:spPr>
                <a:xfrm flipH="1" rot="3919200">
                  <a:off x="79920" y="1917720"/>
                  <a:ext cx="3024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未知"/>
                <p:cNvSpPr/>
                <p:nvPr/>
              </p:nvSpPr>
              <p:spPr>
                <a:xfrm flipH="1" rot="3919200">
                  <a:off x="58320" y="1865880"/>
                  <a:ext cx="52920" cy="74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未知"/>
                <p:cNvSpPr/>
                <p:nvPr/>
              </p:nvSpPr>
              <p:spPr>
                <a:xfrm flipH="1" rot="3919200">
                  <a:off x="26640" y="1787760"/>
                  <a:ext cx="84960" cy="130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未知"/>
                <p:cNvSpPr/>
                <p:nvPr/>
              </p:nvSpPr>
              <p:spPr>
                <a:xfrm flipH="1" rot="3919200">
                  <a:off x="2520" y="1703880"/>
                  <a:ext cx="91440" cy="191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未知"/>
                <p:cNvSpPr/>
                <p:nvPr/>
              </p:nvSpPr>
              <p:spPr>
                <a:xfrm flipH="1" rot="3919200">
                  <a:off x="-11520" y="1789200"/>
                  <a:ext cx="9720" cy="76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未知"/>
                <p:cNvSpPr/>
                <p:nvPr/>
              </p:nvSpPr>
              <p:spPr>
                <a:xfrm flipH="1" rot="3919200">
                  <a:off x="-720" y="1625760"/>
                  <a:ext cx="63000" cy="2358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未知"/>
                <p:cNvSpPr/>
                <p:nvPr/>
              </p:nvSpPr>
              <p:spPr>
                <a:xfrm flipH="1" rot="3919200">
                  <a:off x="29880" y="1783800"/>
                  <a:ext cx="4680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未知"/>
                <p:cNvSpPr/>
                <p:nvPr/>
              </p:nvSpPr>
              <p:spPr>
                <a:xfrm flipH="1" rot="3919200">
                  <a:off x="24120" y="18493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未知"/>
                <p:cNvSpPr/>
                <p:nvPr/>
              </p:nvSpPr>
              <p:spPr>
                <a:xfrm flipH="1" rot="3919200">
                  <a:off x="127080" y="1859760"/>
                  <a:ext cx="4896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未知"/>
                <p:cNvSpPr/>
                <p:nvPr/>
              </p:nvSpPr>
              <p:spPr>
                <a:xfrm flipH="1" rot="3919200">
                  <a:off x="163440" y="1858320"/>
                  <a:ext cx="3024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未知"/>
                <p:cNvSpPr/>
                <p:nvPr/>
              </p:nvSpPr>
              <p:spPr>
                <a:xfrm flipH="1" rot="3919200">
                  <a:off x="29880" y="183204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未知"/>
                <p:cNvSpPr/>
                <p:nvPr/>
              </p:nvSpPr>
              <p:spPr>
                <a:xfrm flipH="1" rot="3919200">
                  <a:off x="185760" y="18306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未知"/>
                <p:cNvSpPr/>
                <p:nvPr/>
              </p:nvSpPr>
              <p:spPr>
                <a:xfrm flipH="1" rot="3919200">
                  <a:off x="216000" y="17780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未知"/>
                <p:cNvSpPr/>
                <p:nvPr/>
              </p:nvSpPr>
              <p:spPr>
                <a:xfrm flipH="1" rot="3919200">
                  <a:off x="159840" y="191772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167"/>
              <p:cNvGrpSpPr/>
              <p:nvPr/>
            </p:nvGrpSpPr>
            <p:grpSpPr>
              <a:xfrm>
                <a:off x="135000" y="1514160"/>
                <a:ext cx="47880" cy="48240"/>
                <a:chOff x="135000" y="1514160"/>
                <a:chExt cx="47880" cy="48240"/>
              </a:xfrm>
            </p:grpSpPr>
            <p:sp>
              <p:nvSpPr>
                <p:cNvPr id="1207" name="未知"/>
                <p:cNvSpPr/>
                <p:nvPr/>
              </p:nvSpPr>
              <p:spPr>
                <a:xfrm flipH="1" rot="8284200">
                  <a:off x="142200" y="152064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未知"/>
                <p:cNvSpPr/>
                <p:nvPr/>
              </p:nvSpPr>
              <p:spPr>
                <a:xfrm flipH="1" rot="11931000">
                  <a:off x="143280" y="153144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Group 1170"/>
            <p:cNvGrpSpPr/>
            <p:nvPr/>
          </p:nvGrpSpPr>
          <p:grpSpPr>
            <a:xfrm>
              <a:off x="129600" y="1356840"/>
              <a:ext cx="555480" cy="429120"/>
              <a:chOff x="129600" y="1356840"/>
              <a:chExt cx="555480" cy="429120"/>
            </a:xfrm>
          </p:grpSpPr>
          <p:grpSp>
            <p:nvGrpSpPr>
              <p:cNvPr id="1210" name="Group 1171"/>
              <p:cNvGrpSpPr/>
              <p:nvPr/>
            </p:nvGrpSpPr>
            <p:grpSpPr>
              <a:xfrm>
                <a:off x="129600" y="1356840"/>
                <a:ext cx="555480" cy="429120"/>
                <a:chOff x="129600" y="1356840"/>
                <a:chExt cx="555480" cy="429120"/>
              </a:xfrm>
            </p:grpSpPr>
            <p:sp>
              <p:nvSpPr>
                <p:cNvPr id="1211" name="未知"/>
                <p:cNvSpPr/>
                <p:nvPr/>
              </p:nvSpPr>
              <p:spPr>
                <a:xfrm flipH="1" rot="20756400">
                  <a:off x="268920" y="1397520"/>
                  <a:ext cx="37980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未知"/>
                <p:cNvSpPr/>
                <p:nvPr/>
              </p:nvSpPr>
              <p:spPr>
                <a:xfrm flipH="1" rot="20756400">
                  <a:off x="279720" y="1479960"/>
                  <a:ext cx="321840" cy="164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未知"/>
                <p:cNvSpPr/>
                <p:nvPr/>
              </p:nvSpPr>
              <p:spPr>
                <a:xfrm flipH="1" rot="20756400">
                  <a:off x="146880" y="1458720"/>
                  <a:ext cx="46872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未知"/>
                <p:cNvSpPr/>
                <p:nvPr/>
              </p:nvSpPr>
              <p:spPr>
                <a:xfrm flipH="1" rot="20756400">
                  <a:off x="414000" y="1545480"/>
                  <a:ext cx="15228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未知"/>
                <p:cNvSpPr/>
                <p:nvPr/>
              </p:nvSpPr>
              <p:spPr>
                <a:xfrm flipH="1" rot="20756400">
                  <a:off x="330120" y="1469880"/>
                  <a:ext cx="1969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未知"/>
                <p:cNvSpPr/>
                <p:nvPr/>
              </p:nvSpPr>
              <p:spPr>
                <a:xfrm flipH="1" rot="20756400">
                  <a:off x="276480" y="1431000"/>
                  <a:ext cx="21708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未知"/>
                <p:cNvSpPr/>
                <p:nvPr/>
              </p:nvSpPr>
              <p:spPr>
                <a:xfrm flipH="1" rot="20756400">
                  <a:off x="492120" y="1568520"/>
                  <a:ext cx="9036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未知"/>
                <p:cNvSpPr/>
                <p:nvPr/>
              </p:nvSpPr>
              <p:spPr>
                <a:xfrm flipH="1" rot="20756400">
                  <a:off x="560520" y="1587960"/>
                  <a:ext cx="4716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未知"/>
                <p:cNvSpPr/>
                <p:nvPr/>
              </p:nvSpPr>
              <p:spPr>
                <a:xfrm flipH="1" rot="20756400">
                  <a:off x="554040" y="1591560"/>
                  <a:ext cx="345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未知"/>
                <p:cNvSpPr/>
                <p:nvPr/>
              </p:nvSpPr>
              <p:spPr>
                <a:xfrm flipH="1" rot="20756400">
                  <a:off x="501840" y="1582560"/>
                  <a:ext cx="60120" cy="65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未知"/>
                <p:cNvSpPr/>
                <p:nvPr/>
              </p:nvSpPr>
              <p:spPr>
                <a:xfrm flipH="1" rot="20756400">
                  <a:off x="424440" y="1566720"/>
                  <a:ext cx="9648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未知"/>
                <p:cNvSpPr/>
                <p:nvPr/>
              </p:nvSpPr>
              <p:spPr>
                <a:xfrm flipH="1" rot="20756400">
                  <a:off x="357480" y="1551960"/>
                  <a:ext cx="10368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未知"/>
                <p:cNvSpPr/>
                <p:nvPr/>
              </p:nvSpPr>
              <p:spPr>
                <a:xfrm flipH="1" rot="20756400">
                  <a:off x="420120" y="1654920"/>
                  <a:ext cx="11160" cy="66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未知"/>
                <p:cNvSpPr/>
                <p:nvPr/>
              </p:nvSpPr>
              <p:spPr>
                <a:xfrm flipH="1" rot="20756400">
                  <a:off x="307800" y="1542960"/>
                  <a:ext cx="716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未知"/>
                <p:cNvSpPr/>
                <p:nvPr/>
              </p:nvSpPr>
              <p:spPr>
                <a:xfrm flipH="1" rot="20756400">
                  <a:off x="386640" y="1615320"/>
                  <a:ext cx="529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未知"/>
                <p:cNvSpPr/>
                <p:nvPr/>
              </p:nvSpPr>
              <p:spPr>
                <a:xfrm flipH="1" rot="20756400">
                  <a:off x="480240" y="1630080"/>
                  <a:ext cx="25560" cy="52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未知"/>
                <p:cNvSpPr/>
                <p:nvPr/>
              </p:nvSpPr>
              <p:spPr>
                <a:xfrm flipH="1" rot="20756400">
                  <a:off x="481320" y="154548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未知"/>
                <p:cNvSpPr/>
                <p:nvPr/>
              </p:nvSpPr>
              <p:spPr>
                <a:xfrm flipH="1" rot="20756400">
                  <a:off x="502920" y="1517760"/>
                  <a:ext cx="345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未知"/>
                <p:cNvSpPr/>
                <p:nvPr/>
              </p:nvSpPr>
              <p:spPr>
                <a:xfrm flipH="1" rot="20756400">
                  <a:off x="443520" y="164700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未知"/>
                <p:cNvSpPr/>
                <p:nvPr/>
              </p:nvSpPr>
              <p:spPr>
                <a:xfrm flipH="1" rot="20756400">
                  <a:off x="480240" y="1509840"/>
                  <a:ext cx="1008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未知"/>
                <p:cNvSpPr/>
                <p:nvPr/>
              </p:nvSpPr>
              <p:spPr>
                <a:xfrm flipH="1" rot="20756400">
                  <a:off x="431280" y="147600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未知"/>
                <p:cNvSpPr/>
                <p:nvPr/>
              </p:nvSpPr>
              <p:spPr>
                <a:xfrm flipH="1" rot="20756400">
                  <a:off x="567000" y="1544040"/>
                  <a:ext cx="864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3" name="Group 1194"/>
              <p:cNvGrpSpPr/>
              <p:nvPr/>
            </p:nvGrpSpPr>
            <p:grpSpPr>
              <a:xfrm>
                <a:off x="146880" y="1494720"/>
                <a:ext cx="48960" cy="45360"/>
                <a:chOff x="146880" y="1494720"/>
                <a:chExt cx="48960" cy="45360"/>
              </a:xfrm>
            </p:grpSpPr>
            <p:sp>
              <p:nvSpPr>
                <p:cNvPr id="1234" name="未知"/>
                <p:cNvSpPr/>
                <p:nvPr/>
              </p:nvSpPr>
              <p:spPr>
                <a:xfrm flipH="1" rot="3520800">
                  <a:off x="156960" y="149724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未知"/>
                <p:cNvSpPr/>
                <p:nvPr/>
              </p:nvSpPr>
              <p:spPr>
                <a:xfrm flipH="1" rot="7167600">
                  <a:off x="163080" y="151416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6" name="Group 1197"/>
            <p:cNvGrpSpPr/>
            <p:nvPr/>
          </p:nvGrpSpPr>
          <p:grpSpPr>
            <a:xfrm>
              <a:off x="-193320" y="921960"/>
              <a:ext cx="836280" cy="571320"/>
              <a:chOff x="-193320" y="921960"/>
              <a:chExt cx="836280" cy="571320"/>
            </a:xfrm>
          </p:grpSpPr>
          <p:grpSp>
            <p:nvGrpSpPr>
              <p:cNvPr id="1237" name="Group 1198"/>
              <p:cNvGrpSpPr/>
              <p:nvPr/>
            </p:nvGrpSpPr>
            <p:grpSpPr>
              <a:xfrm>
                <a:off x="-193320" y="1026720"/>
                <a:ext cx="448560" cy="466560"/>
                <a:chOff x="-193320" y="1026720"/>
                <a:chExt cx="448560" cy="466560"/>
              </a:xfrm>
            </p:grpSpPr>
            <p:grpSp>
              <p:nvGrpSpPr>
                <p:cNvPr id="1238" name="Group 1199"/>
                <p:cNvGrpSpPr/>
                <p:nvPr/>
              </p:nvGrpSpPr>
              <p:grpSpPr>
                <a:xfrm>
                  <a:off x="-193320" y="1026720"/>
                  <a:ext cx="447120" cy="466560"/>
                  <a:chOff x="-193320" y="1026720"/>
                  <a:chExt cx="447120" cy="466560"/>
                </a:xfrm>
              </p:grpSpPr>
              <p:sp>
                <p:nvSpPr>
                  <p:cNvPr id="1239" name="未知"/>
                  <p:cNvSpPr/>
                  <p:nvPr/>
                </p:nvSpPr>
                <p:spPr>
                  <a:xfrm rot="4199400">
                    <a:off x="-123480" y="1051200"/>
                    <a:ext cx="307440" cy="36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未知"/>
                  <p:cNvSpPr/>
                  <p:nvPr/>
                </p:nvSpPr>
                <p:spPr>
                  <a:xfrm rot="4199400">
                    <a:off x="-82440" y="1153800"/>
                    <a:ext cx="2610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未知"/>
                  <p:cNvSpPr/>
                  <p:nvPr/>
                </p:nvSpPr>
                <p:spPr>
                  <a:xfrm rot="4199400">
                    <a:off x="-111600" y="1170720"/>
                    <a:ext cx="37980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未知"/>
                  <p:cNvSpPr/>
                  <p:nvPr/>
                </p:nvSpPr>
                <p:spPr>
                  <a:xfrm rot="4199400">
                    <a:off x="-33120" y="1193760"/>
                    <a:ext cx="1234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未知"/>
                  <p:cNvSpPr/>
                  <p:nvPr/>
                </p:nvSpPr>
                <p:spPr>
                  <a:xfrm rot="4199400">
                    <a:off x="22320" y="1179720"/>
                    <a:ext cx="1594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未知"/>
                  <p:cNvSpPr/>
                  <p:nvPr/>
                </p:nvSpPr>
                <p:spPr>
                  <a:xfrm rot="4199400">
                    <a:off x="58680" y="1180800"/>
                    <a:ext cx="1760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未知"/>
                  <p:cNvSpPr/>
                  <p:nvPr/>
                </p:nvSpPr>
                <p:spPr>
                  <a:xfrm rot="4199400">
                    <a:off x="-48960" y="1176840"/>
                    <a:ext cx="73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未知"/>
                  <p:cNvSpPr/>
                  <p:nvPr/>
                </p:nvSpPr>
                <p:spPr>
                  <a:xfrm rot="4199400">
                    <a:off x="-69840" y="1158480"/>
                    <a:ext cx="38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未知"/>
                  <p:cNvSpPr/>
                  <p:nvPr/>
                </p:nvSpPr>
                <p:spPr>
                  <a:xfrm rot="4199400">
                    <a:off x="-74880" y="1161360"/>
                    <a:ext cx="27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未知"/>
                  <p:cNvSpPr/>
                  <p:nvPr/>
                </p:nvSpPr>
                <p:spPr>
                  <a:xfrm rot="4199400">
                    <a:off x="-70200" y="1173960"/>
                    <a:ext cx="4860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未知"/>
                  <p:cNvSpPr/>
                  <p:nvPr/>
                </p:nvSpPr>
                <p:spPr>
                  <a:xfrm rot="4199400">
                    <a:off x="-63360" y="1191960"/>
                    <a:ext cx="7812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未知"/>
                  <p:cNvSpPr/>
                  <p:nvPr/>
                </p:nvSpPr>
                <p:spPr>
                  <a:xfrm rot="4199400">
                    <a:off x="-44280" y="1211760"/>
                    <a:ext cx="838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未知"/>
                  <p:cNvSpPr/>
                  <p:nvPr/>
                </p:nvSpPr>
                <p:spPr>
                  <a:xfrm rot="4199400">
                    <a:off x="-60840" y="1282680"/>
                    <a:ext cx="9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未知"/>
                  <p:cNvSpPr/>
                  <p:nvPr/>
                </p:nvSpPr>
                <p:spPr>
                  <a:xfrm rot="4199400">
                    <a:off x="-7560" y="1239120"/>
                    <a:ext cx="579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未知"/>
                  <p:cNvSpPr/>
                  <p:nvPr/>
                </p:nvSpPr>
                <p:spPr>
                  <a:xfrm rot="4199400">
                    <a:off x="-22320" y="1277280"/>
                    <a:ext cx="42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未知"/>
                  <p:cNvSpPr/>
                  <p:nvPr/>
                </p:nvSpPr>
                <p:spPr>
                  <a:xfrm rot="4199400">
                    <a:off x="-73080" y="1228320"/>
                    <a:ext cx="212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未知"/>
                  <p:cNvSpPr/>
                  <p:nvPr/>
                </p:nvSpPr>
                <p:spPr>
                  <a:xfrm rot="4199400">
                    <a:off x="0" y="11836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未知"/>
                  <p:cNvSpPr/>
                  <p:nvPr/>
                </p:nvSpPr>
                <p:spPr>
                  <a:xfrm rot="4199400">
                    <a:off x="23040" y="1158840"/>
                    <a:ext cx="277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未知"/>
                  <p:cNvSpPr/>
                  <p:nvPr/>
                </p:nvSpPr>
                <p:spPr>
                  <a:xfrm rot="4199400">
                    <a:off x="-42120" y="1276560"/>
                    <a:ext cx="9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未知"/>
                  <p:cNvSpPr/>
                  <p:nvPr/>
                </p:nvSpPr>
                <p:spPr>
                  <a:xfrm rot="4199400">
                    <a:off x="64080" y="118116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未知"/>
                  <p:cNvSpPr/>
                  <p:nvPr/>
                </p:nvSpPr>
                <p:spPr>
                  <a:xfrm rot="4199400">
                    <a:off x="117000" y="1193760"/>
                    <a:ext cx="9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未知"/>
                  <p:cNvSpPr/>
                  <p:nvPr/>
                </p:nvSpPr>
                <p:spPr>
                  <a:xfrm rot="4199400">
                    <a:off x="-9000" y="1143720"/>
                    <a:ext cx="68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222"/>
                <p:cNvGrpSpPr/>
                <p:nvPr/>
              </p:nvGrpSpPr>
              <p:grpSpPr>
                <a:xfrm>
                  <a:off x="221760" y="1382760"/>
                  <a:ext cx="33480" cy="34200"/>
                  <a:chOff x="221760" y="1382760"/>
                  <a:chExt cx="33480" cy="34200"/>
                </a:xfrm>
              </p:grpSpPr>
              <p:sp>
                <p:nvSpPr>
                  <p:cNvPr id="1262" name="未知"/>
                  <p:cNvSpPr/>
                  <p:nvPr/>
                </p:nvSpPr>
                <p:spPr>
                  <a:xfrm rot="21435000">
                    <a:off x="224280" y="1383120"/>
                    <a:ext cx="30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未知"/>
                  <p:cNvSpPr/>
                  <p:nvPr/>
                </p:nvSpPr>
                <p:spPr>
                  <a:xfrm rot="17788200">
                    <a:off x="225000" y="1391760"/>
                    <a:ext cx="16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4" name="Group 1225"/>
              <p:cNvGrpSpPr/>
              <p:nvPr/>
            </p:nvGrpSpPr>
            <p:grpSpPr>
              <a:xfrm>
                <a:off x="149040" y="921960"/>
                <a:ext cx="493920" cy="505080"/>
                <a:chOff x="149040" y="921960"/>
                <a:chExt cx="493920" cy="505080"/>
              </a:xfrm>
            </p:grpSpPr>
            <p:grpSp>
              <p:nvGrpSpPr>
                <p:cNvPr id="1265" name="Group 1226"/>
                <p:cNvGrpSpPr/>
                <p:nvPr/>
              </p:nvGrpSpPr>
              <p:grpSpPr>
                <a:xfrm>
                  <a:off x="149040" y="921960"/>
                  <a:ext cx="493920" cy="505080"/>
                  <a:chOff x="149040" y="921960"/>
                  <a:chExt cx="493920" cy="505080"/>
                </a:xfrm>
              </p:grpSpPr>
              <p:sp>
                <p:nvSpPr>
                  <p:cNvPr id="1266" name="未知"/>
                  <p:cNvSpPr/>
                  <p:nvPr/>
                </p:nvSpPr>
                <p:spPr>
                  <a:xfrm rot="8424000">
                    <a:off x="234720" y="994680"/>
                    <a:ext cx="34488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未知"/>
                  <p:cNvSpPr/>
                  <p:nvPr/>
                </p:nvSpPr>
                <p:spPr>
                  <a:xfrm rot="8424000">
                    <a:off x="257760" y="1097280"/>
                    <a:ext cx="29268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未知"/>
                  <p:cNvSpPr/>
                  <p:nvPr/>
                </p:nvSpPr>
                <p:spPr>
                  <a:xfrm rot="8424000">
                    <a:off x="160560" y="1122120"/>
                    <a:ext cx="42588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未知"/>
                  <p:cNvSpPr/>
                  <p:nvPr/>
                </p:nvSpPr>
                <p:spPr>
                  <a:xfrm rot="8424000">
                    <a:off x="366840" y="1132560"/>
                    <a:ext cx="1382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未知"/>
                  <p:cNvSpPr/>
                  <p:nvPr/>
                </p:nvSpPr>
                <p:spPr>
                  <a:xfrm rot="8424000">
                    <a:off x="348480" y="1177560"/>
                    <a:ext cx="1789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未知"/>
                  <p:cNvSpPr/>
                  <p:nvPr/>
                </p:nvSpPr>
                <p:spPr>
                  <a:xfrm rot="8424000">
                    <a:off x="335880" y="1212480"/>
                    <a:ext cx="1972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未知"/>
                  <p:cNvSpPr/>
                  <p:nvPr/>
                </p:nvSpPr>
                <p:spPr>
                  <a:xfrm rot="8424000">
                    <a:off x="405360" y="1089720"/>
                    <a:ext cx="82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未知"/>
                  <p:cNvSpPr/>
                  <p:nvPr/>
                </p:nvSpPr>
                <p:spPr>
                  <a:xfrm rot="8424000">
                    <a:off x="438480" y="1050480"/>
                    <a:ext cx="42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未知"/>
                  <p:cNvSpPr/>
                  <p:nvPr/>
                </p:nvSpPr>
                <p:spPr>
                  <a:xfrm rot="8424000">
                    <a:off x="423720" y="1034640"/>
                    <a:ext cx="313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未知"/>
                  <p:cNvSpPr/>
                  <p:nvPr/>
                </p:nvSpPr>
                <p:spPr>
                  <a:xfrm rot="8424000">
                    <a:off x="386640" y="1046880"/>
                    <a:ext cx="547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未知"/>
                  <p:cNvSpPr/>
                  <p:nvPr/>
                </p:nvSpPr>
                <p:spPr>
                  <a:xfrm rot="8424000">
                    <a:off x="331920" y="1062360"/>
                    <a:ext cx="874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未知"/>
                  <p:cNvSpPr/>
                  <p:nvPr/>
                </p:nvSpPr>
                <p:spPr>
                  <a:xfrm rot="8424000">
                    <a:off x="286200" y="1077120"/>
                    <a:ext cx="9396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未知"/>
                  <p:cNvSpPr/>
                  <p:nvPr/>
                </p:nvSpPr>
                <p:spPr>
                  <a:xfrm rot="8424000">
                    <a:off x="297360" y="1083600"/>
                    <a:ext cx="10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未知"/>
                  <p:cNvSpPr/>
                  <p:nvPr/>
                </p:nvSpPr>
                <p:spPr>
                  <a:xfrm rot="8424000">
                    <a:off x="257400" y="1101600"/>
                    <a:ext cx="6480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未知"/>
                  <p:cNvSpPr/>
                  <p:nvPr/>
                </p:nvSpPr>
                <p:spPr>
                  <a:xfrm rot="8424000">
                    <a:off x="314280" y="1140120"/>
                    <a:ext cx="482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未知"/>
                  <p:cNvSpPr/>
                  <p:nvPr/>
                </p:nvSpPr>
                <p:spPr>
                  <a:xfrm rot="8424000">
                    <a:off x="350640" y="1058760"/>
                    <a:ext cx="234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未知"/>
                  <p:cNvSpPr/>
                  <p:nvPr/>
                </p:nvSpPr>
                <p:spPr>
                  <a:xfrm rot="8424000">
                    <a:off x="423720" y="112464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未知"/>
                  <p:cNvSpPr/>
                  <p:nvPr/>
                </p:nvSpPr>
                <p:spPr>
                  <a:xfrm rot="8424000">
                    <a:off x="457200" y="1124280"/>
                    <a:ext cx="31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未知"/>
                  <p:cNvSpPr/>
                  <p:nvPr/>
                </p:nvSpPr>
                <p:spPr>
                  <a:xfrm rot="8424000">
                    <a:off x="336600" y="111168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未知"/>
                  <p:cNvSpPr/>
                  <p:nvPr/>
                </p:nvSpPr>
                <p:spPr>
                  <a:xfrm rot="8424000">
                    <a:off x="459720" y="1164960"/>
                    <a:ext cx="90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未知"/>
                  <p:cNvSpPr/>
                  <p:nvPr/>
                </p:nvSpPr>
                <p:spPr>
                  <a:xfrm rot="8424000">
                    <a:off x="458280" y="1216800"/>
                    <a:ext cx="10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未知"/>
                  <p:cNvSpPr/>
                  <p:nvPr/>
                </p:nvSpPr>
                <p:spPr>
                  <a:xfrm rot="8424000">
                    <a:off x="482040" y="108396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Group 1249"/>
                <p:cNvGrpSpPr/>
                <p:nvPr/>
              </p:nvGrpSpPr>
              <p:grpSpPr>
                <a:xfrm>
                  <a:off x="272160" y="1379520"/>
                  <a:ext cx="43920" cy="38880"/>
                  <a:chOff x="272160" y="1379520"/>
                  <a:chExt cx="43920" cy="38880"/>
                </a:xfrm>
              </p:grpSpPr>
              <p:sp>
                <p:nvSpPr>
                  <p:cNvPr id="1289" name="未知"/>
                  <p:cNvSpPr/>
                  <p:nvPr/>
                </p:nvSpPr>
                <p:spPr>
                  <a:xfrm rot="4059600">
                    <a:off x="280440" y="1380600"/>
                    <a:ext cx="27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未知"/>
                  <p:cNvSpPr/>
                  <p:nvPr/>
                </p:nvSpPr>
                <p:spPr>
                  <a:xfrm rot="412800">
                    <a:off x="281880" y="1386000"/>
                    <a:ext cx="18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1" name="Group 1252"/>
            <p:cNvGrpSpPr/>
            <p:nvPr/>
          </p:nvGrpSpPr>
          <p:grpSpPr>
            <a:xfrm>
              <a:off x="628920" y="1105560"/>
              <a:ext cx="453600" cy="330120"/>
              <a:chOff x="628920" y="1105560"/>
              <a:chExt cx="453600" cy="330120"/>
            </a:xfrm>
          </p:grpSpPr>
          <p:grpSp>
            <p:nvGrpSpPr>
              <p:cNvPr id="1292" name="Group 1253"/>
              <p:cNvGrpSpPr/>
              <p:nvPr/>
            </p:nvGrpSpPr>
            <p:grpSpPr>
              <a:xfrm>
                <a:off x="628920" y="1105560"/>
                <a:ext cx="453600" cy="330120"/>
                <a:chOff x="628920" y="1105560"/>
                <a:chExt cx="453600" cy="330120"/>
              </a:xfrm>
            </p:grpSpPr>
            <p:sp>
              <p:nvSpPr>
                <p:cNvPr id="1293" name="未知"/>
                <p:cNvSpPr/>
                <p:nvPr/>
              </p:nvSpPr>
              <p:spPr>
                <a:xfrm flipH="1" rot="21294600">
                  <a:off x="739800" y="1119240"/>
                  <a:ext cx="33012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未知"/>
                <p:cNvSpPr/>
                <p:nvPr/>
              </p:nvSpPr>
              <p:spPr>
                <a:xfrm flipH="1" rot="21294600">
                  <a:off x="749520" y="1188360"/>
                  <a:ext cx="28008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未知"/>
                <p:cNvSpPr/>
                <p:nvPr/>
              </p:nvSpPr>
              <p:spPr>
                <a:xfrm flipH="1" rot="21294600">
                  <a:off x="635040" y="1162440"/>
                  <a:ext cx="40752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未知"/>
                <p:cNvSpPr/>
                <p:nvPr/>
              </p:nvSpPr>
              <p:spPr>
                <a:xfrm flipH="1" rot="21294600">
                  <a:off x="866880" y="1252080"/>
                  <a:ext cx="132480" cy="172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未知"/>
                <p:cNvSpPr/>
                <p:nvPr/>
              </p:nvSpPr>
              <p:spPr>
                <a:xfrm flipH="1" rot="21294600">
                  <a:off x="802080" y="1178640"/>
                  <a:ext cx="17136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未知"/>
                <p:cNvSpPr/>
                <p:nvPr/>
              </p:nvSpPr>
              <p:spPr>
                <a:xfrm flipH="1" rot="21294600">
                  <a:off x="758880" y="1139760"/>
                  <a:ext cx="189000" cy="874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未知"/>
                <p:cNvSpPr/>
                <p:nvPr/>
              </p:nvSpPr>
              <p:spPr>
                <a:xfrm flipH="1" rot="21294600">
                  <a:off x="932760" y="1278360"/>
                  <a:ext cx="78480" cy="111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未知"/>
                <p:cNvSpPr/>
                <p:nvPr/>
              </p:nvSpPr>
              <p:spPr>
                <a:xfrm flipH="1" rot="21294600">
                  <a:off x="988920" y="1301400"/>
                  <a:ext cx="4104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未知"/>
                <p:cNvSpPr/>
                <p:nvPr/>
              </p:nvSpPr>
              <p:spPr>
                <a:xfrm flipH="1" rot="21294600">
                  <a:off x="981720" y="1302840"/>
                  <a:ext cx="298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未知"/>
                <p:cNvSpPr/>
                <p:nvPr/>
              </p:nvSpPr>
              <p:spPr>
                <a:xfrm flipH="1" rot="21294600">
                  <a:off x="936000" y="1289880"/>
                  <a:ext cx="522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未知"/>
                <p:cNvSpPr/>
                <p:nvPr/>
              </p:nvSpPr>
              <p:spPr>
                <a:xfrm flipH="1" rot="21294600">
                  <a:off x="866880" y="1267560"/>
                  <a:ext cx="8388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未知"/>
                <p:cNvSpPr/>
                <p:nvPr/>
              </p:nvSpPr>
              <p:spPr>
                <a:xfrm flipH="1" rot="21294600">
                  <a:off x="808560" y="1245960"/>
                  <a:ext cx="90000" cy="14688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未知"/>
                <p:cNvSpPr/>
                <p:nvPr/>
              </p:nvSpPr>
              <p:spPr>
                <a:xfrm flipH="1" rot="21294600">
                  <a:off x="854640" y="1337040"/>
                  <a:ext cx="9720" cy="58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未知"/>
                <p:cNvSpPr/>
                <p:nvPr/>
              </p:nvSpPr>
              <p:spPr>
                <a:xfrm flipH="1" rot="21294600">
                  <a:off x="764640" y="1229040"/>
                  <a:ext cx="6228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未知"/>
                <p:cNvSpPr/>
                <p:nvPr/>
              </p:nvSpPr>
              <p:spPr>
                <a:xfrm flipH="1" rot="21294600">
                  <a:off x="834120" y="1302480"/>
                  <a:ext cx="45720" cy="28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未知"/>
                <p:cNvSpPr/>
                <p:nvPr/>
              </p:nvSpPr>
              <p:spPr>
                <a:xfrm flipH="1" rot="21294600">
                  <a:off x="911160" y="132480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未知"/>
                <p:cNvSpPr/>
                <p:nvPr/>
              </p:nvSpPr>
              <p:spPr>
                <a:xfrm flipH="1" rot="21294600">
                  <a:off x="926640" y="1254960"/>
                  <a:ext cx="486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未知"/>
                <p:cNvSpPr/>
                <p:nvPr/>
              </p:nvSpPr>
              <p:spPr>
                <a:xfrm flipH="1" rot="21294600">
                  <a:off x="948240" y="12326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未知"/>
                <p:cNvSpPr/>
                <p:nvPr/>
              </p:nvSpPr>
              <p:spPr>
                <a:xfrm flipH="1" rot="21294600">
                  <a:off x="880200" y="1333440"/>
                  <a:ext cx="97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未知"/>
                <p:cNvSpPr/>
                <p:nvPr/>
              </p:nvSpPr>
              <p:spPr>
                <a:xfrm flipH="1" rot="21294600">
                  <a:off x="930600" y="122112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未知"/>
                <p:cNvSpPr/>
                <p:nvPr/>
              </p:nvSpPr>
              <p:spPr>
                <a:xfrm flipH="1" rot="21294600">
                  <a:off x="893880" y="1185120"/>
                  <a:ext cx="97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未知"/>
                <p:cNvSpPr/>
                <p:nvPr/>
              </p:nvSpPr>
              <p:spPr>
                <a:xfrm flipH="1" rot="21294600">
                  <a:off x="1000440" y="1262520"/>
                  <a:ext cx="75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1276"/>
              <p:cNvGrpSpPr/>
              <p:nvPr/>
            </p:nvGrpSpPr>
            <p:grpSpPr>
              <a:xfrm>
                <a:off x="644040" y="1166400"/>
                <a:ext cx="41760" cy="36360"/>
                <a:chOff x="644040" y="1166400"/>
                <a:chExt cx="41760" cy="36360"/>
              </a:xfrm>
            </p:grpSpPr>
            <p:sp>
              <p:nvSpPr>
                <p:cNvPr id="1316" name="未知"/>
                <p:cNvSpPr/>
                <p:nvPr/>
              </p:nvSpPr>
              <p:spPr>
                <a:xfrm flipH="1" rot="4059600">
                  <a:off x="651960" y="1167480"/>
                  <a:ext cx="25200" cy="345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未知"/>
                <p:cNvSpPr/>
                <p:nvPr/>
              </p:nvSpPr>
              <p:spPr>
                <a:xfrm flipH="1" rot="7706400">
                  <a:off x="657000" y="1181880"/>
                  <a:ext cx="1728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8" name="Group 1279"/>
            <p:cNvGrpSpPr/>
            <p:nvPr/>
          </p:nvGrpSpPr>
          <p:grpSpPr>
            <a:xfrm>
              <a:off x="528120" y="755640"/>
              <a:ext cx="371880" cy="427320"/>
              <a:chOff x="528120" y="755640"/>
              <a:chExt cx="371880" cy="427320"/>
            </a:xfrm>
          </p:grpSpPr>
          <p:grpSp>
            <p:nvGrpSpPr>
              <p:cNvPr id="1319" name="Group 1280"/>
              <p:cNvGrpSpPr/>
              <p:nvPr/>
            </p:nvGrpSpPr>
            <p:grpSpPr>
              <a:xfrm>
                <a:off x="528120" y="755640"/>
                <a:ext cx="371880" cy="427320"/>
                <a:chOff x="528120" y="755640"/>
                <a:chExt cx="371880" cy="427320"/>
              </a:xfrm>
            </p:grpSpPr>
            <p:sp>
              <p:nvSpPr>
                <p:cNvPr id="1320" name="未知"/>
                <p:cNvSpPr/>
                <p:nvPr/>
              </p:nvSpPr>
              <p:spPr>
                <a:xfrm rot="7630800">
                  <a:off x="573480" y="817200"/>
                  <a:ext cx="280440" cy="2541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未知"/>
                <p:cNvSpPr/>
                <p:nvPr/>
              </p:nvSpPr>
              <p:spPr>
                <a:xfrm rot="7630800">
                  <a:off x="595080" y="899640"/>
                  <a:ext cx="237960" cy="119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未知"/>
                <p:cNvSpPr/>
                <p:nvPr/>
              </p:nvSpPr>
              <p:spPr>
                <a:xfrm rot="7630800">
                  <a:off x="524520" y="924480"/>
                  <a:ext cx="34668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未知"/>
                <p:cNvSpPr/>
                <p:nvPr/>
              </p:nvSpPr>
              <p:spPr>
                <a:xfrm rot="7630800">
                  <a:off x="677520" y="919440"/>
                  <a:ext cx="11268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未知"/>
                <p:cNvSpPr/>
                <p:nvPr/>
              </p:nvSpPr>
              <p:spPr>
                <a:xfrm rot="7630800">
                  <a:off x="675000" y="954720"/>
                  <a:ext cx="145440" cy="554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未知"/>
                <p:cNvSpPr/>
                <p:nvPr/>
              </p:nvSpPr>
              <p:spPr>
                <a:xfrm rot="7630800">
                  <a:off x="672840" y="983160"/>
                  <a:ext cx="16056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未知"/>
                <p:cNvSpPr/>
                <p:nvPr/>
              </p:nvSpPr>
              <p:spPr>
                <a:xfrm rot="7630800">
                  <a:off x="701280" y="884880"/>
                  <a:ext cx="66600" cy="100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 rot="7630800">
                  <a:off x="720000" y="851760"/>
                  <a:ext cx="3492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 rot="7630800">
                  <a:off x="708840" y="8438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未知"/>
                <p:cNvSpPr/>
                <p:nvPr/>
              </p:nvSpPr>
              <p:spPr>
                <a:xfrm rot="7630800">
                  <a:off x="683280" y="858240"/>
                  <a:ext cx="4428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未知"/>
                <p:cNvSpPr/>
                <p:nvPr/>
              </p:nvSpPr>
              <p:spPr>
                <a:xfrm rot="7630800">
                  <a:off x="646920" y="877320"/>
                  <a:ext cx="7128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未知"/>
                <p:cNvSpPr/>
                <p:nvPr/>
              </p:nvSpPr>
              <p:spPr>
                <a:xfrm rot="7630800">
                  <a:off x="617040" y="897480"/>
                  <a:ext cx="76680" cy="1231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未知"/>
                <p:cNvSpPr/>
                <p:nvPr/>
              </p:nvSpPr>
              <p:spPr>
                <a:xfrm rot="7630800">
                  <a:off x="621360" y="908640"/>
                  <a:ext cx="8280" cy="49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未知"/>
                <p:cNvSpPr/>
                <p:nvPr/>
              </p:nvSpPr>
              <p:spPr>
                <a:xfrm rot="7630800">
                  <a:off x="603000" y="924480"/>
                  <a:ext cx="529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未知"/>
                <p:cNvSpPr/>
                <p:nvPr/>
              </p:nvSpPr>
              <p:spPr>
                <a:xfrm rot="7630800">
                  <a:off x="640440" y="945720"/>
                  <a:ext cx="39240" cy="23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未知"/>
                <p:cNvSpPr/>
                <p:nvPr/>
              </p:nvSpPr>
              <p:spPr>
                <a:xfrm rot="7630800">
                  <a:off x="657360" y="87696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未知"/>
                <p:cNvSpPr/>
                <p:nvPr/>
              </p:nvSpPr>
              <p:spPr>
                <a:xfrm rot="7630800">
                  <a:off x="721440" y="911880"/>
                  <a:ext cx="41400" cy="75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未知"/>
                <p:cNvSpPr/>
                <p:nvPr/>
              </p:nvSpPr>
              <p:spPr>
                <a:xfrm rot="7630800">
                  <a:off x="748440" y="907200"/>
                  <a:ext cx="2556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未知"/>
                <p:cNvSpPr/>
                <p:nvPr/>
              </p:nvSpPr>
              <p:spPr>
                <a:xfrm rot="7630800">
                  <a:off x="651960" y="9230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未知"/>
                <p:cNvSpPr/>
                <p:nvPr/>
              </p:nvSpPr>
              <p:spPr>
                <a:xfrm rot="7630800">
                  <a:off x="757080" y="9399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未知"/>
                <p:cNvSpPr/>
                <p:nvPr/>
              </p:nvSpPr>
              <p:spPr>
                <a:xfrm rot="7630800">
                  <a:off x="764640" y="9806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未知"/>
                <p:cNvSpPr/>
                <p:nvPr/>
              </p:nvSpPr>
              <p:spPr>
                <a:xfrm rot="7630800">
                  <a:off x="759960" y="8733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2" name="Group 1303"/>
              <p:cNvGrpSpPr/>
              <p:nvPr/>
            </p:nvGrpSpPr>
            <p:grpSpPr>
              <a:xfrm>
                <a:off x="648720" y="1137600"/>
                <a:ext cx="36000" cy="34200"/>
                <a:chOff x="648720" y="1137600"/>
                <a:chExt cx="36000" cy="34200"/>
              </a:xfrm>
            </p:grpSpPr>
            <p:sp>
              <p:nvSpPr>
                <p:cNvPr id="1343" name="未知"/>
                <p:cNvSpPr/>
                <p:nvPr/>
              </p:nvSpPr>
              <p:spPr>
                <a:xfrm rot="3266400">
                  <a:off x="655920" y="113976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未知"/>
                <p:cNvSpPr/>
                <p:nvPr/>
              </p:nvSpPr>
              <p:spPr>
                <a:xfrm rot="21219600">
                  <a:off x="655200" y="114552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5" name="Group 1306"/>
            <p:cNvGrpSpPr/>
            <p:nvPr/>
          </p:nvGrpSpPr>
          <p:grpSpPr>
            <a:xfrm>
              <a:off x="890640" y="918720"/>
              <a:ext cx="410040" cy="350280"/>
              <a:chOff x="890640" y="918720"/>
              <a:chExt cx="410040" cy="350280"/>
            </a:xfrm>
          </p:grpSpPr>
          <p:grpSp>
            <p:nvGrpSpPr>
              <p:cNvPr id="1346" name="Group 1307"/>
              <p:cNvGrpSpPr/>
              <p:nvPr/>
            </p:nvGrpSpPr>
            <p:grpSpPr>
              <a:xfrm>
                <a:off x="890640" y="918720"/>
                <a:ext cx="410040" cy="350280"/>
                <a:chOff x="890640" y="918720"/>
                <a:chExt cx="410040" cy="350280"/>
              </a:xfrm>
            </p:grpSpPr>
            <p:sp>
              <p:nvSpPr>
                <p:cNvPr id="1347" name="未知"/>
                <p:cNvSpPr/>
                <p:nvPr/>
              </p:nvSpPr>
              <p:spPr>
                <a:xfrm rot="12159000">
                  <a:off x="994320" y="959400"/>
                  <a:ext cx="264960" cy="2689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未知"/>
                <p:cNvSpPr/>
                <p:nvPr/>
              </p:nvSpPr>
              <p:spPr>
                <a:xfrm rot="12159000">
                  <a:off x="1000800" y="1035720"/>
                  <a:ext cx="224640" cy="1274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未知"/>
                <p:cNvSpPr/>
                <p:nvPr/>
              </p:nvSpPr>
              <p:spPr>
                <a:xfrm rot="12159000">
                  <a:off x="908280" y="1015560"/>
                  <a:ext cx="327240" cy="158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未知"/>
                <p:cNvSpPr/>
                <p:nvPr/>
              </p:nvSpPr>
              <p:spPr>
                <a:xfrm rot="12159000">
                  <a:off x="1093320" y="1101600"/>
                  <a:ext cx="106560" cy="154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未知"/>
                <p:cNvSpPr/>
                <p:nvPr/>
              </p:nvSpPr>
              <p:spPr>
                <a:xfrm rot="12159000">
                  <a:off x="1028520" y="1110600"/>
                  <a:ext cx="137520" cy="583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未知"/>
                <p:cNvSpPr/>
                <p:nvPr/>
              </p:nvSpPr>
              <p:spPr>
                <a:xfrm rot="12159000">
                  <a:off x="988200" y="111780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未知"/>
                <p:cNvSpPr/>
                <p:nvPr/>
              </p:nvSpPr>
              <p:spPr>
                <a:xfrm rot="12159000">
                  <a:off x="1150560" y="1093320"/>
                  <a:ext cx="63000" cy="972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未知"/>
                <p:cNvSpPr/>
                <p:nvPr/>
              </p:nvSpPr>
              <p:spPr>
                <a:xfrm rot="12159000">
                  <a:off x="1200960" y="1089000"/>
                  <a:ext cx="32760" cy="39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未知"/>
                <p:cNvSpPr/>
                <p:nvPr/>
              </p:nvSpPr>
              <p:spPr>
                <a:xfrm rot="12159000">
                  <a:off x="1198440" y="1062000"/>
                  <a:ext cx="23760" cy="273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未知"/>
                <p:cNvSpPr/>
                <p:nvPr/>
              </p:nvSpPr>
              <p:spPr>
                <a:xfrm rot="12159000">
                  <a:off x="1162440" y="1041480"/>
                  <a:ext cx="42120" cy="507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未知"/>
                <p:cNvSpPr/>
                <p:nvPr/>
              </p:nvSpPr>
              <p:spPr>
                <a:xfrm rot="12159000">
                  <a:off x="1109880" y="1010880"/>
                  <a:ext cx="67320" cy="892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未知"/>
                <p:cNvSpPr/>
                <p:nvPr/>
              </p:nvSpPr>
              <p:spPr>
                <a:xfrm rot="12159000">
                  <a:off x="1064880" y="975600"/>
                  <a:ext cx="72360" cy="130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未知"/>
                <p:cNvSpPr/>
                <p:nvPr/>
              </p:nvSpPr>
              <p:spPr>
                <a:xfrm rot="12159000">
                  <a:off x="1115280" y="977040"/>
                  <a:ext cx="8280" cy="518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未知"/>
                <p:cNvSpPr/>
                <p:nvPr/>
              </p:nvSpPr>
              <p:spPr>
                <a:xfrm rot="12159000">
                  <a:off x="1032120" y="947520"/>
                  <a:ext cx="50040" cy="1605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未知"/>
                <p:cNvSpPr/>
                <p:nvPr/>
              </p:nvSpPr>
              <p:spPr>
                <a:xfrm rot="12159000">
                  <a:off x="1084680" y="1031400"/>
                  <a:ext cx="37080" cy="255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未知"/>
                <p:cNvSpPr/>
                <p:nvPr/>
              </p:nvSpPr>
              <p:spPr>
                <a:xfrm rot="12159000">
                  <a:off x="1153440" y="1011960"/>
                  <a:ext cx="17640" cy="410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未知"/>
                <p:cNvSpPr/>
                <p:nvPr/>
              </p:nvSpPr>
              <p:spPr>
                <a:xfrm rot="12159000">
                  <a:off x="1140120" y="110952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未知"/>
                <p:cNvSpPr/>
                <p:nvPr/>
              </p:nvSpPr>
              <p:spPr>
                <a:xfrm rot="12159000">
                  <a:off x="1152360" y="1125000"/>
                  <a:ext cx="23760" cy="15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未知"/>
                <p:cNvSpPr/>
                <p:nvPr/>
              </p:nvSpPr>
              <p:spPr>
                <a:xfrm rot="12159000">
                  <a:off x="1126800" y="1026720"/>
                  <a:ext cx="8280" cy="100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未知"/>
                <p:cNvSpPr/>
                <p:nvPr/>
              </p:nvSpPr>
              <p:spPr>
                <a:xfrm rot="12159000">
                  <a:off x="1134360" y="113760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未知"/>
                <p:cNvSpPr/>
                <p:nvPr/>
              </p:nvSpPr>
              <p:spPr>
                <a:xfrm rot="12159000">
                  <a:off x="1095840" y="115704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未知"/>
                <p:cNvSpPr/>
                <p:nvPr/>
              </p:nvSpPr>
              <p:spPr>
                <a:xfrm rot="12159000">
                  <a:off x="1199160" y="112104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330"/>
              <p:cNvGrpSpPr/>
              <p:nvPr/>
            </p:nvGrpSpPr>
            <p:grpSpPr>
              <a:xfrm>
                <a:off x="896400" y="1094040"/>
                <a:ext cx="36000" cy="35280"/>
                <a:chOff x="896400" y="1094040"/>
                <a:chExt cx="36000" cy="35280"/>
              </a:xfrm>
            </p:grpSpPr>
            <p:sp>
              <p:nvSpPr>
                <p:cNvPr id="1370" name="未知"/>
                <p:cNvSpPr/>
                <p:nvPr/>
              </p:nvSpPr>
              <p:spPr>
                <a:xfrm rot="7794000">
                  <a:off x="903240" y="1097280"/>
                  <a:ext cx="223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未知"/>
                <p:cNvSpPr/>
                <p:nvPr/>
              </p:nvSpPr>
              <p:spPr>
                <a:xfrm rot="4147200">
                  <a:off x="909720" y="1101600"/>
                  <a:ext cx="14040" cy="13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2" name="Group 1333"/>
          <p:cNvGrpSpPr/>
          <p:nvPr/>
        </p:nvGrpSpPr>
        <p:grpSpPr>
          <a:xfrm>
            <a:off x="-428040" y="358200"/>
            <a:ext cx="2052000" cy="1434240"/>
            <a:chOff x="-428040" y="358200"/>
            <a:chExt cx="2052000" cy="1434240"/>
          </a:xfrm>
        </p:grpSpPr>
        <p:sp>
          <p:nvSpPr>
            <p:cNvPr id="1373" name="未知"/>
            <p:cNvSpPr/>
            <p:nvPr/>
          </p:nvSpPr>
          <p:spPr>
            <a:xfrm flipH="1" rot="7023600">
              <a:off x="530280" y="391680"/>
              <a:ext cx="275040" cy="150408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 flipH="1" rot="7023600">
              <a:off x="-42120" y="895320"/>
              <a:ext cx="30600" cy="579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roup 1336"/>
            <p:cNvGrpSpPr/>
            <p:nvPr/>
          </p:nvGrpSpPr>
          <p:grpSpPr>
            <a:xfrm>
              <a:off x="-428040" y="865800"/>
              <a:ext cx="641520" cy="652320"/>
              <a:chOff x="-428040" y="865800"/>
              <a:chExt cx="641520" cy="652320"/>
            </a:xfrm>
          </p:grpSpPr>
          <p:grpSp>
            <p:nvGrpSpPr>
              <p:cNvPr id="1376" name="Group 1337"/>
              <p:cNvGrpSpPr/>
              <p:nvPr/>
            </p:nvGrpSpPr>
            <p:grpSpPr>
              <a:xfrm>
                <a:off x="-428040" y="865800"/>
                <a:ext cx="628920" cy="652320"/>
                <a:chOff x="-428040" y="865800"/>
                <a:chExt cx="628920" cy="652320"/>
              </a:xfrm>
            </p:grpSpPr>
            <p:sp>
              <p:nvSpPr>
                <p:cNvPr id="1377" name="未知"/>
                <p:cNvSpPr/>
                <p:nvPr/>
              </p:nvSpPr>
              <p:spPr>
                <a:xfrm flipH="1" rot="6883200">
                  <a:off x="-326160" y="972720"/>
                  <a:ext cx="424440" cy="496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未知"/>
                <p:cNvSpPr/>
                <p:nvPr/>
              </p:nvSpPr>
              <p:spPr>
                <a:xfrm flipH="1" rot="6883200">
                  <a:off x="-269280" y="1095120"/>
                  <a:ext cx="359640" cy="236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未知"/>
                <p:cNvSpPr/>
                <p:nvPr/>
              </p:nvSpPr>
              <p:spPr>
                <a:xfrm flipH="1" rot="6883200">
                  <a:off x="-305280" y="1018080"/>
                  <a:ext cx="523800" cy="293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未知"/>
                <p:cNvSpPr/>
                <p:nvPr/>
              </p:nvSpPr>
              <p:spPr>
                <a:xfrm flipH="1" rot="6883200">
                  <a:off x="-204480" y="1245960"/>
                  <a:ext cx="170280" cy="29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未知"/>
                <p:cNvSpPr/>
                <p:nvPr/>
              </p:nvSpPr>
              <p:spPr>
                <a:xfrm flipH="1" rot="6883200">
                  <a:off x="-127800" y="1194480"/>
                  <a:ext cx="219960" cy="108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未知"/>
                <p:cNvSpPr/>
                <p:nvPr/>
              </p:nvSpPr>
              <p:spPr>
                <a:xfrm flipH="1" rot="6883200">
                  <a:off x="-75240" y="1161360"/>
                  <a:ext cx="242640" cy="1436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未知"/>
                <p:cNvSpPr/>
                <p:nvPr/>
              </p:nvSpPr>
              <p:spPr>
                <a:xfrm flipH="1" rot="6883200">
                  <a:off x="-228960" y="1275120"/>
                  <a:ext cx="100800" cy="18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未知"/>
                <p:cNvSpPr/>
                <p:nvPr/>
              </p:nvSpPr>
              <p:spPr>
                <a:xfrm flipH="1" rot="6883200">
                  <a:off x="-258840" y="1307520"/>
                  <a:ext cx="525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未知"/>
                <p:cNvSpPr/>
                <p:nvPr/>
              </p:nvSpPr>
              <p:spPr>
                <a:xfrm flipH="1" rot="6883200">
                  <a:off x="-264240" y="126000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未知"/>
                <p:cNvSpPr/>
                <p:nvPr/>
              </p:nvSpPr>
              <p:spPr>
                <a:xfrm flipH="1" rot="6883200">
                  <a:off x="-254160" y="1199520"/>
                  <a:ext cx="67320" cy="939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未知"/>
                <p:cNvSpPr/>
                <p:nvPr/>
              </p:nvSpPr>
              <p:spPr>
                <a:xfrm flipH="1" rot="6883200">
                  <a:off x="-239400" y="1106280"/>
                  <a:ext cx="107640" cy="165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未知"/>
                <p:cNvSpPr/>
                <p:nvPr/>
              </p:nvSpPr>
              <p:spPr>
                <a:xfrm flipH="1" rot="6883200">
                  <a:off x="-208440" y="1005480"/>
                  <a:ext cx="115920" cy="2415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未知"/>
                <p:cNvSpPr/>
                <p:nvPr/>
              </p:nvSpPr>
              <p:spPr>
                <a:xfrm flipH="1" rot="6883200">
                  <a:off x="-229320" y="1048320"/>
                  <a:ext cx="12600" cy="961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未知"/>
                <p:cNvSpPr/>
                <p:nvPr/>
              </p:nvSpPr>
              <p:spPr>
                <a:xfrm flipH="1" rot="6883200">
                  <a:off x="-152280" y="914040"/>
                  <a:ext cx="79920" cy="2973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未知"/>
                <p:cNvSpPr/>
                <p:nvPr/>
              </p:nvSpPr>
              <p:spPr>
                <a:xfrm flipH="1" rot="6883200">
                  <a:off x="-178560" y="1110240"/>
                  <a:ext cx="59400" cy="471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未知"/>
                <p:cNvSpPr/>
                <p:nvPr/>
              </p:nvSpPr>
              <p:spPr>
                <a:xfrm flipH="1" rot="6883200">
                  <a:off x="-252000" y="1142280"/>
                  <a:ext cx="28800" cy="7560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未知"/>
                <p:cNvSpPr/>
                <p:nvPr/>
              </p:nvSpPr>
              <p:spPr>
                <a:xfrm flipH="1" rot="6883200">
                  <a:off x="-160920" y="1271880"/>
                  <a:ext cx="62640" cy="162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未知"/>
                <p:cNvSpPr/>
                <p:nvPr/>
              </p:nvSpPr>
              <p:spPr>
                <a:xfrm flipH="1" rot="6883200">
                  <a:off x="-131400" y="1293840"/>
                  <a:ext cx="38520" cy="29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未知"/>
                <p:cNvSpPr/>
                <p:nvPr/>
              </p:nvSpPr>
              <p:spPr>
                <a:xfrm flipH="1" rot="6883200">
                  <a:off x="-206640" y="1136520"/>
                  <a:ext cx="12600" cy="18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未知"/>
                <p:cNvSpPr/>
                <p:nvPr/>
              </p:nvSpPr>
              <p:spPr>
                <a:xfrm flipH="1" rot="6883200">
                  <a:off x="-72720" y="128628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未知"/>
                <p:cNvSpPr/>
                <p:nvPr/>
              </p:nvSpPr>
              <p:spPr>
                <a:xfrm flipH="1" rot="6883200">
                  <a:off x="0" y="1270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未知"/>
                <p:cNvSpPr/>
                <p:nvPr/>
              </p:nvSpPr>
              <p:spPr>
                <a:xfrm flipH="1" rot="6883200">
                  <a:off x="-177120" y="133272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360"/>
              <p:cNvGrpSpPr/>
              <p:nvPr/>
            </p:nvGrpSpPr>
            <p:grpSpPr>
              <a:xfrm>
                <a:off x="166320" y="991080"/>
                <a:ext cx="47160" cy="49680"/>
                <a:chOff x="166320" y="991080"/>
                <a:chExt cx="47160" cy="49680"/>
              </a:xfrm>
            </p:grpSpPr>
            <p:sp>
              <p:nvSpPr>
                <p:cNvPr id="1400" name="未知"/>
                <p:cNvSpPr/>
                <p:nvPr/>
              </p:nvSpPr>
              <p:spPr>
                <a:xfrm flipH="1" rot="11248200">
                  <a:off x="169200" y="993600"/>
                  <a:ext cx="41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未知"/>
                <p:cNvSpPr/>
                <p:nvPr/>
              </p:nvSpPr>
              <p:spPr>
                <a:xfrm flipH="1" rot="14895000">
                  <a:off x="170640" y="1000800"/>
                  <a:ext cx="22680" cy="25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363"/>
            <p:cNvGrpSpPr/>
            <p:nvPr/>
          </p:nvGrpSpPr>
          <p:grpSpPr>
            <a:xfrm>
              <a:off x="36360" y="972000"/>
              <a:ext cx="691920" cy="676080"/>
              <a:chOff x="36360" y="972000"/>
              <a:chExt cx="691920" cy="676080"/>
            </a:xfrm>
          </p:grpSpPr>
          <p:grpSp>
            <p:nvGrpSpPr>
              <p:cNvPr id="1403" name="Group 1364"/>
              <p:cNvGrpSpPr/>
              <p:nvPr/>
            </p:nvGrpSpPr>
            <p:grpSpPr>
              <a:xfrm>
                <a:off x="36360" y="972000"/>
                <a:ext cx="691920" cy="676080"/>
                <a:chOff x="36360" y="972000"/>
                <a:chExt cx="691920" cy="676080"/>
              </a:xfrm>
            </p:grpSpPr>
            <p:sp>
              <p:nvSpPr>
                <p:cNvPr id="1404" name="未知"/>
                <p:cNvSpPr/>
                <p:nvPr/>
              </p:nvSpPr>
              <p:spPr>
                <a:xfrm flipH="1" rot="2120400">
                  <a:off x="166320" y="1109520"/>
                  <a:ext cx="478440" cy="440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未知"/>
                <p:cNvSpPr/>
                <p:nvPr/>
              </p:nvSpPr>
              <p:spPr>
                <a:xfrm flipH="1" rot="2120400">
                  <a:off x="196200" y="1200960"/>
                  <a:ext cx="4057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未知"/>
                <p:cNvSpPr/>
                <p:nvPr/>
              </p:nvSpPr>
              <p:spPr>
                <a:xfrm flipH="1" rot="2120400">
                  <a:off x="56520" y="1118520"/>
                  <a:ext cx="59076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未知"/>
                <p:cNvSpPr/>
                <p:nvPr/>
              </p:nvSpPr>
              <p:spPr>
                <a:xfrm flipH="1" rot="2120400">
                  <a:off x="351000" y="1334520"/>
                  <a:ext cx="191880" cy="255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未知"/>
                <p:cNvSpPr/>
                <p:nvPr/>
              </p:nvSpPr>
              <p:spPr>
                <a:xfrm flipH="1" rot="2120400">
                  <a:off x="317160" y="1201320"/>
                  <a:ext cx="24840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未知"/>
                <p:cNvSpPr/>
                <p:nvPr/>
              </p:nvSpPr>
              <p:spPr>
                <a:xfrm flipH="1" rot="2120400">
                  <a:off x="294480" y="1122120"/>
                  <a:ext cx="27360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未知"/>
                <p:cNvSpPr/>
                <p:nvPr/>
              </p:nvSpPr>
              <p:spPr>
                <a:xfrm flipH="1" rot="2120400">
                  <a:off x="409320" y="1400400"/>
                  <a:ext cx="11376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未知"/>
                <p:cNvSpPr/>
                <p:nvPr/>
              </p:nvSpPr>
              <p:spPr>
                <a:xfrm flipH="1" rot="2120400">
                  <a:off x="459720" y="146376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未知"/>
                <p:cNvSpPr/>
                <p:nvPr/>
              </p:nvSpPr>
              <p:spPr>
                <a:xfrm flipH="1" rot="2120400">
                  <a:off x="439560" y="1447920"/>
                  <a:ext cx="4356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未知"/>
                <p:cNvSpPr/>
                <p:nvPr/>
              </p:nvSpPr>
              <p:spPr>
                <a:xfrm flipH="1" rot="2120400">
                  <a:off x="385200" y="1395000"/>
                  <a:ext cx="7596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未知"/>
                <p:cNvSpPr/>
                <p:nvPr/>
              </p:nvSpPr>
              <p:spPr>
                <a:xfrm flipH="1" rot="2120400">
                  <a:off x="304920" y="1314360"/>
                  <a:ext cx="12204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未知"/>
                <p:cNvSpPr/>
                <p:nvPr/>
              </p:nvSpPr>
              <p:spPr>
                <a:xfrm flipH="1" rot="2120400">
                  <a:off x="237600" y="1230120"/>
                  <a:ext cx="130680" cy="2142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未知"/>
                <p:cNvSpPr/>
                <p:nvPr/>
              </p:nvSpPr>
              <p:spPr>
                <a:xfrm flipH="1" rot="2120400">
                  <a:off x="258840" y="1352520"/>
                  <a:ext cx="1404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未知"/>
                <p:cNvSpPr/>
                <p:nvPr/>
              </p:nvSpPr>
              <p:spPr>
                <a:xfrm flipH="1" rot="2120400">
                  <a:off x="194400" y="1151280"/>
                  <a:ext cx="9036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未知"/>
                <p:cNvSpPr/>
                <p:nvPr/>
              </p:nvSpPr>
              <p:spPr>
                <a:xfrm flipH="1" rot="2120400">
                  <a:off x="276480" y="1316520"/>
                  <a:ext cx="66960" cy="41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未知"/>
                <p:cNvSpPr/>
                <p:nvPr/>
              </p:nvSpPr>
              <p:spPr>
                <a:xfrm flipH="1" rot="2120400">
                  <a:off x="335520" y="1400040"/>
                  <a:ext cx="3240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未知"/>
                <p:cNvSpPr/>
                <p:nvPr/>
              </p:nvSpPr>
              <p:spPr>
                <a:xfrm flipH="1" rot="2120400">
                  <a:off x="430920" y="1355040"/>
                  <a:ext cx="70560" cy="140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未知"/>
                <p:cNvSpPr/>
                <p:nvPr/>
              </p:nvSpPr>
              <p:spPr>
                <a:xfrm flipH="1" rot="2120400">
                  <a:off x="475920" y="1341360"/>
                  <a:ext cx="43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未知"/>
                <p:cNvSpPr/>
                <p:nvPr/>
              </p:nvSpPr>
              <p:spPr>
                <a:xfrm flipH="1" rot="2120400">
                  <a:off x="311760" y="1380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未知"/>
                <p:cNvSpPr/>
                <p:nvPr/>
              </p:nvSpPr>
              <p:spPr>
                <a:xfrm flipH="1" rot="2120400">
                  <a:off x="476640" y="130320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未知"/>
                <p:cNvSpPr/>
                <p:nvPr/>
              </p:nvSpPr>
              <p:spPr>
                <a:xfrm flipH="1" rot="2120400">
                  <a:off x="468360" y="122976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未知"/>
                <p:cNvSpPr/>
                <p:nvPr/>
              </p:nvSpPr>
              <p:spPr>
                <a:xfrm flipH="1" rot="2120400">
                  <a:off x="515880" y="141552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Group 1387"/>
              <p:cNvGrpSpPr/>
              <p:nvPr/>
            </p:nvGrpSpPr>
            <p:grpSpPr>
              <a:xfrm>
                <a:off x="191880" y="984960"/>
                <a:ext cx="59040" cy="50040"/>
                <a:chOff x="191880" y="984960"/>
                <a:chExt cx="59040" cy="50040"/>
              </a:xfrm>
            </p:grpSpPr>
            <p:sp>
              <p:nvSpPr>
                <p:cNvPr id="1427" name="未知"/>
                <p:cNvSpPr/>
                <p:nvPr/>
              </p:nvSpPr>
              <p:spPr>
                <a:xfrm flipH="1" rot="6484800">
                  <a:off x="203040" y="984600"/>
                  <a:ext cx="36360" cy="504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未知"/>
                <p:cNvSpPr/>
                <p:nvPr/>
              </p:nvSpPr>
              <p:spPr>
                <a:xfrm flipH="1" rot="10131600">
                  <a:off x="205200" y="100476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9" name="Group 1390"/>
            <p:cNvGrpSpPr/>
            <p:nvPr/>
          </p:nvGrpSpPr>
          <p:grpSpPr>
            <a:xfrm>
              <a:off x="82080" y="358200"/>
              <a:ext cx="928440" cy="819360"/>
              <a:chOff x="82080" y="358200"/>
              <a:chExt cx="928440" cy="819360"/>
            </a:xfrm>
          </p:grpSpPr>
          <p:grpSp>
            <p:nvGrpSpPr>
              <p:cNvPr id="1430" name="Group 1391"/>
              <p:cNvGrpSpPr/>
              <p:nvPr/>
            </p:nvGrpSpPr>
            <p:grpSpPr>
              <a:xfrm>
                <a:off x="82080" y="358200"/>
                <a:ext cx="591480" cy="647640"/>
                <a:chOff x="82080" y="358200"/>
                <a:chExt cx="591480" cy="647640"/>
              </a:xfrm>
            </p:grpSpPr>
            <p:grpSp>
              <p:nvGrpSpPr>
                <p:cNvPr id="1431" name="Group 1392"/>
                <p:cNvGrpSpPr/>
                <p:nvPr/>
              </p:nvGrpSpPr>
              <p:grpSpPr>
                <a:xfrm>
                  <a:off x="82080" y="358200"/>
                  <a:ext cx="591480" cy="641520"/>
                  <a:chOff x="82080" y="358200"/>
                  <a:chExt cx="591480" cy="641520"/>
                </a:xfrm>
              </p:grpSpPr>
              <p:sp>
                <p:nvSpPr>
                  <p:cNvPr id="1432" name="未知"/>
                  <p:cNvSpPr/>
                  <p:nvPr/>
                </p:nvSpPr>
                <p:spPr>
                  <a:xfrm rot="7164000">
                    <a:off x="182520" y="411120"/>
                    <a:ext cx="39024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未知"/>
                  <p:cNvSpPr/>
                  <p:nvPr/>
                </p:nvSpPr>
                <p:spPr>
                  <a:xfrm rot="7164000">
                    <a:off x="219600" y="553680"/>
                    <a:ext cx="3308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未知"/>
                  <p:cNvSpPr/>
                  <p:nvPr/>
                </p:nvSpPr>
                <p:spPr>
                  <a:xfrm rot="7164000">
                    <a:off x="132840" y="587160"/>
                    <a:ext cx="48168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未知"/>
                  <p:cNvSpPr/>
                  <p:nvPr/>
                </p:nvSpPr>
                <p:spPr>
                  <a:xfrm rot="7164000">
                    <a:off x="325800" y="601560"/>
                    <a:ext cx="156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未知"/>
                  <p:cNvSpPr/>
                  <p:nvPr/>
                </p:nvSpPr>
                <p:spPr>
                  <a:xfrm rot="7164000">
                    <a:off x="348480" y="646560"/>
                    <a:ext cx="2023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未知"/>
                  <p:cNvSpPr/>
                  <p:nvPr/>
                </p:nvSpPr>
                <p:spPr>
                  <a:xfrm rot="7164000">
                    <a:off x="361800" y="686160"/>
                    <a:ext cx="22320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未知"/>
                  <p:cNvSpPr/>
                  <p:nvPr/>
                </p:nvSpPr>
                <p:spPr>
                  <a:xfrm rot="7164000">
                    <a:off x="343440" y="549720"/>
                    <a:ext cx="928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未知"/>
                  <p:cNvSpPr/>
                  <p:nvPr/>
                </p:nvSpPr>
                <p:spPr>
                  <a:xfrm rot="7164000">
                    <a:off x="355680" y="500040"/>
                    <a:ext cx="48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未知"/>
                  <p:cNvSpPr/>
                  <p:nvPr/>
                </p:nvSpPr>
                <p:spPr>
                  <a:xfrm rot="7164000">
                    <a:off x="336240" y="484560"/>
                    <a:ext cx="352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未知"/>
                  <p:cNvSpPr/>
                  <p:nvPr/>
                </p:nvSpPr>
                <p:spPr>
                  <a:xfrm rot="7164000">
                    <a:off x="307080" y="503640"/>
                    <a:ext cx="619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未知"/>
                  <p:cNvSpPr/>
                  <p:nvPr/>
                </p:nvSpPr>
                <p:spPr>
                  <a:xfrm rot="7164000">
                    <a:off x="265320" y="527760"/>
                    <a:ext cx="99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未知"/>
                  <p:cNvSpPr/>
                  <p:nvPr/>
                </p:nvSpPr>
                <p:spPr>
                  <a:xfrm rot="7164000">
                    <a:off x="233280" y="552600"/>
                    <a:ext cx="1065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未知"/>
                  <p:cNvSpPr/>
                  <p:nvPr/>
                </p:nvSpPr>
                <p:spPr>
                  <a:xfrm rot="7164000">
                    <a:off x="219960" y="581040"/>
                    <a:ext cx="115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未知"/>
                  <p:cNvSpPr/>
                  <p:nvPr/>
                </p:nvSpPr>
                <p:spPr>
                  <a:xfrm rot="7164000">
                    <a:off x="223200" y="589680"/>
                    <a:ext cx="734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未知"/>
                  <p:cNvSpPr/>
                  <p:nvPr/>
                </p:nvSpPr>
                <p:spPr>
                  <a:xfrm rot="7164000">
                    <a:off x="265680" y="639720"/>
                    <a:ext cx="54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未知"/>
                  <p:cNvSpPr/>
                  <p:nvPr/>
                </p:nvSpPr>
                <p:spPr>
                  <a:xfrm rot="7164000">
                    <a:off x="266040" y="534600"/>
                    <a:ext cx="26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未知"/>
                  <p:cNvSpPr/>
                  <p:nvPr/>
                </p:nvSpPr>
                <p:spPr>
                  <a:xfrm rot="7164000">
                    <a:off x="384120" y="589320"/>
                    <a:ext cx="57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未知"/>
                  <p:cNvSpPr/>
                  <p:nvPr/>
                </p:nvSpPr>
                <p:spPr>
                  <a:xfrm rot="7164000">
                    <a:off x="426600" y="581400"/>
                    <a:ext cx="35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未知"/>
                  <p:cNvSpPr/>
                  <p:nvPr/>
                </p:nvSpPr>
                <p:spPr>
                  <a:xfrm rot="7164000">
                    <a:off x="268560" y="608040"/>
                    <a:ext cx="11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未知"/>
                  <p:cNvSpPr/>
                  <p:nvPr/>
                </p:nvSpPr>
                <p:spPr>
                  <a:xfrm rot="7164000">
                    <a:off x="449640" y="632160"/>
                    <a:ext cx="10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未知"/>
                  <p:cNvSpPr/>
                  <p:nvPr/>
                </p:nvSpPr>
                <p:spPr>
                  <a:xfrm rot="7164000">
                    <a:off x="479160" y="692640"/>
                    <a:ext cx="115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未知"/>
                  <p:cNvSpPr/>
                  <p:nvPr/>
                </p:nvSpPr>
                <p:spPr>
                  <a:xfrm rot="7164000">
                    <a:off x="426960" y="53208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415"/>
                <p:cNvGrpSpPr/>
                <p:nvPr/>
              </p:nvGrpSpPr>
              <p:grpSpPr>
                <a:xfrm>
                  <a:off x="361080" y="950040"/>
                  <a:ext cx="55800" cy="55800"/>
                  <a:chOff x="361080" y="950040"/>
                  <a:chExt cx="55800" cy="55800"/>
                </a:xfrm>
              </p:grpSpPr>
              <p:sp>
                <p:nvSpPr>
                  <p:cNvPr id="1455" name="未知"/>
                  <p:cNvSpPr/>
                  <p:nvPr/>
                </p:nvSpPr>
                <p:spPr>
                  <a:xfrm rot="2799000">
                    <a:off x="369720" y="957240"/>
                    <a:ext cx="37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未知"/>
                  <p:cNvSpPr/>
                  <p:nvPr/>
                </p:nvSpPr>
                <p:spPr>
                  <a:xfrm rot="20752800">
                    <a:off x="372240" y="961920"/>
                    <a:ext cx="20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Group 1418"/>
              <p:cNvGrpSpPr/>
              <p:nvPr/>
            </p:nvGrpSpPr>
            <p:grpSpPr>
              <a:xfrm>
                <a:off x="389880" y="700560"/>
                <a:ext cx="620640" cy="477000"/>
                <a:chOff x="389880" y="700560"/>
                <a:chExt cx="620640" cy="477000"/>
              </a:xfrm>
            </p:grpSpPr>
            <p:grpSp>
              <p:nvGrpSpPr>
                <p:cNvPr id="1458" name="Group 1419"/>
                <p:cNvGrpSpPr/>
                <p:nvPr/>
              </p:nvGrpSpPr>
              <p:grpSpPr>
                <a:xfrm>
                  <a:off x="389880" y="700560"/>
                  <a:ext cx="620640" cy="477000"/>
                  <a:chOff x="389880" y="700560"/>
                  <a:chExt cx="620640" cy="477000"/>
                </a:xfrm>
              </p:grpSpPr>
              <p:sp>
                <p:nvSpPr>
                  <p:cNvPr id="1459" name="未知"/>
                  <p:cNvSpPr/>
                  <p:nvPr/>
                </p:nvSpPr>
                <p:spPr>
                  <a:xfrm rot="11388000">
                    <a:off x="543600" y="734400"/>
                    <a:ext cx="43488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未知"/>
                  <p:cNvSpPr/>
                  <p:nvPr/>
                </p:nvSpPr>
                <p:spPr>
                  <a:xfrm rot="11388000">
                    <a:off x="556560" y="853920"/>
                    <a:ext cx="36864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未知"/>
                  <p:cNvSpPr/>
                  <p:nvPr/>
                </p:nvSpPr>
                <p:spPr>
                  <a:xfrm rot="11388000">
                    <a:off x="406080" y="837000"/>
                    <a:ext cx="5367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未知"/>
                  <p:cNvSpPr/>
                  <p:nvPr/>
                </p:nvSpPr>
                <p:spPr>
                  <a:xfrm rot="11388000">
                    <a:off x="711720" y="943200"/>
                    <a:ext cx="17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未知"/>
                  <p:cNvSpPr/>
                  <p:nvPr/>
                </p:nvSpPr>
                <p:spPr>
                  <a:xfrm rot="11388000">
                    <a:off x="619200" y="970920"/>
                    <a:ext cx="2257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未知"/>
                  <p:cNvSpPr/>
                  <p:nvPr/>
                </p:nvSpPr>
                <p:spPr>
                  <a:xfrm rot="11388000">
                    <a:off x="560160" y="991800"/>
                    <a:ext cx="248760" cy="11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未知"/>
                  <p:cNvSpPr/>
                  <p:nvPr/>
                </p:nvSpPr>
                <p:spPr>
                  <a:xfrm rot="11388000">
                    <a:off x="799560" y="919800"/>
                    <a:ext cx="103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未知"/>
                  <p:cNvSpPr/>
                  <p:nvPr/>
                </p:nvSpPr>
                <p:spPr>
                  <a:xfrm rot="11388000">
                    <a:off x="876960" y="902160"/>
                    <a:ext cx="54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未知"/>
                  <p:cNvSpPr/>
                  <p:nvPr/>
                </p:nvSpPr>
                <p:spPr>
                  <a:xfrm rot="11388000">
                    <a:off x="867960" y="862920"/>
                    <a:ext cx="3960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未知"/>
                  <p:cNvSpPr/>
                  <p:nvPr/>
                </p:nvSpPr>
                <p:spPr>
                  <a:xfrm rot="11388000">
                    <a:off x="807480" y="842040"/>
                    <a:ext cx="6912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未知"/>
                  <p:cNvSpPr/>
                  <p:nvPr/>
                </p:nvSpPr>
                <p:spPr>
                  <a:xfrm rot="11388000">
                    <a:off x="718200" y="807480"/>
                    <a:ext cx="11052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未知"/>
                  <p:cNvSpPr/>
                  <p:nvPr/>
                </p:nvSpPr>
                <p:spPr>
                  <a:xfrm rot="11388000">
                    <a:off x="640800" y="768240"/>
                    <a:ext cx="11880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未知"/>
                  <p:cNvSpPr/>
                  <p:nvPr/>
                </p:nvSpPr>
                <p:spPr>
                  <a:xfrm rot="11388000">
                    <a:off x="707400" y="765000"/>
                    <a:ext cx="129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未知"/>
                  <p:cNvSpPr/>
                  <p:nvPr/>
                </p:nvSpPr>
                <p:spPr>
                  <a:xfrm rot="11388000">
                    <a:off x="583200" y="739080"/>
                    <a:ext cx="82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未知"/>
                  <p:cNvSpPr/>
                  <p:nvPr/>
                </p:nvSpPr>
                <p:spPr>
                  <a:xfrm rot="11388000">
                    <a:off x="675720" y="852480"/>
                    <a:ext cx="60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未知"/>
                  <p:cNvSpPr/>
                  <p:nvPr/>
                </p:nvSpPr>
                <p:spPr>
                  <a:xfrm rot="11388000">
                    <a:off x="779400" y="804960"/>
                    <a:ext cx="295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未知"/>
                  <p:cNvSpPr/>
                  <p:nvPr/>
                </p:nvSpPr>
                <p:spPr>
                  <a:xfrm rot="11388000">
                    <a:off x="788400" y="951120"/>
                    <a:ext cx="640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未知"/>
                  <p:cNvSpPr/>
                  <p:nvPr/>
                </p:nvSpPr>
                <p:spPr>
                  <a:xfrm rot="11388000">
                    <a:off x="815760" y="972360"/>
                    <a:ext cx="39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未知"/>
                  <p:cNvSpPr/>
                  <p:nvPr/>
                </p:nvSpPr>
                <p:spPr>
                  <a:xfrm rot="11388000">
                    <a:off x="738000" y="83664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未知"/>
                  <p:cNvSpPr/>
                  <p:nvPr/>
                </p:nvSpPr>
                <p:spPr>
                  <a:xfrm rot="11388000">
                    <a:off x="790560" y="1000440"/>
                    <a:ext cx="11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未知"/>
                  <p:cNvSpPr/>
                  <p:nvPr/>
                </p:nvSpPr>
                <p:spPr>
                  <a:xfrm rot="11388000">
                    <a:off x="738000" y="1041120"/>
                    <a:ext cx="12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未知"/>
                  <p:cNvSpPr/>
                  <p:nvPr/>
                </p:nvSpPr>
                <p:spPr>
                  <a:xfrm rot="11388000">
                    <a:off x="886680" y="954720"/>
                    <a:ext cx="100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Group 1442"/>
                <p:cNvGrpSpPr/>
                <p:nvPr/>
              </p:nvGrpSpPr>
              <p:grpSpPr>
                <a:xfrm>
                  <a:off x="406800" y="1005120"/>
                  <a:ext cx="56160" cy="51120"/>
                  <a:chOff x="406800" y="1005120"/>
                  <a:chExt cx="56160" cy="51120"/>
                </a:xfrm>
              </p:grpSpPr>
              <p:sp>
                <p:nvSpPr>
                  <p:cNvPr id="1482" name="未知"/>
                  <p:cNvSpPr/>
                  <p:nvPr/>
                </p:nvSpPr>
                <p:spPr>
                  <a:xfrm rot="7023600">
                    <a:off x="417600" y="1007640"/>
                    <a:ext cx="34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未知"/>
                  <p:cNvSpPr/>
                  <p:nvPr/>
                </p:nvSpPr>
                <p:spPr>
                  <a:xfrm rot="3376800">
                    <a:off x="424800" y="101340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4" name="Group 1445"/>
            <p:cNvGrpSpPr/>
            <p:nvPr/>
          </p:nvGrpSpPr>
          <p:grpSpPr>
            <a:xfrm>
              <a:off x="761760" y="1172520"/>
              <a:ext cx="580680" cy="619920"/>
              <a:chOff x="761760" y="1172520"/>
              <a:chExt cx="580680" cy="619920"/>
            </a:xfrm>
          </p:grpSpPr>
          <p:grpSp>
            <p:nvGrpSpPr>
              <p:cNvPr id="1485" name="Group 1446"/>
              <p:cNvGrpSpPr/>
              <p:nvPr/>
            </p:nvGrpSpPr>
            <p:grpSpPr>
              <a:xfrm>
                <a:off x="761760" y="1172520"/>
                <a:ext cx="580680" cy="619920"/>
                <a:chOff x="761760" y="1172520"/>
                <a:chExt cx="580680" cy="619920"/>
              </a:xfrm>
            </p:grpSpPr>
            <p:sp>
              <p:nvSpPr>
                <p:cNvPr id="1486" name="未知"/>
                <p:cNvSpPr/>
                <p:nvPr/>
              </p:nvSpPr>
              <p:spPr>
                <a:xfrm flipH="1" rot="2658600">
                  <a:off x="851400" y="1318680"/>
                  <a:ext cx="416520" cy="3823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未知"/>
                <p:cNvSpPr/>
                <p:nvPr/>
              </p:nvSpPr>
              <p:spPr>
                <a:xfrm flipH="1" rot="2658600">
                  <a:off x="879480" y="1396800"/>
                  <a:ext cx="353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未知"/>
                <p:cNvSpPr/>
                <p:nvPr/>
              </p:nvSpPr>
              <p:spPr>
                <a:xfrm flipH="1" rot="2658600">
                  <a:off x="767160" y="1319760"/>
                  <a:ext cx="514080" cy="2260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未知"/>
                <p:cNvSpPr/>
                <p:nvPr/>
              </p:nvSpPr>
              <p:spPr>
                <a:xfrm flipH="1" rot="2658600">
                  <a:off x="1009080" y="1519200"/>
                  <a:ext cx="16704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未知"/>
                <p:cNvSpPr/>
                <p:nvPr/>
              </p:nvSpPr>
              <p:spPr>
                <a:xfrm flipH="1" rot="2658600">
                  <a:off x="993240" y="1403640"/>
                  <a:ext cx="2160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未知"/>
                <p:cNvSpPr/>
                <p:nvPr/>
              </p:nvSpPr>
              <p:spPr>
                <a:xfrm flipH="1" rot="2658600">
                  <a:off x="981000" y="1334160"/>
                  <a:ext cx="23868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未知"/>
                <p:cNvSpPr/>
                <p:nvPr/>
              </p:nvSpPr>
              <p:spPr>
                <a:xfrm flipH="1" rot="2658600">
                  <a:off x="1052280" y="1578960"/>
                  <a:ext cx="9900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未知"/>
                <p:cNvSpPr/>
                <p:nvPr/>
              </p:nvSpPr>
              <p:spPr>
                <a:xfrm flipH="1" rot="2658600">
                  <a:off x="1087560" y="1636200"/>
                  <a:ext cx="5184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未知"/>
                <p:cNvSpPr/>
                <p:nvPr/>
              </p:nvSpPr>
              <p:spPr>
                <a:xfrm flipH="1" rot="2658600">
                  <a:off x="1069920" y="1618560"/>
                  <a:ext cx="37800" cy="392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未知"/>
                <p:cNvSpPr/>
                <p:nvPr/>
              </p:nvSpPr>
              <p:spPr>
                <a:xfrm flipH="1" rot="2658600">
                  <a:off x="1027080" y="1567440"/>
                  <a:ext cx="66600" cy="723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未知"/>
                <p:cNvSpPr/>
                <p:nvPr/>
              </p:nvSpPr>
              <p:spPr>
                <a:xfrm flipH="1" rot="2658600">
                  <a:off x="964800" y="1490400"/>
                  <a:ext cx="10548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未知"/>
                <p:cNvSpPr/>
                <p:nvPr/>
              </p:nvSpPr>
              <p:spPr>
                <a:xfrm flipH="1" rot="2658600">
                  <a:off x="913320" y="1408680"/>
                  <a:ext cx="11376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未知"/>
                <p:cNvSpPr/>
                <p:nvPr/>
              </p:nvSpPr>
              <p:spPr>
                <a:xfrm flipH="1" rot="2658600">
                  <a:off x="924120" y="1509120"/>
                  <a:ext cx="12240" cy="741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未知"/>
                <p:cNvSpPr/>
                <p:nvPr/>
              </p:nvSpPr>
              <p:spPr>
                <a:xfrm flipH="1" rot="2658600">
                  <a:off x="884160" y="1332000"/>
                  <a:ext cx="784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未知"/>
                <p:cNvSpPr/>
                <p:nvPr/>
              </p:nvSpPr>
              <p:spPr>
                <a:xfrm flipH="1" rot="2658600">
                  <a:off x="947520" y="1485360"/>
                  <a:ext cx="58320" cy="360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未知"/>
                <p:cNvSpPr/>
                <p:nvPr/>
              </p:nvSpPr>
              <p:spPr>
                <a:xfrm flipH="1" rot="2658600">
                  <a:off x="985680" y="1562760"/>
                  <a:ext cx="28080" cy="57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未知"/>
                <p:cNvSpPr/>
                <p:nvPr/>
              </p:nvSpPr>
              <p:spPr>
                <a:xfrm flipH="1" rot="2658600">
                  <a:off x="1076760" y="1539000"/>
                  <a:ext cx="61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未知"/>
                <p:cNvSpPr/>
                <p:nvPr/>
              </p:nvSpPr>
              <p:spPr>
                <a:xfrm flipH="1" rot="2658600">
                  <a:off x="1116720" y="1531440"/>
                  <a:ext cx="3780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未知"/>
                <p:cNvSpPr/>
                <p:nvPr/>
              </p:nvSpPr>
              <p:spPr>
                <a:xfrm flipH="1" rot="2658600">
                  <a:off x="971280" y="154152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未知"/>
                <p:cNvSpPr/>
                <p:nvPr/>
              </p:nvSpPr>
              <p:spPr>
                <a:xfrm flipH="1" rot="2658600">
                  <a:off x="1123200" y="149724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未知"/>
                <p:cNvSpPr/>
                <p:nvPr/>
              </p:nvSpPr>
              <p:spPr>
                <a:xfrm flipH="1" rot="2658600">
                  <a:off x="1125360" y="143244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未知"/>
                <p:cNvSpPr/>
                <p:nvPr/>
              </p:nvSpPr>
              <p:spPr>
                <a:xfrm flipH="1" rot="2658600">
                  <a:off x="1142280" y="159876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469"/>
              <p:cNvGrpSpPr/>
              <p:nvPr/>
            </p:nvGrpSpPr>
            <p:grpSpPr>
              <a:xfrm>
                <a:off x="918360" y="1185480"/>
                <a:ext cx="54000" cy="48240"/>
                <a:chOff x="918360" y="1185480"/>
                <a:chExt cx="54000" cy="48240"/>
              </a:xfrm>
            </p:grpSpPr>
            <p:sp>
              <p:nvSpPr>
                <p:cNvPr id="1509" name="未知"/>
                <p:cNvSpPr/>
                <p:nvPr/>
              </p:nvSpPr>
              <p:spPr>
                <a:xfrm flipH="1" rot="7023600">
                  <a:off x="929160" y="118728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未知"/>
                <p:cNvSpPr/>
                <p:nvPr/>
              </p:nvSpPr>
              <p:spPr>
                <a:xfrm flipH="1" rot="10670400">
                  <a:off x="929520" y="1204560"/>
                  <a:ext cx="2232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1" name="Group 1472"/>
            <p:cNvGrpSpPr/>
            <p:nvPr/>
          </p:nvGrpSpPr>
          <p:grpSpPr>
            <a:xfrm>
              <a:off x="927720" y="886320"/>
              <a:ext cx="474840" cy="343080"/>
              <a:chOff x="927720" y="886320"/>
              <a:chExt cx="474840" cy="343080"/>
            </a:xfrm>
          </p:grpSpPr>
          <p:grpSp>
            <p:nvGrpSpPr>
              <p:cNvPr id="1512" name="Group 1473"/>
              <p:cNvGrpSpPr/>
              <p:nvPr/>
            </p:nvGrpSpPr>
            <p:grpSpPr>
              <a:xfrm>
                <a:off x="927720" y="886320"/>
                <a:ext cx="474840" cy="343080"/>
                <a:chOff x="927720" y="886320"/>
                <a:chExt cx="474840" cy="343080"/>
              </a:xfrm>
            </p:grpSpPr>
            <p:sp>
              <p:nvSpPr>
                <p:cNvPr id="1513" name="未知"/>
                <p:cNvSpPr/>
                <p:nvPr/>
              </p:nvSpPr>
              <p:spPr>
                <a:xfrm rot="10594800">
                  <a:off x="1039320" y="896400"/>
                  <a:ext cx="35388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未知"/>
                <p:cNvSpPr/>
                <p:nvPr/>
              </p:nvSpPr>
              <p:spPr>
                <a:xfrm rot="10594800">
                  <a:off x="1052280" y="994320"/>
                  <a:ext cx="30024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未知"/>
                <p:cNvSpPr/>
                <p:nvPr/>
              </p:nvSpPr>
              <p:spPr>
                <a:xfrm rot="10594800">
                  <a:off x="932760" y="992880"/>
                  <a:ext cx="43704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 rot="10594800">
                  <a:off x="1177560" y="1054080"/>
                  <a:ext cx="141840" cy="183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未知"/>
                <p:cNvSpPr/>
                <p:nvPr/>
              </p:nvSpPr>
              <p:spPr>
                <a:xfrm rot="10594800">
                  <a:off x="1115280" y="1087920"/>
                  <a:ext cx="1839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未知"/>
                <p:cNvSpPr/>
                <p:nvPr/>
              </p:nvSpPr>
              <p:spPr>
                <a:xfrm rot="10594800">
                  <a:off x="1075320" y="1111680"/>
                  <a:ext cx="202320" cy="92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未知"/>
                <p:cNvSpPr/>
                <p:nvPr/>
              </p:nvSpPr>
              <p:spPr>
                <a:xfrm rot="10594800">
                  <a:off x="1243080" y="1027080"/>
                  <a:ext cx="8424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未知"/>
                <p:cNvSpPr/>
                <p:nvPr/>
              </p:nvSpPr>
              <p:spPr>
                <a:xfrm rot="10594800">
                  <a:off x="1301040" y="1003320"/>
                  <a:ext cx="4392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未知"/>
                <p:cNvSpPr/>
                <p:nvPr/>
              </p:nvSpPr>
              <p:spPr>
                <a:xfrm rot="10594800">
                  <a:off x="1290960" y="976320"/>
                  <a:ext cx="32040" cy="32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未知"/>
                <p:cNvSpPr/>
                <p:nvPr/>
              </p:nvSpPr>
              <p:spPr>
                <a:xfrm rot="10594800">
                  <a:off x="1241640" y="968040"/>
                  <a:ext cx="5616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未知"/>
                <p:cNvSpPr/>
                <p:nvPr/>
              </p:nvSpPr>
              <p:spPr>
                <a:xfrm rot="10594800">
                  <a:off x="1169280" y="953640"/>
                  <a:ext cx="9000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未知"/>
                <p:cNvSpPr/>
                <p:nvPr/>
              </p:nvSpPr>
              <p:spPr>
                <a:xfrm rot="10594800">
                  <a:off x="1106640" y="935640"/>
                  <a:ext cx="9648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未知"/>
                <p:cNvSpPr/>
                <p:nvPr/>
              </p:nvSpPr>
              <p:spPr>
                <a:xfrm rot="10594800">
                  <a:off x="1148760" y="932760"/>
                  <a:ext cx="1044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未知"/>
                <p:cNvSpPr/>
                <p:nvPr/>
              </p:nvSpPr>
              <p:spPr>
                <a:xfrm rot="10594800">
                  <a:off x="1060560" y="927000"/>
                  <a:ext cx="6660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未知"/>
                <p:cNvSpPr/>
                <p:nvPr/>
              </p:nvSpPr>
              <p:spPr>
                <a:xfrm rot="10594800">
                  <a:off x="1135440" y="1001520"/>
                  <a:ext cx="493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未知"/>
                <p:cNvSpPr/>
                <p:nvPr/>
              </p:nvSpPr>
              <p:spPr>
                <a:xfrm rot="10594800">
                  <a:off x="1211400" y="947880"/>
                  <a:ext cx="23760" cy="49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未知"/>
                <p:cNvSpPr/>
                <p:nvPr/>
              </p:nvSpPr>
              <p:spPr>
                <a:xfrm rot="10594800">
                  <a:off x="1240920" y="1056240"/>
                  <a:ext cx="5220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未知"/>
                <p:cNvSpPr/>
                <p:nvPr/>
              </p:nvSpPr>
              <p:spPr>
                <a:xfrm rot="10594800">
                  <a:off x="1267200" y="1069560"/>
                  <a:ext cx="3204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未知"/>
                <p:cNvSpPr/>
                <p:nvPr/>
              </p:nvSpPr>
              <p:spPr>
                <a:xfrm rot="10594800">
                  <a:off x="1180080" y="98244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未知"/>
                <p:cNvSpPr/>
                <p:nvPr/>
              </p:nvSpPr>
              <p:spPr>
                <a:xfrm rot="10594800">
                  <a:off x="1251720" y="109872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未知"/>
                <p:cNvSpPr/>
                <p:nvPr/>
              </p:nvSpPr>
              <p:spPr>
                <a:xfrm rot="10594800">
                  <a:off x="1217520" y="113940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未知"/>
                <p:cNvSpPr/>
                <p:nvPr/>
              </p:nvSpPr>
              <p:spPr>
                <a:xfrm rot="10594800">
                  <a:off x="1319400" y="104580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Group 1496"/>
              <p:cNvGrpSpPr/>
              <p:nvPr/>
            </p:nvGrpSpPr>
            <p:grpSpPr>
              <a:xfrm>
                <a:off x="955080" y="1167840"/>
                <a:ext cx="42840" cy="35280"/>
                <a:chOff x="955080" y="1167840"/>
                <a:chExt cx="42840" cy="35280"/>
              </a:xfrm>
            </p:grpSpPr>
            <p:sp>
              <p:nvSpPr>
                <p:cNvPr id="1536" name="未知"/>
                <p:cNvSpPr/>
                <p:nvPr/>
              </p:nvSpPr>
              <p:spPr>
                <a:xfrm rot="6231000">
                  <a:off x="963000" y="116676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未知"/>
                <p:cNvSpPr/>
                <p:nvPr/>
              </p:nvSpPr>
              <p:spPr>
                <a:xfrm rot="2583600">
                  <a:off x="966960" y="117180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1499"/>
            <p:cNvGrpSpPr/>
            <p:nvPr/>
          </p:nvGrpSpPr>
          <p:grpSpPr>
            <a:xfrm>
              <a:off x="1198440" y="1298520"/>
              <a:ext cx="425520" cy="491760"/>
              <a:chOff x="1198440" y="1298520"/>
              <a:chExt cx="425520" cy="491760"/>
            </a:xfrm>
          </p:grpSpPr>
          <p:grpSp>
            <p:nvGrpSpPr>
              <p:cNvPr id="1539" name="Group 1500"/>
              <p:cNvGrpSpPr/>
              <p:nvPr/>
            </p:nvGrpSpPr>
            <p:grpSpPr>
              <a:xfrm>
                <a:off x="1198440" y="1298520"/>
                <a:ext cx="425520" cy="491760"/>
                <a:chOff x="1198440" y="1298520"/>
                <a:chExt cx="425520" cy="491760"/>
              </a:xfrm>
            </p:grpSpPr>
            <p:sp>
              <p:nvSpPr>
                <p:cNvPr id="1540" name="未知"/>
                <p:cNvSpPr/>
                <p:nvPr/>
              </p:nvSpPr>
              <p:spPr>
                <a:xfrm rot="15123000">
                  <a:off x="1242720" y="1408680"/>
                  <a:ext cx="336240" cy="338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未知"/>
                <p:cNvSpPr/>
                <p:nvPr/>
              </p:nvSpPr>
              <p:spPr>
                <a:xfrm rot="15123000">
                  <a:off x="1252800" y="1488600"/>
                  <a:ext cx="284760" cy="160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未知"/>
                <p:cNvSpPr/>
                <p:nvPr/>
              </p:nvSpPr>
              <p:spPr>
                <a:xfrm rot="15123000">
                  <a:off x="1157760" y="1426320"/>
                  <a:ext cx="414720" cy="2001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未知"/>
                <p:cNvSpPr/>
                <p:nvPr/>
              </p:nvSpPr>
              <p:spPr>
                <a:xfrm rot="15123000">
                  <a:off x="1346400" y="1599840"/>
                  <a:ext cx="13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未知"/>
                <p:cNvSpPr/>
                <p:nvPr/>
              </p:nvSpPr>
              <p:spPr>
                <a:xfrm rot="15123000">
                  <a:off x="1256400" y="1550160"/>
                  <a:ext cx="174240" cy="73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未知"/>
                <p:cNvSpPr/>
                <p:nvPr/>
              </p:nvSpPr>
              <p:spPr>
                <a:xfrm rot="15123000">
                  <a:off x="1204560" y="1518840"/>
                  <a:ext cx="192240" cy="97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未知"/>
                <p:cNvSpPr/>
                <p:nvPr/>
              </p:nvSpPr>
              <p:spPr>
                <a:xfrm rot="15123000">
                  <a:off x="1413720" y="1627920"/>
                  <a:ext cx="79920" cy="129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未知"/>
                <p:cNvSpPr/>
                <p:nvPr/>
              </p:nvSpPr>
              <p:spPr>
                <a:xfrm rot="15123000">
                  <a:off x="1468440" y="1659240"/>
                  <a:ext cx="41760" cy="50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未知"/>
                <p:cNvSpPr/>
                <p:nvPr/>
              </p:nvSpPr>
              <p:spPr>
                <a:xfrm rot="15123000">
                  <a:off x="1483560" y="1626480"/>
                  <a:ext cx="30600" cy="34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未知"/>
                <p:cNvSpPr/>
                <p:nvPr/>
              </p:nvSpPr>
              <p:spPr>
                <a:xfrm rot="15123000">
                  <a:off x="1457280" y="157896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未知"/>
                <p:cNvSpPr/>
                <p:nvPr/>
              </p:nvSpPr>
              <p:spPr>
                <a:xfrm rot="15123000">
                  <a:off x="1420200" y="1505880"/>
                  <a:ext cx="85320" cy="112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未知"/>
                <p:cNvSpPr/>
                <p:nvPr/>
              </p:nvSpPr>
              <p:spPr>
                <a:xfrm rot="15123000">
                  <a:off x="1395720" y="1427400"/>
                  <a:ext cx="92160" cy="1641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未知"/>
                <p:cNvSpPr/>
                <p:nvPr/>
              </p:nvSpPr>
              <p:spPr>
                <a:xfrm rot="15123000">
                  <a:off x="1487880" y="1461960"/>
                  <a:ext cx="10080" cy="655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未知"/>
                <p:cNvSpPr/>
                <p:nvPr/>
              </p:nvSpPr>
              <p:spPr>
                <a:xfrm rot="15123000">
                  <a:off x="1386720" y="1353960"/>
                  <a:ext cx="63000" cy="2026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未知"/>
                <p:cNvSpPr/>
                <p:nvPr/>
              </p:nvSpPr>
              <p:spPr>
                <a:xfrm rot="15123000">
                  <a:off x="1416960" y="1499040"/>
                  <a:ext cx="46800" cy="320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未知"/>
                <p:cNvSpPr/>
                <p:nvPr/>
              </p:nvSpPr>
              <p:spPr>
                <a:xfrm rot="15123000">
                  <a:off x="1488240" y="1535760"/>
                  <a:ext cx="23040" cy="518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未知"/>
                <p:cNvSpPr/>
                <p:nvPr/>
              </p:nvSpPr>
              <p:spPr>
                <a:xfrm rot="15123000">
                  <a:off x="1395000" y="1620000"/>
                  <a:ext cx="4932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未知"/>
                <p:cNvSpPr/>
                <p:nvPr/>
              </p:nvSpPr>
              <p:spPr>
                <a:xfrm rot="15123000">
                  <a:off x="1390320" y="1635480"/>
                  <a:ext cx="306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未知"/>
                <p:cNvSpPr/>
                <p:nvPr/>
              </p:nvSpPr>
              <p:spPr>
                <a:xfrm rot="15123000">
                  <a:off x="1470240" y="1524600"/>
                  <a:ext cx="1008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未知"/>
                <p:cNvSpPr/>
                <p:nvPr/>
              </p:nvSpPr>
              <p:spPr>
                <a:xfrm rot="15123000">
                  <a:off x="1371960" y="162324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未知"/>
                <p:cNvSpPr/>
                <p:nvPr/>
              </p:nvSpPr>
              <p:spPr>
                <a:xfrm rot="15123000">
                  <a:off x="1321200" y="160200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未知"/>
                <p:cNvSpPr/>
                <p:nvPr/>
              </p:nvSpPr>
              <p:spPr>
                <a:xfrm rot="15123000">
                  <a:off x="1442160" y="167076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1523"/>
              <p:cNvGrpSpPr/>
              <p:nvPr/>
            </p:nvGrpSpPr>
            <p:grpSpPr>
              <a:xfrm>
                <a:off x="1205640" y="1370520"/>
                <a:ext cx="31680" cy="35640"/>
                <a:chOff x="1205640" y="1370520"/>
                <a:chExt cx="31680" cy="35640"/>
              </a:xfrm>
            </p:grpSpPr>
            <p:sp>
              <p:nvSpPr>
                <p:cNvPr id="1563" name="未知"/>
                <p:cNvSpPr/>
                <p:nvPr/>
              </p:nvSpPr>
              <p:spPr>
                <a:xfrm rot="10758000">
                  <a:off x="1205640" y="137052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未知"/>
                <p:cNvSpPr/>
                <p:nvPr/>
              </p:nvSpPr>
              <p:spPr>
                <a:xfrm rot="7111800">
                  <a:off x="1216080" y="1378080"/>
                  <a:ext cx="18000" cy="172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5" name="AutoShape 1526"/>
          <p:cNvSpPr/>
          <p:nvPr/>
        </p:nvSpPr>
        <p:spPr>
          <a:xfrm>
            <a:off x="3924360" y="-4976640"/>
            <a:ext cx="9955080" cy="99532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1527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67" name="Group 1528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68" name="Picture 1529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Rectangle 1530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531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1" name="Picture 1532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Rectangle 1533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534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74" name="Picture 1535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536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1537"/>
          <p:cNvGrpSpPr/>
          <p:nvPr/>
        </p:nvGrpSpPr>
        <p:grpSpPr>
          <a:xfrm>
            <a:off x="7088760" y="5299560"/>
            <a:ext cx="367920" cy="367920"/>
            <a:chOff x="7088760" y="5299560"/>
            <a:chExt cx="367920" cy="367920"/>
          </a:xfrm>
        </p:grpSpPr>
        <p:grpSp>
          <p:nvGrpSpPr>
            <p:cNvPr id="1577" name="Group 1538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578" name="Group 1539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579" name="Oval 1540"/>
                <p:cNvSpPr/>
                <p:nvPr/>
              </p:nvSpPr>
              <p:spPr>
                <a:xfrm>
                  <a:off x="7091280" y="544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Oval 1541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542"/>
              <p:cNvGrpSpPr/>
              <p:nvPr/>
            </p:nvGrpSpPr>
            <p:grpSpPr>
              <a:xfrm>
                <a:off x="7114680" y="5325840"/>
                <a:ext cx="315000" cy="315720"/>
                <a:chOff x="7114680" y="5325840"/>
                <a:chExt cx="315000" cy="315720"/>
              </a:xfrm>
            </p:grpSpPr>
            <p:sp>
              <p:nvSpPr>
                <p:cNvPr id="1582" name="Oval 1543"/>
                <p:cNvSpPr/>
                <p:nvPr/>
              </p:nvSpPr>
              <p:spPr>
                <a:xfrm rot="2700000">
                  <a:off x="709056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Oval 1544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4" name="Group 1545"/>
            <p:cNvGrpSpPr/>
            <p:nvPr/>
          </p:nvGrpSpPr>
          <p:grpSpPr>
            <a:xfrm>
              <a:off x="7088760" y="5299560"/>
              <a:ext cx="367920" cy="367920"/>
              <a:chOff x="7088760" y="5299560"/>
              <a:chExt cx="367920" cy="367920"/>
            </a:xfrm>
          </p:grpSpPr>
          <p:grpSp>
            <p:nvGrpSpPr>
              <p:cNvPr id="1585" name="Group 1546"/>
              <p:cNvGrpSpPr/>
              <p:nvPr/>
            </p:nvGrpSpPr>
            <p:grpSpPr>
              <a:xfrm>
                <a:off x="7088760" y="5299560"/>
                <a:ext cx="367920" cy="367920"/>
                <a:chOff x="7088760" y="5299560"/>
                <a:chExt cx="367920" cy="367920"/>
              </a:xfrm>
            </p:grpSpPr>
            <p:sp>
              <p:nvSpPr>
                <p:cNvPr id="1586" name="Oval 1547"/>
                <p:cNvSpPr/>
                <p:nvPr/>
              </p:nvSpPr>
              <p:spPr>
                <a:xfrm rot="1320000">
                  <a:off x="709092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Oval 1548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Group 1549"/>
              <p:cNvGrpSpPr/>
              <p:nvPr/>
            </p:nvGrpSpPr>
            <p:grpSpPr>
              <a:xfrm>
                <a:off x="7089120" y="5300640"/>
                <a:ext cx="366480" cy="366480"/>
                <a:chOff x="7089120" y="5300640"/>
                <a:chExt cx="366480" cy="366480"/>
              </a:xfrm>
            </p:grpSpPr>
            <p:sp>
              <p:nvSpPr>
                <p:cNvPr id="1589" name="Oval 1550"/>
                <p:cNvSpPr/>
                <p:nvPr/>
              </p:nvSpPr>
              <p:spPr>
                <a:xfrm rot="402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Oval 1551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1" name="Oval 1552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553"/>
          <p:cNvGrpSpPr/>
          <p:nvPr/>
        </p:nvGrpSpPr>
        <p:grpSpPr>
          <a:xfrm>
            <a:off x="537120" y="5298120"/>
            <a:ext cx="367920" cy="367920"/>
            <a:chOff x="537120" y="5298120"/>
            <a:chExt cx="367920" cy="367920"/>
          </a:xfrm>
        </p:grpSpPr>
        <p:grpSp>
          <p:nvGrpSpPr>
            <p:cNvPr id="1593" name="Group 1554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594" name="Group 1555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595" name="Oval 1556"/>
                <p:cNvSpPr/>
                <p:nvPr/>
              </p:nvSpPr>
              <p:spPr>
                <a:xfrm>
                  <a:off x="5396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Oval 1557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1558"/>
              <p:cNvGrpSpPr/>
              <p:nvPr/>
            </p:nvGrpSpPr>
            <p:grpSpPr>
              <a:xfrm>
                <a:off x="563040" y="5324400"/>
                <a:ext cx="315000" cy="315720"/>
                <a:chOff x="563040" y="5324400"/>
                <a:chExt cx="315000" cy="315720"/>
              </a:xfrm>
            </p:grpSpPr>
            <p:sp>
              <p:nvSpPr>
                <p:cNvPr id="1598" name="Oval 1559"/>
                <p:cNvSpPr/>
                <p:nvPr/>
              </p:nvSpPr>
              <p:spPr>
                <a:xfrm rot="2700000">
                  <a:off x="53892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Oval 1560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0" name="Group 1561"/>
            <p:cNvGrpSpPr/>
            <p:nvPr/>
          </p:nvGrpSpPr>
          <p:grpSpPr>
            <a:xfrm>
              <a:off x="537120" y="5298120"/>
              <a:ext cx="367920" cy="367920"/>
              <a:chOff x="537120" y="5298120"/>
              <a:chExt cx="367920" cy="367920"/>
            </a:xfrm>
          </p:grpSpPr>
          <p:grpSp>
            <p:nvGrpSpPr>
              <p:cNvPr id="1601" name="Group 1562"/>
              <p:cNvGrpSpPr/>
              <p:nvPr/>
            </p:nvGrpSpPr>
            <p:grpSpPr>
              <a:xfrm>
                <a:off x="537120" y="5298120"/>
                <a:ext cx="367920" cy="367920"/>
                <a:chOff x="537120" y="5298120"/>
                <a:chExt cx="367920" cy="367920"/>
              </a:xfrm>
            </p:grpSpPr>
            <p:sp>
              <p:nvSpPr>
                <p:cNvPr id="1602" name="Oval 1563"/>
                <p:cNvSpPr/>
                <p:nvPr/>
              </p:nvSpPr>
              <p:spPr>
                <a:xfrm rot="1320000">
                  <a:off x="53928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Oval 1564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1565"/>
              <p:cNvGrpSpPr/>
              <p:nvPr/>
            </p:nvGrpSpPr>
            <p:grpSpPr>
              <a:xfrm>
                <a:off x="537480" y="5299200"/>
                <a:ext cx="366480" cy="366480"/>
                <a:chOff x="537480" y="5299200"/>
                <a:chExt cx="366480" cy="366480"/>
              </a:xfrm>
            </p:grpSpPr>
            <p:sp>
              <p:nvSpPr>
                <p:cNvPr id="1605" name="Oval 1566"/>
                <p:cNvSpPr/>
                <p:nvPr/>
              </p:nvSpPr>
              <p:spPr>
                <a:xfrm rot="402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Oval 1567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Oval 1568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1569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09" name="AutoShape 1570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1571"/>
            <p:cNvSpPr/>
            <p:nvPr/>
          </p:nvSpPr>
          <p:spPr>
            <a:xfrm rot="2700000">
              <a:off x="6179760" y="93132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Oval 1572"/>
            <p:cNvSpPr/>
            <p:nvPr/>
          </p:nvSpPr>
          <p:spPr>
            <a:xfrm>
              <a:off x="6309360" y="106164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573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13" name="AutoShape 1574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1575"/>
            <p:cNvSpPr/>
            <p:nvPr/>
          </p:nvSpPr>
          <p:spPr>
            <a:xfrm rot="2700000">
              <a:off x="4739760" y="179496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1576"/>
            <p:cNvSpPr/>
            <p:nvPr/>
          </p:nvSpPr>
          <p:spPr>
            <a:xfrm>
              <a:off x="4869360" y="1925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1577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17" name="AutoShape 1578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1579"/>
            <p:cNvSpPr/>
            <p:nvPr/>
          </p:nvSpPr>
          <p:spPr>
            <a:xfrm rot="2700000">
              <a:off x="3084120" y="78696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1580"/>
            <p:cNvSpPr/>
            <p:nvPr/>
          </p:nvSpPr>
          <p:spPr>
            <a:xfrm>
              <a:off x="3213720" y="917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1581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1" name="AutoShape 1582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AutoShape 1583"/>
            <p:cNvSpPr/>
            <p:nvPr/>
          </p:nvSpPr>
          <p:spPr>
            <a:xfrm rot="2700000">
              <a:off x="2093760" y="1310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584"/>
            <p:cNvSpPr/>
            <p:nvPr/>
          </p:nvSpPr>
          <p:spPr>
            <a:xfrm>
              <a:off x="2182680" y="1399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1585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25" name="AutoShape 1586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1587"/>
            <p:cNvSpPr/>
            <p:nvPr/>
          </p:nvSpPr>
          <p:spPr>
            <a:xfrm rot="2700000">
              <a:off x="4290120" y="689400"/>
              <a:ext cx="425880" cy="425880"/>
            </a:xfrm>
            <a:custGeom>
              <a:avLst/>
              <a:gdLst>
                <a:gd name="textAreaLeft" fmla="*/ 175320 w 425880"/>
                <a:gd name="textAreaRight" fmla="*/ 250560 w 425880"/>
                <a:gd name="textAreaTop" fmla="*/ 175320 h 425880"/>
                <a:gd name="textAreaBottom" fmla="*/ 250560 h 42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1588"/>
            <p:cNvSpPr/>
            <p:nvPr/>
          </p:nvSpPr>
          <p:spPr>
            <a:xfrm>
              <a:off x="4399560" y="798480"/>
              <a:ext cx="210240" cy="21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1589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29" name="AutoShape 1590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1591"/>
            <p:cNvSpPr/>
            <p:nvPr/>
          </p:nvSpPr>
          <p:spPr>
            <a:xfrm rot="2700000">
              <a:off x="1517400" y="2534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592"/>
            <p:cNvSpPr/>
            <p:nvPr/>
          </p:nvSpPr>
          <p:spPr>
            <a:xfrm>
              <a:off x="1606320" y="2623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1593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33" name="AutoShape 1594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1595"/>
            <p:cNvSpPr/>
            <p:nvPr/>
          </p:nvSpPr>
          <p:spPr>
            <a:xfrm rot="2700000">
              <a:off x="1877760" y="4047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596"/>
            <p:cNvSpPr/>
            <p:nvPr/>
          </p:nvSpPr>
          <p:spPr>
            <a:xfrm>
              <a:off x="1966680" y="41360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1597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37" name="AutoShape 1598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1599"/>
            <p:cNvSpPr/>
            <p:nvPr/>
          </p:nvSpPr>
          <p:spPr>
            <a:xfrm rot="2700000">
              <a:off x="5910120" y="354276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1600"/>
            <p:cNvSpPr/>
            <p:nvPr/>
          </p:nvSpPr>
          <p:spPr>
            <a:xfrm>
              <a:off x="5999040" y="3631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1601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1" name="AutoShape 1602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1603"/>
            <p:cNvSpPr/>
            <p:nvPr/>
          </p:nvSpPr>
          <p:spPr>
            <a:xfrm rot="2700000">
              <a:off x="6991200" y="32536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1604"/>
            <p:cNvSpPr/>
            <p:nvPr/>
          </p:nvSpPr>
          <p:spPr>
            <a:xfrm>
              <a:off x="7080120" y="33422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Group 1605"/>
          <p:cNvGrpSpPr/>
          <p:nvPr/>
        </p:nvGrpSpPr>
        <p:grpSpPr>
          <a:xfrm>
            <a:off x="4818600" y="5658480"/>
            <a:ext cx="367920" cy="367920"/>
            <a:chOff x="4818600" y="5658480"/>
            <a:chExt cx="367920" cy="367920"/>
          </a:xfrm>
        </p:grpSpPr>
        <p:grpSp>
          <p:nvGrpSpPr>
            <p:cNvPr id="1645" name="Group 1606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46" name="Group 1607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47" name="Oval 1608"/>
                <p:cNvSpPr/>
                <p:nvPr/>
              </p:nvSpPr>
              <p:spPr>
                <a:xfrm>
                  <a:off x="4821120" y="580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Oval 1609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1610"/>
              <p:cNvGrpSpPr/>
              <p:nvPr/>
            </p:nvGrpSpPr>
            <p:grpSpPr>
              <a:xfrm>
                <a:off x="4844520" y="5684760"/>
                <a:ext cx="315000" cy="315720"/>
                <a:chOff x="4844520" y="5684760"/>
                <a:chExt cx="315000" cy="315720"/>
              </a:xfrm>
            </p:grpSpPr>
            <p:sp>
              <p:nvSpPr>
                <p:cNvPr id="1650" name="Oval 1611"/>
                <p:cNvSpPr/>
                <p:nvPr/>
              </p:nvSpPr>
              <p:spPr>
                <a:xfrm rot="2700000">
                  <a:off x="482040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Oval 1612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2" name="Group 1613"/>
            <p:cNvGrpSpPr/>
            <p:nvPr/>
          </p:nvGrpSpPr>
          <p:grpSpPr>
            <a:xfrm>
              <a:off x="4818600" y="5658480"/>
              <a:ext cx="367920" cy="367920"/>
              <a:chOff x="4818600" y="5658480"/>
              <a:chExt cx="367920" cy="367920"/>
            </a:xfrm>
          </p:grpSpPr>
          <p:grpSp>
            <p:nvGrpSpPr>
              <p:cNvPr id="1653" name="Group 1614"/>
              <p:cNvGrpSpPr/>
              <p:nvPr/>
            </p:nvGrpSpPr>
            <p:grpSpPr>
              <a:xfrm>
                <a:off x="4818600" y="5658480"/>
                <a:ext cx="367920" cy="367920"/>
                <a:chOff x="4818600" y="5658480"/>
                <a:chExt cx="367920" cy="367920"/>
              </a:xfrm>
            </p:grpSpPr>
            <p:sp>
              <p:nvSpPr>
                <p:cNvPr id="1654" name="Oval 1615"/>
                <p:cNvSpPr/>
                <p:nvPr/>
              </p:nvSpPr>
              <p:spPr>
                <a:xfrm rot="1320000">
                  <a:off x="48207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Oval 1616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Group 1617"/>
              <p:cNvGrpSpPr/>
              <p:nvPr/>
            </p:nvGrpSpPr>
            <p:grpSpPr>
              <a:xfrm>
                <a:off x="4818960" y="5659560"/>
                <a:ext cx="366480" cy="366480"/>
                <a:chOff x="4818960" y="5659560"/>
                <a:chExt cx="366480" cy="366480"/>
              </a:xfrm>
            </p:grpSpPr>
            <p:sp>
              <p:nvSpPr>
                <p:cNvPr id="1657" name="Oval 1618"/>
                <p:cNvSpPr/>
                <p:nvPr/>
              </p:nvSpPr>
              <p:spPr>
                <a:xfrm rot="402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Oval 1619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9" name="Oval 1620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Text Box 1621"/>
          <p:cNvSpPr/>
          <p:nvPr/>
        </p:nvSpPr>
        <p:spPr>
          <a:xfrm>
            <a:off x="2484360" y="1125360"/>
            <a:ext cx="5443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春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1:47:29Z</dcterms:modified>
  <cp:revision>1</cp:revision>
  <dc:subject/>
  <dc:title>PowerPoint 演示文稿</dc:title>
</cp:coreProperties>
</file>