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2C0-CE81-40A1-9839-21BF918C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7D2-C0C7-4D2E-8176-E7448488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A56-D8D8-4BB9-AE56-FB8FA5DF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A97-56CE-45FD-89B8-FA86587E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F532-9A82-44D7-BCF9-B3E56CFB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A3B-3238-4880-A875-ACEC467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D03C-AE3C-41BB-A097-9475B6B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787-F4AA-4758-A83A-4A23735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A8C2-F9C8-4C72-BDFF-AEA0D60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2BA-2458-48D5-8295-A81133D1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7F8D-6873-4F1B-BEA2-E4587DF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BE-3C37-44BE-99D5-387BDF2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2EE-310C-482D-A334-9497F0E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7A8-4863-420D-91F3-6766843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C21B-DC75-4B2A-84AC-1BAA1A1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B2D8-C7F3-4134-8D5E-3BB7BB8D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8506-1DAB-472D-BFA0-F5EDC11B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380-3621-4D9C-9FB2-B0BEC77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73A-FD94-453E-9D06-148739E1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E88-536E-4843-ACA6-C0260FF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3FF-B6B0-4946-B71C-232F2F8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062-8B3A-43B7-8920-A5527B2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112-13AD-4EF1-9F85-FF3185A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F76-39E3-4BFD-BECE-CFF4EED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E596-F74D-4548-A0DA-953AD6499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784-5B2F-41FF-8A45-3DC47B39D3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5010"/>
          <p:cNvPicPr/>
          <p:nvPr/>
        </p:nvPicPr>
        <p:blipFill>
          <a:blip r:embed="rId1"/>
          <a:stretch/>
        </p:blipFill>
        <p:spPr>
          <a:xfrm>
            <a:off x="-1114560" y="0"/>
            <a:ext cx="10726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92680" y="2262240"/>
            <a:ext cx="8038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ūn yǔ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xiàng chūn gū niang fǎng chū de xiàn          qīng qīng 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春雨，像春姑娘纺出的线，轻轻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uò dào  dì shàng            shā shā shā          shā  shā  sh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落到地上，沙沙沙，沙沙沙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-864000" y="639144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R5010"/>
          <p:cNvPicPr/>
          <p:nvPr/>
        </p:nvPicPr>
        <p:blipFill>
          <a:blip r:embed="rId1"/>
          <a:stretch/>
        </p:blipFill>
        <p:spPr>
          <a:xfrm>
            <a:off x="-1114560" y="0"/>
            <a:ext cx="10726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06720" y="2262240"/>
            <a:ext cx="795276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ūn yǔ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tīng    le    dà     jiā   de zhēng lùn           xià  de  gèng huā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春雨，听了大家的争论，下得更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e            shā shā shā          shā  shā  sh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了，沙沙沙，沙沙沙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R5010"/>
          <p:cNvPicPr/>
          <p:nvPr/>
        </p:nvPicPr>
        <p:blipFill>
          <a:blip r:embed="rId1"/>
          <a:stretch/>
        </p:blipFill>
        <p:spPr>
          <a:xfrm>
            <a:off x="-1114560" y="0"/>
            <a:ext cx="10726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43440" y="2262240"/>
            <a:ext cx="83235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tián yě      lǐ             yì  qún xiǎo niǎo zhèng zài zhēng lùn yí     gè   yǒu   qù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田野里，一群小鸟正在争论一个有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de   wèn    tí               chūn yǔ    dào  dǐ   shì  shén  me  yán  sè     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问题：“春雨到底是什么颜色的？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11280" y="176040"/>
            <a:ext cx="7920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燕子认为春雨是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麻雀认为春雨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黄莺认为春雨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19280" y="2060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549360"/>
            <a:ext cx="889308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落到地上，草就绿了；春雨淋在柳树上 ，柳枝也绿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燕子认为春雨是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麻雀认为春雨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黄莺认为春雨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19280" y="2060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95280" y="115920"/>
            <a:ext cx="84265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落到地上，草就绿了；春雨淋在柳树上 ，柳枝也绿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燕子认为春雨是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洒在桃树上，桃花红了；春雨滴在杜鹃丛中，杜鹃花也红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麻雀认为春雨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黄莺认为春雨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19280" y="2060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9280" y="333360"/>
            <a:ext cx="9144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落到地上，草就绿了；春雨淋在柳树上 ，柳枝也绿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燕子认为春雨是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洒在桃树上，桃花红了；春雨滴在杜鹃丛中，杜鹃花也红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麻雀认为春雨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雨落在油菜地里，油菜花黄了；春雨落在蒲公英上，蒲公英花也黄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所以小黄莺认为春雨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0000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1:49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8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