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31D-1960-4736-8F08-5F1E18CC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F32-D31E-4EC5-834F-4D0848E7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175-AD37-498E-976F-72DCDC7F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99A-0DAD-4373-9203-B734DEDD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53C-AA82-4EB8-A33C-C3C49CBA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6546-8D4F-489A-B0EC-EE85DC73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224-3BB1-49AE-8BA7-9FE6639B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1BB-A4BB-4070-A90D-FC078B33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9E9-A868-4A62-A389-864C0D95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A39-052A-4B23-AAC5-B34543B5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288-ED8A-48EE-B12D-4C7D9D76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8EB-1D9B-4E2C-8118-EB3B6FD5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991B-7415-487D-BC52-D14CED5A5BD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8F87-DC91-4BCA-B2AE-C926A70A42E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c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117"/>
          <p:cNvSpPr/>
          <p:nvPr/>
        </p:nvSpPr>
        <p:spPr>
          <a:xfrm>
            <a:off x="54000" y="4473720"/>
            <a:ext cx="2181240" cy="280800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2808000"/>
              <a:gd name="textAreaBottom" fmla="*/ 2808000 h 2808000"/>
            </a:gdLst>
            <a:ahLst/>
            <a:rect l="textAreaLeft" t="textAreaTop" r="textAreaRight" b="textAreaBottom"/>
            <a:pathLst>
              <a:path w="2181225" h="2807872">
                <a:moveTo>
                  <a:pt x="0" y="2794234"/>
                </a:moveTo>
                <a:cubicBezTo>
                  <a:pt x="170921" y="2951396"/>
                  <a:pt x="118533" y="1699917"/>
                  <a:pt x="285750" y="1625834"/>
                </a:cubicBezTo>
                <a:cubicBezTo>
                  <a:pt x="477838" y="1252771"/>
                  <a:pt x="1255713" y="933155"/>
                  <a:pt x="1152525" y="555859"/>
                </a:cubicBezTo>
                <a:cubicBezTo>
                  <a:pt x="1049337" y="178563"/>
                  <a:pt x="625475" y="470134"/>
                  <a:pt x="542925" y="886059"/>
                </a:cubicBezTo>
                <a:cubicBezTo>
                  <a:pt x="460375" y="1301984"/>
                  <a:pt x="1366308" y="1178159"/>
                  <a:pt x="1571625" y="1051159"/>
                </a:cubicBezTo>
                <a:cubicBezTo>
                  <a:pt x="1776942" y="924159"/>
                  <a:pt x="1673225" y="297626"/>
                  <a:pt x="1774825" y="124059"/>
                </a:cubicBezTo>
                <a:cubicBezTo>
                  <a:pt x="1876425" y="-49508"/>
                  <a:pt x="2181225" y="9759"/>
                  <a:pt x="2181225" y="9759"/>
                </a:cubicBezTo>
              </a:path>
            </a:pathLst>
          </a:custGeom>
          <a:noFill/>
          <a:ln w="475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96"/>
          <p:cNvSpPr/>
          <p:nvPr/>
        </p:nvSpPr>
        <p:spPr>
          <a:xfrm>
            <a:off x="2235240" y="2803680"/>
            <a:ext cx="2200320" cy="10490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049040"/>
              <a:gd name="textAreaBottom" fmla="*/ 1049400 h 1049040"/>
            </a:gdLst>
            <a:ahLst/>
            <a:rect l="textAreaLeft" t="textAreaTop" r="textAreaRight" b="textAreaBottom"/>
            <a:pathLst>
              <a:path w="1357535" h="646956">
                <a:moveTo>
                  <a:pt x="409203" y="65634"/>
                </a:moveTo>
                <a:lnTo>
                  <a:pt x="497607" y="65634"/>
                </a:lnTo>
                <a:lnTo>
                  <a:pt x="497607" y="470149"/>
                </a:lnTo>
                <a:lnTo>
                  <a:pt x="409203" y="470149"/>
                </a:lnTo>
                <a:lnTo>
                  <a:pt x="409203" y="65634"/>
                </a:lnTo>
                <a:close/>
                <a:moveTo>
                  <a:pt x="884708" y="5358"/>
                </a:moveTo>
                <a:lnTo>
                  <a:pt x="982489" y="5358"/>
                </a:lnTo>
                <a:lnTo>
                  <a:pt x="982489" y="531763"/>
                </a:lnTo>
                <a:lnTo>
                  <a:pt x="1068214" y="531763"/>
                </a:lnTo>
                <a:lnTo>
                  <a:pt x="1068214" y="5358"/>
                </a:lnTo>
                <a:lnTo>
                  <a:pt x="1164654" y="5358"/>
                </a:lnTo>
                <a:lnTo>
                  <a:pt x="1164654" y="367346"/>
                </a:lnTo>
                <a:cubicBezTo>
                  <a:pt x="1201043" y="295015"/>
                  <a:pt x="1236538" y="211634"/>
                  <a:pt x="1271141" y="117203"/>
                </a:cubicBezTo>
                <a:lnTo>
                  <a:pt x="1357535" y="154038"/>
                </a:lnTo>
                <a:cubicBezTo>
                  <a:pt x="1323603" y="238870"/>
                  <a:pt x="1282973" y="330845"/>
                  <a:pt x="1235645" y="429965"/>
                </a:cubicBezTo>
                <a:lnTo>
                  <a:pt x="1164654" y="396814"/>
                </a:lnTo>
                <a:lnTo>
                  <a:pt x="1164654" y="531763"/>
                </a:lnTo>
                <a:lnTo>
                  <a:pt x="1357535" y="531763"/>
                </a:lnTo>
                <a:lnTo>
                  <a:pt x="1357535" y="623516"/>
                </a:lnTo>
                <a:lnTo>
                  <a:pt x="695846" y="623516"/>
                </a:lnTo>
                <a:lnTo>
                  <a:pt x="695846" y="531763"/>
                </a:lnTo>
                <a:lnTo>
                  <a:pt x="884708" y="531763"/>
                </a:lnTo>
                <a:lnTo>
                  <a:pt x="884708" y="399158"/>
                </a:lnTo>
                <a:lnTo>
                  <a:pt x="809699" y="431304"/>
                </a:lnTo>
                <a:cubicBezTo>
                  <a:pt x="773087" y="327274"/>
                  <a:pt x="736476" y="231726"/>
                  <a:pt x="699864" y="144661"/>
                </a:cubicBezTo>
                <a:lnTo>
                  <a:pt x="780231" y="107826"/>
                </a:lnTo>
                <a:cubicBezTo>
                  <a:pt x="818852" y="194444"/>
                  <a:pt x="853678" y="277937"/>
                  <a:pt x="884708" y="358304"/>
                </a:cubicBezTo>
                <a:lnTo>
                  <a:pt x="884708" y="5358"/>
                </a:lnTo>
                <a:close/>
                <a:moveTo>
                  <a:pt x="549845" y="4019"/>
                </a:moveTo>
                <a:lnTo>
                  <a:pt x="638919" y="4019"/>
                </a:lnTo>
                <a:lnTo>
                  <a:pt x="638919" y="519708"/>
                </a:lnTo>
                <a:cubicBezTo>
                  <a:pt x="638919" y="601415"/>
                  <a:pt x="611237" y="643385"/>
                  <a:pt x="555873" y="645617"/>
                </a:cubicBezTo>
                <a:cubicBezTo>
                  <a:pt x="521047" y="646510"/>
                  <a:pt x="487784" y="646956"/>
                  <a:pt x="456084" y="646956"/>
                </a:cubicBezTo>
                <a:cubicBezTo>
                  <a:pt x="452512" y="616595"/>
                  <a:pt x="446038" y="584895"/>
                  <a:pt x="436662" y="551855"/>
                </a:cubicBezTo>
                <a:cubicBezTo>
                  <a:pt x="455414" y="552748"/>
                  <a:pt x="481087" y="553195"/>
                  <a:pt x="513680" y="553195"/>
                </a:cubicBezTo>
                <a:cubicBezTo>
                  <a:pt x="537790" y="553195"/>
                  <a:pt x="549845" y="536898"/>
                  <a:pt x="549845" y="504305"/>
                </a:cubicBezTo>
                <a:lnTo>
                  <a:pt x="549845" y="4019"/>
                </a:lnTo>
                <a:close/>
                <a:moveTo>
                  <a:pt x="161404" y="0"/>
                </a:moveTo>
                <a:lnTo>
                  <a:pt x="273248" y="0"/>
                </a:lnTo>
                <a:lnTo>
                  <a:pt x="260524" y="16074"/>
                </a:lnTo>
                <a:cubicBezTo>
                  <a:pt x="303386" y="60722"/>
                  <a:pt x="347365" y="109166"/>
                  <a:pt x="392460" y="161405"/>
                </a:cubicBezTo>
                <a:lnTo>
                  <a:pt x="320799" y="226368"/>
                </a:lnTo>
                <a:cubicBezTo>
                  <a:pt x="287313" y="177701"/>
                  <a:pt x="252040" y="131937"/>
                  <a:pt x="214982" y="89074"/>
                </a:cubicBezTo>
                <a:cubicBezTo>
                  <a:pt x="185961" y="134169"/>
                  <a:pt x="145777" y="180380"/>
                  <a:pt x="94431" y="227708"/>
                </a:cubicBezTo>
                <a:lnTo>
                  <a:pt x="349597" y="227708"/>
                </a:lnTo>
                <a:cubicBezTo>
                  <a:pt x="348704" y="250478"/>
                  <a:pt x="346695" y="298475"/>
                  <a:pt x="343570" y="371699"/>
                </a:cubicBezTo>
                <a:cubicBezTo>
                  <a:pt x="341784" y="437332"/>
                  <a:pt x="307851" y="470149"/>
                  <a:pt x="241771" y="470149"/>
                </a:cubicBezTo>
                <a:cubicBezTo>
                  <a:pt x="219447" y="471042"/>
                  <a:pt x="198909" y="471042"/>
                  <a:pt x="180156" y="470149"/>
                </a:cubicBezTo>
                <a:cubicBezTo>
                  <a:pt x="175692" y="427733"/>
                  <a:pt x="172343" y="400497"/>
                  <a:pt x="170110" y="388442"/>
                </a:cubicBezTo>
                <a:cubicBezTo>
                  <a:pt x="182612" y="389781"/>
                  <a:pt x="204936" y="390674"/>
                  <a:pt x="237083" y="391121"/>
                </a:cubicBezTo>
                <a:cubicBezTo>
                  <a:pt x="250478" y="390228"/>
                  <a:pt x="257398" y="381521"/>
                  <a:pt x="257845" y="365001"/>
                </a:cubicBezTo>
                <a:cubicBezTo>
                  <a:pt x="259184" y="351607"/>
                  <a:pt x="260300" y="332631"/>
                  <a:pt x="261193" y="308075"/>
                </a:cubicBezTo>
                <a:lnTo>
                  <a:pt x="146670" y="308075"/>
                </a:lnTo>
                <a:lnTo>
                  <a:pt x="146670" y="513011"/>
                </a:lnTo>
                <a:cubicBezTo>
                  <a:pt x="146670" y="541140"/>
                  <a:pt x="159172" y="554981"/>
                  <a:pt x="184175" y="554534"/>
                </a:cubicBezTo>
                <a:lnTo>
                  <a:pt x="255835" y="554534"/>
                </a:lnTo>
                <a:cubicBezTo>
                  <a:pt x="277267" y="554534"/>
                  <a:pt x="289322" y="544042"/>
                  <a:pt x="292001" y="523057"/>
                </a:cubicBezTo>
                <a:cubicBezTo>
                  <a:pt x="293340" y="514127"/>
                  <a:pt x="295349" y="496268"/>
                  <a:pt x="298028" y="469479"/>
                </a:cubicBezTo>
                <a:cubicBezTo>
                  <a:pt x="328389" y="476623"/>
                  <a:pt x="359643" y="483097"/>
                  <a:pt x="391790" y="488901"/>
                </a:cubicBezTo>
                <a:cubicBezTo>
                  <a:pt x="385986" y="523727"/>
                  <a:pt x="380405" y="551409"/>
                  <a:pt x="375047" y="571947"/>
                </a:cubicBezTo>
                <a:cubicBezTo>
                  <a:pt x="365671" y="613470"/>
                  <a:pt x="331515" y="634232"/>
                  <a:pt x="272579" y="634232"/>
                </a:cubicBezTo>
                <a:lnTo>
                  <a:pt x="170780" y="634232"/>
                </a:lnTo>
                <a:cubicBezTo>
                  <a:pt x="96217" y="634232"/>
                  <a:pt x="58936" y="603647"/>
                  <a:pt x="58936" y="542479"/>
                </a:cubicBezTo>
                <a:lnTo>
                  <a:pt x="58936" y="259854"/>
                </a:lnTo>
                <a:cubicBezTo>
                  <a:pt x="52685" y="265212"/>
                  <a:pt x="46211" y="270570"/>
                  <a:pt x="39514" y="275928"/>
                </a:cubicBezTo>
                <a:cubicBezTo>
                  <a:pt x="31924" y="256283"/>
                  <a:pt x="18752" y="227931"/>
                  <a:pt x="0" y="190873"/>
                </a:cubicBezTo>
                <a:cubicBezTo>
                  <a:pt x="78581" y="123453"/>
                  <a:pt x="132383" y="59829"/>
                  <a:pt x="16140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"/>
          <p:cNvGrpSpPr/>
          <p:nvPr/>
        </p:nvGrpSpPr>
        <p:grpSpPr>
          <a:xfrm>
            <a:off x="4994280" y="1062000"/>
            <a:ext cx="4781160" cy="6961320"/>
            <a:chOff x="4994280" y="1062000"/>
            <a:chExt cx="4781160" cy="6961320"/>
          </a:xfrm>
        </p:grpSpPr>
        <p:sp>
          <p:nvSpPr>
            <p:cNvPr id="44" name="圆角矩形 85"/>
            <p:cNvSpPr/>
            <p:nvPr/>
          </p:nvSpPr>
          <p:spPr>
            <a:xfrm rot="20239200">
              <a:off x="8188560" y="5576760"/>
              <a:ext cx="1187640" cy="2306880"/>
            </a:xfrm>
            <a:custGeom>
              <a:avLst/>
              <a:gdLst>
                <a:gd name="textAreaLeft" fmla="*/ 146880 w 1187640"/>
                <a:gd name="textAreaRight" fmla="*/ 1040760 w 1187640"/>
                <a:gd name="textAreaTop" fmla="*/ 146880 h 2306880"/>
                <a:gd name="textAreaBottom" fmla="*/ 2160000 h 2306880"/>
              </a:gdLst>
              <a:ahLst/>
              <a:rect l="textAreaLeft" t="textAreaTop" r="textAreaRight" b="textAreaBottom"/>
              <a:pathLst>
                <a:path w="21600" h="41950">
                  <a:moveTo>
                    <a:pt x="9128" y="0"/>
                  </a:moveTo>
                  <a:arcTo wR="9128" hR="9128" stAng="16200000" swAng="-5400000"/>
                  <a:lnTo>
                    <a:pt x="0" y="32822"/>
                  </a:lnTo>
                  <a:arcTo wR="9128" hR="9128" stAng="10800000" swAng="-5400000"/>
                  <a:lnTo>
                    <a:pt x="12472" y="41950"/>
                  </a:lnTo>
                  <a:arcTo wR="9128" hR="9128" stAng="5400000" swAng="-5400000"/>
                  <a:lnTo>
                    <a:pt x="21600" y="9128"/>
                  </a:lnTo>
                  <a:arcTo wR="9128" hR="9128" stAng="0" swAng="-5400000"/>
                  <a:close/>
                </a:path>
              </a:pathLst>
            </a:custGeom>
            <a:solidFill>
              <a:srgbClr val="1557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7"/>
            <p:cNvSpPr/>
            <p:nvPr/>
          </p:nvSpPr>
          <p:spPr>
            <a:xfrm>
              <a:off x="4994280" y="1062000"/>
              <a:ext cx="4560840" cy="4560120"/>
            </a:xfrm>
            <a:prstGeom prst="ellipse">
              <a:avLst/>
            </a:prstGeom>
            <a:noFill/>
            <a:ln w="127080">
              <a:solidFill>
                <a:srgbClr val="155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31"/>
            <p:cNvSpPr/>
            <p:nvPr/>
          </p:nvSpPr>
          <p:spPr>
            <a:xfrm rot="10630800">
              <a:off x="5130720" y="1261440"/>
              <a:ext cx="3481200" cy="3542040"/>
            </a:xfrm>
            <a:custGeom>
              <a:avLst/>
              <a:gdLst>
                <a:gd name="textAreaLeft" fmla="*/ 0 w 3481200"/>
                <a:gd name="textAreaRight" fmla="*/ 3481560 w 3481200"/>
                <a:gd name="textAreaTop" fmla="*/ 0 h 3542040"/>
                <a:gd name="textAreaBottom" fmla="*/ 3542400 h 3542040"/>
              </a:gdLst>
              <a:ahLst/>
              <a:rect l="textAreaLeft" t="textAreaTop" r="textAreaRight" b="textAreaBottom"/>
              <a:pathLst>
                <a:path w="3151" h="3208">
                  <a:moveTo>
                    <a:pt x="2275" y="2281"/>
                  </a:moveTo>
                  <a:cubicBezTo>
                    <a:pt x="1668" y="2921"/>
                    <a:pt x="680" y="2983"/>
                    <a:pt x="0" y="2448"/>
                  </a:cubicBezTo>
                  <a:cubicBezTo>
                    <a:pt x="34" y="2488"/>
                    <a:pt x="71" y="2527"/>
                    <a:pt x="110" y="2564"/>
                  </a:cubicBezTo>
                  <a:cubicBezTo>
                    <a:pt x="789" y="3208"/>
                    <a:pt x="1862" y="3180"/>
                    <a:pt x="2507" y="2501"/>
                  </a:cubicBezTo>
                  <a:cubicBezTo>
                    <a:pt x="3151" y="1822"/>
                    <a:pt x="3123" y="749"/>
                    <a:pt x="2444" y="104"/>
                  </a:cubicBezTo>
                  <a:cubicBezTo>
                    <a:pt x="2405" y="67"/>
                    <a:pt x="2364" y="33"/>
                    <a:pt x="2323" y="0"/>
                  </a:cubicBezTo>
                  <a:cubicBezTo>
                    <a:pt x="2892" y="651"/>
                    <a:pt x="2883" y="1641"/>
                    <a:pt x="2275" y="2281"/>
                  </a:cubicBezTo>
                  <a:close/>
                </a:path>
              </a:pathLst>
            </a:cu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圆角矩形 84"/>
            <p:cNvSpPr/>
            <p:nvPr/>
          </p:nvSpPr>
          <p:spPr>
            <a:xfrm rot="20239200">
              <a:off x="7812360" y="5544720"/>
              <a:ext cx="1072080" cy="347760"/>
            </a:xfrm>
            <a:prstGeom prst="roundRect">
              <a:avLst>
                <a:gd name="adj" fmla="val 16667"/>
              </a:avLst>
            </a:prstGeom>
            <a:solidFill>
              <a:srgbClr val="1557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5420880" y="2524680"/>
              <a:ext cx="1850760" cy="185940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1859400"/>
                <a:gd name="textAreaBottom" fmla="*/ 1859760 h 1859400"/>
              </a:gdLst>
              <a:ahLst/>
              <a:rect l="textAreaLeft" t="textAreaTop" r="textAreaRight" b="textAreaBottom"/>
              <a:pathLst>
                <a:path w="479" h="480">
                  <a:moveTo>
                    <a:pt x="292" y="0"/>
                  </a:moveTo>
                  <a:cubicBezTo>
                    <a:pt x="311" y="2"/>
                    <a:pt x="331" y="4"/>
                    <a:pt x="351" y="6"/>
                  </a:cubicBezTo>
                  <a:cubicBezTo>
                    <a:pt x="337" y="15"/>
                    <a:pt x="323" y="29"/>
                    <a:pt x="310" y="45"/>
                  </a:cubicBezTo>
                  <a:cubicBezTo>
                    <a:pt x="364" y="43"/>
                    <a:pt x="420" y="42"/>
                    <a:pt x="477" y="41"/>
                  </a:cubicBezTo>
                  <a:cubicBezTo>
                    <a:pt x="476" y="59"/>
                    <a:pt x="476" y="82"/>
                    <a:pt x="476" y="107"/>
                  </a:cubicBezTo>
                  <a:cubicBezTo>
                    <a:pt x="462" y="107"/>
                    <a:pt x="448" y="107"/>
                    <a:pt x="434" y="107"/>
                  </a:cubicBezTo>
                  <a:cubicBezTo>
                    <a:pt x="421" y="213"/>
                    <a:pt x="396" y="322"/>
                    <a:pt x="364" y="378"/>
                  </a:cubicBezTo>
                  <a:cubicBezTo>
                    <a:pt x="398" y="409"/>
                    <a:pt x="438" y="430"/>
                    <a:pt x="479" y="443"/>
                  </a:cubicBezTo>
                  <a:cubicBezTo>
                    <a:pt x="463" y="458"/>
                    <a:pt x="449" y="472"/>
                    <a:pt x="438" y="479"/>
                  </a:cubicBezTo>
                  <a:cubicBezTo>
                    <a:pt x="399" y="473"/>
                    <a:pt x="358" y="458"/>
                    <a:pt x="322" y="432"/>
                  </a:cubicBezTo>
                  <a:cubicBezTo>
                    <a:pt x="294" y="457"/>
                    <a:pt x="269" y="470"/>
                    <a:pt x="243" y="480"/>
                  </a:cubicBezTo>
                  <a:cubicBezTo>
                    <a:pt x="219" y="470"/>
                    <a:pt x="196" y="456"/>
                    <a:pt x="175" y="440"/>
                  </a:cubicBezTo>
                  <a:cubicBezTo>
                    <a:pt x="113" y="444"/>
                    <a:pt x="61" y="447"/>
                    <a:pt x="6" y="452"/>
                  </a:cubicBezTo>
                  <a:cubicBezTo>
                    <a:pt x="3" y="429"/>
                    <a:pt x="1" y="406"/>
                    <a:pt x="0" y="383"/>
                  </a:cubicBezTo>
                  <a:cubicBezTo>
                    <a:pt x="4" y="384"/>
                    <a:pt x="9" y="384"/>
                    <a:pt x="14" y="384"/>
                  </a:cubicBezTo>
                  <a:cubicBezTo>
                    <a:pt x="8" y="311"/>
                    <a:pt x="6" y="234"/>
                    <a:pt x="10" y="160"/>
                  </a:cubicBezTo>
                  <a:cubicBezTo>
                    <a:pt x="18" y="158"/>
                    <a:pt x="29" y="156"/>
                    <a:pt x="41" y="154"/>
                  </a:cubicBezTo>
                  <a:cubicBezTo>
                    <a:pt x="32" y="230"/>
                    <a:pt x="35" y="313"/>
                    <a:pt x="51" y="384"/>
                  </a:cubicBezTo>
                  <a:cubicBezTo>
                    <a:pt x="59" y="384"/>
                    <a:pt x="67" y="384"/>
                    <a:pt x="76" y="383"/>
                  </a:cubicBezTo>
                  <a:cubicBezTo>
                    <a:pt x="52" y="291"/>
                    <a:pt x="54" y="173"/>
                    <a:pt x="80" y="83"/>
                  </a:cubicBezTo>
                  <a:cubicBezTo>
                    <a:pt x="50" y="87"/>
                    <a:pt x="25" y="92"/>
                    <a:pt x="5" y="97"/>
                  </a:cubicBezTo>
                  <a:cubicBezTo>
                    <a:pt x="6" y="76"/>
                    <a:pt x="7" y="56"/>
                    <a:pt x="8" y="36"/>
                  </a:cubicBezTo>
                  <a:cubicBezTo>
                    <a:pt x="71" y="29"/>
                    <a:pt x="145" y="24"/>
                    <a:pt x="226" y="21"/>
                  </a:cubicBezTo>
                  <a:cubicBezTo>
                    <a:pt x="216" y="34"/>
                    <a:pt x="208" y="52"/>
                    <a:pt x="201" y="72"/>
                  </a:cubicBezTo>
                  <a:cubicBezTo>
                    <a:pt x="177" y="73"/>
                    <a:pt x="154" y="75"/>
                    <a:pt x="133" y="77"/>
                  </a:cubicBezTo>
                  <a:cubicBezTo>
                    <a:pt x="122" y="110"/>
                    <a:pt x="115" y="147"/>
                    <a:pt x="111" y="186"/>
                  </a:cubicBezTo>
                  <a:cubicBezTo>
                    <a:pt x="121" y="186"/>
                    <a:pt x="131" y="186"/>
                    <a:pt x="141" y="185"/>
                  </a:cubicBezTo>
                  <a:cubicBezTo>
                    <a:pt x="181" y="126"/>
                    <a:pt x="229" y="33"/>
                    <a:pt x="292" y="0"/>
                  </a:cubicBezTo>
                  <a:close/>
                  <a:moveTo>
                    <a:pt x="261" y="111"/>
                  </a:moveTo>
                  <a:cubicBezTo>
                    <a:pt x="261" y="111"/>
                    <a:pt x="261" y="111"/>
                    <a:pt x="261" y="112"/>
                  </a:cubicBezTo>
                  <a:cubicBezTo>
                    <a:pt x="256" y="178"/>
                    <a:pt x="273" y="248"/>
                    <a:pt x="304" y="302"/>
                  </a:cubicBezTo>
                  <a:cubicBezTo>
                    <a:pt x="327" y="252"/>
                    <a:pt x="343" y="179"/>
                    <a:pt x="356" y="108"/>
                  </a:cubicBezTo>
                  <a:cubicBezTo>
                    <a:pt x="323" y="109"/>
                    <a:pt x="292" y="109"/>
                    <a:pt x="261" y="111"/>
                  </a:cubicBezTo>
                  <a:cubicBezTo>
                    <a:pt x="261" y="111"/>
                    <a:pt x="261" y="111"/>
                    <a:pt x="261" y="111"/>
                  </a:cubicBezTo>
                  <a:close/>
                  <a:moveTo>
                    <a:pt x="197" y="214"/>
                  </a:moveTo>
                  <a:cubicBezTo>
                    <a:pt x="190" y="225"/>
                    <a:pt x="184" y="235"/>
                    <a:pt x="178" y="244"/>
                  </a:cubicBezTo>
                  <a:cubicBezTo>
                    <a:pt x="173" y="236"/>
                    <a:pt x="168" y="228"/>
                    <a:pt x="163" y="220"/>
                  </a:cubicBezTo>
                  <a:cubicBezTo>
                    <a:pt x="162" y="234"/>
                    <a:pt x="162" y="248"/>
                    <a:pt x="163" y="261"/>
                  </a:cubicBezTo>
                  <a:cubicBezTo>
                    <a:pt x="144" y="261"/>
                    <a:pt x="126" y="261"/>
                    <a:pt x="109" y="260"/>
                  </a:cubicBezTo>
                  <a:cubicBezTo>
                    <a:pt x="111" y="303"/>
                    <a:pt x="116" y="345"/>
                    <a:pt x="126" y="381"/>
                  </a:cubicBezTo>
                  <a:cubicBezTo>
                    <a:pt x="147" y="380"/>
                    <a:pt x="169" y="379"/>
                    <a:pt x="193" y="377"/>
                  </a:cubicBezTo>
                  <a:cubicBezTo>
                    <a:pt x="193" y="387"/>
                    <a:pt x="196" y="403"/>
                    <a:pt x="201" y="422"/>
                  </a:cubicBezTo>
                  <a:cubicBezTo>
                    <a:pt x="221" y="409"/>
                    <a:pt x="241" y="393"/>
                    <a:pt x="260" y="372"/>
                  </a:cubicBezTo>
                  <a:cubicBezTo>
                    <a:pt x="228" y="329"/>
                    <a:pt x="205" y="274"/>
                    <a:pt x="197" y="2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>
              <a:off x="7344000" y="2533680"/>
              <a:ext cx="1830600" cy="1850400"/>
            </a:xfrm>
            <a:custGeom>
              <a:avLst/>
              <a:gdLst>
                <a:gd name="textAreaLeft" fmla="*/ 0 w 1830600"/>
                <a:gd name="textAreaRight" fmla="*/ 1830960 w 1830600"/>
                <a:gd name="textAreaTop" fmla="*/ 0 h 1850400"/>
                <a:gd name="textAreaBottom" fmla="*/ 1850760 h 1850400"/>
              </a:gdLst>
              <a:ahLst/>
              <a:rect l="textAreaLeft" t="textAreaTop" r="textAreaRight" b="textAreaBottom"/>
              <a:pathLst>
                <a:path w="474" h="478">
                  <a:moveTo>
                    <a:pt x="284" y="0"/>
                  </a:moveTo>
                  <a:cubicBezTo>
                    <a:pt x="305" y="0"/>
                    <a:pt x="326" y="0"/>
                    <a:pt x="346" y="1"/>
                  </a:cubicBezTo>
                  <a:cubicBezTo>
                    <a:pt x="348" y="9"/>
                    <a:pt x="349" y="17"/>
                    <a:pt x="349" y="26"/>
                  </a:cubicBezTo>
                  <a:cubicBezTo>
                    <a:pt x="392" y="29"/>
                    <a:pt x="433" y="33"/>
                    <a:pt x="469" y="37"/>
                  </a:cubicBezTo>
                  <a:cubicBezTo>
                    <a:pt x="469" y="52"/>
                    <a:pt x="470" y="67"/>
                    <a:pt x="470" y="83"/>
                  </a:cubicBezTo>
                  <a:cubicBezTo>
                    <a:pt x="456" y="79"/>
                    <a:pt x="440" y="76"/>
                    <a:pt x="422" y="73"/>
                  </a:cubicBezTo>
                  <a:cubicBezTo>
                    <a:pt x="431" y="88"/>
                    <a:pt x="437" y="102"/>
                    <a:pt x="443" y="117"/>
                  </a:cubicBezTo>
                  <a:cubicBezTo>
                    <a:pt x="430" y="118"/>
                    <a:pt x="417" y="121"/>
                    <a:pt x="401" y="123"/>
                  </a:cubicBezTo>
                  <a:cubicBezTo>
                    <a:pt x="393" y="102"/>
                    <a:pt x="382" y="83"/>
                    <a:pt x="369" y="67"/>
                  </a:cubicBezTo>
                  <a:cubicBezTo>
                    <a:pt x="361" y="66"/>
                    <a:pt x="352" y="65"/>
                    <a:pt x="343" y="64"/>
                  </a:cubicBezTo>
                  <a:cubicBezTo>
                    <a:pt x="339" y="77"/>
                    <a:pt x="333" y="92"/>
                    <a:pt x="325" y="107"/>
                  </a:cubicBezTo>
                  <a:cubicBezTo>
                    <a:pt x="324" y="107"/>
                    <a:pt x="323" y="106"/>
                    <a:pt x="323" y="106"/>
                  </a:cubicBezTo>
                  <a:cubicBezTo>
                    <a:pt x="325" y="113"/>
                    <a:pt x="326" y="120"/>
                    <a:pt x="328" y="128"/>
                  </a:cubicBezTo>
                  <a:cubicBezTo>
                    <a:pt x="394" y="132"/>
                    <a:pt x="445" y="139"/>
                    <a:pt x="471" y="146"/>
                  </a:cubicBezTo>
                  <a:cubicBezTo>
                    <a:pt x="471" y="163"/>
                    <a:pt x="471" y="180"/>
                    <a:pt x="472" y="197"/>
                  </a:cubicBezTo>
                  <a:cubicBezTo>
                    <a:pt x="451" y="193"/>
                    <a:pt x="402" y="190"/>
                    <a:pt x="336" y="187"/>
                  </a:cubicBezTo>
                  <a:cubicBezTo>
                    <a:pt x="337" y="200"/>
                    <a:pt x="337" y="213"/>
                    <a:pt x="337" y="226"/>
                  </a:cubicBezTo>
                  <a:cubicBezTo>
                    <a:pt x="396" y="226"/>
                    <a:pt x="442" y="227"/>
                    <a:pt x="464" y="228"/>
                  </a:cubicBezTo>
                  <a:cubicBezTo>
                    <a:pt x="464" y="254"/>
                    <a:pt x="464" y="281"/>
                    <a:pt x="463" y="307"/>
                  </a:cubicBezTo>
                  <a:cubicBezTo>
                    <a:pt x="462" y="323"/>
                    <a:pt x="459" y="338"/>
                    <a:pt x="453" y="350"/>
                  </a:cubicBezTo>
                  <a:cubicBezTo>
                    <a:pt x="446" y="363"/>
                    <a:pt x="430" y="372"/>
                    <a:pt x="396" y="377"/>
                  </a:cubicBezTo>
                  <a:cubicBezTo>
                    <a:pt x="420" y="393"/>
                    <a:pt x="447" y="400"/>
                    <a:pt x="474" y="401"/>
                  </a:cubicBezTo>
                  <a:cubicBezTo>
                    <a:pt x="467" y="421"/>
                    <a:pt x="458" y="442"/>
                    <a:pt x="443" y="464"/>
                  </a:cubicBezTo>
                  <a:cubicBezTo>
                    <a:pt x="382" y="447"/>
                    <a:pt x="350" y="429"/>
                    <a:pt x="319" y="385"/>
                  </a:cubicBezTo>
                  <a:cubicBezTo>
                    <a:pt x="307" y="425"/>
                    <a:pt x="290" y="459"/>
                    <a:pt x="267" y="478"/>
                  </a:cubicBezTo>
                  <a:cubicBezTo>
                    <a:pt x="246" y="478"/>
                    <a:pt x="225" y="478"/>
                    <a:pt x="204" y="478"/>
                  </a:cubicBezTo>
                  <a:cubicBezTo>
                    <a:pt x="226" y="462"/>
                    <a:pt x="242" y="429"/>
                    <a:pt x="252" y="387"/>
                  </a:cubicBezTo>
                  <a:cubicBezTo>
                    <a:pt x="187" y="440"/>
                    <a:pt x="106" y="466"/>
                    <a:pt x="33" y="474"/>
                  </a:cubicBezTo>
                  <a:cubicBezTo>
                    <a:pt x="26" y="468"/>
                    <a:pt x="15" y="456"/>
                    <a:pt x="0" y="439"/>
                  </a:cubicBezTo>
                  <a:cubicBezTo>
                    <a:pt x="101" y="420"/>
                    <a:pt x="199" y="379"/>
                    <a:pt x="265" y="313"/>
                  </a:cubicBezTo>
                  <a:cubicBezTo>
                    <a:pt x="266" y="305"/>
                    <a:pt x="267" y="297"/>
                    <a:pt x="268" y="288"/>
                  </a:cubicBezTo>
                  <a:cubicBezTo>
                    <a:pt x="228" y="289"/>
                    <a:pt x="185" y="290"/>
                    <a:pt x="141" y="290"/>
                  </a:cubicBezTo>
                  <a:cubicBezTo>
                    <a:pt x="139" y="328"/>
                    <a:pt x="136" y="365"/>
                    <a:pt x="131" y="395"/>
                  </a:cubicBezTo>
                  <a:cubicBezTo>
                    <a:pt x="105" y="396"/>
                    <a:pt x="79" y="396"/>
                    <a:pt x="53" y="397"/>
                  </a:cubicBezTo>
                  <a:cubicBezTo>
                    <a:pt x="57" y="349"/>
                    <a:pt x="58" y="286"/>
                    <a:pt x="58" y="224"/>
                  </a:cubicBezTo>
                  <a:cubicBezTo>
                    <a:pt x="133" y="224"/>
                    <a:pt x="206" y="225"/>
                    <a:pt x="269" y="225"/>
                  </a:cubicBezTo>
                  <a:cubicBezTo>
                    <a:pt x="269" y="212"/>
                    <a:pt x="268" y="198"/>
                    <a:pt x="267" y="185"/>
                  </a:cubicBezTo>
                  <a:cubicBezTo>
                    <a:pt x="192" y="184"/>
                    <a:pt x="104" y="183"/>
                    <a:pt x="15" y="182"/>
                  </a:cubicBezTo>
                  <a:cubicBezTo>
                    <a:pt x="15" y="160"/>
                    <a:pt x="15" y="138"/>
                    <a:pt x="14" y="118"/>
                  </a:cubicBezTo>
                  <a:cubicBezTo>
                    <a:pt x="101" y="119"/>
                    <a:pt x="186" y="121"/>
                    <a:pt x="260" y="124"/>
                  </a:cubicBezTo>
                  <a:cubicBezTo>
                    <a:pt x="259" y="116"/>
                    <a:pt x="257" y="107"/>
                    <a:pt x="255" y="99"/>
                  </a:cubicBezTo>
                  <a:cubicBezTo>
                    <a:pt x="277" y="101"/>
                    <a:pt x="299" y="102"/>
                    <a:pt x="319" y="103"/>
                  </a:cubicBezTo>
                  <a:cubicBezTo>
                    <a:pt x="301" y="94"/>
                    <a:pt x="281" y="84"/>
                    <a:pt x="258" y="74"/>
                  </a:cubicBezTo>
                  <a:cubicBezTo>
                    <a:pt x="262" y="68"/>
                    <a:pt x="265" y="63"/>
                    <a:pt x="268" y="58"/>
                  </a:cubicBezTo>
                  <a:cubicBezTo>
                    <a:pt x="268" y="58"/>
                    <a:pt x="269" y="58"/>
                    <a:pt x="269" y="58"/>
                  </a:cubicBezTo>
                  <a:cubicBezTo>
                    <a:pt x="269" y="58"/>
                    <a:pt x="269" y="57"/>
                    <a:pt x="269" y="57"/>
                  </a:cubicBezTo>
                  <a:cubicBezTo>
                    <a:pt x="273" y="49"/>
                    <a:pt x="277" y="42"/>
                    <a:pt x="281" y="36"/>
                  </a:cubicBezTo>
                  <a:cubicBezTo>
                    <a:pt x="285" y="23"/>
                    <a:pt x="286" y="11"/>
                    <a:pt x="284" y="0"/>
                  </a:cubicBezTo>
                  <a:close/>
                  <a:moveTo>
                    <a:pt x="336" y="286"/>
                  </a:moveTo>
                  <a:cubicBezTo>
                    <a:pt x="335" y="295"/>
                    <a:pt x="334" y="304"/>
                    <a:pt x="333" y="312"/>
                  </a:cubicBezTo>
                  <a:cubicBezTo>
                    <a:pt x="349" y="334"/>
                    <a:pt x="363" y="351"/>
                    <a:pt x="378" y="364"/>
                  </a:cubicBezTo>
                  <a:cubicBezTo>
                    <a:pt x="380" y="351"/>
                    <a:pt x="380" y="337"/>
                    <a:pt x="379" y="322"/>
                  </a:cubicBezTo>
                  <a:cubicBezTo>
                    <a:pt x="392" y="324"/>
                    <a:pt x="404" y="324"/>
                    <a:pt x="414" y="323"/>
                  </a:cubicBezTo>
                  <a:cubicBezTo>
                    <a:pt x="423" y="322"/>
                    <a:pt x="428" y="315"/>
                    <a:pt x="429" y="303"/>
                  </a:cubicBezTo>
                  <a:cubicBezTo>
                    <a:pt x="430" y="296"/>
                    <a:pt x="430" y="289"/>
                    <a:pt x="431" y="282"/>
                  </a:cubicBezTo>
                  <a:cubicBezTo>
                    <a:pt x="406" y="284"/>
                    <a:pt x="374" y="285"/>
                    <a:pt x="336" y="286"/>
                  </a:cubicBezTo>
                  <a:cubicBezTo>
                    <a:pt x="336" y="286"/>
                    <a:pt x="336" y="286"/>
                    <a:pt x="336" y="2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7326000" y="2529000"/>
              <a:ext cx="1055880" cy="438840"/>
            </a:xfrm>
            <a:custGeom>
              <a:avLst/>
              <a:gdLst>
                <a:gd name="textAreaLeft" fmla="*/ 0 w 1055880"/>
                <a:gd name="textAreaRight" fmla="*/ 1056240 w 105588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274" h="113">
                  <a:moveTo>
                    <a:pt x="81" y="0"/>
                  </a:moveTo>
                  <a:cubicBezTo>
                    <a:pt x="104" y="0"/>
                    <a:pt x="128" y="0"/>
                    <a:pt x="151" y="0"/>
                  </a:cubicBezTo>
                  <a:cubicBezTo>
                    <a:pt x="149" y="5"/>
                    <a:pt x="146" y="10"/>
                    <a:pt x="142" y="17"/>
                  </a:cubicBezTo>
                  <a:cubicBezTo>
                    <a:pt x="180" y="18"/>
                    <a:pt x="218" y="19"/>
                    <a:pt x="255" y="21"/>
                  </a:cubicBezTo>
                  <a:cubicBezTo>
                    <a:pt x="262" y="31"/>
                    <a:pt x="268" y="43"/>
                    <a:pt x="274" y="56"/>
                  </a:cubicBezTo>
                  <a:cubicBezTo>
                    <a:pt x="274" y="57"/>
                    <a:pt x="274" y="57"/>
                    <a:pt x="273" y="57"/>
                  </a:cubicBezTo>
                  <a:cubicBezTo>
                    <a:pt x="249" y="56"/>
                    <a:pt x="224" y="54"/>
                    <a:pt x="199" y="53"/>
                  </a:cubicBezTo>
                  <a:cubicBezTo>
                    <a:pt x="211" y="66"/>
                    <a:pt x="223" y="81"/>
                    <a:pt x="235" y="99"/>
                  </a:cubicBezTo>
                  <a:cubicBezTo>
                    <a:pt x="212" y="102"/>
                    <a:pt x="187" y="106"/>
                    <a:pt x="162" y="110"/>
                  </a:cubicBezTo>
                  <a:cubicBezTo>
                    <a:pt x="151" y="87"/>
                    <a:pt x="139" y="67"/>
                    <a:pt x="126" y="51"/>
                  </a:cubicBezTo>
                  <a:cubicBezTo>
                    <a:pt x="122" y="51"/>
                    <a:pt x="118" y="50"/>
                    <a:pt x="114" y="50"/>
                  </a:cubicBezTo>
                  <a:cubicBezTo>
                    <a:pt x="94" y="71"/>
                    <a:pt x="68" y="93"/>
                    <a:pt x="37" y="113"/>
                  </a:cubicBezTo>
                  <a:cubicBezTo>
                    <a:pt x="29" y="94"/>
                    <a:pt x="17" y="73"/>
                    <a:pt x="0" y="53"/>
                  </a:cubicBezTo>
                  <a:cubicBezTo>
                    <a:pt x="40" y="34"/>
                    <a:pt x="68" y="11"/>
                    <a:pt x="8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5420880" y="2524680"/>
              <a:ext cx="1850760" cy="185940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1859400"/>
                <a:gd name="textAreaBottom" fmla="*/ 1859760 h 1859400"/>
              </a:gdLst>
              <a:ahLst/>
              <a:rect l="textAreaLeft" t="textAreaTop" r="textAreaRight" b="textAreaBottom"/>
              <a:pathLst>
                <a:path w="479" h="480">
                  <a:moveTo>
                    <a:pt x="292" y="0"/>
                  </a:moveTo>
                  <a:cubicBezTo>
                    <a:pt x="311" y="2"/>
                    <a:pt x="331" y="4"/>
                    <a:pt x="351" y="6"/>
                  </a:cubicBezTo>
                  <a:cubicBezTo>
                    <a:pt x="337" y="15"/>
                    <a:pt x="323" y="29"/>
                    <a:pt x="310" y="45"/>
                  </a:cubicBezTo>
                  <a:cubicBezTo>
                    <a:pt x="364" y="43"/>
                    <a:pt x="420" y="42"/>
                    <a:pt x="477" y="41"/>
                  </a:cubicBezTo>
                  <a:cubicBezTo>
                    <a:pt x="476" y="59"/>
                    <a:pt x="476" y="82"/>
                    <a:pt x="476" y="107"/>
                  </a:cubicBezTo>
                  <a:cubicBezTo>
                    <a:pt x="462" y="107"/>
                    <a:pt x="448" y="107"/>
                    <a:pt x="434" y="107"/>
                  </a:cubicBezTo>
                  <a:cubicBezTo>
                    <a:pt x="421" y="213"/>
                    <a:pt x="396" y="322"/>
                    <a:pt x="364" y="378"/>
                  </a:cubicBezTo>
                  <a:cubicBezTo>
                    <a:pt x="398" y="409"/>
                    <a:pt x="438" y="430"/>
                    <a:pt x="479" y="443"/>
                  </a:cubicBezTo>
                  <a:cubicBezTo>
                    <a:pt x="463" y="458"/>
                    <a:pt x="449" y="472"/>
                    <a:pt x="438" y="479"/>
                  </a:cubicBezTo>
                  <a:cubicBezTo>
                    <a:pt x="399" y="473"/>
                    <a:pt x="358" y="458"/>
                    <a:pt x="322" y="432"/>
                  </a:cubicBezTo>
                  <a:cubicBezTo>
                    <a:pt x="294" y="457"/>
                    <a:pt x="269" y="470"/>
                    <a:pt x="243" y="480"/>
                  </a:cubicBezTo>
                  <a:cubicBezTo>
                    <a:pt x="219" y="470"/>
                    <a:pt x="196" y="456"/>
                    <a:pt x="175" y="440"/>
                  </a:cubicBezTo>
                  <a:cubicBezTo>
                    <a:pt x="113" y="444"/>
                    <a:pt x="61" y="447"/>
                    <a:pt x="6" y="452"/>
                  </a:cubicBezTo>
                  <a:cubicBezTo>
                    <a:pt x="3" y="429"/>
                    <a:pt x="1" y="406"/>
                    <a:pt x="0" y="383"/>
                  </a:cubicBezTo>
                  <a:cubicBezTo>
                    <a:pt x="4" y="384"/>
                    <a:pt x="9" y="384"/>
                    <a:pt x="14" y="384"/>
                  </a:cubicBezTo>
                  <a:cubicBezTo>
                    <a:pt x="8" y="311"/>
                    <a:pt x="6" y="234"/>
                    <a:pt x="10" y="160"/>
                  </a:cubicBezTo>
                  <a:cubicBezTo>
                    <a:pt x="18" y="158"/>
                    <a:pt x="29" y="156"/>
                    <a:pt x="41" y="154"/>
                  </a:cubicBezTo>
                  <a:cubicBezTo>
                    <a:pt x="32" y="230"/>
                    <a:pt x="35" y="313"/>
                    <a:pt x="51" y="384"/>
                  </a:cubicBezTo>
                  <a:cubicBezTo>
                    <a:pt x="59" y="384"/>
                    <a:pt x="67" y="384"/>
                    <a:pt x="76" y="383"/>
                  </a:cubicBezTo>
                  <a:cubicBezTo>
                    <a:pt x="52" y="291"/>
                    <a:pt x="54" y="173"/>
                    <a:pt x="80" y="83"/>
                  </a:cubicBezTo>
                  <a:cubicBezTo>
                    <a:pt x="50" y="87"/>
                    <a:pt x="25" y="92"/>
                    <a:pt x="5" y="97"/>
                  </a:cubicBezTo>
                  <a:cubicBezTo>
                    <a:pt x="6" y="76"/>
                    <a:pt x="7" y="56"/>
                    <a:pt x="8" y="36"/>
                  </a:cubicBezTo>
                  <a:cubicBezTo>
                    <a:pt x="71" y="29"/>
                    <a:pt x="145" y="24"/>
                    <a:pt x="226" y="21"/>
                  </a:cubicBezTo>
                  <a:cubicBezTo>
                    <a:pt x="216" y="34"/>
                    <a:pt x="208" y="52"/>
                    <a:pt x="201" y="72"/>
                  </a:cubicBezTo>
                  <a:cubicBezTo>
                    <a:pt x="177" y="73"/>
                    <a:pt x="154" y="75"/>
                    <a:pt x="133" y="77"/>
                  </a:cubicBezTo>
                  <a:cubicBezTo>
                    <a:pt x="122" y="110"/>
                    <a:pt x="115" y="147"/>
                    <a:pt x="111" y="186"/>
                  </a:cubicBezTo>
                  <a:cubicBezTo>
                    <a:pt x="121" y="186"/>
                    <a:pt x="131" y="186"/>
                    <a:pt x="141" y="185"/>
                  </a:cubicBezTo>
                  <a:cubicBezTo>
                    <a:pt x="181" y="126"/>
                    <a:pt x="229" y="33"/>
                    <a:pt x="292" y="0"/>
                  </a:cubicBezTo>
                  <a:close/>
                  <a:moveTo>
                    <a:pt x="261" y="111"/>
                  </a:moveTo>
                  <a:cubicBezTo>
                    <a:pt x="261" y="111"/>
                    <a:pt x="261" y="111"/>
                    <a:pt x="261" y="112"/>
                  </a:cubicBezTo>
                  <a:cubicBezTo>
                    <a:pt x="256" y="178"/>
                    <a:pt x="273" y="248"/>
                    <a:pt x="304" y="302"/>
                  </a:cubicBezTo>
                  <a:cubicBezTo>
                    <a:pt x="327" y="252"/>
                    <a:pt x="343" y="179"/>
                    <a:pt x="356" y="108"/>
                  </a:cubicBezTo>
                  <a:cubicBezTo>
                    <a:pt x="323" y="109"/>
                    <a:pt x="292" y="109"/>
                    <a:pt x="261" y="111"/>
                  </a:cubicBezTo>
                  <a:cubicBezTo>
                    <a:pt x="261" y="111"/>
                    <a:pt x="261" y="111"/>
                    <a:pt x="261" y="111"/>
                  </a:cubicBezTo>
                  <a:close/>
                  <a:moveTo>
                    <a:pt x="197" y="214"/>
                  </a:moveTo>
                  <a:cubicBezTo>
                    <a:pt x="190" y="225"/>
                    <a:pt x="184" y="235"/>
                    <a:pt x="178" y="244"/>
                  </a:cubicBezTo>
                  <a:cubicBezTo>
                    <a:pt x="173" y="236"/>
                    <a:pt x="168" y="228"/>
                    <a:pt x="163" y="220"/>
                  </a:cubicBezTo>
                  <a:cubicBezTo>
                    <a:pt x="162" y="234"/>
                    <a:pt x="162" y="248"/>
                    <a:pt x="163" y="261"/>
                  </a:cubicBezTo>
                  <a:cubicBezTo>
                    <a:pt x="144" y="261"/>
                    <a:pt x="126" y="261"/>
                    <a:pt x="109" y="260"/>
                  </a:cubicBezTo>
                  <a:cubicBezTo>
                    <a:pt x="111" y="303"/>
                    <a:pt x="116" y="345"/>
                    <a:pt x="126" y="381"/>
                  </a:cubicBezTo>
                  <a:cubicBezTo>
                    <a:pt x="147" y="380"/>
                    <a:pt x="169" y="379"/>
                    <a:pt x="193" y="377"/>
                  </a:cubicBezTo>
                  <a:cubicBezTo>
                    <a:pt x="193" y="387"/>
                    <a:pt x="196" y="403"/>
                    <a:pt x="201" y="422"/>
                  </a:cubicBezTo>
                  <a:cubicBezTo>
                    <a:pt x="221" y="409"/>
                    <a:pt x="241" y="393"/>
                    <a:pt x="260" y="372"/>
                  </a:cubicBezTo>
                  <a:cubicBezTo>
                    <a:pt x="228" y="329"/>
                    <a:pt x="205" y="274"/>
                    <a:pt x="197" y="2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7344000" y="2533680"/>
              <a:ext cx="1830600" cy="1850400"/>
            </a:xfrm>
            <a:custGeom>
              <a:avLst/>
              <a:gdLst>
                <a:gd name="textAreaLeft" fmla="*/ 0 w 1830600"/>
                <a:gd name="textAreaRight" fmla="*/ 1830960 w 1830600"/>
                <a:gd name="textAreaTop" fmla="*/ 0 h 1850400"/>
                <a:gd name="textAreaBottom" fmla="*/ 1850760 h 1850400"/>
              </a:gdLst>
              <a:ahLst/>
              <a:rect l="textAreaLeft" t="textAreaTop" r="textAreaRight" b="textAreaBottom"/>
              <a:pathLst>
                <a:path w="474" h="478">
                  <a:moveTo>
                    <a:pt x="284" y="0"/>
                  </a:moveTo>
                  <a:cubicBezTo>
                    <a:pt x="305" y="0"/>
                    <a:pt x="326" y="0"/>
                    <a:pt x="346" y="1"/>
                  </a:cubicBezTo>
                  <a:cubicBezTo>
                    <a:pt x="348" y="9"/>
                    <a:pt x="349" y="17"/>
                    <a:pt x="349" y="26"/>
                  </a:cubicBezTo>
                  <a:cubicBezTo>
                    <a:pt x="392" y="29"/>
                    <a:pt x="433" y="33"/>
                    <a:pt x="469" y="37"/>
                  </a:cubicBezTo>
                  <a:cubicBezTo>
                    <a:pt x="469" y="52"/>
                    <a:pt x="470" y="67"/>
                    <a:pt x="470" y="83"/>
                  </a:cubicBezTo>
                  <a:cubicBezTo>
                    <a:pt x="456" y="79"/>
                    <a:pt x="440" y="76"/>
                    <a:pt x="422" y="73"/>
                  </a:cubicBezTo>
                  <a:cubicBezTo>
                    <a:pt x="431" y="88"/>
                    <a:pt x="437" y="102"/>
                    <a:pt x="443" y="117"/>
                  </a:cubicBezTo>
                  <a:cubicBezTo>
                    <a:pt x="430" y="118"/>
                    <a:pt x="417" y="121"/>
                    <a:pt x="401" y="123"/>
                  </a:cubicBezTo>
                  <a:cubicBezTo>
                    <a:pt x="393" y="102"/>
                    <a:pt x="382" y="83"/>
                    <a:pt x="369" y="67"/>
                  </a:cubicBezTo>
                  <a:cubicBezTo>
                    <a:pt x="361" y="66"/>
                    <a:pt x="352" y="65"/>
                    <a:pt x="343" y="64"/>
                  </a:cubicBezTo>
                  <a:cubicBezTo>
                    <a:pt x="339" y="77"/>
                    <a:pt x="333" y="92"/>
                    <a:pt x="325" y="107"/>
                  </a:cubicBezTo>
                  <a:cubicBezTo>
                    <a:pt x="324" y="107"/>
                    <a:pt x="323" y="106"/>
                    <a:pt x="323" y="106"/>
                  </a:cubicBezTo>
                  <a:cubicBezTo>
                    <a:pt x="325" y="113"/>
                    <a:pt x="326" y="120"/>
                    <a:pt x="328" y="128"/>
                  </a:cubicBezTo>
                  <a:cubicBezTo>
                    <a:pt x="394" y="132"/>
                    <a:pt x="445" y="139"/>
                    <a:pt x="471" y="146"/>
                  </a:cubicBezTo>
                  <a:cubicBezTo>
                    <a:pt x="471" y="163"/>
                    <a:pt x="471" y="180"/>
                    <a:pt x="472" y="197"/>
                  </a:cubicBezTo>
                  <a:cubicBezTo>
                    <a:pt x="451" y="193"/>
                    <a:pt x="402" y="190"/>
                    <a:pt x="336" y="187"/>
                  </a:cubicBezTo>
                  <a:cubicBezTo>
                    <a:pt x="337" y="200"/>
                    <a:pt x="337" y="213"/>
                    <a:pt x="337" y="226"/>
                  </a:cubicBezTo>
                  <a:cubicBezTo>
                    <a:pt x="396" y="226"/>
                    <a:pt x="442" y="227"/>
                    <a:pt x="464" y="228"/>
                  </a:cubicBezTo>
                  <a:cubicBezTo>
                    <a:pt x="464" y="254"/>
                    <a:pt x="464" y="281"/>
                    <a:pt x="463" y="307"/>
                  </a:cubicBezTo>
                  <a:cubicBezTo>
                    <a:pt x="462" y="323"/>
                    <a:pt x="459" y="338"/>
                    <a:pt x="453" y="350"/>
                  </a:cubicBezTo>
                  <a:cubicBezTo>
                    <a:pt x="446" y="363"/>
                    <a:pt x="430" y="372"/>
                    <a:pt x="396" y="377"/>
                  </a:cubicBezTo>
                  <a:cubicBezTo>
                    <a:pt x="420" y="393"/>
                    <a:pt x="447" y="400"/>
                    <a:pt x="474" y="401"/>
                  </a:cubicBezTo>
                  <a:cubicBezTo>
                    <a:pt x="467" y="421"/>
                    <a:pt x="458" y="442"/>
                    <a:pt x="443" y="464"/>
                  </a:cubicBezTo>
                  <a:cubicBezTo>
                    <a:pt x="382" y="447"/>
                    <a:pt x="350" y="429"/>
                    <a:pt x="319" y="385"/>
                  </a:cubicBezTo>
                  <a:cubicBezTo>
                    <a:pt x="307" y="425"/>
                    <a:pt x="290" y="459"/>
                    <a:pt x="267" y="478"/>
                  </a:cubicBezTo>
                  <a:cubicBezTo>
                    <a:pt x="246" y="478"/>
                    <a:pt x="225" y="478"/>
                    <a:pt x="204" y="478"/>
                  </a:cubicBezTo>
                  <a:cubicBezTo>
                    <a:pt x="226" y="462"/>
                    <a:pt x="242" y="429"/>
                    <a:pt x="252" y="387"/>
                  </a:cubicBezTo>
                  <a:cubicBezTo>
                    <a:pt x="187" y="440"/>
                    <a:pt x="106" y="466"/>
                    <a:pt x="33" y="474"/>
                  </a:cubicBezTo>
                  <a:cubicBezTo>
                    <a:pt x="26" y="468"/>
                    <a:pt x="15" y="456"/>
                    <a:pt x="0" y="439"/>
                  </a:cubicBezTo>
                  <a:cubicBezTo>
                    <a:pt x="101" y="420"/>
                    <a:pt x="199" y="379"/>
                    <a:pt x="265" y="313"/>
                  </a:cubicBezTo>
                  <a:cubicBezTo>
                    <a:pt x="266" y="305"/>
                    <a:pt x="267" y="297"/>
                    <a:pt x="268" y="288"/>
                  </a:cubicBezTo>
                  <a:cubicBezTo>
                    <a:pt x="228" y="289"/>
                    <a:pt x="185" y="290"/>
                    <a:pt x="141" y="290"/>
                  </a:cubicBezTo>
                  <a:cubicBezTo>
                    <a:pt x="139" y="328"/>
                    <a:pt x="136" y="365"/>
                    <a:pt x="131" y="395"/>
                  </a:cubicBezTo>
                  <a:cubicBezTo>
                    <a:pt x="105" y="396"/>
                    <a:pt x="79" y="396"/>
                    <a:pt x="53" y="397"/>
                  </a:cubicBezTo>
                  <a:cubicBezTo>
                    <a:pt x="57" y="349"/>
                    <a:pt x="58" y="286"/>
                    <a:pt x="58" y="224"/>
                  </a:cubicBezTo>
                  <a:cubicBezTo>
                    <a:pt x="133" y="224"/>
                    <a:pt x="206" y="225"/>
                    <a:pt x="269" y="225"/>
                  </a:cubicBezTo>
                  <a:cubicBezTo>
                    <a:pt x="269" y="212"/>
                    <a:pt x="268" y="198"/>
                    <a:pt x="267" y="185"/>
                  </a:cubicBezTo>
                  <a:cubicBezTo>
                    <a:pt x="192" y="184"/>
                    <a:pt x="104" y="183"/>
                    <a:pt x="15" y="182"/>
                  </a:cubicBezTo>
                  <a:cubicBezTo>
                    <a:pt x="15" y="160"/>
                    <a:pt x="15" y="138"/>
                    <a:pt x="14" y="118"/>
                  </a:cubicBezTo>
                  <a:cubicBezTo>
                    <a:pt x="101" y="119"/>
                    <a:pt x="186" y="121"/>
                    <a:pt x="260" y="124"/>
                  </a:cubicBezTo>
                  <a:cubicBezTo>
                    <a:pt x="259" y="116"/>
                    <a:pt x="257" y="107"/>
                    <a:pt x="255" y="99"/>
                  </a:cubicBezTo>
                  <a:cubicBezTo>
                    <a:pt x="277" y="101"/>
                    <a:pt x="299" y="102"/>
                    <a:pt x="319" y="103"/>
                  </a:cubicBezTo>
                  <a:cubicBezTo>
                    <a:pt x="301" y="94"/>
                    <a:pt x="281" y="84"/>
                    <a:pt x="258" y="74"/>
                  </a:cubicBezTo>
                  <a:cubicBezTo>
                    <a:pt x="262" y="68"/>
                    <a:pt x="265" y="63"/>
                    <a:pt x="268" y="58"/>
                  </a:cubicBezTo>
                  <a:cubicBezTo>
                    <a:pt x="268" y="58"/>
                    <a:pt x="269" y="58"/>
                    <a:pt x="269" y="58"/>
                  </a:cubicBezTo>
                  <a:cubicBezTo>
                    <a:pt x="269" y="58"/>
                    <a:pt x="269" y="57"/>
                    <a:pt x="269" y="57"/>
                  </a:cubicBezTo>
                  <a:cubicBezTo>
                    <a:pt x="273" y="49"/>
                    <a:pt x="277" y="42"/>
                    <a:pt x="281" y="36"/>
                  </a:cubicBezTo>
                  <a:cubicBezTo>
                    <a:pt x="285" y="23"/>
                    <a:pt x="286" y="11"/>
                    <a:pt x="284" y="0"/>
                  </a:cubicBezTo>
                  <a:close/>
                  <a:moveTo>
                    <a:pt x="336" y="286"/>
                  </a:moveTo>
                  <a:cubicBezTo>
                    <a:pt x="335" y="295"/>
                    <a:pt x="334" y="304"/>
                    <a:pt x="333" y="312"/>
                  </a:cubicBezTo>
                  <a:cubicBezTo>
                    <a:pt x="349" y="334"/>
                    <a:pt x="363" y="351"/>
                    <a:pt x="378" y="364"/>
                  </a:cubicBezTo>
                  <a:cubicBezTo>
                    <a:pt x="380" y="351"/>
                    <a:pt x="380" y="337"/>
                    <a:pt x="379" y="322"/>
                  </a:cubicBezTo>
                  <a:cubicBezTo>
                    <a:pt x="392" y="324"/>
                    <a:pt x="404" y="324"/>
                    <a:pt x="414" y="323"/>
                  </a:cubicBezTo>
                  <a:cubicBezTo>
                    <a:pt x="423" y="322"/>
                    <a:pt x="428" y="315"/>
                    <a:pt x="429" y="303"/>
                  </a:cubicBezTo>
                  <a:cubicBezTo>
                    <a:pt x="430" y="296"/>
                    <a:pt x="430" y="289"/>
                    <a:pt x="431" y="282"/>
                  </a:cubicBezTo>
                  <a:cubicBezTo>
                    <a:pt x="406" y="284"/>
                    <a:pt x="374" y="285"/>
                    <a:pt x="336" y="286"/>
                  </a:cubicBezTo>
                  <a:cubicBezTo>
                    <a:pt x="336" y="286"/>
                    <a:pt x="336" y="286"/>
                    <a:pt x="336" y="2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7326000" y="2529000"/>
              <a:ext cx="1055880" cy="438840"/>
            </a:xfrm>
            <a:custGeom>
              <a:avLst/>
              <a:gdLst>
                <a:gd name="textAreaLeft" fmla="*/ 0 w 1055880"/>
                <a:gd name="textAreaRight" fmla="*/ 1056240 w 105588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274" h="113">
                  <a:moveTo>
                    <a:pt x="81" y="0"/>
                  </a:moveTo>
                  <a:cubicBezTo>
                    <a:pt x="104" y="0"/>
                    <a:pt x="128" y="0"/>
                    <a:pt x="151" y="0"/>
                  </a:cubicBezTo>
                  <a:cubicBezTo>
                    <a:pt x="149" y="5"/>
                    <a:pt x="146" y="10"/>
                    <a:pt x="142" y="17"/>
                  </a:cubicBezTo>
                  <a:cubicBezTo>
                    <a:pt x="180" y="18"/>
                    <a:pt x="218" y="19"/>
                    <a:pt x="255" y="21"/>
                  </a:cubicBezTo>
                  <a:cubicBezTo>
                    <a:pt x="262" y="31"/>
                    <a:pt x="268" y="43"/>
                    <a:pt x="274" y="56"/>
                  </a:cubicBezTo>
                  <a:cubicBezTo>
                    <a:pt x="274" y="57"/>
                    <a:pt x="274" y="57"/>
                    <a:pt x="273" y="57"/>
                  </a:cubicBezTo>
                  <a:cubicBezTo>
                    <a:pt x="249" y="56"/>
                    <a:pt x="224" y="54"/>
                    <a:pt x="199" y="53"/>
                  </a:cubicBezTo>
                  <a:cubicBezTo>
                    <a:pt x="211" y="66"/>
                    <a:pt x="223" y="81"/>
                    <a:pt x="235" y="99"/>
                  </a:cubicBezTo>
                  <a:cubicBezTo>
                    <a:pt x="212" y="102"/>
                    <a:pt x="187" y="106"/>
                    <a:pt x="162" y="110"/>
                  </a:cubicBezTo>
                  <a:cubicBezTo>
                    <a:pt x="151" y="87"/>
                    <a:pt x="139" y="67"/>
                    <a:pt x="126" y="51"/>
                  </a:cubicBezTo>
                  <a:cubicBezTo>
                    <a:pt x="122" y="51"/>
                    <a:pt x="118" y="50"/>
                    <a:pt x="114" y="50"/>
                  </a:cubicBezTo>
                  <a:cubicBezTo>
                    <a:pt x="94" y="71"/>
                    <a:pt x="68" y="93"/>
                    <a:pt x="37" y="113"/>
                  </a:cubicBezTo>
                  <a:cubicBezTo>
                    <a:pt x="29" y="94"/>
                    <a:pt x="17" y="73"/>
                    <a:pt x="0" y="53"/>
                  </a:cubicBezTo>
                  <a:cubicBezTo>
                    <a:pt x="40" y="34"/>
                    <a:pt x="68" y="11"/>
                    <a:pt x="8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116"/>
          <p:cNvGrpSpPr/>
          <p:nvPr/>
        </p:nvGrpSpPr>
        <p:grpSpPr>
          <a:xfrm>
            <a:off x="1782720" y="4038480"/>
            <a:ext cx="969840" cy="648000"/>
            <a:chOff x="1782720" y="4038480"/>
            <a:chExt cx="969840" cy="648000"/>
          </a:xfrm>
        </p:grpSpPr>
        <p:sp>
          <p:nvSpPr>
            <p:cNvPr id="55" name="AutoShape 18"/>
            <p:cNvSpPr/>
            <p:nvPr/>
          </p:nvSpPr>
          <p:spPr>
            <a:xfrm>
              <a:off x="1784160" y="4038480"/>
              <a:ext cx="9684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0"/>
            <p:cNvSpPr/>
            <p:nvPr/>
          </p:nvSpPr>
          <p:spPr>
            <a:xfrm>
              <a:off x="1971360" y="4038480"/>
              <a:ext cx="779400" cy="513000"/>
            </a:xfrm>
            <a:custGeom>
              <a:avLst/>
              <a:gdLst>
                <a:gd name="textAreaLeft" fmla="*/ 0 w 779400"/>
                <a:gd name="textAreaRight" fmla="*/ 779760 w 77940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491" h="323">
                  <a:moveTo>
                    <a:pt x="0" y="323"/>
                  </a:moveTo>
                  <a:lnTo>
                    <a:pt x="102" y="277"/>
                  </a:lnTo>
                  <a:lnTo>
                    <a:pt x="491" y="0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0e3a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1"/>
            <p:cNvSpPr/>
            <p:nvPr/>
          </p:nvSpPr>
          <p:spPr>
            <a:xfrm>
              <a:off x="1971360" y="4038480"/>
              <a:ext cx="779400" cy="513000"/>
            </a:xfrm>
            <a:custGeom>
              <a:avLst/>
              <a:gdLst>
                <a:gd name="textAreaLeft" fmla="*/ 0 w 779400"/>
                <a:gd name="textAreaRight" fmla="*/ 779760 w 77940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491" h="323">
                  <a:moveTo>
                    <a:pt x="17" y="178"/>
                  </a:moveTo>
                  <a:lnTo>
                    <a:pt x="0" y="323"/>
                  </a:lnTo>
                  <a:lnTo>
                    <a:pt x="491" y="0"/>
                  </a:lnTo>
                  <a:lnTo>
                    <a:pt x="17" y="178"/>
                  </a:lnTo>
                  <a:close/>
                </a:path>
              </a:pathLst>
            </a:custGeom>
            <a:solidFill>
              <a:srgbClr val="228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2"/>
            <p:cNvSpPr/>
            <p:nvPr/>
          </p:nvSpPr>
          <p:spPr>
            <a:xfrm>
              <a:off x="1782720" y="4038480"/>
              <a:ext cx="968400" cy="6480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610" h="408">
                  <a:moveTo>
                    <a:pt x="0" y="74"/>
                  </a:moveTo>
                  <a:lnTo>
                    <a:pt x="134" y="197"/>
                  </a:lnTo>
                  <a:lnTo>
                    <a:pt x="610" y="0"/>
                  </a:lnTo>
                  <a:lnTo>
                    <a:pt x="221" y="277"/>
                  </a:lnTo>
                  <a:lnTo>
                    <a:pt x="365" y="408"/>
                  </a:lnTo>
                  <a:lnTo>
                    <a:pt x="61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文本框 1025"/>
          <p:cNvSpPr/>
          <p:nvPr/>
        </p:nvSpPr>
        <p:spPr>
          <a:xfrm>
            <a:off x="2673360" y="1962000"/>
            <a:ext cx="197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46"/>
          <p:cNvSpPr/>
          <p:nvPr/>
        </p:nvSpPr>
        <p:spPr>
          <a:xfrm>
            <a:off x="3124080" y="3924360"/>
            <a:ext cx="135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4261320" y="3618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创业计划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c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82"/>
          <p:cNvGrpSpPr/>
          <p:nvPr/>
        </p:nvGrpSpPr>
        <p:grpSpPr>
          <a:xfrm>
            <a:off x="-3684600" y="4235400"/>
            <a:ext cx="2311920" cy="1143000"/>
            <a:chOff x="-3684600" y="4235400"/>
            <a:chExt cx="2311920" cy="1143000"/>
          </a:xfrm>
        </p:grpSpPr>
        <p:sp>
          <p:nvSpPr>
            <p:cNvPr id="279" name="任意多边形 79"/>
            <p:cNvSpPr/>
            <p:nvPr/>
          </p:nvSpPr>
          <p:spPr>
            <a:xfrm>
              <a:off x="-3684600" y="4235400"/>
              <a:ext cx="1142640" cy="1143000"/>
            </a:xfrm>
            <a:custGeom>
              <a:avLst/>
              <a:gdLst>
                <a:gd name="textAreaLeft" fmla="*/ 0 w 1142640"/>
                <a:gd name="textAreaRight" fmla="*/ 1143000 w 1142640"/>
                <a:gd name="textAreaTop" fmla="*/ 0 h 1143000"/>
                <a:gd name="textAreaBottom" fmla="*/ 1143000 h 1143000"/>
              </a:gdLst>
              <a:ahLst/>
              <a:rect l="textAreaLeft" t="textAreaTop" r="textAreaRight" b="textAreaBottom"/>
              <a:pathLst>
                <a:path w="669727" h="669057">
                  <a:moveTo>
                    <a:pt x="407194" y="0"/>
                  </a:moveTo>
                  <a:lnTo>
                    <a:pt x="498946" y="24110"/>
                  </a:lnTo>
                  <a:cubicBezTo>
                    <a:pt x="489347" y="51792"/>
                    <a:pt x="479524" y="78135"/>
                    <a:pt x="469478" y="103138"/>
                  </a:cubicBezTo>
                  <a:lnTo>
                    <a:pt x="667047" y="103138"/>
                  </a:lnTo>
                  <a:lnTo>
                    <a:pt x="667047" y="192212"/>
                  </a:lnTo>
                  <a:lnTo>
                    <a:pt x="622511" y="192212"/>
                  </a:lnTo>
                  <a:cubicBezTo>
                    <a:pt x="613581" y="314325"/>
                    <a:pt x="588019" y="411324"/>
                    <a:pt x="545827" y="483208"/>
                  </a:cubicBezTo>
                  <a:cubicBezTo>
                    <a:pt x="579983" y="520489"/>
                    <a:pt x="621283" y="550739"/>
                    <a:pt x="669727" y="573956"/>
                  </a:cubicBezTo>
                  <a:cubicBezTo>
                    <a:pt x="650974" y="599405"/>
                    <a:pt x="631552" y="629097"/>
                    <a:pt x="611460" y="663030"/>
                  </a:cubicBezTo>
                  <a:cubicBezTo>
                    <a:pt x="562570" y="633785"/>
                    <a:pt x="520489" y="599071"/>
                    <a:pt x="485217" y="558887"/>
                  </a:cubicBezTo>
                  <a:cubicBezTo>
                    <a:pt x="442131" y="601526"/>
                    <a:pt x="393353" y="638250"/>
                    <a:pt x="338882" y="669057"/>
                  </a:cubicBezTo>
                  <a:cubicBezTo>
                    <a:pt x="322585" y="638473"/>
                    <a:pt x="305060" y="611014"/>
                    <a:pt x="286308" y="586681"/>
                  </a:cubicBezTo>
                  <a:lnTo>
                    <a:pt x="10716" y="628873"/>
                  </a:lnTo>
                  <a:lnTo>
                    <a:pt x="0" y="534442"/>
                  </a:lnTo>
                  <a:lnTo>
                    <a:pt x="35496" y="530424"/>
                  </a:lnTo>
                  <a:lnTo>
                    <a:pt x="35496" y="226368"/>
                  </a:lnTo>
                  <a:lnTo>
                    <a:pt x="117202" y="226368"/>
                  </a:lnTo>
                  <a:lnTo>
                    <a:pt x="117202" y="520043"/>
                  </a:lnTo>
                  <a:lnTo>
                    <a:pt x="164753" y="514015"/>
                  </a:lnTo>
                  <a:lnTo>
                    <a:pt x="164753" y="136624"/>
                  </a:lnTo>
                  <a:lnTo>
                    <a:pt x="14064" y="136624"/>
                  </a:lnTo>
                  <a:lnTo>
                    <a:pt x="14064" y="51569"/>
                  </a:lnTo>
                  <a:lnTo>
                    <a:pt x="342230" y="51569"/>
                  </a:lnTo>
                  <a:lnTo>
                    <a:pt x="342230" y="136624"/>
                  </a:lnTo>
                  <a:lnTo>
                    <a:pt x="248469" y="136624"/>
                  </a:lnTo>
                  <a:lnTo>
                    <a:pt x="248469" y="273249"/>
                  </a:lnTo>
                  <a:lnTo>
                    <a:pt x="291666" y="273249"/>
                  </a:lnTo>
                  <a:cubicBezTo>
                    <a:pt x="339440" y="204490"/>
                    <a:pt x="377949" y="113407"/>
                    <a:pt x="407194" y="0"/>
                  </a:cubicBezTo>
                  <a:close/>
                  <a:moveTo>
                    <a:pt x="430634" y="192212"/>
                  </a:moveTo>
                  <a:cubicBezTo>
                    <a:pt x="430634" y="192658"/>
                    <a:pt x="430523" y="192993"/>
                    <a:pt x="430299" y="193216"/>
                  </a:cubicBezTo>
                  <a:cubicBezTo>
                    <a:pt x="438336" y="272914"/>
                    <a:pt x="457535" y="341784"/>
                    <a:pt x="487896" y="399827"/>
                  </a:cubicBezTo>
                  <a:cubicBezTo>
                    <a:pt x="515801" y="344686"/>
                    <a:pt x="532321" y="275481"/>
                    <a:pt x="537455" y="192212"/>
                  </a:cubicBezTo>
                  <a:lnTo>
                    <a:pt x="430634" y="192212"/>
                  </a:lnTo>
                  <a:close/>
                  <a:moveTo>
                    <a:pt x="366340" y="306400"/>
                  </a:moveTo>
                  <a:cubicBezTo>
                    <a:pt x="358527" y="317785"/>
                    <a:pt x="350713" y="328613"/>
                    <a:pt x="342900" y="338882"/>
                  </a:cubicBezTo>
                  <a:cubicBezTo>
                    <a:pt x="336872" y="330175"/>
                    <a:pt x="330398" y="321581"/>
                    <a:pt x="323478" y="313097"/>
                  </a:cubicBezTo>
                  <a:lnTo>
                    <a:pt x="323478" y="357634"/>
                  </a:lnTo>
                  <a:lnTo>
                    <a:pt x="248469" y="357634"/>
                  </a:lnTo>
                  <a:lnTo>
                    <a:pt x="248469" y="503300"/>
                  </a:lnTo>
                  <a:lnTo>
                    <a:pt x="342900" y="490910"/>
                  </a:lnTo>
                  <a:cubicBezTo>
                    <a:pt x="340891" y="503635"/>
                    <a:pt x="338547" y="524173"/>
                    <a:pt x="335868" y="552525"/>
                  </a:cubicBezTo>
                  <a:cubicBezTo>
                    <a:pt x="370247" y="530870"/>
                    <a:pt x="401278" y="506648"/>
                    <a:pt x="428960" y="479859"/>
                  </a:cubicBezTo>
                  <a:cubicBezTo>
                    <a:pt x="399938" y="428737"/>
                    <a:pt x="379065" y="370917"/>
                    <a:pt x="366340" y="3064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任意多边形 78"/>
            <p:cNvSpPr/>
            <p:nvPr/>
          </p:nvSpPr>
          <p:spPr>
            <a:xfrm>
              <a:off x="-2509560" y="4239720"/>
              <a:ext cx="1136880" cy="1135080"/>
            </a:xfrm>
            <a:custGeom>
              <a:avLst/>
              <a:gdLst>
                <a:gd name="textAreaLeft" fmla="*/ 0 w 1136880"/>
                <a:gd name="textAreaRight" fmla="*/ 1137240 w 113688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666378" h="664369">
                  <a:moveTo>
                    <a:pt x="397148" y="0"/>
                  </a:moveTo>
                  <a:lnTo>
                    <a:pt x="484882" y="0"/>
                  </a:lnTo>
                  <a:cubicBezTo>
                    <a:pt x="478631" y="16743"/>
                    <a:pt x="471487" y="33263"/>
                    <a:pt x="463450" y="49560"/>
                  </a:cubicBezTo>
                  <a:lnTo>
                    <a:pt x="657002" y="49560"/>
                  </a:lnTo>
                  <a:lnTo>
                    <a:pt x="657002" y="113854"/>
                  </a:lnTo>
                  <a:lnTo>
                    <a:pt x="555872" y="113854"/>
                  </a:lnTo>
                  <a:cubicBezTo>
                    <a:pt x="565696" y="133276"/>
                    <a:pt x="574402" y="152251"/>
                    <a:pt x="581992" y="170780"/>
                  </a:cubicBezTo>
                  <a:lnTo>
                    <a:pt x="495598" y="188193"/>
                  </a:lnTo>
                  <a:cubicBezTo>
                    <a:pt x="487338" y="161627"/>
                    <a:pt x="477738" y="136848"/>
                    <a:pt x="466799" y="113854"/>
                  </a:cubicBezTo>
                  <a:lnTo>
                    <a:pt x="426616" y="113854"/>
                  </a:lnTo>
                  <a:cubicBezTo>
                    <a:pt x="412774" y="135062"/>
                    <a:pt x="397148" y="156046"/>
                    <a:pt x="379734" y="176808"/>
                  </a:cubicBezTo>
                  <a:lnTo>
                    <a:pt x="377056" y="175468"/>
                  </a:lnTo>
                  <a:lnTo>
                    <a:pt x="377056" y="202927"/>
                  </a:lnTo>
                  <a:lnTo>
                    <a:pt x="654322" y="202927"/>
                  </a:lnTo>
                  <a:lnTo>
                    <a:pt x="654322" y="272579"/>
                  </a:lnTo>
                  <a:lnTo>
                    <a:pt x="377056" y="272579"/>
                  </a:lnTo>
                  <a:lnTo>
                    <a:pt x="377056" y="315441"/>
                  </a:lnTo>
                  <a:lnTo>
                    <a:pt x="623515" y="315441"/>
                  </a:lnTo>
                  <a:lnTo>
                    <a:pt x="623515" y="421928"/>
                  </a:lnTo>
                  <a:cubicBezTo>
                    <a:pt x="623515" y="443582"/>
                    <a:pt x="616874" y="462390"/>
                    <a:pt x="603590" y="478352"/>
                  </a:cubicBezTo>
                  <a:cubicBezTo>
                    <a:pt x="590308" y="494314"/>
                    <a:pt x="554310" y="502295"/>
                    <a:pt x="495598" y="502295"/>
                  </a:cubicBezTo>
                  <a:cubicBezTo>
                    <a:pt x="546274" y="529084"/>
                    <a:pt x="603200" y="547390"/>
                    <a:pt x="666378" y="557213"/>
                  </a:cubicBezTo>
                  <a:cubicBezTo>
                    <a:pt x="650750" y="582216"/>
                    <a:pt x="635124" y="610791"/>
                    <a:pt x="619496" y="642938"/>
                  </a:cubicBezTo>
                  <a:cubicBezTo>
                    <a:pt x="519484" y="612353"/>
                    <a:pt x="438670" y="565473"/>
                    <a:pt x="377056" y="502295"/>
                  </a:cubicBezTo>
                  <a:lnTo>
                    <a:pt x="377056" y="664369"/>
                  </a:lnTo>
                  <a:lnTo>
                    <a:pt x="288652" y="664369"/>
                  </a:lnTo>
                  <a:lnTo>
                    <a:pt x="288652" y="499951"/>
                  </a:lnTo>
                  <a:cubicBezTo>
                    <a:pt x="223242" y="564021"/>
                    <a:pt x="142428" y="613246"/>
                    <a:pt x="46211" y="647626"/>
                  </a:cubicBezTo>
                  <a:cubicBezTo>
                    <a:pt x="33709" y="622176"/>
                    <a:pt x="18306" y="594717"/>
                    <a:pt x="0" y="565249"/>
                  </a:cubicBezTo>
                  <a:cubicBezTo>
                    <a:pt x="118988" y="532656"/>
                    <a:pt x="215205" y="481310"/>
                    <a:pt x="288652" y="411212"/>
                  </a:cubicBezTo>
                  <a:lnTo>
                    <a:pt x="288652" y="383753"/>
                  </a:lnTo>
                  <a:lnTo>
                    <a:pt x="144660" y="383753"/>
                  </a:lnTo>
                  <a:lnTo>
                    <a:pt x="144660" y="503634"/>
                  </a:lnTo>
                  <a:lnTo>
                    <a:pt x="57596" y="503634"/>
                  </a:lnTo>
                  <a:lnTo>
                    <a:pt x="57596" y="315441"/>
                  </a:lnTo>
                  <a:lnTo>
                    <a:pt x="288652" y="315441"/>
                  </a:lnTo>
                  <a:lnTo>
                    <a:pt x="288652" y="272579"/>
                  </a:lnTo>
                  <a:lnTo>
                    <a:pt x="14064" y="272579"/>
                  </a:lnTo>
                  <a:lnTo>
                    <a:pt x="14064" y="202927"/>
                  </a:lnTo>
                  <a:lnTo>
                    <a:pt x="288652" y="202927"/>
                  </a:lnTo>
                  <a:lnTo>
                    <a:pt x="288652" y="172790"/>
                  </a:lnTo>
                  <a:lnTo>
                    <a:pt x="372033" y="172790"/>
                  </a:lnTo>
                  <a:cubicBezTo>
                    <a:pt x="350378" y="161627"/>
                    <a:pt x="326826" y="150242"/>
                    <a:pt x="301376" y="138633"/>
                  </a:cubicBezTo>
                  <a:lnTo>
                    <a:pt x="322323" y="113854"/>
                  </a:lnTo>
                  <a:lnTo>
                    <a:pt x="323478" y="113854"/>
                  </a:lnTo>
                  <a:lnTo>
                    <a:pt x="323478" y="112488"/>
                  </a:lnTo>
                  <a:lnTo>
                    <a:pt x="354452" y="75847"/>
                  </a:lnTo>
                  <a:cubicBezTo>
                    <a:pt x="370414" y="52741"/>
                    <a:pt x="384646" y="27459"/>
                    <a:pt x="397148" y="0"/>
                  </a:cubicBezTo>
                  <a:close/>
                  <a:moveTo>
                    <a:pt x="377056" y="383753"/>
                  </a:moveTo>
                  <a:lnTo>
                    <a:pt x="377056" y="413221"/>
                  </a:lnTo>
                  <a:cubicBezTo>
                    <a:pt x="402282" y="439117"/>
                    <a:pt x="429741" y="461777"/>
                    <a:pt x="459432" y="481199"/>
                  </a:cubicBezTo>
                  <a:cubicBezTo>
                    <a:pt x="456976" y="464232"/>
                    <a:pt x="453182" y="446484"/>
                    <a:pt x="448046" y="427955"/>
                  </a:cubicBezTo>
                  <a:cubicBezTo>
                    <a:pt x="469924" y="431527"/>
                    <a:pt x="490686" y="433313"/>
                    <a:pt x="510332" y="433313"/>
                  </a:cubicBezTo>
                  <a:cubicBezTo>
                    <a:pt x="527744" y="433313"/>
                    <a:pt x="536450" y="425500"/>
                    <a:pt x="536450" y="409873"/>
                  </a:cubicBezTo>
                  <a:lnTo>
                    <a:pt x="536450" y="383753"/>
                  </a:lnTo>
                  <a:lnTo>
                    <a:pt x="377056" y="3837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77"/>
            <p:cNvSpPr/>
            <p:nvPr/>
          </p:nvSpPr>
          <p:spPr>
            <a:xfrm>
              <a:off x="-2513160" y="4240800"/>
              <a:ext cx="555120" cy="339840"/>
            </a:xfrm>
            <a:custGeom>
              <a:avLst/>
              <a:gdLst>
                <a:gd name="textAreaLeft" fmla="*/ 0 w 555120"/>
                <a:gd name="textAreaRight" fmla="*/ 555480 w 55512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325488" h="198909">
                  <a:moveTo>
                    <a:pt x="111845" y="0"/>
                  </a:moveTo>
                  <a:lnTo>
                    <a:pt x="206946" y="0"/>
                  </a:lnTo>
                  <a:cubicBezTo>
                    <a:pt x="197570" y="17189"/>
                    <a:pt x="187859" y="33486"/>
                    <a:pt x="177813" y="48890"/>
                  </a:cubicBezTo>
                  <a:lnTo>
                    <a:pt x="325488" y="48890"/>
                  </a:lnTo>
                  <a:lnTo>
                    <a:pt x="325488" y="111818"/>
                  </a:lnTo>
                  <a:lnTo>
                    <a:pt x="324333" y="113184"/>
                  </a:lnTo>
                  <a:lnTo>
                    <a:pt x="230386" y="113184"/>
                  </a:lnTo>
                  <a:cubicBezTo>
                    <a:pt x="239986" y="132382"/>
                    <a:pt x="249586" y="153144"/>
                    <a:pt x="259184" y="175468"/>
                  </a:cubicBezTo>
                  <a:lnTo>
                    <a:pt x="172790" y="192881"/>
                  </a:lnTo>
                  <a:cubicBezTo>
                    <a:pt x="164084" y="165645"/>
                    <a:pt x="154372" y="139080"/>
                    <a:pt x="143657" y="113184"/>
                  </a:cubicBezTo>
                  <a:lnTo>
                    <a:pt x="129928" y="113184"/>
                  </a:lnTo>
                  <a:cubicBezTo>
                    <a:pt x="101799" y="146223"/>
                    <a:pt x="71214" y="174798"/>
                    <a:pt x="38175" y="198909"/>
                  </a:cubicBezTo>
                  <a:cubicBezTo>
                    <a:pt x="30584" y="176138"/>
                    <a:pt x="17860" y="149572"/>
                    <a:pt x="0" y="119211"/>
                  </a:cubicBezTo>
                  <a:cubicBezTo>
                    <a:pt x="44649" y="90190"/>
                    <a:pt x="81930" y="50453"/>
                    <a:pt x="1118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任意多边形 49"/>
            <p:cNvSpPr/>
            <p:nvPr/>
          </p:nvSpPr>
          <p:spPr>
            <a:xfrm>
              <a:off x="-1959480" y="4431960"/>
              <a:ext cx="1800" cy="2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155" h="1366">
                  <a:moveTo>
                    <a:pt x="1155" y="0"/>
                  </a:moveTo>
                  <a:lnTo>
                    <a:pt x="1155" y="1366"/>
                  </a:lnTo>
                  <a:lnTo>
                    <a:pt x="0" y="1366"/>
                  </a:lnTo>
                  <a:lnTo>
                    <a:pt x="1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任意多边形 91"/>
          <p:cNvSpPr/>
          <p:nvPr/>
        </p:nvSpPr>
        <p:spPr>
          <a:xfrm>
            <a:off x="-5972040" y="3429000"/>
            <a:ext cx="5495760" cy="669960"/>
          </a:xfrm>
          <a:custGeom>
            <a:avLst/>
            <a:gdLst>
              <a:gd name="textAreaLeft" fmla="*/ 0 w 5495760"/>
              <a:gd name="textAreaRight" fmla="*/ 5496120 w 549576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5495322" h="670396">
                <a:moveTo>
                  <a:pt x="5495322" y="531637"/>
                </a:moveTo>
                <a:lnTo>
                  <a:pt x="5495322" y="627192"/>
                </a:lnTo>
                <a:lnTo>
                  <a:pt x="5493097" y="627533"/>
                </a:lnTo>
                <a:lnTo>
                  <a:pt x="5482381" y="533102"/>
                </a:lnTo>
                <a:lnTo>
                  <a:pt x="5495322" y="531637"/>
                </a:lnTo>
                <a:close/>
                <a:moveTo>
                  <a:pt x="3632596" y="490909"/>
                </a:moveTo>
                <a:lnTo>
                  <a:pt x="3632596" y="582997"/>
                </a:lnTo>
                <a:cubicBezTo>
                  <a:pt x="3648670" y="583666"/>
                  <a:pt x="3659051" y="581546"/>
                  <a:pt x="3663739" y="576634"/>
                </a:cubicBezTo>
                <a:cubicBezTo>
                  <a:pt x="3668427" y="571723"/>
                  <a:pt x="3670771" y="562123"/>
                  <a:pt x="3670771" y="547836"/>
                </a:cubicBezTo>
                <a:lnTo>
                  <a:pt x="3670771" y="490909"/>
                </a:lnTo>
                <a:lnTo>
                  <a:pt x="3632596" y="490909"/>
                </a:lnTo>
                <a:close/>
                <a:moveTo>
                  <a:pt x="2302854" y="458762"/>
                </a:moveTo>
                <a:cubicBezTo>
                  <a:pt x="2294595" y="469924"/>
                  <a:pt x="2286446" y="480417"/>
                  <a:pt x="2278409" y="490239"/>
                </a:cubicBezTo>
                <a:cubicBezTo>
                  <a:pt x="2314798" y="496714"/>
                  <a:pt x="2360451" y="506201"/>
                  <a:pt x="2415368" y="518703"/>
                </a:cubicBezTo>
                <a:cubicBezTo>
                  <a:pt x="2445729" y="501736"/>
                  <a:pt x="2470732" y="481756"/>
                  <a:pt x="2490378" y="458762"/>
                </a:cubicBezTo>
                <a:lnTo>
                  <a:pt x="2302854" y="458762"/>
                </a:lnTo>
                <a:close/>
                <a:moveTo>
                  <a:pt x="3632596" y="365001"/>
                </a:moveTo>
                <a:lnTo>
                  <a:pt x="3632596" y="427955"/>
                </a:lnTo>
                <a:lnTo>
                  <a:pt x="3670771" y="427955"/>
                </a:lnTo>
                <a:lnTo>
                  <a:pt x="3670771" y="365001"/>
                </a:lnTo>
                <a:lnTo>
                  <a:pt x="3632596" y="365001"/>
                </a:lnTo>
                <a:close/>
                <a:moveTo>
                  <a:pt x="3533477" y="365001"/>
                </a:moveTo>
                <a:cubicBezTo>
                  <a:pt x="3533477" y="368126"/>
                  <a:pt x="3533142" y="389111"/>
                  <a:pt x="3532472" y="427955"/>
                </a:cubicBezTo>
                <a:lnTo>
                  <a:pt x="3568303" y="427955"/>
                </a:lnTo>
                <a:lnTo>
                  <a:pt x="3568303" y="365001"/>
                </a:lnTo>
                <a:lnTo>
                  <a:pt x="3533477" y="365001"/>
                </a:lnTo>
                <a:close/>
                <a:moveTo>
                  <a:pt x="3632596" y="238422"/>
                </a:moveTo>
                <a:lnTo>
                  <a:pt x="3632596" y="302046"/>
                </a:lnTo>
                <a:lnTo>
                  <a:pt x="3670771" y="302046"/>
                </a:lnTo>
                <a:lnTo>
                  <a:pt x="3670771" y="238422"/>
                </a:lnTo>
                <a:lnTo>
                  <a:pt x="3632596" y="238422"/>
                </a:lnTo>
                <a:close/>
                <a:moveTo>
                  <a:pt x="3533477" y="238422"/>
                </a:moveTo>
                <a:lnTo>
                  <a:pt x="3533477" y="302046"/>
                </a:lnTo>
                <a:lnTo>
                  <a:pt x="3568303" y="302046"/>
                </a:lnTo>
                <a:lnTo>
                  <a:pt x="3568303" y="238422"/>
                </a:lnTo>
                <a:lnTo>
                  <a:pt x="3533477" y="238422"/>
                </a:lnTo>
                <a:close/>
                <a:moveTo>
                  <a:pt x="2513483" y="214982"/>
                </a:moveTo>
                <a:lnTo>
                  <a:pt x="2513483" y="275257"/>
                </a:lnTo>
                <a:lnTo>
                  <a:pt x="2602557" y="275257"/>
                </a:lnTo>
                <a:lnTo>
                  <a:pt x="2602557" y="214982"/>
                </a:lnTo>
                <a:lnTo>
                  <a:pt x="2513483" y="214982"/>
                </a:lnTo>
                <a:close/>
                <a:moveTo>
                  <a:pt x="2344043" y="214982"/>
                </a:moveTo>
                <a:lnTo>
                  <a:pt x="2344043" y="275257"/>
                </a:lnTo>
                <a:lnTo>
                  <a:pt x="2433116" y="275257"/>
                </a:lnTo>
                <a:lnTo>
                  <a:pt x="2433116" y="214982"/>
                </a:lnTo>
                <a:lnTo>
                  <a:pt x="2344043" y="214982"/>
                </a:lnTo>
                <a:close/>
                <a:moveTo>
                  <a:pt x="2174602" y="214982"/>
                </a:moveTo>
                <a:lnTo>
                  <a:pt x="2174602" y="275257"/>
                </a:lnTo>
                <a:lnTo>
                  <a:pt x="2263675" y="275257"/>
                </a:lnTo>
                <a:lnTo>
                  <a:pt x="2263675" y="214982"/>
                </a:lnTo>
                <a:lnTo>
                  <a:pt x="2174602" y="214982"/>
                </a:lnTo>
                <a:close/>
                <a:moveTo>
                  <a:pt x="1838399" y="121890"/>
                </a:moveTo>
                <a:lnTo>
                  <a:pt x="1937519" y="187523"/>
                </a:lnTo>
                <a:cubicBezTo>
                  <a:pt x="1825005" y="313878"/>
                  <a:pt x="1707579" y="431973"/>
                  <a:pt x="1585243" y="541808"/>
                </a:cubicBezTo>
                <a:lnTo>
                  <a:pt x="1860835" y="526070"/>
                </a:lnTo>
                <a:cubicBezTo>
                  <a:pt x="1834492" y="486110"/>
                  <a:pt x="1807815" y="447600"/>
                  <a:pt x="1780803" y="410542"/>
                </a:cubicBezTo>
                <a:lnTo>
                  <a:pt x="1858491" y="359643"/>
                </a:lnTo>
                <a:cubicBezTo>
                  <a:pt x="1924124" y="440010"/>
                  <a:pt x="1985069" y="523056"/>
                  <a:pt x="2041326" y="608781"/>
                </a:cubicBezTo>
                <a:lnTo>
                  <a:pt x="1947564" y="665708"/>
                </a:lnTo>
                <a:lnTo>
                  <a:pt x="1916087" y="613134"/>
                </a:lnTo>
                <a:lnTo>
                  <a:pt x="1583233" y="633226"/>
                </a:lnTo>
                <a:cubicBezTo>
                  <a:pt x="1536352" y="635682"/>
                  <a:pt x="1493936" y="641821"/>
                  <a:pt x="1455985" y="651644"/>
                </a:cubicBezTo>
                <a:lnTo>
                  <a:pt x="1409774" y="553864"/>
                </a:lnTo>
                <a:cubicBezTo>
                  <a:pt x="1514028" y="499392"/>
                  <a:pt x="1656903" y="355401"/>
                  <a:pt x="1838399" y="121890"/>
                </a:cubicBezTo>
                <a:close/>
                <a:moveTo>
                  <a:pt x="3560936" y="115862"/>
                </a:moveTo>
                <a:cubicBezTo>
                  <a:pt x="3548657" y="135954"/>
                  <a:pt x="3535263" y="155376"/>
                  <a:pt x="3520752" y="174129"/>
                </a:cubicBezTo>
                <a:lnTo>
                  <a:pt x="3599445" y="174129"/>
                </a:lnTo>
                <a:lnTo>
                  <a:pt x="3631927" y="115862"/>
                </a:lnTo>
                <a:lnTo>
                  <a:pt x="3560936" y="115862"/>
                </a:lnTo>
                <a:close/>
                <a:moveTo>
                  <a:pt x="3908524" y="101128"/>
                </a:moveTo>
                <a:cubicBezTo>
                  <a:pt x="3905845" y="129480"/>
                  <a:pt x="3900375" y="154148"/>
                  <a:pt x="3892115" y="175133"/>
                </a:cubicBezTo>
                <a:cubicBezTo>
                  <a:pt x="3914440" y="176249"/>
                  <a:pt x="3931071" y="176807"/>
                  <a:pt x="3942010" y="176807"/>
                </a:cubicBezTo>
                <a:cubicBezTo>
                  <a:pt x="3958307" y="176807"/>
                  <a:pt x="3969190" y="172789"/>
                  <a:pt x="3974659" y="164752"/>
                </a:cubicBezTo>
                <a:cubicBezTo>
                  <a:pt x="3980129" y="156716"/>
                  <a:pt x="3982863" y="135508"/>
                  <a:pt x="3982863" y="101128"/>
                </a:cubicBezTo>
                <a:lnTo>
                  <a:pt x="3908524" y="101128"/>
                </a:lnTo>
                <a:close/>
                <a:moveTo>
                  <a:pt x="2344043" y="100459"/>
                </a:moveTo>
                <a:lnTo>
                  <a:pt x="2344043" y="146670"/>
                </a:lnTo>
                <a:lnTo>
                  <a:pt x="2433116" y="146670"/>
                </a:lnTo>
                <a:lnTo>
                  <a:pt x="2433116" y="100459"/>
                </a:lnTo>
                <a:lnTo>
                  <a:pt x="2344043" y="100459"/>
                </a:lnTo>
                <a:close/>
                <a:moveTo>
                  <a:pt x="4515966" y="75679"/>
                </a:moveTo>
                <a:lnTo>
                  <a:pt x="4604370" y="75679"/>
                </a:lnTo>
                <a:lnTo>
                  <a:pt x="4604370" y="480194"/>
                </a:lnTo>
                <a:lnTo>
                  <a:pt x="4515966" y="480194"/>
                </a:lnTo>
                <a:lnTo>
                  <a:pt x="4515966" y="75679"/>
                </a:lnTo>
                <a:close/>
                <a:moveTo>
                  <a:pt x="2766640" y="38844"/>
                </a:moveTo>
                <a:lnTo>
                  <a:pt x="3380109" y="38844"/>
                </a:lnTo>
                <a:lnTo>
                  <a:pt x="3380109" y="131266"/>
                </a:lnTo>
                <a:lnTo>
                  <a:pt x="3143696" y="307404"/>
                </a:lnTo>
                <a:lnTo>
                  <a:pt x="3143696" y="523726"/>
                </a:lnTo>
                <a:cubicBezTo>
                  <a:pt x="3143696" y="566142"/>
                  <a:pt x="3132813" y="597786"/>
                  <a:pt x="3111047" y="618660"/>
                </a:cubicBezTo>
                <a:cubicBezTo>
                  <a:pt x="3089281" y="639533"/>
                  <a:pt x="3056966" y="650081"/>
                  <a:pt x="3014104" y="650304"/>
                </a:cubicBezTo>
                <a:lnTo>
                  <a:pt x="2891879" y="650974"/>
                </a:lnTo>
                <a:cubicBezTo>
                  <a:pt x="2885628" y="617934"/>
                  <a:pt x="2877591" y="583778"/>
                  <a:pt x="2867769" y="548506"/>
                </a:cubicBezTo>
                <a:cubicBezTo>
                  <a:pt x="2910408" y="552524"/>
                  <a:pt x="2946015" y="554533"/>
                  <a:pt x="2974590" y="554533"/>
                </a:cubicBezTo>
                <a:cubicBezTo>
                  <a:pt x="3000933" y="554533"/>
                  <a:pt x="3018066" y="549120"/>
                  <a:pt x="3025992" y="538292"/>
                </a:cubicBezTo>
                <a:cubicBezTo>
                  <a:pt x="3033917" y="527465"/>
                  <a:pt x="3037879" y="513457"/>
                  <a:pt x="3037879" y="496267"/>
                </a:cubicBezTo>
                <a:lnTo>
                  <a:pt x="3037879" y="265881"/>
                </a:lnTo>
                <a:cubicBezTo>
                  <a:pt x="3091904" y="228823"/>
                  <a:pt x="3154189" y="184174"/>
                  <a:pt x="3224733" y="131936"/>
                </a:cubicBezTo>
                <a:lnTo>
                  <a:pt x="2766640" y="131936"/>
                </a:lnTo>
                <a:lnTo>
                  <a:pt x="2766640" y="38844"/>
                </a:lnTo>
                <a:close/>
                <a:moveTo>
                  <a:pt x="2069455" y="29468"/>
                </a:moveTo>
                <a:lnTo>
                  <a:pt x="2708374" y="29468"/>
                </a:lnTo>
                <a:lnTo>
                  <a:pt x="2708374" y="100459"/>
                </a:lnTo>
                <a:lnTo>
                  <a:pt x="2513483" y="100459"/>
                </a:lnTo>
                <a:lnTo>
                  <a:pt x="2513483" y="146670"/>
                </a:lnTo>
                <a:lnTo>
                  <a:pt x="2686943" y="146670"/>
                </a:lnTo>
                <a:lnTo>
                  <a:pt x="2686943" y="343569"/>
                </a:lnTo>
                <a:lnTo>
                  <a:pt x="2379538" y="343569"/>
                </a:lnTo>
                <a:cubicBezTo>
                  <a:pt x="2370162" y="358973"/>
                  <a:pt x="2360897" y="373707"/>
                  <a:pt x="2351744" y="387771"/>
                </a:cubicBezTo>
                <a:lnTo>
                  <a:pt x="2719759" y="387771"/>
                </a:lnTo>
                <a:lnTo>
                  <a:pt x="2719759" y="458762"/>
                </a:lnTo>
                <a:lnTo>
                  <a:pt x="2591841" y="458762"/>
                </a:lnTo>
                <a:cubicBezTo>
                  <a:pt x="2568624" y="489347"/>
                  <a:pt x="2541054" y="516805"/>
                  <a:pt x="2509130" y="541139"/>
                </a:cubicBezTo>
                <a:lnTo>
                  <a:pt x="2688952" y="586680"/>
                </a:lnTo>
                <a:lnTo>
                  <a:pt x="2648098" y="668387"/>
                </a:lnTo>
                <a:cubicBezTo>
                  <a:pt x="2565945" y="639589"/>
                  <a:pt x="2490378" y="614697"/>
                  <a:pt x="2421396" y="593712"/>
                </a:cubicBezTo>
                <a:cubicBezTo>
                  <a:pt x="2337010" y="633003"/>
                  <a:pt x="2232198" y="657894"/>
                  <a:pt x="2106959" y="668387"/>
                </a:cubicBezTo>
                <a:cubicBezTo>
                  <a:pt x="2100262" y="642937"/>
                  <a:pt x="2089993" y="616595"/>
                  <a:pt x="2076152" y="589359"/>
                </a:cubicBezTo>
                <a:cubicBezTo>
                  <a:pt x="2165002" y="585341"/>
                  <a:pt x="2240905" y="575630"/>
                  <a:pt x="2303859" y="560226"/>
                </a:cubicBezTo>
                <a:cubicBezTo>
                  <a:pt x="2245593" y="544599"/>
                  <a:pt x="2193131" y="532432"/>
                  <a:pt x="2146473" y="523726"/>
                </a:cubicBezTo>
                <a:cubicBezTo>
                  <a:pt x="2166565" y="501848"/>
                  <a:pt x="2185206" y="480194"/>
                  <a:pt x="2202395" y="458762"/>
                </a:cubicBezTo>
                <a:lnTo>
                  <a:pt x="2057400" y="458762"/>
                </a:lnTo>
                <a:lnTo>
                  <a:pt x="2057400" y="387771"/>
                </a:lnTo>
                <a:lnTo>
                  <a:pt x="2254634" y="387771"/>
                </a:lnTo>
                <a:cubicBezTo>
                  <a:pt x="2264680" y="372814"/>
                  <a:pt x="2273833" y="358080"/>
                  <a:pt x="2282093" y="343569"/>
                </a:cubicBezTo>
                <a:lnTo>
                  <a:pt x="2090216" y="343569"/>
                </a:lnTo>
                <a:lnTo>
                  <a:pt x="2090216" y="146670"/>
                </a:lnTo>
                <a:lnTo>
                  <a:pt x="2263675" y="146670"/>
                </a:lnTo>
                <a:lnTo>
                  <a:pt x="2263675" y="100459"/>
                </a:lnTo>
                <a:lnTo>
                  <a:pt x="2069455" y="100459"/>
                </a:lnTo>
                <a:lnTo>
                  <a:pt x="2069455" y="29468"/>
                </a:lnTo>
                <a:close/>
                <a:moveTo>
                  <a:pt x="3759844" y="28128"/>
                </a:moveTo>
                <a:lnTo>
                  <a:pt x="4073276" y="28128"/>
                </a:lnTo>
                <a:cubicBezTo>
                  <a:pt x="4072160" y="122783"/>
                  <a:pt x="4066970" y="180100"/>
                  <a:pt x="4057705" y="200080"/>
                </a:cubicBezTo>
                <a:cubicBezTo>
                  <a:pt x="4048441" y="220061"/>
                  <a:pt x="4035604" y="234236"/>
                  <a:pt x="4019196" y="242608"/>
                </a:cubicBezTo>
                <a:cubicBezTo>
                  <a:pt x="4002788" y="250980"/>
                  <a:pt x="3965897" y="255165"/>
                  <a:pt x="3908524" y="255165"/>
                </a:cubicBezTo>
                <a:cubicBezTo>
                  <a:pt x="3904282" y="227483"/>
                  <a:pt x="3898366" y="201811"/>
                  <a:pt x="3890776" y="178147"/>
                </a:cubicBezTo>
                <a:cubicBezTo>
                  <a:pt x="3875819" y="213419"/>
                  <a:pt x="3846016" y="244896"/>
                  <a:pt x="3801368" y="272578"/>
                </a:cubicBezTo>
                <a:cubicBezTo>
                  <a:pt x="3783955" y="248468"/>
                  <a:pt x="3763863" y="224581"/>
                  <a:pt x="3741092" y="200918"/>
                </a:cubicBezTo>
                <a:cubicBezTo>
                  <a:pt x="3791545" y="175468"/>
                  <a:pt x="3818557" y="142205"/>
                  <a:pt x="3822129" y="101128"/>
                </a:cubicBezTo>
                <a:lnTo>
                  <a:pt x="3759844" y="101128"/>
                </a:lnTo>
                <a:lnTo>
                  <a:pt x="3759844" y="28128"/>
                </a:lnTo>
                <a:close/>
                <a:moveTo>
                  <a:pt x="4991471" y="15403"/>
                </a:moveTo>
                <a:lnTo>
                  <a:pt x="5089252" y="15403"/>
                </a:lnTo>
                <a:lnTo>
                  <a:pt x="5089252" y="541808"/>
                </a:lnTo>
                <a:lnTo>
                  <a:pt x="5174977" y="541808"/>
                </a:lnTo>
                <a:lnTo>
                  <a:pt x="5174977" y="15403"/>
                </a:lnTo>
                <a:lnTo>
                  <a:pt x="5271417" y="15403"/>
                </a:lnTo>
                <a:lnTo>
                  <a:pt x="5271417" y="377391"/>
                </a:lnTo>
                <a:cubicBezTo>
                  <a:pt x="5307806" y="305060"/>
                  <a:pt x="5343301" y="221679"/>
                  <a:pt x="5377904" y="127248"/>
                </a:cubicBezTo>
                <a:lnTo>
                  <a:pt x="5464298" y="164083"/>
                </a:lnTo>
                <a:cubicBezTo>
                  <a:pt x="5430366" y="248915"/>
                  <a:pt x="5389736" y="340890"/>
                  <a:pt x="5342408" y="440010"/>
                </a:cubicBezTo>
                <a:lnTo>
                  <a:pt x="5271417" y="406859"/>
                </a:lnTo>
                <a:lnTo>
                  <a:pt x="5271417" y="541808"/>
                </a:lnTo>
                <a:lnTo>
                  <a:pt x="5464298" y="541808"/>
                </a:lnTo>
                <a:lnTo>
                  <a:pt x="5464298" y="633561"/>
                </a:lnTo>
                <a:lnTo>
                  <a:pt x="4802609" y="633561"/>
                </a:lnTo>
                <a:lnTo>
                  <a:pt x="4802609" y="541808"/>
                </a:lnTo>
                <a:lnTo>
                  <a:pt x="4991471" y="541808"/>
                </a:lnTo>
                <a:lnTo>
                  <a:pt x="4991471" y="409203"/>
                </a:lnTo>
                <a:lnTo>
                  <a:pt x="4916462" y="441349"/>
                </a:lnTo>
                <a:cubicBezTo>
                  <a:pt x="4879850" y="337319"/>
                  <a:pt x="4843239" y="241771"/>
                  <a:pt x="4806627" y="154706"/>
                </a:cubicBezTo>
                <a:lnTo>
                  <a:pt x="4886994" y="117871"/>
                </a:lnTo>
                <a:cubicBezTo>
                  <a:pt x="4925615" y="204489"/>
                  <a:pt x="4960441" y="287982"/>
                  <a:pt x="4991471" y="368349"/>
                </a:cubicBezTo>
                <a:lnTo>
                  <a:pt x="4991471" y="15403"/>
                </a:lnTo>
                <a:close/>
                <a:moveTo>
                  <a:pt x="4656608" y="14064"/>
                </a:moveTo>
                <a:lnTo>
                  <a:pt x="4745682" y="14064"/>
                </a:lnTo>
                <a:lnTo>
                  <a:pt x="4745682" y="529753"/>
                </a:lnTo>
                <a:cubicBezTo>
                  <a:pt x="4745682" y="611460"/>
                  <a:pt x="4718000" y="653430"/>
                  <a:pt x="4662636" y="655662"/>
                </a:cubicBezTo>
                <a:cubicBezTo>
                  <a:pt x="4627810" y="656555"/>
                  <a:pt x="4594547" y="657001"/>
                  <a:pt x="4562847" y="657001"/>
                </a:cubicBezTo>
                <a:cubicBezTo>
                  <a:pt x="4559275" y="626640"/>
                  <a:pt x="4552801" y="594940"/>
                  <a:pt x="4543425" y="561900"/>
                </a:cubicBezTo>
                <a:cubicBezTo>
                  <a:pt x="4562177" y="562793"/>
                  <a:pt x="4587850" y="563240"/>
                  <a:pt x="4620443" y="563240"/>
                </a:cubicBezTo>
                <a:cubicBezTo>
                  <a:pt x="4644553" y="563240"/>
                  <a:pt x="4656608" y="546943"/>
                  <a:pt x="4656608" y="514350"/>
                </a:cubicBezTo>
                <a:lnTo>
                  <a:pt x="4656608" y="14064"/>
                </a:lnTo>
                <a:close/>
                <a:moveTo>
                  <a:pt x="4268167" y="10045"/>
                </a:moveTo>
                <a:lnTo>
                  <a:pt x="4380011" y="10045"/>
                </a:lnTo>
                <a:lnTo>
                  <a:pt x="4367287" y="26119"/>
                </a:lnTo>
                <a:cubicBezTo>
                  <a:pt x="4410149" y="70767"/>
                  <a:pt x="4454128" y="119211"/>
                  <a:pt x="4499223" y="171450"/>
                </a:cubicBezTo>
                <a:lnTo>
                  <a:pt x="4427562" y="236413"/>
                </a:lnTo>
                <a:cubicBezTo>
                  <a:pt x="4394076" y="187746"/>
                  <a:pt x="4358803" y="141982"/>
                  <a:pt x="4321745" y="99119"/>
                </a:cubicBezTo>
                <a:cubicBezTo>
                  <a:pt x="4292724" y="144214"/>
                  <a:pt x="4252540" y="190425"/>
                  <a:pt x="4201194" y="237753"/>
                </a:cubicBezTo>
                <a:lnTo>
                  <a:pt x="4456360" y="237753"/>
                </a:lnTo>
                <a:cubicBezTo>
                  <a:pt x="4455467" y="260523"/>
                  <a:pt x="4453458" y="308520"/>
                  <a:pt x="4450333" y="381744"/>
                </a:cubicBezTo>
                <a:cubicBezTo>
                  <a:pt x="4448547" y="447377"/>
                  <a:pt x="4414614" y="480194"/>
                  <a:pt x="4348534" y="480194"/>
                </a:cubicBezTo>
                <a:cubicBezTo>
                  <a:pt x="4326210" y="481087"/>
                  <a:pt x="4305672" y="481087"/>
                  <a:pt x="4286919" y="480194"/>
                </a:cubicBezTo>
                <a:cubicBezTo>
                  <a:pt x="4282455" y="437778"/>
                  <a:pt x="4279106" y="410542"/>
                  <a:pt x="4276873" y="398487"/>
                </a:cubicBezTo>
                <a:cubicBezTo>
                  <a:pt x="4289375" y="399826"/>
                  <a:pt x="4311699" y="400719"/>
                  <a:pt x="4343846" y="401166"/>
                </a:cubicBezTo>
                <a:cubicBezTo>
                  <a:pt x="4357241" y="400273"/>
                  <a:pt x="4364161" y="391566"/>
                  <a:pt x="4364608" y="375046"/>
                </a:cubicBezTo>
                <a:cubicBezTo>
                  <a:pt x="4365947" y="361652"/>
                  <a:pt x="4367063" y="342676"/>
                  <a:pt x="4367956" y="318120"/>
                </a:cubicBezTo>
                <a:lnTo>
                  <a:pt x="4253433" y="318120"/>
                </a:lnTo>
                <a:lnTo>
                  <a:pt x="4253433" y="523056"/>
                </a:lnTo>
                <a:cubicBezTo>
                  <a:pt x="4253433" y="551185"/>
                  <a:pt x="4265935" y="565026"/>
                  <a:pt x="4290938" y="564579"/>
                </a:cubicBezTo>
                <a:lnTo>
                  <a:pt x="4362598" y="564579"/>
                </a:lnTo>
                <a:cubicBezTo>
                  <a:pt x="4384030" y="564579"/>
                  <a:pt x="4396085" y="554087"/>
                  <a:pt x="4398764" y="533102"/>
                </a:cubicBezTo>
                <a:cubicBezTo>
                  <a:pt x="4400103" y="524172"/>
                  <a:pt x="4402112" y="506313"/>
                  <a:pt x="4404791" y="479524"/>
                </a:cubicBezTo>
                <a:cubicBezTo>
                  <a:pt x="4435152" y="486668"/>
                  <a:pt x="4466406" y="493142"/>
                  <a:pt x="4498553" y="498946"/>
                </a:cubicBezTo>
                <a:cubicBezTo>
                  <a:pt x="4492749" y="533772"/>
                  <a:pt x="4487168" y="561454"/>
                  <a:pt x="4481810" y="581992"/>
                </a:cubicBezTo>
                <a:cubicBezTo>
                  <a:pt x="4472434" y="623515"/>
                  <a:pt x="4438278" y="644277"/>
                  <a:pt x="4379342" y="644277"/>
                </a:cubicBezTo>
                <a:lnTo>
                  <a:pt x="4277543" y="644277"/>
                </a:lnTo>
                <a:cubicBezTo>
                  <a:pt x="4202980" y="644277"/>
                  <a:pt x="4165699" y="613692"/>
                  <a:pt x="4165699" y="552524"/>
                </a:cubicBezTo>
                <a:lnTo>
                  <a:pt x="4165699" y="269899"/>
                </a:lnTo>
                <a:cubicBezTo>
                  <a:pt x="4159448" y="275257"/>
                  <a:pt x="4152974" y="280615"/>
                  <a:pt x="4146277" y="285973"/>
                </a:cubicBezTo>
                <a:cubicBezTo>
                  <a:pt x="4138687" y="266328"/>
                  <a:pt x="4125515" y="237976"/>
                  <a:pt x="4106763" y="200918"/>
                </a:cubicBezTo>
                <a:cubicBezTo>
                  <a:pt x="4185344" y="133498"/>
                  <a:pt x="4239146" y="69874"/>
                  <a:pt x="4268167" y="10045"/>
                </a:cubicBezTo>
                <a:close/>
                <a:moveTo>
                  <a:pt x="256505" y="4018"/>
                </a:moveTo>
                <a:lnTo>
                  <a:pt x="359643" y="4018"/>
                </a:lnTo>
                <a:lnTo>
                  <a:pt x="347588" y="153367"/>
                </a:lnTo>
                <a:lnTo>
                  <a:pt x="632891" y="153367"/>
                </a:lnTo>
                <a:lnTo>
                  <a:pt x="617153" y="413556"/>
                </a:lnTo>
                <a:cubicBezTo>
                  <a:pt x="612018" y="497495"/>
                  <a:pt x="607721" y="547724"/>
                  <a:pt x="604261" y="564244"/>
                </a:cubicBezTo>
                <a:cubicBezTo>
                  <a:pt x="600800" y="580764"/>
                  <a:pt x="593154" y="596391"/>
                  <a:pt x="581322" y="611125"/>
                </a:cubicBezTo>
                <a:cubicBezTo>
                  <a:pt x="569490" y="625859"/>
                  <a:pt x="554645" y="636575"/>
                  <a:pt x="536785" y="643272"/>
                </a:cubicBezTo>
                <a:cubicBezTo>
                  <a:pt x="518926" y="649969"/>
                  <a:pt x="486277" y="653932"/>
                  <a:pt x="438838" y="655160"/>
                </a:cubicBezTo>
                <a:cubicBezTo>
                  <a:pt x="391399" y="656387"/>
                  <a:pt x="356518" y="656555"/>
                  <a:pt x="334193" y="655662"/>
                </a:cubicBezTo>
                <a:cubicBezTo>
                  <a:pt x="330175" y="630212"/>
                  <a:pt x="321915" y="596726"/>
                  <a:pt x="309413" y="555203"/>
                </a:cubicBezTo>
                <a:cubicBezTo>
                  <a:pt x="364108" y="558998"/>
                  <a:pt x="407305" y="560896"/>
                  <a:pt x="439005" y="560896"/>
                </a:cubicBezTo>
                <a:cubicBezTo>
                  <a:pt x="464009" y="560896"/>
                  <a:pt x="481366" y="558496"/>
                  <a:pt x="491077" y="553696"/>
                </a:cubicBezTo>
                <a:cubicBezTo>
                  <a:pt x="500788" y="548896"/>
                  <a:pt x="507485" y="541976"/>
                  <a:pt x="511169" y="532935"/>
                </a:cubicBezTo>
                <a:cubicBezTo>
                  <a:pt x="514852" y="523893"/>
                  <a:pt x="518591" y="493644"/>
                  <a:pt x="522386" y="442187"/>
                </a:cubicBezTo>
                <a:cubicBezTo>
                  <a:pt x="526182" y="390729"/>
                  <a:pt x="530200" y="323924"/>
                  <a:pt x="534442" y="241771"/>
                </a:cubicBezTo>
                <a:lnTo>
                  <a:pt x="340891" y="241771"/>
                </a:lnTo>
                <a:cubicBezTo>
                  <a:pt x="336649" y="281285"/>
                  <a:pt x="329282" y="318789"/>
                  <a:pt x="318789" y="354285"/>
                </a:cubicBezTo>
                <a:lnTo>
                  <a:pt x="379065" y="298028"/>
                </a:lnTo>
                <a:cubicBezTo>
                  <a:pt x="410319" y="325263"/>
                  <a:pt x="447824" y="358973"/>
                  <a:pt x="491579" y="399157"/>
                </a:cubicBezTo>
                <a:lnTo>
                  <a:pt x="420588" y="467469"/>
                </a:lnTo>
                <a:cubicBezTo>
                  <a:pt x="380628" y="421927"/>
                  <a:pt x="346248" y="385650"/>
                  <a:pt x="317450" y="358638"/>
                </a:cubicBezTo>
                <a:cubicBezTo>
                  <a:pt x="278829" y="487672"/>
                  <a:pt x="199578" y="590922"/>
                  <a:pt x="79697" y="668387"/>
                </a:cubicBezTo>
                <a:cubicBezTo>
                  <a:pt x="47997" y="638472"/>
                  <a:pt x="21431" y="614585"/>
                  <a:pt x="0" y="596726"/>
                </a:cubicBezTo>
                <a:cubicBezTo>
                  <a:pt x="141758" y="511224"/>
                  <a:pt x="221902" y="392906"/>
                  <a:pt x="240431" y="241771"/>
                </a:cubicBezTo>
                <a:lnTo>
                  <a:pt x="14064" y="241771"/>
                </a:lnTo>
                <a:lnTo>
                  <a:pt x="14064" y="153367"/>
                </a:lnTo>
                <a:lnTo>
                  <a:pt x="133945" y="153367"/>
                </a:lnTo>
                <a:cubicBezTo>
                  <a:pt x="110504" y="123229"/>
                  <a:pt x="83716" y="92422"/>
                  <a:pt x="53578" y="60945"/>
                </a:cubicBezTo>
                <a:lnTo>
                  <a:pt x="119211" y="4688"/>
                </a:lnTo>
                <a:cubicBezTo>
                  <a:pt x="154037" y="36834"/>
                  <a:pt x="185514" y="67419"/>
                  <a:pt x="213642" y="96440"/>
                </a:cubicBezTo>
                <a:lnTo>
                  <a:pt x="150353" y="153367"/>
                </a:lnTo>
                <a:lnTo>
                  <a:pt x="247129" y="153367"/>
                </a:lnTo>
                <a:lnTo>
                  <a:pt x="256505" y="4018"/>
                </a:lnTo>
                <a:close/>
                <a:moveTo>
                  <a:pt x="1070892" y="3348"/>
                </a:moveTo>
                <a:lnTo>
                  <a:pt x="1171352" y="3348"/>
                </a:lnTo>
                <a:lnTo>
                  <a:pt x="1171352" y="213642"/>
                </a:lnTo>
                <a:lnTo>
                  <a:pt x="1349499" y="213642"/>
                </a:lnTo>
                <a:lnTo>
                  <a:pt x="1349499" y="303386"/>
                </a:lnTo>
                <a:lnTo>
                  <a:pt x="1171352" y="303386"/>
                </a:lnTo>
                <a:lnTo>
                  <a:pt x="1171352" y="665038"/>
                </a:lnTo>
                <a:lnTo>
                  <a:pt x="1070892" y="665038"/>
                </a:lnTo>
                <a:lnTo>
                  <a:pt x="1070892" y="303386"/>
                </a:lnTo>
                <a:lnTo>
                  <a:pt x="896763" y="303386"/>
                </a:lnTo>
                <a:lnTo>
                  <a:pt x="896763" y="213642"/>
                </a:lnTo>
                <a:lnTo>
                  <a:pt x="1070892" y="213642"/>
                </a:lnTo>
                <a:lnTo>
                  <a:pt x="1070892" y="3348"/>
                </a:lnTo>
                <a:close/>
                <a:moveTo>
                  <a:pt x="1665610" y="2009"/>
                </a:moveTo>
                <a:lnTo>
                  <a:pt x="1763390" y="60945"/>
                </a:lnTo>
                <a:cubicBezTo>
                  <a:pt x="1672753" y="173459"/>
                  <a:pt x="1572295" y="272802"/>
                  <a:pt x="1462013" y="358973"/>
                </a:cubicBezTo>
                <a:cubicBezTo>
                  <a:pt x="1441921" y="333523"/>
                  <a:pt x="1416025" y="306734"/>
                  <a:pt x="1384325" y="278606"/>
                </a:cubicBezTo>
                <a:cubicBezTo>
                  <a:pt x="1492374" y="200918"/>
                  <a:pt x="1586135" y="108719"/>
                  <a:pt x="1665610" y="2009"/>
                </a:cubicBezTo>
                <a:close/>
                <a:moveTo>
                  <a:pt x="3532808" y="0"/>
                </a:moveTo>
                <a:lnTo>
                  <a:pt x="3614514" y="10715"/>
                </a:lnTo>
                <a:cubicBezTo>
                  <a:pt x="3608933" y="24110"/>
                  <a:pt x="3603017" y="37281"/>
                  <a:pt x="3596766" y="50229"/>
                </a:cubicBezTo>
                <a:lnTo>
                  <a:pt x="3718321" y="50229"/>
                </a:lnTo>
                <a:lnTo>
                  <a:pt x="3718321" y="113183"/>
                </a:lnTo>
                <a:lnTo>
                  <a:pt x="3684165" y="174129"/>
                </a:lnTo>
                <a:lnTo>
                  <a:pt x="3740422" y="174129"/>
                </a:lnTo>
                <a:lnTo>
                  <a:pt x="3740422" y="409203"/>
                </a:lnTo>
                <a:cubicBezTo>
                  <a:pt x="3766988" y="365894"/>
                  <a:pt x="3783955" y="320799"/>
                  <a:pt x="3791322" y="273918"/>
                </a:cubicBezTo>
                <a:lnTo>
                  <a:pt x="3864322" y="283964"/>
                </a:lnTo>
                <a:cubicBezTo>
                  <a:pt x="3861866" y="298028"/>
                  <a:pt x="3859076" y="311646"/>
                  <a:pt x="3855950" y="324817"/>
                </a:cubicBezTo>
                <a:lnTo>
                  <a:pt x="3897138" y="324817"/>
                </a:lnTo>
                <a:lnTo>
                  <a:pt x="3897138" y="268560"/>
                </a:lnTo>
                <a:lnTo>
                  <a:pt x="3981524" y="268560"/>
                </a:lnTo>
                <a:lnTo>
                  <a:pt x="3981524" y="324817"/>
                </a:lnTo>
                <a:lnTo>
                  <a:pt x="4074616" y="324817"/>
                </a:lnTo>
                <a:lnTo>
                  <a:pt x="4074616" y="398487"/>
                </a:lnTo>
                <a:lnTo>
                  <a:pt x="3981524" y="398487"/>
                </a:lnTo>
                <a:lnTo>
                  <a:pt x="3981524" y="472157"/>
                </a:lnTo>
                <a:lnTo>
                  <a:pt x="4090689" y="472157"/>
                </a:lnTo>
                <a:lnTo>
                  <a:pt x="4090689" y="545827"/>
                </a:lnTo>
                <a:lnTo>
                  <a:pt x="3981524" y="545827"/>
                </a:lnTo>
                <a:lnTo>
                  <a:pt x="3981524" y="662359"/>
                </a:lnTo>
                <a:lnTo>
                  <a:pt x="3897138" y="662359"/>
                </a:lnTo>
                <a:lnTo>
                  <a:pt x="3897138" y="545827"/>
                </a:lnTo>
                <a:lnTo>
                  <a:pt x="3759175" y="545827"/>
                </a:lnTo>
                <a:lnTo>
                  <a:pt x="3759175" y="472157"/>
                </a:lnTo>
                <a:lnTo>
                  <a:pt x="3897138" y="472157"/>
                </a:lnTo>
                <a:lnTo>
                  <a:pt x="3897138" y="398487"/>
                </a:lnTo>
                <a:lnTo>
                  <a:pt x="3834184" y="398487"/>
                </a:lnTo>
                <a:cubicBezTo>
                  <a:pt x="3825701" y="420588"/>
                  <a:pt x="3816101" y="440680"/>
                  <a:pt x="3805386" y="458762"/>
                </a:cubicBezTo>
                <a:cubicBezTo>
                  <a:pt x="3781722" y="445591"/>
                  <a:pt x="3760068" y="434764"/>
                  <a:pt x="3740422" y="426281"/>
                </a:cubicBezTo>
                <a:lnTo>
                  <a:pt x="3740422" y="569267"/>
                </a:lnTo>
                <a:cubicBezTo>
                  <a:pt x="3740422" y="595163"/>
                  <a:pt x="3735958" y="615311"/>
                  <a:pt x="3727028" y="629710"/>
                </a:cubicBezTo>
                <a:cubicBezTo>
                  <a:pt x="3718098" y="644109"/>
                  <a:pt x="3704871" y="652704"/>
                  <a:pt x="3687347" y="655495"/>
                </a:cubicBezTo>
                <a:cubicBezTo>
                  <a:pt x="3669822" y="658285"/>
                  <a:pt x="3650009" y="659680"/>
                  <a:pt x="3627908" y="659680"/>
                </a:cubicBezTo>
                <a:lnTo>
                  <a:pt x="3619537" y="617488"/>
                </a:lnTo>
                <a:lnTo>
                  <a:pt x="3568303" y="617488"/>
                </a:lnTo>
                <a:lnTo>
                  <a:pt x="3568303" y="490909"/>
                </a:lnTo>
                <a:lnTo>
                  <a:pt x="3528454" y="490909"/>
                </a:lnTo>
                <a:cubicBezTo>
                  <a:pt x="3521757" y="566588"/>
                  <a:pt x="3508251" y="626417"/>
                  <a:pt x="3487935" y="670396"/>
                </a:cubicBezTo>
                <a:cubicBezTo>
                  <a:pt x="3466058" y="643160"/>
                  <a:pt x="3445073" y="620390"/>
                  <a:pt x="3424981" y="602084"/>
                </a:cubicBezTo>
                <a:cubicBezTo>
                  <a:pt x="3449984" y="544934"/>
                  <a:pt x="3462486" y="461441"/>
                  <a:pt x="3462486" y="351606"/>
                </a:cubicBezTo>
                <a:lnTo>
                  <a:pt x="3462486" y="240766"/>
                </a:lnTo>
                <a:cubicBezTo>
                  <a:pt x="3458244" y="245008"/>
                  <a:pt x="3454003" y="249138"/>
                  <a:pt x="3449761" y="253156"/>
                </a:cubicBezTo>
                <a:cubicBezTo>
                  <a:pt x="3444403" y="224135"/>
                  <a:pt x="3436590" y="193104"/>
                  <a:pt x="3426321" y="160064"/>
                </a:cubicBezTo>
                <a:cubicBezTo>
                  <a:pt x="3472309" y="113183"/>
                  <a:pt x="3507804" y="59829"/>
                  <a:pt x="3532808" y="0"/>
                </a:cubicBezTo>
                <a:close/>
                <a:moveTo>
                  <a:pt x="825103" y="0"/>
                </a:moveTo>
                <a:lnTo>
                  <a:pt x="920204" y="28128"/>
                </a:lnTo>
                <a:cubicBezTo>
                  <a:pt x="904800" y="72107"/>
                  <a:pt x="887611" y="115193"/>
                  <a:pt x="868635" y="157385"/>
                </a:cubicBezTo>
                <a:lnTo>
                  <a:pt x="868635" y="665708"/>
                </a:lnTo>
                <a:lnTo>
                  <a:pt x="777552" y="665708"/>
                </a:lnTo>
                <a:lnTo>
                  <a:pt x="777552" y="330845"/>
                </a:lnTo>
                <a:cubicBezTo>
                  <a:pt x="758130" y="362768"/>
                  <a:pt x="737592" y="394245"/>
                  <a:pt x="715937" y="425276"/>
                </a:cubicBezTo>
                <a:cubicBezTo>
                  <a:pt x="707454" y="388664"/>
                  <a:pt x="696739" y="346471"/>
                  <a:pt x="683791" y="298698"/>
                </a:cubicBezTo>
                <a:cubicBezTo>
                  <a:pt x="740047" y="208061"/>
                  <a:pt x="787152" y="108495"/>
                  <a:pt x="82510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3"/>
          <p:cNvGrpSpPr/>
          <p:nvPr/>
        </p:nvGrpSpPr>
        <p:grpSpPr>
          <a:xfrm>
            <a:off x="2730960" y="1019160"/>
            <a:ext cx="10110960" cy="6791400"/>
            <a:chOff x="2730960" y="1019160"/>
            <a:chExt cx="10110960" cy="6791400"/>
          </a:xfrm>
        </p:grpSpPr>
        <p:grpSp>
          <p:nvGrpSpPr>
            <p:cNvPr id="285" name="组合 7"/>
            <p:cNvGrpSpPr/>
            <p:nvPr/>
          </p:nvGrpSpPr>
          <p:grpSpPr>
            <a:xfrm>
              <a:off x="2730960" y="2723040"/>
              <a:ext cx="10110960" cy="5087520"/>
              <a:chOff x="2730960" y="2723040"/>
              <a:chExt cx="10110960" cy="5087520"/>
            </a:xfrm>
          </p:grpSpPr>
          <p:grpSp>
            <p:nvGrpSpPr>
              <p:cNvPr id="286" name="组合 8"/>
              <p:cNvGrpSpPr/>
              <p:nvPr/>
            </p:nvGrpSpPr>
            <p:grpSpPr>
              <a:xfrm>
                <a:off x="2730960" y="5113440"/>
                <a:ext cx="3257640" cy="2260080"/>
                <a:chOff x="2730960" y="5113440"/>
                <a:chExt cx="3257640" cy="2260080"/>
              </a:xfrm>
            </p:grpSpPr>
            <p:sp>
              <p:nvSpPr>
                <p:cNvPr id="287" name="椭圆 43"/>
                <p:cNvSpPr/>
                <p:nvPr/>
              </p:nvSpPr>
              <p:spPr>
                <a:xfrm rot="21315000">
                  <a:off x="2789280" y="5792400"/>
                  <a:ext cx="2063880" cy="1497600"/>
                </a:xfrm>
                <a:prstGeom prst="ellips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椭圆 44"/>
                <p:cNvSpPr/>
                <p:nvPr/>
              </p:nvSpPr>
              <p:spPr>
                <a:xfrm rot="1470600">
                  <a:off x="4309200" y="5277600"/>
                  <a:ext cx="1025640" cy="1070640"/>
                </a:xfrm>
                <a:prstGeom prst="ellips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椭圆 45"/>
                <p:cNvSpPr/>
                <p:nvPr/>
              </p:nvSpPr>
              <p:spPr>
                <a:xfrm rot="1470600">
                  <a:off x="4786920" y="5558040"/>
                  <a:ext cx="1025640" cy="1070640"/>
                </a:xfrm>
                <a:prstGeom prst="ellips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椭圆 46"/>
                <p:cNvSpPr/>
                <p:nvPr/>
              </p:nvSpPr>
              <p:spPr>
                <a:xfrm rot="1470600">
                  <a:off x="4780080" y="6163560"/>
                  <a:ext cx="708840" cy="739800"/>
                </a:xfrm>
                <a:prstGeom prst="ellips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椭圆 47"/>
                <p:cNvSpPr/>
                <p:nvPr/>
              </p:nvSpPr>
              <p:spPr>
                <a:xfrm rot="1470600">
                  <a:off x="3902040" y="5817960"/>
                  <a:ext cx="1025640" cy="1070640"/>
                </a:xfrm>
                <a:prstGeom prst="ellips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等腰三角形 30"/>
              <p:cNvSpPr/>
              <p:nvPr/>
            </p:nvSpPr>
            <p:spPr>
              <a:xfrm>
                <a:off x="6554880" y="2723040"/>
                <a:ext cx="562320" cy="3054600"/>
              </a:xfrm>
              <a:custGeom>
                <a:avLst/>
                <a:gdLst>
                  <a:gd name="textAreaLeft" fmla="*/ 0 w 562320"/>
                  <a:gd name="textAreaRight" fmla="*/ 562680 w 562320"/>
                  <a:gd name="textAreaTop" fmla="*/ 0 h 3054600"/>
                  <a:gd name="textAreaBottom" fmla="*/ 3054960 h 3054600"/>
                </a:gdLst>
                <a:ahLst/>
                <a:rect l="textAreaLeft" t="textAreaTop" r="textAreaRight" b="textAreaBottom"/>
                <a:pathLst>
                  <a:path w="450060" h="1019174">
                    <a:moveTo>
                      <a:pt x="0" y="1019174"/>
                    </a:moveTo>
                    <a:cubicBezTo>
                      <a:pt x="99757" y="374649"/>
                      <a:pt x="185788" y="430212"/>
                      <a:pt x="177376" y="28574"/>
                    </a:cubicBezTo>
                    <a:lnTo>
                      <a:pt x="318664" y="0"/>
                    </a:lnTo>
                    <a:cubicBezTo>
                      <a:pt x="309796" y="587375"/>
                      <a:pt x="421485" y="688974"/>
                      <a:pt x="450060" y="1019174"/>
                    </a:cubicBezTo>
                    <a:lnTo>
                      <a:pt x="0" y="1019174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等腰三角形 30"/>
              <p:cNvSpPr/>
              <p:nvPr/>
            </p:nvSpPr>
            <p:spPr>
              <a:xfrm>
                <a:off x="8084880" y="2760840"/>
                <a:ext cx="842760" cy="3002040"/>
              </a:xfrm>
              <a:custGeom>
                <a:avLst/>
                <a:gdLst>
                  <a:gd name="textAreaLeft" fmla="*/ 0 w 842760"/>
                  <a:gd name="textAreaRight" fmla="*/ 843120 w 842760"/>
                  <a:gd name="textAreaTop" fmla="*/ 0 h 3002040"/>
                  <a:gd name="textAreaBottom" fmla="*/ 3002400 h 3002040"/>
                </a:gdLst>
                <a:ahLst/>
                <a:rect l="textAreaLeft" t="textAreaTop" r="textAreaRight" b="textAreaBottom"/>
                <a:pathLst>
                  <a:path w="674613" h="1001712">
                    <a:moveTo>
                      <a:pt x="0" y="990599"/>
                    </a:moveTo>
                    <a:cubicBezTo>
                      <a:pt x="99757" y="346074"/>
                      <a:pt x="151532" y="430212"/>
                      <a:pt x="143120" y="28574"/>
                    </a:cubicBezTo>
                    <a:lnTo>
                      <a:pt x="284408" y="0"/>
                    </a:lnTo>
                    <a:cubicBezTo>
                      <a:pt x="397334" y="641350"/>
                      <a:pt x="646038" y="671512"/>
                      <a:pt x="674613" y="1001712"/>
                    </a:cubicBezTo>
                    <a:lnTo>
                      <a:pt x="0" y="990599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等腰三角形 30"/>
              <p:cNvSpPr/>
              <p:nvPr/>
            </p:nvSpPr>
            <p:spPr>
              <a:xfrm>
                <a:off x="6929640" y="3006000"/>
                <a:ext cx="1383840" cy="2883240"/>
              </a:xfrm>
              <a:custGeom>
                <a:avLst/>
                <a:gdLst>
                  <a:gd name="textAreaLeft" fmla="*/ 0 w 1383840"/>
                  <a:gd name="textAreaRight" fmla="*/ 1384200 w 1383840"/>
                  <a:gd name="textAreaTop" fmla="*/ 0 h 2883240"/>
                  <a:gd name="textAreaBottom" fmla="*/ 2883600 h 2883240"/>
                </a:gdLst>
                <a:ahLst/>
                <a:rect l="textAreaLeft" t="textAreaTop" r="textAreaRight" b="textAreaBottom"/>
                <a:pathLst>
                  <a:path w="403551" h="962025">
                    <a:moveTo>
                      <a:pt x="0" y="952500"/>
                    </a:moveTo>
                    <a:cubicBezTo>
                      <a:pt x="99757" y="307975"/>
                      <a:pt x="147508" y="401638"/>
                      <a:pt x="139096" y="0"/>
                    </a:cubicBezTo>
                    <a:lnTo>
                      <a:pt x="245022" y="1"/>
                    </a:lnTo>
                    <a:cubicBezTo>
                      <a:pt x="236154" y="587376"/>
                      <a:pt x="374976" y="631825"/>
                      <a:pt x="403551" y="962025"/>
                    </a:cubicBezTo>
                    <a:lnTo>
                      <a:pt x="0" y="95250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组合 12"/>
              <p:cNvGrpSpPr/>
              <p:nvPr/>
            </p:nvGrpSpPr>
            <p:grpSpPr>
              <a:xfrm>
                <a:off x="5606640" y="4555800"/>
                <a:ext cx="1576440" cy="1825920"/>
                <a:chOff x="5606640" y="4555800"/>
                <a:chExt cx="1576440" cy="1825920"/>
              </a:xfrm>
            </p:grpSpPr>
            <p:sp>
              <p:nvSpPr>
                <p:cNvPr id="296" name="椭圆 39"/>
                <p:cNvSpPr/>
                <p:nvPr/>
              </p:nvSpPr>
              <p:spPr>
                <a:xfrm>
                  <a:off x="6437160" y="4555800"/>
                  <a:ext cx="708840" cy="740160"/>
                </a:xfrm>
                <a:prstGeom prst="ellips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椭圆 40"/>
                <p:cNvSpPr/>
                <p:nvPr/>
              </p:nvSpPr>
              <p:spPr>
                <a:xfrm>
                  <a:off x="5606640" y="5253840"/>
                  <a:ext cx="1025640" cy="1070640"/>
                </a:xfrm>
                <a:prstGeom prst="ellips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椭圆 41"/>
                <p:cNvSpPr/>
                <p:nvPr/>
              </p:nvSpPr>
              <p:spPr>
                <a:xfrm>
                  <a:off x="6157440" y="5311080"/>
                  <a:ext cx="1025640" cy="1070640"/>
                </a:xfrm>
                <a:prstGeom prst="ellips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椭圆 42"/>
                <p:cNvSpPr/>
                <p:nvPr/>
              </p:nvSpPr>
              <p:spPr>
                <a:xfrm>
                  <a:off x="5658120" y="4699440"/>
                  <a:ext cx="1025640" cy="1070640"/>
                </a:xfrm>
                <a:prstGeom prst="ellipse">
                  <a:avLst/>
                </a:pr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组合 13"/>
              <p:cNvGrpSpPr/>
              <p:nvPr/>
            </p:nvGrpSpPr>
            <p:grpSpPr>
              <a:xfrm>
                <a:off x="4129200" y="4599360"/>
                <a:ext cx="7696800" cy="3204720"/>
                <a:chOff x="4129200" y="4599360"/>
                <a:chExt cx="7696800" cy="3204720"/>
              </a:xfrm>
            </p:grpSpPr>
            <p:sp>
              <p:nvSpPr>
                <p:cNvPr id="301" name="椭圆 24"/>
                <p:cNvSpPr/>
                <p:nvPr/>
              </p:nvSpPr>
              <p:spPr>
                <a:xfrm>
                  <a:off x="6318000" y="4710960"/>
                  <a:ext cx="1025640" cy="107064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椭圆 25"/>
                <p:cNvSpPr/>
                <p:nvPr/>
              </p:nvSpPr>
              <p:spPr>
                <a:xfrm>
                  <a:off x="7067880" y="4599360"/>
                  <a:ext cx="1025640" cy="107064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椭圆 26"/>
                <p:cNvSpPr/>
                <p:nvPr/>
              </p:nvSpPr>
              <p:spPr>
                <a:xfrm>
                  <a:off x="7904880" y="4615560"/>
                  <a:ext cx="1025640" cy="107064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椭圆 27"/>
                <p:cNvSpPr/>
                <p:nvPr/>
              </p:nvSpPr>
              <p:spPr>
                <a:xfrm>
                  <a:off x="8487000" y="4861080"/>
                  <a:ext cx="1025640" cy="107064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椭圆 28"/>
                <p:cNvSpPr/>
                <p:nvPr/>
              </p:nvSpPr>
              <p:spPr>
                <a:xfrm>
                  <a:off x="7504200" y="5459040"/>
                  <a:ext cx="1025640" cy="107064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椭圆 29"/>
                <p:cNvSpPr/>
                <p:nvPr/>
              </p:nvSpPr>
              <p:spPr>
                <a:xfrm>
                  <a:off x="6806880" y="5562720"/>
                  <a:ext cx="1025640" cy="107064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椭圆 30"/>
                <p:cNvSpPr/>
                <p:nvPr/>
              </p:nvSpPr>
              <p:spPr>
                <a:xfrm>
                  <a:off x="5857920" y="5270040"/>
                  <a:ext cx="1025640" cy="107064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椭圆 31"/>
                <p:cNvSpPr/>
                <p:nvPr/>
              </p:nvSpPr>
              <p:spPr>
                <a:xfrm>
                  <a:off x="8568720" y="5793480"/>
                  <a:ext cx="2405880" cy="183924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椭圆 32"/>
                <p:cNvSpPr/>
                <p:nvPr/>
              </p:nvSpPr>
              <p:spPr>
                <a:xfrm>
                  <a:off x="7554600" y="5277600"/>
                  <a:ext cx="1523880" cy="133236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椭圆 33"/>
                <p:cNvSpPr/>
                <p:nvPr/>
              </p:nvSpPr>
              <p:spPr>
                <a:xfrm>
                  <a:off x="6941880" y="6100920"/>
                  <a:ext cx="1666800" cy="127440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椭圆 34"/>
                <p:cNvSpPr/>
                <p:nvPr/>
              </p:nvSpPr>
              <p:spPr>
                <a:xfrm>
                  <a:off x="4809600" y="5631120"/>
                  <a:ext cx="3386160" cy="206136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椭圆 35"/>
                <p:cNvSpPr/>
                <p:nvPr/>
              </p:nvSpPr>
              <p:spPr>
                <a:xfrm rot="21315000">
                  <a:off x="9234360" y="5507640"/>
                  <a:ext cx="2506680" cy="215064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椭圆 36"/>
                <p:cNvSpPr/>
                <p:nvPr/>
              </p:nvSpPr>
              <p:spPr>
                <a:xfrm>
                  <a:off x="7597800" y="5361480"/>
                  <a:ext cx="2405880" cy="183924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椭圆 37"/>
                <p:cNvSpPr/>
                <p:nvPr/>
              </p:nvSpPr>
              <p:spPr>
                <a:xfrm>
                  <a:off x="4129200" y="5988600"/>
                  <a:ext cx="1666800" cy="127440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椭圆 38"/>
                <p:cNvSpPr/>
                <p:nvPr/>
              </p:nvSpPr>
              <p:spPr>
                <a:xfrm>
                  <a:off x="6356520" y="5742720"/>
                  <a:ext cx="3386160" cy="206136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组合 14"/>
              <p:cNvGrpSpPr/>
              <p:nvPr/>
            </p:nvGrpSpPr>
            <p:grpSpPr>
              <a:xfrm>
                <a:off x="7407360" y="4288320"/>
                <a:ext cx="5434560" cy="3522240"/>
                <a:chOff x="7407360" y="4288320"/>
                <a:chExt cx="5434560" cy="3522240"/>
              </a:xfrm>
            </p:grpSpPr>
            <p:sp>
              <p:nvSpPr>
                <p:cNvPr id="317" name="椭圆 15"/>
                <p:cNvSpPr/>
                <p:nvPr/>
              </p:nvSpPr>
              <p:spPr>
                <a:xfrm>
                  <a:off x="8080920" y="4288320"/>
                  <a:ext cx="1025640" cy="107064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椭圆 16"/>
                <p:cNvSpPr/>
                <p:nvPr/>
              </p:nvSpPr>
              <p:spPr>
                <a:xfrm>
                  <a:off x="8925480" y="5049720"/>
                  <a:ext cx="1025640" cy="107064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椭圆 17"/>
                <p:cNvSpPr/>
                <p:nvPr/>
              </p:nvSpPr>
              <p:spPr>
                <a:xfrm>
                  <a:off x="8286480" y="5121720"/>
                  <a:ext cx="1025640" cy="107064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椭圆 18"/>
                <p:cNvSpPr/>
                <p:nvPr/>
              </p:nvSpPr>
              <p:spPr>
                <a:xfrm>
                  <a:off x="7407360" y="5014800"/>
                  <a:ext cx="1497240" cy="156312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椭圆 19"/>
                <p:cNvSpPr/>
                <p:nvPr/>
              </p:nvSpPr>
              <p:spPr>
                <a:xfrm>
                  <a:off x="9071280" y="4793400"/>
                  <a:ext cx="1497240" cy="156312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椭圆 20"/>
                <p:cNvSpPr/>
                <p:nvPr/>
              </p:nvSpPr>
              <p:spPr>
                <a:xfrm>
                  <a:off x="8308440" y="4659480"/>
                  <a:ext cx="1497240" cy="156312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椭圆 21"/>
                <p:cNvSpPr/>
                <p:nvPr/>
              </p:nvSpPr>
              <p:spPr>
                <a:xfrm>
                  <a:off x="9506880" y="5342040"/>
                  <a:ext cx="1497240" cy="156312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椭圆 22"/>
                <p:cNvSpPr/>
                <p:nvPr/>
              </p:nvSpPr>
              <p:spPr>
                <a:xfrm>
                  <a:off x="10362960" y="5209920"/>
                  <a:ext cx="1536840" cy="160344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椭圆 23"/>
                <p:cNvSpPr/>
                <p:nvPr/>
              </p:nvSpPr>
              <p:spPr>
                <a:xfrm rot="20854200">
                  <a:off x="10402920" y="5686560"/>
                  <a:ext cx="2260440" cy="1902960"/>
                </a:xfrm>
                <a:prstGeom prst="ellipse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6" name="组合 2"/>
            <p:cNvGrpSpPr/>
            <p:nvPr/>
          </p:nvGrpSpPr>
          <p:grpSpPr>
            <a:xfrm>
              <a:off x="6736680" y="1019160"/>
              <a:ext cx="1688400" cy="2326320"/>
              <a:chOff x="6736680" y="1019160"/>
              <a:chExt cx="1688400" cy="2326320"/>
            </a:xfrm>
          </p:grpSpPr>
          <p:sp>
            <p:nvSpPr>
              <p:cNvPr id="327" name="Freeform 41"/>
              <p:cNvSpPr/>
              <p:nvPr/>
            </p:nvSpPr>
            <p:spPr>
              <a:xfrm>
                <a:off x="7345440" y="2627280"/>
                <a:ext cx="465840" cy="718200"/>
              </a:xfrm>
              <a:custGeom>
                <a:avLst/>
                <a:gdLst>
                  <a:gd name="textAreaLeft" fmla="*/ 0 w 465840"/>
                  <a:gd name="textAreaRight" fmla="*/ 466200 w 465840"/>
                  <a:gd name="textAreaTop" fmla="*/ 0 h 718200"/>
                  <a:gd name="textAreaBottom" fmla="*/ 718560 h 718200"/>
                </a:gdLst>
                <a:ahLst/>
                <a:rect l="textAreaLeft" t="textAreaTop" r="textAreaRight" b="textAreaBottom"/>
                <a:pathLst>
                  <a:path w="1433" h="2201">
                    <a:moveTo>
                      <a:pt x="1415" y="680"/>
                    </a:moveTo>
                    <a:cubicBezTo>
                      <a:pt x="1433" y="1075"/>
                      <a:pt x="888" y="1350"/>
                      <a:pt x="853" y="1684"/>
                    </a:cubicBezTo>
                    <a:cubicBezTo>
                      <a:pt x="821" y="1984"/>
                      <a:pt x="1127" y="2201"/>
                      <a:pt x="1127" y="2201"/>
                    </a:cubicBezTo>
                    <a:cubicBezTo>
                      <a:pt x="1127" y="2201"/>
                      <a:pt x="401" y="2168"/>
                      <a:pt x="164" y="1535"/>
                    </a:cubicBezTo>
                    <a:cubicBezTo>
                      <a:pt x="0" y="1094"/>
                      <a:pt x="114" y="490"/>
                      <a:pt x="424" y="293"/>
                    </a:cubicBezTo>
                    <a:cubicBezTo>
                      <a:pt x="887" y="0"/>
                      <a:pt x="1397" y="286"/>
                      <a:pt x="1415" y="680"/>
                    </a:cubicBezTo>
                    <a:close/>
                  </a:path>
                </a:pathLst>
              </a:custGeom>
              <a:solidFill>
                <a:srgbClr val="e46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42"/>
              <p:cNvSpPr/>
              <p:nvPr/>
            </p:nvSpPr>
            <p:spPr>
              <a:xfrm>
                <a:off x="7640280" y="2689200"/>
                <a:ext cx="209160" cy="5184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518400"/>
                  <a:gd name="textAreaBottom" fmla="*/ 518760 h 518400"/>
                </a:gdLst>
                <a:ahLst/>
                <a:rect l="textAreaLeft" t="textAreaTop" r="textAreaRight" b="textAreaBottom"/>
                <a:pathLst>
                  <a:path w="637" h="1594">
                    <a:moveTo>
                      <a:pt x="123" y="177"/>
                    </a:moveTo>
                    <a:cubicBezTo>
                      <a:pt x="123" y="177"/>
                      <a:pt x="474" y="0"/>
                      <a:pt x="582" y="647"/>
                    </a:cubicBezTo>
                    <a:cubicBezTo>
                      <a:pt x="637" y="977"/>
                      <a:pt x="386" y="1177"/>
                      <a:pt x="249" y="1347"/>
                    </a:cubicBezTo>
                    <a:cubicBezTo>
                      <a:pt x="172" y="1443"/>
                      <a:pt x="181" y="1594"/>
                      <a:pt x="181" y="1594"/>
                    </a:cubicBezTo>
                    <a:cubicBezTo>
                      <a:pt x="181" y="1594"/>
                      <a:pt x="60" y="1462"/>
                      <a:pt x="135" y="1169"/>
                    </a:cubicBezTo>
                    <a:cubicBezTo>
                      <a:pt x="180" y="990"/>
                      <a:pt x="365" y="852"/>
                      <a:pt x="291" y="711"/>
                    </a:cubicBezTo>
                    <a:cubicBezTo>
                      <a:pt x="216" y="570"/>
                      <a:pt x="0" y="398"/>
                      <a:pt x="0" y="398"/>
                    </a:cubicBezTo>
                    <a:lnTo>
                      <a:pt x="123" y="177"/>
                    </a:lnTo>
                    <a:close/>
                  </a:path>
                </a:pathLst>
              </a:custGeom>
              <a:solidFill>
                <a:srgbClr val="e46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43"/>
              <p:cNvSpPr/>
              <p:nvPr/>
            </p:nvSpPr>
            <p:spPr>
              <a:xfrm>
                <a:off x="7269120" y="2660400"/>
                <a:ext cx="337680" cy="599400"/>
              </a:xfrm>
              <a:custGeom>
                <a:avLst/>
                <a:gdLst>
                  <a:gd name="textAreaLeft" fmla="*/ 0 w 337680"/>
                  <a:gd name="textAreaRight" fmla="*/ 338040 w 337680"/>
                  <a:gd name="textAreaTop" fmla="*/ 0 h 599400"/>
                  <a:gd name="textAreaBottom" fmla="*/ 599760 h 599400"/>
                </a:gdLst>
                <a:ahLst/>
                <a:rect l="textAreaLeft" t="textAreaTop" r="textAreaRight" b="textAreaBottom"/>
                <a:pathLst>
                  <a:path w="1028" h="1830">
                    <a:moveTo>
                      <a:pt x="885" y="582"/>
                    </a:moveTo>
                    <a:cubicBezTo>
                      <a:pt x="885" y="582"/>
                      <a:pt x="407" y="1082"/>
                      <a:pt x="378" y="1303"/>
                    </a:cubicBezTo>
                    <a:cubicBezTo>
                      <a:pt x="339" y="1603"/>
                      <a:pt x="447" y="1830"/>
                      <a:pt x="447" y="1830"/>
                    </a:cubicBezTo>
                    <a:cubicBezTo>
                      <a:pt x="447" y="1830"/>
                      <a:pt x="0" y="1335"/>
                      <a:pt x="103" y="837"/>
                    </a:cubicBezTo>
                    <a:cubicBezTo>
                      <a:pt x="276" y="0"/>
                      <a:pt x="1028" y="63"/>
                      <a:pt x="1028" y="63"/>
                    </a:cubicBezTo>
                    <a:lnTo>
                      <a:pt x="885" y="582"/>
                    </a:lnTo>
                    <a:close/>
                  </a:path>
                </a:pathLst>
              </a:custGeom>
              <a:solidFill>
                <a:srgbClr val="e46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44"/>
              <p:cNvSpPr/>
              <p:nvPr/>
            </p:nvSpPr>
            <p:spPr>
              <a:xfrm>
                <a:off x="7421400" y="2646360"/>
                <a:ext cx="304200" cy="4280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934" h="1313">
                    <a:moveTo>
                      <a:pt x="884" y="475"/>
                    </a:moveTo>
                    <a:cubicBezTo>
                      <a:pt x="834" y="707"/>
                      <a:pt x="476" y="783"/>
                      <a:pt x="404" y="971"/>
                    </a:cubicBezTo>
                    <a:cubicBezTo>
                      <a:pt x="340" y="1141"/>
                      <a:pt x="485" y="1313"/>
                      <a:pt x="485" y="1313"/>
                    </a:cubicBezTo>
                    <a:cubicBezTo>
                      <a:pt x="485" y="1313"/>
                      <a:pt x="69" y="1183"/>
                      <a:pt x="28" y="780"/>
                    </a:cubicBezTo>
                    <a:cubicBezTo>
                      <a:pt x="0" y="499"/>
                      <a:pt x="158" y="166"/>
                      <a:pt x="368" y="99"/>
                    </a:cubicBezTo>
                    <a:cubicBezTo>
                      <a:pt x="681" y="0"/>
                      <a:pt x="934" y="244"/>
                      <a:pt x="884" y="475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45"/>
              <p:cNvSpPr/>
              <p:nvPr/>
            </p:nvSpPr>
            <p:spPr>
              <a:xfrm>
                <a:off x="7493040" y="2651040"/>
                <a:ext cx="218520" cy="20916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676" h="648">
                    <a:moveTo>
                      <a:pt x="589" y="347"/>
                    </a:moveTo>
                    <a:cubicBezTo>
                      <a:pt x="502" y="447"/>
                      <a:pt x="306" y="387"/>
                      <a:pt x="221" y="459"/>
                    </a:cubicBezTo>
                    <a:cubicBezTo>
                      <a:pt x="143" y="524"/>
                      <a:pt x="167" y="648"/>
                      <a:pt x="167" y="648"/>
                    </a:cubicBezTo>
                    <a:cubicBezTo>
                      <a:pt x="167" y="648"/>
                      <a:pt x="0" y="472"/>
                      <a:pt x="89" y="264"/>
                    </a:cubicBezTo>
                    <a:cubicBezTo>
                      <a:pt x="151" y="119"/>
                      <a:pt x="319" y="0"/>
                      <a:pt x="439" y="24"/>
                    </a:cubicBezTo>
                    <a:cubicBezTo>
                      <a:pt x="619" y="61"/>
                      <a:pt x="676" y="248"/>
                      <a:pt x="589" y="347"/>
                    </a:cubicBezTo>
                    <a:close/>
                  </a:path>
                </a:pathLst>
              </a:custGeom>
              <a:solidFill>
                <a:srgbClr val="e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46"/>
              <p:cNvSpPr/>
              <p:nvPr/>
            </p:nvSpPr>
            <p:spPr>
              <a:xfrm>
                <a:off x="7317000" y="2517840"/>
                <a:ext cx="532440" cy="247320"/>
              </a:xfrm>
              <a:custGeom>
                <a:avLst/>
                <a:gdLst>
                  <a:gd name="textAreaLeft" fmla="*/ 0 w 532440"/>
                  <a:gd name="textAreaRight" fmla="*/ 532800 w 53244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640" h="750">
                    <a:moveTo>
                      <a:pt x="820" y="359"/>
                    </a:moveTo>
                    <a:cubicBezTo>
                      <a:pt x="367" y="359"/>
                      <a:pt x="0" y="198"/>
                      <a:pt x="0" y="0"/>
                    </a:cubicBezTo>
                    <a:cubicBezTo>
                      <a:pt x="0" y="390"/>
                      <a:pt x="0" y="390"/>
                      <a:pt x="0" y="390"/>
                    </a:cubicBezTo>
                    <a:cubicBezTo>
                      <a:pt x="0" y="589"/>
                      <a:pt x="367" y="750"/>
                      <a:pt x="820" y="750"/>
                    </a:cubicBezTo>
                    <a:cubicBezTo>
                      <a:pt x="1273" y="750"/>
                      <a:pt x="1640" y="589"/>
                      <a:pt x="1640" y="390"/>
                    </a:cubicBezTo>
                    <a:cubicBezTo>
                      <a:pt x="1640" y="0"/>
                      <a:pt x="1640" y="0"/>
                      <a:pt x="1640" y="0"/>
                    </a:cubicBezTo>
                    <a:cubicBezTo>
                      <a:pt x="1640" y="198"/>
                      <a:pt x="1273" y="359"/>
                      <a:pt x="820" y="359"/>
                    </a:cubicBezTo>
                    <a:close/>
                  </a:path>
                </a:pathLst>
              </a:custGeom>
              <a:solidFill>
                <a:srgbClr val="109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47"/>
              <p:cNvSpPr/>
              <p:nvPr/>
            </p:nvSpPr>
            <p:spPr>
              <a:xfrm>
                <a:off x="7806960" y="2056320"/>
                <a:ext cx="556560" cy="618480"/>
              </a:xfrm>
              <a:custGeom>
                <a:avLst/>
                <a:gdLst>
                  <a:gd name="textAreaLeft" fmla="*/ 0 w 556560"/>
                  <a:gd name="textAreaRight" fmla="*/ 556920 w 556560"/>
                  <a:gd name="textAreaTop" fmla="*/ 0 h 618480"/>
                  <a:gd name="textAreaBottom" fmla="*/ 618840 h 618480"/>
                </a:gdLst>
                <a:ahLst/>
                <a:rect l="textAreaLeft" t="textAreaTop" r="textAreaRight" b="textAreaBottom"/>
                <a:pathLst>
                  <a:path w="1712" h="1900">
                    <a:moveTo>
                      <a:pt x="1712" y="1127"/>
                    </a:moveTo>
                    <a:cubicBezTo>
                      <a:pt x="208" y="0"/>
                      <a:pt x="208" y="0"/>
                      <a:pt x="208" y="0"/>
                    </a:cubicBezTo>
                    <a:cubicBezTo>
                      <a:pt x="0" y="1091"/>
                      <a:pt x="0" y="1091"/>
                      <a:pt x="0" y="1091"/>
                    </a:cubicBezTo>
                    <a:cubicBezTo>
                      <a:pt x="0" y="1091"/>
                      <a:pt x="567" y="1026"/>
                      <a:pt x="1212" y="1540"/>
                    </a:cubicBezTo>
                    <a:cubicBezTo>
                      <a:pt x="1398" y="1688"/>
                      <a:pt x="1500" y="1900"/>
                      <a:pt x="1500" y="1900"/>
                    </a:cubicBezTo>
                    <a:lnTo>
                      <a:pt x="1712" y="1127"/>
                    </a:lnTo>
                    <a:close/>
                  </a:path>
                </a:pathLst>
              </a:custGeom>
              <a:solidFill>
                <a:srgbClr val="1aa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48"/>
              <p:cNvSpPr/>
              <p:nvPr/>
            </p:nvSpPr>
            <p:spPr>
              <a:xfrm>
                <a:off x="8244360" y="2689200"/>
                <a:ext cx="161640" cy="27108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271080"/>
                  <a:gd name="textAreaBottom" fmla="*/ 271440 h 271080"/>
                </a:gdLst>
                <a:ahLst/>
                <a:rect l="textAreaLeft" t="textAreaTop" r="textAreaRight" b="textAreaBottom"/>
                <a:pathLst>
                  <a:path w="508" h="835">
                    <a:moveTo>
                      <a:pt x="508" y="0"/>
                    </a:moveTo>
                    <a:cubicBezTo>
                      <a:pt x="445" y="328"/>
                      <a:pt x="357" y="629"/>
                      <a:pt x="254" y="835"/>
                    </a:cubicBezTo>
                    <a:cubicBezTo>
                      <a:pt x="254" y="835"/>
                      <a:pt x="254" y="835"/>
                      <a:pt x="254" y="835"/>
                    </a:cubicBezTo>
                    <a:cubicBezTo>
                      <a:pt x="151" y="629"/>
                      <a:pt x="63" y="328"/>
                      <a:pt x="0" y="0"/>
                    </a:cubicBez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e46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49"/>
              <p:cNvSpPr/>
              <p:nvPr/>
            </p:nvSpPr>
            <p:spPr>
              <a:xfrm>
                <a:off x="8296920" y="2703240"/>
                <a:ext cx="90360" cy="15192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286" h="471">
                    <a:moveTo>
                      <a:pt x="286" y="0"/>
                    </a:moveTo>
                    <a:cubicBezTo>
                      <a:pt x="251" y="185"/>
                      <a:pt x="201" y="354"/>
                      <a:pt x="143" y="471"/>
                    </a:cubicBezTo>
                    <a:cubicBezTo>
                      <a:pt x="143" y="471"/>
                      <a:pt x="143" y="471"/>
                      <a:pt x="143" y="471"/>
                    </a:cubicBezTo>
                    <a:cubicBezTo>
                      <a:pt x="85" y="354"/>
                      <a:pt x="36" y="185"/>
                      <a:pt x="0" y="0"/>
                    </a:cubicBezTo>
                    <a:lnTo>
                      <a:pt x="286" y="0"/>
                    </a:lnTo>
                    <a:close/>
                  </a:path>
                </a:pathLst>
              </a:custGeom>
              <a:solidFill>
                <a:srgbClr val="dda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50"/>
              <p:cNvSpPr/>
              <p:nvPr/>
            </p:nvSpPr>
            <p:spPr>
              <a:xfrm>
                <a:off x="8220600" y="2175120"/>
                <a:ext cx="204480" cy="60408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604080"/>
                  <a:gd name="textAreaBottom" fmla="*/ 604440 h 604080"/>
                </a:gdLst>
                <a:ahLst/>
                <a:rect l="textAreaLeft" t="textAreaTop" r="textAreaRight" b="textAreaBottom"/>
                <a:pathLst>
                  <a:path w="631" h="1848">
                    <a:moveTo>
                      <a:pt x="315" y="0"/>
                    </a:moveTo>
                    <a:cubicBezTo>
                      <a:pt x="315" y="0"/>
                      <a:pt x="315" y="0"/>
                      <a:pt x="315" y="0"/>
                    </a:cubicBezTo>
                    <a:cubicBezTo>
                      <a:pt x="500" y="273"/>
                      <a:pt x="631" y="795"/>
                      <a:pt x="631" y="1214"/>
                    </a:cubicBezTo>
                    <a:cubicBezTo>
                      <a:pt x="631" y="1682"/>
                      <a:pt x="625" y="1842"/>
                      <a:pt x="315" y="1848"/>
                    </a:cubicBezTo>
                    <a:cubicBezTo>
                      <a:pt x="315" y="1848"/>
                      <a:pt x="315" y="1848"/>
                      <a:pt x="315" y="1848"/>
                    </a:cubicBezTo>
                    <a:cubicBezTo>
                      <a:pt x="5" y="1842"/>
                      <a:pt x="0" y="1682"/>
                      <a:pt x="0" y="1214"/>
                    </a:cubicBezTo>
                    <a:cubicBezTo>
                      <a:pt x="0" y="795"/>
                      <a:pt x="130" y="273"/>
                      <a:pt x="315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51"/>
              <p:cNvSpPr/>
              <p:nvPr/>
            </p:nvSpPr>
            <p:spPr>
              <a:xfrm>
                <a:off x="8273160" y="2175120"/>
                <a:ext cx="104400" cy="10908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324" h="339">
                    <a:moveTo>
                      <a:pt x="0" y="339"/>
                    </a:moveTo>
                    <a:cubicBezTo>
                      <a:pt x="46" y="207"/>
                      <a:pt x="101" y="90"/>
                      <a:pt x="162" y="0"/>
                    </a:cubicBezTo>
                    <a:cubicBezTo>
                      <a:pt x="162" y="0"/>
                      <a:pt x="162" y="0"/>
                      <a:pt x="162" y="0"/>
                    </a:cubicBezTo>
                    <a:cubicBezTo>
                      <a:pt x="223" y="90"/>
                      <a:pt x="278" y="207"/>
                      <a:pt x="324" y="339"/>
                    </a:cubicBezTo>
                    <a:lnTo>
                      <a:pt x="0" y="339"/>
                    </a:lnTo>
                    <a:close/>
                  </a:path>
                </a:pathLst>
              </a:custGeom>
              <a:solidFill>
                <a:srgbClr val="1aa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52"/>
              <p:cNvSpPr/>
              <p:nvPr/>
            </p:nvSpPr>
            <p:spPr>
              <a:xfrm>
                <a:off x="8230320" y="2707920"/>
                <a:ext cx="190080" cy="712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587" h="209">
                    <a:moveTo>
                      <a:pt x="587" y="0"/>
                    </a:moveTo>
                    <a:cubicBezTo>
                      <a:pt x="555" y="147"/>
                      <a:pt x="479" y="205"/>
                      <a:pt x="293" y="209"/>
                    </a:cubicBezTo>
                    <a:cubicBezTo>
                      <a:pt x="293" y="209"/>
                      <a:pt x="293" y="209"/>
                      <a:pt x="293" y="209"/>
                    </a:cubicBezTo>
                    <a:cubicBezTo>
                      <a:pt x="108" y="205"/>
                      <a:pt x="31" y="147"/>
                      <a:pt x="0" y="0"/>
                    </a:cubicBezTo>
                    <a:lnTo>
                      <a:pt x="587" y="0"/>
                    </a:lnTo>
                    <a:close/>
                  </a:path>
                </a:pathLst>
              </a:custGeom>
              <a:solidFill>
                <a:srgbClr val="109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53"/>
              <p:cNvSpPr/>
              <p:nvPr/>
            </p:nvSpPr>
            <p:spPr>
              <a:xfrm>
                <a:off x="6802920" y="2056320"/>
                <a:ext cx="556560" cy="618480"/>
              </a:xfrm>
              <a:custGeom>
                <a:avLst/>
                <a:gdLst>
                  <a:gd name="textAreaLeft" fmla="*/ 0 w 556560"/>
                  <a:gd name="textAreaRight" fmla="*/ 556920 w 556560"/>
                  <a:gd name="textAreaTop" fmla="*/ 0 h 618480"/>
                  <a:gd name="textAreaBottom" fmla="*/ 618840 h 618480"/>
                </a:gdLst>
                <a:ahLst/>
                <a:rect l="textAreaLeft" t="textAreaTop" r="textAreaRight" b="textAreaBottom"/>
                <a:pathLst>
                  <a:path w="1713" h="1900">
                    <a:moveTo>
                      <a:pt x="0" y="1127"/>
                    </a:moveTo>
                    <a:cubicBezTo>
                      <a:pt x="1504" y="0"/>
                      <a:pt x="1504" y="0"/>
                      <a:pt x="1504" y="0"/>
                    </a:cubicBezTo>
                    <a:cubicBezTo>
                      <a:pt x="1713" y="1091"/>
                      <a:pt x="1713" y="1091"/>
                      <a:pt x="1713" y="1091"/>
                    </a:cubicBezTo>
                    <a:cubicBezTo>
                      <a:pt x="1713" y="1091"/>
                      <a:pt x="1145" y="1026"/>
                      <a:pt x="500" y="1540"/>
                    </a:cubicBezTo>
                    <a:cubicBezTo>
                      <a:pt x="314" y="1688"/>
                      <a:pt x="213" y="1900"/>
                      <a:pt x="213" y="1900"/>
                    </a:cubicBezTo>
                    <a:lnTo>
                      <a:pt x="0" y="1127"/>
                    </a:lnTo>
                    <a:close/>
                  </a:path>
                </a:pathLst>
              </a:custGeom>
              <a:solidFill>
                <a:srgbClr val="1aa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54"/>
              <p:cNvSpPr/>
              <p:nvPr/>
            </p:nvSpPr>
            <p:spPr>
              <a:xfrm>
                <a:off x="6755400" y="2689200"/>
                <a:ext cx="166320" cy="27108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271080"/>
                  <a:gd name="textAreaBottom" fmla="*/ 271440 h 271080"/>
                </a:gdLst>
                <a:ahLst/>
                <a:rect l="textAreaLeft" t="textAreaTop" r="textAreaRight" b="textAreaBottom"/>
                <a:pathLst>
                  <a:path w="508" h="835">
                    <a:moveTo>
                      <a:pt x="0" y="0"/>
                    </a:moveTo>
                    <a:cubicBezTo>
                      <a:pt x="63" y="328"/>
                      <a:pt x="151" y="629"/>
                      <a:pt x="254" y="835"/>
                    </a:cubicBezTo>
                    <a:cubicBezTo>
                      <a:pt x="254" y="835"/>
                      <a:pt x="254" y="835"/>
                      <a:pt x="254" y="835"/>
                    </a:cubicBezTo>
                    <a:cubicBezTo>
                      <a:pt x="357" y="629"/>
                      <a:pt x="445" y="328"/>
                      <a:pt x="50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69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55"/>
              <p:cNvSpPr/>
              <p:nvPr/>
            </p:nvSpPr>
            <p:spPr>
              <a:xfrm>
                <a:off x="6774480" y="2703240"/>
                <a:ext cx="95040" cy="1519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286" h="471">
                    <a:moveTo>
                      <a:pt x="0" y="0"/>
                    </a:moveTo>
                    <a:cubicBezTo>
                      <a:pt x="35" y="185"/>
                      <a:pt x="85" y="354"/>
                      <a:pt x="143" y="471"/>
                    </a:cubicBezTo>
                    <a:cubicBezTo>
                      <a:pt x="143" y="471"/>
                      <a:pt x="143" y="471"/>
                      <a:pt x="143" y="471"/>
                    </a:cubicBezTo>
                    <a:cubicBezTo>
                      <a:pt x="201" y="354"/>
                      <a:pt x="251" y="185"/>
                      <a:pt x="286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a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56"/>
              <p:cNvSpPr/>
              <p:nvPr/>
            </p:nvSpPr>
            <p:spPr>
              <a:xfrm>
                <a:off x="6736680" y="2175120"/>
                <a:ext cx="209160" cy="60408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604080"/>
                  <a:gd name="textAreaBottom" fmla="*/ 604440 h 604080"/>
                </a:gdLst>
                <a:ahLst/>
                <a:rect l="textAreaLeft" t="textAreaTop" r="textAreaRight" b="textAreaBottom"/>
                <a:pathLst>
                  <a:path w="630" h="1848">
                    <a:moveTo>
                      <a:pt x="315" y="0"/>
                    </a:moveTo>
                    <a:cubicBezTo>
                      <a:pt x="315" y="0"/>
                      <a:pt x="315" y="0"/>
                      <a:pt x="315" y="0"/>
                    </a:cubicBezTo>
                    <a:cubicBezTo>
                      <a:pt x="130" y="273"/>
                      <a:pt x="0" y="795"/>
                      <a:pt x="0" y="1214"/>
                    </a:cubicBezTo>
                    <a:cubicBezTo>
                      <a:pt x="0" y="1682"/>
                      <a:pt x="5" y="1842"/>
                      <a:pt x="315" y="1848"/>
                    </a:cubicBezTo>
                    <a:cubicBezTo>
                      <a:pt x="315" y="1848"/>
                      <a:pt x="315" y="1848"/>
                      <a:pt x="315" y="1848"/>
                    </a:cubicBezTo>
                    <a:cubicBezTo>
                      <a:pt x="625" y="1842"/>
                      <a:pt x="630" y="1682"/>
                      <a:pt x="630" y="1214"/>
                    </a:cubicBezTo>
                    <a:cubicBezTo>
                      <a:pt x="630" y="795"/>
                      <a:pt x="500" y="273"/>
                      <a:pt x="315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57"/>
              <p:cNvSpPr/>
              <p:nvPr/>
            </p:nvSpPr>
            <p:spPr>
              <a:xfrm>
                <a:off x="6788880" y="2175120"/>
                <a:ext cx="104400" cy="10908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324" h="339">
                    <a:moveTo>
                      <a:pt x="324" y="339"/>
                    </a:moveTo>
                    <a:cubicBezTo>
                      <a:pt x="278" y="207"/>
                      <a:pt x="223" y="90"/>
                      <a:pt x="162" y="0"/>
                    </a:cubicBezTo>
                    <a:cubicBezTo>
                      <a:pt x="162" y="0"/>
                      <a:pt x="162" y="0"/>
                      <a:pt x="162" y="0"/>
                    </a:cubicBezTo>
                    <a:cubicBezTo>
                      <a:pt x="101" y="90"/>
                      <a:pt x="46" y="207"/>
                      <a:pt x="0" y="339"/>
                    </a:cubicBezTo>
                    <a:lnTo>
                      <a:pt x="324" y="339"/>
                    </a:lnTo>
                    <a:close/>
                  </a:path>
                </a:pathLst>
              </a:custGeom>
              <a:solidFill>
                <a:srgbClr val="1aa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58"/>
              <p:cNvSpPr/>
              <p:nvPr/>
            </p:nvSpPr>
            <p:spPr>
              <a:xfrm>
                <a:off x="6746040" y="2707920"/>
                <a:ext cx="190080" cy="712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586" h="209">
                    <a:moveTo>
                      <a:pt x="0" y="0"/>
                    </a:moveTo>
                    <a:cubicBezTo>
                      <a:pt x="31" y="147"/>
                      <a:pt x="107" y="205"/>
                      <a:pt x="293" y="209"/>
                    </a:cubicBezTo>
                    <a:cubicBezTo>
                      <a:pt x="293" y="209"/>
                      <a:pt x="293" y="209"/>
                      <a:pt x="293" y="209"/>
                    </a:cubicBezTo>
                    <a:cubicBezTo>
                      <a:pt x="479" y="205"/>
                      <a:pt x="555" y="147"/>
                      <a:pt x="586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09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59"/>
              <p:cNvSpPr/>
              <p:nvPr/>
            </p:nvSpPr>
            <p:spPr>
              <a:xfrm>
                <a:off x="7806960" y="2056320"/>
                <a:ext cx="190080" cy="3805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589" h="1162">
                    <a:moveTo>
                      <a:pt x="589" y="285"/>
                    </a:moveTo>
                    <a:cubicBezTo>
                      <a:pt x="208" y="0"/>
                      <a:pt x="208" y="0"/>
                      <a:pt x="208" y="0"/>
                    </a:cubicBezTo>
                    <a:cubicBezTo>
                      <a:pt x="0" y="1091"/>
                      <a:pt x="0" y="1091"/>
                      <a:pt x="0" y="1091"/>
                    </a:cubicBezTo>
                    <a:cubicBezTo>
                      <a:pt x="0" y="1091"/>
                      <a:pt x="207" y="1068"/>
                      <a:pt x="513" y="1162"/>
                    </a:cubicBezTo>
                    <a:cubicBezTo>
                      <a:pt x="567" y="935"/>
                      <a:pt x="583" y="646"/>
                      <a:pt x="589" y="285"/>
                    </a:cubicBezTo>
                    <a:close/>
                  </a:path>
                </a:pathLst>
              </a:custGeom>
              <a:solidFill>
                <a:srgbClr val="109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60"/>
              <p:cNvSpPr/>
              <p:nvPr/>
            </p:nvSpPr>
            <p:spPr>
              <a:xfrm>
                <a:off x="7160040" y="2056320"/>
                <a:ext cx="199440" cy="3805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609" h="1168">
                    <a:moveTo>
                      <a:pt x="0" y="299"/>
                    </a:moveTo>
                    <a:cubicBezTo>
                      <a:pt x="6" y="656"/>
                      <a:pt x="23" y="942"/>
                      <a:pt x="77" y="1168"/>
                    </a:cubicBezTo>
                    <a:cubicBezTo>
                      <a:pt x="393" y="1067"/>
                      <a:pt x="609" y="1091"/>
                      <a:pt x="609" y="1091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299"/>
                    </a:lnTo>
                    <a:close/>
                  </a:path>
                </a:pathLst>
              </a:custGeom>
              <a:solidFill>
                <a:srgbClr val="109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61"/>
              <p:cNvSpPr/>
              <p:nvPr/>
            </p:nvSpPr>
            <p:spPr>
              <a:xfrm>
                <a:off x="7250400" y="1019160"/>
                <a:ext cx="665640" cy="1641240"/>
              </a:xfrm>
              <a:custGeom>
                <a:avLst/>
                <a:gdLst>
                  <a:gd name="textAreaLeft" fmla="*/ 0 w 665640"/>
                  <a:gd name="textAreaRight" fmla="*/ 666000 w 665640"/>
                  <a:gd name="textAreaTop" fmla="*/ 0 h 1641240"/>
                  <a:gd name="textAreaBottom" fmla="*/ 1641600 h 1641240"/>
                </a:gdLst>
                <a:ahLst/>
                <a:rect l="textAreaLeft" t="textAreaTop" r="textAreaRight" b="textAreaBottom"/>
                <a:pathLst>
                  <a:path w="2042" h="5026">
                    <a:moveTo>
                      <a:pt x="1021" y="0"/>
                    </a:moveTo>
                    <a:cubicBezTo>
                      <a:pt x="1021" y="0"/>
                      <a:pt x="1021" y="0"/>
                      <a:pt x="1021" y="0"/>
                    </a:cubicBezTo>
                    <a:cubicBezTo>
                      <a:pt x="423" y="743"/>
                      <a:pt x="0" y="2164"/>
                      <a:pt x="0" y="3302"/>
                    </a:cubicBezTo>
                    <a:cubicBezTo>
                      <a:pt x="0" y="4577"/>
                      <a:pt x="18" y="5011"/>
                      <a:pt x="1021" y="5026"/>
                    </a:cubicBezTo>
                    <a:cubicBezTo>
                      <a:pt x="1021" y="5026"/>
                      <a:pt x="1021" y="5026"/>
                      <a:pt x="1021" y="5026"/>
                    </a:cubicBezTo>
                    <a:cubicBezTo>
                      <a:pt x="2024" y="5011"/>
                      <a:pt x="2042" y="4577"/>
                      <a:pt x="2042" y="3302"/>
                    </a:cubicBezTo>
                    <a:cubicBezTo>
                      <a:pt x="2042" y="2164"/>
                      <a:pt x="1619" y="743"/>
                      <a:pt x="1021" y="0"/>
                    </a:cubicBezTo>
                    <a:close/>
                  </a:path>
                </a:pathLst>
              </a:custGeom>
              <a:solidFill>
                <a:srgbClr val="e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62"/>
              <p:cNvSpPr/>
              <p:nvPr/>
            </p:nvSpPr>
            <p:spPr>
              <a:xfrm>
                <a:off x="7250400" y="2156040"/>
                <a:ext cx="665640" cy="504000"/>
              </a:xfrm>
              <a:custGeom>
                <a:avLst/>
                <a:gdLst>
                  <a:gd name="textAreaLeft" fmla="*/ 0 w 665640"/>
                  <a:gd name="textAreaRight" fmla="*/ 666000 w 665640"/>
                  <a:gd name="textAreaTop" fmla="*/ 0 h 504000"/>
                  <a:gd name="textAreaBottom" fmla="*/ 504360 h 504000"/>
                </a:gdLst>
                <a:ahLst/>
                <a:rect l="textAreaLeft" t="textAreaTop" r="textAreaRight" b="textAreaBottom"/>
                <a:pathLst>
                  <a:path w="2042" h="1546">
                    <a:moveTo>
                      <a:pt x="0" y="0"/>
                    </a:moveTo>
                    <a:cubicBezTo>
                      <a:pt x="4" y="1138"/>
                      <a:pt x="66" y="1532"/>
                      <a:pt x="1021" y="1546"/>
                    </a:cubicBezTo>
                    <a:cubicBezTo>
                      <a:pt x="1021" y="1546"/>
                      <a:pt x="1021" y="1546"/>
                      <a:pt x="1021" y="1546"/>
                    </a:cubicBezTo>
                    <a:cubicBezTo>
                      <a:pt x="1976" y="1532"/>
                      <a:pt x="2038" y="1138"/>
                      <a:pt x="204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63"/>
              <p:cNvSpPr/>
              <p:nvPr/>
            </p:nvSpPr>
            <p:spPr>
              <a:xfrm>
                <a:off x="7412040" y="1019160"/>
                <a:ext cx="342360" cy="299520"/>
              </a:xfrm>
              <a:custGeom>
                <a:avLst/>
                <a:gdLst>
                  <a:gd name="textAreaLeft" fmla="*/ 0 w 342360"/>
                  <a:gd name="textAreaRight" fmla="*/ 342720 w 3423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1051" h="921">
                    <a:moveTo>
                      <a:pt x="1051" y="921"/>
                    </a:moveTo>
                    <a:cubicBezTo>
                      <a:pt x="900" y="563"/>
                      <a:pt x="722" y="245"/>
                      <a:pt x="525" y="0"/>
                    </a:cubicBezTo>
                    <a:cubicBezTo>
                      <a:pt x="525" y="0"/>
                      <a:pt x="525" y="0"/>
                      <a:pt x="525" y="0"/>
                    </a:cubicBezTo>
                    <a:cubicBezTo>
                      <a:pt x="328" y="245"/>
                      <a:pt x="150" y="563"/>
                      <a:pt x="0" y="921"/>
                    </a:cubicBezTo>
                    <a:lnTo>
                      <a:pt x="1051" y="92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64"/>
              <p:cNvSpPr/>
              <p:nvPr/>
            </p:nvSpPr>
            <p:spPr>
              <a:xfrm>
                <a:off x="7450200" y="1019160"/>
                <a:ext cx="280440" cy="25200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870" h="769">
                    <a:moveTo>
                      <a:pt x="398" y="219"/>
                    </a:moveTo>
                    <a:cubicBezTo>
                      <a:pt x="398" y="219"/>
                      <a:pt x="398" y="219"/>
                      <a:pt x="398" y="219"/>
                    </a:cubicBezTo>
                    <a:cubicBezTo>
                      <a:pt x="567" y="375"/>
                      <a:pt x="725" y="562"/>
                      <a:pt x="870" y="769"/>
                    </a:cubicBezTo>
                    <a:cubicBezTo>
                      <a:pt x="735" y="473"/>
                      <a:pt x="580" y="209"/>
                      <a:pt x="411" y="0"/>
                    </a:cubicBezTo>
                    <a:cubicBezTo>
                      <a:pt x="411" y="0"/>
                      <a:pt x="411" y="0"/>
                      <a:pt x="411" y="0"/>
                    </a:cubicBezTo>
                    <a:cubicBezTo>
                      <a:pt x="262" y="185"/>
                      <a:pt x="123" y="413"/>
                      <a:pt x="0" y="668"/>
                    </a:cubicBezTo>
                    <a:cubicBezTo>
                      <a:pt x="124" y="501"/>
                      <a:pt x="258" y="349"/>
                      <a:pt x="398" y="219"/>
                    </a:cubicBezTo>
                    <a:close/>
                  </a:path>
                </a:pathLst>
              </a:custGeom>
              <a:solidFill>
                <a:srgbClr val="f4b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65"/>
              <p:cNvSpPr/>
              <p:nvPr/>
            </p:nvSpPr>
            <p:spPr>
              <a:xfrm>
                <a:off x="7274160" y="2475000"/>
                <a:ext cx="618120" cy="185400"/>
              </a:xfrm>
              <a:custGeom>
                <a:avLst/>
                <a:gdLst>
                  <a:gd name="textAreaLeft" fmla="*/ 0 w 618120"/>
                  <a:gd name="textAreaRight" fmla="*/ 618480 w 61812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1900" h="568">
                    <a:moveTo>
                      <a:pt x="0" y="0"/>
                    </a:moveTo>
                    <a:cubicBezTo>
                      <a:pt x="102" y="400"/>
                      <a:pt x="349" y="559"/>
                      <a:pt x="950" y="568"/>
                    </a:cubicBezTo>
                    <a:cubicBezTo>
                      <a:pt x="950" y="568"/>
                      <a:pt x="950" y="568"/>
                      <a:pt x="950" y="568"/>
                    </a:cubicBezTo>
                    <a:cubicBezTo>
                      <a:pt x="1551" y="559"/>
                      <a:pt x="1798" y="400"/>
                      <a:pt x="1900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66"/>
              <p:cNvSpPr/>
              <p:nvPr/>
            </p:nvSpPr>
            <p:spPr>
              <a:xfrm>
                <a:off x="7392960" y="1623240"/>
                <a:ext cx="380520" cy="380520"/>
              </a:xfrm>
              <a:prstGeom prst="ellipse">
                <a:avLst/>
              </a:prstGeom>
              <a:solidFill>
                <a:srgbClr val="109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67"/>
              <p:cNvSpPr/>
              <p:nvPr/>
            </p:nvSpPr>
            <p:spPr>
              <a:xfrm>
                <a:off x="7435800" y="1670760"/>
                <a:ext cx="290160" cy="285480"/>
              </a:xfrm>
              <a:prstGeom prst="ellipse">
                <a:avLst/>
              </a:prstGeom>
              <a:solidFill>
                <a:srgbClr val="dda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68"/>
              <p:cNvSpPr/>
              <p:nvPr/>
            </p:nvSpPr>
            <p:spPr>
              <a:xfrm>
                <a:off x="7459560" y="1689840"/>
                <a:ext cx="252000" cy="18540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770" h="576">
                    <a:moveTo>
                      <a:pt x="315" y="146"/>
                    </a:moveTo>
                    <a:cubicBezTo>
                      <a:pt x="541" y="146"/>
                      <a:pt x="725" y="329"/>
                      <a:pt x="725" y="555"/>
                    </a:cubicBezTo>
                    <a:cubicBezTo>
                      <a:pt x="725" y="562"/>
                      <a:pt x="724" y="569"/>
                      <a:pt x="724" y="576"/>
                    </a:cubicBezTo>
                    <a:cubicBezTo>
                      <a:pt x="753" y="521"/>
                      <a:pt x="770" y="458"/>
                      <a:pt x="770" y="392"/>
                    </a:cubicBezTo>
                    <a:cubicBezTo>
                      <a:pt x="770" y="175"/>
                      <a:pt x="595" y="0"/>
                      <a:pt x="379" y="0"/>
                    </a:cubicBezTo>
                    <a:cubicBezTo>
                      <a:pt x="196" y="0"/>
                      <a:pt x="43" y="125"/>
                      <a:pt x="0" y="294"/>
                    </a:cubicBezTo>
                    <a:cubicBezTo>
                      <a:pt x="75" y="204"/>
                      <a:pt x="188" y="146"/>
                      <a:pt x="315" y="146"/>
                    </a:cubicBezTo>
                    <a:close/>
                  </a:path>
                </a:pathLst>
              </a:custGeom>
              <a:solidFill>
                <a:srgbClr val="e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文本框 4"/>
          <p:cNvSpPr/>
          <p:nvPr/>
        </p:nvSpPr>
        <p:spPr>
          <a:xfrm>
            <a:off x="587520" y="2062080"/>
            <a:ext cx="53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</a:t>
            </a: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81"/>
          <p:cNvSpPr/>
          <p:nvPr/>
        </p:nvSpPr>
        <p:spPr>
          <a:xfrm>
            <a:off x="746280" y="334008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几何维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c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组合 127"/>
          <p:cNvGrpSpPr/>
          <p:nvPr/>
        </p:nvGrpSpPr>
        <p:grpSpPr>
          <a:xfrm>
            <a:off x="5940360" y="936720"/>
            <a:ext cx="5478480" cy="3752640"/>
            <a:chOff x="5940360" y="936720"/>
            <a:chExt cx="5478480" cy="3752640"/>
          </a:xfrm>
        </p:grpSpPr>
        <p:sp>
          <p:nvSpPr>
            <p:cNvPr id="64" name="椭圆 128"/>
            <p:cNvSpPr/>
            <p:nvPr/>
          </p:nvSpPr>
          <p:spPr>
            <a:xfrm>
              <a:off x="5940360" y="936720"/>
              <a:ext cx="5478480" cy="3524400"/>
            </a:xfrm>
            <a:prstGeom prst="ellipse">
              <a:avLst/>
            </a:prstGeom>
            <a:solidFill>
              <a:srgbClr val="249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椭圆 129"/>
            <p:cNvSpPr/>
            <p:nvPr/>
          </p:nvSpPr>
          <p:spPr>
            <a:xfrm>
              <a:off x="6102720" y="3985560"/>
              <a:ext cx="589320" cy="589320"/>
            </a:xfrm>
            <a:prstGeom prst="ellipse">
              <a:avLst/>
            </a:prstGeom>
            <a:solidFill>
              <a:srgbClr val="249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 130"/>
            <p:cNvSpPr/>
            <p:nvPr/>
          </p:nvSpPr>
          <p:spPr>
            <a:xfrm>
              <a:off x="6352920" y="3468600"/>
              <a:ext cx="1220760" cy="1220760"/>
            </a:xfrm>
            <a:prstGeom prst="ellipse">
              <a:avLst/>
            </a:prstGeom>
            <a:solidFill>
              <a:srgbClr val="249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26"/>
          <p:cNvGrpSpPr/>
          <p:nvPr/>
        </p:nvGrpSpPr>
        <p:grpSpPr>
          <a:xfrm>
            <a:off x="684360" y="1263600"/>
            <a:ext cx="4325760" cy="3056040"/>
            <a:chOff x="684360" y="1263600"/>
            <a:chExt cx="4325760" cy="3056040"/>
          </a:xfrm>
        </p:grpSpPr>
        <p:sp>
          <p:nvSpPr>
            <p:cNvPr id="68" name="椭圆 125"/>
            <p:cNvSpPr/>
            <p:nvPr/>
          </p:nvSpPr>
          <p:spPr>
            <a:xfrm>
              <a:off x="684360" y="1263600"/>
              <a:ext cx="3639600" cy="2342520"/>
            </a:xfrm>
            <a:prstGeom prst="ellipse">
              <a:avLst/>
            </a:prstGeom>
            <a:solidFill>
              <a:srgbClr val="249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123"/>
            <p:cNvSpPr/>
            <p:nvPr/>
          </p:nvSpPr>
          <p:spPr>
            <a:xfrm>
              <a:off x="4420800" y="3509280"/>
              <a:ext cx="589320" cy="589680"/>
            </a:xfrm>
            <a:prstGeom prst="ellipse">
              <a:avLst/>
            </a:prstGeom>
            <a:solidFill>
              <a:srgbClr val="249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124"/>
            <p:cNvSpPr/>
            <p:nvPr/>
          </p:nvSpPr>
          <p:spPr>
            <a:xfrm>
              <a:off x="3200040" y="3098520"/>
              <a:ext cx="1220400" cy="1221120"/>
            </a:xfrm>
            <a:prstGeom prst="ellipse">
              <a:avLst/>
            </a:prstGeom>
            <a:solidFill>
              <a:srgbClr val="249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82"/>
          <p:cNvGrpSpPr/>
          <p:nvPr/>
        </p:nvGrpSpPr>
        <p:grpSpPr>
          <a:xfrm>
            <a:off x="-3684600" y="4235400"/>
            <a:ext cx="2311920" cy="1143000"/>
            <a:chOff x="-3684600" y="4235400"/>
            <a:chExt cx="2311920" cy="1143000"/>
          </a:xfrm>
        </p:grpSpPr>
        <p:sp>
          <p:nvSpPr>
            <p:cNvPr id="72" name="任意多边形 79"/>
            <p:cNvSpPr/>
            <p:nvPr/>
          </p:nvSpPr>
          <p:spPr>
            <a:xfrm>
              <a:off x="-3684600" y="4235400"/>
              <a:ext cx="1142640" cy="1143000"/>
            </a:xfrm>
            <a:custGeom>
              <a:avLst/>
              <a:gdLst>
                <a:gd name="textAreaLeft" fmla="*/ 0 w 1142640"/>
                <a:gd name="textAreaRight" fmla="*/ 1143000 w 1142640"/>
                <a:gd name="textAreaTop" fmla="*/ 0 h 1143000"/>
                <a:gd name="textAreaBottom" fmla="*/ 1143000 h 1143000"/>
              </a:gdLst>
              <a:ahLst/>
              <a:rect l="textAreaLeft" t="textAreaTop" r="textAreaRight" b="textAreaBottom"/>
              <a:pathLst>
                <a:path w="669727" h="669057">
                  <a:moveTo>
                    <a:pt x="407194" y="0"/>
                  </a:moveTo>
                  <a:lnTo>
                    <a:pt x="498946" y="24110"/>
                  </a:lnTo>
                  <a:cubicBezTo>
                    <a:pt x="489347" y="51792"/>
                    <a:pt x="479524" y="78135"/>
                    <a:pt x="469478" y="103138"/>
                  </a:cubicBezTo>
                  <a:lnTo>
                    <a:pt x="667047" y="103138"/>
                  </a:lnTo>
                  <a:lnTo>
                    <a:pt x="667047" y="192212"/>
                  </a:lnTo>
                  <a:lnTo>
                    <a:pt x="622511" y="192212"/>
                  </a:lnTo>
                  <a:cubicBezTo>
                    <a:pt x="613581" y="314325"/>
                    <a:pt x="588019" y="411324"/>
                    <a:pt x="545827" y="483208"/>
                  </a:cubicBezTo>
                  <a:cubicBezTo>
                    <a:pt x="579983" y="520489"/>
                    <a:pt x="621283" y="550739"/>
                    <a:pt x="669727" y="573956"/>
                  </a:cubicBezTo>
                  <a:cubicBezTo>
                    <a:pt x="650974" y="599405"/>
                    <a:pt x="631552" y="629097"/>
                    <a:pt x="611460" y="663030"/>
                  </a:cubicBezTo>
                  <a:cubicBezTo>
                    <a:pt x="562570" y="633785"/>
                    <a:pt x="520489" y="599071"/>
                    <a:pt x="485217" y="558887"/>
                  </a:cubicBezTo>
                  <a:cubicBezTo>
                    <a:pt x="442131" y="601526"/>
                    <a:pt x="393353" y="638250"/>
                    <a:pt x="338882" y="669057"/>
                  </a:cubicBezTo>
                  <a:cubicBezTo>
                    <a:pt x="322585" y="638473"/>
                    <a:pt x="305060" y="611014"/>
                    <a:pt x="286308" y="586681"/>
                  </a:cubicBezTo>
                  <a:lnTo>
                    <a:pt x="10716" y="628873"/>
                  </a:lnTo>
                  <a:lnTo>
                    <a:pt x="0" y="534442"/>
                  </a:lnTo>
                  <a:lnTo>
                    <a:pt x="35496" y="530424"/>
                  </a:lnTo>
                  <a:lnTo>
                    <a:pt x="35496" y="226368"/>
                  </a:lnTo>
                  <a:lnTo>
                    <a:pt x="117202" y="226368"/>
                  </a:lnTo>
                  <a:lnTo>
                    <a:pt x="117202" y="520043"/>
                  </a:lnTo>
                  <a:lnTo>
                    <a:pt x="164753" y="514015"/>
                  </a:lnTo>
                  <a:lnTo>
                    <a:pt x="164753" y="136624"/>
                  </a:lnTo>
                  <a:lnTo>
                    <a:pt x="14064" y="136624"/>
                  </a:lnTo>
                  <a:lnTo>
                    <a:pt x="14064" y="51569"/>
                  </a:lnTo>
                  <a:lnTo>
                    <a:pt x="342230" y="51569"/>
                  </a:lnTo>
                  <a:lnTo>
                    <a:pt x="342230" y="136624"/>
                  </a:lnTo>
                  <a:lnTo>
                    <a:pt x="248469" y="136624"/>
                  </a:lnTo>
                  <a:lnTo>
                    <a:pt x="248469" y="273249"/>
                  </a:lnTo>
                  <a:lnTo>
                    <a:pt x="291666" y="273249"/>
                  </a:lnTo>
                  <a:cubicBezTo>
                    <a:pt x="339440" y="204490"/>
                    <a:pt x="377949" y="113407"/>
                    <a:pt x="407194" y="0"/>
                  </a:cubicBezTo>
                  <a:close/>
                  <a:moveTo>
                    <a:pt x="430634" y="192212"/>
                  </a:moveTo>
                  <a:cubicBezTo>
                    <a:pt x="430634" y="192658"/>
                    <a:pt x="430523" y="192993"/>
                    <a:pt x="430299" y="193216"/>
                  </a:cubicBezTo>
                  <a:cubicBezTo>
                    <a:pt x="438336" y="272914"/>
                    <a:pt x="457535" y="341784"/>
                    <a:pt x="487896" y="399827"/>
                  </a:cubicBezTo>
                  <a:cubicBezTo>
                    <a:pt x="515801" y="344686"/>
                    <a:pt x="532321" y="275481"/>
                    <a:pt x="537455" y="192212"/>
                  </a:cubicBezTo>
                  <a:lnTo>
                    <a:pt x="430634" y="192212"/>
                  </a:lnTo>
                  <a:close/>
                  <a:moveTo>
                    <a:pt x="366340" y="306400"/>
                  </a:moveTo>
                  <a:cubicBezTo>
                    <a:pt x="358527" y="317785"/>
                    <a:pt x="350713" y="328613"/>
                    <a:pt x="342900" y="338882"/>
                  </a:cubicBezTo>
                  <a:cubicBezTo>
                    <a:pt x="336872" y="330175"/>
                    <a:pt x="330398" y="321581"/>
                    <a:pt x="323478" y="313097"/>
                  </a:cubicBezTo>
                  <a:lnTo>
                    <a:pt x="323478" y="357634"/>
                  </a:lnTo>
                  <a:lnTo>
                    <a:pt x="248469" y="357634"/>
                  </a:lnTo>
                  <a:lnTo>
                    <a:pt x="248469" y="503300"/>
                  </a:lnTo>
                  <a:lnTo>
                    <a:pt x="342900" y="490910"/>
                  </a:lnTo>
                  <a:cubicBezTo>
                    <a:pt x="340891" y="503635"/>
                    <a:pt x="338547" y="524173"/>
                    <a:pt x="335868" y="552525"/>
                  </a:cubicBezTo>
                  <a:cubicBezTo>
                    <a:pt x="370247" y="530870"/>
                    <a:pt x="401278" y="506648"/>
                    <a:pt x="428960" y="479859"/>
                  </a:cubicBezTo>
                  <a:cubicBezTo>
                    <a:pt x="399938" y="428737"/>
                    <a:pt x="379065" y="370917"/>
                    <a:pt x="366340" y="3064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78"/>
            <p:cNvSpPr/>
            <p:nvPr/>
          </p:nvSpPr>
          <p:spPr>
            <a:xfrm>
              <a:off x="-2509560" y="4239720"/>
              <a:ext cx="1136880" cy="1135080"/>
            </a:xfrm>
            <a:custGeom>
              <a:avLst/>
              <a:gdLst>
                <a:gd name="textAreaLeft" fmla="*/ 0 w 1136880"/>
                <a:gd name="textAreaRight" fmla="*/ 1137240 w 113688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666378" h="664369">
                  <a:moveTo>
                    <a:pt x="397148" y="0"/>
                  </a:moveTo>
                  <a:lnTo>
                    <a:pt x="484882" y="0"/>
                  </a:lnTo>
                  <a:cubicBezTo>
                    <a:pt x="478631" y="16743"/>
                    <a:pt x="471487" y="33263"/>
                    <a:pt x="463450" y="49560"/>
                  </a:cubicBezTo>
                  <a:lnTo>
                    <a:pt x="657002" y="49560"/>
                  </a:lnTo>
                  <a:lnTo>
                    <a:pt x="657002" y="113854"/>
                  </a:lnTo>
                  <a:lnTo>
                    <a:pt x="555872" y="113854"/>
                  </a:lnTo>
                  <a:cubicBezTo>
                    <a:pt x="565696" y="133276"/>
                    <a:pt x="574402" y="152251"/>
                    <a:pt x="581992" y="170780"/>
                  </a:cubicBezTo>
                  <a:lnTo>
                    <a:pt x="495598" y="188193"/>
                  </a:lnTo>
                  <a:cubicBezTo>
                    <a:pt x="487338" y="161627"/>
                    <a:pt x="477738" y="136848"/>
                    <a:pt x="466799" y="113854"/>
                  </a:cubicBezTo>
                  <a:lnTo>
                    <a:pt x="426616" y="113854"/>
                  </a:lnTo>
                  <a:cubicBezTo>
                    <a:pt x="412774" y="135062"/>
                    <a:pt x="397148" y="156046"/>
                    <a:pt x="379734" y="176808"/>
                  </a:cubicBezTo>
                  <a:lnTo>
                    <a:pt x="377056" y="175468"/>
                  </a:lnTo>
                  <a:lnTo>
                    <a:pt x="377056" y="202927"/>
                  </a:lnTo>
                  <a:lnTo>
                    <a:pt x="654322" y="202927"/>
                  </a:lnTo>
                  <a:lnTo>
                    <a:pt x="654322" y="272579"/>
                  </a:lnTo>
                  <a:lnTo>
                    <a:pt x="377056" y="272579"/>
                  </a:lnTo>
                  <a:lnTo>
                    <a:pt x="377056" y="315441"/>
                  </a:lnTo>
                  <a:lnTo>
                    <a:pt x="623515" y="315441"/>
                  </a:lnTo>
                  <a:lnTo>
                    <a:pt x="623515" y="421928"/>
                  </a:lnTo>
                  <a:cubicBezTo>
                    <a:pt x="623515" y="443582"/>
                    <a:pt x="616874" y="462390"/>
                    <a:pt x="603590" y="478352"/>
                  </a:cubicBezTo>
                  <a:cubicBezTo>
                    <a:pt x="590308" y="494314"/>
                    <a:pt x="554310" y="502295"/>
                    <a:pt x="495598" y="502295"/>
                  </a:cubicBezTo>
                  <a:cubicBezTo>
                    <a:pt x="546274" y="529084"/>
                    <a:pt x="603200" y="547390"/>
                    <a:pt x="666378" y="557213"/>
                  </a:cubicBezTo>
                  <a:cubicBezTo>
                    <a:pt x="650750" y="582216"/>
                    <a:pt x="635124" y="610791"/>
                    <a:pt x="619496" y="642938"/>
                  </a:cubicBezTo>
                  <a:cubicBezTo>
                    <a:pt x="519484" y="612353"/>
                    <a:pt x="438670" y="565473"/>
                    <a:pt x="377056" y="502295"/>
                  </a:cubicBezTo>
                  <a:lnTo>
                    <a:pt x="377056" y="664369"/>
                  </a:lnTo>
                  <a:lnTo>
                    <a:pt x="288652" y="664369"/>
                  </a:lnTo>
                  <a:lnTo>
                    <a:pt x="288652" y="499951"/>
                  </a:lnTo>
                  <a:cubicBezTo>
                    <a:pt x="223242" y="564021"/>
                    <a:pt x="142428" y="613246"/>
                    <a:pt x="46211" y="647626"/>
                  </a:cubicBezTo>
                  <a:cubicBezTo>
                    <a:pt x="33709" y="622176"/>
                    <a:pt x="18306" y="594717"/>
                    <a:pt x="0" y="565249"/>
                  </a:cubicBezTo>
                  <a:cubicBezTo>
                    <a:pt x="118988" y="532656"/>
                    <a:pt x="215205" y="481310"/>
                    <a:pt x="288652" y="411212"/>
                  </a:cubicBezTo>
                  <a:lnTo>
                    <a:pt x="288652" y="383753"/>
                  </a:lnTo>
                  <a:lnTo>
                    <a:pt x="144660" y="383753"/>
                  </a:lnTo>
                  <a:lnTo>
                    <a:pt x="144660" y="503634"/>
                  </a:lnTo>
                  <a:lnTo>
                    <a:pt x="57596" y="503634"/>
                  </a:lnTo>
                  <a:lnTo>
                    <a:pt x="57596" y="315441"/>
                  </a:lnTo>
                  <a:lnTo>
                    <a:pt x="288652" y="315441"/>
                  </a:lnTo>
                  <a:lnTo>
                    <a:pt x="288652" y="272579"/>
                  </a:lnTo>
                  <a:lnTo>
                    <a:pt x="14064" y="272579"/>
                  </a:lnTo>
                  <a:lnTo>
                    <a:pt x="14064" y="202927"/>
                  </a:lnTo>
                  <a:lnTo>
                    <a:pt x="288652" y="202927"/>
                  </a:lnTo>
                  <a:lnTo>
                    <a:pt x="288652" y="172790"/>
                  </a:lnTo>
                  <a:lnTo>
                    <a:pt x="372033" y="172790"/>
                  </a:lnTo>
                  <a:cubicBezTo>
                    <a:pt x="350378" y="161627"/>
                    <a:pt x="326826" y="150242"/>
                    <a:pt x="301376" y="138633"/>
                  </a:cubicBezTo>
                  <a:lnTo>
                    <a:pt x="322323" y="113854"/>
                  </a:lnTo>
                  <a:lnTo>
                    <a:pt x="323478" y="113854"/>
                  </a:lnTo>
                  <a:lnTo>
                    <a:pt x="323478" y="112488"/>
                  </a:lnTo>
                  <a:lnTo>
                    <a:pt x="354452" y="75847"/>
                  </a:lnTo>
                  <a:cubicBezTo>
                    <a:pt x="370414" y="52741"/>
                    <a:pt x="384646" y="27459"/>
                    <a:pt x="397148" y="0"/>
                  </a:cubicBezTo>
                  <a:close/>
                  <a:moveTo>
                    <a:pt x="377056" y="383753"/>
                  </a:moveTo>
                  <a:lnTo>
                    <a:pt x="377056" y="413221"/>
                  </a:lnTo>
                  <a:cubicBezTo>
                    <a:pt x="402282" y="439117"/>
                    <a:pt x="429741" y="461777"/>
                    <a:pt x="459432" y="481199"/>
                  </a:cubicBezTo>
                  <a:cubicBezTo>
                    <a:pt x="456976" y="464232"/>
                    <a:pt x="453182" y="446484"/>
                    <a:pt x="448046" y="427955"/>
                  </a:cubicBezTo>
                  <a:cubicBezTo>
                    <a:pt x="469924" y="431527"/>
                    <a:pt x="490686" y="433313"/>
                    <a:pt x="510332" y="433313"/>
                  </a:cubicBezTo>
                  <a:cubicBezTo>
                    <a:pt x="527744" y="433313"/>
                    <a:pt x="536450" y="425500"/>
                    <a:pt x="536450" y="409873"/>
                  </a:cubicBezTo>
                  <a:lnTo>
                    <a:pt x="536450" y="383753"/>
                  </a:lnTo>
                  <a:lnTo>
                    <a:pt x="377056" y="3837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77"/>
            <p:cNvSpPr/>
            <p:nvPr/>
          </p:nvSpPr>
          <p:spPr>
            <a:xfrm>
              <a:off x="-2513160" y="4240800"/>
              <a:ext cx="555120" cy="339840"/>
            </a:xfrm>
            <a:custGeom>
              <a:avLst/>
              <a:gdLst>
                <a:gd name="textAreaLeft" fmla="*/ 0 w 555120"/>
                <a:gd name="textAreaRight" fmla="*/ 555480 w 55512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325488" h="198909">
                  <a:moveTo>
                    <a:pt x="111845" y="0"/>
                  </a:moveTo>
                  <a:lnTo>
                    <a:pt x="206946" y="0"/>
                  </a:lnTo>
                  <a:cubicBezTo>
                    <a:pt x="197570" y="17189"/>
                    <a:pt x="187859" y="33486"/>
                    <a:pt x="177813" y="48890"/>
                  </a:cubicBezTo>
                  <a:lnTo>
                    <a:pt x="325488" y="48890"/>
                  </a:lnTo>
                  <a:lnTo>
                    <a:pt x="325488" y="111818"/>
                  </a:lnTo>
                  <a:lnTo>
                    <a:pt x="324333" y="113184"/>
                  </a:lnTo>
                  <a:lnTo>
                    <a:pt x="230386" y="113184"/>
                  </a:lnTo>
                  <a:cubicBezTo>
                    <a:pt x="239986" y="132382"/>
                    <a:pt x="249586" y="153144"/>
                    <a:pt x="259184" y="175468"/>
                  </a:cubicBezTo>
                  <a:lnTo>
                    <a:pt x="172790" y="192881"/>
                  </a:lnTo>
                  <a:cubicBezTo>
                    <a:pt x="164084" y="165645"/>
                    <a:pt x="154372" y="139080"/>
                    <a:pt x="143657" y="113184"/>
                  </a:cubicBezTo>
                  <a:lnTo>
                    <a:pt x="129928" y="113184"/>
                  </a:lnTo>
                  <a:cubicBezTo>
                    <a:pt x="101799" y="146223"/>
                    <a:pt x="71214" y="174798"/>
                    <a:pt x="38175" y="198909"/>
                  </a:cubicBezTo>
                  <a:cubicBezTo>
                    <a:pt x="30584" y="176138"/>
                    <a:pt x="17860" y="149572"/>
                    <a:pt x="0" y="119211"/>
                  </a:cubicBezTo>
                  <a:cubicBezTo>
                    <a:pt x="44649" y="90190"/>
                    <a:pt x="81930" y="50453"/>
                    <a:pt x="1118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49"/>
            <p:cNvSpPr/>
            <p:nvPr/>
          </p:nvSpPr>
          <p:spPr>
            <a:xfrm>
              <a:off x="-1959480" y="4431960"/>
              <a:ext cx="1800" cy="2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155" h="1366">
                  <a:moveTo>
                    <a:pt x="1155" y="0"/>
                  </a:moveTo>
                  <a:lnTo>
                    <a:pt x="1155" y="1366"/>
                  </a:lnTo>
                  <a:lnTo>
                    <a:pt x="0" y="1366"/>
                  </a:lnTo>
                  <a:lnTo>
                    <a:pt x="1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任意多边形 91"/>
          <p:cNvSpPr/>
          <p:nvPr/>
        </p:nvSpPr>
        <p:spPr>
          <a:xfrm>
            <a:off x="-5972040" y="3429000"/>
            <a:ext cx="5495760" cy="669960"/>
          </a:xfrm>
          <a:custGeom>
            <a:avLst/>
            <a:gdLst>
              <a:gd name="textAreaLeft" fmla="*/ 0 w 5495760"/>
              <a:gd name="textAreaRight" fmla="*/ 5496120 w 549576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5495322" h="670396">
                <a:moveTo>
                  <a:pt x="5495322" y="531637"/>
                </a:moveTo>
                <a:lnTo>
                  <a:pt x="5495322" y="627192"/>
                </a:lnTo>
                <a:lnTo>
                  <a:pt x="5493097" y="627533"/>
                </a:lnTo>
                <a:lnTo>
                  <a:pt x="5482381" y="533102"/>
                </a:lnTo>
                <a:lnTo>
                  <a:pt x="5495322" y="531637"/>
                </a:lnTo>
                <a:close/>
                <a:moveTo>
                  <a:pt x="3632596" y="490909"/>
                </a:moveTo>
                <a:lnTo>
                  <a:pt x="3632596" y="582997"/>
                </a:lnTo>
                <a:cubicBezTo>
                  <a:pt x="3648670" y="583666"/>
                  <a:pt x="3659051" y="581546"/>
                  <a:pt x="3663739" y="576634"/>
                </a:cubicBezTo>
                <a:cubicBezTo>
                  <a:pt x="3668427" y="571723"/>
                  <a:pt x="3670771" y="562123"/>
                  <a:pt x="3670771" y="547836"/>
                </a:cubicBezTo>
                <a:lnTo>
                  <a:pt x="3670771" y="490909"/>
                </a:lnTo>
                <a:lnTo>
                  <a:pt x="3632596" y="490909"/>
                </a:lnTo>
                <a:close/>
                <a:moveTo>
                  <a:pt x="2302854" y="458762"/>
                </a:moveTo>
                <a:cubicBezTo>
                  <a:pt x="2294595" y="469924"/>
                  <a:pt x="2286446" y="480417"/>
                  <a:pt x="2278409" y="490239"/>
                </a:cubicBezTo>
                <a:cubicBezTo>
                  <a:pt x="2314798" y="496714"/>
                  <a:pt x="2360451" y="506201"/>
                  <a:pt x="2415368" y="518703"/>
                </a:cubicBezTo>
                <a:cubicBezTo>
                  <a:pt x="2445729" y="501736"/>
                  <a:pt x="2470732" y="481756"/>
                  <a:pt x="2490378" y="458762"/>
                </a:cubicBezTo>
                <a:lnTo>
                  <a:pt x="2302854" y="458762"/>
                </a:lnTo>
                <a:close/>
                <a:moveTo>
                  <a:pt x="3632596" y="365001"/>
                </a:moveTo>
                <a:lnTo>
                  <a:pt x="3632596" y="427955"/>
                </a:lnTo>
                <a:lnTo>
                  <a:pt x="3670771" y="427955"/>
                </a:lnTo>
                <a:lnTo>
                  <a:pt x="3670771" y="365001"/>
                </a:lnTo>
                <a:lnTo>
                  <a:pt x="3632596" y="365001"/>
                </a:lnTo>
                <a:close/>
                <a:moveTo>
                  <a:pt x="3533477" y="365001"/>
                </a:moveTo>
                <a:cubicBezTo>
                  <a:pt x="3533477" y="368126"/>
                  <a:pt x="3533142" y="389111"/>
                  <a:pt x="3532472" y="427955"/>
                </a:cubicBezTo>
                <a:lnTo>
                  <a:pt x="3568303" y="427955"/>
                </a:lnTo>
                <a:lnTo>
                  <a:pt x="3568303" y="365001"/>
                </a:lnTo>
                <a:lnTo>
                  <a:pt x="3533477" y="365001"/>
                </a:lnTo>
                <a:close/>
                <a:moveTo>
                  <a:pt x="3632596" y="238422"/>
                </a:moveTo>
                <a:lnTo>
                  <a:pt x="3632596" y="302046"/>
                </a:lnTo>
                <a:lnTo>
                  <a:pt x="3670771" y="302046"/>
                </a:lnTo>
                <a:lnTo>
                  <a:pt x="3670771" y="238422"/>
                </a:lnTo>
                <a:lnTo>
                  <a:pt x="3632596" y="238422"/>
                </a:lnTo>
                <a:close/>
                <a:moveTo>
                  <a:pt x="3533477" y="238422"/>
                </a:moveTo>
                <a:lnTo>
                  <a:pt x="3533477" y="302046"/>
                </a:lnTo>
                <a:lnTo>
                  <a:pt x="3568303" y="302046"/>
                </a:lnTo>
                <a:lnTo>
                  <a:pt x="3568303" y="238422"/>
                </a:lnTo>
                <a:lnTo>
                  <a:pt x="3533477" y="238422"/>
                </a:lnTo>
                <a:close/>
                <a:moveTo>
                  <a:pt x="2513483" y="214982"/>
                </a:moveTo>
                <a:lnTo>
                  <a:pt x="2513483" y="275257"/>
                </a:lnTo>
                <a:lnTo>
                  <a:pt x="2602557" y="275257"/>
                </a:lnTo>
                <a:lnTo>
                  <a:pt x="2602557" y="214982"/>
                </a:lnTo>
                <a:lnTo>
                  <a:pt x="2513483" y="214982"/>
                </a:lnTo>
                <a:close/>
                <a:moveTo>
                  <a:pt x="2344043" y="214982"/>
                </a:moveTo>
                <a:lnTo>
                  <a:pt x="2344043" y="275257"/>
                </a:lnTo>
                <a:lnTo>
                  <a:pt x="2433116" y="275257"/>
                </a:lnTo>
                <a:lnTo>
                  <a:pt x="2433116" y="214982"/>
                </a:lnTo>
                <a:lnTo>
                  <a:pt x="2344043" y="214982"/>
                </a:lnTo>
                <a:close/>
                <a:moveTo>
                  <a:pt x="2174602" y="214982"/>
                </a:moveTo>
                <a:lnTo>
                  <a:pt x="2174602" y="275257"/>
                </a:lnTo>
                <a:lnTo>
                  <a:pt x="2263675" y="275257"/>
                </a:lnTo>
                <a:lnTo>
                  <a:pt x="2263675" y="214982"/>
                </a:lnTo>
                <a:lnTo>
                  <a:pt x="2174602" y="214982"/>
                </a:lnTo>
                <a:close/>
                <a:moveTo>
                  <a:pt x="1838399" y="121890"/>
                </a:moveTo>
                <a:lnTo>
                  <a:pt x="1937519" y="187523"/>
                </a:lnTo>
                <a:cubicBezTo>
                  <a:pt x="1825005" y="313878"/>
                  <a:pt x="1707579" y="431973"/>
                  <a:pt x="1585243" y="541808"/>
                </a:cubicBezTo>
                <a:lnTo>
                  <a:pt x="1860835" y="526070"/>
                </a:lnTo>
                <a:cubicBezTo>
                  <a:pt x="1834492" y="486110"/>
                  <a:pt x="1807815" y="447600"/>
                  <a:pt x="1780803" y="410542"/>
                </a:cubicBezTo>
                <a:lnTo>
                  <a:pt x="1858491" y="359643"/>
                </a:lnTo>
                <a:cubicBezTo>
                  <a:pt x="1924124" y="440010"/>
                  <a:pt x="1985069" y="523056"/>
                  <a:pt x="2041326" y="608781"/>
                </a:cubicBezTo>
                <a:lnTo>
                  <a:pt x="1947564" y="665708"/>
                </a:lnTo>
                <a:lnTo>
                  <a:pt x="1916087" y="613134"/>
                </a:lnTo>
                <a:lnTo>
                  <a:pt x="1583233" y="633226"/>
                </a:lnTo>
                <a:cubicBezTo>
                  <a:pt x="1536352" y="635682"/>
                  <a:pt x="1493936" y="641821"/>
                  <a:pt x="1455985" y="651644"/>
                </a:cubicBezTo>
                <a:lnTo>
                  <a:pt x="1409774" y="553864"/>
                </a:lnTo>
                <a:cubicBezTo>
                  <a:pt x="1514028" y="499392"/>
                  <a:pt x="1656903" y="355401"/>
                  <a:pt x="1838399" y="121890"/>
                </a:cubicBezTo>
                <a:close/>
                <a:moveTo>
                  <a:pt x="3560936" y="115862"/>
                </a:moveTo>
                <a:cubicBezTo>
                  <a:pt x="3548657" y="135954"/>
                  <a:pt x="3535263" y="155376"/>
                  <a:pt x="3520752" y="174129"/>
                </a:cubicBezTo>
                <a:lnTo>
                  <a:pt x="3599445" y="174129"/>
                </a:lnTo>
                <a:lnTo>
                  <a:pt x="3631927" y="115862"/>
                </a:lnTo>
                <a:lnTo>
                  <a:pt x="3560936" y="115862"/>
                </a:lnTo>
                <a:close/>
                <a:moveTo>
                  <a:pt x="3908524" y="101128"/>
                </a:moveTo>
                <a:cubicBezTo>
                  <a:pt x="3905845" y="129480"/>
                  <a:pt x="3900375" y="154148"/>
                  <a:pt x="3892115" y="175133"/>
                </a:cubicBezTo>
                <a:cubicBezTo>
                  <a:pt x="3914440" y="176249"/>
                  <a:pt x="3931071" y="176807"/>
                  <a:pt x="3942010" y="176807"/>
                </a:cubicBezTo>
                <a:cubicBezTo>
                  <a:pt x="3958307" y="176807"/>
                  <a:pt x="3969190" y="172789"/>
                  <a:pt x="3974659" y="164752"/>
                </a:cubicBezTo>
                <a:cubicBezTo>
                  <a:pt x="3980129" y="156716"/>
                  <a:pt x="3982863" y="135508"/>
                  <a:pt x="3982863" y="101128"/>
                </a:cubicBezTo>
                <a:lnTo>
                  <a:pt x="3908524" y="101128"/>
                </a:lnTo>
                <a:close/>
                <a:moveTo>
                  <a:pt x="2344043" y="100459"/>
                </a:moveTo>
                <a:lnTo>
                  <a:pt x="2344043" y="146670"/>
                </a:lnTo>
                <a:lnTo>
                  <a:pt x="2433116" y="146670"/>
                </a:lnTo>
                <a:lnTo>
                  <a:pt x="2433116" y="100459"/>
                </a:lnTo>
                <a:lnTo>
                  <a:pt x="2344043" y="100459"/>
                </a:lnTo>
                <a:close/>
                <a:moveTo>
                  <a:pt x="4515966" y="75679"/>
                </a:moveTo>
                <a:lnTo>
                  <a:pt x="4604370" y="75679"/>
                </a:lnTo>
                <a:lnTo>
                  <a:pt x="4604370" y="480194"/>
                </a:lnTo>
                <a:lnTo>
                  <a:pt x="4515966" y="480194"/>
                </a:lnTo>
                <a:lnTo>
                  <a:pt x="4515966" y="75679"/>
                </a:lnTo>
                <a:close/>
                <a:moveTo>
                  <a:pt x="2766640" y="38844"/>
                </a:moveTo>
                <a:lnTo>
                  <a:pt x="3380109" y="38844"/>
                </a:lnTo>
                <a:lnTo>
                  <a:pt x="3380109" y="131266"/>
                </a:lnTo>
                <a:lnTo>
                  <a:pt x="3143696" y="307404"/>
                </a:lnTo>
                <a:lnTo>
                  <a:pt x="3143696" y="523726"/>
                </a:lnTo>
                <a:cubicBezTo>
                  <a:pt x="3143696" y="566142"/>
                  <a:pt x="3132813" y="597786"/>
                  <a:pt x="3111047" y="618660"/>
                </a:cubicBezTo>
                <a:cubicBezTo>
                  <a:pt x="3089281" y="639533"/>
                  <a:pt x="3056966" y="650081"/>
                  <a:pt x="3014104" y="650304"/>
                </a:cubicBezTo>
                <a:lnTo>
                  <a:pt x="2891879" y="650974"/>
                </a:lnTo>
                <a:cubicBezTo>
                  <a:pt x="2885628" y="617934"/>
                  <a:pt x="2877591" y="583778"/>
                  <a:pt x="2867769" y="548506"/>
                </a:cubicBezTo>
                <a:cubicBezTo>
                  <a:pt x="2910408" y="552524"/>
                  <a:pt x="2946015" y="554533"/>
                  <a:pt x="2974590" y="554533"/>
                </a:cubicBezTo>
                <a:cubicBezTo>
                  <a:pt x="3000933" y="554533"/>
                  <a:pt x="3018066" y="549120"/>
                  <a:pt x="3025992" y="538292"/>
                </a:cubicBezTo>
                <a:cubicBezTo>
                  <a:pt x="3033917" y="527465"/>
                  <a:pt x="3037879" y="513457"/>
                  <a:pt x="3037879" y="496267"/>
                </a:cubicBezTo>
                <a:lnTo>
                  <a:pt x="3037879" y="265881"/>
                </a:lnTo>
                <a:cubicBezTo>
                  <a:pt x="3091904" y="228823"/>
                  <a:pt x="3154189" y="184174"/>
                  <a:pt x="3224733" y="131936"/>
                </a:cubicBezTo>
                <a:lnTo>
                  <a:pt x="2766640" y="131936"/>
                </a:lnTo>
                <a:lnTo>
                  <a:pt x="2766640" y="38844"/>
                </a:lnTo>
                <a:close/>
                <a:moveTo>
                  <a:pt x="2069455" y="29468"/>
                </a:moveTo>
                <a:lnTo>
                  <a:pt x="2708374" y="29468"/>
                </a:lnTo>
                <a:lnTo>
                  <a:pt x="2708374" y="100459"/>
                </a:lnTo>
                <a:lnTo>
                  <a:pt x="2513483" y="100459"/>
                </a:lnTo>
                <a:lnTo>
                  <a:pt x="2513483" y="146670"/>
                </a:lnTo>
                <a:lnTo>
                  <a:pt x="2686943" y="146670"/>
                </a:lnTo>
                <a:lnTo>
                  <a:pt x="2686943" y="343569"/>
                </a:lnTo>
                <a:lnTo>
                  <a:pt x="2379538" y="343569"/>
                </a:lnTo>
                <a:cubicBezTo>
                  <a:pt x="2370162" y="358973"/>
                  <a:pt x="2360897" y="373707"/>
                  <a:pt x="2351744" y="387771"/>
                </a:cubicBezTo>
                <a:lnTo>
                  <a:pt x="2719759" y="387771"/>
                </a:lnTo>
                <a:lnTo>
                  <a:pt x="2719759" y="458762"/>
                </a:lnTo>
                <a:lnTo>
                  <a:pt x="2591841" y="458762"/>
                </a:lnTo>
                <a:cubicBezTo>
                  <a:pt x="2568624" y="489347"/>
                  <a:pt x="2541054" y="516805"/>
                  <a:pt x="2509130" y="541139"/>
                </a:cubicBezTo>
                <a:lnTo>
                  <a:pt x="2688952" y="586680"/>
                </a:lnTo>
                <a:lnTo>
                  <a:pt x="2648098" y="668387"/>
                </a:lnTo>
                <a:cubicBezTo>
                  <a:pt x="2565945" y="639589"/>
                  <a:pt x="2490378" y="614697"/>
                  <a:pt x="2421396" y="593712"/>
                </a:cubicBezTo>
                <a:cubicBezTo>
                  <a:pt x="2337010" y="633003"/>
                  <a:pt x="2232198" y="657894"/>
                  <a:pt x="2106959" y="668387"/>
                </a:cubicBezTo>
                <a:cubicBezTo>
                  <a:pt x="2100262" y="642937"/>
                  <a:pt x="2089993" y="616595"/>
                  <a:pt x="2076152" y="589359"/>
                </a:cubicBezTo>
                <a:cubicBezTo>
                  <a:pt x="2165002" y="585341"/>
                  <a:pt x="2240905" y="575630"/>
                  <a:pt x="2303859" y="560226"/>
                </a:cubicBezTo>
                <a:cubicBezTo>
                  <a:pt x="2245593" y="544599"/>
                  <a:pt x="2193131" y="532432"/>
                  <a:pt x="2146473" y="523726"/>
                </a:cubicBezTo>
                <a:cubicBezTo>
                  <a:pt x="2166565" y="501848"/>
                  <a:pt x="2185206" y="480194"/>
                  <a:pt x="2202395" y="458762"/>
                </a:cubicBezTo>
                <a:lnTo>
                  <a:pt x="2057400" y="458762"/>
                </a:lnTo>
                <a:lnTo>
                  <a:pt x="2057400" y="387771"/>
                </a:lnTo>
                <a:lnTo>
                  <a:pt x="2254634" y="387771"/>
                </a:lnTo>
                <a:cubicBezTo>
                  <a:pt x="2264680" y="372814"/>
                  <a:pt x="2273833" y="358080"/>
                  <a:pt x="2282093" y="343569"/>
                </a:cubicBezTo>
                <a:lnTo>
                  <a:pt x="2090216" y="343569"/>
                </a:lnTo>
                <a:lnTo>
                  <a:pt x="2090216" y="146670"/>
                </a:lnTo>
                <a:lnTo>
                  <a:pt x="2263675" y="146670"/>
                </a:lnTo>
                <a:lnTo>
                  <a:pt x="2263675" y="100459"/>
                </a:lnTo>
                <a:lnTo>
                  <a:pt x="2069455" y="100459"/>
                </a:lnTo>
                <a:lnTo>
                  <a:pt x="2069455" y="29468"/>
                </a:lnTo>
                <a:close/>
                <a:moveTo>
                  <a:pt x="3759844" y="28128"/>
                </a:moveTo>
                <a:lnTo>
                  <a:pt x="4073276" y="28128"/>
                </a:lnTo>
                <a:cubicBezTo>
                  <a:pt x="4072160" y="122783"/>
                  <a:pt x="4066970" y="180100"/>
                  <a:pt x="4057705" y="200080"/>
                </a:cubicBezTo>
                <a:cubicBezTo>
                  <a:pt x="4048441" y="220061"/>
                  <a:pt x="4035604" y="234236"/>
                  <a:pt x="4019196" y="242608"/>
                </a:cubicBezTo>
                <a:cubicBezTo>
                  <a:pt x="4002788" y="250980"/>
                  <a:pt x="3965897" y="255165"/>
                  <a:pt x="3908524" y="255165"/>
                </a:cubicBezTo>
                <a:cubicBezTo>
                  <a:pt x="3904282" y="227483"/>
                  <a:pt x="3898366" y="201811"/>
                  <a:pt x="3890776" y="178147"/>
                </a:cubicBezTo>
                <a:cubicBezTo>
                  <a:pt x="3875819" y="213419"/>
                  <a:pt x="3846016" y="244896"/>
                  <a:pt x="3801368" y="272578"/>
                </a:cubicBezTo>
                <a:cubicBezTo>
                  <a:pt x="3783955" y="248468"/>
                  <a:pt x="3763863" y="224581"/>
                  <a:pt x="3741092" y="200918"/>
                </a:cubicBezTo>
                <a:cubicBezTo>
                  <a:pt x="3791545" y="175468"/>
                  <a:pt x="3818557" y="142205"/>
                  <a:pt x="3822129" y="101128"/>
                </a:cubicBezTo>
                <a:lnTo>
                  <a:pt x="3759844" y="101128"/>
                </a:lnTo>
                <a:lnTo>
                  <a:pt x="3759844" y="28128"/>
                </a:lnTo>
                <a:close/>
                <a:moveTo>
                  <a:pt x="4991471" y="15403"/>
                </a:moveTo>
                <a:lnTo>
                  <a:pt x="5089252" y="15403"/>
                </a:lnTo>
                <a:lnTo>
                  <a:pt x="5089252" y="541808"/>
                </a:lnTo>
                <a:lnTo>
                  <a:pt x="5174977" y="541808"/>
                </a:lnTo>
                <a:lnTo>
                  <a:pt x="5174977" y="15403"/>
                </a:lnTo>
                <a:lnTo>
                  <a:pt x="5271417" y="15403"/>
                </a:lnTo>
                <a:lnTo>
                  <a:pt x="5271417" y="377391"/>
                </a:lnTo>
                <a:cubicBezTo>
                  <a:pt x="5307806" y="305060"/>
                  <a:pt x="5343301" y="221679"/>
                  <a:pt x="5377904" y="127248"/>
                </a:cubicBezTo>
                <a:lnTo>
                  <a:pt x="5464298" y="164083"/>
                </a:lnTo>
                <a:cubicBezTo>
                  <a:pt x="5430366" y="248915"/>
                  <a:pt x="5389736" y="340890"/>
                  <a:pt x="5342408" y="440010"/>
                </a:cubicBezTo>
                <a:lnTo>
                  <a:pt x="5271417" y="406859"/>
                </a:lnTo>
                <a:lnTo>
                  <a:pt x="5271417" y="541808"/>
                </a:lnTo>
                <a:lnTo>
                  <a:pt x="5464298" y="541808"/>
                </a:lnTo>
                <a:lnTo>
                  <a:pt x="5464298" y="633561"/>
                </a:lnTo>
                <a:lnTo>
                  <a:pt x="4802609" y="633561"/>
                </a:lnTo>
                <a:lnTo>
                  <a:pt x="4802609" y="541808"/>
                </a:lnTo>
                <a:lnTo>
                  <a:pt x="4991471" y="541808"/>
                </a:lnTo>
                <a:lnTo>
                  <a:pt x="4991471" y="409203"/>
                </a:lnTo>
                <a:lnTo>
                  <a:pt x="4916462" y="441349"/>
                </a:lnTo>
                <a:cubicBezTo>
                  <a:pt x="4879850" y="337319"/>
                  <a:pt x="4843239" y="241771"/>
                  <a:pt x="4806627" y="154706"/>
                </a:cubicBezTo>
                <a:lnTo>
                  <a:pt x="4886994" y="117871"/>
                </a:lnTo>
                <a:cubicBezTo>
                  <a:pt x="4925615" y="204489"/>
                  <a:pt x="4960441" y="287982"/>
                  <a:pt x="4991471" y="368349"/>
                </a:cubicBezTo>
                <a:lnTo>
                  <a:pt x="4991471" y="15403"/>
                </a:lnTo>
                <a:close/>
                <a:moveTo>
                  <a:pt x="4656608" y="14064"/>
                </a:moveTo>
                <a:lnTo>
                  <a:pt x="4745682" y="14064"/>
                </a:lnTo>
                <a:lnTo>
                  <a:pt x="4745682" y="529753"/>
                </a:lnTo>
                <a:cubicBezTo>
                  <a:pt x="4745682" y="611460"/>
                  <a:pt x="4718000" y="653430"/>
                  <a:pt x="4662636" y="655662"/>
                </a:cubicBezTo>
                <a:cubicBezTo>
                  <a:pt x="4627810" y="656555"/>
                  <a:pt x="4594547" y="657001"/>
                  <a:pt x="4562847" y="657001"/>
                </a:cubicBezTo>
                <a:cubicBezTo>
                  <a:pt x="4559275" y="626640"/>
                  <a:pt x="4552801" y="594940"/>
                  <a:pt x="4543425" y="561900"/>
                </a:cubicBezTo>
                <a:cubicBezTo>
                  <a:pt x="4562177" y="562793"/>
                  <a:pt x="4587850" y="563240"/>
                  <a:pt x="4620443" y="563240"/>
                </a:cubicBezTo>
                <a:cubicBezTo>
                  <a:pt x="4644553" y="563240"/>
                  <a:pt x="4656608" y="546943"/>
                  <a:pt x="4656608" y="514350"/>
                </a:cubicBezTo>
                <a:lnTo>
                  <a:pt x="4656608" y="14064"/>
                </a:lnTo>
                <a:close/>
                <a:moveTo>
                  <a:pt x="4268167" y="10045"/>
                </a:moveTo>
                <a:lnTo>
                  <a:pt x="4380011" y="10045"/>
                </a:lnTo>
                <a:lnTo>
                  <a:pt x="4367287" y="26119"/>
                </a:lnTo>
                <a:cubicBezTo>
                  <a:pt x="4410149" y="70767"/>
                  <a:pt x="4454128" y="119211"/>
                  <a:pt x="4499223" y="171450"/>
                </a:cubicBezTo>
                <a:lnTo>
                  <a:pt x="4427562" y="236413"/>
                </a:lnTo>
                <a:cubicBezTo>
                  <a:pt x="4394076" y="187746"/>
                  <a:pt x="4358803" y="141982"/>
                  <a:pt x="4321745" y="99119"/>
                </a:cubicBezTo>
                <a:cubicBezTo>
                  <a:pt x="4292724" y="144214"/>
                  <a:pt x="4252540" y="190425"/>
                  <a:pt x="4201194" y="237753"/>
                </a:cubicBezTo>
                <a:lnTo>
                  <a:pt x="4456360" y="237753"/>
                </a:lnTo>
                <a:cubicBezTo>
                  <a:pt x="4455467" y="260523"/>
                  <a:pt x="4453458" y="308520"/>
                  <a:pt x="4450333" y="381744"/>
                </a:cubicBezTo>
                <a:cubicBezTo>
                  <a:pt x="4448547" y="447377"/>
                  <a:pt x="4414614" y="480194"/>
                  <a:pt x="4348534" y="480194"/>
                </a:cubicBezTo>
                <a:cubicBezTo>
                  <a:pt x="4326210" y="481087"/>
                  <a:pt x="4305672" y="481087"/>
                  <a:pt x="4286919" y="480194"/>
                </a:cubicBezTo>
                <a:cubicBezTo>
                  <a:pt x="4282455" y="437778"/>
                  <a:pt x="4279106" y="410542"/>
                  <a:pt x="4276873" y="398487"/>
                </a:cubicBezTo>
                <a:cubicBezTo>
                  <a:pt x="4289375" y="399826"/>
                  <a:pt x="4311699" y="400719"/>
                  <a:pt x="4343846" y="401166"/>
                </a:cubicBezTo>
                <a:cubicBezTo>
                  <a:pt x="4357241" y="400273"/>
                  <a:pt x="4364161" y="391566"/>
                  <a:pt x="4364608" y="375046"/>
                </a:cubicBezTo>
                <a:cubicBezTo>
                  <a:pt x="4365947" y="361652"/>
                  <a:pt x="4367063" y="342676"/>
                  <a:pt x="4367956" y="318120"/>
                </a:cubicBezTo>
                <a:lnTo>
                  <a:pt x="4253433" y="318120"/>
                </a:lnTo>
                <a:lnTo>
                  <a:pt x="4253433" y="523056"/>
                </a:lnTo>
                <a:cubicBezTo>
                  <a:pt x="4253433" y="551185"/>
                  <a:pt x="4265935" y="565026"/>
                  <a:pt x="4290938" y="564579"/>
                </a:cubicBezTo>
                <a:lnTo>
                  <a:pt x="4362598" y="564579"/>
                </a:lnTo>
                <a:cubicBezTo>
                  <a:pt x="4384030" y="564579"/>
                  <a:pt x="4396085" y="554087"/>
                  <a:pt x="4398764" y="533102"/>
                </a:cubicBezTo>
                <a:cubicBezTo>
                  <a:pt x="4400103" y="524172"/>
                  <a:pt x="4402112" y="506313"/>
                  <a:pt x="4404791" y="479524"/>
                </a:cubicBezTo>
                <a:cubicBezTo>
                  <a:pt x="4435152" y="486668"/>
                  <a:pt x="4466406" y="493142"/>
                  <a:pt x="4498553" y="498946"/>
                </a:cubicBezTo>
                <a:cubicBezTo>
                  <a:pt x="4492749" y="533772"/>
                  <a:pt x="4487168" y="561454"/>
                  <a:pt x="4481810" y="581992"/>
                </a:cubicBezTo>
                <a:cubicBezTo>
                  <a:pt x="4472434" y="623515"/>
                  <a:pt x="4438278" y="644277"/>
                  <a:pt x="4379342" y="644277"/>
                </a:cubicBezTo>
                <a:lnTo>
                  <a:pt x="4277543" y="644277"/>
                </a:lnTo>
                <a:cubicBezTo>
                  <a:pt x="4202980" y="644277"/>
                  <a:pt x="4165699" y="613692"/>
                  <a:pt x="4165699" y="552524"/>
                </a:cubicBezTo>
                <a:lnTo>
                  <a:pt x="4165699" y="269899"/>
                </a:lnTo>
                <a:cubicBezTo>
                  <a:pt x="4159448" y="275257"/>
                  <a:pt x="4152974" y="280615"/>
                  <a:pt x="4146277" y="285973"/>
                </a:cubicBezTo>
                <a:cubicBezTo>
                  <a:pt x="4138687" y="266328"/>
                  <a:pt x="4125515" y="237976"/>
                  <a:pt x="4106763" y="200918"/>
                </a:cubicBezTo>
                <a:cubicBezTo>
                  <a:pt x="4185344" y="133498"/>
                  <a:pt x="4239146" y="69874"/>
                  <a:pt x="4268167" y="10045"/>
                </a:cubicBezTo>
                <a:close/>
                <a:moveTo>
                  <a:pt x="256505" y="4018"/>
                </a:moveTo>
                <a:lnTo>
                  <a:pt x="359643" y="4018"/>
                </a:lnTo>
                <a:lnTo>
                  <a:pt x="347588" y="153367"/>
                </a:lnTo>
                <a:lnTo>
                  <a:pt x="632891" y="153367"/>
                </a:lnTo>
                <a:lnTo>
                  <a:pt x="617153" y="413556"/>
                </a:lnTo>
                <a:cubicBezTo>
                  <a:pt x="612018" y="497495"/>
                  <a:pt x="607721" y="547724"/>
                  <a:pt x="604261" y="564244"/>
                </a:cubicBezTo>
                <a:cubicBezTo>
                  <a:pt x="600800" y="580764"/>
                  <a:pt x="593154" y="596391"/>
                  <a:pt x="581322" y="611125"/>
                </a:cubicBezTo>
                <a:cubicBezTo>
                  <a:pt x="569490" y="625859"/>
                  <a:pt x="554645" y="636575"/>
                  <a:pt x="536785" y="643272"/>
                </a:cubicBezTo>
                <a:cubicBezTo>
                  <a:pt x="518926" y="649969"/>
                  <a:pt x="486277" y="653932"/>
                  <a:pt x="438838" y="655160"/>
                </a:cubicBezTo>
                <a:cubicBezTo>
                  <a:pt x="391399" y="656387"/>
                  <a:pt x="356518" y="656555"/>
                  <a:pt x="334193" y="655662"/>
                </a:cubicBezTo>
                <a:cubicBezTo>
                  <a:pt x="330175" y="630212"/>
                  <a:pt x="321915" y="596726"/>
                  <a:pt x="309413" y="555203"/>
                </a:cubicBezTo>
                <a:cubicBezTo>
                  <a:pt x="364108" y="558998"/>
                  <a:pt x="407305" y="560896"/>
                  <a:pt x="439005" y="560896"/>
                </a:cubicBezTo>
                <a:cubicBezTo>
                  <a:pt x="464009" y="560896"/>
                  <a:pt x="481366" y="558496"/>
                  <a:pt x="491077" y="553696"/>
                </a:cubicBezTo>
                <a:cubicBezTo>
                  <a:pt x="500788" y="548896"/>
                  <a:pt x="507485" y="541976"/>
                  <a:pt x="511169" y="532935"/>
                </a:cubicBezTo>
                <a:cubicBezTo>
                  <a:pt x="514852" y="523893"/>
                  <a:pt x="518591" y="493644"/>
                  <a:pt x="522386" y="442187"/>
                </a:cubicBezTo>
                <a:cubicBezTo>
                  <a:pt x="526182" y="390729"/>
                  <a:pt x="530200" y="323924"/>
                  <a:pt x="534442" y="241771"/>
                </a:cubicBezTo>
                <a:lnTo>
                  <a:pt x="340891" y="241771"/>
                </a:lnTo>
                <a:cubicBezTo>
                  <a:pt x="336649" y="281285"/>
                  <a:pt x="329282" y="318789"/>
                  <a:pt x="318789" y="354285"/>
                </a:cubicBezTo>
                <a:lnTo>
                  <a:pt x="379065" y="298028"/>
                </a:lnTo>
                <a:cubicBezTo>
                  <a:pt x="410319" y="325263"/>
                  <a:pt x="447824" y="358973"/>
                  <a:pt x="491579" y="399157"/>
                </a:cubicBezTo>
                <a:lnTo>
                  <a:pt x="420588" y="467469"/>
                </a:lnTo>
                <a:cubicBezTo>
                  <a:pt x="380628" y="421927"/>
                  <a:pt x="346248" y="385650"/>
                  <a:pt x="317450" y="358638"/>
                </a:cubicBezTo>
                <a:cubicBezTo>
                  <a:pt x="278829" y="487672"/>
                  <a:pt x="199578" y="590922"/>
                  <a:pt x="79697" y="668387"/>
                </a:cubicBezTo>
                <a:cubicBezTo>
                  <a:pt x="47997" y="638472"/>
                  <a:pt x="21431" y="614585"/>
                  <a:pt x="0" y="596726"/>
                </a:cubicBezTo>
                <a:cubicBezTo>
                  <a:pt x="141758" y="511224"/>
                  <a:pt x="221902" y="392906"/>
                  <a:pt x="240431" y="241771"/>
                </a:cubicBezTo>
                <a:lnTo>
                  <a:pt x="14064" y="241771"/>
                </a:lnTo>
                <a:lnTo>
                  <a:pt x="14064" y="153367"/>
                </a:lnTo>
                <a:lnTo>
                  <a:pt x="133945" y="153367"/>
                </a:lnTo>
                <a:cubicBezTo>
                  <a:pt x="110504" y="123229"/>
                  <a:pt x="83716" y="92422"/>
                  <a:pt x="53578" y="60945"/>
                </a:cubicBezTo>
                <a:lnTo>
                  <a:pt x="119211" y="4688"/>
                </a:lnTo>
                <a:cubicBezTo>
                  <a:pt x="154037" y="36834"/>
                  <a:pt x="185514" y="67419"/>
                  <a:pt x="213642" y="96440"/>
                </a:cubicBezTo>
                <a:lnTo>
                  <a:pt x="150353" y="153367"/>
                </a:lnTo>
                <a:lnTo>
                  <a:pt x="247129" y="153367"/>
                </a:lnTo>
                <a:lnTo>
                  <a:pt x="256505" y="4018"/>
                </a:lnTo>
                <a:close/>
                <a:moveTo>
                  <a:pt x="1070892" y="3348"/>
                </a:moveTo>
                <a:lnTo>
                  <a:pt x="1171352" y="3348"/>
                </a:lnTo>
                <a:lnTo>
                  <a:pt x="1171352" y="213642"/>
                </a:lnTo>
                <a:lnTo>
                  <a:pt x="1349499" y="213642"/>
                </a:lnTo>
                <a:lnTo>
                  <a:pt x="1349499" y="303386"/>
                </a:lnTo>
                <a:lnTo>
                  <a:pt x="1171352" y="303386"/>
                </a:lnTo>
                <a:lnTo>
                  <a:pt x="1171352" y="665038"/>
                </a:lnTo>
                <a:lnTo>
                  <a:pt x="1070892" y="665038"/>
                </a:lnTo>
                <a:lnTo>
                  <a:pt x="1070892" y="303386"/>
                </a:lnTo>
                <a:lnTo>
                  <a:pt x="896763" y="303386"/>
                </a:lnTo>
                <a:lnTo>
                  <a:pt x="896763" y="213642"/>
                </a:lnTo>
                <a:lnTo>
                  <a:pt x="1070892" y="213642"/>
                </a:lnTo>
                <a:lnTo>
                  <a:pt x="1070892" y="3348"/>
                </a:lnTo>
                <a:close/>
                <a:moveTo>
                  <a:pt x="1665610" y="2009"/>
                </a:moveTo>
                <a:lnTo>
                  <a:pt x="1763390" y="60945"/>
                </a:lnTo>
                <a:cubicBezTo>
                  <a:pt x="1672753" y="173459"/>
                  <a:pt x="1572295" y="272802"/>
                  <a:pt x="1462013" y="358973"/>
                </a:cubicBezTo>
                <a:cubicBezTo>
                  <a:pt x="1441921" y="333523"/>
                  <a:pt x="1416025" y="306734"/>
                  <a:pt x="1384325" y="278606"/>
                </a:cubicBezTo>
                <a:cubicBezTo>
                  <a:pt x="1492374" y="200918"/>
                  <a:pt x="1586135" y="108719"/>
                  <a:pt x="1665610" y="2009"/>
                </a:cubicBezTo>
                <a:close/>
                <a:moveTo>
                  <a:pt x="3532808" y="0"/>
                </a:moveTo>
                <a:lnTo>
                  <a:pt x="3614514" y="10715"/>
                </a:lnTo>
                <a:cubicBezTo>
                  <a:pt x="3608933" y="24110"/>
                  <a:pt x="3603017" y="37281"/>
                  <a:pt x="3596766" y="50229"/>
                </a:cubicBezTo>
                <a:lnTo>
                  <a:pt x="3718321" y="50229"/>
                </a:lnTo>
                <a:lnTo>
                  <a:pt x="3718321" y="113183"/>
                </a:lnTo>
                <a:lnTo>
                  <a:pt x="3684165" y="174129"/>
                </a:lnTo>
                <a:lnTo>
                  <a:pt x="3740422" y="174129"/>
                </a:lnTo>
                <a:lnTo>
                  <a:pt x="3740422" y="409203"/>
                </a:lnTo>
                <a:cubicBezTo>
                  <a:pt x="3766988" y="365894"/>
                  <a:pt x="3783955" y="320799"/>
                  <a:pt x="3791322" y="273918"/>
                </a:cubicBezTo>
                <a:lnTo>
                  <a:pt x="3864322" y="283964"/>
                </a:lnTo>
                <a:cubicBezTo>
                  <a:pt x="3861866" y="298028"/>
                  <a:pt x="3859076" y="311646"/>
                  <a:pt x="3855950" y="324817"/>
                </a:cubicBezTo>
                <a:lnTo>
                  <a:pt x="3897138" y="324817"/>
                </a:lnTo>
                <a:lnTo>
                  <a:pt x="3897138" y="268560"/>
                </a:lnTo>
                <a:lnTo>
                  <a:pt x="3981524" y="268560"/>
                </a:lnTo>
                <a:lnTo>
                  <a:pt x="3981524" y="324817"/>
                </a:lnTo>
                <a:lnTo>
                  <a:pt x="4074616" y="324817"/>
                </a:lnTo>
                <a:lnTo>
                  <a:pt x="4074616" y="398487"/>
                </a:lnTo>
                <a:lnTo>
                  <a:pt x="3981524" y="398487"/>
                </a:lnTo>
                <a:lnTo>
                  <a:pt x="3981524" y="472157"/>
                </a:lnTo>
                <a:lnTo>
                  <a:pt x="4090689" y="472157"/>
                </a:lnTo>
                <a:lnTo>
                  <a:pt x="4090689" y="545827"/>
                </a:lnTo>
                <a:lnTo>
                  <a:pt x="3981524" y="545827"/>
                </a:lnTo>
                <a:lnTo>
                  <a:pt x="3981524" y="662359"/>
                </a:lnTo>
                <a:lnTo>
                  <a:pt x="3897138" y="662359"/>
                </a:lnTo>
                <a:lnTo>
                  <a:pt x="3897138" y="545827"/>
                </a:lnTo>
                <a:lnTo>
                  <a:pt x="3759175" y="545827"/>
                </a:lnTo>
                <a:lnTo>
                  <a:pt x="3759175" y="472157"/>
                </a:lnTo>
                <a:lnTo>
                  <a:pt x="3897138" y="472157"/>
                </a:lnTo>
                <a:lnTo>
                  <a:pt x="3897138" y="398487"/>
                </a:lnTo>
                <a:lnTo>
                  <a:pt x="3834184" y="398487"/>
                </a:lnTo>
                <a:cubicBezTo>
                  <a:pt x="3825701" y="420588"/>
                  <a:pt x="3816101" y="440680"/>
                  <a:pt x="3805386" y="458762"/>
                </a:cubicBezTo>
                <a:cubicBezTo>
                  <a:pt x="3781722" y="445591"/>
                  <a:pt x="3760068" y="434764"/>
                  <a:pt x="3740422" y="426281"/>
                </a:cubicBezTo>
                <a:lnTo>
                  <a:pt x="3740422" y="569267"/>
                </a:lnTo>
                <a:cubicBezTo>
                  <a:pt x="3740422" y="595163"/>
                  <a:pt x="3735958" y="615311"/>
                  <a:pt x="3727028" y="629710"/>
                </a:cubicBezTo>
                <a:cubicBezTo>
                  <a:pt x="3718098" y="644109"/>
                  <a:pt x="3704871" y="652704"/>
                  <a:pt x="3687347" y="655495"/>
                </a:cubicBezTo>
                <a:cubicBezTo>
                  <a:pt x="3669822" y="658285"/>
                  <a:pt x="3650009" y="659680"/>
                  <a:pt x="3627908" y="659680"/>
                </a:cubicBezTo>
                <a:lnTo>
                  <a:pt x="3619537" y="617488"/>
                </a:lnTo>
                <a:lnTo>
                  <a:pt x="3568303" y="617488"/>
                </a:lnTo>
                <a:lnTo>
                  <a:pt x="3568303" y="490909"/>
                </a:lnTo>
                <a:lnTo>
                  <a:pt x="3528454" y="490909"/>
                </a:lnTo>
                <a:cubicBezTo>
                  <a:pt x="3521757" y="566588"/>
                  <a:pt x="3508251" y="626417"/>
                  <a:pt x="3487935" y="670396"/>
                </a:cubicBezTo>
                <a:cubicBezTo>
                  <a:pt x="3466058" y="643160"/>
                  <a:pt x="3445073" y="620390"/>
                  <a:pt x="3424981" y="602084"/>
                </a:cubicBezTo>
                <a:cubicBezTo>
                  <a:pt x="3449984" y="544934"/>
                  <a:pt x="3462486" y="461441"/>
                  <a:pt x="3462486" y="351606"/>
                </a:cubicBezTo>
                <a:lnTo>
                  <a:pt x="3462486" y="240766"/>
                </a:lnTo>
                <a:cubicBezTo>
                  <a:pt x="3458244" y="245008"/>
                  <a:pt x="3454003" y="249138"/>
                  <a:pt x="3449761" y="253156"/>
                </a:cubicBezTo>
                <a:cubicBezTo>
                  <a:pt x="3444403" y="224135"/>
                  <a:pt x="3436590" y="193104"/>
                  <a:pt x="3426321" y="160064"/>
                </a:cubicBezTo>
                <a:cubicBezTo>
                  <a:pt x="3472309" y="113183"/>
                  <a:pt x="3507804" y="59829"/>
                  <a:pt x="3532808" y="0"/>
                </a:cubicBezTo>
                <a:close/>
                <a:moveTo>
                  <a:pt x="825103" y="0"/>
                </a:moveTo>
                <a:lnTo>
                  <a:pt x="920204" y="28128"/>
                </a:lnTo>
                <a:cubicBezTo>
                  <a:pt x="904800" y="72107"/>
                  <a:pt x="887611" y="115193"/>
                  <a:pt x="868635" y="157385"/>
                </a:cubicBezTo>
                <a:lnTo>
                  <a:pt x="868635" y="665708"/>
                </a:lnTo>
                <a:lnTo>
                  <a:pt x="777552" y="665708"/>
                </a:lnTo>
                <a:lnTo>
                  <a:pt x="777552" y="330845"/>
                </a:lnTo>
                <a:cubicBezTo>
                  <a:pt x="758130" y="362768"/>
                  <a:pt x="737592" y="394245"/>
                  <a:pt x="715937" y="425276"/>
                </a:cubicBezTo>
                <a:cubicBezTo>
                  <a:pt x="707454" y="388664"/>
                  <a:pt x="696739" y="346471"/>
                  <a:pt x="683791" y="298698"/>
                </a:cubicBezTo>
                <a:cubicBezTo>
                  <a:pt x="740047" y="208061"/>
                  <a:pt x="787152" y="108495"/>
                  <a:pt x="82510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-1249200" y="4487760"/>
            <a:ext cx="173196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02" descr=""/>
          <p:cNvPicPr/>
          <p:nvPr/>
        </p:nvPicPr>
        <p:blipFill>
          <a:blip r:embed="rId1"/>
          <a:stretch/>
        </p:blipFill>
        <p:spPr>
          <a:xfrm>
            <a:off x="4289400" y="1790640"/>
            <a:ext cx="3162240" cy="51548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22" descr=""/>
          <p:cNvPicPr/>
          <p:nvPr/>
        </p:nvPicPr>
        <p:blipFill>
          <a:blip r:embed="rId2"/>
          <a:stretch/>
        </p:blipFill>
        <p:spPr>
          <a:xfrm>
            <a:off x="7451640" y="1866960"/>
            <a:ext cx="2840040" cy="224460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31"/>
          <p:cNvSpPr/>
          <p:nvPr/>
        </p:nvSpPr>
        <p:spPr>
          <a:xfrm>
            <a:off x="9990000" y="822240"/>
            <a:ext cx="1514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147"/>
          <p:cNvGrpSpPr/>
          <p:nvPr/>
        </p:nvGrpSpPr>
        <p:grpSpPr>
          <a:xfrm>
            <a:off x="1571760" y="1496880"/>
            <a:ext cx="1736640" cy="1722600"/>
            <a:chOff x="1571760" y="1496880"/>
            <a:chExt cx="1736640" cy="1722600"/>
          </a:xfrm>
        </p:grpSpPr>
        <p:sp>
          <p:nvSpPr>
            <p:cNvPr id="82" name="Freeform 23"/>
            <p:cNvSpPr/>
            <p:nvPr/>
          </p:nvSpPr>
          <p:spPr>
            <a:xfrm>
              <a:off x="2429640" y="1496880"/>
              <a:ext cx="21960" cy="264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6" h="70">
                  <a:moveTo>
                    <a:pt x="3" y="70"/>
                  </a:moveTo>
                  <a:cubicBezTo>
                    <a:pt x="1" y="70"/>
                    <a:pt x="0" y="68"/>
                    <a:pt x="0" y="67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ubicBezTo>
                    <a:pt x="6" y="67"/>
                    <a:pt x="6" y="67"/>
                    <a:pt x="6" y="67"/>
                  </a:cubicBezTo>
                  <a:cubicBezTo>
                    <a:pt x="6" y="68"/>
                    <a:pt x="5" y="70"/>
                    <a:pt x="3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>
              <a:off x="1999080" y="1609560"/>
              <a:ext cx="146160" cy="2347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9" h="62">
                  <a:moveTo>
                    <a:pt x="36" y="62"/>
                  </a:moveTo>
                  <a:cubicBezTo>
                    <a:pt x="35" y="62"/>
                    <a:pt x="33" y="61"/>
                    <a:pt x="33" y="60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1" y="1"/>
                    <a:pt x="2" y="1"/>
                  </a:cubicBezTo>
                  <a:cubicBezTo>
                    <a:pt x="4" y="0"/>
                    <a:pt x="5" y="0"/>
                    <a:pt x="6" y="2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9" y="59"/>
                    <a:pt x="39" y="60"/>
                    <a:pt x="37" y="61"/>
                  </a:cubicBezTo>
                  <a:cubicBezTo>
                    <a:pt x="37" y="61"/>
                    <a:pt x="36" y="62"/>
                    <a:pt x="36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5"/>
            <p:cNvSpPr/>
            <p:nvPr/>
          </p:nvSpPr>
          <p:spPr>
            <a:xfrm>
              <a:off x="1684440" y="1923840"/>
              <a:ext cx="235080" cy="1425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62" h="38">
                  <a:moveTo>
                    <a:pt x="59" y="38"/>
                  </a:moveTo>
                  <a:cubicBezTo>
                    <a:pt x="58" y="38"/>
                    <a:pt x="58" y="38"/>
                    <a:pt x="57" y="38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2" y="0"/>
                    <a:pt x="4" y="0"/>
                    <a:pt x="5" y="1"/>
                  </a:cubicBezTo>
                  <a:cubicBezTo>
                    <a:pt x="60" y="33"/>
                    <a:pt x="60" y="33"/>
                    <a:pt x="60" y="33"/>
                  </a:cubicBezTo>
                  <a:cubicBezTo>
                    <a:pt x="62" y="33"/>
                    <a:pt x="62" y="35"/>
                    <a:pt x="62" y="37"/>
                  </a:cubicBezTo>
                  <a:cubicBezTo>
                    <a:pt x="61" y="38"/>
                    <a:pt x="60" y="38"/>
                    <a:pt x="59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6"/>
            <p:cNvSpPr/>
            <p:nvPr/>
          </p:nvSpPr>
          <p:spPr>
            <a:xfrm>
              <a:off x="1571760" y="2354040"/>
              <a:ext cx="263520" cy="219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0" h="6">
                  <a:moveTo>
                    <a:pt x="67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0" y="4"/>
                    <a:pt x="0" y="3"/>
                  </a:cubicBezTo>
                  <a:cubicBezTo>
                    <a:pt x="0" y="1"/>
                    <a:pt x="2" y="0"/>
                    <a:pt x="3" y="0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9" y="0"/>
                    <a:pt x="70" y="1"/>
                    <a:pt x="70" y="3"/>
                  </a:cubicBezTo>
                  <a:cubicBezTo>
                    <a:pt x="70" y="4"/>
                    <a:pt x="69" y="6"/>
                    <a:pt x="6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7"/>
            <p:cNvSpPr/>
            <p:nvPr/>
          </p:nvSpPr>
          <p:spPr>
            <a:xfrm>
              <a:off x="1684440" y="2660400"/>
              <a:ext cx="235080" cy="1425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62" h="38">
                  <a:moveTo>
                    <a:pt x="4" y="38"/>
                  </a:moveTo>
                  <a:cubicBezTo>
                    <a:pt x="3" y="38"/>
                    <a:pt x="2" y="38"/>
                    <a:pt x="1" y="37"/>
                  </a:cubicBezTo>
                  <a:cubicBezTo>
                    <a:pt x="0" y="35"/>
                    <a:pt x="1" y="33"/>
                    <a:pt x="2" y="32"/>
                  </a:cubicBezTo>
                  <a:cubicBezTo>
                    <a:pt x="57" y="1"/>
                    <a:pt x="57" y="1"/>
                    <a:pt x="57" y="1"/>
                  </a:cubicBezTo>
                  <a:cubicBezTo>
                    <a:pt x="59" y="0"/>
                    <a:pt x="61" y="0"/>
                    <a:pt x="62" y="2"/>
                  </a:cubicBezTo>
                  <a:cubicBezTo>
                    <a:pt x="62" y="3"/>
                    <a:pt x="62" y="5"/>
                    <a:pt x="61" y="6"/>
                  </a:cubicBezTo>
                  <a:cubicBezTo>
                    <a:pt x="5" y="38"/>
                    <a:pt x="5" y="38"/>
                    <a:pt x="5" y="38"/>
                  </a:cubicBezTo>
                  <a:cubicBezTo>
                    <a:pt x="5" y="38"/>
                    <a:pt x="4" y="38"/>
                    <a:pt x="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1999080" y="2882880"/>
              <a:ext cx="146160" cy="2332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39" h="62">
                  <a:moveTo>
                    <a:pt x="4" y="62"/>
                  </a:moveTo>
                  <a:cubicBezTo>
                    <a:pt x="3" y="62"/>
                    <a:pt x="3" y="62"/>
                    <a:pt x="2" y="62"/>
                  </a:cubicBezTo>
                  <a:cubicBezTo>
                    <a:pt x="1" y="61"/>
                    <a:pt x="0" y="59"/>
                    <a:pt x="1" y="58"/>
                  </a:cubicBezTo>
                  <a:cubicBezTo>
                    <a:pt x="33" y="2"/>
                    <a:pt x="33" y="2"/>
                    <a:pt x="33" y="2"/>
                  </a:cubicBezTo>
                  <a:cubicBezTo>
                    <a:pt x="34" y="1"/>
                    <a:pt x="36" y="0"/>
                    <a:pt x="37" y="1"/>
                  </a:cubicBezTo>
                  <a:cubicBezTo>
                    <a:pt x="39" y="2"/>
                    <a:pt x="39" y="4"/>
                    <a:pt x="38" y="5"/>
                  </a:cubicBezTo>
                  <a:cubicBezTo>
                    <a:pt x="6" y="61"/>
                    <a:pt x="6" y="61"/>
                    <a:pt x="6" y="61"/>
                  </a:cubicBezTo>
                  <a:cubicBezTo>
                    <a:pt x="6" y="62"/>
                    <a:pt x="5" y="62"/>
                    <a:pt x="4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>
              <a:off x="2734920" y="2882880"/>
              <a:ext cx="147600" cy="2332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39" h="62">
                  <a:moveTo>
                    <a:pt x="36" y="62"/>
                  </a:moveTo>
                  <a:cubicBezTo>
                    <a:pt x="34" y="62"/>
                    <a:pt x="33" y="62"/>
                    <a:pt x="33" y="61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1" y="2"/>
                    <a:pt x="2" y="1"/>
                  </a:cubicBezTo>
                  <a:cubicBezTo>
                    <a:pt x="3" y="0"/>
                    <a:pt x="5" y="1"/>
                    <a:pt x="6" y="2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9" y="59"/>
                    <a:pt x="38" y="61"/>
                    <a:pt x="37" y="62"/>
                  </a:cubicBezTo>
                  <a:cubicBezTo>
                    <a:pt x="37" y="62"/>
                    <a:pt x="36" y="62"/>
                    <a:pt x="36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>
              <a:off x="2962080" y="2660400"/>
              <a:ext cx="233280" cy="1425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62" h="38">
                  <a:moveTo>
                    <a:pt x="58" y="38"/>
                  </a:moveTo>
                  <a:cubicBezTo>
                    <a:pt x="58" y="38"/>
                    <a:pt x="57" y="38"/>
                    <a:pt x="57" y="38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0" y="5"/>
                    <a:pt x="0" y="3"/>
                    <a:pt x="1" y="2"/>
                  </a:cubicBezTo>
                  <a:cubicBezTo>
                    <a:pt x="1" y="0"/>
                    <a:pt x="3" y="0"/>
                    <a:pt x="5" y="0"/>
                  </a:cubicBezTo>
                  <a:cubicBezTo>
                    <a:pt x="60" y="32"/>
                    <a:pt x="60" y="32"/>
                    <a:pt x="60" y="32"/>
                  </a:cubicBezTo>
                  <a:cubicBezTo>
                    <a:pt x="61" y="33"/>
                    <a:pt x="62" y="35"/>
                    <a:pt x="61" y="37"/>
                  </a:cubicBezTo>
                  <a:cubicBezTo>
                    <a:pt x="61" y="38"/>
                    <a:pt x="60" y="38"/>
                    <a:pt x="58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>
              <a:off x="3044880" y="2354040"/>
              <a:ext cx="263520" cy="219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0" h="6">
                  <a:moveTo>
                    <a:pt x="67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9" y="0"/>
                    <a:pt x="70" y="1"/>
                    <a:pt x="70" y="3"/>
                  </a:cubicBezTo>
                  <a:cubicBezTo>
                    <a:pt x="70" y="4"/>
                    <a:pt x="69" y="6"/>
                    <a:pt x="6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>
              <a:off x="2962080" y="1923840"/>
              <a:ext cx="233280" cy="1425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62" h="38">
                  <a:moveTo>
                    <a:pt x="3" y="38"/>
                  </a:moveTo>
                  <a:cubicBezTo>
                    <a:pt x="2" y="38"/>
                    <a:pt x="1" y="38"/>
                    <a:pt x="0" y="37"/>
                  </a:cubicBezTo>
                  <a:cubicBezTo>
                    <a:pt x="0" y="35"/>
                    <a:pt x="0" y="33"/>
                    <a:pt x="2" y="33"/>
                  </a:cubicBezTo>
                  <a:cubicBezTo>
                    <a:pt x="57" y="1"/>
                    <a:pt x="57" y="1"/>
                    <a:pt x="57" y="1"/>
                  </a:cubicBezTo>
                  <a:cubicBezTo>
                    <a:pt x="58" y="0"/>
                    <a:pt x="60" y="0"/>
                    <a:pt x="61" y="2"/>
                  </a:cubicBezTo>
                  <a:cubicBezTo>
                    <a:pt x="62" y="3"/>
                    <a:pt x="61" y="5"/>
                    <a:pt x="60" y="6"/>
                  </a:cubicBezTo>
                  <a:cubicBezTo>
                    <a:pt x="5" y="38"/>
                    <a:pt x="5" y="38"/>
                    <a:pt x="5" y="38"/>
                  </a:cubicBezTo>
                  <a:cubicBezTo>
                    <a:pt x="4" y="38"/>
                    <a:pt x="4" y="38"/>
                    <a:pt x="3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>
              <a:off x="2734920" y="1609560"/>
              <a:ext cx="147600" cy="2347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9" h="62">
                  <a:moveTo>
                    <a:pt x="3" y="62"/>
                  </a:moveTo>
                  <a:cubicBezTo>
                    <a:pt x="3" y="62"/>
                    <a:pt x="2" y="61"/>
                    <a:pt x="2" y="61"/>
                  </a:cubicBezTo>
                  <a:cubicBezTo>
                    <a:pt x="0" y="60"/>
                    <a:pt x="0" y="58"/>
                    <a:pt x="1" y="57"/>
                  </a:cubicBezTo>
                  <a:cubicBezTo>
                    <a:pt x="33" y="2"/>
                    <a:pt x="33" y="2"/>
                    <a:pt x="33" y="2"/>
                  </a:cubicBezTo>
                  <a:cubicBezTo>
                    <a:pt x="34" y="0"/>
                    <a:pt x="35" y="0"/>
                    <a:pt x="37" y="1"/>
                  </a:cubicBezTo>
                  <a:cubicBezTo>
                    <a:pt x="38" y="1"/>
                    <a:pt x="39" y="3"/>
                    <a:pt x="38" y="5"/>
                  </a:cubicBezTo>
                  <a:cubicBezTo>
                    <a:pt x="6" y="60"/>
                    <a:pt x="6" y="60"/>
                    <a:pt x="6" y="60"/>
                  </a:cubicBezTo>
                  <a:cubicBezTo>
                    <a:pt x="6" y="61"/>
                    <a:pt x="5" y="62"/>
                    <a:pt x="3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>
              <a:off x="2429640" y="1496880"/>
              <a:ext cx="21960" cy="264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6" h="70">
                  <a:moveTo>
                    <a:pt x="3" y="70"/>
                  </a:moveTo>
                  <a:cubicBezTo>
                    <a:pt x="1" y="70"/>
                    <a:pt x="0" y="68"/>
                    <a:pt x="0" y="67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ubicBezTo>
                    <a:pt x="6" y="67"/>
                    <a:pt x="6" y="67"/>
                    <a:pt x="6" y="67"/>
                  </a:cubicBezTo>
                  <a:cubicBezTo>
                    <a:pt x="6" y="68"/>
                    <a:pt x="5" y="70"/>
                    <a:pt x="3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2417760" y="2954520"/>
              <a:ext cx="21960" cy="264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6" h="70">
                  <a:moveTo>
                    <a:pt x="3" y="70"/>
                  </a:moveTo>
                  <a:cubicBezTo>
                    <a:pt x="1" y="70"/>
                    <a:pt x="0" y="68"/>
                    <a:pt x="0" y="67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3"/>
                  </a:cubicBezTo>
                  <a:cubicBezTo>
                    <a:pt x="6" y="67"/>
                    <a:pt x="6" y="67"/>
                    <a:pt x="6" y="67"/>
                  </a:cubicBezTo>
                  <a:cubicBezTo>
                    <a:pt x="6" y="68"/>
                    <a:pt x="5" y="70"/>
                    <a:pt x="3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148"/>
          <p:cNvGrpSpPr/>
          <p:nvPr/>
        </p:nvGrpSpPr>
        <p:grpSpPr>
          <a:xfrm>
            <a:off x="2003400" y="1987560"/>
            <a:ext cx="874800" cy="1346040"/>
            <a:chOff x="2003400" y="1987560"/>
            <a:chExt cx="874800" cy="1346040"/>
          </a:xfrm>
        </p:grpSpPr>
        <p:sp>
          <p:nvSpPr>
            <p:cNvPr id="96" name="Freeform 5"/>
            <p:cNvSpPr/>
            <p:nvPr/>
          </p:nvSpPr>
          <p:spPr>
            <a:xfrm>
              <a:off x="2003400" y="1987560"/>
              <a:ext cx="874800" cy="106164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1061640"/>
                <a:gd name="textAreaBottom" fmla="*/ 1062000 h 1061640"/>
              </a:gdLst>
              <a:ahLst/>
              <a:rect l="textAreaLeft" t="textAreaTop" r="textAreaRight" b="textAreaBottom"/>
              <a:pathLst>
                <a:path w="232" h="281">
                  <a:moveTo>
                    <a:pt x="0" y="116"/>
                  </a:moveTo>
                  <a:cubicBezTo>
                    <a:pt x="0" y="52"/>
                    <a:pt x="52" y="0"/>
                    <a:pt x="116" y="0"/>
                  </a:cubicBezTo>
                  <a:cubicBezTo>
                    <a:pt x="180" y="0"/>
                    <a:pt x="232" y="52"/>
                    <a:pt x="232" y="116"/>
                  </a:cubicBezTo>
                  <a:cubicBezTo>
                    <a:pt x="232" y="120"/>
                    <a:pt x="230" y="174"/>
                    <a:pt x="186" y="230"/>
                  </a:cubicBezTo>
                  <a:cubicBezTo>
                    <a:pt x="173" y="247"/>
                    <a:pt x="175" y="281"/>
                    <a:pt x="175" y="281"/>
                  </a:cubicBezTo>
                  <a:cubicBezTo>
                    <a:pt x="157" y="281"/>
                    <a:pt x="142" y="281"/>
                    <a:pt x="124" y="281"/>
                  </a:cubicBezTo>
                  <a:cubicBezTo>
                    <a:pt x="119" y="281"/>
                    <a:pt x="113" y="281"/>
                    <a:pt x="108" y="281"/>
                  </a:cubicBezTo>
                  <a:cubicBezTo>
                    <a:pt x="90" y="281"/>
                    <a:pt x="75" y="281"/>
                    <a:pt x="57" y="281"/>
                  </a:cubicBezTo>
                  <a:cubicBezTo>
                    <a:pt x="57" y="281"/>
                    <a:pt x="59" y="247"/>
                    <a:pt x="46" y="230"/>
                  </a:cubicBezTo>
                  <a:cubicBezTo>
                    <a:pt x="2" y="174"/>
                    <a:pt x="0" y="120"/>
                    <a:pt x="0" y="116"/>
                  </a:cubicBezTo>
                  <a:close/>
                </a:path>
              </a:pathLst>
            </a:custGeom>
            <a:solidFill>
              <a:srgbClr val="f8d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"/>
            <p:cNvSpPr/>
            <p:nvPr/>
          </p:nvSpPr>
          <p:spPr>
            <a:xfrm>
              <a:off x="2441520" y="2077920"/>
              <a:ext cx="345960" cy="348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92" h="92">
                  <a:moveTo>
                    <a:pt x="92" y="92"/>
                  </a:moveTo>
                  <a:cubicBezTo>
                    <a:pt x="81" y="92"/>
                    <a:pt x="81" y="92"/>
                    <a:pt x="81" y="92"/>
                  </a:cubicBezTo>
                  <a:cubicBezTo>
                    <a:pt x="81" y="47"/>
                    <a:pt x="45" y="11"/>
                    <a:pt x="0" y="1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1" y="0"/>
                    <a:pt x="92" y="42"/>
                    <a:pt x="92" y="92"/>
                  </a:cubicBezTo>
                  <a:close/>
                </a:path>
              </a:pathLst>
            </a:cu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>
              <a:off x="2497320" y="2621520"/>
              <a:ext cx="114120" cy="462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72" h="291">
                  <a:moveTo>
                    <a:pt x="24" y="291"/>
                  </a:moveTo>
                  <a:lnTo>
                    <a:pt x="0" y="288"/>
                  </a:lnTo>
                  <a:lnTo>
                    <a:pt x="48" y="0"/>
                  </a:lnTo>
                  <a:lnTo>
                    <a:pt x="72" y="5"/>
                  </a:lnTo>
                  <a:lnTo>
                    <a:pt x="24" y="291"/>
                  </a:ln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>
              <a:off x="2271600" y="2621520"/>
              <a:ext cx="112680" cy="4622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71" h="291">
                  <a:moveTo>
                    <a:pt x="47" y="291"/>
                  </a:moveTo>
                  <a:lnTo>
                    <a:pt x="0" y="5"/>
                  </a:lnTo>
                  <a:lnTo>
                    <a:pt x="23" y="0"/>
                  </a:lnTo>
                  <a:lnTo>
                    <a:pt x="71" y="288"/>
                  </a:lnTo>
                  <a:lnTo>
                    <a:pt x="47" y="291"/>
                  </a:ln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>
              <a:off x="2297160" y="2626560"/>
              <a:ext cx="295200" cy="6012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8" h="16">
                  <a:moveTo>
                    <a:pt x="78" y="16"/>
                  </a:moveTo>
                  <a:cubicBezTo>
                    <a:pt x="73" y="16"/>
                    <a:pt x="72" y="12"/>
                    <a:pt x="70" y="9"/>
                  </a:cubicBezTo>
                  <a:cubicBezTo>
                    <a:pt x="70" y="8"/>
                    <a:pt x="69" y="6"/>
                    <a:pt x="68" y="6"/>
                  </a:cubicBezTo>
                  <a:cubicBezTo>
                    <a:pt x="67" y="6"/>
                    <a:pt x="66" y="8"/>
                    <a:pt x="66" y="9"/>
                  </a:cubicBezTo>
                  <a:cubicBezTo>
                    <a:pt x="64" y="12"/>
                    <a:pt x="63" y="16"/>
                    <a:pt x="58" y="16"/>
                  </a:cubicBezTo>
                  <a:cubicBezTo>
                    <a:pt x="54" y="16"/>
                    <a:pt x="53" y="12"/>
                    <a:pt x="51" y="10"/>
                  </a:cubicBezTo>
                  <a:cubicBezTo>
                    <a:pt x="51" y="7"/>
                    <a:pt x="50" y="6"/>
                    <a:pt x="49" y="6"/>
                  </a:cubicBezTo>
                  <a:cubicBezTo>
                    <a:pt x="48" y="6"/>
                    <a:pt x="47" y="8"/>
                    <a:pt x="47" y="9"/>
                  </a:cubicBezTo>
                  <a:cubicBezTo>
                    <a:pt x="45" y="13"/>
                    <a:pt x="42" y="16"/>
                    <a:pt x="39" y="16"/>
                  </a:cubicBezTo>
                  <a:cubicBezTo>
                    <a:pt x="36" y="16"/>
                    <a:pt x="34" y="13"/>
                    <a:pt x="32" y="10"/>
                  </a:cubicBezTo>
                  <a:cubicBezTo>
                    <a:pt x="31" y="9"/>
                    <a:pt x="30" y="7"/>
                    <a:pt x="29" y="6"/>
                  </a:cubicBezTo>
                  <a:cubicBezTo>
                    <a:pt x="29" y="7"/>
                    <a:pt x="27" y="9"/>
                    <a:pt x="27" y="10"/>
                  </a:cubicBezTo>
                  <a:cubicBezTo>
                    <a:pt x="25" y="13"/>
                    <a:pt x="23" y="16"/>
                    <a:pt x="20" y="16"/>
                  </a:cubicBezTo>
                  <a:cubicBezTo>
                    <a:pt x="16" y="16"/>
                    <a:pt x="14" y="13"/>
                    <a:pt x="12" y="9"/>
                  </a:cubicBezTo>
                  <a:cubicBezTo>
                    <a:pt x="11" y="8"/>
                    <a:pt x="10" y="6"/>
                    <a:pt x="10" y="6"/>
                  </a:cubicBezTo>
                  <a:cubicBezTo>
                    <a:pt x="9" y="6"/>
                    <a:pt x="8" y="7"/>
                    <a:pt x="7" y="10"/>
                  </a:cubicBezTo>
                  <a:cubicBezTo>
                    <a:pt x="6" y="12"/>
                    <a:pt x="5" y="16"/>
                    <a:pt x="0" y="16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9"/>
                    <a:pt x="2" y="8"/>
                  </a:cubicBezTo>
                  <a:cubicBezTo>
                    <a:pt x="3" y="5"/>
                    <a:pt x="5" y="0"/>
                    <a:pt x="10" y="0"/>
                  </a:cubicBezTo>
                  <a:cubicBezTo>
                    <a:pt x="13" y="0"/>
                    <a:pt x="15" y="3"/>
                    <a:pt x="17" y="6"/>
                  </a:cubicBezTo>
                  <a:cubicBezTo>
                    <a:pt x="17" y="8"/>
                    <a:pt x="19" y="10"/>
                    <a:pt x="20" y="11"/>
                  </a:cubicBezTo>
                  <a:cubicBezTo>
                    <a:pt x="20" y="10"/>
                    <a:pt x="21" y="8"/>
                    <a:pt x="22" y="7"/>
                  </a:cubicBezTo>
                  <a:cubicBezTo>
                    <a:pt x="24" y="3"/>
                    <a:pt x="26" y="0"/>
                    <a:pt x="29" y="0"/>
                  </a:cubicBezTo>
                  <a:cubicBezTo>
                    <a:pt x="33" y="0"/>
                    <a:pt x="35" y="3"/>
                    <a:pt x="37" y="7"/>
                  </a:cubicBezTo>
                  <a:cubicBezTo>
                    <a:pt x="37" y="8"/>
                    <a:pt x="39" y="10"/>
                    <a:pt x="39" y="11"/>
                  </a:cubicBezTo>
                  <a:cubicBezTo>
                    <a:pt x="40" y="10"/>
                    <a:pt x="41" y="8"/>
                    <a:pt x="42" y="6"/>
                  </a:cubicBezTo>
                  <a:cubicBezTo>
                    <a:pt x="44" y="3"/>
                    <a:pt x="46" y="0"/>
                    <a:pt x="49" y="0"/>
                  </a:cubicBezTo>
                  <a:cubicBezTo>
                    <a:pt x="54" y="0"/>
                    <a:pt x="55" y="5"/>
                    <a:pt x="57" y="8"/>
                  </a:cubicBezTo>
                  <a:cubicBezTo>
                    <a:pt x="57" y="9"/>
                    <a:pt x="58" y="11"/>
                    <a:pt x="58" y="11"/>
                  </a:cubicBezTo>
                  <a:cubicBezTo>
                    <a:pt x="58" y="11"/>
                    <a:pt x="58" y="11"/>
                    <a:pt x="58" y="11"/>
                  </a:cubicBezTo>
                  <a:cubicBezTo>
                    <a:pt x="59" y="11"/>
                    <a:pt x="60" y="8"/>
                    <a:pt x="61" y="7"/>
                  </a:cubicBezTo>
                  <a:cubicBezTo>
                    <a:pt x="62" y="4"/>
                    <a:pt x="64" y="0"/>
                    <a:pt x="68" y="0"/>
                  </a:cubicBezTo>
                  <a:cubicBezTo>
                    <a:pt x="72" y="0"/>
                    <a:pt x="74" y="4"/>
                    <a:pt x="75" y="7"/>
                  </a:cubicBezTo>
                  <a:cubicBezTo>
                    <a:pt x="76" y="8"/>
                    <a:pt x="77" y="11"/>
                    <a:pt x="78" y="11"/>
                  </a:cubicBezTo>
                  <a:cubicBezTo>
                    <a:pt x="78" y="16"/>
                    <a:pt x="78" y="16"/>
                    <a:pt x="78" y="16"/>
                  </a:cubicBez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>
              <a:off x="2217600" y="3049200"/>
              <a:ext cx="446040" cy="2606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118" h="69">
                  <a:moveTo>
                    <a:pt x="118" y="0"/>
                  </a:moveTo>
                  <a:cubicBezTo>
                    <a:pt x="118" y="61"/>
                    <a:pt x="118" y="61"/>
                    <a:pt x="118" y="61"/>
                  </a:cubicBezTo>
                  <a:cubicBezTo>
                    <a:pt x="118" y="65"/>
                    <a:pt x="115" y="69"/>
                    <a:pt x="111" y="69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3" y="69"/>
                    <a:pt x="0" y="65"/>
                    <a:pt x="0" y="6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2241360" y="3284640"/>
              <a:ext cx="399960" cy="44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06" h="12">
                  <a:moveTo>
                    <a:pt x="6" y="12"/>
                  </a:moveTo>
                  <a:cubicBezTo>
                    <a:pt x="100" y="12"/>
                    <a:pt x="100" y="12"/>
                    <a:pt x="100" y="12"/>
                  </a:cubicBezTo>
                  <a:cubicBezTo>
                    <a:pt x="103" y="12"/>
                    <a:pt x="106" y="9"/>
                    <a:pt x="106" y="6"/>
                  </a:cubicBezTo>
                  <a:cubicBezTo>
                    <a:pt x="106" y="3"/>
                    <a:pt x="103" y="0"/>
                    <a:pt x="100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2236680" y="3276720"/>
              <a:ext cx="407880" cy="5688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8" h="15">
                  <a:moveTo>
                    <a:pt x="101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3" y="15"/>
                    <a:pt x="0" y="12"/>
                    <a:pt x="0" y="8"/>
                  </a:cubicBezTo>
                  <a:cubicBezTo>
                    <a:pt x="0" y="4"/>
                    <a:pt x="3" y="0"/>
                    <a:pt x="7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5" y="0"/>
                    <a:pt x="108" y="4"/>
                    <a:pt x="108" y="8"/>
                  </a:cubicBezTo>
                  <a:cubicBezTo>
                    <a:pt x="108" y="12"/>
                    <a:pt x="105" y="15"/>
                    <a:pt x="101" y="15"/>
                  </a:cubicBezTo>
                  <a:close/>
                  <a:moveTo>
                    <a:pt x="7" y="3"/>
                  </a:moveTo>
                  <a:cubicBezTo>
                    <a:pt x="5" y="3"/>
                    <a:pt x="3" y="5"/>
                    <a:pt x="3" y="8"/>
                  </a:cubicBezTo>
                  <a:cubicBezTo>
                    <a:pt x="3" y="10"/>
                    <a:pt x="5" y="12"/>
                    <a:pt x="7" y="12"/>
                  </a:cubicBezTo>
                  <a:cubicBezTo>
                    <a:pt x="101" y="12"/>
                    <a:pt x="101" y="12"/>
                    <a:pt x="101" y="12"/>
                  </a:cubicBezTo>
                  <a:cubicBezTo>
                    <a:pt x="103" y="12"/>
                    <a:pt x="105" y="10"/>
                    <a:pt x="105" y="8"/>
                  </a:cubicBezTo>
                  <a:cubicBezTo>
                    <a:pt x="105" y="5"/>
                    <a:pt x="103" y="3"/>
                    <a:pt x="101" y="3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2206440" y="3072960"/>
              <a:ext cx="468360" cy="3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95" h="1">
                  <a:moveTo>
                    <a:pt x="295" y="0"/>
                  </a:moveTo>
                  <a:lnTo>
                    <a:pt x="0" y="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5"/>
            <p:cNvSpPr/>
            <p:nvPr/>
          </p:nvSpPr>
          <p:spPr>
            <a:xfrm flipH="1">
              <a:off x="2206080" y="3072960"/>
              <a:ext cx="468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2184120" y="3049200"/>
              <a:ext cx="513000" cy="460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36" h="12">
                  <a:moveTo>
                    <a:pt x="130" y="1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9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133" y="0"/>
                    <a:pt x="136" y="3"/>
                    <a:pt x="136" y="6"/>
                  </a:cubicBezTo>
                  <a:cubicBezTo>
                    <a:pt x="136" y="9"/>
                    <a:pt x="133" y="12"/>
                    <a:pt x="130" y="12"/>
                  </a:cubicBez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2206440" y="3147840"/>
              <a:ext cx="468360" cy="3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95" h="1">
                  <a:moveTo>
                    <a:pt x="295" y="0"/>
                  </a:moveTo>
                  <a:lnTo>
                    <a:pt x="0" y="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H="1">
              <a:off x="2206080" y="3147840"/>
              <a:ext cx="468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2184120" y="3125520"/>
              <a:ext cx="513000" cy="442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6" h="12">
                  <a:moveTo>
                    <a:pt x="130" y="1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9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133" y="0"/>
                    <a:pt x="136" y="3"/>
                    <a:pt x="136" y="6"/>
                  </a:cubicBezTo>
                  <a:cubicBezTo>
                    <a:pt x="136" y="9"/>
                    <a:pt x="133" y="12"/>
                    <a:pt x="130" y="12"/>
                  </a:cubicBez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2206440" y="3224160"/>
              <a:ext cx="468360" cy="3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95" h="1">
                  <a:moveTo>
                    <a:pt x="295" y="0"/>
                  </a:moveTo>
                  <a:lnTo>
                    <a:pt x="0" y="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H="1">
              <a:off x="2206080" y="3224160"/>
              <a:ext cx="468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2184120" y="3200400"/>
              <a:ext cx="513000" cy="460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36" h="12">
                  <a:moveTo>
                    <a:pt x="130" y="1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3" y="12"/>
                    <a:pt x="0" y="9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130" y="0"/>
                    <a:pt x="130" y="0"/>
                    <a:pt x="130" y="0"/>
                  </a:cubicBezTo>
                  <a:cubicBezTo>
                    <a:pt x="133" y="0"/>
                    <a:pt x="136" y="3"/>
                    <a:pt x="136" y="6"/>
                  </a:cubicBezTo>
                  <a:cubicBezTo>
                    <a:pt x="136" y="9"/>
                    <a:pt x="133" y="12"/>
                    <a:pt x="130" y="12"/>
                  </a:cubicBezTo>
                  <a:close/>
                </a:path>
              </a:pathLst>
            </a:custGeom>
            <a:solidFill>
              <a:srgbClr val="103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c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4"/>
          <p:cNvGrpSpPr/>
          <p:nvPr/>
        </p:nvGrpSpPr>
        <p:grpSpPr>
          <a:xfrm>
            <a:off x="3240" y="2292480"/>
            <a:ext cx="6102360" cy="4564080"/>
            <a:chOff x="3240" y="2292480"/>
            <a:chExt cx="6102360" cy="4564080"/>
          </a:xfrm>
        </p:grpSpPr>
        <p:sp>
          <p:nvSpPr>
            <p:cNvPr id="114" name="Freeform 5"/>
            <p:cNvSpPr/>
            <p:nvPr/>
          </p:nvSpPr>
          <p:spPr>
            <a:xfrm>
              <a:off x="3240" y="2954520"/>
              <a:ext cx="5883120" cy="3902040"/>
            </a:xfrm>
            <a:custGeom>
              <a:avLst/>
              <a:gdLst>
                <a:gd name="textAreaLeft" fmla="*/ 0 w 5883120"/>
                <a:gd name="textAreaRight" fmla="*/ 5883120 w 5883120"/>
                <a:gd name="textAreaTop" fmla="*/ 0 h 3902040"/>
                <a:gd name="textAreaBottom" fmla="*/ 3902400 h 3902040"/>
              </a:gdLst>
              <a:ahLst/>
              <a:rect l="textAreaLeft" t="textAreaTop" r="textAreaRight" b="textAreaBottom"/>
              <a:pathLst>
                <a:path w="3706" h="2458">
                  <a:moveTo>
                    <a:pt x="2436" y="2458"/>
                  </a:moveTo>
                  <a:lnTo>
                    <a:pt x="2698" y="2046"/>
                  </a:lnTo>
                  <a:lnTo>
                    <a:pt x="3706" y="1638"/>
                  </a:lnTo>
                  <a:lnTo>
                    <a:pt x="1122" y="0"/>
                  </a:lnTo>
                  <a:lnTo>
                    <a:pt x="0" y="2458"/>
                  </a:lnTo>
                  <a:lnTo>
                    <a:pt x="2436" y="2458"/>
                  </a:lnTo>
                  <a:close/>
                </a:path>
              </a:pathLst>
            </a:custGeom>
            <a:solidFill>
              <a:srgbClr val="269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1817640" y="5480280"/>
              <a:ext cx="1068480" cy="29988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84" h="80">
                  <a:moveTo>
                    <a:pt x="0" y="23"/>
                  </a:moveTo>
                  <a:cubicBezTo>
                    <a:pt x="280" y="0"/>
                    <a:pt x="280" y="0"/>
                    <a:pt x="280" y="0"/>
                  </a:cubicBezTo>
                  <a:cubicBezTo>
                    <a:pt x="280" y="0"/>
                    <a:pt x="284" y="40"/>
                    <a:pt x="187" y="55"/>
                  </a:cubicBezTo>
                  <a:cubicBezTo>
                    <a:pt x="145" y="61"/>
                    <a:pt x="19" y="80"/>
                    <a:pt x="19" y="80"/>
                  </a:cubicBezTo>
                  <a:lnTo>
                    <a:pt x="0" y="23"/>
                  </a:lnTo>
                  <a:close/>
                </a:path>
              </a:pathLst>
            </a:cu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"/>
            <p:cNvSpPr/>
            <p:nvPr/>
          </p:nvSpPr>
          <p:spPr>
            <a:xfrm>
              <a:off x="2262240" y="5131080"/>
              <a:ext cx="1287360" cy="299880"/>
            </a:xfrm>
            <a:custGeom>
              <a:avLst/>
              <a:gdLst>
                <a:gd name="textAreaLeft" fmla="*/ 0 w 1287360"/>
                <a:gd name="textAreaRight" fmla="*/ 1287720 w 128736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343" h="80">
                  <a:moveTo>
                    <a:pt x="0" y="32"/>
                  </a:moveTo>
                  <a:cubicBezTo>
                    <a:pt x="339" y="0"/>
                    <a:pt x="339" y="0"/>
                    <a:pt x="339" y="0"/>
                  </a:cubicBezTo>
                  <a:cubicBezTo>
                    <a:pt x="339" y="0"/>
                    <a:pt x="343" y="40"/>
                    <a:pt x="219" y="55"/>
                  </a:cubicBezTo>
                  <a:cubicBezTo>
                    <a:pt x="164" y="61"/>
                    <a:pt x="1" y="80"/>
                    <a:pt x="1" y="80"/>
                  </a:cubicBezTo>
                  <a:lnTo>
                    <a:pt x="0" y="32"/>
                  </a:lnTo>
                  <a:close/>
                </a:path>
              </a:pathLst>
            </a:cu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"/>
            <p:cNvSpPr/>
            <p:nvPr/>
          </p:nvSpPr>
          <p:spPr>
            <a:xfrm>
              <a:off x="2232000" y="4897440"/>
              <a:ext cx="1292400" cy="30024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344" h="80">
                  <a:moveTo>
                    <a:pt x="0" y="32"/>
                  </a:moveTo>
                  <a:cubicBezTo>
                    <a:pt x="339" y="0"/>
                    <a:pt x="339" y="0"/>
                    <a:pt x="339" y="0"/>
                  </a:cubicBezTo>
                  <a:cubicBezTo>
                    <a:pt x="339" y="0"/>
                    <a:pt x="344" y="40"/>
                    <a:pt x="219" y="55"/>
                  </a:cubicBezTo>
                  <a:cubicBezTo>
                    <a:pt x="165" y="61"/>
                    <a:pt x="2" y="80"/>
                    <a:pt x="2" y="80"/>
                  </a:cubicBezTo>
                  <a:lnTo>
                    <a:pt x="0" y="32"/>
                  </a:lnTo>
                  <a:close/>
                </a:path>
              </a:pathLst>
            </a:cu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>
              <a:off x="863640" y="5092920"/>
              <a:ext cx="1096920" cy="1198440"/>
            </a:xfrm>
            <a:custGeom>
              <a:avLst/>
              <a:gdLst>
                <a:gd name="textAreaLeft" fmla="*/ 0 w 1096920"/>
                <a:gd name="textAreaRight" fmla="*/ 1097280 w 1096920"/>
                <a:gd name="textAreaTop" fmla="*/ 0 h 1198440"/>
                <a:gd name="textAreaBottom" fmla="*/ 1198440 h 1198440"/>
              </a:gdLst>
              <a:ahLst/>
              <a:rect l="textAreaLeft" t="textAreaTop" r="textAreaRight" b="textAreaBottom"/>
              <a:pathLst>
                <a:path w="292" h="319">
                  <a:moveTo>
                    <a:pt x="16" y="181"/>
                  </a:moveTo>
                  <a:cubicBezTo>
                    <a:pt x="16" y="181"/>
                    <a:pt x="0" y="233"/>
                    <a:pt x="56" y="269"/>
                  </a:cubicBezTo>
                  <a:cubicBezTo>
                    <a:pt x="133" y="319"/>
                    <a:pt x="167" y="304"/>
                    <a:pt x="192" y="285"/>
                  </a:cubicBezTo>
                  <a:cubicBezTo>
                    <a:pt x="223" y="261"/>
                    <a:pt x="292" y="157"/>
                    <a:pt x="292" y="157"/>
                  </a:cubicBezTo>
                  <a:cubicBezTo>
                    <a:pt x="250" y="52"/>
                    <a:pt x="250" y="52"/>
                    <a:pt x="250" y="52"/>
                  </a:cubicBezTo>
                  <a:cubicBezTo>
                    <a:pt x="184" y="0"/>
                    <a:pt x="184" y="0"/>
                    <a:pt x="184" y="0"/>
                  </a:cubicBezTo>
                  <a:lnTo>
                    <a:pt x="16" y="181"/>
                  </a:lnTo>
                  <a:close/>
                </a:path>
              </a:pathLst>
            </a:cu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>
              <a:off x="924120" y="4483080"/>
              <a:ext cx="1393560" cy="1489320"/>
            </a:xfrm>
            <a:custGeom>
              <a:avLst/>
              <a:gdLst>
                <a:gd name="textAreaLeft" fmla="*/ 0 w 1393560"/>
                <a:gd name="textAreaRight" fmla="*/ 1393920 w 1393560"/>
                <a:gd name="textAreaTop" fmla="*/ 0 h 1489320"/>
                <a:gd name="textAreaBottom" fmla="*/ 1489680 h 1489320"/>
              </a:gdLst>
              <a:ahLst/>
              <a:rect l="textAreaLeft" t="textAreaTop" r="textAreaRight" b="textAreaBottom"/>
              <a:pathLst>
                <a:path w="371" h="396">
                  <a:moveTo>
                    <a:pt x="58" y="396"/>
                  </a:moveTo>
                  <a:cubicBezTo>
                    <a:pt x="32" y="391"/>
                    <a:pt x="0" y="343"/>
                    <a:pt x="0" y="343"/>
                  </a:cubicBezTo>
                  <a:cubicBezTo>
                    <a:pt x="149" y="12"/>
                    <a:pt x="149" y="12"/>
                    <a:pt x="149" y="12"/>
                  </a:cubicBezTo>
                  <a:cubicBezTo>
                    <a:pt x="356" y="0"/>
                    <a:pt x="356" y="0"/>
                    <a:pt x="356" y="0"/>
                  </a:cubicBezTo>
                  <a:cubicBezTo>
                    <a:pt x="356" y="0"/>
                    <a:pt x="371" y="31"/>
                    <a:pt x="330" y="50"/>
                  </a:cubicBezTo>
                  <a:cubicBezTo>
                    <a:pt x="290" y="69"/>
                    <a:pt x="188" y="107"/>
                    <a:pt x="185" y="114"/>
                  </a:cubicBezTo>
                  <a:cubicBezTo>
                    <a:pt x="183" y="121"/>
                    <a:pt x="82" y="384"/>
                    <a:pt x="82" y="384"/>
                  </a:cubicBezTo>
                  <a:lnTo>
                    <a:pt x="58" y="396"/>
                  </a:lnTo>
                  <a:close/>
                </a:path>
              </a:pathLst>
            </a:cu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1548000" y="2487600"/>
              <a:ext cx="2284200" cy="3097440"/>
            </a:xfrm>
            <a:custGeom>
              <a:avLst/>
              <a:gdLst>
                <a:gd name="textAreaLeft" fmla="*/ 0 w 2284200"/>
                <a:gd name="textAreaRight" fmla="*/ 2284560 w 2284200"/>
                <a:gd name="textAreaTop" fmla="*/ 0 h 3097440"/>
                <a:gd name="textAreaBottom" fmla="*/ 3097800 h 3097440"/>
              </a:gdLst>
              <a:ahLst/>
              <a:rect l="textAreaLeft" t="textAreaTop" r="textAreaRight" b="textAreaBottom"/>
              <a:pathLst>
                <a:path w="608" h="824">
                  <a:moveTo>
                    <a:pt x="29" y="0"/>
                  </a:moveTo>
                  <a:cubicBezTo>
                    <a:pt x="608" y="0"/>
                    <a:pt x="608" y="0"/>
                    <a:pt x="608" y="0"/>
                  </a:cubicBezTo>
                  <a:cubicBezTo>
                    <a:pt x="608" y="824"/>
                    <a:pt x="608" y="824"/>
                    <a:pt x="608" y="824"/>
                  </a:cubicBezTo>
                  <a:cubicBezTo>
                    <a:pt x="29" y="824"/>
                    <a:pt x="29" y="824"/>
                    <a:pt x="29" y="824"/>
                  </a:cubicBezTo>
                  <a:cubicBezTo>
                    <a:pt x="13" y="824"/>
                    <a:pt x="0" y="814"/>
                    <a:pt x="0" y="80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0"/>
                    <a:pt x="13" y="0"/>
                    <a:pt x="29" y="0"/>
                  </a:cubicBezTo>
                  <a:close/>
                </a:path>
              </a:pathLst>
            </a:custGeom>
            <a:solidFill>
              <a:srgbClr val="1f9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1652760" y="3086280"/>
              <a:ext cx="2179440" cy="2435040"/>
            </a:xfrm>
            <a:custGeom>
              <a:avLst/>
              <a:gdLst>
                <a:gd name="textAreaLeft" fmla="*/ 0 w 2179440"/>
                <a:gd name="textAreaRight" fmla="*/ 2179800 w 2179440"/>
                <a:gd name="textAreaTop" fmla="*/ 0 h 2435040"/>
                <a:gd name="textAreaBottom" fmla="*/ 2435400 h 2435040"/>
              </a:gdLst>
              <a:ahLst/>
              <a:rect l="textAreaLeft" t="textAreaTop" r="textAreaRight" b="textAreaBottom"/>
              <a:pathLst>
                <a:path w="580" h="648">
                  <a:moveTo>
                    <a:pt x="0" y="648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44"/>
                    <a:pt x="326" y="0"/>
                    <a:pt x="440" y="2"/>
                  </a:cubicBezTo>
                  <a:cubicBezTo>
                    <a:pt x="553" y="5"/>
                    <a:pt x="580" y="44"/>
                    <a:pt x="580" y="44"/>
                  </a:cubicBezTo>
                  <a:cubicBezTo>
                    <a:pt x="580" y="648"/>
                    <a:pt x="580" y="648"/>
                    <a:pt x="580" y="648"/>
                  </a:cubicBezTo>
                  <a:lnTo>
                    <a:pt x="0" y="648"/>
                  </a:ln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1652760" y="2355840"/>
              <a:ext cx="2179440" cy="3165480"/>
            </a:xfrm>
            <a:custGeom>
              <a:avLst/>
              <a:gdLst>
                <a:gd name="textAreaLeft" fmla="*/ 0 w 2179440"/>
                <a:gd name="textAreaRight" fmla="*/ 2179800 w 2179440"/>
                <a:gd name="textAreaTop" fmla="*/ 0 h 3165480"/>
                <a:gd name="textAreaBottom" fmla="*/ 3165840 h 3165480"/>
              </a:gdLst>
              <a:ahLst/>
              <a:rect l="textAreaLeft" t="textAreaTop" r="textAreaRight" b="textAreaBottom"/>
              <a:pathLst>
                <a:path w="580" h="842">
                  <a:moveTo>
                    <a:pt x="440" y="2"/>
                  </a:moveTo>
                  <a:cubicBezTo>
                    <a:pt x="553" y="5"/>
                    <a:pt x="580" y="44"/>
                    <a:pt x="580" y="44"/>
                  </a:cubicBezTo>
                  <a:cubicBezTo>
                    <a:pt x="580" y="842"/>
                    <a:pt x="580" y="842"/>
                    <a:pt x="580" y="842"/>
                  </a:cubicBezTo>
                  <a:cubicBezTo>
                    <a:pt x="580" y="842"/>
                    <a:pt x="553" y="802"/>
                    <a:pt x="440" y="800"/>
                  </a:cubicBezTo>
                  <a:cubicBezTo>
                    <a:pt x="326" y="798"/>
                    <a:pt x="0" y="842"/>
                    <a:pt x="0" y="842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44"/>
                    <a:pt x="326" y="0"/>
                    <a:pt x="44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1874880" y="2495520"/>
              <a:ext cx="1735200" cy="25092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462" h="67">
                  <a:moveTo>
                    <a:pt x="350" y="2"/>
                  </a:moveTo>
                  <a:cubicBezTo>
                    <a:pt x="440" y="4"/>
                    <a:pt x="462" y="35"/>
                    <a:pt x="462" y="35"/>
                  </a:cubicBezTo>
                  <a:cubicBezTo>
                    <a:pt x="462" y="67"/>
                    <a:pt x="462" y="67"/>
                    <a:pt x="462" y="67"/>
                  </a:cubicBezTo>
                  <a:cubicBezTo>
                    <a:pt x="462" y="67"/>
                    <a:pt x="440" y="36"/>
                    <a:pt x="350" y="34"/>
                  </a:cubicBezTo>
                  <a:cubicBezTo>
                    <a:pt x="260" y="32"/>
                    <a:pt x="0" y="67"/>
                    <a:pt x="0" y="67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60" y="0"/>
                    <a:pt x="350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1874880" y="2743200"/>
              <a:ext cx="1735200" cy="25272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462" h="67">
                  <a:moveTo>
                    <a:pt x="350" y="2"/>
                  </a:moveTo>
                  <a:cubicBezTo>
                    <a:pt x="440" y="4"/>
                    <a:pt x="462" y="35"/>
                    <a:pt x="462" y="35"/>
                  </a:cubicBezTo>
                  <a:cubicBezTo>
                    <a:pt x="462" y="67"/>
                    <a:pt x="462" y="67"/>
                    <a:pt x="462" y="67"/>
                  </a:cubicBezTo>
                  <a:cubicBezTo>
                    <a:pt x="462" y="67"/>
                    <a:pt x="440" y="36"/>
                    <a:pt x="350" y="34"/>
                  </a:cubicBezTo>
                  <a:cubicBezTo>
                    <a:pt x="260" y="32"/>
                    <a:pt x="0" y="67"/>
                    <a:pt x="0" y="67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60" y="0"/>
                    <a:pt x="350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1874880" y="2995920"/>
              <a:ext cx="1735200" cy="24732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462" h="66">
                  <a:moveTo>
                    <a:pt x="350" y="2"/>
                  </a:moveTo>
                  <a:cubicBezTo>
                    <a:pt x="440" y="3"/>
                    <a:pt x="462" y="35"/>
                    <a:pt x="462" y="35"/>
                  </a:cubicBezTo>
                  <a:cubicBezTo>
                    <a:pt x="462" y="66"/>
                    <a:pt x="462" y="66"/>
                    <a:pt x="462" y="66"/>
                  </a:cubicBezTo>
                  <a:cubicBezTo>
                    <a:pt x="462" y="66"/>
                    <a:pt x="440" y="35"/>
                    <a:pt x="350" y="33"/>
                  </a:cubicBezTo>
                  <a:cubicBezTo>
                    <a:pt x="260" y="32"/>
                    <a:pt x="0" y="66"/>
                    <a:pt x="0" y="66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60" y="0"/>
                    <a:pt x="350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1874880" y="3243240"/>
              <a:ext cx="1735200" cy="25272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462" h="67">
                  <a:moveTo>
                    <a:pt x="350" y="2"/>
                  </a:moveTo>
                  <a:cubicBezTo>
                    <a:pt x="440" y="4"/>
                    <a:pt x="462" y="35"/>
                    <a:pt x="462" y="35"/>
                  </a:cubicBezTo>
                  <a:cubicBezTo>
                    <a:pt x="462" y="67"/>
                    <a:pt x="462" y="67"/>
                    <a:pt x="462" y="67"/>
                  </a:cubicBezTo>
                  <a:cubicBezTo>
                    <a:pt x="462" y="67"/>
                    <a:pt x="440" y="35"/>
                    <a:pt x="350" y="34"/>
                  </a:cubicBezTo>
                  <a:cubicBezTo>
                    <a:pt x="260" y="32"/>
                    <a:pt x="0" y="67"/>
                    <a:pt x="0" y="67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60" y="0"/>
                    <a:pt x="350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1874880" y="3490920"/>
              <a:ext cx="1735200" cy="25236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462" h="67">
                  <a:moveTo>
                    <a:pt x="350" y="2"/>
                  </a:moveTo>
                  <a:cubicBezTo>
                    <a:pt x="440" y="4"/>
                    <a:pt x="462" y="35"/>
                    <a:pt x="462" y="35"/>
                  </a:cubicBezTo>
                  <a:cubicBezTo>
                    <a:pt x="462" y="67"/>
                    <a:pt x="462" y="67"/>
                    <a:pt x="462" y="67"/>
                  </a:cubicBezTo>
                  <a:cubicBezTo>
                    <a:pt x="462" y="67"/>
                    <a:pt x="440" y="36"/>
                    <a:pt x="350" y="34"/>
                  </a:cubicBezTo>
                  <a:cubicBezTo>
                    <a:pt x="260" y="32"/>
                    <a:pt x="0" y="67"/>
                    <a:pt x="0" y="67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60" y="0"/>
                    <a:pt x="350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1874880" y="3740400"/>
              <a:ext cx="1735200" cy="25056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62" h="67">
                  <a:moveTo>
                    <a:pt x="350" y="2"/>
                  </a:moveTo>
                  <a:cubicBezTo>
                    <a:pt x="440" y="4"/>
                    <a:pt x="462" y="35"/>
                    <a:pt x="462" y="35"/>
                  </a:cubicBezTo>
                  <a:cubicBezTo>
                    <a:pt x="462" y="67"/>
                    <a:pt x="462" y="67"/>
                    <a:pt x="462" y="67"/>
                  </a:cubicBezTo>
                  <a:cubicBezTo>
                    <a:pt x="462" y="67"/>
                    <a:pt x="440" y="36"/>
                    <a:pt x="350" y="34"/>
                  </a:cubicBezTo>
                  <a:cubicBezTo>
                    <a:pt x="260" y="32"/>
                    <a:pt x="0" y="67"/>
                    <a:pt x="0" y="67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60" y="0"/>
                    <a:pt x="350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1874880" y="3990960"/>
              <a:ext cx="1735200" cy="2476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462" h="66">
                  <a:moveTo>
                    <a:pt x="350" y="1"/>
                  </a:moveTo>
                  <a:cubicBezTo>
                    <a:pt x="440" y="3"/>
                    <a:pt x="462" y="34"/>
                    <a:pt x="462" y="34"/>
                  </a:cubicBezTo>
                  <a:cubicBezTo>
                    <a:pt x="462" y="66"/>
                    <a:pt x="462" y="66"/>
                    <a:pt x="462" y="66"/>
                  </a:cubicBezTo>
                  <a:cubicBezTo>
                    <a:pt x="462" y="66"/>
                    <a:pt x="440" y="35"/>
                    <a:pt x="350" y="33"/>
                  </a:cubicBezTo>
                  <a:cubicBezTo>
                    <a:pt x="260" y="31"/>
                    <a:pt x="0" y="66"/>
                    <a:pt x="0" y="66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4"/>
                    <a:pt x="260" y="0"/>
                    <a:pt x="350" y="1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1874880" y="4238640"/>
              <a:ext cx="1735200" cy="24948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462" h="66">
                  <a:moveTo>
                    <a:pt x="350" y="2"/>
                  </a:moveTo>
                  <a:cubicBezTo>
                    <a:pt x="440" y="3"/>
                    <a:pt x="462" y="35"/>
                    <a:pt x="462" y="35"/>
                  </a:cubicBezTo>
                  <a:cubicBezTo>
                    <a:pt x="462" y="66"/>
                    <a:pt x="462" y="66"/>
                    <a:pt x="462" y="66"/>
                  </a:cubicBezTo>
                  <a:cubicBezTo>
                    <a:pt x="462" y="66"/>
                    <a:pt x="440" y="35"/>
                    <a:pt x="350" y="33"/>
                  </a:cubicBezTo>
                  <a:cubicBezTo>
                    <a:pt x="260" y="32"/>
                    <a:pt x="0" y="66"/>
                    <a:pt x="0" y="66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60" y="0"/>
                    <a:pt x="350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1874880" y="4488120"/>
              <a:ext cx="1735200" cy="250560"/>
            </a:xfrm>
            <a:custGeom>
              <a:avLst/>
              <a:gdLst>
                <a:gd name="textAreaLeft" fmla="*/ 0 w 1735200"/>
                <a:gd name="textAreaRight" fmla="*/ 1735560 w 17352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62" h="67">
                  <a:moveTo>
                    <a:pt x="350" y="2"/>
                  </a:moveTo>
                  <a:cubicBezTo>
                    <a:pt x="440" y="4"/>
                    <a:pt x="462" y="35"/>
                    <a:pt x="462" y="35"/>
                  </a:cubicBezTo>
                  <a:cubicBezTo>
                    <a:pt x="462" y="67"/>
                    <a:pt x="462" y="67"/>
                    <a:pt x="462" y="67"/>
                  </a:cubicBezTo>
                  <a:cubicBezTo>
                    <a:pt x="462" y="67"/>
                    <a:pt x="440" y="35"/>
                    <a:pt x="350" y="34"/>
                  </a:cubicBezTo>
                  <a:cubicBezTo>
                    <a:pt x="260" y="32"/>
                    <a:pt x="0" y="67"/>
                    <a:pt x="0" y="67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260" y="0"/>
                    <a:pt x="350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3821040" y="2487600"/>
              <a:ext cx="2284560" cy="3097440"/>
            </a:xfrm>
            <a:custGeom>
              <a:avLst/>
              <a:gdLst>
                <a:gd name="textAreaLeft" fmla="*/ 0 w 2284560"/>
                <a:gd name="textAreaRight" fmla="*/ 2284560 w 2284560"/>
                <a:gd name="textAreaTop" fmla="*/ 0 h 3097440"/>
                <a:gd name="textAreaBottom" fmla="*/ 3097800 h 3097440"/>
              </a:gdLst>
              <a:ahLst/>
              <a:rect l="textAreaLeft" t="textAreaTop" r="textAreaRight" b="textAreaBottom"/>
              <a:pathLst>
                <a:path w="608" h="824">
                  <a:moveTo>
                    <a:pt x="58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824"/>
                    <a:pt x="0" y="824"/>
                    <a:pt x="0" y="824"/>
                  </a:cubicBezTo>
                  <a:cubicBezTo>
                    <a:pt x="580" y="824"/>
                    <a:pt x="580" y="824"/>
                    <a:pt x="580" y="824"/>
                  </a:cubicBezTo>
                  <a:cubicBezTo>
                    <a:pt x="596" y="824"/>
                    <a:pt x="608" y="814"/>
                    <a:pt x="608" y="801"/>
                  </a:cubicBezTo>
                  <a:cubicBezTo>
                    <a:pt x="608" y="22"/>
                    <a:pt x="608" y="22"/>
                    <a:pt x="608" y="22"/>
                  </a:cubicBezTo>
                  <a:cubicBezTo>
                    <a:pt x="608" y="10"/>
                    <a:pt x="596" y="0"/>
                    <a:pt x="580" y="0"/>
                  </a:cubicBezTo>
                  <a:close/>
                </a:path>
              </a:pathLst>
            </a:custGeom>
            <a:solidFill>
              <a:srgbClr val="1f9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3821040" y="3086280"/>
              <a:ext cx="2183040" cy="2435040"/>
            </a:xfrm>
            <a:custGeom>
              <a:avLst/>
              <a:gdLst>
                <a:gd name="textAreaLeft" fmla="*/ 0 w 2183040"/>
                <a:gd name="textAreaRight" fmla="*/ 2183400 w 2183040"/>
                <a:gd name="textAreaTop" fmla="*/ 0 h 2435040"/>
                <a:gd name="textAreaBottom" fmla="*/ 2435400 h 2435040"/>
              </a:gdLst>
              <a:ahLst/>
              <a:rect l="textAreaLeft" t="textAreaTop" r="textAreaRight" b="textAreaBottom"/>
              <a:pathLst>
                <a:path w="581" h="648">
                  <a:moveTo>
                    <a:pt x="581" y="648"/>
                  </a:moveTo>
                  <a:cubicBezTo>
                    <a:pt x="581" y="44"/>
                    <a:pt x="581" y="44"/>
                    <a:pt x="581" y="44"/>
                  </a:cubicBezTo>
                  <a:cubicBezTo>
                    <a:pt x="581" y="44"/>
                    <a:pt x="255" y="0"/>
                    <a:pt x="141" y="2"/>
                  </a:cubicBezTo>
                  <a:cubicBezTo>
                    <a:pt x="27" y="5"/>
                    <a:pt x="0" y="44"/>
                    <a:pt x="0" y="44"/>
                  </a:cubicBezTo>
                  <a:cubicBezTo>
                    <a:pt x="0" y="648"/>
                    <a:pt x="0" y="648"/>
                    <a:pt x="0" y="648"/>
                  </a:cubicBezTo>
                  <a:lnTo>
                    <a:pt x="581" y="648"/>
                  </a:lnTo>
                  <a:close/>
                </a:path>
              </a:pathLst>
            </a:custGeom>
            <a:solidFill>
              <a:srgbClr val="a5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3821040" y="2355840"/>
              <a:ext cx="2183040" cy="3165480"/>
            </a:xfrm>
            <a:custGeom>
              <a:avLst/>
              <a:gdLst>
                <a:gd name="textAreaLeft" fmla="*/ 0 w 2183040"/>
                <a:gd name="textAreaRight" fmla="*/ 2183400 w 2183040"/>
                <a:gd name="textAreaTop" fmla="*/ 0 h 3165480"/>
                <a:gd name="textAreaBottom" fmla="*/ 3165840 h 3165480"/>
              </a:gdLst>
              <a:ahLst/>
              <a:rect l="textAreaLeft" t="textAreaTop" r="textAreaRight" b="textAreaBottom"/>
              <a:pathLst>
                <a:path w="581" h="842">
                  <a:moveTo>
                    <a:pt x="141" y="2"/>
                  </a:moveTo>
                  <a:cubicBezTo>
                    <a:pt x="27" y="5"/>
                    <a:pt x="0" y="44"/>
                    <a:pt x="0" y="44"/>
                  </a:cubicBezTo>
                  <a:cubicBezTo>
                    <a:pt x="0" y="842"/>
                    <a:pt x="0" y="842"/>
                    <a:pt x="0" y="842"/>
                  </a:cubicBezTo>
                  <a:cubicBezTo>
                    <a:pt x="0" y="842"/>
                    <a:pt x="27" y="802"/>
                    <a:pt x="141" y="800"/>
                  </a:cubicBezTo>
                  <a:cubicBezTo>
                    <a:pt x="255" y="798"/>
                    <a:pt x="581" y="842"/>
                    <a:pt x="581" y="842"/>
                  </a:cubicBezTo>
                  <a:cubicBezTo>
                    <a:pt x="581" y="44"/>
                    <a:pt x="581" y="44"/>
                    <a:pt x="581" y="44"/>
                  </a:cubicBezTo>
                  <a:cubicBezTo>
                    <a:pt x="581" y="44"/>
                    <a:pt x="255" y="0"/>
                    <a:pt x="141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1108080" y="4875480"/>
              <a:ext cx="1149480" cy="1157040"/>
            </a:xfrm>
            <a:custGeom>
              <a:avLst/>
              <a:gdLst>
                <a:gd name="textAreaLeft" fmla="*/ 0 w 1149480"/>
                <a:gd name="textAreaRight" fmla="*/ 1149840 w 114948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306" h="308">
                  <a:moveTo>
                    <a:pt x="4" y="256"/>
                  </a:moveTo>
                  <a:cubicBezTo>
                    <a:pt x="0" y="231"/>
                    <a:pt x="10" y="201"/>
                    <a:pt x="10" y="201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289" y="0"/>
                    <a:pt x="289" y="0"/>
                    <a:pt x="289" y="0"/>
                  </a:cubicBezTo>
                  <a:cubicBezTo>
                    <a:pt x="289" y="0"/>
                    <a:pt x="306" y="50"/>
                    <a:pt x="259" y="75"/>
                  </a:cubicBezTo>
                  <a:cubicBezTo>
                    <a:pt x="197" y="108"/>
                    <a:pt x="141" y="117"/>
                    <a:pt x="141" y="117"/>
                  </a:cubicBezTo>
                  <a:cubicBezTo>
                    <a:pt x="111" y="242"/>
                    <a:pt x="111" y="242"/>
                    <a:pt x="111" y="242"/>
                  </a:cubicBezTo>
                  <a:cubicBezTo>
                    <a:pt x="111" y="242"/>
                    <a:pt x="111" y="250"/>
                    <a:pt x="106" y="260"/>
                  </a:cubicBezTo>
                  <a:cubicBezTo>
                    <a:pt x="98" y="280"/>
                    <a:pt x="81" y="308"/>
                    <a:pt x="54" y="307"/>
                  </a:cubicBezTo>
                  <a:cubicBezTo>
                    <a:pt x="9" y="305"/>
                    <a:pt x="6" y="271"/>
                    <a:pt x="4" y="256"/>
                  </a:cubicBezTo>
                  <a:close/>
                </a:path>
              </a:pathLst>
            </a:custGeom>
            <a:solidFill>
              <a:srgbClr val="ffc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7"/>
            <p:cNvSpPr/>
            <p:nvPr/>
          </p:nvSpPr>
          <p:spPr>
            <a:xfrm>
              <a:off x="912960" y="5881680"/>
              <a:ext cx="890640" cy="974880"/>
            </a:xfrm>
            <a:custGeom>
              <a:avLst/>
              <a:gdLst>
                <a:gd name="textAreaLeft" fmla="*/ 0 w 890640"/>
                <a:gd name="textAreaRight" fmla="*/ 891000 w 890640"/>
                <a:gd name="textAreaTop" fmla="*/ 0 h 974880"/>
                <a:gd name="textAreaBottom" fmla="*/ 975240 h 974880"/>
              </a:gdLst>
              <a:ahLst/>
              <a:rect l="textAreaLeft" t="textAreaTop" r="textAreaRight" b="textAreaBottom"/>
              <a:pathLst>
                <a:path w="561" h="614">
                  <a:moveTo>
                    <a:pt x="0" y="0"/>
                  </a:moveTo>
                  <a:lnTo>
                    <a:pt x="24" y="614"/>
                  </a:lnTo>
                  <a:lnTo>
                    <a:pt x="561" y="614"/>
                  </a:lnTo>
                  <a:lnTo>
                    <a:pt x="464" y="1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4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8"/>
            <p:cNvSpPr/>
            <p:nvPr/>
          </p:nvSpPr>
          <p:spPr>
            <a:xfrm>
              <a:off x="3392640" y="2367000"/>
              <a:ext cx="439560" cy="314640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3146400"/>
                <a:gd name="textAreaBottom" fmla="*/ 3146760 h 3146400"/>
              </a:gdLst>
              <a:ahLst/>
              <a:rect l="textAreaLeft" t="textAreaTop" r="textAreaRight" b="textAreaBottom"/>
              <a:pathLst>
                <a:path w="117" h="837">
                  <a:moveTo>
                    <a:pt x="0" y="0"/>
                  </a:moveTo>
                  <a:cubicBezTo>
                    <a:pt x="94" y="7"/>
                    <a:pt x="117" y="41"/>
                    <a:pt x="117" y="41"/>
                  </a:cubicBezTo>
                  <a:cubicBezTo>
                    <a:pt x="114" y="837"/>
                    <a:pt x="114" y="837"/>
                    <a:pt x="114" y="83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9"/>
            <p:cNvSpPr/>
            <p:nvPr/>
          </p:nvSpPr>
          <p:spPr>
            <a:xfrm>
              <a:off x="3645000" y="2413080"/>
              <a:ext cx="190440" cy="2879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879640"/>
                <a:gd name="textAreaBottom" fmla="*/ 2880000 h 2879640"/>
              </a:gdLst>
              <a:ahLst/>
              <a:rect l="textAreaLeft" t="textAreaTop" r="textAreaRight" b="textAreaBottom"/>
              <a:pathLst>
                <a:path w="51" h="766">
                  <a:moveTo>
                    <a:pt x="0" y="0"/>
                  </a:moveTo>
                  <a:cubicBezTo>
                    <a:pt x="39" y="12"/>
                    <a:pt x="50" y="29"/>
                    <a:pt x="50" y="29"/>
                  </a:cubicBezTo>
                  <a:cubicBezTo>
                    <a:pt x="51" y="766"/>
                    <a:pt x="51" y="766"/>
                    <a:pt x="51" y="76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3821040" y="2292480"/>
              <a:ext cx="2152800" cy="3228840"/>
            </a:xfrm>
            <a:custGeom>
              <a:avLst/>
              <a:gdLst>
                <a:gd name="textAreaLeft" fmla="*/ 0 w 2152800"/>
                <a:gd name="textAreaRight" fmla="*/ 2153160 w 2152800"/>
                <a:gd name="textAreaTop" fmla="*/ 0 h 3228840"/>
                <a:gd name="textAreaBottom" fmla="*/ 3229200 h 3228840"/>
              </a:gdLst>
              <a:ahLst/>
              <a:rect l="textAreaLeft" t="textAreaTop" r="textAreaRight" b="textAreaBottom"/>
              <a:pathLst>
                <a:path w="573" h="859">
                  <a:moveTo>
                    <a:pt x="132" y="2"/>
                  </a:moveTo>
                  <a:cubicBezTo>
                    <a:pt x="18" y="5"/>
                    <a:pt x="0" y="61"/>
                    <a:pt x="0" y="61"/>
                  </a:cubicBezTo>
                  <a:cubicBezTo>
                    <a:pt x="0" y="859"/>
                    <a:pt x="0" y="859"/>
                    <a:pt x="0" y="859"/>
                  </a:cubicBezTo>
                  <a:cubicBezTo>
                    <a:pt x="0" y="859"/>
                    <a:pt x="22" y="824"/>
                    <a:pt x="150" y="800"/>
                  </a:cubicBezTo>
                  <a:cubicBezTo>
                    <a:pt x="228" y="786"/>
                    <a:pt x="561" y="824"/>
                    <a:pt x="561" y="824"/>
                  </a:cubicBezTo>
                  <a:cubicBezTo>
                    <a:pt x="573" y="44"/>
                    <a:pt x="573" y="44"/>
                    <a:pt x="573" y="44"/>
                  </a:cubicBezTo>
                  <a:cubicBezTo>
                    <a:pt x="573" y="44"/>
                    <a:pt x="246" y="0"/>
                    <a:pt x="13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3989520" y="2465640"/>
              <a:ext cx="1814400" cy="73656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483" h="196">
                  <a:moveTo>
                    <a:pt x="96" y="161"/>
                  </a:moveTo>
                  <a:cubicBezTo>
                    <a:pt x="48" y="162"/>
                    <a:pt x="18" y="173"/>
                    <a:pt x="0" y="185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5" y="4"/>
                    <a:pt x="111" y="2"/>
                  </a:cubicBezTo>
                  <a:cubicBezTo>
                    <a:pt x="207" y="0"/>
                    <a:pt x="483" y="37"/>
                    <a:pt x="483" y="37"/>
                  </a:cubicBezTo>
                  <a:cubicBezTo>
                    <a:pt x="481" y="196"/>
                    <a:pt x="481" y="196"/>
                    <a:pt x="481" y="196"/>
                  </a:cubicBezTo>
                  <a:cubicBezTo>
                    <a:pt x="401" y="186"/>
                    <a:pt x="182" y="159"/>
                    <a:pt x="96" y="161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2"/>
            <p:cNvSpPr/>
            <p:nvPr/>
          </p:nvSpPr>
          <p:spPr>
            <a:xfrm>
              <a:off x="3989520" y="3216240"/>
              <a:ext cx="1814400" cy="30168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483" h="80">
                  <a:moveTo>
                    <a:pt x="111" y="2"/>
                  </a:moveTo>
                  <a:cubicBezTo>
                    <a:pt x="207" y="0"/>
                    <a:pt x="483" y="37"/>
                    <a:pt x="483" y="37"/>
                  </a:cubicBezTo>
                  <a:cubicBezTo>
                    <a:pt x="483" y="65"/>
                    <a:pt x="483" y="65"/>
                    <a:pt x="483" y="65"/>
                  </a:cubicBezTo>
                  <a:cubicBezTo>
                    <a:pt x="472" y="64"/>
                    <a:pt x="205" y="28"/>
                    <a:pt x="111" y="30"/>
                  </a:cubicBezTo>
                  <a:cubicBezTo>
                    <a:pt x="15" y="32"/>
                    <a:pt x="0" y="80"/>
                    <a:pt x="0" y="80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0" y="52"/>
                    <a:pt x="15" y="4"/>
                    <a:pt x="111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3"/>
            <p:cNvSpPr/>
            <p:nvPr/>
          </p:nvSpPr>
          <p:spPr>
            <a:xfrm>
              <a:off x="3989520" y="3441960"/>
              <a:ext cx="1814400" cy="29844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298440"/>
                <a:gd name="textAreaBottom" fmla="*/ 298440 h 298440"/>
              </a:gdLst>
              <a:ahLst/>
              <a:rect l="textAreaLeft" t="textAreaTop" r="textAreaRight" b="textAreaBottom"/>
              <a:pathLst>
                <a:path w="483" h="79">
                  <a:moveTo>
                    <a:pt x="111" y="2"/>
                  </a:moveTo>
                  <a:cubicBezTo>
                    <a:pt x="207" y="0"/>
                    <a:pt x="483" y="37"/>
                    <a:pt x="483" y="37"/>
                  </a:cubicBezTo>
                  <a:cubicBezTo>
                    <a:pt x="483" y="65"/>
                    <a:pt x="483" y="65"/>
                    <a:pt x="483" y="65"/>
                  </a:cubicBezTo>
                  <a:cubicBezTo>
                    <a:pt x="472" y="63"/>
                    <a:pt x="205" y="27"/>
                    <a:pt x="111" y="29"/>
                  </a:cubicBezTo>
                  <a:cubicBezTo>
                    <a:pt x="15" y="31"/>
                    <a:pt x="0" y="79"/>
                    <a:pt x="0" y="79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5" y="4"/>
                    <a:pt x="111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4"/>
            <p:cNvSpPr/>
            <p:nvPr/>
          </p:nvSpPr>
          <p:spPr>
            <a:xfrm>
              <a:off x="3989520" y="3664080"/>
              <a:ext cx="1814400" cy="29700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483" h="79">
                  <a:moveTo>
                    <a:pt x="111" y="2"/>
                  </a:moveTo>
                  <a:cubicBezTo>
                    <a:pt x="207" y="0"/>
                    <a:pt x="483" y="37"/>
                    <a:pt x="483" y="37"/>
                  </a:cubicBezTo>
                  <a:cubicBezTo>
                    <a:pt x="483" y="65"/>
                    <a:pt x="483" y="65"/>
                    <a:pt x="483" y="65"/>
                  </a:cubicBezTo>
                  <a:cubicBezTo>
                    <a:pt x="472" y="63"/>
                    <a:pt x="205" y="28"/>
                    <a:pt x="111" y="30"/>
                  </a:cubicBezTo>
                  <a:cubicBezTo>
                    <a:pt x="15" y="32"/>
                    <a:pt x="0" y="79"/>
                    <a:pt x="0" y="79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0" y="52"/>
                    <a:pt x="15" y="4"/>
                    <a:pt x="111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3989520" y="3886200"/>
              <a:ext cx="1814400" cy="30024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483" h="80">
                  <a:moveTo>
                    <a:pt x="111" y="2"/>
                  </a:moveTo>
                  <a:cubicBezTo>
                    <a:pt x="207" y="0"/>
                    <a:pt x="483" y="38"/>
                    <a:pt x="483" y="38"/>
                  </a:cubicBezTo>
                  <a:cubicBezTo>
                    <a:pt x="483" y="65"/>
                    <a:pt x="483" y="65"/>
                    <a:pt x="483" y="65"/>
                  </a:cubicBezTo>
                  <a:cubicBezTo>
                    <a:pt x="472" y="64"/>
                    <a:pt x="205" y="28"/>
                    <a:pt x="111" y="30"/>
                  </a:cubicBezTo>
                  <a:cubicBezTo>
                    <a:pt x="15" y="32"/>
                    <a:pt x="0" y="80"/>
                    <a:pt x="0" y="80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0" y="52"/>
                    <a:pt x="15" y="4"/>
                    <a:pt x="111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3989520" y="4284720"/>
              <a:ext cx="1814400" cy="29700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483" h="79">
                  <a:moveTo>
                    <a:pt x="111" y="2"/>
                  </a:moveTo>
                  <a:cubicBezTo>
                    <a:pt x="207" y="0"/>
                    <a:pt x="483" y="37"/>
                    <a:pt x="483" y="37"/>
                  </a:cubicBezTo>
                  <a:cubicBezTo>
                    <a:pt x="483" y="65"/>
                    <a:pt x="483" y="65"/>
                    <a:pt x="483" y="65"/>
                  </a:cubicBezTo>
                  <a:cubicBezTo>
                    <a:pt x="472" y="63"/>
                    <a:pt x="205" y="28"/>
                    <a:pt x="111" y="30"/>
                  </a:cubicBezTo>
                  <a:cubicBezTo>
                    <a:pt x="15" y="32"/>
                    <a:pt x="0" y="79"/>
                    <a:pt x="0" y="79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5" y="4"/>
                    <a:pt x="111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7"/>
            <p:cNvSpPr/>
            <p:nvPr/>
          </p:nvSpPr>
          <p:spPr>
            <a:xfrm>
              <a:off x="3989520" y="4507200"/>
              <a:ext cx="1814400" cy="29988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483" h="80">
                  <a:moveTo>
                    <a:pt x="111" y="2"/>
                  </a:moveTo>
                  <a:cubicBezTo>
                    <a:pt x="207" y="0"/>
                    <a:pt x="483" y="38"/>
                    <a:pt x="483" y="38"/>
                  </a:cubicBezTo>
                  <a:cubicBezTo>
                    <a:pt x="483" y="65"/>
                    <a:pt x="483" y="65"/>
                    <a:pt x="483" y="65"/>
                  </a:cubicBezTo>
                  <a:cubicBezTo>
                    <a:pt x="472" y="64"/>
                    <a:pt x="205" y="28"/>
                    <a:pt x="111" y="30"/>
                  </a:cubicBezTo>
                  <a:cubicBezTo>
                    <a:pt x="15" y="32"/>
                    <a:pt x="0" y="80"/>
                    <a:pt x="0" y="80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0" y="52"/>
                    <a:pt x="15" y="4"/>
                    <a:pt x="111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8"/>
            <p:cNvSpPr/>
            <p:nvPr/>
          </p:nvSpPr>
          <p:spPr>
            <a:xfrm>
              <a:off x="3989520" y="4732560"/>
              <a:ext cx="1814400" cy="29664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483" h="79">
                  <a:moveTo>
                    <a:pt x="111" y="2"/>
                  </a:moveTo>
                  <a:cubicBezTo>
                    <a:pt x="207" y="0"/>
                    <a:pt x="483" y="37"/>
                    <a:pt x="483" y="37"/>
                  </a:cubicBezTo>
                  <a:cubicBezTo>
                    <a:pt x="483" y="65"/>
                    <a:pt x="483" y="65"/>
                    <a:pt x="483" y="65"/>
                  </a:cubicBezTo>
                  <a:cubicBezTo>
                    <a:pt x="472" y="63"/>
                    <a:pt x="205" y="28"/>
                    <a:pt x="111" y="29"/>
                  </a:cubicBezTo>
                  <a:cubicBezTo>
                    <a:pt x="15" y="31"/>
                    <a:pt x="0" y="79"/>
                    <a:pt x="0" y="79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5" y="4"/>
                    <a:pt x="111" y="2"/>
                  </a:cubicBezTo>
                  <a:close/>
                </a:path>
              </a:pathLst>
            </a:custGeom>
            <a:solidFill>
              <a:srgbClr val="cb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9"/>
            <p:cNvSpPr/>
            <p:nvPr/>
          </p:nvSpPr>
          <p:spPr>
            <a:xfrm>
              <a:off x="4343400" y="4287960"/>
              <a:ext cx="781200" cy="114768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1147680"/>
                <a:gd name="textAreaBottom" fmla="*/ 1148040 h 1147680"/>
              </a:gdLst>
              <a:ahLst/>
              <a:rect l="textAreaLeft" t="textAreaTop" r="textAreaRight" b="textAreaBottom"/>
              <a:pathLst>
                <a:path w="208" h="305">
                  <a:moveTo>
                    <a:pt x="144" y="294"/>
                  </a:moveTo>
                  <a:cubicBezTo>
                    <a:pt x="124" y="289"/>
                    <a:pt x="104" y="272"/>
                    <a:pt x="104" y="272"/>
                  </a:cubicBezTo>
                  <a:cubicBezTo>
                    <a:pt x="0" y="175"/>
                    <a:pt x="0" y="175"/>
                    <a:pt x="0" y="175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55" y="8"/>
                    <a:pt x="65" y="65"/>
                  </a:cubicBezTo>
                  <a:cubicBezTo>
                    <a:pt x="75" y="122"/>
                    <a:pt x="76" y="157"/>
                    <a:pt x="76" y="157"/>
                  </a:cubicBezTo>
                  <a:cubicBezTo>
                    <a:pt x="166" y="207"/>
                    <a:pt x="166" y="207"/>
                    <a:pt x="166" y="207"/>
                  </a:cubicBezTo>
                  <a:cubicBezTo>
                    <a:pt x="166" y="207"/>
                    <a:pt x="172" y="210"/>
                    <a:pt x="178" y="216"/>
                  </a:cubicBezTo>
                  <a:cubicBezTo>
                    <a:pt x="191" y="228"/>
                    <a:pt x="208" y="250"/>
                    <a:pt x="199" y="270"/>
                  </a:cubicBezTo>
                  <a:cubicBezTo>
                    <a:pt x="184" y="305"/>
                    <a:pt x="156" y="296"/>
                    <a:pt x="144" y="294"/>
                  </a:cubicBezTo>
                  <a:close/>
                </a:path>
              </a:pathLst>
            </a:cu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0"/>
            <p:cNvSpPr/>
            <p:nvPr/>
          </p:nvSpPr>
          <p:spPr>
            <a:xfrm>
              <a:off x="5229360" y="3957840"/>
              <a:ext cx="496800" cy="114300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32" h="304">
                  <a:moveTo>
                    <a:pt x="128" y="254"/>
                  </a:moveTo>
                  <a:cubicBezTo>
                    <a:pt x="132" y="275"/>
                    <a:pt x="120" y="295"/>
                    <a:pt x="99" y="299"/>
                  </a:cubicBezTo>
                  <a:cubicBezTo>
                    <a:pt x="99" y="299"/>
                    <a:pt x="99" y="299"/>
                    <a:pt x="99" y="299"/>
                  </a:cubicBezTo>
                  <a:cubicBezTo>
                    <a:pt x="79" y="304"/>
                    <a:pt x="59" y="291"/>
                    <a:pt x="55" y="271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0" y="30"/>
                    <a:pt x="12" y="9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53" y="0"/>
                    <a:pt x="73" y="13"/>
                    <a:pt x="78" y="33"/>
                  </a:cubicBezTo>
                  <a:lnTo>
                    <a:pt x="128" y="254"/>
                  </a:lnTo>
                  <a:close/>
                </a:path>
              </a:pathLst>
            </a:custGeom>
            <a:solidFill>
              <a:srgbClr val="ffc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1"/>
            <p:cNvSpPr/>
            <p:nvPr/>
          </p:nvSpPr>
          <p:spPr>
            <a:xfrm>
              <a:off x="5237280" y="4025880"/>
              <a:ext cx="127080" cy="5968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34" h="159">
                  <a:moveTo>
                    <a:pt x="33" y="136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3" y="9"/>
                    <a:pt x="0" y="20"/>
                    <a:pt x="2" y="32"/>
                  </a:cubicBezTo>
                  <a:cubicBezTo>
                    <a:pt x="28" y="159"/>
                    <a:pt x="28" y="159"/>
                    <a:pt x="28" y="159"/>
                  </a:cubicBezTo>
                  <a:cubicBezTo>
                    <a:pt x="29" y="154"/>
                    <a:pt x="34" y="141"/>
                    <a:pt x="33" y="136"/>
                  </a:cubicBezTo>
                  <a:close/>
                </a:path>
              </a:pathLst>
            </a:cu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2"/>
            <p:cNvSpPr/>
            <p:nvPr/>
          </p:nvSpPr>
          <p:spPr>
            <a:xfrm>
              <a:off x="4575240" y="4480200"/>
              <a:ext cx="1192320" cy="1101600"/>
            </a:xfrm>
            <a:custGeom>
              <a:avLst/>
              <a:gdLst>
                <a:gd name="textAreaLeft" fmla="*/ 0 w 1192320"/>
                <a:gd name="textAreaRight" fmla="*/ 1192680 w 1192320"/>
                <a:gd name="textAreaTop" fmla="*/ 0 h 1101600"/>
                <a:gd name="textAreaBottom" fmla="*/ 1101960 h 1101600"/>
              </a:gdLst>
              <a:ahLst/>
              <a:rect l="textAreaLeft" t="textAreaTop" r="textAreaRight" b="textAreaBottom"/>
              <a:pathLst>
                <a:path w="317" h="293">
                  <a:moveTo>
                    <a:pt x="0" y="62"/>
                  </a:moveTo>
                  <a:cubicBezTo>
                    <a:pt x="24" y="170"/>
                    <a:pt x="24" y="170"/>
                    <a:pt x="24" y="170"/>
                  </a:cubicBezTo>
                  <a:cubicBezTo>
                    <a:pt x="41" y="246"/>
                    <a:pt x="117" y="293"/>
                    <a:pt x="193" y="276"/>
                  </a:cubicBezTo>
                  <a:cubicBezTo>
                    <a:pt x="269" y="259"/>
                    <a:pt x="317" y="183"/>
                    <a:pt x="300" y="107"/>
                  </a:cubicBezTo>
                  <a:cubicBezTo>
                    <a:pt x="275" y="0"/>
                    <a:pt x="275" y="0"/>
                    <a:pt x="275" y="0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ffc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3"/>
            <p:cNvSpPr/>
            <p:nvPr/>
          </p:nvSpPr>
          <p:spPr>
            <a:xfrm>
              <a:off x="4959360" y="3908520"/>
              <a:ext cx="495360" cy="114300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32" h="304">
                  <a:moveTo>
                    <a:pt x="128" y="254"/>
                  </a:moveTo>
                  <a:cubicBezTo>
                    <a:pt x="132" y="275"/>
                    <a:pt x="120" y="295"/>
                    <a:pt x="100" y="299"/>
                  </a:cubicBezTo>
                  <a:cubicBezTo>
                    <a:pt x="100" y="299"/>
                    <a:pt x="100" y="299"/>
                    <a:pt x="100" y="299"/>
                  </a:cubicBezTo>
                  <a:cubicBezTo>
                    <a:pt x="79" y="304"/>
                    <a:pt x="59" y="291"/>
                    <a:pt x="55" y="271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0" y="29"/>
                    <a:pt x="12" y="9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53" y="0"/>
                    <a:pt x="73" y="13"/>
                    <a:pt x="78" y="33"/>
                  </a:cubicBezTo>
                  <a:lnTo>
                    <a:pt x="128" y="254"/>
                  </a:lnTo>
                  <a:close/>
                </a:path>
              </a:pathLst>
            </a:custGeom>
            <a:solidFill>
              <a:srgbClr val="ffc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4"/>
            <p:cNvSpPr/>
            <p:nvPr/>
          </p:nvSpPr>
          <p:spPr>
            <a:xfrm>
              <a:off x="4967280" y="3976920"/>
              <a:ext cx="108000" cy="5968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9" h="159">
                  <a:moveTo>
                    <a:pt x="28" y="145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3" y="9"/>
                    <a:pt x="0" y="20"/>
                    <a:pt x="2" y="32"/>
                  </a:cubicBezTo>
                  <a:cubicBezTo>
                    <a:pt x="28" y="159"/>
                    <a:pt x="28" y="159"/>
                    <a:pt x="28" y="159"/>
                  </a:cubicBezTo>
                  <a:cubicBezTo>
                    <a:pt x="29" y="154"/>
                    <a:pt x="29" y="150"/>
                    <a:pt x="28" y="145"/>
                  </a:cubicBezTo>
                  <a:close/>
                </a:path>
              </a:pathLst>
            </a:cu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5"/>
            <p:cNvSpPr/>
            <p:nvPr/>
          </p:nvSpPr>
          <p:spPr>
            <a:xfrm>
              <a:off x="4684680" y="3856320"/>
              <a:ext cx="495360" cy="11379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1137960"/>
                <a:gd name="textAreaBottom" fmla="*/ 1138320 h 1137960"/>
              </a:gdLst>
              <a:ahLst/>
              <a:rect l="textAreaLeft" t="textAreaTop" r="textAreaRight" b="textAreaBottom"/>
              <a:pathLst>
                <a:path w="132" h="303">
                  <a:moveTo>
                    <a:pt x="128" y="254"/>
                  </a:moveTo>
                  <a:cubicBezTo>
                    <a:pt x="132" y="274"/>
                    <a:pt x="120" y="294"/>
                    <a:pt x="100" y="299"/>
                  </a:cubicBezTo>
                  <a:cubicBezTo>
                    <a:pt x="100" y="299"/>
                    <a:pt x="100" y="299"/>
                    <a:pt x="100" y="299"/>
                  </a:cubicBezTo>
                  <a:cubicBezTo>
                    <a:pt x="79" y="303"/>
                    <a:pt x="59" y="291"/>
                    <a:pt x="55" y="270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0" y="29"/>
                    <a:pt x="12" y="9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53" y="0"/>
                    <a:pt x="73" y="12"/>
                    <a:pt x="78" y="32"/>
                  </a:cubicBezTo>
                  <a:lnTo>
                    <a:pt x="128" y="254"/>
                  </a:lnTo>
                  <a:close/>
                </a:path>
              </a:pathLst>
            </a:custGeom>
            <a:solidFill>
              <a:srgbClr val="ffc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6"/>
            <p:cNvSpPr/>
            <p:nvPr/>
          </p:nvSpPr>
          <p:spPr>
            <a:xfrm>
              <a:off x="4692600" y="3919680"/>
              <a:ext cx="108000" cy="5983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29" h="159">
                  <a:moveTo>
                    <a:pt x="28" y="145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3" y="9"/>
                    <a:pt x="0" y="21"/>
                    <a:pt x="2" y="32"/>
                  </a:cubicBezTo>
                  <a:cubicBezTo>
                    <a:pt x="28" y="159"/>
                    <a:pt x="28" y="159"/>
                    <a:pt x="28" y="159"/>
                  </a:cubicBezTo>
                  <a:cubicBezTo>
                    <a:pt x="29" y="155"/>
                    <a:pt x="29" y="150"/>
                    <a:pt x="28" y="145"/>
                  </a:cubicBezTo>
                  <a:close/>
                </a:path>
              </a:pathLst>
            </a:custGeom>
            <a:solidFill>
              <a:srgbClr val="efa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7"/>
            <p:cNvSpPr/>
            <p:nvPr/>
          </p:nvSpPr>
          <p:spPr>
            <a:xfrm>
              <a:off x="4305240" y="3427560"/>
              <a:ext cx="638280" cy="174780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747800"/>
                <a:gd name="textAreaBottom" fmla="*/ 1748160 h 1747800"/>
              </a:gdLst>
              <a:ahLst/>
              <a:rect l="textAreaLeft" t="textAreaTop" r="textAreaRight" b="textAreaBottom"/>
              <a:pathLst>
                <a:path w="170" h="465">
                  <a:moveTo>
                    <a:pt x="165" y="416"/>
                  </a:moveTo>
                  <a:cubicBezTo>
                    <a:pt x="170" y="436"/>
                    <a:pt x="157" y="456"/>
                    <a:pt x="137" y="461"/>
                  </a:cubicBezTo>
                  <a:cubicBezTo>
                    <a:pt x="137" y="461"/>
                    <a:pt x="137" y="461"/>
                    <a:pt x="137" y="461"/>
                  </a:cubicBezTo>
                  <a:cubicBezTo>
                    <a:pt x="117" y="465"/>
                    <a:pt x="97" y="453"/>
                    <a:pt x="92" y="432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0" y="29"/>
                    <a:pt x="13" y="9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54" y="0"/>
                    <a:pt x="74" y="12"/>
                    <a:pt x="78" y="33"/>
                  </a:cubicBezTo>
                  <a:lnTo>
                    <a:pt x="165" y="416"/>
                  </a:lnTo>
                  <a:close/>
                </a:path>
              </a:pathLst>
            </a:custGeom>
            <a:solidFill>
              <a:srgbClr val="ffc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8"/>
            <p:cNvSpPr/>
            <p:nvPr/>
          </p:nvSpPr>
          <p:spPr>
            <a:xfrm>
              <a:off x="4365720" y="3471840"/>
              <a:ext cx="203040" cy="2001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54" h="53">
                  <a:moveTo>
                    <a:pt x="54" y="39"/>
                  </a:moveTo>
                  <a:cubicBezTo>
                    <a:pt x="49" y="21"/>
                    <a:pt x="49" y="21"/>
                    <a:pt x="49" y="21"/>
                  </a:cubicBezTo>
                  <a:cubicBezTo>
                    <a:pt x="47" y="8"/>
                    <a:pt x="34" y="0"/>
                    <a:pt x="21" y="3"/>
                  </a:cubicBezTo>
                  <a:cubicBezTo>
                    <a:pt x="8" y="6"/>
                    <a:pt x="0" y="19"/>
                    <a:pt x="3" y="32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0"/>
                    <a:pt x="15" y="53"/>
                    <a:pt x="30" y="49"/>
                  </a:cubicBezTo>
                  <a:cubicBezTo>
                    <a:pt x="49" y="44"/>
                    <a:pt x="49" y="43"/>
                    <a:pt x="54" y="39"/>
                  </a:cubicBezTo>
                  <a:close/>
                </a:path>
              </a:pathLst>
            </a:custGeom>
            <a:solidFill>
              <a:srgbClr val="ffd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9"/>
            <p:cNvSpPr/>
            <p:nvPr/>
          </p:nvSpPr>
          <p:spPr>
            <a:xfrm>
              <a:off x="4511880" y="4172040"/>
              <a:ext cx="195120" cy="637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52" h="17">
                  <a:moveTo>
                    <a:pt x="52" y="3"/>
                  </a:moveTo>
                  <a:cubicBezTo>
                    <a:pt x="52" y="4"/>
                    <a:pt x="51" y="6"/>
                    <a:pt x="50" y="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2" y="17"/>
                    <a:pt x="1" y="16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3"/>
                    <a:pt x="1" y="12"/>
                    <a:pt x="2" y="11"/>
                  </a:cubicBezTo>
                  <a:cubicBezTo>
                    <a:pt x="48" y="1"/>
                    <a:pt x="48" y="1"/>
                    <a:pt x="48" y="1"/>
                  </a:cubicBezTo>
                  <a:cubicBezTo>
                    <a:pt x="50" y="0"/>
                    <a:pt x="51" y="1"/>
                    <a:pt x="52" y="3"/>
                  </a:cubicBezTo>
                  <a:close/>
                </a:path>
              </a:pathLst>
            </a:custGeom>
            <a:solidFill>
              <a:srgbClr val="ffd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0"/>
            <p:cNvSpPr/>
            <p:nvPr/>
          </p:nvSpPr>
          <p:spPr>
            <a:xfrm>
              <a:off x="4568760" y="4232520"/>
              <a:ext cx="104760" cy="41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8" h="11">
                  <a:moveTo>
                    <a:pt x="28" y="3"/>
                  </a:moveTo>
                  <a:cubicBezTo>
                    <a:pt x="28" y="4"/>
                    <a:pt x="27" y="5"/>
                    <a:pt x="26" y="5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1"/>
                    <a:pt x="0" y="10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7"/>
                    <a:pt x="1" y="6"/>
                    <a:pt x="2" y="6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6" y="0"/>
                    <a:pt x="27" y="1"/>
                    <a:pt x="28" y="3"/>
                  </a:cubicBezTo>
                  <a:close/>
                </a:path>
              </a:pathLst>
            </a:custGeom>
            <a:solidFill>
              <a:srgbClr val="ffd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1"/>
            <p:cNvSpPr/>
            <p:nvPr/>
          </p:nvSpPr>
          <p:spPr>
            <a:xfrm>
              <a:off x="4797360" y="5197680"/>
              <a:ext cx="1292400" cy="165888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658880"/>
                <a:gd name="textAreaBottom" fmla="*/ 1659240 h 1658880"/>
              </a:gdLst>
              <a:ahLst/>
              <a:rect l="textAreaLeft" t="textAreaTop" r="textAreaRight" b="textAreaBottom"/>
              <a:pathLst>
                <a:path w="344" h="441">
                  <a:moveTo>
                    <a:pt x="65" y="441"/>
                  </a:moveTo>
                  <a:cubicBezTo>
                    <a:pt x="0" y="49"/>
                    <a:pt x="0" y="49"/>
                    <a:pt x="0" y="49"/>
                  </a:cubicBezTo>
                  <a:cubicBezTo>
                    <a:pt x="40" y="52"/>
                    <a:pt x="205" y="21"/>
                    <a:pt x="245" y="0"/>
                  </a:cubicBezTo>
                  <a:cubicBezTo>
                    <a:pt x="344" y="441"/>
                    <a:pt x="344" y="441"/>
                    <a:pt x="344" y="441"/>
                  </a:cubicBezTo>
                  <a:lnTo>
                    <a:pt x="65" y="441"/>
                  </a:lnTo>
                  <a:close/>
                </a:path>
              </a:pathLst>
            </a:custGeom>
            <a:solidFill>
              <a:srgbClr val="aa4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69"/>
          <p:cNvSpPr/>
          <p:nvPr/>
        </p:nvSpPr>
        <p:spPr>
          <a:xfrm>
            <a:off x="7431120" y="779400"/>
            <a:ext cx="39006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贷款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95"/>
          <p:cNvSpPr/>
          <p:nvPr/>
        </p:nvSpPr>
        <p:spPr>
          <a:xfrm>
            <a:off x="8055000" y="2940120"/>
            <a:ext cx="255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a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97"/>
          <p:cNvSpPr/>
          <p:nvPr/>
        </p:nvSpPr>
        <p:spPr>
          <a:xfrm>
            <a:off x="8142120" y="4276800"/>
            <a:ext cx="32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元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3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c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组合 11"/>
          <p:cNvGrpSpPr/>
          <p:nvPr/>
        </p:nvGrpSpPr>
        <p:grpSpPr>
          <a:xfrm>
            <a:off x="1276200" y="3429000"/>
            <a:ext cx="8634600" cy="1020600"/>
            <a:chOff x="1276200" y="3429000"/>
            <a:chExt cx="8634600" cy="1020600"/>
          </a:xfrm>
        </p:grpSpPr>
        <p:sp>
          <p:nvSpPr>
            <p:cNvPr id="165" name="矩形 59"/>
            <p:cNvSpPr/>
            <p:nvPr/>
          </p:nvSpPr>
          <p:spPr>
            <a:xfrm>
              <a:off x="5385960" y="3479760"/>
              <a:ext cx="4524840" cy="969840"/>
            </a:xfrm>
            <a:prstGeom prst="rect">
              <a:avLst/>
            </a:prstGeom>
            <a:solidFill>
              <a:srgbClr val="33b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58"/>
            <p:cNvSpPr/>
            <p:nvPr/>
          </p:nvSpPr>
          <p:spPr>
            <a:xfrm>
              <a:off x="1276200" y="3429000"/>
              <a:ext cx="3343320" cy="969840"/>
            </a:xfrm>
            <a:prstGeom prst="rect">
              <a:avLst/>
            </a:prstGeom>
            <a:solidFill>
              <a:srgbClr val="33b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12"/>
          <p:cNvGrpSpPr/>
          <p:nvPr/>
        </p:nvGrpSpPr>
        <p:grpSpPr>
          <a:xfrm>
            <a:off x="1273320" y="4998960"/>
            <a:ext cx="8637480" cy="1005120"/>
            <a:chOff x="1273320" y="4998960"/>
            <a:chExt cx="8637480" cy="1005120"/>
          </a:xfrm>
        </p:grpSpPr>
        <p:sp>
          <p:nvSpPr>
            <p:cNvPr id="168" name="矩形 61"/>
            <p:cNvSpPr/>
            <p:nvPr/>
          </p:nvSpPr>
          <p:spPr>
            <a:xfrm>
              <a:off x="5385960" y="5034240"/>
              <a:ext cx="4524840" cy="969840"/>
            </a:xfrm>
            <a:prstGeom prst="rect">
              <a:avLst/>
            </a:prstGeom>
            <a:solidFill>
              <a:srgbClr val="348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60"/>
            <p:cNvSpPr/>
            <p:nvPr/>
          </p:nvSpPr>
          <p:spPr>
            <a:xfrm>
              <a:off x="1273320" y="4998960"/>
              <a:ext cx="3343320" cy="969840"/>
            </a:xfrm>
            <a:prstGeom prst="rect">
              <a:avLst/>
            </a:prstGeom>
            <a:solidFill>
              <a:srgbClr val="348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0"/>
          <p:cNvGrpSpPr/>
          <p:nvPr/>
        </p:nvGrpSpPr>
        <p:grpSpPr>
          <a:xfrm>
            <a:off x="1378080" y="1909800"/>
            <a:ext cx="8532720" cy="969840"/>
            <a:chOff x="1378080" y="1909800"/>
            <a:chExt cx="8532720" cy="969840"/>
          </a:xfrm>
        </p:grpSpPr>
        <p:sp>
          <p:nvSpPr>
            <p:cNvPr id="171" name="矩形 56"/>
            <p:cNvSpPr/>
            <p:nvPr/>
          </p:nvSpPr>
          <p:spPr>
            <a:xfrm>
              <a:off x="5385960" y="1909800"/>
              <a:ext cx="4524840" cy="969840"/>
            </a:xfrm>
            <a:prstGeom prst="rect">
              <a:avLst/>
            </a:prstGeom>
            <a:solidFill>
              <a:srgbClr val="b7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9"/>
            <p:cNvSpPr/>
            <p:nvPr/>
          </p:nvSpPr>
          <p:spPr>
            <a:xfrm>
              <a:off x="1378080" y="1909800"/>
              <a:ext cx="3343680" cy="969840"/>
            </a:xfrm>
            <a:prstGeom prst="rect">
              <a:avLst/>
            </a:prstGeom>
            <a:solidFill>
              <a:srgbClr val="b7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文本框 8"/>
          <p:cNvSpPr/>
          <p:nvPr/>
        </p:nvSpPr>
        <p:spPr>
          <a:xfrm>
            <a:off x="6473880" y="1990800"/>
            <a:ext cx="249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额贴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48"/>
          <p:cNvSpPr/>
          <p:nvPr/>
        </p:nvSpPr>
        <p:spPr>
          <a:xfrm>
            <a:off x="5730840" y="3546360"/>
            <a:ext cx="494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%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贷款贴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50"/>
          <p:cNvSpPr/>
          <p:nvPr/>
        </p:nvSpPr>
        <p:spPr>
          <a:xfrm>
            <a:off x="5908680" y="5145120"/>
            <a:ext cx="347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贷款贴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51"/>
          <p:cNvSpPr/>
          <p:nvPr/>
        </p:nvSpPr>
        <p:spPr>
          <a:xfrm>
            <a:off x="1881360" y="2008080"/>
            <a:ext cx="249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利项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52"/>
          <p:cNvSpPr/>
          <p:nvPr/>
        </p:nvSpPr>
        <p:spPr>
          <a:xfrm>
            <a:off x="1709640" y="3586320"/>
            <a:ext cx="301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困难毕业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53"/>
          <p:cNvSpPr/>
          <p:nvPr/>
        </p:nvSpPr>
        <p:spPr>
          <a:xfrm>
            <a:off x="1819440" y="5035680"/>
            <a:ext cx="279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其他人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157"/>
          <p:cNvGrpSpPr/>
          <p:nvPr/>
        </p:nvGrpSpPr>
        <p:grpSpPr>
          <a:xfrm>
            <a:off x="8974800" y="-2388240"/>
            <a:ext cx="7223400" cy="4349160"/>
            <a:chOff x="8974800" y="-2388240"/>
            <a:chExt cx="7223400" cy="4349160"/>
          </a:xfrm>
        </p:grpSpPr>
        <p:grpSp>
          <p:nvGrpSpPr>
            <p:cNvPr id="180" name="Group 50"/>
            <p:cNvGrpSpPr/>
            <p:nvPr/>
          </p:nvGrpSpPr>
          <p:grpSpPr>
            <a:xfrm>
              <a:off x="8974800" y="-2388240"/>
              <a:ext cx="3902400" cy="2975040"/>
              <a:chOff x="8974800" y="-2388240"/>
              <a:chExt cx="3902400" cy="2975040"/>
            </a:xfrm>
          </p:grpSpPr>
          <p:sp>
            <p:nvSpPr>
              <p:cNvPr id="181" name="AutoShape 49"/>
              <p:cNvSpPr/>
              <p:nvPr/>
            </p:nvSpPr>
            <p:spPr>
              <a:xfrm rot="17867400">
                <a:off x="10207080" y="-2727360"/>
                <a:ext cx="1437480" cy="36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51"/>
              <p:cNvSpPr/>
              <p:nvPr/>
            </p:nvSpPr>
            <p:spPr>
              <a:xfrm rot="17867400">
                <a:off x="10127880" y="-1729080"/>
                <a:ext cx="521280" cy="860760"/>
              </a:xfrm>
              <a:custGeom>
                <a:avLst/>
                <a:gdLst>
                  <a:gd name="textAreaLeft" fmla="*/ 0 w 521280"/>
                  <a:gd name="textAreaRight" fmla="*/ 521640 w 521280"/>
                  <a:gd name="textAreaTop" fmla="*/ 0 h 860760"/>
                  <a:gd name="textAreaBottom" fmla="*/ 861120 h 860760"/>
                </a:gdLst>
                <a:ahLst/>
                <a:rect l="textAreaLeft" t="textAreaTop" r="textAreaRight" b="textAreaBottom"/>
                <a:pathLst>
                  <a:path w="39" h="66">
                    <a:moveTo>
                      <a:pt x="7" y="1"/>
                    </a:moveTo>
                    <a:cubicBezTo>
                      <a:pt x="7" y="1"/>
                      <a:pt x="28" y="22"/>
                      <a:pt x="33" y="34"/>
                    </a:cubicBezTo>
                    <a:cubicBezTo>
                      <a:pt x="33" y="34"/>
                      <a:pt x="39" y="39"/>
                      <a:pt x="36" y="46"/>
                    </a:cubicBezTo>
                    <a:cubicBezTo>
                      <a:pt x="32" y="66"/>
                      <a:pt x="32" y="66"/>
                      <a:pt x="32" y="66"/>
                    </a:cubicBezTo>
                    <a:cubicBezTo>
                      <a:pt x="32" y="66"/>
                      <a:pt x="16" y="38"/>
                      <a:pt x="19" y="38"/>
                    </a:cubicBezTo>
                    <a:cubicBezTo>
                      <a:pt x="23" y="37"/>
                      <a:pt x="13" y="31"/>
                      <a:pt x="12" y="24"/>
                    </a:cubicBezTo>
                    <a:cubicBezTo>
                      <a:pt x="12" y="24"/>
                      <a:pt x="3" y="14"/>
                      <a:pt x="3" y="8"/>
                    </a:cubicBezTo>
                    <a:cubicBezTo>
                      <a:pt x="3" y="8"/>
                      <a:pt x="0" y="0"/>
                      <a:pt x="7" y="1"/>
                    </a:cubicBezTo>
                  </a:path>
                </a:pathLst>
              </a:custGeom>
              <a:solidFill>
                <a:srgbClr val="d1b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52"/>
              <p:cNvSpPr/>
              <p:nvPr/>
            </p:nvSpPr>
            <p:spPr>
              <a:xfrm rot="17867400">
                <a:off x="9117360" y="-2051640"/>
                <a:ext cx="1437480" cy="1179360"/>
              </a:xfrm>
              <a:custGeom>
                <a:avLst/>
                <a:gdLst>
                  <a:gd name="textAreaLeft" fmla="*/ 0 w 1437480"/>
                  <a:gd name="textAreaRight" fmla="*/ 1437840 w 1437480"/>
                  <a:gd name="textAreaTop" fmla="*/ 0 h 1179360"/>
                  <a:gd name="textAreaBottom" fmla="*/ 1179720 h 1179360"/>
                </a:gdLst>
                <a:ahLst/>
                <a:rect l="textAreaLeft" t="textAreaTop" r="textAreaRight" b="textAreaBottom"/>
                <a:pathLst>
                  <a:path w="262" h="215">
                    <a:moveTo>
                      <a:pt x="58" y="215"/>
                    </a:moveTo>
                    <a:lnTo>
                      <a:pt x="0" y="115"/>
                    </a:lnTo>
                    <a:lnTo>
                      <a:pt x="201" y="0"/>
                    </a:lnTo>
                    <a:lnTo>
                      <a:pt x="262" y="101"/>
                    </a:lnTo>
                    <a:lnTo>
                      <a:pt x="58" y="215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53"/>
              <p:cNvSpPr/>
              <p:nvPr/>
            </p:nvSpPr>
            <p:spPr>
              <a:xfrm rot="17867400">
                <a:off x="9117360" y="-2051640"/>
                <a:ext cx="1437480" cy="1179360"/>
              </a:xfrm>
              <a:custGeom>
                <a:avLst/>
                <a:gdLst>
                  <a:gd name="textAreaLeft" fmla="*/ 0 w 1437480"/>
                  <a:gd name="textAreaRight" fmla="*/ 1437840 w 1437480"/>
                  <a:gd name="textAreaTop" fmla="*/ 0 h 1179360"/>
                  <a:gd name="textAreaBottom" fmla="*/ 1179720 h 1179360"/>
                </a:gdLst>
                <a:ahLst/>
                <a:rect l="textAreaLeft" t="textAreaTop" r="textAreaRight" b="textAreaBottom"/>
                <a:pathLst>
                  <a:path w="262" h="215">
                    <a:moveTo>
                      <a:pt x="58" y="215"/>
                    </a:moveTo>
                    <a:lnTo>
                      <a:pt x="0" y="115"/>
                    </a:lnTo>
                    <a:lnTo>
                      <a:pt x="201" y="0"/>
                    </a:lnTo>
                    <a:lnTo>
                      <a:pt x="262" y="101"/>
                    </a:lnTo>
                    <a:lnTo>
                      <a:pt x="58" y="2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4"/>
              <p:cNvSpPr/>
              <p:nvPr/>
            </p:nvSpPr>
            <p:spPr>
              <a:xfrm rot="17867400">
                <a:off x="8982720" y="-1791720"/>
                <a:ext cx="1141200" cy="696600"/>
              </a:xfrm>
              <a:custGeom>
                <a:avLst/>
                <a:gdLst>
                  <a:gd name="textAreaLeft" fmla="*/ 0 w 1141200"/>
                  <a:gd name="textAreaRight" fmla="*/ 1141560 w 1141200"/>
                  <a:gd name="textAreaTop" fmla="*/ 0 h 696600"/>
                  <a:gd name="textAreaBottom" fmla="*/ 696960 h 696600"/>
                </a:gdLst>
                <a:ahLst/>
                <a:rect l="textAreaLeft" t="textAreaTop" r="textAreaRight" b="textAreaBottom"/>
                <a:pathLst>
                  <a:path w="208" h="127">
                    <a:moveTo>
                      <a:pt x="4" y="127"/>
                    </a:moveTo>
                    <a:lnTo>
                      <a:pt x="0" y="115"/>
                    </a:lnTo>
                    <a:lnTo>
                      <a:pt x="201" y="0"/>
                    </a:lnTo>
                    <a:lnTo>
                      <a:pt x="208" y="12"/>
                    </a:lnTo>
                    <a:lnTo>
                      <a:pt x="4" y="127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55"/>
              <p:cNvSpPr/>
              <p:nvPr/>
            </p:nvSpPr>
            <p:spPr>
              <a:xfrm rot="17867400">
                <a:off x="9641520" y="-2367720"/>
                <a:ext cx="344520" cy="55332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553320"/>
                  <a:gd name="textAreaBottom" fmla="*/ 553680 h 553320"/>
                </a:gdLst>
                <a:ahLst/>
                <a:rect l="textAreaLeft" t="textAreaTop" r="textAreaRight" b="textAreaBottom"/>
                <a:pathLst>
                  <a:path w="63" h="101">
                    <a:moveTo>
                      <a:pt x="0" y="3"/>
                    </a:moveTo>
                    <a:lnTo>
                      <a:pt x="4" y="0"/>
                    </a:lnTo>
                    <a:lnTo>
                      <a:pt x="63" y="101"/>
                    </a:lnTo>
                    <a:lnTo>
                      <a:pt x="58" y="10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56"/>
              <p:cNvSpPr/>
              <p:nvPr/>
            </p:nvSpPr>
            <p:spPr>
              <a:xfrm rot="17867400">
                <a:off x="9684720" y="-1110960"/>
                <a:ext cx="329760" cy="5644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564480"/>
                  <a:gd name="textAreaBottom" fmla="*/ 564840 h 56448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3"/>
                    </a:moveTo>
                    <a:lnTo>
                      <a:pt x="2" y="0"/>
                    </a:lnTo>
                    <a:lnTo>
                      <a:pt x="60" y="101"/>
                    </a:lnTo>
                    <a:lnTo>
                      <a:pt x="58" y="10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57"/>
              <p:cNvSpPr/>
              <p:nvPr/>
            </p:nvSpPr>
            <p:spPr>
              <a:xfrm rot="17867400">
                <a:off x="9537840" y="-1817640"/>
                <a:ext cx="1157400" cy="691560"/>
              </a:xfrm>
              <a:custGeom>
                <a:avLst/>
                <a:gdLst>
                  <a:gd name="textAreaLeft" fmla="*/ 0 w 1157400"/>
                  <a:gd name="textAreaRight" fmla="*/ 1157760 w 1157400"/>
                  <a:gd name="textAreaTop" fmla="*/ 0 h 691560"/>
                  <a:gd name="textAreaBottom" fmla="*/ 691920 h 691560"/>
                </a:gdLst>
                <a:ahLst/>
                <a:rect l="textAreaLeft" t="textAreaTop" r="textAreaRight" b="textAreaBottom"/>
                <a:pathLst>
                  <a:path w="211" h="126">
                    <a:moveTo>
                      <a:pt x="7" y="126"/>
                    </a:moveTo>
                    <a:lnTo>
                      <a:pt x="0" y="114"/>
                    </a:lnTo>
                    <a:lnTo>
                      <a:pt x="203" y="0"/>
                    </a:lnTo>
                    <a:lnTo>
                      <a:pt x="211" y="12"/>
                    </a:lnTo>
                    <a:lnTo>
                      <a:pt x="7" y="126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58"/>
              <p:cNvSpPr/>
              <p:nvPr/>
            </p:nvSpPr>
            <p:spPr>
              <a:xfrm rot="17867400">
                <a:off x="9537840" y="-1817640"/>
                <a:ext cx="1157400" cy="691560"/>
              </a:xfrm>
              <a:custGeom>
                <a:avLst/>
                <a:gdLst>
                  <a:gd name="textAreaLeft" fmla="*/ 0 w 1157400"/>
                  <a:gd name="textAreaRight" fmla="*/ 1157760 w 1157400"/>
                  <a:gd name="textAreaTop" fmla="*/ 0 h 691560"/>
                  <a:gd name="textAreaBottom" fmla="*/ 691920 h 691560"/>
                </a:gdLst>
                <a:ahLst/>
                <a:rect l="textAreaLeft" t="textAreaTop" r="textAreaRight" b="textAreaBottom"/>
                <a:pathLst>
                  <a:path w="211" h="126">
                    <a:moveTo>
                      <a:pt x="7" y="126"/>
                    </a:moveTo>
                    <a:lnTo>
                      <a:pt x="0" y="114"/>
                    </a:lnTo>
                    <a:lnTo>
                      <a:pt x="203" y="0"/>
                    </a:lnTo>
                    <a:lnTo>
                      <a:pt x="211" y="12"/>
                    </a:lnTo>
                    <a:lnTo>
                      <a:pt x="7" y="12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59"/>
              <p:cNvSpPr/>
              <p:nvPr/>
            </p:nvSpPr>
            <p:spPr>
              <a:xfrm rot="17867400">
                <a:off x="9692640" y="-1912320"/>
                <a:ext cx="251280" cy="23616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6" y="2"/>
                    </a:moveTo>
                    <a:cubicBezTo>
                      <a:pt x="2" y="4"/>
                      <a:pt x="0" y="9"/>
                      <a:pt x="3" y="13"/>
                    </a:cubicBezTo>
                    <a:cubicBezTo>
                      <a:pt x="5" y="17"/>
                      <a:pt x="10" y="18"/>
                      <a:pt x="14" y="16"/>
                    </a:cubicBezTo>
                    <a:cubicBezTo>
                      <a:pt x="18" y="14"/>
                      <a:pt x="19" y="9"/>
                      <a:pt x="17" y="5"/>
                    </a:cubicBezTo>
                    <a:cubicBezTo>
                      <a:pt x="15" y="1"/>
                      <a:pt x="10" y="0"/>
                      <a:pt x="6" y="2"/>
                    </a:cubicBezTo>
                    <a:close/>
                  </a:path>
                </a:pathLst>
              </a:custGeom>
              <a:solidFill>
                <a:srgbClr val="499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60"/>
              <p:cNvSpPr/>
              <p:nvPr/>
            </p:nvSpPr>
            <p:spPr>
              <a:xfrm rot="17867400">
                <a:off x="9726120" y="-1221120"/>
                <a:ext cx="236160" cy="25236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5" y="2"/>
                    </a:moveTo>
                    <a:cubicBezTo>
                      <a:pt x="1" y="4"/>
                      <a:pt x="0" y="9"/>
                      <a:pt x="2" y="13"/>
                    </a:cubicBezTo>
                    <a:cubicBezTo>
                      <a:pt x="4" y="17"/>
                      <a:pt x="9" y="19"/>
                      <a:pt x="13" y="16"/>
                    </a:cubicBezTo>
                    <a:cubicBezTo>
                      <a:pt x="17" y="14"/>
                      <a:pt x="18" y="9"/>
                      <a:pt x="16" y="5"/>
                    </a:cubicBezTo>
                    <a:cubicBezTo>
                      <a:pt x="14" y="1"/>
                      <a:pt x="9" y="0"/>
                      <a:pt x="5" y="2"/>
                    </a:cubicBez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1"/>
              <p:cNvSpPr/>
              <p:nvPr/>
            </p:nvSpPr>
            <p:spPr>
              <a:xfrm rot="17867400">
                <a:off x="9644760" y="-1627200"/>
                <a:ext cx="362160" cy="367920"/>
              </a:xfrm>
              <a:custGeom>
                <a:avLst/>
                <a:gdLst>
                  <a:gd name="textAreaLeft" fmla="*/ 0 w 362160"/>
                  <a:gd name="textAreaRight" fmla="*/ 362520 w 36216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5" y="14"/>
                    </a:move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7"/>
                      <a:pt x="17" y="17"/>
                      <a:pt x="17" y="16"/>
                    </a:cubicBezTo>
                    <a:cubicBezTo>
                      <a:pt x="17" y="16"/>
                      <a:pt x="17" y="16"/>
                      <a:pt x="17" y="15"/>
                    </a:cubicBezTo>
                    <a:cubicBezTo>
                      <a:pt x="17" y="15"/>
                      <a:pt x="16" y="14"/>
                      <a:pt x="16" y="14"/>
                    </a:cubicBezTo>
                    <a:cubicBezTo>
                      <a:pt x="16" y="14"/>
                      <a:pt x="15" y="14"/>
                      <a:pt x="15" y="14"/>
                    </a:cubicBezTo>
                    <a:close/>
                    <a:moveTo>
                      <a:pt x="10" y="10"/>
                    </a:moveTo>
                    <a:cubicBezTo>
                      <a:pt x="9" y="11"/>
                      <a:pt x="10" y="11"/>
                      <a:pt x="10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2" y="12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10"/>
                      <a:pt x="10" y="10"/>
                      <a:pt x="10" y="10"/>
                    </a:cubicBezTo>
                    <a:close/>
                    <a:moveTo>
                      <a:pt x="16" y="2"/>
                    </a:moveTo>
                    <a:cubicBezTo>
                      <a:pt x="10" y="0"/>
                      <a:pt x="3" y="4"/>
                      <a:pt x="1" y="11"/>
                    </a:cubicBezTo>
                    <a:cubicBezTo>
                      <a:pt x="0" y="18"/>
                      <a:pt x="4" y="24"/>
                      <a:pt x="10" y="26"/>
                    </a:cubicBezTo>
                    <a:cubicBezTo>
                      <a:pt x="17" y="28"/>
                      <a:pt x="24" y="24"/>
                      <a:pt x="25" y="17"/>
                    </a:cubicBezTo>
                    <a:cubicBezTo>
                      <a:pt x="27" y="10"/>
                      <a:pt x="23" y="4"/>
                      <a:pt x="16" y="2"/>
                    </a:cubicBezTo>
                    <a:close/>
                    <a:moveTo>
                      <a:pt x="20" y="17"/>
                    </a:moveTo>
                    <a:cubicBezTo>
                      <a:pt x="19" y="18"/>
                      <a:pt x="19" y="19"/>
                      <a:pt x="18" y="19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5" y="21"/>
                      <a:pt x="14" y="21"/>
                      <a:pt x="13" y="21"/>
                    </a:cubicBezTo>
                    <a:cubicBezTo>
                      <a:pt x="12" y="20"/>
                      <a:pt x="12" y="20"/>
                      <a:pt x="11" y="1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8"/>
                      <a:pt x="14" y="18"/>
                      <a:pt x="14" y="18"/>
                    </a:cubicBezTo>
                    <a:cubicBezTo>
                      <a:pt x="14" y="18"/>
                      <a:pt x="15" y="18"/>
                      <a:pt x="15" y="18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15"/>
                      <a:pt x="11" y="15"/>
                      <a:pt x="10" y="15"/>
                    </a:cubicBezTo>
                    <a:cubicBezTo>
                      <a:pt x="9" y="14"/>
                      <a:pt x="8" y="14"/>
                      <a:pt x="8" y="13"/>
                    </a:cubicBezTo>
                    <a:cubicBezTo>
                      <a:pt x="7" y="12"/>
                      <a:pt x="7" y="11"/>
                      <a:pt x="7" y="10"/>
                    </a:cubicBezTo>
                    <a:cubicBezTo>
                      <a:pt x="7" y="9"/>
                      <a:pt x="8" y="8"/>
                      <a:pt x="9" y="8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6"/>
                      <a:pt x="12" y="6"/>
                      <a:pt x="13" y="6"/>
                    </a:cubicBezTo>
                    <a:cubicBezTo>
                      <a:pt x="14" y="7"/>
                      <a:pt x="14" y="7"/>
                      <a:pt x="15" y="8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9"/>
                      <a:pt x="12" y="8"/>
                      <a:pt x="11" y="9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5" y="11"/>
                      <a:pt x="16" y="11"/>
                      <a:pt x="17" y="12"/>
                    </a:cubicBezTo>
                    <a:cubicBezTo>
                      <a:pt x="18" y="12"/>
                      <a:pt x="18" y="13"/>
                      <a:pt x="19" y="14"/>
                    </a:cubicBezTo>
                    <a:cubicBezTo>
                      <a:pt x="20" y="15"/>
                      <a:pt x="20" y="16"/>
                      <a:pt x="20" y="17"/>
                    </a:cubicBezTo>
                    <a:close/>
                  </a:path>
                </a:pathLst>
              </a:custGeom>
              <a:solidFill>
                <a:srgbClr val="499e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62"/>
              <p:cNvSpPr/>
              <p:nvPr/>
            </p:nvSpPr>
            <p:spPr>
              <a:xfrm rot="17867400">
                <a:off x="10470960" y="-1832040"/>
                <a:ext cx="624600" cy="1700640"/>
              </a:xfrm>
              <a:custGeom>
                <a:avLst/>
                <a:gdLst>
                  <a:gd name="textAreaLeft" fmla="*/ 0 w 624600"/>
                  <a:gd name="textAreaRight" fmla="*/ 624960 w 624600"/>
                  <a:gd name="textAreaTop" fmla="*/ 0 h 1700640"/>
                  <a:gd name="textAreaBottom" fmla="*/ 1701000 h 1700640"/>
                </a:gdLst>
                <a:ahLst/>
                <a:rect l="textAreaLeft" t="textAreaTop" r="textAreaRight" b="textAreaBottom"/>
                <a:pathLst>
                  <a:path w="47" h="130">
                    <a:moveTo>
                      <a:pt x="12" y="35"/>
                    </a:moveTo>
                    <a:cubicBezTo>
                      <a:pt x="12" y="35"/>
                      <a:pt x="7" y="26"/>
                      <a:pt x="6" y="21"/>
                    </a:cubicBezTo>
                    <a:cubicBezTo>
                      <a:pt x="6" y="21"/>
                      <a:pt x="3" y="11"/>
                      <a:pt x="8" y="6"/>
                    </a:cubicBezTo>
                    <a:cubicBezTo>
                      <a:pt x="8" y="6"/>
                      <a:pt x="11" y="0"/>
                      <a:pt x="16" y="3"/>
                    </a:cubicBezTo>
                    <a:cubicBezTo>
                      <a:pt x="16" y="3"/>
                      <a:pt x="21" y="9"/>
                      <a:pt x="21" y="15"/>
                    </a:cubicBezTo>
                    <a:cubicBezTo>
                      <a:pt x="21" y="15"/>
                      <a:pt x="31" y="25"/>
                      <a:pt x="32" y="38"/>
                    </a:cubicBezTo>
                    <a:cubicBezTo>
                      <a:pt x="32" y="38"/>
                      <a:pt x="37" y="49"/>
                      <a:pt x="38" y="53"/>
                    </a:cubicBezTo>
                    <a:cubicBezTo>
                      <a:pt x="43" y="60"/>
                      <a:pt x="43" y="60"/>
                      <a:pt x="43" y="60"/>
                    </a:cubicBezTo>
                    <a:cubicBezTo>
                      <a:pt x="43" y="60"/>
                      <a:pt x="42" y="71"/>
                      <a:pt x="40" y="75"/>
                    </a:cubicBezTo>
                    <a:cubicBezTo>
                      <a:pt x="40" y="75"/>
                      <a:pt x="39" y="96"/>
                      <a:pt x="40" y="100"/>
                    </a:cubicBezTo>
                    <a:cubicBezTo>
                      <a:pt x="40" y="100"/>
                      <a:pt x="42" y="118"/>
                      <a:pt x="44" y="123"/>
                    </a:cubicBezTo>
                    <a:cubicBezTo>
                      <a:pt x="45" y="124"/>
                      <a:pt x="45" y="124"/>
                      <a:pt x="45" y="124"/>
                    </a:cubicBezTo>
                    <a:cubicBezTo>
                      <a:pt x="47" y="125"/>
                      <a:pt x="4" y="130"/>
                      <a:pt x="4" y="130"/>
                    </a:cubicBezTo>
                    <a:cubicBezTo>
                      <a:pt x="4" y="130"/>
                      <a:pt x="10" y="114"/>
                      <a:pt x="3" y="95"/>
                    </a:cubicBezTo>
                    <a:cubicBezTo>
                      <a:pt x="3" y="95"/>
                      <a:pt x="0" y="84"/>
                      <a:pt x="3" y="81"/>
                    </a:cubicBezTo>
                    <a:cubicBezTo>
                      <a:pt x="3" y="81"/>
                      <a:pt x="2" y="76"/>
                      <a:pt x="6" y="59"/>
                    </a:cubicBezTo>
                    <a:cubicBezTo>
                      <a:pt x="9" y="41"/>
                      <a:pt x="12" y="35"/>
                      <a:pt x="12" y="35"/>
                    </a:cubicBezTo>
                  </a:path>
                </a:pathLst>
              </a:custGeom>
              <a:solidFill>
                <a:srgbClr val="d1b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63"/>
              <p:cNvSpPr/>
              <p:nvPr/>
            </p:nvSpPr>
            <p:spPr>
              <a:xfrm rot="17867400">
                <a:off x="10465200" y="-1332360"/>
                <a:ext cx="91800" cy="4968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0"/>
                    </a:moveTo>
                    <a:cubicBezTo>
                      <a:pt x="6" y="0"/>
                      <a:pt x="6" y="1"/>
                      <a:pt x="5" y="1"/>
                    </a:cubicBezTo>
                    <a:cubicBezTo>
                      <a:pt x="4" y="2"/>
                      <a:pt x="2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3"/>
                      <a:pt x="5" y="1"/>
                    </a:cubicBezTo>
                    <a:cubicBezTo>
                      <a:pt x="6" y="1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</a:path>
                </a:pathLst>
              </a:custGeom>
              <a:solidFill>
                <a:srgbClr val="887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64"/>
              <p:cNvSpPr/>
              <p:nvPr/>
            </p:nvSpPr>
            <p:spPr>
              <a:xfrm rot="17867400">
                <a:off x="10283400" y="-1326960"/>
                <a:ext cx="48240" cy="22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cubicBezTo>
                      <a:pt x="2" y="0"/>
                      <a:pt x="1" y="0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887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5"/>
              <p:cNvSpPr/>
              <p:nvPr/>
            </p:nvSpPr>
            <p:spPr>
              <a:xfrm rot="17867400">
                <a:off x="10339560" y="-1432080"/>
                <a:ext cx="149040" cy="35676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11" h="27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2" y="3"/>
                      <a:pt x="3" y="3"/>
                    </a:cubicBezTo>
                    <a:cubicBezTo>
                      <a:pt x="3" y="4"/>
                      <a:pt x="7" y="10"/>
                      <a:pt x="8" y="16"/>
                    </a:cubicBezTo>
                    <a:cubicBezTo>
                      <a:pt x="8" y="16"/>
                      <a:pt x="8" y="17"/>
                      <a:pt x="8" y="19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8" y="19"/>
                      <a:pt x="10" y="24"/>
                      <a:pt x="10" y="25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5"/>
                      <a:pt x="11" y="25"/>
                      <a:pt x="11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1" y="26"/>
                      <a:pt x="11" y="25"/>
                      <a:pt x="11" y="25"/>
                    </a:cubicBezTo>
                    <a:cubicBezTo>
                      <a:pt x="10" y="24"/>
                      <a:pt x="8" y="19"/>
                      <a:pt x="8" y="19"/>
                    </a:cubicBezTo>
                    <a:cubicBezTo>
                      <a:pt x="8" y="17"/>
                      <a:pt x="8" y="16"/>
                      <a:pt x="8" y="16"/>
                    </a:cubicBezTo>
                    <a:cubicBezTo>
                      <a:pt x="7" y="10"/>
                      <a:pt x="3" y="3"/>
                      <a:pt x="3" y="3"/>
                    </a:cubicBezTo>
                    <a:cubicBezTo>
                      <a:pt x="2" y="3"/>
                      <a:pt x="2" y="2"/>
                      <a:pt x="0" y="0"/>
                    </a:cubicBezTo>
                  </a:path>
                </a:pathLst>
              </a:custGeom>
              <a:solidFill>
                <a:srgbClr val="887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66"/>
              <p:cNvSpPr/>
              <p:nvPr/>
            </p:nvSpPr>
            <p:spPr>
              <a:xfrm rot="17867400">
                <a:off x="10737360" y="-1262520"/>
                <a:ext cx="75600" cy="8208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4" y="15"/>
                    </a:moveTo>
                    <a:lnTo>
                      <a:pt x="9" y="1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4" y="15"/>
                    </a:lnTo>
                    <a:close/>
                  </a:path>
                </a:pathLst>
              </a:custGeom>
              <a:solidFill>
                <a:srgbClr val="d1b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67"/>
              <p:cNvSpPr/>
              <p:nvPr/>
            </p:nvSpPr>
            <p:spPr>
              <a:xfrm rot="17867400">
                <a:off x="10000440" y="-1251360"/>
                <a:ext cx="131760" cy="932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6" y="0"/>
                    </a:moveTo>
                    <a:cubicBezTo>
                      <a:pt x="5" y="0"/>
                      <a:pt x="4" y="1"/>
                      <a:pt x="3" y="1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4" y="7"/>
                      <a:pt x="5" y="7"/>
                      <a:pt x="6" y="6"/>
                    </a:cubicBezTo>
                    <a:cubicBezTo>
                      <a:pt x="8" y="5"/>
                      <a:pt x="10" y="2"/>
                      <a:pt x="9" y="1"/>
                    </a:cubicBezTo>
                    <a:cubicBezTo>
                      <a:pt x="8" y="1"/>
                      <a:pt x="8" y="0"/>
                      <a:pt x="6" y="0"/>
                    </a:cubicBezTo>
                  </a:path>
                </a:pathLst>
              </a:custGeom>
              <a:solidFill>
                <a:srgbClr val="ef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68"/>
              <p:cNvSpPr/>
              <p:nvPr/>
            </p:nvSpPr>
            <p:spPr>
              <a:xfrm rot="17867400">
                <a:off x="10703160" y="-1317600"/>
                <a:ext cx="93240" cy="1850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17" h="34">
                    <a:moveTo>
                      <a:pt x="3" y="24"/>
                    </a:moveTo>
                    <a:lnTo>
                      <a:pt x="0" y="14"/>
                    </a:lnTo>
                    <a:lnTo>
                      <a:pt x="3" y="10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12" y="7"/>
                    </a:lnTo>
                    <a:lnTo>
                      <a:pt x="12" y="12"/>
                    </a:lnTo>
                    <a:lnTo>
                      <a:pt x="17" y="17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5" y="34"/>
                    </a:lnTo>
                    <a:lnTo>
                      <a:pt x="7" y="31"/>
                    </a:lnTo>
                    <a:lnTo>
                      <a:pt x="5" y="26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d1b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69"/>
              <p:cNvSpPr/>
              <p:nvPr/>
            </p:nvSpPr>
            <p:spPr>
              <a:xfrm rot="17867400">
                <a:off x="10987200" y="-844200"/>
                <a:ext cx="679320" cy="23616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51" h="18">
                    <a:moveTo>
                      <a:pt x="2" y="18"/>
                    </a:moveTo>
                    <a:cubicBezTo>
                      <a:pt x="2" y="18"/>
                      <a:pt x="0" y="8"/>
                      <a:pt x="1" y="6"/>
                    </a:cubicBezTo>
                    <a:cubicBezTo>
                      <a:pt x="1" y="4"/>
                      <a:pt x="50" y="0"/>
                      <a:pt x="50" y="1"/>
                    </a:cubicBezTo>
                    <a:cubicBezTo>
                      <a:pt x="51" y="2"/>
                      <a:pt x="51" y="13"/>
                      <a:pt x="51" y="13"/>
                    </a:cubicBez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70"/>
              <p:cNvSpPr/>
              <p:nvPr/>
            </p:nvSpPr>
            <p:spPr>
              <a:xfrm rot="17867400">
                <a:off x="11492640" y="-1185480"/>
                <a:ext cx="943200" cy="1404360"/>
              </a:xfrm>
              <a:custGeom>
                <a:avLst/>
                <a:gdLst>
                  <a:gd name="textAreaLeft" fmla="*/ 0 w 943200"/>
                  <a:gd name="textAreaRight" fmla="*/ 943560 w 943200"/>
                  <a:gd name="textAreaTop" fmla="*/ 0 h 1404360"/>
                  <a:gd name="textAreaBottom" fmla="*/ 1404360 h 1404360"/>
                </a:gdLst>
                <a:ahLst/>
                <a:rect l="textAreaLeft" t="textAreaTop" r="textAreaRight" b="textAreaBottom"/>
                <a:pathLst>
                  <a:path w="71" h="107">
                    <a:moveTo>
                      <a:pt x="2" y="12"/>
                    </a:moveTo>
                    <a:cubicBezTo>
                      <a:pt x="3" y="7"/>
                      <a:pt x="58" y="0"/>
                      <a:pt x="60" y="5"/>
                    </a:cubicBezTo>
                    <a:cubicBezTo>
                      <a:pt x="62" y="10"/>
                      <a:pt x="71" y="101"/>
                      <a:pt x="71" y="101"/>
                    </a:cubicBezTo>
                    <a:cubicBezTo>
                      <a:pt x="10" y="107"/>
                      <a:pt x="10" y="107"/>
                      <a:pt x="10" y="107"/>
                    </a:cubicBezTo>
                    <a:cubicBezTo>
                      <a:pt x="10" y="107"/>
                      <a:pt x="0" y="17"/>
                      <a:pt x="2" y="12"/>
                    </a:cubicBez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合 156"/>
            <p:cNvGrpSpPr/>
            <p:nvPr/>
          </p:nvGrpSpPr>
          <p:grpSpPr>
            <a:xfrm>
              <a:off x="12294000" y="-1015920"/>
              <a:ext cx="3904200" cy="2976840"/>
              <a:chOff x="12294000" y="-1015920"/>
              <a:chExt cx="3904200" cy="2976840"/>
            </a:xfrm>
          </p:grpSpPr>
          <p:sp>
            <p:nvSpPr>
              <p:cNvPr id="203" name="AutoShape 49"/>
              <p:cNvSpPr/>
              <p:nvPr/>
            </p:nvSpPr>
            <p:spPr>
              <a:xfrm rot="7067400">
                <a:off x="13526640" y="-1354680"/>
                <a:ext cx="1438920" cy="365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1"/>
              <p:cNvSpPr/>
              <p:nvPr/>
            </p:nvSpPr>
            <p:spPr>
              <a:xfrm rot="7067400">
                <a:off x="14522400" y="439560"/>
                <a:ext cx="521640" cy="861480"/>
              </a:xfrm>
              <a:custGeom>
                <a:avLst/>
                <a:gdLst>
                  <a:gd name="textAreaLeft" fmla="*/ 0 w 521640"/>
                  <a:gd name="textAreaRight" fmla="*/ 522000 w 521640"/>
                  <a:gd name="textAreaTop" fmla="*/ 0 h 861480"/>
                  <a:gd name="textAreaBottom" fmla="*/ 861840 h 861480"/>
                </a:gdLst>
                <a:ahLst/>
                <a:rect l="textAreaLeft" t="textAreaTop" r="textAreaRight" b="textAreaBottom"/>
                <a:pathLst>
                  <a:path w="39" h="66">
                    <a:moveTo>
                      <a:pt x="7" y="1"/>
                    </a:moveTo>
                    <a:cubicBezTo>
                      <a:pt x="7" y="1"/>
                      <a:pt x="28" y="22"/>
                      <a:pt x="33" y="34"/>
                    </a:cubicBezTo>
                    <a:cubicBezTo>
                      <a:pt x="33" y="34"/>
                      <a:pt x="39" y="39"/>
                      <a:pt x="36" y="46"/>
                    </a:cubicBezTo>
                    <a:cubicBezTo>
                      <a:pt x="32" y="66"/>
                      <a:pt x="32" y="66"/>
                      <a:pt x="32" y="66"/>
                    </a:cubicBezTo>
                    <a:cubicBezTo>
                      <a:pt x="32" y="66"/>
                      <a:pt x="16" y="38"/>
                      <a:pt x="19" y="38"/>
                    </a:cubicBezTo>
                    <a:cubicBezTo>
                      <a:pt x="23" y="37"/>
                      <a:pt x="13" y="31"/>
                      <a:pt x="12" y="24"/>
                    </a:cubicBezTo>
                    <a:cubicBezTo>
                      <a:pt x="12" y="24"/>
                      <a:pt x="3" y="14"/>
                      <a:pt x="3" y="8"/>
                    </a:cubicBezTo>
                    <a:cubicBezTo>
                      <a:pt x="3" y="8"/>
                      <a:pt x="0" y="0"/>
                      <a:pt x="7" y="1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52"/>
              <p:cNvSpPr/>
              <p:nvPr/>
            </p:nvSpPr>
            <p:spPr>
              <a:xfrm rot="7067400">
                <a:off x="14616360" y="444240"/>
                <a:ext cx="1438920" cy="1179720"/>
              </a:xfrm>
              <a:custGeom>
                <a:avLst/>
                <a:gdLst>
                  <a:gd name="textAreaLeft" fmla="*/ 0 w 1438920"/>
                  <a:gd name="textAreaRight" fmla="*/ 1439280 w 1438920"/>
                  <a:gd name="textAreaTop" fmla="*/ 0 h 1179720"/>
                  <a:gd name="textAreaBottom" fmla="*/ 1180080 h 1179720"/>
                </a:gdLst>
                <a:ahLst/>
                <a:rect l="textAreaLeft" t="textAreaTop" r="textAreaRight" b="textAreaBottom"/>
                <a:pathLst>
                  <a:path w="262" h="215">
                    <a:moveTo>
                      <a:pt x="58" y="215"/>
                    </a:moveTo>
                    <a:lnTo>
                      <a:pt x="0" y="115"/>
                    </a:lnTo>
                    <a:lnTo>
                      <a:pt x="201" y="0"/>
                    </a:lnTo>
                    <a:lnTo>
                      <a:pt x="262" y="101"/>
                    </a:lnTo>
                    <a:lnTo>
                      <a:pt x="58" y="21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53"/>
              <p:cNvSpPr/>
              <p:nvPr/>
            </p:nvSpPr>
            <p:spPr>
              <a:xfrm rot="7067400">
                <a:off x="14616360" y="444240"/>
                <a:ext cx="1438920" cy="1179720"/>
              </a:xfrm>
              <a:custGeom>
                <a:avLst/>
                <a:gdLst>
                  <a:gd name="textAreaLeft" fmla="*/ 0 w 1438920"/>
                  <a:gd name="textAreaRight" fmla="*/ 1439280 w 1438920"/>
                  <a:gd name="textAreaTop" fmla="*/ 0 h 1179720"/>
                  <a:gd name="textAreaBottom" fmla="*/ 1180080 h 1179720"/>
                </a:gdLst>
                <a:ahLst/>
                <a:rect l="textAreaLeft" t="textAreaTop" r="textAreaRight" b="textAreaBottom"/>
                <a:pathLst>
                  <a:path w="262" h="215">
                    <a:moveTo>
                      <a:pt x="58" y="215"/>
                    </a:moveTo>
                    <a:lnTo>
                      <a:pt x="0" y="115"/>
                    </a:lnTo>
                    <a:lnTo>
                      <a:pt x="201" y="0"/>
                    </a:lnTo>
                    <a:lnTo>
                      <a:pt x="262" y="101"/>
                    </a:lnTo>
                    <a:lnTo>
                      <a:pt x="58" y="21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54"/>
              <p:cNvSpPr/>
              <p:nvPr/>
            </p:nvSpPr>
            <p:spPr>
              <a:xfrm rot="7067400">
                <a:off x="15047640" y="667440"/>
                <a:ext cx="1142280" cy="696960"/>
              </a:xfrm>
              <a:custGeom>
                <a:avLst/>
                <a:gdLst>
                  <a:gd name="textAreaLeft" fmla="*/ 0 w 1142280"/>
                  <a:gd name="textAreaRight" fmla="*/ 1142640 w 1142280"/>
                  <a:gd name="textAreaTop" fmla="*/ 0 h 696960"/>
                  <a:gd name="textAreaBottom" fmla="*/ 697320 h 696960"/>
                </a:gdLst>
                <a:ahLst/>
                <a:rect l="textAreaLeft" t="textAreaTop" r="textAreaRight" b="textAreaBottom"/>
                <a:pathLst>
                  <a:path w="208" h="127">
                    <a:moveTo>
                      <a:pt x="4" y="127"/>
                    </a:moveTo>
                    <a:lnTo>
                      <a:pt x="0" y="115"/>
                    </a:lnTo>
                    <a:lnTo>
                      <a:pt x="201" y="0"/>
                    </a:lnTo>
                    <a:lnTo>
                      <a:pt x="208" y="12"/>
                    </a:lnTo>
                    <a:lnTo>
                      <a:pt x="4" y="127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55"/>
              <p:cNvSpPr/>
              <p:nvPr/>
            </p:nvSpPr>
            <p:spPr>
              <a:xfrm rot="7067400">
                <a:off x="15184440" y="1386360"/>
                <a:ext cx="345960" cy="55404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554040"/>
                  <a:gd name="textAreaBottom" fmla="*/ 554400 h 554040"/>
                </a:gdLst>
                <a:ahLst/>
                <a:rect l="textAreaLeft" t="textAreaTop" r="textAreaRight" b="textAreaBottom"/>
                <a:pathLst>
                  <a:path w="63" h="101">
                    <a:moveTo>
                      <a:pt x="0" y="3"/>
                    </a:moveTo>
                    <a:lnTo>
                      <a:pt x="4" y="0"/>
                    </a:lnTo>
                    <a:lnTo>
                      <a:pt x="63" y="101"/>
                    </a:lnTo>
                    <a:lnTo>
                      <a:pt x="58" y="101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56"/>
              <p:cNvSpPr/>
              <p:nvPr/>
            </p:nvSpPr>
            <p:spPr>
              <a:xfrm rot="7067400">
                <a:off x="15157800" y="117720"/>
                <a:ext cx="329400" cy="56520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565200"/>
                  <a:gd name="textAreaBottom" fmla="*/ 565560 h 56520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3"/>
                    </a:moveTo>
                    <a:lnTo>
                      <a:pt x="2" y="0"/>
                    </a:lnTo>
                    <a:lnTo>
                      <a:pt x="60" y="101"/>
                    </a:lnTo>
                    <a:lnTo>
                      <a:pt x="58" y="103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57"/>
              <p:cNvSpPr/>
              <p:nvPr/>
            </p:nvSpPr>
            <p:spPr>
              <a:xfrm rot="7067400">
                <a:off x="14474880" y="698760"/>
                <a:ext cx="1158840" cy="691200"/>
              </a:xfrm>
              <a:custGeom>
                <a:avLst/>
                <a:gdLst>
                  <a:gd name="textAreaLeft" fmla="*/ 0 w 1158840"/>
                  <a:gd name="textAreaRight" fmla="*/ 1159200 w 1158840"/>
                  <a:gd name="textAreaTop" fmla="*/ 0 h 691200"/>
                  <a:gd name="textAreaBottom" fmla="*/ 691560 h 691200"/>
                </a:gdLst>
                <a:ahLst/>
                <a:rect l="textAreaLeft" t="textAreaTop" r="textAreaRight" b="textAreaBottom"/>
                <a:pathLst>
                  <a:path w="211" h="126">
                    <a:moveTo>
                      <a:pt x="7" y="126"/>
                    </a:moveTo>
                    <a:lnTo>
                      <a:pt x="0" y="114"/>
                    </a:lnTo>
                    <a:lnTo>
                      <a:pt x="203" y="0"/>
                    </a:lnTo>
                    <a:lnTo>
                      <a:pt x="211" y="12"/>
                    </a:lnTo>
                    <a:lnTo>
                      <a:pt x="7" y="12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58"/>
              <p:cNvSpPr/>
              <p:nvPr/>
            </p:nvSpPr>
            <p:spPr>
              <a:xfrm rot="7067400">
                <a:off x="14474880" y="698760"/>
                <a:ext cx="1158840" cy="691200"/>
              </a:xfrm>
              <a:custGeom>
                <a:avLst/>
                <a:gdLst>
                  <a:gd name="textAreaLeft" fmla="*/ 0 w 1158840"/>
                  <a:gd name="textAreaRight" fmla="*/ 1159200 w 1158840"/>
                  <a:gd name="textAreaTop" fmla="*/ 0 h 691200"/>
                  <a:gd name="textAreaBottom" fmla="*/ 691560 h 691200"/>
                </a:gdLst>
                <a:ahLst/>
                <a:rect l="textAreaLeft" t="textAreaTop" r="textAreaRight" b="textAreaBottom"/>
                <a:pathLst>
                  <a:path w="211" h="126">
                    <a:moveTo>
                      <a:pt x="7" y="126"/>
                    </a:moveTo>
                    <a:lnTo>
                      <a:pt x="0" y="114"/>
                    </a:lnTo>
                    <a:lnTo>
                      <a:pt x="203" y="0"/>
                    </a:lnTo>
                    <a:lnTo>
                      <a:pt x="211" y="12"/>
                    </a:lnTo>
                    <a:lnTo>
                      <a:pt x="7" y="12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59"/>
              <p:cNvSpPr/>
              <p:nvPr/>
            </p:nvSpPr>
            <p:spPr>
              <a:xfrm rot="7067400">
                <a:off x="15226920" y="1248480"/>
                <a:ext cx="252360" cy="23580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6" y="2"/>
                    </a:moveTo>
                    <a:cubicBezTo>
                      <a:pt x="2" y="4"/>
                      <a:pt x="0" y="9"/>
                      <a:pt x="3" y="13"/>
                    </a:cubicBezTo>
                    <a:cubicBezTo>
                      <a:pt x="5" y="17"/>
                      <a:pt x="10" y="18"/>
                      <a:pt x="14" y="16"/>
                    </a:cubicBezTo>
                    <a:cubicBezTo>
                      <a:pt x="18" y="14"/>
                      <a:pt x="19" y="9"/>
                      <a:pt x="17" y="5"/>
                    </a:cubicBezTo>
                    <a:cubicBezTo>
                      <a:pt x="15" y="1"/>
                      <a:pt x="10" y="0"/>
                      <a:pt x="6" y="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60"/>
              <p:cNvSpPr/>
              <p:nvPr/>
            </p:nvSpPr>
            <p:spPr>
              <a:xfrm rot="7067400">
                <a:off x="15210000" y="540360"/>
                <a:ext cx="236160" cy="252360"/>
              </a:xfrm>
              <a:custGeom>
                <a:avLst/>
                <a:gdLst>
                  <a:gd name="textAreaLeft" fmla="*/ 0 w 236160"/>
                  <a:gd name="textAreaRight" fmla="*/ 236520 w 2361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5" y="2"/>
                    </a:moveTo>
                    <a:cubicBezTo>
                      <a:pt x="1" y="4"/>
                      <a:pt x="0" y="9"/>
                      <a:pt x="2" y="13"/>
                    </a:cubicBezTo>
                    <a:cubicBezTo>
                      <a:pt x="4" y="17"/>
                      <a:pt x="9" y="19"/>
                      <a:pt x="13" y="16"/>
                    </a:cubicBezTo>
                    <a:cubicBezTo>
                      <a:pt x="17" y="14"/>
                      <a:pt x="18" y="9"/>
                      <a:pt x="16" y="5"/>
                    </a:cubicBezTo>
                    <a:cubicBezTo>
                      <a:pt x="14" y="1"/>
                      <a:pt x="9" y="0"/>
                      <a:pt x="5" y="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61"/>
              <p:cNvSpPr/>
              <p:nvPr/>
            </p:nvSpPr>
            <p:spPr>
              <a:xfrm rot="7067400">
                <a:off x="15165000" y="830880"/>
                <a:ext cx="362160" cy="367560"/>
              </a:xfrm>
              <a:custGeom>
                <a:avLst/>
                <a:gdLst>
                  <a:gd name="textAreaLeft" fmla="*/ 0 w 362160"/>
                  <a:gd name="textAreaRight" fmla="*/ 362520 w 36216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15" y="14"/>
                    </a:move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7"/>
                      <a:pt x="17" y="17"/>
                      <a:pt x="17" y="16"/>
                    </a:cubicBezTo>
                    <a:cubicBezTo>
                      <a:pt x="17" y="16"/>
                      <a:pt x="17" y="16"/>
                      <a:pt x="17" y="15"/>
                    </a:cubicBezTo>
                    <a:cubicBezTo>
                      <a:pt x="17" y="15"/>
                      <a:pt x="16" y="14"/>
                      <a:pt x="16" y="14"/>
                    </a:cubicBezTo>
                    <a:cubicBezTo>
                      <a:pt x="16" y="14"/>
                      <a:pt x="15" y="14"/>
                      <a:pt x="15" y="14"/>
                    </a:cubicBezTo>
                    <a:close/>
                    <a:moveTo>
                      <a:pt x="10" y="10"/>
                    </a:moveTo>
                    <a:cubicBezTo>
                      <a:pt x="9" y="11"/>
                      <a:pt x="10" y="11"/>
                      <a:pt x="10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2" y="12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10"/>
                      <a:pt x="10" y="10"/>
                      <a:pt x="10" y="10"/>
                    </a:cubicBezTo>
                    <a:close/>
                    <a:moveTo>
                      <a:pt x="16" y="2"/>
                    </a:moveTo>
                    <a:cubicBezTo>
                      <a:pt x="10" y="0"/>
                      <a:pt x="3" y="4"/>
                      <a:pt x="1" y="11"/>
                    </a:cubicBezTo>
                    <a:cubicBezTo>
                      <a:pt x="0" y="18"/>
                      <a:pt x="4" y="24"/>
                      <a:pt x="10" y="26"/>
                    </a:cubicBezTo>
                    <a:cubicBezTo>
                      <a:pt x="17" y="28"/>
                      <a:pt x="24" y="24"/>
                      <a:pt x="25" y="17"/>
                    </a:cubicBezTo>
                    <a:cubicBezTo>
                      <a:pt x="27" y="10"/>
                      <a:pt x="23" y="4"/>
                      <a:pt x="16" y="2"/>
                    </a:cubicBezTo>
                    <a:close/>
                    <a:moveTo>
                      <a:pt x="20" y="17"/>
                    </a:moveTo>
                    <a:cubicBezTo>
                      <a:pt x="19" y="18"/>
                      <a:pt x="19" y="19"/>
                      <a:pt x="18" y="19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5" y="21"/>
                      <a:pt x="14" y="21"/>
                      <a:pt x="13" y="21"/>
                    </a:cubicBezTo>
                    <a:cubicBezTo>
                      <a:pt x="12" y="20"/>
                      <a:pt x="12" y="20"/>
                      <a:pt x="11" y="1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8"/>
                      <a:pt x="14" y="18"/>
                      <a:pt x="14" y="18"/>
                    </a:cubicBezTo>
                    <a:cubicBezTo>
                      <a:pt x="14" y="18"/>
                      <a:pt x="15" y="18"/>
                      <a:pt x="15" y="18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15"/>
                      <a:pt x="11" y="15"/>
                      <a:pt x="10" y="15"/>
                    </a:cubicBezTo>
                    <a:cubicBezTo>
                      <a:pt x="9" y="14"/>
                      <a:pt x="8" y="14"/>
                      <a:pt x="8" y="13"/>
                    </a:cubicBezTo>
                    <a:cubicBezTo>
                      <a:pt x="7" y="12"/>
                      <a:pt x="7" y="11"/>
                      <a:pt x="7" y="10"/>
                    </a:cubicBezTo>
                    <a:cubicBezTo>
                      <a:pt x="7" y="9"/>
                      <a:pt x="8" y="8"/>
                      <a:pt x="9" y="8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6"/>
                      <a:pt x="12" y="6"/>
                      <a:pt x="13" y="6"/>
                    </a:cubicBezTo>
                    <a:cubicBezTo>
                      <a:pt x="14" y="7"/>
                      <a:pt x="14" y="7"/>
                      <a:pt x="15" y="8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9"/>
                      <a:pt x="12" y="8"/>
                      <a:pt x="11" y="9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5" y="11"/>
                      <a:pt x="16" y="11"/>
                      <a:pt x="17" y="12"/>
                    </a:cubicBezTo>
                    <a:cubicBezTo>
                      <a:pt x="18" y="12"/>
                      <a:pt x="18" y="13"/>
                      <a:pt x="19" y="14"/>
                    </a:cubicBezTo>
                    <a:cubicBezTo>
                      <a:pt x="20" y="15"/>
                      <a:pt x="20" y="16"/>
                      <a:pt x="20" y="17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62"/>
              <p:cNvSpPr/>
              <p:nvPr/>
            </p:nvSpPr>
            <p:spPr>
              <a:xfrm rot="7067400">
                <a:off x="14075640" y="-296280"/>
                <a:ext cx="626040" cy="1701000"/>
              </a:xfrm>
              <a:custGeom>
                <a:avLst/>
                <a:gdLst>
                  <a:gd name="textAreaLeft" fmla="*/ 0 w 626040"/>
                  <a:gd name="textAreaRight" fmla="*/ 626400 w 626040"/>
                  <a:gd name="textAreaTop" fmla="*/ 0 h 1701000"/>
                  <a:gd name="textAreaBottom" fmla="*/ 1701360 h 1701000"/>
                </a:gdLst>
                <a:ahLst/>
                <a:rect l="textAreaLeft" t="textAreaTop" r="textAreaRight" b="textAreaBottom"/>
                <a:pathLst>
                  <a:path w="47" h="130">
                    <a:moveTo>
                      <a:pt x="12" y="35"/>
                    </a:moveTo>
                    <a:cubicBezTo>
                      <a:pt x="12" y="35"/>
                      <a:pt x="7" y="26"/>
                      <a:pt x="6" y="21"/>
                    </a:cubicBezTo>
                    <a:cubicBezTo>
                      <a:pt x="6" y="21"/>
                      <a:pt x="3" y="11"/>
                      <a:pt x="8" y="6"/>
                    </a:cubicBezTo>
                    <a:cubicBezTo>
                      <a:pt x="8" y="6"/>
                      <a:pt x="11" y="0"/>
                      <a:pt x="16" y="3"/>
                    </a:cubicBezTo>
                    <a:cubicBezTo>
                      <a:pt x="16" y="3"/>
                      <a:pt x="21" y="9"/>
                      <a:pt x="21" y="15"/>
                    </a:cubicBezTo>
                    <a:cubicBezTo>
                      <a:pt x="21" y="15"/>
                      <a:pt x="31" y="25"/>
                      <a:pt x="32" y="38"/>
                    </a:cubicBezTo>
                    <a:cubicBezTo>
                      <a:pt x="32" y="38"/>
                      <a:pt x="37" y="49"/>
                      <a:pt x="38" y="53"/>
                    </a:cubicBezTo>
                    <a:cubicBezTo>
                      <a:pt x="43" y="60"/>
                      <a:pt x="43" y="60"/>
                      <a:pt x="43" y="60"/>
                    </a:cubicBezTo>
                    <a:cubicBezTo>
                      <a:pt x="43" y="60"/>
                      <a:pt x="42" y="71"/>
                      <a:pt x="40" y="75"/>
                    </a:cubicBezTo>
                    <a:cubicBezTo>
                      <a:pt x="40" y="75"/>
                      <a:pt x="39" y="96"/>
                      <a:pt x="40" y="100"/>
                    </a:cubicBezTo>
                    <a:cubicBezTo>
                      <a:pt x="40" y="100"/>
                      <a:pt x="42" y="118"/>
                      <a:pt x="44" y="123"/>
                    </a:cubicBezTo>
                    <a:cubicBezTo>
                      <a:pt x="45" y="124"/>
                      <a:pt x="45" y="124"/>
                      <a:pt x="45" y="124"/>
                    </a:cubicBezTo>
                    <a:cubicBezTo>
                      <a:pt x="47" y="125"/>
                      <a:pt x="4" y="130"/>
                      <a:pt x="4" y="130"/>
                    </a:cubicBezTo>
                    <a:cubicBezTo>
                      <a:pt x="4" y="130"/>
                      <a:pt x="10" y="114"/>
                      <a:pt x="3" y="95"/>
                    </a:cubicBezTo>
                    <a:cubicBezTo>
                      <a:pt x="3" y="95"/>
                      <a:pt x="0" y="84"/>
                      <a:pt x="3" y="81"/>
                    </a:cubicBezTo>
                    <a:cubicBezTo>
                      <a:pt x="3" y="81"/>
                      <a:pt x="2" y="76"/>
                      <a:pt x="6" y="59"/>
                    </a:cubicBezTo>
                    <a:cubicBezTo>
                      <a:pt x="9" y="41"/>
                      <a:pt x="12" y="35"/>
                      <a:pt x="12" y="35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63"/>
              <p:cNvSpPr/>
              <p:nvPr/>
            </p:nvSpPr>
            <p:spPr>
              <a:xfrm rot="7067400">
                <a:off x="14613480" y="855720"/>
                <a:ext cx="93240" cy="493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0"/>
                    </a:moveTo>
                    <a:cubicBezTo>
                      <a:pt x="6" y="0"/>
                      <a:pt x="6" y="1"/>
                      <a:pt x="5" y="1"/>
                    </a:cubicBezTo>
                    <a:cubicBezTo>
                      <a:pt x="4" y="2"/>
                      <a:pt x="2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3"/>
                      <a:pt x="5" y="1"/>
                    </a:cubicBezTo>
                    <a:cubicBezTo>
                      <a:pt x="6" y="1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64"/>
              <p:cNvSpPr/>
              <p:nvPr/>
            </p:nvSpPr>
            <p:spPr>
              <a:xfrm rot="7067400">
                <a:off x="14839560" y="877320"/>
                <a:ext cx="49320" cy="2160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cubicBezTo>
                      <a:pt x="2" y="0"/>
                      <a:pt x="1" y="0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65"/>
              <p:cNvSpPr/>
              <p:nvPr/>
            </p:nvSpPr>
            <p:spPr>
              <a:xfrm rot="7067400">
                <a:off x="14683320" y="648000"/>
                <a:ext cx="147960" cy="356400"/>
              </a:xfrm>
              <a:custGeom>
                <a:avLst/>
                <a:gdLst>
                  <a:gd name="textAreaLeft" fmla="*/ 0 w 147960"/>
                  <a:gd name="textAreaRight" fmla="*/ 148320 w 14796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11" h="27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2" y="3"/>
                      <a:pt x="3" y="3"/>
                    </a:cubicBezTo>
                    <a:cubicBezTo>
                      <a:pt x="3" y="4"/>
                      <a:pt x="7" y="10"/>
                      <a:pt x="8" y="16"/>
                    </a:cubicBezTo>
                    <a:cubicBezTo>
                      <a:pt x="8" y="16"/>
                      <a:pt x="8" y="17"/>
                      <a:pt x="8" y="19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8" y="19"/>
                      <a:pt x="10" y="24"/>
                      <a:pt x="10" y="25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5"/>
                      <a:pt x="11" y="25"/>
                      <a:pt x="11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1" y="26"/>
                      <a:pt x="11" y="25"/>
                      <a:pt x="11" y="25"/>
                    </a:cubicBezTo>
                    <a:cubicBezTo>
                      <a:pt x="10" y="24"/>
                      <a:pt x="8" y="19"/>
                      <a:pt x="8" y="19"/>
                    </a:cubicBezTo>
                    <a:cubicBezTo>
                      <a:pt x="8" y="17"/>
                      <a:pt x="8" y="16"/>
                      <a:pt x="8" y="16"/>
                    </a:cubicBezTo>
                    <a:cubicBezTo>
                      <a:pt x="7" y="10"/>
                      <a:pt x="3" y="3"/>
                      <a:pt x="3" y="3"/>
                    </a:cubicBezTo>
                    <a:cubicBezTo>
                      <a:pt x="2" y="3"/>
                      <a:pt x="2" y="2"/>
                      <a:pt x="0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66"/>
              <p:cNvSpPr/>
              <p:nvPr/>
            </p:nvSpPr>
            <p:spPr>
              <a:xfrm rot="7067400">
                <a:off x="14357520" y="752760"/>
                <a:ext cx="76680" cy="820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4" y="15"/>
                    </a:moveTo>
                    <a:lnTo>
                      <a:pt x="9" y="1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4" y="1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67"/>
              <p:cNvSpPr/>
              <p:nvPr/>
            </p:nvSpPr>
            <p:spPr>
              <a:xfrm rot="7067400">
                <a:off x="15040080" y="729720"/>
                <a:ext cx="131760" cy="932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6" y="0"/>
                    </a:moveTo>
                    <a:cubicBezTo>
                      <a:pt x="5" y="0"/>
                      <a:pt x="4" y="1"/>
                      <a:pt x="3" y="1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4" y="7"/>
                      <a:pt x="5" y="7"/>
                      <a:pt x="6" y="6"/>
                    </a:cubicBezTo>
                    <a:cubicBezTo>
                      <a:pt x="8" y="5"/>
                      <a:pt x="10" y="2"/>
                      <a:pt x="9" y="1"/>
                    </a:cubicBezTo>
                    <a:cubicBezTo>
                      <a:pt x="8" y="1"/>
                      <a:pt x="8" y="0"/>
                      <a:pt x="6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68"/>
              <p:cNvSpPr/>
              <p:nvPr/>
            </p:nvSpPr>
            <p:spPr>
              <a:xfrm rot="7067400">
                <a:off x="14374800" y="704520"/>
                <a:ext cx="93240" cy="18648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7" h="34">
                    <a:moveTo>
                      <a:pt x="3" y="24"/>
                    </a:moveTo>
                    <a:lnTo>
                      <a:pt x="0" y="14"/>
                    </a:lnTo>
                    <a:lnTo>
                      <a:pt x="3" y="10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12" y="7"/>
                    </a:lnTo>
                    <a:lnTo>
                      <a:pt x="12" y="12"/>
                    </a:lnTo>
                    <a:lnTo>
                      <a:pt x="17" y="17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5" y="34"/>
                    </a:lnTo>
                    <a:lnTo>
                      <a:pt x="7" y="31"/>
                    </a:lnTo>
                    <a:lnTo>
                      <a:pt x="5" y="26"/>
                    </a:lnTo>
                    <a:lnTo>
                      <a:pt x="3" y="2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69"/>
              <p:cNvSpPr/>
              <p:nvPr/>
            </p:nvSpPr>
            <p:spPr>
              <a:xfrm rot="7067400">
                <a:off x="13503600" y="180000"/>
                <a:ext cx="680760" cy="235800"/>
              </a:xfrm>
              <a:custGeom>
                <a:avLst/>
                <a:gdLst>
                  <a:gd name="textAreaLeft" fmla="*/ 0 w 680760"/>
                  <a:gd name="textAreaRight" fmla="*/ 681120 w 68076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51" h="18">
                    <a:moveTo>
                      <a:pt x="2" y="18"/>
                    </a:moveTo>
                    <a:cubicBezTo>
                      <a:pt x="2" y="18"/>
                      <a:pt x="0" y="8"/>
                      <a:pt x="1" y="6"/>
                    </a:cubicBezTo>
                    <a:cubicBezTo>
                      <a:pt x="1" y="4"/>
                      <a:pt x="50" y="0"/>
                      <a:pt x="50" y="1"/>
                    </a:cubicBezTo>
                    <a:cubicBezTo>
                      <a:pt x="51" y="2"/>
                      <a:pt x="51" y="13"/>
                      <a:pt x="51" y="13"/>
                    </a:cubicBezTo>
                    <a:lnTo>
                      <a:pt x="2" y="1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70"/>
              <p:cNvSpPr/>
              <p:nvPr/>
            </p:nvSpPr>
            <p:spPr>
              <a:xfrm rot="7067400">
                <a:off x="12734640" y="-647280"/>
                <a:ext cx="944640" cy="140472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1404720"/>
                  <a:gd name="textAreaBottom" fmla="*/ 1404720 h 1404720"/>
                </a:gdLst>
                <a:ahLst/>
                <a:rect l="textAreaLeft" t="textAreaTop" r="textAreaRight" b="textAreaBottom"/>
                <a:pathLst>
                  <a:path w="71" h="107">
                    <a:moveTo>
                      <a:pt x="2" y="12"/>
                    </a:moveTo>
                    <a:cubicBezTo>
                      <a:pt x="3" y="7"/>
                      <a:pt x="58" y="0"/>
                      <a:pt x="60" y="5"/>
                    </a:cubicBezTo>
                    <a:cubicBezTo>
                      <a:pt x="62" y="10"/>
                      <a:pt x="71" y="101"/>
                      <a:pt x="71" y="101"/>
                    </a:cubicBezTo>
                    <a:cubicBezTo>
                      <a:pt x="10" y="107"/>
                      <a:pt x="10" y="107"/>
                      <a:pt x="10" y="107"/>
                    </a:cubicBezTo>
                    <a:cubicBezTo>
                      <a:pt x="10" y="107"/>
                      <a:pt x="0" y="17"/>
                      <a:pt x="2" y="1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椭圆 158"/>
          <p:cNvSpPr/>
          <p:nvPr/>
        </p:nvSpPr>
        <p:spPr>
          <a:xfrm>
            <a:off x="3476520" y="1236600"/>
            <a:ext cx="4767480" cy="4767480"/>
          </a:xfrm>
          <a:prstGeom prst="ellipse">
            <a:avLst/>
          </a:prstGeom>
          <a:solidFill>
            <a:srgbClr val="d1d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59"/>
          <p:cNvSpPr/>
          <p:nvPr/>
        </p:nvSpPr>
        <p:spPr>
          <a:xfrm>
            <a:off x="3987720" y="2624040"/>
            <a:ext cx="409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次性创业补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299940">
                                      <p:cBhvr>
                                        <p:cTn id="33" dur="1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c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任意多边形 11"/>
          <p:cNvSpPr/>
          <p:nvPr/>
        </p:nvSpPr>
        <p:spPr>
          <a:xfrm>
            <a:off x="-1697040" y="2170080"/>
            <a:ext cx="8621640" cy="3270240"/>
          </a:xfrm>
          <a:custGeom>
            <a:avLst/>
            <a:gdLst>
              <a:gd name="textAreaLeft" fmla="*/ 0 w 8621640"/>
              <a:gd name="textAreaRight" fmla="*/ 8622000 w 8621640"/>
              <a:gd name="textAreaTop" fmla="*/ 0 h 3270240"/>
              <a:gd name="textAreaBottom" fmla="*/ 3270600 h 3270240"/>
            </a:gdLst>
            <a:ahLst/>
            <a:rect l="textAreaLeft" t="textAreaTop" r="textAreaRight" b="textAreaBottom"/>
            <a:pathLst>
              <a:path w="2281881" h="1361522">
                <a:moveTo>
                  <a:pt x="1169242" y="0"/>
                </a:moveTo>
                <a:lnTo>
                  <a:pt x="2281881" y="0"/>
                </a:lnTo>
                <a:lnTo>
                  <a:pt x="2281881" y="1361522"/>
                </a:lnTo>
                <a:lnTo>
                  <a:pt x="1169242" y="1361522"/>
                </a:lnTo>
                <a:lnTo>
                  <a:pt x="1169242" y="1361521"/>
                </a:lnTo>
                <a:lnTo>
                  <a:pt x="1120877" y="1361521"/>
                </a:lnTo>
                <a:lnTo>
                  <a:pt x="529643" y="1361521"/>
                </a:lnTo>
                <a:lnTo>
                  <a:pt x="0" y="1361521"/>
                </a:lnTo>
                <a:lnTo>
                  <a:pt x="0" y="707559"/>
                </a:lnTo>
                <a:lnTo>
                  <a:pt x="529643" y="707559"/>
                </a:lnTo>
                <a:lnTo>
                  <a:pt x="529643" y="380578"/>
                </a:lnTo>
                <a:lnTo>
                  <a:pt x="1169242" y="380578"/>
                </a:lnTo>
                <a:lnTo>
                  <a:pt x="1169242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3"/>
          <p:cNvSpPr/>
          <p:nvPr/>
        </p:nvSpPr>
        <p:spPr>
          <a:xfrm>
            <a:off x="1063800" y="4411800"/>
            <a:ext cx="776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低门槛创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4"/>
          <p:cNvSpPr/>
          <p:nvPr/>
        </p:nvSpPr>
        <p:spPr>
          <a:xfrm>
            <a:off x="9185400" y="1859040"/>
            <a:ext cx="33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册资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4"/>
          <p:cNvSpPr/>
          <p:nvPr/>
        </p:nvSpPr>
        <p:spPr>
          <a:xfrm>
            <a:off x="9185400" y="2819520"/>
            <a:ext cx="33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业场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等腰三角形 5"/>
          <p:cNvSpPr/>
          <p:nvPr/>
        </p:nvSpPr>
        <p:spPr>
          <a:xfrm rot="5400000">
            <a:off x="8358480" y="1924920"/>
            <a:ext cx="428760" cy="51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等腰三角形 16"/>
          <p:cNvSpPr/>
          <p:nvPr/>
        </p:nvSpPr>
        <p:spPr>
          <a:xfrm rot="5400000">
            <a:off x="8358480" y="2883600"/>
            <a:ext cx="428400" cy="51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484360" y="6453360"/>
            <a:ext cx="439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c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组合 61"/>
          <p:cNvGrpSpPr/>
          <p:nvPr/>
        </p:nvGrpSpPr>
        <p:grpSpPr>
          <a:xfrm>
            <a:off x="135000" y="-7200"/>
            <a:ext cx="11901600" cy="6865200"/>
            <a:chOff x="135000" y="-7200"/>
            <a:chExt cx="11901600" cy="6865200"/>
          </a:xfrm>
        </p:grpSpPr>
        <p:sp>
          <p:nvSpPr>
            <p:cNvPr id="234" name="矩形 59"/>
            <p:cNvSpPr/>
            <p:nvPr/>
          </p:nvSpPr>
          <p:spPr>
            <a:xfrm>
              <a:off x="135000" y="795960"/>
              <a:ext cx="11901600" cy="6062040"/>
            </a:xfrm>
            <a:custGeom>
              <a:avLst/>
              <a:gdLst>
                <a:gd name="textAreaLeft" fmla="*/ 0 w 11901600"/>
                <a:gd name="textAreaRight" fmla="*/ 11901960 w 11901600"/>
                <a:gd name="textAreaTop" fmla="*/ 0 h 6062040"/>
                <a:gd name="textAreaBottom" fmla="*/ 6062400 h 6062040"/>
              </a:gdLst>
              <a:ahLst/>
              <a:rect l="textAreaLeft" t="textAreaTop" r="textAreaRight" b="textAreaBottom"/>
              <a:pathLst>
                <a:path w="11233219" h="7020233">
                  <a:moveTo>
                    <a:pt x="0" y="301671"/>
                  </a:moveTo>
                  <a:lnTo>
                    <a:pt x="11233219" y="0"/>
                  </a:lnTo>
                  <a:lnTo>
                    <a:pt x="10908755" y="7020233"/>
                  </a:lnTo>
                  <a:lnTo>
                    <a:pt x="53942" y="7020233"/>
                  </a:lnTo>
                  <a:lnTo>
                    <a:pt x="0" y="301671"/>
                  </a:lnTo>
                  <a:close/>
                </a:path>
              </a:pathLst>
            </a:custGeom>
            <a:solidFill>
              <a:srgbClr val="1e7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53"/>
            <p:cNvSpPr/>
            <p:nvPr/>
          </p:nvSpPr>
          <p:spPr>
            <a:xfrm>
              <a:off x="191880" y="1150200"/>
              <a:ext cx="11548080" cy="570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组合 54"/>
            <p:cNvGrpSpPr/>
            <p:nvPr/>
          </p:nvGrpSpPr>
          <p:grpSpPr>
            <a:xfrm>
              <a:off x="4702680" y="-7200"/>
              <a:ext cx="2526840" cy="1726560"/>
              <a:chOff x="4702680" y="-7200"/>
              <a:chExt cx="2526840" cy="1726560"/>
            </a:xfrm>
          </p:grpSpPr>
          <p:sp>
            <p:nvSpPr>
              <p:cNvPr id="237" name="Freeform 11"/>
              <p:cNvSpPr/>
              <p:nvPr/>
            </p:nvSpPr>
            <p:spPr>
              <a:xfrm rot="471000">
                <a:off x="5615280" y="33480"/>
                <a:ext cx="658440" cy="894240"/>
              </a:xfrm>
              <a:custGeom>
                <a:avLst/>
                <a:gdLst>
                  <a:gd name="textAreaLeft" fmla="*/ 0 w 658440"/>
                  <a:gd name="textAreaRight" fmla="*/ 658800 w 658440"/>
                  <a:gd name="textAreaTop" fmla="*/ 0 h 894240"/>
                  <a:gd name="textAreaBottom" fmla="*/ 894600 h 894240"/>
                </a:gdLst>
                <a:ahLst/>
                <a:rect l="textAreaLeft" t="textAreaTop" r="textAreaRight" b="textAreaBottom"/>
                <a:pathLst>
                  <a:path w="131" h="178">
                    <a:moveTo>
                      <a:pt x="131" y="162"/>
                    </a:moveTo>
                    <a:cubicBezTo>
                      <a:pt x="116" y="53"/>
                      <a:pt x="116" y="53"/>
                      <a:pt x="116" y="53"/>
                    </a:cubicBezTo>
                    <a:cubicBezTo>
                      <a:pt x="112" y="22"/>
                      <a:pt x="83" y="0"/>
                      <a:pt x="52" y="4"/>
                    </a:cubicBezTo>
                    <a:cubicBezTo>
                      <a:pt x="21" y="9"/>
                      <a:pt x="0" y="37"/>
                      <a:pt x="4" y="68"/>
                    </a:cubicBezTo>
                    <a:cubicBezTo>
                      <a:pt x="19" y="178"/>
                      <a:pt x="19" y="178"/>
                      <a:pt x="19" y="178"/>
                    </a:cubicBezTo>
                    <a:lnTo>
                      <a:pt x="131" y="162"/>
                    </a:lnTo>
                    <a:close/>
                    <a:moveTo>
                      <a:pt x="56" y="34"/>
                    </a:moveTo>
                    <a:cubicBezTo>
                      <a:pt x="75" y="31"/>
                      <a:pt x="93" y="44"/>
                      <a:pt x="96" y="63"/>
                    </a:cubicBezTo>
                    <a:cubicBezTo>
                      <a:pt x="98" y="82"/>
                      <a:pt x="85" y="100"/>
                      <a:pt x="66" y="103"/>
                    </a:cubicBezTo>
                    <a:cubicBezTo>
                      <a:pt x="47" y="105"/>
                      <a:pt x="29" y="92"/>
                      <a:pt x="27" y="73"/>
                    </a:cubicBezTo>
                    <a:cubicBezTo>
                      <a:pt x="24" y="54"/>
                      <a:pt x="37" y="37"/>
                      <a:pt x="56" y="34"/>
                    </a:cubicBezTo>
                    <a:close/>
                  </a:path>
                </a:pathLst>
              </a:custGeom>
              <a:solidFill>
                <a:srgbClr val="246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2"/>
              <p:cNvSpPr/>
              <p:nvPr/>
            </p:nvSpPr>
            <p:spPr>
              <a:xfrm rot="471000">
                <a:off x="4755240" y="619560"/>
                <a:ext cx="2421360" cy="938880"/>
              </a:xfrm>
              <a:custGeom>
                <a:avLst/>
                <a:gdLst>
                  <a:gd name="textAreaLeft" fmla="*/ 0 w 2421360"/>
                  <a:gd name="textAreaRight" fmla="*/ 2421720 w 2421360"/>
                  <a:gd name="textAreaTop" fmla="*/ 0 h 938880"/>
                  <a:gd name="textAreaBottom" fmla="*/ 939240 h 938880"/>
                </a:gdLst>
                <a:ahLst/>
                <a:rect l="textAreaLeft" t="textAreaTop" r="textAreaRight" b="textAreaBottom"/>
                <a:pathLst>
                  <a:path w="482" h="187">
                    <a:moveTo>
                      <a:pt x="482" y="121"/>
                    </a:moveTo>
                    <a:cubicBezTo>
                      <a:pt x="479" y="105"/>
                      <a:pt x="479" y="105"/>
                      <a:pt x="479" y="105"/>
                    </a:cubicBezTo>
                    <a:cubicBezTo>
                      <a:pt x="471" y="43"/>
                      <a:pt x="414" y="0"/>
                      <a:pt x="352" y="8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43" y="51"/>
                      <a:pt x="0" y="108"/>
                      <a:pt x="9" y="170"/>
                    </a:cubicBezTo>
                    <a:cubicBezTo>
                      <a:pt x="11" y="187"/>
                      <a:pt x="11" y="187"/>
                      <a:pt x="11" y="187"/>
                    </a:cubicBezTo>
                    <a:lnTo>
                      <a:pt x="482" y="121"/>
                    </a:lnTo>
                    <a:close/>
                  </a:path>
                </a:pathLst>
              </a:custGeom>
              <a:solidFill>
                <a:srgbClr val="dcf4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3"/>
              <p:cNvSpPr/>
              <p:nvPr/>
            </p:nvSpPr>
            <p:spPr>
              <a:xfrm rot="471000">
                <a:off x="4757400" y="523080"/>
                <a:ext cx="2417400" cy="941040"/>
              </a:xfrm>
              <a:custGeom>
                <a:avLst/>
                <a:gdLst>
                  <a:gd name="textAreaLeft" fmla="*/ 0 w 2417400"/>
                  <a:gd name="textAreaRight" fmla="*/ 2417760 w 2417400"/>
                  <a:gd name="textAreaTop" fmla="*/ 0 h 941040"/>
                  <a:gd name="textAreaBottom" fmla="*/ 941400 h 941040"/>
                </a:gdLst>
                <a:ahLst/>
                <a:rect l="textAreaLeft" t="textAreaTop" r="textAreaRight" b="textAreaBottom"/>
                <a:pathLst>
                  <a:path w="481" h="187">
                    <a:moveTo>
                      <a:pt x="481" y="122"/>
                    </a:moveTo>
                    <a:cubicBezTo>
                      <a:pt x="479" y="105"/>
                      <a:pt x="479" y="105"/>
                      <a:pt x="479" y="105"/>
                    </a:cubicBezTo>
                    <a:cubicBezTo>
                      <a:pt x="470" y="43"/>
                      <a:pt x="413" y="0"/>
                      <a:pt x="351" y="9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43" y="52"/>
                      <a:pt x="0" y="109"/>
                      <a:pt x="8" y="171"/>
                    </a:cubicBezTo>
                    <a:cubicBezTo>
                      <a:pt x="10" y="187"/>
                      <a:pt x="10" y="187"/>
                      <a:pt x="10" y="187"/>
                    </a:cubicBezTo>
                    <a:lnTo>
                      <a:pt x="481" y="122"/>
                    </a:lnTo>
                    <a:close/>
                  </a:path>
                </a:pathLst>
              </a:custGeom>
              <a:solidFill>
                <a:srgbClr val="97b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矩形 55"/>
          <p:cNvSpPr/>
          <p:nvPr/>
        </p:nvSpPr>
        <p:spPr>
          <a:xfrm>
            <a:off x="1044720" y="3349800"/>
            <a:ext cx="95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　　  省教育厅学生处：对高校毕业生灵活就业及自主创业，政府有相关扶持政策。目前，对高校毕业生从事个体经营的，除国家限制行业外，</a:t>
            </a: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内免交登记类、管理类和证照类的各项行政事业性收费。半年内未就业的，可申请失业登记，享受失业人员相关政策，包括小额贷款和财政贴息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56"/>
          <p:cNvSpPr/>
          <p:nvPr/>
        </p:nvSpPr>
        <p:spPr>
          <a:xfrm>
            <a:off x="1892160" y="2276640"/>
            <a:ext cx="78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对尚未就业的高校毕业生，政府提供哪些优惠政策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58"/>
          <p:cNvSpPr/>
          <p:nvPr/>
        </p:nvSpPr>
        <p:spPr>
          <a:xfrm>
            <a:off x="1066680" y="2170080"/>
            <a:ext cx="517680" cy="5176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57"/>
          <p:cNvSpPr/>
          <p:nvPr/>
        </p:nvSpPr>
        <p:spPr>
          <a:xfrm>
            <a:off x="1066680" y="215892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60"/>
          <p:cNvGrpSpPr/>
          <p:nvPr/>
        </p:nvGrpSpPr>
        <p:grpSpPr>
          <a:xfrm>
            <a:off x="1066680" y="3463920"/>
            <a:ext cx="530280" cy="536760"/>
            <a:chOff x="1066680" y="3463920"/>
            <a:chExt cx="530280" cy="536760"/>
          </a:xfrm>
        </p:grpSpPr>
        <p:sp>
          <p:nvSpPr>
            <p:cNvPr id="245" name="椭圆 67"/>
            <p:cNvSpPr/>
            <p:nvPr/>
          </p:nvSpPr>
          <p:spPr>
            <a:xfrm>
              <a:off x="1078920" y="3482280"/>
              <a:ext cx="518040" cy="5184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65"/>
            <p:cNvSpPr/>
            <p:nvPr/>
          </p:nvSpPr>
          <p:spPr>
            <a:xfrm>
              <a:off x="1066680" y="3463920"/>
              <a:ext cx="4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c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组合 20"/>
          <p:cNvGrpSpPr/>
          <p:nvPr/>
        </p:nvGrpSpPr>
        <p:grpSpPr>
          <a:xfrm>
            <a:off x="135000" y="-7200"/>
            <a:ext cx="11901600" cy="6865200"/>
            <a:chOff x="135000" y="-7200"/>
            <a:chExt cx="11901600" cy="6865200"/>
          </a:xfrm>
        </p:grpSpPr>
        <p:sp>
          <p:nvSpPr>
            <p:cNvPr id="248" name="矩形 59"/>
            <p:cNvSpPr/>
            <p:nvPr/>
          </p:nvSpPr>
          <p:spPr>
            <a:xfrm>
              <a:off x="135000" y="795960"/>
              <a:ext cx="11901600" cy="6062040"/>
            </a:xfrm>
            <a:custGeom>
              <a:avLst/>
              <a:gdLst>
                <a:gd name="textAreaLeft" fmla="*/ 0 w 11901600"/>
                <a:gd name="textAreaRight" fmla="*/ 11901960 w 11901600"/>
                <a:gd name="textAreaTop" fmla="*/ 0 h 6062040"/>
                <a:gd name="textAreaBottom" fmla="*/ 6062400 h 6062040"/>
              </a:gdLst>
              <a:ahLst/>
              <a:rect l="textAreaLeft" t="textAreaTop" r="textAreaRight" b="textAreaBottom"/>
              <a:pathLst>
                <a:path w="11233219" h="7020233">
                  <a:moveTo>
                    <a:pt x="0" y="301671"/>
                  </a:moveTo>
                  <a:lnTo>
                    <a:pt x="11233219" y="0"/>
                  </a:lnTo>
                  <a:lnTo>
                    <a:pt x="10908755" y="7020233"/>
                  </a:lnTo>
                  <a:lnTo>
                    <a:pt x="53942" y="7020233"/>
                  </a:lnTo>
                  <a:lnTo>
                    <a:pt x="0" y="301671"/>
                  </a:lnTo>
                  <a:close/>
                </a:path>
              </a:pathLst>
            </a:custGeom>
            <a:solidFill>
              <a:srgbClr val="1e7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22"/>
            <p:cNvSpPr/>
            <p:nvPr/>
          </p:nvSpPr>
          <p:spPr>
            <a:xfrm>
              <a:off x="191880" y="1150200"/>
              <a:ext cx="11548080" cy="570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组合 23"/>
            <p:cNvGrpSpPr/>
            <p:nvPr/>
          </p:nvGrpSpPr>
          <p:grpSpPr>
            <a:xfrm>
              <a:off x="4702680" y="-7200"/>
              <a:ext cx="2526840" cy="1726560"/>
              <a:chOff x="4702680" y="-7200"/>
              <a:chExt cx="2526840" cy="1726560"/>
            </a:xfrm>
          </p:grpSpPr>
          <p:sp>
            <p:nvSpPr>
              <p:cNvPr id="251" name="Freeform 11"/>
              <p:cNvSpPr/>
              <p:nvPr/>
            </p:nvSpPr>
            <p:spPr>
              <a:xfrm rot="471000">
                <a:off x="5615280" y="33480"/>
                <a:ext cx="658440" cy="894240"/>
              </a:xfrm>
              <a:custGeom>
                <a:avLst/>
                <a:gdLst>
                  <a:gd name="textAreaLeft" fmla="*/ 0 w 658440"/>
                  <a:gd name="textAreaRight" fmla="*/ 658800 w 658440"/>
                  <a:gd name="textAreaTop" fmla="*/ 0 h 894240"/>
                  <a:gd name="textAreaBottom" fmla="*/ 894600 h 894240"/>
                </a:gdLst>
                <a:ahLst/>
                <a:rect l="textAreaLeft" t="textAreaTop" r="textAreaRight" b="textAreaBottom"/>
                <a:pathLst>
                  <a:path w="131" h="178">
                    <a:moveTo>
                      <a:pt x="131" y="162"/>
                    </a:moveTo>
                    <a:cubicBezTo>
                      <a:pt x="116" y="53"/>
                      <a:pt x="116" y="53"/>
                      <a:pt x="116" y="53"/>
                    </a:cubicBezTo>
                    <a:cubicBezTo>
                      <a:pt x="112" y="22"/>
                      <a:pt x="83" y="0"/>
                      <a:pt x="52" y="4"/>
                    </a:cubicBezTo>
                    <a:cubicBezTo>
                      <a:pt x="21" y="9"/>
                      <a:pt x="0" y="37"/>
                      <a:pt x="4" y="68"/>
                    </a:cubicBezTo>
                    <a:cubicBezTo>
                      <a:pt x="19" y="178"/>
                      <a:pt x="19" y="178"/>
                      <a:pt x="19" y="178"/>
                    </a:cubicBezTo>
                    <a:lnTo>
                      <a:pt x="131" y="162"/>
                    </a:lnTo>
                    <a:close/>
                    <a:moveTo>
                      <a:pt x="56" y="34"/>
                    </a:moveTo>
                    <a:cubicBezTo>
                      <a:pt x="75" y="31"/>
                      <a:pt x="93" y="44"/>
                      <a:pt x="96" y="63"/>
                    </a:cubicBezTo>
                    <a:cubicBezTo>
                      <a:pt x="98" y="82"/>
                      <a:pt x="85" y="100"/>
                      <a:pt x="66" y="103"/>
                    </a:cubicBezTo>
                    <a:cubicBezTo>
                      <a:pt x="47" y="105"/>
                      <a:pt x="29" y="92"/>
                      <a:pt x="27" y="73"/>
                    </a:cubicBezTo>
                    <a:cubicBezTo>
                      <a:pt x="24" y="54"/>
                      <a:pt x="37" y="37"/>
                      <a:pt x="56" y="34"/>
                    </a:cubicBezTo>
                    <a:close/>
                  </a:path>
                </a:pathLst>
              </a:custGeom>
              <a:solidFill>
                <a:srgbClr val="246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2"/>
              <p:cNvSpPr/>
              <p:nvPr/>
            </p:nvSpPr>
            <p:spPr>
              <a:xfrm rot="471000">
                <a:off x="4755240" y="619560"/>
                <a:ext cx="2421360" cy="938880"/>
              </a:xfrm>
              <a:custGeom>
                <a:avLst/>
                <a:gdLst>
                  <a:gd name="textAreaLeft" fmla="*/ 0 w 2421360"/>
                  <a:gd name="textAreaRight" fmla="*/ 2421720 w 2421360"/>
                  <a:gd name="textAreaTop" fmla="*/ 0 h 938880"/>
                  <a:gd name="textAreaBottom" fmla="*/ 939240 h 938880"/>
                </a:gdLst>
                <a:ahLst/>
                <a:rect l="textAreaLeft" t="textAreaTop" r="textAreaRight" b="textAreaBottom"/>
                <a:pathLst>
                  <a:path w="482" h="187">
                    <a:moveTo>
                      <a:pt x="482" y="121"/>
                    </a:moveTo>
                    <a:cubicBezTo>
                      <a:pt x="479" y="105"/>
                      <a:pt x="479" y="105"/>
                      <a:pt x="479" y="105"/>
                    </a:cubicBezTo>
                    <a:cubicBezTo>
                      <a:pt x="471" y="43"/>
                      <a:pt x="414" y="0"/>
                      <a:pt x="352" y="8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43" y="51"/>
                      <a:pt x="0" y="108"/>
                      <a:pt x="9" y="170"/>
                    </a:cubicBezTo>
                    <a:cubicBezTo>
                      <a:pt x="11" y="187"/>
                      <a:pt x="11" y="187"/>
                      <a:pt x="11" y="187"/>
                    </a:cubicBezTo>
                    <a:lnTo>
                      <a:pt x="482" y="121"/>
                    </a:lnTo>
                    <a:close/>
                  </a:path>
                </a:pathLst>
              </a:custGeom>
              <a:solidFill>
                <a:srgbClr val="dcf4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3"/>
              <p:cNvSpPr/>
              <p:nvPr/>
            </p:nvSpPr>
            <p:spPr>
              <a:xfrm rot="471000">
                <a:off x="4757400" y="523080"/>
                <a:ext cx="2417400" cy="941040"/>
              </a:xfrm>
              <a:custGeom>
                <a:avLst/>
                <a:gdLst>
                  <a:gd name="textAreaLeft" fmla="*/ 0 w 2417400"/>
                  <a:gd name="textAreaRight" fmla="*/ 2417760 w 2417400"/>
                  <a:gd name="textAreaTop" fmla="*/ 0 h 941040"/>
                  <a:gd name="textAreaBottom" fmla="*/ 941400 h 941040"/>
                </a:gdLst>
                <a:ahLst/>
                <a:rect l="textAreaLeft" t="textAreaTop" r="textAreaRight" b="textAreaBottom"/>
                <a:pathLst>
                  <a:path w="481" h="187">
                    <a:moveTo>
                      <a:pt x="481" y="122"/>
                    </a:moveTo>
                    <a:cubicBezTo>
                      <a:pt x="479" y="105"/>
                      <a:pt x="479" y="105"/>
                      <a:pt x="479" y="105"/>
                    </a:cubicBezTo>
                    <a:cubicBezTo>
                      <a:pt x="470" y="43"/>
                      <a:pt x="413" y="0"/>
                      <a:pt x="351" y="9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43" y="52"/>
                      <a:pt x="0" y="109"/>
                      <a:pt x="8" y="171"/>
                    </a:cubicBezTo>
                    <a:cubicBezTo>
                      <a:pt x="10" y="187"/>
                      <a:pt x="10" y="187"/>
                      <a:pt x="10" y="187"/>
                    </a:cubicBezTo>
                    <a:lnTo>
                      <a:pt x="481" y="122"/>
                    </a:lnTo>
                    <a:close/>
                  </a:path>
                </a:pathLst>
              </a:custGeom>
              <a:solidFill>
                <a:srgbClr val="97b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矩形 55"/>
          <p:cNvSpPr/>
          <p:nvPr/>
        </p:nvSpPr>
        <p:spPr>
          <a:xfrm>
            <a:off x="1015920" y="3336840"/>
            <a:ext cx="95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　　省教育厅学生处：目前扶持政策主要针对应届毕业生，持有毕业证的大学生就可享受。取得结业证和肄业证的学生，原则上不能说是毕业生，一般不能享受这些优惠政策。在享受相关政策时，毕业生需要出示毕业证、身份证、学校的就业报到证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56"/>
          <p:cNvSpPr/>
          <p:nvPr/>
        </p:nvSpPr>
        <p:spPr>
          <a:xfrm>
            <a:off x="1863720" y="2265480"/>
            <a:ext cx="76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没有学位证，只有毕业证，或者只有结业证或肄业证能否享受此政策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58"/>
          <p:cNvSpPr/>
          <p:nvPr/>
        </p:nvSpPr>
        <p:spPr>
          <a:xfrm>
            <a:off x="1036800" y="2158920"/>
            <a:ext cx="517320" cy="5176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57"/>
          <p:cNvSpPr/>
          <p:nvPr/>
        </p:nvSpPr>
        <p:spPr>
          <a:xfrm>
            <a:off x="1036800" y="214776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60"/>
          <p:cNvGrpSpPr/>
          <p:nvPr/>
        </p:nvGrpSpPr>
        <p:grpSpPr>
          <a:xfrm>
            <a:off x="1036800" y="3452760"/>
            <a:ext cx="529920" cy="536760"/>
            <a:chOff x="1036800" y="3452760"/>
            <a:chExt cx="529920" cy="536760"/>
          </a:xfrm>
        </p:grpSpPr>
        <p:sp>
          <p:nvSpPr>
            <p:cNvPr id="259" name="椭圆 67"/>
            <p:cNvSpPr/>
            <p:nvPr/>
          </p:nvSpPr>
          <p:spPr>
            <a:xfrm>
              <a:off x="1049040" y="3471120"/>
              <a:ext cx="517680" cy="5184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65"/>
            <p:cNvSpPr/>
            <p:nvPr/>
          </p:nvSpPr>
          <p:spPr>
            <a:xfrm>
              <a:off x="1036800" y="3452760"/>
              <a:ext cx="49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c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4"/>
          <p:cNvGrpSpPr/>
          <p:nvPr/>
        </p:nvGrpSpPr>
        <p:grpSpPr>
          <a:xfrm>
            <a:off x="135000" y="-7200"/>
            <a:ext cx="11901600" cy="6865200"/>
            <a:chOff x="135000" y="-7200"/>
            <a:chExt cx="11901600" cy="6865200"/>
          </a:xfrm>
        </p:grpSpPr>
        <p:sp>
          <p:nvSpPr>
            <p:cNvPr id="262" name="矩形 59"/>
            <p:cNvSpPr/>
            <p:nvPr/>
          </p:nvSpPr>
          <p:spPr>
            <a:xfrm>
              <a:off x="135000" y="795960"/>
              <a:ext cx="11901600" cy="6062040"/>
            </a:xfrm>
            <a:custGeom>
              <a:avLst/>
              <a:gdLst>
                <a:gd name="textAreaLeft" fmla="*/ 0 w 11901600"/>
                <a:gd name="textAreaRight" fmla="*/ 11901960 w 11901600"/>
                <a:gd name="textAreaTop" fmla="*/ 0 h 6062040"/>
                <a:gd name="textAreaBottom" fmla="*/ 6062400 h 6062040"/>
              </a:gdLst>
              <a:ahLst/>
              <a:rect l="textAreaLeft" t="textAreaTop" r="textAreaRight" b="textAreaBottom"/>
              <a:pathLst>
                <a:path w="11233219" h="7020233">
                  <a:moveTo>
                    <a:pt x="0" y="301671"/>
                  </a:moveTo>
                  <a:lnTo>
                    <a:pt x="11233219" y="0"/>
                  </a:lnTo>
                  <a:lnTo>
                    <a:pt x="10908755" y="7020233"/>
                  </a:lnTo>
                  <a:lnTo>
                    <a:pt x="53942" y="7020233"/>
                  </a:lnTo>
                  <a:lnTo>
                    <a:pt x="0" y="301671"/>
                  </a:lnTo>
                  <a:close/>
                </a:path>
              </a:pathLst>
            </a:custGeom>
            <a:solidFill>
              <a:srgbClr val="1e7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16"/>
            <p:cNvSpPr/>
            <p:nvPr/>
          </p:nvSpPr>
          <p:spPr>
            <a:xfrm>
              <a:off x="191880" y="1150200"/>
              <a:ext cx="11548080" cy="570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组合 17"/>
            <p:cNvGrpSpPr/>
            <p:nvPr/>
          </p:nvGrpSpPr>
          <p:grpSpPr>
            <a:xfrm>
              <a:off x="4702680" y="-7200"/>
              <a:ext cx="2526840" cy="1726560"/>
              <a:chOff x="4702680" y="-7200"/>
              <a:chExt cx="2526840" cy="1726560"/>
            </a:xfrm>
          </p:grpSpPr>
          <p:sp>
            <p:nvSpPr>
              <p:cNvPr id="265" name="Freeform 11"/>
              <p:cNvSpPr/>
              <p:nvPr/>
            </p:nvSpPr>
            <p:spPr>
              <a:xfrm rot="471000">
                <a:off x="5615280" y="33480"/>
                <a:ext cx="658440" cy="894240"/>
              </a:xfrm>
              <a:custGeom>
                <a:avLst/>
                <a:gdLst>
                  <a:gd name="textAreaLeft" fmla="*/ 0 w 658440"/>
                  <a:gd name="textAreaRight" fmla="*/ 658800 w 658440"/>
                  <a:gd name="textAreaTop" fmla="*/ 0 h 894240"/>
                  <a:gd name="textAreaBottom" fmla="*/ 894600 h 894240"/>
                </a:gdLst>
                <a:ahLst/>
                <a:rect l="textAreaLeft" t="textAreaTop" r="textAreaRight" b="textAreaBottom"/>
                <a:pathLst>
                  <a:path w="131" h="178">
                    <a:moveTo>
                      <a:pt x="131" y="162"/>
                    </a:moveTo>
                    <a:cubicBezTo>
                      <a:pt x="116" y="53"/>
                      <a:pt x="116" y="53"/>
                      <a:pt x="116" y="53"/>
                    </a:cubicBezTo>
                    <a:cubicBezTo>
                      <a:pt x="112" y="22"/>
                      <a:pt x="83" y="0"/>
                      <a:pt x="52" y="4"/>
                    </a:cubicBezTo>
                    <a:cubicBezTo>
                      <a:pt x="21" y="9"/>
                      <a:pt x="0" y="37"/>
                      <a:pt x="4" y="68"/>
                    </a:cubicBezTo>
                    <a:cubicBezTo>
                      <a:pt x="19" y="178"/>
                      <a:pt x="19" y="178"/>
                      <a:pt x="19" y="178"/>
                    </a:cubicBezTo>
                    <a:lnTo>
                      <a:pt x="131" y="162"/>
                    </a:lnTo>
                    <a:close/>
                    <a:moveTo>
                      <a:pt x="56" y="34"/>
                    </a:moveTo>
                    <a:cubicBezTo>
                      <a:pt x="75" y="31"/>
                      <a:pt x="93" y="44"/>
                      <a:pt x="96" y="63"/>
                    </a:cubicBezTo>
                    <a:cubicBezTo>
                      <a:pt x="98" y="82"/>
                      <a:pt x="85" y="100"/>
                      <a:pt x="66" y="103"/>
                    </a:cubicBezTo>
                    <a:cubicBezTo>
                      <a:pt x="47" y="105"/>
                      <a:pt x="29" y="92"/>
                      <a:pt x="27" y="73"/>
                    </a:cubicBezTo>
                    <a:cubicBezTo>
                      <a:pt x="24" y="54"/>
                      <a:pt x="37" y="37"/>
                      <a:pt x="56" y="34"/>
                    </a:cubicBezTo>
                    <a:close/>
                  </a:path>
                </a:pathLst>
              </a:custGeom>
              <a:solidFill>
                <a:srgbClr val="246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2"/>
              <p:cNvSpPr/>
              <p:nvPr/>
            </p:nvSpPr>
            <p:spPr>
              <a:xfrm rot="471000">
                <a:off x="4755240" y="619560"/>
                <a:ext cx="2421360" cy="938880"/>
              </a:xfrm>
              <a:custGeom>
                <a:avLst/>
                <a:gdLst>
                  <a:gd name="textAreaLeft" fmla="*/ 0 w 2421360"/>
                  <a:gd name="textAreaRight" fmla="*/ 2421720 w 2421360"/>
                  <a:gd name="textAreaTop" fmla="*/ 0 h 938880"/>
                  <a:gd name="textAreaBottom" fmla="*/ 939240 h 938880"/>
                </a:gdLst>
                <a:ahLst/>
                <a:rect l="textAreaLeft" t="textAreaTop" r="textAreaRight" b="textAreaBottom"/>
                <a:pathLst>
                  <a:path w="482" h="187">
                    <a:moveTo>
                      <a:pt x="482" y="121"/>
                    </a:moveTo>
                    <a:cubicBezTo>
                      <a:pt x="479" y="105"/>
                      <a:pt x="479" y="105"/>
                      <a:pt x="479" y="105"/>
                    </a:cubicBezTo>
                    <a:cubicBezTo>
                      <a:pt x="471" y="43"/>
                      <a:pt x="414" y="0"/>
                      <a:pt x="352" y="8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43" y="51"/>
                      <a:pt x="0" y="108"/>
                      <a:pt x="9" y="170"/>
                    </a:cubicBezTo>
                    <a:cubicBezTo>
                      <a:pt x="11" y="187"/>
                      <a:pt x="11" y="187"/>
                      <a:pt x="11" y="187"/>
                    </a:cubicBezTo>
                    <a:lnTo>
                      <a:pt x="482" y="121"/>
                    </a:lnTo>
                    <a:close/>
                  </a:path>
                </a:pathLst>
              </a:custGeom>
              <a:solidFill>
                <a:srgbClr val="dcf4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3"/>
              <p:cNvSpPr/>
              <p:nvPr/>
            </p:nvSpPr>
            <p:spPr>
              <a:xfrm rot="471000">
                <a:off x="4757400" y="523080"/>
                <a:ext cx="2417400" cy="941040"/>
              </a:xfrm>
              <a:custGeom>
                <a:avLst/>
                <a:gdLst>
                  <a:gd name="textAreaLeft" fmla="*/ 0 w 2417400"/>
                  <a:gd name="textAreaRight" fmla="*/ 2417760 w 2417400"/>
                  <a:gd name="textAreaTop" fmla="*/ 0 h 941040"/>
                  <a:gd name="textAreaBottom" fmla="*/ 941400 h 941040"/>
                </a:gdLst>
                <a:ahLst/>
                <a:rect l="textAreaLeft" t="textAreaTop" r="textAreaRight" b="textAreaBottom"/>
                <a:pathLst>
                  <a:path w="481" h="187">
                    <a:moveTo>
                      <a:pt x="481" y="122"/>
                    </a:moveTo>
                    <a:cubicBezTo>
                      <a:pt x="479" y="105"/>
                      <a:pt x="479" y="105"/>
                      <a:pt x="479" y="105"/>
                    </a:cubicBezTo>
                    <a:cubicBezTo>
                      <a:pt x="470" y="43"/>
                      <a:pt x="413" y="0"/>
                      <a:pt x="351" y="9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43" y="52"/>
                      <a:pt x="0" y="109"/>
                      <a:pt x="8" y="171"/>
                    </a:cubicBezTo>
                    <a:cubicBezTo>
                      <a:pt x="10" y="187"/>
                      <a:pt x="10" y="187"/>
                      <a:pt x="10" y="187"/>
                    </a:cubicBezTo>
                    <a:lnTo>
                      <a:pt x="481" y="122"/>
                    </a:lnTo>
                    <a:close/>
                  </a:path>
                </a:pathLst>
              </a:custGeom>
              <a:solidFill>
                <a:srgbClr val="97b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矩形 55"/>
          <p:cNvSpPr/>
          <p:nvPr/>
        </p:nvSpPr>
        <p:spPr>
          <a:xfrm>
            <a:off x="1015920" y="3349800"/>
            <a:ext cx="95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　　省劳动和社会保障厅就业局：对毕业</a:t>
            </a: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6</a:t>
            </a: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月后未找到工作的大学生，经失业登记后，就业服务机构将为其提供免费的职业介绍、职业指导等就业服务。毕业两年内从事个体经营的高校毕业生，都可以自工商部门登记注册之日起</a:t>
            </a: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内，免交有关登记类、证照类和管理类收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56"/>
          <p:cNvSpPr/>
          <p:nvPr/>
        </p:nvSpPr>
        <p:spPr>
          <a:xfrm>
            <a:off x="1863720" y="2276640"/>
            <a:ext cx="76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历届高校毕业生能否享受以上优惠政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58"/>
          <p:cNvSpPr/>
          <p:nvPr/>
        </p:nvSpPr>
        <p:spPr>
          <a:xfrm>
            <a:off x="1036800" y="2170080"/>
            <a:ext cx="517320" cy="5191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7"/>
          <p:cNvSpPr/>
          <p:nvPr/>
        </p:nvSpPr>
        <p:spPr>
          <a:xfrm>
            <a:off x="1036800" y="216072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组合 60"/>
          <p:cNvGrpSpPr/>
          <p:nvPr/>
        </p:nvGrpSpPr>
        <p:grpSpPr>
          <a:xfrm>
            <a:off x="1036800" y="3465360"/>
            <a:ext cx="529920" cy="536760"/>
            <a:chOff x="1036800" y="3465360"/>
            <a:chExt cx="529920" cy="536760"/>
          </a:xfrm>
        </p:grpSpPr>
        <p:sp>
          <p:nvSpPr>
            <p:cNvPr id="273" name="椭圆 67"/>
            <p:cNvSpPr/>
            <p:nvPr/>
          </p:nvSpPr>
          <p:spPr>
            <a:xfrm>
              <a:off x="1049040" y="3483720"/>
              <a:ext cx="517680" cy="5184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65"/>
            <p:cNvSpPr/>
            <p:nvPr/>
          </p:nvSpPr>
          <p:spPr>
            <a:xfrm>
              <a:off x="1036800" y="3465360"/>
              <a:ext cx="49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01:44:00Z</dcterms:created>
  <dc:creator>Rad Spread</dc:creator>
  <dc:description/>
  <cp:keywords/>
  <dc:language>en-US</dc:language>
  <cp:lastModifiedBy>a</cp:lastModifiedBy>
  <dcterms:modified xsi:type="dcterms:W3CDTF">2015-07-21T03:46:31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