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83F-7CF2-40F6-9C38-FBEC3E4B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C7A-1A59-45D2-9152-F69BE9D8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F97-5ED1-4689-9F12-82DD5852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D9C-B144-407B-BD16-54C2C41A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7C4-36C8-4C25-BBC4-E1B8F20B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069-1028-4138-8267-910CA456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86F-6006-44CC-BCD7-084C4101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B1D-284E-4BD4-85D0-838DF171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73152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8DB-3E6F-4C81-B88B-F684EFEC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8C9-8E5A-4CF4-B759-725C505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966-7032-485A-9F1A-D4D70F34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A02-24F2-4733-9EB4-73A7EB8C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62C0-BF6A-4F83-9ABD-0D59A0108D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17000"/>
            <a:ext cx="768204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餐饮美食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4"/>
          <p:cNvSpPr/>
          <p:nvPr/>
        </p:nvSpPr>
        <p:spPr>
          <a:xfrm>
            <a:off x="0" y="6595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使用规范说明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1:28:00Z</dcterms:created>
  <dc:creator>slideplant</dc:creator>
  <dc:description/>
  <cp:keywords/>
  <dc:language>en-US</dc:language>
  <cp:lastModifiedBy>a</cp:lastModifiedBy>
  <dcterms:modified xsi:type="dcterms:W3CDTF">2015-07-20T12:06:03Z</dcterms:modified>
  <cp:revision>11</cp:revision>
  <dc:subject/>
  <dc:title>Power Point 演示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