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88B-FF47-46DC-9C19-84EA4751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B4D-47D4-4928-B930-2C149B98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94D-78B8-45B1-936F-EE0DFEE2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5D3-7FA9-489B-87C3-E70F445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C0A-CDFC-454B-92E5-C74CA0FA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CB2-EE1C-4E70-BB06-AC05D5E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A1B-81BB-42FC-AD6B-0F05B154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B5A-62DA-4FB2-8353-62F39AA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D72-ABCC-4E0F-BF99-511A5E9A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7DD-55DA-477E-B67E-D40E5995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AE1-E7F3-4A9E-8F38-18F8864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C09-32AB-486A-A6A1-FDB615F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69A-D17F-42F9-B7C1-B83D1A9A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打电话"/>
          <p:cNvPicPr/>
          <p:nvPr/>
        </p:nvPicPr>
        <p:blipFill>
          <a:blip r:embed="rId2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5400000">
            <a:off x="4896360" y="2312280"/>
            <a:ext cx="525600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华文新魏"/>
              </a:rPr>
              <a:t>打电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{5872D9B9-914F-4236-859E-F910D73530FA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900000" y="220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）对，是我，我找小王讲话，我的未婚妻，她是女的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08000" y="40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明知故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无标题l"/>
          <p:cNvPicPr/>
          <p:nvPr/>
        </p:nvPicPr>
        <p:blipFill>
          <a:blip r:embed="rId3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" descr="{5872D9B9-914F-4236-859E-F910D73530FA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971640" y="20494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 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我正找你呢。今天晚上有什么事吗？学习吗？不学习呀。开会吗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不开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050920" y="4292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没话找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无标题l"/>
          <p:cNvPicPr/>
          <p:nvPr/>
        </p:nvPicPr>
        <p:blipFill>
          <a:blip r:embed="rId3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{5872D9B9-914F-4236-859E-F910D73530FA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900000" y="1844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票价八毛一张的，我买了两张，一块六。是一块六，我给了他五块，他找我三块四。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76360" y="4508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　──东拉西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无标题l"/>
          <p:cNvPicPr/>
          <p:nvPr/>
        </p:nvPicPr>
        <p:blipFill>
          <a:blip r:embed="rId3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q4"/>
          <p:cNvPicPr/>
          <p:nvPr/>
        </p:nvPicPr>
        <p:blipFill>
          <a:blip r:embed="rId2"/>
          <a:stretch/>
        </p:blipFill>
        <p:spPr>
          <a:xfrm>
            <a:off x="611280" y="1052640"/>
            <a:ext cx="914400" cy="544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826920" y="2997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人物起名叫啰唆，是编创者有意安排的，暗示此人说话絮絮叨叨，重复烦琐。姓氏上根本没有姓啰的，以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啰唆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命名，增强语言的幽默感，名实相符，突出了对文中打电话人的讽刺意味。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61928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词句解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826920" y="17733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呃，猜不着我告诉你。我姓啰，我叫啰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无标题l"/>
          <p:cNvPicPr/>
          <p:nvPr/>
        </p:nvPicPr>
        <p:blipFill>
          <a:blip r:embed="rId3"/>
          <a:srcRect l="9325" t="5116" r="4990" b="4234"/>
          <a:stretch/>
        </p:blipFill>
        <p:spPr>
          <a:xfrm>
            <a:off x="7812000" y="836640"/>
            <a:ext cx="792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{4062839F-D7F5-4BAD-9D74-D9CC0E1BA091}"/>
          <p:cNvPicPr/>
          <p:nvPr/>
        </p:nvPicPr>
        <p:blipFill>
          <a:blip r:embed="rId2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90792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一：甲没有太高的文化水平，而又喜欢夸夸其谈显示自已有知识，仅就</a:t>
            </a: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海马</a:t>
            </a: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词，就出入意料地闹出了一连串的笑话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二：悦悦是一个冒失鬼，又是一个机灵鬼，他常常用机智巧妙的语言帮自己摆脱困境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三：有两个小朋友常常在一块比吹牛，谁也不服谁，这不，他们又吹上啦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四：小明是一个很具幽默感的孩子，同学们常被他逗得开怀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19280" y="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创设情境，尝试创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75F-687E-4B48-B25B-9F0D754FF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{4062839F-D7F5-4BAD-9D74-D9CC0E1BA091}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6836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相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相声是所有说唱艺术之中最为人们熟悉的品种，起源于北京，流行全国各地。相声是语言的艺术，也是幽默的艺术，运用说学逗唱的技巧，组织包袱逗观众哈哈一笑，并有针砭世俗、寓教于乐的功能。包袱又称“哏”，也就是现代人所说的“笑点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609480" y="18288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3520" y="914400"/>
            <a:ext cx="4267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相声语言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2133720"/>
            <a:ext cx="7315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通俗、贴近生活、幽默、有很浓的讽刺意味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{4062839F-D7F5-4BAD-9D74-D9CC0E1BA091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6039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042920" y="105264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单口相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一人演出，类似说书，与说书最大差别在于说书不一定要有哏，相声则无哏难以成立。单口相声内容通常具有故事性。如，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隶书"/>
              </a:rPr>
              <a:t>《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连升三级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隶书"/>
              </a:rPr>
              <a:t>》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对口相声二人演出，主述者称为“逗哏”，帮腔者称为“捧哏”。依捧、逗分量不同，又可分为“一头沉”和“子母哏”，一头沉以逗哏为主，捧哏为辅。子母哏则二人等量齐观，多半为争辩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42920" y="5300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口相声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三人或三人以上演出，演员之间必须有绝佳的默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1828800" y="828720"/>
            <a:ext cx="5022720" cy="834840"/>
          </a:xfrm>
          <a:prstGeom prst="rect">
            <a:avLst/>
          </a:prstGeom>
          <a:ln w="0">
            <a:noFill/>
          </a:ln>
        </p:spPr>
      </p:pic>
      <p:pic>
        <p:nvPicPr>
          <p:cNvPr id="45" name="白吃(相声).mp3" descr=""/>
          <p:cNvPicPr/>
          <p:nvPr/>
        </p:nvPicPr>
        <p:blipFill>
          <a:blip r:embed="rId3"/>
          <a:stretch/>
        </p:blipFill>
        <p:spPr>
          <a:xfrm>
            <a:off x="4419720" y="278136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3718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2700360" y="1601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{68CD1432-D27E-4BE7-89B5-3BFBC60B25F2}"/>
          <p:cNvPicPr/>
          <p:nvPr/>
        </p:nvPicPr>
        <p:blipFill>
          <a:blip r:embed="rId2"/>
          <a:stretch/>
        </p:blipFill>
        <p:spPr>
          <a:xfrm>
            <a:off x="179280" y="59544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00000" y="184464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文艺节目可以分成歌舞类、语言类等，其中语言类节目中有一种很受欢迎的艺术形式是相声。今天我们要学习的课文就是一则相声──</a:t>
            </a: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打电话</a:t>
            </a: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611280" y="692280"/>
            <a:ext cx="21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文学常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492360" y="1341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Arial"/>
                <a:ea typeface="华文中宋"/>
              </a:rPr>
              <a:t>相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457200" y="129528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380880"/>
            <a:ext cx="2286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371600" y="2857680"/>
            <a:ext cx="7592400" cy="812520"/>
            <a:chOff x="1371600" y="2857680"/>
            <a:chExt cx="7592400" cy="812520"/>
          </a:xfrm>
        </p:grpSpPr>
        <p:sp>
          <p:nvSpPr>
            <p:cNvPr id="54" name="AutoShape 5"/>
            <p:cNvSpPr/>
            <p:nvPr/>
          </p:nvSpPr>
          <p:spPr>
            <a:xfrm>
              <a:off x="1845720" y="2950920"/>
              <a:ext cx="7118280" cy="5918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1371600" y="2857680"/>
              <a:ext cx="1167840" cy="812520"/>
              <a:chOff x="1371600" y="2857680"/>
              <a:chExt cx="1167840" cy="812520"/>
            </a:xfrm>
          </p:grpSpPr>
          <p:sp>
            <p:nvSpPr>
              <p:cNvPr id="56" name="AutoShape 7"/>
              <p:cNvSpPr/>
              <p:nvPr/>
            </p:nvSpPr>
            <p:spPr>
              <a:xfrm>
                <a:off x="1371600" y="2857680"/>
                <a:ext cx="1167840" cy="812520"/>
              </a:xfrm>
              <a:custGeom>
                <a:avLst/>
                <a:gdLst>
                  <a:gd name="textAreaLeft" fmla="*/ 171000 w 1167840"/>
                  <a:gd name="textAreaRight" fmla="*/ 996840 w 1167840"/>
                  <a:gd name="textAreaTop" fmla="*/ 118800 h 812520"/>
                  <a:gd name="textAreaBottom" fmla="*/ 693720 h 81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1554120" y="2979720"/>
                <a:ext cx="809280" cy="563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9"/>
          <p:cNvGrpSpPr/>
          <p:nvPr/>
        </p:nvGrpSpPr>
        <p:grpSpPr>
          <a:xfrm>
            <a:off x="1371600" y="3797280"/>
            <a:ext cx="6728760" cy="812880"/>
            <a:chOff x="1371600" y="3797280"/>
            <a:chExt cx="6728760" cy="812880"/>
          </a:xfrm>
        </p:grpSpPr>
        <p:sp>
          <p:nvSpPr>
            <p:cNvPr id="59" name="AutoShape 10"/>
            <p:cNvSpPr/>
            <p:nvPr/>
          </p:nvSpPr>
          <p:spPr>
            <a:xfrm>
              <a:off x="1791720" y="3890880"/>
              <a:ext cx="6308640" cy="592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1"/>
            <p:cNvGrpSpPr/>
            <p:nvPr/>
          </p:nvGrpSpPr>
          <p:grpSpPr>
            <a:xfrm>
              <a:off x="1371600" y="3797280"/>
              <a:ext cx="1035000" cy="812880"/>
              <a:chOff x="1371600" y="3797280"/>
              <a:chExt cx="1035000" cy="812880"/>
            </a:xfrm>
          </p:grpSpPr>
          <p:sp>
            <p:nvSpPr>
              <p:cNvPr id="61" name="AutoShape 12"/>
              <p:cNvSpPr/>
              <p:nvPr/>
            </p:nvSpPr>
            <p:spPr>
              <a:xfrm>
                <a:off x="1371600" y="3797280"/>
                <a:ext cx="1035000" cy="812880"/>
              </a:xfrm>
              <a:custGeom>
                <a:avLst/>
                <a:gdLst>
                  <a:gd name="textAreaLeft" fmla="*/ 151560 w 1035000"/>
                  <a:gd name="textAreaRight" fmla="*/ 883440 w 1035000"/>
                  <a:gd name="textAreaTop" fmla="*/ 118800 h 812880"/>
                  <a:gd name="textAreaBottom" fmla="*/ 694080 h 81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3"/>
              <p:cNvSpPr/>
              <p:nvPr/>
            </p:nvSpPr>
            <p:spPr>
              <a:xfrm>
                <a:off x="1533240" y="3919680"/>
                <a:ext cx="717480" cy="5634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Rectangle 14"/>
          <p:cNvSpPr/>
          <p:nvPr/>
        </p:nvSpPr>
        <p:spPr>
          <a:xfrm>
            <a:off x="2362320" y="29718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事里的那个人说话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362320" y="3886200"/>
            <a:ext cx="593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相声对你的启发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1587600" y="39495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7"/>
          <p:cNvGrpSpPr/>
          <p:nvPr/>
        </p:nvGrpSpPr>
        <p:grpSpPr>
          <a:xfrm>
            <a:off x="1371600" y="1930320"/>
            <a:ext cx="7232400" cy="812880"/>
            <a:chOff x="1371600" y="1930320"/>
            <a:chExt cx="7232400" cy="812880"/>
          </a:xfrm>
        </p:grpSpPr>
        <p:sp>
          <p:nvSpPr>
            <p:cNvPr id="67" name="AutoShape 18"/>
            <p:cNvSpPr/>
            <p:nvPr/>
          </p:nvSpPr>
          <p:spPr>
            <a:xfrm>
              <a:off x="1823400" y="2023920"/>
              <a:ext cx="6780600" cy="592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19"/>
            <p:cNvGrpSpPr/>
            <p:nvPr/>
          </p:nvGrpSpPr>
          <p:grpSpPr>
            <a:xfrm>
              <a:off x="1371600" y="1930320"/>
              <a:ext cx="1112400" cy="812880"/>
              <a:chOff x="1371600" y="1930320"/>
              <a:chExt cx="1112400" cy="812880"/>
            </a:xfrm>
          </p:grpSpPr>
          <p:sp>
            <p:nvSpPr>
              <p:cNvPr id="69" name="AutoShape 20"/>
              <p:cNvSpPr/>
              <p:nvPr/>
            </p:nvSpPr>
            <p:spPr>
              <a:xfrm>
                <a:off x="1371600" y="1930320"/>
                <a:ext cx="1112400" cy="812880"/>
              </a:xfrm>
              <a:custGeom>
                <a:avLst/>
                <a:gdLst>
                  <a:gd name="textAreaLeft" fmla="*/ 162720 w 1112400"/>
                  <a:gd name="textAreaRight" fmla="*/ 949680 w 1112400"/>
                  <a:gd name="textAreaTop" fmla="*/ 118800 h 812880"/>
                  <a:gd name="textAreaBottom" fmla="*/ 694080 h 81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21"/>
              <p:cNvSpPr/>
              <p:nvPr/>
            </p:nvSpPr>
            <p:spPr>
              <a:xfrm>
                <a:off x="1545480" y="2052720"/>
                <a:ext cx="771120" cy="5634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Rectangle 22"/>
          <p:cNvSpPr/>
          <p:nvPr/>
        </p:nvSpPr>
        <p:spPr>
          <a:xfrm>
            <a:off x="2362320" y="2006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浏览全文，想想说的是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1574640" y="209556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1574640" y="300996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1332000" y="5084640"/>
            <a:ext cx="7376760" cy="1223280"/>
            <a:chOff x="1332000" y="5084640"/>
            <a:chExt cx="7376760" cy="1223280"/>
          </a:xfrm>
        </p:grpSpPr>
        <p:sp>
          <p:nvSpPr>
            <p:cNvPr id="75" name="AutoShape 26"/>
            <p:cNvSpPr/>
            <p:nvPr/>
          </p:nvSpPr>
          <p:spPr>
            <a:xfrm>
              <a:off x="1792800" y="5225400"/>
              <a:ext cx="6915960" cy="8913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7"/>
            <p:cNvGrpSpPr/>
            <p:nvPr/>
          </p:nvGrpSpPr>
          <p:grpSpPr>
            <a:xfrm>
              <a:off x="1332000" y="5084640"/>
              <a:ext cx="1134360" cy="1223280"/>
              <a:chOff x="1332000" y="5084640"/>
              <a:chExt cx="1134360" cy="1223280"/>
            </a:xfrm>
          </p:grpSpPr>
          <p:sp>
            <p:nvSpPr>
              <p:cNvPr id="77" name="AutoShape 28"/>
              <p:cNvSpPr/>
              <p:nvPr/>
            </p:nvSpPr>
            <p:spPr>
              <a:xfrm>
                <a:off x="1332000" y="5084640"/>
                <a:ext cx="1134360" cy="1223280"/>
              </a:xfrm>
              <a:custGeom>
                <a:avLst/>
                <a:gdLst>
                  <a:gd name="textAreaLeft" fmla="*/ 165960 w 1134360"/>
                  <a:gd name="textAreaRight" fmla="*/ 968400 w 1134360"/>
                  <a:gd name="textAreaTop" fmla="*/ 178920 h 1223280"/>
                  <a:gd name="textAreaBottom" fmla="*/ 1044360 h 12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29"/>
              <p:cNvSpPr/>
              <p:nvPr/>
            </p:nvSpPr>
            <p:spPr>
              <a:xfrm>
                <a:off x="1509120" y="5268600"/>
                <a:ext cx="786240" cy="84780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Rectangle 30"/>
          <p:cNvSpPr/>
          <p:nvPr/>
        </p:nvSpPr>
        <p:spPr>
          <a:xfrm>
            <a:off x="2340000" y="5084640"/>
            <a:ext cx="6265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说说这个相声或听听其他相声，感受相声语言的艺术特点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574640" y="482616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{994B30E2-A8A3-4A16-AB4A-AD9B3794FE6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1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177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打电话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》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就是一段惹人发笑、发人深省的相声，它讽刺了一个在公用电话亭打电话，缺乏公共道德的年轻人。一句话就能说清楚的小事，结果被这个人东拉西扯，说了两个多小时，既误了自己的事，又耽误了别人的时间。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无标题l"/>
          <p:cNvPicPr/>
          <p:nvPr/>
        </p:nvPicPr>
        <p:blipFill>
          <a:blip r:embed="rId3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380880" y="19051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25146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个相声主要讽刺了一个在公用电话亭打电话，缺乏公共道德的年轻人。一句话就能说清楚的小事，结果被这个人东拉西扯，说了两个多小时，既误了自己的事，又耽误了别人的时间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914400" y="990720"/>
            <a:ext cx="2879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隶书"/>
              </a:rPr>
              <a:t>故事内容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16813358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400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95280" y="21337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原指老鼠</a:t>
            </a: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耗子</a:t>
            </a: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、麻雀、苍蝇、蚊子。麻雀是益鸟，但是由于当时认识有误，人们认为麻雀糟蹋粮食，所以把它列为四害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3"/>
          <p:cNvSpPr txBox="1"/>
          <p:nvPr/>
        </p:nvSpPr>
        <p:spPr>
          <a:xfrm>
            <a:off x="684360" y="2276640"/>
            <a:ext cx="7848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隶书"/>
              </a:rPr>
              <a:t>找出“打电话”的句子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2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{5872D9B9-914F-4236-859E-F910D73530FA}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826920" y="1989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你贵姓呀？哦，老胡呀。呃，不是老胡？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老张呀。哎呀，我没听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呃，不是老张，是老刘呀。呃，不是老刘。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是耗子呀。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对，是我，我找小王讲话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4292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句子，连起来读读，有什么感受，举例说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5092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隶书"/>
              </a:rPr>
              <a:t>说话绕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无标题l"/>
          <p:cNvPicPr/>
          <p:nvPr/>
        </p:nvPicPr>
        <p:blipFill>
          <a:blip r:embed="rId3"/>
          <a:srcRect l="5014" t="5115" r="9347" b="4233"/>
          <a:stretch/>
        </p:blipFill>
        <p:spPr>
          <a:xfrm>
            <a:off x="25092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19T02:50:53Z</dcterms:modified>
  <cp:revision>9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