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CFB-9579-47BF-B485-5E82A7D2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43C-BED1-4B00-97BD-000D4E92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3D3-AAAC-4C8A-822B-517DD259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E94-89ED-4FFA-BC43-0E8A39DC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9FD-E58C-48DD-B737-900E715D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F47-6DFE-4F2F-A707-FC2F049F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CB0-21D5-4F0B-AF52-54095F4A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4CD-69E0-4F7B-96F6-1D9334A9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94C-F426-42C8-9B08-E0C740A4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1D6-A663-470E-8CD7-68F8BD23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000-B086-4355-9793-D3E49947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032-CF1B-4D3C-8925-11582875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D625-E46D-4095-855F-7C518C8F906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0EDD-F236-4907-91AB-59D918A448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mage4.club.sohu.com/lz_images/pic/db/e4/239f934dcfec93590bdeb1fa9270e4db.jpg"/>
          <p:cNvPicPr/>
          <p:nvPr/>
        </p:nvPicPr>
        <p:blipFill>
          <a:blip r:embed="rId1"/>
          <a:stretch/>
        </p:blipFill>
        <p:spPr>
          <a:xfrm>
            <a:off x="3564000" y="44280"/>
            <a:ext cx="4811760" cy="67550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798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-247680" y="4794120"/>
            <a:ext cx="9144000" cy="1581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读书笔记之魏斯曼演讲圣经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9420-CA95-42E7-85AC-3A987CD636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1314360" y="1328760"/>
            <a:ext cx="66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合交流专业性强的技术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式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功能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6"/>
          <p:cNvSpPr/>
          <p:nvPr/>
        </p:nvSpPr>
        <p:spPr>
          <a:xfrm>
            <a:off x="2465280" y="8366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演示单一的商业概念，技术或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能难以吸引缺乏专业知识背景的听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14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5"/>
          <p:cNvSpPr/>
          <p:nvPr/>
        </p:nvSpPr>
        <p:spPr>
          <a:xfrm>
            <a:off x="1174680" y="2075040"/>
            <a:ext cx="1897200" cy="534960"/>
          </a:xfrm>
          <a:prstGeom prst="rect">
            <a:avLst/>
          </a:prstGeom>
          <a:solidFill>
            <a:srgbClr val="fe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6"/>
          <p:cNvSpPr/>
          <p:nvPr/>
        </p:nvSpPr>
        <p:spPr>
          <a:xfrm>
            <a:off x="1623960" y="2128680"/>
            <a:ext cx="1376280" cy="427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7"/>
          <p:cNvSpPr/>
          <p:nvPr/>
        </p:nvSpPr>
        <p:spPr>
          <a:xfrm>
            <a:off x="898560" y="2054160"/>
            <a:ext cx="574560" cy="57636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ec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8"/>
          <p:cNvSpPr/>
          <p:nvPr/>
        </p:nvSpPr>
        <p:spPr>
          <a:xfrm>
            <a:off x="857160" y="2774880"/>
            <a:ext cx="3286080" cy="42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9"/>
          <p:cNvSpPr/>
          <p:nvPr/>
        </p:nvSpPr>
        <p:spPr>
          <a:xfrm>
            <a:off x="928800" y="2774880"/>
            <a:ext cx="564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燃烧炉工艺气温度固定在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0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0"/>
          <p:cNvSpPr/>
          <p:nvPr/>
        </p:nvSpPr>
        <p:spPr>
          <a:xfrm>
            <a:off x="857160" y="3560760"/>
            <a:ext cx="3286080" cy="42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1"/>
          <p:cNvSpPr/>
          <p:nvPr/>
        </p:nvSpPr>
        <p:spPr>
          <a:xfrm>
            <a:off x="928800" y="3560760"/>
            <a:ext cx="564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它工艺参数设计值依次升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2"/>
          <p:cNvSpPr/>
          <p:nvPr/>
        </p:nvSpPr>
        <p:spPr>
          <a:xfrm>
            <a:off x="857160" y="4346640"/>
            <a:ext cx="3286080" cy="428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3"/>
          <p:cNvSpPr/>
          <p:nvPr/>
        </p:nvSpPr>
        <p:spPr>
          <a:xfrm>
            <a:off x="928800" y="4346640"/>
            <a:ext cx="564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口叶丝含水率设计为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4"/>
          <p:cNvSpPr/>
          <p:nvPr/>
        </p:nvSpPr>
        <p:spPr>
          <a:xfrm>
            <a:off x="5389560" y="2075040"/>
            <a:ext cx="1897200" cy="534960"/>
          </a:xfrm>
          <a:prstGeom prst="rect">
            <a:avLst/>
          </a:prstGeom>
          <a:solidFill>
            <a:srgbClr val="fe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5"/>
          <p:cNvSpPr/>
          <p:nvPr/>
        </p:nvSpPr>
        <p:spPr>
          <a:xfrm>
            <a:off x="5838840" y="2128680"/>
            <a:ext cx="1376280" cy="427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合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26"/>
          <p:cNvSpPr/>
          <p:nvPr/>
        </p:nvSpPr>
        <p:spPr>
          <a:xfrm>
            <a:off x="5111640" y="2054160"/>
            <a:ext cx="576360" cy="57636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ec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7"/>
          <p:cNvSpPr/>
          <p:nvPr/>
        </p:nvSpPr>
        <p:spPr>
          <a:xfrm>
            <a:off x="5072040" y="2774880"/>
            <a:ext cx="3286080" cy="42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8"/>
          <p:cNvSpPr/>
          <p:nvPr/>
        </p:nvSpPr>
        <p:spPr>
          <a:xfrm>
            <a:off x="5143680" y="2774880"/>
            <a:ext cx="564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察了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参数下感官质量变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9"/>
          <p:cNvSpPr/>
          <p:nvPr/>
        </p:nvSpPr>
        <p:spPr>
          <a:xfrm>
            <a:off x="5072040" y="3560760"/>
            <a:ext cx="3286080" cy="42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0"/>
          <p:cNvSpPr/>
          <p:nvPr/>
        </p:nvSpPr>
        <p:spPr>
          <a:xfrm>
            <a:off x="5143680" y="3560760"/>
            <a:ext cx="564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数设计不同，感官质量有差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1"/>
          <p:cNvSpPr/>
          <p:nvPr/>
        </p:nvSpPr>
        <p:spPr>
          <a:xfrm>
            <a:off x="5072040" y="4346640"/>
            <a:ext cx="3286080" cy="428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2"/>
          <p:cNvSpPr/>
          <p:nvPr/>
        </p:nvSpPr>
        <p:spPr>
          <a:xfrm>
            <a:off x="5143680" y="4346640"/>
            <a:ext cx="564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得到了最佳工艺参数组合条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右箭头 33"/>
          <p:cNvSpPr/>
          <p:nvPr/>
        </p:nvSpPr>
        <p:spPr>
          <a:xfrm>
            <a:off x="4357800" y="2846520"/>
            <a:ext cx="571320" cy="192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标注 34"/>
          <p:cNvSpPr/>
          <p:nvPr/>
        </p:nvSpPr>
        <p:spPr>
          <a:xfrm rot="10800000">
            <a:off x="5173560" y="5165640"/>
            <a:ext cx="3286080" cy="1000080"/>
          </a:xfrm>
          <a:prstGeom prst="wedgeRoundRectCallout">
            <a:avLst>
              <a:gd name="adj1" fmla="val 14625"/>
              <a:gd name="adj2" fmla="val 89527"/>
              <a:gd name="adj3" fmla="val 16667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37"/>
          <p:cNvSpPr/>
          <p:nvPr/>
        </p:nvSpPr>
        <p:spPr>
          <a:xfrm>
            <a:off x="5172120" y="523728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筒 壁 压 力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0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区工艺流量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600m</a:t>
            </a:r>
            <a:r>
              <a:rPr b="1" lang="zh-CN" sz="1800" spc="-1" strike="noStrike" baseline="30000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区阀门关度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CE52-C765-41B0-B47B-5F145B39FE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3"/>
          <p:cNvSpPr/>
          <p:nvPr/>
        </p:nvSpPr>
        <p:spPr>
          <a:xfrm>
            <a:off x="1314360" y="1328760"/>
            <a:ext cx="66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够站在听众角度思考问题，吸引听众注意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色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利益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46"/>
          <p:cNvSpPr/>
          <p:nvPr/>
        </p:nvSpPr>
        <p:spPr>
          <a:xfrm>
            <a:off x="2465280" y="836640"/>
            <a:ext cx="58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强调产品能为听众带来什么，而不是有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容易变成堆砌自以为是的价值，其实都是卖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14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15"/>
          <p:cNvSpPr/>
          <p:nvPr/>
        </p:nvSpPr>
        <p:spPr>
          <a:xfrm>
            <a:off x="900000" y="2349360"/>
            <a:ext cx="1584360" cy="1511280"/>
          </a:xfrm>
          <a:prstGeom prst="ellipse">
            <a:avLst/>
          </a:prstGeom>
          <a:noFill/>
          <a:ln w="25560">
            <a:solidFill>
              <a:srgbClr val="93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6"/>
          <p:cNvSpPr/>
          <p:nvPr/>
        </p:nvSpPr>
        <p:spPr>
          <a:xfrm>
            <a:off x="3635280" y="2349360"/>
            <a:ext cx="1584360" cy="1511280"/>
          </a:xfrm>
          <a:prstGeom prst="ellipse">
            <a:avLst/>
          </a:prstGeom>
          <a:noFill/>
          <a:ln w="25560">
            <a:solidFill>
              <a:srgbClr val="93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17"/>
          <p:cNvSpPr/>
          <p:nvPr/>
        </p:nvSpPr>
        <p:spPr>
          <a:xfrm>
            <a:off x="6443640" y="2349360"/>
            <a:ext cx="1584360" cy="1511280"/>
          </a:xfrm>
          <a:prstGeom prst="ellipse">
            <a:avLst/>
          </a:prstGeom>
          <a:noFill/>
          <a:ln w="25560">
            <a:solidFill>
              <a:srgbClr val="93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8"/>
          <p:cNvSpPr/>
          <p:nvPr/>
        </p:nvSpPr>
        <p:spPr>
          <a:xfrm>
            <a:off x="1332000" y="28735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  <a:ea typeface="微软雅黑"/>
              </a:rPr>
              <a:t>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9"/>
          <p:cNvSpPr/>
          <p:nvPr/>
        </p:nvSpPr>
        <p:spPr>
          <a:xfrm>
            <a:off x="4019400" y="2873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卖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0"/>
          <p:cNvSpPr/>
          <p:nvPr/>
        </p:nvSpPr>
        <p:spPr>
          <a:xfrm>
            <a:off x="6846840" y="287352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利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http://www.kejixun.com/uploadfile/2011/0920/20110920093903958.jpg"/>
          <p:cNvPicPr/>
          <p:nvPr/>
        </p:nvPicPr>
        <p:blipFill>
          <a:blip r:embed="rId1"/>
          <a:stretch/>
        </p:blipFill>
        <p:spPr>
          <a:xfrm>
            <a:off x="6048360" y="4076640"/>
            <a:ext cx="3021120" cy="1397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image.it168.com/n/0x0/5/5267/5267190.jpg"/>
          <p:cNvPicPr/>
          <p:nvPr/>
        </p:nvPicPr>
        <p:blipFill>
          <a:blip r:embed="rId2"/>
          <a:stretch/>
        </p:blipFill>
        <p:spPr>
          <a:xfrm>
            <a:off x="3257640" y="3946680"/>
            <a:ext cx="2482920" cy="165708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22" descr=""/>
          <p:cNvPicPr/>
          <p:nvPr/>
        </p:nvPicPr>
        <p:blipFill>
          <a:blip r:embed="rId3"/>
          <a:stretch/>
        </p:blipFill>
        <p:spPr>
          <a:xfrm>
            <a:off x="876240" y="3954600"/>
            <a:ext cx="186372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599B-A49E-4C9D-8113-FABBBCC2E4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1314360" y="1328760"/>
            <a:ext cx="66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众都喜欢听故事，特别是自己喜欢的人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案例分析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6"/>
          <p:cNvSpPr/>
          <p:nvPr/>
        </p:nvSpPr>
        <p:spPr>
          <a:xfrm>
            <a:off x="2465280" y="8366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其实就是讲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难帮助听众讲好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14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33" descr=""/>
          <p:cNvPicPr/>
          <p:nvPr/>
        </p:nvPicPr>
        <p:blipFill>
          <a:blip r:embed="rId1"/>
          <a:srcRect l="8327" t="14147" r="2952" b="18955"/>
          <a:stretch/>
        </p:blipFill>
        <p:spPr>
          <a:xfrm>
            <a:off x="0" y="1801800"/>
            <a:ext cx="9144000" cy="4579920"/>
          </a:xfrm>
          <a:prstGeom prst="rect">
            <a:avLst/>
          </a:prstGeom>
          <a:ln w="0">
            <a:noFill/>
          </a:ln>
        </p:spPr>
      </p:pic>
      <p:sp>
        <p:nvSpPr>
          <p:cNvPr id="379" name="内容占位符 2"/>
          <p:cNvSpPr/>
          <p:nvPr/>
        </p:nvSpPr>
        <p:spPr>
          <a:xfrm>
            <a:off x="5251320" y="194328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两种客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9"/>
          <p:cNvGrpSpPr/>
          <p:nvPr/>
        </p:nvGrpSpPr>
        <p:grpSpPr>
          <a:xfrm>
            <a:off x="3962520" y="3124080"/>
            <a:ext cx="2309760" cy="2210040"/>
            <a:chOff x="3962520" y="3124080"/>
            <a:chExt cx="2309760" cy="2210040"/>
          </a:xfrm>
        </p:grpSpPr>
        <p:sp>
          <p:nvSpPr>
            <p:cNvPr id="381" name="椭圆 38"/>
            <p:cNvSpPr/>
            <p:nvPr/>
          </p:nvSpPr>
          <p:spPr>
            <a:xfrm>
              <a:off x="3962520" y="3124080"/>
              <a:ext cx="2309760" cy="2210040"/>
            </a:xfrm>
            <a:prstGeom prst="ellipse">
              <a:avLst/>
            </a:prstGeom>
            <a:solidFill>
              <a:srgbClr val="f692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内容占位符 2"/>
            <p:cNvSpPr/>
            <p:nvPr/>
          </p:nvSpPr>
          <p:spPr>
            <a:xfrm>
              <a:off x="4191120" y="3657600"/>
              <a:ext cx="205776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报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25800" indent="-325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纯粹蹭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椭圆 40"/>
          <p:cNvSpPr/>
          <p:nvPr/>
        </p:nvSpPr>
        <p:spPr>
          <a:xfrm>
            <a:off x="6605640" y="3124080"/>
            <a:ext cx="2309760" cy="2210040"/>
          </a:xfrm>
          <a:prstGeom prst="ellipse">
            <a:avLst/>
          </a:prstGeom>
          <a:solidFill>
            <a:srgbClr val="f692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内容占位符 2"/>
          <p:cNvSpPr/>
          <p:nvPr/>
        </p:nvSpPr>
        <p:spPr>
          <a:xfrm>
            <a:off x="6834240" y="3657600"/>
            <a:ext cx="20574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在乎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2"/>
          <p:cNvSpPr/>
          <p:nvPr/>
        </p:nvSpPr>
        <p:spPr>
          <a:xfrm rot="20871600">
            <a:off x="6900480" y="3187800"/>
            <a:ext cx="1371600" cy="4572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重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直接连接符 43"/>
          <p:cNvSpPr/>
          <p:nvPr/>
        </p:nvSpPr>
        <p:spPr>
          <a:xfrm>
            <a:off x="4284720" y="2781360"/>
            <a:ext cx="43196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8E2A-3FC2-467E-9A68-0099830AD8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1314360" y="1328760"/>
            <a:ext cx="66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够置于死地而后生，获得不支持听众的认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抑后扬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6"/>
          <p:cNvSpPr/>
          <p:nvPr/>
        </p:nvSpPr>
        <p:spPr>
          <a:xfrm>
            <a:off x="2465280" y="836640"/>
            <a:ext cx="58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主动提出不利的论点或事实，给予犀利反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展示底牌，直接和负面消息对抗，不胜则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14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" descr="C:\Users\jm\AppData\Roaming\Tencent\Users\24140589\QQ\WinTemp\RichOle\Q2D3DEPL6J]N3IGL6C358HE.jpg"/>
          <p:cNvPicPr/>
          <p:nvPr/>
        </p:nvPicPr>
        <p:blipFill>
          <a:blip r:embed="rId1"/>
          <a:srcRect l="0" t="4319" r="0" b="0"/>
          <a:stretch/>
        </p:blipFill>
        <p:spPr>
          <a:xfrm>
            <a:off x="-23760" y="3373560"/>
            <a:ext cx="8869320" cy="1800000"/>
          </a:xfrm>
          <a:prstGeom prst="rect">
            <a:avLst/>
          </a:prstGeom>
          <a:ln w="0">
            <a:noFill/>
          </a:ln>
        </p:spPr>
      </p:pic>
      <p:sp>
        <p:nvSpPr>
          <p:cNvPr id="404" name="矩形 44"/>
          <p:cNvSpPr/>
          <p:nvPr/>
        </p:nvSpPr>
        <p:spPr>
          <a:xfrm>
            <a:off x="2400840" y="191772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没有最真实、客观与权威的正片前影厅上座率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7"/>
          <p:cNvSpPr/>
          <p:nvPr/>
        </p:nvSpPr>
        <p:spPr>
          <a:xfrm>
            <a:off x="4002480" y="240192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院管理体系千差万别，各档期观影个体表现高度不统一，提供看似统一的上座率数据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假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20"/>
          <p:cNvGrpSpPr/>
          <p:nvPr/>
        </p:nvGrpSpPr>
        <p:grpSpPr>
          <a:xfrm>
            <a:off x="1427040" y="5259240"/>
            <a:ext cx="6481800" cy="200160"/>
            <a:chOff x="1427040" y="5259240"/>
            <a:chExt cx="6481800" cy="200160"/>
          </a:xfrm>
        </p:grpSpPr>
        <p:sp>
          <p:nvSpPr>
            <p:cNvPr id="407" name="圆角矩形 49"/>
            <p:cNvSpPr/>
            <p:nvPr/>
          </p:nvSpPr>
          <p:spPr>
            <a:xfrm>
              <a:off x="761904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圆角矩形 52"/>
            <p:cNvSpPr/>
            <p:nvPr/>
          </p:nvSpPr>
          <p:spPr>
            <a:xfrm>
              <a:off x="729324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圆角矩形 54"/>
            <p:cNvSpPr/>
            <p:nvPr/>
          </p:nvSpPr>
          <p:spPr>
            <a:xfrm>
              <a:off x="696744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圆角矩形 55"/>
            <p:cNvSpPr/>
            <p:nvPr/>
          </p:nvSpPr>
          <p:spPr>
            <a:xfrm>
              <a:off x="664128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圆角矩形 56"/>
            <p:cNvSpPr/>
            <p:nvPr/>
          </p:nvSpPr>
          <p:spPr>
            <a:xfrm>
              <a:off x="631548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圆角矩形 57"/>
            <p:cNvSpPr/>
            <p:nvPr/>
          </p:nvSpPr>
          <p:spPr>
            <a:xfrm>
              <a:off x="598968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圆角矩形 58"/>
            <p:cNvSpPr/>
            <p:nvPr/>
          </p:nvSpPr>
          <p:spPr>
            <a:xfrm>
              <a:off x="566388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圆角矩形 59"/>
            <p:cNvSpPr/>
            <p:nvPr/>
          </p:nvSpPr>
          <p:spPr>
            <a:xfrm>
              <a:off x="533772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圆角矩形 60"/>
            <p:cNvSpPr/>
            <p:nvPr/>
          </p:nvSpPr>
          <p:spPr>
            <a:xfrm>
              <a:off x="501192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圆角矩形 61"/>
            <p:cNvSpPr/>
            <p:nvPr/>
          </p:nvSpPr>
          <p:spPr>
            <a:xfrm>
              <a:off x="468612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圆角矩形 62"/>
            <p:cNvSpPr/>
            <p:nvPr/>
          </p:nvSpPr>
          <p:spPr>
            <a:xfrm>
              <a:off x="435996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圆角矩形 63"/>
            <p:cNvSpPr/>
            <p:nvPr/>
          </p:nvSpPr>
          <p:spPr>
            <a:xfrm>
              <a:off x="403416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圆角矩形 64"/>
            <p:cNvSpPr/>
            <p:nvPr/>
          </p:nvSpPr>
          <p:spPr>
            <a:xfrm>
              <a:off x="370836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圆角矩形 65"/>
            <p:cNvSpPr/>
            <p:nvPr/>
          </p:nvSpPr>
          <p:spPr>
            <a:xfrm>
              <a:off x="338220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圆角矩形 66"/>
            <p:cNvSpPr/>
            <p:nvPr/>
          </p:nvSpPr>
          <p:spPr>
            <a:xfrm>
              <a:off x="305640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圆角矩形 67"/>
            <p:cNvSpPr/>
            <p:nvPr/>
          </p:nvSpPr>
          <p:spPr>
            <a:xfrm>
              <a:off x="273060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圆角矩形 68"/>
            <p:cNvSpPr/>
            <p:nvPr/>
          </p:nvSpPr>
          <p:spPr>
            <a:xfrm>
              <a:off x="240444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圆角矩形 69"/>
            <p:cNvSpPr/>
            <p:nvPr/>
          </p:nvSpPr>
          <p:spPr>
            <a:xfrm>
              <a:off x="207864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圆角矩形 70"/>
            <p:cNvSpPr/>
            <p:nvPr/>
          </p:nvSpPr>
          <p:spPr>
            <a:xfrm>
              <a:off x="175284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圆角矩形 71"/>
            <p:cNvSpPr/>
            <p:nvPr/>
          </p:nvSpPr>
          <p:spPr>
            <a:xfrm>
              <a:off x="1427040" y="5259240"/>
              <a:ext cx="289800" cy="20016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矩形 72"/>
          <p:cNvSpPr/>
          <p:nvPr/>
        </p:nvSpPr>
        <p:spPr>
          <a:xfrm>
            <a:off x="197280" y="510228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论上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42"/>
          <p:cNvGrpSpPr/>
          <p:nvPr/>
        </p:nvGrpSpPr>
        <p:grpSpPr>
          <a:xfrm>
            <a:off x="7956720" y="3297240"/>
            <a:ext cx="991800" cy="635400"/>
            <a:chOff x="7956720" y="3297240"/>
            <a:chExt cx="991800" cy="635400"/>
          </a:xfrm>
        </p:grpSpPr>
        <p:sp>
          <p:nvSpPr>
            <p:cNvPr id="429" name="圆角矩形 77"/>
            <p:cNvSpPr/>
            <p:nvPr/>
          </p:nvSpPr>
          <p:spPr>
            <a:xfrm>
              <a:off x="7956720" y="3377160"/>
              <a:ext cx="247680" cy="1710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矩形 78"/>
            <p:cNvSpPr/>
            <p:nvPr/>
          </p:nvSpPr>
          <p:spPr>
            <a:xfrm>
              <a:off x="8341200" y="32972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全国贴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圆角矩形 79"/>
            <p:cNvSpPr/>
            <p:nvPr/>
          </p:nvSpPr>
          <p:spPr>
            <a:xfrm>
              <a:off x="7956720" y="3705480"/>
              <a:ext cx="247680" cy="17100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80"/>
            <p:cNvSpPr/>
            <p:nvPr/>
          </p:nvSpPr>
          <p:spPr>
            <a:xfrm>
              <a:off x="8341200" y="3625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银幕巨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矩形 81"/>
          <p:cNvSpPr/>
          <p:nvPr/>
        </p:nvSpPr>
        <p:spPr>
          <a:xfrm>
            <a:off x="2321280" y="32986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36c09"/>
                </a:solidFill>
                <a:latin typeface="Arial Unicode MS"/>
                <a:ea typeface="Arial Unicode MS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82"/>
          <p:cNvSpPr/>
          <p:nvPr/>
        </p:nvSpPr>
        <p:spPr>
          <a:xfrm>
            <a:off x="2961720" y="3382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6c09"/>
                </a:solidFill>
                <a:latin typeface="微软雅黑"/>
                <a:ea typeface="微软雅黑"/>
              </a:rPr>
              <a:t>递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83"/>
          <p:cNvSpPr/>
          <p:nvPr/>
        </p:nvSpPr>
        <p:spPr>
          <a:xfrm>
            <a:off x="5705640" y="32986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36c09"/>
                </a:solidFill>
                <a:latin typeface="Arial Unicode MS"/>
                <a:ea typeface="Arial Unicode MS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84"/>
          <p:cNvSpPr/>
          <p:nvPr/>
        </p:nvSpPr>
        <p:spPr>
          <a:xfrm>
            <a:off x="6291000" y="3382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6c09"/>
                </a:solidFill>
                <a:latin typeface="微软雅黑"/>
                <a:ea typeface="微软雅黑"/>
              </a:rPr>
              <a:t>递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85"/>
          <p:cNvSpPr/>
          <p:nvPr/>
        </p:nvSpPr>
        <p:spPr>
          <a:xfrm>
            <a:off x="4031280" y="32986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36c09"/>
                </a:solidFill>
                <a:latin typeface="Arial Unicode MS"/>
                <a:ea typeface="Arial Unicode MS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86"/>
          <p:cNvSpPr/>
          <p:nvPr/>
        </p:nvSpPr>
        <p:spPr>
          <a:xfrm>
            <a:off x="4752720" y="3382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6c09"/>
                </a:solidFill>
                <a:latin typeface="微软雅黑"/>
                <a:ea typeface="微软雅黑"/>
              </a:rPr>
              <a:t>递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圆角矩形 87"/>
          <p:cNvSpPr/>
          <p:nvPr/>
        </p:nvSpPr>
        <p:spPr>
          <a:xfrm>
            <a:off x="4029120" y="3252960"/>
            <a:ext cx="1276200" cy="52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e36c09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直接箭头连接符 88"/>
          <p:cNvCxnSpPr/>
          <p:nvPr/>
        </p:nvCxnSpPr>
        <p:spPr>
          <a:xfrm>
            <a:off x="4667400" y="3774600"/>
            <a:ext cx="2160" cy="1931400"/>
          </a:xfrm>
          <a:prstGeom prst="straightConnector1">
            <a:avLst/>
          </a:prstGeom>
          <a:ln w="9360">
            <a:solidFill>
              <a:srgbClr val="e36c09"/>
            </a:solidFill>
            <a:prstDash val="dash"/>
            <a:miter/>
            <a:tailEnd len="med" type="arrow" w="med"/>
          </a:ln>
        </p:spPr>
      </p:cxnSp>
      <p:sp>
        <p:nvSpPr>
          <p:cNvPr id="441" name="矩形 89"/>
          <p:cNvSpPr/>
          <p:nvPr/>
        </p:nvSpPr>
        <p:spPr>
          <a:xfrm>
            <a:off x="2545200" y="5589720"/>
            <a:ext cx="43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真是好巧啊！在理论上的两种媒体形式交接处，数据出现了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递增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90"/>
          <p:cNvSpPr/>
          <p:nvPr/>
        </p:nvSpPr>
        <p:spPr>
          <a:xfrm>
            <a:off x="2835720" y="5927760"/>
            <a:ext cx="47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巧合？还是观影群体具备判断什么是银幕巨阵什么是全国贴片的专业能力？还是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54B0-E891-42DF-8A54-DB8940E009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3"/>
          <p:cNvSpPr/>
          <p:nvPr/>
        </p:nvSpPr>
        <p:spPr>
          <a:xfrm>
            <a:off x="1314360" y="1328760"/>
            <a:ext cx="66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够一目了然展示自己和对手有什么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比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6"/>
          <p:cNvSpPr/>
          <p:nvPr/>
        </p:nvSpPr>
        <p:spPr>
          <a:xfrm>
            <a:off x="2465280" y="836640"/>
            <a:ext cx="61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对比你和同行，你和自己，你和别人的不同之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容易冒犯和对比方有联系的听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14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945000" y="1982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微软雅黑"/>
                <a:ea typeface="微软雅黑"/>
              </a:rPr>
              <a:t>参测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4392720" y="1866960"/>
            <a:ext cx="1440" cy="4273560"/>
          </a:xfrm>
          <a:prstGeom prst="line">
            <a:avLst/>
          </a:prstGeom>
          <a:ln w="0">
            <a:solidFill>
              <a:srgbClr val="1f497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5381640" y="1865160"/>
            <a:ext cx="0" cy="4276800"/>
          </a:xfrm>
          <a:prstGeom prst="line">
            <a:avLst/>
          </a:prstGeom>
          <a:ln w="0">
            <a:solidFill>
              <a:srgbClr val="1f497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"/>
          <p:cNvSpPr/>
          <p:nvPr/>
        </p:nvSpPr>
        <p:spPr>
          <a:xfrm>
            <a:off x="6372360" y="1865160"/>
            <a:ext cx="0" cy="4276800"/>
          </a:xfrm>
          <a:prstGeom prst="line">
            <a:avLst/>
          </a:prstGeom>
          <a:ln w="0">
            <a:solidFill>
              <a:srgbClr val="1f497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7362720" y="1865160"/>
            <a:ext cx="0" cy="4276800"/>
          </a:xfrm>
          <a:prstGeom prst="line">
            <a:avLst/>
          </a:prstGeom>
          <a:ln w="0">
            <a:solidFill>
              <a:srgbClr val="1f497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8352000" y="1865160"/>
            <a:ext cx="1440" cy="4276800"/>
          </a:xfrm>
          <a:prstGeom prst="line">
            <a:avLst/>
          </a:prstGeom>
          <a:ln w="0">
            <a:solidFill>
              <a:srgbClr val="1f497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1708920" y="3381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书写和发送短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1521360" y="3868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设置闹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1521360" y="4354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更改铃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1708920" y="4840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新增和查找联络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1527480" y="533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拍摄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1527480" y="5827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微软雅黑"/>
                <a:ea typeface="微软雅黑"/>
              </a:rPr>
              <a:t>启动蓝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29"/>
          <p:cNvGrpSpPr/>
          <p:nvPr/>
        </p:nvGrpSpPr>
        <p:grpSpPr>
          <a:xfrm>
            <a:off x="801720" y="3395520"/>
            <a:ext cx="7515360" cy="360360"/>
            <a:chOff x="801720" y="3395520"/>
            <a:chExt cx="7515360" cy="360360"/>
          </a:xfrm>
        </p:grpSpPr>
        <p:sp>
          <p:nvSpPr>
            <p:cNvPr id="472" name="Line 15"/>
            <p:cNvSpPr/>
            <p:nvPr/>
          </p:nvSpPr>
          <p:spPr>
            <a:xfrm>
              <a:off x="1119240" y="3652560"/>
              <a:ext cx="7197840" cy="64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16"/>
            <p:cNvSpPr/>
            <p:nvPr/>
          </p:nvSpPr>
          <p:spPr>
            <a:xfrm>
              <a:off x="801720" y="3395520"/>
              <a:ext cx="360360" cy="360360"/>
            </a:xfrm>
            <a:prstGeom prst="diamond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2e002e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32"/>
          <p:cNvGrpSpPr/>
          <p:nvPr/>
        </p:nvGrpSpPr>
        <p:grpSpPr>
          <a:xfrm>
            <a:off x="801720" y="3892680"/>
            <a:ext cx="7515360" cy="358560"/>
            <a:chOff x="801720" y="3892680"/>
            <a:chExt cx="7515360" cy="358560"/>
          </a:xfrm>
        </p:grpSpPr>
        <p:sp>
          <p:nvSpPr>
            <p:cNvPr id="475" name="Line 18"/>
            <p:cNvSpPr/>
            <p:nvPr/>
          </p:nvSpPr>
          <p:spPr>
            <a:xfrm>
              <a:off x="1119240" y="4150080"/>
              <a:ext cx="7197840" cy="28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19"/>
            <p:cNvSpPr/>
            <p:nvPr/>
          </p:nvSpPr>
          <p:spPr>
            <a:xfrm>
              <a:off x="801720" y="3892680"/>
              <a:ext cx="360360" cy="358560"/>
            </a:xfrm>
            <a:prstGeom prst="diamond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2e002e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5"/>
          <p:cNvGrpSpPr/>
          <p:nvPr/>
        </p:nvGrpSpPr>
        <p:grpSpPr>
          <a:xfrm>
            <a:off x="801720" y="4386240"/>
            <a:ext cx="7515360" cy="360360"/>
            <a:chOff x="801720" y="4386240"/>
            <a:chExt cx="7515360" cy="360360"/>
          </a:xfrm>
        </p:grpSpPr>
        <p:sp>
          <p:nvSpPr>
            <p:cNvPr id="478" name="Line 21"/>
            <p:cNvSpPr/>
            <p:nvPr/>
          </p:nvSpPr>
          <p:spPr>
            <a:xfrm>
              <a:off x="1116000" y="4649760"/>
              <a:ext cx="7201080" cy="14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22"/>
            <p:cNvSpPr/>
            <p:nvPr/>
          </p:nvSpPr>
          <p:spPr>
            <a:xfrm>
              <a:off x="801720" y="4386240"/>
              <a:ext cx="360360" cy="360360"/>
            </a:xfrm>
            <a:prstGeom prst="diamond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2e002e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38"/>
          <p:cNvGrpSpPr/>
          <p:nvPr/>
        </p:nvGrpSpPr>
        <p:grpSpPr>
          <a:xfrm>
            <a:off x="801720" y="4883040"/>
            <a:ext cx="7515360" cy="358920"/>
            <a:chOff x="801720" y="4883040"/>
            <a:chExt cx="7515360" cy="358920"/>
          </a:xfrm>
        </p:grpSpPr>
        <p:sp>
          <p:nvSpPr>
            <p:cNvPr id="481" name="Line 24"/>
            <p:cNvSpPr/>
            <p:nvPr/>
          </p:nvSpPr>
          <p:spPr>
            <a:xfrm flipV="1">
              <a:off x="1119240" y="5132880"/>
              <a:ext cx="7197840" cy="1080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25"/>
            <p:cNvSpPr/>
            <p:nvPr/>
          </p:nvSpPr>
          <p:spPr>
            <a:xfrm>
              <a:off x="801720" y="4883040"/>
              <a:ext cx="360360" cy="358920"/>
            </a:xfrm>
            <a:prstGeom prst="diamond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2e002e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41"/>
          <p:cNvGrpSpPr/>
          <p:nvPr/>
        </p:nvGrpSpPr>
        <p:grpSpPr>
          <a:xfrm>
            <a:off x="801720" y="5378400"/>
            <a:ext cx="7515360" cy="358920"/>
            <a:chOff x="801720" y="5378400"/>
            <a:chExt cx="7515360" cy="358920"/>
          </a:xfrm>
        </p:grpSpPr>
        <p:sp>
          <p:nvSpPr>
            <p:cNvPr id="484" name="Line 27"/>
            <p:cNvSpPr/>
            <p:nvPr/>
          </p:nvSpPr>
          <p:spPr>
            <a:xfrm>
              <a:off x="1071720" y="5639400"/>
              <a:ext cx="7245360" cy="10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28"/>
            <p:cNvSpPr/>
            <p:nvPr/>
          </p:nvSpPr>
          <p:spPr>
            <a:xfrm>
              <a:off x="801720" y="5378400"/>
              <a:ext cx="360360" cy="358920"/>
            </a:xfrm>
            <a:prstGeom prst="diamond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2e002e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44"/>
          <p:cNvGrpSpPr/>
          <p:nvPr/>
        </p:nvGrpSpPr>
        <p:grpSpPr>
          <a:xfrm>
            <a:off x="801720" y="5872320"/>
            <a:ext cx="7515360" cy="360360"/>
            <a:chOff x="801720" y="5872320"/>
            <a:chExt cx="7515360" cy="360360"/>
          </a:xfrm>
        </p:grpSpPr>
        <p:sp>
          <p:nvSpPr>
            <p:cNvPr id="487" name="Line 30"/>
            <p:cNvSpPr/>
            <p:nvPr/>
          </p:nvSpPr>
          <p:spPr>
            <a:xfrm>
              <a:off x="1071720" y="6132600"/>
              <a:ext cx="7245360" cy="32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31"/>
            <p:cNvSpPr/>
            <p:nvPr/>
          </p:nvSpPr>
          <p:spPr>
            <a:xfrm>
              <a:off x="801720" y="5872320"/>
              <a:ext cx="360360" cy="360360"/>
            </a:xfrm>
            <a:prstGeom prst="diamond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2e002e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47"/>
          <p:cNvGrpSpPr/>
          <p:nvPr/>
        </p:nvGrpSpPr>
        <p:grpSpPr>
          <a:xfrm>
            <a:off x="4991040" y="3254400"/>
            <a:ext cx="417240" cy="437040"/>
            <a:chOff x="4991040" y="3254400"/>
            <a:chExt cx="417240" cy="437040"/>
          </a:xfrm>
        </p:grpSpPr>
        <p:sp>
          <p:nvSpPr>
            <p:cNvPr id="490" name="AutoShape 33"/>
            <p:cNvSpPr/>
            <p:nvPr/>
          </p:nvSpPr>
          <p:spPr>
            <a:xfrm rot="16200000">
              <a:off x="4991040" y="3254040"/>
              <a:ext cx="390240" cy="390600"/>
            </a:xfrm>
            <a:prstGeom prst="rtTriangl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49b00"/>
                </a:gs>
              </a:gsLst>
              <a:lin ang="8100000"/>
            </a:gra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34"/>
            <p:cNvSpPr txBox="1"/>
            <p:nvPr/>
          </p:nvSpPr>
          <p:spPr>
            <a:xfrm rot="18748800">
              <a:off x="5036400" y="3450600"/>
              <a:ext cx="393480" cy="114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最优</a:t>
              </a:r>
              <a:endPara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92" name="Group 50"/>
          <p:cNvGrpSpPr/>
          <p:nvPr/>
        </p:nvGrpSpPr>
        <p:grpSpPr>
          <a:xfrm>
            <a:off x="5978520" y="5735160"/>
            <a:ext cx="417240" cy="438120"/>
            <a:chOff x="5978520" y="5735160"/>
            <a:chExt cx="417240" cy="438120"/>
          </a:xfrm>
        </p:grpSpPr>
        <p:sp>
          <p:nvSpPr>
            <p:cNvPr id="493" name="AutoShape 36"/>
            <p:cNvSpPr/>
            <p:nvPr/>
          </p:nvSpPr>
          <p:spPr>
            <a:xfrm rot="16200000">
              <a:off x="5978520" y="5735160"/>
              <a:ext cx="390600" cy="390600"/>
            </a:xfrm>
            <a:prstGeom prst="rtTriangl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49b00"/>
                </a:gs>
              </a:gsLst>
              <a:lin ang="8100000"/>
            </a:gra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WordArt 37"/>
            <p:cNvSpPr txBox="1"/>
            <p:nvPr/>
          </p:nvSpPr>
          <p:spPr>
            <a:xfrm rot="18748800">
              <a:off x="6023520" y="5932440"/>
              <a:ext cx="393840" cy="114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最优</a:t>
              </a:r>
              <a:endPara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95" name="Group 53"/>
          <p:cNvGrpSpPr/>
          <p:nvPr/>
        </p:nvGrpSpPr>
        <p:grpSpPr>
          <a:xfrm>
            <a:off x="7954920" y="5250960"/>
            <a:ext cx="417240" cy="438120"/>
            <a:chOff x="7954920" y="5250960"/>
            <a:chExt cx="417240" cy="438120"/>
          </a:xfrm>
        </p:grpSpPr>
        <p:sp>
          <p:nvSpPr>
            <p:cNvPr id="496" name="AutoShape 39"/>
            <p:cNvSpPr/>
            <p:nvPr/>
          </p:nvSpPr>
          <p:spPr>
            <a:xfrm rot="16200000">
              <a:off x="7954920" y="5250960"/>
              <a:ext cx="390600" cy="390600"/>
            </a:xfrm>
            <a:prstGeom prst="rtTriangl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49b00"/>
                </a:gs>
              </a:gsLst>
              <a:lin ang="8100000"/>
            </a:gra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WordArt 40"/>
            <p:cNvSpPr txBox="1"/>
            <p:nvPr/>
          </p:nvSpPr>
          <p:spPr>
            <a:xfrm rot="18748800">
              <a:off x="7999920" y="5448240"/>
              <a:ext cx="393840" cy="114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最优</a:t>
              </a:r>
              <a:endPara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98" name="Group 56"/>
          <p:cNvGrpSpPr/>
          <p:nvPr/>
        </p:nvGrpSpPr>
        <p:grpSpPr>
          <a:xfrm>
            <a:off x="5978520" y="4737240"/>
            <a:ext cx="417240" cy="437040"/>
            <a:chOff x="5978520" y="4737240"/>
            <a:chExt cx="417240" cy="437040"/>
          </a:xfrm>
        </p:grpSpPr>
        <p:sp>
          <p:nvSpPr>
            <p:cNvPr id="499" name="AutoShape 42"/>
            <p:cNvSpPr/>
            <p:nvPr/>
          </p:nvSpPr>
          <p:spPr>
            <a:xfrm rot="16200000">
              <a:off x="5978520" y="4736880"/>
              <a:ext cx="390240" cy="390600"/>
            </a:xfrm>
            <a:prstGeom prst="rtTriangl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49b00"/>
                </a:gs>
              </a:gsLst>
              <a:lin ang="8100000"/>
            </a:gra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WordArt 43"/>
            <p:cNvSpPr txBox="1"/>
            <p:nvPr/>
          </p:nvSpPr>
          <p:spPr>
            <a:xfrm rot="18748800">
              <a:off x="6023880" y="4933440"/>
              <a:ext cx="393480" cy="114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最优</a:t>
              </a:r>
              <a:endPara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501" name="Group 59"/>
          <p:cNvGrpSpPr/>
          <p:nvPr/>
        </p:nvGrpSpPr>
        <p:grpSpPr>
          <a:xfrm>
            <a:off x="5987880" y="4254480"/>
            <a:ext cx="417240" cy="437040"/>
            <a:chOff x="5987880" y="4254480"/>
            <a:chExt cx="417240" cy="437040"/>
          </a:xfrm>
        </p:grpSpPr>
        <p:sp>
          <p:nvSpPr>
            <p:cNvPr id="502" name="AutoShape 45"/>
            <p:cNvSpPr/>
            <p:nvPr/>
          </p:nvSpPr>
          <p:spPr>
            <a:xfrm rot="16200000">
              <a:off x="5987880" y="4254120"/>
              <a:ext cx="390240" cy="390600"/>
            </a:xfrm>
            <a:prstGeom prst="rtTriangl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49b00"/>
                </a:gs>
              </a:gsLst>
              <a:lin ang="8100000"/>
            </a:gra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WordArt 46"/>
            <p:cNvSpPr txBox="1"/>
            <p:nvPr/>
          </p:nvSpPr>
          <p:spPr>
            <a:xfrm rot="18748800">
              <a:off x="6033240" y="4450680"/>
              <a:ext cx="393480" cy="114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最优</a:t>
              </a:r>
              <a:endPara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504" name="Group 62"/>
          <p:cNvGrpSpPr/>
          <p:nvPr/>
        </p:nvGrpSpPr>
        <p:grpSpPr>
          <a:xfrm>
            <a:off x="6972480" y="3757680"/>
            <a:ext cx="417240" cy="437040"/>
            <a:chOff x="6972480" y="3757680"/>
            <a:chExt cx="417240" cy="437040"/>
          </a:xfrm>
        </p:grpSpPr>
        <p:sp>
          <p:nvSpPr>
            <p:cNvPr id="505" name="AutoShape 48"/>
            <p:cNvSpPr/>
            <p:nvPr/>
          </p:nvSpPr>
          <p:spPr>
            <a:xfrm rot="16200000">
              <a:off x="6972480" y="3757680"/>
              <a:ext cx="390240" cy="390240"/>
            </a:xfrm>
            <a:prstGeom prst="rtTriangl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49b00"/>
                </a:gs>
              </a:gsLst>
              <a:lin ang="8100000"/>
            </a:gra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WordArt 49"/>
            <p:cNvSpPr txBox="1"/>
            <p:nvPr/>
          </p:nvSpPr>
          <p:spPr>
            <a:xfrm rot="18748800">
              <a:off x="7017840" y="3953880"/>
              <a:ext cx="393480" cy="114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最优</a:t>
              </a:r>
              <a:endPara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507" name="Group 65"/>
          <p:cNvGrpSpPr/>
          <p:nvPr/>
        </p:nvGrpSpPr>
        <p:grpSpPr>
          <a:xfrm>
            <a:off x="4446720" y="1825560"/>
            <a:ext cx="811080" cy="1193400"/>
            <a:chOff x="4446720" y="1825560"/>
            <a:chExt cx="811080" cy="1193400"/>
          </a:xfrm>
        </p:grpSpPr>
        <p:pic>
          <p:nvPicPr>
            <p:cNvPr id="508" name="Picture 51" descr="Samsung D908"/>
            <p:cNvPicPr/>
            <p:nvPr/>
          </p:nvPicPr>
          <p:blipFill>
            <a:blip r:embed="rId1"/>
            <a:stretch/>
          </p:blipFill>
          <p:spPr>
            <a:xfrm>
              <a:off x="4654800" y="1825560"/>
              <a:ext cx="42228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Rectangle 52"/>
            <p:cNvSpPr/>
            <p:nvPr/>
          </p:nvSpPr>
          <p:spPr>
            <a:xfrm>
              <a:off x="4446720" y="2749680"/>
              <a:ext cx="8110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68"/>
          <p:cNvGrpSpPr/>
          <p:nvPr/>
        </p:nvGrpSpPr>
        <p:grpSpPr>
          <a:xfrm>
            <a:off x="7272360" y="1892160"/>
            <a:ext cx="1230120" cy="1076400"/>
            <a:chOff x="7272360" y="1892160"/>
            <a:chExt cx="1230120" cy="1076400"/>
          </a:xfrm>
        </p:grpSpPr>
        <p:sp>
          <p:nvSpPr>
            <p:cNvPr id="511" name="Rectangle 54"/>
            <p:cNvSpPr/>
            <p:nvPr/>
          </p:nvSpPr>
          <p:spPr>
            <a:xfrm>
              <a:off x="7272360" y="2709720"/>
              <a:ext cx="12301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Picture 55" descr="coolpad_728_cn"/>
            <p:cNvPicPr/>
            <p:nvPr/>
          </p:nvPicPr>
          <p:blipFill>
            <a:blip r:embed="rId2"/>
            <a:srcRect l="21916" t="7265" r="21916" b="7265"/>
            <a:stretch/>
          </p:blipFill>
          <p:spPr>
            <a:xfrm>
              <a:off x="7557840" y="1892160"/>
              <a:ext cx="537840" cy="81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3" name="Group 71"/>
          <p:cNvGrpSpPr/>
          <p:nvPr/>
        </p:nvGrpSpPr>
        <p:grpSpPr>
          <a:xfrm>
            <a:off x="6426360" y="1795320"/>
            <a:ext cx="866520" cy="1114560"/>
            <a:chOff x="6426360" y="1795320"/>
            <a:chExt cx="866520" cy="1114560"/>
          </a:xfrm>
        </p:grpSpPr>
        <p:sp>
          <p:nvSpPr>
            <p:cNvPr id="514" name="Rectangle 57"/>
            <p:cNvSpPr/>
            <p:nvPr/>
          </p:nvSpPr>
          <p:spPr>
            <a:xfrm>
              <a:off x="6426360" y="2763720"/>
              <a:ext cx="866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3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Object 58" descr=""/>
            <p:cNvPicPr/>
            <p:nvPr/>
          </p:nvPicPr>
          <p:blipFill>
            <a:blip r:embed="rId3"/>
            <a:stretch/>
          </p:blipFill>
          <p:spPr>
            <a:xfrm>
              <a:off x="6548400" y="1795320"/>
              <a:ext cx="65052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Group 74"/>
          <p:cNvGrpSpPr/>
          <p:nvPr/>
        </p:nvGrpSpPr>
        <p:grpSpPr>
          <a:xfrm>
            <a:off x="5364000" y="1828800"/>
            <a:ext cx="839880" cy="1206000"/>
            <a:chOff x="5364000" y="1828800"/>
            <a:chExt cx="839880" cy="1206000"/>
          </a:xfrm>
        </p:grpSpPr>
        <p:sp>
          <p:nvSpPr>
            <p:cNvPr id="517" name="Rectangle 60"/>
            <p:cNvSpPr/>
            <p:nvPr/>
          </p:nvSpPr>
          <p:spPr>
            <a:xfrm>
              <a:off x="5364000" y="2776680"/>
              <a:ext cx="8398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Picture 61" descr="Samsung-W"/>
            <p:cNvPicPr/>
            <p:nvPr/>
          </p:nvPicPr>
          <p:blipFill>
            <a:blip r:embed="rId4"/>
            <a:stretch/>
          </p:blipFill>
          <p:spPr>
            <a:xfrm>
              <a:off x="5518080" y="1828800"/>
              <a:ext cx="579240" cy="8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Group 77"/>
          <p:cNvGrpSpPr/>
          <p:nvPr/>
        </p:nvGrpSpPr>
        <p:grpSpPr>
          <a:xfrm>
            <a:off x="6958080" y="3254040"/>
            <a:ext cx="417960" cy="437760"/>
            <a:chOff x="6958080" y="3254040"/>
            <a:chExt cx="417960" cy="437760"/>
          </a:xfrm>
        </p:grpSpPr>
        <p:sp>
          <p:nvSpPr>
            <p:cNvPr id="520" name="AutoShape 65"/>
            <p:cNvSpPr/>
            <p:nvPr/>
          </p:nvSpPr>
          <p:spPr>
            <a:xfrm rot="16200000">
              <a:off x="6958080" y="3254040"/>
              <a:ext cx="390600" cy="390600"/>
            </a:xfrm>
            <a:prstGeom prst="rtTriangl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9b3e00"/>
                </a:gs>
              </a:gsLst>
              <a:lin ang="8100000"/>
            </a:gra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WordArt 66"/>
            <p:cNvSpPr txBox="1"/>
            <p:nvPr/>
          </p:nvSpPr>
          <p:spPr>
            <a:xfrm rot="18748800">
              <a:off x="7004160" y="3450960"/>
              <a:ext cx="393480" cy="114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最差</a:t>
              </a:r>
              <a:endPara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522" name="Group 80"/>
          <p:cNvGrpSpPr/>
          <p:nvPr/>
        </p:nvGrpSpPr>
        <p:grpSpPr>
          <a:xfrm>
            <a:off x="7947000" y="3749400"/>
            <a:ext cx="417960" cy="437760"/>
            <a:chOff x="7947000" y="3749400"/>
            <a:chExt cx="417960" cy="437760"/>
          </a:xfrm>
        </p:grpSpPr>
        <p:sp>
          <p:nvSpPr>
            <p:cNvPr id="523" name="AutoShape 68"/>
            <p:cNvSpPr/>
            <p:nvPr/>
          </p:nvSpPr>
          <p:spPr>
            <a:xfrm rot="16200000">
              <a:off x="7947000" y="3749400"/>
              <a:ext cx="390600" cy="390600"/>
            </a:xfrm>
            <a:prstGeom prst="rtTriangl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9b3e00"/>
                </a:gs>
              </a:gsLst>
              <a:lin ang="8100000"/>
            </a:gra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WordArt 69"/>
            <p:cNvSpPr txBox="1"/>
            <p:nvPr/>
          </p:nvSpPr>
          <p:spPr>
            <a:xfrm rot="18748800">
              <a:off x="7993080" y="3946320"/>
              <a:ext cx="393480" cy="114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最差</a:t>
              </a:r>
              <a:endPara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525" name="Group 83"/>
          <p:cNvGrpSpPr/>
          <p:nvPr/>
        </p:nvGrpSpPr>
        <p:grpSpPr>
          <a:xfrm>
            <a:off x="7947000" y="4244760"/>
            <a:ext cx="417960" cy="437760"/>
            <a:chOff x="7947000" y="4244760"/>
            <a:chExt cx="417960" cy="437760"/>
          </a:xfrm>
        </p:grpSpPr>
        <p:sp>
          <p:nvSpPr>
            <p:cNvPr id="526" name="AutoShape 71"/>
            <p:cNvSpPr/>
            <p:nvPr/>
          </p:nvSpPr>
          <p:spPr>
            <a:xfrm rot="16200000">
              <a:off x="7947000" y="4244760"/>
              <a:ext cx="390600" cy="390600"/>
            </a:xfrm>
            <a:prstGeom prst="rtTriangl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9b3e00"/>
                </a:gs>
              </a:gsLst>
              <a:lin ang="8100000"/>
            </a:gra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WordArt 72"/>
            <p:cNvSpPr txBox="1"/>
            <p:nvPr/>
          </p:nvSpPr>
          <p:spPr>
            <a:xfrm rot="18748800">
              <a:off x="7993080" y="4441680"/>
              <a:ext cx="393480" cy="114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最差</a:t>
              </a:r>
              <a:endPara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528" name="Group 86"/>
          <p:cNvGrpSpPr/>
          <p:nvPr/>
        </p:nvGrpSpPr>
        <p:grpSpPr>
          <a:xfrm>
            <a:off x="6958080" y="4739760"/>
            <a:ext cx="417960" cy="437760"/>
            <a:chOff x="6958080" y="4739760"/>
            <a:chExt cx="417960" cy="437760"/>
          </a:xfrm>
        </p:grpSpPr>
        <p:sp>
          <p:nvSpPr>
            <p:cNvPr id="529" name="AutoShape 74"/>
            <p:cNvSpPr/>
            <p:nvPr/>
          </p:nvSpPr>
          <p:spPr>
            <a:xfrm rot="16200000">
              <a:off x="6958080" y="4739760"/>
              <a:ext cx="390600" cy="390600"/>
            </a:xfrm>
            <a:prstGeom prst="rtTriangl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9b3e00"/>
                </a:gs>
              </a:gsLst>
              <a:lin ang="8100000"/>
            </a:gra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WordArt 75"/>
            <p:cNvSpPr txBox="1"/>
            <p:nvPr/>
          </p:nvSpPr>
          <p:spPr>
            <a:xfrm rot="18748800">
              <a:off x="7004160" y="4936680"/>
              <a:ext cx="393480" cy="114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最差</a:t>
              </a:r>
              <a:endPara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531" name="Group 89"/>
          <p:cNvGrpSpPr/>
          <p:nvPr/>
        </p:nvGrpSpPr>
        <p:grpSpPr>
          <a:xfrm>
            <a:off x="4976640" y="5235120"/>
            <a:ext cx="417960" cy="437760"/>
            <a:chOff x="4976640" y="5235120"/>
            <a:chExt cx="417960" cy="437760"/>
          </a:xfrm>
        </p:grpSpPr>
        <p:sp>
          <p:nvSpPr>
            <p:cNvPr id="532" name="AutoShape 77"/>
            <p:cNvSpPr/>
            <p:nvPr/>
          </p:nvSpPr>
          <p:spPr>
            <a:xfrm rot="16200000">
              <a:off x="4976640" y="5235120"/>
              <a:ext cx="390600" cy="390600"/>
            </a:xfrm>
            <a:prstGeom prst="rtTriangl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9b3e00"/>
                </a:gs>
              </a:gsLst>
              <a:lin ang="8100000"/>
            </a:gra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WordArt 78"/>
            <p:cNvSpPr txBox="1"/>
            <p:nvPr/>
          </p:nvSpPr>
          <p:spPr>
            <a:xfrm rot="18748800">
              <a:off x="5022720" y="5432040"/>
              <a:ext cx="393480" cy="114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最差</a:t>
              </a:r>
              <a:endPara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534" name="Group 92"/>
          <p:cNvGrpSpPr/>
          <p:nvPr/>
        </p:nvGrpSpPr>
        <p:grpSpPr>
          <a:xfrm>
            <a:off x="4976640" y="5729040"/>
            <a:ext cx="417960" cy="437760"/>
            <a:chOff x="4976640" y="5729040"/>
            <a:chExt cx="417960" cy="437760"/>
          </a:xfrm>
        </p:grpSpPr>
        <p:sp>
          <p:nvSpPr>
            <p:cNvPr id="535" name="AutoShape 80"/>
            <p:cNvSpPr/>
            <p:nvPr/>
          </p:nvSpPr>
          <p:spPr>
            <a:xfrm rot="16200000">
              <a:off x="4976640" y="5729040"/>
              <a:ext cx="390600" cy="390600"/>
            </a:xfrm>
            <a:prstGeom prst="rtTriangl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9b3e00"/>
                </a:gs>
              </a:gsLst>
              <a:lin ang="8100000"/>
            </a:gra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WordArt 81"/>
            <p:cNvSpPr txBox="1"/>
            <p:nvPr/>
          </p:nvSpPr>
          <p:spPr>
            <a:xfrm rot="18748800">
              <a:off x="5022720" y="5925960"/>
              <a:ext cx="393480" cy="1141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最差</a:t>
              </a:r>
              <a:endPara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537" name="Group 95"/>
          <p:cNvGrpSpPr/>
          <p:nvPr/>
        </p:nvGrpSpPr>
        <p:grpSpPr>
          <a:xfrm>
            <a:off x="755640" y="2384280"/>
            <a:ext cx="3887640" cy="901440"/>
            <a:chOff x="755640" y="2384280"/>
            <a:chExt cx="3887640" cy="901440"/>
          </a:xfrm>
        </p:grpSpPr>
        <p:sp>
          <p:nvSpPr>
            <p:cNvPr id="538" name="Rectangle 83"/>
            <p:cNvSpPr/>
            <p:nvPr/>
          </p:nvSpPr>
          <p:spPr>
            <a:xfrm>
              <a:off x="817560" y="2702160"/>
              <a:ext cx="382572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t">
              <a:spAutoFit/>
            </a:bodyPr>
            <a:p>
              <a:pPr lvl="1" marL="266760" indent="-265320">
                <a:lnSpc>
                  <a:spcPct val="100000"/>
                </a:lnSpc>
                <a:spcBef>
                  <a:spcPts val="300"/>
                </a:spcBef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成功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265320">
                <a:lnSpc>
                  <a:spcPct val="100000"/>
                </a:lnSpc>
                <a:spcBef>
                  <a:spcPts val="300"/>
                </a:spcBef>
                <a:buClr>
                  <a:srgbClr val="4d4d4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平均完成时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84"/>
            <p:cNvSpPr/>
            <p:nvPr/>
          </p:nvSpPr>
          <p:spPr>
            <a:xfrm>
              <a:off x="755640" y="2384280"/>
              <a:ext cx="2516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6600"/>
                  </a:solidFill>
                  <a:latin typeface="微软雅黑"/>
                  <a:ea typeface="微软雅黑"/>
                </a:rPr>
                <a:t>测试标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07E8-30F6-4310-8CBE-E1A5FEE836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3"/>
          <p:cNvSpPr/>
          <p:nvPr/>
        </p:nvSpPr>
        <p:spPr>
          <a:xfrm>
            <a:off x="1314360" y="1328760"/>
            <a:ext cx="66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空间图不同，适合表达静态的归纳，结构化程度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矩阵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6"/>
          <p:cNvSpPr/>
          <p:nvPr/>
        </p:nvSpPr>
        <p:spPr>
          <a:xfrm>
            <a:off x="2465280" y="836640"/>
            <a:ext cx="64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利用框图表达稳定的关系或暗含的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4"/>
          <p:cNvSpPr/>
          <p:nvPr/>
        </p:nvSpPr>
        <p:spPr>
          <a:xfrm>
            <a:off x="179280" y="64263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大家都容易认可的框图结构，自己发明一个框图往往不被认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直接连接符 14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直接箭头连接符 32"/>
          <p:cNvCxnSpPr/>
          <p:nvPr/>
        </p:nvCxnSpPr>
        <p:spPr>
          <a:xfrm flipV="1">
            <a:off x="945720" y="1966320"/>
            <a:ext cx="1080" cy="377244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557" name="直接箭头连接符 33"/>
          <p:cNvCxnSpPr/>
          <p:nvPr/>
        </p:nvCxnSpPr>
        <p:spPr>
          <a:xfrm flipH="1">
            <a:off x="1367640" y="6103440"/>
            <a:ext cx="3776040" cy="2520"/>
          </a:xfrm>
          <a:prstGeom prst="straightConnector1">
            <a:avLst/>
          </a:prstGeom>
          <a:ln w="2556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558" name="矩形 34"/>
          <p:cNvSpPr/>
          <p:nvPr/>
        </p:nvSpPr>
        <p:spPr>
          <a:xfrm>
            <a:off x="1371600" y="1967040"/>
            <a:ext cx="1217520" cy="1215720"/>
          </a:xfrm>
          <a:prstGeom prst="rect">
            <a:avLst/>
          </a:prstGeom>
          <a:solidFill>
            <a:srgbClr val="31859b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37"/>
          <p:cNvSpPr/>
          <p:nvPr/>
        </p:nvSpPr>
        <p:spPr>
          <a:xfrm>
            <a:off x="2649600" y="4522680"/>
            <a:ext cx="1217520" cy="1216080"/>
          </a:xfrm>
          <a:prstGeom prst="rect">
            <a:avLst/>
          </a:prstGeom>
          <a:solidFill>
            <a:srgbClr val="daeef3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38"/>
          <p:cNvSpPr/>
          <p:nvPr/>
        </p:nvSpPr>
        <p:spPr>
          <a:xfrm>
            <a:off x="1371600" y="3252960"/>
            <a:ext cx="1217520" cy="1217520"/>
          </a:xfrm>
          <a:prstGeom prst="rect">
            <a:avLst/>
          </a:prstGeom>
          <a:solidFill>
            <a:srgbClr val="31859b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9"/>
          <p:cNvSpPr/>
          <p:nvPr/>
        </p:nvSpPr>
        <p:spPr>
          <a:xfrm>
            <a:off x="2649600" y="1967040"/>
            <a:ext cx="1217520" cy="1215720"/>
          </a:xfrm>
          <a:prstGeom prst="rect">
            <a:avLst/>
          </a:prstGeom>
          <a:solidFill>
            <a:srgbClr val="31859b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40"/>
          <p:cNvSpPr/>
          <p:nvPr/>
        </p:nvSpPr>
        <p:spPr>
          <a:xfrm>
            <a:off x="2649600" y="3252960"/>
            <a:ext cx="1217520" cy="1217520"/>
          </a:xfrm>
          <a:prstGeom prst="rect">
            <a:avLst/>
          </a:prstGeom>
          <a:solidFill>
            <a:srgbClr val="92ccdc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41"/>
          <p:cNvSpPr/>
          <p:nvPr/>
        </p:nvSpPr>
        <p:spPr>
          <a:xfrm>
            <a:off x="3927600" y="3252960"/>
            <a:ext cx="1217520" cy="1217520"/>
          </a:xfrm>
          <a:prstGeom prst="rect">
            <a:avLst/>
          </a:prstGeom>
          <a:solidFill>
            <a:srgbClr val="dae5f1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42"/>
          <p:cNvSpPr/>
          <p:nvPr/>
        </p:nvSpPr>
        <p:spPr>
          <a:xfrm>
            <a:off x="3927600" y="1967040"/>
            <a:ext cx="1217520" cy="1215720"/>
          </a:xfrm>
          <a:prstGeom prst="rect">
            <a:avLst/>
          </a:prstGeom>
          <a:solidFill>
            <a:srgbClr val="92ccdc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43"/>
          <p:cNvSpPr/>
          <p:nvPr/>
        </p:nvSpPr>
        <p:spPr>
          <a:xfrm>
            <a:off x="1368360" y="4522680"/>
            <a:ext cx="1216080" cy="1216080"/>
          </a:xfrm>
          <a:prstGeom prst="rect">
            <a:avLst/>
          </a:prstGeom>
          <a:solidFill>
            <a:srgbClr val="92ccdc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44"/>
          <p:cNvSpPr/>
          <p:nvPr/>
        </p:nvSpPr>
        <p:spPr>
          <a:xfrm>
            <a:off x="3927600" y="4522680"/>
            <a:ext cx="1217520" cy="1216080"/>
          </a:xfrm>
          <a:prstGeom prst="rect">
            <a:avLst/>
          </a:prstGeom>
          <a:solidFill>
            <a:srgbClr val="dae5f1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47"/>
          <p:cNvSpPr/>
          <p:nvPr/>
        </p:nvSpPr>
        <p:spPr>
          <a:xfrm>
            <a:off x="1736640" y="5730840"/>
            <a:ext cx="3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8"/>
          <p:cNvSpPr/>
          <p:nvPr/>
        </p:nvSpPr>
        <p:spPr>
          <a:xfrm>
            <a:off x="1006560" y="2419200"/>
            <a:ext cx="3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9"/>
          <p:cNvSpPr/>
          <p:nvPr/>
        </p:nvSpPr>
        <p:spPr>
          <a:xfrm>
            <a:off x="1006560" y="3705120"/>
            <a:ext cx="3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52"/>
          <p:cNvSpPr/>
          <p:nvPr/>
        </p:nvSpPr>
        <p:spPr>
          <a:xfrm>
            <a:off x="1006560" y="4948200"/>
            <a:ext cx="3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54"/>
          <p:cNvSpPr/>
          <p:nvPr/>
        </p:nvSpPr>
        <p:spPr>
          <a:xfrm>
            <a:off x="3075120" y="5738760"/>
            <a:ext cx="3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55"/>
          <p:cNvSpPr/>
          <p:nvPr/>
        </p:nvSpPr>
        <p:spPr>
          <a:xfrm>
            <a:off x="4352760" y="5738760"/>
            <a:ext cx="3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流程图: 联系 56"/>
          <p:cNvSpPr/>
          <p:nvPr/>
        </p:nvSpPr>
        <p:spPr>
          <a:xfrm>
            <a:off x="2101680" y="2114640"/>
            <a:ext cx="459000" cy="460440"/>
          </a:xfrm>
          <a:prstGeom prst="flowChartConnector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流程图: 联系 57"/>
          <p:cNvSpPr/>
          <p:nvPr/>
        </p:nvSpPr>
        <p:spPr>
          <a:xfrm>
            <a:off x="2038320" y="3273480"/>
            <a:ext cx="244440" cy="244440"/>
          </a:xfrm>
          <a:prstGeom prst="flowChartConnector">
            <a:avLst/>
          </a:prstGeom>
          <a:solidFill>
            <a:srgbClr val="26e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流程图: 联系 58"/>
          <p:cNvSpPr/>
          <p:nvPr/>
        </p:nvSpPr>
        <p:spPr>
          <a:xfrm>
            <a:off x="2919240" y="3521160"/>
            <a:ext cx="195480" cy="195120"/>
          </a:xfrm>
          <a:prstGeom prst="flowChartConnector">
            <a:avLst/>
          </a:prstGeom>
          <a:solidFill>
            <a:srgbClr val="c04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流程图: 联系 59"/>
          <p:cNvSpPr/>
          <p:nvPr/>
        </p:nvSpPr>
        <p:spPr>
          <a:xfrm>
            <a:off x="2766960" y="2836800"/>
            <a:ext cx="304920" cy="304920"/>
          </a:xfrm>
          <a:prstGeom prst="flowChartConnector">
            <a:avLst/>
          </a:prstGeom>
          <a:solidFill>
            <a:srgbClr val="3f3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流程图: 联系 60"/>
          <p:cNvSpPr/>
          <p:nvPr/>
        </p:nvSpPr>
        <p:spPr>
          <a:xfrm>
            <a:off x="2849400" y="2330280"/>
            <a:ext cx="335160" cy="33516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流程图: 联系 61"/>
          <p:cNvSpPr/>
          <p:nvPr/>
        </p:nvSpPr>
        <p:spPr>
          <a:xfrm>
            <a:off x="6497640" y="4373640"/>
            <a:ext cx="243000" cy="242640"/>
          </a:xfrm>
          <a:prstGeom prst="flowChartConnector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流程图: 联系 62"/>
          <p:cNvSpPr/>
          <p:nvPr/>
        </p:nvSpPr>
        <p:spPr>
          <a:xfrm>
            <a:off x="6496200" y="4738680"/>
            <a:ext cx="244440" cy="24300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流程图: 联系 63"/>
          <p:cNvSpPr/>
          <p:nvPr/>
        </p:nvSpPr>
        <p:spPr>
          <a:xfrm>
            <a:off x="6496200" y="5103720"/>
            <a:ext cx="244440" cy="243000"/>
          </a:xfrm>
          <a:prstGeom prst="flowChartConnector">
            <a:avLst/>
          </a:prstGeom>
          <a:solidFill>
            <a:srgbClr val="3f3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流程图: 联系 64"/>
          <p:cNvSpPr/>
          <p:nvPr/>
        </p:nvSpPr>
        <p:spPr>
          <a:xfrm>
            <a:off x="6496200" y="5834160"/>
            <a:ext cx="244440" cy="242640"/>
          </a:xfrm>
          <a:prstGeom prst="flowChartConnector">
            <a:avLst/>
          </a:prstGeom>
          <a:solidFill>
            <a:srgbClr val="c04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流程图: 联系 65"/>
          <p:cNvSpPr/>
          <p:nvPr/>
        </p:nvSpPr>
        <p:spPr>
          <a:xfrm>
            <a:off x="6497640" y="5468760"/>
            <a:ext cx="243000" cy="243000"/>
          </a:xfrm>
          <a:prstGeom prst="flowChartConnector">
            <a:avLst/>
          </a:prstGeom>
          <a:solidFill>
            <a:srgbClr val="26e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66"/>
          <p:cNvSpPr/>
          <p:nvPr/>
        </p:nvSpPr>
        <p:spPr>
          <a:xfrm>
            <a:off x="6721560" y="434016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旋转推进液压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67"/>
          <p:cNvSpPr/>
          <p:nvPr/>
        </p:nvSpPr>
        <p:spPr>
          <a:xfrm>
            <a:off x="6740640" y="47052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业配套—钻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68"/>
          <p:cNvSpPr/>
          <p:nvPr/>
        </p:nvSpPr>
        <p:spPr>
          <a:xfrm>
            <a:off x="6740640" y="5095800"/>
            <a:ext cx="18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升级改造—钻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69"/>
          <p:cNvSpPr/>
          <p:nvPr/>
        </p:nvSpPr>
        <p:spPr>
          <a:xfrm>
            <a:off x="6740640" y="546084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升级改造—搅拌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70"/>
          <p:cNvSpPr/>
          <p:nvPr/>
        </p:nvSpPr>
        <p:spPr>
          <a:xfrm>
            <a:off x="6740640" y="58006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终端设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71"/>
          <p:cNvSpPr/>
          <p:nvPr/>
        </p:nvSpPr>
        <p:spPr>
          <a:xfrm>
            <a:off x="1859040" y="6093000"/>
            <a:ext cx="27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争能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72"/>
          <p:cNvSpPr/>
          <p:nvPr/>
        </p:nvSpPr>
        <p:spPr>
          <a:xfrm>
            <a:off x="423720" y="332424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吸引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73"/>
          <p:cNvSpPr/>
          <p:nvPr/>
        </p:nvSpPr>
        <p:spPr>
          <a:xfrm>
            <a:off x="4962600" y="5738760"/>
            <a:ext cx="24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77"/>
          <p:cNvSpPr/>
          <p:nvPr/>
        </p:nvSpPr>
        <p:spPr>
          <a:xfrm>
            <a:off x="1249200" y="5738760"/>
            <a:ext cx="4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78"/>
          <p:cNvSpPr/>
          <p:nvPr/>
        </p:nvSpPr>
        <p:spPr>
          <a:xfrm>
            <a:off x="3683160" y="57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79"/>
          <p:cNvSpPr/>
          <p:nvPr/>
        </p:nvSpPr>
        <p:spPr>
          <a:xfrm>
            <a:off x="2365200" y="57387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80"/>
          <p:cNvSpPr/>
          <p:nvPr/>
        </p:nvSpPr>
        <p:spPr>
          <a:xfrm>
            <a:off x="927000" y="1844640"/>
            <a:ext cx="4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81"/>
          <p:cNvSpPr/>
          <p:nvPr/>
        </p:nvSpPr>
        <p:spPr>
          <a:xfrm>
            <a:off x="946080" y="30272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82"/>
          <p:cNvSpPr/>
          <p:nvPr/>
        </p:nvSpPr>
        <p:spPr>
          <a:xfrm>
            <a:off x="946080" y="4332240"/>
            <a:ext cx="4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83"/>
          <p:cNvSpPr/>
          <p:nvPr/>
        </p:nvSpPr>
        <p:spPr>
          <a:xfrm>
            <a:off x="1066680" y="5495760"/>
            <a:ext cx="2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F1FB-B6E0-4921-8F33-C9AE8A45D5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3"/>
          <p:cNvSpPr/>
          <p:nvPr/>
        </p:nvSpPr>
        <p:spPr>
          <a:xfrm>
            <a:off x="1314360" y="1328760"/>
            <a:ext cx="66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大段信息快速简化，提高可读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行结构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6"/>
          <p:cNvSpPr/>
          <p:nvPr/>
        </p:nvSpPr>
        <p:spPr>
          <a:xfrm>
            <a:off x="2465280" y="836640"/>
            <a:ext cx="48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把一组相关信息并列化，做成平行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版式容易单调，难以吸引眼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14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椭圆 15"/>
          <p:cNvSpPr/>
          <p:nvPr/>
        </p:nvSpPr>
        <p:spPr>
          <a:xfrm>
            <a:off x="893880" y="2104920"/>
            <a:ext cx="466560" cy="4683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椭圆 16"/>
          <p:cNvSpPr/>
          <p:nvPr/>
        </p:nvSpPr>
        <p:spPr>
          <a:xfrm>
            <a:off x="906480" y="3146400"/>
            <a:ext cx="468360" cy="466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椭圆 17"/>
          <p:cNvSpPr/>
          <p:nvPr/>
        </p:nvSpPr>
        <p:spPr>
          <a:xfrm>
            <a:off x="906480" y="4181400"/>
            <a:ext cx="468360" cy="4698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椭圆 18"/>
          <p:cNvSpPr/>
          <p:nvPr/>
        </p:nvSpPr>
        <p:spPr>
          <a:xfrm>
            <a:off x="906480" y="5265720"/>
            <a:ext cx="468360" cy="466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椭圆 19"/>
          <p:cNvSpPr/>
          <p:nvPr/>
        </p:nvSpPr>
        <p:spPr>
          <a:xfrm>
            <a:off x="858960" y="2060640"/>
            <a:ext cx="539640" cy="539640"/>
          </a:xfrm>
          <a:prstGeom prst="ellipse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椭圆 20"/>
          <p:cNvSpPr/>
          <p:nvPr/>
        </p:nvSpPr>
        <p:spPr>
          <a:xfrm>
            <a:off x="865080" y="3105000"/>
            <a:ext cx="541440" cy="540000"/>
          </a:xfrm>
          <a:prstGeom prst="ellipse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椭圆 21"/>
          <p:cNvSpPr/>
          <p:nvPr/>
        </p:nvSpPr>
        <p:spPr>
          <a:xfrm>
            <a:off x="865080" y="4149720"/>
            <a:ext cx="541440" cy="539640"/>
          </a:xfrm>
          <a:prstGeom prst="ellipse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椭圆 22"/>
          <p:cNvSpPr/>
          <p:nvPr/>
        </p:nvSpPr>
        <p:spPr>
          <a:xfrm>
            <a:off x="870120" y="5229360"/>
            <a:ext cx="541080" cy="539640"/>
          </a:xfrm>
          <a:prstGeom prst="ellipse">
            <a:avLst/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23"/>
          <p:cNvSpPr/>
          <p:nvPr/>
        </p:nvSpPr>
        <p:spPr>
          <a:xfrm>
            <a:off x="1209600" y="4689360"/>
            <a:ext cx="6850080" cy="1800"/>
          </a:xfrm>
          <a:prstGeom prst="line">
            <a:avLst/>
          </a:prstGeom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24"/>
          <p:cNvSpPr/>
          <p:nvPr/>
        </p:nvSpPr>
        <p:spPr>
          <a:xfrm>
            <a:off x="3241800" y="2181240"/>
            <a:ext cx="22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新性研究开发了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加料、丝加料相结合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加料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25"/>
          <p:cNvSpPr/>
          <p:nvPr/>
        </p:nvSpPr>
        <p:spPr>
          <a:xfrm>
            <a:off x="1469880" y="3241800"/>
            <a:ext cx="69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系统研究建立了提高耐加工性、改善感官的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功能性加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26"/>
          <p:cNvSpPr/>
          <p:nvPr/>
        </p:nvSpPr>
        <p:spPr>
          <a:xfrm>
            <a:off x="1473120" y="4308480"/>
            <a:ext cx="74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研究开发进风控制等措施集成的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加料机新型控制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27"/>
          <p:cNvSpPr/>
          <p:nvPr/>
        </p:nvSpPr>
        <p:spPr>
          <a:xfrm>
            <a:off x="1506600" y="5326200"/>
            <a:ext cx="681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首次提出并实施“滚筒式烘焙”工艺，实现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烘焙干燥一体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直接连接符 28"/>
          <p:cNvSpPr/>
          <p:nvPr/>
        </p:nvSpPr>
        <p:spPr>
          <a:xfrm>
            <a:off x="1160640" y="5784840"/>
            <a:ext cx="684972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直接连接符 29"/>
          <p:cNvSpPr/>
          <p:nvPr/>
        </p:nvSpPr>
        <p:spPr>
          <a:xfrm>
            <a:off x="1179360" y="3641760"/>
            <a:ext cx="685008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直接连接符 30"/>
          <p:cNvSpPr/>
          <p:nvPr/>
        </p:nvSpPr>
        <p:spPr>
          <a:xfrm>
            <a:off x="1187280" y="2610000"/>
            <a:ext cx="685008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AD20-C7CF-4C94-9717-3012D10C4F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1314360" y="1328760"/>
            <a:ext cx="66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动引起听众共鸣的最佳方式，且可避免冷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问自答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6"/>
          <p:cNvSpPr/>
          <p:nvPr/>
        </p:nvSpPr>
        <p:spPr>
          <a:xfrm>
            <a:off x="2465280" y="8366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提出听众想听的问题，主动提供答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众如果不认同你的答案，你风险就很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直接连接符 14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1116000" y="2349360"/>
            <a:ext cx="7848720" cy="3959280"/>
          </a:xfrm>
          <a:prstGeom prst="rect">
            <a:avLst/>
          </a:prstGeom>
          <a:noFill/>
          <a:ln w="12600">
            <a:solidFill>
              <a:srgbClr val="0666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1219320" y="2868480"/>
            <a:ext cx="7610400" cy="792360"/>
          </a:xfrm>
          <a:prstGeom prst="rect">
            <a:avLst/>
          </a:prstGeom>
          <a:solidFill>
            <a:srgbClr val="d6e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1219320" y="2451240"/>
            <a:ext cx="5111640" cy="371160"/>
          </a:xfrm>
          <a:prstGeom prst="rect">
            <a:avLst/>
          </a:prstGeom>
          <a:solidFill>
            <a:srgbClr val="066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1270080" y="24638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）产品设计架构先进，符合企业技术特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1341360" y="2954160"/>
            <a:ext cx="74296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06669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采用跨平台的架构设计，能提供扩展功能的工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06669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具备灵活的可配置性</a:t>
            </a:r>
            <a:r>
              <a:rPr b="1" lang="zh-CN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、能实现“流程驱动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1228680" y="4156200"/>
            <a:ext cx="7610400" cy="790560"/>
          </a:xfrm>
          <a:prstGeom prst="rect">
            <a:avLst/>
          </a:prstGeom>
          <a:solidFill>
            <a:srgbClr val="d6e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9"/>
          <p:cNvSpPr/>
          <p:nvPr/>
        </p:nvSpPr>
        <p:spPr>
          <a:xfrm>
            <a:off x="1228680" y="3790800"/>
            <a:ext cx="6675480" cy="371520"/>
          </a:xfrm>
          <a:prstGeom prst="rect">
            <a:avLst/>
          </a:prstGeom>
          <a:solidFill>
            <a:srgbClr val="066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2108880" y="379080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）视企业为合作伙伴而非简单的商业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1351080" y="4222800"/>
            <a:ext cx="74293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06669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理解日系企业重视合作关系的企业文化特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06669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享资源明晰，专有资源确保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属合作体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219320" y="5446800"/>
            <a:ext cx="7610400" cy="792000"/>
          </a:xfrm>
          <a:prstGeom prst="rect">
            <a:avLst/>
          </a:prstGeom>
          <a:solidFill>
            <a:srgbClr val="d6e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9"/>
          <p:cNvSpPr/>
          <p:nvPr/>
        </p:nvSpPr>
        <p:spPr>
          <a:xfrm>
            <a:off x="1219320" y="5086440"/>
            <a:ext cx="6675480" cy="371520"/>
          </a:xfrm>
          <a:prstGeom prst="rect">
            <a:avLst/>
          </a:prstGeom>
          <a:solidFill>
            <a:srgbClr val="066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0"/>
          <p:cNvSpPr/>
          <p:nvPr/>
        </p:nvSpPr>
        <p:spPr>
          <a:xfrm>
            <a:off x="1870920" y="5086440"/>
            <a:ext cx="23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）长期合作的信任关系的确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1"/>
          <p:cNvSpPr/>
          <p:nvPr/>
        </p:nvSpPr>
        <p:spPr>
          <a:xfrm>
            <a:off x="1341360" y="5446800"/>
            <a:ext cx="74296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06669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合作者需要有比较充分的类似合作经验与成功案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06669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售后服务体系完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28"/>
          <p:cNvSpPr/>
          <p:nvPr/>
        </p:nvSpPr>
        <p:spPr>
          <a:xfrm>
            <a:off x="324000" y="1844640"/>
            <a:ext cx="39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如何选择</a:t>
            </a:r>
            <a:r>
              <a:rPr b="1" lang="zh-CN" sz="2400" spc="-1" strike="noStrike">
                <a:solidFill>
                  <a:srgbClr val="244061"/>
                </a:solidFill>
                <a:latin typeface="微软雅黑"/>
                <a:ea typeface="微软雅黑"/>
              </a:rPr>
              <a:t>IT</a:t>
            </a:r>
            <a:r>
              <a:rPr b="1" lang="zh-CN" sz="2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合作伙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5C53-ABF6-4A2D-8326-20C160A9D0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1314360" y="1328760"/>
            <a:ext cx="66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合各种线索不清晰的场合，人为找到线索串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榜单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46"/>
          <p:cNvSpPr/>
          <p:nvPr/>
        </p:nvSpPr>
        <p:spPr>
          <a:xfrm>
            <a:off x="2465280" y="836640"/>
            <a:ext cx="49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为难以整理的模块化结构提供一个线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多数字线索其实很勉强，不贴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直接连接符 14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6"/>
          <p:cNvSpPr/>
          <p:nvPr/>
        </p:nvSpPr>
        <p:spPr>
          <a:xfrm>
            <a:off x="1128600" y="186840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8"/>
          <p:cNvSpPr/>
          <p:nvPr/>
        </p:nvSpPr>
        <p:spPr>
          <a:xfrm>
            <a:off x="1785960" y="22003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9"/>
          <p:cNvSpPr/>
          <p:nvPr/>
        </p:nvSpPr>
        <p:spPr>
          <a:xfrm>
            <a:off x="1714680" y="242712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20"/>
          <p:cNvSpPr/>
          <p:nvPr/>
        </p:nvSpPr>
        <p:spPr>
          <a:xfrm>
            <a:off x="1128600" y="331164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22"/>
          <p:cNvSpPr/>
          <p:nvPr/>
        </p:nvSpPr>
        <p:spPr>
          <a:xfrm>
            <a:off x="1785960" y="37306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提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23"/>
          <p:cNvSpPr/>
          <p:nvPr/>
        </p:nvSpPr>
        <p:spPr>
          <a:xfrm>
            <a:off x="1714680" y="394488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24"/>
          <p:cNvSpPr/>
          <p:nvPr/>
        </p:nvSpPr>
        <p:spPr>
          <a:xfrm>
            <a:off x="1128600" y="476568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26"/>
          <p:cNvSpPr/>
          <p:nvPr/>
        </p:nvSpPr>
        <p:spPr>
          <a:xfrm>
            <a:off x="1785960" y="51116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关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27"/>
          <p:cNvSpPr/>
          <p:nvPr/>
        </p:nvSpPr>
        <p:spPr>
          <a:xfrm>
            <a:off x="1714680" y="532620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技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接连接符 28"/>
          <p:cNvSpPr/>
          <p:nvPr/>
        </p:nvSpPr>
        <p:spPr>
          <a:xfrm>
            <a:off x="3071880" y="2997360"/>
            <a:ext cx="53578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接连接符 29"/>
          <p:cNvSpPr/>
          <p:nvPr/>
        </p:nvSpPr>
        <p:spPr>
          <a:xfrm>
            <a:off x="3071880" y="4581360"/>
            <a:ext cx="53578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接连接符 30"/>
          <p:cNvSpPr/>
          <p:nvPr/>
        </p:nvSpPr>
        <p:spPr>
          <a:xfrm>
            <a:off x="3071880" y="6010200"/>
            <a:ext cx="53578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"/>
          <p:cNvSpPr/>
          <p:nvPr/>
        </p:nvSpPr>
        <p:spPr>
          <a:xfrm>
            <a:off x="3071880" y="2104920"/>
            <a:ext cx="56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了可实现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成了一条具有自主知识产权的</a:t>
            </a:r>
            <a:r>
              <a:rPr b="1" i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特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式混合型加工工艺</a:t>
            </a:r>
            <a:r>
              <a:rPr b="1" i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流程</a:t>
            </a: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实现了中式混合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工工艺的</a:t>
            </a: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大革新</a:t>
            </a: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"/>
          <p:cNvSpPr/>
          <p:nvPr/>
        </p:nvSpPr>
        <p:spPr>
          <a:xfrm>
            <a:off x="3071880" y="380052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次提出并研究建立关键技术，降低了成本和消耗，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提      高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加工质量的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稳定性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感官品质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显著提升加工制     造能力和质量控制水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"/>
          <p:cNvSpPr/>
          <p:nvPr/>
        </p:nvSpPr>
        <p:spPr>
          <a:xfrm>
            <a:off x="3143160" y="5131080"/>
            <a:ext cx="5286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性研究建立了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分步分比例加料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烘焙干燥一    体化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混加工处理技术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关键技术，并定制了     专属个性化加料及烘焙设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人物组合1"/>
          <p:cNvPicPr/>
          <p:nvPr/>
        </p:nvPicPr>
        <p:blipFill>
          <a:blip r:embed="rId1"/>
          <a:srcRect l="538" t="2250" r="93394" b="37437"/>
          <a:stretch/>
        </p:blipFill>
        <p:spPr>
          <a:xfrm>
            <a:off x="3279600" y="587520"/>
            <a:ext cx="355680" cy="5937120"/>
          </a:xfrm>
          <a:prstGeom prst="rect">
            <a:avLst/>
          </a:prstGeom>
          <a:ln w="0">
            <a:noFill/>
          </a:ln>
        </p:spPr>
      </p:pic>
      <p:sp>
        <p:nvSpPr>
          <p:cNvPr id="48" name="圆角矩形 3"/>
          <p:cNvSpPr/>
          <p:nvPr/>
        </p:nvSpPr>
        <p:spPr>
          <a:xfrm>
            <a:off x="3708360" y="736560"/>
            <a:ext cx="19432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模块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3564000" y="692280"/>
            <a:ext cx="360360" cy="3585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4"/>
          <p:cNvSpPr/>
          <p:nvPr/>
        </p:nvSpPr>
        <p:spPr>
          <a:xfrm>
            <a:off x="3708360" y="1482840"/>
            <a:ext cx="1943280" cy="57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时间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0"/>
          <p:cNvSpPr/>
          <p:nvPr/>
        </p:nvSpPr>
        <p:spPr>
          <a:xfrm>
            <a:off x="3564000" y="1438200"/>
            <a:ext cx="360360" cy="358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3708360" y="2239920"/>
            <a:ext cx="19432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地点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1"/>
          <p:cNvSpPr/>
          <p:nvPr/>
        </p:nvSpPr>
        <p:spPr>
          <a:xfrm>
            <a:off x="3564000" y="218268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6"/>
          <p:cNvSpPr/>
          <p:nvPr/>
        </p:nvSpPr>
        <p:spPr>
          <a:xfrm>
            <a:off x="3708360" y="2975040"/>
            <a:ext cx="1943280" cy="57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空间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2"/>
          <p:cNvSpPr/>
          <p:nvPr/>
        </p:nvSpPr>
        <p:spPr>
          <a:xfrm>
            <a:off x="3564000" y="29401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5"/>
          <p:cNvSpPr/>
          <p:nvPr/>
        </p:nvSpPr>
        <p:spPr>
          <a:xfrm>
            <a:off x="-219240" y="0"/>
            <a:ext cx="155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6"/>
          <p:cNvSpPr/>
          <p:nvPr/>
        </p:nvSpPr>
        <p:spPr>
          <a:xfrm>
            <a:off x="1075680" y="504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23"/>
          <p:cNvSpPr/>
          <p:nvPr/>
        </p:nvSpPr>
        <p:spPr>
          <a:xfrm>
            <a:off x="3708360" y="3708360"/>
            <a:ext cx="19432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问题</a:t>
            </a: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解决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31"/>
          <p:cNvSpPr/>
          <p:nvPr/>
        </p:nvSpPr>
        <p:spPr>
          <a:xfrm>
            <a:off x="3564000" y="36752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67"/>
          <p:cNvSpPr/>
          <p:nvPr/>
        </p:nvSpPr>
        <p:spPr>
          <a:xfrm>
            <a:off x="3708360" y="4441680"/>
            <a:ext cx="19432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议题</a:t>
            </a: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对策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68"/>
          <p:cNvSpPr/>
          <p:nvPr/>
        </p:nvSpPr>
        <p:spPr>
          <a:xfrm>
            <a:off x="3564000" y="440856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70"/>
          <p:cNvSpPr/>
          <p:nvPr/>
        </p:nvSpPr>
        <p:spPr>
          <a:xfrm>
            <a:off x="3708360" y="5176800"/>
            <a:ext cx="19432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机遇</a:t>
            </a: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手段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71"/>
          <p:cNvSpPr/>
          <p:nvPr/>
        </p:nvSpPr>
        <p:spPr>
          <a:xfrm>
            <a:off x="3564000" y="514368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73"/>
          <p:cNvSpPr/>
          <p:nvPr/>
        </p:nvSpPr>
        <p:spPr>
          <a:xfrm>
            <a:off x="3708360" y="5910120"/>
            <a:ext cx="19432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形式</a:t>
            </a: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功能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74"/>
          <p:cNvSpPr/>
          <p:nvPr/>
        </p:nvSpPr>
        <p:spPr>
          <a:xfrm>
            <a:off x="3564000" y="587700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人物组合1"/>
          <p:cNvPicPr/>
          <p:nvPr/>
        </p:nvPicPr>
        <p:blipFill>
          <a:blip r:embed="rId2"/>
          <a:srcRect l="538" t="2250" r="93394" b="37437"/>
          <a:stretch/>
        </p:blipFill>
        <p:spPr>
          <a:xfrm>
            <a:off x="8604360" y="620640"/>
            <a:ext cx="355320" cy="593748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77"/>
          <p:cNvSpPr/>
          <p:nvPr/>
        </p:nvSpPr>
        <p:spPr>
          <a:xfrm>
            <a:off x="6516720" y="736560"/>
            <a:ext cx="19429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特色</a:t>
            </a: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-</a:t>
            </a: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利益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78"/>
          <p:cNvSpPr/>
          <p:nvPr/>
        </p:nvSpPr>
        <p:spPr>
          <a:xfrm>
            <a:off x="6372360" y="692280"/>
            <a:ext cx="360360" cy="3585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80"/>
          <p:cNvSpPr/>
          <p:nvPr/>
        </p:nvSpPr>
        <p:spPr>
          <a:xfrm>
            <a:off x="6516720" y="1482840"/>
            <a:ext cx="1942920" cy="57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案例研究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81"/>
          <p:cNvSpPr/>
          <p:nvPr/>
        </p:nvSpPr>
        <p:spPr>
          <a:xfrm>
            <a:off x="6372360" y="1438200"/>
            <a:ext cx="360360" cy="358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83"/>
          <p:cNvSpPr/>
          <p:nvPr/>
        </p:nvSpPr>
        <p:spPr>
          <a:xfrm>
            <a:off x="6516720" y="2239920"/>
            <a:ext cx="19429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先抑后扬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84"/>
          <p:cNvSpPr/>
          <p:nvPr/>
        </p:nvSpPr>
        <p:spPr>
          <a:xfrm>
            <a:off x="6372360" y="218268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86"/>
          <p:cNvSpPr/>
          <p:nvPr/>
        </p:nvSpPr>
        <p:spPr>
          <a:xfrm>
            <a:off x="6516720" y="2975040"/>
            <a:ext cx="1942920" cy="57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比较对比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87"/>
          <p:cNvSpPr/>
          <p:nvPr/>
        </p:nvSpPr>
        <p:spPr>
          <a:xfrm>
            <a:off x="6372360" y="29401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89"/>
          <p:cNvSpPr/>
          <p:nvPr/>
        </p:nvSpPr>
        <p:spPr>
          <a:xfrm>
            <a:off x="6516720" y="3708360"/>
            <a:ext cx="19429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矩阵图表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90"/>
          <p:cNvSpPr/>
          <p:nvPr/>
        </p:nvSpPr>
        <p:spPr>
          <a:xfrm>
            <a:off x="6372360" y="36752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92"/>
          <p:cNvSpPr/>
          <p:nvPr/>
        </p:nvSpPr>
        <p:spPr>
          <a:xfrm>
            <a:off x="6516720" y="4441680"/>
            <a:ext cx="19429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平行结构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93"/>
          <p:cNvSpPr/>
          <p:nvPr/>
        </p:nvSpPr>
        <p:spPr>
          <a:xfrm>
            <a:off x="6372360" y="440856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95"/>
          <p:cNvSpPr/>
          <p:nvPr/>
        </p:nvSpPr>
        <p:spPr>
          <a:xfrm>
            <a:off x="6516720" y="5176800"/>
            <a:ext cx="19429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问自答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96"/>
          <p:cNvSpPr/>
          <p:nvPr/>
        </p:nvSpPr>
        <p:spPr>
          <a:xfrm>
            <a:off x="6372360" y="514368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98"/>
          <p:cNvSpPr/>
          <p:nvPr/>
        </p:nvSpPr>
        <p:spPr>
          <a:xfrm>
            <a:off x="6516720" y="5910120"/>
            <a:ext cx="19429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数字线索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99"/>
          <p:cNvSpPr/>
          <p:nvPr/>
        </p:nvSpPr>
        <p:spPr>
          <a:xfrm>
            <a:off x="6372360" y="587700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651640" y="64263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松散难以记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等腰三角形 1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7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2"/>
          <p:cNvSpPr/>
          <p:nvPr/>
        </p:nvSpPr>
        <p:spPr>
          <a:xfrm>
            <a:off x="2465280" y="8366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演讲内容各个单元之间可以自由组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28"/>
          <p:cNvSpPr/>
          <p:nvPr/>
        </p:nvSpPr>
        <p:spPr>
          <a:xfrm flipH="1" flipV="1">
            <a:off x="5019840" y="3650760"/>
            <a:ext cx="861840" cy="58284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29"/>
          <p:cNvSpPr/>
          <p:nvPr/>
        </p:nvSpPr>
        <p:spPr>
          <a:xfrm>
            <a:off x="2027160" y="3598920"/>
            <a:ext cx="576360" cy="69048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30"/>
          <p:cNvSpPr/>
          <p:nvPr/>
        </p:nvSpPr>
        <p:spPr>
          <a:xfrm flipV="1">
            <a:off x="3513240" y="3650760"/>
            <a:ext cx="436320" cy="63828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31"/>
          <p:cNvSpPr/>
          <p:nvPr/>
        </p:nvSpPr>
        <p:spPr>
          <a:xfrm flipV="1">
            <a:off x="6640560" y="3637080"/>
            <a:ext cx="669960" cy="59688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32"/>
          <p:cNvSpPr/>
          <p:nvPr/>
        </p:nvSpPr>
        <p:spPr>
          <a:xfrm>
            <a:off x="1081080" y="2652840"/>
            <a:ext cx="1108080" cy="1108080"/>
          </a:xfrm>
          <a:prstGeom prst="ellipse">
            <a:avLst/>
          </a:prstGeom>
          <a:solidFill>
            <a:srgbClr val="538cd5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33"/>
          <p:cNvSpPr/>
          <p:nvPr/>
        </p:nvSpPr>
        <p:spPr>
          <a:xfrm>
            <a:off x="2414520" y="4092480"/>
            <a:ext cx="1287360" cy="1352520"/>
          </a:xfrm>
          <a:prstGeom prst="ellipse">
            <a:avLst/>
          </a:prstGeom>
          <a:solidFill>
            <a:srgbClr val="538cd5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务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34"/>
          <p:cNvSpPr/>
          <p:nvPr/>
        </p:nvSpPr>
        <p:spPr>
          <a:xfrm>
            <a:off x="3727440" y="2292480"/>
            <a:ext cx="1514520" cy="1592280"/>
          </a:xfrm>
          <a:prstGeom prst="ellipse">
            <a:avLst/>
          </a:prstGeom>
          <a:solidFill>
            <a:srgbClr val="538cd5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38"/>
          <p:cNvSpPr/>
          <p:nvPr/>
        </p:nvSpPr>
        <p:spPr>
          <a:xfrm>
            <a:off x="5724360" y="4068720"/>
            <a:ext cx="1073160" cy="1128600"/>
          </a:xfrm>
          <a:prstGeom prst="ellipse">
            <a:avLst/>
          </a:prstGeom>
          <a:solidFill>
            <a:srgbClr val="538cd5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施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39"/>
          <p:cNvSpPr/>
          <p:nvPr/>
        </p:nvSpPr>
        <p:spPr>
          <a:xfrm>
            <a:off x="7161120" y="2724120"/>
            <a:ext cx="1017720" cy="1069920"/>
          </a:xfrm>
          <a:prstGeom prst="ellipse">
            <a:avLst/>
          </a:prstGeom>
          <a:solidFill>
            <a:srgbClr val="538cd5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典型案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40"/>
          <p:cNvSpPr/>
          <p:nvPr/>
        </p:nvSpPr>
        <p:spPr>
          <a:xfrm>
            <a:off x="971640" y="2793960"/>
            <a:ext cx="360360" cy="35892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41"/>
          <p:cNvSpPr/>
          <p:nvPr/>
        </p:nvSpPr>
        <p:spPr>
          <a:xfrm>
            <a:off x="2260440" y="4884840"/>
            <a:ext cx="360360" cy="35856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42"/>
          <p:cNvSpPr/>
          <p:nvPr/>
        </p:nvSpPr>
        <p:spPr>
          <a:xfrm>
            <a:off x="4348080" y="3733920"/>
            <a:ext cx="360360" cy="35856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43"/>
          <p:cNvSpPr/>
          <p:nvPr/>
        </p:nvSpPr>
        <p:spPr>
          <a:xfrm>
            <a:off x="5634000" y="4959360"/>
            <a:ext cx="360360" cy="35892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44"/>
          <p:cNvSpPr/>
          <p:nvPr/>
        </p:nvSpPr>
        <p:spPr>
          <a:xfrm>
            <a:off x="7013520" y="2901960"/>
            <a:ext cx="360360" cy="35892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4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1314360" y="1328760"/>
            <a:ext cx="47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根据需要自由组合选择其中几个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60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3C50-7040-4FB7-89AC-F594041FF2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1314360" y="132876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助于看清楚事情来龙去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6"/>
          <p:cNvSpPr/>
          <p:nvPr/>
        </p:nvSpPr>
        <p:spPr>
          <a:xfrm>
            <a:off x="2465280" y="8366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按时间先后顺序组织演讲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94"/>
          <p:cNvSpPr/>
          <p:nvPr/>
        </p:nvSpPr>
        <p:spPr>
          <a:xfrm>
            <a:off x="2432160" y="3587760"/>
            <a:ext cx="225360" cy="2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7"/>
          <p:cNvSpPr/>
          <p:nvPr/>
        </p:nvSpPr>
        <p:spPr>
          <a:xfrm>
            <a:off x="2544840" y="3708360"/>
            <a:ext cx="960480" cy="469800"/>
          </a:xfrm>
          <a:prstGeom prst="line">
            <a:avLst/>
          </a:prstGeom>
          <a:ln w="381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9"/>
          <p:cNvSpPr/>
          <p:nvPr/>
        </p:nvSpPr>
        <p:spPr>
          <a:xfrm>
            <a:off x="4400640" y="3191040"/>
            <a:ext cx="1409760" cy="1512720"/>
          </a:xfrm>
          <a:prstGeom prst="line">
            <a:avLst/>
          </a:prstGeom>
          <a:ln w="381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1"/>
          <p:cNvSpPr/>
          <p:nvPr/>
        </p:nvSpPr>
        <p:spPr>
          <a:xfrm flipV="1">
            <a:off x="5810400" y="2615760"/>
            <a:ext cx="1982520" cy="2089080"/>
          </a:xfrm>
          <a:prstGeom prst="line">
            <a:avLst/>
          </a:prstGeom>
          <a:ln w="381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5"/>
          <p:cNvSpPr/>
          <p:nvPr/>
        </p:nvSpPr>
        <p:spPr>
          <a:xfrm flipV="1">
            <a:off x="1114560" y="3708360"/>
            <a:ext cx="1430280" cy="1425600"/>
          </a:xfrm>
          <a:prstGeom prst="line">
            <a:avLst/>
          </a:prstGeom>
          <a:ln w="381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39"/>
          <p:cNvSpPr/>
          <p:nvPr/>
        </p:nvSpPr>
        <p:spPr>
          <a:xfrm flipV="1">
            <a:off x="3505320" y="3191040"/>
            <a:ext cx="895320" cy="987120"/>
          </a:xfrm>
          <a:prstGeom prst="line">
            <a:avLst/>
          </a:prstGeom>
          <a:ln w="381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59"/>
          <p:cNvSpPr/>
          <p:nvPr/>
        </p:nvSpPr>
        <p:spPr>
          <a:xfrm>
            <a:off x="2432160" y="3581280"/>
            <a:ext cx="22536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60"/>
          <p:cNvSpPr/>
          <p:nvPr/>
        </p:nvSpPr>
        <p:spPr>
          <a:xfrm>
            <a:off x="4287960" y="3048120"/>
            <a:ext cx="223560" cy="250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61"/>
          <p:cNvSpPr/>
          <p:nvPr/>
        </p:nvSpPr>
        <p:spPr>
          <a:xfrm>
            <a:off x="3421080" y="4054320"/>
            <a:ext cx="223920" cy="252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62"/>
          <p:cNvSpPr/>
          <p:nvPr/>
        </p:nvSpPr>
        <p:spPr>
          <a:xfrm>
            <a:off x="5695920" y="4578480"/>
            <a:ext cx="22536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98"/>
          <p:cNvSpPr/>
          <p:nvPr/>
        </p:nvSpPr>
        <p:spPr>
          <a:xfrm>
            <a:off x="3421080" y="4057560"/>
            <a:ext cx="22392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99"/>
          <p:cNvSpPr/>
          <p:nvPr/>
        </p:nvSpPr>
        <p:spPr>
          <a:xfrm>
            <a:off x="4287960" y="3038400"/>
            <a:ext cx="22356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100"/>
          <p:cNvSpPr/>
          <p:nvPr/>
        </p:nvSpPr>
        <p:spPr>
          <a:xfrm>
            <a:off x="5695920" y="4584600"/>
            <a:ext cx="22536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66"/>
          <p:cNvSpPr/>
          <p:nvPr/>
        </p:nvSpPr>
        <p:spPr>
          <a:xfrm>
            <a:off x="1003320" y="5008680"/>
            <a:ext cx="22392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67"/>
          <p:cNvSpPr/>
          <p:nvPr/>
        </p:nvSpPr>
        <p:spPr>
          <a:xfrm>
            <a:off x="7682040" y="2529000"/>
            <a:ext cx="223560" cy="2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8"/>
          <p:cNvSpPr/>
          <p:nvPr/>
        </p:nvSpPr>
        <p:spPr>
          <a:xfrm>
            <a:off x="993600" y="5324400"/>
            <a:ext cx="1151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微软雅黑"/>
              </a:rPr>
              <a:t>1990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发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**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9"/>
          <p:cNvSpPr/>
          <p:nvPr/>
        </p:nvSpPr>
        <p:spPr>
          <a:xfrm>
            <a:off x="1963800" y="2889360"/>
            <a:ext cx="145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微软雅黑"/>
              </a:rPr>
              <a:t>1997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获得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86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扶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0"/>
          <p:cNvSpPr/>
          <p:nvPr/>
        </p:nvSpPr>
        <p:spPr>
          <a:xfrm>
            <a:off x="3330720" y="4336920"/>
            <a:ext cx="145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微软雅黑"/>
              </a:rPr>
              <a:t>2005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发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WE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1"/>
          <p:cNvSpPr/>
          <p:nvPr/>
        </p:nvSpPr>
        <p:spPr>
          <a:xfrm>
            <a:off x="4195800" y="2271600"/>
            <a:ext cx="1455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微软雅黑"/>
              </a:rPr>
              <a:t>2005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发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WE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2"/>
          <p:cNvSpPr/>
          <p:nvPr/>
        </p:nvSpPr>
        <p:spPr>
          <a:xfrm>
            <a:off x="5594400" y="4862520"/>
            <a:ext cx="145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微软雅黑"/>
              </a:rPr>
              <a:t>2010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客户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0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3"/>
          <p:cNvSpPr/>
          <p:nvPr/>
        </p:nvSpPr>
        <p:spPr>
          <a:xfrm>
            <a:off x="7507440" y="1889280"/>
            <a:ext cx="145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微软雅黑"/>
              </a:rPr>
              <a:t>2012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发布移动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所有的演讲都能整理出时间轴，也不容易快速切入重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77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37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4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48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4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2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3"/>
                            </p:stCondLst>
                            <p:childTnLst>
                              <p:par>
                                <p:cTn id="59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4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3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4"/>
                            </p:stCondLst>
                            <p:childTnLst>
                              <p:par>
                                <p:cTn id="70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4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4"/>
                            </p:stCondLst>
                            <p:childTnLst>
                              <p:par>
                                <p:cTn id="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4"/>
                            </p:stCondLst>
                            <p:childTnLst>
                              <p:par>
                                <p:cTn id="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4"/>
                            </p:stCondLst>
                            <p:childTnLst>
                              <p:par>
                                <p:cTn id="1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1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504"/>
                            </p:stCondLst>
                            <p:childTnLst>
                              <p:par>
                                <p:cTn id="1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4"/>
                            </p:stCondLst>
                            <p:childTnLst>
                              <p:par>
                                <p:cTn id="1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7DEE-5165-49CF-AFB5-9B7B5B67E4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1314360" y="1328760"/>
            <a:ext cx="40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合和地理信息结合紧密的业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6"/>
          <p:cNvSpPr/>
          <p:nvPr/>
        </p:nvSpPr>
        <p:spPr>
          <a:xfrm>
            <a:off x="2465280" y="8366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按地理位置变化组织演讲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所有的素材都能整理出地理轴，往往需要和动画配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-15840" y="1806480"/>
            <a:ext cx="9153360" cy="4548240"/>
          </a:xfrm>
          <a:prstGeom prst="rect">
            <a:avLst/>
          </a:prstGeom>
          <a:ln w="0">
            <a:noFill/>
          </a:ln>
        </p:spPr>
      </p:pic>
      <p:sp>
        <p:nvSpPr>
          <p:cNvPr id="165" name="直接连接符 28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CD47-3869-4141-A9B1-4CA37AF5F6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1314360" y="1328760"/>
            <a:ext cx="66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合由内向外或反之，或者自上而下或反之，或者区域切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空间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6"/>
          <p:cNvSpPr/>
          <p:nvPr/>
        </p:nvSpPr>
        <p:spPr>
          <a:xfrm>
            <a:off x="2465280" y="8366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象征性，概念化的空间化比喻视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到特别符合记忆结构的空间信息并不容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373040" y="1889280"/>
            <a:ext cx="6980400" cy="4419360"/>
          </a:xfrm>
          <a:prstGeom prst="rect">
            <a:avLst/>
          </a:prstGeom>
          <a:ln w="0">
            <a:noFill/>
          </a:ln>
        </p:spPr>
      </p:pic>
      <p:sp>
        <p:nvSpPr>
          <p:cNvPr id="182" name="直接连接符 77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F3DF-475E-4E54-8872-248856EAA6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56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抛出的问题很容易是你关心的，而不是听众关心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4"/>
          <p:cNvGrpSpPr/>
          <p:nvPr/>
        </p:nvGrpSpPr>
        <p:grpSpPr>
          <a:xfrm>
            <a:off x="368280" y="1889280"/>
            <a:ext cx="5915160" cy="1036440"/>
            <a:chOff x="368280" y="1889280"/>
            <a:chExt cx="5915160" cy="1036440"/>
          </a:xfrm>
        </p:grpSpPr>
        <p:grpSp>
          <p:nvGrpSpPr>
            <p:cNvPr id="197" name="Group 15"/>
            <p:cNvGrpSpPr/>
            <p:nvPr/>
          </p:nvGrpSpPr>
          <p:grpSpPr>
            <a:xfrm>
              <a:off x="368280" y="1889280"/>
              <a:ext cx="1107000" cy="1027800"/>
              <a:chOff x="368280" y="1889280"/>
              <a:chExt cx="1107000" cy="1027800"/>
            </a:xfrm>
          </p:grpSpPr>
          <p:grpSp>
            <p:nvGrpSpPr>
              <p:cNvPr id="198" name="Group 16"/>
              <p:cNvGrpSpPr/>
              <p:nvPr/>
            </p:nvGrpSpPr>
            <p:grpSpPr>
              <a:xfrm>
                <a:off x="368280" y="1889280"/>
                <a:ext cx="991080" cy="1027800"/>
                <a:chOff x="368280" y="1889280"/>
                <a:chExt cx="991080" cy="1027800"/>
              </a:xfrm>
            </p:grpSpPr>
            <p:sp>
              <p:nvSpPr>
                <p:cNvPr id="199" name="直接连接符 62"/>
                <p:cNvSpPr/>
                <p:nvPr/>
              </p:nvSpPr>
              <p:spPr>
                <a:xfrm>
                  <a:off x="368280" y="1900440"/>
                  <a:ext cx="0" cy="101376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直接连接符 63"/>
                <p:cNvSpPr/>
                <p:nvPr/>
              </p:nvSpPr>
              <p:spPr>
                <a:xfrm>
                  <a:off x="368280" y="1894320"/>
                  <a:ext cx="991080" cy="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直接连接符 64"/>
                <p:cNvSpPr/>
                <p:nvPr/>
              </p:nvSpPr>
              <p:spPr>
                <a:xfrm>
                  <a:off x="1359360" y="1900440"/>
                  <a:ext cx="0" cy="101376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直接连接符 65"/>
                <p:cNvSpPr/>
                <p:nvPr/>
              </p:nvSpPr>
              <p:spPr>
                <a:xfrm flipV="1">
                  <a:off x="368280" y="2903400"/>
                  <a:ext cx="991080" cy="1368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直接连接符 66"/>
                <p:cNvSpPr/>
                <p:nvPr/>
              </p:nvSpPr>
              <p:spPr>
                <a:xfrm>
                  <a:off x="368280" y="1889280"/>
                  <a:ext cx="991080" cy="101376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直接连接符 67"/>
                <p:cNvSpPr/>
                <p:nvPr/>
              </p:nvSpPr>
              <p:spPr>
                <a:xfrm flipV="1">
                  <a:off x="368280" y="1889280"/>
                  <a:ext cx="991080" cy="101376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直接连接符 68"/>
                <p:cNvSpPr/>
                <p:nvPr/>
              </p:nvSpPr>
              <p:spPr>
                <a:xfrm>
                  <a:off x="877320" y="1907640"/>
                  <a:ext cx="0" cy="100944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直接连接符 69"/>
                <p:cNvSpPr/>
                <p:nvPr/>
              </p:nvSpPr>
              <p:spPr>
                <a:xfrm>
                  <a:off x="368280" y="2404800"/>
                  <a:ext cx="991080" cy="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TextBox 61"/>
              <p:cNvSpPr/>
              <p:nvPr/>
            </p:nvSpPr>
            <p:spPr>
              <a:xfrm>
                <a:off x="439200" y="1889280"/>
                <a:ext cx="1036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踢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26"/>
            <p:cNvGrpSpPr/>
            <p:nvPr/>
          </p:nvGrpSpPr>
          <p:grpSpPr>
            <a:xfrm>
              <a:off x="1629360" y="1889280"/>
              <a:ext cx="1141920" cy="1027800"/>
              <a:chOff x="1629360" y="1889280"/>
              <a:chExt cx="1141920" cy="1027800"/>
            </a:xfrm>
          </p:grpSpPr>
          <p:grpSp>
            <p:nvGrpSpPr>
              <p:cNvPr id="209" name="Group 27"/>
              <p:cNvGrpSpPr/>
              <p:nvPr/>
            </p:nvGrpSpPr>
            <p:grpSpPr>
              <a:xfrm>
                <a:off x="1629360" y="1889280"/>
                <a:ext cx="991080" cy="1027800"/>
                <a:chOff x="1629360" y="1889280"/>
                <a:chExt cx="991080" cy="1027800"/>
              </a:xfrm>
            </p:grpSpPr>
            <p:sp>
              <p:nvSpPr>
                <p:cNvPr id="210" name="直接连接符 73"/>
                <p:cNvSpPr/>
                <p:nvPr/>
              </p:nvSpPr>
              <p:spPr>
                <a:xfrm>
                  <a:off x="1629360" y="1900440"/>
                  <a:ext cx="0" cy="101376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直接连接符 77"/>
                <p:cNvSpPr/>
                <p:nvPr/>
              </p:nvSpPr>
              <p:spPr>
                <a:xfrm>
                  <a:off x="1629360" y="1894320"/>
                  <a:ext cx="991080" cy="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直接连接符 78"/>
                <p:cNvSpPr/>
                <p:nvPr/>
              </p:nvSpPr>
              <p:spPr>
                <a:xfrm>
                  <a:off x="2620440" y="1900440"/>
                  <a:ext cx="0" cy="101376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直接连接符 79"/>
                <p:cNvSpPr/>
                <p:nvPr/>
              </p:nvSpPr>
              <p:spPr>
                <a:xfrm flipV="1">
                  <a:off x="1629360" y="2903400"/>
                  <a:ext cx="991080" cy="1368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直接连接符 80"/>
                <p:cNvSpPr/>
                <p:nvPr/>
              </p:nvSpPr>
              <p:spPr>
                <a:xfrm>
                  <a:off x="1629360" y="1889280"/>
                  <a:ext cx="991080" cy="101376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直接连接符 81"/>
                <p:cNvSpPr/>
                <p:nvPr/>
              </p:nvSpPr>
              <p:spPr>
                <a:xfrm flipV="1">
                  <a:off x="1629360" y="1889280"/>
                  <a:ext cx="991080" cy="101376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直接连接符 82"/>
                <p:cNvSpPr/>
                <p:nvPr/>
              </p:nvSpPr>
              <p:spPr>
                <a:xfrm>
                  <a:off x="2138400" y="1907640"/>
                  <a:ext cx="0" cy="100944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83"/>
                <p:cNvSpPr/>
                <p:nvPr/>
              </p:nvSpPr>
              <p:spPr>
                <a:xfrm>
                  <a:off x="1629360" y="2404800"/>
                  <a:ext cx="991080" cy="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TextBox 72"/>
              <p:cNvSpPr/>
              <p:nvPr/>
            </p:nvSpPr>
            <p:spPr>
              <a:xfrm>
                <a:off x="1735200" y="1906560"/>
                <a:ext cx="1036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屁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37"/>
            <p:cNvGrpSpPr/>
            <p:nvPr/>
          </p:nvGrpSpPr>
          <p:grpSpPr>
            <a:xfrm>
              <a:off x="2890440" y="1895400"/>
              <a:ext cx="1104480" cy="1030320"/>
              <a:chOff x="2890440" y="1895400"/>
              <a:chExt cx="1104480" cy="1030320"/>
            </a:xfrm>
          </p:grpSpPr>
          <p:grpSp>
            <p:nvGrpSpPr>
              <p:cNvPr id="220" name="Group 38"/>
              <p:cNvGrpSpPr/>
              <p:nvPr/>
            </p:nvGrpSpPr>
            <p:grpSpPr>
              <a:xfrm>
                <a:off x="2890440" y="1897200"/>
                <a:ext cx="990720" cy="1028520"/>
                <a:chOff x="2890440" y="1897200"/>
                <a:chExt cx="990720" cy="1028520"/>
              </a:xfrm>
            </p:grpSpPr>
            <p:sp>
              <p:nvSpPr>
                <p:cNvPr id="221" name="直接连接符 87"/>
                <p:cNvSpPr/>
                <p:nvPr/>
              </p:nvSpPr>
              <p:spPr>
                <a:xfrm>
                  <a:off x="2890440" y="1908720"/>
                  <a:ext cx="0" cy="101412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88"/>
                <p:cNvSpPr/>
                <p:nvPr/>
              </p:nvSpPr>
              <p:spPr>
                <a:xfrm>
                  <a:off x="2890440" y="1902600"/>
                  <a:ext cx="990720" cy="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直接连接符 89"/>
                <p:cNvSpPr/>
                <p:nvPr/>
              </p:nvSpPr>
              <p:spPr>
                <a:xfrm>
                  <a:off x="3881160" y="1908720"/>
                  <a:ext cx="0" cy="101412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直接连接符 90"/>
                <p:cNvSpPr/>
                <p:nvPr/>
              </p:nvSpPr>
              <p:spPr>
                <a:xfrm flipV="1">
                  <a:off x="2890440" y="2912040"/>
                  <a:ext cx="990720" cy="1368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直接连接符 91"/>
                <p:cNvSpPr/>
                <p:nvPr/>
              </p:nvSpPr>
              <p:spPr>
                <a:xfrm>
                  <a:off x="2890440" y="1897560"/>
                  <a:ext cx="990720" cy="101412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直接连接符 92"/>
                <p:cNvSpPr/>
                <p:nvPr/>
              </p:nvSpPr>
              <p:spPr>
                <a:xfrm flipV="1">
                  <a:off x="2890440" y="1897200"/>
                  <a:ext cx="990720" cy="101412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直接连接符 93"/>
                <p:cNvSpPr/>
                <p:nvPr/>
              </p:nvSpPr>
              <p:spPr>
                <a:xfrm>
                  <a:off x="3399120" y="1915920"/>
                  <a:ext cx="0" cy="100980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直接连接符 94"/>
                <p:cNvSpPr/>
                <p:nvPr/>
              </p:nvSpPr>
              <p:spPr>
                <a:xfrm>
                  <a:off x="2890440" y="2413440"/>
                  <a:ext cx="990720" cy="0"/>
                </a:xfrm>
                <a:prstGeom prst="line">
                  <a:avLst/>
                </a:prstGeom>
                <a:ln w="442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Box 86"/>
              <p:cNvSpPr/>
              <p:nvPr/>
            </p:nvSpPr>
            <p:spPr>
              <a:xfrm>
                <a:off x="2959200" y="1895400"/>
                <a:ext cx="1035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屁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Box 95"/>
            <p:cNvSpPr/>
            <p:nvPr/>
          </p:nvSpPr>
          <p:spPr>
            <a:xfrm>
              <a:off x="3941280" y="1929960"/>
              <a:ext cx="234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呢？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Box 96"/>
          <p:cNvSpPr/>
          <p:nvPr/>
        </p:nvSpPr>
        <p:spPr>
          <a:xfrm>
            <a:off x="4651200" y="2782800"/>
            <a:ext cx="37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最重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等腰三角形 97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1314360" y="1328760"/>
            <a:ext cx="66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够立即就听众关心的问题展开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9"/>
          <p:cNvSpPr/>
          <p:nvPr/>
        </p:nvSpPr>
        <p:spPr>
          <a:xfrm>
            <a:off x="900000" y="440676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0"/>
          <p:cNvSpPr/>
          <p:nvPr/>
        </p:nvSpPr>
        <p:spPr>
          <a:xfrm>
            <a:off x="1519200" y="44053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与菜鸟的区别在于     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1"/>
          <p:cNvSpPr/>
          <p:nvPr/>
        </p:nvSpPr>
        <p:spPr>
          <a:xfrm>
            <a:off x="4098960" y="4124160"/>
            <a:ext cx="1677960" cy="4222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743200" h="690113">
                <a:moveTo>
                  <a:pt x="0" y="0"/>
                </a:moveTo>
                <a:cubicBezTo>
                  <a:pt x="46008" y="5751"/>
                  <a:pt x="92405" y="8959"/>
                  <a:pt x="138023" y="17253"/>
                </a:cubicBezTo>
                <a:cubicBezTo>
                  <a:pt x="155916" y="20506"/>
                  <a:pt x="175580" y="23145"/>
                  <a:pt x="189781" y="34506"/>
                </a:cubicBezTo>
                <a:cubicBezTo>
                  <a:pt x="205973" y="47459"/>
                  <a:pt x="208095" y="73311"/>
                  <a:pt x="224287" y="86264"/>
                </a:cubicBezTo>
                <a:cubicBezTo>
                  <a:pt x="238488" y="97625"/>
                  <a:pt x="259426" y="96131"/>
                  <a:pt x="276045" y="103517"/>
                </a:cubicBezTo>
                <a:cubicBezTo>
                  <a:pt x="311298" y="119185"/>
                  <a:pt x="344309" y="139607"/>
                  <a:pt x="379562" y="155275"/>
                </a:cubicBezTo>
                <a:cubicBezTo>
                  <a:pt x="396181" y="162661"/>
                  <a:pt x="413902" y="167302"/>
                  <a:pt x="431321" y="172528"/>
                </a:cubicBezTo>
                <a:cubicBezTo>
                  <a:pt x="471423" y="184559"/>
                  <a:pt x="513013" y="192005"/>
                  <a:pt x="552090" y="207034"/>
                </a:cubicBezTo>
                <a:cubicBezTo>
                  <a:pt x="783718" y="296122"/>
                  <a:pt x="552474" y="233009"/>
                  <a:pt x="724619" y="276045"/>
                </a:cubicBezTo>
                <a:cubicBezTo>
                  <a:pt x="764876" y="299049"/>
                  <a:pt x="805631" y="321202"/>
                  <a:pt x="845389" y="345057"/>
                </a:cubicBezTo>
                <a:cubicBezTo>
                  <a:pt x="863169" y="355725"/>
                  <a:pt x="878601" y="370289"/>
                  <a:pt x="897147" y="379562"/>
                </a:cubicBezTo>
                <a:cubicBezTo>
                  <a:pt x="921898" y="391937"/>
                  <a:pt x="995806" y="408540"/>
                  <a:pt x="1017917" y="414068"/>
                </a:cubicBezTo>
                <a:cubicBezTo>
                  <a:pt x="1172528" y="530026"/>
                  <a:pt x="1108089" y="485684"/>
                  <a:pt x="1207698" y="552091"/>
                </a:cubicBezTo>
                <a:cubicBezTo>
                  <a:pt x="1219474" y="587418"/>
                  <a:pt x="1228585" y="629881"/>
                  <a:pt x="1259457" y="655608"/>
                </a:cubicBezTo>
                <a:cubicBezTo>
                  <a:pt x="1279215" y="672073"/>
                  <a:pt x="1305464" y="678611"/>
                  <a:pt x="1328468" y="690113"/>
                </a:cubicBezTo>
                <a:cubicBezTo>
                  <a:pt x="1388247" y="675168"/>
                  <a:pt x="1403414" y="679596"/>
                  <a:pt x="1449238" y="638355"/>
                </a:cubicBezTo>
                <a:cubicBezTo>
                  <a:pt x="1607935" y="495528"/>
                  <a:pt x="1505962" y="533596"/>
                  <a:pt x="1639019" y="500332"/>
                </a:cubicBezTo>
                <a:cubicBezTo>
                  <a:pt x="1835148" y="336892"/>
                  <a:pt x="1654111" y="478768"/>
                  <a:pt x="1828800" y="362309"/>
                </a:cubicBezTo>
                <a:cubicBezTo>
                  <a:pt x="1852725" y="346359"/>
                  <a:pt x="1872973" y="325040"/>
                  <a:pt x="1897811" y="310551"/>
                </a:cubicBezTo>
                <a:cubicBezTo>
                  <a:pt x="1942242" y="284633"/>
                  <a:pt x="1993035" y="270073"/>
                  <a:pt x="2035834" y="241540"/>
                </a:cubicBezTo>
                <a:cubicBezTo>
                  <a:pt x="2161923" y="157479"/>
                  <a:pt x="2003392" y="260077"/>
                  <a:pt x="2156604" y="172528"/>
                </a:cubicBezTo>
                <a:cubicBezTo>
                  <a:pt x="2174607" y="162241"/>
                  <a:pt x="2189303" y="146191"/>
                  <a:pt x="2208362" y="138023"/>
                </a:cubicBezTo>
                <a:cubicBezTo>
                  <a:pt x="2230157" y="128682"/>
                  <a:pt x="2253738" y="122661"/>
                  <a:pt x="2277374" y="120770"/>
                </a:cubicBezTo>
                <a:cubicBezTo>
                  <a:pt x="2397895" y="111128"/>
                  <a:pt x="2518913" y="109268"/>
                  <a:pt x="2639683" y="103517"/>
                </a:cubicBezTo>
                <a:cubicBezTo>
                  <a:pt x="2707809" y="80808"/>
                  <a:pt x="2673255" y="86264"/>
                  <a:pt x="2743200" y="86264"/>
                </a:cubicBez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02"/>
          <p:cNvSpPr/>
          <p:nvPr/>
        </p:nvSpPr>
        <p:spPr>
          <a:xfrm>
            <a:off x="4375080" y="3759120"/>
            <a:ext cx="13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10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6013440" y="4637160"/>
            <a:ext cx="1866960" cy="12747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04"/>
          <p:cNvSpPr/>
          <p:nvPr/>
        </p:nvSpPr>
        <p:spPr>
          <a:xfrm>
            <a:off x="2465280" y="836640"/>
            <a:ext cx="49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抛出吸引人的问题，提供给力的解决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419E-78B5-4663-803C-95F4D8D7F1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1314360" y="1328760"/>
            <a:ext cx="66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合讨论正在转型，需要改变的业务，或者细化后有相关性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议题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策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6"/>
          <p:cNvSpPr/>
          <p:nvPr/>
        </p:nvSpPr>
        <p:spPr>
          <a:xfrm>
            <a:off x="2465280" y="836640"/>
            <a:ext cx="48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问题往往展示短处，而议题往往展示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议题是委婉的问题，所以你很难真正把它和前一种结构区分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14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7"/>
          <p:cNvGrpSpPr/>
          <p:nvPr/>
        </p:nvGrpSpPr>
        <p:grpSpPr>
          <a:xfrm>
            <a:off x="1549440" y="2781360"/>
            <a:ext cx="8712000" cy="3351600"/>
            <a:chOff x="1549440" y="2781360"/>
            <a:chExt cx="8712000" cy="3351600"/>
          </a:xfrm>
        </p:grpSpPr>
        <p:pic>
          <p:nvPicPr>
            <p:cNvPr id="257" name="图片 15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4483080" y="3792240"/>
              <a:ext cx="1625760" cy="110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任意多边形 17"/>
            <p:cNvSpPr/>
            <p:nvPr/>
          </p:nvSpPr>
          <p:spPr>
            <a:xfrm>
              <a:off x="6001560" y="3273480"/>
              <a:ext cx="1090800" cy="672840"/>
            </a:xfrm>
            <a:custGeom>
              <a:avLst/>
              <a:gdLst>
                <a:gd name="textAreaLeft" fmla="*/ 0 w 1090800"/>
                <a:gd name="textAreaRight" fmla="*/ 1091160 w 109080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1138687" h="828135">
                  <a:moveTo>
                    <a:pt x="0" y="828135"/>
                  </a:moveTo>
                  <a:cubicBezTo>
                    <a:pt x="284671" y="707365"/>
                    <a:pt x="569343" y="586595"/>
                    <a:pt x="759124" y="448573"/>
                  </a:cubicBezTo>
                  <a:cubicBezTo>
                    <a:pt x="948905" y="310551"/>
                    <a:pt x="1066800" y="83389"/>
                    <a:pt x="11386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任意多边形 18"/>
            <p:cNvSpPr/>
            <p:nvPr/>
          </p:nvSpPr>
          <p:spPr>
            <a:xfrm>
              <a:off x="6188760" y="4669920"/>
              <a:ext cx="1423080" cy="494640"/>
            </a:xfrm>
            <a:custGeom>
              <a:avLst/>
              <a:gdLst>
                <a:gd name="textAreaLeft" fmla="*/ 0 w 1423080"/>
                <a:gd name="textAreaRight" fmla="*/ 1423440 w 142308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742536" h="609135">
                  <a:moveTo>
                    <a:pt x="0" y="0"/>
                  </a:moveTo>
                  <a:cubicBezTo>
                    <a:pt x="242977" y="277483"/>
                    <a:pt x="485954" y="554966"/>
                    <a:pt x="776377" y="603849"/>
                  </a:cubicBezTo>
                  <a:cubicBezTo>
                    <a:pt x="1066800" y="652732"/>
                    <a:pt x="1572883" y="347932"/>
                    <a:pt x="1742536" y="29329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19"/>
            <p:cNvSpPr/>
            <p:nvPr/>
          </p:nvSpPr>
          <p:spPr>
            <a:xfrm>
              <a:off x="4659120" y="4897800"/>
              <a:ext cx="973800" cy="1121040"/>
            </a:xfrm>
            <a:custGeom>
              <a:avLst/>
              <a:gdLst>
                <a:gd name="textAreaLeft" fmla="*/ 0 w 973800"/>
                <a:gd name="textAreaRight" fmla="*/ 973800 w 97380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192463" h="1055213">
                  <a:moveTo>
                    <a:pt x="1155940" y="37296"/>
                  </a:moveTo>
                  <a:cubicBezTo>
                    <a:pt x="1187570" y="-1523"/>
                    <a:pt x="1219200" y="-40342"/>
                    <a:pt x="1155940" y="89054"/>
                  </a:cubicBezTo>
                  <a:cubicBezTo>
                    <a:pt x="1092680" y="218450"/>
                    <a:pt x="969035" y="652647"/>
                    <a:pt x="776378" y="813673"/>
                  </a:cubicBezTo>
                  <a:cubicBezTo>
                    <a:pt x="583721" y="974699"/>
                    <a:pt x="132272" y="1017832"/>
                    <a:pt x="0" y="10552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20"/>
            <p:cNvSpPr/>
            <p:nvPr/>
          </p:nvSpPr>
          <p:spPr>
            <a:xfrm>
              <a:off x="2483280" y="4470480"/>
              <a:ext cx="1704960" cy="32436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2087592" h="399509">
                  <a:moveTo>
                    <a:pt x="2087592" y="0"/>
                  </a:moveTo>
                  <a:cubicBezTo>
                    <a:pt x="1787105" y="184030"/>
                    <a:pt x="1486618" y="368060"/>
                    <a:pt x="1138686" y="396815"/>
                  </a:cubicBezTo>
                  <a:cubicBezTo>
                    <a:pt x="790754" y="425570"/>
                    <a:pt x="204158" y="215661"/>
                    <a:pt x="0" y="172529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21"/>
            <p:cNvSpPr/>
            <p:nvPr/>
          </p:nvSpPr>
          <p:spPr>
            <a:xfrm>
              <a:off x="2517120" y="2781360"/>
              <a:ext cx="26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谁看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22"/>
            <p:cNvSpPr/>
            <p:nvPr/>
          </p:nvSpPr>
          <p:spPr>
            <a:xfrm>
              <a:off x="7261920" y="2848320"/>
              <a:ext cx="26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想要说什么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23"/>
            <p:cNvSpPr/>
            <p:nvPr/>
          </p:nvSpPr>
          <p:spPr>
            <a:xfrm>
              <a:off x="7614720" y="4763520"/>
              <a:ext cx="26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什么场合说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24"/>
            <p:cNvSpPr/>
            <p:nvPr/>
          </p:nvSpPr>
          <p:spPr>
            <a:xfrm>
              <a:off x="3227040" y="5795640"/>
              <a:ext cx="26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到什么目的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25"/>
            <p:cNvSpPr/>
            <p:nvPr/>
          </p:nvSpPr>
          <p:spPr>
            <a:xfrm>
              <a:off x="1549440" y="4247640"/>
              <a:ext cx="26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要说多长时间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27"/>
          <p:cNvSpPr/>
          <p:nvPr/>
        </p:nvSpPr>
        <p:spPr>
          <a:xfrm>
            <a:off x="324000" y="1897200"/>
            <a:ext cx="39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1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听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16C9-1AC3-42B0-BC6B-56290F076F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7"/>
          <p:cNvSpPr/>
          <p:nvPr/>
        </p:nvSpPr>
        <p:spPr>
          <a:xfrm>
            <a:off x="5796000" y="409680"/>
            <a:ext cx="3348000" cy="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5613480" y="3168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魏斯曼演讲圣经》读书笔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4"/>
          <p:cNvSpPr/>
          <p:nvPr/>
        </p:nvSpPr>
        <p:spPr>
          <a:xfrm rot="16200000">
            <a:off x="4294080" y="20440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35"/>
          <p:cNvSpPr/>
          <p:nvPr/>
        </p:nvSpPr>
        <p:spPr>
          <a:xfrm>
            <a:off x="393840" y="476280"/>
            <a:ext cx="2071440" cy="787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393840" y="1190520"/>
            <a:ext cx="207144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50"/>
          <p:cNvSpPr/>
          <p:nvPr/>
        </p:nvSpPr>
        <p:spPr>
          <a:xfrm rot="16200000">
            <a:off x="4294080" y="-3046680"/>
            <a:ext cx="539640" cy="91598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等腰三角形 51"/>
          <p:cNvSpPr/>
          <p:nvPr/>
        </p:nvSpPr>
        <p:spPr>
          <a:xfrm flipV="1" rot="16200000">
            <a:off x="972720" y="1411200"/>
            <a:ext cx="35856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3"/>
          <p:cNvSpPr/>
          <p:nvPr/>
        </p:nvSpPr>
        <p:spPr>
          <a:xfrm>
            <a:off x="361800" y="13320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3"/>
          <p:cNvSpPr/>
          <p:nvPr/>
        </p:nvSpPr>
        <p:spPr>
          <a:xfrm>
            <a:off x="1314360" y="1328760"/>
            <a:ext cx="66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合高速成长性行业，或者信息不对称的场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5"/>
          <p:cNvSpPr/>
          <p:nvPr/>
        </p:nvSpPr>
        <p:spPr>
          <a:xfrm>
            <a:off x="179280" y="596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遇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段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6"/>
          <p:cNvSpPr/>
          <p:nvPr/>
        </p:nvSpPr>
        <p:spPr>
          <a:xfrm>
            <a:off x="2465280" y="836640"/>
            <a:ext cx="61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描述机会，展示潜力，强调该如何做，而不是为什么要做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74"/>
          <p:cNvSpPr/>
          <p:nvPr/>
        </p:nvSpPr>
        <p:spPr>
          <a:xfrm>
            <a:off x="993600" y="6426360"/>
            <a:ext cx="67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部分机遇都经不起推敲，所以忽悠是必须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等腰三角形 75"/>
          <p:cNvSpPr/>
          <p:nvPr/>
        </p:nvSpPr>
        <p:spPr>
          <a:xfrm rot="16200000">
            <a:off x="7704000" y="6514920"/>
            <a:ext cx="35712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6"/>
          <p:cNvSpPr/>
          <p:nvPr/>
        </p:nvSpPr>
        <p:spPr>
          <a:xfrm>
            <a:off x="7956720" y="6407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14"/>
          <p:cNvSpPr/>
          <p:nvPr/>
        </p:nvSpPr>
        <p:spPr>
          <a:xfrm flipV="1">
            <a:off x="393840" y="1215720"/>
            <a:ext cx="8210520" cy="11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椭圆 15"/>
          <p:cNvSpPr/>
          <p:nvPr/>
        </p:nvSpPr>
        <p:spPr>
          <a:xfrm>
            <a:off x="1044720" y="2781360"/>
            <a:ext cx="1584360" cy="1511280"/>
          </a:xfrm>
          <a:prstGeom prst="ellipse">
            <a:avLst/>
          </a:prstGeom>
          <a:noFill/>
          <a:ln w="25560">
            <a:solidFill>
              <a:srgbClr val="93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16"/>
          <p:cNvSpPr/>
          <p:nvPr/>
        </p:nvSpPr>
        <p:spPr>
          <a:xfrm>
            <a:off x="3060720" y="2781360"/>
            <a:ext cx="1584360" cy="1511280"/>
          </a:xfrm>
          <a:prstGeom prst="ellipse">
            <a:avLst/>
          </a:prstGeom>
          <a:noFill/>
          <a:ln w="25560">
            <a:solidFill>
              <a:srgbClr val="93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17"/>
          <p:cNvSpPr/>
          <p:nvPr/>
        </p:nvSpPr>
        <p:spPr>
          <a:xfrm>
            <a:off x="5076720" y="2781360"/>
            <a:ext cx="1584360" cy="1511280"/>
          </a:xfrm>
          <a:prstGeom prst="ellipse">
            <a:avLst/>
          </a:prstGeom>
          <a:noFill/>
          <a:ln w="25560">
            <a:solidFill>
              <a:srgbClr val="93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椭圆 18"/>
          <p:cNvSpPr/>
          <p:nvPr/>
        </p:nvSpPr>
        <p:spPr>
          <a:xfrm>
            <a:off x="7093080" y="2781360"/>
            <a:ext cx="1584360" cy="1511280"/>
          </a:xfrm>
          <a:prstGeom prst="ellipse">
            <a:avLst/>
          </a:prstGeom>
          <a:noFill/>
          <a:ln w="25560">
            <a:solidFill>
              <a:srgbClr val="93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1476360" y="330660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  <a:ea typeface="微软雅黑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3443400" y="330660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兴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1"/>
          <p:cNvSpPr/>
          <p:nvPr/>
        </p:nvSpPr>
        <p:spPr>
          <a:xfrm>
            <a:off x="5479920" y="330660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  <a:ea typeface="微软雅黑"/>
              </a:rPr>
              <a:t>欲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7500960" y="33066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  <a:ea typeface="微软雅黑"/>
              </a:rPr>
              <a:t>行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3"/>
          <p:cNvSpPr/>
          <p:nvPr/>
        </p:nvSpPr>
        <p:spPr>
          <a:xfrm>
            <a:off x="1066680" y="448164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44061"/>
                </a:solidFill>
                <a:latin typeface="微软雅黑"/>
                <a:ea typeface="微软雅黑"/>
              </a:rPr>
              <a:t>下一轮财富机会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3083040" y="4481640"/>
            <a:ext cx="15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44061"/>
                </a:solidFill>
                <a:latin typeface="微软雅黑"/>
                <a:ea typeface="微软雅黑"/>
              </a:rPr>
              <a:t>社交化网络营销推广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087880" y="4467240"/>
            <a:ext cx="15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44061"/>
                </a:solidFill>
                <a:latin typeface="微软雅黑"/>
                <a:ea typeface="微软雅黑"/>
              </a:rPr>
              <a:t>已有千万企业在投入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7115040" y="4465800"/>
            <a:ext cx="15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44061"/>
                </a:solidFill>
                <a:latin typeface="微软雅黑"/>
                <a:ea typeface="微软雅黑"/>
              </a:rPr>
              <a:t>别又错过一个时代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34"/>
          <p:cNvSpPr/>
          <p:nvPr/>
        </p:nvSpPr>
        <p:spPr>
          <a:xfrm>
            <a:off x="7427880" y="2400480"/>
            <a:ext cx="907920" cy="471240"/>
          </a:xfrm>
          <a:custGeom>
            <a:avLst/>
            <a:gdLst>
              <a:gd name="textAreaLeft" fmla="*/ 0 w 907920"/>
              <a:gd name="textAreaRight" fmla="*/ 908280 w 90792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1925" h="999">
                <a:moveTo>
                  <a:pt x="1521" y="697"/>
                </a:moveTo>
                <a:lnTo>
                  <a:pt x="1521" y="248"/>
                </a:lnTo>
                <a:lnTo>
                  <a:pt x="1481" y="236"/>
                </a:lnTo>
                <a:lnTo>
                  <a:pt x="1445" y="224"/>
                </a:lnTo>
                <a:lnTo>
                  <a:pt x="1413" y="211"/>
                </a:lnTo>
                <a:lnTo>
                  <a:pt x="1385" y="198"/>
                </a:lnTo>
                <a:lnTo>
                  <a:pt x="1361" y="184"/>
                </a:lnTo>
                <a:lnTo>
                  <a:pt x="1340" y="171"/>
                </a:lnTo>
                <a:lnTo>
                  <a:pt x="1332" y="164"/>
                </a:lnTo>
                <a:lnTo>
                  <a:pt x="1324" y="158"/>
                </a:lnTo>
                <a:lnTo>
                  <a:pt x="1317" y="151"/>
                </a:lnTo>
                <a:lnTo>
                  <a:pt x="1310" y="144"/>
                </a:lnTo>
                <a:lnTo>
                  <a:pt x="1305" y="138"/>
                </a:lnTo>
                <a:lnTo>
                  <a:pt x="1298" y="131"/>
                </a:lnTo>
                <a:lnTo>
                  <a:pt x="1292" y="126"/>
                </a:lnTo>
                <a:lnTo>
                  <a:pt x="1284" y="121"/>
                </a:lnTo>
                <a:lnTo>
                  <a:pt x="1276" y="115"/>
                </a:lnTo>
                <a:lnTo>
                  <a:pt x="1268" y="111"/>
                </a:lnTo>
                <a:lnTo>
                  <a:pt x="1258" y="107"/>
                </a:lnTo>
                <a:lnTo>
                  <a:pt x="1248" y="105"/>
                </a:lnTo>
                <a:lnTo>
                  <a:pt x="1225" y="101"/>
                </a:lnTo>
                <a:lnTo>
                  <a:pt x="1201" y="98"/>
                </a:lnTo>
                <a:lnTo>
                  <a:pt x="1173" y="98"/>
                </a:lnTo>
                <a:lnTo>
                  <a:pt x="1144" y="99"/>
                </a:lnTo>
                <a:lnTo>
                  <a:pt x="1105" y="103"/>
                </a:lnTo>
                <a:lnTo>
                  <a:pt x="1067" y="106"/>
                </a:lnTo>
                <a:lnTo>
                  <a:pt x="1030" y="107"/>
                </a:lnTo>
                <a:lnTo>
                  <a:pt x="994" y="107"/>
                </a:lnTo>
                <a:lnTo>
                  <a:pt x="977" y="109"/>
                </a:lnTo>
                <a:lnTo>
                  <a:pt x="961" y="110"/>
                </a:lnTo>
                <a:lnTo>
                  <a:pt x="946" y="113"/>
                </a:lnTo>
                <a:lnTo>
                  <a:pt x="933" y="117"/>
                </a:lnTo>
                <a:lnTo>
                  <a:pt x="919" y="121"/>
                </a:lnTo>
                <a:lnTo>
                  <a:pt x="907" y="127"/>
                </a:lnTo>
                <a:lnTo>
                  <a:pt x="897" y="134"/>
                </a:lnTo>
                <a:lnTo>
                  <a:pt x="886" y="142"/>
                </a:lnTo>
                <a:lnTo>
                  <a:pt x="863" y="194"/>
                </a:lnTo>
                <a:lnTo>
                  <a:pt x="843" y="233"/>
                </a:lnTo>
                <a:lnTo>
                  <a:pt x="835" y="249"/>
                </a:lnTo>
                <a:lnTo>
                  <a:pt x="827" y="260"/>
                </a:lnTo>
                <a:lnTo>
                  <a:pt x="821" y="269"/>
                </a:lnTo>
                <a:lnTo>
                  <a:pt x="815" y="275"/>
                </a:lnTo>
                <a:lnTo>
                  <a:pt x="802" y="284"/>
                </a:lnTo>
                <a:lnTo>
                  <a:pt x="786" y="297"/>
                </a:lnTo>
                <a:lnTo>
                  <a:pt x="766" y="315"/>
                </a:lnTo>
                <a:lnTo>
                  <a:pt x="743" y="337"/>
                </a:lnTo>
                <a:lnTo>
                  <a:pt x="757" y="344"/>
                </a:lnTo>
                <a:lnTo>
                  <a:pt x="770" y="350"/>
                </a:lnTo>
                <a:lnTo>
                  <a:pt x="782" y="356"/>
                </a:lnTo>
                <a:lnTo>
                  <a:pt x="795" y="360"/>
                </a:lnTo>
                <a:lnTo>
                  <a:pt x="807" y="362"/>
                </a:lnTo>
                <a:lnTo>
                  <a:pt x="819" y="364"/>
                </a:lnTo>
                <a:lnTo>
                  <a:pt x="833" y="365"/>
                </a:lnTo>
                <a:lnTo>
                  <a:pt x="845" y="364"/>
                </a:lnTo>
                <a:lnTo>
                  <a:pt x="857" y="362"/>
                </a:lnTo>
                <a:lnTo>
                  <a:pt x="870" y="360"/>
                </a:lnTo>
                <a:lnTo>
                  <a:pt x="882" y="356"/>
                </a:lnTo>
                <a:lnTo>
                  <a:pt x="894" y="350"/>
                </a:lnTo>
                <a:lnTo>
                  <a:pt x="906" y="345"/>
                </a:lnTo>
                <a:lnTo>
                  <a:pt x="918" y="337"/>
                </a:lnTo>
                <a:lnTo>
                  <a:pt x="930" y="329"/>
                </a:lnTo>
                <a:lnTo>
                  <a:pt x="942" y="319"/>
                </a:lnTo>
                <a:lnTo>
                  <a:pt x="983" y="283"/>
                </a:lnTo>
                <a:lnTo>
                  <a:pt x="1013" y="257"/>
                </a:lnTo>
                <a:lnTo>
                  <a:pt x="1030" y="243"/>
                </a:lnTo>
                <a:lnTo>
                  <a:pt x="1037" y="237"/>
                </a:lnTo>
                <a:lnTo>
                  <a:pt x="1042" y="240"/>
                </a:lnTo>
                <a:lnTo>
                  <a:pt x="1046" y="243"/>
                </a:lnTo>
                <a:lnTo>
                  <a:pt x="1049" y="247"/>
                </a:lnTo>
                <a:lnTo>
                  <a:pt x="1050" y="251"/>
                </a:lnTo>
                <a:lnTo>
                  <a:pt x="1049" y="256"/>
                </a:lnTo>
                <a:lnTo>
                  <a:pt x="1046" y="261"/>
                </a:lnTo>
                <a:lnTo>
                  <a:pt x="1042" y="267"/>
                </a:lnTo>
                <a:lnTo>
                  <a:pt x="1035" y="273"/>
                </a:lnTo>
                <a:lnTo>
                  <a:pt x="1030" y="280"/>
                </a:lnTo>
                <a:lnTo>
                  <a:pt x="1025" y="287"/>
                </a:lnTo>
                <a:lnTo>
                  <a:pt x="1022" y="291"/>
                </a:lnTo>
                <a:lnTo>
                  <a:pt x="1022" y="296"/>
                </a:lnTo>
                <a:lnTo>
                  <a:pt x="1022" y="299"/>
                </a:lnTo>
                <a:lnTo>
                  <a:pt x="1026" y="303"/>
                </a:lnTo>
                <a:lnTo>
                  <a:pt x="1030" y="304"/>
                </a:lnTo>
                <a:lnTo>
                  <a:pt x="1037" y="305"/>
                </a:lnTo>
                <a:lnTo>
                  <a:pt x="1058" y="313"/>
                </a:lnTo>
                <a:lnTo>
                  <a:pt x="1082" y="321"/>
                </a:lnTo>
                <a:lnTo>
                  <a:pt x="1108" y="330"/>
                </a:lnTo>
                <a:lnTo>
                  <a:pt x="1134" y="341"/>
                </a:lnTo>
                <a:lnTo>
                  <a:pt x="1161" y="354"/>
                </a:lnTo>
                <a:lnTo>
                  <a:pt x="1188" y="368"/>
                </a:lnTo>
                <a:lnTo>
                  <a:pt x="1212" y="382"/>
                </a:lnTo>
                <a:lnTo>
                  <a:pt x="1236" y="398"/>
                </a:lnTo>
                <a:lnTo>
                  <a:pt x="1258" y="414"/>
                </a:lnTo>
                <a:lnTo>
                  <a:pt x="1280" y="429"/>
                </a:lnTo>
                <a:lnTo>
                  <a:pt x="1302" y="446"/>
                </a:lnTo>
                <a:lnTo>
                  <a:pt x="1324" y="465"/>
                </a:lnTo>
                <a:lnTo>
                  <a:pt x="1345" y="483"/>
                </a:lnTo>
                <a:lnTo>
                  <a:pt x="1365" y="503"/>
                </a:lnTo>
                <a:lnTo>
                  <a:pt x="1386" y="523"/>
                </a:lnTo>
                <a:lnTo>
                  <a:pt x="1406" y="546"/>
                </a:lnTo>
                <a:lnTo>
                  <a:pt x="1426" y="567"/>
                </a:lnTo>
                <a:lnTo>
                  <a:pt x="1444" y="588"/>
                </a:lnTo>
                <a:lnTo>
                  <a:pt x="1458" y="608"/>
                </a:lnTo>
                <a:lnTo>
                  <a:pt x="1472" y="628"/>
                </a:lnTo>
                <a:lnTo>
                  <a:pt x="1484" y="647"/>
                </a:lnTo>
                <a:lnTo>
                  <a:pt x="1493" y="664"/>
                </a:lnTo>
                <a:lnTo>
                  <a:pt x="1500" y="681"/>
                </a:lnTo>
                <a:lnTo>
                  <a:pt x="1505" y="697"/>
                </a:lnTo>
                <a:lnTo>
                  <a:pt x="1521" y="697"/>
                </a:lnTo>
                <a:close/>
                <a:moveTo>
                  <a:pt x="1521" y="724"/>
                </a:moveTo>
                <a:lnTo>
                  <a:pt x="1517" y="724"/>
                </a:lnTo>
                <a:lnTo>
                  <a:pt x="1516" y="724"/>
                </a:lnTo>
                <a:lnTo>
                  <a:pt x="1514" y="724"/>
                </a:lnTo>
                <a:lnTo>
                  <a:pt x="1513" y="724"/>
                </a:lnTo>
                <a:lnTo>
                  <a:pt x="1510" y="737"/>
                </a:lnTo>
                <a:lnTo>
                  <a:pt x="1508" y="748"/>
                </a:lnTo>
                <a:lnTo>
                  <a:pt x="1504" y="757"/>
                </a:lnTo>
                <a:lnTo>
                  <a:pt x="1498" y="765"/>
                </a:lnTo>
                <a:lnTo>
                  <a:pt x="1492" y="772"/>
                </a:lnTo>
                <a:lnTo>
                  <a:pt x="1484" y="776"/>
                </a:lnTo>
                <a:lnTo>
                  <a:pt x="1476" y="780"/>
                </a:lnTo>
                <a:lnTo>
                  <a:pt x="1465" y="781"/>
                </a:lnTo>
                <a:lnTo>
                  <a:pt x="1445" y="783"/>
                </a:lnTo>
                <a:lnTo>
                  <a:pt x="1429" y="789"/>
                </a:lnTo>
                <a:lnTo>
                  <a:pt x="1421" y="791"/>
                </a:lnTo>
                <a:lnTo>
                  <a:pt x="1413" y="795"/>
                </a:lnTo>
                <a:lnTo>
                  <a:pt x="1406" y="799"/>
                </a:lnTo>
                <a:lnTo>
                  <a:pt x="1401" y="805"/>
                </a:lnTo>
                <a:lnTo>
                  <a:pt x="1378" y="825"/>
                </a:lnTo>
                <a:lnTo>
                  <a:pt x="1360" y="842"/>
                </a:lnTo>
                <a:lnTo>
                  <a:pt x="1345" y="854"/>
                </a:lnTo>
                <a:lnTo>
                  <a:pt x="1334" y="861"/>
                </a:lnTo>
                <a:lnTo>
                  <a:pt x="1322" y="867"/>
                </a:lnTo>
                <a:lnTo>
                  <a:pt x="1302" y="875"/>
                </a:lnTo>
                <a:lnTo>
                  <a:pt x="1274" y="886"/>
                </a:lnTo>
                <a:lnTo>
                  <a:pt x="1240" y="896"/>
                </a:lnTo>
                <a:lnTo>
                  <a:pt x="1217" y="931"/>
                </a:lnTo>
                <a:lnTo>
                  <a:pt x="1210" y="938"/>
                </a:lnTo>
                <a:lnTo>
                  <a:pt x="1204" y="944"/>
                </a:lnTo>
                <a:lnTo>
                  <a:pt x="1196" y="948"/>
                </a:lnTo>
                <a:lnTo>
                  <a:pt x="1188" y="952"/>
                </a:lnTo>
                <a:lnTo>
                  <a:pt x="1180" y="956"/>
                </a:lnTo>
                <a:lnTo>
                  <a:pt x="1170" y="958"/>
                </a:lnTo>
                <a:lnTo>
                  <a:pt x="1161" y="958"/>
                </a:lnTo>
                <a:lnTo>
                  <a:pt x="1152" y="958"/>
                </a:lnTo>
                <a:lnTo>
                  <a:pt x="1133" y="956"/>
                </a:lnTo>
                <a:lnTo>
                  <a:pt x="1114" y="952"/>
                </a:lnTo>
                <a:lnTo>
                  <a:pt x="1098" y="948"/>
                </a:lnTo>
                <a:lnTo>
                  <a:pt x="1082" y="943"/>
                </a:lnTo>
                <a:lnTo>
                  <a:pt x="1074" y="942"/>
                </a:lnTo>
                <a:lnTo>
                  <a:pt x="1067" y="942"/>
                </a:lnTo>
                <a:lnTo>
                  <a:pt x="1059" y="943"/>
                </a:lnTo>
                <a:lnTo>
                  <a:pt x="1051" y="944"/>
                </a:lnTo>
                <a:lnTo>
                  <a:pt x="1043" y="946"/>
                </a:lnTo>
                <a:lnTo>
                  <a:pt x="1033" y="951"/>
                </a:lnTo>
                <a:lnTo>
                  <a:pt x="1019" y="958"/>
                </a:lnTo>
                <a:lnTo>
                  <a:pt x="1005" y="965"/>
                </a:lnTo>
                <a:lnTo>
                  <a:pt x="990" y="975"/>
                </a:lnTo>
                <a:lnTo>
                  <a:pt x="977" y="983"/>
                </a:lnTo>
                <a:lnTo>
                  <a:pt x="963" y="989"/>
                </a:lnTo>
                <a:lnTo>
                  <a:pt x="950" y="993"/>
                </a:lnTo>
                <a:lnTo>
                  <a:pt x="938" y="997"/>
                </a:lnTo>
                <a:lnTo>
                  <a:pt x="927" y="999"/>
                </a:lnTo>
                <a:lnTo>
                  <a:pt x="917" y="999"/>
                </a:lnTo>
                <a:lnTo>
                  <a:pt x="907" y="997"/>
                </a:lnTo>
                <a:lnTo>
                  <a:pt x="899" y="995"/>
                </a:lnTo>
                <a:lnTo>
                  <a:pt x="891" y="991"/>
                </a:lnTo>
                <a:lnTo>
                  <a:pt x="883" y="985"/>
                </a:lnTo>
                <a:lnTo>
                  <a:pt x="877" y="979"/>
                </a:lnTo>
                <a:lnTo>
                  <a:pt x="871" y="969"/>
                </a:lnTo>
                <a:lnTo>
                  <a:pt x="866" y="960"/>
                </a:lnTo>
                <a:lnTo>
                  <a:pt x="862" y="948"/>
                </a:lnTo>
                <a:lnTo>
                  <a:pt x="858" y="935"/>
                </a:lnTo>
                <a:lnTo>
                  <a:pt x="850" y="940"/>
                </a:lnTo>
                <a:lnTo>
                  <a:pt x="841" y="944"/>
                </a:lnTo>
                <a:lnTo>
                  <a:pt x="831" y="948"/>
                </a:lnTo>
                <a:lnTo>
                  <a:pt x="821" y="951"/>
                </a:lnTo>
                <a:lnTo>
                  <a:pt x="809" y="954"/>
                </a:lnTo>
                <a:lnTo>
                  <a:pt x="795" y="956"/>
                </a:lnTo>
                <a:lnTo>
                  <a:pt x="781" y="958"/>
                </a:lnTo>
                <a:lnTo>
                  <a:pt x="766" y="958"/>
                </a:lnTo>
                <a:lnTo>
                  <a:pt x="759" y="958"/>
                </a:lnTo>
                <a:lnTo>
                  <a:pt x="753" y="958"/>
                </a:lnTo>
                <a:lnTo>
                  <a:pt x="746" y="956"/>
                </a:lnTo>
                <a:lnTo>
                  <a:pt x="739" y="954"/>
                </a:lnTo>
                <a:lnTo>
                  <a:pt x="734" y="950"/>
                </a:lnTo>
                <a:lnTo>
                  <a:pt x="730" y="946"/>
                </a:lnTo>
                <a:lnTo>
                  <a:pt x="725" y="942"/>
                </a:lnTo>
                <a:lnTo>
                  <a:pt x="721" y="935"/>
                </a:lnTo>
                <a:lnTo>
                  <a:pt x="717" y="930"/>
                </a:lnTo>
                <a:lnTo>
                  <a:pt x="714" y="922"/>
                </a:lnTo>
                <a:lnTo>
                  <a:pt x="711" y="914"/>
                </a:lnTo>
                <a:lnTo>
                  <a:pt x="710" y="904"/>
                </a:lnTo>
                <a:lnTo>
                  <a:pt x="707" y="884"/>
                </a:lnTo>
                <a:lnTo>
                  <a:pt x="706" y="862"/>
                </a:lnTo>
                <a:lnTo>
                  <a:pt x="690" y="862"/>
                </a:lnTo>
                <a:lnTo>
                  <a:pt x="675" y="861"/>
                </a:lnTo>
                <a:lnTo>
                  <a:pt x="663" y="858"/>
                </a:lnTo>
                <a:lnTo>
                  <a:pt x="651" y="855"/>
                </a:lnTo>
                <a:lnTo>
                  <a:pt x="639" y="851"/>
                </a:lnTo>
                <a:lnTo>
                  <a:pt x="630" y="847"/>
                </a:lnTo>
                <a:lnTo>
                  <a:pt x="622" y="841"/>
                </a:lnTo>
                <a:lnTo>
                  <a:pt x="614" y="835"/>
                </a:lnTo>
                <a:lnTo>
                  <a:pt x="607" y="827"/>
                </a:lnTo>
                <a:lnTo>
                  <a:pt x="601" y="819"/>
                </a:lnTo>
                <a:lnTo>
                  <a:pt x="594" y="809"/>
                </a:lnTo>
                <a:lnTo>
                  <a:pt x="589" y="798"/>
                </a:lnTo>
                <a:lnTo>
                  <a:pt x="577" y="773"/>
                </a:lnTo>
                <a:lnTo>
                  <a:pt x="566" y="744"/>
                </a:lnTo>
                <a:lnTo>
                  <a:pt x="538" y="750"/>
                </a:lnTo>
                <a:lnTo>
                  <a:pt x="514" y="753"/>
                </a:lnTo>
                <a:lnTo>
                  <a:pt x="503" y="754"/>
                </a:lnTo>
                <a:lnTo>
                  <a:pt x="494" y="754"/>
                </a:lnTo>
                <a:lnTo>
                  <a:pt x="485" y="753"/>
                </a:lnTo>
                <a:lnTo>
                  <a:pt x="477" y="752"/>
                </a:lnTo>
                <a:lnTo>
                  <a:pt x="470" y="750"/>
                </a:lnTo>
                <a:lnTo>
                  <a:pt x="463" y="746"/>
                </a:lnTo>
                <a:lnTo>
                  <a:pt x="458" y="744"/>
                </a:lnTo>
                <a:lnTo>
                  <a:pt x="453" y="738"/>
                </a:lnTo>
                <a:lnTo>
                  <a:pt x="450" y="733"/>
                </a:lnTo>
                <a:lnTo>
                  <a:pt x="446" y="728"/>
                </a:lnTo>
                <a:lnTo>
                  <a:pt x="445" y="721"/>
                </a:lnTo>
                <a:lnTo>
                  <a:pt x="443" y="713"/>
                </a:lnTo>
                <a:lnTo>
                  <a:pt x="442" y="698"/>
                </a:lnTo>
                <a:lnTo>
                  <a:pt x="438" y="687"/>
                </a:lnTo>
                <a:lnTo>
                  <a:pt x="433" y="676"/>
                </a:lnTo>
                <a:lnTo>
                  <a:pt x="426" y="667"/>
                </a:lnTo>
                <a:lnTo>
                  <a:pt x="418" y="660"/>
                </a:lnTo>
                <a:lnTo>
                  <a:pt x="407" y="655"/>
                </a:lnTo>
                <a:lnTo>
                  <a:pt x="395" y="652"/>
                </a:lnTo>
                <a:lnTo>
                  <a:pt x="382" y="651"/>
                </a:lnTo>
                <a:lnTo>
                  <a:pt x="382" y="817"/>
                </a:lnTo>
                <a:lnTo>
                  <a:pt x="220" y="817"/>
                </a:lnTo>
                <a:lnTo>
                  <a:pt x="220" y="931"/>
                </a:lnTo>
                <a:lnTo>
                  <a:pt x="0" y="931"/>
                </a:lnTo>
                <a:lnTo>
                  <a:pt x="0" y="114"/>
                </a:lnTo>
                <a:lnTo>
                  <a:pt x="220" y="114"/>
                </a:lnTo>
                <a:lnTo>
                  <a:pt x="220" y="150"/>
                </a:lnTo>
                <a:lnTo>
                  <a:pt x="382" y="150"/>
                </a:lnTo>
                <a:lnTo>
                  <a:pt x="382" y="226"/>
                </a:lnTo>
                <a:lnTo>
                  <a:pt x="410" y="226"/>
                </a:lnTo>
                <a:lnTo>
                  <a:pt x="435" y="226"/>
                </a:lnTo>
                <a:lnTo>
                  <a:pt x="459" y="223"/>
                </a:lnTo>
                <a:lnTo>
                  <a:pt x="481" y="220"/>
                </a:lnTo>
                <a:lnTo>
                  <a:pt x="501" y="216"/>
                </a:lnTo>
                <a:lnTo>
                  <a:pt x="519" y="211"/>
                </a:lnTo>
                <a:lnTo>
                  <a:pt x="535" y="204"/>
                </a:lnTo>
                <a:lnTo>
                  <a:pt x="549" y="196"/>
                </a:lnTo>
                <a:lnTo>
                  <a:pt x="562" y="188"/>
                </a:lnTo>
                <a:lnTo>
                  <a:pt x="577" y="180"/>
                </a:lnTo>
                <a:lnTo>
                  <a:pt x="590" y="174"/>
                </a:lnTo>
                <a:lnTo>
                  <a:pt x="606" y="167"/>
                </a:lnTo>
                <a:lnTo>
                  <a:pt x="637" y="155"/>
                </a:lnTo>
                <a:lnTo>
                  <a:pt x="670" y="146"/>
                </a:lnTo>
                <a:lnTo>
                  <a:pt x="685" y="143"/>
                </a:lnTo>
                <a:lnTo>
                  <a:pt x="702" y="140"/>
                </a:lnTo>
                <a:lnTo>
                  <a:pt x="722" y="139"/>
                </a:lnTo>
                <a:lnTo>
                  <a:pt x="743" y="138"/>
                </a:lnTo>
                <a:lnTo>
                  <a:pt x="793" y="136"/>
                </a:lnTo>
                <a:lnTo>
                  <a:pt x="851" y="138"/>
                </a:lnTo>
                <a:lnTo>
                  <a:pt x="858" y="127"/>
                </a:lnTo>
                <a:lnTo>
                  <a:pt x="865" y="118"/>
                </a:lnTo>
                <a:lnTo>
                  <a:pt x="871" y="111"/>
                </a:lnTo>
                <a:lnTo>
                  <a:pt x="881" y="103"/>
                </a:lnTo>
                <a:lnTo>
                  <a:pt x="890" y="98"/>
                </a:lnTo>
                <a:lnTo>
                  <a:pt x="899" y="93"/>
                </a:lnTo>
                <a:lnTo>
                  <a:pt x="910" y="89"/>
                </a:lnTo>
                <a:lnTo>
                  <a:pt x="922" y="86"/>
                </a:lnTo>
                <a:lnTo>
                  <a:pt x="946" y="83"/>
                </a:lnTo>
                <a:lnTo>
                  <a:pt x="971" y="82"/>
                </a:lnTo>
                <a:lnTo>
                  <a:pt x="998" y="82"/>
                </a:lnTo>
                <a:lnTo>
                  <a:pt x="1025" y="83"/>
                </a:lnTo>
                <a:lnTo>
                  <a:pt x="1033" y="85"/>
                </a:lnTo>
                <a:lnTo>
                  <a:pt x="1041" y="83"/>
                </a:lnTo>
                <a:lnTo>
                  <a:pt x="1049" y="82"/>
                </a:lnTo>
                <a:lnTo>
                  <a:pt x="1057" y="79"/>
                </a:lnTo>
                <a:lnTo>
                  <a:pt x="1063" y="74"/>
                </a:lnTo>
                <a:lnTo>
                  <a:pt x="1070" y="69"/>
                </a:lnTo>
                <a:lnTo>
                  <a:pt x="1076" y="61"/>
                </a:lnTo>
                <a:lnTo>
                  <a:pt x="1082" y="53"/>
                </a:lnTo>
                <a:lnTo>
                  <a:pt x="1094" y="36"/>
                </a:lnTo>
                <a:lnTo>
                  <a:pt x="1106" y="21"/>
                </a:lnTo>
                <a:lnTo>
                  <a:pt x="1120" y="9"/>
                </a:lnTo>
                <a:lnTo>
                  <a:pt x="1133" y="0"/>
                </a:lnTo>
                <a:lnTo>
                  <a:pt x="1144" y="2"/>
                </a:lnTo>
                <a:lnTo>
                  <a:pt x="1156" y="8"/>
                </a:lnTo>
                <a:lnTo>
                  <a:pt x="1168" y="17"/>
                </a:lnTo>
                <a:lnTo>
                  <a:pt x="1180" y="28"/>
                </a:lnTo>
                <a:lnTo>
                  <a:pt x="1190" y="40"/>
                </a:lnTo>
                <a:lnTo>
                  <a:pt x="1201" y="51"/>
                </a:lnTo>
                <a:lnTo>
                  <a:pt x="1212" y="62"/>
                </a:lnTo>
                <a:lnTo>
                  <a:pt x="1221" y="73"/>
                </a:lnTo>
                <a:lnTo>
                  <a:pt x="1262" y="90"/>
                </a:lnTo>
                <a:lnTo>
                  <a:pt x="1302" y="110"/>
                </a:lnTo>
                <a:lnTo>
                  <a:pt x="1341" y="131"/>
                </a:lnTo>
                <a:lnTo>
                  <a:pt x="1378" y="156"/>
                </a:lnTo>
                <a:lnTo>
                  <a:pt x="1397" y="168"/>
                </a:lnTo>
                <a:lnTo>
                  <a:pt x="1416" y="179"/>
                </a:lnTo>
                <a:lnTo>
                  <a:pt x="1434" y="188"/>
                </a:lnTo>
                <a:lnTo>
                  <a:pt x="1452" y="195"/>
                </a:lnTo>
                <a:lnTo>
                  <a:pt x="1469" y="202"/>
                </a:lnTo>
                <a:lnTo>
                  <a:pt x="1486" y="206"/>
                </a:lnTo>
                <a:lnTo>
                  <a:pt x="1504" y="208"/>
                </a:lnTo>
                <a:lnTo>
                  <a:pt x="1521" y="211"/>
                </a:lnTo>
                <a:lnTo>
                  <a:pt x="1521" y="142"/>
                </a:lnTo>
                <a:lnTo>
                  <a:pt x="1693" y="142"/>
                </a:lnTo>
                <a:lnTo>
                  <a:pt x="1693" y="99"/>
                </a:lnTo>
                <a:lnTo>
                  <a:pt x="1925" y="99"/>
                </a:lnTo>
                <a:lnTo>
                  <a:pt x="1925" y="924"/>
                </a:lnTo>
                <a:lnTo>
                  <a:pt x="1693" y="924"/>
                </a:lnTo>
                <a:lnTo>
                  <a:pt x="1693" y="809"/>
                </a:lnTo>
                <a:lnTo>
                  <a:pt x="1521" y="809"/>
                </a:lnTo>
                <a:lnTo>
                  <a:pt x="1521" y="724"/>
                </a:lnTo>
                <a:close/>
                <a:moveTo>
                  <a:pt x="1094" y="77"/>
                </a:moveTo>
                <a:lnTo>
                  <a:pt x="1102" y="78"/>
                </a:lnTo>
                <a:lnTo>
                  <a:pt x="1113" y="78"/>
                </a:lnTo>
                <a:lnTo>
                  <a:pt x="1125" y="77"/>
                </a:lnTo>
                <a:lnTo>
                  <a:pt x="1140" y="74"/>
                </a:lnTo>
                <a:lnTo>
                  <a:pt x="1156" y="73"/>
                </a:lnTo>
                <a:lnTo>
                  <a:pt x="1170" y="71"/>
                </a:lnTo>
                <a:lnTo>
                  <a:pt x="1182" y="71"/>
                </a:lnTo>
                <a:lnTo>
                  <a:pt x="1193" y="73"/>
                </a:lnTo>
                <a:lnTo>
                  <a:pt x="1174" y="51"/>
                </a:lnTo>
                <a:lnTo>
                  <a:pt x="1160" y="38"/>
                </a:lnTo>
                <a:lnTo>
                  <a:pt x="1153" y="33"/>
                </a:lnTo>
                <a:lnTo>
                  <a:pt x="1148" y="30"/>
                </a:lnTo>
                <a:lnTo>
                  <a:pt x="1144" y="29"/>
                </a:lnTo>
                <a:lnTo>
                  <a:pt x="1140" y="30"/>
                </a:lnTo>
                <a:lnTo>
                  <a:pt x="1132" y="36"/>
                </a:lnTo>
                <a:lnTo>
                  <a:pt x="1121" y="45"/>
                </a:lnTo>
                <a:lnTo>
                  <a:pt x="1109" y="58"/>
                </a:lnTo>
                <a:lnTo>
                  <a:pt x="1094" y="77"/>
                </a:lnTo>
                <a:close/>
                <a:moveTo>
                  <a:pt x="1552" y="176"/>
                </a:moveTo>
                <a:lnTo>
                  <a:pt x="1552" y="778"/>
                </a:lnTo>
                <a:lnTo>
                  <a:pt x="1693" y="778"/>
                </a:lnTo>
                <a:lnTo>
                  <a:pt x="1693" y="176"/>
                </a:lnTo>
                <a:lnTo>
                  <a:pt x="1552" y="176"/>
                </a:lnTo>
                <a:close/>
                <a:moveTo>
                  <a:pt x="286" y="679"/>
                </a:moveTo>
                <a:lnTo>
                  <a:pt x="290" y="679"/>
                </a:lnTo>
                <a:lnTo>
                  <a:pt x="294" y="680"/>
                </a:lnTo>
                <a:lnTo>
                  <a:pt x="298" y="681"/>
                </a:lnTo>
                <a:lnTo>
                  <a:pt x="301" y="684"/>
                </a:lnTo>
                <a:lnTo>
                  <a:pt x="302" y="687"/>
                </a:lnTo>
                <a:lnTo>
                  <a:pt x="303" y="689"/>
                </a:lnTo>
                <a:lnTo>
                  <a:pt x="305" y="693"/>
                </a:lnTo>
                <a:lnTo>
                  <a:pt x="305" y="697"/>
                </a:lnTo>
                <a:lnTo>
                  <a:pt x="305" y="702"/>
                </a:lnTo>
                <a:lnTo>
                  <a:pt x="303" y="708"/>
                </a:lnTo>
                <a:lnTo>
                  <a:pt x="302" y="712"/>
                </a:lnTo>
                <a:lnTo>
                  <a:pt x="301" y="714"/>
                </a:lnTo>
                <a:lnTo>
                  <a:pt x="298" y="717"/>
                </a:lnTo>
                <a:lnTo>
                  <a:pt x="294" y="718"/>
                </a:lnTo>
                <a:lnTo>
                  <a:pt x="290" y="720"/>
                </a:lnTo>
                <a:lnTo>
                  <a:pt x="286" y="720"/>
                </a:lnTo>
                <a:lnTo>
                  <a:pt x="282" y="720"/>
                </a:lnTo>
                <a:lnTo>
                  <a:pt x="278" y="718"/>
                </a:lnTo>
                <a:lnTo>
                  <a:pt x="274" y="717"/>
                </a:lnTo>
                <a:lnTo>
                  <a:pt x="271" y="714"/>
                </a:lnTo>
                <a:lnTo>
                  <a:pt x="269" y="712"/>
                </a:lnTo>
                <a:lnTo>
                  <a:pt x="267" y="708"/>
                </a:lnTo>
                <a:lnTo>
                  <a:pt x="267" y="702"/>
                </a:lnTo>
                <a:lnTo>
                  <a:pt x="266" y="697"/>
                </a:lnTo>
                <a:lnTo>
                  <a:pt x="267" y="693"/>
                </a:lnTo>
                <a:lnTo>
                  <a:pt x="267" y="689"/>
                </a:lnTo>
                <a:lnTo>
                  <a:pt x="269" y="687"/>
                </a:lnTo>
                <a:lnTo>
                  <a:pt x="271" y="684"/>
                </a:lnTo>
                <a:lnTo>
                  <a:pt x="274" y="681"/>
                </a:lnTo>
                <a:lnTo>
                  <a:pt x="278" y="680"/>
                </a:lnTo>
                <a:lnTo>
                  <a:pt x="282" y="679"/>
                </a:lnTo>
                <a:lnTo>
                  <a:pt x="286" y="679"/>
                </a:lnTo>
                <a:close/>
                <a:moveTo>
                  <a:pt x="286" y="664"/>
                </a:moveTo>
                <a:lnTo>
                  <a:pt x="277" y="664"/>
                </a:lnTo>
                <a:lnTo>
                  <a:pt x="269" y="665"/>
                </a:lnTo>
                <a:lnTo>
                  <a:pt x="262" y="668"/>
                </a:lnTo>
                <a:lnTo>
                  <a:pt x="257" y="672"/>
                </a:lnTo>
                <a:lnTo>
                  <a:pt x="253" y="677"/>
                </a:lnTo>
                <a:lnTo>
                  <a:pt x="250" y="683"/>
                </a:lnTo>
                <a:lnTo>
                  <a:pt x="247" y="689"/>
                </a:lnTo>
                <a:lnTo>
                  <a:pt x="247" y="697"/>
                </a:lnTo>
                <a:lnTo>
                  <a:pt x="247" y="706"/>
                </a:lnTo>
                <a:lnTo>
                  <a:pt x="250" y="714"/>
                </a:lnTo>
                <a:lnTo>
                  <a:pt x="253" y="721"/>
                </a:lnTo>
                <a:lnTo>
                  <a:pt x="257" y="726"/>
                </a:lnTo>
                <a:lnTo>
                  <a:pt x="262" y="730"/>
                </a:lnTo>
                <a:lnTo>
                  <a:pt x="269" y="733"/>
                </a:lnTo>
                <a:lnTo>
                  <a:pt x="277" y="734"/>
                </a:lnTo>
                <a:lnTo>
                  <a:pt x="286" y="736"/>
                </a:lnTo>
                <a:lnTo>
                  <a:pt x="294" y="734"/>
                </a:lnTo>
                <a:lnTo>
                  <a:pt x="301" y="733"/>
                </a:lnTo>
                <a:lnTo>
                  <a:pt x="307" y="730"/>
                </a:lnTo>
                <a:lnTo>
                  <a:pt x="311" y="726"/>
                </a:lnTo>
                <a:lnTo>
                  <a:pt x="315" y="721"/>
                </a:lnTo>
                <a:lnTo>
                  <a:pt x="318" y="714"/>
                </a:lnTo>
                <a:lnTo>
                  <a:pt x="319" y="706"/>
                </a:lnTo>
                <a:lnTo>
                  <a:pt x="321" y="697"/>
                </a:lnTo>
                <a:lnTo>
                  <a:pt x="319" y="689"/>
                </a:lnTo>
                <a:lnTo>
                  <a:pt x="318" y="683"/>
                </a:lnTo>
                <a:lnTo>
                  <a:pt x="315" y="677"/>
                </a:lnTo>
                <a:lnTo>
                  <a:pt x="311" y="672"/>
                </a:lnTo>
                <a:lnTo>
                  <a:pt x="307" y="668"/>
                </a:lnTo>
                <a:lnTo>
                  <a:pt x="301" y="665"/>
                </a:lnTo>
                <a:lnTo>
                  <a:pt x="294" y="664"/>
                </a:lnTo>
                <a:lnTo>
                  <a:pt x="286" y="664"/>
                </a:lnTo>
                <a:close/>
                <a:moveTo>
                  <a:pt x="286" y="640"/>
                </a:moveTo>
                <a:lnTo>
                  <a:pt x="299" y="640"/>
                </a:lnTo>
                <a:lnTo>
                  <a:pt x="311" y="643"/>
                </a:lnTo>
                <a:lnTo>
                  <a:pt x="321" y="648"/>
                </a:lnTo>
                <a:lnTo>
                  <a:pt x="329" y="655"/>
                </a:lnTo>
                <a:lnTo>
                  <a:pt x="335" y="663"/>
                </a:lnTo>
                <a:lnTo>
                  <a:pt x="339" y="672"/>
                </a:lnTo>
                <a:lnTo>
                  <a:pt x="342" y="684"/>
                </a:lnTo>
                <a:lnTo>
                  <a:pt x="343" y="697"/>
                </a:lnTo>
                <a:lnTo>
                  <a:pt x="342" y="712"/>
                </a:lnTo>
                <a:lnTo>
                  <a:pt x="339" y="725"/>
                </a:lnTo>
                <a:lnTo>
                  <a:pt x="335" y="734"/>
                </a:lnTo>
                <a:lnTo>
                  <a:pt x="329" y="744"/>
                </a:lnTo>
                <a:lnTo>
                  <a:pt x="321" y="750"/>
                </a:lnTo>
                <a:lnTo>
                  <a:pt x="311" y="756"/>
                </a:lnTo>
                <a:lnTo>
                  <a:pt x="299" y="758"/>
                </a:lnTo>
                <a:lnTo>
                  <a:pt x="286" y="760"/>
                </a:lnTo>
                <a:lnTo>
                  <a:pt x="273" y="758"/>
                </a:lnTo>
                <a:lnTo>
                  <a:pt x="261" y="756"/>
                </a:lnTo>
                <a:lnTo>
                  <a:pt x="251" y="750"/>
                </a:lnTo>
                <a:lnTo>
                  <a:pt x="243" y="744"/>
                </a:lnTo>
                <a:lnTo>
                  <a:pt x="236" y="734"/>
                </a:lnTo>
                <a:lnTo>
                  <a:pt x="232" y="725"/>
                </a:lnTo>
                <a:lnTo>
                  <a:pt x="230" y="712"/>
                </a:lnTo>
                <a:lnTo>
                  <a:pt x="228" y="697"/>
                </a:lnTo>
                <a:lnTo>
                  <a:pt x="230" y="684"/>
                </a:lnTo>
                <a:lnTo>
                  <a:pt x="232" y="672"/>
                </a:lnTo>
                <a:lnTo>
                  <a:pt x="236" y="663"/>
                </a:lnTo>
                <a:lnTo>
                  <a:pt x="243" y="655"/>
                </a:lnTo>
                <a:lnTo>
                  <a:pt x="251" y="648"/>
                </a:lnTo>
                <a:lnTo>
                  <a:pt x="261" y="643"/>
                </a:lnTo>
                <a:lnTo>
                  <a:pt x="273" y="640"/>
                </a:lnTo>
                <a:lnTo>
                  <a:pt x="286" y="640"/>
                </a:lnTo>
                <a:close/>
                <a:moveTo>
                  <a:pt x="220" y="176"/>
                </a:moveTo>
                <a:lnTo>
                  <a:pt x="220" y="789"/>
                </a:lnTo>
                <a:lnTo>
                  <a:pt x="351" y="789"/>
                </a:lnTo>
                <a:lnTo>
                  <a:pt x="351" y="176"/>
                </a:lnTo>
                <a:lnTo>
                  <a:pt x="220" y="176"/>
                </a:lnTo>
                <a:close/>
                <a:moveTo>
                  <a:pt x="886" y="924"/>
                </a:moveTo>
                <a:lnTo>
                  <a:pt x="889" y="935"/>
                </a:lnTo>
                <a:lnTo>
                  <a:pt x="891" y="944"/>
                </a:lnTo>
                <a:lnTo>
                  <a:pt x="894" y="952"/>
                </a:lnTo>
                <a:lnTo>
                  <a:pt x="898" y="959"/>
                </a:lnTo>
                <a:lnTo>
                  <a:pt x="902" y="964"/>
                </a:lnTo>
                <a:lnTo>
                  <a:pt x="907" y="967"/>
                </a:lnTo>
                <a:lnTo>
                  <a:pt x="914" y="969"/>
                </a:lnTo>
                <a:lnTo>
                  <a:pt x="921" y="971"/>
                </a:lnTo>
                <a:lnTo>
                  <a:pt x="937" y="965"/>
                </a:lnTo>
                <a:lnTo>
                  <a:pt x="954" y="960"/>
                </a:lnTo>
                <a:lnTo>
                  <a:pt x="971" y="954"/>
                </a:lnTo>
                <a:lnTo>
                  <a:pt x="991" y="944"/>
                </a:lnTo>
                <a:lnTo>
                  <a:pt x="1001" y="939"/>
                </a:lnTo>
                <a:lnTo>
                  <a:pt x="1009" y="932"/>
                </a:lnTo>
                <a:lnTo>
                  <a:pt x="1015" y="924"/>
                </a:lnTo>
                <a:lnTo>
                  <a:pt x="1021" y="916"/>
                </a:lnTo>
                <a:lnTo>
                  <a:pt x="1025" y="906"/>
                </a:lnTo>
                <a:lnTo>
                  <a:pt x="1027" y="895"/>
                </a:lnTo>
                <a:lnTo>
                  <a:pt x="1027" y="883"/>
                </a:lnTo>
                <a:lnTo>
                  <a:pt x="1027" y="870"/>
                </a:lnTo>
                <a:lnTo>
                  <a:pt x="1026" y="858"/>
                </a:lnTo>
                <a:lnTo>
                  <a:pt x="1025" y="846"/>
                </a:lnTo>
                <a:lnTo>
                  <a:pt x="1022" y="837"/>
                </a:lnTo>
                <a:lnTo>
                  <a:pt x="1018" y="830"/>
                </a:lnTo>
                <a:lnTo>
                  <a:pt x="1015" y="825"/>
                </a:lnTo>
                <a:lnTo>
                  <a:pt x="1011" y="821"/>
                </a:lnTo>
                <a:lnTo>
                  <a:pt x="1006" y="819"/>
                </a:lnTo>
                <a:lnTo>
                  <a:pt x="1001" y="819"/>
                </a:lnTo>
                <a:lnTo>
                  <a:pt x="994" y="821"/>
                </a:lnTo>
                <a:lnTo>
                  <a:pt x="986" y="823"/>
                </a:lnTo>
                <a:lnTo>
                  <a:pt x="978" y="827"/>
                </a:lnTo>
                <a:lnTo>
                  <a:pt x="970" y="833"/>
                </a:lnTo>
                <a:lnTo>
                  <a:pt x="962" y="838"/>
                </a:lnTo>
                <a:lnTo>
                  <a:pt x="954" y="846"/>
                </a:lnTo>
                <a:lnTo>
                  <a:pt x="945" y="854"/>
                </a:lnTo>
                <a:lnTo>
                  <a:pt x="937" y="863"/>
                </a:lnTo>
                <a:lnTo>
                  <a:pt x="919" y="883"/>
                </a:lnTo>
                <a:lnTo>
                  <a:pt x="906" y="899"/>
                </a:lnTo>
                <a:lnTo>
                  <a:pt x="894" y="912"/>
                </a:lnTo>
                <a:lnTo>
                  <a:pt x="886" y="924"/>
                </a:lnTo>
                <a:close/>
                <a:moveTo>
                  <a:pt x="771" y="931"/>
                </a:moveTo>
                <a:lnTo>
                  <a:pt x="778" y="934"/>
                </a:lnTo>
                <a:lnTo>
                  <a:pt x="785" y="935"/>
                </a:lnTo>
                <a:lnTo>
                  <a:pt x="793" y="935"/>
                </a:lnTo>
                <a:lnTo>
                  <a:pt x="801" y="934"/>
                </a:lnTo>
                <a:lnTo>
                  <a:pt x="809" y="930"/>
                </a:lnTo>
                <a:lnTo>
                  <a:pt x="817" y="926"/>
                </a:lnTo>
                <a:lnTo>
                  <a:pt x="826" y="920"/>
                </a:lnTo>
                <a:lnTo>
                  <a:pt x="835" y="912"/>
                </a:lnTo>
                <a:lnTo>
                  <a:pt x="853" y="896"/>
                </a:lnTo>
                <a:lnTo>
                  <a:pt x="870" y="878"/>
                </a:lnTo>
                <a:lnTo>
                  <a:pt x="885" y="858"/>
                </a:lnTo>
                <a:lnTo>
                  <a:pt x="898" y="837"/>
                </a:lnTo>
                <a:lnTo>
                  <a:pt x="907" y="817"/>
                </a:lnTo>
                <a:lnTo>
                  <a:pt x="915" y="795"/>
                </a:lnTo>
                <a:lnTo>
                  <a:pt x="918" y="786"/>
                </a:lnTo>
                <a:lnTo>
                  <a:pt x="921" y="776"/>
                </a:lnTo>
                <a:lnTo>
                  <a:pt x="921" y="766"/>
                </a:lnTo>
                <a:lnTo>
                  <a:pt x="922" y="757"/>
                </a:lnTo>
                <a:lnTo>
                  <a:pt x="921" y="749"/>
                </a:lnTo>
                <a:lnTo>
                  <a:pt x="918" y="741"/>
                </a:lnTo>
                <a:lnTo>
                  <a:pt x="915" y="736"/>
                </a:lnTo>
                <a:lnTo>
                  <a:pt x="910" y="730"/>
                </a:lnTo>
                <a:lnTo>
                  <a:pt x="903" y="726"/>
                </a:lnTo>
                <a:lnTo>
                  <a:pt x="895" y="725"/>
                </a:lnTo>
                <a:lnTo>
                  <a:pt x="885" y="724"/>
                </a:lnTo>
                <a:lnTo>
                  <a:pt x="874" y="724"/>
                </a:lnTo>
                <a:lnTo>
                  <a:pt x="858" y="728"/>
                </a:lnTo>
                <a:lnTo>
                  <a:pt x="842" y="733"/>
                </a:lnTo>
                <a:lnTo>
                  <a:pt x="827" y="741"/>
                </a:lnTo>
                <a:lnTo>
                  <a:pt x="811" y="750"/>
                </a:lnTo>
                <a:lnTo>
                  <a:pt x="795" y="762"/>
                </a:lnTo>
                <a:lnTo>
                  <a:pt x="781" y="777"/>
                </a:lnTo>
                <a:lnTo>
                  <a:pt x="766" y="793"/>
                </a:lnTo>
                <a:lnTo>
                  <a:pt x="751" y="811"/>
                </a:lnTo>
                <a:lnTo>
                  <a:pt x="745" y="822"/>
                </a:lnTo>
                <a:lnTo>
                  <a:pt x="738" y="831"/>
                </a:lnTo>
                <a:lnTo>
                  <a:pt x="734" y="841"/>
                </a:lnTo>
                <a:lnTo>
                  <a:pt x="730" y="849"/>
                </a:lnTo>
                <a:lnTo>
                  <a:pt x="727" y="858"/>
                </a:lnTo>
                <a:lnTo>
                  <a:pt x="726" y="866"/>
                </a:lnTo>
                <a:lnTo>
                  <a:pt x="726" y="874"/>
                </a:lnTo>
                <a:lnTo>
                  <a:pt x="726" y="880"/>
                </a:lnTo>
                <a:lnTo>
                  <a:pt x="729" y="888"/>
                </a:lnTo>
                <a:lnTo>
                  <a:pt x="731" y="895"/>
                </a:lnTo>
                <a:lnTo>
                  <a:pt x="735" y="902"/>
                </a:lnTo>
                <a:lnTo>
                  <a:pt x="741" y="908"/>
                </a:lnTo>
                <a:lnTo>
                  <a:pt x="746" y="915"/>
                </a:lnTo>
                <a:lnTo>
                  <a:pt x="753" y="920"/>
                </a:lnTo>
                <a:lnTo>
                  <a:pt x="762" y="926"/>
                </a:lnTo>
                <a:lnTo>
                  <a:pt x="771" y="931"/>
                </a:lnTo>
                <a:close/>
                <a:moveTo>
                  <a:pt x="647" y="813"/>
                </a:moveTo>
                <a:lnTo>
                  <a:pt x="654" y="817"/>
                </a:lnTo>
                <a:lnTo>
                  <a:pt x="661" y="821"/>
                </a:lnTo>
                <a:lnTo>
                  <a:pt x="669" y="823"/>
                </a:lnTo>
                <a:lnTo>
                  <a:pt x="675" y="823"/>
                </a:lnTo>
                <a:lnTo>
                  <a:pt x="682" y="823"/>
                </a:lnTo>
                <a:lnTo>
                  <a:pt x="690" y="823"/>
                </a:lnTo>
                <a:lnTo>
                  <a:pt x="697" y="821"/>
                </a:lnTo>
                <a:lnTo>
                  <a:pt x="705" y="817"/>
                </a:lnTo>
                <a:lnTo>
                  <a:pt x="713" y="813"/>
                </a:lnTo>
                <a:lnTo>
                  <a:pt x="721" y="807"/>
                </a:lnTo>
                <a:lnTo>
                  <a:pt x="729" y="801"/>
                </a:lnTo>
                <a:lnTo>
                  <a:pt x="737" y="793"/>
                </a:lnTo>
                <a:lnTo>
                  <a:pt x="753" y="774"/>
                </a:lnTo>
                <a:lnTo>
                  <a:pt x="770" y="752"/>
                </a:lnTo>
                <a:lnTo>
                  <a:pt x="785" y="728"/>
                </a:lnTo>
                <a:lnTo>
                  <a:pt x="797" y="705"/>
                </a:lnTo>
                <a:lnTo>
                  <a:pt x="801" y="694"/>
                </a:lnTo>
                <a:lnTo>
                  <a:pt x="803" y="685"/>
                </a:lnTo>
                <a:lnTo>
                  <a:pt x="806" y="676"/>
                </a:lnTo>
                <a:lnTo>
                  <a:pt x="807" y="667"/>
                </a:lnTo>
                <a:lnTo>
                  <a:pt x="809" y="659"/>
                </a:lnTo>
                <a:lnTo>
                  <a:pt x="809" y="651"/>
                </a:lnTo>
                <a:lnTo>
                  <a:pt x="807" y="643"/>
                </a:lnTo>
                <a:lnTo>
                  <a:pt x="805" y="636"/>
                </a:lnTo>
                <a:lnTo>
                  <a:pt x="801" y="629"/>
                </a:lnTo>
                <a:lnTo>
                  <a:pt x="797" y="624"/>
                </a:lnTo>
                <a:lnTo>
                  <a:pt x="793" y="617"/>
                </a:lnTo>
                <a:lnTo>
                  <a:pt x="786" y="613"/>
                </a:lnTo>
                <a:lnTo>
                  <a:pt x="775" y="605"/>
                </a:lnTo>
                <a:lnTo>
                  <a:pt x="765" y="601"/>
                </a:lnTo>
                <a:lnTo>
                  <a:pt x="755" y="599"/>
                </a:lnTo>
                <a:lnTo>
                  <a:pt x="746" y="599"/>
                </a:lnTo>
                <a:lnTo>
                  <a:pt x="738" y="601"/>
                </a:lnTo>
                <a:lnTo>
                  <a:pt x="731" y="605"/>
                </a:lnTo>
                <a:lnTo>
                  <a:pt x="726" y="613"/>
                </a:lnTo>
                <a:lnTo>
                  <a:pt x="721" y="623"/>
                </a:lnTo>
                <a:lnTo>
                  <a:pt x="715" y="633"/>
                </a:lnTo>
                <a:lnTo>
                  <a:pt x="709" y="644"/>
                </a:lnTo>
                <a:lnTo>
                  <a:pt x="703" y="652"/>
                </a:lnTo>
                <a:lnTo>
                  <a:pt x="697" y="659"/>
                </a:lnTo>
                <a:lnTo>
                  <a:pt x="689" y="665"/>
                </a:lnTo>
                <a:lnTo>
                  <a:pt x="681" y="671"/>
                </a:lnTo>
                <a:lnTo>
                  <a:pt x="673" y="676"/>
                </a:lnTo>
                <a:lnTo>
                  <a:pt x="663" y="679"/>
                </a:lnTo>
                <a:lnTo>
                  <a:pt x="651" y="684"/>
                </a:lnTo>
                <a:lnTo>
                  <a:pt x="641" y="690"/>
                </a:lnTo>
                <a:lnTo>
                  <a:pt x="631" y="697"/>
                </a:lnTo>
                <a:lnTo>
                  <a:pt x="623" y="705"/>
                </a:lnTo>
                <a:lnTo>
                  <a:pt x="618" y="714"/>
                </a:lnTo>
                <a:lnTo>
                  <a:pt x="614" y="724"/>
                </a:lnTo>
                <a:lnTo>
                  <a:pt x="611" y="733"/>
                </a:lnTo>
                <a:lnTo>
                  <a:pt x="610" y="745"/>
                </a:lnTo>
                <a:lnTo>
                  <a:pt x="610" y="756"/>
                </a:lnTo>
                <a:lnTo>
                  <a:pt x="613" y="766"/>
                </a:lnTo>
                <a:lnTo>
                  <a:pt x="615" y="776"/>
                </a:lnTo>
                <a:lnTo>
                  <a:pt x="619" y="785"/>
                </a:lnTo>
                <a:lnTo>
                  <a:pt x="625" y="793"/>
                </a:lnTo>
                <a:lnTo>
                  <a:pt x="631" y="799"/>
                </a:lnTo>
                <a:lnTo>
                  <a:pt x="638" y="806"/>
                </a:lnTo>
                <a:lnTo>
                  <a:pt x="647" y="813"/>
                </a:lnTo>
                <a:close/>
                <a:moveTo>
                  <a:pt x="486" y="713"/>
                </a:moveTo>
                <a:lnTo>
                  <a:pt x="498" y="718"/>
                </a:lnTo>
                <a:lnTo>
                  <a:pt x="509" y="722"/>
                </a:lnTo>
                <a:lnTo>
                  <a:pt x="514" y="722"/>
                </a:lnTo>
                <a:lnTo>
                  <a:pt x="519" y="722"/>
                </a:lnTo>
                <a:lnTo>
                  <a:pt x="523" y="722"/>
                </a:lnTo>
                <a:lnTo>
                  <a:pt x="529" y="721"/>
                </a:lnTo>
                <a:lnTo>
                  <a:pt x="538" y="717"/>
                </a:lnTo>
                <a:lnTo>
                  <a:pt x="546" y="709"/>
                </a:lnTo>
                <a:lnTo>
                  <a:pt x="553" y="700"/>
                </a:lnTo>
                <a:lnTo>
                  <a:pt x="559" y="688"/>
                </a:lnTo>
                <a:lnTo>
                  <a:pt x="565" y="675"/>
                </a:lnTo>
                <a:lnTo>
                  <a:pt x="569" y="664"/>
                </a:lnTo>
                <a:lnTo>
                  <a:pt x="570" y="653"/>
                </a:lnTo>
                <a:lnTo>
                  <a:pt x="570" y="644"/>
                </a:lnTo>
                <a:lnTo>
                  <a:pt x="569" y="635"/>
                </a:lnTo>
                <a:lnTo>
                  <a:pt x="566" y="628"/>
                </a:lnTo>
                <a:lnTo>
                  <a:pt x="561" y="621"/>
                </a:lnTo>
                <a:lnTo>
                  <a:pt x="555" y="617"/>
                </a:lnTo>
                <a:lnTo>
                  <a:pt x="543" y="611"/>
                </a:lnTo>
                <a:lnTo>
                  <a:pt x="531" y="607"/>
                </a:lnTo>
                <a:lnTo>
                  <a:pt x="521" y="605"/>
                </a:lnTo>
                <a:lnTo>
                  <a:pt x="509" y="607"/>
                </a:lnTo>
                <a:lnTo>
                  <a:pt x="498" y="609"/>
                </a:lnTo>
                <a:lnTo>
                  <a:pt x="487" y="615"/>
                </a:lnTo>
                <a:lnTo>
                  <a:pt x="475" y="623"/>
                </a:lnTo>
                <a:lnTo>
                  <a:pt x="465" y="632"/>
                </a:lnTo>
                <a:lnTo>
                  <a:pt x="455" y="643"/>
                </a:lnTo>
                <a:lnTo>
                  <a:pt x="450" y="653"/>
                </a:lnTo>
                <a:lnTo>
                  <a:pt x="449" y="659"/>
                </a:lnTo>
                <a:lnTo>
                  <a:pt x="447" y="664"/>
                </a:lnTo>
                <a:lnTo>
                  <a:pt x="447" y="669"/>
                </a:lnTo>
                <a:lnTo>
                  <a:pt x="449" y="675"/>
                </a:lnTo>
                <a:lnTo>
                  <a:pt x="450" y="679"/>
                </a:lnTo>
                <a:lnTo>
                  <a:pt x="453" y="684"/>
                </a:lnTo>
                <a:lnTo>
                  <a:pt x="455" y="689"/>
                </a:lnTo>
                <a:lnTo>
                  <a:pt x="461" y="693"/>
                </a:lnTo>
                <a:lnTo>
                  <a:pt x="471" y="704"/>
                </a:lnTo>
                <a:lnTo>
                  <a:pt x="486" y="713"/>
                </a:lnTo>
                <a:close/>
                <a:moveTo>
                  <a:pt x="1348" y="809"/>
                </a:moveTo>
                <a:lnTo>
                  <a:pt x="1364" y="793"/>
                </a:lnTo>
                <a:lnTo>
                  <a:pt x="1373" y="785"/>
                </a:lnTo>
                <a:lnTo>
                  <a:pt x="1382" y="778"/>
                </a:lnTo>
                <a:lnTo>
                  <a:pt x="1398" y="766"/>
                </a:lnTo>
                <a:lnTo>
                  <a:pt x="1390" y="764"/>
                </a:lnTo>
                <a:lnTo>
                  <a:pt x="1381" y="760"/>
                </a:lnTo>
                <a:lnTo>
                  <a:pt x="1372" y="754"/>
                </a:lnTo>
                <a:lnTo>
                  <a:pt x="1362" y="746"/>
                </a:lnTo>
                <a:lnTo>
                  <a:pt x="1338" y="729"/>
                </a:lnTo>
                <a:lnTo>
                  <a:pt x="1312" y="704"/>
                </a:lnTo>
                <a:lnTo>
                  <a:pt x="1297" y="692"/>
                </a:lnTo>
                <a:lnTo>
                  <a:pt x="1285" y="681"/>
                </a:lnTo>
                <a:lnTo>
                  <a:pt x="1273" y="673"/>
                </a:lnTo>
                <a:lnTo>
                  <a:pt x="1264" y="667"/>
                </a:lnTo>
                <a:lnTo>
                  <a:pt x="1254" y="661"/>
                </a:lnTo>
                <a:lnTo>
                  <a:pt x="1248" y="659"/>
                </a:lnTo>
                <a:lnTo>
                  <a:pt x="1241" y="659"/>
                </a:lnTo>
                <a:lnTo>
                  <a:pt x="1236" y="659"/>
                </a:lnTo>
                <a:lnTo>
                  <a:pt x="1234" y="664"/>
                </a:lnTo>
                <a:lnTo>
                  <a:pt x="1234" y="669"/>
                </a:lnTo>
                <a:lnTo>
                  <a:pt x="1237" y="676"/>
                </a:lnTo>
                <a:lnTo>
                  <a:pt x="1241" y="683"/>
                </a:lnTo>
                <a:lnTo>
                  <a:pt x="1248" y="690"/>
                </a:lnTo>
                <a:lnTo>
                  <a:pt x="1256" y="700"/>
                </a:lnTo>
                <a:lnTo>
                  <a:pt x="1265" y="709"/>
                </a:lnTo>
                <a:lnTo>
                  <a:pt x="1277" y="720"/>
                </a:lnTo>
                <a:lnTo>
                  <a:pt x="1300" y="742"/>
                </a:lnTo>
                <a:lnTo>
                  <a:pt x="1320" y="764"/>
                </a:lnTo>
                <a:lnTo>
                  <a:pt x="1328" y="774"/>
                </a:lnTo>
                <a:lnTo>
                  <a:pt x="1336" y="786"/>
                </a:lnTo>
                <a:lnTo>
                  <a:pt x="1342" y="797"/>
                </a:lnTo>
                <a:lnTo>
                  <a:pt x="1348" y="809"/>
                </a:lnTo>
                <a:close/>
                <a:moveTo>
                  <a:pt x="382" y="621"/>
                </a:moveTo>
                <a:lnTo>
                  <a:pt x="393" y="621"/>
                </a:lnTo>
                <a:lnTo>
                  <a:pt x="403" y="621"/>
                </a:lnTo>
                <a:lnTo>
                  <a:pt x="414" y="621"/>
                </a:lnTo>
                <a:lnTo>
                  <a:pt x="427" y="621"/>
                </a:lnTo>
                <a:lnTo>
                  <a:pt x="439" y="612"/>
                </a:lnTo>
                <a:lnTo>
                  <a:pt x="450" y="604"/>
                </a:lnTo>
                <a:lnTo>
                  <a:pt x="462" y="596"/>
                </a:lnTo>
                <a:lnTo>
                  <a:pt x="474" y="590"/>
                </a:lnTo>
                <a:lnTo>
                  <a:pt x="487" y="583"/>
                </a:lnTo>
                <a:lnTo>
                  <a:pt x="502" y="579"/>
                </a:lnTo>
                <a:lnTo>
                  <a:pt x="518" y="576"/>
                </a:lnTo>
                <a:lnTo>
                  <a:pt x="537" y="575"/>
                </a:lnTo>
                <a:lnTo>
                  <a:pt x="543" y="575"/>
                </a:lnTo>
                <a:lnTo>
                  <a:pt x="551" y="578"/>
                </a:lnTo>
                <a:lnTo>
                  <a:pt x="558" y="580"/>
                </a:lnTo>
                <a:lnTo>
                  <a:pt x="563" y="584"/>
                </a:lnTo>
                <a:lnTo>
                  <a:pt x="570" y="588"/>
                </a:lnTo>
                <a:lnTo>
                  <a:pt x="575" y="595"/>
                </a:lnTo>
                <a:lnTo>
                  <a:pt x="581" y="601"/>
                </a:lnTo>
                <a:lnTo>
                  <a:pt x="585" y="609"/>
                </a:lnTo>
                <a:lnTo>
                  <a:pt x="594" y="627"/>
                </a:lnTo>
                <a:lnTo>
                  <a:pt x="601" y="643"/>
                </a:lnTo>
                <a:lnTo>
                  <a:pt x="607" y="659"/>
                </a:lnTo>
                <a:lnTo>
                  <a:pt x="613" y="675"/>
                </a:lnTo>
                <a:lnTo>
                  <a:pt x="627" y="667"/>
                </a:lnTo>
                <a:lnTo>
                  <a:pt x="641" y="659"/>
                </a:lnTo>
                <a:lnTo>
                  <a:pt x="653" y="649"/>
                </a:lnTo>
                <a:lnTo>
                  <a:pt x="665" y="641"/>
                </a:lnTo>
                <a:lnTo>
                  <a:pt x="675" y="632"/>
                </a:lnTo>
                <a:lnTo>
                  <a:pt x="686" y="623"/>
                </a:lnTo>
                <a:lnTo>
                  <a:pt x="694" y="612"/>
                </a:lnTo>
                <a:lnTo>
                  <a:pt x="702" y="603"/>
                </a:lnTo>
                <a:lnTo>
                  <a:pt x="710" y="592"/>
                </a:lnTo>
                <a:lnTo>
                  <a:pt x="718" y="584"/>
                </a:lnTo>
                <a:lnTo>
                  <a:pt x="727" y="579"/>
                </a:lnTo>
                <a:lnTo>
                  <a:pt x="738" y="575"/>
                </a:lnTo>
                <a:lnTo>
                  <a:pt x="747" y="572"/>
                </a:lnTo>
                <a:lnTo>
                  <a:pt x="758" y="571"/>
                </a:lnTo>
                <a:lnTo>
                  <a:pt x="770" y="572"/>
                </a:lnTo>
                <a:lnTo>
                  <a:pt x="782" y="575"/>
                </a:lnTo>
                <a:lnTo>
                  <a:pt x="794" y="579"/>
                </a:lnTo>
                <a:lnTo>
                  <a:pt x="805" y="584"/>
                </a:lnTo>
                <a:lnTo>
                  <a:pt x="813" y="590"/>
                </a:lnTo>
                <a:lnTo>
                  <a:pt x="821" y="596"/>
                </a:lnTo>
                <a:lnTo>
                  <a:pt x="826" y="603"/>
                </a:lnTo>
                <a:lnTo>
                  <a:pt x="829" y="611"/>
                </a:lnTo>
                <a:lnTo>
                  <a:pt x="831" y="619"/>
                </a:lnTo>
                <a:lnTo>
                  <a:pt x="831" y="628"/>
                </a:lnTo>
                <a:lnTo>
                  <a:pt x="831" y="647"/>
                </a:lnTo>
                <a:lnTo>
                  <a:pt x="830" y="667"/>
                </a:lnTo>
                <a:lnTo>
                  <a:pt x="830" y="688"/>
                </a:lnTo>
                <a:lnTo>
                  <a:pt x="829" y="709"/>
                </a:lnTo>
                <a:lnTo>
                  <a:pt x="854" y="700"/>
                </a:lnTo>
                <a:lnTo>
                  <a:pt x="875" y="694"/>
                </a:lnTo>
                <a:lnTo>
                  <a:pt x="894" y="692"/>
                </a:lnTo>
                <a:lnTo>
                  <a:pt x="909" y="692"/>
                </a:lnTo>
                <a:lnTo>
                  <a:pt x="915" y="692"/>
                </a:lnTo>
                <a:lnTo>
                  <a:pt x="921" y="694"/>
                </a:lnTo>
                <a:lnTo>
                  <a:pt x="925" y="697"/>
                </a:lnTo>
                <a:lnTo>
                  <a:pt x="929" y="700"/>
                </a:lnTo>
                <a:lnTo>
                  <a:pt x="931" y="704"/>
                </a:lnTo>
                <a:lnTo>
                  <a:pt x="933" y="708"/>
                </a:lnTo>
                <a:lnTo>
                  <a:pt x="934" y="714"/>
                </a:lnTo>
                <a:lnTo>
                  <a:pt x="934" y="720"/>
                </a:lnTo>
                <a:lnTo>
                  <a:pt x="933" y="733"/>
                </a:lnTo>
                <a:lnTo>
                  <a:pt x="933" y="745"/>
                </a:lnTo>
                <a:lnTo>
                  <a:pt x="934" y="757"/>
                </a:lnTo>
                <a:lnTo>
                  <a:pt x="935" y="768"/>
                </a:lnTo>
                <a:lnTo>
                  <a:pt x="937" y="778"/>
                </a:lnTo>
                <a:lnTo>
                  <a:pt x="939" y="789"/>
                </a:lnTo>
                <a:lnTo>
                  <a:pt x="943" y="799"/>
                </a:lnTo>
                <a:lnTo>
                  <a:pt x="947" y="809"/>
                </a:lnTo>
                <a:lnTo>
                  <a:pt x="966" y="801"/>
                </a:lnTo>
                <a:lnTo>
                  <a:pt x="983" y="795"/>
                </a:lnTo>
                <a:lnTo>
                  <a:pt x="998" y="791"/>
                </a:lnTo>
                <a:lnTo>
                  <a:pt x="1010" y="790"/>
                </a:lnTo>
                <a:lnTo>
                  <a:pt x="1015" y="791"/>
                </a:lnTo>
                <a:lnTo>
                  <a:pt x="1021" y="793"/>
                </a:lnTo>
                <a:lnTo>
                  <a:pt x="1025" y="794"/>
                </a:lnTo>
                <a:lnTo>
                  <a:pt x="1029" y="795"/>
                </a:lnTo>
                <a:lnTo>
                  <a:pt x="1031" y="799"/>
                </a:lnTo>
                <a:lnTo>
                  <a:pt x="1034" y="802"/>
                </a:lnTo>
                <a:lnTo>
                  <a:pt x="1035" y="806"/>
                </a:lnTo>
                <a:lnTo>
                  <a:pt x="1038" y="811"/>
                </a:lnTo>
                <a:lnTo>
                  <a:pt x="1043" y="831"/>
                </a:lnTo>
                <a:lnTo>
                  <a:pt x="1049" y="853"/>
                </a:lnTo>
                <a:lnTo>
                  <a:pt x="1055" y="874"/>
                </a:lnTo>
                <a:lnTo>
                  <a:pt x="1063" y="896"/>
                </a:lnTo>
                <a:lnTo>
                  <a:pt x="1080" y="904"/>
                </a:lnTo>
                <a:lnTo>
                  <a:pt x="1097" y="911"/>
                </a:lnTo>
                <a:lnTo>
                  <a:pt x="1114" y="919"/>
                </a:lnTo>
                <a:lnTo>
                  <a:pt x="1134" y="926"/>
                </a:lnTo>
                <a:lnTo>
                  <a:pt x="1144" y="928"/>
                </a:lnTo>
                <a:lnTo>
                  <a:pt x="1153" y="928"/>
                </a:lnTo>
                <a:lnTo>
                  <a:pt x="1161" y="927"/>
                </a:lnTo>
                <a:lnTo>
                  <a:pt x="1170" y="923"/>
                </a:lnTo>
                <a:lnTo>
                  <a:pt x="1177" y="916"/>
                </a:lnTo>
                <a:lnTo>
                  <a:pt x="1185" y="908"/>
                </a:lnTo>
                <a:lnTo>
                  <a:pt x="1192" y="898"/>
                </a:lnTo>
                <a:lnTo>
                  <a:pt x="1197" y="886"/>
                </a:lnTo>
                <a:lnTo>
                  <a:pt x="1189" y="878"/>
                </a:lnTo>
                <a:lnTo>
                  <a:pt x="1177" y="863"/>
                </a:lnTo>
                <a:lnTo>
                  <a:pt x="1160" y="843"/>
                </a:lnTo>
                <a:lnTo>
                  <a:pt x="1138" y="817"/>
                </a:lnTo>
                <a:lnTo>
                  <a:pt x="1116" y="790"/>
                </a:lnTo>
                <a:lnTo>
                  <a:pt x="1100" y="770"/>
                </a:lnTo>
                <a:lnTo>
                  <a:pt x="1086" y="757"/>
                </a:lnTo>
                <a:lnTo>
                  <a:pt x="1078" y="748"/>
                </a:lnTo>
                <a:lnTo>
                  <a:pt x="1074" y="744"/>
                </a:lnTo>
                <a:lnTo>
                  <a:pt x="1070" y="740"/>
                </a:lnTo>
                <a:lnTo>
                  <a:pt x="1067" y="736"/>
                </a:lnTo>
                <a:lnTo>
                  <a:pt x="1066" y="733"/>
                </a:lnTo>
                <a:lnTo>
                  <a:pt x="1066" y="729"/>
                </a:lnTo>
                <a:lnTo>
                  <a:pt x="1067" y="726"/>
                </a:lnTo>
                <a:lnTo>
                  <a:pt x="1069" y="724"/>
                </a:lnTo>
                <a:lnTo>
                  <a:pt x="1071" y="721"/>
                </a:lnTo>
                <a:lnTo>
                  <a:pt x="1078" y="717"/>
                </a:lnTo>
                <a:lnTo>
                  <a:pt x="1085" y="716"/>
                </a:lnTo>
                <a:lnTo>
                  <a:pt x="1092" y="717"/>
                </a:lnTo>
                <a:lnTo>
                  <a:pt x="1097" y="720"/>
                </a:lnTo>
                <a:lnTo>
                  <a:pt x="1109" y="732"/>
                </a:lnTo>
                <a:lnTo>
                  <a:pt x="1125" y="749"/>
                </a:lnTo>
                <a:lnTo>
                  <a:pt x="1145" y="773"/>
                </a:lnTo>
                <a:lnTo>
                  <a:pt x="1169" y="801"/>
                </a:lnTo>
                <a:lnTo>
                  <a:pt x="1193" y="827"/>
                </a:lnTo>
                <a:lnTo>
                  <a:pt x="1212" y="846"/>
                </a:lnTo>
                <a:lnTo>
                  <a:pt x="1220" y="853"/>
                </a:lnTo>
                <a:lnTo>
                  <a:pt x="1226" y="857"/>
                </a:lnTo>
                <a:lnTo>
                  <a:pt x="1232" y="858"/>
                </a:lnTo>
                <a:lnTo>
                  <a:pt x="1236" y="859"/>
                </a:lnTo>
                <a:lnTo>
                  <a:pt x="1253" y="855"/>
                </a:lnTo>
                <a:lnTo>
                  <a:pt x="1269" y="853"/>
                </a:lnTo>
                <a:lnTo>
                  <a:pt x="1281" y="849"/>
                </a:lnTo>
                <a:lnTo>
                  <a:pt x="1293" y="845"/>
                </a:lnTo>
                <a:lnTo>
                  <a:pt x="1301" y="841"/>
                </a:lnTo>
                <a:lnTo>
                  <a:pt x="1308" y="837"/>
                </a:lnTo>
                <a:lnTo>
                  <a:pt x="1312" y="831"/>
                </a:lnTo>
                <a:lnTo>
                  <a:pt x="1313" y="826"/>
                </a:lnTo>
                <a:lnTo>
                  <a:pt x="1313" y="821"/>
                </a:lnTo>
                <a:lnTo>
                  <a:pt x="1313" y="815"/>
                </a:lnTo>
                <a:lnTo>
                  <a:pt x="1312" y="810"/>
                </a:lnTo>
                <a:lnTo>
                  <a:pt x="1309" y="803"/>
                </a:lnTo>
                <a:lnTo>
                  <a:pt x="1301" y="790"/>
                </a:lnTo>
                <a:lnTo>
                  <a:pt x="1290" y="777"/>
                </a:lnTo>
                <a:lnTo>
                  <a:pt x="1276" y="761"/>
                </a:lnTo>
                <a:lnTo>
                  <a:pt x="1261" y="745"/>
                </a:lnTo>
                <a:lnTo>
                  <a:pt x="1245" y="728"/>
                </a:lnTo>
                <a:lnTo>
                  <a:pt x="1228" y="709"/>
                </a:lnTo>
                <a:lnTo>
                  <a:pt x="1220" y="700"/>
                </a:lnTo>
                <a:lnTo>
                  <a:pt x="1213" y="690"/>
                </a:lnTo>
                <a:lnTo>
                  <a:pt x="1206" y="680"/>
                </a:lnTo>
                <a:lnTo>
                  <a:pt x="1202" y="671"/>
                </a:lnTo>
                <a:lnTo>
                  <a:pt x="1198" y="660"/>
                </a:lnTo>
                <a:lnTo>
                  <a:pt x="1196" y="649"/>
                </a:lnTo>
                <a:lnTo>
                  <a:pt x="1194" y="639"/>
                </a:lnTo>
                <a:lnTo>
                  <a:pt x="1193" y="628"/>
                </a:lnTo>
                <a:lnTo>
                  <a:pt x="1204" y="625"/>
                </a:lnTo>
                <a:lnTo>
                  <a:pt x="1213" y="624"/>
                </a:lnTo>
                <a:lnTo>
                  <a:pt x="1222" y="623"/>
                </a:lnTo>
                <a:lnTo>
                  <a:pt x="1233" y="623"/>
                </a:lnTo>
                <a:lnTo>
                  <a:pt x="1242" y="624"/>
                </a:lnTo>
                <a:lnTo>
                  <a:pt x="1252" y="627"/>
                </a:lnTo>
                <a:lnTo>
                  <a:pt x="1262" y="629"/>
                </a:lnTo>
                <a:lnTo>
                  <a:pt x="1272" y="633"/>
                </a:lnTo>
                <a:lnTo>
                  <a:pt x="1281" y="637"/>
                </a:lnTo>
                <a:lnTo>
                  <a:pt x="1292" y="644"/>
                </a:lnTo>
                <a:lnTo>
                  <a:pt x="1301" y="651"/>
                </a:lnTo>
                <a:lnTo>
                  <a:pt x="1312" y="657"/>
                </a:lnTo>
                <a:lnTo>
                  <a:pt x="1332" y="676"/>
                </a:lnTo>
                <a:lnTo>
                  <a:pt x="1352" y="697"/>
                </a:lnTo>
                <a:lnTo>
                  <a:pt x="1361" y="708"/>
                </a:lnTo>
                <a:lnTo>
                  <a:pt x="1370" y="718"/>
                </a:lnTo>
                <a:lnTo>
                  <a:pt x="1380" y="726"/>
                </a:lnTo>
                <a:lnTo>
                  <a:pt x="1389" y="734"/>
                </a:lnTo>
                <a:lnTo>
                  <a:pt x="1397" y="741"/>
                </a:lnTo>
                <a:lnTo>
                  <a:pt x="1406" y="745"/>
                </a:lnTo>
                <a:lnTo>
                  <a:pt x="1414" y="750"/>
                </a:lnTo>
                <a:lnTo>
                  <a:pt x="1422" y="753"/>
                </a:lnTo>
                <a:lnTo>
                  <a:pt x="1429" y="754"/>
                </a:lnTo>
                <a:lnTo>
                  <a:pt x="1437" y="754"/>
                </a:lnTo>
                <a:lnTo>
                  <a:pt x="1444" y="754"/>
                </a:lnTo>
                <a:lnTo>
                  <a:pt x="1450" y="752"/>
                </a:lnTo>
                <a:lnTo>
                  <a:pt x="1457" y="749"/>
                </a:lnTo>
                <a:lnTo>
                  <a:pt x="1464" y="745"/>
                </a:lnTo>
                <a:lnTo>
                  <a:pt x="1469" y="740"/>
                </a:lnTo>
                <a:lnTo>
                  <a:pt x="1474" y="733"/>
                </a:lnTo>
                <a:lnTo>
                  <a:pt x="1476" y="729"/>
                </a:lnTo>
                <a:lnTo>
                  <a:pt x="1477" y="725"/>
                </a:lnTo>
                <a:lnTo>
                  <a:pt x="1477" y="721"/>
                </a:lnTo>
                <a:lnTo>
                  <a:pt x="1477" y="717"/>
                </a:lnTo>
                <a:lnTo>
                  <a:pt x="1474" y="705"/>
                </a:lnTo>
                <a:lnTo>
                  <a:pt x="1469" y="692"/>
                </a:lnTo>
                <a:lnTo>
                  <a:pt x="1460" y="676"/>
                </a:lnTo>
                <a:lnTo>
                  <a:pt x="1448" y="657"/>
                </a:lnTo>
                <a:lnTo>
                  <a:pt x="1433" y="637"/>
                </a:lnTo>
                <a:lnTo>
                  <a:pt x="1416" y="613"/>
                </a:lnTo>
                <a:lnTo>
                  <a:pt x="1396" y="590"/>
                </a:lnTo>
                <a:lnTo>
                  <a:pt x="1374" y="567"/>
                </a:lnTo>
                <a:lnTo>
                  <a:pt x="1352" y="543"/>
                </a:lnTo>
                <a:lnTo>
                  <a:pt x="1328" y="519"/>
                </a:lnTo>
                <a:lnTo>
                  <a:pt x="1302" y="495"/>
                </a:lnTo>
                <a:lnTo>
                  <a:pt x="1277" y="473"/>
                </a:lnTo>
                <a:lnTo>
                  <a:pt x="1249" y="449"/>
                </a:lnTo>
                <a:lnTo>
                  <a:pt x="1221" y="425"/>
                </a:lnTo>
                <a:lnTo>
                  <a:pt x="1193" y="411"/>
                </a:lnTo>
                <a:lnTo>
                  <a:pt x="1164" y="397"/>
                </a:lnTo>
                <a:lnTo>
                  <a:pt x="1132" y="384"/>
                </a:lnTo>
                <a:lnTo>
                  <a:pt x="1098" y="369"/>
                </a:lnTo>
                <a:lnTo>
                  <a:pt x="1065" y="357"/>
                </a:lnTo>
                <a:lnTo>
                  <a:pt x="1035" y="348"/>
                </a:lnTo>
                <a:lnTo>
                  <a:pt x="1022" y="345"/>
                </a:lnTo>
                <a:lnTo>
                  <a:pt x="1009" y="342"/>
                </a:lnTo>
                <a:lnTo>
                  <a:pt x="997" y="341"/>
                </a:lnTo>
                <a:lnTo>
                  <a:pt x="986" y="341"/>
                </a:lnTo>
                <a:lnTo>
                  <a:pt x="966" y="352"/>
                </a:lnTo>
                <a:lnTo>
                  <a:pt x="946" y="361"/>
                </a:lnTo>
                <a:lnTo>
                  <a:pt x="926" y="369"/>
                </a:lnTo>
                <a:lnTo>
                  <a:pt x="907" y="377"/>
                </a:lnTo>
                <a:lnTo>
                  <a:pt x="886" y="382"/>
                </a:lnTo>
                <a:lnTo>
                  <a:pt x="866" y="389"/>
                </a:lnTo>
                <a:lnTo>
                  <a:pt x="846" y="393"/>
                </a:lnTo>
                <a:lnTo>
                  <a:pt x="825" y="396"/>
                </a:lnTo>
                <a:lnTo>
                  <a:pt x="806" y="398"/>
                </a:lnTo>
                <a:lnTo>
                  <a:pt x="787" y="397"/>
                </a:lnTo>
                <a:lnTo>
                  <a:pt x="778" y="397"/>
                </a:lnTo>
                <a:lnTo>
                  <a:pt x="770" y="394"/>
                </a:lnTo>
                <a:lnTo>
                  <a:pt x="762" y="393"/>
                </a:lnTo>
                <a:lnTo>
                  <a:pt x="755" y="389"/>
                </a:lnTo>
                <a:lnTo>
                  <a:pt x="747" y="386"/>
                </a:lnTo>
                <a:lnTo>
                  <a:pt x="741" y="382"/>
                </a:lnTo>
                <a:lnTo>
                  <a:pt x="734" y="377"/>
                </a:lnTo>
                <a:lnTo>
                  <a:pt x="729" y="372"/>
                </a:lnTo>
                <a:lnTo>
                  <a:pt x="723" y="366"/>
                </a:lnTo>
                <a:lnTo>
                  <a:pt x="718" y="360"/>
                </a:lnTo>
                <a:lnTo>
                  <a:pt x="713" y="353"/>
                </a:lnTo>
                <a:lnTo>
                  <a:pt x="709" y="345"/>
                </a:lnTo>
                <a:lnTo>
                  <a:pt x="703" y="337"/>
                </a:lnTo>
                <a:lnTo>
                  <a:pt x="702" y="329"/>
                </a:lnTo>
                <a:lnTo>
                  <a:pt x="702" y="325"/>
                </a:lnTo>
                <a:lnTo>
                  <a:pt x="703" y="322"/>
                </a:lnTo>
                <a:lnTo>
                  <a:pt x="705" y="319"/>
                </a:lnTo>
                <a:lnTo>
                  <a:pt x="707" y="315"/>
                </a:lnTo>
                <a:lnTo>
                  <a:pt x="713" y="309"/>
                </a:lnTo>
                <a:lnTo>
                  <a:pt x="722" y="303"/>
                </a:lnTo>
                <a:lnTo>
                  <a:pt x="734" y="297"/>
                </a:lnTo>
                <a:lnTo>
                  <a:pt x="750" y="292"/>
                </a:lnTo>
                <a:lnTo>
                  <a:pt x="758" y="289"/>
                </a:lnTo>
                <a:lnTo>
                  <a:pt x="765" y="287"/>
                </a:lnTo>
                <a:lnTo>
                  <a:pt x="773" y="281"/>
                </a:lnTo>
                <a:lnTo>
                  <a:pt x="779" y="277"/>
                </a:lnTo>
                <a:lnTo>
                  <a:pt x="786" y="271"/>
                </a:lnTo>
                <a:lnTo>
                  <a:pt x="793" y="265"/>
                </a:lnTo>
                <a:lnTo>
                  <a:pt x="799" y="257"/>
                </a:lnTo>
                <a:lnTo>
                  <a:pt x="805" y="249"/>
                </a:lnTo>
                <a:lnTo>
                  <a:pt x="817" y="232"/>
                </a:lnTo>
                <a:lnTo>
                  <a:pt x="827" y="211"/>
                </a:lnTo>
                <a:lnTo>
                  <a:pt x="835" y="187"/>
                </a:lnTo>
                <a:lnTo>
                  <a:pt x="845" y="160"/>
                </a:lnTo>
                <a:lnTo>
                  <a:pt x="825" y="163"/>
                </a:lnTo>
                <a:lnTo>
                  <a:pt x="805" y="164"/>
                </a:lnTo>
                <a:lnTo>
                  <a:pt x="783" y="164"/>
                </a:lnTo>
                <a:lnTo>
                  <a:pt x="762" y="163"/>
                </a:lnTo>
                <a:lnTo>
                  <a:pt x="739" y="162"/>
                </a:lnTo>
                <a:lnTo>
                  <a:pt x="717" y="164"/>
                </a:lnTo>
                <a:lnTo>
                  <a:pt x="691" y="168"/>
                </a:lnTo>
                <a:lnTo>
                  <a:pt x="666" y="176"/>
                </a:lnTo>
                <a:lnTo>
                  <a:pt x="641" y="184"/>
                </a:lnTo>
                <a:lnTo>
                  <a:pt x="614" y="196"/>
                </a:lnTo>
                <a:lnTo>
                  <a:pt x="586" y="211"/>
                </a:lnTo>
                <a:lnTo>
                  <a:pt x="557" y="229"/>
                </a:lnTo>
                <a:lnTo>
                  <a:pt x="541" y="237"/>
                </a:lnTo>
                <a:lnTo>
                  <a:pt x="523" y="245"/>
                </a:lnTo>
                <a:lnTo>
                  <a:pt x="505" y="252"/>
                </a:lnTo>
                <a:lnTo>
                  <a:pt x="483" y="257"/>
                </a:lnTo>
                <a:lnTo>
                  <a:pt x="461" y="260"/>
                </a:lnTo>
                <a:lnTo>
                  <a:pt x="437" y="263"/>
                </a:lnTo>
                <a:lnTo>
                  <a:pt x="410" y="264"/>
                </a:lnTo>
                <a:lnTo>
                  <a:pt x="382" y="264"/>
                </a:lnTo>
                <a:lnTo>
                  <a:pt x="382" y="621"/>
                </a:lnTo>
                <a:close/>
              </a:path>
            </a:pathLst>
          </a:cu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5"/>
          <p:cNvSpPr/>
          <p:nvPr/>
        </p:nvSpPr>
        <p:spPr>
          <a:xfrm>
            <a:off x="1430280" y="2276640"/>
            <a:ext cx="851040" cy="677520"/>
          </a:xfrm>
          <a:custGeom>
            <a:avLst/>
            <a:gdLst>
              <a:gd name="textAreaLeft" fmla="*/ 0 w 851040"/>
              <a:gd name="textAreaRight" fmla="*/ 851400 w 851040"/>
              <a:gd name="textAreaTop" fmla="*/ 0 h 677520"/>
              <a:gd name="textAreaBottom" fmla="*/ 677880 h 677520"/>
            </a:gdLst>
            <a:ahLst/>
            <a:rect l="textAreaLeft" t="textAreaTop" r="textAreaRight" b="textAreaBottom"/>
            <a:pathLst>
              <a:path w="1802" h="1435">
                <a:moveTo>
                  <a:pt x="561" y="800"/>
                </a:moveTo>
                <a:lnTo>
                  <a:pt x="612" y="717"/>
                </a:lnTo>
                <a:lnTo>
                  <a:pt x="1095" y="354"/>
                </a:lnTo>
                <a:lnTo>
                  <a:pt x="1048" y="305"/>
                </a:lnTo>
                <a:lnTo>
                  <a:pt x="638" y="620"/>
                </a:lnTo>
                <a:lnTo>
                  <a:pt x="724" y="103"/>
                </a:lnTo>
                <a:lnTo>
                  <a:pt x="663" y="86"/>
                </a:lnTo>
                <a:lnTo>
                  <a:pt x="551" y="677"/>
                </a:lnTo>
                <a:lnTo>
                  <a:pt x="501" y="764"/>
                </a:lnTo>
                <a:lnTo>
                  <a:pt x="349" y="668"/>
                </a:lnTo>
                <a:lnTo>
                  <a:pt x="309" y="732"/>
                </a:lnTo>
                <a:lnTo>
                  <a:pt x="461" y="825"/>
                </a:lnTo>
                <a:lnTo>
                  <a:pt x="267" y="1137"/>
                </a:lnTo>
                <a:lnTo>
                  <a:pt x="328" y="1177"/>
                </a:lnTo>
                <a:lnTo>
                  <a:pt x="523" y="861"/>
                </a:lnTo>
                <a:lnTo>
                  <a:pt x="678" y="954"/>
                </a:lnTo>
                <a:lnTo>
                  <a:pt x="714" y="894"/>
                </a:lnTo>
                <a:lnTo>
                  <a:pt x="561" y="800"/>
                </a:lnTo>
                <a:close/>
                <a:moveTo>
                  <a:pt x="656" y="0"/>
                </a:moveTo>
                <a:lnTo>
                  <a:pt x="1171" y="316"/>
                </a:lnTo>
                <a:lnTo>
                  <a:pt x="523" y="1371"/>
                </a:lnTo>
                <a:lnTo>
                  <a:pt x="0" y="1051"/>
                </a:lnTo>
                <a:lnTo>
                  <a:pt x="656" y="0"/>
                </a:lnTo>
                <a:close/>
                <a:moveTo>
                  <a:pt x="970" y="32"/>
                </a:moveTo>
                <a:lnTo>
                  <a:pt x="1487" y="354"/>
                </a:lnTo>
                <a:lnTo>
                  <a:pt x="832" y="1409"/>
                </a:lnTo>
                <a:lnTo>
                  <a:pt x="648" y="1295"/>
                </a:lnTo>
                <a:lnTo>
                  <a:pt x="699" y="1213"/>
                </a:lnTo>
                <a:lnTo>
                  <a:pt x="715" y="1225"/>
                </a:lnTo>
                <a:lnTo>
                  <a:pt x="728" y="1237"/>
                </a:lnTo>
                <a:lnTo>
                  <a:pt x="739" y="1250"/>
                </a:lnTo>
                <a:lnTo>
                  <a:pt x="747" y="1265"/>
                </a:lnTo>
                <a:lnTo>
                  <a:pt x="751" y="1271"/>
                </a:lnTo>
                <a:lnTo>
                  <a:pt x="756" y="1278"/>
                </a:lnTo>
                <a:lnTo>
                  <a:pt x="763" y="1283"/>
                </a:lnTo>
                <a:lnTo>
                  <a:pt x="772" y="1286"/>
                </a:lnTo>
                <a:lnTo>
                  <a:pt x="783" y="1290"/>
                </a:lnTo>
                <a:lnTo>
                  <a:pt x="795" y="1291"/>
                </a:lnTo>
                <a:lnTo>
                  <a:pt x="810" y="1292"/>
                </a:lnTo>
                <a:lnTo>
                  <a:pt x="826" y="1291"/>
                </a:lnTo>
                <a:lnTo>
                  <a:pt x="866" y="1234"/>
                </a:lnTo>
                <a:lnTo>
                  <a:pt x="851" y="1234"/>
                </a:lnTo>
                <a:lnTo>
                  <a:pt x="838" y="1233"/>
                </a:lnTo>
                <a:lnTo>
                  <a:pt x="826" y="1230"/>
                </a:lnTo>
                <a:lnTo>
                  <a:pt x="816" y="1227"/>
                </a:lnTo>
                <a:lnTo>
                  <a:pt x="807" y="1222"/>
                </a:lnTo>
                <a:lnTo>
                  <a:pt x="800" y="1215"/>
                </a:lnTo>
                <a:lnTo>
                  <a:pt x="794" y="1209"/>
                </a:lnTo>
                <a:lnTo>
                  <a:pt x="790" y="1199"/>
                </a:lnTo>
                <a:lnTo>
                  <a:pt x="786" y="1191"/>
                </a:lnTo>
                <a:lnTo>
                  <a:pt x="780" y="1182"/>
                </a:lnTo>
                <a:lnTo>
                  <a:pt x="775" y="1176"/>
                </a:lnTo>
                <a:lnTo>
                  <a:pt x="770" y="1168"/>
                </a:lnTo>
                <a:lnTo>
                  <a:pt x="764" y="1161"/>
                </a:lnTo>
                <a:lnTo>
                  <a:pt x="758" y="1154"/>
                </a:lnTo>
                <a:lnTo>
                  <a:pt x="750" y="1149"/>
                </a:lnTo>
                <a:lnTo>
                  <a:pt x="743" y="1144"/>
                </a:lnTo>
                <a:lnTo>
                  <a:pt x="959" y="789"/>
                </a:lnTo>
                <a:lnTo>
                  <a:pt x="1031" y="839"/>
                </a:lnTo>
                <a:lnTo>
                  <a:pt x="1074" y="781"/>
                </a:lnTo>
                <a:lnTo>
                  <a:pt x="995" y="732"/>
                </a:lnTo>
                <a:lnTo>
                  <a:pt x="1192" y="416"/>
                </a:lnTo>
                <a:lnTo>
                  <a:pt x="1214" y="425"/>
                </a:lnTo>
                <a:lnTo>
                  <a:pt x="1231" y="436"/>
                </a:lnTo>
                <a:lnTo>
                  <a:pt x="1247" y="447"/>
                </a:lnTo>
                <a:lnTo>
                  <a:pt x="1259" y="459"/>
                </a:lnTo>
                <a:lnTo>
                  <a:pt x="1270" y="474"/>
                </a:lnTo>
                <a:lnTo>
                  <a:pt x="1278" y="490"/>
                </a:lnTo>
                <a:lnTo>
                  <a:pt x="1283" y="506"/>
                </a:lnTo>
                <a:lnTo>
                  <a:pt x="1286" y="523"/>
                </a:lnTo>
                <a:lnTo>
                  <a:pt x="1351" y="513"/>
                </a:lnTo>
                <a:lnTo>
                  <a:pt x="1350" y="501"/>
                </a:lnTo>
                <a:lnTo>
                  <a:pt x="1347" y="489"/>
                </a:lnTo>
                <a:lnTo>
                  <a:pt x="1343" y="477"/>
                </a:lnTo>
                <a:lnTo>
                  <a:pt x="1338" y="465"/>
                </a:lnTo>
                <a:lnTo>
                  <a:pt x="1332" y="454"/>
                </a:lnTo>
                <a:lnTo>
                  <a:pt x="1324" y="442"/>
                </a:lnTo>
                <a:lnTo>
                  <a:pt x="1316" y="430"/>
                </a:lnTo>
                <a:lnTo>
                  <a:pt x="1307" y="420"/>
                </a:lnTo>
                <a:lnTo>
                  <a:pt x="1298" y="409"/>
                </a:lnTo>
                <a:lnTo>
                  <a:pt x="1287" y="398"/>
                </a:lnTo>
                <a:lnTo>
                  <a:pt x="1276" y="389"/>
                </a:lnTo>
                <a:lnTo>
                  <a:pt x="1266" y="381"/>
                </a:lnTo>
                <a:lnTo>
                  <a:pt x="1255" y="373"/>
                </a:lnTo>
                <a:lnTo>
                  <a:pt x="1243" y="366"/>
                </a:lnTo>
                <a:lnTo>
                  <a:pt x="1232" y="360"/>
                </a:lnTo>
                <a:lnTo>
                  <a:pt x="1220" y="354"/>
                </a:lnTo>
                <a:lnTo>
                  <a:pt x="1246" y="324"/>
                </a:lnTo>
                <a:lnTo>
                  <a:pt x="911" y="126"/>
                </a:lnTo>
                <a:lnTo>
                  <a:pt x="970" y="32"/>
                </a:lnTo>
                <a:close/>
                <a:moveTo>
                  <a:pt x="1279" y="57"/>
                </a:moveTo>
                <a:lnTo>
                  <a:pt x="1802" y="380"/>
                </a:lnTo>
                <a:lnTo>
                  <a:pt x="1146" y="1435"/>
                </a:lnTo>
                <a:lnTo>
                  <a:pt x="962" y="1320"/>
                </a:lnTo>
                <a:lnTo>
                  <a:pt x="1557" y="348"/>
                </a:lnTo>
                <a:lnTo>
                  <a:pt x="1224" y="151"/>
                </a:lnTo>
                <a:lnTo>
                  <a:pt x="1279" y="57"/>
                </a:lnTo>
                <a:close/>
              </a:path>
            </a:pathLst>
          </a:cu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36"/>
          <p:cNvSpPr/>
          <p:nvPr/>
        </p:nvSpPr>
        <p:spPr>
          <a:xfrm>
            <a:off x="3603600" y="2349360"/>
            <a:ext cx="520560" cy="511200"/>
          </a:xfrm>
          <a:custGeom>
            <a:avLst/>
            <a:gdLst>
              <a:gd name="textAreaLeft" fmla="*/ 0 w 520560"/>
              <a:gd name="textAreaRight" fmla="*/ 520920 w 5205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101" h="1086">
                <a:moveTo>
                  <a:pt x="70" y="480"/>
                </a:moveTo>
                <a:lnTo>
                  <a:pt x="369" y="688"/>
                </a:lnTo>
                <a:lnTo>
                  <a:pt x="404" y="639"/>
                </a:lnTo>
                <a:lnTo>
                  <a:pt x="438" y="590"/>
                </a:lnTo>
                <a:lnTo>
                  <a:pt x="476" y="542"/>
                </a:lnTo>
                <a:lnTo>
                  <a:pt x="514" y="496"/>
                </a:lnTo>
                <a:lnTo>
                  <a:pt x="556" y="449"/>
                </a:lnTo>
                <a:lnTo>
                  <a:pt x="598" y="403"/>
                </a:lnTo>
                <a:lnTo>
                  <a:pt x="642" y="359"/>
                </a:lnTo>
                <a:lnTo>
                  <a:pt x="688" y="314"/>
                </a:lnTo>
                <a:lnTo>
                  <a:pt x="735" y="271"/>
                </a:lnTo>
                <a:lnTo>
                  <a:pt x="784" y="229"/>
                </a:lnTo>
                <a:lnTo>
                  <a:pt x="833" y="189"/>
                </a:lnTo>
                <a:lnTo>
                  <a:pt x="884" y="149"/>
                </a:lnTo>
                <a:lnTo>
                  <a:pt x="936" y="110"/>
                </a:lnTo>
                <a:lnTo>
                  <a:pt x="991" y="72"/>
                </a:lnTo>
                <a:lnTo>
                  <a:pt x="1045" y="36"/>
                </a:lnTo>
                <a:lnTo>
                  <a:pt x="1101" y="0"/>
                </a:lnTo>
                <a:lnTo>
                  <a:pt x="1040" y="59"/>
                </a:lnTo>
                <a:lnTo>
                  <a:pt x="983" y="116"/>
                </a:lnTo>
                <a:lnTo>
                  <a:pt x="928" y="173"/>
                </a:lnTo>
                <a:lnTo>
                  <a:pt x="876" y="230"/>
                </a:lnTo>
                <a:lnTo>
                  <a:pt x="827" y="286"/>
                </a:lnTo>
                <a:lnTo>
                  <a:pt x="781" y="342"/>
                </a:lnTo>
                <a:lnTo>
                  <a:pt x="740" y="397"/>
                </a:lnTo>
                <a:lnTo>
                  <a:pt x="700" y="453"/>
                </a:lnTo>
                <a:lnTo>
                  <a:pt x="663" y="509"/>
                </a:lnTo>
                <a:lnTo>
                  <a:pt x="624" y="567"/>
                </a:lnTo>
                <a:lnTo>
                  <a:pt x="584" y="628"/>
                </a:lnTo>
                <a:lnTo>
                  <a:pt x="544" y="691"/>
                </a:lnTo>
                <a:lnTo>
                  <a:pt x="502" y="757"/>
                </a:lnTo>
                <a:lnTo>
                  <a:pt x="461" y="825"/>
                </a:lnTo>
                <a:lnTo>
                  <a:pt x="420" y="896"/>
                </a:lnTo>
                <a:lnTo>
                  <a:pt x="376" y="967"/>
                </a:lnTo>
                <a:lnTo>
                  <a:pt x="364" y="942"/>
                </a:lnTo>
                <a:lnTo>
                  <a:pt x="350" y="915"/>
                </a:lnTo>
                <a:lnTo>
                  <a:pt x="336" y="888"/>
                </a:lnTo>
                <a:lnTo>
                  <a:pt x="320" y="858"/>
                </a:lnTo>
                <a:lnTo>
                  <a:pt x="302" y="828"/>
                </a:lnTo>
                <a:lnTo>
                  <a:pt x="285" y="796"/>
                </a:lnTo>
                <a:lnTo>
                  <a:pt x="266" y="763"/>
                </a:lnTo>
                <a:lnTo>
                  <a:pt x="246" y="728"/>
                </a:lnTo>
                <a:lnTo>
                  <a:pt x="225" y="694"/>
                </a:lnTo>
                <a:lnTo>
                  <a:pt x="204" y="660"/>
                </a:lnTo>
                <a:lnTo>
                  <a:pt x="182" y="627"/>
                </a:lnTo>
                <a:lnTo>
                  <a:pt x="161" y="597"/>
                </a:lnTo>
                <a:lnTo>
                  <a:pt x="138" y="566"/>
                </a:lnTo>
                <a:lnTo>
                  <a:pt x="116" y="535"/>
                </a:lnTo>
                <a:lnTo>
                  <a:pt x="93" y="508"/>
                </a:lnTo>
                <a:lnTo>
                  <a:pt x="70" y="480"/>
                </a:lnTo>
                <a:close/>
                <a:moveTo>
                  <a:pt x="869" y="78"/>
                </a:moveTo>
                <a:lnTo>
                  <a:pt x="14" y="81"/>
                </a:lnTo>
                <a:lnTo>
                  <a:pt x="14" y="1068"/>
                </a:lnTo>
                <a:lnTo>
                  <a:pt x="869" y="1068"/>
                </a:lnTo>
                <a:lnTo>
                  <a:pt x="869" y="263"/>
                </a:lnTo>
                <a:lnTo>
                  <a:pt x="885" y="239"/>
                </a:lnTo>
                <a:lnTo>
                  <a:pt x="885" y="1086"/>
                </a:lnTo>
                <a:lnTo>
                  <a:pt x="0" y="1086"/>
                </a:lnTo>
                <a:lnTo>
                  <a:pt x="0" y="64"/>
                </a:lnTo>
                <a:lnTo>
                  <a:pt x="885" y="64"/>
                </a:lnTo>
                <a:lnTo>
                  <a:pt x="885" y="132"/>
                </a:lnTo>
                <a:lnTo>
                  <a:pt x="869" y="148"/>
                </a:lnTo>
                <a:lnTo>
                  <a:pt x="869" y="78"/>
                </a:lnTo>
                <a:close/>
              </a:path>
            </a:pathLst>
          </a:cu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0"/>
          <p:cNvSpPr/>
          <p:nvPr/>
        </p:nvSpPr>
        <p:spPr>
          <a:xfrm>
            <a:off x="5594400" y="2349360"/>
            <a:ext cx="558720" cy="520920"/>
          </a:xfrm>
          <a:custGeom>
            <a:avLst/>
            <a:gdLst>
              <a:gd name="textAreaLeft" fmla="*/ 0 w 558720"/>
              <a:gd name="textAreaRight" fmla="*/ 559080 w 558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185" h="1107">
                <a:moveTo>
                  <a:pt x="1093" y="0"/>
                </a:moveTo>
                <a:lnTo>
                  <a:pt x="1093" y="719"/>
                </a:lnTo>
                <a:lnTo>
                  <a:pt x="92" y="719"/>
                </a:lnTo>
                <a:lnTo>
                  <a:pt x="92" y="0"/>
                </a:lnTo>
                <a:lnTo>
                  <a:pt x="1093" y="0"/>
                </a:lnTo>
                <a:close/>
                <a:moveTo>
                  <a:pt x="1093" y="756"/>
                </a:moveTo>
                <a:lnTo>
                  <a:pt x="1146" y="866"/>
                </a:lnTo>
                <a:lnTo>
                  <a:pt x="1156" y="886"/>
                </a:lnTo>
                <a:lnTo>
                  <a:pt x="1164" y="906"/>
                </a:lnTo>
                <a:lnTo>
                  <a:pt x="1170" y="926"/>
                </a:lnTo>
                <a:lnTo>
                  <a:pt x="1176" y="946"/>
                </a:lnTo>
                <a:lnTo>
                  <a:pt x="1180" y="964"/>
                </a:lnTo>
                <a:lnTo>
                  <a:pt x="1182" y="983"/>
                </a:lnTo>
                <a:lnTo>
                  <a:pt x="1185" y="1003"/>
                </a:lnTo>
                <a:lnTo>
                  <a:pt x="1185" y="1022"/>
                </a:lnTo>
                <a:lnTo>
                  <a:pt x="1185" y="1107"/>
                </a:lnTo>
                <a:lnTo>
                  <a:pt x="0" y="1107"/>
                </a:lnTo>
                <a:lnTo>
                  <a:pt x="0" y="1022"/>
                </a:lnTo>
                <a:lnTo>
                  <a:pt x="0" y="1003"/>
                </a:lnTo>
                <a:lnTo>
                  <a:pt x="2" y="984"/>
                </a:lnTo>
                <a:lnTo>
                  <a:pt x="6" y="964"/>
                </a:lnTo>
                <a:lnTo>
                  <a:pt x="10" y="946"/>
                </a:lnTo>
                <a:lnTo>
                  <a:pt x="15" y="926"/>
                </a:lnTo>
                <a:lnTo>
                  <a:pt x="22" y="906"/>
                </a:lnTo>
                <a:lnTo>
                  <a:pt x="30" y="886"/>
                </a:lnTo>
                <a:lnTo>
                  <a:pt x="39" y="866"/>
                </a:lnTo>
                <a:lnTo>
                  <a:pt x="92" y="756"/>
                </a:lnTo>
                <a:lnTo>
                  <a:pt x="1093" y="756"/>
                </a:lnTo>
                <a:close/>
                <a:moveTo>
                  <a:pt x="1055" y="36"/>
                </a:moveTo>
                <a:lnTo>
                  <a:pt x="130" y="36"/>
                </a:lnTo>
                <a:lnTo>
                  <a:pt x="130" y="681"/>
                </a:lnTo>
                <a:lnTo>
                  <a:pt x="1055" y="681"/>
                </a:lnTo>
                <a:lnTo>
                  <a:pt x="1055" y="36"/>
                </a:lnTo>
                <a:close/>
                <a:moveTo>
                  <a:pt x="1069" y="793"/>
                </a:moveTo>
                <a:lnTo>
                  <a:pt x="114" y="793"/>
                </a:lnTo>
                <a:lnTo>
                  <a:pt x="67" y="894"/>
                </a:lnTo>
                <a:lnTo>
                  <a:pt x="54" y="925"/>
                </a:lnTo>
                <a:lnTo>
                  <a:pt x="44" y="952"/>
                </a:lnTo>
                <a:lnTo>
                  <a:pt x="40" y="964"/>
                </a:lnTo>
                <a:lnTo>
                  <a:pt x="39" y="976"/>
                </a:lnTo>
                <a:lnTo>
                  <a:pt x="38" y="987"/>
                </a:lnTo>
                <a:lnTo>
                  <a:pt x="36" y="998"/>
                </a:lnTo>
                <a:lnTo>
                  <a:pt x="36" y="1069"/>
                </a:lnTo>
                <a:lnTo>
                  <a:pt x="1149" y="1069"/>
                </a:lnTo>
                <a:lnTo>
                  <a:pt x="1149" y="1041"/>
                </a:lnTo>
                <a:lnTo>
                  <a:pt x="1148" y="1023"/>
                </a:lnTo>
                <a:lnTo>
                  <a:pt x="1146" y="1004"/>
                </a:lnTo>
                <a:lnTo>
                  <a:pt x="1143" y="986"/>
                </a:lnTo>
                <a:lnTo>
                  <a:pt x="1139" y="967"/>
                </a:lnTo>
                <a:lnTo>
                  <a:pt x="1134" y="948"/>
                </a:lnTo>
                <a:lnTo>
                  <a:pt x="1129" y="930"/>
                </a:lnTo>
                <a:lnTo>
                  <a:pt x="1122" y="911"/>
                </a:lnTo>
                <a:lnTo>
                  <a:pt x="1114" y="893"/>
                </a:lnTo>
                <a:lnTo>
                  <a:pt x="1069" y="793"/>
                </a:lnTo>
                <a:close/>
                <a:moveTo>
                  <a:pt x="203" y="187"/>
                </a:moveTo>
                <a:lnTo>
                  <a:pt x="203" y="531"/>
                </a:lnTo>
                <a:lnTo>
                  <a:pt x="204" y="554"/>
                </a:lnTo>
                <a:lnTo>
                  <a:pt x="207" y="573"/>
                </a:lnTo>
                <a:lnTo>
                  <a:pt x="208" y="580"/>
                </a:lnTo>
                <a:lnTo>
                  <a:pt x="211" y="587"/>
                </a:lnTo>
                <a:lnTo>
                  <a:pt x="214" y="592"/>
                </a:lnTo>
                <a:lnTo>
                  <a:pt x="216" y="595"/>
                </a:lnTo>
                <a:lnTo>
                  <a:pt x="220" y="599"/>
                </a:lnTo>
                <a:lnTo>
                  <a:pt x="226" y="602"/>
                </a:lnTo>
                <a:lnTo>
                  <a:pt x="232" y="603"/>
                </a:lnTo>
                <a:lnTo>
                  <a:pt x="239" y="606"/>
                </a:lnTo>
                <a:lnTo>
                  <a:pt x="258" y="607"/>
                </a:lnTo>
                <a:lnTo>
                  <a:pt x="282" y="608"/>
                </a:lnTo>
                <a:lnTo>
                  <a:pt x="901" y="608"/>
                </a:lnTo>
                <a:lnTo>
                  <a:pt x="925" y="607"/>
                </a:lnTo>
                <a:lnTo>
                  <a:pt x="945" y="606"/>
                </a:lnTo>
                <a:lnTo>
                  <a:pt x="953" y="603"/>
                </a:lnTo>
                <a:lnTo>
                  <a:pt x="958" y="602"/>
                </a:lnTo>
                <a:lnTo>
                  <a:pt x="963" y="599"/>
                </a:lnTo>
                <a:lnTo>
                  <a:pt x="967" y="596"/>
                </a:lnTo>
                <a:lnTo>
                  <a:pt x="971" y="592"/>
                </a:lnTo>
                <a:lnTo>
                  <a:pt x="974" y="587"/>
                </a:lnTo>
                <a:lnTo>
                  <a:pt x="977" y="582"/>
                </a:lnTo>
                <a:lnTo>
                  <a:pt x="978" y="574"/>
                </a:lnTo>
                <a:lnTo>
                  <a:pt x="981" y="557"/>
                </a:lnTo>
                <a:lnTo>
                  <a:pt x="982" y="534"/>
                </a:lnTo>
                <a:lnTo>
                  <a:pt x="982" y="186"/>
                </a:lnTo>
                <a:lnTo>
                  <a:pt x="981" y="163"/>
                </a:lnTo>
                <a:lnTo>
                  <a:pt x="978" y="145"/>
                </a:lnTo>
                <a:lnTo>
                  <a:pt x="975" y="138"/>
                </a:lnTo>
                <a:lnTo>
                  <a:pt x="974" y="131"/>
                </a:lnTo>
                <a:lnTo>
                  <a:pt x="971" y="127"/>
                </a:lnTo>
                <a:lnTo>
                  <a:pt x="967" y="123"/>
                </a:lnTo>
                <a:lnTo>
                  <a:pt x="963" y="121"/>
                </a:lnTo>
                <a:lnTo>
                  <a:pt x="958" y="118"/>
                </a:lnTo>
                <a:lnTo>
                  <a:pt x="951" y="115"/>
                </a:lnTo>
                <a:lnTo>
                  <a:pt x="943" y="114"/>
                </a:lnTo>
                <a:lnTo>
                  <a:pt x="925" y="112"/>
                </a:lnTo>
                <a:lnTo>
                  <a:pt x="901" y="110"/>
                </a:lnTo>
                <a:lnTo>
                  <a:pt x="282" y="110"/>
                </a:lnTo>
                <a:lnTo>
                  <a:pt x="258" y="112"/>
                </a:lnTo>
                <a:lnTo>
                  <a:pt x="239" y="114"/>
                </a:lnTo>
                <a:lnTo>
                  <a:pt x="232" y="115"/>
                </a:lnTo>
                <a:lnTo>
                  <a:pt x="226" y="117"/>
                </a:lnTo>
                <a:lnTo>
                  <a:pt x="220" y="119"/>
                </a:lnTo>
                <a:lnTo>
                  <a:pt x="216" y="122"/>
                </a:lnTo>
                <a:lnTo>
                  <a:pt x="214" y="126"/>
                </a:lnTo>
                <a:lnTo>
                  <a:pt x="211" y="131"/>
                </a:lnTo>
                <a:lnTo>
                  <a:pt x="208" y="138"/>
                </a:lnTo>
                <a:lnTo>
                  <a:pt x="207" y="145"/>
                </a:lnTo>
                <a:lnTo>
                  <a:pt x="204" y="163"/>
                </a:lnTo>
                <a:lnTo>
                  <a:pt x="203" y="187"/>
                </a:lnTo>
                <a:close/>
                <a:moveTo>
                  <a:pt x="171" y="840"/>
                </a:moveTo>
                <a:lnTo>
                  <a:pt x="263" y="840"/>
                </a:lnTo>
                <a:lnTo>
                  <a:pt x="263" y="875"/>
                </a:lnTo>
                <a:lnTo>
                  <a:pt x="358" y="875"/>
                </a:lnTo>
                <a:lnTo>
                  <a:pt x="358" y="840"/>
                </a:lnTo>
                <a:lnTo>
                  <a:pt x="449" y="840"/>
                </a:lnTo>
                <a:lnTo>
                  <a:pt x="449" y="875"/>
                </a:lnTo>
                <a:lnTo>
                  <a:pt x="542" y="875"/>
                </a:lnTo>
                <a:lnTo>
                  <a:pt x="542" y="840"/>
                </a:lnTo>
                <a:lnTo>
                  <a:pt x="634" y="840"/>
                </a:lnTo>
                <a:lnTo>
                  <a:pt x="634" y="875"/>
                </a:lnTo>
                <a:lnTo>
                  <a:pt x="727" y="875"/>
                </a:lnTo>
                <a:lnTo>
                  <a:pt x="727" y="840"/>
                </a:lnTo>
                <a:lnTo>
                  <a:pt x="819" y="840"/>
                </a:lnTo>
                <a:lnTo>
                  <a:pt x="819" y="875"/>
                </a:lnTo>
                <a:lnTo>
                  <a:pt x="913" y="875"/>
                </a:lnTo>
                <a:lnTo>
                  <a:pt x="913" y="840"/>
                </a:lnTo>
                <a:lnTo>
                  <a:pt x="1005" y="840"/>
                </a:lnTo>
                <a:lnTo>
                  <a:pt x="1005" y="875"/>
                </a:lnTo>
                <a:lnTo>
                  <a:pt x="914" y="875"/>
                </a:lnTo>
                <a:lnTo>
                  <a:pt x="914" y="914"/>
                </a:lnTo>
                <a:lnTo>
                  <a:pt x="1005" y="914"/>
                </a:lnTo>
                <a:lnTo>
                  <a:pt x="1005" y="950"/>
                </a:lnTo>
                <a:lnTo>
                  <a:pt x="913" y="950"/>
                </a:lnTo>
                <a:lnTo>
                  <a:pt x="913" y="914"/>
                </a:lnTo>
                <a:lnTo>
                  <a:pt x="819" y="914"/>
                </a:lnTo>
                <a:lnTo>
                  <a:pt x="819" y="950"/>
                </a:lnTo>
                <a:lnTo>
                  <a:pt x="727" y="950"/>
                </a:lnTo>
                <a:lnTo>
                  <a:pt x="727" y="914"/>
                </a:lnTo>
                <a:lnTo>
                  <a:pt x="634" y="914"/>
                </a:lnTo>
                <a:lnTo>
                  <a:pt x="634" y="950"/>
                </a:lnTo>
                <a:lnTo>
                  <a:pt x="542" y="950"/>
                </a:lnTo>
                <a:lnTo>
                  <a:pt x="542" y="914"/>
                </a:lnTo>
                <a:lnTo>
                  <a:pt x="449" y="914"/>
                </a:lnTo>
                <a:lnTo>
                  <a:pt x="449" y="950"/>
                </a:lnTo>
                <a:lnTo>
                  <a:pt x="358" y="950"/>
                </a:lnTo>
                <a:lnTo>
                  <a:pt x="358" y="914"/>
                </a:lnTo>
                <a:lnTo>
                  <a:pt x="263" y="914"/>
                </a:lnTo>
                <a:lnTo>
                  <a:pt x="263" y="950"/>
                </a:lnTo>
                <a:lnTo>
                  <a:pt x="171" y="950"/>
                </a:lnTo>
                <a:lnTo>
                  <a:pt x="171" y="913"/>
                </a:lnTo>
                <a:lnTo>
                  <a:pt x="262" y="913"/>
                </a:lnTo>
                <a:lnTo>
                  <a:pt x="262" y="875"/>
                </a:lnTo>
                <a:lnTo>
                  <a:pt x="171" y="875"/>
                </a:lnTo>
                <a:lnTo>
                  <a:pt x="171" y="840"/>
                </a:lnTo>
                <a:close/>
                <a:moveTo>
                  <a:pt x="358" y="911"/>
                </a:moveTo>
                <a:lnTo>
                  <a:pt x="449" y="911"/>
                </a:lnTo>
                <a:lnTo>
                  <a:pt x="449" y="877"/>
                </a:lnTo>
                <a:lnTo>
                  <a:pt x="358" y="877"/>
                </a:lnTo>
                <a:lnTo>
                  <a:pt x="358" y="911"/>
                </a:lnTo>
                <a:close/>
                <a:moveTo>
                  <a:pt x="542" y="911"/>
                </a:moveTo>
                <a:lnTo>
                  <a:pt x="634" y="911"/>
                </a:lnTo>
                <a:lnTo>
                  <a:pt x="634" y="877"/>
                </a:lnTo>
                <a:lnTo>
                  <a:pt x="542" y="877"/>
                </a:lnTo>
                <a:lnTo>
                  <a:pt x="542" y="911"/>
                </a:lnTo>
                <a:close/>
                <a:moveTo>
                  <a:pt x="727" y="911"/>
                </a:moveTo>
                <a:lnTo>
                  <a:pt x="819" y="911"/>
                </a:lnTo>
                <a:lnTo>
                  <a:pt x="819" y="877"/>
                </a:lnTo>
                <a:lnTo>
                  <a:pt x="727" y="877"/>
                </a:lnTo>
                <a:lnTo>
                  <a:pt x="727" y="911"/>
                </a:lnTo>
                <a:close/>
                <a:moveTo>
                  <a:pt x="167" y="533"/>
                </a:moveTo>
                <a:lnTo>
                  <a:pt x="167" y="186"/>
                </a:lnTo>
                <a:lnTo>
                  <a:pt x="167" y="169"/>
                </a:lnTo>
                <a:lnTo>
                  <a:pt x="168" y="153"/>
                </a:lnTo>
                <a:lnTo>
                  <a:pt x="170" y="138"/>
                </a:lnTo>
                <a:lnTo>
                  <a:pt x="171" y="125"/>
                </a:lnTo>
                <a:lnTo>
                  <a:pt x="174" y="114"/>
                </a:lnTo>
                <a:lnTo>
                  <a:pt x="178" y="105"/>
                </a:lnTo>
                <a:lnTo>
                  <a:pt x="180" y="97"/>
                </a:lnTo>
                <a:lnTo>
                  <a:pt x="186" y="92"/>
                </a:lnTo>
                <a:lnTo>
                  <a:pt x="191" y="88"/>
                </a:lnTo>
                <a:lnTo>
                  <a:pt x="198" y="84"/>
                </a:lnTo>
                <a:lnTo>
                  <a:pt x="207" y="81"/>
                </a:lnTo>
                <a:lnTo>
                  <a:pt x="219" y="78"/>
                </a:lnTo>
                <a:lnTo>
                  <a:pt x="232" y="76"/>
                </a:lnTo>
                <a:lnTo>
                  <a:pt x="247" y="74"/>
                </a:lnTo>
                <a:lnTo>
                  <a:pt x="263" y="73"/>
                </a:lnTo>
                <a:lnTo>
                  <a:pt x="282" y="73"/>
                </a:lnTo>
                <a:lnTo>
                  <a:pt x="903" y="73"/>
                </a:lnTo>
                <a:lnTo>
                  <a:pt x="922" y="73"/>
                </a:lnTo>
                <a:lnTo>
                  <a:pt x="938" y="74"/>
                </a:lnTo>
                <a:lnTo>
                  <a:pt x="953" y="76"/>
                </a:lnTo>
                <a:lnTo>
                  <a:pt x="966" y="78"/>
                </a:lnTo>
                <a:lnTo>
                  <a:pt x="977" y="81"/>
                </a:lnTo>
                <a:lnTo>
                  <a:pt x="986" y="84"/>
                </a:lnTo>
                <a:lnTo>
                  <a:pt x="994" y="88"/>
                </a:lnTo>
                <a:lnTo>
                  <a:pt x="999" y="92"/>
                </a:lnTo>
                <a:lnTo>
                  <a:pt x="1003" y="97"/>
                </a:lnTo>
                <a:lnTo>
                  <a:pt x="1007" y="105"/>
                </a:lnTo>
                <a:lnTo>
                  <a:pt x="1011" y="114"/>
                </a:lnTo>
                <a:lnTo>
                  <a:pt x="1014" y="125"/>
                </a:lnTo>
                <a:lnTo>
                  <a:pt x="1015" y="138"/>
                </a:lnTo>
                <a:lnTo>
                  <a:pt x="1017" y="153"/>
                </a:lnTo>
                <a:lnTo>
                  <a:pt x="1018" y="169"/>
                </a:lnTo>
                <a:lnTo>
                  <a:pt x="1018" y="186"/>
                </a:lnTo>
                <a:lnTo>
                  <a:pt x="1018" y="533"/>
                </a:lnTo>
                <a:lnTo>
                  <a:pt x="1018" y="550"/>
                </a:lnTo>
                <a:lnTo>
                  <a:pt x="1017" y="566"/>
                </a:lnTo>
                <a:lnTo>
                  <a:pt x="1015" y="580"/>
                </a:lnTo>
                <a:lnTo>
                  <a:pt x="1014" y="594"/>
                </a:lnTo>
                <a:lnTo>
                  <a:pt x="1011" y="604"/>
                </a:lnTo>
                <a:lnTo>
                  <a:pt x="1007" y="614"/>
                </a:lnTo>
                <a:lnTo>
                  <a:pt x="1003" y="620"/>
                </a:lnTo>
                <a:lnTo>
                  <a:pt x="999" y="626"/>
                </a:lnTo>
                <a:lnTo>
                  <a:pt x="994" y="631"/>
                </a:lnTo>
                <a:lnTo>
                  <a:pt x="986" y="635"/>
                </a:lnTo>
                <a:lnTo>
                  <a:pt x="977" y="638"/>
                </a:lnTo>
                <a:lnTo>
                  <a:pt x="966" y="640"/>
                </a:lnTo>
                <a:lnTo>
                  <a:pt x="953" y="643"/>
                </a:lnTo>
                <a:lnTo>
                  <a:pt x="938" y="644"/>
                </a:lnTo>
                <a:lnTo>
                  <a:pt x="922" y="646"/>
                </a:lnTo>
                <a:lnTo>
                  <a:pt x="903" y="646"/>
                </a:lnTo>
                <a:lnTo>
                  <a:pt x="282" y="646"/>
                </a:lnTo>
                <a:lnTo>
                  <a:pt x="263" y="646"/>
                </a:lnTo>
                <a:lnTo>
                  <a:pt x="247" y="644"/>
                </a:lnTo>
                <a:lnTo>
                  <a:pt x="232" y="643"/>
                </a:lnTo>
                <a:lnTo>
                  <a:pt x="219" y="640"/>
                </a:lnTo>
                <a:lnTo>
                  <a:pt x="208" y="638"/>
                </a:lnTo>
                <a:lnTo>
                  <a:pt x="199" y="635"/>
                </a:lnTo>
                <a:lnTo>
                  <a:pt x="191" y="631"/>
                </a:lnTo>
                <a:lnTo>
                  <a:pt x="186" y="626"/>
                </a:lnTo>
                <a:lnTo>
                  <a:pt x="182" y="620"/>
                </a:lnTo>
                <a:lnTo>
                  <a:pt x="178" y="614"/>
                </a:lnTo>
                <a:lnTo>
                  <a:pt x="174" y="604"/>
                </a:lnTo>
                <a:lnTo>
                  <a:pt x="171" y="594"/>
                </a:lnTo>
                <a:lnTo>
                  <a:pt x="170" y="580"/>
                </a:lnTo>
                <a:lnTo>
                  <a:pt x="168" y="566"/>
                </a:lnTo>
                <a:lnTo>
                  <a:pt x="167" y="550"/>
                </a:lnTo>
                <a:lnTo>
                  <a:pt x="167" y="533"/>
                </a:lnTo>
                <a:close/>
              </a:path>
            </a:pathLst>
          </a:cu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23:16Z</dcterms:created>
  <dc:creator>Think</dc:creator>
  <dc:description/>
  <cp:keywords/>
  <dc:language>en-US</dc:language>
  <cp:lastModifiedBy>a</cp:lastModifiedBy>
  <dcterms:modified xsi:type="dcterms:W3CDTF">2015-07-20T12:42:49Z</dcterms:modified>
  <cp:revision>3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