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8B6-6DAB-4AEE-9E67-145EC8D8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79A-602E-4CFB-A2BF-4264788B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1B2-F002-44ED-9C42-7AC4C2F4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EC2-2A8A-436C-8C32-EDFC24E2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071-3076-494D-9131-6709D79C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4E6-603D-4468-ACB0-F899A7A4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EFB-C0EC-4D71-A1D5-7042A3B5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9CB-B551-4347-9560-AE6F672B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062-CAAB-40FC-B395-FABCD185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362-A691-499D-AE9E-AD8D58C3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9F8-EA7A-4050-823C-DF10F467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485-594B-4A3E-B7B7-B0F4B145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901-69DE-4275-A070-125A6BDFCE3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15AB-3467-4B68-BC30-D5B6942ECCC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-14400" y="126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197080" y="1628640"/>
            <a:ext cx="5543640" cy="792000"/>
            <a:chOff x="2197080" y="1628640"/>
            <a:chExt cx="5543640" cy="792000"/>
          </a:xfrm>
        </p:grpSpPr>
        <p:sp>
          <p:nvSpPr>
            <p:cNvPr id="43" name="AutoShape 4"/>
            <p:cNvSpPr/>
            <p:nvPr/>
          </p:nvSpPr>
          <p:spPr>
            <a:xfrm>
              <a:off x="2197080" y="162864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   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5"/>
            <p:cNvSpPr/>
            <p:nvPr/>
          </p:nvSpPr>
          <p:spPr>
            <a:xfrm>
              <a:off x="2225520" y="1665000"/>
              <a:ext cx="548604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197080" y="2709720"/>
            <a:ext cx="5543640" cy="792000"/>
            <a:chOff x="2197080" y="2709720"/>
            <a:chExt cx="5543640" cy="792000"/>
          </a:xfrm>
        </p:grpSpPr>
        <p:sp>
          <p:nvSpPr>
            <p:cNvPr id="46" name="AutoShape 7"/>
            <p:cNvSpPr/>
            <p:nvPr/>
          </p:nvSpPr>
          <p:spPr>
            <a:xfrm>
              <a:off x="2197080" y="270972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   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8"/>
            <p:cNvSpPr/>
            <p:nvPr/>
          </p:nvSpPr>
          <p:spPr>
            <a:xfrm>
              <a:off x="2225520" y="2746080"/>
              <a:ext cx="548604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197080" y="3789360"/>
            <a:ext cx="5543640" cy="792000"/>
            <a:chOff x="2197080" y="3789360"/>
            <a:chExt cx="5543640" cy="792000"/>
          </a:xfrm>
        </p:grpSpPr>
        <p:sp>
          <p:nvSpPr>
            <p:cNvPr id="49" name="AutoShape 10"/>
            <p:cNvSpPr/>
            <p:nvPr/>
          </p:nvSpPr>
          <p:spPr>
            <a:xfrm>
              <a:off x="2197080" y="378936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   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>
              <a:off x="2225520" y="3825720"/>
              <a:ext cx="548604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197080" y="4869000"/>
            <a:ext cx="5543640" cy="792000"/>
            <a:chOff x="2197080" y="4869000"/>
            <a:chExt cx="5543640" cy="792000"/>
          </a:xfrm>
        </p:grpSpPr>
        <p:sp>
          <p:nvSpPr>
            <p:cNvPr id="52" name="AutoShape 13"/>
            <p:cNvSpPr/>
            <p:nvPr/>
          </p:nvSpPr>
          <p:spPr>
            <a:xfrm>
              <a:off x="2197080" y="4869000"/>
              <a:ext cx="5543640" cy="792000"/>
            </a:xfrm>
            <a:prstGeom prst="roundRect">
              <a:avLst>
                <a:gd name="adj" fmla="val 11819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   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4"/>
            <p:cNvSpPr/>
            <p:nvPr/>
          </p:nvSpPr>
          <p:spPr>
            <a:xfrm>
              <a:off x="2225520" y="4905360"/>
              <a:ext cx="548604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332000" y="1628640"/>
            <a:ext cx="792000" cy="792000"/>
            <a:chOff x="1332000" y="1628640"/>
            <a:chExt cx="792000" cy="792000"/>
          </a:xfrm>
        </p:grpSpPr>
        <p:sp>
          <p:nvSpPr>
            <p:cNvPr id="55" name="AutoShape 16"/>
            <p:cNvSpPr/>
            <p:nvPr/>
          </p:nvSpPr>
          <p:spPr>
            <a:xfrm>
              <a:off x="1332000" y="162864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WordArt 17"/>
            <p:cNvSpPr/>
            <p:nvPr/>
          </p:nvSpPr>
          <p:spPr>
            <a:xfrm>
              <a:off x="1619280" y="1842840"/>
              <a:ext cx="214200" cy="362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62160"/>
                <a:gd name="textAreaBottom" fmla="*/ 362160 h 3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96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8"/>
            <p:cNvSpPr/>
            <p:nvPr/>
          </p:nvSpPr>
          <p:spPr>
            <a:xfrm>
              <a:off x="1368360" y="1665000"/>
              <a:ext cx="71928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332000" y="2709720"/>
            <a:ext cx="792000" cy="792000"/>
            <a:chOff x="1332000" y="2709720"/>
            <a:chExt cx="792000" cy="792000"/>
          </a:xfrm>
        </p:grpSpPr>
        <p:sp>
          <p:nvSpPr>
            <p:cNvPr id="59" name="AutoShape 20"/>
            <p:cNvSpPr/>
            <p:nvPr/>
          </p:nvSpPr>
          <p:spPr>
            <a:xfrm>
              <a:off x="1332000" y="270972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WordArt 21"/>
            <p:cNvSpPr/>
            <p:nvPr/>
          </p:nvSpPr>
          <p:spPr>
            <a:xfrm>
              <a:off x="1586160" y="2923920"/>
              <a:ext cx="285480" cy="3621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62160"/>
                <a:gd name="textAreaBottom" fmla="*/ 362160 h 3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2"/>
            <p:cNvSpPr/>
            <p:nvPr/>
          </p:nvSpPr>
          <p:spPr>
            <a:xfrm>
              <a:off x="1368360" y="2746080"/>
              <a:ext cx="71928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332000" y="3789360"/>
            <a:ext cx="792000" cy="792000"/>
            <a:chOff x="1332000" y="3789360"/>
            <a:chExt cx="792000" cy="792000"/>
          </a:xfrm>
        </p:grpSpPr>
        <p:sp>
          <p:nvSpPr>
            <p:cNvPr id="63" name="AutoShape 24"/>
            <p:cNvSpPr/>
            <p:nvPr/>
          </p:nvSpPr>
          <p:spPr>
            <a:xfrm>
              <a:off x="1332000" y="378936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WordArt 25"/>
            <p:cNvSpPr/>
            <p:nvPr/>
          </p:nvSpPr>
          <p:spPr>
            <a:xfrm>
              <a:off x="1586160" y="4003560"/>
              <a:ext cx="285480" cy="3621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62160"/>
                <a:gd name="textAreaBottom" fmla="*/ 362160 h 3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6"/>
            <p:cNvSpPr/>
            <p:nvPr/>
          </p:nvSpPr>
          <p:spPr>
            <a:xfrm>
              <a:off x="1368360" y="3824280"/>
              <a:ext cx="71928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332000" y="4869000"/>
            <a:ext cx="792000" cy="792000"/>
            <a:chOff x="1332000" y="4869000"/>
            <a:chExt cx="792000" cy="792000"/>
          </a:xfrm>
        </p:grpSpPr>
        <p:sp>
          <p:nvSpPr>
            <p:cNvPr id="67" name="AutoShape 28"/>
            <p:cNvSpPr/>
            <p:nvPr/>
          </p:nvSpPr>
          <p:spPr>
            <a:xfrm>
              <a:off x="1332000" y="4869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WordArt 29"/>
            <p:cNvSpPr/>
            <p:nvPr/>
          </p:nvSpPr>
          <p:spPr>
            <a:xfrm>
              <a:off x="1586160" y="5083200"/>
              <a:ext cx="285480" cy="3621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62160"/>
                <a:gd name="textAreaBottom" fmla="*/ 362160 h 3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0"/>
            <p:cNvSpPr/>
            <p:nvPr/>
          </p:nvSpPr>
          <p:spPr>
            <a:xfrm>
              <a:off x="1368360" y="4905360"/>
              <a:ext cx="71928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89000" y="33480"/>
            <a:ext cx="523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动态目录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4C4-AF6F-4E74-893B-842E1E1A64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7:12Z</dcterms:modified>
  <cp:revision>7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