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235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36A-31A2-4DC8-BF86-EF781FB3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60" y="437076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011-DBA6-4463-AF74-D6CB1A3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91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FBB-9EE8-4F78-9B06-55941D9F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344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516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36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344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516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C92-F240-4EE2-87AE-E5C0864A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308-B34A-4BA1-A31B-FADA9F3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751-0FAD-4860-9BC3-C85E447A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DCD-746C-4C9A-A7DE-ADCCE06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4C4-5F34-411F-9C24-5CE992A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360" y="303120"/>
            <a:ext cx="95583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029-1299-4433-BD52-A5415AC7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AE4-8B3E-414C-B914-617C85A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91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3A7-5367-45C1-B59B-86918BC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EA1-2B38-4C91-8111-1100029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88800" indent="-38880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256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852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1764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720" y="6885000"/>
            <a:ext cx="24782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9160" y="6885000"/>
            <a:ext cx="33638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1840" y="6885000"/>
            <a:ext cx="247788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BAB1-FE97-4136-8F9E-255CCA7E07DA}" type="slidenum"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pine"/>
          <p:cNvSpPr/>
          <p:nvPr/>
        </p:nvSpPr>
        <p:spPr>
          <a:xfrm>
            <a:off x="5254560" y="324000"/>
            <a:ext cx="0" cy="6697440"/>
          </a:xfrm>
          <a:prstGeom prst="line">
            <a:avLst/>
          </a:prstGeom>
          <a:ln cap="rnd" w="127080">
            <a:solidFill>
              <a:srgbClr val="664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4520" y="155520"/>
            <a:ext cx="9593280" cy="7166160"/>
            <a:chOff x="614520" y="155520"/>
            <a:chExt cx="9593280" cy="7166160"/>
          </a:xfrm>
        </p:grpSpPr>
        <p:pic>
          <p:nvPicPr>
            <p:cNvPr id="43" name="pright1" descr=""/>
            <p:cNvPicPr/>
            <p:nvPr/>
          </p:nvPicPr>
          <p:blipFill>
            <a:blip r:embed="rId2"/>
            <a:stretch/>
          </p:blipFill>
          <p:spPr>
            <a:xfrm>
              <a:off x="614520" y="155520"/>
              <a:ext cx="9593280" cy="71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6"/>
            <p:cNvSpPr/>
            <p:nvPr/>
          </p:nvSpPr>
          <p:spPr>
            <a:xfrm>
              <a:off x="5704920" y="952200"/>
              <a:ext cx="41076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运行情况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对该项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在项目的运行情况进行简单介绍并配项目执行“金点子”后的整体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效益效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执行后的所产生的直接经济效益和社会效益，包括对质量的提高、工期的缩短、节能降耗的指标等进行介绍，可用数字说明的要用数字说明，最好有使用前和使用后的对比，要尽量做到简明、直观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70000" y="181080"/>
            <a:ext cx="4903560" cy="7164360"/>
            <a:chOff x="270000" y="181080"/>
            <a:chExt cx="4903560" cy="7164360"/>
          </a:xfrm>
        </p:grpSpPr>
        <p:pic>
          <p:nvPicPr>
            <p:cNvPr id="46" name="pleft1" descr=""/>
            <p:cNvPicPr/>
            <p:nvPr/>
          </p:nvPicPr>
          <p:blipFill>
            <a:blip r:embed="rId3"/>
            <a:stretch/>
          </p:blipFill>
          <p:spPr>
            <a:xfrm>
              <a:off x="270000" y="181080"/>
              <a:ext cx="4903560" cy="71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24"/>
            <p:cNvSpPr/>
            <p:nvPr/>
          </p:nvSpPr>
          <p:spPr>
            <a:xfrm>
              <a:off x="765720" y="881280"/>
              <a:ext cx="410796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二、材料要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文字材料应注意以下几点：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产生背景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提出此项“金点子”的前提进行扼要介绍，力争一两句话将“金点子”产生的背景交待清楚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点子原理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尽量做到深入浅出，达到不仅技术人员能看懂，外行人也能明白七八分的目的，可适当辅之以图解和现场细部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0360" y="168120"/>
            <a:ext cx="9593280" cy="7164720"/>
            <a:chOff x="630360" y="168120"/>
            <a:chExt cx="9593280" cy="7164720"/>
          </a:xfrm>
        </p:grpSpPr>
        <p:pic>
          <p:nvPicPr>
            <p:cNvPr id="49" name="pright1" descr=""/>
            <p:cNvPicPr/>
            <p:nvPr/>
          </p:nvPicPr>
          <p:blipFill>
            <a:blip r:embed="rId4"/>
            <a:stretch/>
          </p:blipFill>
          <p:spPr>
            <a:xfrm>
              <a:off x="630360" y="168120"/>
              <a:ext cx="9593280" cy="71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6"/>
            <p:cNvSpPr/>
            <p:nvPr/>
          </p:nvSpPr>
          <p:spPr>
            <a:xfrm>
              <a:off x="5736240" y="1429200"/>
              <a:ext cx="4010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一、定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，应立足本职岗位，建议内容着眼于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小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，是能够解决实际问题并带来社会和经济效果的建议。应具有先进性、可操作性和易推广性，侧重于项目的技术创新、工艺优化和工艺改进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0000" y="144360"/>
            <a:ext cx="4903200" cy="7164000"/>
            <a:chOff x="270000" y="144360"/>
            <a:chExt cx="4903200" cy="7164000"/>
          </a:xfrm>
        </p:grpSpPr>
        <p:pic>
          <p:nvPicPr>
            <p:cNvPr id="52" name="pleft1" descr=""/>
            <p:cNvPicPr/>
            <p:nvPr/>
          </p:nvPicPr>
          <p:blipFill>
            <a:blip r:embed="rId5"/>
            <a:stretch/>
          </p:blipFill>
          <p:spPr>
            <a:xfrm>
              <a:off x="270000" y="144360"/>
              <a:ext cx="490320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4"/>
            <p:cNvSpPr/>
            <p:nvPr/>
          </p:nvSpPr>
          <p:spPr>
            <a:xfrm>
              <a:off x="817200" y="986040"/>
              <a:ext cx="4009680" cy="15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書體坊顏體㊣"/>
                  <a:ea typeface="长城粗行楷体"/>
                </a:rPr>
                <a:t>前   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99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今年按照局拓展空间、服务大局、集成创新、助推发展的工作思路，公司合理化建议征集活动继续进行。活动的主要目的是为进一步促进“双推”（推进项目精细管理，推进生产降本增效）劳动竞赛活动的深入开展，激发职工聪明才智和创新能力，提高项目管理和赢利水平，提高企业竞争力，为职工提供展示才华的舞台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95440" y="181080"/>
            <a:ext cx="9592920" cy="7164000"/>
            <a:chOff x="595440" y="181080"/>
            <a:chExt cx="9592920" cy="7164000"/>
          </a:xfrm>
        </p:grpSpPr>
        <p:pic>
          <p:nvPicPr>
            <p:cNvPr id="55" name="pright1" descr=""/>
            <p:cNvPicPr/>
            <p:nvPr/>
          </p:nvPicPr>
          <p:blipFill>
            <a:blip r:embed="rId6"/>
            <a:stretch/>
          </p:blipFill>
          <p:spPr>
            <a:xfrm>
              <a:off x="595440" y="181080"/>
              <a:ext cx="959292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ight3"/>
            <p:cNvSpPr/>
            <p:nvPr/>
          </p:nvSpPr>
          <p:spPr>
            <a:xfrm>
              <a:off x="5336640" y="2178720"/>
              <a:ext cx="44884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275440" y="3925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18040" y="259380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免费完整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7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4680" y="209160"/>
            <a:ext cx="9534240" cy="6318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920" y="1400040"/>
            <a:ext cx="10371240" cy="57549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464680" y="368280"/>
            <a:ext cx="161424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D48-2779-4443-A375-D6755A4B300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5:55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6:07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