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715-01E8-43FA-8817-2E5A2461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E3D-E09F-49B3-8381-CBBAAA83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714-9207-4C26-BA61-F9607350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721-E2D0-4C32-A8CD-2FEDCE9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053F-554A-4594-9C24-A816C5AB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B70D-71BC-4A5D-93A0-CC1089CE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DC5-A66F-451F-BE10-9EB6E2B5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ED34-FE7A-4A18-9E26-999BC08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21C5-6FAD-40E8-AF24-2024342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9AC1-B78A-400C-99C3-D6153CD5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7924-A27F-4172-B7E6-E519A08D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591-7BD7-4F13-8943-01CE5A6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A5AE-2F1F-4A43-B8A3-5E8F06A7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BD7-B779-4640-8D90-E324131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4DF-51CF-46A7-997D-A5B884A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4AD6-5C22-40F2-9A07-18471D5E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E8DD-92DF-4E4F-9652-EEE575E8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340-3E21-4351-A099-DA820FDF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8D3-4557-44DA-9A44-EAA3CB9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6FB-3E59-406E-9D84-8A47BA5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6CD-7C8E-4D5D-A3CE-32E29396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90A-AF98-48D6-868D-75B1E37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3F0-C5EB-49F6-884B-7072502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2B5-9BF7-4D49-98A1-C309610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090-304C-4D6A-878D-13DFEC150D5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450C-3974-43D7-BEBC-518E383A1F5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548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动物</a:t>
            </a: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7451640" y="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7164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44936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c0c0c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b5713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6855-449A-42B9-9E4B-61E3ED3B8D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PPT</dc:creator>
  <dc:description/>
  <dc:language>en-US</dc:language>
  <cp:lastModifiedBy>lenovo</cp:lastModifiedBy>
  <dcterms:modified xsi:type="dcterms:W3CDTF">2015-07-21T03:10:14Z</dcterms:modified>
  <cp:revision>146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