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489-3EA3-453F-BA03-A425C734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63A-FE94-48E7-B3E8-C99E9986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A14-2BD1-45BE-A313-9198D25F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F14-9D3B-413C-8FF8-13B813A7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B8C2-850E-49F0-9A7C-23B5E18E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E27-7588-4DCB-A2D0-30871B13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23F-066F-464F-A2E3-7F5561BD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3657-1E82-44EC-9028-D282DC5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5FE2-F4C1-4A36-828C-1253243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BDBC-F066-44B8-B23F-EF5C024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2F7-C312-44B0-9061-CBF85A3C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684-3905-4411-9E99-0C590A7B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DB4-98FA-4473-ADBB-7EDA404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C53-C1D4-413B-B1B5-688223B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5EA-8E3C-42C3-A5A3-E627B539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2A0A-AE85-40D8-886B-67D3170C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10D-3133-4BF7-9255-37675845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1BA-9FFE-43CB-929F-CABED1D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A90-64FA-4ED2-B1A6-DFB724E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2FA-AA55-4A0A-BDBC-0642886A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191-2B9F-4F5A-A291-55F6BDB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A1C-6175-4F68-AB73-EE44DBD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E3A-5D5C-48BC-BC32-31A4E6F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21E-81B2-427D-BC64-52C27D1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62E-6A53-41F2-98EE-1121BF403B2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BD0-5CAE-4E23-8F6C-E6900897201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59000" y="103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3056040" y="330120"/>
            <a:ext cx="36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动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8556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00360" y="1663560"/>
            <a:ext cx="59356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03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618080" y="300672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694480" y="300672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65440" y="4621320"/>
            <a:ext cx="827280" cy="610920"/>
          </a:xfrm>
          <a:prstGeom prst="rect">
            <a:avLst/>
          </a:prstGeom>
          <a:solidFill>
            <a:srgbClr val="f0c5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33920" y="4621320"/>
            <a:ext cx="826920" cy="61092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702400" y="4621320"/>
            <a:ext cx="826920" cy="61092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772320" y="4621320"/>
            <a:ext cx="826920" cy="61092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54680" y="300672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549600" y="300672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331800" y="2367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50120" y="22446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599800" y="2367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880680" y="22446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708000" y="3981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655520" y="3981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589720" y="38592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670800" y="38577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200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G_9271"/>
          <p:cNvPicPr/>
          <p:nvPr/>
        </p:nvPicPr>
        <p:blipFill>
          <a:blip r:embed="rId1"/>
          <a:stretch/>
        </p:blipFill>
        <p:spPr>
          <a:xfrm>
            <a:off x="5651640" y="1773360"/>
            <a:ext cx="3097080" cy="3852720"/>
          </a:xfrm>
          <a:prstGeom prst="rect">
            <a:avLst/>
          </a:prstGeom>
          <a:ln w="57240">
            <a:solidFill>
              <a:srgbClr val="f0c5d4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/>
  <dc:description/>
  <cp:keywords/>
  <dc:language>en-US</dc:language>
  <cp:lastModifiedBy>a</cp:lastModifiedBy>
  <dcterms:modified xsi:type="dcterms:W3CDTF">2015-07-21T03:51:23Z</dcterms:modified>
  <cp:revision>15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