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.gif" ContentType="image/gif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34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3.png" ContentType="image/png"/>
  <Override PartName="/ppt/media/image9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31.jpeg" ContentType="image/jpeg"/>
  <Override PartName="/ppt/media/image12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2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6D1-31AC-4B47-BBEE-3D4A3F66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5B8-5178-4283-9B3B-26E8AABE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429-8C71-476D-997C-8DAE6FD3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35F-CA39-4AA8-9A7C-AF91886E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4E79-2FDB-479B-A0EF-54DFB47F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6051-2EAA-439B-96A1-6CF72C3E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0175-44D4-42D1-BA4E-E367C933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D337-E7C9-4CDA-8A94-1E163FDA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42AC-AEAE-4A62-806A-E49B0AB5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D4BC-0D93-4615-A2CE-A1786D04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5AFC-4AD0-4CB1-A015-D684EEA6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010-033A-4BB6-ADB7-A85B67CE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367E-A93A-4CC7-8BE7-DE89A6B7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E154-4813-4440-B5C1-B273850A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61FC-BF78-4F8D-B684-74B7A5F5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D7A6-001B-4375-87CF-3CE04EB8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96CA-C8BA-460C-A0B2-06C367D4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943-7091-40BC-8A46-83A464FE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362-42AB-48F8-8465-FE839909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28B-FE61-4033-A834-2CA78622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1BA-461F-4493-8F39-FDD55A4D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4DF-27D0-428A-9A46-4EF4347A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280-FCB9-409B-B336-2839DB5E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28C-05D3-4473-8B93-714006C5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<Relationship Id="rId36" Type="http://schemas.openxmlformats.org/officeDocument/2006/relationships/slideLayout" Target="../slideLayouts/slideLayout2.xml"/><Relationship Id="rId37" Type="http://schemas.openxmlformats.org/officeDocument/2006/relationships/slideLayout" Target="../slideLayouts/slideLayout3.xml"/><Relationship Id="rId38" Type="http://schemas.openxmlformats.org/officeDocument/2006/relationships/slideLayout" Target="../slideLayouts/slideLayout4.xml"/><Relationship Id="rId39" Type="http://schemas.openxmlformats.org/officeDocument/2006/relationships/slideLayout" Target="../slideLayouts/slideLayout5.xml"/><Relationship Id="rId40" Type="http://schemas.openxmlformats.org/officeDocument/2006/relationships/slideLayout" Target="../slideLayouts/slideLayout6.xml"/><Relationship Id="rId41" Type="http://schemas.openxmlformats.org/officeDocument/2006/relationships/slideLayout" Target="../slideLayouts/slideLayout7.xml"/><Relationship Id="rId42" Type="http://schemas.openxmlformats.org/officeDocument/2006/relationships/slideLayout" Target="../slideLayouts/slideLayout8.xml"/><Relationship Id="rId43" Type="http://schemas.openxmlformats.org/officeDocument/2006/relationships/slideLayout" Target="../slideLayouts/slideLayout9.xml"/><Relationship Id="rId44" Type="http://schemas.openxmlformats.org/officeDocument/2006/relationships/slideLayout" Target="../slideLayouts/slideLayout10.xml"/><Relationship Id="rId45" Type="http://schemas.openxmlformats.org/officeDocument/2006/relationships/slideLayout" Target="../slideLayouts/slideLayout11.xml"/><Relationship Id="rId4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080"/>
              <a:ext cx="1294920" cy="6308640"/>
              <a:chOff x="7848720" y="1080"/>
              <a:chExt cx="1294920" cy="630864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2240" y="1080"/>
                <a:ext cx="761400" cy="2270520"/>
                <a:chOff x="8382240" y="1080"/>
                <a:chExt cx="761400" cy="227052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080" y="1080"/>
                  <a:ext cx="279000" cy="276120"/>
                  <a:chOff x="8704080" y="1080"/>
                  <a:chExt cx="279000" cy="27612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080" y="1080"/>
                    <a:ext cx="279000" cy="276120"/>
                    <a:chOff x="8704080" y="1080"/>
                    <a:chExt cx="279000" cy="27612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800"/>
                      <a:ext cx="201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1960" y="93600"/>
                      <a:ext cx="14112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888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5920" y="74160"/>
                    <a:ext cx="4320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000" y="61200"/>
                    <a:ext cx="63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040" y="11124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600" y="190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1400" y="165600"/>
                    <a:ext cx="3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2240" y="22860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44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1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16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44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89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44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44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09520"/>
                <a:chOff x="7848720" y="1600200"/>
                <a:chExt cx="828720" cy="470952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640" y="1600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47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640" y="25142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2240" y="2742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2240" y="3276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5040" y="3504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5040" y="388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640" y="4114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5040" y="4876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5040" y="5409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5040" y="6019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8513a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6036-B89D-4D06-A125-57EA17ED0A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5"/>
    <p:sldLayoutId id="2147483650" r:id="rId36"/>
    <p:sldLayoutId id="2147483651" r:id="rId37"/>
    <p:sldLayoutId id="2147483652" r:id="rId38"/>
    <p:sldLayoutId id="2147483653" r:id="rId39"/>
    <p:sldLayoutId id="2147483654" r:id="rId40"/>
    <p:sldLayoutId id="2147483655" r:id="rId41"/>
    <p:sldLayoutId id="2147483656" r:id="rId42"/>
    <p:sldLayoutId id="2147483657" r:id="rId43"/>
    <p:sldLayoutId id="2147483658" r:id="rId44"/>
    <p:sldLayoutId id="2147483659" r:id="rId45"/>
    <p:sldLayoutId id="2147483660" r:id="rId4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080"/>
              <a:ext cx="1294920" cy="6308640"/>
              <a:chOff x="7848720" y="1080"/>
              <a:chExt cx="1294920" cy="63086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2240" y="1080"/>
                <a:ext cx="761400" cy="2270520"/>
                <a:chOff x="8382240" y="1080"/>
                <a:chExt cx="761400" cy="22705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080" y="1080"/>
                  <a:ext cx="279000" cy="276120"/>
                  <a:chOff x="8704080" y="1080"/>
                  <a:chExt cx="27900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080" y="1080"/>
                    <a:ext cx="279000" cy="276120"/>
                    <a:chOff x="8704080" y="1080"/>
                    <a:chExt cx="27900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800"/>
                      <a:ext cx="201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1960" y="93600"/>
                      <a:ext cx="14112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888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5920" y="74160"/>
                    <a:ext cx="4320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000" y="61200"/>
                    <a:ext cx="63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040" y="11124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600" y="190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1400" y="165600"/>
                    <a:ext cx="3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2240" y="22860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44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1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16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44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89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44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44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09520"/>
                <a:chOff x="7848720" y="1600200"/>
                <a:chExt cx="828720" cy="470952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640" y="1600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47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640" y="25142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2240" y="2742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2240" y="3276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5040" y="3504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5040" y="388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640" y="4114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5040" y="4876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5040" y="5409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5040" y="6019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8513a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D995-55AC-40D5-AD42-099E24E6536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5.jpeg"/><Relationship Id="rId11" Type="http://schemas.openxmlformats.org/officeDocument/2006/relationships/image" Target="../media/image13.png"/><Relationship Id="rId12" Type="http://schemas.openxmlformats.org/officeDocument/2006/relationships/image" Target="../media/image15.jpe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6"/>
          <p:cNvSpPr/>
          <p:nvPr/>
        </p:nvSpPr>
        <p:spPr>
          <a:xfrm>
            <a:off x="396720" y="184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邓小平爷爷植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件在线下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131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f131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304920" y="5335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岁</a:t>
            </a:r>
            <a:endParaRPr b="0" lang="en-US" sz="3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5410080" y="1143000"/>
            <a:ext cx="2666880" cy="4345560"/>
            <a:chOff x="5410080" y="1143000"/>
            <a:chExt cx="2666880" cy="4345560"/>
          </a:xfrm>
        </p:grpSpPr>
        <p:grpSp>
          <p:nvGrpSpPr>
            <p:cNvPr id="219" name="Group 4"/>
            <p:cNvGrpSpPr/>
            <p:nvPr/>
          </p:nvGrpSpPr>
          <p:grpSpPr>
            <a:xfrm>
              <a:off x="5410080" y="1143000"/>
              <a:ext cx="2666880" cy="2242080"/>
              <a:chOff x="5410080" y="1143000"/>
              <a:chExt cx="2666880" cy="2242080"/>
            </a:xfrm>
          </p:grpSpPr>
          <p:sp>
            <p:nvSpPr>
              <p:cNvPr id="220" name="Text Box 5"/>
              <p:cNvSpPr/>
              <p:nvPr/>
            </p:nvSpPr>
            <p:spPr>
              <a:xfrm>
                <a:off x="5410080" y="114300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岁  月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1" name="Text Box 6"/>
              <p:cNvSpPr/>
              <p:nvPr/>
            </p:nvSpPr>
            <p:spPr>
              <a:xfrm>
                <a:off x="5410080" y="219384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几  岁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7"/>
            <p:cNvGrpSpPr/>
            <p:nvPr/>
          </p:nvGrpSpPr>
          <p:grpSpPr>
            <a:xfrm>
              <a:off x="5410080" y="3246480"/>
              <a:ext cx="2666880" cy="2242080"/>
              <a:chOff x="5410080" y="3246480"/>
              <a:chExt cx="2666880" cy="2242080"/>
            </a:xfrm>
          </p:grpSpPr>
          <p:sp>
            <p:nvSpPr>
              <p:cNvPr id="223" name="Text Box 8"/>
              <p:cNvSpPr/>
              <p:nvPr/>
            </p:nvSpPr>
            <p:spPr>
              <a:xfrm>
                <a:off x="5410080" y="324648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周  岁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4" name="Text Box 9"/>
              <p:cNvSpPr/>
              <p:nvPr/>
            </p:nvSpPr>
            <p:spPr>
              <a:xfrm>
                <a:off x="5410080" y="429732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年  岁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04920" y="5335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龄</a:t>
            </a:r>
            <a:endParaRPr b="0" lang="en-US" sz="3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5410080" y="2286000"/>
            <a:ext cx="2667240" cy="2242080"/>
            <a:chOff x="5410080" y="2286000"/>
            <a:chExt cx="2667240" cy="2242080"/>
          </a:xfrm>
        </p:grpSpPr>
        <p:sp>
          <p:nvSpPr>
            <p:cNvPr id="227" name="Text Box 4"/>
            <p:cNvSpPr/>
            <p:nvPr/>
          </p:nvSpPr>
          <p:spPr>
            <a:xfrm>
              <a:off x="5410080" y="2286000"/>
              <a:ext cx="266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2f1311"/>
                  </a:solidFill>
                  <a:latin typeface="Times New Roman"/>
                  <a:ea typeface="楷体_GB2312"/>
                </a:rPr>
                <a:t>年  龄</a:t>
              </a:r>
              <a:endParaRPr b="0" lang="en-US" sz="7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8" name="Text Box 5"/>
            <p:cNvSpPr/>
            <p:nvPr/>
          </p:nvSpPr>
          <p:spPr>
            <a:xfrm>
              <a:off x="5410080" y="3336840"/>
              <a:ext cx="266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2f1311"/>
                  </a:solidFill>
                  <a:latin typeface="Times New Roman"/>
                  <a:ea typeface="楷体_GB2312"/>
                </a:rPr>
                <a:t>高  龄</a:t>
              </a:r>
              <a:endParaRPr b="0" lang="en-US" sz="7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304920" y="5335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已</a:t>
            </a:r>
            <a:endParaRPr b="0" lang="en-US" sz="3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410080" y="27432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已  经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304920" y="5335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经</a:t>
            </a:r>
            <a:endParaRPr b="0" lang="en-US" sz="3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5410080" y="2332080"/>
            <a:ext cx="2667240" cy="2242080"/>
            <a:chOff x="5410080" y="2332080"/>
            <a:chExt cx="2667240" cy="2242080"/>
          </a:xfrm>
        </p:grpSpPr>
        <p:sp>
          <p:nvSpPr>
            <p:cNvPr id="234" name="Text Box 4"/>
            <p:cNvSpPr/>
            <p:nvPr/>
          </p:nvSpPr>
          <p:spPr>
            <a:xfrm>
              <a:off x="5410080" y="2332080"/>
              <a:ext cx="266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2f1311"/>
                  </a:solidFill>
                  <a:latin typeface="Times New Roman"/>
                  <a:ea typeface="楷体_GB2312"/>
                </a:rPr>
                <a:t>已  经</a:t>
              </a:r>
              <a:endParaRPr b="0" lang="en-US" sz="7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5" name="Text Box 5"/>
            <p:cNvSpPr/>
            <p:nvPr/>
          </p:nvSpPr>
          <p:spPr>
            <a:xfrm>
              <a:off x="5410080" y="3382920"/>
              <a:ext cx="266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2f1311"/>
                  </a:solidFill>
                  <a:latin typeface="Times New Roman"/>
                  <a:ea typeface="楷体_GB2312"/>
                </a:rPr>
                <a:t>经  常</a:t>
              </a:r>
              <a:endParaRPr b="0" lang="en-US" sz="7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304920" y="5335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息</a:t>
            </a:r>
            <a:endParaRPr b="0" lang="en-US" sz="3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37" name="Group 1027"/>
          <p:cNvGrpSpPr/>
          <p:nvPr/>
        </p:nvGrpSpPr>
        <p:grpSpPr>
          <a:xfrm>
            <a:off x="5410080" y="2362320"/>
            <a:ext cx="2667240" cy="2242080"/>
            <a:chOff x="5410080" y="2362320"/>
            <a:chExt cx="2667240" cy="2242080"/>
          </a:xfrm>
        </p:grpSpPr>
        <p:sp>
          <p:nvSpPr>
            <p:cNvPr id="238" name="Text Box 1028"/>
            <p:cNvSpPr/>
            <p:nvPr/>
          </p:nvSpPr>
          <p:spPr>
            <a:xfrm>
              <a:off x="5410080" y="2362320"/>
              <a:ext cx="266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2f1311"/>
                  </a:solidFill>
                  <a:latin typeface="Times New Roman"/>
                  <a:ea typeface="楷体_GB2312"/>
                </a:rPr>
                <a:t>休  息</a:t>
              </a:r>
              <a:endParaRPr b="0" lang="en-US" sz="7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9" name="Text Box 1029"/>
            <p:cNvSpPr/>
            <p:nvPr/>
          </p:nvSpPr>
          <p:spPr>
            <a:xfrm>
              <a:off x="5410080" y="3413160"/>
              <a:ext cx="266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2f1311"/>
                  </a:solidFill>
                  <a:latin typeface="Times New Roman"/>
                  <a:ea typeface="楷体_GB2312"/>
                </a:rPr>
                <a:t>息  怒</a:t>
              </a:r>
              <a:endParaRPr b="0" lang="en-US" sz="7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79280" y="692280"/>
            <a:ext cx="7156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一个树坑挖好了，邓爷爷挑选了一棵茁壮的柏树苗，小心地移入树坑，又挥锹添了几锹土。他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站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到几步之外仔细看，觉得不很直，连声说：</a:t>
            </a:r>
            <a:r>
              <a:rPr b="1" lang="zh-CN" sz="48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不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行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，不行！</a:t>
            </a:r>
            <a:r>
              <a:rPr b="1" lang="zh-CN" sz="48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又走上前把树苗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扶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正。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026"/>
          <p:cNvSpPr/>
          <p:nvPr/>
        </p:nvSpPr>
        <p:spPr>
          <a:xfrm>
            <a:off x="304920" y="5335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站</a:t>
            </a:r>
            <a:endParaRPr b="0" lang="en-US" sz="3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42" name="Group 1027"/>
          <p:cNvGrpSpPr/>
          <p:nvPr/>
        </p:nvGrpSpPr>
        <p:grpSpPr>
          <a:xfrm>
            <a:off x="4788000" y="1773360"/>
            <a:ext cx="3124080" cy="3294360"/>
            <a:chOff x="4788000" y="1773360"/>
            <a:chExt cx="3124080" cy="3294360"/>
          </a:xfrm>
        </p:grpSpPr>
        <p:grpSp>
          <p:nvGrpSpPr>
            <p:cNvPr id="243" name="Group 1028"/>
            <p:cNvGrpSpPr/>
            <p:nvPr/>
          </p:nvGrpSpPr>
          <p:grpSpPr>
            <a:xfrm>
              <a:off x="4788000" y="1773360"/>
              <a:ext cx="3123720" cy="2241720"/>
              <a:chOff x="4788000" y="1773360"/>
              <a:chExt cx="3123720" cy="2241720"/>
            </a:xfrm>
          </p:grpSpPr>
          <p:sp>
            <p:nvSpPr>
              <p:cNvPr id="244" name="Text Box 1029"/>
              <p:cNvSpPr/>
              <p:nvPr/>
            </p:nvSpPr>
            <p:spPr>
              <a:xfrm>
                <a:off x="4788000" y="1773360"/>
                <a:ext cx="3123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站  立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5" name="Text Box 1030"/>
              <p:cNvSpPr/>
              <p:nvPr/>
            </p:nvSpPr>
            <p:spPr>
              <a:xfrm>
                <a:off x="4788000" y="2823840"/>
                <a:ext cx="3123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站  岗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46" name="Text Box 1031"/>
            <p:cNvSpPr/>
            <p:nvPr/>
          </p:nvSpPr>
          <p:spPr>
            <a:xfrm>
              <a:off x="4788000" y="3876480"/>
              <a:ext cx="31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2f1311"/>
                  </a:solidFill>
                  <a:latin typeface="Times New Roman"/>
                  <a:ea typeface="楷体_GB2312"/>
                </a:rPr>
                <a:t>气象站</a:t>
              </a:r>
              <a:endParaRPr b="0" lang="en-US" sz="7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026"/>
          <p:cNvSpPr/>
          <p:nvPr/>
        </p:nvSpPr>
        <p:spPr>
          <a:xfrm>
            <a:off x="304920" y="533520"/>
            <a:ext cx="4647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行</a:t>
            </a:r>
            <a:endParaRPr b="0" lang="en-US" sz="3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48" name="Group 1027"/>
          <p:cNvGrpSpPr/>
          <p:nvPr/>
        </p:nvGrpSpPr>
        <p:grpSpPr>
          <a:xfrm>
            <a:off x="5410080" y="1143000"/>
            <a:ext cx="2666880" cy="4345560"/>
            <a:chOff x="5410080" y="1143000"/>
            <a:chExt cx="2666880" cy="4345560"/>
          </a:xfrm>
        </p:grpSpPr>
        <p:grpSp>
          <p:nvGrpSpPr>
            <p:cNvPr id="249" name="Group 1028"/>
            <p:cNvGrpSpPr/>
            <p:nvPr/>
          </p:nvGrpSpPr>
          <p:grpSpPr>
            <a:xfrm>
              <a:off x="5410080" y="1143000"/>
              <a:ext cx="2666880" cy="2242080"/>
              <a:chOff x="5410080" y="1143000"/>
              <a:chExt cx="2666880" cy="2242080"/>
            </a:xfrm>
          </p:grpSpPr>
          <p:sp>
            <p:nvSpPr>
              <p:cNvPr id="250" name="Text Box 1029"/>
              <p:cNvSpPr/>
              <p:nvPr/>
            </p:nvSpPr>
            <p:spPr>
              <a:xfrm>
                <a:off x="5410080" y="114300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行  动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51" name="Text Box 1030"/>
              <p:cNvSpPr/>
              <p:nvPr/>
            </p:nvSpPr>
            <p:spPr>
              <a:xfrm>
                <a:off x="5410080" y="219384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行  为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031"/>
            <p:cNvGrpSpPr/>
            <p:nvPr/>
          </p:nvGrpSpPr>
          <p:grpSpPr>
            <a:xfrm>
              <a:off x="5410080" y="3246480"/>
              <a:ext cx="2666880" cy="2242080"/>
              <a:chOff x="5410080" y="3246480"/>
              <a:chExt cx="2666880" cy="2242080"/>
            </a:xfrm>
          </p:grpSpPr>
          <p:sp>
            <p:nvSpPr>
              <p:cNvPr id="253" name="Text Box 1032"/>
              <p:cNvSpPr/>
              <p:nvPr/>
            </p:nvSpPr>
            <p:spPr>
              <a:xfrm>
                <a:off x="5410080" y="324648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通  行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54" name="Text Box 1033"/>
              <p:cNvSpPr/>
              <p:nvPr/>
            </p:nvSpPr>
            <p:spPr>
              <a:xfrm>
                <a:off x="5410080" y="429732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放  行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026"/>
          <p:cNvSpPr/>
          <p:nvPr/>
        </p:nvSpPr>
        <p:spPr>
          <a:xfrm>
            <a:off x="304920" y="533520"/>
            <a:ext cx="472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扶</a:t>
            </a:r>
            <a:endParaRPr b="0" lang="en-US" sz="3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56" name="Group 1027"/>
          <p:cNvGrpSpPr/>
          <p:nvPr/>
        </p:nvGrpSpPr>
        <p:grpSpPr>
          <a:xfrm>
            <a:off x="5410080" y="2408400"/>
            <a:ext cx="2667240" cy="2242080"/>
            <a:chOff x="5410080" y="2408400"/>
            <a:chExt cx="2667240" cy="2242080"/>
          </a:xfrm>
        </p:grpSpPr>
        <p:sp>
          <p:nvSpPr>
            <p:cNvPr id="257" name="Text Box 1028"/>
            <p:cNvSpPr/>
            <p:nvPr/>
          </p:nvSpPr>
          <p:spPr>
            <a:xfrm>
              <a:off x="5410080" y="2408400"/>
              <a:ext cx="266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2f1311"/>
                  </a:solidFill>
                  <a:latin typeface="Times New Roman"/>
                  <a:ea typeface="楷体_GB2312"/>
                </a:rPr>
                <a:t>搀  扶</a:t>
              </a:r>
              <a:endParaRPr b="0" lang="en-US" sz="7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Text Box 1029"/>
            <p:cNvSpPr/>
            <p:nvPr/>
          </p:nvSpPr>
          <p:spPr>
            <a:xfrm>
              <a:off x="5410080" y="3459240"/>
              <a:ext cx="266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2f1311"/>
                  </a:solidFill>
                  <a:latin typeface="Times New Roman"/>
                  <a:ea typeface="楷体_GB2312"/>
                </a:rPr>
                <a:t>扶  手</a:t>
              </a:r>
              <a:endParaRPr b="0" lang="en-US" sz="7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380880" y="1827360"/>
            <a:ext cx="649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一棵绿油油的小柏树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栽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好了，就象战士一样笔直地站在那里。邓爷爷的脸上露出了满意的笑容。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2009072504041997"/>
          <p:cNvPicPr/>
          <p:nvPr/>
        </p:nvPicPr>
        <p:blipFill>
          <a:blip r:embed="rId2"/>
          <a:stretch/>
        </p:blipFill>
        <p:spPr>
          <a:xfrm>
            <a:off x="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7093080" y="189000"/>
            <a:ext cx="4586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250040" y="646200"/>
            <a:ext cx="4590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321680" y="9349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804000" y="0"/>
            <a:ext cx="2160720" cy="56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小朋友们，春天是植树的季节。你们知道哪天是植树节吗？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985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日这一天，邓小平爷爷拿起工具和大家一起植树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现在我们就一起去看看吧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026"/>
          <p:cNvSpPr/>
          <p:nvPr/>
        </p:nvSpPr>
        <p:spPr>
          <a:xfrm>
            <a:off x="304920" y="5335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栽</a:t>
            </a:r>
            <a:endParaRPr b="0" lang="en-US" sz="3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61" name="Group 1027"/>
          <p:cNvGrpSpPr/>
          <p:nvPr/>
        </p:nvGrpSpPr>
        <p:grpSpPr>
          <a:xfrm>
            <a:off x="5410080" y="1889280"/>
            <a:ext cx="2666880" cy="3294360"/>
            <a:chOff x="5410080" y="1889280"/>
            <a:chExt cx="2666880" cy="3294360"/>
          </a:xfrm>
        </p:grpSpPr>
        <p:grpSp>
          <p:nvGrpSpPr>
            <p:cNvPr id="262" name="Group 1028"/>
            <p:cNvGrpSpPr/>
            <p:nvPr/>
          </p:nvGrpSpPr>
          <p:grpSpPr>
            <a:xfrm>
              <a:off x="5410080" y="1889280"/>
              <a:ext cx="2666880" cy="2241720"/>
              <a:chOff x="5410080" y="1889280"/>
              <a:chExt cx="2666880" cy="2241720"/>
            </a:xfrm>
          </p:grpSpPr>
          <p:sp>
            <p:nvSpPr>
              <p:cNvPr id="263" name="Text Box 1029"/>
              <p:cNvSpPr/>
              <p:nvPr/>
            </p:nvSpPr>
            <p:spPr>
              <a:xfrm>
                <a:off x="5410080" y="188928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栽  树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4" name="Text Box 1030"/>
              <p:cNvSpPr/>
              <p:nvPr/>
            </p:nvSpPr>
            <p:spPr>
              <a:xfrm>
                <a:off x="5410080" y="293976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栽  花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65" name="Text Box 1031"/>
            <p:cNvSpPr/>
            <p:nvPr/>
          </p:nvSpPr>
          <p:spPr>
            <a:xfrm>
              <a:off x="5410080" y="3992400"/>
              <a:ext cx="266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2f1311"/>
                  </a:solidFill>
                  <a:latin typeface="Times New Roman"/>
                  <a:ea typeface="楷体_GB2312"/>
                </a:rPr>
                <a:t>栽  种</a:t>
              </a:r>
              <a:endParaRPr b="0" lang="en-US" sz="7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52280" y="2133720"/>
            <a:ext cx="686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今天，邓小平爷爷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手栽种的柏树已经长大了，</a:t>
            </a:r>
            <a:r>
              <a:rPr b="1" lang="zh-CN" sz="48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小平树</a:t>
            </a:r>
            <a:r>
              <a:rPr b="1" lang="zh-CN" sz="48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成了天坛公园一处美丽的风景。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026"/>
          <p:cNvSpPr/>
          <p:nvPr/>
        </p:nvSpPr>
        <p:spPr>
          <a:xfrm>
            <a:off x="304920" y="5335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亲</a:t>
            </a:r>
            <a:endParaRPr b="0" lang="en-US" sz="3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68" name="Group 1027"/>
          <p:cNvGrpSpPr/>
          <p:nvPr/>
        </p:nvGrpSpPr>
        <p:grpSpPr>
          <a:xfrm>
            <a:off x="5410080" y="1143000"/>
            <a:ext cx="2666880" cy="4345560"/>
            <a:chOff x="5410080" y="1143000"/>
            <a:chExt cx="2666880" cy="4345560"/>
          </a:xfrm>
        </p:grpSpPr>
        <p:grpSp>
          <p:nvGrpSpPr>
            <p:cNvPr id="269" name="Group 1028"/>
            <p:cNvGrpSpPr/>
            <p:nvPr/>
          </p:nvGrpSpPr>
          <p:grpSpPr>
            <a:xfrm>
              <a:off x="5410080" y="1143000"/>
              <a:ext cx="2666880" cy="2242080"/>
              <a:chOff x="5410080" y="1143000"/>
              <a:chExt cx="2666880" cy="2242080"/>
            </a:xfrm>
          </p:grpSpPr>
          <p:sp>
            <p:nvSpPr>
              <p:cNvPr id="270" name="Text Box 1029"/>
              <p:cNvSpPr/>
              <p:nvPr/>
            </p:nvSpPr>
            <p:spPr>
              <a:xfrm>
                <a:off x="5410080" y="114300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亲  人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1" name="Text Box 1030"/>
              <p:cNvSpPr/>
              <p:nvPr/>
            </p:nvSpPr>
            <p:spPr>
              <a:xfrm>
                <a:off x="5410080" y="219384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亲  手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1031"/>
            <p:cNvGrpSpPr/>
            <p:nvPr/>
          </p:nvGrpSpPr>
          <p:grpSpPr>
            <a:xfrm>
              <a:off x="5410080" y="3246480"/>
              <a:ext cx="2666880" cy="2242080"/>
              <a:chOff x="5410080" y="3246480"/>
              <a:chExt cx="2666880" cy="2242080"/>
            </a:xfrm>
          </p:grpSpPr>
          <p:sp>
            <p:nvSpPr>
              <p:cNvPr id="273" name="Text Box 1032"/>
              <p:cNvSpPr/>
              <p:nvPr/>
            </p:nvSpPr>
            <p:spPr>
              <a:xfrm>
                <a:off x="5410080" y="324648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亲  热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4" name="Text Box 1033"/>
              <p:cNvSpPr/>
              <p:nvPr/>
            </p:nvSpPr>
            <p:spPr>
              <a:xfrm>
                <a:off x="5410080" y="429732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亲  戚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026" descr="树"/>
          <p:cNvPicPr/>
          <p:nvPr/>
        </p:nvPicPr>
        <p:blipFill>
          <a:blip r:embed="rId2"/>
          <a:stretch/>
        </p:blipFill>
        <p:spPr>
          <a:xfrm>
            <a:off x="6019920" y="2286000"/>
            <a:ext cx="904680" cy="7142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27"/>
          <p:cNvSpPr/>
          <p:nvPr/>
        </p:nvSpPr>
        <p:spPr>
          <a:xfrm>
            <a:off x="6423120" y="2584440"/>
            <a:ext cx="511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8" name="Picture 1028" descr="树"/>
          <p:cNvPicPr/>
          <p:nvPr/>
        </p:nvPicPr>
        <p:blipFill>
          <a:blip r:embed="rId3"/>
          <a:stretch/>
        </p:blipFill>
        <p:spPr>
          <a:xfrm>
            <a:off x="1365120" y="4033800"/>
            <a:ext cx="906480" cy="716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29" descr="树"/>
          <p:cNvPicPr/>
          <p:nvPr/>
        </p:nvPicPr>
        <p:blipFill>
          <a:blip r:embed="rId4"/>
          <a:stretch/>
        </p:blipFill>
        <p:spPr>
          <a:xfrm>
            <a:off x="3932280" y="2014560"/>
            <a:ext cx="904680" cy="714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30" descr="树"/>
          <p:cNvPicPr/>
          <p:nvPr/>
        </p:nvPicPr>
        <p:blipFill>
          <a:blip r:embed="rId5"/>
          <a:stretch/>
        </p:blipFill>
        <p:spPr>
          <a:xfrm>
            <a:off x="2874960" y="2284560"/>
            <a:ext cx="905040" cy="714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31" descr="树"/>
          <p:cNvPicPr/>
          <p:nvPr/>
        </p:nvPicPr>
        <p:blipFill>
          <a:blip r:embed="rId6"/>
          <a:stretch/>
        </p:blipFill>
        <p:spPr>
          <a:xfrm>
            <a:off x="1968480" y="3092400"/>
            <a:ext cx="906480" cy="714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32" descr="树"/>
          <p:cNvPicPr/>
          <p:nvPr/>
        </p:nvPicPr>
        <p:blipFill>
          <a:blip r:embed="rId7"/>
          <a:stretch/>
        </p:blipFill>
        <p:spPr>
          <a:xfrm>
            <a:off x="6195960" y="3225960"/>
            <a:ext cx="906480" cy="715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33" descr="树"/>
          <p:cNvPicPr/>
          <p:nvPr/>
        </p:nvPicPr>
        <p:blipFill>
          <a:blip r:embed="rId8"/>
          <a:stretch/>
        </p:blipFill>
        <p:spPr>
          <a:xfrm>
            <a:off x="4987800" y="2014560"/>
            <a:ext cx="906480" cy="714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34" descr="树"/>
          <p:cNvPicPr/>
          <p:nvPr/>
        </p:nvPicPr>
        <p:blipFill>
          <a:blip r:embed="rId9"/>
          <a:stretch/>
        </p:blipFill>
        <p:spPr>
          <a:xfrm>
            <a:off x="5138640" y="3630600"/>
            <a:ext cx="906480" cy="714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35" descr="树"/>
          <p:cNvPicPr/>
          <p:nvPr/>
        </p:nvPicPr>
        <p:blipFill>
          <a:blip r:embed="rId10"/>
          <a:stretch/>
        </p:blipFill>
        <p:spPr>
          <a:xfrm>
            <a:off x="4233960" y="3092400"/>
            <a:ext cx="904680" cy="714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36" descr="树"/>
          <p:cNvPicPr/>
          <p:nvPr/>
        </p:nvPicPr>
        <p:blipFill>
          <a:blip r:embed="rId11"/>
          <a:stretch/>
        </p:blipFill>
        <p:spPr>
          <a:xfrm>
            <a:off x="2573280" y="4573440"/>
            <a:ext cx="905040" cy="71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37" descr="树"/>
          <p:cNvPicPr/>
          <p:nvPr/>
        </p:nvPicPr>
        <p:blipFill>
          <a:blip r:embed="rId12"/>
          <a:stretch/>
        </p:blipFill>
        <p:spPr>
          <a:xfrm>
            <a:off x="3176640" y="3495600"/>
            <a:ext cx="906480" cy="714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38" descr="树"/>
          <p:cNvPicPr/>
          <p:nvPr/>
        </p:nvPicPr>
        <p:blipFill>
          <a:blip r:embed="rId13"/>
          <a:stretch/>
        </p:blipFill>
        <p:spPr>
          <a:xfrm>
            <a:off x="4233960" y="4303800"/>
            <a:ext cx="904680" cy="7142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39" descr="树"/>
          <p:cNvPicPr/>
          <p:nvPr/>
        </p:nvPicPr>
        <p:blipFill>
          <a:blip r:embed="rId14"/>
          <a:stretch/>
        </p:blipFill>
        <p:spPr>
          <a:xfrm>
            <a:off x="6195960" y="4168800"/>
            <a:ext cx="906480" cy="716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40"/>
          <p:cNvSpPr/>
          <p:nvPr/>
        </p:nvSpPr>
        <p:spPr>
          <a:xfrm>
            <a:off x="6573960" y="3498840"/>
            <a:ext cx="4363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龄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Text Box 1041"/>
          <p:cNvSpPr/>
          <p:nvPr/>
        </p:nvSpPr>
        <p:spPr>
          <a:xfrm>
            <a:off x="5365800" y="2281320"/>
            <a:ext cx="425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Text Box 1042"/>
          <p:cNvSpPr/>
          <p:nvPr/>
        </p:nvSpPr>
        <p:spPr>
          <a:xfrm>
            <a:off x="4611600" y="3346560"/>
            <a:ext cx="417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Text Box 1043"/>
          <p:cNvSpPr/>
          <p:nvPr/>
        </p:nvSpPr>
        <p:spPr>
          <a:xfrm>
            <a:off x="4309920" y="2281320"/>
            <a:ext cx="41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植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Text Box 1044"/>
          <p:cNvSpPr/>
          <p:nvPr/>
        </p:nvSpPr>
        <p:spPr>
          <a:xfrm>
            <a:off x="3327480" y="2508120"/>
            <a:ext cx="482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邓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1045"/>
          <p:cNvSpPr/>
          <p:nvPr/>
        </p:nvSpPr>
        <p:spPr>
          <a:xfrm>
            <a:off x="2422440" y="3346560"/>
            <a:ext cx="4730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Text Box 1046"/>
          <p:cNvSpPr/>
          <p:nvPr/>
        </p:nvSpPr>
        <p:spPr>
          <a:xfrm>
            <a:off x="1817640" y="4260960"/>
            <a:ext cx="5446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息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Text Box 1047"/>
          <p:cNvSpPr/>
          <p:nvPr/>
        </p:nvSpPr>
        <p:spPr>
          <a:xfrm>
            <a:off x="3025800" y="4800600"/>
            <a:ext cx="479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站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Text Box 1048"/>
          <p:cNvSpPr/>
          <p:nvPr/>
        </p:nvSpPr>
        <p:spPr>
          <a:xfrm>
            <a:off x="3629160" y="3765600"/>
            <a:ext cx="1207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Text Box 1049"/>
          <p:cNvSpPr/>
          <p:nvPr/>
        </p:nvSpPr>
        <p:spPr>
          <a:xfrm>
            <a:off x="4686480" y="4567320"/>
            <a:ext cx="41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扶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Text Box 1050"/>
          <p:cNvSpPr/>
          <p:nvPr/>
        </p:nvSpPr>
        <p:spPr>
          <a:xfrm>
            <a:off x="5592600" y="3881520"/>
            <a:ext cx="4273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Text Box 1051"/>
          <p:cNvSpPr/>
          <p:nvPr/>
        </p:nvSpPr>
        <p:spPr>
          <a:xfrm>
            <a:off x="6648480" y="4414680"/>
            <a:ext cx="438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2" name="Picture 1052" descr="小人"/>
          <p:cNvPicPr/>
          <p:nvPr/>
        </p:nvPicPr>
        <p:blipFill>
          <a:blip r:embed="rId15"/>
          <a:stretch/>
        </p:blipFill>
        <p:spPr>
          <a:xfrm>
            <a:off x="7164360" y="3141720"/>
            <a:ext cx="604800" cy="1114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53" descr=""/>
          <p:cNvPicPr/>
          <p:nvPr/>
        </p:nvPicPr>
        <p:blipFill>
          <a:blip r:embed="rId16"/>
          <a:stretch/>
        </p:blipFill>
        <p:spPr>
          <a:xfrm>
            <a:off x="6346800" y="5381640"/>
            <a:ext cx="536760" cy="917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54" descr=""/>
          <p:cNvPicPr/>
          <p:nvPr/>
        </p:nvPicPr>
        <p:blipFill>
          <a:blip r:embed="rId17"/>
          <a:stretch/>
        </p:blipFill>
        <p:spPr>
          <a:xfrm>
            <a:off x="3930480" y="5381640"/>
            <a:ext cx="717840" cy="749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55" descr="小孩d"/>
          <p:cNvPicPr/>
          <p:nvPr/>
        </p:nvPicPr>
        <p:blipFill>
          <a:blip r:embed="rId18"/>
          <a:stretch/>
        </p:blipFill>
        <p:spPr>
          <a:xfrm>
            <a:off x="1062000" y="5111640"/>
            <a:ext cx="604800" cy="101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56" descr="花仙子"/>
          <p:cNvPicPr/>
          <p:nvPr/>
        </p:nvPicPr>
        <p:blipFill>
          <a:blip r:embed="rId19"/>
          <a:stretch/>
        </p:blipFill>
        <p:spPr>
          <a:xfrm>
            <a:off x="4384800" y="938160"/>
            <a:ext cx="904680" cy="941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57" descr="小孩b"/>
          <p:cNvPicPr/>
          <p:nvPr/>
        </p:nvPicPr>
        <p:blipFill>
          <a:blip r:embed="rId20"/>
          <a:stretch/>
        </p:blipFill>
        <p:spPr>
          <a:xfrm>
            <a:off x="1666800" y="1071720"/>
            <a:ext cx="754200" cy="1064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58" descr="kunanhai"/>
          <p:cNvPicPr/>
          <p:nvPr/>
        </p:nvPicPr>
        <p:blipFill>
          <a:blip r:embed="rId21"/>
          <a:stretch/>
        </p:blipFill>
        <p:spPr>
          <a:xfrm>
            <a:off x="5743440" y="938160"/>
            <a:ext cx="1057320" cy="1141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59" descr="华"/>
          <p:cNvPicPr/>
          <p:nvPr/>
        </p:nvPicPr>
        <p:blipFill>
          <a:blip r:embed="rId22"/>
          <a:stretch/>
        </p:blipFill>
        <p:spPr>
          <a:xfrm>
            <a:off x="6948360" y="1628640"/>
            <a:ext cx="603360" cy="1020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60" descr="nuhai"/>
          <p:cNvPicPr/>
          <p:nvPr/>
        </p:nvPicPr>
        <p:blipFill>
          <a:blip r:embed="rId23"/>
          <a:stretch/>
        </p:blipFill>
        <p:spPr>
          <a:xfrm>
            <a:off x="2874960" y="938160"/>
            <a:ext cx="1081080" cy="1128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61" descr="nanhai"/>
          <p:cNvPicPr/>
          <p:nvPr/>
        </p:nvPicPr>
        <p:blipFill>
          <a:blip r:embed="rId24"/>
          <a:stretch/>
        </p:blipFill>
        <p:spPr>
          <a:xfrm>
            <a:off x="2421000" y="5516640"/>
            <a:ext cx="906480" cy="807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62" descr="paohaizi"/>
          <p:cNvPicPr/>
          <p:nvPr/>
        </p:nvPicPr>
        <p:blipFill>
          <a:blip r:embed="rId25"/>
          <a:stretch/>
        </p:blipFill>
        <p:spPr>
          <a:xfrm>
            <a:off x="760320" y="1611360"/>
            <a:ext cx="906480" cy="1206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63" descr="文 "/>
          <p:cNvPicPr/>
          <p:nvPr/>
        </p:nvPicPr>
        <p:blipFill>
          <a:blip r:embed="rId26"/>
          <a:stretch/>
        </p:blipFill>
        <p:spPr>
          <a:xfrm>
            <a:off x="609480" y="3227400"/>
            <a:ext cx="603360" cy="1193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64" descr=""/>
          <p:cNvPicPr/>
          <p:nvPr/>
        </p:nvPicPr>
        <p:blipFill>
          <a:blip r:embed="rId27"/>
          <a:stretch/>
        </p:blipFill>
        <p:spPr>
          <a:xfrm>
            <a:off x="7020000" y="5013360"/>
            <a:ext cx="671400" cy="8809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65"/>
          <p:cNvSpPr/>
          <p:nvPr/>
        </p:nvSpPr>
        <p:spPr>
          <a:xfrm>
            <a:off x="3478320" y="533520"/>
            <a:ext cx="1208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è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ɡ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Text Box 1066"/>
          <p:cNvSpPr/>
          <p:nvPr/>
        </p:nvSpPr>
        <p:spPr>
          <a:xfrm>
            <a:off x="2119320" y="803160"/>
            <a:ext cx="1208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yǐ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Text Box 1067"/>
          <p:cNvSpPr/>
          <p:nvPr/>
        </p:nvSpPr>
        <p:spPr>
          <a:xfrm>
            <a:off x="4686480" y="803160"/>
            <a:ext cx="1207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z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í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Text Box 1068"/>
          <p:cNvSpPr/>
          <p:nvPr/>
        </p:nvSpPr>
        <p:spPr>
          <a:xfrm>
            <a:off x="6497640" y="938160"/>
            <a:ext cx="1208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ji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é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Text Box 1069"/>
          <p:cNvSpPr/>
          <p:nvPr/>
        </p:nvSpPr>
        <p:spPr>
          <a:xfrm>
            <a:off x="7164360" y="1268280"/>
            <a:ext cx="1208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z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Text Box 1070"/>
          <p:cNvSpPr/>
          <p:nvPr/>
        </p:nvSpPr>
        <p:spPr>
          <a:xfrm>
            <a:off x="7093080" y="2708280"/>
            <a:ext cx="12078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su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ì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Text Box 1071"/>
          <p:cNvSpPr/>
          <p:nvPr/>
        </p:nvSpPr>
        <p:spPr>
          <a:xfrm>
            <a:off x="5743440" y="5516640"/>
            <a:ext cx="1208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qī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Text Box 1072"/>
          <p:cNvSpPr/>
          <p:nvPr/>
        </p:nvSpPr>
        <p:spPr>
          <a:xfrm>
            <a:off x="7020000" y="4653000"/>
            <a:ext cx="1208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l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ɡ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Text Box 1073"/>
          <p:cNvSpPr/>
          <p:nvPr/>
        </p:nvSpPr>
        <p:spPr>
          <a:xfrm>
            <a:off x="3629160" y="5516640"/>
            <a:ext cx="1207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ɡ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Text Box 1074"/>
          <p:cNvSpPr/>
          <p:nvPr/>
        </p:nvSpPr>
        <p:spPr>
          <a:xfrm>
            <a:off x="2421000" y="5516640"/>
            <a:ext cx="1208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f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Text Box 1075"/>
          <p:cNvSpPr/>
          <p:nvPr/>
        </p:nvSpPr>
        <p:spPr>
          <a:xfrm>
            <a:off x="911160" y="4800600"/>
            <a:ext cx="1208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jīn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ɡ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Text Box 1076"/>
          <p:cNvSpPr/>
          <p:nvPr/>
        </p:nvSpPr>
        <p:spPr>
          <a:xfrm>
            <a:off x="1063800" y="3227400"/>
            <a:ext cx="917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z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Text Box 1077"/>
          <p:cNvSpPr/>
          <p:nvPr/>
        </p:nvSpPr>
        <p:spPr>
          <a:xfrm>
            <a:off x="457200" y="1879560"/>
            <a:ext cx="7621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ī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755640" y="404640"/>
            <a:ext cx="72738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f1311"/>
                </a:solidFill>
                <a:latin typeface="Arial"/>
                <a:ea typeface="楷体_GB2312"/>
              </a:rPr>
              <a:t>邓小平 </a:t>
            </a:r>
            <a:r>
              <a:rPr b="1" lang="zh-CN" sz="54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种植  植物 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春节  岁数  年龄 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已经  经常  气息 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站队  行走  扶手 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栽树  亲人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152280" y="2133720"/>
            <a:ext cx="6867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1985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年的植树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，是个令人难忘的日子。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Line 2"/>
          <p:cNvSpPr/>
          <p:nvPr/>
        </p:nvSpPr>
        <p:spPr>
          <a:xfrm>
            <a:off x="0" y="2133720"/>
            <a:ext cx="3657600" cy="1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657600" y="12193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Arial"/>
              </a:rPr>
              <a:t>是</a:t>
            </a:r>
            <a:r>
              <a:rPr b="0" lang="zh-CN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4724280" y="2133720"/>
            <a:ext cx="3657600" cy="1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346480" y="2917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57200" y="2590920"/>
            <a:ext cx="7467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今天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我的生日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北京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我国的首都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今天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上学的第一天，我很开心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月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日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植树节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0b85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0b85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13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BA9-9BF9-4A3A-B35C-8B3F3A8124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2008122917152811627"/>
          <p:cNvPicPr/>
          <p:nvPr/>
        </p:nvPicPr>
        <p:blipFill>
          <a:blip r:embed="rId2"/>
          <a:stretch/>
        </p:blipFill>
        <p:spPr>
          <a:xfrm>
            <a:off x="395280" y="414360"/>
            <a:ext cx="6296040" cy="562140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4"/>
          <p:cNvSpPr/>
          <p:nvPr/>
        </p:nvSpPr>
        <p:spPr>
          <a:xfrm>
            <a:off x="6012000" y="0"/>
            <a:ext cx="3132000" cy="2708280"/>
          </a:xfrm>
          <a:prstGeom prst="cloudCallout">
            <a:avLst>
              <a:gd name="adj1" fmla="val -131805"/>
              <a:gd name="adj2" fmla="val 99236"/>
            </a:avLst>
          </a:prstGeom>
          <a:solidFill>
            <a:srgbClr val="c1605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华文隶书"/>
              </a:rPr>
              <a:t>邓小平爷爷在哪植树呢？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1004picimg20060419152940"/>
          <p:cNvPicPr/>
          <p:nvPr/>
        </p:nvPicPr>
        <p:blipFill>
          <a:blip r:embed="rId2"/>
          <a:stretch/>
        </p:blipFill>
        <p:spPr>
          <a:xfrm>
            <a:off x="250920" y="404640"/>
            <a:ext cx="7129440" cy="497556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6"/>
          <p:cNvSpPr/>
          <p:nvPr/>
        </p:nvSpPr>
        <p:spPr>
          <a:xfrm>
            <a:off x="2590920" y="580536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天坛公园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981080" y="152280"/>
            <a:ext cx="49532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邓</a:t>
            </a:r>
            <a:endParaRPr b="0" lang="en-US" sz="40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Img214044655"/>
          <p:cNvPicPr/>
          <p:nvPr/>
        </p:nvPicPr>
        <p:blipFill>
          <a:blip r:embed="rId2"/>
          <a:stretch/>
        </p:blipFill>
        <p:spPr>
          <a:xfrm>
            <a:off x="371520" y="547560"/>
            <a:ext cx="6904080" cy="50421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6"/>
          <p:cNvSpPr/>
          <p:nvPr/>
        </p:nvSpPr>
        <p:spPr>
          <a:xfrm>
            <a:off x="2598840" y="583560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天坛公园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5" descr="1004picimg20060419152940"/>
          <p:cNvPicPr/>
          <p:nvPr/>
        </p:nvPicPr>
        <p:blipFill>
          <a:blip r:embed="rId2"/>
          <a:stretch/>
        </p:blipFill>
        <p:spPr>
          <a:xfrm>
            <a:off x="247680" y="476280"/>
            <a:ext cx="7169040" cy="50036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2700360" y="580536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天坛公园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24000" y="907920"/>
            <a:ext cx="849312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认真读课文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2—3</a:t>
            </a: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自然段思考：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2f1311"/>
                </a:solidFill>
                <a:latin typeface="Arial"/>
              </a:rPr>
              <a:t>你从哪些词语中感受到了邓爷爷挖坑是认真的态度？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0" y="692280"/>
            <a:ext cx="74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Arial"/>
              </a:rPr>
              <a:t>只见 他手握铁锹，兴致勃勃地 挖着树坑，额头 已经布满汗珠，仍不肯休息。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Line 3"/>
          <p:cNvSpPr/>
          <p:nvPr/>
        </p:nvSpPr>
        <p:spPr>
          <a:xfrm flipH="1">
            <a:off x="1692360" y="836640"/>
            <a:ext cx="201600" cy="7588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Line 4"/>
          <p:cNvSpPr/>
          <p:nvPr/>
        </p:nvSpPr>
        <p:spPr>
          <a:xfrm flipH="1">
            <a:off x="3203280" y="1773360"/>
            <a:ext cx="152280" cy="6858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Line 5"/>
          <p:cNvSpPr/>
          <p:nvPr/>
        </p:nvSpPr>
        <p:spPr>
          <a:xfrm flipH="1">
            <a:off x="1692000" y="2708280"/>
            <a:ext cx="152280" cy="7621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6084720" y="1628640"/>
            <a:ext cx="121932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250920" y="2565360"/>
            <a:ext cx="194472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从“兴致勃勃、布满汗珠、不肯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休息“从哪些词语中感受到了邓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爷爷挖坑是认真的态度。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4" name="Picture 4" descr="23"/>
          <p:cNvPicPr/>
          <p:nvPr/>
        </p:nvPicPr>
        <p:blipFill>
          <a:blip r:embed="rId2"/>
          <a:stretch/>
        </p:blipFill>
        <p:spPr>
          <a:xfrm>
            <a:off x="5580000" y="3429000"/>
            <a:ext cx="3384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7386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当邓爷爷植好树后邓爷爷笑了，那么我们又可以从哪个词看出他是高兴、开心的笑的呢？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808200" y="2637000"/>
            <a:ext cx="2944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从”满意“一词可以看出来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7" name="Picture 5" descr="12"/>
          <p:cNvPicPr/>
          <p:nvPr/>
        </p:nvPicPr>
        <p:blipFill>
          <a:blip r:embed="rId2"/>
          <a:stretch/>
        </p:blipFill>
        <p:spPr>
          <a:xfrm>
            <a:off x="4788000" y="2637000"/>
            <a:ext cx="4176720" cy="388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1311"/>
                </a:solidFill>
                <a:latin typeface="Arial"/>
              </a:rPr>
              <a:t>自读写邓小平爷爷怎样植树的段落，读后谈谈你觉得邓小平爷爷是个怎样的人。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　只见他手握铁锹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兴致勃勃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地挖着树坑，额头已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布满汗珠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仍不肯休息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⑵　邓爷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挑选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了一株茁壮的柏树苗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心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地移入树坑，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挥锹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填了几锹土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⑶　他站到几步之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仔细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看看，觉得不很直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连声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说：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行，不行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！”又上前把树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扶正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邓爷爷是一个一丝不苟、严肃认真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重视绿化环境的好爷爷。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2" name="Picture 5" descr="56"/>
          <p:cNvPicPr/>
          <p:nvPr/>
        </p:nvPicPr>
        <p:blipFill>
          <a:blip r:embed="rId4"/>
          <a:stretch/>
        </p:blipFill>
        <p:spPr>
          <a:xfrm>
            <a:off x="1332000" y="3716280"/>
            <a:ext cx="4968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5" descr="2007101015558437"/>
          <p:cNvPicPr/>
          <p:nvPr/>
        </p:nvPicPr>
        <p:blipFill>
          <a:blip r:embed="rId2"/>
          <a:stretch/>
        </p:blipFill>
        <p:spPr>
          <a:xfrm>
            <a:off x="684360" y="333360"/>
            <a:ext cx="5400360" cy="626436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4"/>
          <p:cNvSpPr/>
          <p:nvPr/>
        </p:nvSpPr>
        <p:spPr>
          <a:xfrm>
            <a:off x="2411280" y="189000"/>
            <a:ext cx="6553440" cy="2663640"/>
          </a:xfrm>
          <a:prstGeom prst="cloudCallout">
            <a:avLst>
              <a:gd name="adj1" fmla="val -37402"/>
              <a:gd name="adj2" fmla="val 87606"/>
            </a:avLst>
          </a:prstGeom>
          <a:solidFill>
            <a:srgbClr val="c1605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1311"/>
                </a:solidFill>
                <a:latin typeface="Arial"/>
              </a:rPr>
              <a:t>为什么说“小平树”成了天坛公园一处美丽的风景？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893e"/>
                </a:solidFill>
                <a:latin typeface="Arial"/>
              </a:rPr>
              <a:t>邓小平爷爷说过“植树造林，绿化祖国要一代一代永远传下去”。邓小平爷爷虽然永远离开了我们，但他永远活在我们的心中， 以后我们每一位小朋友都将像邓爷爷一样重视绿化环境，为保护环境做力所能及的事。同学们，行动吧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6" name="Picture 4" descr="78"/>
          <p:cNvPicPr/>
          <p:nvPr/>
        </p:nvPicPr>
        <p:blipFill>
          <a:blip r:embed="rId3"/>
          <a:stretch/>
        </p:blipFill>
        <p:spPr>
          <a:xfrm>
            <a:off x="4356000" y="4076640"/>
            <a:ext cx="3240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04920" y="5335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植</a:t>
            </a:r>
            <a:endParaRPr b="0" lang="en-US" sz="3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5148360" y="2421000"/>
            <a:ext cx="2666880" cy="2242080"/>
            <a:chOff x="5148360" y="2421000"/>
            <a:chExt cx="2666880" cy="2242080"/>
          </a:xfrm>
        </p:grpSpPr>
        <p:sp>
          <p:nvSpPr>
            <p:cNvPr id="202" name="Text Box 4"/>
            <p:cNvSpPr/>
            <p:nvPr/>
          </p:nvSpPr>
          <p:spPr>
            <a:xfrm>
              <a:off x="5148360" y="2421000"/>
              <a:ext cx="266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2f1311"/>
                  </a:solidFill>
                  <a:latin typeface="Times New Roman"/>
                  <a:ea typeface="楷体_GB2312"/>
                </a:rPr>
                <a:t>植  树</a:t>
              </a:r>
              <a:endParaRPr b="0" lang="en-US" sz="7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Text Box 5"/>
            <p:cNvSpPr/>
            <p:nvPr/>
          </p:nvSpPr>
          <p:spPr>
            <a:xfrm>
              <a:off x="5148360" y="3471840"/>
              <a:ext cx="266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2f1311"/>
                  </a:solidFill>
                  <a:latin typeface="Times New Roman"/>
                  <a:ea typeface="楷体_GB2312"/>
                </a:rPr>
                <a:t>种  植</a:t>
              </a:r>
              <a:endParaRPr b="0" lang="en-US" sz="7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1476360" y="981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y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华文隶书"/>
              </a:rPr>
              <a:t>é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476360" y="1628640"/>
            <a:ext cx="11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爷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564000" y="1700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岁</a:t>
            </a:r>
            <a:r>
              <a:rPr b="0" lang="zh-CN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3564000" y="1052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su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华文隶书"/>
              </a:rPr>
              <a:t>ì</a:t>
            </a:r>
            <a:r>
              <a:rPr b="1" lang="en-US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5940360" y="1052640"/>
            <a:ext cx="10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x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华文隶书"/>
              </a:rPr>
              <a:t>í</a:t>
            </a:r>
            <a:r>
              <a:rPr b="1" lang="en-US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ng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6084720" y="17002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1547640" y="400536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亲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2698920" y="3645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708360" y="3933720"/>
            <a:ext cx="7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的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6227640" y="3933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1476360" y="3284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qīn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6084720" y="3284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ji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华文隶书"/>
              </a:rPr>
              <a:t>é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3708360" y="3284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隶书"/>
                <a:ea typeface="华文隶书"/>
              </a:rPr>
              <a:t>de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0" name="WordArt 15"/>
          <p:cNvSpPr txBox="1"/>
          <p:nvPr/>
        </p:nvSpPr>
        <p:spPr>
          <a:xfrm>
            <a:off x="250920" y="692280"/>
            <a:ext cx="137160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读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Oval 3"/>
          <p:cNvSpPr/>
          <p:nvPr/>
        </p:nvSpPr>
        <p:spPr>
          <a:xfrm>
            <a:off x="395280" y="549360"/>
            <a:ext cx="2808360" cy="934920"/>
          </a:xfrm>
          <a:prstGeom prst="ellipse">
            <a:avLst/>
          </a:prstGeom>
          <a:solidFill>
            <a:srgbClr val="c1605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1311"/>
                </a:solidFill>
                <a:latin typeface="Arial"/>
              </a:rPr>
              <a:t>议一议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384120" y="1844640"/>
            <a:ext cx="7993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2f1311"/>
                </a:solidFill>
                <a:latin typeface="宋体"/>
              </a:rPr>
              <a:t>、为什么要植树？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2f1311"/>
                </a:solidFill>
                <a:latin typeface="宋体"/>
              </a:rPr>
              <a:t>、怎样植树？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宋体"/>
              </a:rPr>
              <a:t>3</a:t>
            </a:r>
            <a:r>
              <a:rPr b="0" lang="zh-CN" sz="4000" spc="-1" strike="noStrike">
                <a:solidFill>
                  <a:srgbClr val="2f1311"/>
                </a:solidFill>
                <a:latin typeface="宋体"/>
              </a:rPr>
              <a:t>、学完这篇课文后你准备怎样做？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/>
          <p:cNvSpPr/>
          <p:nvPr/>
        </p:nvSpPr>
        <p:spPr>
          <a:xfrm>
            <a:off x="611280" y="141300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2f1311"/>
                </a:solidFill>
                <a:latin typeface="宋体"/>
              </a:rPr>
              <a:t>、观察校园里的一种植物，把它画下来。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2f1311"/>
                </a:solidFill>
                <a:latin typeface="宋体"/>
              </a:rPr>
              <a:t>、在爸爸妈妈的帮助下上网查找各个国家的植树节在什么时候？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2f1311"/>
                </a:solidFill>
                <a:latin typeface="宋体"/>
              </a:rPr>
              <a:t>、有条件的和爸爸妈妈一起种树。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Oval 5"/>
          <p:cNvSpPr/>
          <p:nvPr/>
        </p:nvSpPr>
        <p:spPr>
          <a:xfrm>
            <a:off x="826920" y="333360"/>
            <a:ext cx="2449800" cy="936720"/>
          </a:xfrm>
          <a:prstGeom prst="ellipse">
            <a:avLst/>
          </a:prstGeom>
          <a:solidFill>
            <a:srgbClr val="c1605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1311"/>
                </a:solidFill>
                <a:latin typeface="Arial"/>
                <a:ea typeface="黑体"/>
              </a:rPr>
              <a:t>拓展学习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W020101223333800692602"/>
          <p:cNvPicPr/>
          <p:nvPr/>
        </p:nvPicPr>
        <p:blipFill>
          <a:blip r:embed="rId2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W020101223333800382125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0"/>
            <a:ext cx="78850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       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邓</a:t>
            </a:r>
            <a:r>
              <a:rPr b="1" lang="zh-CN" sz="44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小平爷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植</a:t>
            </a:r>
            <a:r>
              <a:rPr b="1" lang="zh-CN" sz="44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树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1985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年的植树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，是个令人难忘的日子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这天，万里无云，春风拂面。在天坛公园植树的人群里，</a:t>
            </a:r>
            <a:r>
              <a:rPr b="1" lang="en-US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81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高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龄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的邓小平爷爷格外引人注目。只见他手握铁锹，兴致勃勃地挖着树坑，额头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已经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布满汗珠，仍不肯休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息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一个树坑挖好了，邓爷爷挑选了一棵茁壮的柏树苗，小心地移入树坑，又挥锹填了几锹土。他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站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到几步之外仔细看看，觉得不很直，连声说：</a:t>
            </a:r>
            <a:r>
              <a:rPr b="1" lang="zh-CN" sz="26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不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行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，不行！</a:t>
            </a:r>
            <a:r>
              <a:rPr b="1" lang="zh-CN" sz="26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又走上前把树苗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扶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正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一棵绿油油的小柏树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栽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好了，就象战士一样笔直地站在那里。邓爷爷的脸上露出了满意的笑容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今天，邓小平爷爷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手栽种的柏树已经长大了，</a:t>
            </a:r>
            <a:r>
              <a:rPr b="1" lang="zh-CN" sz="26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小平树</a:t>
            </a:r>
            <a:r>
              <a:rPr b="1" lang="zh-CN" sz="26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成了天坛公园一处美丽的风景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52280" y="2133720"/>
            <a:ext cx="6867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1985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年的植树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，是个令人难忘的日子。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304920" y="5335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2f1311"/>
                </a:solidFill>
                <a:latin typeface="Times New Roman"/>
                <a:ea typeface="楷体_GB2312"/>
              </a:rPr>
              <a:t>节</a:t>
            </a:r>
            <a:endParaRPr b="0" lang="en-US" sz="3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5410080" y="1219320"/>
            <a:ext cx="2666880" cy="4345560"/>
            <a:chOff x="5410080" y="1219320"/>
            <a:chExt cx="2666880" cy="4345560"/>
          </a:xfrm>
        </p:grpSpPr>
        <p:grpSp>
          <p:nvGrpSpPr>
            <p:cNvPr id="210" name="Group 4"/>
            <p:cNvGrpSpPr/>
            <p:nvPr/>
          </p:nvGrpSpPr>
          <p:grpSpPr>
            <a:xfrm>
              <a:off x="5410080" y="1219320"/>
              <a:ext cx="2666880" cy="2242080"/>
              <a:chOff x="5410080" y="1219320"/>
              <a:chExt cx="2666880" cy="2242080"/>
            </a:xfrm>
          </p:grpSpPr>
          <p:sp>
            <p:nvSpPr>
              <p:cNvPr id="211" name="Text Box 5"/>
              <p:cNvSpPr/>
              <p:nvPr/>
            </p:nvSpPr>
            <p:spPr>
              <a:xfrm>
                <a:off x="5410080" y="121932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节  日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" name="Text Box 6"/>
              <p:cNvSpPr/>
              <p:nvPr/>
            </p:nvSpPr>
            <p:spPr>
              <a:xfrm>
                <a:off x="5410080" y="227016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节  约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7"/>
            <p:cNvGrpSpPr/>
            <p:nvPr/>
          </p:nvGrpSpPr>
          <p:grpSpPr>
            <a:xfrm>
              <a:off x="5410080" y="3322800"/>
              <a:ext cx="2666880" cy="2242080"/>
              <a:chOff x="5410080" y="3322800"/>
              <a:chExt cx="2666880" cy="2242080"/>
            </a:xfrm>
          </p:grpSpPr>
          <p:sp>
            <p:nvSpPr>
              <p:cNvPr id="214" name="Text Box 8"/>
              <p:cNvSpPr/>
              <p:nvPr/>
            </p:nvSpPr>
            <p:spPr>
              <a:xfrm>
                <a:off x="5410080" y="332280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节  目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5" name="Text Box 9"/>
              <p:cNvSpPr/>
              <p:nvPr/>
            </p:nvSpPr>
            <p:spPr>
              <a:xfrm>
                <a:off x="5410080" y="4373640"/>
                <a:ext cx="2666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2f1311"/>
                    </a:solidFill>
                    <a:latin typeface="Times New Roman"/>
                    <a:ea typeface="楷体_GB2312"/>
                  </a:rPr>
                  <a:t>春  节</a:t>
                </a:r>
                <a:endParaRPr b="0" lang="en-US" sz="72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04920" y="836640"/>
            <a:ext cx="750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这天，万里无云，春风拂面。在天坛公园植树的人群里，</a:t>
            </a:r>
            <a:r>
              <a:rPr b="1" lang="en-US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81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高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龄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的邓小平爷爷格外引人注目。只见他手握铁锹，兴致勃勃的挖着树坑，额头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已经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布满汗珠，仍不肯休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息</a:t>
            </a:r>
            <a:r>
              <a:rPr b="1" lang="zh-CN" sz="4800" spc="-1" strike="noStrike">
                <a:solidFill>
                  <a:srgbClr val="2f1311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8:46:55Z</dcterms:created>
  <dc:creator/>
  <dc:description/>
  <cp:keywords>幻灯片之家 http:/www.eeppt.com</cp:keywords>
  <dc:language>en-US</dc:language>
  <cp:lastModifiedBy/>
  <dcterms:modified xsi:type="dcterms:W3CDTF">2015-07-20T07:31:23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