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  <p:sldId id="309" r:id="rId79"/>
    <p:sldId id="310" r:id="rId80"/>
    <p:sldId id="311" r:id="rId81"/>
    <p:sldId id="312" r:id="rId82"/>
    <p:sldId id="313" r:id="rId83"/>
    <p:sldId id="314" r:id="rId84"/>
    <p:sldId id="315" r:id="rId85"/>
    <p:sldId id="316" r:id="rId86"/>
    <p:sldId id="317" r:id="rId87"/>
    <p:sldId id="31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slide" Target="slides/slide54.xml"/><Relationship Id="rId80" Type="http://schemas.openxmlformats.org/officeDocument/2006/relationships/slide" Target="slides/slide55.xml"/><Relationship Id="rId81" Type="http://schemas.openxmlformats.org/officeDocument/2006/relationships/slide" Target="slides/slide56.xml"/><Relationship Id="rId82" Type="http://schemas.openxmlformats.org/officeDocument/2006/relationships/slide" Target="slides/slide57.xml"/><Relationship Id="rId83" Type="http://schemas.openxmlformats.org/officeDocument/2006/relationships/slide" Target="slides/slide58.xml"/><Relationship Id="rId84" Type="http://schemas.openxmlformats.org/officeDocument/2006/relationships/slide" Target="slides/slide59.xml"/><Relationship Id="rId85" Type="http://schemas.openxmlformats.org/officeDocument/2006/relationships/slide" Target="slides/slide60.xml"/><Relationship Id="rId86" Type="http://schemas.openxmlformats.org/officeDocument/2006/relationships/slide" Target="slides/slide61.xml"/><Relationship Id="rId87" Type="http://schemas.openxmlformats.org/officeDocument/2006/relationships/slide" Target="slides/slide62.xml"/><Relationship Id="rId88" Type="http://schemas.openxmlformats.org/officeDocument/2006/relationships/slide" Target="slides/slide63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DFE-F131-4939-B9E7-55E6C6B5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B7C-1EC2-4418-8D00-C8C21FB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6603C-DFF3-4C01-AF59-A2FAE20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1EEB2-12CB-4F26-957A-884179D7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D37F-A922-4504-8DCA-8D2EC692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6619-163D-4A06-AD82-DA259AC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31C95-4A61-46E3-AF40-C9860CC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FCD83-41EB-47FD-AB71-3633A77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DBD8C-27B9-4BA0-8584-D296DDD7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1A95F-9677-4A75-BFBD-CE328D78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50B3B-AB16-4DE4-B702-6796A22B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A5748-BF48-4FCB-82E5-32D944FA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9D7-4F30-4AF5-A5C6-97D8AAE3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669B2-8814-42F2-A854-627E304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76677-43E7-4289-BC3D-2993845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E798C-DDE7-4F66-9917-85F3C0F3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0E09C-F644-42F5-BDFE-6DAA40E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30AE9-F845-4C90-AC4A-CB89021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1D446-049A-42F0-A336-585653C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FE4B6-CB0D-4F38-8C80-E119D87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991FE-21C6-4661-AA7E-FF79FDF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94DDD-A8A2-41EB-BA19-BAE7289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0C7F5-2691-4A07-A6AF-4A0E03A1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E7A-43B4-4407-B353-901022FA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CB42-DE49-44A2-82A7-BFB538FE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C60B-DEE6-4BED-B0FF-6AA8EC8E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3412B-8407-41A7-9B71-85F8C0E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094E7-AFE3-4763-8498-6E59191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FEE55-FD65-4A1D-934E-751B841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581B6-7CAA-42BE-83AF-BB7BD1E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080B7-7B79-4F3C-AD11-713EC5D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FEE8A-A443-4281-AFE0-3E13E43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B4EAD-8AEF-4DCC-8937-911445B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A787-B527-4826-BEBD-EAC08986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A4C-F6D3-475E-80FA-033B311A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27D0-9AEC-4227-BF3A-C6CE2FC1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51B7-0152-4493-A435-007D8FB3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ADE76-4BD4-488B-8AE7-582C45B6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2C29F-E6A7-4651-AFF3-9EBD0733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4EF5-EFB4-48DD-8BEF-91F5320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C1F2C-7E08-4431-9D32-4D928283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31AB6-6689-4A7F-82B6-EAEB14B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CC1C9-6EBE-460D-968D-7C63184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18839-9E85-4B37-915F-C6090B7C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48C32-29A6-4285-9516-6FFFA11B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D0A9-5367-4DBD-939E-37EBDA0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548D3-F3D6-466D-B370-F2B52B2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20CF-8B65-4F93-A76C-D3D6D45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44755-AA83-480A-B930-2C035D1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83E84-391D-4597-82BA-6FA6725B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8465A-5FD5-40EF-9725-4D4D2538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B687E-6102-40CB-A470-8D63C04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89C93-BED3-4610-B895-3A759E7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B7627-EFA7-444F-A6AB-E378825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A4593-0813-46E1-979F-C4609394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C029E-32D9-4BA6-B0FA-329FA892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4BAA-AC48-4CC4-83B4-F16E945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5D7B3-E987-46B6-BE4E-AF450377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1BF71-22D5-4C68-A5A9-8A680F2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DA4F0-0E87-4496-9947-289F8FC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FFF3F-0AA2-476E-9448-BEF76CD7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B16AF-4EC8-4241-B5B3-2C950BA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5BF7B-7282-4B3C-84E4-A143BDEC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C3726-974F-4312-87BF-271F529D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C7C2F-0909-4C53-AF64-FFB6DCCD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79D33-BAE1-45C7-A140-A15D692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2CC4E-5790-439E-B913-C926B6A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7B5-06B9-4F46-A4A6-9F9D5D1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01C84-DFA2-4A59-AF83-7312183C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4B3B7-208B-477F-A80E-E8D0302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94815-A271-402A-9669-013D9FA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3703A-0080-4D01-B16F-0FA3DA7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A56CF-D6EA-4434-B302-D108A61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AE795-1172-4C8A-87F6-4619EE4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27641-0FFD-47AB-9FE7-6C9BCFC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36311-FCB9-4260-9F8F-E8CD9457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4E319-BD81-4610-89B4-CF611741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44C7B-542F-4E2C-8F2A-B4AB58E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1A29-50B7-415C-A2C5-2FE0B260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C6409-5404-4464-83DA-B109FFC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383CB-4FBD-40FE-ACB9-11B10CB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BE61E-8DF6-43D1-B21F-888E34D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E3A22-F52C-4910-AAF4-0E8A79D1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F4FA9-C0A8-4265-A751-23BC6A08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A0BE1-9B08-4B1E-B3E5-6E83367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62E58-2F37-4F38-AD1E-F41A129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7257E-78C6-497B-B551-8A964A6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B5FA9-5330-41BA-818B-97515ED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77A6D-2CE6-46CC-AA30-722866D5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48C3-F673-48C5-88EC-53473D0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F8679-93E0-4870-B9E8-E5F5FE42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F179D-4790-465C-B5DB-F597C27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692B7-F40D-4CAA-AD2E-D718081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D3760-EE95-4F40-A746-B629F566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529C1-CF79-4BA4-AA01-C72E33B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3A6C6-BB27-4BED-A787-F0CBE34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0FD8C-96AA-44DD-B4C3-2A8881C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3F837-3512-4E7A-A9C8-D5C54BB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7F696-7C27-467E-B14C-DA88999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C6469-E086-45B5-A3FD-AEE74B7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D80A-A641-47A3-B7ED-441CFAF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85B7E-09F4-4613-8031-7BB0D89E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FC108-6607-436F-8D8E-38885C0F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58527-1F1B-4AB7-8C86-4B54B99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335F6-2991-45BD-9588-F60C215D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3C49F-35EC-417B-8204-7C9DCE4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6D0BB-5780-4572-98FB-65096168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F4D00-22A8-410C-BC02-4E1F40B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911D4-F6F9-4AB8-9424-B2945C1F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EE55A-A797-474D-B212-9EF4212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55C14-9014-4F29-892D-A84A8D3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AA0-77B2-41E1-8AFB-C1A9F0A0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E2A-9491-44EA-B062-BA9BA5D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A979C-AF92-493A-A08D-B2C3FED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08954-E618-4952-A89F-604668D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ADE67-8E62-4086-94B4-12973812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51B77-9222-496B-8E2E-9309650D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16D5C-A73F-4C6D-A5B4-DF425C78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254F8-1335-4EDC-BF81-B1939C4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1038C-7247-4E09-9BD2-6FD1256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05389-B4C9-407F-B80F-F58524AB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9623B-6F8E-41DF-902F-D577C5C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C7DF7-BB59-4884-948E-9D723807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97BA-B011-4034-AE8F-99BFAB4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BDAAB-0C47-4EED-9297-9790F7B3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4805B-F524-4183-80B4-18555F3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37C2D-9477-49C7-B485-CBD9B6D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1D801-D0D7-4B30-B29D-79659FD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B7713-3699-4758-93EE-71EEC96D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19ADA-87CF-4F76-8AD2-A549AD01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E093D-5B52-4817-8825-DE06A05B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3ECBD-6C17-4637-8A5A-E3E6F1DC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910C8-4ECC-4DF8-A5F8-AEEAD0A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80B57-E42A-4484-8067-A48B34B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6E44-6E81-418A-B2D4-7D3FAB1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FC9E1-707F-4E91-91E8-1483C91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3FBE0-2CA4-487D-8249-6D9940D1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58B5C-C6D8-49E1-935B-A7C1474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F7503-5039-4CD3-B1FF-AFB59A9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4A338-48A6-43D8-9ED9-744DDA6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3EB09-1661-4E87-9324-6F688C0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15AF1-84FE-496A-8BDC-00CB49D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0D502-D255-49D3-9526-3623DCF1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B60DB-A4FD-44A9-BD70-27A2C1D4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30D19-E293-4161-A8B0-D66D836D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591C-108D-4FE7-BDFA-BE5C319F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931F1-9045-464C-B6C7-5D1CA47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4A894-7ED1-4ABB-85CA-1A926FEE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75183-3208-4687-826E-84BEBA1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9430C-2874-4376-B205-D9C673D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29591-CCC7-49F7-BB44-7E2BB17F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4FA79-C261-477D-B359-643277A8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5CBF9-3D43-4C70-A7D2-16E4840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D324C-FE29-4DDA-9CFE-B3902DB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CA450-9E86-41F8-8BDE-2F38DE82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32972-CCC5-4086-BBEB-976C9548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7B4-43D5-42A7-9BE2-96007E12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39DCB-65ED-426F-880A-FFE46D7E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2836B-3917-4522-933F-46252EBF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A13F3-DC18-4247-BCA9-1A5045A0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1D035-744B-4A41-A8AF-AE15E66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1F1FB-37BB-40FA-8125-33AC87ED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4709C-30BC-453A-8494-18743B2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D1C92-BCC8-4CF4-9873-2121D67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4D2FC-1158-4DD9-A129-0F76FCE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1A3E4-CFFF-43F4-A9BE-D310A2B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2F765-608A-4A23-835D-1B56780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546A-145C-4EFE-9E97-BFFECE9C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26136-6DF8-4E4C-9019-4FBEAAB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B103C7-FBF9-4EB5-87BA-93B46E22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CD355-1FBB-4B1C-8143-BC03E0D5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16C7D1-6734-4593-A64C-23C1AB9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54CD3-D889-4735-894B-AD5F4284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F6DB1-6D40-44DB-8D5C-A168B5B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5207E-58B3-42E6-92A3-9E31513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A00F13-0651-4285-91C8-B3F83FA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5CE39-7DEB-4D7D-9195-584101E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CE20C-F2E1-4452-A903-06A0A72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07E5-AD79-4149-AC3E-BF66C6FF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0B0DC-790B-45A5-B70C-16FFC270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3089A-0F37-485F-8CDC-C877DCF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830DF-3018-4F2A-B022-2F6A8CE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6BAE9-7B17-469F-BBDB-7B5157A7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084C0-1300-49E4-B30C-6D48143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CF110-DE98-443E-B322-E12EA4E2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C2766-BC9C-44F3-ACE2-22AB2FBE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F82D4B-E2CD-41FC-B13B-FBE54ED9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055784-3C3D-49A5-85EE-35FAEDE5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6987B-0BA1-4648-9C34-D302B1D9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C6FB-1ABB-49D4-8075-E20431A9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A11C2-7F6B-4D8F-9B41-3BD7FCFF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BF829-9415-4AD5-80A0-CCCA31B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B0AA2-905C-4216-AC22-F46CA8F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ACD13-83B5-406E-843D-26C1A3E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08F7F-790D-4597-B7B4-482CCEBC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9997D2-9879-42F1-93A1-AEBC9894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023C5B-B1C9-4FD3-8CA1-050E6D4B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C35B0-80F7-4030-92A9-B30A13F2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B6EBF-BDBF-4ECB-BB44-96A355A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5469F-A5D4-4BF5-BDC3-486B5A87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61AC-D97E-4443-9FE6-B7C858AC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DB22E0-A1D8-47D2-BBD1-97FA58F7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6A254C-3ED4-4553-8F35-0CC6B951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A69A59-B198-473B-8108-9B27DFFF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BB3E2C-DD40-4AB3-BAA7-CE88491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59EBE-3EF5-456F-8792-4AC9EE1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4FAD02-3EFB-4D34-BDF2-B25B963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A0C30E-4B1B-4D39-B1D0-D477D82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C5DEA-E766-4037-88ED-E7D61CD4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BC291-5586-4489-8BF7-6DC74151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D48C-A299-4636-A3E5-6E0E8F0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280-69E4-4962-BB5A-FC48F03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4D27-976C-4209-9E9A-819560E7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A08C-CEC4-4647-B82C-60AAD93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E3CD-37BA-4BA3-BA60-94811F0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D0B1-059C-47BC-A90E-0327688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A2A6-DFFD-40AB-84D9-587D7B4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58F3-4213-4919-BE56-2D24CCE5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EE2D-D03D-48D7-AC40-464412B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18BA-288E-4248-89D3-17E9460B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846A-BC5A-4C01-9E84-5D68242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F594-7B64-44B3-88E4-5B58821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762-9C9D-4592-A3FE-25B70373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9223-D227-4C74-BF51-EDF1831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51EC-D191-4031-A757-0CEC5A5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3354-4058-49DE-A560-A32646B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031D-EF1C-4956-8139-3F439F7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188E-1D98-4109-A660-FA34588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6CB6-8EFC-4907-94A6-040929B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2D207-3E31-49C0-B6CB-B678689B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B1A6-B871-444A-A09F-85665032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0B17-C6D2-4936-A010-F5F938FE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23FA-A190-4757-81DB-0488C191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17B-03A3-4E34-83CE-66B64260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F9AF-A92C-4AA8-858F-DB350D5F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D2C4-FAD4-473D-A174-141E10F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4D36-8E57-48D4-BF92-4743434D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8E18-8078-490A-A162-211CD8E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BD40-2EDE-4940-90D5-90EF6C4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A2794-D3F8-440E-8F6E-5E3C826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BF7D-0AA8-4866-BC04-05F9725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4985-6159-4198-B98B-D521147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D52A-7B55-40EE-9315-700E92D0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B4F0-1D6E-41FE-8528-51550D2A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2B4-D3A8-4BA6-B2FB-24D1EC6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CC11-B65F-42D9-B4EC-C707B548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25A2-5158-47D7-BAB1-3379748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9E76-0CCF-4FD7-B8D8-7215137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3FA0-35D8-4256-AC20-B68880A2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9BFE-1C87-4922-8DF6-ABA285B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B914-6924-41E7-8F88-F65A0ADC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162DC-3E52-4C33-B209-AB4AC4D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6749B-E53D-44AB-8796-0DC2B22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D2FC-9BD9-4108-A4B3-A79B8E5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8769-7939-4461-A2E9-42C5FBD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889-3909-4886-BB28-941FD03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9229-0ED7-429E-BDBE-330C616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88FD-B6FD-4BDA-AF71-657A186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50FD-2A0A-4D9E-8404-B3EACB57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D3886-5854-403F-B3D3-4AB563E1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7AB6-FF4B-4E63-9FD0-DAD1DE10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67EB-D062-4A05-8098-1FF88F6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3833-B02D-4CFE-87F1-4F0F726A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B33E-7C23-49CC-9EDB-77C84C1E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B25E2-5727-4AF9-A738-BB3B3FD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FD84-7041-4CD2-A79E-0D52C1C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CDE-30E6-4858-BE97-2F14855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18EA7-FC59-4122-976D-8784C86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292E-A4A5-4FFE-90A2-D3ADA7E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A091-DD95-4A59-9B41-B02BC2E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4876-B524-4779-A0BB-A44F8D16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2523-9D0D-439B-9110-9DE56B0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EB2E5-02FD-4AEC-BB2C-AA22DC6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FD4CF-EE76-428B-BBE3-EC141E3A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AEEA5-6DAB-44D6-BC72-B8AC7674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062A-D504-4707-A3AB-06CBCC6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A0B4-3E0E-482B-AD46-78E30B0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6DE-2302-4AA3-B37D-755F7988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2B83-B37F-4CF2-BBED-7A70FF6D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8B2D-4419-4908-8B68-61E251C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425A-E132-4FC5-B4EF-B32B87D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500B-385D-41D3-A65F-12B8FF4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0735-9863-4AFB-852F-8C877F4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4A94-D4C1-4819-8371-83D56357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70CE-6B43-481C-81B8-1C20D9FC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7353E-9309-4D8D-A736-1E80C2BA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DF3A-7F70-43E3-BD7F-ADC6A5F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FD437-3C1F-4210-B52E-0EEB946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315-7810-4B66-A643-892E2E6CF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D56-0AC7-4341-AA0C-8F0E70034A03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2419-E860-4F25-B80F-33DA415AA029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637-4973-4F92-BF69-A56AFE3793AD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D05-A4B7-4C09-949C-0206FAA844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994-621E-46FB-BFC5-98B28E2544D7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26C-40CB-4AFD-AE7D-57B49DD2D006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3F75-FFCE-4403-9BDD-1326FC649DBC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6E02-C696-43E6-B029-B5F485EF18D8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3C3-59C9-42BA-8AA3-F62C15ED098C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8BB-5894-4BDF-A919-495F07CF8E76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A8F-C323-410B-AF77-F76C149DC8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3E80-D282-43A3-A619-B2FEAAB9D582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7CB-2563-40B4-8C19-85047C5F920D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659-7429-4CB5-834B-349EAD1B586A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ED2-FDD4-48CD-A30E-99D41A83E789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64F-5AFB-454C-AA4F-EFBAF289C9ED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2B41-BDDD-4B68-83AC-989F08F5A8DF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618C-5120-442A-B952-414D278AE974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22C-D406-4532-B8D4-746018949E24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B780-B82E-44EE-83AB-8C68D4BE9E8A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B19-6BD6-47D8-95DB-D753EE5F411A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0CE-79FF-453C-BE93-9F116B3309A0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8D1-A905-4BD9-8337-6B0C7CCA2520}" type="slidenum">
              <a:rPr b="0" lang="zh-CN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8" descr="语文首页面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5"/>
          <p:cNvSpPr/>
          <p:nvPr/>
        </p:nvSpPr>
        <p:spPr>
          <a:xfrm>
            <a:off x="1476360" y="28908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钓鱼的启示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模板下载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1619280" y="98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小学语文（人教版）五年级 上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6"/>
          <p:cNvSpPr/>
          <p:nvPr/>
        </p:nvSpPr>
        <p:spPr>
          <a:xfrm>
            <a:off x="155160" y="646596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3"/>
          <p:cNvSpPr/>
          <p:nvPr/>
        </p:nvSpPr>
        <p:spPr>
          <a:xfrm>
            <a:off x="539640" y="822240"/>
            <a:ext cx="8172720" cy="56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  饵   溅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钩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翼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  啪   鳃   皎  唇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  诱   诫   践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钩   钓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3"/>
          <p:cNvSpPr/>
          <p:nvPr/>
        </p:nvSpPr>
        <p:spPr>
          <a:xfrm>
            <a:off x="539640" y="822240"/>
            <a:ext cx="817272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  饵   溅   钩  翼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  啪   鳃   皎  唇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  诱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践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3"/>
          <p:cNvSpPr/>
          <p:nvPr/>
        </p:nvSpPr>
        <p:spPr>
          <a:xfrm>
            <a:off x="539640" y="822240"/>
            <a:ext cx="817272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  饵   溅   钩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翼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  啪   鳃   皎  唇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  诱   诫   践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3"/>
          <p:cNvSpPr/>
          <p:nvPr/>
        </p:nvSpPr>
        <p:spPr>
          <a:xfrm>
            <a:off x="504720" y="620640"/>
            <a:ext cx="88203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近字组词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诫（      ）  皎（     ）  诱（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械（      ）  饺（     ）  锈（      ）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（      ）  抉（     ）  践（      ）  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惧（      ）  决（     ）  溅（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3"/>
          <p:cNvSpPr/>
          <p:nvPr/>
        </p:nvSpPr>
        <p:spPr>
          <a:xfrm>
            <a:off x="576360" y="620640"/>
            <a:ext cx="8820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近字组词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诫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告 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 皎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皎 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诱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诱 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械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机 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 饺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饺 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锈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生 锈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沮 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 抉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抉 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践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实 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 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惧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惧 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 决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决 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溅（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溅 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3"/>
          <p:cNvSpPr/>
          <p:nvPr/>
        </p:nvSpPr>
        <p:spPr>
          <a:xfrm>
            <a:off x="395280" y="549360"/>
            <a:ext cx="8424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书要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读课文的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生读课文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读课文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读课文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读边思，所读的部分讲的是什么意思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1026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21" name="Text Box 1027"/>
          <p:cNvSpPr/>
          <p:nvPr/>
        </p:nvSpPr>
        <p:spPr>
          <a:xfrm>
            <a:off x="395280" y="620640"/>
            <a:ext cx="84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有一天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父亲去钓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到了一条大鲈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由于离捕捞鲈鱼开放的时间还差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小时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父亲的要求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掉了那条大鲈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钓鱼中得到的启示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23" name="Text Box 3"/>
          <p:cNvSpPr/>
          <p:nvPr/>
        </p:nvSpPr>
        <p:spPr>
          <a:xfrm>
            <a:off x="755640" y="981000"/>
            <a:ext cx="8064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鱼的启示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          父（放）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3"/>
          <p:cNvSpPr/>
          <p:nvPr/>
        </p:nvSpPr>
        <p:spPr>
          <a:xfrm>
            <a:off x="395280" y="620640"/>
            <a:ext cx="84247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有一天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父亲去钓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到了一条大鲈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由于离捕捞鲈鱼开放的时间还差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小时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父亲的要求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掉了那条大鲈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钓鱼中得到的启示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内容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3"/>
          <p:cNvSpPr/>
          <p:nvPr/>
        </p:nvSpPr>
        <p:spPr>
          <a:xfrm>
            <a:off x="395280" y="549360"/>
            <a:ext cx="842472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内容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十四年前，鲈鱼捕捞开放日的前一个夜晚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父亲去钓鱼。由于距离开放捕捞鲈鱼的时间还有两个小时，父亲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好不容易钓到的一条大鲈鱼放回湖中，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中获得终生的启示的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矩形 6"/>
          <p:cNvSpPr/>
          <p:nvPr/>
        </p:nvSpPr>
        <p:spPr>
          <a:xfrm>
            <a:off x="1073160" y="83664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90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3"/>
          <p:cNvSpPr/>
          <p:nvPr/>
        </p:nvSpPr>
        <p:spPr>
          <a:xfrm>
            <a:off x="1403280" y="476280"/>
            <a:ext cx="66960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上渔者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「宋」范仲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 上 往 来 人 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 爱 鲈 鱼 美 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 看 一 叶 舟 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没 风 波 里 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29" name="Text Box 3"/>
          <p:cNvSpPr/>
          <p:nvPr/>
        </p:nvSpPr>
        <p:spPr>
          <a:xfrm>
            <a:off x="395280" y="549360"/>
            <a:ext cx="842472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内容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十四年前，鲈鱼捕捞开放日的前一个夜晚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父亲去钓鱼。由于距离开放捕捞鲈鱼的时间还有两个小时，父亲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好不容易钓到的一条大鲈鱼放回湖中，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中获得终生的启示的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并法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3"/>
          <p:cNvSpPr/>
          <p:nvPr/>
        </p:nvSpPr>
        <p:spPr>
          <a:xfrm>
            <a:off x="395280" y="549360"/>
            <a:ext cx="84247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诱惑人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是什么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德只是个简单的是与非的问题，实践起来却很难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395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c1c1c"/>
                </a:solidFill>
                <a:uFillTx/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7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34" name="Text Box 3"/>
          <p:cNvSpPr/>
          <p:nvPr/>
        </p:nvSpPr>
        <p:spPr>
          <a:xfrm>
            <a:off x="324000" y="476280"/>
            <a:ext cx="8496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人生的旅途中，我却不止一次地遇到了与那条鲈鱼相似的诱惑人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当我一次次地面临道德抉择的时候，就会想起父亲曾告诫我的话：道德只是个简单的是与非的问题，实践起来却很难。把钓到的大鲈鱼放回湖中，一个人要是从小受到这样严格的教育的话，就会获得道德实践的勇气和力量。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36" name="Text Box 3"/>
          <p:cNvSpPr/>
          <p:nvPr/>
        </p:nvSpPr>
        <p:spPr>
          <a:xfrm>
            <a:off x="250920" y="549360"/>
            <a:ext cx="89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：（在括号里填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垃圾应该扔进垃圾箱。                （   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课的时候要专心听讲，积极动脑，踊跃发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路上捡到一元钱，自己买食品吃 。   （   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卷上有一道题我做错了，可老师没有扣分，我不能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老师。                          （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鲈鱼开放捕捞的时间还差两个小时，我钓到了一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鲈鱼，应该把它放回去。            （   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3"/>
          <p:cNvSpPr/>
          <p:nvPr/>
        </p:nvSpPr>
        <p:spPr>
          <a:xfrm>
            <a:off x="179280" y="54936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：（在括号里填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垃圾应该扔进垃圾箱。                （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课的时候要专心听讲，积极动脑，踊跃发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路上捡到一元钱，自己买食品吃 。   （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卷上有一道题我做错了，可老师没有扣分，我不能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老师。                          （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鲈鱼开放捕捞的时间还差两个小时，我钓到了一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鲈鱼，应该把它放回去。            （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3"/>
          <p:cNvSpPr/>
          <p:nvPr/>
        </p:nvSpPr>
        <p:spPr>
          <a:xfrm>
            <a:off x="395280" y="549360"/>
            <a:ext cx="8497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是非易断，可实践起来却不那么容易了。文中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如此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大家认真阅读课文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找一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理由，并在旁边批上自己的理解。记住，不动笔墨不读书！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6" descr="语文内3"/>
          <p:cNvPicPr/>
          <p:nvPr/>
        </p:nvPicPr>
        <p:blipFill>
          <a:blip r:embed="rId1"/>
          <a:stretch/>
        </p:blipFill>
        <p:spPr>
          <a:xfrm>
            <a:off x="-32220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3"/>
          <p:cNvSpPr/>
          <p:nvPr/>
        </p:nvSpPr>
        <p:spPr>
          <a:xfrm>
            <a:off x="324000" y="333360"/>
            <a:ext cx="84960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完后，试着把这句话补充完整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让我把刚钓到的鲈鱼放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去，实在是太难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3" name="Line 4"/>
          <p:cNvSpPr/>
          <p:nvPr/>
        </p:nvSpPr>
        <p:spPr>
          <a:xfrm>
            <a:off x="4140360" y="378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3"/>
          <p:cNvSpPr/>
          <p:nvPr/>
        </p:nvSpPr>
        <p:spPr>
          <a:xfrm>
            <a:off x="1116000" y="476280"/>
            <a:ext cx="763272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钓鱼的启示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（难）      父亲（放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不易              喜欢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差两小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知晓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3"/>
          <p:cNvSpPr/>
          <p:nvPr/>
        </p:nvSpPr>
        <p:spPr>
          <a:xfrm>
            <a:off x="1116000" y="476280"/>
            <a:ext cx="763272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钓鱼的启示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（难）      父亲（放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不易              喜欢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差两小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知晓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3"/>
          <p:cNvSpPr/>
          <p:nvPr/>
        </p:nvSpPr>
        <p:spPr>
          <a:xfrm>
            <a:off x="468360" y="333360"/>
            <a:ext cx="842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好长时间，鱼竿突然剧烈地抖动了一下，一定是个大家伙上钩了。我小心翼翼地一收一放，熟练地操纵着。也许是鱼想摆脱我的鱼钩，不停地甩动着鱼尾并跳跃着，湖面上不时发出“啪啪”的声音，溅起了不少水花。我等那条鱼挣扎得筋疲力尽了，迅速把它拉上岸来。啊，好大的鱼！我从来没有见过这么大的鲈鱼。我和父亲得意地欣赏着这条漂亮的大鲈鱼，看着鱼鳃在银色的月光下轻轻翕动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3"/>
          <p:cNvSpPr/>
          <p:nvPr/>
        </p:nvSpPr>
        <p:spPr>
          <a:xfrm>
            <a:off x="1403280" y="476280"/>
            <a:ext cx="66960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上渔者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「宋」范仲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 上 往 来 人 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 爱 鲈 鱼 美 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 看 一 叶 舟 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没 风 波 里 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6372360" y="3213000"/>
            <a:ext cx="277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味道鲜美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受人欢迎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捕捞辛苦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3"/>
          <p:cNvSpPr/>
          <p:nvPr/>
        </p:nvSpPr>
        <p:spPr>
          <a:xfrm>
            <a:off x="468360" y="333360"/>
            <a:ext cx="84247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好长时间，鱼竿突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剧烈地抖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一下，一定是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家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上钩了。我小心翼翼地一收一放，熟练地操纵着。也许是鱼想摆脱我的鱼钩，不停地甩动着鱼尾并跳跃着，湖面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时发出“啪啪”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溅起了不少水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我等那条鱼挣扎得筋疲力尽了，迅速把它拉上岸来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啊，好大的鱼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从来没有见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鲈鱼。我和父亲得意地欣赏着这条漂亮的大鲈鱼，看着鱼鳃在银色的月光下轻轻翕动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大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3"/>
          <p:cNvSpPr/>
          <p:nvPr/>
        </p:nvSpPr>
        <p:spPr>
          <a:xfrm>
            <a:off x="468360" y="333360"/>
            <a:ext cx="842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好长时间，鱼竿突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剧烈地抖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一下，一定是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家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上钩了。我小心翼翼地一收一放，熟练地操纵着。也许是鱼想摆脱我的鱼钩，不停地甩动着鱼尾并跳跃着，湖面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时发出“啪啪”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溅起了不少水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我等那条鱼挣扎得筋疲力尽了，迅速把它拉上岸来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啊，好大的鱼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从来没有见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的鲈鱼。我和父亲得意地欣赏着这条漂亮的大鲈鱼，看着鱼鳃在银色的月光下轻轻翕动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大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3"/>
          <p:cNvSpPr/>
          <p:nvPr/>
        </p:nvSpPr>
        <p:spPr>
          <a:xfrm>
            <a:off x="468360" y="333360"/>
            <a:ext cx="84247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好长时间，鱼竿突然剧烈地抖动了一下，一定是个大家伙上钩了。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心翼翼地一收一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熟练地操纵着。也许是鱼想摆脱我的鱼钩，不停地甩动着鱼尾并跳跃着，湖面上不时发出“啪啪”的声音，溅起了不少水花。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那条鱼挣扎得筋疲力尽了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迅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拉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岸来。啊，好大的鱼！我从来没有见过这么大的鲈鱼。我和父亲得意地欣赏着这条漂亮的大鲈鱼，看着鱼鳃在银色的月光下轻轻翕动着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钓鱼不易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57" name="Text Box 3"/>
          <p:cNvSpPr/>
          <p:nvPr/>
        </p:nvSpPr>
        <p:spPr>
          <a:xfrm>
            <a:off x="395280" y="476280"/>
            <a:ext cx="849636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无人知晓的情况下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费了九牛二虎之力，好不容易才钓到了一条令父亲也得意地欣赏的大鲈鱼，可仅仅因为离捕捞鲈鱼开放的时间只差两个小时，父亲竟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它放掉，我怎么会心甘情愿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两位同学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我”和父亲对话的段落，体会“我”当时的心情。其他同学听后来评一评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图片2"/>
          <p:cNvPicPr/>
          <p:nvPr/>
        </p:nvPicPr>
        <p:blipFill>
          <a:blip r:embed="rId2"/>
          <a:stretch/>
        </p:blipFill>
        <p:spPr>
          <a:xfrm>
            <a:off x="324000" y="3573360"/>
            <a:ext cx="8569080" cy="266400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4"/>
          <p:cNvSpPr/>
          <p:nvPr/>
        </p:nvSpPr>
        <p:spPr>
          <a:xfrm>
            <a:off x="395280" y="549360"/>
            <a:ext cx="8352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盯着鲈鱼看了好一会儿，然后把目光转向了我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，你得把它放回湖里去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！为什么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急切地问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会钓到别的鱼的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平静地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不会钓到这么大的鱼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大声争辩着，竟然哭出了声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3"/>
          <p:cNvSpPr/>
          <p:nvPr/>
        </p:nvSpPr>
        <p:spPr>
          <a:xfrm>
            <a:off x="395280" y="476280"/>
            <a:ext cx="849636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，不只是读书上的文字，重要的是要读出文字向我们展现的情景，读出文字没有直接告诉我们的内容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大家先看文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我”说的话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3"/>
          <p:cNvSpPr/>
          <p:nvPr/>
        </p:nvSpPr>
        <p:spPr>
          <a:xfrm>
            <a:off x="324000" y="1484280"/>
            <a:ext cx="849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大得难得，又是那么漂亮，所以我急切地问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66" name="Text Box 3"/>
          <p:cNvSpPr/>
          <p:nvPr/>
        </p:nvSpPr>
        <p:spPr>
          <a:xfrm>
            <a:off x="324000" y="1484280"/>
            <a:ext cx="8496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大得难得，又是那么漂亮，所以我急切地问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爸爸！为什么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395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c1c1c"/>
                </a:solidFill>
                <a:uFillTx/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3"/>
          <p:cNvSpPr/>
          <p:nvPr/>
        </p:nvSpPr>
        <p:spPr>
          <a:xfrm>
            <a:off x="324000" y="1484280"/>
            <a:ext cx="84960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大得难得，又是那么漂亮，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切地问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钓上来是那么的不容易，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声争辩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3"/>
          <p:cNvSpPr/>
          <p:nvPr/>
        </p:nvSpPr>
        <p:spPr>
          <a:xfrm>
            <a:off x="324000" y="1484280"/>
            <a:ext cx="84960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大得难得，又是那么漂亮，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切地问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因为鲈鱼钓上来是那么的不容易，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声争辩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是不会钓到这么大的鱼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3"/>
          <p:cNvSpPr/>
          <p:nvPr/>
        </p:nvSpPr>
        <p:spPr>
          <a:xfrm>
            <a:off x="68436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的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启示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3"/>
          <p:cNvSpPr/>
          <p:nvPr/>
        </p:nvSpPr>
        <p:spPr>
          <a:xfrm>
            <a:off x="395280" y="981000"/>
            <a:ext cx="84963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得真好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就应该联系作者的心情，想象当时的情景，这样就能读好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图片2"/>
          <p:cNvPicPr/>
          <p:nvPr/>
        </p:nvPicPr>
        <p:blipFill>
          <a:blip r:embed="rId2"/>
          <a:stretch/>
        </p:blipFill>
        <p:spPr>
          <a:xfrm>
            <a:off x="324000" y="3716280"/>
            <a:ext cx="8569080" cy="252108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3"/>
          <p:cNvSpPr/>
          <p:nvPr/>
        </p:nvSpPr>
        <p:spPr>
          <a:xfrm>
            <a:off x="324000" y="476280"/>
            <a:ext cx="842472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父亲的表现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盯着鲈鱼看了好一会儿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想说：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把目光转向了我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，你得把它放回湖里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78" name="Text Box 3"/>
          <p:cNvSpPr/>
          <p:nvPr/>
        </p:nvSpPr>
        <p:spPr>
          <a:xfrm>
            <a:off x="395280" y="981000"/>
            <a:ext cx="849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现在把鱼带回家，就是贪小便宜；如果把鱼放回去，就是遵纪守法。其实，做人就应该诚实自律。不管有没有人在场，不管有什么样的看似合理的理由，这就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格要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80" name="Text Box 3"/>
          <p:cNvSpPr/>
          <p:nvPr/>
        </p:nvSpPr>
        <p:spPr>
          <a:xfrm>
            <a:off x="1116000" y="476280"/>
            <a:ext cx="77040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钓鱼的启示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（难）        父亲（放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不易                喜欢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差两小时              严格要求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知晓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82" name="Text Box 3"/>
          <p:cNvSpPr/>
          <p:nvPr/>
        </p:nvSpPr>
        <p:spPr>
          <a:xfrm>
            <a:off x="395280" y="981000"/>
            <a:ext cx="8496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现在把鱼带回家，就是贪小便宜；如果把鱼放回去，就是遵纪守法。其实，做人就应该诚实自律。不管有没有人在场，不管有什么样的看似合理的理由，这就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格要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，儿子的所有理由在父亲面前都不能成为理由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84" name="Text Box 3"/>
          <p:cNvSpPr/>
          <p:nvPr/>
        </p:nvSpPr>
        <p:spPr>
          <a:xfrm>
            <a:off x="395280" y="692280"/>
            <a:ext cx="849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儿子的争辩，面对儿子的乞求，父亲依然不容置疑地让他把鱼放回湖中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父亲，你喜欢吗？为什么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86" name="Text Box 3"/>
          <p:cNvSpPr/>
          <p:nvPr/>
        </p:nvSpPr>
        <p:spPr>
          <a:xfrm>
            <a:off x="396720" y="476280"/>
            <a:ext cx="84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让儿子把鱼放回湖中是那么坚决，但这位父亲是慈爱的。他理解儿子的心情，但是原则是没有办法妥协的，这才是一位真正爱孩子的父亲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88" name="Text Box 3"/>
          <p:cNvSpPr/>
          <p:nvPr/>
        </p:nvSpPr>
        <p:spPr>
          <a:xfrm>
            <a:off x="395280" y="112536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放掉了好不容易才钓到的大鲈鱼，“我”觉得遗憾吗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3"/>
          <p:cNvSpPr/>
          <p:nvPr/>
        </p:nvSpPr>
        <p:spPr>
          <a:xfrm>
            <a:off x="395280" y="692280"/>
            <a:ext cx="8748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放掉了好不容易才钓到的大鲈鱼，“我”觉得遗憾吗？（不遗憾）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是从哪里感受到的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3"/>
          <p:cNvSpPr/>
          <p:nvPr/>
        </p:nvSpPr>
        <p:spPr>
          <a:xfrm>
            <a:off x="396720" y="476280"/>
            <a:ext cx="8496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人生的旅途中，我却不止一次地遇到了与那条鲈鱼相似的诱惑人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我一次次地面临道德抉择的时候，就会想起父亲曾告诫我的话：道德只是个简单的是与非的问题，实践起来却很难。把钓到的大鲈鱼放回湖中，一个人要是从小受到这样严格的教育的话，就会获得道德实践的勇气和力量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94" name="Text Box 3"/>
          <p:cNvSpPr/>
          <p:nvPr/>
        </p:nvSpPr>
        <p:spPr>
          <a:xfrm>
            <a:off x="395280" y="54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见，这样严格的教育已经深入了作者的心灵。从这次钓鱼之后，他每天都是照着父亲的要求去做的。其间，他遇到了许多条与那条鲈鱼相似的诱人的“鱼”，你觉得这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指的是什么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96" name="Text Box 3"/>
          <p:cNvSpPr/>
          <p:nvPr/>
        </p:nvSpPr>
        <p:spPr>
          <a:xfrm>
            <a:off x="826920" y="1197000"/>
            <a:ext cx="8748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鱼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金钱、地位、名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98" name="Text Box 3"/>
          <p:cNvSpPr/>
          <p:nvPr/>
        </p:nvSpPr>
        <p:spPr>
          <a:xfrm>
            <a:off x="395280" y="549360"/>
            <a:ext cx="8497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为从小受到了把钓到的大鲈鱼放回湖中这样严格的教育，所以，当这些“鱼”来到我面前的时候，我总会想起父亲的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0" name="Text Box 3"/>
          <p:cNvSpPr/>
          <p:nvPr/>
        </p:nvSpPr>
        <p:spPr>
          <a:xfrm>
            <a:off x="468360" y="1484280"/>
            <a:ext cx="83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道德只是个简单的是与非的问题，实践起来却很难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1" name="Text Box 4"/>
          <p:cNvSpPr/>
          <p:nvPr/>
        </p:nvSpPr>
        <p:spPr>
          <a:xfrm>
            <a:off x="3952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c1c1c"/>
                </a:solidFill>
                <a:uFillTx/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3"/>
          <p:cNvSpPr/>
          <p:nvPr/>
        </p:nvSpPr>
        <p:spPr>
          <a:xfrm>
            <a:off x="395280" y="692280"/>
            <a:ext cx="8497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为从小受到了把钓到的大鲈鱼放回湖中这样严格的教育，获得了道德实践的勇气与力量，所以，“我”会怎么做呢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3"/>
          <p:cNvSpPr/>
          <p:nvPr/>
        </p:nvSpPr>
        <p:spPr>
          <a:xfrm>
            <a:off x="395280" y="620640"/>
            <a:ext cx="84978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”会坚决地把那些诱惑人的“鱼”全部放掉。人的一生要面临许多诱惑，要经过许多十字路口，在“我”不知该何去何从的时候，父亲的谆谆教导，总会使“我”获得道德实践的勇气与力量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3"/>
          <p:cNvSpPr/>
          <p:nvPr/>
        </p:nvSpPr>
        <p:spPr>
          <a:xfrm>
            <a:off x="395280" y="62064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次钓鱼，让作者留下了永久的回忆，这个故事，也让我们经历了一次道德的洗礼，受到了一次熏陶与感染，情感上产生了一种震撼，它也给了我们很多的启示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9" name="Text Box 3"/>
          <p:cNvSpPr/>
          <p:nvPr/>
        </p:nvSpPr>
        <p:spPr>
          <a:xfrm>
            <a:off x="395280" y="1197000"/>
            <a:ext cx="84978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你遇到过这样的“鱼”吗？你是怎么做的？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11" name="Text Box 3"/>
          <p:cNvSpPr/>
          <p:nvPr/>
        </p:nvSpPr>
        <p:spPr>
          <a:xfrm>
            <a:off x="395280" y="476280"/>
            <a:ext cx="84978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到同学的一支新笔特别喜欢，偷偷拿走后没有感到开心，在经过了思想斗争后又悄悄送还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坐公交车时，因想到自己要到终点站而没有给一位抱孩子的阿姨让座，感到惭愧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3"/>
          <p:cNvSpPr/>
          <p:nvPr/>
        </p:nvSpPr>
        <p:spPr>
          <a:xfrm>
            <a:off x="395280" y="47628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见，衡量一个人真正的道德，不是听他说得如何，而是要看他面对诱惑时做了什么？在无人知晓的时候又做了什么？因为非常的境遇才可以显出非常的气节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3"/>
          <p:cNvSpPr/>
          <p:nvPr/>
        </p:nvSpPr>
        <p:spPr>
          <a:xfrm>
            <a:off x="684360" y="1125360"/>
            <a:ext cx="8459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启示：</a:t>
            </a:r>
            <a:br>
              <a:rPr sz="60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启发指示，使有所领悟；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明白一些道理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3"/>
          <p:cNvSpPr/>
          <p:nvPr/>
        </p:nvSpPr>
        <p:spPr>
          <a:xfrm>
            <a:off x="250920" y="4762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的境遇可以显出非常的气节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─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莎士比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著名戏剧家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衡量真正的品德，是看他在知道没有人发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的时候做些什么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─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斯鸠（法国著名思想家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勿以善小而不为，勿以恶小而为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─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   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17" name="Text Box 3"/>
          <p:cNvSpPr/>
          <p:nvPr/>
        </p:nvSpPr>
        <p:spPr>
          <a:xfrm>
            <a:off x="395280" y="765000"/>
            <a:ext cx="84978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看来，在生活中，有许多规定，不管有没有人看见，有没有要求，我们都应该自觉遵守！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19" name="Text Box 3"/>
          <p:cNvSpPr/>
          <p:nvPr/>
        </p:nvSpPr>
        <p:spPr>
          <a:xfrm>
            <a:off x="1116000" y="476280"/>
            <a:ext cx="7704000" cy="53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的启示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（难）       父亲（放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不易              喜欢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差两小时            严格要求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知晓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 觉 遵 守 规 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21" name="Text Box 3"/>
          <p:cNvSpPr/>
          <p:nvPr/>
        </p:nvSpPr>
        <p:spPr>
          <a:xfrm>
            <a:off x="395280" y="549360"/>
            <a:ext cx="84978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富有哲理的名言，写下自己得到的启示，并和学习伙伴互相交流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2" name="Text Box 4"/>
          <p:cNvSpPr/>
          <p:nvPr/>
        </p:nvSpPr>
        <p:spPr>
          <a:xfrm>
            <a:off x="1116000" y="6669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 u="sng">
                <a:solidFill>
                  <a:srgbClr val="1c1c1c"/>
                </a:solidFill>
                <a:uFillTx/>
                <a:latin typeface="Verdana"/>
              </a:rPr>
              <a:t>整理发布，更多免费</a:t>
            </a:r>
            <a:r>
              <a:rPr b="1" lang="zh-CN" sz="1400" spc="-1" strike="noStrike" u="sng">
                <a:solidFill>
                  <a:srgbClr val="1c1c1c"/>
                </a:solidFill>
                <a:uFillTx/>
                <a:latin typeface="Verdana"/>
              </a:rPr>
              <a:t>PPT</a:t>
            </a:r>
            <a:r>
              <a:rPr b="1" lang="zh-CN" sz="1400" spc="-1" strike="noStrike" u="sng">
                <a:solidFill>
                  <a:srgbClr val="1c1c1c"/>
                </a:solidFill>
                <a:uFillTx/>
                <a:latin typeface="Verdana"/>
              </a:rPr>
              <a:t>模板下载请访问：</a:t>
            </a:r>
            <a:r>
              <a:rPr b="1" lang="zh-CN" sz="1400" spc="-1" strike="noStrike" u="sng">
                <a:solidFill>
                  <a:srgbClr val="1c1c1c"/>
                </a:solidFill>
                <a:uFillTx/>
                <a:latin typeface="Verdana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026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3" name="Text Box 1027"/>
          <p:cNvSpPr/>
          <p:nvPr/>
        </p:nvSpPr>
        <p:spPr>
          <a:xfrm>
            <a:off x="395280" y="620640"/>
            <a:ext cx="8532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字学习建议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借助文中的拼音，读准生字的字音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读文后回忆课文内容，组成词语说一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，再和同桌相互读一读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把读错的字用笔圈出来，再读一读；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就在旁边打个五角星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3"/>
          <p:cNvSpPr/>
          <p:nvPr/>
        </p:nvSpPr>
        <p:spPr>
          <a:xfrm>
            <a:off x="539640" y="822240"/>
            <a:ext cx="817272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鲈   饵   纵   鳃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翕   皎   唇   沮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抉   诫   践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5" descr="语文内3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3"/>
          <p:cNvSpPr/>
          <p:nvPr/>
        </p:nvSpPr>
        <p:spPr>
          <a:xfrm>
            <a:off x="539640" y="822240"/>
            <a:ext cx="817272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捞  饵   溅   钩  翼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  啪   鳃   皎  唇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  诱   诫   践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5:54:53Z</dcterms:created>
  <dc:creator/>
  <dc:description/>
  <cp:keywords>幻灯片之家 http:/www.eeppt.com</cp:keywords>
  <dc:language>en-US</dc:language>
  <cp:lastModifiedBy/>
  <dcterms:modified xsi:type="dcterms:W3CDTF">2015-07-20T01:47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