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6F8-48CC-4C46-928A-F3888810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A11-7A3F-4F90-8646-524DE7D9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F5D-CEEC-4A81-B6A8-868D70D9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7CF-B708-4B25-A6B6-DD20EA9F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0BA-810E-45C6-A83B-2DB4FE9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408-06F2-48EC-BB2B-9E9CC098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508-E97C-429A-8147-DF67F7C4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C88-6C14-4954-AB9F-E932531E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EAD-DD15-4654-ADD5-1D8E0518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BB5-ADD7-4D77-A851-D3A71CA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E72-5000-49C6-BD19-68F36ED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1BE-C47B-4D6A-8D90-D2C2DA5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B66-8F7C-4AB3-87F8-41E22DF6AE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116E-ABC3-4803-BAFE-6DBF040261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344600" y="5114880"/>
            <a:ext cx="1087560" cy="108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-2921040" y="5543640"/>
            <a:ext cx="1312920" cy="13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-2624040" y="4529160"/>
            <a:ext cx="101592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-1386000" y="6200640"/>
            <a:ext cx="798480" cy="8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-914400" y="2930400"/>
            <a:ext cx="655560" cy="657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3511440" y="3135240"/>
            <a:ext cx="887400" cy="88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-914400" y="2273400"/>
            <a:ext cx="65556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8"/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-6480" y="3610080"/>
            <a:ext cx="130500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00160" y="331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方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8 -1.02454 C 0.18767 -0.80023 0.08715 -0.38449 0.2243 -0.09051 C 0.35139 0.19282 0.62152 0.23264 0.871 0.0162 C 1.10468 -0.17894 1.12257 -0.5588 1.06059 -0.69213 C 1.02812 -0.80116 0.81475 -1.01898 0.59913 -0.83611 C 0.40139 -0.66991 0.37569 -0.36111 0.47569 -0.13356 E">
                                      <p:cBhvr>
                                        <p:cTn id="6" dur="17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9 -0.5625 C 1.25087 -1.01019 0.89479 -0.99931 0.55972 -0.92083 C 0.24045 -0.85208 0.20677 -0.45417 0.21615 -0.3 C 0.2474 -0.06667 0.38941 0.21019 0.68802 0.14167 C 0.96024 0.07546 0.96615 -0.25 0.86927 -0.44583 E">
                                      <p:cBhvr>
                                        <p:cTn id="11" dur="17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497 -0.42917 C 1.44514 -0.42917 1.10434 -0.15417 0.94184 -0.15834 C 0.77934 -0.1625 0.61372 -0.21667 0.52153 -0.32917 E">
                                      <p:cBhvr>
                                        <p:cTn id="19" dur="1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0174 -0.90764 C 1.20139 -0.90787 0.94583 -0.86667 0.8658 -0.60509 C 0.78611 -0.34352 0.85226 -0.31597 0.83698 -0.23426 E">
                                      <p:cBhvr>
                                        <p:cTn id="29" dur="1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246 0.5875 C 1.13316 0.58727 1.24218 0.1162 1.05121 -0.10718 C 0.85937 -0.32847 0.796 -0.21806 0.73055 -0.27107 E">
                                      <p:cBhvr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239 -0.67384 C 1.02152 -0.67407 0.84948 -0.23727 1.00677 0.02893 C 1.1651 0.29352 1.24218 0.20046 1.29948 0.26852 E">
                                      <p:cBhvr>
                                        <p:cTn id="49" dur="1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927 -0.72361 C 0.45295 -0.55579 0.48802 -0.45996 0.42656 -0.36528 C 0.36441 -0.2706 0.22864 -0.05255 -0.08507 -0.03542 E">
                                      <p:cBhvr>
                                        <p:cTn id="59" dur="1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344 -0.71736 C 1.06754 -0.54653 0.32344 0.03241 -2.5E-006 -0.00047 E">
                                      <p:cBhvr>
                                        <p:cTn id="69" dur="1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37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29 0.86736 C 0.93629 0.25069 0.13472 0.23356 -1.66667E-006 2.22222E-006 E">
                                      <p:cBhvr>
                                        <p:cTn id="76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8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47448 0.7243 C 0.50781 0.66967 0.31354 -0.01713 -8.33333E-007 2.22222E-006 E">
                                      <p:cBhvr>
                                        <p:cTn id="83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37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41042 -0.74931 C -0.42674 -0.58148 -0.45833 -0.37709 -0.33767 -0.31065 C -0.21684 -0.24375 -0.1125 -0.13264 0 2.22222E-006 E">
                                      <p:cBhvr>
                                        <p:cTn id="88" dur="1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90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69 -0.8132 C -1.02639 -0.91042 -0.27431 -0.08403 4.44444E-006 -0.00023 E">
                                      <p:cBhvr>
                                        <p:cTn id="95" dur="1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205 0.3618 C 0.33681 0.4169 0.31372 -0.01713 -4.72222E-006 2.22222E-006 E">
                                      <p:cBhvr>
                                        <p:cTn id="100" dur="1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0451 0.45764 C -0.62083 0.62546 -0.57083 0.35555 -0.49323 0.2912 C -0.41562 0.22685 -0.05017 0.30717 -3.88889E-006 2.22222E-006 E">
                                      <p:cBhvr>
                                        <p:cTn id="10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80" name="圆角矩形 29"/>
            <p:cNvSpPr/>
            <p:nvPr/>
          </p:nvSpPr>
          <p:spPr>
            <a:xfrm>
              <a:off x="1150920" y="547920"/>
              <a:ext cx="6931080" cy="3241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30"/>
            <p:cNvSpPr/>
            <p:nvPr/>
          </p:nvSpPr>
          <p:spPr>
            <a:xfrm>
              <a:off x="142092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31"/>
            <p:cNvSpPr/>
            <p:nvPr/>
          </p:nvSpPr>
          <p:spPr>
            <a:xfrm>
              <a:off x="362628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圆角矩形 34"/>
            <p:cNvSpPr/>
            <p:nvPr/>
          </p:nvSpPr>
          <p:spPr>
            <a:xfrm>
              <a:off x="583164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圆角矩形 39"/>
            <p:cNvSpPr/>
            <p:nvPr/>
          </p:nvSpPr>
          <p:spPr>
            <a:xfrm>
              <a:off x="2635920" y="367920"/>
              <a:ext cx="3960720" cy="45000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圆角矩形 40"/>
            <p:cNvSpPr/>
            <p:nvPr/>
          </p:nvSpPr>
          <p:spPr>
            <a:xfrm>
              <a:off x="171108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 41"/>
            <p:cNvSpPr/>
            <p:nvPr/>
          </p:nvSpPr>
          <p:spPr>
            <a:xfrm>
              <a:off x="391680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42"/>
            <p:cNvSpPr/>
            <p:nvPr/>
          </p:nvSpPr>
          <p:spPr>
            <a:xfrm>
              <a:off x="612216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3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44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45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46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7"/>
            <p:cNvSpPr/>
            <p:nvPr/>
          </p:nvSpPr>
          <p:spPr>
            <a:xfrm>
              <a:off x="1870920" y="98316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48"/>
            <p:cNvSpPr/>
            <p:nvPr/>
          </p:nvSpPr>
          <p:spPr>
            <a:xfrm>
              <a:off x="407628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49"/>
            <p:cNvSpPr/>
            <p:nvPr/>
          </p:nvSpPr>
          <p:spPr>
            <a:xfrm>
              <a:off x="628164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4680" y="6026040"/>
            <a:ext cx="9163080" cy="831960"/>
            <a:chOff x="4680" y="6026040"/>
            <a:chExt cx="9163080" cy="831960"/>
          </a:xfrm>
        </p:grpSpPr>
        <p:sp>
          <p:nvSpPr>
            <p:cNvPr id="303" name="矩形 26"/>
            <p:cNvSpPr/>
            <p:nvPr/>
          </p:nvSpPr>
          <p:spPr>
            <a:xfrm>
              <a:off x="4680" y="6038280"/>
              <a:ext cx="9163080" cy="81972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7"/>
            <p:cNvSpPr/>
            <p:nvPr/>
          </p:nvSpPr>
          <p:spPr>
            <a:xfrm>
              <a:off x="4680" y="602604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4400" y="4762440"/>
            <a:ext cx="9163080" cy="2115000"/>
            <a:chOff x="14400" y="4762440"/>
            <a:chExt cx="9163080" cy="2115000"/>
          </a:xfrm>
        </p:grpSpPr>
        <p:sp>
          <p:nvSpPr>
            <p:cNvPr id="313" name="矩形 8"/>
            <p:cNvSpPr/>
            <p:nvPr/>
          </p:nvSpPr>
          <p:spPr>
            <a:xfrm>
              <a:off x="5237280" y="4762440"/>
              <a:ext cx="1309320" cy="1308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32"/>
            <p:cNvSpPr/>
            <p:nvPr/>
          </p:nvSpPr>
          <p:spPr>
            <a:xfrm>
              <a:off x="14400" y="6059520"/>
              <a:ext cx="9163080" cy="8179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5"/>
            <p:cNvSpPr/>
            <p:nvPr/>
          </p:nvSpPr>
          <p:spPr>
            <a:xfrm>
              <a:off x="16200" y="60595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5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7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9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1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3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5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7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2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5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2" descr=""/>
          <p:cNvPicPr/>
          <p:nvPr/>
        </p:nvPicPr>
        <p:blipFill>
          <a:blip r:embed="rId2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317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4737240"/>
            <a:ext cx="9159840" cy="2116080"/>
            <a:chOff x="0" y="4737240"/>
            <a:chExt cx="9159840" cy="2116080"/>
          </a:xfrm>
        </p:grpSpPr>
        <p:sp>
          <p:nvSpPr>
            <p:cNvPr id="325" name="矩形 16"/>
            <p:cNvSpPr/>
            <p:nvPr/>
          </p:nvSpPr>
          <p:spPr>
            <a:xfrm>
              <a:off x="5220720" y="4737240"/>
              <a:ext cx="1308600" cy="130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7"/>
            <p:cNvSpPr/>
            <p:nvPr/>
          </p:nvSpPr>
          <p:spPr>
            <a:xfrm>
              <a:off x="0" y="6035040"/>
              <a:ext cx="9159840" cy="81828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25"/>
            <p:cNvSpPr/>
            <p:nvPr/>
          </p:nvSpPr>
          <p:spPr>
            <a:xfrm>
              <a:off x="1800" y="6035040"/>
              <a:ext cx="915588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8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9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1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2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606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5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5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5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8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5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2" dur="2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6" dur="2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5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0" dur="2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5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28" descr=""/>
          <p:cNvPicPr/>
          <p:nvPr/>
        </p:nvPicPr>
        <p:blipFill>
          <a:blip r:embed="rId2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-28440" y="6026040"/>
            <a:ext cx="9159840" cy="819720"/>
            <a:chOff x="-28440" y="6026040"/>
            <a:chExt cx="9159840" cy="819720"/>
          </a:xfrm>
        </p:grpSpPr>
        <p:sp>
          <p:nvSpPr>
            <p:cNvPr id="344" name="矩形 32"/>
            <p:cNvSpPr/>
            <p:nvPr/>
          </p:nvSpPr>
          <p:spPr>
            <a:xfrm>
              <a:off x="-28440" y="6026040"/>
              <a:ext cx="9159840" cy="8197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35"/>
            <p:cNvSpPr/>
            <p:nvPr/>
          </p:nvSpPr>
          <p:spPr>
            <a:xfrm>
              <a:off x="-26280" y="602604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-30240" y="4729320"/>
            <a:ext cx="9174600" cy="2128680"/>
            <a:chOff x="-30240" y="4729320"/>
            <a:chExt cx="9174600" cy="2128680"/>
          </a:xfrm>
        </p:grpSpPr>
        <p:sp>
          <p:nvSpPr>
            <p:cNvPr id="354" name="矩形 9"/>
            <p:cNvSpPr/>
            <p:nvPr/>
          </p:nvSpPr>
          <p:spPr>
            <a:xfrm>
              <a:off x="653724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43"/>
            <p:cNvSpPr/>
            <p:nvPr/>
          </p:nvSpPr>
          <p:spPr>
            <a:xfrm>
              <a:off x="-30240" y="6039000"/>
              <a:ext cx="915948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46"/>
            <p:cNvSpPr/>
            <p:nvPr/>
          </p:nvSpPr>
          <p:spPr>
            <a:xfrm>
              <a:off x="-10800" y="601524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2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4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6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8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0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25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9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片 2" descr=""/>
          <p:cNvPicPr/>
          <p:nvPr/>
        </p:nvPicPr>
        <p:blipFill>
          <a:blip r:embed="rId2"/>
          <a:srcRect l="158" t="15380" r="-155" b="15380"/>
          <a:stretch/>
        </p:blipFill>
        <p:spPr>
          <a:xfrm>
            <a:off x="-6480" y="0"/>
            <a:ext cx="9164880" cy="4762440"/>
          </a:xfrm>
          <a:prstGeom prst="rect">
            <a:avLst/>
          </a:prstGeom>
          <a:ln w="0">
            <a:noFill/>
          </a:ln>
        </p:spPr>
      </p:pic>
      <p:sp>
        <p:nvSpPr>
          <p:cNvPr id="358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-30240" y="4729320"/>
            <a:ext cx="9174600" cy="2128680"/>
            <a:chOff x="-30240" y="4729320"/>
            <a:chExt cx="9174600" cy="2128680"/>
          </a:xfrm>
        </p:grpSpPr>
        <p:sp>
          <p:nvSpPr>
            <p:cNvPr id="366" name="矩形 21"/>
            <p:cNvSpPr/>
            <p:nvPr/>
          </p:nvSpPr>
          <p:spPr>
            <a:xfrm>
              <a:off x="653724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22"/>
            <p:cNvSpPr/>
            <p:nvPr/>
          </p:nvSpPr>
          <p:spPr>
            <a:xfrm>
              <a:off x="-30240" y="6039000"/>
              <a:ext cx="915948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23"/>
            <p:cNvSpPr/>
            <p:nvPr/>
          </p:nvSpPr>
          <p:spPr>
            <a:xfrm>
              <a:off x="-10800" y="6015240"/>
              <a:ext cx="915516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711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5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2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5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3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5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7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5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5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5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9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31" descr=""/>
          <p:cNvPicPr/>
          <p:nvPr/>
        </p:nvPicPr>
        <p:blipFill>
          <a:blip r:embed="rId2"/>
          <a:srcRect l="158" t="15380" r="-155" b="15380"/>
          <a:stretch/>
        </p:blipFill>
        <p:spPr>
          <a:xfrm>
            <a:off x="-6480" y="0"/>
            <a:ext cx="9164880" cy="4762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4680" y="6014880"/>
            <a:ext cx="9177480" cy="843120"/>
            <a:chOff x="4680" y="6014880"/>
            <a:chExt cx="9177480" cy="843120"/>
          </a:xfrm>
        </p:grpSpPr>
        <p:sp>
          <p:nvSpPr>
            <p:cNvPr id="385" name="矩形 43"/>
            <p:cNvSpPr/>
            <p:nvPr/>
          </p:nvSpPr>
          <p:spPr>
            <a:xfrm>
              <a:off x="4680" y="6038640"/>
              <a:ext cx="9162720" cy="81936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46"/>
            <p:cNvSpPr/>
            <p:nvPr/>
          </p:nvSpPr>
          <p:spPr>
            <a:xfrm>
              <a:off x="23760" y="601488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9"/>
          <p:cNvSpPr/>
          <p:nvPr/>
        </p:nvSpPr>
        <p:spPr>
          <a:xfrm>
            <a:off x="781056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-34920" y="4729320"/>
            <a:ext cx="9190080" cy="2128680"/>
            <a:chOff x="-34920" y="4729320"/>
            <a:chExt cx="9190080" cy="2128680"/>
          </a:xfrm>
        </p:grpSpPr>
        <p:sp>
          <p:nvSpPr>
            <p:cNvPr id="395" name="矩形 11"/>
            <p:cNvSpPr/>
            <p:nvPr/>
          </p:nvSpPr>
          <p:spPr>
            <a:xfrm>
              <a:off x="7846560" y="4729320"/>
              <a:ext cx="1308600" cy="130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7"/>
            <p:cNvSpPr/>
            <p:nvPr/>
          </p:nvSpPr>
          <p:spPr>
            <a:xfrm>
              <a:off x="-14760" y="6039360"/>
              <a:ext cx="915948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30"/>
            <p:cNvSpPr/>
            <p:nvPr/>
          </p:nvSpPr>
          <p:spPr>
            <a:xfrm>
              <a:off x="-34920" y="601560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5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7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9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5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25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5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6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2" descr=""/>
          <p:cNvPicPr/>
          <p:nvPr/>
        </p:nvPicPr>
        <p:blipFill>
          <a:blip r:embed="rId2"/>
          <a:srcRect l="-299" t="21083" r="303" b="10330"/>
          <a:stretch/>
        </p:blipFill>
        <p:spPr>
          <a:xfrm>
            <a:off x="-34920" y="0"/>
            <a:ext cx="9190080" cy="4729320"/>
          </a:xfrm>
          <a:prstGeom prst="rect">
            <a:avLst/>
          </a:prstGeom>
          <a:ln w="0">
            <a:noFill/>
          </a:ln>
        </p:spPr>
      </p:pic>
      <p:sp>
        <p:nvSpPr>
          <p:cNvPr id="39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34920" y="4729320"/>
            <a:ext cx="9190080" cy="2128680"/>
            <a:chOff x="-34920" y="4729320"/>
            <a:chExt cx="9190080" cy="2128680"/>
          </a:xfrm>
        </p:grpSpPr>
        <p:sp>
          <p:nvSpPr>
            <p:cNvPr id="407" name="矩形 14"/>
            <p:cNvSpPr/>
            <p:nvPr/>
          </p:nvSpPr>
          <p:spPr>
            <a:xfrm>
              <a:off x="7846560" y="4729320"/>
              <a:ext cx="1308600" cy="130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5"/>
            <p:cNvSpPr/>
            <p:nvPr/>
          </p:nvSpPr>
          <p:spPr>
            <a:xfrm>
              <a:off x="-14760" y="6039360"/>
              <a:ext cx="915948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16"/>
            <p:cNvSpPr/>
            <p:nvPr/>
          </p:nvSpPr>
          <p:spPr>
            <a:xfrm>
              <a:off x="-34920" y="6015600"/>
              <a:ext cx="915516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17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8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9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0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1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2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3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416 L 0.00156 0.75092 E">
                                      <p:cBhvr>
                                        <p:cTn id="816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2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5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25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5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2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5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2" dur="25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5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6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0" dur="25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5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2" descr=""/>
          <p:cNvPicPr/>
          <p:nvPr/>
        </p:nvPicPr>
        <p:blipFill>
          <a:blip r:embed="rId2"/>
          <a:srcRect l="-299" t="21083" r="303" b="10330"/>
          <a:stretch/>
        </p:blipFill>
        <p:spPr>
          <a:xfrm>
            <a:off x="-34920" y="0"/>
            <a:ext cx="9190080" cy="4729320"/>
          </a:xfrm>
          <a:prstGeom prst="rect">
            <a:avLst/>
          </a:prstGeom>
          <a:ln w="0">
            <a:noFill/>
          </a:ln>
        </p:spPr>
      </p:pic>
      <p:sp>
        <p:nvSpPr>
          <p:cNvPr id="418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-34920" y="6014880"/>
            <a:ext cx="9179280" cy="843120"/>
            <a:chOff x="-34920" y="6014880"/>
            <a:chExt cx="9179280" cy="843120"/>
          </a:xfrm>
        </p:grpSpPr>
        <p:sp>
          <p:nvSpPr>
            <p:cNvPr id="426" name="矩形 15"/>
            <p:cNvSpPr/>
            <p:nvPr/>
          </p:nvSpPr>
          <p:spPr>
            <a:xfrm>
              <a:off x="-14760" y="6038640"/>
              <a:ext cx="9159120" cy="81936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16"/>
            <p:cNvSpPr/>
            <p:nvPr/>
          </p:nvSpPr>
          <p:spPr>
            <a:xfrm>
              <a:off x="-34920" y="6014880"/>
              <a:ext cx="915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344840" y="3879720"/>
            <a:ext cx="5075280" cy="2196720"/>
            <a:chOff x="4344840" y="3879720"/>
            <a:chExt cx="5075280" cy="2196720"/>
          </a:xfrm>
        </p:grpSpPr>
        <p:sp>
          <p:nvSpPr>
            <p:cNvPr id="429" name="TextBox 18"/>
            <p:cNvSpPr/>
            <p:nvPr/>
          </p:nvSpPr>
          <p:spPr>
            <a:xfrm>
              <a:off x="4344840" y="4411080"/>
              <a:ext cx="4757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hank  yo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19"/>
            <p:cNvSpPr/>
            <p:nvPr/>
          </p:nvSpPr>
          <p:spPr>
            <a:xfrm>
              <a:off x="4903920" y="3879720"/>
              <a:ext cx="115452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0"/>
            <p:cNvSpPr/>
            <p:nvPr/>
          </p:nvSpPr>
          <p:spPr>
            <a:xfrm>
              <a:off x="5651640" y="5220720"/>
              <a:ext cx="37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宣讲人：</a:t>
              </a: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zzplovezz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857" dur="25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859" dur="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861" dur="5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863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865" dur="25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867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869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871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873" dur="25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875" dur="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877" dur="5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879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881" dur="25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883" dur="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885" dur="5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88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889" dur="25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891" dur="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893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895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897" dur="25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899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901" dur="5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90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905" dur="25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907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909" dur="5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911" dur="3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954000" y="247176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70c0"/>
                </a:solidFill>
                <a:latin typeface="Calibri"/>
                <a:ea typeface="Calibri"/>
              </a:rPr>
              <a:t>zzplovezz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74960" y="1803240"/>
            <a:ext cx="565200" cy="709920"/>
            <a:chOff x="1974960" y="1803240"/>
            <a:chExt cx="565200" cy="709920"/>
          </a:xfrm>
        </p:grpSpPr>
        <p:sp>
          <p:nvSpPr>
            <p:cNvPr id="435" name="椭圆 5"/>
            <p:cNvSpPr/>
            <p:nvPr/>
          </p:nvSpPr>
          <p:spPr>
            <a:xfrm>
              <a:off x="1974960" y="1886040"/>
              <a:ext cx="56520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6"/>
            <p:cNvSpPr/>
            <p:nvPr/>
          </p:nvSpPr>
          <p:spPr>
            <a:xfrm>
              <a:off x="2229120" y="21312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247840" y="1803240"/>
              <a:ext cx="24480" cy="709920"/>
              <a:chOff x="2247840" y="1803240"/>
              <a:chExt cx="24480" cy="709920"/>
            </a:xfrm>
          </p:grpSpPr>
          <p:sp>
            <p:nvSpPr>
              <p:cNvPr id="438" name="等腰三角形 17"/>
              <p:cNvSpPr/>
              <p:nvPr/>
            </p:nvSpPr>
            <p:spPr>
              <a:xfrm flipH="1" rot="10800000">
                <a:off x="2247840" y="215460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等腰三角形 18"/>
              <p:cNvSpPr/>
              <p:nvPr/>
            </p:nvSpPr>
            <p:spPr>
              <a:xfrm flipH="1">
                <a:off x="2247840" y="180324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000880" y="2149200"/>
              <a:ext cx="527040" cy="25200"/>
              <a:chOff x="2000880" y="2149200"/>
              <a:chExt cx="527040" cy="25200"/>
            </a:xfrm>
          </p:grpSpPr>
          <p:sp>
            <p:nvSpPr>
              <p:cNvPr id="441" name="等腰三角形 15"/>
              <p:cNvSpPr/>
              <p:nvPr/>
            </p:nvSpPr>
            <p:spPr>
              <a:xfrm flipH="1" rot="5400000">
                <a:off x="2383920" y="202968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等腰三角形 16"/>
              <p:cNvSpPr/>
              <p:nvPr/>
            </p:nvSpPr>
            <p:spPr>
              <a:xfrm rot="16200000">
                <a:off x="2120400" y="20304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166120" y="2030760"/>
              <a:ext cx="190440" cy="289440"/>
              <a:chOff x="2166120" y="2030760"/>
              <a:chExt cx="190440" cy="289440"/>
            </a:xfrm>
          </p:grpSpPr>
          <p:sp>
            <p:nvSpPr>
              <p:cNvPr id="444" name="等腰三角形 13"/>
              <p:cNvSpPr/>
              <p:nvPr/>
            </p:nvSpPr>
            <p:spPr>
              <a:xfrm flipH="1" rot="12716400">
                <a:off x="2207880" y="216036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14"/>
              <p:cNvSpPr/>
              <p:nvPr/>
            </p:nvSpPr>
            <p:spPr>
              <a:xfrm rot="1955400">
                <a:off x="2295360" y="202212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103120" y="2060280"/>
              <a:ext cx="277200" cy="189000"/>
              <a:chOff x="2103120" y="2060280"/>
              <a:chExt cx="277200" cy="189000"/>
            </a:xfrm>
          </p:grpSpPr>
          <p:sp>
            <p:nvSpPr>
              <p:cNvPr id="447" name="等腰三角形 11"/>
              <p:cNvSpPr/>
              <p:nvPr/>
            </p:nvSpPr>
            <p:spPr>
              <a:xfrm flipH="1" rot="7386600">
                <a:off x="2301480" y="21200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等腰三角形 12"/>
              <p:cNvSpPr/>
              <p:nvPr/>
            </p:nvSpPr>
            <p:spPr>
              <a:xfrm flipH="1" rot="18164400">
                <a:off x="2165760" y="20300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椭圆 19"/>
          <p:cNvSpPr/>
          <p:nvPr/>
        </p:nvSpPr>
        <p:spPr>
          <a:xfrm>
            <a:off x="4146480" y="3432240"/>
            <a:ext cx="1055880" cy="105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68840" y="3303720"/>
            <a:ext cx="46080" cy="1325160"/>
            <a:chOff x="4668840" y="3303720"/>
            <a:chExt cx="46080" cy="1325160"/>
          </a:xfrm>
        </p:grpSpPr>
        <p:sp>
          <p:nvSpPr>
            <p:cNvPr id="451" name="等腰三角形 21"/>
            <p:cNvSpPr/>
            <p:nvPr/>
          </p:nvSpPr>
          <p:spPr>
            <a:xfrm flipH="1" rot="10800000">
              <a:off x="4668840" y="395964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等腰三角形 22"/>
            <p:cNvSpPr/>
            <p:nvPr/>
          </p:nvSpPr>
          <p:spPr>
            <a:xfrm flipH="1">
              <a:off x="4668840" y="330372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222800" y="3911400"/>
            <a:ext cx="983880" cy="47520"/>
            <a:chOff x="4222800" y="3911400"/>
            <a:chExt cx="983880" cy="47520"/>
          </a:xfrm>
        </p:grpSpPr>
        <p:sp>
          <p:nvSpPr>
            <p:cNvPr id="454" name="等腰三角形 24"/>
            <p:cNvSpPr/>
            <p:nvPr/>
          </p:nvSpPr>
          <p:spPr>
            <a:xfrm flipH="1" rot="5400000">
              <a:off x="4937040" y="368856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等腰三角形 25"/>
            <p:cNvSpPr/>
            <p:nvPr/>
          </p:nvSpPr>
          <p:spPr>
            <a:xfrm rot="16200000">
              <a:off x="4445640" y="368964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521240" y="3687840"/>
            <a:ext cx="356400" cy="540360"/>
            <a:chOff x="4521240" y="3687840"/>
            <a:chExt cx="356400" cy="540360"/>
          </a:xfrm>
        </p:grpSpPr>
        <p:sp>
          <p:nvSpPr>
            <p:cNvPr id="457" name="等腰三角形 27"/>
            <p:cNvSpPr/>
            <p:nvPr/>
          </p:nvSpPr>
          <p:spPr>
            <a:xfrm flipH="1" rot="12716400">
              <a:off x="4601880" y="393012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等腰三角形 28"/>
            <p:cNvSpPr/>
            <p:nvPr/>
          </p:nvSpPr>
          <p:spPr>
            <a:xfrm rot="1955400">
              <a:off x="4763160" y="367164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416480" y="3758400"/>
            <a:ext cx="517680" cy="352800"/>
            <a:chOff x="4416480" y="3758400"/>
            <a:chExt cx="517680" cy="352800"/>
          </a:xfrm>
        </p:grpSpPr>
        <p:sp>
          <p:nvSpPr>
            <p:cNvPr id="460" name="等腰三角形 30"/>
            <p:cNvSpPr/>
            <p:nvPr/>
          </p:nvSpPr>
          <p:spPr>
            <a:xfrm flipH="1" rot="7386600">
              <a:off x="4786920" y="3871080"/>
              <a:ext cx="30600" cy="29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等腰三角形 31"/>
            <p:cNvSpPr/>
            <p:nvPr/>
          </p:nvSpPr>
          <p:spPr>
            <a:xfrm flipH="1" rot="18164400">
              <a:off x="4532760" y="3704040"/>
              <a:ext cx="30600" cy="29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椭圆 32"/>
          <p:cNvSpPr/>
          <p:nvPr/>
        </p:nvSpPr>
        <p:spPr>
          <a:xfrm>
            <a:off x="4651200" y="3887640"/>
            <a:ext cx="70200" cy="6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椭圆 33"/>
          <p:cNvSpPr/>
          <p:nvPr/>
        </p:nvSpPr>
        <p:spPr>
          <a:xfrm>
            <a:off x="2108160" y="2820960"/>
            <a:ext cx="1882800" cy="188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016080" y="2800440"/>
            <a:ext cx="44640" cy="1834560"/>
            <a:chOff x="3016080" y="2800440"/>
            <a:chExt cx="44640" cy="1834560"/>
          </a:xfrm>
        </p:grpSpPr>
        <p:sp>
          <p:nvSpPr>
            <p:cNvPr id="465" name="等腰三角形 35"/>
            <p:cNvSpPr/>
            <p:nvPr/>
          </p:nvSpPr>
          <p:spPr>
            <a:xfrm>
              <a:off x="3016080" y="2800440"/>
              <a:ext cx="44640" cy="9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等腰三角形 36"/>
            <p:cNvSpPr/>
            <p:nvPr/>
          </p:nvSpPr>
          <p:spPr>
            <a:xfrm rot="10800000">
              <a:off x="3016080" y="3771360"/>
              <a:ext cx="44640" cy="86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241720" y="3712680"/>
            <a:ext cx="1638000" cy="49320"/>
            <a:chOff x="2241720" y="3712680"/>
            <a:chExt cx="1638000" cy="49320"/>
          </a:xfrm>
        </p:grpSpPr>
        <p:sp>
          <p:nvSpPr>
            <p:cNvPr id="468" name="等腰三角形 38"/>
            <p:cNvSpPr/>
            <p:nvPr/>
          </p:nvSpPr>
          <p:spPr>
            <a:xfrm flipH="1" rot="5400000">
              <a:off x="3446640" y="3328920"/>
              <a:ext cx="49320" cy="81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39"/>
            <p:cNvSpPr/>
            <p:nvPr/>
          </p:nvSpPr>
          <p:spPr>
            <a:xfrm flipH="1" rot="16200000">
              <a:off x="2627280" y="3327480"/>
              <a:ext cx="45360" cy="81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椭圆 40"/>
          <p:cNvSpPr/>
          <p:nvPr/>
        </p:nvSpPr>
        <p:spPr>
          <a:xfrm>
            <a:off x="2922480" y="3622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709000" y="3352680"/>
            <a:ext cx="680040" cy="741240"/>
            <a:chOff x="2709000" y="3352680"/>
            <a:chExt cx="680040" cy="741240"/>
          </a:xfrm>
        </p:grpSpPr>
        <p:sp>
          <p:nvSpPr>
            <p:cNvPr id="472" name="等腰三角形 42"/>
            <p:cNvSpPr/>
            <p:nvPr/>
          </p:nvSpPr>
          <p:spPr>
            <a:xfrm flipH="1" rot="2486400">
              <a:off x="3203280" y="3312360"/>
              <a:ext cx="45720" cy="43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等腰三角形 43"/>
            <p:cNvSpPr/>
            <p:nvPr/>
          </p:nvSpPr>
          <p:spPr>
            <a:xfrm flipH="1" rot="13327800">
              <a:off x="2849760" y="3695760"/>
              <a:ext cx="45720" cy="43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905440" y="1084320"/>
            <a:ext cx="565200" cy="709200"/>
            <a:chOff x="5905440" y="1084320"/>
            <a:chExt cx="565200" cy="709200"/>
          </a:xfrm>
        </p:grpSpPr>
        <p:sp>
          <p:nvSpPr>
            <p:cNvPr id="475" name="椭圆 45"/>
            <p:cNvSpPr/>
            <p:nvPr/>
          </p:nvSpPr>
          <p:spPr>
            <a:xfrm>
              <a:off x="5905440" y="1167120"/>
              <a:ext cx="56520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椭圆 46"/>
            <p:cNvSpPr/>
            <p:nvPr/>
          </p:nvSpPr>
          <p:spPr>
            <a:xfrm>
              <a:off x="6159600" y="14119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178320" y="1084320"/>
              <a:ext cx="24480" cy="709200"/>
              <a:chOff x="6178320" y="1084320"/>
              <a:chExt cx="24480" cy="709200"/>
            </a:xfrm>
          </p:grpSpPr>
          <p:sp>
            <p:nvSpPr>
              <p:cNvPr id="478" name="等腰三角形 57"/>
              <p:cNvSpPr/>
              <p:nvPr/>
            </p:nvSpPr>
            <p:spPr>
              <a:xfrm flipH="1" rot="10800000">
                <a:off x="6178320" y="14353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等腰三角形 58"/>
              <p:cNvSpPr/>
              <p:nvPr/>
            </p:nvSpPr>
            <p:spPr>
              <a:xfrm flipH="1">
                <a:off x="6178320" y="10843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931360" y="1429920"/>
              <a:ext cx="527040" cy="25200"/>
              <a:chOff x="5931360" y="1429920"/>
              <a:chExt cx="527040" cy="25200"/>
            </a:xfrm>
          </p:grpSpPr>
          <p:sp>
            <p:nvSpPr>
              <p:cNvPr id="481" name="等腰三角形 55"/>
              <p:cNvSpPr/>
              <p:nvPr/>
            </p:nvSpPr>
            <p:spPr>
              <a:xfrm flipH="1" rot="5400000">
                <a:off x="6314400" y="13104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等腰三角形 56"/>
              <p:cNvSpPr/>
              <p:nvPr/>
            </p:nvSpPr>
            <p:spPr>
              <a:xfrm rot="16200000">
                <a:off x="6050880" y="13111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096600" y="1311840"/>
              <a:ext cx="190440" cy="289080"/>
              <a:chOff x="6096600" y="1311840"/>
              <a:chExt cx="190440" cy="289080"/>
            </a:xfrm>
          </p:grpSpPr>
          <p:sp>
            <p:nvSpPr>
              <p:cNvPr id="484" name="等腰三角形 53"/>
              <p:cNvSpPr/>
              <p:nvPr/>
            </p:nvSpPr>
            <p:spPr>
              <a:xfrm flipH="1" rot="12716400">
                <a:off x="6138360" y="14410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等腰三角形 54"/>
              <p:cNvSpPr/>
              <p:nvPr/>
            </p:nvSpPr>
            <p:spPr>
              <a:xfrm rot="1955400">
                <a:off x="6225840" y="1303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033600" y="1341000"/>
              <a:ext cx="277200" cy="188640"/>
              <a:chOff x="6033600" y="1341000"/>
              <a:chExt cx="277200" cy="188640"/>
            </a:xfrm>
          </p:grpSpPr>
          <p:sp>
            <p:nvSpPr>
              <p:cNvPr id="487" name="等腰三角形 51"/>
              <p:cNvSpPr/>
              <p:nvPr/>
            </p:nvSpPr>
            <p:spPr>
              <a:xfrm flipH="1" rot="7386600">
                <a:off x="6231960" y="14004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等腰三角形 52"/>
              <p:cNvSpPr/>
              <p:nvPr/>
            </p:nvSpPr>
            <p:spPr>
              <a:xfrm flipH="1" rot="18164400">
                <a:off x="6096240" y="13107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1509840" y="3008160"/>
            <a:ext cx="565200" cy="709920"/>
            <a:chOff x="1509840" y="3008160"/>
            <a:chExt cx="565200" cy="709920"/>
          </a:xfrm>
        </p:grpSpPr>
        <p:sp>
          <p:nvSpPr>
            <p:cNvPr id="490" name="椭圆 60"/>
            <p:cNvSpPr/>
            <p:nvPr/>
          </p:nvSpPr>
          <p:spPr>
            <a:xfrm>
              <a:off x="1509840" y="3090960"/>
              <a:ext cx="56520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 61"/>
            <p:cNvSpPr/>
            <p:nvPr/>
          </p:nvSpPr>
          <p:spPr>
            <a:xfrm>
              <a:off x="1764000" y="33361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782720" y="3008160"/>
              <a:ext cx="24480" cy="709920"/>
              <a:chOff x="1782720" y="3008160"/>
              <a:chExt cx="24480" cy="709920"/>
            </a:xfrm>
          </p:grpSpPr>
          <p:sp>
            <p:nvSpPr>
              <p:cNvPr id="493" name="等腰三角形 72"/>
              <p:cNvSpPr/>
              <p:nvPr/>
            </p:nvSpPr>
            <p:spPr>
              <a:xfrm flipH="1" rot="10800000">
                <a:off x="1782720" y="335952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等腰三角形 73"/>
              <p:cNvSpPr/>
              <p:nvPr/>
            </p:nvSpPr>
            <p:spPr>
              <a:xfrm flipH="1">
                <a:off x="1782720" y="3008160"/>
                <a:ext cx="24480" cy="358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535760" y="3354120"/>
              <a:ext cx="527040" cy="25200"/>
              <a:chOff x="1535760" y="3354120"/>
              <a:chExt cx="527040" cy="25200"/>
            </a:xfrm>
          </p:grpSpPr>
          <p:sp>
            <p:nvSpPr>
              <p:cNvPr id="496" name="等腰三角形 70"/>
              <p:cNvSpPr/>
              <p:nvPr/>
            </p:nvSpPr>
            <p:spPr>
              <a:xfrm flipH="1" rot="5400000">
                <a:off x="1918800" y="32346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等腰三角形 71"/>
              <p:cNvSpPr/>
              <p:nvPr/>
            </p:nvSpPr>
            <p:spPr>
              <a:xfrm rot="16200000">
                <a:off x="1655280" y="32353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1701000" y="3235680"/>
              <a:ext cx="190440" cy="289440"/>
              <a:chOff x="1701000" y="3235680"/>
              <a:chExt cx="190440" cy="289440"/>
            </a:xfrm>
          </p:grpSpPr>
          <p:sp>
            <p:nvSpPr>
              <p:cNvPr id="499" name="等腰三角形 68"/>
              <p:cNvSpPr/>
              <p:nvPr/>
            </p:nvSpPr>
            <p:spPr>
              <a:xfrm flipH="1" rot="12716400">
                <a:off x="1742760" y="33652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等腰三角形 69"/>
              <p:cNvSpPr/>
              <p:nvPr/>
            </p:nvSpPr>
            <p:spPr>
              <a:xfrm rot="1955400">
                <a:off x="1830240" y="322704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638000" y="3265200"/>
              <a:ext cx="277200" cy="189000"/>
              <a:chOff x="1638000" y="3265200"/>
              <a:chExt cx="277200" cy="189000"/>
            </a:xfrm>
          </p:grpSpPr>
          <p:sp>
            <p:nvSpPr>
              <p:cNvPr id="502" name="等腰三角形 66"/>
              <p:cNvSpPr/>
              <p:nvPr/>
            </p:nvSpPr>
            <p:spPr>
              <a:xfrm flipH="1" rot="7386600">
                <a:off x="1836360" y="33249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等腰三角形 67"/>
              <p:cNvSpPr/>
              <p:nvPr/>
            </p:nvSpPr>
            <p:spPr>
              <a:xfrm flipH="1" rot="18164400">
                <a:off x="1700640" y="32349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6551640" y="3286080"/>
            <a:ext cx="565200" cy="711360"/>
            <a:chOff x="6551640" y="3286080"/>
            <a:chExt cx="565200" cy="711360"/>
          </a:xfrm>
        </p:grpSpPr>
        <p:sp>
          <p:nvSpPr>
            <p:cNvPr id="505" name="椭圆 75"/>
            <p:cNvSpPr/>
            <p:nvPr/>
          </p:nvSpPr>
          <p:spPr>
            <a:xfrm>
              <a:off x="6551640" y="3368880"/>
              <a:ext cx="56520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76"/>
            <p:cNvSpPr/>
            <p:nvPr/>
          </p:nvSpPr>
          <p:spPr>
            <a:xfrm>
              <a:off x="6805800" y="361476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824520" y="3286080"/>
              <a:ext cx="24480" cy="711360"/>
              <a:chOff x="6824520" y="3286080"/>
              <a:chExt cx="24480" cy="711360"/>
            </a:xfrm>
          </p:grpSpPr>
          <p:sp>
            <p:nvSpPr>
              <p:cNvPr id="508" name="等腰三角形 87"/>
              <p:cNvSpPr/>
              <p:nvPr/>
            </p:nvSpPr>
            <p:spPr>
              <a:xfrm flipH="1" rot="10800000">
                <a:off x="6824520" y="363816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等腰三角形 88"/>
              <p:cNvSpPr/>
              <p:nvPr/>
            </p:nvSpPr>
            <p:spPr>
              <a:xfrm flipH="1">
                <a:off x="6824520" y="328608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577560" y="3632760"/>
              <a:ext cx="527040" cy="25200"/>
              <a:chOff x="6577560" y="3632760"/>
              <a:chExt cx="527040" cy="25200"/>
            </a:xfrm>
          </p:grpSpPr>
          <p:sp>
            <p:nvSpPr>
              <p:cNvPr id="511" name="等腰三角形 85"/>
              <p:cNvSpPr/>
              <p:nvPr/>
            </p:nvSpPr>
            <p:spPr>
              <a:xfrm flipH="1" rot="5400000">
                <a:off x="6960600" y="351324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等腰三角形 86"/>
              <p:cNvSpPr/>
              <p:nvPr/>
            </p:nvSpPr>
            <p:spPr>
              <a:xfrm rot="16200000">
                <a:off x="6697080" y="351396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742800" y="3513960"/>
              <a:ext cx="190800" cy="290160"/>
              <a:chOff x="6742800" y="3513960"/>
              <a:chExt cx="190800" cy="290160"/>
            </a:xfrm>
          </p:grpSpPr>
          <p:sp>
            <p:nvSpPr>
              <p:cNvPr id="514" name="等腰三角形 83"/>
              <p:cNvSpPr/>
              <p:nvPr/>
            </p:nvSpPr>
            <p:spPr>
              <a:xfrm flipH="1" rot="12716400">
                <a:off x="6784920" y="364320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等腰三角形 84"/>
              <p:cNvSpPr/>
              <p:nvPr/>
            </p:nvSpPr>
            <p:spPr>
              <a:xfrm rot="1955400">
                <a:off x="6872400" y="35053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679800" y="3543480"/>
              <a:ext cx="277200" cy="189000"/>
              <a:chOff x="6679800" y="3543480"/>
              <a:chExt cx="277200" cy="189000"/>
            </a:xfrm>
          </p:grpSpPr>
          <p:sp>
            <p:nvSpPr>
              <p:cNvPr id="517" name="等腰三角形 81"/>
              <p:cNvSpPr/>
              <p:nvPr/>
            </p:nvSpPr>
            <p:spPr>
              <a:xfrm flipH="1" rot="7386600">
                <a:off x="6878160" y="36032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等腰三角形 82"/>
              <p:cNvSpPr/>
              <p:nvPr/>
            </p:nvSpPr>
            <p:spPr>
              <a:xfrm flipH="1" rot="18164400">
                <a:off x="6742440" y="351324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椭圆 89"/>
          <p:cNvSpPr/>
          <p:nvPr/>
        </p:nvSpPr>
        <p:spPr>
          <a:xfrm>
            <a:off x="6742080" y="2317680"/>
            <a:ext cx="1055880" cy="1055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246800" y="2205000"/>
            <a:ext cx="46080" cy="1325160"/>
            <a:chOff x="7246800" y="2205000"/>
            <a:chExt cx="46080" cy="1325160"/>
          </a:xfrm>
        </p:grpSpPr>
        <p:sp>
          <p:nvSpPr>
            <p:cNvPr id="521" name="等腰三角形 91"/>
            <p:cNvSpPr/>
            <p:nvPr/>
          </p:nvSpPr>
          <p:spPr>
            <a:xfrm flipH="1" rot="10800000">
              <a:off x="7246800" y="286092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等腰三角形 92"/>
            <p:cNvSpPr/>
            <p:nvPr/>
          </p:nvSpPr>
          <p:spPr>
            <a:xfrm flipH="1">
              <a:off x="7246800" y="2205000"/>
              <a:ext cx="460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800760" y="2812680"/>
            <a:ext cx="983880" cy="47520"/>
            <a:chOff x="6800760" y="2812680"/>
            <a:chExt cx="983880" cy="47520"/>
          </a:xfrm>
        </p:grpSpPr>
        <p:sp>
          <p:nvSpPr>
            <p:cNvPr id="524" name="等腰三角形 94"/>
            <p:cNvSpPr/>
            <p:nvPr/>
          </p:nvSpPr>
          <p:spPr>
            <a:xfrm flipH="1" rot="5400000">
              <a:off x="7515000" y="258984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等腰三角形 95"/>
            <p:cNvSpPr/>
            <p:nvPr/>
          </p:nvSpPr>
          <p:spPr>
            <a:xfrm rot="16200000">
              <a:off x="7023600" y="2590920"/>
              <a:ext cx="46440" cy="49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098840" y="2587680"/>
            <a:ext cx="358920" cy="541800"/>
            <a:chOff x="7098840" y="2587680"/>
            <a:chExt cx="358920" cy="541800"/>
          </a:xfrm>
        </p:grpSpPr>
        <p:sp>
          <p:nvSpPr>
            <p:cNvPr id="527" name="等腰三角形 97"/>
            <p:cNvSpPr/>
            <p:nvPr/>
          </p:nvSpPr>
          <p:spPr>
            <a:xfrm flipH="1" rot="12716400">
              <a:off x="7178760" y="2830320"/>
              <a:ext cx="32760" cy="314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等腰三角形 98"/>
            <p:cNvSpPr/>
            <p:nvPr/>
          </p:nvSpPr>
          <p:spPr>
            <a:xfrm rot="1955400">
              <a:off x="7342560" y="2571480"/>
              <a:ext cx="32760" cy="314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995520" y="2659680"/>
            <a:ext cx="516960" cy="353160"/>
            <a:chOff x="6995520" y="2659680"/>
            <a:chExt cx="516960" cy="353160"/>
          </a:xfrm>
        </p:grpSpPr>
        <p:sp>
          <p:nvSpPr>
            <p:cNvPr id="530" name="等腰三角形 100"/>
            <p:cNvSpPr/>
            <p:nvPr/>
          </p:nvSpPr>
          <p:spPr>
            <a:xfrm flipH="1" rot="7386600">
              <a:off x="7364880" y="2773080"/>
              <a:ext cx="30600" cy="29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101"/>
            <p:cNvSpPr/>
            <p:nvPr/>
          </p:nvSpPr>
          <p:spPr>
            <a:xfrm flipH="1" rot="18164400">
              <a:off x="7111440" y="2605320"/>
              <a:ext cx="30600" cy="29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7229520" y="2789280"/>
            <a:ext cx="69840" cy="6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045120" y="3676680"/>
            <a:ext cx="566640" cy="710640"/>
            <a:chOff x="6045120" y="3676680"/>
            <a:chExt cx="566640" cy="710640"/>
          </a:xfrm>
        </p:grpSpPr>
        <p:sp>
          <p:nvSpPr>
            <p:cNvPr id="534" name="椭圆 104"/>
            <p:cNvSpPr/>
            <p:nvPr/>
          </p:nvSpPr>
          <p:spPr>
            <a:xfrm>
              <a:off x="6045120" y="375948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105"/>
            <p:cNvSpPr/>
            <p:nvPr/>
          </p:nvSpPr>
          <p:spPr>
            <a:xfrm>
              <a:off x="6300000" y="40050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318720" y="3676680"/>
              <a:ext cx="24480" cy="710640"/>
              <a:chOff x="6318720" y="3676680"/>
              <a:chExt cx="24480" cy="710640"/>
            </a:xfrm>
          </p:grpSpPr>
          <p:sp>
            <p:nvSpPr>
              <p:cNvPr id="537" name="等腰三角形 116"/>
              <p:cNvSpPr/>
              <p:nvPr/>
            </p:nvSpPr>
            <p:spPr>
              <a:xfrm flipH="1" rot="10800000">
                <a:off x="6318720" y="402840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等腰三角形 117"/>
              <p:cNvSpPr/>
              <p:nvPr/>
            </p:nvSpPr>
            <p:spPr>
              <a:xfrm flipH="1">
                <a:off x="6318720" y="367668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6071400" y="4023000"/>
              <a:ext cx="528480" cy="25200"/>
              <a:chOff x="6071400" y="4023000"/>
              <a:chExt cx="528480" cy="25200"/>
            </a:xfrm>
          </p:grpSpPr>
          <p:sp>
            <p:nvSpPr>
              <p:cNvPr id="540" name="等腰三角形 114"/>
              <p:cNvSpPr/>
              <p:nvPr/>
            </p:nvSpPr>
            <p:spPr>
              <a:xfrm flipH="1" rot="5400000">
                <a:off x="6455520" y="390312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等腰三角形 115"/>
              <p:cNvSpPr/>
              <p:nvPr/>
            </p:nvSpPr>
            <p:spPr>
              <a:xfrm rot="16200000">
                <a:off x="6191280" y="390384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237000" y="3904560"/>
              <a:ext cx="190800" cy="289440"/>
              <a:chOff x="6237000" y="3904560"/>
              <a:chExt cx="190800" cy="289440"/>
            </a:xfrm>
          </p:grpSpPr>
          <p:sp>
            <p:nvSpPr>
              <p:cNvPr id="543" name="等腰三角形 112"/>
              <p:cNvSpPr/>
              <p:nvPr/>
            </p:nvSpPr>
            <p:spPr>
              <a:xfrm flipH="1" rot="12716400">
                <a:off x="6279120" y="403344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等腰三角形 113"/>
              <p:cNvSpPr/>
              <p:nvPr/>
            </p:nvSpPr>
            <p:spPr>
              <a:xfrm rot="1955400">
                <a:off x="6366600" y="389592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172920" y="3934080"/>
              <a:ext cx="278280" cy="189000"/>
              <a:chOff x="6172920" y="3934080"/>
              <a:chExt cx="278280" cy="189000"/>
            </a:xfrm>
          </p:grpSpPr>
          <p:sp>
            <p:nvSpPr>
              <p:cNvPr id="546" name="等腰三角形 110"/>
              <p:cNvSpPr/>
              <p:nvPr/>
            </p:nvSpPr>
            <p:spPr>
              <a:xfrm flipH="1" rot="7386600">
                <a:off x="6372360" y="3993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等腰三角形 111"/>
              <p:cNvSpPr/>
              <p:nvPr/>
            </p:nvSpPr>
            <p:spPr>
              <a:xfrm flipH="1" rot="18164400">
                <a:off x="6235200" y="3903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467320" y="3060720"/>
            <a:ext cx="566640" cy="711360"/>
            <a:chOff x="5467320" y="3060720"/>
            <a:chExt cx="566640" cy="711360"/>
          </a:xfrm>
        </p:grpSpPr>
        <p:sp>
          <p:nvSpPr>
            <p:cNvPr id="549" name="椭圆 119"/>
            <p:cNvSpPr/>
            <p:nvPr/>
          </p:nvSpPr>
          <p:spPr>
            <a:xfrm>
              <a:off x="5467320" y="314352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椭圆 120"/>
            <p:cNvSpPr/>
            <p:nvPr/>
          </p:nvSpPr>
          <p:spPr>
            <a:xfrm>
              <a:off x="5722200" y="33894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740920" y="3060720"/>
              <a:ext cx="24480" cy="711360"/>
              <a:chOff x="5740920" y="3060720"/>
              <a:chExt cx="24480" cy="711360"/>
            </a:xfrm>
          </p:grpSpPr>
          <p:sp>
            <p:nvSpPr>
              <p:cNvPr id="552" name="等腰三角形 131"/>
              <p:cNvSpPr/>
              <p:nvPr/>
            </p:nvSpPr>
            <p:spPr>
              <a:xfrm flipH="1" rot="10800000">
                <a:off x="5740920" y="341280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等腰三角形 132"/>
              <p:cNvSpPr/>
              <p:nvPr/>
            </p:nvSpPr>
            <p:spPr>
              <a:xfrm flipH="1">
                <a:off x="5740920" y="306072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5493600" y="3407400"/>
              <a:ext cx="528480" cy="25200"/>
              <a:chOff x="5493600" y="3407400"/>
              <a:chExt cx="528480" cy="25200"/>
            </a:xfrm>
          </p:grpSpPr>
          <p:sp>
            <p:nvSpPr>
              <p:cNvPr id="555" name="等腰三角形 129"/>
              <p:cNvSpPr/>
              <p:nvPr/>
            </p:nvSpPr>
            <p:spPr>
              <a:xfrm flipH="1" rot="5400000">
                <a:off x="5877720" y="328752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等腰三角形 130"/>
              <p:cNvSpPr/>
              <p:nvPr/>
            </p:nvSpPr>
            <p:spPr>
              <a:xfrm rot="16200000">
                <a:off x="5613480" y="328824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659200" y="3288600"/>
              <a:ext cx="191160" cy="290160"/>
              <a:chOff x="5659200" y="3288600"/>
              <a:chExt cx="191160" cy="290160"/>
            </a:xfrm>
          </p:grpSpPr>
          <p:sp>
            <p:nvSpPr>
              <p:cNvPr id="558" name="等腰三角形 127"/>
              <p:cNvSpPr/>
              <p:nvPr/>
            </p:nvSpPr>
            <p:spPr>
              <a:xfrm flipH="1" rot="12716400">
                <a:off x="5701320" y="34178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等腰三角形 128"/>
              <p:cNvSpPr/>
              <p:nvPr/>
            </p:nvSpPr>
            <p:spPr>
              <a:xfrm rot="1955400">
                <a:off x="5789160" y="327996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595120" y="3318120"/>
              <a:ext cx="278280" cy="189000"/>
              <a:chOff x="5595120" y="3318120"/>
              <a:chExt cx="278280" cy="189000"/>
            </a:xfrm>
          </p:grpSpPr>
          <p:sp>
            <p:nvSpPr>
              <p:cNvPr id="561" name="等腰三角形 125"/>
              <p:cNvSpPr/>
              <p:nvPr/>
            </p:nvSpPr>
            <p:spPr>
              <a:xfrm flipH="1" rot="7386600">
                <a:off x="5794560" y="337788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等腰三角形 126"/>
              <p:cNvSpPr/>
              <p:nvPr/>
            </p:nvSpPr>
            <p:spPr>
              <a:xfrm flipH="1" rot="18164400">
                <a:off x="5657400" y="328788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2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924" dur="625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6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59820">
                                      <p:cBhvr>
                                        <p:cTn id="936" dur="42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8" dur="12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7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1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75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7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2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967" dur="2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973" dur="2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2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819">
                                      <p:cBhvr>
                                        <p:cTn id="979" dur="2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0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819">
                                      <p:cBhvr>
                                        <p:cTn id="981" dur="2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2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4" dur="75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3" dur="75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6" dur="7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75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75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75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820">
                                      <p:cBhvr>
                                        <p:cTn id="1023" dur="1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7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7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7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820">
                                      <p:cBhvr>
                                        <p:cTn id="1032" dur="17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7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7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7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1041" dur="175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75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75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75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75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7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75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2" dur="7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5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9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75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75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75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7" dur="75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75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1" dur="75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75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17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7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7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1092" dur="2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4" dur="7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25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2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25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59820">
                                      <p:cBhvr>
                                        <p:cTn id="110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1116" dur="1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8" dur="7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14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15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115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819">
                                      <p:cBhvr>
                                        <p:cTn id="116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1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59820">
                                      <p:cBhvr>
                                        <p:cTn id="1196" dur="2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7" dur="indefinite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8" dur="75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1208" dur="2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0" dur="75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564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567" name="图片 32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矩形 12"/>
          <p:cNvSpPr/>
          <p:nvPr/>
        </p:nvSpPr>
        <p:spPr>
          <a:xfrm>
            <a:off x="468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5"/>
          <p:cNvSpPr/>
          <p:nvPr/>
        </p:nvSpPr>
        <p:spPr>
          <a:xfrm>
            <a:off x="13003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6"/>
          <p:cNvSpPr/>
          <p:nvPr/>
        </p:nvSpPr>
        <p:spPr>
          <a:xfrm>
            <a:off x="261000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7"/>
          <p:cNvSpPr/>
          <p:nvPr/>
        </p:nvSpPr>
        <p:spPr>
          <a:xfrm>
            <a:off x="39211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8"/>
          <p:cNvSpPr/>
          <p:nvPr/>
        </p:nvSpPr>
        <p:spPr>
          <a:xfrm>
            <a:off x="5232240" y="-1440"/>
            <a:ext cx="130824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9"/>
          <p:cNvSpPr/>
          <p:nvPr/>
        </p:nvSpPr>
        <p:spPr>
          <a:xfrm>
            <a:off x="654192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20"/>
          <p:cNvSpPr/>
          <p:nvPr/>
        </p:nvSpPr>
        <p:spPr>
          <a:xfrm>
            <a:off x="7853400" y="-1440"/>
            <a:ext cx="1309680" cy="6033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-503280" y="5810400"/>
            <a:ext cx="9209520" cy="2097000"/>
            <a:chOff x="-503280" y="5810400"/>
            <a:chExt cx="9209520" cy="2097000"/>
          </a:xfrm>
        </p:grpSpPr>
        <p:grpSp>
          <p:nvGrpSpPr>
            <p:cNvPr id="583" name=""/>
            <p:cNvGrpSpPr/>
            <p:nvPr/>
          </p:nvGrpSpPr>
          <p:grpSpPr>
            <a:xfrm>
              <a:off x="-453960" y="5810400"/>
              <a:ext cx="9160200" cy="2097000"/>
              <a:chOff x="-453960" y="5810400"/>
              <a:chExt cx="9160200" cy="2097000"/>
            </a:xfrm>
          </p:grpSpPr>
          <p:sp>
            <p:nvSpPr>
              <p:cNvPr id="584" name="矩形 34"/>
              <p:cNvSpPr/>
              <p:nvPr/>
            </p:nvSpPr>
            <p:spPr>
              <a:xfrm>
                <a:off x="-453960" y="7088760"/>
                <a:ext cx="916020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矩形 35"/>
              <p:cNvSpPr/>
              <p:nvPr/>
            </p:nvSpPr>
            <p:spPr>
              <a:xfrm>
                <a:off x="839520" y="581040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Box 39"/>
            <p:cNvSpPr/>
            <p:nvPr/>
          </p:nvSpPr>
          <p:spPr>
            <a:xfrm>
              <a:off x="-503280" y="707652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26"/>
          <p:cNvSpPr/>
          <p:nvPr/>
        </p:nvSpPr>
        <p:spPr>
          <a:xfrm>
            <a:off x="6727680" y="-247680"/>
            <a:ext cx="9163080" cy="816120"/>
          </a:xfrm>
          <a:prstGeom prst="rect">
            <a:avLst/>
          </a:prstGeom>
          <a:solidFill>
            <a:srgbClr val="9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27"/>
          <p:cNvSpPr/>
          <p:nvPr/>
        </p:nvSpPr>
        <p:spPr>
          <a:xfrm>
            <a:off x="6732720" y="566640"/>
            <a:ext cx="9163080" cy="819360"/>
          </a:xfrm>
          <a:prstGeom prst="rect">
            <a:avLst/>
          </a:prstGeom>
          <a:solidFill>
            <a:srgbClr val="c48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28"/>
          <p:cNvSpPr/>
          <p:nvPr/>
        </p:nvSpPr>
        <p:spPr>
          <a:xfrm>
            <a:off x="6732720" y="1386000"/>
            <a:ext cx="9163080" cy="817560"/>
          </a:xfrm>
          <a:prstGeom prst="rect">
            <a:avLst/>
          </a:prstGeom>
          <a:solidFill>
            <a:srgbClr val="d2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29"/>
          <p:cNvSpPr/>
          <p:nvPr/>
        </p:nvSpPr>
        <p:spPr>
          <a:xfrm>
            <a:off x="6607080" y="2289240"/>
            <a:ext cx="9163080" cy="819000"/>
          </a:xfrm>
          <a:prstGeom prst="rect">
            <a:avLst/>
          </a:prstGeom>
          <a:solidFill>
            <a:srgbClr val="952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30"/>
          <p:cNvSpPr/>
          <p:nvPr/>
        </p:nvSpPr>
        <p:spPr>
          <a:xfrm>
            <a:off x="6683400" y="3108240"/>
            <a:ext cx="9163080" cy="817560"/>
          </a:xfrm>
          <a:prstGeom prst="rect">
            <a:avLst/>
          </a:prstGeom>
          <a:solidFill>
            <a:srgbClr val="b41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31"/>
          <p:cNvSpPr/>
          <p:nvPr/>
        </p:nvSpPr>
        <p:spPr>
          <a:xfrm>
            <a:off x="6303960" y="4051440"/>
            <a:ext cx="9163080" cy="817560"/>
          </a:xfrm>
          <a:prstGeom prst="rect">
            <a:avLst/>
          </a:prstGeom>
          <a:solidFill>
            <a:srgbClr val="00a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40"/>
          <p:cNvSpPr/>
          <p:nvPr/>
        </p:nvSpPr>
        <p:spPr>
          <a:xfrm>
            <a:off x="6427800" y="5029200"/>
            <a:ext cx="9163080" cy="81756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17" dur="5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25" dur="5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33" dur="5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41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49" dur="5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57" dur="5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1265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25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5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25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5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8AE-8EF2-4B17-8252-C3A25C9310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265280" y="4869000"/>
            <a:ext cx="4885200" cy="1846440"/>
            <a:chOff x="4265280" y="4869000"/>
            <a:chExt cx="4885200" cy="1846440"/>
          </a:xfrm>
        </p:grpSpPr>
        <p:sp>
          <p:nvSpPr>
            <p:cNvPr id="58" name="TextBox 29"/>
            <p:cNvSpPr/>
            <p:nvPr/>
          </p:nvSpPr>
          <p:spPr>
            <a:xfrm>
              <a:off x="4391640" y="5372280"/>
              <a:ext cx="475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0"/>
            <p:cNvSpPr/>
            <p:nvPr/>
          </p:nvSpPr>
          <p:spPr>
            <a:xfrm>
              <a:off x="426528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1"/>
            <p:cNvSpPr/>
            <p:nvPr/>
          </p:nvSpPr>
          <p:spPr>
            <a:xfrm>
              <a:off x="5375160" y="6182280"/>
              <a:ext cx="37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/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15840" y="4730760"/>
            <a:ext cx="9159840" cy="2127240"/>
            <a:chOff x="-15840" y="4730760"/>
            <a:chExt cx="9159840" cy="2127240"/>
          </a:xfrm>
        </p:grpSpPr>
        <p:sp>
          <p:nvSpPr>
            <p:cNvPr id="68" name="矩形 39"/>
            <p:cNvSpPr/>
            <p:nvPr/>
          </p:nvSpPr>
          <p:spPr>
            <a:xfrm>
              <a:off x="-15840" y="6039720"/>
              <a:ext cx="9159840" cy="81828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0"/>
            <p:cNvSpPr/>
            <p:nvPr/>
          </p:nvSpPr>
          <p:spPr>
            <a:xfrm>
              <a:off x="-15840" y="4730760"/>
              <a:ext cx="1308600" cy="130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43"/>
          <p:cNvSpPr/>
          <p:nvPr/>
        </p:nvSpPr>
        <p:spPr>
          <a:xfrm>
            <a:off x="17640" y="6039000"/>
            <a:ext cx="915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0"/>
          <p:cNvSpPr/>
          <p:nvPr/>
        </p:nvSpPr>
        <p:spPr>
          <a:xfrm>
            <a:off x="-6480" y="3610080"/>
            <a:ext cx="1305000" cy="130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115" dur="25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117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12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123" dur="2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12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12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131" dur="2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3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13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139" dur="2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141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14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147" dur="25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14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15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155" dur="2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157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16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163" dur="25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165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16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9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80" name="矩形 30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1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6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99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25560" y="4773600"/>
            <a:ext cx="9207720" cy="2097000"/>
            <a:chOff x="-25560" y="4773600"/>
            <a:chExt cx="9207720" cy="2097000"/>
          </a:xfrm>
        </p:grpSpPr>
        <p:grpSp>
          <p:nvGrpSpPr>
            <p:cNvPr id="108" name=""/>
            <p:cNvGrpSpPr/>
            <p:nvPr/>
          </p:nvGrpSpPr>
          <p:grpSpPr>
            <a:xfrm>
              <a:off x="23400" y="4773600"/>
              <a:ext cx="9158760" cy="2097000"/>
              <a:chOff x="23400" y="4773600"/>
              <a:chExt cx="9158760" cy="2097000"/>
            </a:xfrm>
          </p:grpSpPr>
          <p:sp>
            <p:nvSpPr>
              <p:cNvPr id="109" name="矩形 34"/>
              <p:cNvSpPr/>
              <p:nvPr/>
            </p:nvSpPr>
            <p:spPr>
              <a:xfrm>
                <a:off x="23400" y="6051960"/>
                <a:ext cx="915876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35"/>
              <p:cNvSpPr/>
              <p:nvPr/>
            </p:nvSpPr>
            <p:spPr>
              <a:xfrm>
                <a:off x="1316520" y="477360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9"/>
            <p:cNvSpPr/>
            <p:nvPr/>
          </p:nvSpPr>
          <p:spPr>
            <a:xfrm>
              <a:off x="-25560" y="6039720"/>
              <a:ext cx="91544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114" name="图片 25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26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4"/>
          <p:cNvSpPr/>
          <p:nvPr/>
        </p:nvSpPr>
        <p:spPr>
          <a:xfrm>
            <a:off x="4680" y="603252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17640" y="6039000"/>
            <a:ext cx="915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5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133" name="图片 32" descr=""/>
            <p:cNvPicPr/>
            <p:nvPr/>
          </p:nvPicPr>
          <p:blipFill>
            <a:blip r:embed="rId2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3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5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6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7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8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9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-71280" y="6027840"/>
            <a:ext cx="9209160" cy="831600"/>
            <a:chOff x="-71280" y="6027840"/>
            <a:chExt cx="9209160" cy="831600"/>
          </a:xfrm>
        </p:grpSpPr>
        <p:sp>
          <p:nvSpPr>
            <p:cNvPr id="143" name="矩形 40"/>
            <p:cNvSpPr/>
            <p:nvPr/>
          </p:nvSpPr>
          <p:spPr>
            <a:xfrm>
              <a:off x="-21960" y="6040080"/>
              <a:ext cx="9159840" cy="819360"/>
            </a:xfrm>
            <a:prstGeom prst="rect">
              <a:avLst/>
            </a:prstGeom>
            <a:solidFill>
              <a:srgbClr val="86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1"/>
            <p:cNvSpPr/>
            <p:nvPr/>
          </p:nvSpPr>
          <p:spPr>
            <a:xfrm>
              <a:off x="-71280" y="6027840"/>
              <a:ext cx="91555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3"/>
          <p:cNvSpPr/>
          <p:nvPr/>
        </p:nvSpPr>
        <p:spPr>
          <a:xfrm>
            <a:off x="260820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4400" y="4729320"/>
            <a:ext cx="9185400" cy="2124000"/>
            <a:chOff x="-14400" y="4729320"/>
            <a:chExt cx="9185400" cy="2124000"/>
          </a:xfrm>
        </p:grpSpPr>
        <p:grpSp>
          <p:nvGrpSpPr>
            <p:cNvPr id="153" name=""/>
            <p:cNvGrpSpPr/>
            <p:nvPr/>
          </p:nvGrpSpPr>
          <p:grpSpPr>
            <a:xfrm>
              <a:off x="11520" y="4729320"/>
              <a:ext cx="9159480" cy="2124000"/>
              <a:chOff x="11520" y="4729320"/>
              <a:chExt cx="9159480" cy="2124000"/>
            </a:xfrm>
          </p:grpSpPr>
          <p:sp>
            <p:nvSpPr>
              <p:cNvPr id="154" name="矩形 4"/>
              <p:cNvSpPr/>
              <p:nvPr/>
            </p:nvSpPr>
            <p:spPr>
              <a:xfrm>
                <a:off x="2618280" y="472932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42"/>
              <p:cNvSpPr/>
              <p:nvPr/>
            </p:nvSpPr>
            <p:spPr>
              <a:xfrm>
                <a:off x="11520" y="6034680"/>
                <a:ext cx="915948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Box 44"/>
            <p:cNvSpPr/>
            <p:nvPr/>
          </p:nvSpPr>
          <p:spPr>
            <a:xfrm>
              <a:off x="-14400" y="602172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7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158" name="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159" name="直接连接符 31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8" name="直接箭头连接符 40"/>
              <p:cNvCxnSpPr/>
              <p:nvPr/>
            </p:nvCxnSpPr>
            <p:spPr>
              <a:xfrm>
                <a:off x="1780920" y="3261240"/>
                <a:ext cx="648180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169" name="直接箭头连接符 41"/>
              <p:cNvCxnSpPr/>
              <p:nvPr/>
            </p:nvCxnSpPr>
            <p:spPr>
              <a:xfrm flipV="1">
                <a:off x="1780920" y="458280"/>
                <a:ext cx="1080" cy="28036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170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45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6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7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48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49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50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51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Box 30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14400" y="4729320"/>
            <a:ext cx="9185400" cy="2124000"/>
            <a:chOff x="-14400" y="4729320"/>
            <a:chExt cx="9185400" cy="2124000"/>
          </a:xfrm>
        </p:grpSpPr>
        <p:grpSp>
          <p:nvGrpSpPr>
            <p:cNvPr id="189" name=""/>
            <p:cNvGrpSpPr/>
            <p:nvPr/>
          </p:nvGrpSpPr>
          <p:grpSpPr>
            <a:xfrm>
              <a:off x="11520" y="4729320"/>
              <a:ext cx="9159480" cy="2124000"/>
              <a:chOff x="11520" y="4729320"/>
              <a:chExt cx="9159480" cy="2124000"/>
            </a:xfrm>
          </p:grpSpPr>
          <p:sp>
            <p:nvSpPr>
              <p:cNvPr id="190" name="矩形 16"/>
              <p:cNvSpPr/>
              <p:nvPr/>
            </p:nvSpPr>
            <p:spPr>
              <a:xfrm>
                <a:off x="2618280" y="4729320"/>
                <a:ext cx="1308600" cy="1309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17"/>
              <p:cNvSpPr/>
              <p:nvPr/>
            </p:nvSpPr>
            <p:spPr>
              <a:xfrm>
                <a:off x="11520" y="6034680"/>
                <a:ext cx="915948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Box 15"/>
            <p:cNvSpPr/>
            <p:nvPr/>
          </p:nvSpPr>
          <p:spPr>
            <a:xfrm>
              <a:off x="-14400" y="6021720"/>
              <a:ext cx="915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18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4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5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6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201" name="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202" name="直接连接符 28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" name="直接箭头连接符 40"/>
              <p:cNvCxnSpPr/>
              <p:nvPr/>
            </p:nvCxnSpPr>
            <p:spPr>
              <a:xfrm>
                <a:off x="1780920" y="3261240"/>
                <a:ext cx="6481800" cy="10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cxnSp>
            <p:nvCxnSpPr>
              <p:cNvPr id="212" name="直接箭头连接符 41"/>
              <p:cNvCxnSpPr/>
              <p:nvPr/>
            </p:nvCxnSpPr>
            <p:spPr>
              <a:xfrm flipV="1">
                <a:off x="1780920" y="458280"/>
                <a:ext cx="1080" cy="2803680"/>
              </a:xfrm>
              <a:prstGeom prst="straightConnector1">
                <a:avLst/>
              </a:prstGeom>
              <a:ln w="25560">
                <a:solidFill>
                  <a:srgbClr val="7f7f7f"/>
                </a:solidFill>
                <a:miter/>
                <a:tailEnd len="med" type="arrow" w="med"/>
              </a:ln>
            </p:spPr>
          </p:cxnSp>
          <p:sp>
            <p:nvSpPr>
              <p:cNvPr id="213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46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48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53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54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55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56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57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Box 27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" descr="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6480" y="0"/>
            <a:ext cx="1305000" cy="603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-36360" y="6054840"/>
            <a:ext cx="9185400" cy="831600"/>
            <a:chOff x="-36360" y="6054840"/>
            <a:chExt cx="9185400" cy="831600"/>
          </a:xfrm>
        </p:grpSpPr>
        <p:sp>
          <p:nvSpPr>
            <p:cNvPr id="232" name="矩形 49"/>
            <p:cNvSpPr/>
            <p:nvPr/>
          </p:nvSpPr>
          <p:spPr>
            <a:xfrm>
              <a:off x="-10080" y="6067440"/>
              <a:ext cx="9159120" cy="819000"/>
            </a:xfrm>
            <a:prstGeom prst="rect">
              <a:avLst/>
            </a:prstGeom>
            <a:solidFill>
              <a:srgbClr val="c4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47"/>
            <p:cNvSpPr/>
            <p:nvPr/>
          </p:nvSpPr>
          <p:spPr>
            <a:xfrm>
              <a:off x="-36360" y="6054840"/>
              <a:ext cx="915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-36360" y="4729320"/>
            <a:ext cx="9159840" cy="2157120"/>
            <a:chOff x="-36360" y="4729320"/>
            <a:chExt cx="9159840" cy="2157120"/>
          </a:xfrm>
        </p:grpSpPr>
        <p:sp>
          <p:nvSpPr>
            <p:cNvPr id="241" name="矩形 50"/>
            <p:cNvSpPr/>
            <p:nvPr/>
          </p:nvSpPr>
          <p:spPr>
            <a:xfrm>
              <a:off x="-36360" y="6067440"/>
              <a:ext cx="915984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52"/>
            <p:cNvSpPr/>
            <p:nvPr/>
          </p:nvSpPr>
          <p:spPr>
            <a:xfrm>
              <a:off x="-36360" y="6055200"/>
              <a:ext cx="915588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"/>
            <p:cNvSpPr/>
            <p:nvPr/>
          </p:nvSpPr>
          <p:spPr>
            <a:xfrm>
              <a:off x="3920400" y="4729320"/>
              <a:ext cx="1308600" cy="13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0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dur="indefinite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2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dur="indefinite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4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dur="indefinite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6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8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0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2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6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46" name="圆角矩形 30"/>
            <p:cNvSpPr/>
            <p:nvPr/>
          </p:nvSpPr>
          <p:spPr>
            <a:xfrm>
              <a:off x="1150920" y="547920"/>
              <a:ext cx="6931080" cy="3241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圆角矩形 31"/>
            <p:cNvSpPr/>
            <p:nvPr/>
          </p:nvSpPr>
          <p:spPr>
            <a:xfrm>
              <a:off x="142092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角矩形 32"/>
            <p:cNvSpPr/>
            <p:nvPr/>
          </p:nvSpPr>
          <p:spPr>
            <a:xfrm>
              <a:off x="362628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角矩形 33"/>
            <p:cNvSpPr/>
            <p:nvPr/>
          </p:nvSpPr>
          <p:spPr>
            <a:xfrm>
              <a:off x="583164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34"/>
            <p:cNvSpPr/>
            <p:nvPr/>
          </p:nvSpPr>
          <p:spPr>
            <a:xfrm>
              <a:off x="2635920" y="367920"/>
              <a:ext cx="3960720" cy="45000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角矩形 35"/>
            <p:cNvSpPr/>
            <p:nvPr/>
          </p:nvSpPr>
          <p:spPr>
            <a:xfrm>
              <a:off x="171108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角矩形 36"/>
            <p:cNvSpPr/>
            <p:nvPr/>
          </p:nvSpPr>
          <p:spPr>
            <a:xfrm>
              <a:off x="391680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角矩形 37"/>
            <p:cNvSpPr/>
            <p:nvPr/>
          </p:nvSpPr>
          <p:spPr>
            <a:xfrm>
              <a:off x="612216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8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39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40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41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42"/>
            <p:cNvSpPr/>
            <p:nvPr/>
          </p:nvSpPr>
          <p:spPr>
            <a:xfrm>
              <a:off x="1870920" y="98316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43"/>
            <p:cNvSpPr/>
            <p:nvPr/>
          </p:nvSpPr>
          <p:spPr>
            <a:xfrm>
              <a:off x="407628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4"/>
            <p:cNvSpPr/>
            <p:nvPr/>
          </p:nvSpPr>
          <p:spPr>
            <a:xfrm>
              <a:off x="628164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/>
          <p:cNvSpPr/>
          <p:nvPr/>
        </p:nvSpPr>
        <p:spPr>
          <a:xfrm>
            <a:off x="-6480" y="4729320"/>
            <a:ext cx="130500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36360" y="4741920"/>
            <a:ext cx="9159840" cy="2119320"/>
            <a:chOff x="-36360" y="4741920"/>
            <a:chExt cx="9159840" cy="2119320"/>
          </a:xfrm>
        </p:grpSpPr>
        <p:sp>
          <p:nvSpPr>
            <p:cNvPr id="269" name="矩形 19"/>
            <p:cNvSpPr/>
            <p:nvPr/>
          </p:nvSpPr>
          <p:spPr>
            <a:xfrm>
              <a:off x="-36360" y="6042240"/>
              <a:ext cx="915984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20"/>
            <p:cNvSpPr/>
            <p:nvPr/>
          </p:nvSpPr>
          <p:spPr>
            <a:xfrm>
              <a:off x="-36360" y="6030000"/>
              <a:ext cx="9155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24"/>
            <p:cNvSpPr/>
            <p:nvPr/>
          </p:nvSpPr>
          <p:spPr>
            <a:xfrm>
              <a:off x="3920400" y="4741920"/>
              <a:ext cx="1308600" cy="1310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Box 15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5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5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5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529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00Z</dcterms:created>
  <dc:creator>微软中国</dc:creator>
  <dc:description/>
  <dc:language>en-US</dc:language>
  <cp:lastModifiedBy>微软用户</cp:lastModifiedBy>
  <dcterms:modified xsi:type="dcterms:W3CDTF">2015-07-20T07:41:43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