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D48-DA06-4CC3-8E8A-9B627D3E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162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4193280"/>
            <a:ext cx="7162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341-EAA9-4B97-8C95-C9E5EF71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419328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0400" y="419328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7A4-5E86-4BF8-9ECD-8D7A17E1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1560" y="236232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3640" y="236232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419328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1560" y="419328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3640" y="4193280"/>
            <a:ext cx="2306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7C9-7418-4B47-9540-8AB94EF8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2362320"/>
            <a:ext cx="71629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74C-AB9E-42D4-A33F-390E85C1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162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358-B915-41AB-82B8-C687C7F2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5B6-71ED-428D-92DA-FFF5B30C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58E-24E5-4FAE-9CD2-F63C5D34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990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1A9-9CD2-4DE8-B04F-87EBFD4D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419328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ABC-DC36-4C56-9312-B7FD1C2F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0400" y="419328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AF1-CCE1-4EBB-BE81-4A5974AC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0400" y="2362320"/>
            <a:ext cx="3495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4193280"/>
            <a:ext cx="71629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DAF-4EF6-427E-A6C0-C5895534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2362320"/>
            <a:ext cx="7162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960120" indent="-191880">
              <a:spcBef>
                <a:spcPts val="7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343880" indent="-191880">
              <a:spcBef>
                <a:spcPts val="7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1728000" indent="-191880">
              <a:spcBef>
                <a:spcPts val="7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1728000" indent="-191880">
              <a:spcBef>
                <a:spcPts val="7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1728000" indent="-191880">
              <a:spcBef>
                <a:spcPts val="7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8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  <a:ea typeface="PMingLiU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3A0-BCB9-42D3-98DB-07B4FB0C477C}" type="slidenum">
              <a:rPr b="0" lang="en-US" sz="1400" spc="-1" strike="noStrike">
                <a:solidFill>
                  <a:srgbClr val="40458c"/>
                </a:solidFill>
                <a:latin typeface="Tahom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65260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f89f7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9FF-4229-46E5-9517-22491D9197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7:09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20T02:25:2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