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FFD-3E9E-42FE-8801-CBE0529B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0AD-B418-4698-97BB-60DE6B5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9AC-8A85-40C9-8E8B-BAB70E34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DF1-5A41-4028-B274-4FA70ED1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6F8-53B9-4E9E-A8F8-0541DFC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919-F821-4DF3-B69F-5C3D3BCF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744-CFBE-47E8-9E69-CD1BD1E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C95-E6AC-441F-9765-8DB5D155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BD3-3666-4017-A7C8-705F9E7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28E-6D8B-4BE6-B018-E7B5749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AA5-0051-4823-8E1C-6E27B0A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610-901B-4257-9446-793EF68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D1A-DC05-4559-9AC0-E7E07A221DCE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타원 9"/>
          <p:cNvSpPr/>
          <p:nvPr/>
        </p:nvSpPr>
        <p:spPr>
          <a:xfrm>
            <a:off x="-1190520" y="4848120"/>
            <a:ext cx="4476600" cy="4857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타원 10"/>
          <p:cNvSpPr/>
          <p:nvPr/>
        </p:nvSpPr>
        <p:spPr>
          <a:xfrm>
            <a:off x="6315120" y="4419720"/>
            <a:ext cx="3614760" cy="5072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타원 11"/>
          <p:cNvSpPr/>
          <p:nvPr/>
        </p:nvSpPr>
        <p:spPr>
          <a:xfrm>
            <a:off x="2214720" y="5907240"/>
            <a:ext cx="3143160" cy="4155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타원 12"/>
          <p:cNvSpPr/>
          <p:nvPr/>
        </p:nvSpPr>
        <p:spPr>
          <a:xfrm>
            <a:off x="4214880" y="5549760"/>
            <a:ext cx="3286080" cy="41562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타원 137"/>
          <p:cNvSpPr/>
          <p:nvPr/>
        </p:nvSpPr>
        <p:spPr>
          <a:xfrm>
            <a:off x="-1074600" y="5072040"/>
            <a:ext cx="4217760" cy="4578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타원 138"/>
          <p:cNvSpPr/>
          <p:nvPr/>
        </p:nvSpPr>
        <p:spPr>
          <a:xfrm>
            <a:off x="6429240" y="4643280"/>
            <a:ext cx="3407040" cy="4780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타원 139"/>
          <p:cNvSpPr/>
          <p:nvPr/>
        </p:nvSpPr>
        <p:spPr>
          <a:xfrm>
            <a:off x="2286000" y="6072120"/>
            <a:ext cx="2962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타원 140"/>
          <p:cNvSpPr/>
          <p:nvPr/>
        </p:nvSpPr>
        <p:spPr>
          <a:xfrm>
            <a:off x="4332240" y="5715000"/>
            <a:ext cx="3097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타원 141"/>
          <p:cNvSpPr/>
          <p:nvPr/>
        </p:nvSpPr>
        <p:spPr>
          <a:xfrm>
            <a:off x="-915840" y="5286240"/>
            <a:ext cx="3844800" cy="41738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타원 142"/>
          <p:cNvSpPr/>
          <p:nvPr/>
        </p:nvSpPr>
        <p:spPr>
          <a:xfrm>
            <a:off x="6610320" y="4919760"/>
            <a:ext cx="3105360" cy="43574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타원 143"/>
          <p:cNvSpPr/>
          <p:nvPr/>
        </p:nvSpPr>
        <p:spPr>
          <a:xfrm>
            <a:off x="2443320" y="6286680"/>
            <a:ext cx="27003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타원 144"/>
          <p:cNvSpPr/>
          <p:nvPr/>
        </p:nvSpPr>
        <p:spPr>
          <a:xfrm>
            <a:off x="4464000" y="6000840"/>
            <a:ext cx="28227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타원 145"/>
          <p:cNvSpPr/>
          <p:nvPr/>
        </p:nvSpPr>
        <p:spPr>
          <a:xfrm>
            <a:off x="-814320" y="5572080"/>
            <a:ext cx="3529080" cy="3832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타원 146"/>
          <p:cNvSpPr/>
          <p:nvPr/>
        </p:nvSpPr>
        <p:spPr>
          <a:xfrm>
            <a:off x="6715080" y="5214960"/>
            <a:ext cx="2851200" cy="4000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타원 147"/>
          <p:cNvSpPr/>
          <p:nvPr/>
        </p:nvSpPr>
        <p:spPr>
          <a:xfrm>
            <a:off x="2571840" y="6572160"/>
            <a:ext cx="247968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타원 148"/>
          <p:cNvSpPr/>
          <p:nvPr/>
        </p:nvSpPr>
        <p:spPr>
          <a:xfrm>
            <a:off x="4622760" y="6286680"/>
            <a:ext cx="259236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타원 149"/>
          <p:cNvSpPr/>
          <p:nvPr/>
        </p:nvSpPr>
        <p:spPr>
          <a:xfrm>
            <a:off x="-579600" y="5929200"/>
            <a:ext cx="3151440" cy="342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타원 150"/>
          <p:cNvSpPr/>
          <p:nvPr/>
        </p:nvSpPr>
        <p:spPr>
          <a:xfrm>
            <a:off x="6858000" y="5572080"/>
            <a:ext cx="2546280" cy="357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타원 151"/>
          <p:cNvSpPr/>
          <p:nvPr/>
        </p:nvSpPr>
        <p:spPr>
          <a:xfrm>
            <a:off x="2716200" y="6858000"/>
            <a:ext cx="221292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타원 152"/>
          <p:cNvSpPr/>
          <p:nvPr/>
        </p:nvSpPr>
        <p:spPr>
          <a:xfrm>
            <a:off x="4786200" y="6572160"/>
            <a:ext cx="231480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타원 153"/>
          <p:cNvSpPr/>
          <p:nvPr/>
        </p:nvSpPr>
        <p:spPr>
          <a:xfrm>
            <a:off x="-425520" y="6357960"/>
            <a:ext cx="2835360" cy="3078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타원 154"/>
          <p:cNvSpPr/>
          <p:nvPr/>
        </p:nvSpPr>
        <p:spPr>
          <a:xfrm>
            <a:off x="6996240" y="6000840"/>
            <a:ext cx="2290680" cy="3214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타원 155"/>
          <p:cNvSpPr/>
          <p:nvPr/>
        </p:nvSpPr>
        <p:spPr>
          <a:xfrm>
            <a:off x="2814480" y="7237440"/>
            <a:ext cx="199260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타원 156"/>
          <p:cNvSpPr/>
          <p:nvPr/>
        </p:nvSpPr>
        <p:spPr>
          <a:xfrm>
            <a:off x="4917960" y="6929280"/>
            <a:ext cx="208296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타원 157"/>
          <p:cNvSpPr/>
          <p:nvPr/>
        </p:nvSpPr>
        <p:spPr>
          <a:xfrm>
            <a:off x="-353880" y="6781680"/>
            <a:ext cx="2570040" cy="2791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타원 158"/>
          <p:cNvSpPr/>
          <p:nvPr/>
        </p:nvSpPr>
        <p:spPr>
          <a:xfrm>
            <a:off x="7072200" y="6429240"/>
            <a:ext cx="2076480" cy="291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타원 159"/>
          <p:cNvSpPr/>
          <p:nvPr/>
        </p:nvSpPr>
        <p:spPr>
          <a:xfrm>
            <a:off x="2876400" y="7643880"/>
            <a:ext cx="180684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타원 160"/>
          <p:cNvSpPr/>
          <p:nvPr/>
        </p:nvSpPr>
        <p:spPr>
          <a:xfrm>
            <a:off x="5041800" y="7286760"/>
            <a:ext cx="188748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타원 161"/>
          <p:cNvSpPr/>
          <p:nvPr/>
        </p:nvSpPr>
        <p:spPr>
          <a:xfrm>
            <a:off x="-210960" y="7188120"/>
            <a:ext cx="2209680" cy="2400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타원 162"/>
          <p:cNvSpPr/>
          <p:nvPr/>
        </p:nvSpPr>
        <p:spPr>
          <a:xfrm>
            <a:off x="7215120" y="6929280"/>
            <a:ext cx="1785960" cy="25066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타원 163"/>
          <p:cNvSpPr/>
          <p:nvPr/>
        </p:nvSpPr>
        <p:spPr>
          <a:xfrm>
            <a:off x="2986200" y="8072280"/>
            <a:ext cx="1552320" cy="205452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타원 164"/>
          <p:cNvSpPr/>
          <p:nvPr/>
        </p:nvSpPr>
        <p:spPr>
          <a:xfrm>
            <a:off x="5162400" y="7715160"/>
            <a:ext cx="1624320" cy="205416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자유형 88"/>
          <p:cNvSpPr/>
          <p:nvPr/>
        </p:nvSpPr>
        <p:spPr>
          <a:xfrm>
            <a:off x="1643040" y="3429000"/>
            <a:ext cx="3114720" cy="2016000"/>
          </a:xfrm>
          <a:custGeom>
            <a:avLst/>
            <a:gdLst/>
            <a:ahLst/>
            <a:rect l="l" t="t" r="r" b="b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자유형 98"/>
          <p:cNvSpPr/>
          <p:nvPr/>
        </p:nvSpPr>
        <p:spPr>
          <a:xfrm>
            <a:off x="3021120" y="142920"/>
            <a:ext cx="3100320" cy="133812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자유형 99"/>
          <p:cNvSpPr/>
          <p:nvPr/>
        </p:nvSpPr>
        <p:spPr>
          <a:xfrm>
            <a:off x="4572000" y="785880"/>
            <a:ext cx="2286000" cy="93168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자유형 100"/>
          <p:cNvSpPr/>
          <p:nvPr/>
        </p:nvSpPr>
        <p:spPr>
          <a:xfrm>
            <a:off x="4714920" y="3000240"/>
            <a:ext cx="2214360" cy="1433520"/>
          </a:xfrm>
          <a:custGeom>
            <a:avLst/>
            <a:gdLst/>
            <a:ahLst/>
            <a:rect l="l" t="t" r="r" b="b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35280" y="2852640"/>
            <a:ext cx="417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algun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422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"/>
          <p:cNvSpPr/>
          <p:nvPr/>
        </p:nvSpPr>
        <p:spPr>
          <a:xfrm>
            <a:off x="1790640" y="1125360"/>
            <a:ext cx="3422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Gulim"/>
              </a:rPr>
              <a:t>古典动态</a:t>
            </a:r>
            <a:r>
              <a:rPr b="0" lang="en-US" sz="45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물결 15"/>
          <p:cNvSpPr/>
          <p:nvPr/>
        </p:nvSpPr>
        <p:spPr>
          <a:xfrm>
            <a:off x="0" y="6059520"/>
            <a:ext cx="9144000" cy="2357280"/>
          </a:xfrm>
          <a:custGeom>
            <a:avLst/>
            <a:gdLst>
              <a:gd name="textAreaLeft" fmla="*/ 0 w 9144000"/>
              <a:gd name="textAreaRight" fmla="*/ 914436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물결 15"/>
          <p:cNvSpPr/>
          <p:nvPr/>
        </p:nvSpPr>
        <p:spPr>
          <a:xfrm rot="10800000">
            <a:off x="0" y="-1536840"/>
            <a:ext cx="9144000" cy="2354400"/>
          </a:xfrm>
          <a:custGeom>
            <a:avLst/>
            <a:gdLst>
              <a:gd name="textAreaLeft" fmla="*/ 0 w 9144000"/>
              <a:gd name="textAreaRight" fmla="*/ 9144360 w 9144000"/>
              <a:gd name="textAreaTop" fmla="*/ 796680 h 2354400"/>
              <a:gd name="textAreaBottom" fmla="*/ 155772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자유형 98"/>
          <p:cNvSpPr/>
          <p:nvPr/>
        </p:nvSpPr>
        <p:spPr>
          <a:xfrm>
            <a:off x="4892760" y="0"/>
            <a:ext cx="3100320" cy="133812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자유형 99"/>
          <p:cNvSpPr/>
          <p:nvPr/>
        </p:nvSpPr>
        <p:spPr>
          <a:xfrm>
            <a:off x="6443640" y="642960"/>
            <a:ext cx="2286000" cy="93168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B76-C296-4BC8-9706-B958A5233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자유형 22"/>
          <p:cNvSpPr/>
          <p:nvPr/>
        </p:nvSpPr>
        <p:spPr>
          <a:xfrm>
            <a:off x="6659640" y="2852640"/>
            <a:ext cx="2106360" cy="33354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3605261" h="5843180">
                <a:moveTo>
                  <a:pt x="83127" y="258464"/>
                </a:moveTo>
                <a:cubicBezTo>
                  <a:pt x="166254" y="283094"/>
                  <a:pt x="937491" y="301568"/>
                  <a:pt x="1108364" y="369301"/>
                </a:cubicBezTo>
                <a:cubicBezTo>
                  <a:pt x="1279237" y="437034"/>
                  <a:pt x="1186873" y="524779"/>
                  <a:pt x="1108364" y="664864"/>
                </a:cubicBezTo>
                <a:cubicBezTo>
                  <a:pt x="1029855" y="804949"/>
                  <a:pt x="757382" y="1049713"/>
                  <a:pt x="637309" y="1209810"/>
                </a:cubicBezTo>
                <a:cubicBezTo>
                  <a:pt x="517236" y="1369907"/>
                  <a:pt x="431030" y="1459192"/>
                  <a:pt x="387927" y="1625446"/>
                </a:cubicBezTo>
                <a:cubicBezTo>
                  <a:pt x="344824" y="1791701"/>
                  <a:pt x="310958" y="2016452"/>
                  <a:pt x="378691" y="2207337"/>
                </a:cubicBezTo>
                <a:cubicBezTo>
                  <a:pt x="446424" y="2398222"/>
                  <a:pt x="608060" y="2607579"/>
                  <a:pt x="794327" y="2770755"/>
                </a:cubicBezTo>
                <a:cubicBezTo>
                  <a:pt x="980594" y="2933931"/>
                  <a:pt x="1322339" y="3066319"/>
                  <a:pt x="1496291" y="3186392"/>
                </a:cubicBezTo>
                <a:cubicBezTo>
                  <a:pt x="1670243" y="3306465"/>
                  <a:pt x="1751830" y="3364962"/>
                  <a:pt x="1838036" y="3491192"/>
                </a:cubicBezTo>
                <a:cubicBezTo>
                  <a:pt x="1924242" y="3617422"/>
                  <a:pt x="1975042" y="3762124"/>
                  <a:pt x="2013527" y="3943773"/>
                </a:cubicBezTo>
                <a:cubicBezTo>
                  <a:pt x="2052012" y="4125422"/>
                  <a:pt x="2058169" y="4388659"/>
                  <a:pt x="2068945" y="4581083"/>
                </a:cubicBezTo>
                <a:cubicBezTo>
                  <a:pt x="2079721" y="4773507"/>
                  <a:pt x="2076643" y="4941301"/>
                  <a:pt x="2078182" y="5098319"/>
                </a:cubicBezTo>
                <a:cubicBezTo>
                  <a:pt x="2079721" y="5255337"/>
                  <a:pt x="2079671" y="5414044"/>
                  <a:pt x="2078182" y="5523192"/>
                </a:cubicBezTo>
                <a:cubicBezTo>
                  <a:pt x="2076693" y="5632340"/>
                  <a:pt x="2038485" y="5714477"/>
                  <a:pt x="2069250" y="5753209"/>
                </a:cubicBezTo>
                <a:cubicBezTo>
                  <a:pt x="2100015" y="5791941"/>
                  <a:pt x="2230499" y="5843180"/>
                  <a:pt x="2262775" y="5755583"/>
                </a:cubicBezTo>
                <a:cubicBezTo>
                  <a:pt x="2295052" y="5667986"/>
                  <a:pt x="2256729" y="5452626"/>
                  <a:pt x="2262909" y="5227628"/>
                </a:cubicBezTo>
                <a:cubicBezTo>
                  <a:pt x="2269089" y="5002630"/>
                  <a:pt x="2281381" y="4648816"/>
                  <a:pt x="2299854" y="4405592"/>
                </a:cubicBezTo>
                <a:cubicBezTo>
                  <a:pt x="2318327" y="4162368"/>
                  <a:pt x="2339878" y="3931459"/>
                  <a:pt x="2373745" y="3768283"/>
                </a:cubicBezTo>
                <a:cubicBezTo>
                  <a:pt x="2407612" y="3605107"/>
                  <a:pt x="2435321" y="3508125"/>
                  <a:pt x="2503054" y="3426537"/>
                </a:cubicBezTo>
                <a:cubicBezTo>
                  <a:pt x="2570787" y="3344949"/>
                  <a:pt x="2647757" y="3306464"/>
                  <a:pt x="2780145" y="3278755"/>
                </a:cubicBezTo>
                <a:cubicBezTo>
                  <a:pt x="2912533" y="3251046"/>
                  <a:pt x="3201940" y="3263362"/>
                  <a:pt x="3297382" y="3260283"/>
                </a:cubicBezTo>
                <a:cubicBezTo>
                  <a:pt x="3392824" y="3257204"/>
                  <a:pt x="3360497" y="3267980"/>
                  <a:pt x="3352800" y="3260283"/>
                </a:cubicBezTo>
                <a:cubicBezTo>
                  <a:pt x="3345103" y="3252586"/>
                  <a:pt x="3292764" y="3255665"/>
                  <a:pt x="3251200" y="3214101"/>
                </a:cubicBezTo>
                <a:cubicBezTo>
                  <a:pt x="3209636" y="3172537"/>
                  <a:pt x="3135745" y="3092489"/>
                  <a:pt x="3103418" y="3010901"/>
                </a:cubicBezTo>
                <a:cubicBezTo>
                  <a:pt x="3071091" y="2929313"/>
                  <a:pt x="3056111" y="2770755"/>
                  <a:pt x="3057236" y="2724573"/>
                </a:cubicBezTo>
                <a:cubicBezTo>
                  <a:pt x="3058361" y="2678391"/>
                  <a:pt x="3084397" y="2729685"/>
                  <a:pt x="3110170" y="2733810"/>
                </a:cubicBezTo>
                <a:cubicBezTo>
                  <a:pt x="3135943" y="2737935"/>
                  <a:pt x="3169843" y="2748598"/>
                  <a:pt x="3211873" y="2749322"/>
                </a:cubicBezTo>
                <a:cubicBezTo>
                  <a:pt x="3253903" y="2750046"/>
                  <a:pt x="3317310" y="2745360"/>
                  <a:pt x="3362349" y="2738156"/>
                </a:cubicBezTo>
                <a:cubicBezTo>
                  <a:pt x="3407388" y="2730953"/>
                  <a:pt x="3442137" y="2717601"/>
                  <a:pt x="3482109" y="2706101"/>
                </a:cubicBezTo>
                <a:cubicBezTo>
                  <a:pt x="3522081" y="2694601"/>
                  <a:pt x="3605261" y="2692246"/>
                  <a:pt x="3602182" y="2669155"/>
                </a:cubicBezTo>
                <a:cubicBezTo>
                  <a:pt x="3599103" y="2646064"/>
                  <a:pt x="3506739" y="2602961"/>
                  <a:pt x="3463636" y="2567555"/>
                </a:cubicBezTo>
                <a:cubicBezTo>
                  <a:pt x="3420533" y="2532149"/>
                  <a:pt x="3422073" y="2519834"/>
                  <a:pt x="3343564" y="2456719"/>
                </a:cubicBezTo>
                <a:cubicBezTo>
                  <a:pt x="3265055" y="2393604"/>
                  <a:pt x="3138825" y="2268913"/>
                  <a:pt x="2992582" y="2188864"/>
                </a:cubicBezTo>
                <a:cubicBezTo>
                  <a:pt x="2846340" y="2108816"/>
                  <a:pt x="2723188" y="2033385"/>
                  <a:pt x="2466109" y="1976428"/>
                </a:cubicBezTo>
                <a:cubicBezTo>
                  <a:pt x="2209030" y="1919471"/>
                  <a:pt x="1682557" y="1874828"/>
                  <a:pt x="1450109" y="1847119"/>
                </a:cubicBezTo>
                <a:cubicBezTo>
                  <a:pt x="1217661" y="1819410"/>
                  <a:pt x="1171479" y="1828646"/>
                  <a:pt x="1071418" y="1810173"/>
                </a:cubicBezTo>
                <a:cubicBezTo>
                  <a:pt x="971357" y="1791700"/>
                  <a:pt x="892848" y="1773228"/>
                  <a:pt x="849745" y="1736283"/>
                </a:cubicBezTo>
                <a:cubicBezTo>
                  <a:pt x="806642" y="1699338"/>
                  <a:pt x="812800" y="1640840"/>
                  <a:pt x="812800" y="1588501"/>
                </a:cubicBezTo>
                <a:cubicBezTo>
                  <a:pt x="812800" y="1536162"/>
                  <a:pt x="822036" y="1486901"/>
                  <a:pt x="849745" y="1422246"/>
                </a:cubicBezTo>
                <a:cubicBezTo>
                  <a:pt x="877454" y="1357591"/>
                  <a:pt x="912860" y="1280622"/>
                  <a:pt x="979054" y="1200573"/>
                </a:cubicBezTo>
                <a:cubicBezTo>
                  <a:pt x="1045248" y="1120525"/>
                  <a:pt x="1171479" y="1018925"/>
                  <a:pt x="1246909" y="941955"/>
                </a:cubicBezTo>
                <a:cubicBezTo>
                  <a:pt x="1322339" y="864985"/>
                  <a:pt x="1373139" y="811106"/>
                  <a:pt x="1431636" y="738755"/>
                </a:cubicBezTo>
                <a:cubicBezTo>
                  <a:pt x="1490133" y="666404"/>
                  <a:pt x="1567103" y="575579"/>
                  <a:pt x="1597891" y="507846"/>
                </a:cubicBezTo>
                <a:cubicBezTo>
                  <a:pt x="1628679" y="440113"/>
                  <a:pt x="1617904" y="384694"/>
                  <a:pt x="1616364" y="332355"/>
                </a:cubicBezTo>
                <a:cubicBezTo>
                  <a:pt x="1614824" y="280016"/>
                  <a:pt x="1605587" y="232295"/>
                  <a:pt x="1588654" y="193810"/>
                </a:cubicBezTo>
                <a:cubicBezTo>
                  <a:pt x="1571721" y="155325"/>
                  <a:pt x="1544012" y="129155"/>
                  <a:pt x="1514764" y="101446"/>
                </a:cubicBezTo>
                <a:cubicBezTo>
                  <a:pt x="1485516" y="73737"/>
                  <a:pt x="1453650" y="43950"/>
                  <a:pt x="1413164" y="27555"/>
                </a:cubicBezTo>
                <a:cubicBezTo>
                  <a:pt x="1372678" y="11161"/>
                  <a:pt x="1271847" y="3079"/>
                  <a:pt x="1271847" y="3079"/>
                </a:cubicBezTo>
                <a:cubicBezTo>
                  <a:pt x="1228744" y="0"/>
                  <a:pt x="1191029" y="1925"/>
                  <a:pt x="1154545" y="9083"/>
                </a:cubicBezTo>
                <a:cubicBezTo>
                  <a:pt x="1118061" y="16241"/>
                  <a:pt x="1076036" y="30634"/>
                  <a:pt x="1052945" y="46028"/>
                </a:cubicBezTo>
                <a:cubicBezTo>
                  <a:pt x="1029854" y="61422"/>
                  <a:pt x="1033934" y="78817"/>
                  <a:pt x="1016000" y="101446"/>
                </a:cubicBezTo>
                <a:cubicBezTo>
                  <a:pt x="998066" y="124075"/>
                  <a:pt x="983311" y="161848"/>
                  <a:pt x="945342" y="181803"/>
                </a:cubicBezTo>
                <a:cubicBezTo>
                  <a:pt x="907373" y="201758"/>
                  <a:pt x="844142" y="214557"/>
                  <a:pt x="788185" y="221176"/>
                </a:cubicBezTo>
                <a:cubicBezTo>
                  <a:pt x="732228" y="227795"/>
                  <a:pt x="727110" y="215304"/>
                  <a:pt x="609600" y="221519"/>
                </a:cubicBezTo>
                <a:cubicBezTo>
                  <a:pt x="492090" y="227734"/>
                  <a:pt x="0" y="233834"/>
                  <a:pt x="83127" y="258464"/>
                </a:cubicBez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물결 15"/>
          <p:cNvSpPr/>
          <p:nvPr/>
        </p:nvSpPr>
        <p:spPr>
          <a:xfrm flipH="1">
            <a:off x="0" y="6059520"/>
            <a:ext cx="9144000" cy="235728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물결 15"/>
          <p:cNvSpPr/>
          <p:nvPr/>
        </p:nvSpPr>
        <p:spPr>
          <a:xfrm flipH="1" rot="10800000">
            <a:off x="0" y="-1536480"/>
            <a:ext cx="9144000" cy="235440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6680 h 2354400"/>
              <a:gd name="textAreaBottom" fmla="*/ 155772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11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1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