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390-8C07-4BFD-B7BF-98EBFAA9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523-805D-44E5-A009-6FF32C9C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4E6C1-FF21-45C7-89F6-5C4B6FD6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FA1FF-16D2-4A17-B0D5-6C173C2E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A9A76-92F4-42C4-B552-D5895CE1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37C96-A000-42A6-B083-7541B357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D505C-98F7-4E0F-9F56-82A4ABC6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5A8CD-55A9-46EA-B2AE-8DBBCA5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672E0-88B8-4812-9BE6-002BCD0D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19D89-2195-4698-9317-FA606B33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1CA8E-4590-4B21-BCF7-760C290E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F9E76-3B95-46F5-B693-7F603D31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BC0-59D6-4FEF-9846-8780A784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02845-DA81-4FCE-9F38-B76B509A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10EE6-72F6-49EE-BC19-B59794EB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5D277-DD54-42EB-AC75-19F384E2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65927-CFB0-4AA6-AC3D-2D0949AA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2FC2B-8F93-471D-9D77-E177B908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68D1E-E2AA-4BBB-92A8-CB9A5A02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AB8B6-A96D-4F55-8E08-94A5D065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8F618-18F4-43FC-9574-84E54A12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41BE8-B2BC-436B-93A7-B7CE2F17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278FF-17FE-44B6-B60A-BC774F6B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2F4-C1C3-430F-8AAD-9B0568EF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26CE1-1590-4115-AF54-A34C5D8D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501D-60BE-4BC4-AA66-730C262E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185A-AADD-4674-A402-D1B92EA8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07E5-9B3B-4320-9E22-B7E7971D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1D99-B1DF-4D75-8E3A-7CA23368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30BA-969E-4064-8AD4-A24663FF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3357-65CB-4942-9993-EA609DD9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8D1D-FDF5-403D-B4D0-D39E3151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036-E0F0-4C04-8953-7555CF3B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87D7-3507-4B8B-9AF5-1A69259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2A5B-9258-4A4C-A8A9-9B35794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5C6D-4E49-4082-B864-0473F65A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5002-56C7-4684-99BD-23B1FF47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0549-A44D-4175-BC58-789E1B19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CBD0-6443-4D06-A1B3-6EFBE458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9847-2921-43D9-99CD-5638C729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648B-F614-4020-820F-8E44C449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A8B9-1D64-4A48-87B2-0EB31C55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8366-8DC5-4266-8C4A-B891AF4F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A47-6E9C-4CAC-952B-F13643DB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CACF-1E72-499C-8BAE-5DC4D16A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596B-18F6-4C70-B81E-E6650306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8290-39B4-41DF-A2AC-0F80F226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A3F5-B9A2-434F-B76C-CD707D65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81F0-8B92-4CE4-BCC0-AD6C977C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66DA-7D37-4C29-9947-4E9D3CBB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F9FF-2C69-4CF9-B526-923F64CC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1C9F-788C-4254-974C-3026CE38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044BB-EAB1-4F52-B3BE-5C5ABA59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2BBD-6F43-4871-91B4-3086477C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3D6-8F9B-4863-9DE6-8BEFBDA3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F733-CACA-448B-BB3B-8082305A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854C-D935-4BE4-BB61-1B6A9E68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AEF12-28E7-41D7-A86F-F89FA971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34BFC-A79D-4E71-A77A-920E9F52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2E889-ECF9-467D-BF2D-01D65795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BD0E-B71D-4C71-8D3F-B85CEECD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42E7-62EF-4AAC-A38F-0B6E0AFD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A5362-7A83-4281-BFB7-7AAB0AE1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6F4D0-3BE4-46AC-9B20-CFC37094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4641B-0AC9-478E-8584-56714889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C0D-AF7B-4DEB-BE3A-8E83102A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D745E-64E3-481E-9422-FDAAF898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F213D-40F0-4922-AF96-61FCEB70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567D-4C39-45E6-A159-336D029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97F6E-469D-4B75-8559-37C39A83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8ED8B-FBA3-41F1-93A4-8CB69030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D2299-B67B-45AD-B7EB-D884A41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73A92-C77E-4575-A5DD-F63CA6F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A793-FEFD-41DD-A185-80061C3D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E34BD-166B-4578-ACF3-54C0FD99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3276-DC40-426C-B2B9-1FAC1D29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B74-1094-4550-A62C-E0ED32F2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6BE0F-99EC-46B3-9F7C-A4D551DB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7066F-ADC3-4CF4-8288-2B4AA038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4C7FB-EC27-401D-A88F-C2A760A3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C499A-8497-4470-AAC6-8EDE4DA0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82E57-F746-408E-AB32-63A6DF95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2E116-82DF-4B41-A285-830E1F19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E6810-4E16-4F02-BAE2-5D806CAB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0693F-866F-4522-8D85-CEEC0ED8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CF05-C189-4D7F-88DF-527C804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540FB-1F56-4675-9FE8-848239B8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BF4-E649-4EF8-AF35-DBAFF01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2800B-65E5-4097-BF91-B303329D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F4518-4F1A-4F63-9835-8F1CFB72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6196-C2F0-4BC3-B64B-219CE24E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7D7B2-96F3-4157-B92B-2E6F2DFE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07C96-0B15-46B1-8E6B-1BC35C03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E0060-1089-4785-ADFB-BF1DEF33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C9992-995A-47CD-B639-030DED35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86866-5A35-4230-B910-2FBB17B2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0F042-33B5-4A04-8E30-FCBF99BB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BA0D6-7241-4C17-A35B-87B5B0F8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929-8086-4CC0-8DFA-5446BD75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A0787-4A7A-4D8A-BBBC-81DA5C72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88137-63F4-4157-A032-57C5D9BC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44D04-F7BC-405C-A0A2-26C7D0A0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0745C-1C4F-43DF-A8CA-A924C48B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4A0A4-50AA-4B99-8B3B-3DB0B69F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A7AA6-F40A-48A0-844E-2219A83A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E00A0-2EB0-4F81-A833-0963E8A6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DA2BA-841E-4C44-B412-0A4D9EFB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E8E5C-9E53-4123-A3B7-E0DD784A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8A1B8-F1CC-416E-A3B5-3A73CC14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9EF-8C9F-460D-8686-F5D36C4C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E345C-9D0B-4EF5-82FE-B0192B15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701F1-B7FD-408A-A29D-A5C9E319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485B7-2B3E-49BE-8B2B-125A28C1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73276-8E7B-4C1D-9405-6BBFA9F7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B0C15-7359-42DB-92D9-ABD72472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8379B-69F1-4629-A405-7F67D867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FE3AE-ADC0-443A-A6C6-3781CD59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49387-7AEC-44FA-957E-B5D35E4D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9CD1C-8DAF-4BD3-96BA-6FAB2846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0346D-0B78-478B-A4A8-55D260A2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AA87-B085-4EF2-93AE-DBDF8174BC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6415-2910-4E05-A234-D9859986E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77DA-5AD8-4D00-88C8-BB9AE82B793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103" name="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E477-1372-4170-8F83-371FAC6A5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80F1-061D-4F92-8D41-3CE69A782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6434-8CDF-4043-B046-F9D2CF43C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A3EA-E628-4CDC-AC81-20DDD2472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1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22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25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9332-3589-4D27-A2DF-E8254E5D25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371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5C4F-01EA-40A3-953A-05BD1967BA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18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EC06-9961-456A-828C-60160BC94E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/img4/626/085.gi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257,2,&#21069;&#12288;&#12288;&#12288;&#35328;" TargetMode="External"/><Relationship Id="rId5" Type="http://schemas.openxmlformats.org/officeDocument/2006/relationships/slideLayout" Target="../slideLayouts/slideLayout1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/img4/626/085.gi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C:%5CDocuments%20and%20Settings%5CAdministrator%5C&#26700;&#38754;%5C&#22312;&#24863;&#24681;&#20013;&#25104;&#38271;%5C&#28436;&#31034;&#25991;&#31295;1.ppt" TargetMode="External"/><Relationship Id="rId3" Type="http://schemas.openxmlformats.org/officeDocument/2006/relationships/hyperlink" Target="270,4,        &#24590;   &#26679;   &#24863;   &#24681;" TargetMode="External"/><Relationship Id="rId4" Type="http://schemas.openxmlformats.org/officeDocument/2006/relationships/hyperlink" Target="259,5,&#24187;&#28783;&#29255; 5" TargetMode="External"/><Relationship Id="rId5" Type="http://schemas.openxmlformats.org/officeDocument/2006/relationships/hyperlink" Target="261,6,&#24863;&#12288;&#24681;&#12288;&#29238;&#12288;&#27597;" TargetMode="External"/><Relationship Id="rId6" Type="http://schemas.openxmlformats.org/officeDocument/2006/relationships/hyperlink" Target="262,7,&#19968;&#12288;&#30871;&#12288;&#28151;&#12288;&#27788;" TargetMode="External"/><Relationship Id="rId7" Type="http://schemas.openxmlformats.org/officeDocument/2006/relationships/hyperlink" Target="264,8,&#37325;&#38451;&#33410;&#8212;&#24863;&#24681;" TargetMode="External"/><Relationship Id="rId8" Type="http://schemas.openxmlformats.org/officeDocument/2006/relationships/hyperlink" Target="265,9, &#24863;    &#24681;     de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hyperlink" Target="271,9,&#24863;&#24681;&#8220;&#30333;&#34915;&#22825;&#20351;&#8221;" TargetMode="External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hyperlink" Target="http://www.9090980.com/" TargetMode="External"/><Relationship Id="rId16" Type="http://schemas.openxmlformats.org/officeDocument/2006/relationships/image" Target="../media/image3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hyperlink" Target="266,11,&#20851; &#20110; &#24863; &#24681; &#30340; &#35799; &#25991;" TargetMode="External"/><Relationship Id="rId20" Type="http://schemas.openxmlformats.org/officeDocument/2006/relationships/hyperlink" Target="257,2,&#21069;&#12288;&#12288;&#12288;&#35328;" TargetMode="External"/><Relationship Id="rId2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os163.com/Files/BeyondPic/2007-1/12/2006112320134047362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sucaiku.net/sucai/renwu/025/web/022.htm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7380360" y="6237360"/>
            <a:ext cx="1295280" cy="431640"/>
          </a:xfrm>
          <a:prstGeom prst="ellipse">
            <a:avLst/>
          </a:prstGeom>
          <a:gradFill rotWithShape="0">
            <a:gsLst>
              <a:gs pos="0">
                <a:srgbClr val="ffc48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 rot="21455400">
            <a:off x="3201480" y="6095520"/>
            <a:ext cx="2519640" cy="2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　恩　出　版　社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08" name=""/>
          <p:cNvSpPr/>
          <p:nvPr/>
        </p:nvSpPr>
        <p:spPr>
          <a:xfrm>
            <a:off x="8110440" y="404640"/>
            <a:ext cx="10335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言寸草心      报得三春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421000"/>
            <a:ext cx="6659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3132000" y="2708280"/>
            <a:ext cx="2952720" cy="27511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7667640" y="6237360"/>
            <a:ext cx="1476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Garamond"/>
                <a:ea typeface="华文新魏"/>
                <a:hlinkClick r:id="rId4"/>
              </a:rPr>
              <a:t>进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139200" y="44280"/>
            <a:ext cx="28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华文新魏"/>
              </a:rPr>
              <a:t>感恩的</a:t>
            </a: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华文新魏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64000" y="404640"/>
            <a:ext cx="64800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aff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76720" y="404640"/>
            <a:ext cx="647640" cy="648000"/>
          </a:xfrm>
          <a:prstGeom prst="ellipse">
            <a:avLst/>
          </a:prstGeom>
          <a:gradFill rotWithShape="0">
            <a:gsLst>
              <a:gs pos="0">
                <a:srgbClr val="afef2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284720" y="404640"/>
            <a:ext cx="647640" cy="648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2627280" y="3357720"/>
            <a:ext cx="3456000" cy="21463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219640" y="5373720"/>
            <a:ext cx="432000" cy="43164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00000" y="4941720"/>
            <a:ext cx="719280" cy="792360"/>
          </a:xfrm>
          <a:custGeom>
            <a:avLst/>
            <a:gdLst>
              <a:gd name="textAreaLeft" fmla="*/ 168840 w 719280"/>
              <a:gd name="textAreaRight" fmla="*/ 549720 w 71928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50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感    恩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067280" y="1341360"/>
            <a:ext cx="4897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要苍天知道我不认输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感恩的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感谢有你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伴我一生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我有勇气做我自己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感恩的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感谢命运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花开花落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一样会珍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35280" y="549360"/>
            <a:ext cx="360360" cy="358560"/>
          </a:xfrm>
          <a:custGeom>
            <a:avLst/>
            <a:gdLst>
              <a:gd name="textAreaLeft" fmla="*/ 84600 w 360360"/>
              <a:gd name="textAreaRight" fmla="*/ 275400 w 360360"/>
              <a:gd name="textAreaTop" fmla="*/ 42120 h 358560"/>
              <a:gd name="textAreaBottom" fmla="*/ 225000 h 35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95640" y="3068640"/>
            <a:ext cx="289080" cy="360360"/>
          </a:xfrm>
          <a:custGeom>
            <a:avLst/>
            <a:gdLst>
              <a:gd name="textAreaLeft" fmla="*/ 67680 w 289080"/>
              <a:gd name="textAreaRight" fmla="*/ 221040 w 28908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732720" y="1773360"/>
            <a:ext cx="792000" cy="718920"/>
          </a:xfrm>
          <a:custGeom>
            <a:avLst/>
            <a:gdLst>
              <a:gd name="textAreaLeft" fmla="*/ 186120 w 792000"/>
              <a:gd name="textAreaRight" fmla="*/ 605520 w 79200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451640" y="5157720"/>
            <a:ext cx="505080" cy="503280"/>
          </a:xfrm>
          <a:custGeom>
            <a:avLst/>
            <a:gdLst>
              <a:gd name="textAreaLeft" fmla="*/ 118440 w 505080"/>
              <a:gd name="textAreaRight" fmla="*/ 386280 w 50508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0920" y="1341360"/>
            <a:ext cx="352728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来自偶然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像一颗尘土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有谁看出我的脆弱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来自何方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情归何处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谁在下一刻呼唤我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天地虽宽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这条路却难走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看遍这人间坎坷辛苦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还有多少爱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还有多少泪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33360"/>
            <a:ext cx="250920" cy="216000"/>
          </a:xfrm>
          <a:custGeom>
            <a:avLst/>
            <a:gdLst>
              <a:gd name="textAreaLeft" fmla="*/ 59040 w 250920"/>
              <a:gd name="textAreaRight" fmla="*/ 191880 w 2509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105264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170028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35606a"/>
              </a:gs>
              <a:gs pos="50000">
                <a:srgbClr val="75d1e7"/>
              </a:gs>
              <a:gs pos="100000">
                <a:srgbClr val="35606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249228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06864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78936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5e005e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443700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5df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515772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587700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6497640"/>
            <a:ext cx="324000" cy="360360"/>
          </a:xfrm>
          <a:custGeom>
            <a:avLst/>
            <a:gdLst>
              <a:gd name="textAreaLeft" fmla="*/ 75960 w 324000"/>
              <a:gd name="textAreaRight" fmla="*/ 247680 w 32400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4360" y="0"/>
            <a:ext cx="323640" cy="289080"/>
          </a:xfrm>
          <a:custGeom>
            <a:avLst/>
            <a:gdLst>
              <a:gd name="textAreaLeft" fmla="*/ 75960 w 323640"/>
              <a:gd name="textAreaRight" fmla="*/ 247320 w 32364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820000" y="33336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5df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820000" y="98100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820000" y="170028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820000" y="234936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820000" y="306864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820000" y="371628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820000" y="429264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820000" y="486900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820000" y="558972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50000">
                <a:srgbClr val="754675"/>
              </a:gs>
              <a:gs pos="100000">
                <a:srgbClr val="ff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820000" y="616572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2f75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6227640" y="476280"/>
            <a:ext cx="720720" cy="4906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75640" y="6308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016360" cy="187812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华文新魏"/>
              </a:rPr>
              <a:t>关 于 感 恩 的 诗 文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814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小乌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路边开放野菊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飞来一只小乌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不吵闹呀不玩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急急忙忙赶回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它的妈妈年纪大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躺在窝里飞不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小乌鸦呀叼条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一口一口喂妈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多可爱的小乌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多懂事的小乌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飞来飞去不忘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妈妈把它喂养大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 rot="10800000">
            <a:off x="6372000" y="0"/>
            <a:ext cx="1368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0920" y="530064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00000" y="378936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50920" y="234936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6093000"/>
            <a:ext cx="217440" cy="21564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23840" y="2133720"/>
            <a:ext cx="6939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感恩孝敬歌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中华美德传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面善笑未先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父母养育我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恩情大如天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规范己言行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懂事又能干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儿女多行孝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双亲喜开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8459640" y="6642000"/>
            <a:ext cx="21780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2000" y="2133720"/>
            <a:ext cx="217440" cy="21564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076720" y="76500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675640" y="537372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140360" y="429264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172360" y="83664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675640" y="2276640"/>
            <a:ext cx="217440" cy="21564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763640" y="189000"/>
            <a:ext cx="217440" cy="21564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924360" y="4437000"/>
            <a:ext cx="4895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常问好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讲礼貌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求上进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走正道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舒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放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少空谈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多帮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勤学习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苦钻研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省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开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遇难事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勤商量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称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忌盲从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不迁就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谏父母真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遇矛盾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能宽容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常感恩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懂回报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顺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献社会爱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675640" y="645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67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67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67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67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A9ECC-C1E1-4FF6-A2D5-8D0F08781252}" type="slidenum">
              <a:t>12</a:t>
            </a:fld>
          </a:p>
        </p:txBody>
      </p:sp>
    </p:spTree>
  </p:cSld>
  <p:transition spd="med" advTm="1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3a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6948360" y="6237360"/>
            <a:ext cx="21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定价：　４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0920" y="4221000"/>
            <a:ext cx="27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设计人员：宇宇　竹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璐璐　馨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50920" y="260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  <a:ea typeface="华文新魏"/>
              </a:rPr>
              <a:t>在  感  恩  中  成  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7308720" y="5373720"/>
            <a:ext cx="1295640" cy="71604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4"/>
          <a:srcRect l="0" t="0" r="0" b="1349"/>
          <a:stretch/>
        </p:blipFill>
        <p:spPr>
          <a:xfrm>
            <a:off x="5724360" y="3068640"/>
            <a:ext cx="1511640" cy="124920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050920" y="5445000"/>
            <a:ext cx="1224000" cy="1008360"/>
          </a:xfrm>
          <a:custGeom>
            <a:avLst/>
            <a:gdLst>
              <a:gd name="textAreaLeft" fmla="*/ 287640 w 1224000"/>
              <a:gd name="textAreaRight" fmla="*/ 935640 w 1224000"/>
              <a:gd name="textAreaTop" fmla="*/ 118440 h 1008360"/>
              <a:gd name="textAreaBottom" fmla="*/ 632520 h 1008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340000" y="5661000"/>
            <a:ext cx="216000" cy="2174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c285ff"/>
              </a:gs>
              <a:gs pos="100000">
                <a:srgbClr val="9933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771640" y="5661000"/>
            <a:ext cx="217800" cy="217440"/>
          </a:xfrm>
          <a:custGeom>
            <a:avLst/>
            <a:gdLst>
              <a:gd name="textAreaLeft" fmla="*/ 51120 w 217800"/>
              <a:gd name="textAreaRight" fmla="*/ 166680 w 21780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6699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595008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ea2d00"/>
          </a:solidFill>
          <a:ln w="9360">
            <a:solidFill>
              <a:srgbClr val="ea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66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前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　　　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言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行楷"/>
              </a:rPr>
              <a:t>敬爱的读者们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感恩是一个良好的思想品德，每个人都应该学会感恩．感恩中我们会懂得很多道理．感恩首先要尊重别人，别人才会尊重自己，当你遇到困难时，他（她）就会第一个站在你面前，伸出援助之手帮助你，那你也应该在他（她）遇到困难时尽力的去帮助他（她），这就是感恩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443640" y="333360"/>
            <a:ext cx="1152720" cy="7160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rot="835200">
            <a:off x="8388360" y="623700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532720" y="623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2000" spc="-1" strike="noStrike" u="sng">
                <a:solidFill>
                  <a:srgbClr val="00b200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7224840" y="4822920"/>
            <a:ext cx="1919160" cy="2035080"/>
          </a:xfrm>
          <a:prstGeom prst="rect">
            <a:avLst/>
          </a:prstGeom>
          <a:ln w="0">
            <a:noFill/>
          </a:ln>
        </p:spPr>
      </p:pic>
      <p:sp>
        <p:nvSpPr>
          <p:cNvPr id="521" name="未知"/>
          <p:cNvSpPr/>
          <p:nvPr/>
        </p:nvSpPr>
        <p:spPr>
          <a:xfrm flipH="1" rot="1801800">
            <a:off x="5579640" y="692280"/>
            <a:ext cx="774720" cy="6529320"/>
          </a:xfrm>
          <a:custGeom>
            <a:avLst/>
            <a:gdLst/>
            <a:ahLst/>
            <a:rect l="l" t="t" r="r" b="b"/>
            <a:pathLst>
              <a:path w="216" h="2296">
                <a:moveTo>
                  <a:pt x="152" y="0"/>
                </a:moveTo>
                <a:cubicBezTo>
                  <a:pt x="80" y="140"/>
                  <a:pt x="8" y="279"/>
                  <a:pt x="8" y="431"/>
                </a:cubicBezTo>
                <a:cubicBezTo>
                  <a:pt x="8" y="582"/>
                  <a:pt x="144" y="741"/>
                  <a:pt x="152" y="909"/>
                </a:cubicBezTo>
                <a:cubicBezTo>
                  <a:pt x="160" y="1076"/>
                  <a:pt x="80" y="1292"/>
                  <a:pt x="56" y="1435"/>
                </a:cubicBezTo>
                <a:cubicBezTo>
                  <a:pt x="32" y="1579"/>
                  <a:pt x="0" y="1674"/>
                  <a:pt x="8" y="1770"/>
                </a:cubicBezTo>
                <a:cubicBezTo>
                  <a:pt x="16" y="1866"/>
                  <a:pt x="72" y="1945"/>
                  <a:pt x="104" y="2009"/>
                </a:cubicBezTo>
                <a:cubicBezTo>
                  <a:pt x="136" y="2073"/>
                  <a:pt x="184" y="2113"/>
                  <a:pt x="200" y="2153"/>
                </a:cubicBezTo>
                <a:cubicBezTo>
                  <a:pt x="216" y="2193"/>
                  <a:pt x="204" y="2230"/>
                  <a:pt x="200" y="2248"/>
                </a:cubicBezTo>
                <a:cubicBezTo>
                  <a:pt x="196" y="2266"/>
                  <a:pt x="184" y="2256"/>
                  <a:pt x="176" y="2264"/>
                </a:cubicBezTo>
                <a:cubicBezTo>
                  <a:pt x="168" y="2272"/>
                  <a:pt x="157" y="2289"/>
                  <a:pt x="152" y="2296"/>
                </a:cubicBezTo>
              </a:path>
            </a:pathLst>
          </a:custGeom>
          <a:gradFill rotWithShape="0">
            <a:gsLst>
              <a:gs pos="0">
                <a:srgbClr val="ffddfd"/>
              </a:gs>
              <a:gs pos="100000">
                <a:srgbClr val="fbeec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2"/>
          </p:cNvPr>
          <p:cNvSpPr/>
          <p:nvPr/>
        </p:nvSpPr>
        <p:spPr>
          <a:xfrm>
            <a:off x="4067280" y="2997360"/>
            <a:ext cx="194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怎样感恩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………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67280" y="472428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Garamond"/>
                <a:hlinkClick r:id="rId4"/>
              </a:rPr>
              <a:t>感恩老师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……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40360" y="544500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Garamond"/>
                <a:hlinkClick r:id="rId5"/>
              </a:rPr>
              <a:t>感恩父母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……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40360" y="6165720"/>
            <a:ext cx="2017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Garamond"/>
                <a:hlinkClick r:id="rId6"/>
              </a:rPr>
              <a:t>一碗混沌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……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77080" y="1341360"/>
            <a:ext cx="208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7"/>
              </a:rPr>
              <a:t>重阳节—感恩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……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77080" y="4005360"/>
            <a:ext cx="2016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8"/>
              </a:rPr>
              <a:t>感恩的心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……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067280" y="2133720"/>
            <a:ext cx="1962000" cy="398880"/>
            <a:chOff x="4067280" y="2133720"/>
            <a:chExt cx="1962000" cy="398880"/>
          </a:xfrm>
        </p:grpSpPr>
        <p:sp>
          <p:nvSpPr>
            <p:cNvPr id="529" name="未知"/>
            <p:cNvSpPr/>
            <p:nvPr/>
          </p:nvSpPr>
          <p:spPr>
            <a:xfrm>
              <a:off x="4067280" y="2180520"/>
              <a:ext cx="1962000" cy="340920"/>
            </a:xfrm>
            <a:custGeom>
              <a:avLst/>
              <a:gdLst/>
              <a:ahLst/>
              <a:rect l="l" t="t" r="r" b="b"/>
              <a:pathLst>
                <a:path w="3374" h="821">
                  <a:moveTo>
                    <a:pt x="114" y="91"/>
                  </a:moveTo>
                  <a:cubicBezTo>
                    <a:pt x="46" y="121"/>
                    <a:pt x="12" y="189"/>
                    <a:pt x="6" y="259"/>
                  </a:cubicBezTo>
                  <a:cubicBezTo>
                    <a:pt x="0" y="329"/>
                    <a:pt x="70" y="441"/>
                    <a:pt x="78" y="511"/>
                  </a:cubicBezTo>
                  <a:cubicBezTo>
                    <a:pt x="86" y="581"/>
                    <a:pt x="38" y="629"/>
                    <a:pt x="54" y="679"/>
                  </a:cubicBezTo>
                  <a:cubicBezTo>
                    <a:pt x="70" y="729"/>
                    <a:pt x="60" y="801"/>
                    <a:pt x="174" y="811"/>
                  </a:cubicBezTo>
                  <a:cubicBezTo>
                    <a:pt x="288" y="821"/>
                    <a:pt x="512" y="751"/>
                    <a:pt x="738" y="739"/>
                  </a:cubicBezTo>
                  <a:cubicBezTo>
                    <a:pt x="964" y="727"/>
                    <a:pt x="1268" y="741"/>
                    <a:pt x="1530" y="739"/>
                  </a:cubicBezTo>
                  <a:cubicBezTo>
                    <a:pt x="1792" y="737"/>
                    <a:pt x="2056" y="731"/>
                    <a:pt x="2310" y="727"/>
                  </a:cubicBezTo>
                  <a:cubicBezTo>
                    <a:pt x="2564" y="723"/>
                    <a:pt x="2904" y="731"/>
                    <a:pt x="3054" y="715"/>
                  </a:cubicBezTo>
                  <a:cubicBezTo>
                    <a:pt x="3204" y="699"/>
                    <a:pt x="3188" y="671"/>
                    <a:pt x="3210" y="631"/>
                  </a:cubicBezTo>
                  <a:cubicBezTo>
                    <a:pt x="3232" y="591"/>
                    <a:pt x="3180" y="569"/>
                    <a:pt x="3186" y="475"/>
                  </a:cubicBezTo>
                  <a:cubicBezTo>
                    <a:pt x="3192" y="381"/>
                    <a:pt x="3374" y="134"/>
                    <a:pt x="3246" y="67"/>
                  </a:cubicBezTo>
                  <a:cubicBezTo>
                    <a:pt x="3118" y="0"/>
                    <a:pt x="2684" y="77"/>
                    <a:pt x="2418" y="75"/>
                  </a:cubicBezTo>
                  <a:cubicBezTo>
                    <a:pt x="2152" y="73"/>
                    <a:pt x="1880" y="44"/>
                    <a:pt x="1650" y="55"/>
                  </a:cubicBezTo>
                  <a:cubicBezTo>
                    <a:pt x="1420" y="66"/>
                    <a:pt x="1244" y="140"/>
                    <a:pt x="1038" y="144"/>
                  </a:cubicBezTo>
                  <a:cubicBezTo>
                    <a:pt x="832" y="148"/>
                    <a:pt x="568" y="88"/>
                    <a:pt x="414" y="79"/>
                  </a:cubicBezTo>
                  <a:cubicBezTo>
                    <a:pt x="260" y="70"/>
                    <a:pt x="188" y="76"/>
                    <a:pt x="114" y="91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9"/>
            <a:stretch/>
          </p:blipFill>
          <p:spPr>
            <a:xfrm>
              <a:off x="4155840" y="2218320"/>
              <a:ext cx="304920" cy="30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865760" y="213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ccff"/>
                  </a:solidFill>
                  <a:latin typeface="Arial"/>
                  <a:ea typeface="华文新魏"/>
                </a:rPr>
                <a:t>学会感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995640" y="3716280"/>
            <a:ext cx="2482920" cy="398880"/>
            <a:chOff x="3995640" y="3716280"/>
            <a:chExt cx="2482920" cy="398880"/>
          </a:xfrm>
        </p:grpSpPr>
        <p:sp>
          <p:nvSpPr>
            <p:cNvPr id="533" name="未知"/>
            <p:cNvSpPr/>
            <p:nvPr/>
          </p:nvSpPr>
          <p:spPr>
            <a:xfrm>
              <a:off x="3995640" y="3756960"/>
              <a:ext cx="2482920" cy="340920"/>
            </a:xfrm>
            <a:custGeom>
              <a:avLst/>
              <a:gdLst/>
              <a:ahLst/>
              <a:rect l="l" t="t" r="r" b="b"/>
              <a:pathLst>
                <a:path w="3374" h="821">
                  <a:moveTo>
                    <a:pt x="114" y="91"/>
                  </a:moveTo>
                  <a:cubicBezTo>
                    <a:pt x="46" y="121"/>
                    <a:pt x="12" y="189"/>
                    <a:pt x="6" y="259"/>
                  </a:cubicBezTo>
                  <a:cubicBezTo>
                    <a:pt x="0" y="329"/>
                    <a:pt x="70" y="441"/>
                    <a:pt x="78" y="511"/>
                  </a:cubicBezTo>
                  <a:cubicBezTo>
                    <a:pt x="86" y="581"/>
                    <a:pt x="38" y="629"/>
                    <a:pt x="54" y="679"/>
                  </a:cubicBezTo>
                  <a:cubicBezTo>
                    <a:pt x="70" y="729"/>
                    <a:pt x="60" y="801"/>
                    <a:pt x="174" y="811"/>
                  </a:cubicBezTo>
                  <a:cubicBezTo>
                    <a:pt x="288" y="821"/>
                    <a:pt x="512" y="751"/>
                    <a:pt x="738" y="739"/>
                  </a:cubicBezTo>
                  <a:cubicBezTo>
                    <a:pt x="964" y="727"/>
                    <a:pt x="1268" y="741"/>
                    <a:pt x="1530" y="739"/>
                  </a:cubicBezTo>
                  <a:cubicBezTo>
                    <a:pt x="1792" y="737"/>
                    <a:pt x="2056" y="731"/>
                    <a:pt x="2310" y="727"/>
                  </a:cubicBezTo>
                  <a:cubicBezTo>
                    <a:pt x="2564" y="723"/>
                    <a:pt x="2904" y="731"/>
                    <a:pt x="3054" y="715"/>
                  </a:cubicBezTo>
                  <a:cubicBezTo>
                    <a:pt x="3204" y="699"/>
                    <a:pt x="3188" y="671"/>
                    <a:pt x="3210" y="631"/>
                  </a:cubicBezTo>
                  <a:cubicBezTo>
                    <a:pt x="3232" y="591"/>
                    <a:pt x="3180" y="569"/>
                    <a:pt x="3186" y="475"/>
                  </a:cubicBezTo>
                  <a:cubicBezTo>
                    <a:pt x="3192" y="381"/>
                    <a:pt x="3374" y="134"/>
                    <a:pt x="3246" y="67"/>
                  </a:cubicBezTo>
                  <a:cubicBezTo>
                    <a:pt x="3118" y="0"/>
                    <a:pt x="2684" y="77"/>
                    <a:pt x="2418" y="75"/>
                  </a:cubicBezTo>
                  <a:cubicBezTo>
                    <a:pt x="2152" y="73"/>
                    <a:pt x="1880" y="44"/>
                    <a:pt x="1650" y="55"/>
                  </a:cubicBezTo>
                  <a:cubicBezTo>
                    <a:pt x="1420" y="66"/>
                    <a:pt x="1244" y="140"/>
                    <a:pt x="1038" y="144"/>
                  </a:cubicBezTo>
                  <a:cubicBezTo>
                    <a:pt x="832" y="148"/>
                    <a:pt x="568" y="88"/>
                    <a:pt x="414" y="79"/>
                  </a:cubicBezTo>
                  <a:cubicBezTo>
                    <a:pt x="260" y="70"/>
                    <a:pt x="188" y="76"/>
                    <a:pt x="114" y="91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10"/>
            <a:stretch/>
          </p:blipFill>
          <p:spPr>
            <a:xfrm>
              <a:off x="4107960" y="3794400"/>
              <a:ext cx="38556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5052600" y="3716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ccff"/>
                  </a:solidFill>
                  <a:latin typeface="Arial"/>
                  <a:ea typeface="华文新魏"/>
                </a:rPr>
                <a:t>感恩中的体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877080" y="2997360"/>
            <a:ext cx="1962000" cy="398880"/>
            <a:chOff x="6877080" y="2997360"/>
            <a:chExt cx="1962000" cy="398880"/>
          </a:xfrm>
        </p:grpSpPr>
        <p:sp>
          <p:nvSpPr>
            <p:cNvPr id="537" name="未知"/>
            <p:cNvSpPr/>
            <p:nvPr/>
          </p:nvSpPr>
          <p:spPr>
            <a:xfrm>
              <a:off x="6877080" y="3038040"/>
              <a:ext cx="1962000" cy="340560"/>
            </a:xfrm>
            <a:custGeom>
              <a:avLst/>
              <a:gdLst/>
              <a:ahLst/>
              <a:rect l="l" t="t" r="r" b="b"/>
              <a:pathLst>
                <a:path w="3374" h="821">
                  <a:moveTo>
                    <a:pt x="114" y="91"/>
                  </a:moveTo>
                  <a:cubicBezTo>
                    <a:pt x="46" y="121"/>
                    <a:pt x="12" y="189"/>
                    <a:pt x="6" y="259"/>
                  </a:cubicBezTo>
                  <a:cubicBezTo>
                    <a:pt x="0" y="329"/>
                    <a:pt x="70" y="441"/>
                    <a:pt x="78" y="511"/>
                  </a:cubicBezTo>
                  <a:cubicBezTo>
                    <a:pt x="86" y="581"/>
                    <a:pt x="38" y="629"/>
                    <a:pt x="54" y="679"/>
                  </a:cubicBezTo>
                  <a:cubicBezTo>
                    <a:pt x="70" y="729"/>
                    <a:pt x="60" y="801"/>
                    <a:pt x="174" y="811"/>
                  </a:cubicBezTo>
                  <a:cubicBezTo>
                    <a:pt x="288" y="821"/>
                    <a:pt x="512" y="751"/>
                    <a:pt x="738" y="739"/>
                  </a:cubicBezTo>
                  <a:cubicBezTo>
                    <a:pt x="964" y="727"/>
                    <a:pt x="1268" y="741"/>
                    <a:pt x="1530" y="739"/>
                  </a:cubicBezTo>
                  <a:cubicBezTo>
                    <a:pt x="1792" y="737"/>
                    <a:pt x="2056" y="731"/>
                    <a:pt x="2310" y="727"/>
                  </a:cubicBezTo>
                  <a:cubicBezTo>
                    <a:pt x="2564" y="723"/>
                    <a:pt x="2904" y="731"/>
                    <a:pt x="3054" y="715"/>
                  </a:cubicBezTo>
                  <a:cubicBezTo>
                    <a:pt x="3204" y="699"/>
                    <a:pt x="3188" y="671"/>
                    <a:pt x="3210" y="631"/>
                  </a:cubicBezTo>
                  <a:cubicBezTo>
                    <a:pt x="3232" y="591"/>
                    <a:pt x="3180" y="569"/>
                    <a:pt x="3186" y="475"/>
                  </a:cubicBezTo>
                  <a:cubicBezTo>
                    <a:pt x="3192" y="381"/>
                    <a:pt x="3374" y="134"/>
                    <a:pt x="3246" y="67"/>
                  </a:cubicBezTo>
                  <a:cubicBezTo>
                    <a:pt x="3118" y="0"/>
                    <a:pt x="2684" y="77"/>
                    <a:pt x="2418" y="75"/>
                  </a:cubicBezTo>
                  <a:cubicBezTo>
                    <a:pt x="2152" y="73"/>
                    <a:pt x="1880" y="44"/>
                    <a:pt x="1650" y="55"/>
                  </a:cubicBezTo>
                  <a:cubicBezTo>
                    <a:pt x="1420" y="66"/>
                    <a:pt x="1244" y="140"/>
                    <a:pt x="1038" y="144"/>
                  </a:cubicBezTo>
                  <a:cubicBezTo>
                    <a:pt x="832" y="148"/>
                    <a:pt x="568" y="88"/>
                    <a:pt x="414" y="79"/>
                  </a:cubicBezTo>
                  <a:cubicBezTo>
                    <a:pt x="260" y="70"/>
                    <a:pt x="188" y="76"/>
                    <a:pt x="114" y="91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8" name="" descr=""/>
            <p:cNvPicPr/>
            <p:nvPr/>
          </p:nvPicPr>
          <p:blipFill>
            <a:blip r:embed="rId11"/>
            <a:stretch/>
          </p:blipFill>
          <p:spPr>
            <a:xfrm>
              <a:off x="6965640" y="3075480"/>
              <a:ext cx="304920" cy="30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7675560" y="29973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ccff"/>
                  </a:solidFill>
                  <a:latin typeface="Arial"/>
                  <a:ea typeface="华文新魏"/>
                </a:rPr>
                <a:t>歌颂感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877080" y="2060640"/>
            <a:ext cx="2266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12"/>
              </a:rPr>
              <a:t>感恩“白衣天使”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.....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492360" y="404640"/>
            <a:ext cx="0" cy="6309000"/>
          </a:xfrm>
          <a:prstGeom prst="line">
            <a:avLst/>
          </a:prstGeom>
          <a:ln w="25560">
            <a:solidFill>
              <a:srgbClr val="cc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9280" y="2276640"/>
            <a:ext cx="2843280" cy="40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编辑出版：感恩出版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主编：馨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副主编：宇宇　竹竹　璐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社址：感恩大街０８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电话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:9090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邮政编码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:9090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E-mail:xinxin@ 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邮发代号：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90-90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出版日期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:2007</a:t>
            </a: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国际标准刊号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: xinxin 9090-980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下载网址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Garamond"/>
                <a:ea typeface="华文新魏"/>
                <a:hlinkClick r:id="rId15"/>
              </a:rPr>
              <a:t>www.9090980.com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6"/>
          <a:stretch/>
        </p:blipFill>
        <p:spPr>
          <a:xfrm>
            <a:off x="250920" y="189000"/>
            <a:ext cx="266544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6" name=""/>
          <p:cNvSpPr txBox="1"/>
          <p:nvPr/>
        </p:nvSpPr>
        <p:spPr>
          <a:xfrm>
            <a:off x="900000" y="549360"/>
            <a:ext cx="129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2d00"/>
                  </a:solidFill>
                  <a:miter/>
                </a:ln>
                <a:solidFill>
                  <a:srgbClr val="ea2d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在感恩中成长</a:t>
            </a:r>
            <a:endParaRPr b="0" lang="en-US" sz="1800" spc="1" strike="noStrike">
              <a:ln w="12600">
                <a:solidFill>
                  <a:srgbClr val="ea2d00"/>
                </a:solidFill>
                <a:miter/>
              </a:ln>
              <a:solidFill>
                <a:srgbClr val="ea2d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47" name=""/>
          <p:cNvSpPr txBox="1"/>
          <p:nvPr/>
        </p:nvSpPr>
        <p:spPr>
          <a:xfrm rot="21456000">
            <a:off x="1115640" y="1412640"/>
            <a:ext cx="863640" cy="2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　恩　出　版　社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7"/>
          <a:srcRect l="52186" t="0" r="0" b="0"/>
          <a:stretch/>
        </p:blipFill>
        <p:spPr>
          <a:xfrm>
            <a:off x="7020000" y="18900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8"/>
          <a:srcRect l="0" t="0" r="47923" b="0"/>
          <a:stretch/>
        </p:blipFill>
        <p:spPr>
          <a:xfrm>
            <a:off x="5219640" y="189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6877080" y="4581360"/>
            <a:ext cx="2266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19"/>
              </a:rPr>
              <a:t>关于感恩的诗文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......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067280" y="1197000"/>
            <a:ext cx="2305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20"/>
              </a:rPr>
              <a:t>前言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.....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975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89753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2835360" cy="30304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怎   样   感   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实感恩是一件很小的事情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日常生活中的小事就能表现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如受到挫折的时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爸爸的一句安慰的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像一股温暖的春风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抚慰了我们幼小的心灵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心中的感恩之情就会油然而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阳节的时候主动为老人做一些力所能及的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就是感恩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 rot="21126600">
            <a:off x="6443640" y="4797000"/>
            <a:ext cx="2089080" cy="16718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4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8975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3419640" y="5229360"/>
            <a:ext cx="1368360" cy="16286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7623000" y="1052640"/>
            <a:ext cx="1521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aramond"/>
                <a:ea typeface="华文新魏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Garamond"/>
                <a:ea typeface="华文新魏"/>
              </a:rPr>
              <a:t>感　恩　老　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076360" y="333360"/>
            <a:ext cx="3312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在我们学习的生涯中，是老师无微不至的关怀着我们．我们才能茁壮成长，懂得人生的道理，感悟人生的真谛．老师是一只红烛，点燃了自己，照亮了我们；老师是辛勤的园丁，滋润着我们；老师是温柔的妈妈，老师是我们心中的创可贴，在我们受到挫折的时候安慰我们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老师教育了我们，难道我们不应该感恩他（她）吗？那我们该怎么做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其实，在老师口渴的时候，为他（她）送上一杯清凉的水，我们的心也向这杯水一样，荡漾出丝丝敬意；在老师劳累的时候，为他（她）捶捶背，揉揉肩，也能浮现出对老师那绵绵的爱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只要我们从身边的小事做起，感恩就在我们身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2640" y="2852640"/>
            <a:ext cx="729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五年级三班　　林寰宇　辜君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6909200">
            <a:off x="457200" y="1063440"/>
            <a:ext cx="792000" cy="770040"/>
          </a:xfrm>
          <a:prstGeom prst="ellipse">
            <a:avLst/>
          </a:prstGeom>
          <a:noFill/>
          <a:ln w="2844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42920" y="692280"/>
            <a:ext cx="768240" cy="687240"/>
          </a:xfrm>
          <a:prstGeom prst="ellipse">
            <a:avLst/>
          </a:prstGeom>
          <a:noFill/>
          <a:ln w="2844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859280" y="3500280"/>
            <a:ext cx="2521080" cy="2146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19160" cy="20350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40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华文行楷"/>
              </a:rPr>
              <a:t>感　恩　父　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父母是最伟大的，他们把我们带到这个美好而又精彩的世界，把我们养育成人，我们应该感恩他们，感恩他们教我们做人的道理，感恩他们让我们知道了生活中的小常识；感恩他们让我们了解到了美好的事物．他们为我们撑起了一把温暖的小伞，为我们挡住了狂风烈日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父母是一盏明亮的灯，引导我们走向成功的大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既然父母为我们做了那么多，难道我们不应该感恩他们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在父母下班时，我们主动为他们献上一杯温暖的茶；在父母劳累的时候，为他们捶捶背，揉揉肩；在父母生病的时候，我们送去一句安慰的话语．这些就能使父母感到无比的高兴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让我们感恩父母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95640" y="6165720"/>
            <a:ext cx="46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aramond"/>
              </a:rPr>
              <a:t>五年级三班　卫璐　　徐文馨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675640" y="645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6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680"/>
            <a:ext cx="2268360" cy="10209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7251840" y="0"/>
            <a:ext cx="1892160" cy="20224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33336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一　碗　混　沌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那天，她跟妈妈吵架了，一气之下，她转身向外跑去．她走了很长时间，看到前面有个面摊，香喷喷，热腾腾，这才感到肚子饿了．可连一个硬币也没有．和蔼的老婆婆看到她站在那边，就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隶书"/>
              </a:rPr>
              <a:t>: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“孩子，你是不是要吃面？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“可是……可是我忘了带钱．”她有些不好意思地回答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“没关系，我请你吃吧．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面摊主人很热心地说：“来，你坐下，我下碗混沌给你吃．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很快，老婆婆端来一碗混沌．她满怀感激，刚吃了几口，眼泪忽然就掉了下来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“你怎么了？”老婆婆关切地问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“我没事，我只是感激！”她忙擦着泪水，对面摊主人说：“我们又不认识，而你就对我这么好，愿意煮混沌给我吃．可是我自己的妈妈，我跟她吵架，她竟然把我赶出来，还叫我别回去！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婆婆听后，平静地说道：“孩子，你怎么会这么想呢？你想想看，我只不过煮了一碗混沌给你吃，你就这么感激我，那你自己的妈妈煮了十多年的饭给你吃，你怎么不感激她呢？你怎么还要跟她吵架？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女孩愣住了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女孩匆匆吃完混沌，开始往家走去．当她走到家附近时，一下就看到疲惫不堪的母亲，正在路口张望…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母亲马上就看到了她，脸上立即露出了喜色：“你这个淘气包，赶快过来吧！饭早就做好了，你再不回来吃，菜都凉了！”这时，她的眼泪又开始掉了下来！　　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有时侯，我们会对别人给予的小惠“感激不尽”，却对亲人一辈子的恩情“视而不见”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720280" y="4437000"/>
            <a:ext cx="4237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　　　</a:t>
            </a:r>
            <a:r>
              <a:rPr b="1" lang="zh-CN" sz="1600" spc="-1" strike="noStrike">
                <a:solidFill>
                  <a:srgbClr val="003300"/>
                </a:solidFill>
                <a:latin typeface="Garamond"/>
              </a:rPr>
              <a:t>佚　　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862680" y="4576680"/>
            <a:ext cx="2281320" cy="22813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 flipH="1" rot="2816400">
            <a:off x="1917720" y="-782280"/>
            <a:ext cx="430200" cy="5688000"/>
          </a:xfrm>
          <a:custGeom>
            <a:avLst/>
            <a:gdLst/>
            <a:ahLst/>
            <a:rect l="l" t="t" r="r" b="b"/>
            <a:pathLst>
              <a:path w="216" h="2296">
                <a:moveTo>
                  <a:pt x="152" y="0"/>
                </a:moveTo>
                <a:cubicBezTo>
                  <a:pt x="80" y="140"/>
                  <a:pt x="8" y="279"/>
                  <a:pt x="8" y="431"/>
                </a:cubicBezTo>
                <a:cubicBezTo>
                  <a:pt x="8" y="582"/>
                  <a:pt x="144" y="741"/>
                  <a:pt x="152" y="909"/>
                </a:cubicBezTo>
                <a:cubicBezTo>
                  <a:pt x="160" y="1076"/>
                  <a:pt x="80" y="1292"/>
                  <a:pt x="56" y="1435"/>
                </a:cubicBezTo>
                <a:cubicBezTo>
                  <a:pt x="32" y="1579"/>
                  <a:pt x="0" y="1674"/>
                  <a:pt x="8" y="1770"/>
                </a:cubicBezTo>
                <a:cubicBezTo>
                  <a:pt x="16" y="1866"/>
                  <a:pt x="72" y="1945"/>
                  <a:pt x="104" y="2009"/>
                </a:cubicBezTo>
                <a:cubicBezTo>
                  <a:pt x="136" y="2073"/>
                  <a:pt x="184" y="2113"/>
                  <a:pt x="200" y="2153"/>
                </a:cubicBezTo>
                <a:cubicBezTo>
                  <a:pt x="216" y="2193"/>
                  <a:pt x="204" y="2230"/>
                  <a:pt x="200" y="2248"/>
                </a:cubicBezTo>
                <a:cubicBezTo>
                  <a:pt x="196" y="2266"/>
                  <a:pt x="184" y="2256"/>
                  <a:pt x="176" y="2264"/>
                </a:cubicBezTo>
                <a:cubicBezTo>
                  <a:pt x="168" y="2272"/>
                  <a:pt x="157" y="2289"/>
                  <a:pt x="152" y="2296"/>
                </a:cubicBezTo>
              </a:path>
            </a:pathLst>
          </a:cu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10914000"/>
          </a:gradFill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未知"/>
          <p:cNvSpPr/>
          <p:nvPr/>
        </p:nvSpPr>
        <p:spPr>
          <a:xfrm>
            <a:off x="324000" y="0"/>
            <a:ext cx="431640" cy="691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161" y="2126"/>
                  <a:pt x="1822" y="9162"/>
                  <a:pt x="911" y="12762"/>
                </a:cubicBezTo>
                <a:cubicBezTo>
                  <a:pt x="0" y="16362"/>
                  <a:pt x="13547" y="20126"/>
                  <a:pt x="16075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5920" y="3500280"/>
            <a:ext cx="423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五年级三班　　邓雯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3492360" y="189000"/>
            <a:ext cx="936720" cy="58248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2d00"/>
                </a:solidFill>
                <a:latin typeface="Arial"/>
                <a:ea typeface="楷体_GB2312"/>
              </a:rPr>
              <a:t>重阳节</a:t>
            </a:r>
            <a:r>
              <a:rPr b="1" lang="en-US" sz="4400" spc="-1" strike="noStrike">
                <a:solidFill>
                  <a:srgbClr val="ea2d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ea2d00"/>
                </a:solidFill>
                <a:latin typeface="Arial"/>
                <a:ea typeface="楷体_GB2312"/>
              </a:rPr>
              <a:t>感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十月十九日是  一年一度的重阳节．是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们的节日，老人们为我们操劳了这么久，是他们安享晚年的时候了，在这个时候，他们最怕的就是孤独，所以我们要多陪他们说说话，别让他们孤独，还要为他们多做些力所能及的事情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那天我心里十分高兴，因为我有一份特殊的礼物，那就是我才发明出来的“炸肉和火腿肠组合”，这两道菜是是送给爷爷奶奶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我是先陪老人们逛好又多，我提了十二袋盐．他们俩心疼地说：“ＸＸ，你别提重的东西，让爷爷提着．”“我不干了．”我硬着头皮说．他们俩看着我这样，也只好让我把这十二袋盐提回家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到了家，我拿着新鲜的火腿肠和火红的辣椒，开始做起火腿肠组合．过了一会儿火腿肠组合做好了，又开始做“炸肉”这道菜酥脆可口，鲜香多滋，肉嫩鲜滑，爷爷奶奶开始品尝了，他们都说：“真好吃！”听到这句话我的心里乐滋滋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晚上我还帮他们做了家务，他们也乐开怀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其实，只要是我们发自内心小小的感恩，不管是一句问候，还是一份小礼物，都能表现出我们对他们这十年来的感恩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阳节感恩老人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感恩“白衣天使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406440" cy="5877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50920" y="974880"/>
            <a:ext cx="8893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把我们从妈妈肚肚里取出的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谁？我们生下来那第一个用温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手抱住我们的是谁？不是妈妈而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白衣天使”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　她们原本和我们素不相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却在我们生病时对我们百般呵护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有一次，我生病了，发高烧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吃了很多药都不见效．甚至发烧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到了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度．妈妈急忙把我送到医院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护士阿姨赶忙为我量了体温，就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带去输液了．可妈妈却要开非常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重要的会，于是便委托护士阿姨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顾我．过了一会儿，我肚肚饿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125360"/>
            <a:ext cx="44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788000" y="1052640"/>
            <a:ext cx="4176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便让护士阿姨去买肯德基给我吃，阿姨没有说话，不到一会儿，阿姨就把肯德基给我买来了，我吃的津津有味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时后我得知，那次吃肯德基花了阿姨６０多元，而她却没找妈妈要那６０元钱．我楞住了，我被这重精神感动了，护士阿姨完全有理由找妈妈要钱，而她却没有，这是一种多么高尚的品德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我因为又生病了，所以又去医院看病，我恰好又碰见了这位阿姨，我把她拉到了一个地方对她说了声：“对不起．”我知到这和阿姨给我买肯德基相比，是渺小又渺小，但这也是一种感恩，我非常内疚，同时也非常高兴，因为我学会了感恩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02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89000"/>
            <a:ext cx="1728720" cy="8571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1:54:37Z</dcterms:created>
  <dc:creator>微软用户</dc:creator>
  <dc:description/>
  <dc:language>en-US</dc:language>
  <cp:lastModifiedBy>SoPPT.com</cp:lastModifiedBy>
  <dcterms:modified xsi:type="dcterms:W3CDTF">2015-07-21T02:11:29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