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130-F085-4A35-8CD7-DE89A605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DD15-DE41-4B59-AFF8-9C5D3972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0E2-319B-4E90-9655-E9CAAD9B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5B4A-77D2-4CD4-BC59-D869D991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E93-F899-452D-9958-F5F8329D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F17-4E4D-48C4-B5E3-1926E58B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F51C-D8C5-4FE3-A56B-E2A52945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DB9-DA8A-4F3A-8B10-A4EB852E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630-FA2A-4B63-92D4-4A62ABC4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A09D-78B8-42AE-8487-9ADCF9F4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C12-EDA4-44F8-8B87-5C4753AD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5D2F-B4AA-49F2-B72E-8C33BF15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2d050"/>
              </a:buClr>
              <a:buSzPct val="25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2d05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2d05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92d05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92d05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A565-5923-470A-85D2-89D26A74A15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6D7A-4500-408C-8EE1-101CD1C3E95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3270240"/>
            <a:ext cx="663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2148840" y="1708200"/>
            <a:ext cx="41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关于爱情的</a:t>
            </a:r>
            <a:r>
              <a:rPr b="1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E2F-A495-409C-ABEF-1E53F083C4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09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3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