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whoosh.wav" ContentType="audio/x-wav"/>
  <Override PartName="/ppt/media/image4.png" ContentType="image/png"/>
  <Override PartName="/ppt/media/laser.wav" ContentType="audio/x-wav"/>
  <Override PartName="/ppt/media/image8.png" ContentType="image/png"/>
  <Override PartName="/ppt/media/image14.jpeg" ContentType="image/jpeg"/>
  <Override PartName="/ppt/media/chimes.wav" ContentType="audio/x-wav"/>
  <Override PartName="/ppt/media/image16.jpeg" ContentType="image/jpeg"/>
  <Override PartName="/ppt/media/image21.jpeg" ContentType="image/jpeg"/>
  <Override PartName="/ppt/media/image20.jpeg" ContentType="image/jpeg"/>
  <Override PartName="/ppt/media/type.wav" ContentType="audio/x-wav"/>
  <Override PartName="/ppt/media/image15.jpeg" ContentType="image/jpeg"/>
  <Override PartName="/ppt/media/image19.jpeg" ContentType="image/jpeg"/>
  <Override PartName="/ppt/media/image18.jpeg" ContentType="image/jpeg"/>
  <Override PartName="/ppt/media/projctor.wav" ContentType="audio/x-wav"/>
  <Override PartName="/ppt/media/image13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5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D2A5-AA98-4F48-927C-18D22E18B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1315-6BB0-4E09-9549-7AF0EF15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CC1E-F92C-4412-8681-54B31078F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605E-15D2-423A-B9CE-80882EF8C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96F1-B22A-496E-9796-7BC97BAD6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D6F5-8B50-4AD4-977C-21488CF3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F98A-AEDC-4870-B8AA-834DC358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8549-677F-4070-BD8C-2F56CCA3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39A3-D174-4BE7-A8FC-1B2E67E9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3615-69A0-4BFF-8DD1-9A72EE5F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739F-E8D3-469C-9A72-E1310912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908A-BBA1-4E9F-9D5F-1B50E474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79B9-98C5-49CF-A51A-B5F67AFB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4C8A-3FF5-418B-868A-0CEE4CEE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5EF4-EA9E-4402-82FA-A26AEF99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D79D-7CFC-4EE3-9E94-AECB4E8C4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E25E-DCD5-417F-8F91-722479563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D9A2-236E-4DB5-9527-01A0473F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D47B-291B-44D6-8C9C-F77962AE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E64D-C314-4F7B-81CE-2693A853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F9E1-D461-412B-A3F4-8419B48D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5DA4-D53F-423F-BA84-B7E29E43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400B-597B-46D4-8BFA-7E65A854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060E-0FAD-4780-B863-81C235FF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D7FB-0996-4F0F-9FF0-F72E1EDD450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A05B-5D7B-43BC-9367-52A83984E2B3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" Target=""/><Relationship Id="rId5" Type="http://schemas.openxmlformats.org/officeDocument/2006/relationships/image" Target="../media/image6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http://www.eeppt.com/sucai/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1.ctgu.edu.cn/ysxy/wang%20yue%20bing/0-wang%20yue%20bing%20-0.htm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wz14z.com/intel/teacherweb/ylp/" TargetMode="External"/><Relationship Id="rId2" Type="http://schemas.openxmlformats.org/officeDocument/2006/relationships/image" Target="../media/image2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../../DOCUME~1/hedy/WINDOWS/TEMP/&#33487;&#36732;.ppt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苏东坡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矩形 1"/>
          <p:cNvSpPr/>
          <p:nvPr/>
        </p:nvSpPr>
        <p:spPr>
          <a:xfrm>
            <a:off x="4805640" y="411120"/>
            <a:ext cx="345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关于苏轼的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"/>
          <p:cNvSpPr/>
          <p:nvPr/>
        </p:nvSpPr>
        <p:spPr>
          <a:xfrm>
            <a:off x="-304920" y="685800"/>
            <a:ext cx="51055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苏辛：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北宋词人苏轼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南宋词人辛弃疾以苏、辛词为豪放派的代表，故常以并称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4" descr="a134"/>
          <p:cNvPicPr/>
          <p:nvPr/>
        </p:nvPicPr>
        <p:blipFill>
          <a:blip r:embed="rId2"/>
          <a:srcRect l="8057" t="0" r="0" b="0"/>
          <a:stretch/>
        </p:blipFill>
        <p:spPr>
          <a:xfrm>
            <a:off x="5410080" y="304920"/>
            <a:ext cx="3353040" cy="6248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BTN_095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57200" y="5715000"/>
            <a:ext cx="1066680" cy="838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5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0" y="1981080"/>
            <a:ext cx="281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4240"/>
                </a:solidFill>
                <a:latin typeface="楷体_GB2312"/>
                <a:ea typeface="楷体_GB2312"/>
              </a:rPr>
              <a:t>苏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4240"/>
                </a:solidFill>
                <a:latin typeface="楷体_GB2312"/>
                <a:ea typeface="楷体_GB2312"/>
              </a:rPr>
              <a:t>蔡襄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4240"/>
                </a:solidFill>
                <a:latin typeface="楷体_GB2312"/>
                <a:ea typeface="楷体_GB2312"/>
              </a:rPr>
              <a:t>黄庭坚米芾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2743200" y="380880"/>
            <a:ext cx="2590920" cy="5486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3"/>
          <a:stretch/>
        </p:blipFill>
        <p:spPr>
          <a:xfrm>
            <a:off x="5715000" y="457200"/>
            <a:ext cx="2666880" cy="54100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3276720" y="594360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4240"/>
                </a:solidFill>
                <a:latin typeface="Times New Roman"/>
                <a:ea typeface="楷体_GB2312"/>
              </a:rPr>
              <a:t>苏轼《赤壁赋》墨迹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7" descr="BTN_0955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57200" y="5715000"/>
            <a:ext cx="1066680" cy="838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6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4972320" y="685800"/>
            <a:ext cx="3196800" cy="5334120"/>
          </a:xfrm>
          <a:prstGeom prst="rect">
            <a:avLst/>
          </a:prstGeom>
          <a:gradFill rotWithShape="0">
            <a:gsLst>
              <a:gs pos="0">
                <a:srgbClr val="00e4a8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6000" spc="-1" strike="noStrike">
                <a:solidFill>
                  <a:srgbClr val="333399"/>
                </a:solidFill>
                <a:latin typeface="Tahoma"/>
              </a:rPr>
              <a:t>题 西 林 壁</a:t>
            </a:r>
            <a:r>
              <a:rPr b="0" lang="zh-CN" sz="66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969560" y="990720"/>
            <a:ext cx="3593160" cy="51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横 看 成 岭 侧 成 峰，远 近 高 低 各 不 同。不 识 庐 山 真 面 目，只 缘 身 在 此 山 中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5900400" y="3657600"/>
            <a:ext cx="729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苏 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0008"/>
          <p:cNvPicPr/>
          <p:nvPr/>
        </p:nvPicPr>
        <p:blipFill>
          <a:blip r:embed="rId1"/>
          <a:stretch/>
        </p:blipFill>
        <p:spPr>
          <a:xfrm>
            <a:off x="5181480" y="5181480"/>
            <a:ext cx="2667240" cy="1371600"/>
          </a:xfrm>
          <a:prstGeom prst="rect">
            <a:avLst/>
          </a:prstGeom>
          <a:ln w="0">
            <a:noFill/>
          </a:ln>
        </p:spPr>
      </p:pic>
      <p:sp>
        <p:nvSpPr>
          <p:cNvPr id="136" name="WordArt 3"/>
          <p:cNvSpPr txBox="1"/>
          <p:nvPr/>
        </p:nvSpPr>
        <p:spPr>
          <a:xfrm>
            <a:off x="1981080" y="304920"/>
            <a:ext cx="3353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诗歌赏析</a:t>
            </a:r>
            <a:endParaRPr b="0" lang="en-US" sz="5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990720" y="1295280"/>
            <a:ext cx="72388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这首诗的特点是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ahoma"/>
              </a:rPr>
              <a:t>形象与哲理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的高度统一。前两句描写庐山峰峦的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ahoma"/>
              </a:rPr>
              <a:t>多姿多态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，第三句笔锋一转，引出下文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ahoma"/>
              </a:rPr>
              <a:t>看山的感受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，阐明了为人处事的哲理：人们所处的地位不同，看问题的出发点不同，对客观事物的认识就会有一定的片面性；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ahoma"/>
              </a:rPr>
              <a:t>要认识事物的真相与全貌，必须超越狭小的范围，摆脱主观的成见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所谓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当局者迷，旁观者清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”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，便是这个道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  <p:sndAc>
      <p:stSnd>
        <p:snd r:embed="rId2" name="chimes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5702400" y="533520"/>
            <a:ext cx="1765080" cy="5410080"/>
          </a:xfrm>
          <a:prstGeom prst="rect">
            <a:avLst/>
          </a:prstGeom>
          <a:gradFill rotWithShape="0">
            <a:gsLst>
              <a:gs pos="0">
                <a:srgbClr val="00e4a8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饮 湖 上 初 晴 后 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5870160" y="2514600"/>
            <a:ext cx="6069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苏  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05160" y="1828800"/>
            <a:ext cx="42321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水  光  潋  艳  晴  放  好，山  色  空  蒙  雨  亦  奇。欲  把  西  湖  比  西  子，淡  妆  浓  抹  总  相  宜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MUSIC03.WAV" descr=""/>
          <p:cNvPicPr/>
          <p:nvPr/>
        </p:nvPicPr>
        <p:blipFill>
          <a:blip r:embed="rId1"/>
          <a:stretch/>
        </p:blipFill>
        <p:spPr>
          <a:xfrm>
            <a:off x="5867280" y="5105520"/>
            <a:ext cx="45720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2" name="chimes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3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2099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Oval 2"/>
          <p:cNvSpPr/>
          <p:nvPr/>
        </p:nvSpPr>
        <p:spPr>
          <a:xfrm>
            <a:off x="2800440" y="304920"/>
            <a:ext cx="3295440" cy="914400"/>
          </a:xfrm>
          <a:prstGeom prst="ellipse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WordArt 3"/>
          <p:cNvSpPr txBox="1"/>
          <p:nvPr/>
        </p:nvSpPr>
        <p:spPr>
          <a:xfrm>
            <a:off x="3352680" y="228600"/>
            <a:ext cx="24386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e4a8"/>
                    </a:gs>
                    <a:gs pos="100000">
                      <a:srgbClr val="5191e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作品赏析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e4a8"/>
                  </a:gs>
                  <a:gs pos="100000">
                    <a:srgbClr val="5191ef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219320" y="1295280"/>
            <a:ext cx="716256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82"/>
                </a:solidFill>
                <a:latin typeface="Times New Roman"/>
              </a:rPr>
              <a:t>这首诗一、二两句描写西湖美景。作者略去花草鱼鸟，大笔挥洒，直写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湖光山色。</a:t>
            </a:r>
            <a:r>
              <a:rPr b="1" lang="zh-CN" sz="2800" spc="-1" strike="noStrike">
                <a:solidFill>
                  <a:srgbClr val="000082"/>
                </a:solidFill>
                <a:latin typeface="Times New Roman"/>
              </a:rPr>
              <a:t>晴雨变化，显示出西湖景色多姿多态，也点明“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初晴后雨</a:t>
            </a:r>
            <a:r>
              <a:rPr b="1" lang="zh-CN" sz="2800" spc="-1" strike="noStrike">
                <a:solidFill>
                  <a:srgbClr val="000082"/>
                </a:solidFill>
                <a:latin typeface="Times New Roman"/>
              </a:rPr>
              <a:t>”的诗题。“方好”、“亦奇”说明不论晴雨，西湖景色俱臻极妙。        三、四两句利用绝妙的比喻，把西湖美景升华到纯净的境界，把西湖比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西子</a:t>
            </a:r>
            <a:r>
              <a:rPr b="1" lang="zh-CN" sz="2800" spc="-1" strike="noStrike">
                <a:solidFill>
                  <a:srgbClr val="000082"/>
                </a:solidFill>
                <a:latin typeface="Times New Roman"/>
              </a:rPr>
              <a:t>，既新奇又贴切，真是神来之笔，揭示出西湖的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风情韵致</a:t>
            </a:r>
            <a:r>
              <a:rPr b="1" lang="zh-CN" sz="2800" spc="-1" strike="noStrike">
                <a:solidFill>
                  <a:srgbClr val="000082"/>
                </a:solidFill>
                <a:latin typeface="Times New Roman"/>
              </a:rPr>
              <a:t>。如果说前两句是作者发现了西湖美，那么后两句是对西湖美的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欣赏与评价</a:t>
            </a:r>
            <a:r>
              <a:rPr b="1" lang="zh-CN" sz="2800" spc="-1" strike="noStrike">
                <a:solidFill>
                  <a:srgbClr val="000082"/>
                </a:solidFill>
                <a:latin typeface="Times New Roman"/>
              </a:rPr>
              <a:t>，极富魅力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  <p:sndAc>
      <p:stSnd>
        <p:snd r:embed="rId1" name="chimes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簌簌衣巾落枣化，村南村北响缫车，牛衣古柳买黄瓜。    酒困路长惟欲睡，日高人渴漫思茶，敲门试问野人家。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1905120" y="16765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徐门石潭谢雨，道上作五首。潭在城东二十里，常与泗水增减，清浊相应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4" descr="0002"/>
          <p:cNvPicPr/>
          <p:nvPr/>
        </p:nvPicPr>
        <p:blipFill>
          <a:blip r:embed="rId1"/>
          <a:stretch/>
        </p:blipFill>
        <p:spPr>
          <a:xfrm>
            <a:off x="6095880" y="5105520"/>
            <a:ext cx="1828800" cy="1199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2" name="chimes.wav"/>
      </p:stSnd>
    </p:sndAc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zh-CN" sz="6000" spc="-1" strike="noStrike">
                <a:solidFill>
                  <a:srgbClr val="333399"/>
                </a:solidFill>
                <a:latin typeface="Tahoma"/>
              </a:rPr>
              <a:t>诗 词 欣 赏  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本诗以朴实、清新、准确、传神的笔触描绘了</a:t>
            </a:r>
            <a:r>
              <a:rPr b="1" i="1" lang="zh-CN" sz="3200" spc="-1" strike="noStrike">
                <a:solidFill>
                  <a:srgbClr val="ff0000"/>
                </a:solidFill>
                <a:latin typeface="Tahoma"/>
              </a:rPr>
              <a:t>农村初夏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的特有景色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苏轼把初夏的缫丝、卖瓜等情景都写入词中，百姓的欣喜与农作物的繁茂，不难窥见，而作者与农民的</a:t>
            </a:r>
            <a:r>
              <a:rPr b="1" i="1" lang="zh-CN" sz="3200" spc="-1" strike="noStrike">
                <a:solidFill>
                  <a:srgbClr val="ff0000"/>
                </a:solidFill>
                <a:latin typeface="Tahoma"/>
              </a:rPr>
              <a:t>融洽之情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，更洋溢在词中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icture 4" descr="0003"/>
          <p:cNvPicPr/>
          <p:nvPr/>
        </p:nvPicPr>
        <p:blipFill>
          <a:blip r:embed="rId1"/>
          <a:stretch/>
        </p:blipFill>
        <p:spPr>
          <a:xfrm>
            <a:off x="5715000" y="5029200"/>
            <a:ext cx="2514600" cy="1523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2" name="chimes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9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苏东坡"/>
          <p:cNvPicPr/>
          <p:nvPr/>
        </p:nvPicPr>
        <p:blipFill>
          <a:blip r:embed="rId1"/>
          <a:stretch/>
        </p:blipFill>
        <p:spPr>
          <a:xfrm>
            <a:off x="2590920" y="0"/>
            <a:ext cx="655308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3"/>
          <p:cNvSpPr/>
          <p:nvPr/>
        </p:nvSpPr>
        <p:spPr>
          <a:xfrm>
            <a:off x="-133920" y="1981080"/>
            <a:ext cx="2191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66"/>
                </a:solidFill>
                <a:latin typeface="Tahoma"/>
              </a:rPr>
              <a:t>第二教时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  <p:sndAc>
      <p:stSnd>
        <p:snd r:embed="rId2" name="chimes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0002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3"/>
          <p:cNvSpPr/>
          <p:nvPr/>
        </p:nvSpPr>
        <p:spPr>
          <a:xfrm rot="38400">
            <a:off x="912960" y="228600"/>
            <a:ext cx="67849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Tahoma"/>
                <a:ea typeface="隶书"/>
              </a:rPr>
              <a:t>念奴娇   赤壁怀古</a:t>
            </a:r>
            <a:br>
              <a:rPr sz="4800"/>
            </a:b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4"/>
          <p:cNvSpPr/>
          <p:nvPr/>
        </p:nvSpPr>
        <p:spPr>
          <a:xfrm rot="21592200">
            <a:off x="678960" y="1974960"/>
            <a:ext cx="79264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方正姚体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华文仿宋"/>
              </a:rPr>
              <a:t>大江东去，浪淘尽，千古风流人物。故垒西边，人道是，三国周郎赤壁。乱石穿空，惊涛拍岸，卷起千堆雪。江山如画一时多少豪杰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华文仿宋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华文仿宋"/>
              </a:rPr>
              <a:t>遥想公瑾当年，小乔初嫁了，雄姿英发。羽扇纶巾，谈笑间，樯橹灰飞烟灭。故国神游，多情应笑我，早生华发。人生如梦，一尊还酹江月。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华文仿宋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7162920" y="8380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276720" y="1295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隶书"/>
              </a:rPr>
              <a:t>苏  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AVSEQ04.WAV" descr=""/>
          <p:cNvPicPr/>
          <p:nvPr/>
        </p:nvPicPr>
        <p:blipFill>
          <a:blip r:embed="rId2"/>
          <a:stretch/>
        </p:blipFill>
        <p:spPr>
          <a:xfrm>
            <a:off x="8153280" y="5791320"/>
            <a:ext cx="381240" cy="380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3" name="chimes.wav"/>
      </p:stSnd>
    </p:sndAc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2" nodeType="afterEffect" fill="hold" presetClass="entr" presetID="7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210129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Tahoma"/>
              </a:rPr>
              <a:t>走近苏东坡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8080" y="14475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Tahoma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诗词、文赋、书法、绘画样样精通。受到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儒家和佛老思想双重影响，思想十分矛盾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入世：积极进取，怀才不遇；出世：逃避现实，寄情山水。</a:t>
            </a:r>
            <a:r>
              <a:rPr b="1" lang="zh-CN" sz="4400" spc="-1" strike="noStrike">
                <a:solidFill>
                  <a:srgbClr val="ffcf01"/>
                </a:solidFill>
                <a:latin typeface="Tahoma"/>
              </a:rPr>
              <a:t>　　　　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　　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835280" y="6237360"/>
            <a:ext cx="669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ppt图片素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http://www.eeppt.com/sucai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Oval 2"/>
          <p:cNvSpPr/>
          <p:nvPr/>
        </p:nvSpPr>
        <p:spPr>
          <a:xfrm>
            <a:off x="2857680" y="228600"/>
            <a:ext cx="3429000" cy="990720"/>
          </a:xfrm>
          <a:prstGeom prst="ellipse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WordArt 3"/>
          <p:cNvSpPr txBox="1"/>
          <p:nvPr/>
        </p:nvSpPr>
        <p:spPr>
          <a:xfrm>
            <a:off x="3200400" y="457200"/>
            <a:ext cx="2590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1c1c1c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背  景  介  绍</a:t>
            </a:r>
            <a:endParaRPr b="0" lang="en-US" sz="3200" spc="1" strike="noStrike">
              <a:ln w="9360">
                <a:solidFill>
                  <a:srgbClr val="1c1c1c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1" name="Text Box 4"/>
          <p:cNvSpPr/>
          <p:nvPr/>
        </p:nvSpPr>
        <p:spPr>
          <a:xfrm flipV="1">
            <a:off x="1219320" y="4118400"/>
            <a:ext cx="723888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10000"/>
              </a:lnSpc>
              <a:spcBef>
                <a:spcPts val="21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方正隶二简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正值王安石变法时期，新旧两派政治势力斗争激烈，朝廷政局多变。因苏轼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为人正直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指责两派中的弊端，加上他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才华出众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所以两派中的投机分子都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排挤迫害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他，甚至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捏造罪名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将他逮捕入狱，后来免于杀害，被贬为黄州团练副使，幸而他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心胸豁达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没有就此消沉下去，在畅游长江时写下了千古名篇， 前后《赤壁赋》、《念奴娇   赤壁怀古》 等广为流传的名篇佳作就是在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黄州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期间遭人陷害的时候写成的。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Courier New"/>
                <a:ea typeface="方正隶二简体"/>
              </a:rPr>
              <a:t>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  <p:sndAc>
      <p:stSnd>
        <p:snd r:embed="rId1" name="chimes.wav"/>
      </p:stSnd>
    </p:sndAc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0021"/>
          <p:cNvPicPr/>
          <p:nvPr/>
        </p:nvPicPr>
        <p:blipFill>
          <a:blip r:embed="rId1"/>
          <a:stretch/>
        </p:blipFill>
        <p:spPr>
          <a:xfrm>
            <a:off x="6400800" y="609480"/>
            <a:ext cx="1676520" cy="1067040"/>
          </a:xfrm>
          <a:prstGeom prst="rect">
            <a:avLst/>
          </a:prstGeom>
          <a:ln w="0">
            <a:noFill/>
          </a:ln>
        </p:spPr>
      </p:pic>
      <p:sp>
        <p:nvSpPr>
          <p:cNvPr id="163" name="WordArt 3"/>
          <p:cNvSpPr txBox="1"/>
          <p:nvPr/>
        </p:nvSpPr>
        <p:spPr>
          <a:xfrm>
            <a:off x="1981080" y="380880"/>
            <a:ext cx="37339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000082"/>
                  </a:solidFill>
                  <a:miter/>
                </a:ln>
                <a:solidFill>
                  <a:srgbClr val="00e4a8"/>
                </a:solidFill>
                <a:latin typeface="宋体"/>
              </a:rPr>
              <a:t>思维因特网</a:t>
            </a:r>
            <a:endParaRPr b="0" lang="en-US" sz="5400" spc="1" strike="noStrike">
              <a:ln w="9360">
                <a:solidFill>
                  <a:srgbClr val="000082"/>
                </a:solidFill>
                <a:miter/>
              </a:ln>
              <a:solidFill>
                <a:srgbClr val="00e4a8"/>
              </a:solidFill>
              <a:latin typeface="宋体"/>
              <a:ea typeface="宋体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143000" y="1905120"/>
            <a:ext cx="7315200" cy="22881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一、《念奴娇   赤壁怀古》是怎样结合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写景和怀古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来抒发感情的？这首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自有横槊气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，哪些词句涌动着泼墨山水般的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慷慨豪迈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的真性情？                               二、请说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豪放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与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婉约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两种词风的不同点。         三、苏轼一生遭遇坎坷，曾通判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杭州、密州、徐州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等地，后又贬谪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黄州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。韶圣初年，又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为文讥斥朝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之罪远谪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惠州、琼州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。在人生最无奈、最绝望的环境里，为什么还能挥洒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九死南荒吾不恨，兹游奇绝冠平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的旷达洒脱的气度？在你的记忆里，历史上还有哪些人比较超脱豁达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  <p:sndAc>
      <p:stSnd>
        <p:snd r:embed="rId2" name="chimes.wav"/>
      </p:stSnd>
    </p:sndAc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" nodeType="afterEffect" fill="hold" presetClass="entr" presetID="18" presetSubtype="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1" lang="zh-CN" sz="5400" spc="-1" strike="noStrike">
                <a:solidFill>
                  <a:srgbClr val="333399"/>
                </a:solidFill>
                <a:latin typeface="Tahoma"/>
              </a:rPr>
              <a:t>人格的</a:t>
            </a:r>
            <a:r>
              <a:rPr b="1" lang="zh-CN" sz="5400" spc="-1" strike="noStrike">
                <a:solidFill>
                  <a:srgbClr val="ff0000"/>
                </a:solidFill>
                <a:latin typeface="Tahoma"/>
              </a:rPr>
              <a:t>魅力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莫听穿林打叶声，何妨吟啸且徐行。竹杖芒鞋轻胜马，谁怕？一蓑烟雨任平生。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料峭春风吹酒醒，微冷，山头斜照却相迎。回首向来萧瑟处，归去 ，也无风雨也晴。             （被贬黄州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41520" y="2017800"/>
            <a:ext cx="3087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空余鲁叟乘桴意，粗识轩辕奏乐声。九死南荒吾不恨，兹游奇绝冠平生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余生欲老海南村，帝遣巫阳招我魂。杳杳天低鹘没处，青山一发是中原。（被贬海南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Picture 5" descr="0006"/>
          <p:cNvPicPr/>
          <p:nvPr/>
        </p:nvPicPr>
        <p:blipFill>
          <a:blip r:embed="rId1"/>
          <a:stretch/>
        </p:blipFill>
        <p:spPr>
          <a:xfrm>
            <a:off x="6019920" y="304920"/>
            <a:ext cx="2057400" cy="1428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2" name="chimes.wav"/>
      </p:stSnd>
    </p:sndAc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8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3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08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6170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Tahoma"/>
              </a:rPr>
              <a:t>　解读苏东坡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为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笃厚真挚、慷慨豪迈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为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心系民众、胸怀社稷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为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豁达超脱、苦乐随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icture 4" descr="0003"/>
          <p:cNvPicPr/>
          <p:nvPr/>
        </p:nvPicPr>
        <p:blipFill>
          <a:blip r:embed="rId1"/>
          <a:stretch/>
        </p:blipFill>
        <p:spPr>
          <a:xfrm>
            <a:off x="5486400" y="4648320"/>
            <a:ext cx="2438280" cy="158112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5"/>
          <p:cNvSpPr/>
          <p:nvPr/>
        </p:nvSpPr>
        <p:spPr>
          <a:xfrm>
            <a:off x="6858000" y="609480"/>
            <a:ext cx="838080" cy="1752840"/>
          </a:xfrm>
          <a:custGeom>
            <a:avLst/>
            <a:gdLst>
              <a:gd name="textAreaLeft" fmla="*/ 345240 w 838080"/>
              <a:gd name="textAreaRight" fmla="*/ 492840 w 838080"/>
              <a:gd name="textAreaTop" fmla="*/ 722160 h 1752840"/>
              <a:gd name="textAreaBottom" fmla="*/ 103068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  <p:sndAc>
      <p:stSnd>
        <p:snd r:embed="rId2" name="chimes.wav"/>
      </p:stSnd>
    </p:sndAc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 flipH="1" flipV="1" rot="10824000">
            <a:off x="923760" y="1977840"/>
            <a:ext cx="753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         </a:t>
            </a:r>
            <a:r>
              <a:rPr b="1" lang="zh-CN" sz="3600" spc="-1" strike="noStrike">
                <a:solidFill>
                  <a:srgbClr val="000082"/>
                </a:solidFill>
                <a:latin typeface="Tahoma"/>
              </a:rPr>
              <a:t>在人生中还有比成功和幸福更重要的东西，那就是凌驾于一切成败祸福之上的</a:t>
            </a:r>
            <a:r>
              <a:rPr b="0" i="1" lang="zh-CN" sz="3600" spc="-1" strike="noStrike">
                <a:solidFill>
                  <a:srgbClr val="ff0000"/>
                </a:solidFill>
                <a:latin typeface="Tahoma"/>
              </a:rPr>
              <a:t>豁达情怀</a:t>
            </a:r>
            <a:r>
              <a:rPr b="1" lang="zh-CN" sz="3600" spc="-1" strike="noStrike">
                <a:solidFill>
                  <a:srgbClr val="000082"/>
                </a:solidFill>
                <a:latin typeface="Tahoma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5486400" y="3962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82"/>
                </a:solidFill>
                <a:latin typeface="Times New Roman"/>
              </a:rPr>
              <a:t>——</a:t>
            </a:r>
            <a:r>
              <a:rPr b="0" lang="zh-CN" sz="3600" spc="-1" strike="noStrike">
                <a:solidFill>
                  <a:srgbClr val="000082"/>
                </a:solidFill>
                <a:latin typeface="Tahoma"/>
              </a:rPr>
              <a:t>周国平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7238880" y="3200400"/>
            <a:ext cx="838440" cy="1523880"/>
          </a:xfrm>
          <a:custGeom>
            <a:avLst/>
            <a:gdLst>
              <a:gd name="textAreaLeft" fmla="*/ 345600 w 838440"/>
              <a:gd name="textAreaRight" fmla="*/ 492840 w 838440"/>
              <a:gd name="textAreaTop" fmla="*/ 627840 h 1523880"/>
              <a:gd name="textAreaBottom" fmla="*/ 8960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Picture 5" descr="0020"/>
          <p:cNvPicPr/>
          <p:nvPr/>
        </p:nvPicPr>
        <p:blipFill>
          <a:blip r:embed="rId1"/>
          <a:stretch/>
        </p:blipFill>
        <p:spPr>
          <a:xfrm>
            <a:off x="1523880" y="4724280"/>
            <a:ext cx="2082960" cy="1486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2" name="chimes.wav"/>
      </p:stSnd>
    </p:sndAc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2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56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61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2"/>
          <p:cNvSpPr txBox="1"/>
          <p:nvPr/>
        </p:nvSpPr>
        <p:spPr>
          <a:xfrm>
            <a:off x="2057400" y="457200"/>
            <a:ext cx="4495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有关倒装句</a:t>
            </a:r>
            <a:endParaRPr b="0" lang="en-US" sz="5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447920" y="1447920"/>
            <a:ext cx="6781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旧体诗词要讲究平仄、押韵。有时为了适应格律的要求，或者为了取得特殊的表达效果，句子里常有倒置语序的情况，请把下边颠倒的语序改过来：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676520" y="3276720"/>
            <a:ext cx="617220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、七八个星天外，两三点雨山前　。　   二、故国神游，多情应笑我，早生华发。　三、　簌簌衣巾落枣花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2362320" y="40384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天外七八个星，山前两三点雨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2286000" y="48769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神游故国，应笑我多情，华发早生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2590920" y="5715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枣花簌簌落衣巾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  <p:sndAc>
      <p:stSnd>
        <p:snd r:embed="rId1" name="chimes.wav"/>
      </p:stSnd>
    </p:sndAc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3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7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苏东坡"/>
          <p:cNvPicPr/>
          <p:nvPr/>
        </p:nvPicPr>
        <p:blipFill>
          <a:blip r:embed="rId1"/>
          <a:stretch/>
        </p:blipFill>
        <p:spPr>
          <a:xfrm>
            <a:off x="2590920" y="0"/>
            <a:ext cx="655308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-133920" y="1981080"/>
            <a:ext cx="2191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66"/>
                </a:solidFill>
                <a:latin typeface="Tahoma"/>
              </a:rPr>
              <a:t>第三教时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  <p:sndAc>
      <p:stSnd>
        <p:snd r:embed="rId2" name="chimes.wav"/>
      </p:stSnd>
    </p:sndAc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shizhongsh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3"/>
          <p:cNvSpPr/>
          <p:nvPr/>
        </p:nvSpPr>
        <p:spPr>
          <a:xfrm>
            <a:off x="6906240" y="1219320"/>
            <a:ext cx="10947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66"/>
                </a:solidFill>
                <a:latin typeface="Tahoma"/>
                <a:ea typeface="方正隶二简体"/>
              </a:rPr>
              <a:t>赤   壁   赋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5489280" y="3276720"/>
            <a:ext cx="911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Tahoma"/>
                <a:ea typeface="华文隶书"/>
              </a:rPr>
              <a:t>苏 轼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  <p:sndAc>
      <p:stSnd>
        <p:snd r:embed="rId2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9600" spc="-1" strike="noStrike">
                <a:solidFill>
                  <a:srgbClr val="000066"/>
                </a:solidFill>
                <a:latin typeface="Tahoma"/>
              </a:rPr>
              <a:t>关于赋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5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Tahoma"/>
              </a:rPr>
              <a:t>      </a:t>
            </a:r>
            <a:r>
              <a:rPr b="1" lang="zh-CN" sz="5400" spc="-1" strike="noStrike">
                <a:solidFill>
                  <a:srgbClr val="000066"/>
                </a:solidFill>
                <a:latin typeface="Tahoma"/>
              </a:rPr>
              <a:t>赋是一种有韵的文体，讲求声律、押韵、对比等形式，有辞赋、骈赋和律赋等。</a:t>
            </a:r>
            <a:r>
              <a:rPr b="1" lang="zh-CN" sz="5400" spc="-1" strike="noStrike">
                <a:solidFill>
                  <a:srgbClr val="ffcf01"/>
                </a:solidFill>
                <a:latin typeface="Tahoma"/>
              </a:rPr>
              <a:t>　　　</a:t>
            </a:r>
            <a:r>
              <a:rPr b="0" lang="zh-CN" sz="6000" spc="-1" strike="noStrike">
                <a:solidFill>
                  <a:srgbClr val="ffcf01"/>
                </a:solidFill>
                <a:latin typeface="Tahoma"/>
              </a:rPr>
              <a:t>　　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  <p:sndAc>
      <p:stSnd>
        <p:snd r:embed="rId1" name="chimes.wav"/>
      </p:stSnd>
    </p:sndAc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057400" y="457200"/>
            <a:ext cx="6477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一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本文押韵换韵的字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间、 天、然、仙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桨、光、方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慕、诉、缕、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稀、飞、诗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昌、苍、郎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东、空、雄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鹿、属、粟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穷、终、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4.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往、长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瞬、尽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主、取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月、色、  竭、适       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5.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酌、藉、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二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读音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属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(  zhǔ   )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客       斗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(dǒu   )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相缪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(  liǎo  )       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酾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(  shī )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酒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扁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(piān    )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舟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  <p:sndAc>
      <p:stSnd>
        <p:snd r:embed="rId1" name="chimes.wav"/>
      </p:stSnd>
    </p:sndAc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3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3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3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8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8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" dur="5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-360" y="1052640"/>
            <a:ext cx="889308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苏轼（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1036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1101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），字子瞻，号东坡居士，眉州眉山人。苏轼幼年时即极为出色，深得老师赏识。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岁时，苏轼与弟弟苏辙一起随父离家进京，第二年兄弟二人都中了进士。当时的文坛领袖欧阳修读了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岁的苏轼所写的文章后说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不觉汗出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。快哉，快哉！老夫当避路，放他出人头地也。可喜！可喜！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并预言未来文坛将属于苏轼。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           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599840" y="0"/>
            <a:ext cx="7543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三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句式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1.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宾语前置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: 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而今安在哉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2.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状语后置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: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泛舟游于赤壁之下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.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3.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定语后置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: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凌万顷之茫然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4.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使动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: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舞幽壑之潜蛟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5.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意动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: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侣鱼虾而友麋鹿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6.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被动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: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此非孟德之困于周郎者乎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835280" y="6237360"/>
            <a:ext cx="669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ppt图片素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http://www.eeppt.com/sucai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  <p:sndAc>
      <p:stSnd>
        <p:snd r:embed="rId2" name="chimes.wav"/>
      </p:stSnd>
    </p:sndAc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42674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Tahoma"/>
              </a:rPr>
              <a:t>全文结构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533520" y="9144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ahoma"/>
              </a:rPr>
              <a:t>写景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：清风徐来，水波不兴；月出东山，　　　徘徊斗牛；白露横江，水 光接天。</a:t>
            </a:r>
            <a:r>
              <a:rPr b="1" lang="zh-CN" sz="3600" spc="-1" strike="noStrike">
                <a:solidFill>
                  <a:srgbClr val="000066"/>
                </a:solidFill>
                <a:latin typeface="Tahoma"/>
              </a:rPr>
              <a:t>抒情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：哀吾生之须臾，羡长江之无穷；　　　　挟飞仙以遨游，抱明月而长终。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ahoma"/>
              </a:rPr>
              <a:t>议论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：水，逝者如斯而未尝往也；　　　　　月，盈虚者如彼而卒莫消长也；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　　变，天地曾不能以一瞬；　　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　　不变，物与我皆无尽</a:t>
            </a:r>
            <a:r>
              <a:rPr b="0" lang="zh-CN" sz="3600" spc="-1" strike="noStrike">
                <a:solidFill>
                  <a:srgbClr val="ffcf01"/>
                </a:solidFill>
                <a:latin typeface="Tahoma"/>
              </a:rPr>
              <a:t>。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　　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ahoma"/>
                <a:ea typeface="黑体"/>
              </a:rPr>
              <a:t>景、情、理融于一体　</a:t>
            </a:r>
            <a:r>
              <a:rPr b="1" lang="zh-CN" sz="4400" spc="-1" strike="noStrike">
                <a:solidFill>
                  <a:srgbClr val="ff33cc"/>
                </a:solidFill>
                <a:latin typeface="Tahoma"/>
                <a:ea typeface="黑体"/>
              </a:rPr>
              <a:t>　</a:t>
            </a:r>
            <a:r>
              <a:rPr b="1" lang="zh-CN" sz="4000" spc="-1" strike="noStrike">
                <a:solidFill>
                  <a:srgbClr val="ff33cc"/>
                </a:solidFill>
                <a:latin typeface="Tahoma"/>
              </a:rPr>
              <a:t>　　　　　　　　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  <p:sndAc>
      <p:stSnd>
        <p:snd r:embed="rId1" name="chimes.wav"/>
      </p:stSnd>
    </p:sndAc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3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4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4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133360" y="457200"/>
            <a:ext cx="7010280" cy="861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ahoma"/>
                <a:ea typeface="黑体"/>
              </a:rPr>
              <a:t>感情变化过程：乐－悲－乐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先写月夜泛舟，饮酒赋诗，沉浸在美好景色中而忘怀世俗的快乐心情；再从凭吊历史人物的兴亡．感到人生短促，变化无常，因而跌入现实的苦闷；最后阐发变与不变的哲理，表现了旷达乐观的人生态度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  <p:sndAc>
      <p:stSnd>
        <p:snd r:embed="rId1" name="chimes.wav"/>
      </p:stSnd>
    </p:sndAc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既保留了传统赋体那种诗的特质与情韵，同时又吸取了散文的笔调和手法；骈词俪句，整散结合；句式长短不齐，用韵错落有致，更多地表现了散文融景情理于一体的艺术特色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  <p:sndAc>
      <p:stSnd>
        <p:snd r:embed="rId1" name="chimes.wav"/>
      </p:stSnd>
    </p:sndAc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324000" y="549360"/>
          <a:ext cx="8540640" cy="5788080"/>
        </p:xfrm>
        <a:graphic>
          <a:graphicData uri="http://schemas.openxmlformats.org/drawingml/2006/table">
            <a:tbl>
              <a:tblPr/>
              <a:tblGrid>
                <a:gridCol w="792000"/>
                <a:gridCol w="3909960"/>
                <a:gridCol w="3838680"/>
              </a:tblGrid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《雨霖铃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《</a:t>
                      </a:r>
                      <a:r>
                        <a:rPr b="1" lang="zh-CN" sz="28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念 奴 娇  赤壁怀古</a:t>
                      </a:r>
                      <a:r>
                        <a:rPr b="0" lang="zh-CN" sz="28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人物行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作者情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Text Box 24"/>
          <p:cNvSpPr/>
          <p:nvPr/>
        </p:nvSpPr>
        <p:spPr>
          <a:xfrm>
            <a:off x="1116000" y="184464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Text Box 25"/>
          <p:cNvSpPr/>
          <p:nvPr/>
        </p:nvSpPr>
        <p:spPr>
          <a:xfrm>
            <a:off x="1187280" y="1341360"/>
            <a:ext cx="381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寒蝉、长亭、骤雨、烟波、楚天（实景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26"/>
          <p:cNvSpPr/>
          <p:nvPr/>
        </p:nvSpPr>
        <p:spPr>
          <a:xfrm>
            <a:off x="1116000" y="227664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Arial"/>
              </a:rPr>
              <a:t>杨柳岸 、晓风、残月（虚景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27"/>
          <p:cNvSpPr/>
          <p:nvPr/>
        </p:nvSpPr>
        <p:spPr>
          <a:xfrm>
            <a:off x="1547640" y="2133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 Box 28"/>
          <p:cNvSpPr/>
          <p:nvPr/>
        </p:nvSpPr>
        <p:spPr>
          <a:xfrm>
            <a:off x="5148360" y="1268280"/>
            <a:ext cx="39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大江、故垒、乱石、惊涛（实景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Text Box 29"/>
          <p:cNvSpPr/>
          <p:nvPr/>
        </p:nvSpPr>
        <p:spPr>
          <a:xfrm>
            <a:off x="5364000" y="2205000"/>
            <a:ext cx="37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樯橹灰飞烟灭（虚景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 Box 30"/>
          <p:cNvSpPr/>
          <p:nvPr/>
        </p:nvSpPr>
        <p:spPr>
          <a:xfrm>
            <a:off x="5148360" y="32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（周瑜）谈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 Box 31"/>
          <p:cNvSpPr/>
          <p:nvPr/>
        </p:nvSpPr>
        <p:spPr>
          <a:xfrm>
            <a:off x="1258920" y="30686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帐饮、执手相看泪眼，竟无语凝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 Box 32"/>
          <p:cNvSpPr/>
          <p:nvPr/>
        </p:nvSpPr>
        <p:spPr>
          <a:xfrm>
            <a:off x="5219640" y="3860640"/>
            <a:ext cx="37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（我）一尊还酹江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Text Box 33"/>
          <p:cNvSpPr/>
          <p:nvPr/>
        </p:nvSpPr>
        <p:spPr>
          <a:xfrm>
            <a:off x="1258920" y="494172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无绪、留恋、多情自古伤离别、纵有千种风情，更与何人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Text Box 34"/>
          <p:cNvSpPr/>
          <p:nvPr/>
        </p:nvSpPr>
        <p:spPr>
          <a:xfrm>
            <a:off x="5292720" y="501336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多情应笑我，早生华发。人生如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AutoShape 35">
            <a:hlinkClick r:id="rId1" action="ppaction://hlinksldjump"/>
          </p:cNvPr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10982"/>
                </a:moveTo>
                <a:lnTo>
                  <a:pt x="17806" y="3976"/>
                </a:lnTo>
                <a:lnTo>
                  <a:pt x="17806" y="17989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  <p:sndAc>
      <p:stSnd>
        <p:snd r:embed="rId2" name="chimes.wav"/>
      </p:stSnd>
    </p:sndAc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800600" y="4114440"/>
            <a:ext cx="990720" cy="213660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苏 轼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1" name="Picture 3" descr="苏东坡"/>
          <p:cNvPicPr/>
          <p:nvPr/>
        </p:nvPicPr>
        <p:blipFill>
          <a:blip r:embed="rId1"/>
          <a:stretch/>
        </p:blipFill>
        <p:spPr>
          <a:xfrm>
            <a:off x="53352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4"/>
          <p:cNvSpPr/>
          <p:nvPr/>
        </p:nvSpPr>
        <p:spPr>
          <a:xfrm>
            <a:off x="5565240" y="1219320"/>
            <a:ext cx="1826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ahoma"/>
              </a:rPr>
              <a:t>第 四 教 时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23880" y="1628280"/>
            <a:ext cx="6858000" cy="252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00"/>
                </a:solidFill>
                <a:latin typeface="Tahoma"/>
                <a:ea typeface="隶书"/>
              </a:rPr>
              <a:t>  </a:t>
            </a:r>
            <a:r>
              <a:rPr b="1" lang="zh-CN" sz="6000" spc="-1" strike="noStrike">
                <a:solidFill>
                  <a:srgbClr val="333399"/>
                </a:solidFill>
                <a:latin typeface="Tahoma"/>
                <a:ea typeface="隶书"/>
              </a:rPr>
              <a:t>豪放派和蜿约派词      的比较阅读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4" name="1.WAV" descr=""/>
          <p:cNvPicPr/>
          <p:nvPr/>
        </p:nvPicPr>
        <p:blipFill>
          <a:blip r:embed="rId1"/>
          <a:stretch/>
        </p:blipFill>
        <p:spPr>
          <a:xfrm>
            <a:off x="7451640" y="5589720"/>
            <a:ext cx="378000" cy="377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2" name="chimes.wav"/>
      </p:stSnd>
    </p:sndAc>
  </p:transition>
  <p:timing>
    <p:tnLst>
      <p:par>
        <p:cTn id="524" dur="indefinite" restart="never" nodeType="tmRoot">
          <p:childTnLst>
            <p:seq>
              <p:cTn id="525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526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9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77040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zh-CN" sz="4000" spc="-1" strike="noStrike">
                <a:solidFill>
                  <a:srgbClr val="000066"/>
                </a:solidFill>
                <a:latin typeface="Tahoma"/>
                <a:ea typeface="隶书"/>
              </a:rPr>
              <a:t>东坡在玉堂（官署名）日，有幕士善歌，（苏轼）因问：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66"/>
                </a:solidFill>
                <a:latin typeface="Tahoma"/>
                <a:ea typeface="隶书"/>
              </a:rPr>
              <a:t>我词何如柳七（柳永）？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1" lang="zh-CN" sz="4000" spc="-1" strike="noStrike">
                <a:solidFill>
                  <a:srgbClr val="000066"/>
                </a:solidFill>
                <a:latin typeface="Tahoma"/>
                <a:ea typeface="隶书"/>
              </a:rPr>
              <a:t>对曰：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66"/>
                </a:solidFill>
                <a:latin typeface="Tahoma"/>
                <a:ea typeface="隶书"/>
              </a:rPr>
              <a:t>柳郎中</a:t>
            </a:r>
            <a:r>
              <a:rPr b="1" lang="zh-CN" sz="4000" spc="-1" strike="noStrike">
                <a:solidFill>
                  <a:srgbClr val="000066"/>
                </a:solidFill>
                <a:latin typeface="Tahoma"/>
                <a:ea typeface="隶书"/>
              </a:rPr>
              <a:t>(</a:t>
            </a:r>
            <a:r>
              <a:rPr b="1" lang="zh-CN" sz="4000" spc="-1" strike="noStrike">
                <a:solidFill>
                  <a:srgbClr val="000066"/>
                </a:solidFill>
                <a:latin typeface="Tahoma"/>
                <a:ea typeface="隶书"/>
              </a:rPr>
              <a:t>柳永</a:t>
            </a:r>
            <a:r>
              <a:rPr b="1" lang="zh-CN" sz="4000" spc="-1" strike="noStrike">
                <a:solidFill>
                  <a:srgbClr val="000066"/>
                </a:solidFill>
                <a:latin typeface="Tahoma"/>
                <a:ea typeface="隶书"/>
              </a:rPr>
              <a:t>)</a:t>
            </a:r>
            <a:r>
              <a:rPr b="1" lang="zh-CN" sz="4000" spc="-1" strike="noStrike">
                <a:solidFill>
                  <a:srgbClr val="000066"/>
                </a:solidFill>
                <a:latin typeface="Tahoma"/>
                <a:ea typeface="隶书"/>
              </a:rPr>
              <a:t>词，只合十七八女郎，执红牙板，歌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‘</a:t>
            </a:r>
            <a:r>
              <a:rPr b="1" lang="zh-CN" sz="4000" spc="-1" strike="noStrike">
                <a:solidFill>
                  <a:srgbClr val="000066"/>
                </a:solidFill>
                <a:latin typeface="Tahoma"/>
                <a:ea typeface="隶书"/>
              </a:rPr>
              <a:t>杨柳岸晓风残月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’</a:t>
            </a:r>
            <a:r>
              <a:rPr b="1" lang="zh-CN" sz="4000" spc="-1" strike="noStrike">
                <a:solidFill>
                  <a:srgbClr val="000066"/>
                </a:solidFill>
                <a:latin typeface="Tahoma"/>
                <a:ea typeface="隶书"/>
              </a:rPr>
              <a:t>；学士（苏轼）词须关西大汉，铜琵琶，铁绰板，唱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‘</a:t>
            </a:r>
            <a:r>
              <a:rPr b="1" lang="zh-CN" sz="4000" spc="-1" strike="noStrike">
                <a:solidFill>
                  <a:srgbClr val="000066"/>
                </a:solidFill>
                <a:latin typeface="Tahoma"/>
                <a:ea typeface="隶书"/>
              </a:rPr>
              <a:t>大江东去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’</a:t>
            </a:r>
            <a:r>
              <a:rPr b="1" lang="zh-CN" sz="4000" spc="-1" strike="noStrike">
                <a:solidFill>
                  <a:srgbClr val="000066"/>
                </a:solidFill>
                <a:latin typeface="Tahoma"/>
                <a:ea typeface="隶书"/>
              </a:rPr>
              <a:t>。东坡为之绝倒。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ahoma"/>
                <a:ea typeface="隶书"/>
              </a:rPr>
              <a:t>               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——</a:t>
            </a:r>
            <a:r>
              <a:rPr b="1" lang="zh-CN" sz="4000" spc="-1" strike="noStrike">
                <a:solidFill>
                  <a:srgbClr val="000066"/>
                </a:solidFill>
                <a:latin typeface="Tahoma"/>
                <a:ea typeface="隶书"/>
              </a:rPr>
              <a:t>俞文豹《吹剑录》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  <p:sndAc>
      <p:stSnd>
        <p:snd r:embed="rId1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ahoma"/>
                <a:ea typeface="隶书"/>
              </a:rPr>
              <a:t>雨霖铃</a:t>
            </a:r>
            <a:br>
              <a:rPr sz="5400"/>
            </a:br>
            <a:r>
              <a:rPr b="0" lang="zh-CN" sz="4000" spc="-1" strike="noStrike">
                <a:solidFill>
                  <a:srgbClr val="3333cc"/>
                </a:solidFill>
                <a:latin typeface="Tahoma"/>
                <a:ea typeface="隶书"/>
              </a:rPr>
              <a:t>柳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784836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ahoma"/>
                <a:ea typeface="隶书"/>
              </a:rPr>
              <a:t>          </a:t>
            </a:r>
            <a:r>
              <a:rPr b="1" lang="zh-CN" sz="3600" spc="-1" strike="noStrike">
                <a:solidFill>
                  <a:srgbClr val="3333cc"/>
                </a:solidFill>
                <a:latin typeface="Tahoma"/>
                <a:ea typeface="隶书"/>
              </a:rPr>
              <a:t>寒蝉凄切，对长亭晚，骤雨初歇。都门帐饮无绪，留恋处，兰舟催发。执手相看泪眼，竟无语凝噎。念去去，千里烟波，暮霭沈沈楚天阔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ahoma"/>
                <a:ea typeface="隶书"/>
              </a:rPr>
              <a:t>          </a:t>
            </a:r>
            <a:r>
              <a:rPr b="1" lang="zh-CN" sz="3600" spc="-1" strike="noStrike">
                <a:solidFill>
                  <a:srgbClr val="3333cc"/>
                </a:solidFill>
                <a:latin typeface="Tahoma"/>
                <a:ea typeface="隶书"/>
              </a:rPr>
              <a:t>多情自古伤离别。更那堪冷落清秋节！今宵酒醒何处？杨柳岸晓风残月。此去经年，应是良辰好景虚设。便纵有千种风情，更与何人说！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7380360" y="5877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4664" h="21600">
                <a:moveTo>
                  <a:pt x="6805" y="3985"/>
                </a:moveTo>
                <a:lnTo>
                  <a:pt x="13803" y="3985"/>
                </a:lnTo>
                <a:lnTo>
                  <a:pt x="17859" y="7484"/>
                </a:lnTo>
                <a:lnTo>
                  <a:pt x="17859" y="17615"/>
                </a:lnTo>
                <a:lnTo>
                  <a:pt x="6805" y="17615"/>
                </a:lnTo>
                <a:close/>
              </a:path>
              <a:path fill="darken" w="24664" h="21600">
                <a:moveTo>
                  <a:pt x="13803" y="3985"/>
                </a:moveTo>
                <a:lnTo>
                  <a:pt x="17859" y="7484"/>
                </a:lnTo>
                <a:lnTo>
                  <a:pt x="13803" y="7484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9" name="MUSIC03.WAV" descr=""/>
          <p:cNvPicPr/>
          <p:nvPr/>
        </p:nvPicPr>
        <p:blipFill>
          <a:blip r:embed="rId1"/>
          <a:stretch/>
        </p:blipFill>
        <p:spPr>
          <a:xfrm>
            <a:off x="6477120" y="5943600"/>
            <a:ext cx="457200" cy="380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2" name="chimes.wav"/>
      </p:stSnd>
    </p:sndAc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0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5" dur="20991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3764160" cy="1143000"/>
          </a:xfrm>
          <a:prstGeom prst="rect">
            <a:avLst/>
          </a:prstGeom>
          <a:noFill/>
          <a:ln w="9360">
            <a:solidFill>
              <a:srgbClr val="ffcf01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f01"/>
                </a:solidFill>
                <a:latin typeface="Tahoma"/>
              </a:rPr>
              <a:t>思考和讨论：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601640" y="2017440"/>
            <a:ext cx="700416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、你认为是什么原因导致宋词出现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婉约派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”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和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豪放派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”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的差异？是不是因为作家的不同而产生？这两派的区分基点是词作还是词人？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、你更喜欢其中的哪一派，为什么？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4">
            <a:hlinkClick r:id="rId1" action="ppaction://hlinksldjump"/>
          </p:cNvPr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3794" y="3959"/>
                </a:moveTo>
                <a:lnTo>
                  <a:pt x="17806" y="10965"/>
                </a:lnTo>
                <a:lnTo>
                  <a:pt x="3794" y="17972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835280" y="6237360"/>
            <a:ext cx="669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ppt图片素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http://www.eeppt.com/sucai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569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苏轼的政治思想比较保守，宋神宗时，王安石当政，行新法，苏轼极力反对，便请求外调，自熙宁四年（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07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）开始，他先后被派往杭州、密州、徐州、湖州等地任地方官。革新除弊，因法便民，颇有政绩。元丰二年（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079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）那些曾经依附过王安石的小人搜集苏轼对新政不满的诗句，弹劾苏轼，致其入狱。这就是宋代第一起文字狱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——“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乌台诗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。苏轼被捕入狱，历时五个月，不论在朝在野，政见同与不同，营救者络绎不绝（包括王安石），最后，神宗才决定不杀苏轼，而以贬为黄州团练副使了事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　　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659640" cy="134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ahoma"/>
                <a:ea typeface="隶书"/>
              </a:rPr>
              <a:t>望海潮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  <a:ea typeface="隶书"/>
              </a:rPr>
              <a:t>（柳永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341000"/>
            <a:ext cx="784872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Tahoma"/>
              </a:rPr>
              <a:t>        </a:t>
            </a: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东南形胜，三吴都会，钱塘自古繁华。烟柳画桥，风帘翠幕，参差十万人家。云树绕堤沙，怒涛卷霜雪，天堑无涯。市列珠玑，户盈罗绮，竞豪奢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重湖叠崦清嘉。有三秋桂子，十里荷花。羌管弄晴，菱歌泛夜，嬉嬉钓叟莲娃。千骑拥高牙，乘醉听箫鼓，吟赏烟霞。异日图将好景，归去凤池夸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  <p:sndAc>
      <p:stSnd>
        <p:snd r:embed="rId1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江城子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（苏轼）</a:t>
            </a:r>
            <a:br>
              <a:rPr sz="3600"/>
            </a:b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乙卯正月二十日夜记梦</a:t>
            </a:r>
            <a:br>
              <a:rPr sz="40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十年生死两茫茫。不思量，自难忘。千里孤坟，无处话凄凉。纵使相逢应不识，尘满面，鬓如霜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夜来幽梦忽还乡。小轩窗，正梳妆。相顾无言，惟有泪千行。料得年年断肠处：明月夜，短松岗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  <p:sndAc>
      <p:stSnd>
        <p:snd r:embed="rId1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95280" y="980640"/>
            <a:ext cx="7569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ahoma"/>
              </a:rPr>
              <a:t>诉 衷 情</a:t>
            </a:r>
            <a:br>
              <a:rPr sz="5400"/>
            </a:br>
            <a:r>
              <a:rPr b="1" lang="zh-CN" sz="4400" spc="-1" strike="noStrike">
                <a:solidFill>
                  <a:srgbClr val="660033"/>
                </a:solidFill>
                <a:latin typeface="Tahoma"/>
              </a:rPr>
              <a:t>          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陆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4596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当年万里觅封候，匹马戍梁州。关河梦断何处？尘暗旧貂裘。 </a:t>
            </a:r>
            <a:br>
              <a:rPr sz="4000"/>
            </a:b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胡未灭，鬓先秋，泪空流。此生谁料，心在天山，身老沧州！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AutoShape 4">
            <a:hlinkClick r:id="rId1" action="ppaction://hlinksldjump"/>
          </p:cNvPr>
          <p:cNvSpPr/>
          <p:nvPr/>
        </p:nvSpPr>
        <p:spPr>
          <a:xfrm>
            <a:off x="8388360" y="630864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7846" y="10800"/>
                </a:moveTo>
                <a:lnTo>
                  <a:pt x="21859" y="3794"/>
                </a:lnTo>
                <a:lnTo>
                  <a:pt x="21859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ahoma"/>
              </a:rPr>
              <a:t>双声子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（柳永）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5406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晚天萧索，断蓬踪迹，乘兴兰棹（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zh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à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o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）东游。三吴风景，姑苏台榭，牢落暮霭初收。夫差旧国，香径没、徒有荒丘。繁华处，悄无睹，惟闻麋鹿呦呦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ahoma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想当年、空运筹决战，图王取霸无休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江山如画，云涛烟浪，翻输范蠡（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l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  <a:ea typeface="Arial"/>
              </a:rPr>
              <a:t>ĭ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）扁舟。验前经旧史，嗟漫载、当日风流。斜阳暮草茫茫，尽成万古遗愁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  <p:sndAc>
      <p:stSnd>
        <p:snd r:embed="rId1" name="chimes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南乡子   送述古 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（苏轼）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483920"/>
            <a:ext cx="854064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回首乱山横，不见居人只见城。 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谁似临平山上塔，亭亭，迎客西来送客行。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      归路晚风清，一枕初寒梦不成。 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今夜残灯斜照处，荧荧，秋雨晴时泪不晴。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AutoShape 4">
            <a:hlinkClick r:id="rId1" action="ppaction://hlinksldjump"/>
          </p:cNvPr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10982"/>
                </a:moveTo>
                <a:lnTo>
                  <a:pt x="17806" y="3976"/>
                </a:lnTo>
                <a:lnTo>
                  <a:pt x="17806" y="17989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  <p:sndAc>
      <p:stSnd>
        <p:snd r:embed="rId2" name="chimes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08000" y="549000"/>
            <a:ext cx="5207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ahoma"/>
              </a:rPr>
              <a:t>破阵子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（辛弃疾）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         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醉里挑灯看剑，梦回吹角连营。八百里分麾下炙，五十弦翻塞外声，沙场秋点兵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         </a:t>
            </a:r>
            <a:r>
              <a:rPr b="1" lang="zh-CN" sz="3600" spc="-1" strike="noStrike">
                <a:solidFill>
                  <a:srgbClr val="003300"/>
                </a:solidFill>
                <a:latin typeface="Tahoma"/>
              </a:rPr>
              <a:t>马作的卢飞快，弓如霹雳弦惊。了却君王天下事，赢得生前身后名。可怜白发生！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4">
            <a:hlinkClick r:id="rId1" action="ppaction://hlinksldjump"/>
          </p:cNvPr>
          <p:cNvSpPr/>
          <p:nvPr/>
        </p:nvSpPr>
        <p:spPr>
          <a:xfrm>
            <a:off x="8317080" y="623736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  <p:sndAc>
      <p:stSnd>
        <p:snd r:embed="rId2" name="chimes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317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Tahoma"/>
              </a:rPr>
              <a:t>作   业：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74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Tahoma"/>
              </a:rPr>
              <a:t>         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读李清照的《声声慢》，与初中学过的辛弃疾的《破阵子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·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  <a:ea typeface="Arial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醉里挑灯看剑》相比较，说说为什么同是思念故土的爱国主题，词作的风格相差竟如此悬殊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4">
            <a:hlinkClick r:id="rId1" action="ppaction://hlinksldjump"/>
          </p:cNvPr>
          <p:cNvSpPr/>
          <p:nvPr/>
        </p:nvSpPr>
        <p:spPr>
          <a:xfrm>
            <a:off x="8532720" y="6093000"/>
            <a:ext cx="611280" cy="504720"/>
          </a:xfrm>
          <a:custGeom>
            <a:avLst/>
            <a:gdLst>
              <a:gd name="textAreaLeft" fmla="*/ 32400 w 611280"/>
              <a:gd name="textAreaRight" fmla="*/ 578880 w 6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6157" h="21600">
                <a:moveTo>
                  <a:pt x="0" y="0"/>
                </a:moveTo>
                <a:lnTo>
                  <a:pt x="26157" y="0"/>
                </a:lnTo>
                <a:lnTo>
                  <a:pt x="26157" y="21600"/>
                </a:lnTo>
                <a:lnTo>
                  <a:pt x="0" y="21600"/>
                </a:lnTo>
                <a:close/>
              </a:path>
              <a:path fill="lightenLess" w="26157" h="21600">
                <a:moveTo>
                  <a:pt x="0" y="0"/>
                </a:moveTo>
                <a:lnTo>
                  <a:pt x="26157" y="0"/>
                </a:lnTo>
                <a:lnTo>
                  <a:pt x="24757" y="1400"/>
                </a:lnTo>
                <a:lnTo>
                  <a:pt x="1400" y="1400"/>
                </a:lnTo>
                <a:close/>
              </a:path>
              <a:path fill="darken" w="26157" h="21600">
                <a:moveTo>
                  <a:pt x="26157" y="0"/>
                </a:moveTo>
                <a:lnTo>
                  <a:pt x="26157" y="21600"/>
                </a:lnTo>
                <a:lnTo>
                  <a:pt x="24757" y="20200"/>
                </a:lnTo>
                <a:lnTo>
                  <a:pt x="24757" y="1400"/>
                </a:lnTo>
                <a:close/>
              </a:path>
              <a:path fill="darkenLess" w="26157" h="21600">
                <a:moveTo>
                  <a:pt x="26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57" y="20200"/>
                </a:lnTo>
                <a:close/>
              </a:path>
              <a:path fill="lighten" w="26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57" h="21600">
                <a:moveTo>
                  <a:pt x="6072" y="3794"/>
                </a:moveTo>
                <a:lnTo>
                  <a:pt x="20085" y="10800"/>
                </a:lnTo>
                <a:lnTo>
                  <a:pt x="6072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  <p:sndAc>
      <p:stSnd>
        <p:snd r:embed="rId2" name="chimes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zuich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40360" y="836640"/>
            <a:ext cx="4125600" cy="5157720"/>
          </a:xfrm>
          <a:prstGeom prst="rect">
            <a:avLst/>
          </a:prstGeom>
          <a:ln w="0">
            <a:noFill/>
          </a:ln>
        </p:spPr>
      </p:pic>
      <p:sp>
        <p:nvSpPr>
          <p:cNvPr id="243" name="WordArt 3"/>
          <p:cNvSpPr txBox="1"/>
          <p:nvPr/>
        </p:nvSpPr>
        <p:spPr>
          <a:xfrm rot="5400000">
            <a:off x="619560" y="2483640"/>
            <a:ext cx="4608720" cy="145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宋体"/>
              </a:rPr>
              <a:t>苏轼字画</a:t>
            </a:r>
            <a:endParaRPr b="0" lang="en-US" sz="2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split dir="out" orient="vert"/>
    <p:sndAc>
      <p:stSnd>
        <p:snd r:embed="rId5" name="chimes.wav"/>
      </p:stSnd>
    </p:sndAc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0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5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index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907920"/>
            <a:ext cx="3581280" cy="358164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1835280" y="4568760"/>
            <a:ext cx="45720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昭君怨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谁作桓伊三弄，惊破绿窗幽梦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新月与愁烟，满江天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欲去又还不去，明日落花飞絮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飞絮送行舟，水东流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4788000" y="620640"/>
            <a:ext cx="38876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减字木兰花 春月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春庭月午，摇荡香醪光欲舞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步转回廊，半落梅花婉娩香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轻云薄雾，总是少年行乐处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不似秋光，只与离人照断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5076720" y="2565360"/>
            <a:ext cx="4572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卜算子 黄州定惠院寓居作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缺月挂疏桐，漏断人初静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时见幽人独往来，缥缈孤鸿影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惊起却回头，有恨无人省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拣尽寒枝不肯栖，枫落吴江冷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  <p:sndAc>
      <p:stSnd>
        <p:snd r:embed="rId3" name="chimes.wav"/>
      </p:stSnd>
    </p:sndAc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0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7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68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ff0000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月总结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精美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说课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企业介绍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  <p:sndAc>
      <p:stSnd>
        <p:snd r:embed="rId8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746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从元丰二年（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079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）到元佑元年（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086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），苏轼在黄州生活的这七年，对苏轼一生产生了重大影响。黄州团练副使仅仅是个虚名，他不仅没有俸禄，而且受到监督，当时苏轼在许多信里反复叮嘱友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看讫，火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传闻京师，非细事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。他在黄州城东开垦了十亩荒地，田旁筑一茅屋，辛勤躬耕，自得其乐。黄州的生活使苏轼的思想发生了巨大的改变：一方面，他观察问题变得比较通达，在一种超然物外的旷达态度背后，仍然坚持着对人生、对美好事物的追求；另一方面，又产生了较为严重的逃避现实的消极思想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  <p:sndAc>
      <p:stSnd>
        <p:snd r:embed="rId1" name="chimes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411280" y="1916280"/>
            <a:ext cx="5616720" cy="118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3399"/>
                </a:solidFill>
                <a:latin typeface="Tahoma"/>
                <a:ea typeface="隶书"/>
              </a:rPr>
              <a:t>谢谢光临     指导！</a:t>
            </a:r>
            <a:endParaRPr b="0" lang="en-US" sz="8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2" name="1.WAV" descr=""/>
          <p:cNvPicPr/>
          <p:nvPr/>
        </p:nvPicPr>
        <p:blipFill>
          <a:blip r:embed="rId1"/>
          <a:stretch/>
        </p:blipFill>
        <p:spPr>
          <a:xfrm>
            <a:off x="762120" y="5257800"/>
            <a:ext cx="533160" cy="457200"/>
          </a:xfrm>
          <a:prstGeom prst="rect">
            <a:avLst/>
          </a:prstGeom>
          <a:ln w="0">
            <a:noFill/>
          </a:ln>
        </p:spPr>
      </p:pic>
      <p:sp>
        <p:nvSpPr>
          <p:cNvPr id="253" name="WordArt 4"/>
          <p:cNvSpPr txBox="1"/>
          <p:nvPr/>
        </p:nvSpPr>
        <p:spPr>
          <a:xfrm>
            <a:off x="4419720" y="5029200"/>
            <a:ext cx="3504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新河中学语文组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split dir="out" orient="vert"/>
    <p:sndAc>
      <p:stSnd>
        <p:snd r:embed="rId2" name="chimes.wav"/>
      </p:stSnd>
    </p:sndAc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0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1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1"/>
                            </p:stCondLst>
                            <p:childTnLst>
                              <p:par>
                                <p:cTn id="583" nodeType="afterEffect" fill="hold" presetClass="entr" presetID="1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在黄州的苏东坡是成熟了的苏东坡。这种成熟是一种不再需要对别人察颜观色的从容，一种终于停止向周围申诉求告的大气，一种不理会哄闹的微笑，一种洗刷了偏激的淡漠，一种无须伸张的厚实，一种并不陡峭的高度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。（余秋雨《苏东坡突围》）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元佑元年（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1086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），旧党执政。苏轼被调回京都任中书舍人、翰林学士等职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宋哲宗元佑元年（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086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），旧党当权，召还为翰林学士；新党再度秉政后，又贬惠州，再贬儋州（今海南儋县），后死于常州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苏轼总结自己一生，说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问汝平生功业，黄州惠州儋州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政治上苏轼是失意的，但就个人创作成就而言，苏轼是中国古代第一全才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143000" y="1523880"/>
            <a:ext cx="3429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诗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词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书、画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3">
            <a:hlinkClick r:id="rId1"/>
          </p:cNvPr>
          <p:cNvSpPr/>
          <p:nvPr/>
        </p:nvSpPr>
        <p:spPr>
          <a:xfrm>
            <a:off x="3765960" y="2060640"/>
            <a:ext cx="3015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3f3e"/>
                </a:solidFill>
                <a:uFillTx/>
                <a:latin typeface="Times New Roman"/>
                <a:ea typeface="华文行楷"/>
              </a:rPr>
              <a:t>“</a:t>
            </a:r>
            <a:r>
              <a:rPr b="1" lang="zh-CN" sz="4800" spc="-1" strike="noStrike" u="sng">
                <a:solidFill>
                  <a:srgbClr val="003f3e"/>
                </a:solidFill>
                <a:uFillTx/>
                <a:latin typeface="华文行楷"/>
                <a:ea typeface="华文行楷"/>
              </a:rPr>
              <a:t> </a:t>
            </a:r>
            <a:r>
              <a:rPr b="1" lang="zh-CN" sz="4800" spc="-1" strike="noStrike" u="sng">
                <a:solidFill>
                  <a:srgbClr val="003f3e"/>
                </a:solidFill>
                <a:uFillTx/>
                <a:latin typeface="华文行楷"/>
                <a:ea typeface="华文行楷"/>
              </a:rPr>
              <a:t>唐宋八大家 </a:t>
            </a:r>
            <a:r>
              <a:rPr b="1" lang="zh-CN" sz="4800" spc="-1" strike="noStrike" u="sng">
                <a:solidFill>
                  <a:srgbClr val="003f3e"/>
                </a:solidFill>
                <a:uFillTx/>
                <a:latin typeface="Times New Roman"/>
                <a:ea typeface="华文行楷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4">
            <a:hlinkClick r:id="rId2" action="ppaction://hlinksldjump"/>
          </p:cNvPr>
          <p:cNvSpPr/>
          <p:nvPr/>
        </p:nvSpPr>
        <p:spPr>
          <a:xfrm>
            <a:off x="3264840" y="2971800"/>
            <a:ext cx="382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华文行楷"/>
              </a:rPr>
              <a:t>“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华文行楷"/>
                <a:ea typeface="华文行楷"/>
              </a:rPr>
              <a:t>苏              黄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华文行楷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5">
            <a:hlinkClick r:id="rId3" action="ppaction://hlinksldjump"/>
          </p:cNvPr>
          <p:cNvSpPr/>
          <p:nvPr/>
        </p:nvSpPr>
        <p:spPr>
          <a:xfrm>
            <a:off x="3264840" y="3886200"/>
            <a:ext cx="382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华文行楷"/>
              </a:rPr>
              <a:t>“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华文行楷"/>
                <a:ea typeface="华文行楷"/>
              </a:rPr>
              <a:t>苏              辛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华文行楷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6">
            <a:hlinkClick r:id="rId4" action="ppaction://hlinksldjump"/>
          </p:cNvPr>
          <p:cNvSpPr/>
          <p:nvPr/>
        </p:nvSpPr>
        <p:spPr>
          <a:xfrm>
            <a:off x="4624560" y="4800600"/>
            <a:ext cx="355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华文行楷"/>
              </a:rPr>
              <a:t>“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华文行楷"/>
                <a:ea typeface="华文行楷"/>
              </a:rPr>
              <a:t>宋     四     家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华文行楷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143000" y="68580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才华横溢的苏轼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8">
            <a:hlinkClick r:id="rId5" action="ppaction://hlinksldjump"/>
          </p:cNvPr>
          <p:cNvSpPr/>
          <p:nvPr/>
        </p:nvSpPr>
        <p:spPr>
          <a:xfrm>
            <a:off x="3765960" y="2060640"/>
            <a:ext cx="3015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华文行楷"/>
              </a:rPr>
              <a:t>“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华文行楷"/>
                <a:ea typeface="华文行楷"/>
              </a:rPr>
              <a:t>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华文行楷"/>
                <a:ea typeface="华文行楷"/>
              </a:rPr>
              <a:t>唐宋八大家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华文行楷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9">
            <a:hlinkClick r:id="rId6" action="ppaction://hlinksldjump"/>
          </p:cNvPr>
          <p:cNvSpPr/>
          <p:nvPr/>
        </p:nvSpPr>
        <p:spPr>
          <a:xfrm>
            <a:off x="826920" y="6093000"/>
            <a:ext cx="792360" cy="50472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3901" h="21600">
                <a:moveTo>
                  <a:pt x="0" y="0"/>
                </a:moveTo>
                <a:lnTo>
                  <a:pt x="33901" y="0"/>
                </a:lnTo>
                <a:lnTo>
                  <a:pt x="33901" y="21600"/>
                </a:lnTo>
                <a:lnTo>
                  <a:pt x="0" y="21600"/>
                </a:lnTo>
                <a:close/>
              </a:path>
              <a:path fill="lightenLess" w="33901" h="21600">
                <a:moveTo>
                  <a:pt x="0" y="0"/>
                </a:moveTo>
                <a:lnTo>
                  <a:pt x="33901" y="0"/>
                </a:lnTo>
                <a:lnTo>
                  <a:pt x="32501" y="1400"/>
                </a:lnTo>
                <a:lnTo>
                  <a:pt x="1400" y="1400"/>
                </a:lnTo>
                <a:close/>
              </a:path>
              <a:path fill="darken" w="33901" h="21600">
                <a:moveTo>
                  <a:pt x="33901" y="0"/>
                </a:moveTo>
                <a:lnTo>
                  <a:pt x="33901" y="21600"/>
                </a:lnTo>
                <a:lnTo>
                  <a:pt x="32501" y="20200"/>
                </a:lnTo>
                <a:lnTo>
                  <a:pt x="32501" y="1400"/>
                </a:lnTo>
                <a:close/>
              </a:path>
              <a:path fill="darkenLess" w="33901" h="21600">
                <a:moveTo>
                  <a:pt x="33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01" y="20200"/>
                </a:lnTo>
                <a:close/>
              </a:path>
              <a:path fill="lighten" w="33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01" h="21600">
                <a:moveTo>
                  <a:pt x="9944" y="3794"/>
                </a:moveTo>
                <a:lnTo>
                  <a:pt x="23957" y="10800"/>
                </a:lnTo>
                <a:lnTo>
                  <a:pt x="9944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  <p:sndAc>
      <p:stSnd>
        <p:snd r:embed="rId7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3505320" y="990720"/>
            <a:ext cx="4800600" cy="41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隶书"/>
                <a:ea typeface="隶书"/>
              </a:rPr>
              <a:t>唐宋八大家：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唐代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韩愈   柳宗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宋代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欧阳修   苏洵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苏轼   苏辙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曾巩   王安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4" descr="a107"/>
          <p:cNvPicPr/>
          <p:nvPr/>
        </p:nvPicPr>
        <p:blipFill>
          <a:blip r:embed="rId2"/>
          <a:stretch/>
        </p:blipFill>
        <p:spPr>
          <a:xfrm>
            <a:off x="533520" y="304920"/>
            <a:ext cx="2732040" cy="624816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5">
            <a:hlinkClick r:id="" action="ppaction://hlinkshowjump?jump=previousslide"/>
          </p:cNvPr>
          <p:cNvSpPr/>
          <p:nvPr/>
        </p:nvSpPr>
        <p:spPr>
          <a:xfrm>
            <a:off x="7308720" y="5661000"/>
            <a:ext cx="792360" cy="576360"/>
          </a:xfrm>
          <a:custGeom>
            <a:avLst/>
            <a:gdLst>
              <a:gd name="textAreaLeft" fmla="*/ 37080 w 792360"/>
              <a:gd name="textAreaRight" fmla="*/ 755280 w 792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90" h="21600">
                <a:moveTo>
                  <a:pt x="0" y="0"/>
                </a:moveTo>
                <a:lnTo>
                  <a:pt x="29690" y="0"/>
                </a:lnTo>
                <a:lnTo>
                  <a:pt x="29690" y="21600"/>
                </a:lnTo>
                <a:lnTo>
                  <a:pt x="0" y="21600"/>
                </a:lnTo>
                <a:close/>
              </a:path>
              <a:path fill="lightenLess" w="29690" h="21600">
                <a:moveTo>
                  <a:pt x="0" y="0"/>
                </a:moveTo>
                <a:lnTo>
                  <a:pt x="29690" y="0"/>
                </a:lnTo>
                <a:lnTo>
                  <a:pt x="28290" y="1400"/>
                </a:lnTo>
                <a:lnTo>
                  <a:pt x="1400" y="1400"/>
                </a:lnTo>
                <a:close/>
              </a:path>
              <a:path fill="darken" w="29690" h="21600">
                <a:moveTo>
                  <a:pt x="29690" y="0"/>
                </a:moveTo>
                <a:lnTo>
                  <a:pt x="29690" y="21600"/>
                </a:lnTo>
                <a:lnTo>
                  <a:pt x="28290" y="20200"/>
                </a:lnTo>
                <a:lnTo>
                  <a:pt x="28290" y="1400"/>
                </a:lnTo>
                <a:close/>
              </a:path>
              <a:path fill="darkenLess" w="29690" h="21600">
                <a:moveTo>
                  <a:pt x="29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0" y="20200"/>
                </a:lnTo>
                <a:close/>
              </a:path>
              <a:path fill="lighten" w="29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0" h="21600">
                <a:moveTo>
                  <a:pt x="7838" y="10800"/>
                </a:moveTo>
                <a:lnTo>
                  <a:pt x="21851" y="3794"/>
                </a:lnTo>
                <a:lnTo>
                  <a:pt x="21851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6T03:39:15Z</dcterms:created>
  <dc:creator>方正电脑</dc:creator>
  <dc:description/>
  <cp:keywords/>
  <dc:language>en-US</dc:language>
  <cp:lastModifiedBy>a</cp:lastModifiedBy>
  <dcterms:modified xsi:type="dcterms:W3CDTF">2015-07-21T04:17:51Z</dcterms:modified>
  <cp:revision>74</cp:revision>
  <dc:subject/>
  <dc:title>没有幻灯片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