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5468760"/>
            <a:ext cx="820728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5681880"/>
            <a:ext cx="820728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546876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880" y="546876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568188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880" y="568188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546876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3240" y="546876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8120" y="546876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568188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3240" y="568188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8120" y="568188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5468760"/>
            <a:ext cx="8207280" cy="4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5468760"/>
            <a:ext cx="8207280" cy="4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5468760"/>
            <a:ext cx="4005000" cy="4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880" y="5468760"/>
            <a:ext cx="4005000" cy="4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4508280"/>
            <a:ext cx="8207280" cy="445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546876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5468760"/>
            <a:ext cx="4005000" cy="4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568188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5468760"/>
            <a:ext cx="8207280" cy="4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5468760"/>
            <a:ext cx="4005000" cy="4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546876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3880" y="568188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546876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880" y="546876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5681880"/>
            <a:ext cx="820728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5468760"/>
            <a:ext cx="820728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" y="5681880"/>
            <a:ext cx="820728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546876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880" y="546876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568188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3880" y="568188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546876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43240" y="546876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8120" y="546876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360" y="568188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43240" y="568188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8120" y="568188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5468760"/>
            <a:ext cx="8207280" cy="4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5468760"/>
            <a:ext cx="4005000" cy="4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880" y="5468760"/>
            <a:ext cx="4005000" cy="4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4508280"/>
            <a:ext cx="8207280" cy="445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546876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880" y="5468760"/>
            <a:ext cx="4005000" cy="4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568188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5468760"/>
            <a:ext cx="4005000" cy="4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880" y="546876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880" y="568188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546876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880" y="546876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5681880"/>
            <a:ext cx="820728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256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1060560"/>
            <a:ext cx="9144000" cy="17136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56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051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bc000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3a0004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6E5B3764-C60B-407E-A7CE-0DA670A19459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  <a:ea typeface="黑体"/>
              </a:rPr>
              <a:t>使用规范说明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822840"/>
            <a:ext cx="9144000" cy="303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68360" y="6093000"/>
            <a:ext cx="2338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由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NordriDesign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™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提供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733920"/>
            <a:ext cx="9144000" cy="126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2a5682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00285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68360" y="5468760"/>
            <a:ext cx="8207280" cy="4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76640" y="1125360"/>
            <a:ext cx="3400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Arial"/>
              </a:rPr>
              <a:t>华丽动态</a:t>
            </a: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5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91" name="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92" name="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ff0517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bc000d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3a0004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ff757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101" name="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468360" y="44604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587700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 u="sng">
                <a:solidFill>
                  <a:srgbClr val="3a0004"/>
                </a:solidFill>
                <a:uFillTx/>
                <a:latin typeface="Arial"/>
                <a:hlinkClick r:id="rId1"/>
              </a:rPr>
              <a:t>动态ppt模板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20:32Z</dcterms:modified>
  <cp:revision>36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