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1AC-0EBE-48AF-91F9-D41444DE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D70-96C7-4205-8EC4-1A64672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445-B2A8-4927-892D-5CB900B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77D-BE1B-4056-815A-C9280EBC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276-397E-4DBF-BBF1-546C6965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F2CB-C6B2-4870-BCB6-1789FFA7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A7E4-4555-4B0F-9B97-2D67563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F28-09A7-4199-8AB7-AFBCDA96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1D2C-7B93-49B7-BC04-978385F5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093C-40A2-4B3B-B76F-66B91A5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9DA-D5AF-4F23-913E-0B2E5C9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7D6-E20C-41CE-9472-9E7CEADF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701-056D-493C-B3CA-D23A585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6A0E-AFA5-4139-998D-686994A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ACE3-884E-4977-AC4A-B845039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450A-D1BC-4355-A798-0701CBD1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D5EB-B7C3-4492-88DC-92F0BD3A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779-CA14-49FC-92DF-F01B1D8A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03A-815D-4A2B-801C-1C32BD95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64E-486B-4257-840B-09F41A34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BC2-9876-4573-8F8E-833AE1C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D98-2358-4EEF-A11C-BF41094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FD7-81FC-4BB3-8FF5-48C4320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7B5-8E0D-42FF-B9CF-9A1E77C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C98-F7C9-45D4-A6C4-6F20FFC69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8630-6CAC-4EE6-93BD-791C413D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SN00560A.wav" TargetMode="External"/><Relationship Id="rId3" Type="http://schemas.microsoft.com/office/2007/relationships/media" Target="file:///tmp/home/.config/libreoffice/4/user/gallery/SN00560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../AppData/Local/Temp/Rar$DI00.631/&#28784;&#38592;.ppt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../AppData/Local/Temp/Rar$DI00.631/&#28784;&#38592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NewsMedia_141426"/>
          <p:cNvPicPr/>
          <p:nvPr/>
        </p:nvPicPr>
        <p:blipFill>
          <a:blip r:embed="rId1"/>
          <a:stretch/>
        </p:blipFill>
        <p:spPr>
          <a:xfrm>
            <a:off x="0" y="0"/>
            <a:ext cx="9144000" cy="728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6742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87920" y="1413000"/>
            <a:ext cx="35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灰雀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2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763640" y="98100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000000"/>
                </a:solidFill>
                <a:latin typeface="Times New Roman"/>
              </a:rPr>
              <a:t>桦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419640" y="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边框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16000" y="76500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白桦树    胸脯   婉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面包渣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诚实     肯定    欢蹦乱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郊外    惹人喜爱     或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00000" y="1916280"/>
            <a:ext cx="74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文讲了一件什么事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p]itee"/>
          <p:cNvPicPr/>
          <p:nvPr/>
        </p:nvPicPr>
        <p:blipFill>
          <a:blip r:embed="rId3"/>
          <a:stretch/>
        </p:blipFill>
        <p:spPr>
          <a:xfrm>
            <a:off x="2411280" y="2637000"/>
            <a:ext cx="4500720" cy="334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官方logo副本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258920" y="1557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两只胸脯是粉红的，一只胸脯是深红的。它们在树枝间来回跳动，婉转地歌唱，非常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惹人喜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58920" y="1557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两只胸脯是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，一只胸脯是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深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。它们在树枝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来回跳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婉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1289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446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755640" y="1341360"/>
            <a:ext cx="79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园里有一棵高大的白桦树，树上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（      ）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两只胸脯是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（   ）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只胸脯是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（   ）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它们在树枝间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（    ），（   ）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非常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（      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95640" y="608328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403280" y="90792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列宁每次走到白桦树下，都要停下来，仰望这三只欢快的灰雀，经常给它们带来面包渣和谷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边框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403280" y="90792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列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每次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走到白桦树下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都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停下来，仰望这三只欢快的灰雀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经常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给它们带来面包渣和谷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883578546101804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5003640" y="189000"/>
            <a:ext cx="3996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是有一天，有一只灰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见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它去了哪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里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朋友你们开动你的脑筋想想，灰雀到底去了那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边框8"/>
          <p:cNvPicPr/>
          <p:nvPr/>
        </p:nvPicPr>
        <p:blipFill>
          <a:blip r:embed="rId1"/>
          <a:stretch/>
        </p:blipFill>
        <p:spPr>
          <a:xfrm>
            <a:off x="-34920" y="46080"/>
            <a:ext cx="9145440" cy="6811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自然段，请用直线画出小男孩说的话，用波浪线画出列宁说的话。想一想灰雀究竟哪儿去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朋友们</a:t>
            </a:r>
            <a:br>
              <a:rPr sz="4000"/>
            </a:br>
            <a:br>
              <a:rPr sz="40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认识这个小动物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812000" y="628488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29440" y="6381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Arial"/>
              </a:rPr>
              <a:t>TAOL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87280" y="189000"/>
            <a:ext cx="619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读读下面的句子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看看它们告诉了我们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832760" y="2133720"/>
            <a:ext cx="412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没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我没看见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1080" y="1173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孩子，你看见过一只深红色胸脯的灰雀吗？”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9640" y="1700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一定是飞走了或者是冻死了。天气严寒，它怕冷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812000" y="628488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229440" y="6381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Arial"/>
              </a:rPr>
              <a:t>TAOL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4F1-F0CF-4719-BFE8-58C4E509DF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9448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试着填一填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60205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列宁（          ）说：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  <a:ea typeface="华文楷体"/>
              </a:rPr>
              <a:t>“</a:t>
            </a:r>
            <a:r>
              <a:rPr b="1" lang="zh-CN" sz="6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多好的灰雀呀，（     ）再也不会飞回来了。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  <a:ea typeface="华文楷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284720" y="2708280"/>
            <a:ext cx="2333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楷体"/>
              </a:rPr>
              <a:t>自言自语地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1692360" y="4869000"/>
            <a:ext cx="10857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楷体"/>
              </a:rPr>
              <a:t>可惜</a:t>
            </a:r>
            <a:endParaRPr b="1" lang="en-US" sz="1800" spc="-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619640" y="1716120"/>
            <a:ext cx="5784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男孩看看列宁，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会飞回来的，一定会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回来的。它还活着。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8000" y="549360"/>
            <a:ext cx="89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列宁问：</a:t>
            </a:r>
            <a:r>
              <a:rPr b="1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“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会飞回来？</a:t>
            </a:r>
            <a:r>
              <a:rPr b="1" lang="zh-CN" sz="6600" spc="-1" strike="noStrike">
                <a:solidFill>
                  <a:srgbClr val="0000ff"/>
                </a:solidFill>
                <a:latin typeface="汉鼎简中圆"/>
                <a:ea typeface="黑体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1773360"/>
            <a:ext cx="5435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        “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一定会飞回来！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男孩肯定地说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4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"/>
          <p:cNvSpPr/>
          <p:nvPr/>
        </p:nvSpPr>
        <p:spPr>
          <a:xfrm>
            <a:off x="5292720" y="2205000"/>
            <a:ext cx="3816360" cy="2087640"/>
          </a:xfrm>
          <a:prstGeom prst="cloudCallout">
            <a:avLst>
              <a:gd name="adj1" fmla="val -43708"/>
              <a:gd name="adj2" fmla="val 89999"/>
            </a:avLst>
          </a:prstGeom>
          <a:solidFill>
            <a:srgbClr val="ffff00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列宁为什么不问男孩却问灰雀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85960" y="5229360"/>
            <a:ext cx="5630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列宁看看男孩，又看看灰雀，微笑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：“你好！灰雀，昨天你到哪儿去了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4920" y="765000"/>
            <a:ext cx="71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汉鼎简中圆"/>
              </a:rPr>
              <a:t>请你说说灰雀哪儿去了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ewsMedia_141426"/>
          <p:cNvPicPr/>
          <p:nvPr/>
        </p:nvPicPr>
        <p:blipFill>
          <a:blip r:embed="rId1"/>
          <a:stretch/>
        </p:blipFill>
        <p:spPr>
          <a:xfrm>
            <a:off x="5105520" y="3429000"/>
            <a:ext cx="3429000" cy="273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灰雀：小形鸣禽，体形如雀，羽色多样，鸣叫悦耳，可为笼养观赏。群居在河谷、溪流、树林中。食物为桦树、榆树、柳树的嫩叶和种子。课文中说的灰雀是红腹灰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mage001"/>
          <p:cNvPicPr/>
          <p:nvPr/>
        </p:nvPicPr>
        <p:blipFill>
          <a:blip r:embed="rId2"/>
          <a:stretch/>
        </p:blipFill>
        <p:spPr>
          <a:xfrm>
            <a:off x="1187280" y="3860640"/>
            <a:ext cx="245772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179280" y="289080"/>
            <a:ext cx="8675640" cy="6453000"/>
          </a:xfrm>
          <a:custGeom>
            <a:avLst/>
            <a:gdLst>
              <a:gd name="textAreaLeft" fmla="*/ 2022840 w 8675640"/>
              <a:gd name="textAreaRight" fmla="*/ 6650280 w 8675640"/>
              <a:gd name="textAreaTop" fmla="*/ 680040 h 6453000"/>
              <a:gd name="textAreaBottom" fmla="*/ 4086000 h 6453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5"/>
          <p:cNvPicPr/>
          <p:nvPr/>
        </p:nvPicPr>
        <p:blipFill>
          <a:blip r:embed="rId1"/>
          <a:srcRect l="0" t="0" r="56601" b="0"/>
          <a:stretch/>
        </p:blipFill>
        <p:spPr>
          <a:xfrm>
            <a:off x="1116000" y="2025720"/>
            <a:ext cx="3240000" cy="483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5"/>
          <p:cNvPicPr/>
          <p:nvPr/>
        </p:nvPicPr>
        <p:blipFill>
          <a:blip r:embed="rId2"/>
          <a:srcRect l="60714" t="14747" r="7841" b="10225"/>
          <a:stretch/>
        </p:blipFill>
        <p:spPr>
          <a:xfrm>
            <a:off x="5364000" y="2825640"/>
            <a:ext cx="2305080" cy="4032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883640" y="63025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Arial"/>
              </a:rPr>
              <a:t>B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宁和男孩都爱这三只灰雀，你觉的他们的爱有什么不同呢？你更赞同谁的，说说自己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187280" y="333360"/>
            <a:ext cx="3556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角色扮演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640" y="1988640"/>
            <a:ext cx="662472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我们一起到课文里去感受，感受一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796000" y="54936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5940360" y="692280"/>
            <a:ext cx="26211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朗读以下几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2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课文中写了第一天列宁和男孩关于那只失踪了的灰雀的对话，紧接着直接写了第二天两人果然又看到那只灰雀的情景。这中间发生了什么事情？男孩想了些什么？做了些什么？请根据你的想象把它给同学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续写《灰雀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        </a:t>
            </a:r>
            <a:r>
              <a:rPr b="1" lang="en-US" sz="4800" spc="-1" strike="noStrike">
                <a:solidFill>
                  <a:srgbClr val="333399"/>
                </a:solidFill>
                <a:latin typeface="华文隶书"/>
                <a:ea typeface="华文隶书"/>
              </a:rPr>
              <a:t>后来列宁、男孩和灰雀之间又发生了什么事？发挥你的想象，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455760"/>
            <a:ext cx="4267080" cy="78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列宁（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1870-1924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年）是全世界无产阶级的革命导师和领袖，马克思主义理论家，俄国共产党和苏维埃社会主义共和国的主要创建人。他出生在俄国伏尔加河边的辛比尔斯克。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1924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年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2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月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21</a:t>
            </a:r>
            <a:r>
              <a:rPr b="1" i="1" lang="en-US" sz="3600" spc="-1" strike="noStrike">
                <a:solidFill>
                  <a:srgbClr val="800000"/>
                </a:solidFill>
                <a:latin typeface="华文楷体"/>
                <a:ea typeface="华文楷体"/>
              </a:rPr>
              <a:t>日，因脑溢血去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liening4"/>
          <p:cNvPicPr/>
          <p:nvPr/>
        </p:nvPicPr>
        <p:blipFill>
          <a:blip r:embed="rId1"/>
          <a:stretch/>
        </p:blipFill>
        <p:spPr>
          <a:xfrm>
            <a:off x="442764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1116000" y="1125360"/>
            <a:ext cx="6761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下面我们一起去认识一些新朋友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627280" y="2708280"/>
            <a:ext cx="360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字宝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76500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000000"/>
                </a:solidFill>
                <a:latin typeface="Times New Roman"/>
              </a:rPr>
              <a:t>脯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635280" y="98100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边框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50920" y="90792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000000"/>
                </a:solidFill>
                <a:latin typeface="Times New Roman"/>
              </a:rPr>
              <a:t>胸 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51280" y="260280"/>
            <a:ext cx="1584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ō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边框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057400" y="90792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000000"/>
                </a:solidFill>
                <a:latin typeface="Times New Roman"/>
              </a:rPr>
              <a:t>婉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564000" y="62064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ǎ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边框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057400" y="692280"/>
            <a:ext cx="5105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0" spc="-1" strike="noStrike">
                <a:solidFill>
                  <a:srgbClr val="000000"/>
                </a:solidFill>
                <a:latin typeface="Times New Roman"/>
              </a:rPr>
              <a:t>渣</a:t>
            </a:r>
            <a:endParaRPr b="0" lang="en-US" sz="3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492360" y="69228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h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边框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7:23Z</dcterms:created>
  <dc:creator/>
  <dc:description/>
  <cp:keywords>幻灯片之家 http:/www.eeppt.com</cp:keywords>
  <dc:language>en-US</dc:language>
  <cp:lastModifiedBy/>
  <dcterms:modified xsi:type="dcterms:W3CDTF">2015-07-20T02:52:2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