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520DA-63D8-4CA6-A4E8-E821DEF996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322360" y="297720"/>
            <a:ext cx="5607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281240"/>
            <a:ext cx="820728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3896640"/>
            <a:ext cx="820728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B047C-4CEA-4267-8F70-7699937320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322360" y="297720"/>
            <a:ext cx="5607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281240"/>
            <a:ext cx="400500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880" y="1281240"/>
            <a:ext cx="400500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896640"/>
            <a:ext cx="400500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880" y="3896640"/>
            <a:ext cx="400500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A8FAA-96C0-450B-B934-95A71F64F6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322360" y="297720"/>
            <a:ext cx="5607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281240"/>
            <a:ext cx="264240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3240" y="1281240"/>
            <a:ext cx="264240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120" y="1281240"/>
            <a:ext cx="264240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3896640"/>
            <a:ext cx="264240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3240" y="3896640"/>
            <a:ext cx="264240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120" y="3896640"/>
            <a:ext cx="264240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AD3CF-F200-423F-AC0D-CACB02A5CA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22360" y="297720"/>
            <a:ext cx="5607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68360" y="1281240"/>
            <a:ext cx="820728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22360" y="297720"/>
            <a:ext cx="5607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281240"/>
            <a:ext cx="8207280" cy="50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22360" y="297720"/>
            <a:ext cx="5607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281240"/>
            <a:ext cx="4005000" cy="50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3880" y="1281240"/>
            <a:ext cx="4005000" cy="50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22360" y="297720"/>
            <a:ext cx="5607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322360" y="317520"/>
            <a:ext cx="5607360" cy="25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22360" y="297720"/>
            <a:ext cx="5607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281240"/>
            <a:ext cx="400500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880" y="1281240"/>
            <a:ext cx="4005000" cy="50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8360" y="3896640"/>
            <a:ext cx="400500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322360" y="297720"/>
            <a:ext cx="5607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281240"/>
            <a:ext cx="820728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6928F-649F-4254-806B-F59655B522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322360" y="297720"/>
            <a:ext cx="5607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281240"/>
            <a:ext cx="4005000" cy="50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880" y="1281240"/>
            <a:ext cx="400500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3880" y="3896640"/>
            <a:ext cx="400500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322360" y="297720"/>
            <a:ext cx="5607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281240"/>
            <a:ext cx="400500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880" y="1281240"/>
            <a:ext cx="400500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360" y="3896640"/>
            <a:ext cx="820728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322360" y="297720"/>
            <a:ext cx="5607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281240"/>
            <a:ext cx="820728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360" y="3896640"/>
            <a:ext cx="820728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322360" y="297720"/>
            <a:ext cx="5607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281240"/>
            <a:ext cx="400500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880" y="1281240"/>
            <a:ext cx="400500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360" y="3896640"/>
            <a:ext cx="400500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3880" y="3896640"/>
            <a:ext cx="400500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322360" y="297720"/>
            <a:ext cx="5607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281240"/>
            <a:ext cx="264240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43240" y="1281240"/>
            <a:ext cx="264240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18120" y="1281240"/>
            <a:ext cx="264240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360" y="3896640"/>
            <a:ext cx="264240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43240" y="3896640"/>
            <a:ext cx="264240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18120" y="3896640"/>
            <a:ext cx="264240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22360" y="297720"/>
            <a:ext cx="5607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281240"/>
            <a:ext cx="8207280" cy="50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DA812-7EC8-4292-AAE9-1E10CB374E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22360" y="297720"/>
            <a:ext cx="5607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281240"/>
            <a:ext cx="4005000" cy="50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880" y="1281240"/>
            <a:ext cx="4005000" cy="50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F7D7D-98E8-429B-B31A-CF677ABC1A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322360" y="297720"/>
            <a:ext cx="5607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7A777-DE0B-44F0-9602-C4F077861B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322360" y="317520"/>
            <a:ext cx="5607360" cy="25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D2B20-5D73-4DC1-8EF9-CBF7B0DB1E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22360" y="297720"/>
            <a:ext cx="5607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281240"/>
            <a:ext cx="400500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880" y="1281240"/>
            <a:ext cx="4005000" cy="50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3896640"/>
            <a:ext cx="400500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DF838-AF10-4716-A3F3-1D3ECFCB6D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322360" y="297720"/>
            <a:ext cx="5607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281240"/>
            <a:ext cx="4005000" cy="50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880" y="1281240"/>
            <a:ext cx="400500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880" y="3896640"/>
            <a:ext cx="400500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54C65-635D-434F-8C6D-67FF776F10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322360" y="297720"/>
            <a:ext cx="5607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281240"/>
            <a:ext cx="400500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880" y="1281240"/>
            <a:ext cx="400500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896640"/>
            <a:ext cx="820728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82042-EBCB-4B54-B0D4-A3A0EE34F5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5" descr="bg2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281240"/>
            <a:ext cx="8207280" cy="50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7235640" y="64018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F398DCF4-4754-4EF3-9B23-05D999A31571}" type="slidenum">
              <a:rPr b="1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2322360" y="317520"/>
            <a:ext cx="560736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Picture 56" descr="xw"/>
          <p:cNvPicPr/>
          <p:nvPr/>
        </p:nvPicPr>
        <p:blipFill>
          <a:blip r:embed="rId3"/>
          <a:stretch/>
        </p:blipFill>
        <p:spPr>
          <a:xfrm>
            <a:off x="468360" y="406440"/>
            <a:ext cx="1801800" cy="417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4" descr="bg3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468360" y="1281240"/>
            <a:ext cx="8207280" cy="50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2322360" y="317520"/>
            <a:ext cx="560736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212720"/>
            <a:ext cx="8207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单击此处添加标题文字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6337440" y="6058080"/>
            <a:ext cx="23382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ordriDesign</a:t>
            </a: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提供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ww.nordridesign.com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1" descr="xw"/>
          <p:cNvPicPr/>
          <p:nvPr/>
        </p:nvPicPr>
        <p:blipFill>
          <a:blip r:embed="rId1"/>
          <a:stretch/>
        </p:blipFill>
        <p:spPr>
          <a:xfrm>
            <a:off x="468360" y="406440"/>
            <a:ext cx="1801800" cy="4176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55520" y="648324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322360" y="317520"/>
            <a:ext cx="560736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61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使用说明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281240"/>
            <a:ext cx="8207280" cy="50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配色方案修改：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配色方案在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格式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幻灯片设计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配色方案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编辑配色方案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下调整。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的添加：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添加修改在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视图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母版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幻灯片母版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下调整。直接选择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图片删除或修改。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字体格式的设置：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括标题和文本格式（包括字体，字体大小，对齐方式等）的设置在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视图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母版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幻灯片母版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下调整。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0290C-614E-4BAF-B6F3-3A0558FB9D9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7236000" y="64022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 </a:t>
            </a:r>
            <a:fld id="{07A9D08E-95C1-4E4B-83A6-EE4B3A5B8ADA}" type="slidenum">
              <a:rPr b="1" i="1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0" descr="bg1"/>
          <p:cNvPicPr/>
          <p:nvPr/>
        </p:nvPicPr>
        <p:blipFill>
          <a:blip r:embed="rId1"/>
          <a:stretch/>
        </p:blipFill>
        <p:spPr>
          <a:xfrm>
            <a:off x="-14400" y="0"/>
            <a:ext cx="9180720" cy="68850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3"/>
          <p:cNvSpPr/>
          <p:nvPr/>
        </p:nvSpPr>
        <p:spPr>
          <a:xfrm>
            <a:off x="468360" y="4983120"/>
            <a:ext cx="8207280" cy="18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ff"/>
                </a:solidFill>
                <a:latin typeface="Arial"/>
              </a:rPr>
              <a:t>感谢观赏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</a:rPr>
              <a:t>单击添加您的公司信息（联系方式及落款）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1" descr="xw"/>
          <p:cNvPicPr/>
          <p:nvPr/>
        </p:nvPicPr>
        <p:blipFill>
          <a:blip r:embed="rId2"/>
          <a:stretch/>
        </p:blipFill>
        <p:spPr>
          <a:xfrm>
            <a:off x="468360" y="406440"/>
            <a:ext cx="1801800" cy="417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9T03:01:55Z</dcterms:modified>
  <cp:revision>16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