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1D1-0D25-4A7B-B472-6D3347D7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B14-BD67-4C5D-A3C3-89CE5B21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D48-864E-4556-B2B6-195DEFB1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34B5-A1F0-456F-B39A-1E45F9A3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63AC-F1E1-4F3D-95C6-27D0F6AD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A935-8C12-4610-AC2E-76F0FA72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C13E-B6E3-4D03-98E3-7200D7A6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8098-DDF9-44E6-A424-F93288FC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CE4D-D7F1-48F0-829F-DB05788C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666520" y="609480"/>
            <a:ext cx="6248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DE32-E542-4BA0-945B-D8840B56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7C9B-67AA-4956-B94F-A0B1C1C1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D88-C3C7-4627-A517-58D1A0AA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0FD1-D74B-4E4C-A3CE-278200BD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9CCD-70CE-491D-A998-7E8DF336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B7FC-21BE-460A-94AE-251276D4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A575-2E69-4044-B9A4-667C1445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29CE-D741-4D8B-8AB5-27A137DD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594-1623-43C6-BF39-2AAC6A48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3E5-9020-436F-A468-A69587D4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125-E498-4479-9261-C56D3C6C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6520" y="609480"/>
            <a:ext cx="6248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721-7F94-474E-BE37-FF595808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0EE-6AFF-4139-AA30-B454CE9B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46D-1873-4243-A605-AD716B8D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173-3BA3-4963-831A-318F57EE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audio" Target="file:///tmp/home/.config/libreoffice/4/user/gallery/Ir_begin.wav" TargetMode="External"/><Relationship Id="rId4" Type="http://schemas.microsoft.com/office/2007/relationships/media" Target="file:///tmp/home/.config/libreoffice/4/user/gallery/Ir_begin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audio" Target="file:///tmp/home/.config/libreoffice/4/user/gallery/Ir_end.wav" TargetMode="External"/><Relationship Id="rId3" Type="http://schemas.microsoft.com/office/2007/relationships/media" Target="file:///tmp/home/.config/libreoffice/4/user/gallery/Ir_end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2" marL="948600" indent="-189720">
              <a:spcBef>
                <a:spcPts val="9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3" marL="1328040" indent="-189720">
              <a:spcBef>
                <a:spcPts val="901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4" marL="1707480" indent="-189720">
              <a:spcBef>
                <a:spcPts val="901"/>
              </a:spcBef>
              <a:buClr>
                <a:srgbClr val="b2b2b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5" marL="1707480" indent="-1897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6" marL="1707480" indent="-1897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26B5-8175-4DD9-8654-D734396923F7}" type="slidenum"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04920" y="304920"/>
            <a:ext cx="1790640" cy="1790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H="1">
            <a:off x="2362320" y="1219320"/>
            <a:ext cx="6781680" cy="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724280"/>
            <a:ext cx="9144000" cy="2127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4E9B-0C83-43A9-9CEC-5AC1D73C3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2286000"/>
            <a:ext cx="1790640" cy="1790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200400"/>
            <a:ext cx="7086600" cy="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1" marL="397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2" marL="795240" algn="ctr">
              <a:spcBef>
                <a:spcPts val="901"/>
              </a:spcBef>
              <a:buClr>
                <a:srgbClr val="b2b2b2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3" marL="1193040" algn="ctr">
              <a:spcBef>
                <a:spcPts val="901"/>
              </a:spcBef>
              <a:buClr>
                <a:srgbClr val="b2b2b2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4" marL="1590840" algn="ctr">
              <a:spcBef>
                <a:spcPts val="901"/>
              </a:spcBef>
              <a:buClr>
                <a:srgbClr val="b2b2b2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5" marL="1590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6" marL="1590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argeting </a:t>
            </a:r>
            <a:endParaRPr b="0" lang="en-US" sz="48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428640"/>
            <a:ext cx="6324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Title Master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2360" y="6219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4560" y="909720"/>
            <a:ext cx="3498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简单动态</a:t>
            </a:r>
            <a:r>
              <a:rPr b="0" lang="zh-CN" sz="45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Slide Master</a:t>
            </a: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Outline in PowerPoint with…</a:t>
            </a:r>
            <a:br>
              <a:rPr sz="3600"/>
            </a:b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Less that seven lines per slide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Less that seven words per line. 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640" y="599436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ff"/>
                </a:solidFill>
                <a:latin typeface="Times New Roman"/>
              </a:rPr>
              <a:t>使用规范说明</a:t>
            </a: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6CE-4749-4D27-B4AE-068A197706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On the PowerPoint menu go to: </a:t>
            </a: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762120">
              <a:spcBef>
                <a:spcPts val="901"/>
              </a:spcBef>
              <a:buClr>
                <a:srgbClr val="b2b2b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Format/Apply Design Template 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marL="762120" indent="-762120">
              <a:spcBef>
                <a:spcPts val="901"/>
              </a:spcBef>
              <a:buClr>
                <a:srgbClr val="b2b2b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Browse to template folder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marL="762120" indent="-762120">
              <a:spcBef>
                <a:spcPts val="901"/>
              </a:spcBef>
              <a:buClr>
                <a:srgbClr val="b2b2b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Click ‘.pot’ file to preview design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marL="762120" indent="-762120">
              <a:spcBef>
                <a:spcPts val="901"/>
              </a:spcBef>
              <a:buClr>
                <a:srgbClr val="b2b2b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Double-click on your choice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marL="762120" indent="-762120">
              <a:spcBef>
                <a:spcPts val="901"/>
              </a:spcBef>
              <a:buClr>
                <a:srgbClr val="b2b2b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Template appears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2T17:40:26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2:5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