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804-3B0F-4FBF-B19E-1E36855B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264-3F14-45A8-AE30-1B53B1E4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C08-7DD4-4074-B9B8-632B914B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C54-7F32-4691-BEA3-8D77AFF7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06AE-479C-4739-B912-64E6BE3D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CA86-57EC-43FA-B171-78982E8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FFE2-913A-4F80-8CB9-3EED36BB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30DA-5D3F-4679-9C33-513446CB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8C54-607F-48F4-9236-7C432EFB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1ED9-3A5F-4E8F-84C0-64F1B9AE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DCB4-9CE3-4A0B-8988-44A9C42C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787-F4CE-41EF-ACE4-74527893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9CAA-9A47-4BFB-88C6-0D64A717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0592-1F9D-443A-B647-1D14A3B0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FA81-6183-4BAF-AACB-1AF6B193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E3F7-F2C1-4C0B-A91B-2135D351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876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41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2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876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41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6ADF-E797-4814-8E6D-057B8EAD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962-E942-4752-A21B-030EE418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F76-45CB-4DFC-8FF9-C3A19CBD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45A-E40C-4083-ADEB-380EF1E7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8153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8B0-84AC-4360-8375-E9C29DB0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8AF-5DA9-4F57-829D-2955C560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9336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0BB-1182-4FBE-9894-35EFF61C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9336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2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E2C-47A6-4AD5-9336-28B3E3D3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B10A-B1A4-46CE-90BF-86AEE2788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5448-6251-444B-943E-AFA2BA6C8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animationfactory.com/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animationfactory.com/sales/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animationfactory.com/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www.animationfactory.com/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http://www.animationfactory.com/" TargetMode="External"/><Relationship Id="rId11" Type="http://schemas.openxmlformats.org/officeDocument/2006/relationships/image" Target="../media/image3.gif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276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 </a:t>
            </a:r>
            <a:endParaRPr b="1" lang="en-US" sz="16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4" name="Picture 8" descr="world_map_animation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343560" y="4800600"/>
            <a:ext cx="2743200" cy="1324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095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2868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经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Your subtopics go here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89" name="Picture 8" descr="worldwide_marketplace_map"/>
          <p:cNvPicPr/>
          <p:nvPr/>
        </p:nvPicPr>
        <p:blipFill>
          <a:blip r:embed="rId2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276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 </a:t>
            </a:r>
            <a:endParaRPr b="1" lang="en-US" sz="16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2578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Your subtopics go here</a:t>
            </a:r>
            <a:endParaRPr b="1" lang="en-US" sz="2000" spc="-1" strike="noStrike">
              <a:solidFill>
                <a:srgbClr val="4d4d4d"/>
              </a:solidFill>
              <a:latin typeface="Franklin Gothic Demi"/>
            </a:endParaRPr>
          </a:p>
        </p:txBody>
      </p:sp>
      <p:pic>
        <p:nvPicPr>
          <p:cNvPr id="95" name="Picture 4" descr="worldwide_marketplace_map"/>
          <p:cNvPicPr/>
          <p:nvPr/>
        </p:nvPicPr>
        <p:blipFill>
          <a:blip r:embed="rId2"/>
          <a:stretch/>
        </p:blipFill>
        <p:spPr>
          <a:xfrm>
            <a:off x="6400800" y="4827600"/>
            <a:ext cx="2743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7277040" y="4648320"/>
            <a:ext cx="16765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8600" y="3002040"/>
            <a:ext cx="236232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ly FREE templates have a watermark in the backdr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PU-ttg"/>
          <p:cNvPicPr/>
          <p:nvPr/>
        </p:nvPicPr>
        <p:blipFill>
          <a:blip r:embed="rId1"/>
          <a:stretch/>
        </p:blipFill>
        <p:spPr>
          <a:xfrm>
            <a:off x="228600" y="1432080"/>
            <a:ext cx="1390680" cy="1328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2753280" y="29955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366080" y="29955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672520" y="299556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611120" y="29955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600200" y="1432080"/>
            <a:ext cx="73915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Get Over 500 Unique Templates on one CD-RO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usiness, Corporate, Religious and Educational themes with fun to serious fee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asy to Use CD-ROM interface with detailed instructions to get you up and going FA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Templates have 3 (usually 4) Backdrops designed to work with Title and Slide ma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st templates feature .GIF animations and 3-Dimensional .PNG clipart with transpar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Templates come with an “Elements Page” to aid in custo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animfactory_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105" name="Line 15"/>
          <p:cNvSpPr/>
          <p:nvPr/>
        </p:nvSpPr>
        <p:spPr>
          <a:xfrm>
            <a:off x="457200" y="2895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457200" y="46483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28600" y="4694400"/>
            <a:ext cx="236232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ost templates use “clear” animations that are 300 pixels by 300 pix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8" descr="platinu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0120" y="5781600"/>
            <a:ext cx="1028520" cy="71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learn-mor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71800" y="76320"/>
            <a:ext cx="2590920" cy="641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0"/>
          <p:cNvSpPr/>
          <p:nvPr/>
        </p:nvSpPr>
        <p:spPr>
          <a:xfrm>
            <a:off x="2884680" y="685800"/>
            <a:ext cx="28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Click Here to learn more (requires internet conne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1" descr="buy-template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324480" y="82440"/>
            <a:ext cx="2667240" cy="660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2"/>
          <p:cNvSpPr/>
          <p:nvPr/>
        </p:nvSpPr>
        <p:spPr>
          <a:xfrm>
            <a:off x="6391800" y="68580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Click Here to buy! (requires internet conne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7238880" y="4724280"/>
            <a:ext cx="1752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et more Templates, Animations, and Clipart with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latinum Subscrip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>
            <a:hlinkClick r:id="rId10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5" descr="world_map_animation"/>
          <p:cNvPicPr/>
          <p:nvPr/>
        </p:nvPicPr>
        <p:blipFill>
          <a:blip r:embed="rId11">
            <a:lum bright="12000"/>
          </a:blip>
          <a:stretch/>
        </p:blipFill>
        <p:spPr>
          <a:xfrm>
            <a:off x="2666880" y="5029200"/>
            <a:ext cx="2743200" cy="132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worldwide_marketplace_prt"/>
          <p:cNvPicPr/>
          <p:nvPr/>
        </p:nvPicPr>
        <p:blipFill>
          <a:blip r:embed="rId12"/>
          <a:stretch/>
        </p:blipFill>
        <p:spPr>
          <a:xfrm>
            <a:off x="7467480" y="3276720"/>
            <a:ext cx="152424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27" descr="worldwide_marketplace_qx"/>
          <p:cNvPicPr/>
          <p:nvPr/>
        </p:nvPicPr>
        <p:blipFill>
          <a:blip r:embed="rId13"/>
          <a:stretch/>
        </p:blipFill>
        <p:spPr>
          <a:xfrm>
            <a:off x="2590920" y="3276720"/>
            <a:ext cx="1523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28" descr="worldwide_marketplace_sld"/>
          <p:cNvPicPr/>
          <p:nvPr/>
        </p:nvPicPr>
        <p:blipFill>
          <a:blip r:embed="rId14"/>
          <a:stretch/>
        </p:blipFill>
        <p:spPr>
          <a:xfrm>
            <a:off x="4216320" y="3276720"/>
            <a:ext cx="152424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29" descr="worldwide_marketplace_trs"/>
          <p:cNvPicPr/>
          <p:nvPr/>
        </p:nvPicPr>
        <p:blipFill>
          <a:blip r:embed="rId15"/>
          <a:stretch/>
        </p:blipFill>
        <p:spPr>
          <a:xfrm>
            <a:off x="5842080" y="3276720"/>
            <a:ext cx="152388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Dem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Franklin Gothic Demi"/>
              </a:rPr>
              <a:t>：</a:t>
            </a:r>
            <a:endParaRPr b="1" lang="en-US" sz="15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Dem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Franklin Gothic Dem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Franklin Gothic Demi"/>
              </a:rPr>
              <a:t>特别说明：</a:t>
            </a:r>
            <a:endParaRPr b="1" lang="en-US" sz="15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Dem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Franklin Gothic Demi"/>
              </a:rPr>
              <a:t>：</a:t>
            </a:r>
            <a:endParaRPr b="1" lang="en-US" sz="15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Franklin Gothic Dem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CB9-E244-4E1E-B107-1EA4A7AA87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>eclipse</dc:creator>
  <dc:description/>
  <dc:language>en-US</dc:language>
  <cp:lastModifiedBy>jccook</cp:lastModifiedBy>
  <dcterms:modified xsi:type="dcterms:W3CDTF">2015-07-21T01:23:04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