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00CC1-A1F4-4A32-8DD0-21C6F4FF9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3429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440" y="615960"/>
            <a:ext cx="3429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C8DBC-764E-456F-9342-6297C7EC6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014600" y="45684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257440" y="61596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014600" y="61596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97FB4-925C-45F4-8037-D3E995807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110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16640" y="456840"/>
            <a:ext cx="110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576200" y="456840"/>
            <a:ext cx="110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57440" y="615960"/>
            <a:ext cx="110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416640" y="615960"/>
            <a:ext cx="110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576200" y="615960"/>
            <a:ext cx="110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E03B2-258E-4757-924C-B7FFCA807F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257440" y="456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167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014600" y="456840"/>
            <a:ext cx="167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07696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014600" y="456840"/>
            <a:ext cx="167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57440" y="61596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257440" y="456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D3B2D-8715-4BC8-A91B-E27A22836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167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014600" y="45684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014600" y="61596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014600" y="45684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57440" y="615960"/>
            <a:ext cx="3429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3429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57440" y="615960"/>
            <a:ext cx="3429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014600" y="45684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57440" y="61596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014600" y="61596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110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416640" y="456840"/>
            <a:ext cx="110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76200" y="456840"/>
            <a:ext cx="110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57440" y="615960"/>
            <a:ext cx="110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6416640" y="615960"/>
            <a:ext cx="110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576200" y="615960"/>
            <a:ext cx="11037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535C6-9FDE-48B0-A6C3-ADE1EE76F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167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014600" y="456840"/>
            <a:ext cx="167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5C449-A8CB-41E3-94C8-F71C8DD16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90669-81D5-491F-8B5C-3EA140A03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07696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FAA65-FF5C-4CAE-B551-48F14F1D3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014600" y="456840"/>
            <a:ext cx="167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7440" y="61596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59B0D-D8DE-4E05-8E80-682042B2C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167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014600" y="45684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014600" y="61596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5A9E7-845C-4EE6-9626-0CD37A4B2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257440" y="45684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014600" y="456840"/>
            <a:ext cx="1673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57440" y="615960"/>
            <a:ext cx="3429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A0C7C-39BE-4FB4-8651-308101434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296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0" r="-143" b="-236"/>
          <a:stretch/>
        </p:blipFill>
        <p:spPr>
          <a:xfrm>
            <a:off x="128520" y="76320"/>
            <a:ext cx="1513080" cy="11062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1160" y="1265400"/>
            <a:ext cx="9132840" cy="218880"/>
          </a:xfrm>
          <a:prstGeom prst="rect">
            <a:avLst/>
          </a:prstGeom>
          <a:gradFill rotWithShape="0">
            <a:gsLst>
              <a:gs pos="0">
                <a:srgbClr val="29686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f77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686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9686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968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686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9686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5e508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686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9686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5e508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686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9686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e508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686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9686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5e508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686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9686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5e508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686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5790960" y="65527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7f4d5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7f4d5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456840" y="6553080"/>
            <a:ext cx="1066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7f4d5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45C6-69C3-4DA8-B27D-162A27513B35}" type="slidenum">
              <a:rPr b="1" lang="zh-CN" sz="1200" spc="-1" strike="noStrike">
                <a:solidFill>
                  <a:srgbClr val="f7f4d5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686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f4d5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436320" y="22860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OGO</a:t>
            </a:r>
            <a:endParaRPr b="0" lang="en-US" sz="32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686d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29686d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08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508c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5e508c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e508c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5e508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e508c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08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e50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e508c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0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e50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e508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0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e50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e508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0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e50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257440" y="456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  <a:ea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f4d5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7f4d5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612720" y="6454800"/>
            <a:ext cx="4606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幻灯片之家 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5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66760" y="127008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计算机动态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5e5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686d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9686d"/>
              </a:solidFill>
              <a:latin typeface="Verdan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46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96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8f7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f77c5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f77c5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d406a"/>
                </a:gs>
                <a:gs pos="50000">
                  <a:srgbClr val="8f77c5"/>
                </a:gs>
                <a:gs pos="100000">
                  <a:srgbClr val="4d40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8f77c5">
                    <a:alpha val="0"/>
                  </a:srgbClr>
                </a:gs>
                <a:gs pos="100000">
                  <a:srgbClr val="5a4b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78fa5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78fa5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84d58"/>
                </a:gs>
                <a:gs pos="50000">
                  <a:srgbClr val="878fa5"/>
                </a:gs>
                <a:gs pos="100000">
                  <a:srgbClr val="484d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878fa5">
                    <a:alpha val="0"/>
                  </a:srgbClr>
                </a:gs>
                <a:gs pos="100000">
                  <a:srgbClr val="555a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62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9686d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122f32"/>
                </a:gs>
                <a:gs pos="100000">
                  <a:srgbClr val="29686d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16383a"/>
                </a:gs>
                <a:gs pos="50000">
                  <a:srgbClr val="29686d"/>
                </a:gs>
                <a:gs pos="100000">
                  <a:srgbClr val="16383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29686d">
                    <a:alpha val="0"/>
                  </a:srgbClr>
                </a:gs>
                <a:gs pos="100000">
                  <a:srgbClr val="19414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72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77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1733400" y="1447920"/>
            <a:ext cx="5353200" cy="4992120"/>
            <a:chOff x="1733400" y="1447920"/>
            <a:chExt cx="5353200" cy="4992120"/>
          </a:xfrm>
        </p:grpSpPr>
        <p:sp>
          <p:nvSpPr>
            <p:cNvPr id="285" name=""/>
            <p:cNvSpPr/>
            <p:nvPr/>
          </p:nvSpPr>
          <p:spPr>
            <a:xfrm rot="13770000">
              <a:off x="4857480" y="3871080"/>
              <a:ext cx="952200" cy="1843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20856000">
              <a:off x="2958840" y="3419280"/>
              <a:ext cx="970200" cy="1710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394200">
              <a:off x="4977360" y="2330640"/>
              <a:ext cx="591840" cy="1270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3862080" y="2368440"/>
              <a:ext cx="1548000" cy="1575720"/>
              <a:chOff x="3862080" y="2368440"/>
              <a:chExt cx="1548000" cy="157572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3862080" y="2368440"/>
                <a:ext cx="1548000" cy="1575720"/>
                <a:chOff x="3862080" y="2368440"/>
                <a:chExt cx="1548000" cy="15757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862080" y="2368440"/>
                  <a:ext cx="1548000" cy="157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78fa5"/>
                    </a:gs>
                    <a:gs pos="100000">
                      <a:srgbClr val="2022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291" name="未知"/>
                <p:cNvSpPr/>
                <p:nvPr/>
              </p:nvSpPr>
              <p:spPr>
                <a:xfrm>
                  <a:off x="4038840" y="2394360"/>
                  <a:ext cx="1194120" cy="59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78fa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2" name=""/>
              <p:cNvSpPr/>
              <p:nvPr/>
            </p:nvSpPr>
            <p:spPr>
              <a:xfrm>
                <a:off x="3918240" y="30535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5203800" y="1447920"/>
              <a:ext cx="909360" cy="853560"/>
              <a:chOff x="5203800" y="1447920"/>
              <a:chExt cx="909360" cy="85356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5216040" y="1447920"/>
                <a:ext cx="838440" cy="853560"/>
                <a:chOff x="5216040" y="1447920"/>
                <a:chExt cx="838440" cy="8535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216040" y="1447920"/>
                  <a:ext cx="838440" cy="853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9686d"/>
                    </a:gs>
                    <a:gs pos="100000">
                      <a:srgbClr val="09191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296" name="未知"/>
                <p:cNvSpPr/>
                <p:nvPr/>
              </p:nvSpPr>
              <p:spPr>
                <a:xfrm>
                  <a:off x="5311800" y="1461960"/>
                  <a:ext cx="646920" cy="3222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9686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5203800" y="177588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1733400" y="2696760"/>
              <a:ext cx="1676520" cy="1774800"/>
              <a:chOff x="1733400" y="2696760"/>
              <a:chExt cx="1676520" cy="177480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1733400" y="2696760"/>
                <a:ext cx="1676520" cy="1774800"/>
                <a:chOff x="1733400" y="2696760"/>
                <a:chExt cx="1676520" cy="177480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1733400" y="2696760"/>
                  <a:ext cx="1676520" cy="1774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c3d9"/>
                    </a:gs>
                    <a:gs pos="100000">
                      <a:srgbClr val="577b8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301" name="未知"/>
                <p:cNvSpPr/>
                <p:nvPr/>
              </p:nvSpPr>
              <p:spPr>
                <a:xfrm>
                  <a:off x="1924920" y="2725920"/>
                  <a:ext cx="1293120" cy="669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bc3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1794240" y="348552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5151240" y="4011480"/>
              <a:ext cx="1935360" cy="1971360"/>
              <a:chOff x="5151240" y="4011480"/>
              <a:chExt cx="1935360" cy="197136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5151240" y="4011480"/>
                <a:ext cx="1935360" cy="1971360"/>
                <a:chOff x="5151240" y="4011480"/>
                <a:chExt cx="1935360" cy="19713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151240" y="4011480"/>
                  <a:ext cx="1935360" cy="197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f77c5"/>
                    </a:gs>
                    <a:gs pos="100000">
                      <a:srgbClr val="493c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306" name="未知"/>
                <p:cNvSpPr/>
                <p:nvPr/>
              </p:nvSpPr>
              <p:spPr>
                <a:xfrm>
                  <a:off x="5372280" y="4043880"/>
                  <a:ext cx="1492920" cy="743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8f77c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5396760" y="48657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1927080" y="4536720"/>
              <a:ext cx="1362240" cy="456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90960" y="3947760"/>
              <a:ext cx="1363680" cy="456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73440" y="5983200"/>
              <a:ext cx="1363680" cy="456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44920" y="2368440"/>
              <a:ext cx="625680" cy="2282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686d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686d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9686d"/>
              </a:solidFill>
              <a:latin typeface="Verdana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15" name=""/>
            <p:cNvSpPr/>
            <p:nvPr/>
          </p:nvSpPr>
          <p:spPr>
            <a:xfrm rot="17973000">
              <a:off x="4558320" y="253080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29686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3465600">
              <a:off x="4608720" y="464112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29686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4368800">
              <a:off x="3389760" y="255312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29686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7534800">
              <a:off x="3351600" y="46076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29686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29686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29686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2968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5e0eb"/>
                </a:gs>
                <a:gs pos="100000">
                  <a:srgbClr val="8bc3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5e0eb"/>
                </a:gs>
                <a:gs pos="100000">
                  <a:srgbClr val="8bc3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5e0eb"/>
                </a:gs>
                <a:gs pos="100000">
                  <a:srgbClr val="8bc3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c5e0eb"/>
                </a:gs>
                <a:gs pos="100000">
                  <a:srgbClr val="8bc3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5e0eb"/>
                </a:gs>
                <a:gs pos="100000">
                  <a:srgbClr val="8bc3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5e0eb"/>
                </a:gs>
                <a:gs pos="100000">
                  <a:srgbClr val="8bc3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f77c5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49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f77c5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d406a"/>
                </a:gs>
                <a:gs pos="50000">
                  <a:srgbClr val="8f77c5"/>
                </a:gs>
                <a:gs pos="100000">
                  <a:srgbClr val="4d40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52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8f77c5">
                    <a:alpha val="0"/>
                  </a:srgbClr>
                </a:gs>
                <a:gs pos="100000">
                  <a:srgbClr val="5a4b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40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686d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9686d"/>
              </a:solidFill>
              <a:latin typeface="Verdana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47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54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62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76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81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686d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9686d"/>
              </a:solidFill>
              <a:latin typeface="Verdana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392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393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762120" y="2685960"/>
              <a:ext cx="1932120" cy="3265200"/>
              <a:chOff x="762120" y="2685960"/>
              <a:chExt cx="1932120" cy="326520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1166400" y="3524400"/>
                <a:ext cx="1527840" cy="2426760"/>
                <a:chOff x="1166400" y="3524400"/>
                <a:chExt cx="1527840" cy="242676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1166400" y="3682080"/>
                  <a:ext cx="1422000" cy="2269080"/>
                  <a:chOff x="1166400" y="3682080"/>
                  <a:chExt cx="1422000" cy="2269080"/>
                </a:xfrm>
              </p:grpSpPr>
              <p:sp>
                <p:nvSpPr>
                  <p:cNvPr id="398" name="未知"/>
                  <p:cNvSpPr/>
                  <p:nvPr/>
                </p:nvSpPr>
                <p:spPr>
                  <a:xfrm rot="3876600">
                    <a:off x="738360" y="4569840"/>
                    <a:ext cx="2277720" cy="49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未知"/>
                  <p:cNvSpPr/>
                  <p:nvPr/>
                </p:nvSpPr>
                <p:spPr>
                  <a:xfrm rot="3876600">
                    <a:off x="2107080" y="5449680"/>
                    <a:ext cx="357840" cy="40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1603080" y="3524400"/>
                  <a:ext cx="1091160" cy="1740960"/>
                  <a:chOff x="1603080" y="3524400"/>
                  <a:chExt cx="1091160" cy="1740960"/>
                </a:xfrm>
              </p:grpSpPr>
              <p:sp>
                <p:nvSpPr>
                  <p:cNvPr id="401" name="未知"/>
                  <p:cNvSpPr/>
                  <p:nvPr/>
                </p:nvSpPr>
                <p:spPr>
                  <a:xfrm flipV="1" rot="3876600">
                    <a:off x="1274400" y="4205880"/>
                    <a:ext cx="174780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未知"/>
                  <p:cNvSpPr/>
                  <p:nvPr/>
                </p:nvSpPr>
                <p:spPr>
                  <a:xfrm flipV="1" rot="3876600">
                    <a:off x="2309400" y="488772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"/>
              <p:cNvGrpSpPr/>
              <p:nvPr/>
            </p:nvGrpSpPr>
            <p:grpSpPr>
              <a:xfrm>
                <a:off x="762120" y="2685960"/>
                <a:ext cx="1272960" cy="1310760"/>
                <a:chOff x="762120" y="2685960"/>
                <a:chExt cx="1272960" cy="131076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762120" y="2685960"/>
                  <a:ext cx="127296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62120" y="2685960"/>
                  <a:ext cx="127296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46360" y="2770920"/>
                  <a:ext cx="110412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46360" y="2773800"/>
                  <a:ext cx="110412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901080" y="2828880"/>
                  <a:ext cx="994680" cy="102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916200" y="2844720"/>
                  <a:ext cx="964080" cy="993960"/>
                  <a:chOff x="916200" y="2844720"/>
                  <a:chExt cx="964080" cy="99396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916200" y="2844720"/>
                    <a:ext cx="964080" cy="99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928440" y="2850120"/>
                    <a:ext cx="94068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938520" y="2859840"/>
                    <a:ext cx="894600" cy="90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990720" y="2885040"/>
                    <a:ext cx="795240" cy="73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4" name=""/>
              <p:cNvSpPr/>
              <p:nvPr/>
            </p:nvSpPr>
            <p:spPr>
              <a:xfrm rot="3925800">
                <a:off x="1131120" y="4505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3925800">
                <a:off x="1590120" y="4222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e508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2509920" y="2685960"/>
              <a:ext cx="1930320" cy="3265200"/>
              <a:chOff x="2509920" y="2685960"/>
              <a:chExt cx="1930320" cy="326520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2912400" y="3524400"/>
                <a:ext cx="1527840" cy="2426760"/>
                <a:chOff x="2912400" y="3524400"/>
                <a:chExt cx="1527840" cy="242676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2912400" y="3682080"/>
                  <a:ext cx="1422000" cy="2269080"/>
                  <a:chOff x="2912400" y="3682080"/>
                  <a:chExt cx="1422000" cy="2269080"/>
                </a:xfrm>
              </p:grpSpPr>
              <p:sp>
                <p:nvSpPr>
                  <p:cNvPr id="419" name="未知"/>
                  <p:cNvSpPr/>
                  <p:nvPr/>
                </p:nvSpPr>
                <p:spPr>
                  <a:xfrm rot="3876600">
                    <a:off x="2484360" y="4569840"/>
                    <a:ext cx="2277720" cy="49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未知"/>
                  <p:cNvSpPr/>
                  <p:nvPr/>
                </p:nvSpPr>
                <p:spPr>
                  <a:xfrm rot="3876600">
                    <a:off x="3853080" y="5449680"/>
                    <a:ext cx="357840" cy="40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3349080" y="3524400"/>
                  <a:ext cx="1091160" cy="1740960"/>
                  <a:chOff x="3349080" y="3524400"/>
                  <a:chExt cx="1091160" cy="1740960"/>
                </a:xfrm>
              </p:grpSpPr>
              <p:sp>
                <p:nvSpPr>
                  <p:cNvPr id="422" name="未知"/>
                  <p:cNvSpPr/>
                  <p:nvPr/>
                </p:nvSpPr>
                <p:spPr>
                  <a:xfrm flipV="1" rot="3876600">
                    <a:off x="3020400" y="4205880"/>
                    <a:ext cx="174780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未知"/>
                  <p:cNvSpPr/>
                  <p:nvPr/>
                </p:nvSpPr>
                <p:spPr>
                  <a:xfrm flipV="1" rot="3876600">
                    <a:off x="4055400" y="488772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4" name=""/>
              <p:cNvGrpSpPr/>
              <p:nvPr/>
            </p:nvGrpSpPr>
            <p:grpSpPr>
              <a:xfrm>
                <a:off x="2509920" y="2685960"/>
                <a:ext cx="1272600" cy="1310760"/>
                <a:chOff x="2509920" y="2685960"/>
                <a:chExt cx="1272600" cy="131076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2509920" y="2685960"/>
                  <a:ext cx="127260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509920" y="2685960"/>
                  <a:ext cx="127260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594160" y="2770920"/>
                  <a:ext cx="110376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594160" y="2773800"/>
                  <a:ext cx="110376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648880" y="2828880"/>
                  <a:ext cx="994320" cy="102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grpSp>
              <p:nvGrpSpPr>
                <p:cNvPr id="430" name=""/>
                <p:cNvGrpSpPr/>
                <p:nvPr/>
              </p:nvGrpSpPr>
              <p:grpSpPr>
                <a:xfrm>
                  <a:off x="2664000" y="2844720"/>
                  <a:ext cx="963720" cy="993960"/>
                  <a:chOff x="2664000" y="2844720"/>
                  <a:chExt cx="963720" cy="99396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>
                    <a:off x="2664000" y="2844720"/>
                    <a:ext cx="963720" cy="99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676240" y="2850120"/>
                    <a:ext cx="94068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686320" y="2859840"/>
                    <a:ext cx="894240" cy="90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738520" y="2885040"/>
                    <a:ext cx="795240" cy="73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 rot="3925800">
                <a:off x="2872440" y="4505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3925800">
                <a:off x="3331800" y="4222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e508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4717440" y="3524400"/>
                <a:ext cx="1527840" cy="2426760"/>
                <a:chOff x="4717440" y="3524400"/>
                <a:chExt cx="1527840" cy="242676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4717440" y="3682080"/>
                  <a:ext cx="1422000" cy="2269080"/>
                  <a:chOff x="4717440" y="3682080"/>
                  <a:chExt cx="1422000" cy="2269080"/>
                </a:xfrm>
              </p:grpSpPr>
              <p:sp>
                <p:nvSpPr>
                  <p:cNvPr id="440" name="未知"/>
                  <p:cNvSpPr/>
                  <p:nvPr/>
                </p:nvSpPr>
                <p:spPr>
                  <a:xfrm rot="3876600">
                    <a:off x="4289400" y="4569840"/>
                    <a:ext cx="2277720" cy="49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未知"/>
                  <p:cNvSpPr/>
                  <p:nvPr/>
                </p:nvSpPr>
                <p:spPr>
                  <a:xfrm rot="3876600">
                    <a:off x="5658120" y="5449680"/>
                    <a:ext cx="357840" cy="40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"/>
                <p:cNvGrpSpPr/>
                <p:nvPr/>
              </p:nvGrpSpPr>
              <p:grpSpPr>
                <a:xfrm>
                  <a:off x="5154120" y="3524400"/>
                  <a:ext cx="1091160" cy="1740960"/>
                  <a:chOff x="5154120" y="3524400"/>
                  <a:chExt cx="1091160" cy="1740960"/>
                </a:xfrm>
              </p:grpSpPr>
              <p:sp>
                <p:nvSpPr>
                  <p:cNvPr id="443" name="未知"/>
                  <p:cNvSpPr/>
                  <p:nvPr/>
                </p:nvSpPr>
                <p:spPr>
                  <a:xfrm flipV="1" rot="3876600">
                    <a:off x="4825440" y="4205880"/>
                    <a:ext cx="174780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未知"/>
                  <p:cNvSpPr/>
                  <p:nvPr/>
                </p:nvSpPr>
                <p:spPr>
                  <a:xfrm flipV="1" rot="3876600">
                    <a:off x="5860440" y="488772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4313160" y="2685960"/>
                <a:ext cx="1274760" cy="1310760"/>
                <a:chOff x="4313160" y="2685960"/>
                <a:chExt cx="1274760" cy="131076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4313160" y="2685960"/>
                  <a:ext cx="127476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313160" y="2685960"/>
                  <a:ext cx="127476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397400" y="2770920"/>
                  <a:ext cx="110556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397400" y="2773800"/>
                  <a:ext cx="110556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452120" y="2828880"/>
                  <a:ext cx="996120" cy="102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grpSp>
              <p:nvGrpSpPr>
                <p:cNvPr id="451" name=""/>
                <p:cNvGrpSpPr/>
                <p:nvPr/>
              </p:nvGrpSpPr>
              <p:grpSpPr>
                <a:xfrm>
                  <a:off x="4467600" y="2844720"/>
                  <a:ext cx="965520" cy="993960"/>
                  <a:chOff x="4467600" y="2844720"/>
                  <a:chExt cx="965520" cy="99396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>
                    <a:off x="4467600" y="2844720"/>
                    <a:ext cx="965520" cy="99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4479840" y="2850120"/>
                    <a:ext cx="94212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489920" y="2859840"/>
                    <a:ext cx="896040" cy="90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542120" y="2885040"/>
                    <a:ext cx="796680" cy="73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6" name=""/>
              <p:cNvSpPr/>
              <p:nvPr/>
            </p:nvSpPr>
            <p:spPr>
              <a:xfrm rot="3925800">
                <a:off x="4685400" y="4505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3925800">
                <a:off x="5144400" y="4222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e508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59" name=""/>
              <p:cNvGrpSpPr/>
              <p:nvPr/>
            </p:nvGrpSpPr>
            <p:grpSpPr>
              <a:xfrm>
                <a:off x="6684480" y="3591360"/>
                <a:ext cx="1527480" cy="2426400"/>
                <a:chOff x="6684480" y="3591360"/>
                <a:chExt cx="1527480" cy="2426400"/>
              </a:xfrm>
            </p:grpSpPr>
            <p:grpSp>
              <p:nvGrpSpPr>
                <p:cNvPr id="460" name=""/>
                <p:cNvGrpSpPr/>
                <p:nvPr/>
              </p:nvGrpSpPr>
              <p:grpSpPr>
                <a:xfrm>
                  <a:off x="6684480" y="3749040"/>
                  <a:ext cx="1421640" cy="2268720"/>
                  <a:chOff x="6684480" y="3749040"/>
                  <a:chExt cx="1421640" cy="2268720"/>
                </a:xfrm>
              </p:grpSpPr>
              <p:sp>
                <p:nvSpPr>
                  <p:cNvPr id="461" name="未知"/>
                  <p:cNvSpPr/>
                  <p:nvPr/>
                </p:nvSpPr>
                <p:spPr>
                  <a:xfrm rot="3876600">
                    <a:off x="6256440" y="4636800"/>
                    <a:ext cx="2277360" cy="49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未知"/>
                  <p:cNvSpPr/>
                  <p:nvPr/>
                </p:nvSpPr>
                <p:spPr>
                  <a:xfrm rot="3876600">
                    <a:off x="7624800" y="5516280"/>
                    <a:ext cx="357840" cy="40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" name=""/>
                <p:cNvGrpSpPr/>
                <p:nvPr/>
              </p:nvGrpSpPr>
              <p:grpSpPr>
                <a:xfrm>
                  <a:off x="7121160" y="3591360"/>
                  <a:ext cx="1090800" cy="1740600"/>
                  <a:chOff x="7121160" y="3591360"/>
                  <a:chExt cx="1090800" cy="1740600"/>
                </a:xfrm>
              </p:grpSpPr>
              <p:sp>
                <p:nvSpPr>
                  <p:cNvPr id="464" name="未知"/>
                  <p:cNvSpPr/>
                  <p:nvPr/>
                </p:nvSpPr>
                <p:spPr>
                  <a:xfrm flipV="1" rot="3876600">
                    <a:off x="6792480" y="4272120"/>
                    <a:ext cx="174744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未知"/>
                  <p:cNvSpPr/>
                  <p:nvPr/>
                </p:nvSpPr>
                <p:spPr>
                  <a:xfrm flipV="1" rot="3876600">
                    <a:off x="7827120" y="495468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6" name=""/>
              <p:cNvSpPr/>
              <p:nvPr/>
            </p:nvSpPr>
            <p:spPr>
              <a:xfrm>
                <a:off x="6089760" y="2541600"/>
                <a:ext cx="1528560" cy="1571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089760" y="2541600"/>
                <a:ext cx="1528560" cy="15714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191280" y="2644920"/>
                <a:ext cx="1328040" cy="136440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193080" y="2647800"/>
                <a:ext cx="1327680" cy="13647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256800" y="2712960"/>
                <a:ext cx="1195920" cy="1227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6275880" y="2732400"/>
                <a:ext cx="1159200" cy="1191240"/>
                <a:chOff x="6275880" y="2732400"/>
                <a:chExt cx="1159200" cy="119124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6275880" y="2732400"/>
                  <a:ext cx="1159200" cy="119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290640" y="2738880"/>
                  <a:ext cx="1131120" cy="116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302520" y="2750400"/>
                  <a:ext cx="1075680" cy="108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365520" y="2780640"/>
                  <a:ext cx="956160" cy="880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6" name=""/>
              <p:cNvSpPr/>
              <p:nvPr/>
            </p:nvSpPr>
            <p:spPr>
              <a:xfrm rot="3925800">
                <a:off x="6638400" y="46483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3925800">
                <a:off x="7095600" y="4365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e508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79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cxnSp>
            <p:nvCxnSpPr>
              <p:cNvPr id="483" name=""/>
              <p:cNvCxnSpPr>
                <a:stCxn id="479" idx="3"/>
                <a:endCxn id="480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4" name=""/>
              <p:cNvCxnSpPr>
                <a:stCxn id="480" idx="3"/>
                <a:endCxn id="481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5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686d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488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490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29686d"/>
                  </a:gs>
                  <a:gs pos="100000">
                    <a:srgbClr val="1c484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91" name="未知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9acae"/>
                  </a:gs>
                  <a:gs pos="50000">
                    <a:srgbClr val="29686d">
                      <a:alpha val="0"/>
                    </a:srgbClr>
                  </a:gs>
                  <a:gs pos="100000">
                    <a:srgbClr val="89aca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495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497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d9bd4"/>
                  </a:gs>
                  <a:gs pos="100000">
                    <a:srgbClr val="8f77c5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98" name="未知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77c5">
                      <a:alpha val="0"/>
                    </a:srgbClr>
                  </a:gs>
                  <a:gs pos="100000">
                    <a:srgbClr val="cec4e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5e508c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02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04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2b7c5"/>
                  </a:gs>
                  <a:gs pos="100000">
                    <a:srgbClr val="878fa5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05" name="未知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78fa5">
                      <a:alpha val="0"/>
                    </a:srgbClr>
                  </a:gs>
                  <a:gs pos="100000">
                    <a:srgbClr val="c3c7d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686d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e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e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e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e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14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8f77c5"/>
                </a:gs>
                <a:gs pos="100000">
                  <a:srgbClr val="41365a"/>
                </a:gs>
              </a:gsLst>
              <a:lin ang="1980000"/>
            </a:gradFill>
            <a:ln w="93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16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29686d"/>
            </a:solidFill>
            <a:ln w="93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22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8f77c5"/>
                </a:gs>
                <a:gs pos="100000">
                  <a:srgbClr val="41365a"/>
                </a:gs>
              </a:gsLst>
              <a:lin ang="1980000"/>
            </a:gradFill>
            <a:ln w="93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28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29686d"/>
            </a:solidFill>
            <a:ln w="93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08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08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08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08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686d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835200" y="2514600"/>
          <a:ext cx="7397640" cy="2965320"/>
        </p:xfrm>
        <a:graphic>
          <a:graphicData uri="http://schemas.openxmlformats.org/drawingml/2006/table">
            <a:tbl>
              <a:tblPr/>
              <a:tblGrid>
                <a:gridCol w="1668600"/>
                <a:gridCol w="1163520"/>
                <a:gridCol w="1141560"/>
                <a:gridCol w="1137960"/>
                <a:gridCol w="1148040"/>
                <a:gridCol w="113796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5e508c"/>
                      </a:solidFill>
                    </a:lnR>
                    <a:lnT>
                      <a:noFill/>
                    </a:lnT>
                    <a:lnB w="5760">
                      <a:solidFill>
                        <a:srgbClr val="5e50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29686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29686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29686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29686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29686d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8000"/>
                      </a:srgbClr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8000"/>
                      </a:srgbClr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686d"/>
                </a:solidFill>
                <a:latin typeface="Verdana"/>
                <a:ea typeface="宋体"/>
              </a:rPr>
              <a:t>3-D Pie Chart</a:t>
            </a:r>
            <a:endParaRPr b="1" lang="en-US" sz="2800" spc="-1" strike="noStrike">
              <a:solidFill>
                <a:srgbClr val="29686d"/>
              </a:solidFill>
              <a:latin typeface="Verdana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45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afafb"/>
                </a:gs>
                <a:gs pos="100000">
                  <a:srgbClr val="878fa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605f53"/>
                </a:gs>
                <a:gs pos="50000">
                  <a:srgbClr val="f7f4d5"/>
                </a:gs>
                <a:gs pos="100000">
                  <a:srgbClr val="605f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b3a3d7"/>
                </a:gs>
                <a:gs pos="100000">
                  <a:srgbClr val="8f77c5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183e41"/>
                </a:gs>
                <a:gs pos="100000">
                  <a:srgbClr val="29686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4b6975"/>
                </a:gs>
                <a:gs pos="100000">
                  <a:srgbClr val="8bc3d9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29686d"/>
                </a:gs>
                <a:gs pos="50000">
                  <a:srgbClr val="cad9da"/>
                </a:gs>
                <a:gs pos="100000">
                  <a:srgbClr val="2968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57" name="未知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78fa5"/>
                  </a:gs>
                  <a:gs pos="100000">
                    <a:srgbClr val="5156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3e414c"/>
                  </a:gs>
                  <a:gs pos="100000">
                    <a:srgbClr val="878fa5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59" name="未知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414c"/>
                  </a:gs>
                  <a:gs pos="100000">
                    <a:srgbClr val="878fa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5e508c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686d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5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686d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e508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8223B-7CF7-4F6C-8466-EBF524BE94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60480" y="393840"/>
            <a:ext cx="6902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686d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89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bc3d9"/>
                </a:gs>
                <a:gs pos="50000">
                  <a:srgbClr val="e5f1f5"/>
                </a:gs>
                <a:gs pos="100000">
                  <a:srgbClr val="8bc3d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8bc3d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4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9686d"/>
                </a:gs>
                <a:gs pos="50000">
                  <a:srgbClr val="d0dedf"/>
                </a:gs>
                <a:gs pos="100000">
                  <a:srgbClr val="29686d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29686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99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f77c5"/>
                </a:gs>
                <a:gs pos="50000">
                  <a:srgbClr val="e6e1f1"/>
                </a:gs>
                <a:gs pos="100000">
                  <a:srgbClr val="8f77c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8f77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4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78fa5"/>
                </a:gs>
                <a:gs pos="50000">
                  <a:srgbClr val="e4e6eb"/>
                </a:gs>
                <a:gs pos="100000">
                  <a:srgbClr val="878fa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878fa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686d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914400" y="1447920"/>
            <a:ext cx="7391160" cy="4724280"/>
            <a:chOff x="914400" y="1447920"/>
            <a:chExt cx="7391160" cy="4724280"/>
          </a:xfrm>
        </p:grpSpPr>
        <p:sp>
          <p:nvSpPr>
            <p:cNvPr id="569" name=""/>
            <p:cNvSpPr/>
            <p:nvPr/>
          </p:nvSpPr>
          <p:spPr>
            <a:xfrm>
              <a:off x="1905120" y="221004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29686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43828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d404a"/>
                </a:gs>
                <a:gs pos="50000">
                  <a:srgbClr val="878fa5"/>
                </a:gs>
                <a:gs pos="100000">
                  <a:srgbClr val="3d404a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58320" y="281952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574" name="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bc3d9"/>
                      </a:gs>
                      <a:gs pos="100000">
                        <a:srgbClr val="577b8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未知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bc3d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7" name="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6781680" y="4038840"/>
              <a:ext cx="1523880" cy="2066760"/>
              <a:chOff x="6781680" y="4038840"/>
              <a:chExt cx="1523880" cy="206676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6781680" y="4038840"/>
                <a:ext cx="1523880" cy="1531800"/>
                <a:chOff x="6781680" y="4038840"/>
                <a:chExt cx="1523880" cy="1531800"/>
              </a:xfrm>
            </p:grpSpPr>
            <p:grpSp>
              <p:nvGrpSpPr>
                <p:cNvPr id="581" name=""/>
                <p:cNvGrpSpPr/>
                <p:nvPr/>
              </p:nvGrpSpPr>
              <p:grpSpPr>
                <a:xfrm>
                  <a:off x="6781680" y="4038840"/>
                  <a:ext cx="1523880" cy="1531800"/>
                  <a:chOff x="6781680" y="4038840"/>
                  <a:chExt cx="1523880" cy="153180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>
                    <a:off x="6781680" y="40388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78fa5"/>
                      </a:gs>
                      <a:gs pos="100000">
                        <a:srgbClr val="20222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未知"/>
                  <p:cNvSpPr/>
                  <p:nvPr/>
                </p:nvSpPr>
                <p:spPr>
                  <a:xfrm>
                    <a:off x="6955920" y="406404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78fa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4" name="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"/>
              <p:cNvSpPr/>
              <p:nvPr/>
            </p:nvSpPr>
            <p:spPr>
              <a:xfrm>
                <a:off x="6824520" y="56185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f77c5"/>
                    </a:gs>
                    <a:gs pos="100000">
                      <a:srgbClr val="493c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589" name="未知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8f77c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4876920" y="4038840"/>
              <a:ext cx="1523880" cy="2089080"/>
              <a:chOff x="4876920" y="4038840"/>
              <a:chExt cx="1523880" cy="2089080"/>
            </a:xfrm>
          </p:grpSpPr>
          <p:grpSp>
            <p:nvGrpSpPr>
              <p:cNvPr id="593" name="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594" name="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9686d"/>
                      </a:gs>
                      <a:gs pos="100000">
                        <a:srgbClr val="14353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未知"/>
                  <p:cNvSpPr/>
                  <p:nvPr/>
                </p:nvSpPr>
                <p:spPr>
                  <a:xfrm>
                    <a:off x="5051160" y="406404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29686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7" name="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"/>
              <p:cNvSpPr/>
              <p:nvPr/>
            </p:nvSpPr>
            <p:spPr>
              <a:xfrm>
                <a:off x="487692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1676520" y="1563840"/>
            <a:ext cx="588168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bc3d9"/>
                    </a:gs>
                    <a:gs pos="100000">
                      <a:srgbClr val="8f77c5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f7f4d5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bc3d9"/>
                  </a:gs>
                  <a:gs pos="100000">
                    <a:srgbClr val="8f77c5"/>
                  </a:gs>
                </a:gsLst>
                <a:lin ang="10800000"/>
              </a:gradFill>
              <a:effectLst>
                <a:outerShdw dist="53966" dir="2700000" blurRad="0" rotWithShape="0">
                  <a:srgbClr val="f7f4d5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5257440" y="456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86d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686d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746000"/>
            <a:ext cx="762948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f77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86d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968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On the</a:t>
            </a:r>
            <a:r>
              <a:rPr b="0" lang="en-US" sz="2900" spc="-1" strike="noStrike">
                <a:solidFill>
                  <a:srgbClr val="5e508c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8bc3d9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5e508c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menu, point to</a:t>
            </a:r>
            <a:r>
              <a:rPr b="0" lang="en-US" sz="2900" spc="-1" strike="noStrike">
                <a:solidFill>
                  <a:srgbClr val="5e508c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8bc3d9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5e508c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and then click</a:t>
            </a:r>
            <a:r>
              <a:rPr b="0" lang="en-US" sz="2900" spc="-1" strike="noStrike">
                <a:solidFill>
                  <a:srgbClr val="5e508c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8bc3d9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5e508c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or</a:t>
            </a:r>
            <a:r>
              <a:rPr b="0" lang="en-US" sz="2900" spc="-1" strike="noStrike">
                <a:solidFill>
                  <a:srgbClr val="5e508c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8bc3d9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5e508c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Change images to the one you like, then it will apply to all the other slid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e5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686d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9686d"/>
              </a:solidFill>
              <a:latin typeface="Verdan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12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114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4d8e5"/>
              </a:gs>
              <a:gs pos="100000">
                <a:srgbClr val="8bc3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16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395f"/>
                    </a:gs>
                    <a:gs pos="100000">
                      <a:srgbClr val="8f77c5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f77c5"/>
                    </a:gs>
                    <a:gs pos="100000">
                      <a:srgbClr val="ccc1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29686d"/>
                  </a:gs>
                  <a:gs pos="100000">
                    <a:srgbClr val="122f3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3c9cb"/>
                  </a:gs>
                  <a:gs pos="100000">
                    <a:srgbClr val="29686d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29686d">
                      <a:alpha val="48235"/>
                    </a:srgbClr>
                  </a:gs>
                  <a:gs pos="100000">
                    <a:srgbClr val="20525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29686d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26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128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ad2eb"/>
              </a:gs>
              <a:gs pos="100000">
                <a:srgbClr val="8f77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686d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29686d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31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29686d"/>
                </a:gs>
                <a:gs pos="100000">
                  <a:srgbClr val="bdd0d2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8f77c5"/>
                </a:gs>
                <a:gs pos="100000">
                  <a:srgbClr val="31284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29686d"/>
                </a:gs>
                <a:gs pos="100000">
                  <a:srgbClr val="0c202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8bc3d9"/>
                </a:gs>
                <a:gs pos="100000">
                  <a:srgbClr val="3145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f7f4d5"/>
                </a:gs>
                <a:gs pos="100000">
                  <a:srgbClr val="5756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878fa5"/>
                </a:gs>
                <a:gs pos="100000">
                  <a:srgbClr val="2e313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e508c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5e50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cxnSp>
          <p:nvCxnSpPr>
            <p:cNvPr id="144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5e508c"/>
              </a:solidFill>
              <a:miter/>
            </a:ln>
          </p:spPr>
        </p:cxnSp>
        <p:sp>
          <p:nvSpPr>
            <p:cNvPr id="145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686d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95280" y="1752480"/>
            <a:ext cx="6477120" cy="4125960"/>
            <a:chOff x="1295280" y="1752480"/>
            <a:chExt cx="6477120" cy="4125960"/>
          </a:xfrm>
        </p:grpSpPr>
        <p:sp>
          <p:nvSpPr>
            <p:cNvPr id="148" name=""/>
            <p:cNvSpPr/>
            <p:nvPr/>
          </p:nvSpPr>
          <p:spPr>
            <a:xfrm>
              <a:off x="3759120" y="4057560"/>
              <a:ext cx="154944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14c"/>
                </a:gs>
                <a:gs pos="50000">
                  <a:srgbClr val="878fa5"/>
                </a:gs>
                <a:gs pos="100000">
                  <a:srgbClr val="3e41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59120" y="3551040"/>
              <a:ext cx="1549440" cy="579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14c"/>
                </a:gs>
                <a:gs pos="50000">
                  <a:srgbClr val="878fa5"/>
                </a:gs>
                <a:gs pos="100000">
                  <a:srgbClr val="3e41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59120" y="3044880"/>
              <a:ext cx="154944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14c"/>
                </a:gs>
                <a:gs pos="50000">
                  <a:srgbClr val="878fa5"/>
                </a:gs>
                <a:gs pos="100000">
                  <a:srgbClr val="3e41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22800" y="3263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22800" y="37702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22800" y="4276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25520" y="2827080"/>
              <a:ext cx="492120" cy="195444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878f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2320920"/>
              <a:ext cx="1689120" cy="2968560"/>
            </a:xfrm>
            <a:custGeom>
              <a:avLst/>
              <a:gdLst>
                <a:gd name="textAreaLeft" fmla="*/ 82440 w 1689120"/>
                <a:gd name="textAreaRight" fmla="*/ 1606680 w 1689120"/>
                <a:gd name="textAreaTop" fmla="*/ 82440 h 2968560"/>
                <a:gd name="textAreaBottom" fmla="*/ 2886120 h 2968560"/>
              </a:gdLst>
              <a:ahLst/>
              <a:rect l="textAreaLeft" t="textAreaTop" r="textAreaRight" b="textAreaBottom"/>
              <a:pathLst>
                <a:path w="21600" h="37958">
                  <a:moveTo>
                    <a:pt x="3600" y="0"/>
                  </a:moveTo>
                  <a:arcTo wR="3600" hR="3600" stAng="16200000" swAng="-5400000"/>
                  <a:lnTo>
                    <a:pt x="0" y="34358"/>
                  </a:lnTo>
                  <a:arcTo wR="3600" hR="3600" stAng="10800000" swAng="-5400000"/>
                  <a:lnTo>
                    <a:pt x="18000" y="379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65120" y="2538360"/>
              <a:ext cx="154944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83280" y="2320920"/>
              <a:ext cx="1689120" cy="2968560"/>
            </a:xfrm>
            <a:custGeom>
              <a:avLst/>
              <a:gdLst>
                <a:gd name="textAreaLeft" fmla="*/ 82440 w 1689120"/>
                <a:gd name="textAreaRight" fmla="*/ 1606680 w 1689120"/>
                <a:gd name="textAreaTop" fmla="*/ 82440 h 2968560"/>
                <a:gd name="textAreaBottom" fmla="*/ 2886120 h 2968560"/>
              </a:gdLst>
              <a:ahLst/>
              <a:rect l="textAreaLeft" t="textAreaTop" r="textAreaRight" b="textAreaBottom"/>
              <a:pathLst>
                <a:path w="21600" h="37958">
                  <a:moveTo>
                    <a:pt x="3600" y="0"/>
                  </a:moveTo>
                  <a:arcTo wR="3600" hR="3600" stAng="16200000" swAng="-5400000"/>
                  <a:lnTo>
                    <a:pt x="0" y="34358"/>
                  </a:lnTo>
                  <a:arcTo wR="3600" hR="3600" stAng="10800000" swAng="-5400000"/>
                  <a:lnTo>
                    <a:pt x="18000" y="379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53120" y="2538360"/>
              <a:ext cx="154944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51480" y="2827080"/>
              <a:ext cx="490320" cy="195444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878fa5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55680" y="1752480"/>
              <a:ext cx="2816280" cy="57960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22f32"/>
                </a:gs>
                <a:gs pos="50000">
                  <a:srgbClr val="29686d"/>
                </a:gs>
                <a:gs pos="100000">
                  <a:srgbClr val="122f3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28880" y="246528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878fa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0048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25520" y="5289480"/>
              <a:ext cx="2816280" cy="5778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1365a"/>
                </a:gs>
                <a:gs pos="50000">
                  <a:srgbClr val="8f77c5"/>
                </a:gs>
                <a:gs pos="100000">
                  <a:srgbClr val="41365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0048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08360" y="4709880"/>
              <a:ext cx="162252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878f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686d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68" name=""/>
            <p:cNvGrpSpPr/>
            <p:nvPr/>
          </p:nvGrpSpPr>
          <p:grpSpPr>
            <a:xfrm>
              <a:off x="3008520" y="2209680"/>
              <a:ext cx="2900880" cy="2706120"/>
              <a:chOff x="3008520" y="2209680"/>
              <a:chExt cx="2900880" cy="2706120"/>
            </a:xfrm>
          </p:grpSpPr>
          <p:sp>
            <p:nvSpPr>
              <p:cNvPr id="169" name=""/>
              <p:cNvSpPr/>
              <p:nvPr/>
            </p:nvSpPr>
            <p:spPr>
              <a:xfrm flipH="1" rot="16200000">
                <a:off x="2927160" y="3253680"/>
                <a:ext cx="45900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rot="5400000">
                <a:off x="5531040" y="3202560"/>
                <a:ext cx="459000" cy="2973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rot="10800000">
                <a:off x="4238640" y="4609800"/>
                <a:ext cx="4446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06240" y="2209680"/>
                <a:ext cx="233028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439080" y="2344680"/>
                <a:ext cx="20631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560400" y="2471040"/>
                <a:ext cx="18208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f77c5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60400" y="2471040"/>
                <a:ext cx="18208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80280" y="2594520"/>
                <a:ext cx="1581480" cy="1631880"/>
              </a:xfrm>
              <a:prstGeom prst="ellipse">
                <a:avLst/>
              </a:prstGeom>
              <a:gradFill rotWithShape="0">
                <a:gsLst>
                  <a:gs pos="0">
                    <a:srgbClr val="4d406a"/>
                  </a:gs>
                  <a:gs pos="50000">
                    <a:srgbClr val="8f77c5"/>
                  </a:gs>
                  <a:gs pos="100000">
                    <a:srgbClr val="4d406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80280" y="2594520"/>
                <a:ext cx="158148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14c"/>
                </a:gs>
                <a:gs pos="50000">
                  <a:srgbClr val="878fa5"/>
                </a:gs>
                <a:gs pos="100000">
                  <a:srgbClr val="3e41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14c"/>
                </a:gs>
                <a:gs pos="50000">
                  <a:srgbClr val="878fa5"/>
                </a:gs>
                <a:gs pos="100000">
                  <a:srgbClr val="3e41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14c"/>
                </a:gs>
                <a:gs pos="50000">
                  <a:srgbClr val="878fa5"/>
                </a:gs>
                <a:gs pos="100000">
                  <a:srgbClr val="3e41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22f32"/>
                </a:gs>
                <a:gs pos="50000">
                  <a:srgbClr val="29686d"/>
                </a:gs>
                <a:gs pos="100000">
                  <a:srgbClr val="122f3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22f32"/>
                </a:gs>
                <a:gs pos="50000">
                  <a:srgbClr val="29686d"/>
                </a:gs>
                <a:gs pos="100000">
                  <a:srgbClr val="122f3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22f32"/>
                </a:gs>
                <a:gs pos="50000">
                  <a:srgbClr val="29686d"/>
                </a:gs>
                <a:gs pos="100000">
                  <a:srgbClr val="122f3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686d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9686d"/>
              </a:solidFill>
              <a:latin typeface="Verdana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194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5e50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5e50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5e50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5e50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08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5964"/>
                  </a:gs>
                  <a:gs pos="50000">
                    <a:srgbClr val="8bc3d9"/>
                  </a:gs>
                  <a:gs pos="100000">
                    <a:srgbClr val="4059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09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8bc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365a"/>
                  </a:gs>
                  <a:gs pos="50000">
                    <a:srgbClr val="8f77c5"/>
                  </a:gs>
                  <a:gs pos="100000">
                    <a:srgbClr val="41365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8f77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414c"/>
                  </a:gs>
                  <a:gs pos="50000">
                    <a:srgbClr val="878fa5"/>
                  </a:gs>
                  <a:gs pos="100000">
                    <a:srgbClr val="3e414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22f32"/>
                  </a:gs>
                  <a:gs pos="50000">
                    <a:srgbClr val="29686d"/>
                  </a:gs>
                  <a:gs pos="100000">
                    <a:srgbClr val="122f3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2968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648c9c"/>
                  </a:gs>
                  <a:gs pos="50000">
                    <a:srgbClr val="8bc3d9"/>
                  </a:gs>
                  <a:gs pos="100000">
                    <a:srgbClr val="648c9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67558e"/>
                  </a:gs>
                  <a:gs pos="50000">
                    <a:srgbClr val="8f77c5"/>
                  </a:gs>
                  <a:gs pos="100000">
                    <a:srgbClr val="67558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878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616777"/>
                  </a:gs>
                  <a:gs pos="50000">
                    <a:srgbClr val="878fa5"/>
                  </a:gs>
                  <a:gs pos="100000">
                    <a:srgbClr val="61677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1d4b4e"/>
                  </a:gs>
                  <a:gs pos="50000">
                    <a:srgbClr val="29686d"/>
                  </a:gs>
                  <a:gs pos="100000">
                    <a:srgbClr val="1d4b4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686d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9686d"/>
              </a:solidFill>
              <a:latin typeface="Verdana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914400" y="1371600"/>
            <a:ext cx="7315200" cy="5019840"/>
            <a:chOff x="914400" y="1371600"/>
            <a:chExt cx="7315200" cy="5019840"/>
          </a:xfrm>
        </p:grpSpPr>
        <p:sp>
          <p:nvSpPr>
            <p:cNvPr id="223" name="未知"/>
            <p:cNvSpPr/>
            <p:nvPr/>
          </p:nvSpPr>
          <p:spPr>
            <a:xfrm>
              <a:off x="5073480" y="1371600"/>
              <a:ext cx="1467000" cy="11556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8f77c5"/>
                </a:gs>
                <a:gs pos="100000">
                  <a:srgbClr val="9882c9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24320" y="280512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bc3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57600" y="266688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05964"/>
                </a:gs>
                <a:gs pos="50000">
                  <a:srgbClr val="8bc3d9"/>
                </a:gs>
                <a:gs pos="100000">
                  <a:srgbClr val="4059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333400" y="274320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742560" y="273384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34240" y="23036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f77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49880" y="21607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1365a"/>
                </a:gs>
                <a:gs pos="50000">
                  <a:srgbClr val="8f77c5"/>
                </a:gs>
                <a:gs pos="100000">
                  <a:srgbClr val="4136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7835040" y="2232000"/>
              <a:ext cx="7164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6253200" y="2232000"/>
              <a:ext cx="7128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2492280" y="1873080"/>
              <a:ext cx="1467000" cy="11574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878fa5"/>
                </a:gs>
                <a:gs pos="100000">
                  <a:srgbClr val="b9bdca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13200" y="2638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27800" y="21430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914400" y="3067200"/>
              <a:ext cx="2295360" cy="3324240"/>
              <a:chOff x="914400" y="3067200"/>
              <a:chExt cx="2295360" cy="3324240"/>
            </a:xfrm>
          </p:grpSpPr>
          <p:sp>
            <p:nvSpPr>
              <p:cNvPr id="236" name=""/>
              <p:cNvSpPr/>
              <p:nvPr/>
            </p:nvSpPr>
            <p:spPr>
              <a:xfrm>
                <a:off x="914400" y="3235320"/>
                <a:ext cx="2295360" cy="315612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6120"/>
                  <a:gd name="textAreaBottom" fmla="*/ 3124800 h 3156120"/>
                </a:gdLst>
                <a:ahLst/>
                <a:rect l="textAreaLeft" t="textAreaTop" r="textAreaRight" b="textAreaBottom"/>
                <a:pathLst>
                  <a:path w="21600" h="29699">
                    <a:moveTo>
                      <a:pt x="1013" y="0"/>
                    </a:moveTo>
                    <a:arcTo wR="1013" hR="1013" stAng="16200000" swAng="-5400000"/>
                    <a:lnTo>
                      <a:pt x="0" y="28686"/>
                    </a:lnTo>
                    <a:arcTo wR="1013" hR="1013" stAng="10800000" swAng="-5400000"/>
                    <a:lnTo>
                      <a:pt x="20587" y="29699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878f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130400" y="3092760"/>
                <a:ext cx="1863720" cy="28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4373f"/>
                  </a:gs>
                  <a:gs pos="50000">
                    <a:srgbClr val="878fa5"/>
                  </a:gs>
                  <a:gs pos="100000">
                    <a:srgbClr val="3437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2813760" y="3164040"/>
                <a:ext cx="71640" cy="14436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1231200" y="3164040"/>
                <a:ext cx="73080" cy="14436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398600" y="306720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990720" y="3495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3505320" y="30384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19920" y="250524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0:44:24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10:3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