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87C-1B20-474E-AE5F-B5D2D206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9F9-8294-4469-BDBF-47EEA414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8D3D-68B3-4447-8CF8-C6A011B9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1D2-A2DC-4455-8B5C-7E80053C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F94-1D4A-4516-BB5A-1A089F58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7C64-5273-427B-8358-0A5324F3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019-88C7-4CCD-95F2-947A0E5E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C9A-4691-4116-96F5-4E051DE7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A1F-66B5-415E-BCAE-40EA0F9E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099-5502-4537-9378-30779AAF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994-EAD8-49B6-8CEA-AD7D40F1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864-5942-4AE2-B082-B2511771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52C9-A729-467D-B551-9B1A44D4C3A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7BB6-DBA4-43C7-800E-6BB862D592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15480" y="906480"/>
            <a:ext cx="3855600" cy="4865760"/>
            <a:chOff x="915480" y="906480"/>
            <a:chExt cx="3855600" cy="4865760"/>
          </a:xfrm>
        </p:grpSpPr>
        <p:grpSp>
          <p:nvGrpSpPr>
            <p:cNvPr id="42" name=""/>
            <p:cNvGrpSpPr/>
            <p:nvPr/>
          </p:nvGrpSpPr>
          <p:grpSpPr>
            <a:xfrm>
              <a:off x="3854520" y="5098320"/>
              <a:ext cx="347760" cy="284040"/>
              <a:chOff x="3854520" y="5098320"/>
              <a:chExt cx="347760" cy="284040"/>
            </a:xfrm>
          </p:grpSpPr>
          <p:sp>
            <p:nvSpPr>
              <p:cNvPr id="43" name="椭圆 7"/>
              <p:cNvSpPr/>
              <p:nvPr/>
            </p:nvSpPr>
            <p:spPr>
              <a:xfrm rot="837600">
                <a:off x="4011480" y="5115600"/>
                <a:ext cx="169560" cy="19476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直接连接符 9"/>
              <p:cNvSpPr/>
              <p:nvPr/>
            </p:nvSpPr>
            <p:spPr>
              <a:xfrm flipH="1">
                <a:off x="3854520" y="5265720"/>
                <a:ext cx="166680" cy="1166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" name="椭圆 25"/>
            <p:cNvSpPr/>
            <p:nvPr/>
          </p:nvSpPr>
          <p:spPr>
            <a:xfrm>
              <a:off x="1941120" y="3599640"/>
              <a:ext cx="1783440" cy="2172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915480" y="906480"/>
              <a:ext cx="3855600" cy="2956680"/>
              <a:chOff x="915480" y="906480"/>
              <a:chExt cx="3855600" cy="2956680"/>
            </a:xfrm>
          </p:grpSpPr>
          <p:sp>
            <p:nvSpPr>
              <p:cNvPr id="47" name="椭圆 55"/>
              <p:cNvSpPr/>
              <p:nvPr/>
            </p:nvSpPr>
            <p:spPr>
              <a:xfrm>
                <a:off x="2216520" y="928080"/>
                <a:ext cx="652320" cy="1060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椭圆 56"/>
              <p:cNvSpPr/>
              <p:nvPr/>
            </p:nvSpPr>
            <p:spPr>
              <a:xfrm>
                <a:off x="2869200" y="906480"/>
                <a:ext cx="652320" cy="1060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椭圆 57"/>
              <p:cNvSpPr/>
              <p:nvPr/>
            </p:nvSpPr>
            <p:spPr>
              <a:xfrm>
                <a:off x="2660400" y="1687320"/>
                <a:ext cx="417600" cy="5601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915480" y="1786320"/>
                <a:ext cx="1246680" cy="1202760"/>
                <a:chOff x="915480" y="1786320"/>
                <a:chExt cx="1246680" cy="1202760"/>
              </a:xfrm>
            </p:grpSpPr>
            <p:sp>
              <p:nvSpPr>
                <p:cNvPr id="51" name="直接连接符 58"/>
                <p:cNvSpPr/>
                <p:nvPr/>
              </p:nvSpPr>
              <p:spPr>
                <a:xfrm flipH="1" flipV="1">
                  <a:off x="978120" y="1786320"/>
                  <a:ext cx="1184040" cy="362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直接连接符 61"/>
                <p:cNvSpPr/>
                <p:nvPr/>
              </p:nvSpPr>
              <p:spPr>
                <a:xfrm flipH="1" flipV="1">
                  <a:off x="915480" y="2372040"/>
                  <a:ext cx="1184040" cy="108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直接连接符 63"/>
                <p:cNvSpPr/>
                <p:nvPr/>
              </p:nvSpPr>
              <p:spPr>
                <a:xfrm flipH="1">
                  <a:off x="994320" y="2801520"/>
                  <a:ext cx="1095840" cy="187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3508920" y="1746000"/>
                <a:ext cx="1262160" cy="1184400"/>
                <a:chOff x="3508920" y="1746000"/>
                <a:chExt cx="1262160" cy="1184400"/>
              </a:xfrm>
            </p:grpSpPr>
            <p:sp>
              <p:nvSpPr>
                <p:cNvPr id="55" name="直接连接符 68"/>
                <p:cNvSpPr/>
                <p:nvPr/>
              </p:nvSpPr>
              <p:spPr>
                <a:xfrm>
                  <a:off x="3543840" y="2765160"/>
                  <a:ext cx="1227240" cy="165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直接连接符 69"/>
                <p:cNvSpPr/>
                <p:nvPr/>
              </p:nvSpPr>
              <p:spPr>
                <a:xfrm flipV="1">
                  <a:off x="3551760" y="2342160"/>
                  <a:ext cx="1185840" cy="84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直接连接符 70"/>
                <p:cNvSpPr/>
                <p:nvPr/>
              </p:nvSpPr>
              <p:spPr>
                <a:xfrm flipV="1">
                  <a:off x="3508920" y="1746000"/>
                  <a:ext cx="1050480" cy="363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直接连接符 72"/>
              <p:cNvSpPr/>
              <p:nvPr/>
            </p:nvSpPr>
            <p:spPr>
              <a:xfrm>
                <a:off x="2876400" y="2247480"/>
                <a:ext cx="6840" cy="106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直接连接符 81"/>
              <p:cNvSpPr/>
              <p:nvPr/>
            </p:nvSpPr>
            <p:spPr>
              <a:xfrm flipH="1">
                <a:off x="2625120" y="3306960"/>
                <a:ext cx="71280" cy="55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2716200" y="3858840"/>
              <a:ext cx="265320" cy="369720"/>
              <a:chOff x="2716200" y="3858840"/>
              <a:chExt cx="265320" cy="369720"/>
            </a:xfrm>
          </p:grpSpPr>
          <p:sp>
            <p:nvSpPr>
              <p:cNvPr id="61" name="椭圆 42"/>
              <p:cNvSpPr/>
              <p:nvPr/>
            </p:nvSpPr>
            <p:spPr>
              <a:xfrm>
                <a:off x="2716200" y="3858840"/>
                <a:ext cx="265320" cy="369720"/>
              </a:xfrm>
              <a:prstGeom prst="ellipse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直接连接符 43"/>
              <p:cNvSpPr/>
              <p:nvPr/>
            </p:nvSpPr>
            <p:spPr>
              <a:xfrm>
                <a:off x="2716200" y="4043520"/>
                <a:ext cx="2653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直接连接符 44"/>
              <p:cNvSpPr/>
              <p:nvPr/>
            </p:nvSpPr>
            <p:spPr>
              <a:xfrm flipV="1">
                <a:off x="2849040" y="4112640"/>
                <a:ext cx="0" cy="115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45"/>
              <p:cNvSpPr/>
              <p:nvPr/>
            </p:nvSpPr>
            <p:spPr>
              <a:xfrm>
                <a:off x="2818800" y="4061520"/>
                <a:ext cx="60480" cy="69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630440" y="3976200"/>
              <a:ext cx="1487160" cy="1554120"/>
              <a:chOff x="1630440" y="3976200"/>
              <a:chExt cx="1487160" cy="1554120"/>
            </a:xfrm>
          </p:grpSpPr>
          <p:sp>
            <p:nvSpPr>
              <p:cNvPr id="66" name="椭圆 5"/>
              <p:cNvSpPr/>
              <p:nvPr/>
            </p:nvSpPr>
            <p:spPr>
              <a:xfrm rot="8281800">
                <a:off x="2060280" y="3989880"/>
                <a:ext cx="627120" cy="15264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604240" y="4029480"/>
              <a:ext cx="1419120" cy="1419120"/>
              <a:chOff x="2604240" y="4029480"/>
              <a:chExt cx="1419120" cy="1419120"/>
            </a:xfrm>
          </p:grpSpPr>
          <p:sp>
            <p:nvSpPr>
              <p:cNvPr id="68" name="椭圆 90"/>
              <p:cNvSpPr/>
              <p:nvPr/>
            </p:nvSpPr>
            <p:spPr>
              <a:xfrm rot="13500000">
                <a:off x="2984760" y="4064040"/>
                <a:ext cx="657720" cy="134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椭圆 91"/>
            <p:cNvSpPr/>
            <p:nvPr/>
          </p:nvSpPr>
          <p:spPr>
            <a:xfrm>
              <a:off x="2683800" y="1760760"/>
              <a:ext cx="185400" cy="2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92"/>
            <p:cNvSpPr/>
            <p:nvPr/>
          </p:nvSpPr>
          <p:spPr>
            <a:xfrm>
              <a:off x="2542680" y="1278360"/>
              <a:ext cx="186480" cy="297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 94"/>
            <p:cNvSpPr/>
            <p:nvPr/>
          </p:nvSpPr>
          <p:spPr>
            <a:xfrm>
              <a:off x="3012120" y="1278360"/>
              <a:ext cx="186480" cy="297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95"/>
            <p:cNvSpPr/>
            <p:nvPr/>
          </p:nvSpPr>
          <p:spPr>
            <a:xfrm>
              <a:off x="2596320" y="1397880"/>
              <a:ext cx="79560" cy="91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96"/>
            <p:cNvSpPr/>
            <p:nvPr/>
          </p:nvSpPr>
          <p:spPr>
            <a:xfrm>
              <a:off x="3044880" y="1379520"/>
              <a:ext cx="79560" cy="91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98"/>
          <p:cNvSpPr/>
          <p:nvPr/>
        </p:nvSpPr>
        <p:spPr>
          <a:xfrm>
            <a:off x="5488560" y="2844720"/>
            <a:ext cx="249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找看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该送你们什么呢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8400" y="152280"/>
            <a:ext cx="37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可爱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下载免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2752200" y="1500120"/>
            <a:ext cx="3623040" cy="3308400"/>
            <a:chOff x="2752200" y="1500120"/>
            <a:chExt cx="3623040" cy="3308400"/>
          </a:xfrm>
        </p:grpSpPr>
        <p:sp>
          <p:nvSpPr>
            <p:cNvPr id="179" name="椭圆 15"/>
            <p:cNvSpPr/>
            <p:nvPr/>
          </p:nvSpPr>
          <p:spPr>
            <a:xfrm>
              <a:off x="2774880" y="2182320"/>
              <a:ext cx="1713600" cy="25822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16"/>
            <p:cNvSpPr/>
            <p:nvPr/>
          </p:nvSpPr>
          <p:spPr>
            <a:xfrm>
              <a:off x="4661640" y="2138400"/>
              <a:ext cx="1713600" cy="267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18"/>
            <p:cNvSpPr/>
            <p:nvPr/>
          </p:nvSpPr>
          <p:spPr>
            <a:xfrm>
              <a:off x="3349080" y="3561840"/>
              <a:ext cx="565200" cy="55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19"/>
            <p:cNvSpPr/>
            <p:nvPr/>
          </p:nvSpPr>
          <p:spPr>
            <a:xfrm>
              <a:off x="5235840" y="3561840"/>
              <a:ext cx="565200" cy="55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新月形 20"/>
            <p:cNvSpPr/>
            <p:nvPr/>
          </p:nvSpPr>
          <p:spPr>
            <a:xfrm rot="5400000">
              <a:off x="3282480" y="969480"/>
              <a:ext cx="555840" cy="161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新月形 21"/>
            <p:cNvSpPr/>
            <p:nvPr/>
          </p:nvSpPr>
          <p:spPr>
            <a:xfrm rot="5400000">
              <a:off x="5258880" y="969480"/>
              <a:ext cx="555840" cy="161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矩形 3"/>
          <p:cNvSpPr/>
          <p:nvPr/>
        </p:nvSpPr>
        <p:spPr>
          <a:xfrm>
            <a:off x="-11160" y="514836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-11160" y="600228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-11160" y="3421080"/>
            <a:ext cx="9155160" cy="871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6"/>
          <p:cNvSpPr/>
          <p:nvPr/>
        </p:nvSpPr>
        <p:spPr>
          <a:xfrm>
            <a:off x="-11160" y="429264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-11160" y="170964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8"/>
          <p:cNvSpPr/>
          <p:nvPr/>
        </p:nvSpPr>
        <p:spPr>
          <a:xfrm>
            <a:off x="-11160" y="256536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9"/>
          <p:cNvSpPr/>
          <p:nvPr/>
        </p:nvSpPr>
        <p:spPr>
          <a:xfrm>
            <a:off x="-11160" y="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0"/>
          <p:cNvSpPr/>
          <p:nvPr/>
        </p:nvSpPr>
        <p:spPr>
          <a:xfrm>
            <a:off x="-11160" y="85572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4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4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" presetSubtype="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4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4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4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" presetSubtype="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4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4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" presetSubtype="2">
                                  <p:stCondLst>
                                    <p:cond delay="36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4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24C-6854-4F56-8A40-7AC4905425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247760" y="1173240"/>
            <a:ext cx="6649920" cy="4511520"/>
            <a:chOff x="1247760" y="1173240"/>
            <a:chExt cx="6649920" cy="4511520"/>
          </a:xfrm>
        </p:grpSpPr>
        <p:sp>
          <p:nvSpPr>
            <p:cNvPr id="197" name="椭圆 13"/>
            <p:cNvSpPr/>
            <p:nvPr/>
          </p:nvSpPr>
          <p:spPr>
            <a:xfrm>
              <a:off x="1247760" y="1173240"/>
              <a:ext cx="1055880" cy="139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14"/>
            <p:cNvSpPr/>
            <p:nvPr/>
          </p:nvSpPr>
          <p:spPr>
            <a:xfrm>
              <a:off x="4381200" y="4286160"/>
              <a:ext cx="1055880" cy="1398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15"/>
            <p:cNvSpPr/>
            <p:nvPr/>
          </p:nvSpPr>
          <p:spPr>
            <a:xfrm>
              <a:off x="6841800" y="4192920"/>
              <a:ext cx="1055880" cy="1398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椭圆 4"/>
          <p:cNvSpPr/>
          <p:nvPr/>
        </p:nvSpPr>
        <p:spPr>
          <a:xfrm>
            <a:off x="3957480" y="3027240"/>
            <a:ext cx="1229040" cy="122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同心圆 5"/>
          <p:cNvSpPr/>
          <p:nvPr/>
        </p:nvSpPr>
        <p:spPr>
          <a:xfrm>
            <a:off x="3597120" y="2666880"/>
            <a:ext cx="1949760" cy="1949400"/>
          </a:xfrm>
          <a:custGeom>
            <a:avLst/>
            <a:gdLst>
              <a:gd name="textAreaLeft" fmla="*/ 285480 w 1949760"/>
              <a:gd name="textAreaRight" fmla="*/ 1664280 w 1949760"/>
              <a:gd name="textAreaTop" fmla="*/ 285480 h 1949400"/>
              <a:gd name="textAreaBottom" fmla="*/ 1663920 h 1949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同心圆 6"/>
          <p:cNvSpPr/>
          <p:nvPr/>
        </p:nvSpPr>
        <p:spPr>
          <a:xfrm>
            <a:off x="3021120" y="2090880"/>
            <a:ext cx="3101760" cy="3101760"/>
          </a:xfrm>
          <a:custGeom>
            <a:avLst/>
            <a:gdLst>
              <a:gd name="textAreaLeft" fmla="*/ 453960 w 3101760"/>
              <a:gd name="textAreaRight" fmla="*/ 2647800 w 3101760"/>
              <a:gd name="textAreaTop" fmla="*/ 453960 h 3101760"/>
              <a:gd name="textAreaBottom" fmla="*/ 2647800 h 310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同心圆 7"/>
          <p:cNvSpPr/>
          <p:nvPr/>
        </p:nvSpPr>
        <p:spPr>
          <a:xfrm>
            <a:off x="2117880" y="1187280"/>
            <a:ext cx="4908240" cy="4908600"/>
          </a:xfrm>
          <a:custGeom>
            <a:avLst/>
            <a:gdLst>
              <a:gd name="textAreaLeft" fmla="*/ 718560 w 4908240"/>
              <a:gd name="textAreaRight" fmla="*/ 4189680 w 4908240"/>
              <a:gd name="textAreaTop" fmla="*/ 718560 h 4908600"/>
              <a:gd name="textAreaBottom" fmla="*/ 4190040 h 490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同心圆 8"/>
          <p:cNvSpPr/>
          <p:nvPr/>
        </p:nvSpPr>
        <p:spPr>
          <a:xfrm>
            <a:off x="704880" y="-220680"/>
            <a:ext cx="7734240" cy="7731000"/>
          </a:xfrm>
          <a:custGeom>
            <a:avLst/>
            <a:gdLst>
              <a:gd name="textAreaLeft" fmla="*/ 1132560 w 7734240"/>
              <a:gd name="textAreaRight" fmla="*/ 6601680 w 7734240"/>
              <a:gd name="textAreaTop" fmla="*/ 1131840 h 7731000"/>
              <a:gd name="textAreaBottom" fmla="*/ 6599160 h 773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同心圆 9"/>
          <p:cNvSpPr/>
          <p:nvPr/>
        </p:nvSpPr>
        <p:spPr>
          <a:xfrm>
            <a:off x="-1484280" y="-2414520"/>
            <a:ext cx="12119040" cy="12119040"/>
          </a:xfrm>
          <a:custGeom>
            <a:avLst/>
            <a:gdLst>
              <a:gd name="textAreaLeft" fmla="*/ 1774440 w 12119040"/>
              <a:gd name="textAreaRight" fmla="*/ 10344600 w 12119040"/>
              <a:gd name="textAreaTop" fmla="*/ 1774440 h 12119040"/>
              <a:gd name="textAreaBottom" fmla="*/ 10344600 h 12119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841040" y="843120"/>
            <a:ext cx="5185080" cy="4806000"/>
            <a:chOff x="1841040" y="843120"/>
            <a:chExt cx="5185080" cy="4806000"/>
          </a:xfrm>
        </p:grpSpPr>
        <p:grpSp>
          <p:nvGrpSpPr>
            <p:cNvPr id="207" name=""/>
            <p:cNvGrpSpPr/>
            <p:nvPr/>
          </p:nvGrpSpPr>
          <p:grpSpPr>
            <a:xfrm>
              <a:off x="1841040" y="843120"/>
              <a:ext cx="5185080" cy="4484520"/>
              <a:chOff x="1841040" y="843120"/>
              <a:chExt cx="5185080" cy="4484520"/>
            </a:xfrm>
          </p:grpSpPr>
          <p:sp>
            <p:nvSpPr>
              <p:cNvPr id="208" name="椭圆 2"/>
              <p:cNvSpPr/>
              <p:nvPr/>
            </p:nvSpPr>
            <p:spPr>
              <a:xfrm>
                <a:off x="2305440" y="843120"/>
                <a:ext cx="4197600" cy="39949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椭圆 3"/>
              <p:cNvSpPr/>
              <p:nvPr/>
            </p:nvSpPr>
            <p:spPr>
              <a:xfrm>
                <a:off x="2653920" y="1555200"/>
                <a:ext cx="3598560" cy="3017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10"/>
              <p:cNvSpPr/>
              <p:nvPr/>
            </p:nvSpPr>
            <p:spPr>
              <a:xfrm>
                <a:off x="2822760" y="4237560"/>
                <a:ext cx="3253680" cy="675360"/>
              </a:xfrm>
              <a:prstGeom prst="rect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椭圆 11"/>
              <p:cNvSpPr/>
              <p:nvPr/>
            </p:nvSpPr>
            <p:spPr>
              <a:xfrm>
                <a:off x="4178880" y="2197080"/>
                <a:ext cx="517320" cy="5169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椭圆 13"/>
              <p:cNvSpPr/>
              <p:nvPr/>
            </p:nvSpPr>
            <p:spPr>
              <a:xfrm>
                <a:off x="3582360" y="1294560"/>
                <a:ext cx="807840" cy="979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椭圆 14"/>
              <p:cNvSpPr/>
              <p:nvPr/>
            </p:nvSpPr>
            <p:spPr>
              <a:xfrm>
                <a:off x="4484520" y="1294560"/>
                <a:ext cx="807840" cy="979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直接连接符 16"/>
              <p:cNvSpPr/>
              <p:nvPr/>
            </p:nvSpPr>
            <p:spPr>
              <a:xfrm flipH="1" flipV="1">
                <a:off x="1841040" y="2196720"/>
                <a:ext cx="1973160" cy="381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直接连接符 17"/>
              <p:cNvSpPr/>
              <p:nvPr/>
            </p:nvSpPr>
            <p:spPr>
              <a:xfrm flipH="1" flipV="1">
                <a:off x="1841400" y="2685960"/>
                <a:ext cx="1962360" cy="56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直接连接符 19"/>
              <p:cNvSpPr/>
              <p:nvPr/>
            </p:nvSpPr>
            <p:spPr>
              <a:xfrm flipH="1">
                <a:off x="1860840" y="2852280"/>
                <a:ext cx="1933920" cy="42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5052960" y="2200680"/>
                <a:ext cx="1973160" cy="1079280"/>
                <a:chOff x="5052960" y="2200680"/>
                <a:chExt cx="1973160" cy="1079280"/>
              </a:xfrm>
            </p:grpSpPr>
            <p:sp>
              <p:nvSpPr>
                <p:cNvPr id="218" name="直接连接符 21"/>
                <p:cNvSpPr/>
                <p:nvPr/>
              </p:nvSpPr>
              <p:spPr>
                <a:xfrm>
                  <a:off x="5052960" y="2898000"/>
                  <a:ext cx="1973160" cy="381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直接连接符 22"/>
                <p:cNvSpPr/>
                <p:nvPr/>
              </p:nvSpPr>
              <p:spPr>
                <a:xfrm>
                  <a:off x="5063400" y="2734200"/>
                  <a:ext cx="1962360" cy="56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直接连接符 23"/>
                <p:cNvSpPr/>
                <p:nvPr/>
              </p:nvSpPr>
              <p:spPr>
                <a:xfrm flipV="1">
                  <a:off x="5072400" y="2200680"/>
                  <a:ext cx="1934280" cy="423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直接连接符 27"/>
              <p:cNvSpPr/>
              <p:nvPr/>
            </p:nvSpPr>
            <p:spPr>
              <a:xfrm>
                <a:off x="4437360" y="2714400"/>
                <a:ext cx="1800" cy="118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椭圆 29"/>
              <p:cNvSpPr/>
              <p:nvPr/>
            </p:nvSpPr>
            <p:spPr>
              <a:xfrm>
                <a:off x="3991320" y="1722960"/>
                <a:ext cx="172080" cy="1922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空心弧 30"/>
              <p:cNvSpPr/>
              <p:nvPr/>
            </p:nvSpPr>
            <p:spPr>
              <a:xfrm>
                <a:off x="4627080" y="1707840"/>
                <a:ext cx="270720" cy="29556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295560"/>
                  <a:gd name="textAreaBottom" fmla="*/ 105480 h 29556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2432" y="10800"/>
                    </a:moveTo>
                    <a:cubicBezTo>
                      <a:pt x="2432" y="6178"/>
                      <a:pt x="6178" y="2432"/>
                      <a:pt x="10800" y="2432"/>
                    </a:cubicBezTo>
                    <a:cubicBezTo>
                      <a:pt x="15421" y="2431"/>
                      <a:pt x="19167" y="6178"/>
                      <a:pt x="19168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2432" y="10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椭圆 31"/>
              <p:cNvSpPr/>
              <p:nvPr/>
            </p:nvSpPr>
            <p:spPr>
              <a:xfrm>
                <a:off x="4089960" y="4348080"/>
                <a:ext cx="807840" cy="979560"/>
              </a:xfrm>
              <a:prstGeom prst="ellipse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33"/>
              <p:cNvSpPr/>
              <p:nvPr/>
            </p:nvSpPr>
            <p:spPr>
              <a:xfrm>
                <a:off x="4089960" y="4838040"/>
                <a:ext cx="807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34"/>
              <p:cNvSpPr/>
              <p:nvPr/>
            </p:nvSpPr>
            <p:spPr>
              <a:xfrm flipV="1">
                <a:off x="4493880" y="5020920"/>
                <a:ext cx="0" cy="306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椭圆 38"/>
              <p:cNvSpPr/>
              <p:nvPr/>
            </p:nvSpPr>
            <p:spPr>
              <a:xfrm>
                <a:off x="4404600" y="4982760"/>
                <a:ext cx="183960" cy="183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248560" y="3439800"/>
              <a:ext cx="1929960" cy="2209320"/>
              <a:chOff x="2248560" y="3439800"/>
              <a:chExt cx="1929960" cy="2209320"/>
            </a:xfrm>
          </p:grpSpPr>
          <p:sp>
            <p:nvSpPr>
              <p:cNvPr id="229" name="梯形 41"/>
              <p:cNvSpPr/>
              <p:nvPr/>
            </p:nvSpPr>
            <p:spPr>
              <a:xfrm flipV="1" rot="2170200">
                <a:off x="2674080" y="3790080"/>
                <a:ext cx="940680" cy="1749960"/>
              </a:xfrm>
              <a:custGeom>
                <a:avLst/>
                <a:gdLst>
                  <a:gd name="textAreaLeft" fmla="*/ 147600 w 940680"/>
                  <a:gd name="textAreaRight" fmla="*/ 793080 w 940680"/>
                  <a:gd name="textAreaTop" fmla="*/ 275040 h 1749960"/>
                  <a:gd name="textAreaBottom" fmla="*/ 1474920 h 174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192" y="21600"/>
                    </a:lnTo>
                    <a:lnTo>
                      <a:pt x="18408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椭圆 40"/>
              <p:cNvSpPr/>
              <p:nvPr/>
            </p:nvSpPr>
            <p:spPr>
              <a:xfrm>
                <a:off x="3367080" y="3439800"/>
                <a:ext cx="811440" cy="811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椭圆 4"/>
          <p:cNvSpPr/>
          <p:nvPr/>
        </p:nvSpPr>
        <p:spPr>
          <a:xfrm>
            <a:off x="3957480" y="3027240"/>
            <a:ext cx="1229040" cy="122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同心圆 5"/>
          <p:cNvSpPr/>
          <p:nvPr/>
        </p:nvSpPr>
        <p:spPr>
          <a:xfrm>
            <a:off x="3597120" y="2666880"/>
            <a:ext cx="1949760" cy="1949400"/>
          </a:xfrm>
          <a:custGeom>
            <a:avLst/>
            <a:gdLst>
              <a:gd name="textAreaLeft" fmla="*/ 285480 w 1949760"/>
              <a:gd name="textAreaRight" fmla="*/ 1664280 w 1949760"/>
              <a:gd name="textAreaTop" fmla="*/ 285480 h 1949400"/>
              <a:gd name="textAreaBottom" fmla="*/ 1663920 h 1949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同心圆 6"/>
          <p:cNvSpPr/>
          <p:nvPr/>
        </p:nvSpPr>
        <p:spPr>
          <a:xfrm>
            <a:off x="3021120" y="2090880"/>
            <a:ext cx="3101760" cy="3101760"/>
          </a:xfrm>
          <a:custGeom>
            <a:avLst/>
            <a:gdLst>
              <a:gd name="textAreaLeft" fmla="*/ 453960 w 3101760"/>
              <a:gd name="textAreaRight" fmla="*/ 2647800 w 3101760"/>
              <a:gd name="textAreaTop" fmla="*/ 453960 h 3101760"/>
              <a:gd name="textAreaBottom" fmla="*/ 2647800 h 310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同心圆 7"/>
          <p:cNvSpPr/>
          <p:nvPr/>
        </p:nvSpPr>
        <p:spPr>
          <a:xfrm>
            <a:off x="2117880" y="1187280"/>
            <a:ext cx="4908240" cy="4908600"/>
          </a:xfrm>
          <a:custGeom>
            <a:avLst/>
            <a:gdLst>
              <a:gd name="textAreaLeft" fmla="*/ 718560 w 4908240"/>
              <a:gd name="textAreaRight" fmla="*/ 4189680 w 4908240"/>
              <a:gd name="textAreaTop" fmla="*/ 718560 h 4908600"/>
              <a:gd name="textAreaBottom" fmla="*/ 4190040 h 490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同心圆 8"/>
          <p:cNvSpPr/>
          <p:nvPr/>
        </p:nvSpPr>
        <p:spPr>
          <a:xfrm>
            <a:off x="704880" y="-220680"/>
            <a:ext cx="7734240" cy="7731000"/>
          </a:xfrm>
          <a:custGeom>
            <a:avLst/>
            <a:gdLst>
              <a:gd name="textAreaLeft" fmla="*/ 1132560 w 7734240"/>
              <a:gd name="textAreaRight" fmla="*/ 6601680 w 7734240"/>
              <a:gd name="textAreaTop" fmla="*/ 1131840 h 7731000"/>
              <a:gd name="textAreaBottom" fmla="*/ 6599160 h 773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同心圆 9"/>
          <p:cNvSpPr/>
          <p:nvPr/>
        </p:nvSpPr>
        <p:spPr>
          <a:xfrm>
            <a:off x="-1484280" y="-2414520"/>
            <a:ext cx="12119040" cy="12119040"/>
          </a:xfrm>
          <a:custGeom>
            <a:avLst/>
            <a:gdLst>
              <a:gd name="textAreaLeft" fmla="*/ 1774440 w 12119040"/>
              <a:gd name="textAreaRight" fmla="*/ 10344600 w 12119040"/>
              <a:gd name="textAreaTop" fmla="*/ 1774440 h 12119040"/>
              <a:gd name="textAreaBottom" fmla="*/ 10344600 h 12119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3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23" presetSubtype="3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3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2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3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23" presetSubtype="3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3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3" presetSubtype="3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3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3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爆炸形 2 15"/>
          <p:cNvSpPr/>
          <p:nvPr/>
        </p:nvSpPr>
        <p:spPr>
          <a:xfrm>
            <a:off x="-507960" y="-1908000"/>
            <a:ext cx="10652040" cy="1065204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爆炸形 2 14"/>
          <p:cNvSpPr/>
          <p:nvPr/>
        </p:nvSpPr>
        <p:spPr>
          <a:xfrm>
            <a:off x="-534960" y="-1893960"/>
            <a:ext cx="10652040" cy="1065204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爆炸形 2 13"/>
          <p:cNvSpPr/>
          <p:nvPr/>
        </p:nvSpPr>
        <p:spPr>
          <a:xfrm>
            <a:off x="-507960" y="-1908000"/>
            <a:ext cx="10652040" cy="1065204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75640" y="1413000"/>
            <a:ext cx="5112360" cy="4156560"/>
            <a:chOff x="1475640" y="1413000"/>
            <a:chExt cx="5112360" cy="4156560"/>
          </a:xfrm>
        </p:grpSpPr>
        <p:grpSp>
          <p:nvGrpSpPr>
            <p:cNvPr id="81" name=""/>
            <p:cNvGrpSpPr/>
            <p:nvPr/>
          </p:nvGrpSpPr>
          <p:grpSpPr>
            <a:xfrm>
              <a:off x="1475640" y="2157120"/>
              <a:ext cx="2755440" cy="3412440"/>
              <a:chOff x="1475640" y="2157120"/>
              <a:chExt cx="2755440" cy="3412440"/>
            </a:xfrm>
          </p:grpSpPr>
          <p:sp>
            <p:nvSpPr>
              <p:cNvPr id="82" name="椭圆 5"/>
              <p:cNvSpPr/>
              <p:nvPr/>
            </p:nvSpPr>
            <p:spPr>
              <a:xfrm rot="716400">
                <a:off x="1765080" y="2349360"/>
                <a:ext cx="2176200" cy="3027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流程图: 过程 8"/>
            <p:cNvSpPr/>
            <p:nvPr/>
          </p:nvSpPr>
          <p:spPr>
            <a:xfrm>
              <a:off x="3636000" y="1413000"/>
              <a:ext cx="2952000" cy="1800360"/>
            </a:xfrm>
            <a:prstGeom prst="flowChartProcess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9"/>
            <p:cNvSpPr/>
            <p:nvPr/>
          </p:nvSpPr>
          <p:spPr>
            <a:xfrm>
              <a:off x="5624640" y="2515680"/>
              <a:ext cx="957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2f2f2"/>
                  </a:solidFill>
                  <a:latin typeface="Calibri"/>
                  <a:ea typeface="Calibri"/>
                </a:rPr>
                <a:t>VIP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0"/>
            <p:cNvSpPr/>
            <p:nvPr/>
          </p:nvSpPr>
          <p:spPr>
            <a:xfrm>
              <a:off x="4674960" y="2925360"/>
              <a:ext cx="120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2f2f2"/>
                  </a:solidFill>
                  <a:latin typeface="Calibri"/>
                  <a:ea typeface="Calibri"/>
                </a:rPr>
                <a:t>No</a:t>
              </a:r>
              <a:r>
                <a:rPr b="0" lang="zh-CN" sz="1000" spc="-1" strike="noStrike">
                  <a:solidFill>
                    <a:srgbClr val="f2f2f2"/>
                  </a:solidFill>
                  <a:latin typeface="Calibri"/>
                </a:rPr>
                <a:t>：</a:t>
              </a:r>
              <a:r>
                <a:rPr b="0" lang="en-US" sz="1000" spc="-1" strike="noStrike">
                  <a:solidFill>
                    <a:srgbClr val="f2f2f2"/>
                  </a:solidFill>
                  <a:latin typeface="Calibri"/>
                  <a:ea typeface="Calibri"/>
                </a:rPr>
                <a:t>1234560AAA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11"/>
            <p:cNvSpPr/>
            <p:nvPr/>
          </p:nvSpPr>
          <p:spPr>
            <a:xfrm>
              <a:off x="4236120" y="172836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末日方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82560" y="765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"/>
                            </p:stCondLst>
                            <p:childTnLst>
                              <p:par>
                                <p:cTn id="10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1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animClr clrSpc="rgb">
                                      <p:cBhvr>
                                        <p:cTn id="12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13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"/>
                            </p:stCondLst>
                            <p:childTnLst>
                              <p:par>
                                <p:cTn id="15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17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18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"/>
                            </p:stCondLst>
                            <p:childTnLst>
                              <p:par>
                                <p:cTn id="22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"/>
                            </p:stCondLst>
                            <p:childTnLst>
                              <p:par>
                                <p:cTn id="27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8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animClr clrSpc="rgb">
                                      <p:cBhvr>
                                        <p:cTn id="29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30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3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34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35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00"/>
                            </p:stCondLst>
                            <p:childTnLst>
                              <p:par>
                                <p:cTn id="39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0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00"/>
                            </p:stCondLst>
                            <p:childTnLst>
                              <p:par>
                                <p:cTn id="44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5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47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600"/>
                            </p:stCondLst>
                            <p:childTnLst>
                              <p:par>
                                <p:cTn id="49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52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2376360" y="1940040"/>
            <a:ext cx="43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带的换页方式不好玩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咱自己做呗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-973080" y="-728640"/>
            <a:ext cx="11094840" cy="8319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2931120" y="1870200"/>
            <a:ext cx="34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无阿弥陀佛 变变变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~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椭圆 5"/>
          <p:cNvSpPr/>
          <p:nvPr/>
        </p:nvSpPr>
        <p:spPr>
          <a:xfrm>
            <a:off x="3419640" y="1339920"/>
            <a:ext cx="2520720" cy="2520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6"/>
          <p:cNvSpPr/>
          <p:nvPr/>
        </p:nvSpPr>
        <p:spPr>
          <a:xfrm>
            <a:off x="3060720" y="496800"/>
            <a:ext cx="1368360" cy="1368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7"/>
          <p:cNvSpPr/>
          <p:nvPr/>
        </p:nvSpPr>
        <p:spPr>
          <a:xfrm>
            <a:off x="5256360" y="657360"/>
            <a:ext cx="1368360" cy="1368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3624120" y="4371840"/>
            <a:ext cx="21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当当当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~~~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老鼠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-954000" y="-728640"/>
            <a:ext cx="11094840" cy="8319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椭圆 1"/>
          <p:cNvSpPr/>
          <p:nvPr/>
        </p:nvSpPr>
        <p:spPr>
          <a:xfrm>
            <a:off x="1403280" y="907920"/>
            <a:ext cx="504720" cy="505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"/>
          <p:cNvSpPr/>
          <p:nvPr/>
        </p:nvSpPr>
        <p:spPr>
          <a:xfrm>
            <a:off x="5292720" y="765000"/>
            <a:ext cx="503280" cy="503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新月形 10"/>
          <p:cNvSpPr/>
          <p:nvPr/>
        </p:nvSpPr>
        <p:spPr>
          <a:xfrm rot="16200000">
            <a:off x="3394080" y="4800600"/>
            <a:ext cx="666720" cy="13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1"/>
          <p:cNvSpPr/>
          <p:nvPr/>
        </p:nvSpPr>
        <p:spPr>
          <a:xfrm>
            <a:off x="287280" y="15840"/>
            <a:ext cx="2232000" cy="2232000"/>
          </a:xfrm>
          <a:prstGeom prst="ellipse">
            <a:avLst/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12"/>
          <p:cNvSpPr/>
          <p:nvPr/>
        </p:nvSpPr>
        <p:spPr>
          <a:xfrm>
            <a:off x="3995640" y="-93600"/>
            <a:ext cx="2232000" cy="2227320"/>
          </a:xfrm>
          <a:prstGeom prst="ellipse">
            <a:avLst/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9"/>
          <p:cNvSpPr/>
          <p:nvPr/>
        </p:nvSpPr>
        <p:spPr>
          <a:xfrm>
            <a:off x="3438360" y="2313000"/>
            <a:ext cx="2232360" cy="223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3000000" y="3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等腰三角形 4"/>
          <p:cNvSpPr/>
          <p:nvPr/>
        </p:nvSpPr>
        <p:spPr>
          <a:xfrm>
            <a:off x="1260360" y="1484280"/>
            <a:ext cx="1252800" cy="1081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等腰三角形 5"/>
          <p:cNvSpPr/>
          <p:nvPr/>
        </p:nvSpPr>
        <p:spPr>
          <a:xfrm>
            <a:off x="6732720" y="1484280"/>
            <a:ext cx="1252440" cy="1081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新月形 6"/>
          <p:cNvSpPr/>
          <p:nvPr/>
        </p:nvSpPr>
        <p:spPr>
          <a:xfrm rot="16200000">
            <a:off x="3931560" y="4245480"/>
            <a:ext cx="124596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3"/>
          <p:cNvSpPr/>
          <p:nvPr/>
        </p:nvSpPr>
        <p:spPr>
          <a:xfrm>
            <a:off x="-3179880" y="-4307040"/>
            <a:ext cx="15476760" cy="15478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椭圆 4"/>
          <p:cNvSpPr/>
          <p:nvPr/>
        </p:nvSpPr>
        <p:spPr>
          <a:xfrm>
            <a:off x="1763640" y="1700280"/>
            <a:ext cx="1079640" cy="1081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5364000" y="1339920"/>
            <a:ext cx="2735280" cy="392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7"/>
          <p:cNvSpPr/>
          <p:nvPr/>
        </p:nvSpPr>
        <p:spPr>
          <a:xfrm>
            <a:off x="1476360" y="3139920"/>
            <a:ext cx="2951280" cy="18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8"/>
          <p:cNvSpPr/>
          <p:nvPr/>
        </p:nvSpPr>
        <p:spPr>
          <a:xfrm>
            <a:off x="1368360" y="3718080"/>
            <a:ext cx="2951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9"/>
          <p:cNvSpPr/>
          <p:nvPr/>
        </p:nvSpPr>
        <p:spPr>
          <a:xfrm>
            <a:off x="1368360" y="4365720"/>
            <a:ext cx="2951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0"/>
          <p:cNvSpPr/>
          <p:nvPr/>
        </p:nvSpPr>
        <p:spPr>
          <a:xfrm>
            <a:off x="1368360" y="5210280"/>
            <a:ext cx="295128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右箭头 53"/>
          <p:cNvSpPr/>
          <p:nvPr/>
        </p:nvSpPr>
        <p:spPr>
          <a:xfrm>
            <a:off x="4432320" y="1184400"/>
            <a:ext cx="3044880" cy="258768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2"/>
          <p:cNvSpPr/>
          <p:nvPr/>
        </p:nvSpPr>
        <p:spPr>
          <a:xfrm>
            <a:off x="4392720" y="3772080"/>
            <a:ext cx="2681280" cy="268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1"/>
          <p:cNvSpPr/>
          <p:nvPr/>
        </p:nvSpPr>
        <p:spPr>
          <a:xfrm>
            <a:off x="990720" y="833400"/>
            <a:ext cx="2938320" cy="2938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3"/>
          <p:cNvSpPr/>
          <p:nvPr/>
        </p:nvSpPr>
        <p:spPr>
          <a:xfrm>
            <a:off x="-868320" y="4667400"/>
            <a:ext cx="1893960" cy="19000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4"/>
          <p:cNvSpPr/>
          <p:nvPr/>
        </p:nvSpPr>
        <p:spPr>
          <a:xfrm>
            <a:off x="5940360" y="1860480"/>
            <a:ext cx="936720" cy="9367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5"/>
          <p:cNvSpPr/>
          <p:nvPr/>
        </p:nvSpPr>
        <p:spPr>
          <a:xfrm>
            <a:off x="5356080" y="2465280"/>
            <a:ext cx="3322800" cy="33228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6"/>
          <p:cNvSpPr/>
          <p:nvPr/>
        </p:nvSpPr>
        <p:spPr>
          <a:xfrm>
            <a:off x="822240" y="4924440"/>
            <a:ext cx="2243160" cy="22431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7"/>
          <p:cNvSpPr/>
          <p:nvPr/>
        </p:nvSpPr>
        <p:spPr>
          <a:xfrm>
            <a:off x="1249200" y="2514600"/>
            <a:ext cx="3322800" cy="33242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8"/>
          <p:cNvSpPr/>
          <p:nvPr/>
        </p:nvSpPr>
        <p:spPr>
          <a:xfrm>
            <a:off x="96840" y="3943440"/>
            <a:ext cx="158436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9"/>
          <p:cNvSpPr/>
          <p:nvPr/>
        </p:nvSpPr>
        <p:spPr>
          <a:xfrm>
            <a:off x="-2436840" y="3435480"/>
            <a:ext cx="2243160" cy="22431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10"/>
          <p:cNvSpPr/>
          <p:nvPr/>
        </p:nvSpPr>
        <p:spPr>
          <a:xfrm>
            <a:off x="-434880" y="3368520"/>
            <a:ext cx="157932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11"/>
          <p:cNvSpPr/>
          <p:nvPr/>
        </p:nvSpPr>
        <p:spPr>
          <a:xfrm>
            <a:off x="611280" y="2739960"/>
            <a:ext cx="158436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2"/>
          <p:cNvSpPr/>
          <p:nvPr/>
        </p:nvSpPr>
        <p:spPr>
          <a:xfrm>
            <a:off x="-938160" y="511200"/>
            <a:ext cx="3319560" cy="33242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3"/>
          <p:cNvSpPr/>
          <p:nvPr/>
        </p:nvSpPr>
        <p:spPr>
          <a:xfrm>
            <a:off x="2892600" y="1244520"/>
            <a:ext cx="1841400" cy="18417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4"/>
          <p:cNvSpPr/>
          <p:nvPr/>
        </p:nvSpPr>
        <p:spPr>
          <a:xfrm>
            <a:off x="-469800" y="5591160"/>
            <a:ext cx="1985760" cy="19890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5"/>
          <p:cNvSpPr/>
          <p:nvPr/>
        </p:nvSpPr>
        <p:spPr>
          <a:xfrm>
            <a:off x="-1082520" y="5908680"/>
            <a:ext cx="1033200" cy="10335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6"/>
          <p:cNvSpPr/>
          <p:nvPr/>
        </p:nvSpPr>
        <p:spPr>
          <a:xfrm>
            <a:off x="4432320" y="2602080"/>
            <a:ext cx="1584360" cy="15840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17"/>
          <p:cNvSpPr/>
          <p:nvPr/>
        </p:nvSpPr>
        <p:spPr>
          <a:xfrm>
            <a:off x="1917720" y="1511280"/>
            <a:ext cx="158436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18"/>
          <p:cNvSpPr/>
          <p:nvPr/>
        </p:nvSpPr>
        <p:spPr>
          <a:xfrm>
            <a:off x="2514600" y="4384800"/>
            <a:ext cx="3322800" cy="33224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19"/>
          <p:cNvSpPr/>
          <p:nvPr/>
        </p:nvSpPr>
        <p:spPr>
          <a:xfrm>
            <a:off x="5505480" y="5772240"/>
            <a:ext cx="1511280" cy="1511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20"/>
          <p:cNvSpPr/>
          <p:nvPr/>
        </p:nvSpPr>
        <p:spPr>
          <a:xfrm>
            <a:off x="4033800" y="3394080"/>
            <a:ext cx="1513080" cy="15127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21"/>
          <p:cNvSpPr/>
          <p:nvPr/>
        </p:nvSpPr>
        <p:spPr>
          <a:xfrm>
            <a:off x="6748560" y="5678640"/>
            <a:ext cx="53640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2"/>
          <p:cNvSpPr/>
          <p:nvPr/>
        </p:nvSpPr>
        <p:spPr>
          <a:xfrm>
            <a:off x="6556320" y="6046920"/>
            <a:ext cx="920880" cy="9205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23"/>
          <p:cNvSpPr/>
          <p:nvPr/>
        </p:nvSpPr>
        <p:spPr>
          <a:xfrm>
            <a:off x="4143240" y="1511280"/>
            <a:ext cx="158436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24"/>
          <p:cNvSpPr/>
          <p:nvPr/>
        </p:nvSpPr>
        <p:spPr>
          <a:xfrm>
            <a:off x="5257800" y="555480"/>
            <a:ext cx="1617840" cy="16178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25"/>
          <p:cNvSpPr/>
          <p:nvPr/>
        </p:nvSpPr>
        <p:spPr>
          <a:xfrm>
            <a:off x="6477120" y="1343160"/>
            <a:ext cx="1257120" cy="12589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26"/>
          <p:cNvSpPr/>
          <p:nvPr/>
        </p:nvSpPr>
        <p:spPr>
          <a:xfrm>
            <a:off x="5546880" y="1860480"/>
            <a:ext cx="674640" cy="674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27"/>
          <p:cNvSpPr/>
          <p:nvPr/>
        </p:nvSpPr>
        <p:spPr>
          <a:xfrm>
            <a:off x="1539720" y="0"/>
            <a:ext cx="1839960" cy="18381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28"/>
          <p:cNvSpPr/>
          <p:nvPr/>
        </p:nvSpPr>
        <p:spPr>
          <a:xfrm>
            <a:off x="-469800" y="-914400"/>
            <a:ext cx="2666880" cy="26654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29"/>
          <p:cNvSpPr/>
          <p:nvPr/>
        </p:nvSpPr>
        <p:spPr>
          <a:xfrm>
            <a:off x="2727360" y="-230040"/>
            <a:ext cx="2208240" cy="22032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30"/>
          <p:cNvSpPr/>
          <p:nvPr/>
        </p:nvSpPr>
        <p:spPr>
          <a:xfrm>
            <a:off x="1943280" y="-623880"/>
            <a:ext cx="1258560" cy="12542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31"/>
          <p:cNvSpPr/>
          <p:nvPr/>
        </p:nvSpPr>
        <p:spPr>
          <a:xfrm>
            <a:off x="8142120" y="2138400"/>
            <a:ext cx="53676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32"/>
          <p:cNvSpPr/>
          <p:nvPr/>
        </p:nvSpPr>
        <p:spPr>
          <a:xfrm>
            <a:off x="7858080" y="828720"/>
            <a:ext cx="53676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33"/>
          <p:cNvSpPr/>
          <p:nvPr/>
        </p:nvSpPr>
        <p:spPr>
          <a:xfrm>
            <a:off x="4092480" y="2898720"/>
            <a:ext cx="536760" cy="5367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34"/>
          <p:cNvSpPr/>
          <p:nvPr/>
        </p:nvSpPr>
        <p:spPr>
          <a:xfrm>
            <a:off x="3808440" y="1587600"/>
            <a:ext cx="53640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35"/>
          <p:cNvSpPr/>
          <p:nvPr/>
        </p:nvSpPr>
        <p:spPr>
          <a:xfrm>
            <a:off x="5614920" y="2514600"/>
            <a:ext cx="53676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36"/>
          <p:cNvSpPr/>
          <p:nvPr/>
        </p:nvSpPr>
        <p:spPr>
          <a:xfrm>
            <a:off x="5332320" y="1204920"/>
            <a:ext cx="53676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37"/>
          <p:cNvSpPr/>
          <p:nvPr/>
        </p:nvSpPr>
        <p:spPr>
          <a:xfrm>
            <a:off x="5045040" y="2004840"/>
            <a:ext cx="920880" cy="9208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38"/>
          <p:cNvSpPr/>
          <p:nvPr/>
        </p:nvSpPr>
        <p:spPr>
          <a:xfrm>
            <a:off x="4896000" y="3978360"/>
            <a:ext cx="1511280" cy="15127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39"/>
          <p:cNvSpPr/>
          <p:nvPr/>
        </p:nvSpPr>
        <p:spPr>
          <a:xfrm>
            <a:off x="5702400" y="5130720"/>
            <a:ext cx="920520" cy="9208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40"/>
          <p:cNvSpPr/>
          <p:nvPr/>
        </p:nvSpPr>
        <p:spPr>
          <a:xfrm>
            <a:off x="3881520" y="2430360"/>
            <a:ext cx="1512720" cy="15130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41"/>
          <p:cNvSpPr/>
          <p:nvPr/>
        </p:nvSpPr>
        <p:spPr>
          <a:xfrm>
            <a:off x="6016680" y="5194440"/>
            <a:ext cx="1511280" cy="15127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42"/>
          <p:cNvSpPr/>
          <p:nvPr/>
        </p:nvSpPr>
        <p:spPr>
          <a:xfrm>
            <a:off x="4392720" y="1854360"/>
            <a:ext cx="1511280" cy="1511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43"/>
          <p:cNvSpPr/>
          <p:nvPr/>
        </p:nvSpPr>
        <p:spPr>
          <a:xfrm>
            <a:off x="7074000" y="4740120"/>
            <a:ext cx="2609640" cy="26100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44"/>
          <p:cNvSpPr/>
          <p:nvPr/>
        </p:nvSpPr>
        <p:spPr>
          <a:xfrm>
            <a:off x="7734240" y="3095640"/>
            <a:ext cx="2611440" cy="26100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45"/>
          <p:cNvSpPr/>
          <p:nvPr/>
        </p:nvSpPr>
        <p:spPr>
          <a:xfrm>
            <a:off x="8077320" y="762120"/>
            <a:ext cx="1258920" cy="12589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46"/>
          <p:cNvSpPr/>
          <p:nvPr/>
        </p:nvSpPr>
        <p:spPr>
          <a:xfrm>
            <a:off x="6556320" y="401760"/>
            <a:ext cx="1258920" cy="12589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47"/>
          <p:cNvSpPr/>
          <p:nvPr/>
        </p:nvSpPr>
        <p:spPr>
          <a:xfrm>
            <a:off x="8172360" y="-157320"/>
            <a:ext cx="1258920" cy="12542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48"/>
          <p:cNvSpPr/>
          <p:nvPr/>
        </p:nvSpPr>
        <p:spPr>
          <a:xfrm>
            <a:off x="4848120" y="-68400"/>
            <a:ext cx="1258920" cy="12528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49"/>
          <p:cNvSpPr/>
          <p:nvPr/>
        </p:nvSpPr>
        <p:spPr>
          <a:xfrm>
            <a:off x="7149960" y="1433520"/>
            <a:ext cx="2610000" cy="26114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50"/>
          <p:cNvSpPr/>
          <p:nvPr/>
        </p:nvSpPr>
        <p:spPr>
          <a:xfrm>
            <a:off x="4414680" y="-1746360"/>
            <a:ext cx="4267440" cy="4262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xit" presetID="23" presetSubtype="3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3" presetSubtype="32">
                                  <p:stCondLst>
                                    <p:cond delay="16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23" presetSubtype="32">
                                  <p:stCondLst>
                                    <p:cond delay="13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3" presetSubtype="32">
                                  <p:stCondLst>
                                    <p:cond delay="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3" presetSubtype="32">
                                  <p:stCondLst>
                                    <p:cond delay="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270240" y="1836720"/>
            <a:ext cx="2589120" cy="1941480"/>
            <a:chOff x="3270240" y="1836720"/>
            <a:chExt cx="2589120" cy="1941480"/>
          </a:xfrm>
        </p:grpSpPr>
        <p:sp>
          <p:nvSpPr>
            <p:cNvPr id="165" name="椭圆 15"/>
            <p:cNvSpPr/>
            <p:nvPr/>
          </p:nvSpPr>
          <p:spPr>
            <a:xfrm>
              <a:off x="3270240" y="2438640"/>
              <a:ext cx="2589120" cy="1339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18"/>
            <p:cNvSpPr/>
            <p:nvPr/>
          </p:nvSpPr>
          <p:spPr>
            <a:xfrm>
              <a:off x="3365640" y="1836720"/>
              <a:ext cx="1029960" cy="101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19"/>
            <p:cNvSpPr/>
            <p:nvPr/>
          </p:nvSpPr>
          <p:spPr>
            <a:xfrm>
              <a:off x="4757400" y="1836720"/>
              <a:ext cx="1029960" cy="101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21"/>
            <p:cNvSpPr/>
            <p:nvPr/>
          </p:nvSpPr>
          <p:spPr>
            <a:xfrm>
              <a:off x="3365640" y="2346120"/>
              <a:ext cx="102996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22"/>
            <p:cNvSpPr/>
            <p:nvPr/>
          </p:nvSpPr>
          <p:spPr>
            <a:xfrm>
              <a:off x="4757400" y="2332440"/>
              <a:ext cx="102996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矩形 5"/>
          <p:cNvSpPr/>
          <p:nvPr/>
        </p:nvSpPr>
        <p:spPr>
          <a:xfrm>
            <a:off x="-11160" y="514836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-11160" y="600228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7"/>
          <p:cNvSpPr/>
          <p:nvPr/>
        </p:nvSpPr>
        <p:spPr>
          <a:xfrm>
            <a:off x="-11160" y="3421080"/>
            <a:ext cx="9155160" cy="871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8"/>
          <p:cNvSpPr/>
          <p:nvPr/>
        </p:nvSpPr>
        <p:spPr>
          <a:xfrm>
            <a:off x="-11160" y="429264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9"/>
          <p:cNvSpPr/>
          <p:nvPr/>
        </p:nvSpPr>
        <p:spPr>
          <a:xfrm>
            <a:off x="-11160" y="170964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0"/>
          <p:cNvSpPr/>
          <p:nvPr/>
        </p:nvSpPr>
        <p:spPr>
          <a:xfrm>
            <a:off x="-11160" y="256536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1"/>
          <p:cNvSpPr/>
          <p:nvPr/>
        </p:nvSpPr>
        <p:spPr>
          <a:xfrm>
            <a:off x="-11160" y="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2"/>
          <p:cNvSpPr/>
          <p:nvPr/>
        </p:nvSpPr>
        <p:spPr>
          <a:xfrm>
            <a:off x="-11160" y="85572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8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1:5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14:35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