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3.png" ContentType="image/png"/>
  <Override PartName="/ppt/media/image9.jpeg" ContentType="image/jpeg"/>
  <Override PartName="/ppt/media/image8.jpeg" ContentType="image/jpeg"/>
  <Override PartName="/ppt/media/image18.gif" ContentType="image/gif"/>
  <Override PartName="/ppt/media/image17.jpeg" ContentType="image/jpeg"/>
  <Override PartName="/ppt/media/image1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media/image15.gif" ContentType="image/gif"/>
  <Override PartName="/ppt/media/image4.jpeg" ContentType="image/jpeg"/>
  <Override PartName="/ppt/media/image5.jpeg" ContentType="image/jpeg"/>
  <Override PartName="/ppt/media/image14.png" ContentType="image/png"/>
  <Override PartName="/ppt/media/image1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A19-6456-488A-8926-B1DAC385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B80-B42E-4601-8497-82CD042E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28B-F5AD-45D4-9C56-A3D500D6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E8E-B1AB-4D81-935B-1F707C35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905-84F4-4579-B030-EE1EE4EC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C5E-22AF-41DD-A51D-8EE1381F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18D5-7F4A-46FB-B7B5-CCB448FD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FAE1-8AC9-4AD0-AC42-057FE01C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4F22-B03E-4F64-ABCE-4EE693D2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21B-5A8D-4CF1-95E5-4E253B4A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55E-AA2A-41CA-8423-7E4626C4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3CD-2F7B-45E3-AB5F-E3316D5B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7F18-F187-463F-9EF1-31C02A6F6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ing.wav" TargetMode="External"/><Relationship Id="rId2" Type="http://schemas.openxmlformats.org/officeDocument/2006/relationships/hyperlink" Target="file:///tmp/home/.config/libreoffice/4/user/gallery/Ring.wav" TargetMode="External"/><Relationship Id="rId3" Type="http://schemas.openxmlformats.org/officeDocument/2006/relationships/hyperlink" Target="file:///tmp/home/.config/libreoffice/4/user/gallery/Ring.wav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558800" y="990720"/>
            <a:ext cx="6248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隶书"/>
                <a:ea typeface="隶书"/>
              </a:rPr>
              <a:t>口技</a:t>
            </a:r>
            <a:r>
              <a:rPr b="1" lang="zh-CN" sz="4000" spc="-1" strike="noStrike">
                <a:solidFill>
                  <a:srgbClr val="6600cc"/>
                </a:solidFill>
                <a:latin typeface="隶书"/>
                <a:ea typeface="隶书"/>
              </a:rPr>
              <a:t>ppt</a:t>
            </a:r>
            <a:r>
              <a:rPr b="1" lang="zh-CN" sz="4000" spc="-1" strike="noStrike">
                <a:solidFill>
                  <a:srgbClr val="6600cc"/>
                </a:solidFill>
                <a:latin typeface="隶书"/>
                <a:ea typeface="隶书"/>
              </a:rPr>
              <a:t>课件片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隶书"/>
                <a:ea typeface="隶书"/>
              </a:rPr>
              <a:t>                    </a:t>
            </a:r>
            <a:r>
              <a:rPr b="1" lang="zh-CN" sz="5400" spc="-1" strike="noStrike">
                <a:solidFill>
                  <a:srgbClr val="6600cc"/>
                </a:solidFill>
                <a:latin typeface="隶书"/>
                <a:ea typeface="隶书"/>
              </a:rPr>
              <a:t>林嗣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489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t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t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t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260280"/>
            <a:ext cx="9387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京中有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善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口技者。</a:t>
            </a:r>
            <a:r>
              <a:rPr b="1" lang="zh-CN" sz="4000" spc="-1" strike="noStrike">
                <a:solidFill>
                  <a:srgbClr val="ff66ff"/>
                </a:solidFill>
                <a:latin typeface="黑体"/>
                <a:ea typeface="黑体"/>
              </a:rPr>
              <a:t>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宾客大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于     </a:t>
            </a:r>
            <a:r>
              <a:rPr b="1" lang="zh-CN" sz="4000" spc="-1" strike="noStrike">
                <a:solidFill>
                  <a:srgbClr val="ff66ff"/>
                </a:solidFill>
                <a:latin typeface="黑体"/>
                <a:ea typeface="黑体"/>
              </a:rPr>
              <a:t>厅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东北角，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施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八尺屏障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口技人坐屏障中，一桌、一椅、一扇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578240" y="7621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擅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016520" y="685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适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5973840" y="68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举行宴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04040" y="327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68040" y="3357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6089760" y="3357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设置，安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0" y="1371600"/>
            <a:ext cx="93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京城里有一个善于表演口技的人。一天，正好碰上有一家人大摆酒席请客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0" y="4038480"/>
            <a:ext cx="96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在客厅的东北角上安放了一个八尺宽的围幕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0" y="5715000"/>
            <a:ext cx="93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这位表演口技的艺人坐在围幕中，里面只放了一张桌子，一把椅子，一把扇子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040120" y="3357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大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708200" y="0"/>
            <a:ext cx="53625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抚尺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而已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众宾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坐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少顷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但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闻屏障中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抚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下，满</a:t>
            </a:r>
            <a:r>
              <a:rPr b="1" lang="zh-CN" sz="4000" spc="-1" strike="noStrike">
                <a:solidFill>
                  <a:srgbClr val="ff66ff"/>
                </a:solidFill>
                <a:latin typeface="黑体"/>
                <a:ea typeface="黑体"/>
              </a:rPr>
              <a:t>坐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寂然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无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哗者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1295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一块醒木罢了。客人们围坐在一起。过了一会儿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381560" y="496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围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023880" y="533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一会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04040" y="2997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959360" y="2971800"/>
            <a:ext cx="12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通“座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6518160" y="3429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静悄悄的样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0" y="42670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只听见围幕里醒木一拍，全场都安静下来，没有一个敢大声说话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752480" y="62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罢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788480" y="0"/>
            <a:ext cx="5455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遥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闻深巷中犬吠，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便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有妇人惊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觉</a:t>
            </a:r>
            <a:r>
              <a:rPr b="1" lang="zh-CN" sz="4000" spc="-1" strike="noStrike">
                <a:solidFill>
                  <a:srgbClr val="ff66ff"/>
                </a:solidFill>
                <a:latin typeface="宋体"/>
              </a:rPr>
              <a:t>欠伸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其夫</a:t>
            </a:r>
            <a:r>
              <a:rPr b="1" lang="zh-CN" sz="4000" spc="-1" strike="noStrike">
                <a:solidFill>
                  <a:srgbClr val="ff66ff"/>
                </a:solidFill>
                <a:latin typeface="宋体"/>
              </a:rPr>
              <a:t>呓语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既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儿醒，大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啼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夫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亦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妇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儿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乳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儿含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乳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啼，妇拍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而   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78280" y="457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远远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681960" y="47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208760" y="457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964080" y="2362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说梦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777040" y="2362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不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62960" y="4114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抚摸，安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393200" y="46483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喂奶（动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526920" y="4191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乳头（名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6193800" y="4191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并且，表顺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7128720" y="4724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呜呜地哼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-92160" y="838080"/>
            <a:ext cx="92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只听到远远的深巷里一阵狗叫声，就有一个妇人被惊醒，打着呵欠，伸着懒腰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0" y="2743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她的丈夫说着梦话。一会儿小孩醒了，大哭着。丈夫也被吵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0" y="5118120"/>
            <a:ext cx="92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妇人拍着孩子，给他喂奶，孩子口里含着乳头还是哭，妇人一面拍孩子一面呜呜的哼唱着哄他睡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5601600" y="234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7257600" y="22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-6480"/>
            <a:ext cx="967752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大儿醒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絮絮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止。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当    是   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妇</a:t>
            </a:r>
            <a:r>
              <a:rPr b="1" lang="zh-CN" sz="3600" spc="-1" strike="noStrike">
                <a:solidFill>
                  <a:srgbClr val="ff66ff"/>
                </a:solidFill>
                <a:latin typeface="黑体"/>
                <a:ea typeface="黑体"/>
              </a:rPr>
              <a:t>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拍儿声，口中呜声，儿含乳啼声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儿初醒声，夫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儿声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一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齐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众妙毕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3960" y="457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018880" y="457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连续不断地说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063040" y="457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正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537600" y="47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749340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时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5748840" y="4419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同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7044120" y="4419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发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113640" y="441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大声呵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3760" y="990720"/>
            <a:ext cx="91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又一个大孩子也醒了，唠唠叨叨地说个不停。这时候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0" y="2666880"/>
            <a:ext cx="92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妇人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黑体"/>
              </a:rPr>
              <a:t>用手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拍孩子的声音，口中呜呜哼唱的声音，小孩子含着乳头啼哭的声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0" y="4876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大孩子刚刚醒来的声音，丈夫呵斥大孩子的声音，同时都响了起来，各种声音都表演得惟妙惟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830600" y="0"/>
            <a:ext cx="5667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满坐宾客无不伸颈，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侧目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微笑，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默叹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以为  妙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未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夫齁声起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妇拍儿亦渐拍渐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微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闻有鼠作作索索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5616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621680" y="549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偏着头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128720" y="5335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默默的赞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86120" y="29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认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607760" y="2997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好极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461040" y="299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不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310200" y="4952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停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4621680" y="4952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隐隐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0" y="990720"/>
            <a:ext cx="90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全场客人没有一个不伸长脖子，偏着头凝神地听着，微笑着，暗暗赞叹着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0" y="3581280"/>
            <a:ext cx="944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认为好极了。不久，丈夫的齁声响了起来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0" y="5667480"/>
            <a:ext cx="92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妇人拍孩子的声音也渐渐地拍一会儿停一会儿。隐隐听到老鼠悉悉索索的声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759040" y="0"/>
            <a:ext cx="376884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盆器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倾侧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妇梦中咳嗽。宾客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意 少 舒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稍稍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正坐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忽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人大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呼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火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夫起大呼，妇亦起大呼。两儿齐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132560" y="533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翻倒倾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129720" y="533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心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277400" y="5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稍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8226720" y="5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舒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78280" y="29718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渐渐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394360" y="29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突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605840" y="29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呼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0" y="1143000"/>
            <a:ext cx="90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碗盆等器物打翻的声音，妇人在梦中咳嗽的声音。客人听到这里，心情稍微放松了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0" y="342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身子渐渐坐正了。忽然有一个人大声喊道：“失火啦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0" y="5667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丈夫起来大叫，妻子也起来大叫。两个孩子一起哭了起来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967040" y="-112680"/>
            <a:ext cx="566712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俄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百千人大呼，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百千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儿哭，百千犬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黑体"/>
                <a:ea typeface="黑体"/>
              </a:rPr>
              <a:t>中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力拉崩倒之声，火爆声，呼呼风声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百千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齐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；又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夹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百千求救声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8880" y="396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霎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060440" y="4572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很多，表约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70440" y="2819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其中夹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300320" y="4724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一起发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310200" y="4795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夹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-92160" y="1011240"/>
            <a:ext cx="923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霎时间，成百上千的人喊起来，成百上千的小孩子哭了起来，成百上千的狗叫了起来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0" y="3200400"/>
            <a:ext cx="923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中间夹杂着劈里啪啦房屋倒塌的声音，烈火燃烧而发出的爆裂声，呼呼的风声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0" y="5334120"/>
            <a:ext cx="87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千百种声音一起响了起来，还夹杂着成百上千人的求救声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0" y="9079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关于口技：杂技的一种。演员运用口腔发声技巧来模仿各种声音。它能同时发出各种音响，这种技艺，清代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百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之一种，表演者多隐身在布幔或屏风的后边，俗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隔壁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。现代口技表演，演员不必隐身，改为借助扩音器发出各种声响，并且可以借助于动作、手势。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910880" y="0"/>
            <a:ext cx="5760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黑体"/>
                <a:ea typeface="黑体"/>
              </a:rPr>
              <a:t>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屋</a:t>
            </a:r>
            <a:r>
              <a:rPr b="1" lang="zh-CN" sz="4000" spc="-1" strike="noStrike">
                <a:solidFill>
                  <a:srgbClr val="ff66ff"/>
                </a:solidFill>
                <a:latin typeface="黑体"/>
                <a:ea typeface="黑体"/>
              </a:rPr>
              <a:t>许许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声，抢夺声，泼水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凡所应有，无所不有。</a:t>
            </a:r>
            <a:r>
              <a:rPr b="1" lang="zh-CN" sz="4000" spc="-1" strike="noStrike">
                <a:solidFill>
                  <a:srgbClr val="ff66ff"/>
                </a:solidFill>
                <a:latin typeface="黑体"/>
                <a:ea typeface="黑体"/>
              </a:rPr>
              <a:t>虽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人有百手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手有百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指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不能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指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其   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一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；人有百口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3960" y="54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063040" y="2895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即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900000" y="487188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手指（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811680" y="4871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指出（动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954760" y="4869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一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0" y="99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救火的人们拉倒燃烧着的房子时一起用力发出的呼喊声，在火中抢夺物件的声音，泼水的声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0" y="3276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凡是应该有的声音，没有一样没有。即使一个人有上百只手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0" y="5410080"/>
            <a:ext cx="88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一只手有上百只手指，也不能明确指出哪一种声音来；即使一个人有上百张嘴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971640" y="476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拟声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542680" y="192240"/>
            <a:ext cx="4312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口有百舌，不能</a:t>
            </a:r>
            <a:r>
              <a:rPr b="1" lang="zh-CN" sz="4000" spc="-1" strike="noStrike">
                <a:solidFill>
                  <a:srgbClr val="ff66ff"/>
                </a:solidFill>
                <a:latin typeface="黑体"/>
                <a:ea typeface="黑体"/>
              </a:rPr>
              <a:t>名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其一处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于是宾客无不变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色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离席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黑体"/>
                <a:ea typeface="黑体"/>
              </a:rPr>
              <a:t>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袖出臂，两</a:t>
            </a:r>
            <a:r>
              <a:rPr b="1" lang="zh-CN" sz="4000" spc="-1" strike="noStrike">
                <a:solidFill>
                  <a:srgbClr val="ff66ff"/>
                </a:solidFill>
                <a:latin typeface="黑体"/>
                <a:ea typeface="黑体"/>
              </a:rPr>
              <a:t>股    战战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欲先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767400" y="609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说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843720" y="2514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脸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86120" y="4495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举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081600" y="4495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大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992480" y="4443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打哆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6628320" y="450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几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990720"/>
            <a:ext cx="89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一张嘴有上百条舌头，也不能说出其中的一个地方来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289080" y="2895480"/>
            <a:ext cx="88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在这种情况下，客人没有一个不吓得变了脸色，离开座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0" y="5181480"/>
            <a:ext cx="85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扬起衣袖，露出手臂，两腿打哆嗦，几乎都想争先恐后地逃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354760" y="39600"/>
            <a:ext cx="36219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忽然抚尺一下，群响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黑体"/>
              </a:rPr>
              <a:t>毕    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黑体"/>
              </a:rPr>
              <a:t>撤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屏视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黑体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，一人、一桌、一椅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一扇、一抚尺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黑体"/>
              </a:rPr>
              <a:t>而已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576840" y="549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尽，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08320" y="23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撤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156480" y="23623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代指演出者坐着表演的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36440" y="1006560"/>
            <a:ext cx="79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忽然醒木一拍，各种声音全都消失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0" y="3124080"/>
            <a:ext cx="92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撤掉围幕一看里面，仍只有一个人，一张桌子，一把椅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09480" y="556272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一把扇子，一块醒木罢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148640" y="4952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罢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4854600" y="4809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全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459160" y="243828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你能复述故事吗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12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-17604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 rot="10800000">
            <a:off x="4556160" y="1926720"/>
            <a:ext cx="184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6" descr="12"/>
          <p:cNvPicPr/>
          <p:nvPr/>
        </p:nvPicPr>
        <p:blipFill>
          <a:blip r:embed="rId2"/>
          <a:stretch/>
        </p:blipFill>
        <p:spPr>
          <a:xfrm>
            <a:off x="0" y="-174600"/>
            <a:ext cx="9144000" cy="7032600"/>
          </a:xfrm>
          <a:prstGeom prst="rect">
            <a:avLst/>
          </a:prstGeom>
          <a:ln w="0">
            <a:noFill/>
          </a:ln>
        </p:spPr>
      </p:pic>
      <p:sp>
        <p:nvSpPr>
          <p:cNvPr id="188" name="WordArt 7"/>
          <p:cNvSpPr txBox="1"/>
          <p:nvPr/>
        </p:nvSpPr>
        <p:spPr>
          <a:xfrm rot="5400000">
            <a:off x="7200360" y="1485720"/>
            <a:ext cx="24386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33cccc"/>
                </a:solidFill>
                <a:latin typeface="宋体"/>
              </a:rPr>
              <a:t>重点字词</a:t>
            </a:r>
            <a:endParaRPr b="0" lang="en-US" sz="2400" spc="-1" strike="noStrike">
              <a:ln w="9360">
                <a:solidFill>
                  <a:srgbClr val="00ff00"/>
                </a:solidFill>
                <a:miter/>
              </a:ln>
              <a:solidFill>
                <a:srgbClr val="33cccc"/>
              </a:solidFill>
              <a:latin typeface="宋体"/>
              <a:ea typeface="宋体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609480" y="380880"/>
            <a:ext cx="48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Arial"/>
              </a:rPr>
              <a:t>一、古今异义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228600" y="1447920"/>
            <a:ext cx="312408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会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宾客大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但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闻屏障中抚尺一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 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当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是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时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微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闻有鼠作作索索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 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宾客意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少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稍稍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正坐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7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中间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力拉崩倒之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8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虽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人有百手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9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于是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宾客无不变色离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0 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两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股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战战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1 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几欲先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3352680" y="1203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古义             今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4365720" y="173844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适逢，正赶上          聚合，合在一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3124080" y="22096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只                   转折连词，但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3124080" y="259092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这                   判断动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3124080" y="29574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隐隐约约             微笑、细微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3124080" y="342900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稍微                 数量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3124080" y="38098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渐渐地               稍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3124080" y="426708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其中夹杂         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在事物两端之间或两个事物之间的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3200400" y="4724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即使 假设连词        虽然 条件连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200400" y="51814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这个（时候）       承接连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4332600" y="563868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大腿                 量词，事物的一部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3276720" y="60199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跑                   行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3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"/>
                            </p:stCondLst>
                            <p:childTnLst>
                              <p:par>
                                <p:cTn id="8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4000"/>
                            </p:stCondLst>
                            <p:childTnLst>
                              <p:par>
                                <p:cTn id="8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0"/>
                            </p:stCondLst>
                            <p:childTnLst>
                              <p:par>
                                <p:cTn id="8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6000"/>
                            </p:stCondLst>
                            <p:childTnLst>
                              <p:par>
                                <p:cTn id="8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7000"/>
                            </p:stCondLst>
                            <p:childTnLst>
                              <p:par>
                                <p:cTn id="8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8000"/>
                            </p:stCondLst>
                            <p:childTnLst>
                              <p:par>
                                <p:cTn id="8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9000"/>
                            </p:stCondLst>
                            <p:childTnLst>
                              <p:par>
                                <p:cTn id="8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206" name="WordArt 5"/>
          <p:cNvSpPr txBox="1"/>
          <p:nvPr/>
        </p:nvSpPr>
        <p:spPr>
          <a:xfrm rot="5400000">
            <a:off x="7277040" y="1562040"/>
            <a:ext cx="27432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重点字词</a:t>
            </a:r>
            <a:endParaRPr b="0" lang="en-US" sz="2400" spc="-1" strike="noStrike">
              <a:ln w="9360">
                <a:solidFill>
                  <a:srgbClr val="00ffff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2049480" y="936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二、一字多意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228600" y="1371600"/>
            <a:ext cx="2514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坐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满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坐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寂然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口技人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坐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屏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妙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众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妙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必备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以为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妙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绝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以为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绝 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群响必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呼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忽一人大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呼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“火起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呼呼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风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4495680" y="1371600"/>
            <a:ext cx="221004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指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手有百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指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不能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指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其一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乳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妇抚儿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乳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儿含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乳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起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夫齁声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起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夫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起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大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又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大儿醒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时齐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529360" y="1701720"/>
            <a:ext cx="14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座位  名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2209680" y="2057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坐  动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1981080" y="2895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妙处  名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981080" y="3200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好，奇妙  形容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2255040" y="410040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极  副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1905120" y="44197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灭，消失  动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063600" y="5319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呼叫  动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2895480" y="5638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拟声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6797160" y="16621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手指  名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6797160" y="2043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指出  动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6248520" y="28954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喂奶  动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6172200" y="4495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起来  动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1"/>
          <p:cNvSpPr/>
          <p:nvPr/>
        </p:nvSpPr>
        <p:spPr>
          <a:xfrm>
            <a:off x="6492600" y="32623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奶头  名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2"/>
          <p:cNvSpPr/>
          <p:nvPr/>
        </p:nvSpPr>
        <p:spPr>
          <a:xfrm>
            <a:off x="6477120" y="53341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一个  数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3"/>
          <p:cNvSpPr/>
          <p:nvPr/>
        </p:nvSpPr>
        <p:spPr>
          <a:xfrm>
            <a:off x="6477120" y="56386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相同  形容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6416280" y="41004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响起  动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4000"/>
                            </p:stCondLst>
                            <p:childTnLst>
                              <p:par>
                                <p:cTn id="8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0"/>
                            </p:stCondLst>
                            <p:childTnLst>
                              <p:par>
                                <p:cTn id="8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7000"/>
                            </p:stCondLst>
                            <p:childTnLst>
                              <p:par>
                                <p:cTn id="9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8000"/>
                            </p:stCondLst>
                            <p:childTnLst>
                              <p:par>
                                <p:cTn id="9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9000"/>
                            </p:stCondLst>
                            <p:childTnLst>
                              <p:par>
                                <p:cTn id="9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12"/>
          <p:cNvPicPr/>
          <p:nvPr/>
        </p:nvPicPr>
        <p:blipFill>
          <a:blip r:embed="rId1"/>
          <a:stretch/>
        </p:blipFill>
        <p:spPr>
          <a:xfrm>
            <a:off x="-181080" y="-17604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229" name="WordArt 5"/>
          <p:cNvSpPr txBox="1"/>
          <p:nvPr/>
        </p:nvSpPr>
        <p:spPr>
          <a:xfrm rot="5400000">
            <a:off x="7162200" y="1295280"/>
            <a:ext cx="243864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ccff"/>
                </a:solidFill>
                <a:latin typeface="宋体"/>
              </a:rPr>
              <a:t>重点字词</a:t>
            </a:r>
            <a:endParaRPr b="0" lang="en-US" sz="2400" spc="-1" strike="noStrike">
              <a:ln w="9360">
                <a:solidFill>
                  <a:srgbClr val="339966"/>
                </a:solidFill>
                <a:miter/>
              </a:ln>
              <a:solidFill>
                <a:srgbClr val="00ccff"/>
              </a:solidFill>
              <a:latin typeface="宋体"/>
              <a:ea typeface="宋体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794600" y="936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三、通假字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" y="8380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满坐寂然：“坐”通“座”  座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533520" y="1752480"/>
            <a:ext cx="459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四、表示时间的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457200" y="2971800"/>
            <a:ext cx="62485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表示突然发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表示几件事同时发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表示两件事相继发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表示在特定的某个时间内发生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表示过了很短时间就发生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5380920" y="2994120"/>
            <a:ext cx="14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忽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4495680" y="3733920"/>
            <a:ext cx="3429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4495680" y="439884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既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6689160" y="5157720"/>
            <a:ext cx="10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6510240" y="5875200"/>
            <a:ext cx="16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俄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、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少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9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12"/>
          <p:cNvPicPr/>
          <p:nvPr/>
        </p:nvPicPr>
        <p:blipFill>
          <a:blip r:embed="rId1"/>
          <a:stretch/>
        </p:blipFill>
        <p:spPr>
          <a:xfrm>
            <a:off x="0" y="-17604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242" name="WordArt 5"/>
          <p:cNvSpPr txBox="1"/>
          <p:nvPr/>
        </p:nvSpPr>
        <p:spPr>
          <a:xfrm rot="5400000">
            <a:off x="7162200" y="1295280"/>
            <a:ext cx="243864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ccff"/>
                </a:solidFill>
                <a:latin typeface="宋体"/>
              </a:rPr>
              <a:t>重点字词</a:t>
            </a:r>
            <a:endParaRPr b="0" lang="en-US" sz="2400" spc="-1" strike="noStrike">
              <a:ln w="9360">
                <a:solidFill>
                  <a:srgbClr val="339966"/>
                </a:solidFill>
                <a:miter/>
              </a:ln>
              <a:solidFill>
                <a:srgbClr val="00ccff"/>
              </a:solidFill>
              <a:latin typeface="宋体"/>
              <a:ea typeface="宋体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1789920" y="936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五、词类活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228600" y="838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250920" y="981000"/>
            <a:ext cx="624816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京中有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口技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擅长   形容词活用作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能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一处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说出   名词活用作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妇抚儿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喂奶    名词活用作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宾客大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举行宴会    名词活用作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妇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拍儿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用手    名词作状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不伸颈，侧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用眼睛看    名词活用作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4572000" y="2994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4495680" y="439884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00"/>
                            </p:stCondLst>
                            <p:childTnLst>
                              <p:par>
                                <p:cTn id="9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4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0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1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6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9" dur="1000"/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B44-3AB6-4D30-8791-DE44C72917B4}" type="slidenum">
              <a:t>28</a:t>
            </a:fld>
          </a:p>
        </p:txBody>
      </p:sp>
    </p:spTree>
  </p:cSld>
  <p:transition>
    <p:random/>
    <p:sndAc>
      <p:stSnd>
        <p:snd r:embed="rId26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淡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7"/>
          <p:cNvSpPr/>
          <p:nvPr/>
        </p:nvSpPr>
        <p:spPr>
          <a:xfrm>
            <a:off x="0" y="0"/>
            <a:ext cx="871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提高题：课文中是从哪些地方以动写静，表现深夜寂静气氛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50920" y="1197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遥闻深巷中犬吠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179280" y="407664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微闻有鼠作作索索，盆器倾侧，妇梦中咳嗽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324000" y="1844640"/>
            <a:ext cx="73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口技表演是由“遥闻深巷中犬吠”开始的。这一句写犬吠，而这犬吠是从深巷中传来的，这就营造出夜深人静的氛围。这一句既是以动写静，烘托深夜的寂静气氛，又是使一户人家由妇人初醒到全家喧闹的铺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755640" y="5013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这些声音为反衬，加重深夜的静谧气氛，表现一家人由醒复睡后的沉寂状态。这两句都是以动写静，静更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林嗣环，字铁崖，清朝福建晋江人，顺治年间进士。著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铁崖文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836640"/>
          <a:ext cx="8001000" cy="5846760"/>
        </p:xfrm>
        <a:graphic>
          <a:graphicData uri="http://schemas.openxmlformats.org/drawingml/2006/table">
            <a:tbl>
              <a:tblPr/>
              <a:tblGrid>
                <a:gridCol w="1486080"/>
                <a:gridCol w="2476440"/>
                <a:gridCol w="1218960"/>
                <a:gridCol w="1143000"/>
                <a:gridCol w="1676520"/>
              </a:tblGrid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场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声音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声音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作者评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听众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梦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醒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由远及近由外到内由小到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渐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梦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逐渐变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火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群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忽然变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由少而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由少而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Text Box 35"/>
          <p:cNvSpPr/>
          <p:nvPr/>
        </p:nvSpPr>
        <p:spPr>
          <a:xfrm>
            <a:off x="2209680" y="1981080"/>
            <a:ext cx="2362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仿宋"/>
                <a:ea typeface="华文仿宋"/>
              </a:rPr>
              <a:t>犬吠 欠身 呓语    大啼 妇呜 夫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一时齐发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6"/>
          <p:cNvSpPr/>
          <p:nvPr/>
        </p:nvSpPr>
        <p:spPr>
          <a:xfrm>
            <a:off x="2209680" y="3200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7"/>
          <p:cNvSpPr/>
          <p:nvPr/>
        </p:nvSpPr>
        <p:spPr>
          <a:xfrm>
            <a:off x="2209680" y="3276720"/>
            <a:ext cx="24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齁声    妇拍儿渐止    鼠作作索索             倾盆器声 咳嗽    （以响衬静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8"/>
          <p:cNvSpPr/>
          <p:nvPr/>
        </p:nvSpPr>
        <p:spPr>
          <a:xfrm>
            <a:off x="2286000" y="46483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9"/>
          <p:cNvSpPr/>
          <p:nvPr/>
        </p:nvSpPr>
        <p:spPr>
          <a:xfrm>
            <a:off x="5943600" y="1828800"/>
            <a:ext cx="990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众妙必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0"/>
          <p:cNvSpPr/>
          <p:nvPr/>
        </p:nvSpPr>
        <p:spPr>
          <a:xfrm>
            <a:off x="5943600" y="4495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1"/>
          <p:cNvSpPr/>
          <p:nvPr/>
        </p:nvSpPr>
        <p:spPr>
          <a:xfrm>
            <a:off x="7086600" y="1981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伸颈    侧目微笑    默叹以为妙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2"/>
          <p:cNvSpPr/>
          <p:nvPr/>
        </p:nvSpPr>
        <p:spPr>
          <a:xfrm>
            <a:off x="7086600" y="3429000"/>
            <a:ext cx="1676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意少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稍稍正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3"/>
          <p:cNvSpPr/>
          <p:nvPr/>
        </p:nvSpPr>
        <p:spPr>
          <a:xfrm>
            <a:off x="7010280" y="4724280"/>
            <a:ext cx="16765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变色离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奋袖出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两股战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几欲先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4"/>
          <p:cNvSpPr/>
          <p:nvPr/>
        </p:nvSpPr>
        <p:spPr>
          <a:xfrm>
            <a:off x="2209680" y="4876920"/>
            <a:ext cx="243864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大呼  齐哭 百千大呼   齐哭  犬吠 力拉崩倒火爆声         抢夺声泼水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无所不有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5"/>
          <p:cNvSpPr/>
          <p:nvPr/>
        </p:nvSpPr>
        <p:spPr>
          <a:xfrm>
            <a:off x="5867280" y="4800600"/>
            <a:ext cx="11430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不能指其一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不能名其一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6"/>
          <p:cNvSpPr/>
          <p:nvPr/>
        </p:nvSpPr>
        <p:spPr>
          <a:xfrm>
            <a:off x="380880" y="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根据课文内容填写下列表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3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3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026"/>
          <p:cNvSpPr/>
          <p:nvPr/>
        </p:nvSpPr>
        <p:spPr>
          <a:xfrm>
            <a:off x="533520" y="76212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课文结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027"/>
          <p:cNvSpPr/>
          <p:nvPr/>
        </p:nvSpPr>
        <p:spPr>
          <a:xfrm>
            <a:off x="914400" y="327672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要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028"/>
          <p:cNvSpPr/>
          <p:nvPr/>
        </p:nvSpPr>
        <p:spPr>
          <a:xfrm>
            <a:off x="2743200" y="18432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首尾呼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029"/>
          <p:cNvSpPr/>
          <p:nvPr/>
        </p:nvSpPr>
        <p:spPr>
          <a:xfrm>
            <a:off x="2819520" y="4267080"/>
            <a:ext cx="3581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三个场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1030"/>
          <p:cNvSpPr/>
          <p:nvPr/>
        </p:nvSpPr>
        <p:spPr>
          <a:xfrm>
            <a:off x="5562720" y="4267080"/>
            <a:ext cx="228600" cy="1905120"/>
          </a:xfrm>
          <a:custGeom>
            <a:avLst/>
            <a:gdLst>
              <a:gd name="textAreaLeft" fmla="*/ 66960 w 228600"/>
              <a:gd name="textAreaRight" fmla="*/ 228960 w 228600"/>
              <a:gd name="textAreaTop" fmla="*/ 79200 h 1905120"/>
              <a:gd name="textAreaBottom" fmla="*/ 18259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031"/>
          <p:cNvSpPr/>
          <p:nvPr/>
        </p:nvSpPr>
        <p:spPr>
          <a:xfrm>
            <a:off x="5715000" y="3705120"/>
            <a:ext cx="2666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家人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梦中惊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由醒又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失火救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032"/>
          <p:cNvSpPr/>
          <p:nvPr/>
        </p:nvSpPr>
        <p:spPr>
          <a:xfrm>
            <a:off x="2590920" y="2362320"/>
            <a:ext cx="228600" cy="2819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033"/>
          <p:cNvSpPr/>
          <p:nvPr/>
        </p:nvSpPr>
        <p:spPr>
          <a:xfrm>
            <a:off x="5181480" y="1905120"/>
            <a:ext cx="335304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一桌一椅一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一抚尺而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034"/>
          <p:cNvSpPr/>
          <p:nvPr/>
        </p:nvSpPr>
        <p:spPr>
          <a:xfrm flipH="1">
            <a:off x="-76320" y="6858000"/>
            <a:ext cx="7632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3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5"/>
          <p:cNvSpPr/>
          <p:nvPr/>
        </p:nvSpPr>
        <p:spPr>
          <a:xfrm>
            <a:off x="457200" y="609480"/>
            <a:ext cx="8686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新宋体"/>
                <a:ea typeface="新宋体"/>
              </a:rPr>
              <a:t>1</a:t>
            </a:r>
            <a:r>
              <a:rPr b="1" i="1" lang="zh-CN" sz="2800" spc="-1" strike="noStrike">
                <a:solidFill>
                  <a:srgbClr val="660066"/>
                </a:solidFill>
                <a:latin typeface="新宋体"/>
                <a:ea typeface="新宋体"/>
              </a:rPr>
              <a:t>、第一段中统领或连贯全文的关键字眼是哪一个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66"/>
                </a:solidFill>
                <a:latin typeface="新宋体"/>
                <a:ea typeface="新宋体"/>
              </a:rPr>
              <a:t>第一段列数口技人的道具，对表现全文的中心有什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66"/>
                </a:solidFill>
                <a:latin typeface="新宋体"/>
                <a:ea typeface="新宋体"/>
              </a:rPr>
              <a:t>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304920" y="2666880"/>
            <a:ext cx="913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善”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字统领全文，全文的展开都紧紧扣住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“善”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字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457200" y="3886200"/>
            <a:ext cx="8686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列数口技人的道具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四个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“一”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字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             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暗示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道具简单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                                  </a:t>
            </a:r>
            <a:r>
              <a:rPr b="1" lang="zh-CN" sz="3000" spc="-1" strike="noStrike">
                <a:solidFill>
                  <a:srgbClr val="ccccff"/>
                </a:solidFill>
                <a:latin typeface="Arial"/>
              </a:rPr>
              <a:t>衬托了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表演者的高超技术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8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5"/>
          <p:cNvSpPr/>
          <p:nvPr/>
        </p:nvSpPr>
        <p:spPr>
          <a:xfrm>
            <a:off x="1898280" y="441360"/>
            <a:ext cx="511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新宋体"/>
                <a:ea typeface="新宋体"/>
              </a:rPr>
              <a:t>2</a:t>
            </a:r>
            <a:r>
              <a:rPr b="1" i="1" lang="zh-CN" sz="2400" spc="-1" strike="noStrike">
                <a:solidFill>
                  <a:srgbClr val="660066"/>
                </a:solidFill>
                <a:latin typeface="新宋体"/>
                <a:ea typeface="新宋体"/>
              </a:rPr>
              <a:t>、第二段口技人摹仿四口之家深夜被犬声惊醒的过程， 是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0066"/>
                </a:solidFill>
                <a:latin typeface="新宋体"/>
                <a:ea typeface="新宋体"/>
              </a:rPr>
              <a:t>怎样的顺序摹写声音的？这段中描写宾客的神态有什么作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304920" y="1905120"/>
            <a:ext cx="36576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口技人是按照声音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由远及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由外到内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由小到大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由少到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的顺序表演一家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Arial"/>
              </a:rPr>
              <a:t>深夜被犬惊醒的过程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4267080" y="1905120"/>
            <a:ext cx="4496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ff"/>
                </a:solidFill>
                <a:latin typeface="Arial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这段末描写听众的神态。是对口技表演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侧面烘托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ccff"/>
                </a:solidFill>
                <a:latin typeface="Arial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伸颈” “侧目”，是写宾客听得入了神，唯恐有所遗漏；“微笑”，表示宾客对表演心领神会，感到满意；“默叹”，写宾客为表演者的技艺所折服，但又不便拍案叫好的神态。这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侧面描写与正面描写相结合，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把口技表演和它的效果有机的联系起来，从而突出口技者表演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善”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2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6" dur="3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5"/>
          <p:cNvSpPr/>
          <p:nvPr/>
        </p:nvSpPr>
        <p:spPr>
          <a:xfrm>
            <a:off x="304920" y="533520"/>
            <a:ext cx="510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新宋体"/>
                <a:ea typeface="新宋体"/>
              </a:rPr>
              <a:t>3</a:t>
            </a:r>
            <a:r>
              <a:rPr b="1" i="1" lang="zh-CN" sz="2400" spc="-1" strike="noStrike">
                <a:solidFill>
                  <a:srgbClr val="660066"/>
                </a:solidFill>
                <a:latin typeface="新宋体"/>
                <a:ea typeface="新宋体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66"/>
                </a:solidFill>
                <a:latin typeface="新宋体"/>
                <a:ea typeface="新宋体"/>
              </a:rPr>
              <a:t>    </a:t>
            </a:r>
            <a:r>
              <a:rPr b="1" i="1" lang="zh-CN" sz="2800" spc="-1" strike="noStrike">
                <a:solidFill>
                  <a:srgbClr val="660066"/>
                </a:solidFill>
                <a:latin typeface="新宋体"/>
                <a:ea typeface="新宋体"/>
              </a:rPr>
              <a:t>第三段所写的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66"/>
                </a:solidFill>
                <a:latin typeface="新宋体"/>
                <a:ea typeface="新宋体"/>
              </a:rPr>
              <a:t>在表演中起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3124080" y="2362320"/>
            <a:ext cx="4800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这一段写的是一家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由醒到又睡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的经过和宾客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情绪变化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这一段既是四口人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醒之后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余波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又是深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失火、救火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前奏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3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70326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5"/>
          <p:cNvSpPr/>
          <p:nvPr/>
        </p:nvSpPr>
        <p:spPr>
          <a:xfrm>
            <a:off x="609480" y="5176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新宋体"/>
                <a:ea typeface="新宋体"/>
              </a:rPr>
              <a:t>4</a:t>
            </a:r>
            <a:r>
              <a:rPr b="1" i="1" lang="zh-CN" sz="2800" spc="-1" strike="noStrike">
                <a:solidFill>
                  <a:srgbClr val="660066"/>
                </a:solidFill>
                <a:latin typeface="新宋体"/>
                <a:ea typeface="新宋体"/>
              </a:rPr>
              <a:t>、第四段从哪些方面直接描述了口技人表演的声音？这段中写宾客的表现有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1980000" y="2082960"/>
            <a:ext cx="5289120" cy="20739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Arial"/>
              </a:rPr>
              <a:t>       </a:t>
            </a:r>
            <a:r>
              <a:rPr b="1" lang="zh-CN" sz="2600" spc="-1" strike="noStrike">
                <a:solidFill>
                  <a:srgbClr val="00cc99"/>
                </a:solidFill>
                <a:latin typeface="Arial"/>
              </a:rPr>
              <a:t>这一段开头用一个“忽”字，连用三个“大呼”，表现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cc99"/>
                </a:solidFill>
                <a:latin typeface="Arial"/>
              </a:rPr>
              <a:t>火着得突然，而且很大。紧接着连用三个“百千”，极写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cc99"/>
                </a:solidFill>
                <a:latin typeface="Arial"/>
              </a:rPr>
              <a:t>音之复杂。又用“中间</a:t>
            </a:r>
            <a:r>
              <a:rPr b="1" lang="en-US" sz="2600" spc="-1" strike="noStrike">
                <a:solidFill>
                  <a:srgbClr val="00cc99"/>
                </a:solidFill>
                <a:latin typeface="Arial"/>
              </a:rPr>
              <a:t>……</a:t>
            </a:r>
            <a:r>
              <a:rPr b="1" lang="zh-CN" sz="2600" spc="-1" strike="noStrike">
                <a:solidFill>
                  <a:srgbClr val="00cc99"/>
                </a:solidFill>
                <a:latin typeface="Arial"/>
              </a:rPr>
              <a:t>百千齐作”写火势凶狠，用“又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cc99"/>
                </a:solidFill>
                <a:latin typeface="Arial"/>
              </a:rPr>
              <a:t>夹</a:t>
            </a:r>
            <a:r>
              <a:rPr b="1" lang="en-US" sz="2600" spc="-1" strike="noStrike">
                <a:solidFill>
                  <a:srgbClr val="00cc99"/>
                </a:solidFill>
                <a:latin typeface="Arial"/>
              </a:rPr>
              <a:t>…… </a:t>
            </a:r>
            <a:r>
              <a:rPr b="1" lang="zh-CN" sz="2600" spc="-1" strike="noStrike">
                <a:solidFill>
                  <a:srgbClr val="00cc99"/>
                </a:solidFill>
                <a:latin typeface="Arial"/>
              </a:rPr>
              <a:t>泼水声”写大火中人们的行动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。“凡所应有，无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不有”，总写失火时声音之逼真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457200" y="4572000"/>
            <a:ext cx="8458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接着作者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夸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手法盛赞口技表演者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高超技艺</a:t>
            </a:r>
            <a:r>
              <a:rPr b="1" lang="zh-CN" sz="2600" spc="-1" strike="noStrike">
                <a:solidFill>
                  <a:srgbClr val="ccccff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段末写宾客的表现，突出了口技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演逼真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程度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0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4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5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5"/>
          <p:cNvSpPr/>
          <p:nvPr/>
        </p:nvSpPr>
        <p:spPr>
          <a:xfrm>
            <a:off x="380880" y="9144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新宋体"/>
                <a:ea typeface="新宋体"/>
              </a:rPr>
              <a:t>5</a:t>
            </a:r>
            <a:r>
              <a:rPr b="1" i="1" lang="zh-CN" sz="2800" spc="-1" strike="noStrike">
                <a:solidFill>
                  <a:srgbClr val="660066"/>
                </a:solidFill>
                <a:latin typeface="新宋体"/>
                <a:ea typeface="新宋体"/>
              </a:rPr>
              <a:t>、第五段呼应开头，再次列数道具，有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533520" y="2057400"/>
            <a:ext cx="836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突出舞台、道具的简单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反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口技表演声响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繁杂、热闹，表明表演者依靠的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高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口技，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是借助于外物。再次突出表演者口技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善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2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2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淡绿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838080" y="259092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找出文中的正面描写与侧面描写，并说说其作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4" descr="bfly"/>
          <p:cNvPicPr/>
          <p:nvPr/>
        </p:nvPicPr>
        <p:blipFill>
          <a:blip r:embed="rId2"/>
          <a:stretch/>
        </p:blipFill>
        <p:spPr>
          <a:xfrm>
            <a:off x="6477120" y="685800"/>
            <a:ext cx="1733400" cy="1981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die2"/>
          <p:cNvPicPr/>
          <p:nvPr/>
        </p:nvPicPr>
        <p:blipFill>
          <a:blip r:embed="rId3"/>
          <a:stretch/>
        </p:blipFill>
        <p:spPr>
          <a:xfrm flipH="1" rot="10800000">
            <a:off x="304920" y="5844600"/>
            <a:ext cx="8458200" cy="10126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淡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3"/>
          <p:cNvSpPr/>
          <p:nvPr/>
        </p:nvSpPr>
        <p:spPr>
          <a:xfrm>
            <a:off x="2286000" y="1676520"/>
            <a:ext cx="4572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梦中惊醒，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渐入梦乡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火起群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250920" y="549360"/>
            <a:ext cx="959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正面描写：艺人表演的三个场面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533520" y="4952880"/>
            <a:ext cx="830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作用：直接地表现艺人的高超技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水泡"/>
          <p:cNvPicPr/>
          <p:nvPr/>
        </p:nvPicPr>
        <p:blipFill>
          <a:blip r:embed="rId1"/>
          <a:stretch/>
        </p:blipFill>
        <p:spPr>
          <a:xfrm>
            <a:off x="-73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3"/>
          <p:cNvSpPr/>
          <p:nvPr/>
        </p:nvSpPr>
        <p:spPr>
          <a:xfrm>
            <a:off x="-73080" y="5791320"/>
            <a:ext cx="100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作用：表现口技表演者技艺高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-73080" y="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侧面描写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-73080" y="838080"/>
            <a:ext cx="982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d60093"/>
                </a:solidFill>
                <a:latin typeface="Times New Roman"/>
              </a:rPr>
              <a:t>开头结尾部分对表演道具的交待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-73080" y="2514600"/>
            <a:ext cx="1054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d60093"/>
                </a:solidFill>
                <a:latin typeface="Times New Roman"/>
              </a:rPr>
              <a:t>表演过程中观众神情举止的反应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-73080" y="1676520"/>
            <a:ext cx="1033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一桌、一椅、一扇、一抚尺而已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-73080" y="3352680"/>
            <a:ext cx="944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伸颈，侧目，微笑，默叹；意少舒，稍稍正坐；变色离席，奋袖出臂，两股战战，几欲先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4"/>
          <p:cNvSpPr/>
          <p:nvPr/>
        </p:nvSpPr>
        <p:spPr>
          <a:xfrm>
            <a:off x="255600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57200" y="609480"/>
            <a:ext cx="83059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朗读全文，注意红颜色字的读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顷（    ）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语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舒 （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许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）声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欲先走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763640" y="1268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ǎ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835280" y="1844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è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1908000" y="2349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ì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411280" y="299736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ǎ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258920" y="3429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è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2916360" y="4076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0" y="0"/>
            <a:ext cx="9144000" cy="7686720"/>
          </a:xfrm>
          <a:prstGeom prst="rect">
            <a:avLst/>
          </a:prstGeom>
          <a:solidFill>
            <a:srgbClr val="ccff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3"/>
          <p:cNvSpPr/>
          <p:nvPr/>
        </p:nvSpPr>
        <p:spPr>
          <a:xfrm>
            <a:off x="1828800" y="4191120"/>
            <a:ext cx="56386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4"/>
          <p:cNvSpPr/>
          <p:nvPr/>
        </p:nvSpPr>
        <p:spPr>
          <a:xfrm flipV="1">
            <a:off x="1981080" y="457200"/>
            <a:ext cx="0" cy="4114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5"/>
          <p:cNvGrpSpPr/>
          <p:nvPr/>
        </p:nvGrpSpPr>
        <p:grpSpPr>
          <a:xfrm>
            <a:off x="1981080" y="1600200"/>
            <a:ext cx="3886200" cy="2530080"/>
            <a:chOff x="1981080" y="1600200"/>
            <a:chExt cx="3886200" cy="2530080"/>
          </a:xfrm>
        </p:grpSpPr>
        <p:sp>
          <p:nvSpPr>
            <p:cNvPr id="328" name="Line 6"/>
            <p:cNvSpPr/>
            <p:nvPr/>
          </p:nvSpPr>
          <p:spPr>
            <a:xfrm>
              <a:off x="1981080" y="1600200"/>
              <a:ext cx="3886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7"/>
            <p:cNvSpPr/>
            <p:nvPr/>
          </p:nvSpPr>
          <p:spPr>
            <a:xfrm>
              <a:off x="5790960" y="1600200"/>
              <a:ext cx="0" cy="2530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8"/>
          <p:cNvGrpSpPr/>
          <p:nvPr/>
        </p:nvGrpSpPr>
        <p:grpSpPr>
          <a:xfrm>
            <a:off x="1981080" y="2819520"/>
            <a:ext cx="2666880" cy="1371600"/>
            <a:chOff x="1981080" y="2819520"/>
            <a:chExt cx="2666880" cy="1371600"/>
          </a:xfrm>
        </p:grpSpPr>
        <p:sp>
          <p:nvSpPr>
            <p:cNvPr id="331" name="Line 9"/>
            <p:cNvSpPr/>
            <p:nvPr/>
          </p:nvSpPr>
          <p:spPr>
            <a:xfrm>
              <a:off x="1981080" y="2819520"/>
              <a:ext cx="2666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0"/>
            <p:cNvSpPr/>
            <p:nvPr/>
          </p:nvSpPr>
          <p:spPr>
            <a:xfrm>
              <a:off x="4647960" y="2819520"/>
              <a:ext cx="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11"/>
          <p:cNvGrpSpPr/>
          <p:nvPr/>
        </p:nvGrpSpPr>
        <p:grpSpPr>
          <a:xfrm>
            <a:off x="1981080" y="3505320"/>
            <a:ext cx="1371600" cy="685800"/>
            <a:chOff x="1981080" y="3505320"/>
            <a:chExt cx="1371600" cy="685800"/>
          </a:xfrm>
        </p:grpSpPr>
        <p:sp>
          <p:nvSpPr>
            <p:cNvPr id="334" name="Line 12"/>
            <p:cNvSpPr/>
            <p:nvPr/>
          </p:nvSpPr>
          <p:spPr>
            <a:xfrm>
              <a:off x="1981080" y="3505320"/>
              <a:ext cx="13716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3"/>
            <p:cNvSpPr/>
            <p:nvPr/>
          </p:nvSpPr>
          <p:spPr>
            <a:xfrm>
              <a:off x="3352680" y="3581640"/>
              <a:ext cx="0" cy="609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Line 14"/>
          <p:cNvSpPr/>
          <p:nvPr/>
        </p:nvSpPr>
        <p:spPr>
          <a:xfrm flipV="1">
            <a:off x="2590920" y="2819520"/>
            <a:ext cx="1600200" cy="1295280"/>
          </a:xfrm>
          <a:prstGeom prst="line">
            <a:avLst/>
          </a:prstGeom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5"/>
          <p:cNvSpPr/>
          <p:nvPr/>
        </p:nvSpPr>
        <p:spPr>
          <a:xfrm>
            <a:off x="4191120" y="2819520"/>
            <a:ext cx="761760" cy="0"/>
          </a:xfrm>
          <a:prstGeom prst="line">
            <a:avLst/>
          </a:prstGeom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6"/>
          <p:cNvSpPr/>
          <p:nvPr/>
        </p:nvSpPr>
        <p:spPr>
          <a:xfrm flipV="1">
            <a:off x="4952880" y="1142640"/>
            <a:ext cx="1219320" cy="167652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7315200" y="3124080"/>
            <a:ext cx="21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Times New Roman"/>
                <a:ea typeface="幼圆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幼圆"/>
              </a:rPr>
              <a:t>口技表演中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黑体"/>
              </a:rPr>
              <a:t>声音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幼圆"/>
              </a:rPr>
              <a:t>的变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8"/>
          <p:cNvSpPr/>
          <p:nvPr/>
        </p:nvSpPr>
        <p:spPr>
          <a:xfrm>
            <a:off x="1326240" y="-473040"/>
            <a:ext cx="14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听众的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9">
            <a:hlinkClick r:id="rId1"/>
          </p:cNvPr>
          <p:cNvSpPr/>
          <p:nvPr/>
        </p:nvSpPr>
        <p:spPr>
          <a:xfrm>
            <a:off x="1848240" y="4343400"/>
            <a:ext cx="213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疏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小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20">
            <a:hlinkClick r:id="rId2"/>
          </p:cNvPr>
          <p:cNvSpPr/>
          <p:nvPr/>
        </p:nvSpPr>
        <p:spPr>
          <a:xfrm>
            <a:off x="4862880" y="404604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大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1">
            <a:hlinkClick r:id="rId3"/>
          </p:cNvPr>
          <p:cNvSpPr/>
          <p:nvPr/>
        </p:nvSpPr>
        <p:spPr>
          <a:xfrm>
            <a:off x="5731200" y="4046040"/>
            <a:ext cx="115524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密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疏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0" y="3200400"/>
            <a:ext cx="213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伸颈侧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微笑默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552600" y="2438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意少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24"/>
          <p:cNvSpPr/>
          <p:nvPr/>
        </p:nvSpPr>
        <p:spPr>
          <a:xfrm>
            <a:off x="330120" y="121932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变色出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股战欲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5"/>
          <p:cNvSpPr/>
          <p:nvPr/>
        </p:nvSpPr>
        <p:spPr>
          <a:xfrm>
            <a:off x="6270120" y="3762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情节发展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6"/>
          <p:cNvSpPr/>
          <p:nvPr/>
        </p:nvSpPr>
        <p:spPr>
          <a:xfrm>
            <a:off x="2979360" y="2895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幼圆"/>
              </a:rPr>
              <a:t>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27"/>
          <p:cNvSpPr/>
          <p:nvPr/>
        </p:nvSpPr>
        <p:spPr>
          <a:xfrm>
            <a:off x="4427280" y="2133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幼圆"/>
              </a:rPr>
              <a:t>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28"/>
          <p:cNvSpPr/>
          <p:nvPr/>
        </p:nvSpPr>
        <p:spPr>
          <a:xfrm>
            <a:off x="5341680" y="914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幼圆"/>
              </a:rPr>
              <a:t>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4" name="chimes.wav"/>
      </p:stSnd>
    </p:sndAc>
  </p:transition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4" descr="9"/>
          <p:cNvPicPr/>
          <p:nvPr/>
        </p:nvPicPr>
        <p:blipFill>
          <a:blip r:embed="rId1"/>
          <a:stretch/>
        </p:blipFill>
        <p:spPr>
          <a:xfrm>
            <a:off x="-228600" y="-42840"/>
            <a:ext cx="9753480" cy="690084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5"/>
          <p:cNvSpPr/>
          <p:nvPr/>
        </p:nvSpPr>
        <p:spPr>
          <a:xfrm>
            <a:off x="1378800" y="251460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楷体_GB2312"/>
              </a:rPr>
              <a:t>最精彩的表演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5112000" y="8352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楷体_GB2312"/>
              </a:rPr>
              <a:t>最复杂的内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5187960" y="25909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楷体_GB2312"/>
              </a:rPr>
              <a:t>最简单的道具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5265720" y="434340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楷体_GB2312"/>
              </a:rPr>
              <a:t>最热烈的观众反应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9"/>
          <p:cNvSpPr/>
          <p:nvPr/>
        </p:nvSpPr>
        <p:spPr>
          <a:xfrm>
            <a:off x="3733920" y="1066680"/>
            <a:ext cx="457200" cy="3581640"/>
          </a:xfrm>
          <a:custGeom>
            <a:avLst/>
            <a:gdLst>
              <a:gd name="textAreaLeft" fmla="*/ 292320 w 457200"/>
              <a:gd name="textAreaRight" fmla="*/ 457560 w 45720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500"/>
                            </p:stCondLst>
                            <p:childTnLst>
                              <p:par>
                                <p:cTn id="14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3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4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5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9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0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1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5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6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7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829800" cy="695484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5"/>
          <p:cNvSpPr/>
          <p:nvPr/>
        </p:nvSpPr>
        <p:spPr>
          <a:xfrm>
            <a:off x="1371600" y="990720"/>
            <a:ext cx="377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cc"/>
                </a:solidFill>
                <a:latin typeface="Arial"/>
              </a:rPr>
              <a:t>根据课文内容填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447920" y="1600200"/>
            <a:ext cx="7238880" cy="37508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一张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﹍﹍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，两三件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﹍ ﹍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，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方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﹍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﹍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，听得五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﹍﹍ ﹍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﹍﹍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﹍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﹍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﹍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，心里七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﹍﹍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八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﹍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好似九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﹍ ﹍﹍ ﹍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，真乃十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﹍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﹍﹍ ﹍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352680" y="15238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6019920" y="1447920"/>
            <a:ext cx="110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道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2548440" y="2203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宾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6298200" y="22035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体投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2716560" y="2965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神无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"/>
          <p:cNvSpPr/>
          <p:nvPr/>
        </p:nvSpPr>
        <p:spPr>
          <a:xfrm>
            <a:off x="6189840" y="29653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3"/>
          <p:cNvSpPr/>
          <p:nvPr/>
        </p:nvSpPr>
        <p:spPr>
          <a:xfrm>
            <a:off x="7391520" y="297180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4"/>
          <p:cNvSpPr/>
          <p:nvPr/>
        </p:nvSpPr>
        <p:spPr>
          <a:xfrm>
            <a:off x="4042440" y="37274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死一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5"/>
          <p:cNvSpPr/>
          <p:nvPr/>
        </p:nvSpPr>
        <p:spPr>
          <a:xfrm>
            <a:off x="2412000" y="44895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全十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7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50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53" dur="2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56" dur="2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59" dur="2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2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4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4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1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4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4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1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9" dur="4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4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1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7" dur="4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4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2" dur="4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4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1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0" dur="4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4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1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4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4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WordArt 2"/>
          <p:cNvSpPr txBox="1"/>
          <p:nvPr/>
        </p:nvSpPr>
        <p:spPr>
          <a:xfrm>
            <a:off x="684360" y="1557360"/>
            <a:ext cx="7848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你知道吗？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本文的中心思想是什么？</a:t>
            </a:r>
            <a:endParaRPr b="0" lang="en-US" sz="2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74" name="Picture 3" descr="butterfly2"/>
          <p:cNvPicPr/>
          <p:nvPr/>
        </p:nvPicPr>
        <p:blipFill>
          <a:blip r:embed="rId5"/>
          <a:stretch/>
        </p:blipFill>
        <p:spPr>
          <a:xfrm>
            <a:off x="5940360" y="62064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6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611280" y="692280"/>
            <a:ext cx="813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中心思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　　本文写的是一场口技表演。作者通过表演者以各种不同的声响，异常逼真的模拟出一组有节奏、有连续性的生活画面的叙述、描写，表现了我国民间艺人的高超技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蓝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3"/>
          <p:cNvSpPr/>
          <p:nvPr/>
        </p:nvSpPr>
        <p:spPr>
          <a:xfrm>
            <a:off x="0" y="907920"/>
            <a:ext cx="48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重点词语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3059280" y="285264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这个时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6443640" y="177336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539640" y="1773360"/>
            <a:ext cx="72010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</a:rPr>
              <a:t>但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闻屏障中抚尺一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当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</a:rPr>
              <a:t>是时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不能</a:t>
            </a:r>
            <a:r>
              <a:rPr b="1" lang="zh-CN" sz="4800" spc="-1" strike="noStrike" u="sng">
                <a:solidFill>
                  <a:srgbClr val="3333cc"/>
                </a:solidFill>
                <a:uFillTx/>
                <a:latin typeface="Times New Roman"/>
              </a:rPr>
              <a:t>名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其一处也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中</a:t>
            </a:r>
            <a:r>
              <a:rPr b="1" lang="zh-CN" sz="4800" spc="-1" strike="noStrike" u="sng">
                <a:solidFill>
                  <a:srgbClr val="3333cc"/>
                </a:solidFill>
                <a:uFillTx/>
                <a:latin typeface="Times New Roman"/>
              </a:rPr>
              <a:t>间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力拉崩倒之声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0" y="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复习检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5791320" y="5562720"/>
            <a:ext cx="2133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5651640" y="508464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夹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5506560" y="39625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说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y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3"/>
          <p:cNvSpPr/>
          <p:nvPr/>
        </p:nvSpPr>
        <p:spPr>
          <a:xfrm>
            <a:off x="914400" y="1600200"/>
            <a:ext cx="61056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宾客意</a:t>
            </a:r>
            <a:r>
              <a:rPr b="1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少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舒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不能</a:t>
            </a:r>
            <a:r>
              <a:rPr b="1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名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其一处也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几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欲先走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中</a:t>
            </a:r>
            <a:r>
              <a:rPr b="1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间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力拉崩倒之声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248520" y="48769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夹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3886200" y="38098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几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5562720" y="266688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动词，说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4724280" y="160020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稍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564" dur="indefinite" restart="never" nodeType="tmRoot">
          <p:childTnLst>
            <p:seq>
              <p:cTn id="1565" dur="indefinite" nodeType="mainSeq">
                <p:childTnLst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3"/>
          <p:cNvPicPr/>
          <p:nvPr/>
        </p:nvPicPr>
        <p:blipFill>
          <a:blip r:embed="rId1"/>
          <a:stretch/>
        </p:blipFill>
        <p:spPr>
          <a:xfrm>
            <a:off x="838080" y="1143000"/>
            <a:ext cx="7696440" cy="4876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735840" y="893880"/>
            <a:ext cx="3884040" cy="70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夫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齁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起（  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曳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屋声（   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敢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哗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（  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叱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儿声（   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间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拉（   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980800" y="2133720"/>
            <a:ext cx="7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y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华文细黑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466440" y="4292640"/>
            <a:ext cx="95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华文细黑"/>
              </a:rPr>
              <a:t>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595680" y="5373720"/>
            <a:ext cx="112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华文细黑"/>
              </a:rPr>
              <a:t>à</a:t>
            </a: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794040" y="535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182400" y="1197000"/>
            <a:ext cx="121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hō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283200" y="3213000"/>
            <a:ext cx="118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华文细黑"/>
              </a:rPr>
              <a:t>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900000" y="2073240"/>
            <a:ext cx="556416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90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京中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善口技者。会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宾客大宴，于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厅事之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东北角，施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八尺屏障，口技人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坐屏障中，一桌、一椅、一扇、一抚尺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而已。众宾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团坐。少顷，但闻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屏障中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抚尺一下，满坐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寂然，无敢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哗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遥闻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深巷中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犬吠，便有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妇人惊觉欠伸，其夫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呓语。既而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儿醒，大啼。夫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亦醒。妇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抚儿乳，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含乳啼，妇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拍而呜之。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一大儿醒，絮絮不止。当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是时，妇手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拍儿声，口中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呜声，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含乳啼声，大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初醒声，夫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叱大儿声，一时齐发，众妙毕备。满坐宾客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无不伸颈，侧目，微笑，默叹，以为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妙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7200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未几，夫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齁声起，妇拍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亦渐拍渐止。微闻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有鼠作作索索，盆器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倾侧，妇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梦中咳嗽。宾客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意少舒，稍稍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正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忽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一人大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火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夫起大呼，妇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亦起大呼。两儿齐哭。俄而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百千人大呼，百千儿哭，百千犬吠。中间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力拉崩倒之声，火爆声，呼呼风声，百千齐作；又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百千求救声，曳屋许许声，抢夺声，泼水声。凡所应有，无所不有。虽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人有百手，手有百指，不能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指其一端；人有百口，口有百舌，不能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名其一处也。于是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宾客无不变色离席，奋袖出臂，两股战战，几欲先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忽然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抚尺一下，群响毕绝。撤屏视之，一人、一桌、一椅、一扇、一抚尺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而已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t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任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12:08:16Z</dcterms:created>
  <dc:creator/>
  <dc:description/>
  <cp:keywords>幻灯片之家 http:/www.eeppt.com</cp:keywords>
  <dc:language>en-US</dc:language>
  <cp:lastModifiedBy/>
  <dcterms:modified xsi:type="dcterms:W3CDTF">2015-07-20T07:27:25Z</dcterms:modified>
  <cp:revision>7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