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3A2-760A-4A02-AB86-72441801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172-49B0-4B95-AA2A-703DAF59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704-ACFA-4FD9-87C5-CFEE45E2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AF6-7A6C-4230-AD60-520D1B62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A9B-F038-493E-9546-7242178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912-D7CE-4128-B8BF-0B06118E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5C6-E273-497A-AFF6-D75D4396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AC6-4C1B-4843-ADE8-67E808CF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7DB-2BD9-41FC-A6BC-D66C9ED1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89C-9637-4117-90CB-C6221E9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77F-396E-4F41-826C-FA3A978D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B43-0582-4A77-A0FD-A7BB729C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B5AB-44F3-4B5D-AA9A-33A9AD92234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263,2,&#24187;&#28783;&#29255; 2" TargetMode="External"/><Relationship Id="rId4" Type="http://schemas.openxmlformats.org/officeDocument/2006/relationships/hyperlink" Target="258,3,&#24187;&#28783;&#29255; 3" TargetMode="External"/><Relationship Id="rId5" Type="http://schemas.openxmlformats.org/officeDocument/2006/relationships/hyperlink" Target="260,7,&#24187;&#28783;&#29255; 7" TargetMode="External"/><Relationship Id="rId6" Type="http://schemas.openxmlformats.org/officeDocument/2006/relationships/hyperlink" Target="257,8,&#24187;&#28783;&#29255; 8" TargetMode="External"/><Relationship Id="rId7" Type="http://schemas.openxmlformats.org/officeDocument/2006/relationships/hyperlink" Target="257,8,&#24187;&#28783;&#29255; 8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hyperlink" Target="257,-1,FIRST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8,&#24187;&#28783;&#29255; 8" TargetMode="External"/><Relationship Id="rId3" Type="http://schemas.openxmlformats.org/officeDocument/2006/relationships/hyperlink" Target="261,1,&#24187;&#28783;&#29255; 1" TargetMode="External"/><Relationship Id="rId4" Type="http://schemas.openxmlformats.org/officeDocument/2006/relationships/hyperlink" Target="267,9,&#24187;&#28783;&#29255; 9" TargetMode="External"/><Relationship Id="rId5" Type="http://schemas.openxmlformats.org/officeDocument/2006/relationships/hyperlink" Target="269,10,&#24187;&#28783;&#29255; 10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262,5,&#24187;&#28783;&#29255; 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261,1,&#24187;&#28783;&#29255; 1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415580_4870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79280" y="98100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跨越海峡的生命桥幻灯片在线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8820000" y="4726080"/>
            <a:ext cx="144720" cy="28728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词语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8820000" y="5302080"/>
            <a:ext cx="144720" cy="28764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希望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8820000" y="5877000"/>
            <a:ext cx="144720" cy="21600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版图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8820000" y="6308640"/>
            <a:ext cx="144720" cy="36036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暂停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8172360" y="6381720"/>
            <a:ext cx="144720" cy="28728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努力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381720"/>
            <a:ext cx="50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8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540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小钱是幸运的，几经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辗转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，终于在台湾找到了这样的人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154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95280" y="76500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然而，要找到适合移植的骨髓，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谈何容易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如果没有亲缘关系，大约在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十万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人里才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有可能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找到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一个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有适合骨髓的人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8244000" y="6308640"/>
            <a:ext cx="576000" cy="21600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2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7524720" y="6308640"/>
            <a:ext cx="503280" cy="21600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1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个刚满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8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岁的年轻人，患了严重的白血病，生命就像即将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凋零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含苞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花朵，唯有骨髓移植才能使这朵生命之花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绽放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8459640" y="6165720"/>
            <a:ext cx="433440" cy="43200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8028000" y="6237360"/>
            <a:ext cx="216000" cy="360360"/>
          </a:xfrm>
          <a:prstGeom prst="flowChartExtra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360" y="981000"/>
            <a:ext cx="82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袭击        空旷  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身躯  同胞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11280" y="105264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凋零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052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含苞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67280" y="1052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绽放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7813800" y="6192720"/>
            <a:ext cx="503280" cy="692280"/>
          </a:xfrm>
          <a:custGeom>
            <a:avLst/>
            <a:gdLst>
              <a:gd name="textAreaLeft" fmla="*/ 207360 w 503280"/>
              <a:gd name="textAreaRight" fmla="*/ 295920 w 503280"/>
              <a:gd name="textAreaTop" fmla="*/ 285120 h 692280"/>
              <a:gd name="textAreaBottom" fmla="*/ 40716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暂停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AutoShape 7">
            <a:hlinkClick r:id="" action="ppaction://hlinkshowjump?jump=firstslide"/>
          </p:cNvPr>
          <p:cNvSpPr/>
          <p:nvPr/>
        </p:nvSpPr>
        <p:spPr>
          <a:xfrm>
            <a:off x="5940360" y="6237360"/>
            <a:ext cx="503280" cy="620640"/>
          </a:xfrm>
          <a:custGeom>
            <a:avLst/>
            <a:gdLst>
              <a:gd name="textAreaLeft" fmla="*/ 207360 w 503280"/>
              <a:gd name="textAreaRight" fmla="*/ 295920 w 503280"/>
              <a:gd name="textAreaTop" fmla="*/ 255960 h 620640"/>
              <a:gd name="textAreaBottom" fmla="*/ 364680 h 62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6" y="8906"/>
                </a:lnTo>
                <a:lnTo>
                  <a:pt x="10800" y="0"/>
                </a:lnTo>
                <a:lnTo>
                  <a:pt x="12694" y="8906"/>
                </a:lnTo>
                <a:lnTo>
                  <a:pt x="21600" y="10800"/>
                </a:lnTo>
                <a:lnTo>
                  <a:pt x="12694" y="12694"/>
                </a:lnTo>
                <a:lnTo>
                  <a:pt x="10800" y="21600"/>
                </a:lnTo>
                <a:lnTo>
                  <a:pt x="8906" y="12694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课题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7164360" y="6237360"/>
            <a:ext cx="504720" cy="620640"/>
          </a:xfrm>
          <a:custGeom>
            <a:avLst/>
            <a:gdLst>
              <a:gd name="textAreaLeft" fmla="*/ 208080 w 504720"/>
              <a:gd name="textAreaRight" fmla="*/ 296640 w 504720"/>
              <a:gd name="textAreaTop" fmla="*/ 255600 h 620640"/>
              <a:gd name="textAreaBottom" fmla="*/ 365040 h 62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辗转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84360" y="429264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暂停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348000" y="2637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辗转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6588000" y="6237360"/>
            <a:ext cx="432000" cy="620640"/>
          </a:xfrm>
          <a:custGeom>
            <a:avLst/>
            <a:gdLst>
              <a:gd name="textAreaLeft" fmla="*/ 177840 w 432000"/>
              <a:gd name="textAreaRight" fmla="*/ 254160 w 432000"/>
              <a:gd name="textAreaTop" fmla="*/ 255600 h 620640"/>
              <a:gd name="textAreaBottom" fmla="*/ 365040 h 62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绽放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24000" y="1557360"/>
            <a:ext cx="83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但是，他知道，在海峡的另一边有一位青年正满怀着        ，      着他的骨髓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556000" y="335916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希望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859280" y="3357720"/>
            <a:ext cx="18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期待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8675640" y="6381720"/>
            <a:ext cx="289080" cy="287280"/>
          </a:xfrm>
          <a:prstGeom prst="pi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病床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7" name="Picture 3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无间道.mp3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027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68360" y="69228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小钱静静地躺在病床上。灿烂的阳光没有使他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苍白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脸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起来。这个刚满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岁的年轻人，患了严重的白血病，生命就像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即将凋零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含苞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花朵，唯有骨髓移植才能使这朵生命之花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绽放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7956720" y="6237360"/>
            <a:ext cx="574560" cy="28728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课题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465300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台湾青年心里想着，自己的骨髓会让小钱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＿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＿＿＿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4360" y="112536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博士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花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台北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台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抵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香港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立即飞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上海    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机降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上海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博士直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杭州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博士乘坐的救护车开进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杭州      的医院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84360" y="4365720"/>
            <a:ext cx="684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0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骨骼移植手术开始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天凌晨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0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手术顺利完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8604360" y="6165720"/>
            <a:ext cx="215640" cy="358920"/>
          </a:xfrm>
          <a:prstGeom prst="flowChartExtra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55640" y="404640"/>
            <a:ext cx="72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也许，小钱和这位台湾青年永远不会见面，这并不重要，因为两岸同胞的心是连在一起的。那血脉亲情，如同生命的火种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必将一代一代传下去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8" name="Mountain.wma" descr=""/>
          <p:cNvPicPr/>
          <p:nvPr/>
        </p:nvPicPr>
        <p:blipFill>
          <a:blip r:embed="rId3"/>
          <a:stretch/>
        </p:blipFill>
        <p:spPr>
          <a:xfrm>
            <a:off x="8244000" y="618156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6.0)">
                                      <p:cBhvr>
                                        <p:cTn id="65" dur="209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106200" y="907920"/>
            <a:ext cx="903780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经过一次又一次的努力，利用大地震动暂停的间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(jiàn)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隔，台湾青年的骨髓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(suǐ)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，终于从身躯里涓涓流出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8567640" y="6308640"/>
            <a:ext cx="576360" cy="54936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8101080" y="6381720"/>
            <a:ext cx="216000" cy="476280"/>
          </a:xfrm>
          <a:prstGeom prst="flowChartExtra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D82-397A-4802-B772-B9B00F2A69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5:15:40Z</dcterms:created>
  <dc:creator/>
  <dc:description/>
  <cp:keywords>幻灯片之家 http:/www.eeppt.com</cp:keywords>
  <dc:language>en-US</dc:language>
  <cp:lastModifiedBy/>
  <dcterms:modified xsi:type="dcterms:W3CDTF">2015-07-20T04:04:36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