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C6D-B63E-44BB-ACFD-D3ACA1DF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2FA-BB2E-45FE-A9D6-AAE6FB72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A83-C416-4B7E-AF53-BB6D1B00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A60-6244-4E4B-9AC9-78B335D5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A9B-7F5A-416D-9D2F-8B90A90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2AC-CA1A-4F4B-934C-72D46BB0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74D-8066-4E6B-A703-D234C898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10D-0604-4FFB-AB2E-4A35F65E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614-9195-48A0-B3A8-0F443449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B63-DC38-437A-9805-AB09AC64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1A1-88BB-412C-AC6B-9B5FA63C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9AA-D81A-4D25-BE4D-816D3349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AFEB-902C-4EBE-BCE6-04D0EDB6B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6840" y="-98280"/>
            <a:ext cx="9277200" cy="69372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1692360" y="4187880"/>
            <a:ext cx="7488000" cy="788760"/>
          </a:xfrm>
          <a:prstGeom prst="rect">
            <a:avLst/>
          </a:prstGeom>
          <a:gradFill rotWithShape="0">
            <a:gsLst>
              <a:gs pos="0">
                <a:srgbClr val="112b21">
                  <a:alpha val="20000"/>
                </a:srgbClr>
              </a:gs>
              <a:gs pos="100000">
                <a:srgbClr val="265f49">
                  <a:alpha val="74117"/>
                </a:srgbClr>
              </a:gs>
            </a:gsLst>
            <a:lin ang="10800000"/>
          </a:gradFill>
          <a:ln w="0">
            <a:solidFill>
              <a:srgbClr val="265f49"/>
            </a:solidFill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96840" y="4975200"/>
            <a:ext cx="9277200" cy="1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4560" y="4187880"/>
            <a:ext cx="74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3080" y="631044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18320" y="4187880"/>
            <a:ext cx="4309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蓝色动态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01520"/>
            <a:ext cx="8002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09080" cy="90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7280" y="1461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000" y="1079640"/>
            <a:ext cx="8650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2960" y="1773360"/>
            <a:ext cx="5477040" cy="718920"/>
          </a:xfrm>
          <a:prstGeom prst="rect">
            <a:avLst/>
          </a:prstGeom>
          <a:solidFill>
            <a:srgbClr val="ffffff"/>
          </a:solidFill>
          <a:ln w="31680">
            <a:solidFill>
              <a:srgbClr val="35a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2960" y="2924280"/>
            <a:ext cx="5477040" cy="720720"/>
          </a:xfrm>
          <a:prstGeom prst="rect">
            <a:avLst/>
          </a:prstGeom>
          <a:solidFill>
            <a:srgbClr val="ffffff"/>
          </a:solidFill>
          <a:ln w="31680">
            <a:solidFill>
              <a:srgbClr val="35a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2960" y="4076640"/>
            <a:ext cx="5477040" cy="720720"/>
          </a:xfrm>
          <a:prstGeom prst="rect">
            <a:avLst/>
          </a:prstGeom>
          <a:solidFill>
            <a:srgbClr val="ffffff"/>
          </a:solidFill>
          <a:ln w="31680">
            <a:solidFill>
              <a:srgbClr val="35a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2960" y="5229360"/>
            <a:ext cx="5477040" cy="720720"/>
          </a:xfrm>
          <a:prstGeom prst="rect">
            <a:avLst/>
          </a:prstGeom>
          <a:solidFill>
            <a:srgbClr val="ffffff"/>
          </a:solidFill>
          <a:ln w="31680">
            <a:solidFill>
              <a:srgbClr val="35a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954080"/>
            <a:ext cx="647640" cy="360360"/>
          </a:xfrm>
          <a:prstGeom prst="rect">
            <a:avLst/>
          </a:prstGeom>
          <a:solidFill>
            <a:srgbClr val="92c0de">
              <a:alpha val="60000"/>
            </a:srgbClr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954080"/>
            <a:ext cx="64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8960" y="195408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3080" y="1954080"/>
            <a:ext cx="4390920" cy="360360"/>
          </a:xfrm>
          <a:prstGeom prst="rect">
            <a:avLst/>
          </a:prstGeom>
          <a:solidFill>
            <a:srgbClr val="ffffff"/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080" y="1893960"/>
            <a:ext cx="43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3080" y="3105000"/>
            <a:ext cx="4392360" cy="358920"/>
          </a:xfrm>
          <a:prstGeom prst="rect">
            <a:avLst/>
          </a:prstGeom>
          <a:solidFill>
            <a:srgbClr val="ffffff"/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06600" y="4276800"/>
            <a:ext cx="4392720" cy="358560"/>
          </a:xfrm>
          <a:prstGeom prst="rect">
            <a:avLst/>
          </a:prstGeom>
          <a:solidFill>
            <a:srgbClr val="ffffff"/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06600" y="5416560"/>
            <a:ext cx="4392720" cy="360360"/>
          </a:xfrm>
          <a:prstGeom prst="rect">
            <a:avLst/>
          </a:prstGeom>
          <a:solidFill>
            <a:srgbClr val="ffffff"/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8960" y="3105000"/>
            <a:ext cx="647640" cy="360360"/>
          </a:xfrm>
          <a:prstGeom prst="rect">
            <a:avLst/>
          </a:prstGeom>
          <a:solidFill>
            <a:srgbClr val="92c0de">
              <a:alpha val="60000"/>
            </a:srgbClr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8960" y="4257720"/>
            <a:ext cx="647640" cy="358560"/>
          </a:xfrm>
          <a:prstGeom prst="rect">
            <a:avLst/>
          </a:prstGeom>
          <a:solidFill>
            <a:srgbClr val="92c0de">
              <a:alpha val="60000"/>
            </a:srgbClr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8960" y="5408640"/>
            <a:ext cx="647640" cy="360360"/>
          </a:xfrm>
          <a:prstGeom prst="rect">
            <a:avLst/>
          </a:prstGeom>
          <a:solidFill>
            <a:srgbClr val="92c0de">
              <a:alpha val="60000"/>
            </a:srgbClr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31212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8960" y="42768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8960" y="5416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3080" y="3060720"/>
            <a:ext cx="45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二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3080" y="421632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3080" y="53560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四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C8A-5984-4038-AA32-651788A739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" y="-15840"/>
            <a:ext cx="9107640" cy="690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1846440"/>
            <a:ext cx="8229600" cy="46861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solidFill>
              <a:srgbClr val="265f4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68440"/>
            <a:ext cx="8229600" cy="84924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solidFill>
              <a:srgbClr val="265f4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880" y="64440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8600" y="1876320"/>
            <a:ext cx="81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1372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08000" y="4221000"/>
            <a:ext cx="7201080" cy="14176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solidFill>
              <a:srgbClr val="c0c0c0"/>
            </a:solidFill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221000"/>
            <a:ext cx="9109080" cy="1800"/>
          </a:xfrm>
          <a:prstGeom prst="line">
            <a:avLst/>
          </a:prstGeom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4222800"/>
            <a:ext cx="65692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感谢你的关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4:55:28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5:4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ec02000000000001024140</vt:lpwstr>
  </property>
</Properties>
</file>