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9D3-5A5D-44BF-B599-64F3863C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854-BC9E-4EB6-A05C-37BECAC1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469-616D-4755-A7A3-EF676C5F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EE0-0542-4933-866C-3412AAB5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604-6978-4BCA-8A9F-C411359E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7C1-E0E9-499F-943C-41F22E92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F34-E82D-4C57-B921-D7F3FDE8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636-D15F-42EE-A1C4-2034E729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62F-E243-4080-B76A-91CAC23D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026-03B8-4BA7-8B9C-62EA91B9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81D-89D4-44DB-AFF9-92DE4B83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98D-9E2F-4197-88C4-9D00958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D81F-4D9D-434B-9BA5-88277A0F721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9FBC-84EF-47AA-8FFE-EDE6CFF9928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41400" y="2212560"/>
            <a:ext cx="2331720" cy="2310120"/>
            <a:chOff x="-41400" y="2212560"/>
            <a:chExt cx="2331720" cy="2310120"/>
          </a:xfrm>
        </p:grpSpPr>
        <p:grpSp>
          <p:nvGrpSpPr>
            <p:cNvPr id="43" name="Group 4"/>
            <p:cNvGrpSpPr/>
            <p:nvPr/>
          </p:nvGrpSpPr>
          <p:grpSpPr>
            <a:xfrm>
              <a:off x="-41400" y="2212560"/>
              <a:ext cx="2331720" cy="2310120"/>
              <a:chOff x="-41400" y="2212560"/>
              <a:chExt cx="2331720" cy="2310120"/>
            </a:xfrm>
          </p:grpSpPr>
          <p:grpSp>
            <p:nvGrpSpPr>
              <p:cNvPr id="44" name="Group 5"/>
              <p:cNvGrpSpPr/>
              <p:nvPr/>
            </p:nvGrpSpPr>
            <p:grpSpPr>
              <a:xfrm>
                <a:off x="-41400" y="2212560"/>
                <a:ext cx="2331720" cy="2310120"/>
                <a:chOff x="-41400" y="2212560"/>
                <a:chExt cx="2331720" cy="2310120"/>
              </a:xfrm>
            </p:grpSpPr>
            <p:grpSp>
              <p:nvGrpSpPr>
                <p:cNvPr id="45" name="Group 6"/>
                <p:cNvGrpSpPr/>
                <p:nvPr/>
              </p:nvGrpSpPr>
              <p:grpSpPr>
                <a:xfrm>
                  <a:off x="-41400" y="2212560"/>
                  <a:ext cx="2331720" cy="2310120"/>
                  <a:chOff x="-41400" y="2212560"/>
                  <a:chExt cx="2331720" cy="2310120"/>
                </a:xfrm>
              </p:grpSpPr>
              <p:grpSp>
                <p:nvGrpSpPr>
                  <p:cNvPr id="46" name="Group 7"/>
                  <p:cNvGrpSpPr/>
                  <p:nvPr/>
                </p:nvGrpSpPr>
                <p:grpSpPr>
                  <a:xfrm>
                    <a:off x="-41400" y="2212560"/>
                    <a:ext cx="2331720" cy="2310120"/>
                    <a:chOff x="-41400" y="2212560"/>
                    <a:chExt cx="2331720" cy="2310120"/>
                  </a:xfrm>
                </p:grpSpPr>
                <p:grpSp>
                  <p:nvGrpSpPr>
                    <p:cNvPr id="47" name="Group 8"/>
                    <p:cNvGrpSpPr/>
                    <p:nvPr/>
                  </p:nvGrpSpPr>
                  <p:grpSpPr>
                    <a:xfrm>
                      <a:off x="-41400" y="2212560"/>
                      <a:ext cx="2331720" cy="2310120"/>
                      <a:chOff x="-41400" y="2212560"/>
                      <a:chExt cx="2331720" cy="2310120"/>
                    </a:xfrm>
                  </p:grpSpPr>
                  <p:sp>
                    <p:nvSpPr>
                      <p:cNvPr id="48" name="直接连接符 21"/>
                      <p:cNvSpPr/>
                      <p:nvPr/>
                    </p:nvSpPr>
                    <p:spPr>
                      <a:xfrm flipV="1">
                        <a:off x="446400" y="369576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9" name="Group 10"/>
                      <p:cNvGrpSpPr/>
                      <p:nvPr/>
                    </p:nvGrpSpPr>
                    <p:grpSpPr>
                      <a:xfrm>
                        <a:off x="-41400" y="2212560"/>
                        <a:ext cx="2331720" cy="2310120"/>
                        <a:chOff x="-41400" y="2212560"/>
                        <a:chExt cx="2331720" cy="2310120"/>
                      </a:xfrm>
                    </p:grpSpPr>
                    <p:grpSp>
                      <p:nvGrpSpPr>
                        <p:cNvPr id="50" name="Group 11"/>
                        <p:cNvGrpSpPr/>
                        <p:nvPr/>
                      </p:nvGrpSpPr>
                      <p:grpSpPr>
                        <a:xfrm>
                          <a:off x="-41400" y="2212560"/>
                          <a:ext cx="2331720" cy="2310120"/>
                          <a:chOff x="-41400" y="2212560"/>
                          <a:chExt cx="2331720" cy="2310120"/>
                        </a:xfrm>
                      </p:grpSpPr>
                      <p:grpSp>
                        <p:nvGrpSpPr>
                          <p:cNvPr id="51" name="Group 12"/>
                          <p:cNvGrpSpPr/>
                          <p:nvPr/>
                        </p:nvGrpSpPr>
                        <p:grpSpPr>
                          <a:xfrm>
                            <a:off x="-41400" y="2212560"/>
                            <a:ext cx="2331720" cy="2310120"/>
                            <a:chOff x="-41400" y="2212560"/>
                            <a:chExt cx="2331720" cy="2310120"/>
                          </a:xfrm>
                        </p:grpSpPr>
                        <p:sp>
                          <p:nvSpPr>
                            <p:cNvPr id="52" name="椭圆 34"/>
                            <p:cNvSpPr/>
                            <p:nvPr/>
                          </p:nvSpPr>
                          <p:spPr>
                            <a:xfrm rot="18013200">
                              <a:off x="290160" y="2504160"/>
                              <a:ext cx="1667880" cy="172692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" name="椭圆 35"/>
                            <p:cNvSpPr/>
                            <p:nvPr/>
                          </p:nvSpPr>
                          <p:spPr>
                            <a:xfrm rot="18013200">
                              <a:off x="345600" y="2561400"/>
                              <a:ext cx="1557000" cy="16120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76923c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" name="直接连接符 30"/>
                          <p:cNvSpPr/>
                          <p:nvPr/>
                        </p:nvSpPr>
                        <p:spPr>
                          <a:xfrm>
                            <a:off x="427680" y="2962080"/>
                            <a:ext cx="99360" cy="579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160" bIns="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直接连接符 31"/>
                          <p:cNvSpPr/>
                          <p:nvPr/>
                        </p:nvSpPr>
                        <p:spPr>
                          <a:xfrm>
                            <a:off x="1721520" y="3715560"/>
                            <a:ext cx="99360" cy="579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160" bIns="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直接连接符 32"/>
                          <p:cNvSpPr/>
                          <p:nvPr/>
                        </p:nvSpPr>
                        <p:spPr>
                          <a:xfrm flipV="1">
                            <a:off x="732600" y="394452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直接连接符 33"/>
                          <p:cNvSpPr/>
                          <p:nvPr/>
                        </p:nvSpPr>
                        <p:spPr>
                          <a:xfrm flipV="1">
                            <a:off x="1460160" y="269532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8" name="直接连接符 25"/>
                        <p:cNvSpPr/>
                        <p:nvPr/>
                      </p:nvSpPr>
                      <p:spPr>
                        <a:xfrm flipH="1" flipV="1">
                          <a:off x="1460160" y="3963240"/>
                          <a:ext cx="56160" cy="100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" name="直接连接符 26"/>
                        <p:cNvSpPr/>
                        <p:nvPr/>
                      </p:nvSpPr>
                      <p:spPr>
                        <a:xfrm flipH="1" flipV="1">
                          <a:off x="724680" y="2659320"/>
                          <a:ext cx="56520" cy="100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" name="直接连接符 27"/>
                        <p:cNvSpPr/>
                        <p:nvPr/>
                      </p:nvSpPr>
                      <p:spPr>
                        <a:xfrm flipH="1">
                          <a:off x="370080" y="3383640"/>
                          <a:ext cx="12456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" name="直接连接符 28"/>
                        <p:cNvSpPr/>
                        <p:nvPr/>
                      </p:nvSpPr>
                      <p:spPr>
                        <a:xfrm flipH="1">
                          <a:off x="1774800" y="3384720"/>
                          <a:ext cx="12492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2" name="直接连接符 23"/>
                      <p:cNvSpPr/>
                      <p:nvPr/>
                    </p:nvSpPr>
                    <p:spPr>
                      <a:xfrm flipV="1">
                        <a:off x="1705680" y="298548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3" name="直接连接符 19"/>
                    <p:cNvSpPr/>
                    <p:nvPr/>
                  </p:nvSpPr>
                  <p:spPr>
                    <a:xfrm>
                      <a:off x="1124280" y="2561760"/>
                      <a:ext cx="0" cy="11484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直接连接符 20"/>
                    <p:cNvSpPr/>
                    <p:nvPr/>
                  </p:nvSpPr>
                  <p:spPr>
                    <a:xfrm>
                      <a:off x="1124280" y="4059000"/>
                      <a:ext cx="0" cy="11484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" name="Group 26"/>
                  <p:cNvGrpSpPr/>
                  <p:nvPr/>
                </p:nvGrpSpPr>
                <p:grpSpPr>
                  <a:xfrm>
                    <a:off x="843840" y="3077280"/>
                    <a:ext cx="719640" cy="354600"/>
                    <a:chOff x="843840" y="3077280"/>
                    <a:chExt cx="719640" cy="354600"/>
                  </a:xfrm>
                </p:grpSpPr>
                <p:sp>
                  <p:nvSpPr>
                    <p:cNvPr id="66" name="直接连接符 16"/>
                    <p:cNvSpPr/>
                    <p:nvPr/>
                  </p:nvSpPr>
                  <p:spPr>
                    <a:xfrm>
                      <a:off x="843840" y="3151800"/>
                      <a:ext cx="336240" cy="273600"/>
                    </a:xfrm>
                    <a:prstGeom prst="line">
                      <a:avLst/>
                    </a:prstGeom>
                    <a:ln w="5724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直接连接符 17"/>
                    <p:cNvSpPr/>
                    <p:nvPr/>
                  </p:nvSpPr>
                  <p:spPr>
                    <a:xfrm flipH="1">
                      <a:off x="1068480" y="3077280"/>
                      <a:ext cx="495000" cy="354600"/>
                    </a:xfrm>
                    <a:prstGeom prst="line">
                      <a:avLst/>
                    </a:prstGeom>
                    <a:ln w="5724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8" name="椭圆 13"/>
                <p:cNvSpPr/>
                <p:nvPr/>
              </p:nvSpPr>
              <p:spPr>
                <a:xfrm>
                  <a:off x="123840" y="2332080"/>
                  <a:ext cx="2016000" cy="208764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TextBox 11"/>
              <p:cNvSpPr/>
              <p:nvPr/>
            </p:nvSpPr>
            <p:spPr>
              <a:xfrm>
                <a:off x="654120" y="3450600"/>
                <a:ext cx="90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Spr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32"/>
          <p:cNvGrpSpPr/>
          <p:nvPr/>
        </p:nvGrpSpPr>
        <p:grpSpPr>
          <a:xfrm>
            <a:off x="2286360" y="2731680"/>
            <a:ext cx="2314440" cy="2300400"/>
            <a:chOff x="2286360" y="2731680"/>
            <a:chExt cx="2314440" cy="2300400"/>
          </a:xfrm>
        </p:grpSpPr>
        <p:grpSp>
          <p:nvGrpSpPr>
            <p:cNvPr id="71" name="Group 33"/>
            <p:cNvGrpSpPr/>
            <p:nvPr/>
          </p:nvGrpSpPr>
          <p:grpSpPr>
            <a:xfrm>
              <a:off x="2286360" y="2731680"/>
              <a:ext cx="2314440" cy="2300400"/>
              <a:chOff x="2286360" y="2731680"/>
              <a:chExt cx="2314440" cy="2300400"/>
            </a:xfrm>
          </p:grpSpPr>
          <p:grpSp>
            <p:nvGrpSpPr>
              <p:cNvPr id="72" name="Group 34"/>
              <p:cNvGrpSpPr/>
              <p:nvPr/>
            </p:nvGrpSpPr>
            <p:grpSpPr>
              <a:xfrm>
                <a:off x="2286360" y="2731680"/>
                <a:ext cx="2314440" cy="2300400"/>
                <a:chOff x="2286360" y="2731680"/>
                <a:chExt cx="2314440" cy="2300400"/>
              </a:xfrm>
            </p:grpSpPr>
            <p:grpSp>
              <p:nvGrpSpPr>
                <p:cNvPr id="73" name="Group 35"/>
                <p:cNvGrpSpPr/>
                <p:nvPr/>
              </p:nvGrpSpPr>
              <p:grpSpPr>
                <a:xfrm>
                  <a:off x="2286360" y="2731680"/>
                  <a:ext cx="2314440" cy="2300400"/>
                  <a:chOff x="2286360" y="2731680"/>
                  <a:chExt cx="2314440" cy="2300400"/>
                </a:xfrm>
              </p:grpSpPr>
              <p:grpSp>
                <p:nvGrpSpPr>
                  <p:cNvPr id="74" name="Group 36"/>
                  <p:cNvGrpSpPr/>
                  <p:nvPr/>
                </p:nvGrpSpPr>
                <p:grpSpPr>
                  <a:xfrm>
                    <a:off x="2286360" y="2731680"/>
                    <a:ext cx="2314440" cy="2300400"/>
                    <a:chOff x="2286360" y="2731680"/>
                    <a:chExt cx="2314440" cy="2300400"/>
                  </a:xfrm>
                </p:grpSpPr>
                <p:grpSp>
                  <p:nvGrpSpPr>
                    <p:cNvPr id="75" name="Group 37"/>
                    <p:cNvGrpSpPr/>
                    <p:nvPr/>
                  </p:nvGrpSpPr>
                  <p:grpSpPr>
                    <a:xfrm>
                      <a:off x="2286360" y="2731680"/>
                      <a:ext cx="2314440" cy="2300400"/>
                      <a:chOff x="2286360" y="2731680"/>
                      <a:chExt cx="2314440" cy="2300400"/>
                    </a:xfrm>
                  </p:grpSpPr>
                  <p:sp>
                    <p:nvSpPr>
                      <p:cNvPr id="76" name="直接连接符 50"/>
                      <p:cNvSpPr/>
                      <p:nvPr/>
                    </p:nvSpPr>
                    <p:spPr>
                      <a:xfrm flipV="1">
                        <a:off x="2765880" y="420984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7" name="Group 39"/>
                      <p:cNvGrpSpPr/>
                      <p:nvPr/>
                    </p:nvGrpSpPr>
                    <p:grpSpPr>
                      <a:xfrm>
                        <a:off x="2286360" y="2731680"/>
                        <a:ext cx="2314440" cy="2300400"/>
                        <a:chOff x="2286360" y="2731680"/>
                        <a:chExt cx="2314440" cy="2300400"/>
                      </a:xfrm>
                    </p:grpSpPr>
                    <p:grpSp>
                      <p:nvGrpSpPr>
                        <p:cNvPr id="78" name="Group 40"/>
                        <p:cNvGrpSpPr/>
                        <p:nvPr/>
                      </p:nvGrpSpPr>
                      <p:grpSpPr>
                        <a:xfrm>
                          <a:off x="2286360" y="2731680"/>
                          <a:ext cx="2314440" cy="2300400"/>
                          <a:chOff x="2286360" y="2731680"/>
                          <a:chExt cx="2314440" cy="2300400"/>
                        </a:xfrm>
                      </p:grpSpPr>
                      <p:grpSp>
                        <p:nvGrpSpPr>
                          <p:cNvPr id="79" name="Group 41"/>
                          <p:cNvGrpSpPr/>
                          <p:nvPr/>
                        </p:nvGrpSpPr>
                        <p:grpSpPr>
                          <a:xfrm>
                            <a:off x="2286360" y="2731680"/>
                            <a:ext cx="2314440" cy="2300400"/>
                            <a:chOff x="2286360" y="2731680"/>
                            <a:chExt cx="2314440" cy="2300400"/>
                          </a:xfrm>
                        </p:grpSpPr>
                        <p:sp>
                          <p:nvSpPr>
                            <p:cNvPr id="80" name="椭圆 3"/>
                            <p:cNvSpPr/>
                            <p:nvPr/>
                          </p:nvSpPr>
                          <p:spPr>
                            <a:xfrm rot="18013200">
                              <a:off x="2609640" y="3027960"/>
                              <a:ext cx="1667880" cy="170712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1" name="椭圆 4"/>
                            <p:cNvSpPr/>
                            <p:nvPr/>
                          </p:nvSpPr>
                          <p:spPr>
                            <a:xfrm rot="18013200">
                              <a:off x="2665080" y="3084840"/>
                              <a:ext cx="1557000" cy="1593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76923c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2" name="直接连接符 59"/>
                          <p:cNvSpPr/>
                          <p:nvPr/>
                        </p:nvSpPr>
                        <p:spPr>
                          <a:xfrm>
                            <a:off x="2755080" y="3480840"/>
                            <a:ext cx="98280" cy="572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" name="直接连接符 60"/>
                          <p:cNvSpPr/>
                          <p:nvPr/>
                        </p:nvSpPr>
                        <p:spPr>
                          <a:xfrm>
                            <a:off x="4033800" y="4225680"/>
                            <a:ext cx="98280" cy="572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" name="直接连接符 14"/>
                          <p:cNvSpPr/>
                          <p:nvPr/>
                        </p:nvSpPr>
                        <p:spPr>
                          <a:xfrm flipV="1">
                            <a:off x="3052080" y="445860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" name="直接连接符 16"/>
                          <p:cNvSpPr/>
                          <p:nvPr/>
                        </p:nvSpPr>
                        <p:spPr>
                          <a:xfrm flipV="1">
                            <a:off x="3779640" y="320940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6" name="直接连接符 54"/>
                        <p:cNvSpPr/>
                        <p:nvPr/>
                      </p:nvSpPr>
                      <p:spPr>
                        <a:xfrm flipH="1" flipV="1">
                          <a:off x="3775680" y="4470840"/>
                          <a:ext cx="56160" cy="99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直接连接符 55"/>
                        <p:cNvSpPr/>
                        <p:nvPr/>
                      </p:nvSpPr>
                      <p:spPr>
                        <a:xfrm flipH="1" flipV="1">
                          <a:off x="3048840" y="3181320"/>
                          <a:ext cx="55800" cy="99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直接连接符 56"/>
                        <p:cNvSpPr/>
                        <p:nvPr/>
                      </p:nvSpPr>
                      <p:spPr>
                        <a:xfrm flipH="1">
                          <a:off x="2691360" y="3900960"/>
                          <a:ext cx="12456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直接连接符 57"/>
                        <p:cNvSpPr/>
                        <p:nvPr/>
                      </p:nvSpPr>
                      <p:spPr>
                        <a:xfrm flipH="1">
                          <a:off x="4092480" y="3895200"/>
                          <a:ext cx="12456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0" name="直接连接符 52"/>
                      <p:cNvSpPr/>
                      <p:nvPr/>
                    </p:nvSpPr>
                    <p:spPr>
                      <a:xfrm flipV="1">
                        <a:off x="4025160" y="349956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1" name="直接连接符 48"/>
                    <p:cNvSpPr/>
                    <p:nvPr/>
                  </p:nvSpPr>
                  <p:spPr>
                    <a:xfrm>
                      <a:off x="3443760" y="3084840"/>
                      <a:ext cx="0" cy="11376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直接连接符 49"/>
                    <p:cNvSpPr/>
                    <p:nvPr/>
                  </p:nvSpPr>
                  <p:spPr>
                    <a:xfrm>
                      <a:off x="3443760" y="4564800"/>
                      <a:ext cx="0" cy="11376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" name="Group 55"/>
                  <p:cNvGrpSpPr/>
                  <p:nvPr/>
                </p:nvGrpSpPr>
                <p:grpSpPr>
                  <a:xfrm>
                    <a:off x="3163320" y="3594600"/>
                    <a:ext cx="719640" cy="350640"/>
                    <a:chOff x="3163320" y="3594600"/>
                    <a:chExt cx="719640" cy="350640"/>
                  </a:xfrm>
                </p:grpSpPr>
                <p:sp>
                  <p:nvSpPr>
                    <p:cNvPr id="94" name="直接连接符 45"/>
                    <p:cNvSpPr/>
                    <p:nvPr/>
                  </p:nvSpPr>
                  <p:spPr>
                    <a:xfrm>
                      <a:off x="3163320" y="3668040"/>
                      <a:ext cx="336240" cy="270360"/>
                    </a:xfrm>
                    <a:prstGeom prst="line">
                      <a:avLst/>
                    </a:prstGeom>
                    <a:ln w="5724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直接连接符 46"/>
                    <p:cNvSpPr/>
                    <p:nvPr/>
                  </p:nvSpPr>
                  <p:spPr>
                    <a:xfrm flipH="1">
                      <a:off x="3387960" y="3594600"/>
                      <a:ext cx="495000" cy="350640"/>
                    </a:xfrm>
                    <a:prstGeom prst="line">
                      <a:avLst/>
                    </a:prstGeom>
                    <a:ln w="5724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6" name="椭圆 42"/>
                <p:cNvSpPr/>
                <p:nvPr/>
              </p:nvSpPr>
              <p:spPr>
                <a:xfrm>
                  <a:off x="2443320" y="2857680"/>
                  <a:ext cx="2016000" cy="206352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TextBox 40"/>
              <p:cNvSpPr/>
              <p:nvPr/>
            </p:nvSpPr>
            <p:spPr>
              <a:xfrm>
                <a:off x="2879640" y="396324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Sum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61"/>
          <p:cNvGrpSpPr/>
          <p:nvPr/>
        </p:nvGrpSpPr>
        <p:grpSpPr>
          <a:xfrm>
            <a:off x="4490640" y="2159280"/>
            <a:ext cx="2376360" cy="2336400"/>
            <a:chOff x="4490640" y="2159280"/>
            <a:chExt cx="2376360" cy="2336400"/>
          </a:xfrm>
        </p:grpSpPr>
        <p:grpSp>
          <p:nvGrpSpPr>
            <p:cNvPr id="99" name="Group 62"/>
            <p:cNvGrpSpPr/>
            <p:nvPr/>
          </p:nvGrpSpPr>
          <p:grpSpPr>
            <a:xfrm>
              <a:off x="4490640" y="2159280"/>
              <a:ext cx="2376360" cy="2336400"/>
              <a:chOff x="4490640" y="2159280"/>
              <a:chExt cx="2376360" cy="2336400"/>
            </a:xfrm>
          </p:grpSpPr>
          <p:grpSp>
            <p:nvGrpSpPr>
              <p:cNvPr id="100" name="Group 63"/>
              <p:cNvGrpSpPr/>
              <p:nvPr/>
            </p:nvGrpSpPr>
            <p:grpSpPr>
              <a:xfrm>
                <a:off x="4490640" y="2159280"/>
                <a:ext cx="2376360" cy="2336400"/>
                <a:chOff x="4490640" y="2159280"/>
                <a:chExt cx="2376360" cy="2336400"/>
              </a:xfrm>
            </p:grpSpPr>
            <p:grpSp>
              <p:nvGrpSpPr>
                <p:cNvPr id="101" name="Group 64"/>
                <p:cNvGrpSpPr/>
                <p:nvPr/>
              </p:nvGrpSpPr>
              <p:grpSpPr>
                <a:xfrm>
                  <a:off x="4490640" y="2159280"/>
                  <a:ext cx="2376360" cy="2336400"/>
                  <a:chOff x="4490640" y="2159280"/>
                  <a:chExt cx="2376360" cy="2336400"/>
                </a:xfrm>
              </p:grpSpPr>
              <p:grpSp>
                <p:nvGrpSpPr>
                  <p:cNvPr id="102" name="Group 65"/>
                  <p:cNvGrpSpPr/>
                  <p:nvPr/>
                </p:nvGrpSpPr>
                <p:grpSpPr>
                  <a:xfrm>
                    <a:off x="4490640" y="2159280"/>
                    <a:ext cx="2376360" cy="2336400"/>
                    <a:chOff x="4490640" y="2159280"/>
                    <a:chExt cx="2376360" cy="2336400"/>
                  </a:xfrm>
                </p:grpSpPr>
                <p:grpSp>
                  <p:nvGrpSpPr>
                    <p:cNvPr id="103" name="Group 66"/>
                    <p:cNvGrpSpPr/>
                    <p:nvPr/>
                  </p:nvGrpSpPr>
                  <p:grpSpPr>
                    <a:xfrm>
                      <a:off x="4490640" y="2159280"/>
                      <a:ext cx="2376360" cy="2336400"/>
                      <a:chOff x="4490640" y="2159280"/>
                      <a:chExt cx="2376360" cy="2336400"/>
                    </a:xfrm>
                  </p:grpSpPr>
                  <p:sp>
                    <p:nvSpPr>
                      <p:cNvPr id="104" name="直接连接符 79"/>
                      <p:cNvSpPr/>
                      <p:nvPr/>
                    </p:nvSpPr>
                    <p:spPr>
                      <a:xfrm flipV="1">
                        <a:off x="5000760" y="365544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5" name="Group 68"/>
                      <p:cNvGrpSpPr/>
                      <p:nvPr/>
                    </p:nvGrpSpPr>
                    <p:grpSpPr>
                      <a:xfrm>
                        <a:off x="4490640" y="2159280"/>
                        <a:ext cx="2376360" cy="2336400"/>
                        <a:chOff x="4490640" y="2159280"/>
                        <a:chExt cx="2376360" cy="2336400"/>
                      </a:xfrm>
                    </p:grpSpPr>
                    <p:grpSp>
                      <p:nvGrpSpPr>
                        <p:cNvPr id="106" name="Group 69"/>
                        <p:cNvGrpSpPr/>
                        <p:nvPr/>
                      </p:nvGrpSpPr>
                      <p:grpSpPr>
                        <a:xfrm>
                          <a:off x="4490640" y="2159280"/>
                          <a:ext cx="2376360" cy="2336400"/>
                          <a:chOff x="4490640" y="2159280"/>
                          <a:chExt cx="2376360" cy="2336400"/>
                        </a:xfrm>
                      </p:grpSpPr>
                      <p:grpSp>
                        <p:nvGrpSpPr>
                          <p:cNvPr id="107" name="Group 70"/>
                          <p:cNvGrpSpPr/>
                          <p:nvPr/>
                        </p:nvGrpSpPr>
                        <p:grpSpPr>
                          <a:xfrm>
                            <a:off x="4490640" y="2159280"/>
                            <a:ext cx="2376360" cy="2336400"/>
                            <a:chOff x="4490640" y="2159280"/>
                            <a:chExt cx="2376360" cy="2336400"/>
                          </a:xfrm>
                        </p:grpSpPr>
                        <p:sp>
                          <p:nvSpPr>
                            <p:cNvPr id="108" name="椭圆 4"/>
                            <p:cNvSpPr/>
                            <p:nvPr/>
                          </p:nvSpPr>
                          <p:spPr>
                            <a:xfrm rot="18013200">
                              <a:off x="4899960" y="2497320"/>
                              <a:ext cx="1557000" cy="16599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ff6600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9" name="椭圆 3"/>
                            <p:cNvSpPr/>
                            <p:nvPr/>
                          </p:nvSpPr>
                          <p:spPr>
                            <a:xfrm rot="18013200">
                              <a:off x="4844520" y="2438280"/>
                              <a:ext cx="1668240" cy="177840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0" name="直接连接符 88"/>
                          <p:cNvSpPr/>
                          <p:nvPr/>
                        </p:nvSpPr>
                        <p:spPr>
                          <a:xfrm>
                            <a:off x="4961520" y="2909520"/>
                            <a:ext cx="102600" cy="59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960" bIns="12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直接连接符 89"/>
                          <p:cNvSpPr/>
                          <p:nvPr/>
                        </p:nvSpPr>
                        <p:spPr>
                          <a:xfrm>
                            <a:off x="6293520" y="3685680"/>
                            <a:ext cx="102600" cy="594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600" bIns="12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" name="直接连接符 14"/>
                          <p:cNvSpPr/>
                          <p:nvPr/>
                        </p:nvSpPr>
                        <p:spPr>
                          <a:xfrm flipV="1">
                            <a:off x="5286960" y="3904200"/>
                            <a:ext cx="56160" cy="96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" name="直接连接符 16"/>
                          <p:cNvSpPr/>
                          <p:nvPr/>
                        </p:nvSpPr>
                        <p:spPr>
                          <a:xfrm flipV="1">
                            <a:off x="6014880" y="265500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4" name="直接连接符 83"/>
                        <p:cNvSpPr/>
                        <p:nvPr/>
                      </p:nvSpPr>
                      <p:spPr>
                        <a:xfrm flipH="1" flipV="1">
                          <a:off x="6024960" y="3940920"/>
                          <a:ext cx="57960" cy="1029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直接连接符 84"/>
                        <p:cNvSpPr/>
                        <p:nvPr/>
                      </p:nvSpPr>
                      <p:spPr>
                        <a:xfrm flipH="1" flipV="1">
                          <a:off x="5267520" y="2597760"/>
                          <a:ext cx="58320" cy="1033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直接连接符 85"/>
                        <p:cNvSpPr/>
                        <p:nvPr/>
                      </p:nvSpPr>
                      <p:spPr>
                        <a:xfrm flipH="1">
                          <a:off x="4919040" y="3335760"/>
                          <a:ext cx="125640" cy="3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直接连接符 86"/>
                        <p:cNvSpPr/>
                        <p:nvPr/>
                      </p:nvSpPr>
                      <p:spPr>
                        <a:xfrm flipH="1">
                          <a:off x="6334560" y="3354840"/>
                          <a:ext cx="125640" cy="2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18" name="直接连接符 81"/>
                      <p:cNvSpPr/>
                      <p:nvPr/>
                    </p:nvSpPr>
                    <p:spPr>
                      <a:xfrm flipV="1">
                        <a:off x="6260400" y="294516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9" name="直接连接符 77"/>
                    <p:cNvSpPr/>
                    <p:nvPr/>
                  </p:nvSpPr>
                  <p:spPr>
                    <a:xfrm>
                      <a:off x="5679000" y="2497320"/>
                      <a:ext cx="0" cy="11844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直接连接符 78"/>
                    <p:cNvSpPr/>
                    <p:nvPr/>
                  </p:nvSpPr>
                  <p:spPr>
                    <a:xfrm>
                      <a:off x="5679000" y="4038840"/>
                      <a:ext cx="0" cy="11844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84"/>
                  <p:cNvGrpSpPr/>
                  <p:nvPr/>
                </p:nvGrpSpPr>
                <p:grpSpPr>
                  <a:xfrm>
                    <a:off x="5398200" y="3028320"/>
                    <a:ext cx="720360" cy="365400"/>
                    <a:chOff x="5398200" y="3028320"/>
                    <a:chExt cx="720360" cy="365400"/>
                  </a:xfrm>
                </p:grpSpPr>
                <p:sp>
                  <p:nvSpPr>
                    <p:cNvPr id="122" name="直接连接符 74"/>
                    <p:cNvSpPr/>
                    <p:nvPr/>
                  </p:nvSpPr>
                  <p:spPr>
                    <a:xfrm>
                      <a:off x="5398200" y="3105000"/>
                      <a:ext cx="336240" cy="281880"/>
                    </a:xfrm>
                    <a:prstGeom prst="line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直接连接符 75"/>
                    <p:cNvSpPr/>
                    <p:nvPr/>
                  </p:nvSpPr>
                  <p:spPr>
                    <a:xfrm flipH="1">
                      <a:off x="5623200" y="3028320"/>
                      <a:ext cx="495360" cy="365400"/>
                    </a:xfrm>
                    <a:prstGeom prst="line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4" name="椭圆 71"/>
                <p:cNvSpPr/>
                <p:nvPr/>
              </p:nvSpPr>
              <p:spPr>
                <a:xfrm>
                  <a:off x="4678200" y="2260440"/>
                  <a:ext cx="2016360" cy="214956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TextBox 69"/>
              <p:cNvSpPr/>
              <p:nvPr/>
            </p:nvSpPr>
            <p:spPr>
              <a:xfrm>
                <a:off x="5139360" y="3369960"/>
                <a:ext cx="104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Autum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Group 90"/>
          <p:cNvGrpSpPr/>
          <p:nvPr/>
        </p:nvGrpSpPr>
        <p:grpSpPr>
          <a:xfrm>
            <a:off x="6783480" y="67680"/>
            <a:ext cx="2362680" cy="2328480"/>
            <a:chOff x="6783480" y="67680"/>
            <a:chExt cx="2362680" cy="2328480"/>
          </a:xfrm>
        </p:grpSpPr>
        <p:grpSp>
          <p:nvGrpSpPr>
            <p:cNvPr id="127" name="Group 91"/>
            <p:cNvGrpSpPr/>
            <p:nvPr/>
          </p:nvGrpSpPr>
          <p:grpSpPr>
            <a:xfrm>
              <a:off x="6783480" y="67680"/>
              <a:ext cx="2362680" cy="2328480"/>
              <a:chOff x="6783480" y="67680"/>
              <a:chExt cx="2362680" cy="2328480"/>
            </a:xfrm>
          </p:grpSpPr>
          <p:grpSp>
            <p:nvGrpSpPr>
              <p:cNvPr id="128" name="Group 92"/>
              <p:cNvGrpSpPr/>
              <p:nvPr/>
            </p:nvGrpSpPr>
            <p:grpSpPr>
              <a:xfrm>
                <a:off x="6783480" y="67680"/>
                <a:ext cx="2362680" cy="2328480"/>
                <a:chOff x="6783480" y="67680"/>
                <a:chExt cx="2362680" cy="2328480"/>
              </a:xfrm>
            </p:grpSpPr>
            <p:grpSp>
              <p:nvGrpSpPr>
                <p:cNvPr id="129" name="Group 93"/>
                <p:cNvGrpSpPr/>
                <p:nvPr/>
              </p:nvGrpSpPr>
              <p:grpSpPr>
                <a:xfrm>
                  <a:off x="6783480" y="67680"/>
                  <a:ext cx="2362680" cy="2328480"/>
                  <a:chOff x="6783480" y="67680"/>
                  <a:chExt cx="2362680" cy="2328480"/>
                </a:xfrm>
              </p:grpSpPr>
              <p:grpSp>
                <p:nvGrpSpPr>
                  <p:cNvPr id="130" name="Group 94"/>
                  <p:cNvGrpSpPr/>
                  <p:nvPr/>
                </p:nvGrpSpPr>
                <p:grpSpPr>
                  <a:xfrm>
                    <a:off x="6783480" y="67680"/>
                    <a:ext cx="2362680" cy="2328480"/>
                    <a:chOff x="6783480" y="67680"/>
                    <a:chExt cx="2362680" cy="2328480"/>
                  </a:xfrm>
                </p:grpSpPr>
                <p:grpSp>
                  <p:nvGrpSpPr>
                    <p:cNvPr id="131" name="Group 95"/>
                    <p:cNvGrpSpPr/>
                    <p:nvPr/>
                  </p:nvGrpSpPr>
                  <p:grpSpPr>
                    <a:xfrm>
                      <a:off x="6783480" y="67680"/>
                      <a:ext cx="2362680" cy="2328480"/>
                      <a:chOff x="6783480" y="67680"/>
                      <a:chExt cx="2362680" cy="2328480"/>
                    </a:xfrm>
                  </p:grpSpPr>
                  <p:sp>
                    <p:nvSpPr>
                      <p:cNvPr id="132" name="直接连接符 108"/>
                      <p:cNvSpPr/>
                      <p:nvPr/>
                    </p:nvSpPr>
                    <p:spPr>
                      <a:xfrm flipV="1">
                        <a:off x="7286760" y="155988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3" name="Group 97"/>
                      <p:cNvGrpSpPr/>
                      <p:nvPr/>
                    </p:nvGrpSpPr>
                    <p:grpSpPr>
                      <a:xfrm>
                        <a:off x="6783480" y="67680"/>
                        <a:ext cx="2362680" cy="2328480"/>
                        <a:chOff x="6783480" y="67680"/>
                        <a:chExt cx="2362680" cy="2328480"/>
                      </a:xfrm>
                    </p:grpSpPr>
                    <p:grpSp>
                      <p:nvGrpSpPr>
                        <p:cNvPr id="134" name="Group 98"/>
                        <p:cNvGrpSpPr/>
                        <p:nvPr/>
                      </p:nvGrpSpPr>
                      <p:grpSpPr>
                        <a:xfrm>
                          <a:off x="6783480" y="67680"/>
                          <a:ext cx="2362680" cy="2328480"/>
                          <a:chOff x="6783480" y="67680"/>
                          <a:chExt cx="2362680" cy="2328480"/>
                        </a:xfrm>
                      </p:grpSpPr>
                      <p:grpSp>
                        <p:nvGrpSpPr>
                          <p:cNvPr id="135" name="Group 99"/>
                          <p:cNvGrpSpPr/>
                          <p:nvPr/>
                        </p:nvGrpSpPr>
                        <p:grpSpPr>
                          <a:xfrm>
                            <a:off x="6783480" y="67680"/>
                            <a:ext cx="2362680" cy="2328480"/>
                            <a:chOff x="6783480" y="67680"/>
                            <a:chExt cx="2362680" cy="2328480"/>
                          </a:xfrm>
                        </p:grpSpPr>
                        <p:sp>
                          <p:nvSpPr>
                            <p:cNvPr id="136" name="椭圆 4"/>
                            <p:cNvSpPr/>
                            <p:nvPr/>
                          </p:nvSpPr>
                          <p:spPr>
                            <a:xfrm rot="18013200">
                              <a:off x="7186320" y="409320"/>
                              <a:ext cx="1557000" cy="1645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00b0f0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7" name="椭圆 3"/>
                            <p:cNvSpPr/>
                            <p:nvPr/>
                          </p:nvSpPr>
                          <p:spPr>
                            <a:xfrm rot="18013200">
                              <a:off x="7130520" y="350640"/>
                              <a:ext cx="1668240" cy="176256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38" name="直接连接符 117"/>
                          <p:cNvSpPr/>
                          <p:nvPr/>
                        </p:nvSpPr>
                        <p:spPr>
                          <a:xfrm>
                            <a:off x="7254000" y="817560"/>
                            <a:ext cx="101160" cy="590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直接连接符 118"/>
                          <p:cNvSpPr/>
                          <p:nvPr/>
                        </p:nvSpPr>
                        <p:spPr>
                          <a:xfrm>
                            <a:off x="8574480" y="1586880"/>
                            <a:ext cx="101160" cy="590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直接连接符 14"/>
                          <p:cNvSpPr/>
                          <p:nvPr/>
                        </p:nvSpPr>
                        <p:spPr>
                          <a:xfrm flipV="1">
                            <a:off x="7572960" y="1808640"/>
                            <a:ext cx="56160" cy="96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直接连接符 16"/>
                          <p:cNvSpPr/>
                          <p:nvPr/>
                        </p:nvSpPr>
                        <p:spPr>
                          <a:xfrm flipV="1">
                            <a:off x="8300880" y="55944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2" name="直接连接符 112"/>
                        <p:cNvSpPr/>
                        <p:nvPr/>
                      </p:nvSpPr>
                      <p:spPr>
                        <a:xfrm flipH="1" flipV="1">
                          <a:off x="8307720" y="1839960"/>
                          <a:ext cx="57960" cy="102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直接连接符 113"/>
                        <p:cNvSpPr/>
                        <p:nvPr/>
                      </p:nvSpPr>
                      <p:spPr>
                        <a:xfrm flipH="1" flipV="1">
                          <a:off x="7557120" y="508680"/>
                          <a:ext cx="57600" cy="102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直接连接符 114"/>
                        <p:cNvSpPr/>
                        <p:nvPr/>
                      </p:nvSpPr>
                      <p:spPr>
                        <a:xfrm flipH="1">
                          <a:off x="7206840" y="1242720"/>
                          <a:ext cx="125280" cy="36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直接连接符 115"/>
                        <p:cNvSpPr/>
                        <p:nvPr/>
                      </p:nvSpPr>
                      <p:spPr>
                        <a:xfrm flipH="1">
                          <a:off x="8619120" y="1256040"/>
                          <a:ext cx="125280" cy="3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46" name="直接连接符 110"/>
                      <p:cNvSpPr/>
                      <p:nvPr/>
                    </p:nvSpPr>
                    <p:spPr>
                      <a:xfrm flipV="1">
                        <a:off x="8546400" y="84960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7" name="直接连接符 106"/>
                    <p:cNvSpPr/>
                    <p:nvPr/>
                  </p:nvSpPr>
                  <p:spPr>
                    <a:xfrm>
                      <a:off x="7965000" y="408960"/>
                      <a:ext cx="0" cy="11736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直接连接符 107"/>
                    <p:cNvSpPr/>
                    <p:nvPr/>
                  </p:nvSpPr>
                  <p:spPr>
                    <a:xfrm>
                      <a:off x="7965000" y="1937160"/>
                      <a:ext cx="0" cy="11736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113"/>
                  <p:cNvGrpSpPr/>
                  <p:nvPr/>
                </p:nvGrpSpPr>
                <p:grpSpPr>
                  <a:xfrm>
                    <a:off x="7684200" y="935280"/>
                    <a:ext cx="720360" cy="361800"/>
                    <a:chOff x="7684200" y="935280"/>
                    <a:chExt cx="720360" cy="361800"/>
                  </a:xfrm>
                </p:grpSpPr>
                <p:sp>
                  <p:nvSpPr>
                    <p:cNvPr id="150" name="直接连接符 103"/>
                    <p:cNvSpPr/>
                    <p:nvPr/>
                  </p:nvSpPr>
                  <p:spPr>
                    <a:xfrm>
                      <a:off x="7684200" y="1011240"/>
                      <a:ext cx="336240" cy="279000"/>
                    </a:xfrm>
                    <a:prstGeom prst="line">
                      <a:avLst/>
                    </a:prstGeom>
                    <a:ln w="5724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直接连接符 104"/>
                    <p:cNvSpPr/>
                    <p:nvPr/>
                  </p:nvSpPr>
                  <p:spPr>
                    <a:xfrm flipH="1">
                      <a:off x="7909200" y="935280"/>
                      <a:ext cx="495360" cy="361800"/>
                    </a:xfrm>
                    <a:prstGeom prst="line">
                      <a:avLst/>
                    </a:prstGeom>
                    <a:ln w="5724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2" name="椭圆 100"/>
                <p:cNvSpPr/>
                <p:nvPr/>
              </p:nvSpPr>
              <p:spPr>
                <a:xfrm>
                  <a:off x="6964200" y="174600"/>
                  <a:ext cx="2016360" cy="21304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Box 98"/>
              <p:cNvSpPr/>
              <p:nvPr/>
            </p:nvSpPr>
            <p:spPr>
              <a:xfrm>
                <a:off x="7520400" y="1198080"/>
                <a:ext cx="854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win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直接连接符 124"/>
          <p:cNvSpPr/>
          <p:nvPr/>
        </p:nvSpPr>
        <p:spPr>
          <a:xfrm>
            <a:off x="2058840" y="3757680"/>
            <a:ext cx="384480" cy="60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30"/>
          <p:cNvSpPr/>
          <p:nvPr/>
        </p:nvSpPr>
        <p:spPr>
          <a:xfrm flipV="1">
            <a:off x="4459320" y="3817440"/>
            <a:ext cx="295200" cy="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40"/>
          <p:cNvSpPr/>
          <p:nvPr/>
        </p:nvSpPr>
        <p:spPr>
          <a:xfrm flipV="1">
            <a:off x="6399360" y="1913040"/>
            <a:ext cx="753840" cy="7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56"/>
          <p:cNvSpPr/>
          <p:nvPr/>
        </p:nvSpPr>
        <p:spPr>
          <a:xfrm>
            <a:off x="0" y="6308640"/>
            <a:ext cx="918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3"/>
          <p:cNvSpPr/>
          <p:nvPr/>
        </p:nvSpPr>
        <p:spPr>
          <a:xfrm>
            <a:off x="766764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4572000" y="4581360"/>
            <a:ext cx="3889440" cy="57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4308840" y="637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34520" y="1125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蓝色淡雅的年度总结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2.2 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315" name="Group 6"/>
          <p:cNvGrpSpPr/>
          <p:nvPr/>
        </p:nvGrpSpPr>
        <p:grpSpPr>
          <a:xfrm>
            <a:off x="136440" y="1504800"/>
            <a:ext cx="8615520" cy="5488560"/>
            <a:chOff x="136440" y="1504800"/>
            <a:chExt cx="8615520" cy="5488560"/>
          </a:xfrm>
        </p:grpSpPr>
        <p:grpSp>
          <p:nvGrpSpPr>
            <p:cNvPr id="316" name="Group 7"/>
            <p:cNvGrpSpPr/>
            <p:nvPr/>
          </p:nvGrpSpPr>
          <p:grpSpPr>
            <a:xfrm>
              <a:off x="1603080" y="2995560"/>
              <a:ext cx="7148880" cy="1729440"/>
              <a:chOff x="1603080" y="2995560"/>
              <a:chExt cx="7148880" cy="1729440"/>
            </a:xfrm>
          </p:grpSpPr>
          <p:sp>
            <p:nvSpPr>
              <p:cNvPr id="317" name="椭圆 4"/>
              <p:cNvSpPr/>
              <p:nvPr/>
            </p:nvSpPr>
            <p:spPr>
              <a:xfrm>
                <a:off x="1603080" y="4469400"/>
                <a:ext cx="255600" cy="255600"/>
              </a:xfrm>
              <a:prstGeom prst="ellips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5"/>
              <p:cNvSpPr/>
              <p:nvPr/>
            </p:nvSpPr>
            <p:spPr>
              <a:xfrm>
                <a:off x="1964880" y="4633200"/>
                <a:ext cx="1897200" cy="0"/>
              </a:xfrm>
              <a:prstGeom prst="line">
                <a:avLst/>
              </a:prstGeom>
              <a:ln w="76320">
                <a:solidFill>
                  <a:srgbClr val="897dc1">
                    <a:alpha val="40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6"/>
              <p:cNvSpPr/>
              <p:nvPr/>
            </p:nvSpPr>
            <p:spPr>
              <a:xfrm flipV="1">
                <a:off x="4109760" y="4032720"/>
                <a:ext cx="2098800" cy="15840"/>
              </a:xfrm>
              <a:prstGeom prst="line">
                <a:avLst/>
              </a:prstGeom>
              <a:ln w="76320">
                <a:solidFill>
                  <a:srgbClr val="897dc1">
                    <a:alpha val="40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7"/>
              <p:cNvSpPr/>
              <p:nvPr/>
            </p:nvSpPr>
            <p:spPr>
              <a:xfrm flipV="1">
                <a:off x="6292800" y="3486600"/>
                <a:ext cx="1622520" cy="15840"/>
              </a:xfrm>
              <a:prstGeom prst="line">
                <a:avLst/>
              </a:prstGeom>
              <a:ln w="76320">
                <a:solidFill>
                  <a:srgbClr val="897dc1">
                    <a:alpha val="40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8"/>
              <p:cNvSpPr/>
              <p:nvPr/>
            </p:nvSpPr>
            <p:spPr>
              <a:xfrm flipV="1">
                <a:off x="3890520" y="4101120"/>
                <a:ext cx="188640" cy="520560"/>
              </a:xfrm>
              <a:prstGeom prst="line">
                <a:avLst/>
              </a:prstGeom>
              <a:ln w="76320">
                <a:solidFill>
                  <a:srgbClr val="897dc1">
                    <a:alpha val="40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9"/>
              <p:cNvSpPr/>
              <p:nvPr/>
            </p:nvSpPr>
            <p:spPr>
              <a:xfrm flipV="1">
                <a:off x="6170400" y="3498840"/>
                <a:ext cx="133200" cy="576360"/>
              </a:xfrm>
              <a:prstGeom prst="line">
                <a:avLst/>
              </a:prstGeom>
              <a:ln w="76320">
                <a:solidFill>
                  <a:srgbClr val="897dc1">
                    <a:alpha val="40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等腰三角形 10"/>
              <p:cNvSpPr/>
              <p:nvPr/>
            </p:nvSpPr>
            <p:spPr>
              <a:xfrm rot="1814400">
                <a:off x="7984800" y="3124800"/>
                <a:ext cx="668160" cy="57312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5"/>
            <p:cNvGrpSpPr/>
            <p:nvPr/>
          </p:nvGrpSpPr>
          <p:grpSpPr>
            <a:xfrm>
              <a:off x="1911240" y="2780640"/>
              <a:ext cx="1731960" cy="1555920"/>
              <a:chOff x="1911240" y="2780640"/>
              <a:chExt cx="1731960" cy="1555920"/>
            </a:xfrm>
          </p:grpSpPr>
          <p:sp>
            <p:nvSpPr>
              <p:cNvPr id="325" name="圆角矩形 18"/>
              <p:cNvSpPr/>
              <p:nvPr/>
            </p:nvSpPr>
            <p:spPr>
              <a:xfrm>
                <a:off x="1911240" y="2780640"/>
                <a:ext cx="1731960" cy="116784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Box 34"/>
              <p:cNvSpPr/>
              <p:nvPr/>
            </p:nvSpPr>
            <p:spPr>
              <a:xfrm>
                <a:off x="2033640" y="2871000"/>
                <a:ext cx="16095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XX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18"/>
            <p:cNvGrpSpPr/>
            <p:nvPr/>
          </p:nvGrpSpPr>
          <p:grpSpPr>
            <a:xfrm>
              <a:off x="4068000" y="1644840"/>
              <a:ext cx="1950840" cy="3236040"/>
              <a:chOff x="4068000" y="1644840"/>
              <a:chExt cx="1950840" cy="3236040"/>
            </a:xfrm>
          </p:grpSpPr>
          <p:sp>
            <p:nvSpPr>
              <p:cNvPr id="328" name="圆角矩形 21"/>
              <p:cNvSpPr/>
              <p:nvPr/>
            </p:nvSpPr>
            <p:spPr>
              <a:xfrm>
                <a:off x="4068000" y="1644840"/>
                <a:ext cx="1950840" cy="176652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Box 35"/>
              <p:cNvSpPr/>
              <p:nvPr/>
            </p:nvSpPr>
            <p:spPr>
              <a:xfrm>
                <a:off x="4109760" y="1769400"/>
                <a:ext cx="183240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……………………………………………………………………………………………………………………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1"/>
            <p:cNvGrpSpPr/>
            <p:nvPr/>
          </p:nvGrpSpPr>
          <p:grpSpPr>
            <a:xfrm>
              <a:off x="6458040" y="1504800"/>
              <a:ext cx="1733400" cy="1491840"/>
              <a:chOff x="6458040" y="1504800"/>
              <a:chExt cx="1733400" cy="1491840"/>
            </a:xfrm>
          </p:grpSpPr>
          <p:sp>
            <p:nvSpPr>
              <p:cNvPr id="331" name="圆角矩形 24"/>
              <p:cNvSpPr/>
              <p:nvPr/>
            </p:nvSpPr>
            <p:spPr>
              <a:xfrm>
                <a:off x="6458040" y="1504800"/>
                <a:ext cx="1733400" cy="149184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Box 36"/>
              <p:cNvSpPr/>
              <p:nvPr/>
            </p:nvSpPr>
            <p:spPr>
              <a:xfrm>
                <a:off x="6580440" y="1644840"/>
                <a:ext cx="1460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24"/>
            <p:cNvGrpSpPr/>
            <p:nvPr/>
          </p:nvGrpSpPr>
          <p:grpSpPr>
            <a:xfrm>
              <a:off x="4178880" y="4725360"/>
              <a:ext cx="1839960" cy="2268000"/>
              <a:chOff x="4178880" y="4725360"/>
              <a:chExt cx="1839960" cy="2268000"/>
            </a:xfrm>
          </p:grpSpPr>
          <p:sp>
            <p:nvSpPr>
              <p:cNvPr id="334" name="圆角矩形 30"/>
              <p:cNvSpPr/>
              <p:nvPr/>
            </p:nvSpPr>
            <p:spPr>
              <a:xfrm>
                <a:off x="4178880" y="4725360"/>
                <a:ext cx="1839960" cy="133920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Box 38"/>
              <p:cNvSpPr/>
              <p:nvPr/>
            </p:nvSpPr>
            <p:spPr>
              <a:xfrm>
                <a:off x="4273560" y="4979160"/>
                <a:ext cx="165024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……………………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27"/>
            <p:cNvGrpSpPr/>
            <p:nvPr/>
          </p:nvGrpSpPr>
          <p:grpSpPr>
            <a:xfrm>
              <a:off x="6514920" y="4293000"/>
              <a:ext cx="1676160" cy="1282320"/>
              <a:chOff x="6514920" y="4293000"/>
              <a:chExt cx="1676160" cy="1282320"/>
            </a:xfrm>
          </p:grpSpPr>
          <p:sp>
            <p:nvSpPr>
              <p:cNvPr id="337" name="圆角矩形 33"/>
              <p:cNvSpPr/>
              <p:nvPr/>
            </p:nvSpPr>
            <p:spPr>
              <a:xfrm>
                <a:off x="6514920" y="4293000"/>
                <a:ext cx="1676160" cy="117828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Box 39"/>
              <p:cNvSpPr/>
              <p:nvPr/>
            </p:nvSpPr>
            <p:spPr>
              <a:xfrm>
                <a:off x="6647400" y="4384080"/>
                <a:ext cx="1516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椭圆 37"/>
            <p:cNvSpPr/>
            <p:nvPr/>
          </p:nvSpPr>
          <p:spPr>
            <a:xfrm>
              <a:off x="136440" y="3890160"/>
              <a:ext cx="1339200" cy="13392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1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39"/>
            <p:cNvSpPr/>
            <p:nvPr/>
          </p:nvSpPr>
          <p:spPr>
            <a:xfrm>
              <a:off x="6909120" y="322452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40"/>
            <p:cNvSpPr/>
            <p:nvPr/>
          </p:nvSpPr>
          <p:spPr>
            <a:xfrm>
              <a:off x="4810320" y="378900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41"/>
            <p:cNvSpPr/>
            <p:nvPr/>
          </p:nvSpPr>
          <p:spPr>
            <a:xfrm>
              <a:off x="2520360" y="434592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4"/>
            <p:cNvGrpSpPr/>
            <p:nvPr/>
          </p:nvGrpSpPr>
          <p:grpSpPr>
            <a:xfrm>
              <a:off x="1949040" y="5247360"/>
              <a:ext cx="1731960" cy="1555920"/>
              <a:chOff x="1949040" y="5247360"/>
              <a:chExt cx="1731960" cy="1555920"/>
            </a:xfrm>
          </p:grpSpPr>
          <p:sp>
            <p:nvSpPr>
              <p:cNvPr id="344" name="圆角矩形 18"/>
              <p:cNvSpPr/>
              <p:nvPr/>
            </p:nvSpPr>
            <p:spPr>
              <a:xfrm>
                <a:off x="1949040" y="5247360"/>
                <a:ext cx="1731960" cy="116784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Box 34"/>
              <p:cNvSpPr/>
              <p:nvPr/>
            </p:nvSpPr>
            <p:spPr>
              <a:xfrm>
                <a:off x="2071440" y="5337720"/>
                <a:ext cx="16095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XX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：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Box 46"/>
          <p:cNvSpPr/>
          <p:nvPr/>
        </p:nvSpPr>
        <p:spPr>
          <a:xfrm>
            <a:off x="380880" y="1162080"/>
            <a:ext cx="348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…………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标题 1"/>
          <p:cNvSpPr/>
          <p:nvPr/>
        </p:nvSpPr>
        <p:spPr>
          <a:xfrm>
            <a:off x="97164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1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6"/>
          <p:cNvSpPr/>
          <p:nvPr/>
        </p:nvSpPr>
        <p:spPr>
          <a:xfrm rot="20512800">
            <a:off x="-246240" y="4186080"/>
            <a:ext cx="10563480" cy="40611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7"/>
          <p:cNvGrpSpPr/>
          <p:nvPr/>
        </p:nvGrpSpPr>
        <p:grpSpPr>
          <a:xfrm>
            <a:off x="1888920" y="1643760"/>
            <a:ext cx="3115440" cy="4070520"/>
            <a:chOff x="1888920" y="1643760"/>
            <a:chExt cx="3115440" cy="4070520"/>
          </a:xfrm>
        </p:grpSpPr>
        <p:sp>
          <p:nvSpPr>
            <p:cNvPr id="353" name="矩形 5"/>
            <p:cNvSpPr/>
            <p:nvPr/>
          </p:nvSpPr>
          <p:spPr>
            <a:xfrm rot="20377800">
              <a:off x="2454120" y="1876320"/>
              <a:ext cx="1984680" cy="36050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2"/>
            <p:cNvSpPr/>
            <p:nvPr/>
          </p:nvSpPr>
          <p:spPr>
            <a:xfrm rot="21434400">
              <a:off x="2868120" y="33865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8"/>
            <p:cNvSpPr/>
            <p:nvPr/>
          </p:nvSpPr>
          <p:spPr>
            <a:xfrm>
              <a:off x="2553120" y="1857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1"/>
          <p:cNvGrpSpPr/>
          <p:nvPr/>
        </p:nvGrpSpPr>
        <p:grpSpPr>
          <a:xfrm>
            <a:off x="4243680" y="2092320"/>
            <a:ext cx="2842560" cy="2952000"/>
            <a:chOff x="4243680" y="2092320"/>
            <a:chExt cx="2842560" cy="2952000"/>
          </a:xfrm>
        </p:grpSpPr>
        <p:sp>
          <p:nvSpPr>
            <p:cNvPr id="357" name="矩形 7"/>
            <p:cNvSpPr/>
            <p:nvPr/>
          </p:nvSpPr>
          <p:spPr>
            <a:xfrm rot="19246800">
              <a:off x="4800240" y="2387880"/>
              <a:ext cx="1728720" cy="2377440"/>
            </a:xfrm>
            <a:prstGeom prst="rect">
              <a:avLst/>
            </a:prstGeom>
            <a:solidFill>
              <a:srgbClr val="99cc0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3"/>
            <p:cNvSpPr/>
            <p:nvPr/>
          </p:nvSpPr>
          <p:spPr>
            <a:xfrm rot="21434400">
              <a:off x="5222160" y="324324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9"/>
            <p:cNvSpPr/>
            <p:nvPr/>
          </p:nvSpPr>
          <p:spPr>
            <a:xfrm>
              <a:off x="491976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5"/>
          <p:cNvGrpSpPr/>
          <p:nvPr/>
        </p:nvGrpSpPr>
        <p:grpSpPr>
          <a:xfrm>
            <a:off x="6526080" y="1019160"/>
            <a:ext cx="2270520" cy="3733560"/>
            <a:chOff x="6526080" y="1019160"/>
            <a:chExt cx="2270520" cy="3733560"/>
          </a:xfrm>
        </p:grpSpPr>
        <p:sp>
          <p:nvSpPr>
            <p:cNvPr id="361" name="矩形 8"/>
            <p:cNvSpPr/>
            <p:nvPr/>
          </p:nvSpPr>
          <p:spPr>
            <a:xfrm rot="256200">
              <a:off x="6645240" y="1402200"/>
              <a:ext cx="2032200" cy="327924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4"/>
            <p:cNvSpPr/>
            <p:nvPr/>
          </p:nvSpPr>
          <p:spPr>
            <a:xfrm rot="21434400">
              <a:off x="7261200" y="26287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20"/>
            <p:cNvSpPr/>
            <p:nvPr/>
          </p:nvSpPr>
          <p:spPr>
            <a:xfrm>
              <a:off x="7346880" y="101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7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5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3.1 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X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367" name="Group 6"/>
          <p:cNvGrpSpPr/>
          <p:nvPr/>
        </p:nvGrpSpPr>
        <p:grpSpPr>
          <a:xfrm>
            <a:off x="0" y="2060640"/>
            <a:ext cx="9144000" cy="4176720"/>
            <a:chOff x="0" y="2060640"/>
            <a:chExt cx="9144000" cy="4176720"/>
          </a:xfrm>
        </p:grpSpPr>
        <p:sp>
          <p:nvSpPr>
            <p:cNvPr id="368" name="椭圆 4"/>
            <p:cNvSpPr/>
            <p:nvPr/>
          </p:nvSpPr>
          <p:spPr>
            <a:xfrm>
              <a:off x="2481480" y="2060640"/>
              <a:ext cx="4150440" cy="4176720"/>
            </a:xfrm>
            <a:prstGeom prst="ellipse">
              <a:avLst/>
            </a:prstGeom>
            <a:solidFill>
              <a:srgbClr val="dae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5"/>
            <p:cNvSpPr/>
            <p:nvPr/>
          </p:nvSpPr>
          <p:spPr>
            <a:xfrm>
              <a:off x="3814560" y="3403800"/>
              <a:ext cx="1483920" cy="149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9"/>
            <p:cNvGrpSpPr/>
            <p:nvPr/>
          </p:nvGrpSpPr>
          <p:grpSpPr>
            <a:xfrm>
              <a:off x="0" y="3481920"/>
              <a:ext cx="3828960" cy="1292040"/>
              <a:chOff x="0" y="3481920"/>
              <a:chExt cx="3828960" cy="1292040"/>
            </a:xfrm>
          </p:grpSpPr>
          <p:sp>
            <p:nvSpPr>
              <p:cNvPr id="371" name="椭圆 6"/>
              <p:cNvSpPr/>
              <p:nvPr/>
            </p:nvSpPr>
            <p:spPr>
              <a:xfrm>
                <a:off x="2545200" y="3481920"/>
                <a:ext cx="1283760" cy="1292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线形标注 2(带强调线) 9"/>
              <p:cNvSpPr/>
              <p:nvPr/>
            </p:nvSpPr>
            <p:spPr>
              <a:xfrm flipH="1">
                <a:off x="0" y="3919680"/>
                <a:ext cx="1493280" cy="398520"/>
              </a:xfrm>
              <a:noFill/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椭圆 10"/>
              <p:cNvSpPr/>
              <p:nvPr/>
            </p:nvSpPr>
            <p:spPr>
              <a:xfrm flipV="1">
                <a:off x="2485080" y="4081680"/>
                <a:ext cx="50760" cy="5112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3"/>
            <p:cNvGrpSpPr/>
            <p:nvPr/>
          </p:nvGrpSpPr>
          <p:grpSpPr>
            <a:xfrm>
              <a:off x="544320" y="4892760"/>
              <a:ext cx="4353840" cy="1310040"/>
              <a:chOff x="544320" y="4892760"/>
              <a:chExt cx="4353840" cy="1310040"/>
            </a:xfrm>
          </p:grpSpPr>
          <p:sp>
            <p:nvSpPr>
              <p:cNvPr id="375" name="椭圆 13"/>
              <p:cNvSpPr/>
              <p:nvPr/>
            </p:nvSpPr>
            <p:spPr>
              <a:xfrm>
                <a:off x="3596400" y="4892760"/>
                <a:ext cx="1301760" cy="1310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线形标注 2(带强调线) 14"/>
              <p:cNvSpPr/>
              <p:nvPr/>
            </p:nvSpPr>
            <p:spPr>
              <a:xfrm flipH="1">
                <a:off x="543960" y="5731920"/>
                <a:ext cx="1804680" cy="398520"/>
              </a:xfr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椭圆 15"/>
              <p:cNvSpPr/>
              <p:nvPr/>
            </p:nvSpPr>
            <p:spPr>
              <a:xfrm>
                <a:off x="3561840" y="5727240"/>
                <a:ext cx="135000" cy="13572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7"/>
            <p:cNvGrpSpPr/>
            <p:nvPr/>
          </p:nvGrpSpPr>
          <p:grpSpPr>
            <a:xfrm>
              <a:off x="544680" y="2140920"/>
              <a:ext cx="4011840" cy="1375560"/>
              <a:chOff x="544680" y="2140920"/>
              <a:chExt cx="4011840" cy="1375560"/>
            </a:xfrm>
          </p:grpSpPr>
          <p:sp>
            <p:nvSpPr>
              <p:cNvPr id="379" name="椭圆 17"/>
              <p:cNvSpPr/>
              <p:nvPr/>
            </p:nvSpPr>
            <p:spPr>
              <a:xfrm>
                <a:off x="3254760" y="2206440"/>
                <a:ext cx="1301760" cy="1310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线形标注 2(带强调线) 18"/>
              <p:cNvSpPr/>
              <p:nvPr/>
            </p:nvSpPr>
            <p:spPr>
              <a:xfrm flipH="1">
                <a:off x="544680" y="2140920"/>
                <a:ext cx="1493280" cy="398520"/>
              </a:xfrm>
              <a:noFill/>
              <a:ln w="2556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椭圆 19"/>
              <p:cNvSpPr/>
              <p:nvPr/>
            </p:nvSpPr>
            <p:spPr>
              <a:xfrm flipV="1">
                <a:off x="3246120" y="2411640"/>
                <a:ext cx="167400" cy="180720"/>
              </a:xfrm>
              <a:prstGeom prst="ellipse">
                <a:avLst/>
              </a:prstGeom>
              <a:solidFill>
                <a:srgbClr val="ffa902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1"/>
            <p:cNvGrpSpPr/>
            <p:nvPr/>
          </p:nvGrpSpPr>
          <p:grpSpPr>
            <a:xfrm>
              <a:off x="5251680" y="3928680"/>
              <a:ext cx="3892320" cy="1292040"/>
              <a:chOff x="5251680" y="3928680"/>
              <a:chExt cx="3892320" cy="1292040"/>
            </a:xfrm>
          </p:grpSpPr>
          <p:sp>
            <p:nvSpPr>
              <p:cNvPr id="383" name="椭圆 21"/>
              <p:cNvSpPr/>
              <p:nvPr/>
            </p:nvSpPr>
            <p:spPr>
              <a:xfrm flipH="1">
                <a:off x="5251320" y="3928680"/>
                <a:ext cx="1305000" cy="1292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线形标注 2(带强调线) 22"/>
              <p:cNvSpPr/>
              <p:nvPr/>
            </p:nvSpPr>
            <p:spPr>
              <a:xfrm>
                <a:off x="7201800" y="4366440"/>
                <a:ext cx="1942200" cy="854280"/>
              </a:xfrm>
              <a:noFill/>
              <a:ln w="2556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椭圆 23"/>
              <p:cNvSpPr/>
              <p:nvPr/>
            </p:nvSpPr>
            <p:spPr>
              <a:xfrm flipH="1" flipV="1">
                <a:off x="6491520" y="4455360"/>
                <a:ext cx="125640" cy="124560"/>
              </a:xfrm>
              <a:prstGeom prst="ellipse">
                <a:avLst/>
              </a:prstGeom>
              <a:solidFill>
                <a:srgbClr val="e6e192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5"/>
            <p:cNvGrpSpPr/>
            <p:nvPr/>
          </p:nvGrpSpPr>
          <p:grpSpPr>
            <a:xfrm>
              <a:off x="4827600" y="2382120"/>
              <a:ext cx="3892320" cy="1292040"/>
              <a:chOff x="4827600" y="2382120"/>
              <a:chExt cx="3892320" cy="1292040"/>
            </a:xfrm>
          </p:grpSpPr>
          <p:sp>
            <p:nvSpPr>
              <p:cNvPr id="387" name="椭圆 25"/>
              <p:cNvSpPr/>
              <p:nvPr/>
            </p:nvSpPr>
            <p:spPr>
              <a:xfrm flipH="1">
                <a:off x="4827240" y="2382120"/>
                <a:ext cx="1305000" cy="1292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线形标注 2(带强调线) 26"/>
              <p:cNvSpPr/>
              <p:nvPr/>
            </p:nvSpPr>
            <p:spPr>
              <a:xfrm>
                <a:off x="7201800" y="2819880"/>
                <a:ext cx="1518120" cy="398520"/>
              </a:xfrm>
              <a:noFill/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椭圆 27"/>
              <p:cNvSpPr/>
              <p:nvPr/>
            </p:nvSpPr>
            <p:spPr>
              <a:xfrm flipH="1" flipV="1">
                <a:off x="6067440" y="2908800"/>
                <a:ext cx="125640" cy="124560"/>
              </a:xfrm>
              <a:prstGeom prst="ellipse">
                <a:avLst/>
              </a:prstGeom>
              <a:solidFill>
                <a:srgbClr val="9eca06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3.1 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X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394" name="Group 6"/>
          <p:cNvGrpSpPr/>
          <p:nvPr/>
        </p:nvGrpSpPr>
        <p:grpSpPr>
          <a:xfrm>
            <a:off x="395280" y="1123920"/>
            <a:ext cx="8497800" cy="5141880"/>
            <a:chOff x="395280" y="1123920"/>
            <a:chExt cx="8497800" cy="5141880"/>
          </a:xfrm>
        </p:grpSpPr>
        <p:grpSp>
          <p:nvGrpSpPr>
            <p:cNvPr id="395" name="Group 7"/>
            <p:cNvGrpSpPr/>
            <p:nvPr/>
          </p:nvGrpSpPr>
          <p:grpSpPr>
            <a:xfrm>
              <a:off x="2527920" y="1656000"/>
              <a:ext cx="4119120" cy="4153680"/>
              <a:chOff x="2527920" y="1656000"/>
              <a:chExt cx="4119120" cy="4153680"/>
            </a:xfrm>
          </p:grpSpPr>
          <p:sp>
            <p:nvSpPr>
              <p:cNvPr id="396" name="椭圆 2"/>
              <p:cNvSpPr/>
              <p:nvPr/>
            </p:nvSpPr>
            <p:spPr>
              <a:xfrm>
                <a:off x="2715840" y="1901160"/>
                <a:ext cx="3678120" cy="35197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椭圆 11"/>
              <p:cNvSpPr/>
              <p:nvPr/>
            </p:nvSpPr>
            <p:spPr>
              <a:xfrm flipH="1">
                <a:off x="2527920" y="2604240"/>
                <a:ext cx="576000" cy="551160"/>
              </a:xfrm>
              <a:prstGeom prst="ellipse">
                <a:avLst/>
              </a:prstGeom>
              <a:solidFill>
                <a:srgbClr val="92d050"/>
              </a:solidFill>
              <a:ln w="76320">
                <a:solidFill>
                  <a:srgbClr val="c2d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椭圆 12"/>
              <p:cNvSpPr/>
              <p:nvPr/>
            </p:nvSpPr>
            <p:spPr>
              <a:xfrm flipH="1">
                <a:off x="6040080" y="2539800"/>
                <a:ext cx="576000" cy="551160"/>
              </a:xfrm>
              <a:prstGeom prst="ellipse">
                <a:avLst/>
              </a:prstGeom>
              <a:solidFill>
                <a:srgbClr val="ffc000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椭圆 13"/>
              <p:cNvSpPr/>
              <p:nvPr/>
            </p:nvSpPr>
            <p:spPr>
              <a:xfrm flipH="1">
                <a:off x="4312080" y="5258520"/>
                <a:ext cx="576000" cy="551160"/>
              </a:xfrm>
              <a:prstGeom prst="ellipse">
                <a:avLst/>
              </a:prstGeom>
              <a:solidFill>
                <a:srgbClr val="33cc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12"/>
              <p:cNvGrpSpPr/>
              <p:nvPr/>
            </p:nvGrpSpPr>
            <p:grpSpPr>
              <a:xfrm>
                <a:off x="2536560" y="1656000"/>
                <a:ext cx="4110480" cy="4047480"/>
                <a:chOff x="2536560" y="1656000"/>
                <a:chExt cx="4110480" cy="4047480"/>
              </a:xfrm>
            </p:grpSpPr>
            <p:grpSp>
              <p:nvGrpSpPr>
                <p:cNvPr id="401" name="Group 13"/>
                <p:cNvGrpSpPr/>
                <p:nvPr/>
              </p:nvGrpSpPr>
              <p:grpSpPr>
                <a:xfrm>
                  <a:off x="3056400" y="2201040"/>
                  <a:ext cx="3007800" cy="2879640"/>
                  <a:chOff x="3056400" y="2201040"/>
                  <a:chExt cx="3007800" cy="2879640"/>
                </a:xfrm>
              </p:grpSpPr>
              <p:sp>
                <p:nvSpPr>
                  <p:cNvPr id="402" name="饼形 7"/>
                  <p:cNvSpPr/>
                  <p:nvPr/>
                </p:nvSpPr>
                <p:spPr>
                  <a:xfrm>
                    <a:off x="3056400" y="2201040"/>
                    <a:ext cx="3007800" cy="2879640"/>
                  </a:xfrm>
                  <a:custGeom>
                    <a:avLst/>
                    <a:gdLst>
                      <a:gd name="textAreaLeft" fmla="*/ 0 w 3007800"/>
                      <a:gd name="textAreaRight" fmla="*/ 3008160 w 3007800"/>
                      <a:gd name="textAreaTop" fmla="*/ 0 h 2879640"/>
                      <a:gd name="textAreaBottom" fmla="*/ 2880000 h 287964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饼形 8"/>
                  <p:cNvSpPr/>
                  <p:nvPr/>
                </p:nvSpPr>
                <p:spPr>
                  <a:xfrm>
                    <a:off x="3521160" y="2633040"/>
                    <a:ext cx="2127240" cy="2037240"/>
                  </a:xfrm>
                  <a:custGeom>
                    <a:avLst/>
                    <a:gdLst>
                      <a:gd name="textAreaLeft" fmla="*/ 0 w 2127240"/>
                      <a:gd name="textAreaRight" fmla="*/ 2127600 w 2127240"/>
                      <a:gd name="textAreaTop" fmla="*/ 0 h 2037240"/>
                      <a:gd name="textAreaBottom" fmla="*/ 2037600 h 203724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16"/>
                <p:cNvGrpSpPr/>
                <p:nvPr/>
              </p:nvGrpSpPr>
              <p:grpSpPr>
                <a:xfrm>
                  <a:off x="2604600" y="1656000"/>
                  <a:ext cx="4042440" cy="3994920"/>
                  <a:chOff x="2604600" y="1656000"/>
                  <a:chExt cx="4042440" cy="3994920"/>
                </a:xfrm>
              </p:grpSpPr>
              <p:sp>
                <p:nvSpPr>
                  <p:cNvPr id="405" name="饼形 21"/>
                  <p:cNvSpPr/>
                  <p:nvPr/>
                </p:nvSpPr>
                <p:spPr>
                  <a:xfrm rot="7192200">
                    <a:off x="3186000" y="2149560"/>
                    <a:ext cx="2879640" cy="3007800"/>
                  </a:xfrm>
                  <a:custGeom>
                    <a:avLst/>
                    <a:gdLst>
                      <a:gd name="textAreaLeft" fmla="*/ 0 w 2879640"/>
                      <a:gd name="textAreaRight" fmla="*/ 2880000 w 2879640"/>
                      <a:gd name="textAreaTop" fmla="*/ 0 h 3007800"/>
                      <a:gd name="textAreaBottom" fmla="*/ 3008160 h 300780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饼形 22"/>
                  <p:cNvSpPr/>
                  <p:nvPr/>
                </p:nvSpPr>
                <p:spPr>
                  <a:xfrm rot="7192200">
                    <a:off x="3583800" y="2602080"/>
                    <a:ext cx="2037240" cy="2125800"/>
                  </a:xfrm>
                  <a:custGeom>
                    <a:avLst/>
                    <a:gdLst>
                      <a:gd name="textAreaLeft" fmla="*/ 0 w 2037240"/>
                      <a:gd name="textAreaRight" fmla="*/ 2037600 w 2037240"/>
                      <a:gd name="textAreaTop" fmla="*/ 0 h 2125800"/>
                      <a:gd name="textAreaBottom" fmla="*/ 2126160 h 212580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Group 19"/>
                <p:cNvGrpSpPr/>
                <p:nvPr/>
              </p:nvGrpSpPr>
              <p:grpSpPr>
                <a:xfrm>
                  <a:off x="2536560" y="1701720"/>
                  <a:ext cx="4047480" cy="4001760"/>
                  <a:chOff x="2536560" y="1701720"/>
                  <a:chExt cx="4047480" cy="4001760"/>
                </a:xfrm>
              </p:grpSpPr>
              <p:sp>
                <p:nvSpPr>
                  <p:cNvPr id="408" name="饼形 19"/>
                  <p:cNvSpPr/>
                  <p:nvPr/>
                </p:nvSpPr>
                <p:spPr>
                  <a:xfrm rot="14392200">
                    <a:off x="3119400" y="2198520"/>
                    <a:ext cx="2881080" cy="3007800"/>
                  </a:xfrm>
                  <a:custGeom>
                    <a:avLst/>
                    <a:gdLst>
                      <a:gd name="textAreaLeft" fmla="*/ 0 w 2881080"/>
                      <a:gd name="textAreaRight" fmla="*/ 2881440 w 2881080"/>
                      <a:gd name="textAreaTop" fmla="*/ 0 h 3007800"/>
                      <a:gd name="textAreaBottom" fmla="*/ 3008160 h 300780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饼形 15"/>
                  <p:cNvSpPr/>
                  <p:nvPr/>
                </p:nvSpPr>
                <p:spPr>
                  <a:xfrm rot="14392200">
                    <a:off x="3538800" y="2613600"/>
                    <a:ext cx="2037240" cy="2125800"/>
                  </a:xfrm>
                  <a:custGeom>
                    <a:avLst/>
                    <a:gdLst>
                      <a:gd name="textAreaLeft" fmla="*/ 0 w 2037240"/>
                      <a:gd name="textAreaRight" fmla="*/ 2037600 w 2037240"/>
                      <a:gd name="textAreaTop" fmla="*/ 0 h 2125800"/>
                      <a:gd name="textAreaBottom" fmla="*/ 2126160 h 212580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0" name="椭圆 15"/>
              <p:cNvSpPr/>
              <p:nvPr/>
            </p:nvSpPr>
            <p:spPr>
              <a:xfrm>
                <a:off x="3945960" y="3040920"/>
                <a:ext cx="1269000" cy="121572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矩形 29"/>
            <p:cNvSpPr/>
            <p:nvPr/>
          </p:nvSpPr>
          <p:spPr>
            <a:xfrm>
              <a:off x="1763280" y="2401200"/>
              <a:ext cx="108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Box 30"/>
            <p:cNvSpPr/>
            <p:nvPr/>
          </p:nvSpPr>
          <p:spPr>
            <a:xfrm>
              <a:off x="395280" y="3319920"/>
              <a:ext cx="2160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31"/>
            <p:cNvSpPr/>
            <p:nvPr/>
          </p:nvSpPr>
          <p:spPr>
            <a:xfrm>
              <a:off x="6590160" y="278028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32"/>
            <p:cNvSpPr/>
            <p:nvPr/>
          </p:nvSpPr>
          <p:spPr>
            <a:xfrm>
              <a:off x="6644160" y="1123920"/>
              <a:ext cx="2248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33"/>
            <p:cNvSpPr/>
            <p:nvPr/>
          </p:nvSpPr>
          <p:spPr>
            <a:xfrm>
              <a:off x="3718080" y="551736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Box 34"/>
            <p:cNvSpPr/>
            <p:nvPr/>
          </p:nvSpPr>
          <p:spPr>
            <a:xfrm>
              <a:off x="5076360" y="5348880"/>
              <a:ext cx="3728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矩形 6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-41400" y="2212560"/>
            <a:ext cx="2331720" cy="2310120"/>
            <a:chOff x="-41400" y="2212560"/>
            <a:chExt cx="2331720" cy="2310120"/>
          </a:xfrm>
        </p:grpSpPr>
        <p:grpSp>
          <p:nvGrpSpPr>
            <p:cNvPr id="419" name="Group 4"/>
            <p:cNvGrpSpPr/>
            <p:nvPr/>
          </p:nvGrpSpPr>
          <p:grpSpPr>
            <a:xfrm>
              <a:off x="-41400" y="2212560"/>
              <a:ext cx="2331720" cy="2310120"/>
              <a:chOff x="-41400" y="2212560"/>
              <a:chExt cx="2331720" cy="2310120"/>
            </a:xfrm>
          </p:grpSpPr>
          <p:grpSp>
            <p:nvGrpSpPr>
              <p:cNvPr id="420" name="Group 5"/>
              <p:cNvGrpSpPr/>
              <p:nvPr/>
            </p:nvGrpSpPr>
            <p:grpSpPr>
              <a:xfrm>
                <a:off x="-41400" y="2212560"/>
                <a:ext cx="2331720" cy="2310120"/>
                <a:chOff x="-41400" y="2212560"/>
                <a:chExt cx="2331720" cy="2310120"/>
              </a:xfrm>
            </p:grpSpPr>
            <p:grpSp>
              <p:nvGrpSpPr>
                <p:cNvPr id="421" name="Group 6"/>
                <p:cNvGrpSpPr/>
                <p:nvPr/>
              </p:nvGrpSpPr>
              <p:grpSpPr>
                <a:xfrm>
                  <a:off x="-41400" y="2212560"/>
                  <a:ext cx="2331720" cy="2310120"/>
                  <a:chOff x="-41400" y="2212560"/>
                  <a:chExt cx="2331720" cy="2310120"/>
                </a:xfrm>
              </p:grpSpPr>
              <p:grpSp>
                <p:nvGrpSpPr>
                  <p:cNvPr id="422" name="Group 7"/>
                  <p:cNvGrpSpPr/>
                  <p:nvPr/>
                </p:nvGrpSpPr>
                <p:grpSpPr>
                  <a:xfrm>
                    <a:off x="-41400" y="2212560"/>
                    <a:ext cx="2331720" cy="2310120"/>
                    <a:chOff x="-41400" y="2212560"/>
                    <a:chExt cx="2331720" cy="2310120"/>
                  </a:xfrm>
                </p:grpSpPr>
                <p:grpSp>
                  <p:nvGrpSpPr>
                    <p:cNvPr id="423" name="Group 8"/>
                    <p:cNvGrpSpPr/>
                    <p:nvPr/>
                  </p:nvGrpSpPr>
                  <p:grpSpPr>
                    <a:xfrm>
                      <a:off x="-41400" y="2212560"/>
                      <a:ext cx="2331720" cy="2310120"/>
                      <a:chOff x="-41400" y="2212560"/>
                      <a:chExt cx="2331720" cy="2310120"/>
                    </a:xfrm>
                  </p:grpSpPr>
                  <p:sp>
                    <p:nvSpPr>
                      <p:cNvPr id="424" name="直接连接符 21"/>
                      <p:cNvSpPr/>
                      <p:nvPr/>
                    </p:nvSpPr>
                    <p:spPr>
                      <a:xfrm flipV="1">
                        <a:off x="446400" y="369576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25" name="Group 10"/>
                      <p:cNvGrpSpPr/>
                      <p:nvPr/>
                    </p:nvGrpSpPr>
                    <p:grpSpPr>
                      <a:xfrm>
                        <a:off x="-41400" y="2212560"/>
                        <a:ext cx="2331720" cy="2310120"/>
                        <a:chOff x="-41400" y="2212560"/>
                        <a:chExt cx="2331720" cy="2310120"/>
                      </a:xfrm>
                    </p:grpSpPr>
                    <p:grpSp>
                      <p:nvGrpSpPr>
                        <p:cNvPr id="426" name="Group 11"/>
                        <p:cNvGrpSpPr/>
                        <p:nvPr/>
                      </p:nvGrpSpPr>
                      <p:grpSpPr>
                        <a:xfrm>
                          <a:off x="-41400" y="2212560"/>
                          <a:ext cx="2331720" cy="2310120"/>
                          <a:chOff x="-41400" y="2212560"/>
                          <a:chExt cx="2331720" cy="2310120"/>
                        </a:xfrm>
                      </p:grpSpPr>
                      <p:grpSp>
                        <p:nvGrpSpPr>
                          <p:cNvPr id="427" name="Group 12"/>
                          <p:cNvGrpSpPr/>
                          <p:nvPr/>
                        </p:nvGrpSpPr>
                        <p:grpSpPr>
                          <a:xfrm>
                            <a:off x="-41400" y="2212560"/>
                            <a:ext cx="2331720" cy="2310120"/>
                            <a:chOff x="-41400" y="2212560"/>
                            <a:chExt cx="2331720" cy="2310120"/>
                          </a:xfrm>
                        </p:grpSpPr>
                        <p:sp>
                          <p:nvSpPr>
                            <p:cNvPr id="428" name="椭圆 34"/>
                            <p:cNvSpPr/>
                            <p:nvPr/>
                          </p:nvSpPr>
                          <p:spPr>
                            <a:xfrm rot="18013200">
                              <a:off x="290160" y="2504160"/>
                              <a:ext cx="1667880" cy="172692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9" name="椭圆 35"/>
                            <p:cNvSpPr/>
                            <p:nvPr/>
                          </p:nvSpPr>
                          <p:spPr>
                            <a:xfrm rot="18013200">
                              <a:off x="345600" y="2561400"/>
                              <a:ext cx="1557000" cy="16120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76923c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0" name="直接连接符 30"/>
                          <p:cNvSpPr/>
                          <p:nvPr/>
                        </p:nvSpPr>
                        <p:spPr>
                          <a:xfrm>
                            <a:off x="427680" y="2962080"/>
                            <a:ext cx="99360" cy="579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160" bIns="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1" name="直接连接符 31"/>
                          <p:cNvSpPr/>
                          <p:nvPr/>
                        </p:nvSpPr>
                        <p:spPr>
                          <a:xfrm>
                            <a:off x="1721520" y="3715560"/>
                            <a:ext cx="99360" cy="579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160" bIns="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2" name="直接连接符 32"/>
                          <p:cNvSpPr/>
                          <p:nvPr/>
                        </p:nvSpPr>
                        <p:spPr>
                          <a:xfrm flipV="1">
                            <a:off x="732600" y="394452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直接连接符 33"/>
                          <p:cNvSpPr/>
                          <p:nvPr/>
                        </p:nvSpPr>
                        <p:spPr>
                          <a:xfrm flipV="1">
                            <a:off x="1460160" y="269532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34" name="直接连接符 25"/>
                        <p:cNvSpPr/>
                        <p:nvPr/>
                      </p:nvSpPr>
                      <p:spPr>
                        <a:xfrm flipH="1" flipV="1">
                          <a:off x="1460160" y="3963240"/>
                          <a:ext cx="56160" cy="100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直接连接符 26"/>
                        <p:cNvSpPr/>
                        <p:nvPr/>
                      </p:nvSpPr>
                      <p:spPr>
                        <a:xfrm flipH="1" flipV="1">
                          <a:off x="724680" y="2659320"/>
                          <a:ext cx="56520" cy="100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6" name="直接连接符 27"/>
                        <p:cNvSpPr/>
                        <p:nvPr/>
                      </p:nvSpPr>
                      <p:spPr>
                        <a:xfrm flipH="1">
                          <a:off x="370080" y="3383640"/>
                          <a:ext cx="12456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直接连接符 28"/>
                        <p:cNvSpPr/>
                        <p:nvPr/>
                      </p:nvSpPr>
                      <p:spPr>
                        <a:xfrm flipH="1">
                          <a:off x="1774800" y="3384720"/>
                          <a:ext cx="12492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38" name="直接连接符 23"/>
                      <p:cNvSpPr/>
                      <p:nvPr/>
                    </p:nvSpPr>
                    <p:spPr>
                      <a:xfrm flipV="1">
                        <a:off x="1705680" y="298548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9" name="直接连接符 19"/>
                    <p:cNvSpPr/>
                    <p:nvPr/>
                  </p:nvSpPr>
                  <p:spPr>
                    <a:xfrm>
                      <a:off x="1124280" y="2561760"/>
                      <a:ext cx="0" cy="11484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直接连接符 20"/>
                    <p:cNvSpPr/>
                    <p:nvPr/>
                  </p:nvSpPr>
                  <p:spPr>
                    <a:xfrm>
                      <a:off x="1124280" y="4059000"/>
                      <a:ext cx="0" cy="11484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26"/>
                  <p:cNvGrpSpPr/>
                  <p:nvPr/>
                </p:nvGrpSpPr>
                <p:grpSpPr>
                  <a:xfrm>
                    <a:off x="843840" y="3077280"/>
                    <a:ext cx="719640" cy="354600"/>
                    <a:chOff x="843840" y="3077280"/>
                    <a:chExt cx="719640" cy="354600"/>
                  </a:xfrm>
                </p:grpSpPr>
                <p:sp>
                  <p:nvSpPr>
                    <p:cNvPr id="442" name="直接连接符 16"/>
                    <p:cNvSpPr/>
                    <p:nvPr/>
                  </p:nvSpPr>
                  <p:spPr>
                    <a:xfrm>
                      <a:off x="843840" y="3151800"/>
                      <a:ext cx="336240" cy="273600"/>
                    </a:xfrm>
                    <a:prstGeom prst="line">
                      <a:avLst/>
                    </a:prstGeom>
                    <a:ln w="5724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直接连接符 17"/>
                    <p:cNvSpPr/>
                    <p:nvPr/>
                  </p:nvSpPr>
                  <p:spPr>
                    <a:xfrm flipH="1">
                      <a:off x="1068480" y="3077280"/>
                      <a:ext cx="495000" cy="354600"/>
                    </a:xfrm>
                    <a:prstGeom prst="line">
                      <a:avLst/>
                    </a:prstGeom>
                    <a:ln w="5724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44" name="椭圆 13"/>
                <p:cNvSpPr/>
                <p:nvPr/>
              </p:nvSpPr>
              <p:spPr>
                <a:xfrm>
                  <a:off x="123840" y="2332080"/>
                  <a:ext cx="2016000" cy="208764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TextBox 11"/>
              <p:cNvSpPr/>
              <p:nvPr/>
            </p:nvSpPr>
            <p:spPr>
              <a:xfrm>
                <a:off x="654120" y="3450600"/>
                <a:ext cx="90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Spr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Group 32"/>
          <p:cNvGrpSpPr/>
          <p:nvPr/>
        </p:nvGrpSpPr>
        <p:grpSpPr>
          <a:xfrm>
            <a:off x="2286360" y="2731680"/>
            <a:ext cx="2314440" cy="2300400"/>
            <a:chOff x="2286360" y="2731680"/>
            <a:chExt cx="2314440" cy="2300400"/>
          </a:xfrm>
        </p:grpSpPr>
        <p:grpSp>
          <p:nvGrpSpPr>
            <p:cNvPr id="447" name="Group 33"/>
            <p:cNvGrpSpPr/>
            <p:nvPr/>
          </p:nvGrpSpPr>
          <p:grpSpPr>
            <a:xfrm>
              <a:off x="2286360" y="2731680"/>
              <a:ext cx="2314440" cy="2300400"/>
              <a:chOff x="2286360" y="2731680"/>
              <a:chExt cx="2314440" cy="2300400"/>
            </a:xfrm>
          </p:grpSpPr>
          <p:grpSp>
            <p:nvGrpSpPr>
              <p:cNvPr id="448" name="Group 34"/>
              <p:cNvGrpSpPr/>
              <p:nvPr/>
            </p:nvGrpSpPr>
            <p:grpSpPr>
              <a:xfrm>
                <a:off x="2286360" y="2731680"/>
                <a:ext cx="2314440" cy="2300400"/>
                <a:chOff x="2286360" y="2731680"/>
                <a:chExt cx="2314440" cy="2300400"/>
              </a:xfrm>
            </p:grpSpPr>
            <p:grpSp>
              <p:nvGrpSpPr>
                <p:cNvPr id="449" name="Group 35"/>
                <p:cNvGrpSpPr/>
                <p:nvPr/>
              </p:nvGrpSpPr>
              <p:grpSpPr>
                <a:xfrm>
                  <a:off x="2286360" y="2731680"/>
                  <a:ext cx="2314440" cy="2300400"/>
                  <a:chOff x="2286360" y="2731680"/>
                  <a:chExt cx="2314440" cy="2300400"/>
                </a:xfrm>
              </p:grpSpPr>
              <p:grpSp>
                <p:nvGrpSpPr>
                  <p:cNvPr id="450" name="Group 36"/>
                  <p:cNvGrpSpPr/>
                  <p:nvPr/>
                </p:nvGrpSpPr>
                <p:grpSpPr>
                  <a:xfrm>
                    <a:off x="2286360" y="2731680"/>
                    <a:ext cx="2314440" cy="2300400"/>
                    <a:chOff x="2286360" y="2731680"/>
                    <a:chExt cx="2314440" cy="2300400"/>
                  </a:xfrm>
                </p:grpSpPr>
                <p:grpSp>
                  <p:nvGrpSpPr>
                    <p:cNvPr id="451" name="Group 37"/>
                    <p:cNvGrpSpPr/>
                    <p:nvPr/>
                  </p:nvGrpSpPr>
                  <p:grpSpPr>
                    <a:xfrm>
                      <a:off x="2286360" y="2731680"/>
                      <a:ext cx="2314440" cy="2300400"/>
                      <a:chOff x="2286360" y="2731680"/>
                      <a:chExt cx="2314440" cy="2300400"/>
                    </a:xfrm>
                  </p:grpSpPr>
                  <p:sp>
                    <p:nvSpPr>
                      <p:cNvPr id="452" name="直接连接符 50"/>
                      <p:cNvSpPr/>
                      <p:nvPr/>
                    </p:nvSpPr>
                    <p:spPr>
                      <a:xfrm flipV="1">
                        <a:off x="2765880" y="420984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53" name="Group 39"/>
                      <p:cNvGrpSpPr/>
                      <p:nvPr/>
                    </p:nvGrpSpPr>
                    <p:grpSpPr>
                      <a:xfrm>
                        <a:off x="2286360" y="2731680"/>
                        <a:ext cx="2314440" cy="2300400"/>
                        <a:chOff x="2286360" y="2731680"/>
                        <a:chExt cx="2314440" cy="2300400"/>
                      </a:xfrm>
                    </p:grpSpPr>
                    <p:grpSp>
                      <p:nvGrpSpPr>
                        <p:cNvPr id="454" name="Group 40"/>
                        <p:cNvGrpSpPr/>
                        <p:nvPr/>
                      </p:nvGrpSpPr>
                      <p:grpSpPr>
                        <a:xfrm>
                          <a:off x="2286360" y="2731680"/>
                          <a:ext cx="2314440" cy="2300400"/>
                          <a:chOff x="2286360" y="2731680"/>
                          <a:chExt cx="2314440" cy="2300400"/>
                        </a:xfrm>
                      </p:grpSpPr>
                      <p:grpSp>
                        <p:nvGrpSpPr>
                          <p:cNvPr id="455" name="Group 41"/>
                          <p:cNvGrpSpPr/>
                          <p:nvPr/>
                        </p:nvGrpSpPr>
                        <p:grpSpPr>
                          <a:xfrm>
                            <a:off x="2286360" y="2731680"/>
                            <a:ext cx="2314440" cy="2300400"/>
                            <a:chOff x="2286360" y="2731680"/>
                            <a:chExt cx="2314440" cy="2300400"/>
                          </a:xfrm>
                        </p:grpSpPr>
                        <p:sp>
                          <p:nvSpPr>
                            <p:cNvPr id="456" name="椭圆 3"/>
                            <p:cNvSpPr/>
                            <p:nvPr/>
                          </p:nvSpPr>
                          <p:spPr>
                            <a:xfrm rot="18013200">
                              <a:off x="2609640" y="3027960"/>
                              <a:ext cx="1667880" cy="170712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57" name="椭圆 4"/>
                            <p:cNvSpPr/>
                            <p:nvPr/>
                          </p:nvSpPr>
                          <p:spPr>
                            <a:xfrm rot="18013200">
                              <a:off x="2665080" y="3084840"/>
                              <a:ext cx="1557000" cy="1593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76923c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58" name="直接连接符 59"/>
                          <p:cNvSpPr/>
                          <p:nvPr/>
                        </p:nvSpPr>
                        <p:spPr>
                          <a:xfrm>
                            <a:off x="2755080" y="3480840"/>
                            <a:ext cx="98280" cy="572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9" name="直接连接符 60"/>
                          <p:cNvSpPr/>
                          <p:nvPr/>
                        </p:nvSpPr>
                        <p:spPr>
                          <a:xfrm>
                            <a:off x="4033800" y="4225680"/>
                            <a:ext cx="98280" cy="572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0" name="直接连接符 14"/>
                          <p:cNvSpPr/>
                          <p:nvPr/>
                        </p:nvSpPr>
                        <p:spPr>
                          <a:xfrm flipV="1">
                            <a:off x="3052080" y="445860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1" name="直接连接符 16"/>
                          <p:cNvSpPr/>
                          <p:nvPr/>
                        </p:nvSpPr>
                        <p:spPr>
                          <a:xfrm flipV="1">
                            <a:off x="3779640" y="320940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2" name="直接连接符 54"/>
                        <p:cNvSpPr/>
                        <p:nvPr/>
                      </p:nvSpPr>
                      <p:spPr>
                        <a:xfrm flipH="1" flipV="1">
                          <a:off x="3775680" y="4470840"/>
                          <a:ext cx="56160" cy="99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直接连接符 55"/>
                        <p:cNvSpPr/>
                        <p:nvPr/>
                      </p:nvSpPr>
                      <p:spPr>
                        <a:xfrm flipH="1" flipV="1">
                          <a:off x="3048840" y="3181320"/>
                          <a:ext cx="55800" cy="99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直接连接符 56"/>
                        <p:cNvSpPr/>
                        <p:nvPr/>
                      </p:nvSpPr>
                      <p:spPr>
                        <a:xfrm flipH="1">
                          <a:off x="2691360" y="3900960"/>
                          <a:ext cx="12456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直接连接符 57"/>
                        <p:cNvSpPr/>
                        <p:nvPr/>
                      </p:nvSpPr>
                      <p:spPr>
                        <a:xfrm flipH="1">
                          <a:off x="4092480" y="3895200"/>
                          <a:ext cx="12456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6" name="直接连接符 52"/>
                      <p:cNvSpPr/>
                      <p:nvPr/>
                    </p:nvSpPr>
                    <p:spPr>
                      <a:xfrm flipV="1">
                        <a:off x="4025160" y="349956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7" name="直接连接符 48"/>
                    <p:cNvSpPr/>
                    <p:nvPr/>
                  </p:nvSpPr>
                  <p:spPr>
                    <a:xfrm>
                      <a:off x="3443760" y="3084840"/>
                      <a:ext cx="0" cy="11376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直接连接符 49"/>
                    <p:cNvSpPr/>
                    <p:nvPr/>
                  </p:nvSpPr>
                  <p:spPr>
                    <a:xfrm>
                      <a:off x="3443760" y="4564800"/>
                      <a:ext cx="0" cy="11376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Group 55"/>
                  <p:cNvGrpSpPr/>
                  <p:nvPr/>
                </p:nvGrpSpPr>
                <p:grpSpPr>
                  <a:xfrm>
                    <a:off x="3163320" y="3594600"/>
                    <a:ext cx="719640" cy="350640"/>
                    <a:chOff x="3163320" y="3594600"/>
                    <a:chExt cx="719640" cy="350640"/>
                  </a:xfrm>
                </p:grpSpPr>
                <p:sp>
                  <p:nvSpPr>
                    <p:cNvPr id="470" name="直接连接符 45"/>
                    <p:cNvSpPr/>
                    <p:nvPr/>
                  </p:nvSpPr>
                  <p:spPr>
                    <a:xfrm>
                      <a:off x="3163320" y="3668040"/>
                      <a:ext cx="336240" cy="270360"/>
                    </a:xfrm>
                    <a:prstGeom prst="line">
                      <a:avLst/>
                    </a:prstGeom>
                    <a:ln w="5724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直接连接符 46"/>
                    <p:cNvSpPr/>
                    <p:nvPr/>
                  </p:nvSpPr>
                  <p:spPr>
                    <a:xfrm flipH="1">
                      <a:off x="3387960" y="3594600"/>
                      <a:ext cx="495000" cy="350640"/>
                    </a:xfrm>
                    <a:prstGeom prst="line">
                      <a:avLst/>
                    </a:prstGeom>
                    <a:ln w="5724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72" name="椭圆 42"/>
                <p:cNvSpPr/>
                <p:nvPr/>
              </p:nvSpPr>
              <p:spPr>
                <a:xfrm>
                  <a:off x="2443320" y="2857680"/>
                  <a:ext cx="2016000" cy="206352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TextBox 40"/>
              <p:cNvSpPr/>
              <p:nvPr/>
            </p:nvSpPr>
            <p:spPr>
              <a:xfrm>
                <a:off x="2879640" y="396324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Sum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Group 61"/>
          <p:cNvGrpSpPr/>
          <p:nvPr/>
        </p:nvGrpSpPr>
        <p:grpSpPr>
          <a:xfrm>
            <a:off x="4490640" y="2159280"/>
            <a:ext cx="2376360" cy="2336400"/>
            <a:chOff x="4490640" y="2159280"/>
            <a:chExt cx="2376360" cy="2336400"/>
          </a:xfrm>
        </p:grpSpPr>
        <p:grpSp>
          <p:nvGrpSpPr>
            <p:cNvPr id="475" name="Group 62"/>
            <p:cNvGrpSpPr/>
            <p:nvPr/>
          </p:nvGrpSpPr>
          <p:grpSpPr>
            <a:xfrm>
              <a:off x="4490640" y="2159280"/>
              <a:ext cx="2376360" cy="2336400"/>
              <a:chOff x="4490640" y="2159280"/>
              <a:chExt cx="2376360" cy="2336400"/>
            </a:xfrm>
          </p:grpSpPr>
          <p:grpSp>
            <p:nvGrpSpPr>
              <p:cNvPr id="476" name="Group 63"/>
              <p:cNvGrpSpPr/>
              <p:nvPr/>
            </p:nvGrpSpPr>
            <p:grpSpPr>
              <a:xfrm>
                <a:off x="4490640" y="2159280"/>
                <a:ext cx="2376360" cy="2336400"/>
                <a:chOff x="4490640" y="2159280"/>
                <a:chExt cx="2376360" cy="2336400"/>
              </a:xfrm>
            </p:grpSpPr>
            <p:grpSp>
              <p:nvGrpSpPr>
                <p:cNvPr id="477" name="Group 64"/>
                <p:cNvGrpSpPr/>
                <p:nvPr/>
              </p:nvGrpSpPr>
              <p:grpSpPr>
                <a:xfrm>
                  <a:off x="4490640" y="2159280"/>
                  <a:ext cx="2376360" cy="2336400"/>
                  <a:chOff x="4490640" y="2159280"/>
                  <a:chExt cx="2376360" cy="2336400"/>
                </a:xfrm>
              </p:grpSpPr>
              <p:grpSp>
                <p:nvGrpSpPr>
                  <p:cNvPr id="478" name="Group 65"/>
                  <p:cNvGrpSpPr/>
                  <p:nvPr/>
                </p:nvGrpSpPr>
                <p:grpSpPr>
                  <a:xfrm>
                    <a:off x="4490640" y="2159280"/>
                    <a:ext cx="2376360" cy="2336400"/>
                    <a:chOff x="4490640" y="2159280"/>
                    <a:chExt cx="2376360" cy="2336400"/>
                  </a:xfrm>
                </p:grpSpPr>
                <p:grpSp>
                  <p:nvGrpSpPr>
                    <p:cNvPr id="479" name="Group 66"/>
                    <p:cNvGrpSpPr/>
                    <p:nvPr/>
                  </p:nvGrpSpPr>
                  <p:grpSpPr>
                    <a:xfrm>
                      <a:off x="4490640" y="2159280"/>
                      <a:ext cx="2376360" cy="2336400"/>
                      <a:chOff x="4490640" y="2159280"/>
                      <a:chExt cx="2376360" cy="2336400"/>
                    </a:xfrm>
                  </p:grpSpPr>
                  <p:sp>
                    <p:nvSpPr>
                      <p:cNvPr id="480" name="直接连接符 79"/>
                      <p:cNvSpPr/>
                      <p:nvPr/>
                    </p:nvSpPr>
                    <p:spPr>
                      <a:xfrm flipV="1">
                        <a:off x="5000760" y="365544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81" name="Group 68"/>
                      <p:cNvGrpSpPr/>
                      <p:nvPr/>
                    </p:nvGrpSpPr>
                    <p:grpSpPr>
                      <a:xfrm>
                        <a:off x="4490640" y="2159280"/>
                        <a:ext cx="2376360" cy="2336400"/>
                        <a:chOff x="4490640" y="2159280"/>
                        <a:chExt cx="2376360" cy="2336400"/>
                      </a:xfrm>
                    </p:grpSpPr>
                    <p:grpSp>
                      <p:nvGrpSpPr>
                        <p:cNvPr id="482" name="Group 69"/>
                        <p:cNvGrpSpPr/>
                        <p:nvPr/>
                      </p:nvGrpSpPr>
                      <p:grpSpPr>
                        <a:xfrm>
                          <a:off x="4490640" y="2159280"/>
                          <a:ext cx="2376360" cy="2336400"/>
                          <a:chOff x="4490640" y="2159280"/>
                          <a:chExt cx="2376360" cy="2336400"/>
                        </a:xfrm>
                      </p:grpSpPr>
                      <p:grpSp>
                        <p:nvGrpSpPr>
                          <p:cNvPr id="483" name="Group 70"/>
                          <p:cNvGrpSpPr/>
                          <p:nvPr/>
                        </p:nvGrpSpPr>
                        <p:grpSpPr>
                          <a:xfrm>
                            <a:off x="4490640" y="2159280"/>
                            <a:ext cx="2376360" cy="2336400"/>
                            <a:chOff x="4490640" y="2159280"/>
                            <a:chExt cx="2376360" cy="2336400"/>
                          </a:xfrm>
                        </p:grpSpPr>
                        <p:sp>
                          <p:nvSpPr>
                            <p:cNvPr id="484" name="椭圆 4"/>
                            <p:cNvSpPr/>
                            <p:nvPr/>
                          </p:nvSpPr>
                          <p:spPr>
                            <a:xfrm rot="18013200">
                              <a:off x="4899960" y="2497320"/>
                              <a:ext cx="1557000" cy="16599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ff6600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5" name="椭圆 3"/>
                            <p:cNvSpPr/>
                            <p:nvPr/>
                          </p:nvSpPr>
                          <p:spPr>
                            <a:xfrm rot="18013200">
                              <a:off x="4844520" y="2438280"/>
                              <a:ext cx="1668240" cy="177840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86" name="直接连接符 88"/>
                          <p:cNvSpPr/>
                          <p:nvPr/>
                        </p:nvSpPr>
                        <p:spPr>
                          <a:xfrm>
                            <a:off x="4961520" y="2909520"/>
                            <a:ext cx="102600" cy="59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960" bIns="12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7" name="直接连接符 89"/>
                          <p:cNvSpPr/>
                          <p:nvPr/>
                        </p:nvSpPr>
                        <p:spPr>
                          <a:xfrm>
                            <a:off x="6293520" y="3685680"/>
                            <a:ext cx="102600" cy="594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600" bIns="12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直接连接符 14"/>
                          <p:cNvSpPr/>
                          <p:nvPr/>
                        </p:nvSpPr>
                        <p:spPr>
                          <a:xfrm flipV="1">
                            <a:off x="5286960" y="3904200"/>
                            <a:ext cx="56160" cy="96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直接连接符 16"/>
                          <p:cNvSpPr/>
                          <p:nvPr/>
                        </p:nvSpPr>
                        <p:spPr>
                          <a:xfrm flipV="1">
                            <a:off x="6014880" y="265500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0" name="直接连接符 83"/>
                        <p:cNvSpPr/>
                        <p:nvPr/>
                      </p:nvSpPr>
                      <p:spPr>
                        <a:xfrm flipH="1" flipV="1">
                          <a:off x="6024960" y="3940920"/>
                          <a:ext cx="57960" cy="1029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直接连接符 84"/>
                        <p:cNvSpPr/>
                        <p:nvPr/>
                      </p:nvSpPr>
                      <p:spPr>
                        <a:xfrm flipH="1" flipV="1">
                          <a:off x="5267520" y="2597760"/>
                          <a:ext cx="58320" cy="1033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直接连接符 85"/>
                        <p:cNvSpPr/>
                        <p:nvPr/>
                      </p:nvSpPr>
                      <p:spPr>
                        <a:xfrm flipH="1">
                          <a:off x="4919040" y="3335760"/>
                          <a:ext cx="125640" cy="3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直接连接符 86"/>
                        <p:cNvSpPr/>
                        <p:nvPr/>
                      </p:nvSpPr>
                      <p:spPr>
                        <a:xfrm flipH="1">
                          <a:off x="6334560" y="3354840"/>
                          <a:ext cx="125640" cy="2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94" name="直接连接符 81"/>
                      <p:cNvSpPr/>
                      <p:nvPr/>
                    </p:nvSpPr>
                    <p:spPr>
                      <a:xfrm flipV="1">
                        <a:off x="6260400" y="294516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95" name="直接连接符 77"/>
                    <p:cNvSpPr/>
                    <p:nvPr/>
                  </p:nvSpPr>
                  <p:spPr>
                    <a:xfrm>
                      <a:off x="5679000" y="2497320"/>
                      <a:ext cx="0" cy="11844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直接连接符 78"/>
                    <p:cNvSpPr/>
                    <p:nvPr/>
                  </p:nvSpPr>
                  <p:spPr>
                    <a:xfrm>
                      <a:off x="5679000" y="4038840"/>
                      <a:ext cx="0" cy="11844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Group 84"/>
                  <p:cNvGrpSpPr/>
                  <p:nvPr/>
                </p:nvGrpSpPr>
                <p:grpSpPr>
                  <a:xfrm>
                    <a:off x="5398200" y="3028320"/>
                    <a:ext cx="720360" cy="365400"/>
                    <a:chOff x="5398200" y="3028320"/>
                    <a:chExt cx="720360" cy="365400"/>
                  </a:xfrm>
                </p:grpSpPr>
                <p:sp>
                  <p:nvSpPr>
                    <p:cNvPr id="498" name="直接连接符 74"/>
                    <p:cNvSpPr/>
                    <p:nvPr/>
                  </p:nvSpPr>
                  <p:spPr>
                    <a:xfrm>
                      <a:off x="5398200" y="3105000"/>
                      <a:ext cx="336240" cy="281880"/>
                    </a:xfrm>
                    <a:prstGeom prst="line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直接连接符 75"/>
                    <p:cNvSpPr/>
                    <p:nvPr/>
                  </p:nvSpPr>
                  <p:spPr>
                    <a:xfrm flipH="1">
                      <a:off x="5623200" y="3028320"/>
                      <a:ext cx="495360" cy="365400"/>
                    </a:xfrm>
                    <a:prstGeom prst="line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00" name="椭圆 71"/>
                <p:cNvSpPr/>
                <p:nvPr/>
              </p:nvSpPr>
              <p:spPr>
                <a:xfrm>
                  <a:off x="4678200" y="2260440"/>
                  <a:ext cx="2016360" cy="214956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TextBox 69"/>
              <p:cNvSpPr/>
              <p:nvPr/>
            </p:nvSpPr>
            <p:spPr>
              <a:xfrm>
                <a:off x="5139360" y="3369960"/>
                <a:ext cx="104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Autum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2" name="Group 90"/>
          <p:cNvGrpSpPr/>
          <p:nvPr/>
        </p:nvGrpSpPr>
        <p:grpSpPr>
          <a:xfrm>
            <a:off x="6783480" y="67680"/>
            <a:ext cx="2362680" cy="2328480"/>
            <a:chOff x="6783480" y="67680"/>
            <a:chExt cx="2362680" cy="2328480"/>
          </a:xfrm>
        </p:grpSpPr>
        <p:grpSp>
          <p:nvGrpSpPr>
            <p:cNvPr id="503" name="Group 91"/>
            <p:cNvGrpSpPr/>
            <p:nvPr/>
          </p:nvGrpSpPr>
          <p:grpSpPr>
            <a:xfrm>
              <a:off x="6783480" y="67680"/>
              <a:ext cx="2362680" cy="2328480"/>
              <a:chOff x="6783480" y="67680"/>
              <a:chExt cx="2362680" cy="2328480"/>
            </a:xfrm>
          </p:grpSpPr>
          <p:grpSp>
            <p:nvGrpSpPr>
              <p:cNvPr id="504" name="Group 92"/>
              <p:cNvGrpSpPr/>
              <p:nvPr/>
            </p:nvGrpSpPr>
            <p:grpSpPr>
              <a:xfrm>
                <a:off x="6783480" y="67680"/>
                <a:ext cx="2362680" cy="2328480"/>
                <a:chOff x="6783480" y="67680"/>
                <a:chExt cx="2362680" cy="2328480"/>
              </a:xfrm>
            </p:grpSpPr>
            <p:grpSp>
              <p:nvGrpSpPr>
                <p:cNvPr id="505" name="Group 93"/>
                <p:cNvGrpSpPr/>
                <p:nvPr/>
              </p:nvGrpSpPr>
              <p:grpSpPr>
                <a:xfrm>
                  <a:off x="6783480" y="67680"/>
                  <a:ext cx="2362680" cy="2328480"/>
                  <a:chOff x="6783480" y="67680"/>
                  <a:chExt cx="2362680" cy="2328480"/>
                </a:xfrm>
              </p:grpSpPr>
              <p:grpSp>
                <p:nvGrpSpPr>
                  <p:cNvPr id="506" name="Group 94"/>
                  <p:cNvGrpSpPr/>
                  <p:nvPr/>
                </p:nvGrpSpPr>
                <p:grpSpPr>
                  <a:xfrm>
                    <a:off x="6783480" y="67680"/>
                    <a:ext cx="2362680" cy="2328480"/>
                    <a:chOff x="6783480" y="67680"/>
                    <a:chExt cx="2362680" cy="2328480"/>
                  </a:xfrm>
                </p:grpSpPr>
                <p:grpSp>
                  <p:nvGrpSpPr>
                    <p:cNvPr id="507" name="Group 95"/>
                    <p:cNvGrpSpPr/>
                    <p:nvPr/>
                  </p:nvGrpSpPr>
                  <p:grpSpPr>
                    <a:xfrm>
                      <a:off x="6783480" y="67680"/>
                      <a:ext cx="2362680" cy="2328480"/>
                      <a:chOff x="6783480" y="67680"/>
                      <a:chExt cx="2362680" cy="2328480"/>
                    </a:xfrm>
                  </p:grpSpPr>
                  <p:sp>
                    <p:nvSpPr>
                      <p:cNvPr id="508" name="直接连接符 108"/>
                      <p:cNvSpPr/>
                      <p:nvPr/>
                    </p:nvSpPr>
                    <p:spPr>
                      <a:xfrm flipV="1">
                        <a:off x="7286760" y="155988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09" name="Group 97"/>
                      <p:cNvGrpSpPr/>
                      <p:nvPr/>
                    </p:nvGrpSpPr>
                    <p:grpSpPr>
                      <a:xfrm>
                        <a:off x="6783480" y="67680"/>
                        <a:ext cx="2362680" cy="2328480"/>
                        <a:chOff x="6783480" y="67680"/>
                        <a:chExt cx="2362680" cy="2328480"/>
                      </a:xfrm>
                    </p:grpSpPr>
                    <p:grpSp>
                      <p:nvGrpSpPr>
                        <p:cNvPr id="510" name="Group 98"/>
                        <p:cNvGrpSpPr/>
                        <p:nvPr/>
                      </p:nvGrpSpPr>
                      <p:grpSpPr>
                        <a:xfrm>
                          <a:off x="6783480" y="67680"/>
                          <a:ext cx="2362680" cy="2328480"/>
                          <a:chOff x="6783480" y="67680"/>
                          <a:chExt cx="2362680" cy="2328480"/>
                        </a:xfrm>
                      </p:grpSpPr>
                      <p:grpSp>
                        <p:nvGrpSpPr>
                          <p:cNvPr id="511" name="Group 99"/>
                          <p:cNvGrpSpPr/>
                          <p:nvPr/>
                        </p:nvGrpSpPr>
                        <p:grpSpPr>
                          <a:xfrm>
                            <a:off x="6783480" y="67680"/>
                            <a:ext cx="2362680" cy="2328480"/>
                            <a:chOff x="6783480" y="67680"/>
                            <a:chExt cx="2362680" cy="2328480"/>
                          </a:xfrm>
                        </p:grpSpPr>
                        <p:sp>
                          <p:nvSpPr>
                            <p:cNvPr id="512" name="椭圆 4"/>
                            <p:cNvSpPr/>
                            <p:nvPr/>
                          </p:nvSpPr>
                          <p:spPr>
                            <a:xfrm rot="18013200">
                              <a:off x="7186320" y="409320"/>
                              <a:ext cx="1557000" cy="1645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00b0f0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3" name="椭圆 3"/>
                            <p:cNvSpPr/>
                            <p:nvPr/>
                          </p:nvSpPr>
                          <p:spPr>
                            <a:xfrm rot="18013200">
                              <a:off x="7130520" y="350640"/>
                              <a:ext cx="1668240" cy="176256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14" name="直接连接符 117"/>
                          <p:cNvSpPr/>
                          <p:nvPr/>
                        </p:nvSpPr>
                        <p:spPr>
                          <a:xfrm>
                            <a:off x="7254000" y="817560"/>
                            <a:ext cx="101160" cy="590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5" name="直接连接符 118"/>
                          <p:cNvSpPr/>
                          <p:nvPr/>
                        </p:nvSpPr>
                        <p:spPr>
                          <a:xfrm>
                            <a:off x="8574480" y="1586880"/>
                            <a:ext cx="101160" cy="590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6" name="直接连接符 14"/>
                          <p:cNvSpPr/>
                          <p:nvPr/>
                        </p:nvSpPr>
                        <p:spPr>
                          <a:xfrm flipV="1">
                            <a:off x="7572960" y="1808640"/>
                            <a:ext cx="56160" cy="96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7" name="直接连接符 16"/>
                          <p:cNvSpPr/>
                          <p:nvPr/>
                        </p:nvSpPr>
                        <p:spPr>
                          <a:xfrm flipV="1">
                            <a:off x="8300880" y="55944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8" name="直接连接符 112"/>
                        <p:cNvSpPr/>
                        <p:nvPr/>
                      </p:nvSpPr>
                      <p:spPr>
                        <a:xfrm flipH="1" flipV="1">
                          <a:off x="8307720" y="1839960"/>
                          <a:ext cx="57960" cy="102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直接连接符 113"/>
                        <p:cNvSpPr/>
                        <p:nvPr/>
                      </p:nvSpPr>
                      <p:spPr>
                        <a:xfrm flipH="1" flipV="1">
                          <a:off x="7557120" y="508680"/>
                          <a:ext cx="57600" cy="102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直接连接符 114"/>
                        <p:cNvSpPr/>
                        <p:nvPr/>
                      </p:nvSpPr>
                      <p:spPr>
                        <a:xfrm flipH="1">
                          <a:off x="7206840" y="1242720"/>
                          <a:ext cx="125280" cy="36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直接连接符 115"/>
                        <p:cNvSpPr/>
                        <p:nvPr/>
                      </p:nvSpPr>
                      <p:spPr>
                        <a:xfrm flipH="1">
                          <a:off x="8619120" y="1256040"/>
                          <a:ext cx="125280" cy="3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22" name="直接连接符 110"/>
                      <p:cNvSpPr/>
                      <p:nvPr/>
                    </p:nvSpPr>
                    <p:spPr>
                      <a:xfrm flipV="1">
                        <a:off x="8546400" y="84960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3" name="直接连接符 106"/>
                    <p:cNvSpPr/>
                    <p:nvPr/>
                  </p:nvSpPr>
                  <p:spPr>
                    <a:xfrm>
                      <a:off x="7965000" y="408960"/>
                      <a:ext cx="0" cy="11736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直接连接符 107"/>
                    <p:cNvSpPr/>
                    <p:nvPr/>
                  </p:nvSpPr>
                  <p:spPr>
                    <a:xfrm>
                      <a:off x="7965000" y="1937160"/>
                      <a:ext cx="0" cy="11736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113"/>
                  <p:cNvGrpSpPr/>
                  <p:nvPr/>
                </p:nvGrpSpPr>
                <p:grpSpPr>
                  <a:xfrm>
                    <a:off x="7684200" y="935280"/>
                    <a:ext cx="720360" cy="361800"/>
                    <a:chOff x="7684200" y="935280"/>
                    <a:chExt cx="720360" cy="361800"/>
                  </a:xfrm>
                </p:grpSpPr>
                <p:sp>
                  <p:nvSpPr>
                    <p:cNvPr id="526" name="直接连接符 103"/>
                    <p:cNvSpPr/>
                    <p:nvPr/>
                  </p:nvSpPr>
                  <p:spPr>
                    <a:xfrm>
                      <a:off x="7684200" y="1011240"/>
                      <a:ext cx="336240" cy="279000"/>
                    </a:xfrm>
                    <a:prstGeom prst="line">
                      <a:avLst/>
                    </a:prstGeom>
                    <a:ln w="5724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直接连接符 104"/>
                    <p:cNvSpPr/>
                    <p:nvPr/>
                  </p:nvSpPr>
                  <p:spPr>
                    <a:xfrm flipH="1">
                      <a:off x="7909200" y="935280"/>
                      <a:ext cx="495360" cy="361800"/>
                    </a:xfrm>
                    <a:prstGeom prst="line">
                      <a:avLst/>
                    </a:prstGeom>
                    <a:ln w="5724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28" name="椭圆 100"/>
                <p:cNvSpPr/>
                <p:nvPr/>
              </p:nvSpPr>
              <p:spPr>
                <a:xfrm>
                  <a:off x="6964200" y="174600"/>
                  <a:ext cx="2016360" cy="21304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TextBox 98"/>
              <p:cNvSpPr/>
              <p:nvPr/>
            </p:nvSpPr>
            <p:spPr>
              <a:xfrm>
                <a:off x="7520400" y="1198080"/>
                <a:ext cx="854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win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直接连接符 124"/>
          <p:cNvSpPr/>
          <p:nvPr/>
        </p:nvSpPr>
        <p:spPr>
          <a:xfrm>
            <a:off x="2058840" y="3757680"/>
            <a:ext cx="384480" cy="60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130"/>
          <p:cNvSpPr/>
          <p:nvPr/>
        </p:nvSpPr>
        <p:spPr>
          <a:xfrm flipV="1">
            <a:off x="4459320" y="3817440"/>
            <a:ext cx="295200" cy="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直接连接符 140"/>
          <p:cNvSpPr/>
          <p:nvPr/>
        </p:nvSpPr>
        <p:spPr>
          <a:xfrm flipV="1">
            <a:off x="6399360" y="1913040"/>
            <a:ext cx="753840" cy="7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直接连接符 156"/>
          <p:cNvSpPr/>
          <p:nvPr/>
        </p:nvSpPr>
        <p:spPr>
          <a:xfrm>
            <a:off x="0" y="6308640"/>
            <a:ext cx="918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23"/>
          <p:cNvSpPr/>
          <p:nvPr/>
        </p:nvSpPr>
        <p:spPr>
          <a:xfrm>
            <a:off x="766764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2"/>
          <p:cNvSpPr/>
          <p:nvPr/>
        </p:nvSpPr>
        <p:spPr>
          <a:xfrm>
            <a:off x="1763640" y="1413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谢聆听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标题 1"/>
          <p:cNvSpPr/>
          <p:nvPr/>
        </p:nvSpPr>
        <p:spPr>
          <a:xfrm>
            <a:off x="97164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1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 rot="20512800">
            <a:off x="-246240" y="4186080"/>
            <a:ext cx="10563480" cy="40611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1888920" y="1643760"/>
            <a:ext cx="3115440" cy="4070520"/>
            <a:chOff x="1888920" y="1643760"/>
            <a:chExt cx="3115440" cy="4070520"/>
          </a:xfrm>
        </p:grpSpPr>
        <p:sp>
          <p:nvSpPr>
            <p:cNvPr id="169" name="矩形 5"/>
            <p:cNvSpPr/>
            <p:nvPr/>
          </p:nvSpPr>
          <p:spPr>
            <a:xfrm rot="20377800">
              <a:off x="2454120" y="1876320"/>
              <a:ext cx="1984680" cy="36050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2"/>
            <p:cNvSpPr/>
            <p:nvPr/>
          </p:nvSpPr>
          <p:spPr>
            <a:xfrm rot="21434400">
              <a:off x="2868120" y="33865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8"/>
            <p:cNvSpPr/>
            <p:nvPr/>
          </p:nvSpPr>
          <p:spPr>
            <a:xfrm>
              <a:off x="2553120" y="1857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1"/>
          <p:cNvGrpSpPr/>
          <p:nvPr/>
        </p:nvGrpSpPr>
        <p:grpSpPr>
          <a:xfrm>
            <a:off x="4243680" y="2092320"/>
            <a:ext cx="2842560" cy="2952000"/>
            <a:chOff x="4243680" y="2092320"/>
            <a:chExt cx="2842560" cy="2952000"/>
          </a:xfrm>
        </p:grpSpPr>
        <p:sp>
          <p:nvSpPr>
            <p:cNvPr id="173" name="矩形 7"/>
            <p:cNvSpPr/>
            <p:nvPr/>
          </p:nvSpPr>
          <p:spPr>
            <a:xfrm rot="19246800">
              <a:off x="4800240" y="2387880"/>
              <a:ext cx="1728720" cy="2377440"/>
            </a:xfrm>
            <a:prstGeom prst="rect">
              <a:avLst/>
            </a:prstGeom>
            <a:solidFill>
              <a:srgbClr val="99cc0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13"/>
            <p:cNvSpPr/>
            <p:nvPr/>
          </p:nvSpPr>
          <p:spPr>
            <a:xfrm rot="21434400">
              <a:off x="5222160" y="324324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9"/>
            <p:cNvSpPr/>
            <p:nvPr/>
          </p:nvSpPr>
          <p:spPr>
            <a:xfrm>
              <a:off x="491976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5"/>
          <p:cNvGrpSpPr/>
          <p:nvPr/>
        </p:nvGrpSpPr>
        <p:grpSpPr>
          <a:xfrm>
            <a:off x="6526080" y="1019160"/>
            <a:ext cx="2270520" cy="3733560"/>
            <a:chOff x="6526080" y="1019160"/>
            <a:chExt cx="2270520" cy="3733560"/>
          </a:xfrm>
        </p:grpSpPr>
        <p:sp>
          <p:nvSpPr>
            <p:cNvPr id="177" name="矩形 8"/>
            <p:cNvSpPr/>
            <p:nvPr/>
          </p:nvSpPr>
          <p:spPr>
            <a:xfrm rot="256200">
              <a:off x="6645240" y="1402200"/>
              <a:ext cx="2032200" cy="327924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4"/>
            <p:cNvSpPr/>
            <p:nvPr/>
          </p:nvSpPr>
          <p:spPr>
            <a:xfrm rot="21434400">
              <a:off x="7261200" y="26287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20"/>
            <p:cNvSpPr/>
            <p:nvPr/>
          </p:nvSpPr>
          <p:spPr>
            <a:xfrm>
              <a:off x="7346880" y="101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1.1 X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457200" y="1339920"/>
            <a:ext cx="8362800" cy="3952440"/>
            <a:chOff x="457200" y="1339920"/>
            <a:chExt cx="8362800" cy="3952440"/>
          </a:xfrm>
        </p:grpSpPr>
        <p:sp>
          <p:nvSpPr>
            <p:cNvPr id="185" name="Rectangle 8"/>
            <p:cNvSpPr/>
            <p:nvPr/>
          </p:nvSpPr>
          <p:spPr>
            <a:xfrm>
              <a:off x="1044000" y="1549080"/>
              <a:ext cx="3527280" cy="6476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1044000" y="2917440"/>
              <a:ext cx="3527280" cy="6476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0"/>
            <p:cNvSpPr/>
            <p:nvPr/>
          </p:nvSpPr>
          <p:spPr>
            <a:xfrm>
              <a:off x="1044000" y="4644720"/>
              <a:ext cx="3527280" cy="6476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"/>
            <p:cNvSpPr/>
            <p:nvPr/>
          </p:nvSpPr>
          <p:spPr>
            <a:xfrm>
              <a:off x="610920" y="1463400"/>
              <a:ext cx="820908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做区域，就要先想到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……………………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做区域，就是要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……………………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做区域，还有一个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……………………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5"/>
            <p:cNvSpPr/>
            <p:nvPr/>
          </p:nvSpPr>
          <p:spPr>
            <a:xfrm>
              <a:off x="457200" y="1339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36"/>
            <p:cNvSpPr/>
            <p:nvPr/>
          </p:nvSpPr>
          <p:spPr>
            <a:xfrm>
              <a:off x="501480" y="2804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4"/>
            <p:cNvSpPr/>
            <p:nvPr/>
          </p:nvSpPr>
          <p:spPr>
            <a:xfrm>
              <a:off x="546120" y="452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1.2 X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679320" y="1376280"/>
            <a:ext cx="8104320" cy="4705560"/>
            <a:chOff x="679320" y="1376280"/>
            <a:chExt cx="8104320" cy="4705560"/>
          </a:xfrm>
        </p:grpSpPr>
        <p:grpSp>
          <p:nvGrpSpPr>
            <p:cNvPr id="197" name="Group 7"/>
            <p:cNvGrpSpPr/>
            <p:nvPr/>
          </p:nvGrpSpPr>
          <p:grpSpPr>
            <a:xfrm>
              <a:off x="679320" y="3546360"/>
              <a:ext cx="2603520" cy="2535480"/>
              <a:chOff x="679320" y="3546360"/>
              <a:chExt cx="2603520" cy="2535480"/>
            </a:xfrm>
          </p:grpSpPr>
          <p:sp>
            <p:nvSpPr>
              <p:cNvPr id="198" name="圆角矩形 3"/>
              <p:cNvSpPr/>
              <p:nvPr/>
            </p:nvSpPr>
            <p:spPr>
              <a:xfrm>
                <a:off x="776160" y="3546360"/>
                <a:ext cx="2395800" cy="471600"/>
              </a:xfrm>
              <a:prstGeom prst="roundRect">
                <a:avLst>
                  <a:gd name="adj" fmla="val 50000"/>
                </a:avLst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圆角矩形 4"/>
              <p:cNvSpPr/>
              <p:nvPr/>
            </p:nvSpPr>
            <p:spPr>
              <a:xfrm>
                <a:off x="679320" y="4267080"/>
                <a:ext cx="2603520" cy="1814760"/>
              </a:xfrm>
              <a:prstGeom prst="roundRect">
                <a:avLst>
                  <a:gd name="adj" fmla="val 12852"/>
                </a:avLst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5"/>
              <p:cNvSpPr/>
              <p:nvPr/>
            </p:nvSpPr>
            <p:spPr>
              <a:xfrm>
                <a:off x="1973880" y="4017600"/>
                <a:ext cx="6120" cy="24912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1"/>
            <p:cNvGrpSpPr/>
            <p:nvPr/>
          </p:nvGrpSpPr>
          <p:grpSpPr>
            <a:xfrm>
              <a:off x="6178680" y="3501000"/>
              <a:ext cx="2604960" cy="2536920"/>
              <a:chOff x="6178680" y="3501000"/>
              <a:chExt cx="2604960" cy="2536920"/>
            </a:xfrm>
          </p:grpSpPr>
          <p:sp>
            <p:nvSpPr>
              <p:cNvPr id="202" name="圆角矩形 11"/>
              <p:cNvSpPr/>
              <p:nvPr/>
            </p:nvSpPr>
            <p:spPr>
              <a:xfrm>
                <a:off x="6275520" y="3501000"/>
                <a:ext cx="2397240" cy="471240"/>
              </a:xfrm>
              <a:prstGeom prst="roundRect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圆角矩形 12"/>
              <p:cNvSpPr/>
              <p:nvPr/>
            </p:nvSpPr>
            <p:spPr>
              <a:xfrm>
                <a:off x="6178680" y="4221720"/>
                <a:ext cx="2604960" cy="1816200"/>
              </a:xfrm>
              <a:prstGeom prst="roundRect">
                <a:avLst>
                  <a:gd name="adj" fmla="val 12852"/>
                </a:avLst>
              </a:pr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13"/>
              <p:cNvSpPr/>
              <p:nvPr/>
            </p:nvSpPr>
            <p:spPr>
              <a:xfrm>
                <a:off x="7473960" y="3972240"/>
                <a:ext cx="7920" cy="249120"/>
              </a:xfrm>
              <a:prstGeom prst="line">
                <a:avLst/>
              </a:prstGeom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直接连接符 14"/>
            <p:cNvSpPr/>
            <p:nvPr/>
          </p:nvSpPr>
          <p:spPr>
            <a:xfrm>
              <a:off x="1385640" y="2189160"/>
              <a:ext cx="6732720" cy="266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15"/>
            <p:cNvSpPr/>
            <p:nvPr/>
          </p:nvSpPr>
          <p:spPr>
            <a:xfrm>
              <a:off x="1344240" y="3394080"/>
              <a:ext cx="6732720" cy="284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27"/>
            <p:cNvSpPr/>
            <p:nvPr/>
          </p:nvSpPr>
          <p:spPr>
            <a:xfrm>
              <a:off x="2339640" y="1376280"/>
              <a:ext cx="44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28"/>
            <p:cNvSpPr/>
            <p:nvPr/>
          </p:nvSpPr>
          <p:spPr>
            <a:xfrm>
              <a:off x="1691280" y="2382840"/>
              <a:ext cx="638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19"/>
            <p:cNvGrpSpPr/>
            <p:nvPr/>
          </p:nvGrpSpPr>
          <p:grpSpPr>
            <a:xfrm>
              <a:off x="3408480" y="3501000"/>
              <a:ext cx="2603520" cy="2535480"/>
              <a:chOff x="3408480" y="3501000"/>
              <a:chExt cx="2603520" cy="2535480"/>
            </a:xfrm>
          </p:grpSpPr>
          <p:sp>
            <p:nvSpPr>
              <p:cNvPr id="210" name="圆角矩形 16"/>
              <p:cNvSpPr/>
              <p:nvPr/>
            </p:nvSpPr>
            <p:spPr>
              <a:xfrm>
                <a:off x="3505320" y="3501000"/>
                <a:ext cx="2395800" cy="471600"/>
              </a:xfrm>
              <a:prstGeom prst="roundRect">
                <a:avLst>
                  <a:gd name="adj" fmla="val 5000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圆角矩形 17"/>
              <p:cNvSpPr/>
              <p:nvPr/>
            </p:nvSpPr>
            <p:spPr>
              <a:xfrm>
                <a:off x="3408480" y="4221720"/>
                <a:ext cx="2603520" cy="1814760"/>
              </a:xfrm>
              <a:prstGeom prst="roundRect">
                <a:avLst>
                  <a:gd name="adj" fmla="val 12852"/>
                </a:avLst>
              </a:prstGeom>
              <a:noFill/>
              <a:ln w="763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接连接符 18"/>
              <p:cNvSpPr/>
              <p:nvPr/>
            </p:nvSpPr>
            <p:spPr>
              <a:xfrm>
                <a:off x="4703040" y="3972240"/>
                <a:ext cx="6120" cy="249120"/>
              </a:xfrm>
              <a:prstGeom prst="line">
                <a:avLst/>
              </a:prstGeom>
              <a:ln w="763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1.3 X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419040" y="1339920"/>
            <a:ext cx="8185320" cy="8343720"/>
            <a:chOff x="419040" y="1339920"/>
            <a:chExt cx="8185320" cy="8343720"/>
          </a:xfrm>
        </p:grpSpPr>
        <p:grpSp>
          <p:nvGrpSpPr>
            <p:cNvPr id="218" name="Group 7"/>
            <p:cNvGrpSpPr/>
            <p:nvPr/>
          </p:nvGrpSpPr>
          <p:grpSpPr>
            <a:xfrm>
              <a:off x="419040" y="1339920"/>
              <a:ext cx="8185320" cy="8343720"/>
              <a:chOff x="419040" y="1339920"/>
              <a:chExt cx="8185320" cy="8343720"/>
            </a:xfrm>
          </p:grpSpPr>
          <p:sp>
            <p:nvSpPr>
              <p:cNvPr id="219" name="饼形 4"/>
              <p:cNvSpPr/>
              <p:nvPr/>
            </p:nvSpPr>
            <p:spPr>
              <a:xfrm rot="5400000">
                <a:off x="784800" y="2115000"/>
                <a:ext cx="7567560" cy="7569360"/>
              </a:xfrm>
              <a:custGeom>
                <a:avLst/>
                <a:gdLst>
                  <a:gd name="textAreaLeft" fmla="*/ 0 w 7567560"/>
                  <a:gd name="textAreaRight" fmla="*/ 7567920 w 7567560"/>
                  <a:gd name="textAreaTop" fmla="*/ 0 h 7569360"/>
                  <a:gd name="textAreaBottom" fmla="*/ 7569720 h 7569360"/>
                </a:gdLst>
                <a:ahLst/>
                <a:rect l="textAreaLeft" t="textAreaTop" r="textAreaRight" b="textAreaBottom"/>
                <a:pathLst>
                  <a:path w="7568144" h="7569110">
                    <a:moveTo>
                      <a:pt x="3792023" y="7569102"/>
                    </a:moveTo>
                    <a:lnTo>
                      <a:pt x="3792022" y="7569101"/>
                    </a:lnTo>
                    <a:cubicBezTo>
                      <a:pt x="3789372" y="7569107"/>
                      <a:pt x="3786722" y="7569109"/>
                      <a:pt x="3784072" y="7569110"/>
                    </a:cubicBezTo>
                    <a:cubicBezTo>
                      <a:pt x="1694186" y="7569110"/>
                      <a:pt x="0" y="5874707"/>
                      <a:pt x="0" y="3784555"/>
                    </a:cubicBezTo>
                    <a:cubicBezTo>
                      <a:pt x="0" y="1694402"/>
                      <a:pt x="1694186" y="0"/>
                      <a:pt x="3784072" y="0"/>
                    </a:cubicBezTo>
                    <a:cubicBezTo>
                      <a:pt x="3784073" y="-1"/>
                      <a:pt x="3784075" y="0"/>
                      <a:pt x="3784076" y="0"/>
                    </a:cubicBezTo>
                    <a:lnTo>
                      <a:pt x="3784072" y="3784555"/>
                    </a:lnTo>
                    <a:lnTo>
                      <a:pt x="3792023" y="7569102"/>
                    </a:lnTo>
                    <a:close/>
                  </a:path>
                </a:pathLst>
              </a:custGeom>
              <a:solidFill>
                <a:srgbClr val="aee3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饼形 5"/>
              <p:cNvSpPr/>
              <p:nvPr/>
            </p:nvSpPr>
            <p:spPr>
              <a:xfrm rot="5400000">
                <a:off x="1116000" y="2402640"/>
                <a:ext cx="6945120" cy="7018560"/>
              </a:xfrm>
              <a:custGeom>
                <a:avLst/>
                <a:gdLst>
                  <a:gd name="textAreaLeft" fmla="*/ 0 w 6945120"/>
                  <a:gd name="textAreaRight" fmla="*/ 6945480 w 6945120"/>
                  <a:gd name="textAreaTop" fmla="*/ 0 h 7018560"/>
                  <a:gd name="textAreaBottom" fmla="*/ 7018920 h 7018560"/>
                </a:gdLst>
                <a:ahLst/>
                <a:rect l="textAreaLeft" t="textAreaTop" r="textAreaRight" b="textAreaBottom"/>
                <a:pathLst>
                  <a:path w="6945801" h="7018255">
                    <a:moveTo>
                      <a:pt x="3480272" y="7018247"/>
                    </a:moveTo>
                    <a:lnTo>
                      <a:pt x="3480272" y="7018247"/>
                    </a:lnTo>
                    <a:cubicBezTo>
                      <a:pt x="3477814" y="7018252"/>
                      <a:pt x="3475357" y="7018254"/>
                      <a:pt x="3472900" y="7018255"/>
                    </a:cubicBezTo>
                    <a:cubicBezTo>
                      <a:pt x="1554869" y="7018255"/>
                      <a:pt x="-1" y="5447164"/>
                      <a:pt x="-1" y="3509127"/>
                    </a:cubicBezTo>
                    <a:cubicBezTo>
                      <a:pt x="-1" y="1571089"/>
                      <a:pt x="1554869" y="-1"/>
                      <a:pt x="3472900" y="-1"/>
                    </a:cubicBezTo>
                    <a:cubicBezTo>
                      <a:pt x="3472901" y="-2"/>
                      <a:pt x="3472902" y="-1"/>
                      <a:pt x="3472903" y="-1"/>
                    </a:cubicBezTo>
                    <a:lnTo>
                      <a:pt x="3472901" y="3509128"/>
                    </a:lnTo>
                    <a:lnTo>
                      <a:pt x="3480272" y="7018247"/>
                    </a:lnTo>
                    <a:close/>
                  </a:path>
                </a:pathLst>
              </a:custGeom>
              <a:solidFill>
                <a:srgbClr val="61c9e1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饼形 6"/>
              <p:cNvSpPr/>
              <p:nvPr/>
            </p:nvSpPr>
            <p:spPr>
              <a:xfrm rot="5400000">
                <a:off x="2194200" y="3549960"/>
                <a:ext cx="4751280" cy="4753080"/>
              </a:xfrm>
              <a:custGeom>
                <a:avLst/>
                <a:gdLst>
                  <a:gd name="textAreaLeft" fmla="*/ 0 w 4751280"/>
                  <a:gd name="textAreaRight" fmla="*/ 4751640 w 4751280"/>
                  <a:gd name="textAreaTop" fmla="*/ 0 h 4753080"/>
                  <a:gd name="textAreaBottom" fmla="*/ 4753440 h 4753080"/>
                </a:gdLst>
                <a:ahLst/>
                <a:rect l="textAreaLeft" t="textAreaTop" r="textAreaRight" b="textAreaBottom"/>
                <a:pathLst>
                  <a:path w="4751721" h="4752919">
                    <a:moveTo>
                      <a:pt x="2380853" y="4752914"/>
                    </a:moveTo>
                    <a:lnTo>
                      <a:pt x="2380852" y="4752913"/>
                    </a:lnTo>
                    <a:cubicBezTo>
                      <a:pt x="2379189" y="4752917"/>
                      <a:pt x="2377525" y="4752918"/>
                      <a:pt x="2375861" y="4752919"/>
                    </a:cubicBezTo>
                    <a:cubicBezTo>
                      <a:pt x="1063709" y="4752919"/>
                      <a:pt x="0" y="3688941"/>
                      <a:pt x="0" y="2376459"/>
                    </a:cubicBezTo>
                    <a:cubicBezTo>
                      <a:pt x="0" y="1063976"/>
                      <a:pt x="1063709" y="-1"/>
                      <a:pt x="2375861" y="-1"/>
                    </a:cubicBezTo>
                    <a:cubicBezTo>
                      <a:pt x="2375861" y="-2"/>
                      <a:pt x="2375862" y="-1"/>
                      <a:pt x="2375862" y="-1"/>
                    </a:cubicBezTo>
                    <a:lnTo>
                      <a:pt x="2375861" y="2376460"/>
                    </a:lnTo>
                    <a:lnTo>
                      <a:pt x="2380853" y="4752914"/>
                    </a:lnTo>
                    <a:close/>
                  </a:path>
                </a:pathLst>
              </a:custGeom>
              <a:solidFill>
                <a:srgbClr val="aee3f0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饼形 7"/>
              <p:cNvSpPr/>
              <p:nvPr/>
            </p:nvSpPr>
            <p:spPr>
              <a:xfrm rot="5400000">
                <a:off x="2360880" y="3702600"/>
                <a:ext cx="4441680" cy="4443480"/>
              </a:xfrm>
              <a:custGeom>
                <a:avLst/>
                <a:gdLst>
                  <a:gd name="textAreaLeft" fmla="*/ 0 w 4441680"/>
                  <a:gd name="textAreaRight" fmla="*/ 4442040 w 4441680"/>
                  <a:gd name="textAreaTop" fmla="*/ 0 h 4443480"/>
                  <a:gd name="textAreaBottom" fmla="*/ 4443840 h 4443480"/>
                </a:gdLst>
                <a:ahLst/>
                <a:rect l="textAreaLeft" t="textAreaTop" r="textAreaRight" b="textAreaBottom"/>
                <a:pathLst>
                  <a:path w="4442137" h="4443359">
                    <a:moveTo>
                      <a:pt x="2225736" y="4443354"/>
                    </a:moveTo>
                    <a:lnTo>
                      <a:pt x="2225736" y="4443354"/>
                    </a:lnTo>
                    <a:cubicBezTo>
                      <a:pt x="2224180" y="4443357"/>
                      <a:pt x="2222624" y="4443358"/>
                      <a:pt x="2221069" y="4443359"/>
                    </a:cubicBezTo>
                    <a:cubicBezTo>
                      <a:pt x="994406" y="4443359"/>
                      <a:pt x="0" y="3448678"/>
                      <a:pt x="0" y="2221679"/>
                    </a:cubicBezTo>
                    <a:cubicBezTo>
                      <a:pt x="0" y="994679"/>
                      <a:pt x="994406" y="-1"/>
                      <a:pt x="2221069" y="-1"/>
                    </a:cubicBezTo>
                    <a:cubicBezTo>
                      <a:pt x="2221069" y="-2"/>
                      <a:pt x="2221070" y="-1"/>
                      <a:pt x="2221070" y="-1"/>
                    </a:cubicBezTo>
                    <a:lnTo>
                      <a:pt x="2221069" y="2221680"/>
                    </a:lnTo>
                    <a:lnTo>
                      <a:pt x="2225736" y="4443354"/>
                    </a:ln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上箭头 8"/>
              <p:cNvSpPr/>
              <p:nvPr/>
            </p:nvSpPr>
            <p:spPr>
              <a:xfrm rot="17587200">
                <a:off x="1825560" y="4632120"/>
                <a:ext cx="374400" cy="1092240"/>
              </a:xfrm>
              <a:prstGeom prst="upArrow">
                <a:avLst>
                  <a:gd name="adj1" fmla="val 25259"/>
                  <a:gd name="adj2" fmla="val 994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上箭头 9"/>
              <p:cNvSpPr/>
              <p:nvPr/>
            </p:nvSpPr>
            <p:spPr>
              <a:xfrm rot="19066800">
                <a:off x="2652480" y="3421080"/>
                <a:ext cx="374400" cy="1091880"/>
              </a:xfrm>
              <a:prstGeom prst="upArrow">
                <a:avLst>
                  <a:gd name="adj1" fmla="val 25259"/>
                  <a:gd name="adj2" fmla="val 993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上箭头 10"/>
              <p:cNvSpPr/>
              <p:nvPr/>
            </p:nvSpPr>
            <p:spPr>
              <a:xfrm>
                <a:off x="4408560" y="2954160"/>
                <a:ext cx="376200" cy="1091880"/>
              </a:xfrm>
              <a:prstGeom prst="upArrow">
                <a:avLst>
                  <a:gd name="adj1" fmla="val 25259"/>
                  <a:gd name="adj2" fmla="val 993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上箭头 11"/>
              <p:cNvSpPr/>
              <p:nvPr/>
            </p:nvSpPr>
            <p:spPr>
              <a:xfrm rot="2426400">
                <a:off x="6053400" y="3346200"/>
                <a:ext cx="374400" cy="1091880"/>
              </a:xfrm>
              <a:prstGeom prst="upArrow">
                <a:avLst>
                  <a:gd name="adj1" fmla="val 25259"/>
                  <a:gd name="adj2" fmla="val 993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上箭头 12"/>
              <p:cNvSpPr/>
              <p:nvPr/>
            </p:nvSpPr>
            <p:spPr>
              <a:xfrm rot="4413000">
                <a:off x="6824880" y="4595760"/>
                <a:ext cx="374400" cy="1092240"/>
              </a:xfrm>
              <a:prstGeom prst="upArrow">
                <a:avLst>
                  <a:gd name="adj1" fmla="val 25259"/>
                  <a:gd name="adj2" fmla="val 994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 13"/>
              <p:cNvSpPr/>
              <p:nvPr/>
            </p:nvSpPr>
            <p:spPr>
              <a:xfrm>
                <a:off x="419040" y="4182840"/>
                <a:ext cx="1027080" cy="102708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14"/>
              <p:cNvSpPr/>
              <p:nvPr/>
            </p:nvSpPr>
            <p:spPr>
              <a:xfrm>
                <a:off x="1668240" y="2493720"/>
                <a:ext cx="1027080" cy="102528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15"/>
              <p:cNvSpPr/>
              <p:nvPr/>
            </p:nvSpPr>
            <p:spPr>
              <a:xfrm>
                <a:off x="6496200" y="2520720"/>
                <a:ext cx="1027080" cy="102708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椭圆 16"/>
              <p:cNvSpPr/>
              <p:nvPr/>
            </p:nvSpPr>
            <p:spPr>
              <a:xfrm>
                <a:off x="7577280" y="4221000"/>
                <a:ext cx="1027080" cy="102708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Group 21"/>
              <p:cNvGrpSpPr/>
              <p:nvPr/>
            </p:nvGrpSpPr>
            <p:grpSpPr>
              <a:xfrm>
                <a:off x="3795840" y="1339920"/>
                <a:ext cx="1558800" cy="1558800"/>
                <a:chOff x="3795840" y="1339920"/>
                <a:chExt cx="1558800" cy="1558800"/>
              </a:xfrm>
            </p:grpSpPr>
            <p:sp>
              <p:nvSpPr>
                <p:cNvPr id="233" name="椭圆 18"/>
                <p:cNvSpPr/>
                <p:nvPr/>
              </p:nvSpPr>
              <p:spPr>
                <a:xfrm>
                  <a:off x="3795840" y="1339920"/>
                  <a:ext cx="1558800" cy="1558800"/>
                </a:xfrm>
                <a:prstGeom prst="ellipse">
                  <a:avLst/>
                </a:prstGeom>
                <a:solidFill>
                  <a:srgbClr val="2091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椭圆 17"/>
                <p:cNvSpPr/>
                <p:nvPr/>
              </p:nvSpPr>
              <p:spPr>
                <a:xfrm>
                  <a:off x="3933720" y="1449360"/>
                  <a:ext cx="1311120" cy="1311120"/>
                </a:xfrm>
                <a:prstGeom prst="ellipse">
                  <a:avLst/>
                </a:prstGeom>
                <a:solidFill>
                  <a:srgbClr val="2091ac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标题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" name="TextBox 21"/>
            <p:cNvSpPr/>
            <p:nvPr/>
          </p:nvSpPr>
          <p:spPr>
            <a:xfrm>
              <a:off x="3011400" y="4680360"/>
              <a:ext cx="3231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1.4 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746640" y="1123920"/>
            <a:ext cx="8308440" cy="5729760"/>
            <a:chOff x="746640" y="1123920"/>
            <a:chExt cx="8308440" cy="5729760"/>
          </a:xfrm>
        </p:grpSpPr>
        <p:grpSp>
          <p:nvGrpSpPr>
            <p:cNvPr id="241" name="Group 7"/>
            <p:cNvGrpSpPr/>
            <p:nvPr/>
          </p:nvGrpSpPr>
          <p:grpSpPr>
            <a:xfrm>
              <a:off x="2020320" y="2032560"/>
              <a:ext cx="3808800" cy="3903840"/>
              <a:chOff x="2020320" y="2032560"/>
              <a:chExt cx="3808800" cy="3903840"/>
            </a:xfrm>
          </p:grpSpPr>
          <p:sp>
            <p:nvSpPr>
              <p:cNvPr id="242" name="椭圆 2"/>
              <p:cNvSpPr/>
              <p:nvPr/>
            </p:nvSpPr>
            <p:spPr>
              <a:xfrm>
                <a:off x="2975760" y="3266280"/>
                <a:ext cx="1482480" cy="1481400"/>
              </a:xfrm>
              <a:prstGeom prst="ellipse">
                <a:avLst/>
              </a:prstGeom>
              <a:noFill/>
              <a:ln w="127080">
                <a:solidFill>
                  <a:srgbClr val="2091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Group 9"/>
              <p:cNvGrpSpPr/>
              <p:nvPr/>
            </p:nvGrpSpPr>
            <p:grpSpPr>
              <a:xfrm>
                <a:off x="4000680" y="2032560"/>
                <a:ext cx="692640" cy="1247040"/>
                <a:chOff x="4000680" y="2032560"/>
                <a:chExt cx="692640" cy="1247040"/>
              </a:xfrm>
            </p:grpSpPr>
            <p:sp>
              <p:nvSpPr>
                <p:cNvPr id="244" name="直接连接符 4"/>
                <p:cNvSpPr/>
                <p:nvPr/>
              </p:nvSpPr>
              <p:spPr>
                <a:xfrm flipH="1">
                  <a:off x="4000680" y="2309040"/>
                  <a:ext cx="498600" cy="970560"/>
                </a:xfrm>
                <a:prstGeom prst="line">
                  <a:avLst/>
                </a:prstGeom>
                <a:ln w="76320">
                  <a:solidFill>
                    <a:srgbClr val="44b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椭圆 8"/>
                <p:cNvSpPr/>
                <p:nvPr/>
              </p:nvSpPr>
              <p:spPr>
                <a:xfrm>
                  <a:off x="4429800" y="2032560"/>
                  <a:ext cx="263520" cy="263520"/>
                </a:xfrm>
                <a:prstGeom prst="ellipse">
                  <a:avLst/>
                </a:prstGeom>
                <a:noFill/>
                <a:ln w="76320">
                  <a:solidFill>
                    <a:srgbClr val="44b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12"/>
              <p:cNvGrpSpPr/>
              <p:nvPr/>
            </p:nvGrpSpPr>
            <p:grpSpPr>
              <a:xfrm>
                <a:off x="4236480" y="2624040"/>
                <a:ext cx="961560" cy="876960"/>
                <a:chOff x="4236480" y="2624040"/>
                <a:chExt cx="961560" cy="876960"/>
              </a:xfrm>
            </p:grpSpPr>
            <p:sp>
              <p:nvSpPr>
                <p:cNvPr id="247" name="椭圆 12"/>
                <p:cNvSpPr/>
                <p:nvPr/>
              </p:nvSpPr>
              <p:spPr>
                <a:xfrm rot="999000">
                  <a:off x="4978800" y="2647800"/>
                  <a:ext cx="195120" cy="195120"/>
                </a:xfrm>
                <a:prstGeom prst="ellipse">
                  <a:avLst/>
                </a:prstGeom>
                <a:noFill/>
                <a:ln w="76320">
                  <a:solidFill>
                    <a:srgbClr val="44b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直接连接符 15"/>
                <p:cNvSpPr/>
                <p:nvPr/>
              </p:nvSpPr>
              <p:spPr>
                <a:xfrm flipH="1">
                  <a:off x="4236480" y="2792160"/>
                  <a:ext cx="753840" cy="708840"/>
                </a:xfrm>
                <a:prstGeom prst="line">
                  <a:avLst/>
                </a:prstGeom>
                <a:ln w="76320">
                  <a:solidFill>
                    <a:srgbClr val="44b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15"/>
              <p:cNvGrpSpPr/>
              <p:nvPr/>
            </p:nvGrpSpPr>
            <p:grpSpPr>
              <a:xfrm>
                <a:off x="4492440" y="3299400"/>
                <a:ext cx="1336680" cy="479160"/>
                <a:chOff x="4492440" y="3299400"/>
                <a:chExt cx="1336680" cy="479160"/>
              </a:xfrm>
            </p:grpSpPr>
            <p:sp>
              <p:nvSpPr>
                <p:cNvPr id="250" name="直接连接符 21"/>
                <p:cNvSpPr/>
                <p:nvPr/>
              </p:nvSpPr>
              <p:spPr>
                <a:xfrm flipH="1">
                  <a:off x="4492440" y="3523680"/>
                  <a:ext cx="1019160" cy="254880"/>
                </a:xfrm>
                <a:prstGeom prst="line">
                  <a:avLst/>
                </a:prstGeom>
                <a:ln w="76320">
                  <a:solidFill>
                    <a:srgbClr val="ffa9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椭圆 22"/>
                <p:cNvSpPr/>
                <p:nvPr/>
              </p:nvSpPr>
              <p:spPr>
                <a:xfrm rot="2982600">
                  <a:off x="5528160" y="3348000"/>
                  <a:ext cx="246600" cy="255960"/>
                </a:xfrm>
                <a:prstGeom prst="ellipse">
                  <a:avLst/>
                </a:prstGeom>
                <a:noFill/>
                <a:ln w="76320">
                  <a:solidFill>
                    <a:srgbClr val="ffa9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Group 18"/>
              <p:cNvGrpSpPr/>
              <p:nvPr/>
            </p:nvGrpSpPr>
            <p:grpSpPr>
              <a:xfrm>
                <a:off x="4496400" y="4060080"/>
                <a:ext cx="1252800" cy="286200"/>
                <a:chOff x="4496400" y="4060080"/>
                <a:chExt cx="1252800" cy="286200"/>
              </a:xfrm>
            </p:grpSpPr>
            <p:sp>
              <p:nvSpPr>
                <p:cNvPr id="253" name="椭圆 24"/>
                <p:cNvSpPr/>
                <p:nvPr/>
              </p:nvSpPr>
              <p:spPr>
                <a:xfrm rot="4129800">
                  <a:off x="5523840" y="4121280"/>
                  <a:ext cx="196920" cy="195120"/>
                </a:xfrm>
                <a:prstGeom prst="ellipse">
                  <a:avLst/>
                </a:prstGeom>
                <a:noFill/>
                <a:ln w="76320">
                  <a:solidFill>
                    <a:srgbClr val="ffa9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直接连接符 25"/>
                <p:cNvSpPr/>
                <p:nvPr/>
              </p:nvSpPr>
              <p:spPr>
                <a:xfrm flipH="1" flipV="1">
                  <a:off x="4496400" y="4060080"/>
                  <a:ext cx="1022760" cy="160560"/>
                </a:xfrm>
                <a:prstGeom prst="line">
                  <a:avLst/>
                </a:prstGeom>
                <a:ln w="76320">
                  <a:solidFill>
                    <a:srgbClr val="ffa9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Group 21"/>
              <p:cNvGrpSpPr/>
              <p:nvPr/>
            </p:nvGrpSpPr>
            <p:grpSpPr>
              <a:xfrm>
                <a:off x="4316400" y="4487400"/>
                <a:ext cx="996840" cy="812880"/>
                <a:chOff x="4316400" y="4487400"/>
                <a:chExt cx="996840" cy="812880"/>
              </a:xfrm>
            </p:grpSpPr>
            <p:sp>
              <p:nvSpPr>
                <p:cNvPr id="256" name="直接连接符 28"/>
                <p:cNvSpPr/>
                <p:nvPr/>
              </p:nvSpPr>
              <p:spPr>
                <a:xfrm flipH="1" flipV="1">
                  <a:off x="4316400" y="4487400"/>
                  <a:ext cx="750240" cy="551520"/>
                </a:xfrm>
                <a:prstGeom prst="line">
                  <a:avLst/>
                </a:prstGeom>
                <a:ln w="76320">
                  <a:solidFill>
                    <a:srgbClr val="9eca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椭圆 29"/>
                <p:cNvSpPr/>
                <p:nvPr/>
              </p:nvSpPr>
              <p:spPr>
                <a:xfrm rot="5864400">
                  <a:off x="5032440" y="5019840"/>
                  <a:ext cx="263880" cy="263880"/>
                </a:xfrm>
                <a:prstGeom prst="ellipse">
                  <a:avLst/>
                </a:prstGeom>
                <a:noFill/>
                <a:ln w="76320">
                  <a:solidFill>
                    <a:srgbClr val="9eca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24"/>
              <p:cNvGrpSpPr/>
              <p:nvPr/>
            </p:nvGrpSpPr>
            <p:grpSpPr>
              <a:xfrm>
                <a:off x="4058640" y="4758840"/>
                <a:ext cx="597240" cy="1177560"/>
                <a:chOff x="4058640" y="4758840"/>
                <a:chExt cx="597240" cy="1177560"/>
              </a:xfrm>
            </p:grpSpPr>
            <p:sp>
              <p:nvSpPr>
                <p:cNvPr id="259" name="椭圆 33"/>
                <p:cNvSpPr/>
                <p:nvPr/>
              </p:nvSpPr>
              <p:spPr>
                <a:xfrm rot="7615200">
                  <a:off x="4420080" y="5701680"/>
                  <a:ext cx="196920" cy="194760"/>
                </a:xfrm>
                <a:prstGeom prst="ellipse">
                  <a:avLst/>
                </a:prstGeom>
                <a:noFill/>
                <a:ln w="76320">
                  <a:solidFill>
                    <a:srgbClr val="9eca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直接连接符 34"/>
                <p:cNvSpPr/>
                <p:nvPr/>
              </p:nvSpPr>
              <p:spPr>
                <a:xfrm flipH="1" flipV="1">
                  <a:off x="4058640" y="4758840"/>
                  <a:ext cx="403560" cy="952920"/>
                </a:xfrm>
                <a:prstGeom prst="line">
                  <a:avLst/>
                </a:prstGeom>
                <a:ln w="76320">
                  <a:solidFill>
                    <a:srgbClr val="9eca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弧形 36"/>
              <p:cNvSpPr/>
              <p:nvPr/>
            </p:nvSpPr>
            <p:spPr>
              <a:xfrm>
                <a:off x="2799720" y="3000960"/>
                <a:ext cx="1982880" cy="1983240"/>
              </a:xfrm>
              <a:custGeom>
                <a:avLst/>
                <a:gdLst>
                  <a:gd name="textAreaLeft" fmla="*/ 0 w 1982880"/>
                  <a:gd name="textAreaRight" fmla="*/ 1983240 w 1982880"/>
                  <a:gd name="textAreaTop" fmla="*/ 0 h 1983240"/>
                  <a:gd name="textAreaBottom" fmla="*/ 1983600 h 1983240"/>
                </a:gdLst>
                <a:ahLst/>
                <a:rect l="textAreaLeft" t="textAreaTop" r="textAreaRight" b="textAreaBottom"/>
                <a:pathLst>
                  <a:path w="1983178" h="1983114">
                    <a:moveTo>
                      <a:pt x="1289829" y="45912"/>
                    </a:moveTo>
                    <a:lnTo>
                      <a:pt x="1289828" y="45912"/>
                    </a:lnTo>
                    <a:cubicBezTo>
                      <a:pt x="1702540" y="176065"/>
                      <a:pt x="1983178" y="558821"/>
                      <a:pt x="1983178" y="991557"/>
                    </a:cubicBezTo>
                    <a:cubicBezTo>
                      <a:pt x="1983178" y="1420453"/>
                      <a:pt x="1707414" y="1800732"/>
                      <a:pt x="1299741" y="1934018"/>
                    </a:cubicBezTo>
                    <a:lnTo>
                      <a:pt x="991589" y="991557"/>
                    </a:lnTo>
                    <a:lnTo>
                      <a:pt x="1289829" y="45912"/>
                    </a:lnTo>
                    <a:close/>
                  </a:path>
                  <a:path w="1983178" h="1983114">
                    <a:moveTo>
                      <a:pt x="1289829" y="45912"/>
                    </a:moveTo>
                    <a:lnTo>
                      <a:pt x="1289828" y="45912"/>
                    </a:lnTo>
                    <a:cubicBezTo>
                      <a:pt x="1702540" y="176065"/>
                      <a:pt x="1983178" y="558821"/>
                      <a:pt x="1983178" y="991557"/>
                    </a:cubicBezTo>
                    <a:cubicBezTo>
                      <a:pt x="1983178" y="1420453"/>
                      <a:pt x="1707414" y="1800732"/>
                      <a:pt x="1299741" y="1934018"/>
                    </a:cubicBezTo>
                  </a:path>
                </a:pathLst>
              </a:custGeom>
              <a:noFill/>
              <a:ln w="7632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直接连接符 38"/>
              <p:cNvSpPr/>
              <p:nvPr/>
            </p:nvSpPr>
            <p:spPr>
              <a:xfrm flipH="1" flipV="1">
                <a:off x="2448720" y="3057840"/>
                <a:ext cx="637920" cy="428760"/>
              </a:xfrm>
              <a:prstGeom prst="line">
                <a:avLst/>
              </a:prstGeom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接连接符 39"/>
              <p:cNvSpPr/>
              <p:nvPr/>
            </p:nvSpPr>
            <p:spPr>
              <a:xfrm flipH="1" flipV="1">
                <a:off x="2145240" y="3861360"/>
                <a:ext cx="747720" cy="14040"/>
              </a:xfrm>
              <a:prstGeom prst="line">
                <a:avLst/>
              </a:prstGeom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直接连接符 41"/>
              <p:cNvSpPr/>
              <p:nvPr/>
            </p:nvSpPr>
            <p:spPr>
              <a:xfrm flipH="1">
                <a:off x="2269080" y="4345560"/>
                <a:ext cx="734760" cy="345960"/>
              </a:xfrm>
              <a:prstGeom prst="line">
                <a:avLst/>
              </a:prstGeom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椭圆 43"/>
              <p:cNvSpPr/>
              <p:nvPr/>
            </p:nvSpPr>
            <p:spPr>
              <a:xfrm>
                <a:off x="2255040" y="2891520"/>
                <a:ext cx="222120" cy="222120"/>
              </a:xfrm>
              <a:prstGeom prst="ellipse">
                <a:avLst/>
              </a:prstGeom>
              <a:solidFill>
                <a:srgbClr val="bcbcbc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椭圆 44"/>
              <p:cNvSpPr/>
              <p:nvPr/>
            </p:nvSpPr>
            <p:spPr>
              <a:xfrm>
                <a:off x="2020320" y="3723480"/>
                <a:ext cx="222120" cy="220680"/>
              </a:xfrm>
              <a:prstGeom prst="ellipse">
                <a:avLst/>
              </a:prstGeom>
              <a:solidFill>
                <a:srgbClr val="bcbcbc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 45"/>
              <p:cNvSpPr/>
              <p:nvPr/>
            </p:nvSpPr>
            <p:spPr>
              <a:xfrm>
                <a:off x="2145600" y="4609800"/>
                <a:ext cx="220320" cy="222120"/>
              </a:xfrm>
              <a:prstGeom prst="ellipse">
                <a:avLst/>
              </a:prstGeom>
              <a:solidFill>
                <a:srgbClr val="bcbcbc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Box 47"/>
            <p:cNvSpPr/>
            <p:nvPr/>
          </p:nvSpPr>
          <p:spPr>
            <a:xfrm>
              <a:off x="4520160" y="1123920"/>
              <a:ext cx="4011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48"/>
            <p:cNvSpPr/>
            <p:nvPr/>
          </p:nvSpPr>
          <p:spPr>
            <a:xfrm>
              <a:off x="5077440" y="1903320"/>
              <a:ext cx="381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49"/>
            <p:cNvSpPr/>
            <p:nvPr/>
          </p:nvSpPr>
          <p:spPr>
            <a:xfrm>
              <a:off x="5825160" y="2898360"/>
              <a:ext cx="300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50"/>
            <p:cNvSpPr/>
            <p:nvPr/>
          </p:nvSpPr>
          <p:spPr>
            <a:xfrm>
              <a:off x="5822640" y="3907080"/>
              <a:ext cx="323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51"/>
            <p:cNvSpPr/>
            <p:nvPr/>
          </p:nvSpPr>
          <p:spPr>
            <a:xfrm>
              <a:off x="5358960" y="5011560"/>
              <a:ext cx="3472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53"/>
            <p:cNvSpPr/>
            <p:nvPr/>
          </p:nvSpPr>
          <p:spPr>
            <a:xfrm>
              <a:off x="3791520" y="5936760"/>
              <a:ext cx="3876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38"/>
            <p:cNvSpPr/>
            <p:nvPr/>
          </p:nvSpPr>
          <p:spPr>
            <a:xfrm>
              <a:off x="993960" y="252648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39"/>
            <p:cNvSpPr/>
            <p:nvPr/>
          </p:nvSpPr>
          <p:spPr>
            <a:xfrm>
              <a:off x="746640" y="356040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40"/>
            <p:cNvSpPr/>
            <p:nvPr/>
          </p:nvSpPr>
          <p:spPr>
            <a:xfrm>
              <a:off x="911160" y="465624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矩形 42"/>
          <p:cNvSpPr/>
          <p:nvPr/>
        </p:nvSpPr>
        <p:spPr>
          <a:xfrm>
            <a:off x="4576320" y="64882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标题 1"/>
          <p:cNvSpPr/>
          <p:nvPr/>
        </p:nvSpPr>
        <p:spPr>
          <a:xfrm>
            <a:off x="97164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1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3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/>
          <p:cNvSpPr/>
          <p:nvPr/>
        </p:nvSpPr>
        <p:spPr>
          <a:xfrm rot="20512800">
            <a:off x="-246240" y="4186080"/>
            <a:ext cx="10563480" cy="40611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7"/>
          <p:cNvGrpSpPr/>
          <p:nvPr/>
        </p:nvGrpSpPr>
        <p:grpSpPr>
          <a:xfrm>
            <a:off x="1888920" y="1643760"/>
            <a:ext cx="3115440" cy="4070520"/>
            <a:chOff x="1888920" y="1643760"/>
            <a:chExt cx="3115440" cy="4070520"/>
          </a:xfrm>
        </p:grpSpPr>
        <p:sp>
          <p:nvSpPr>
            <p:cNvPr id="284" name="矩形 5"/>
            <p:cNvSpPr/>
            <p:nvPr/>
          </p:nvSpPr>
          <p:spPr>
            <a:xfrm rot="20377800">
              <a:off x="2454120" y="1876320"/>
              <a:ext cx="1984680" cy="36050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2"/>
            <p:cNvSpPr/>
            <p:nvPr/>
          </p:nvSpPr>
          <p:spPr>
            <a:xfrm rot="21434400">
              <a:off x="2868120" y="33865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8"/>
            <p:cNvSpPr/>
            <p:nvPr/>
          </p:nvSpPr>
          <p:spPr>
            <a:xfrm>
              <a:off x="2553120" y="1857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1"/>
          <p:cNvGrpSpPr/>
          <p:nvPr/>
        </p:nvGrpSpPr>
        <p:grpSpPr>
          <a:xfrm>
            <a:off x="4243680" y="2092320"/>
            <a:ext cx="2842560" cy="2952000"/>
            <a:chOff x="4243680" y="2092320"/>
            <a:chExt cx="2842560" cy="2952000"/>
          </a:xfrm>
        </p:grpSpPr>
        <p:sp>
          <p:nvSpPr>
            <p:cNvPr id="288" name="矩形 7"/>
            <p:cNvSpPr/>
            <p:nvPr/>
          </p:nvSpPr>
          <p:spPr>
            <a:xfrm rot="19246800">
              <a:off x="4800240" y="2387880"/>
              <a:ext cx="1728720" cy="2377440"/>
            </a:xfrm>
            <a:prstGeom prst="rect">
              <a:avLst/>
            </a:prstGeom>
            <a:solidFill>
              <a:srgbClr val="99cc0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3"/>
            <p:cNvSpPr/>
            <p:nvPr/>
          </p:nvSpPr>
          <p:spPr>
            <a:xfrm rot="21434400">
              <a:off x="5222160" y="324324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9"/>
            <p:cNvSpPr/>
            <p:nvPr/>
          </p:nvSpPr>
          <p:spPr>
            <a:xfrm>
              <a:off x="491976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6526080" y="1019160"/>
            <a:ext cx="2270520" cy="3733560"/>
            <a:chOff x="6526080" y="1019160"/>
            <a:chExt cx="2270520" cy="3733560"/>
          </a:xfrm>
        </p:grpSpPr>
        <p:sp>
          <p:nvSpPr>
            <p:cNvPr id="292" name="矩形 8"/>
            <p:cNvSpPr/>
            <p:nvPr/>
          </p:nvSpPr>
          <p:spPr>
            <a:xfrm rot="256200">
              <a:off x="6645240" y="1402200"/>
              <a:ext cx="2032200" cy="327924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4"/>
            <p:cNvSpPr/>
            <p:nvPr/>
          </p:nvSpPr>
          <p:spPr>
            <a:xfrm rot="21434400">
              <a:off x="7261200" y="26287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20"/>
            <p:cNvSpPr/>
            <p:nvPr/>
          </p:nvSpPr>
          <p:spPr>
            <a:xfrm>
              <a:off x="7346880" y="101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5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7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2.2 X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9" name="矩形 8"/>
          <p:cNvSpPr/>
          <p:nvPr/>
        </p:nvSpPr>
        <p:spPr>
          <a:xfrm>
            <a:off x="-996840" y="1539720"/>
            <a:ext cx="10563120" cy="53182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7"/>
          <p:cNvGrpSpPr/>
          <p:nvPr/>
        </p:nvGrpSpPr>
        <p:grpSpPr>
          <a:xfrm>
            <a:off x="539640" y="1539720"/>
            <a:ext cx="3818160" cy="3292560"/>
            <a:chOff x="539640" y="1539720"/>
            <a:chExt cx="3818160" cy="3292560"/>
          </a:xfrm>
        </p:grpSpPr>
        <p:sp>
          <p:nvSpPr>
            <p:cNvPr id="301" name="圆角矩形 5"/>
            <p:cNvSpPr/>
            <p:nvPr/>
          </p:nvSpPr>
          <p:spPr>
            <a:xfrm>
              <a:off x="539640" y="2313000"/>
              <a:ext cx="3818160" cy="2519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10"/>
            <p:cNvSpPr/>
            <p:nvPr/>
          </p:nvSpPr>
          <p:spPr>
            <a:xfrm>
              <a:off x="2988000" y="1539720"/>
              <a:ext cx="0" cy="7732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3"/>
            <p:cNvSpPr/>
            <p:nvPr/>
          </p:nvSpPr>
          <p:spPr>
            <a:xfrm>
              <a:off x="1219320" y="1940760"/>
              <a:ext cx="12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1"/>
          <p:cNvGrpSpPr/>
          <p:nvPr/>
        </p:nvGrpSpPr>
        <p:grpSpPr>
          <a:xfrm>
            <a:off x="4572000" y="1539720"/>
            <a:ext cx="4248000" cy="4697640"/>
            <a:chOff x="4572000" y="1539720"/>
            <a:chExt cx="4248000" cy="4697640"/>
          </a:xfrm>
        </p:grpSpPr>
        <p:sp>
          <p:nvSpPr>
            <p:cNvPr id="305" name="直接连接符 11"/>
            <p:cNvSpPr/>
            <p:nvPr/>
          </p:nvSpPr>
          <p:spPr>
            <a:xfrm>
              <a:off x="7740000" y="1539720"/>
              <a:ext cx="0" cy="203364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圆角矩形 7"/>
            <p:cNvSpPr/>
            <p:nvPr/>
          </p:nvSpPr>
          <p:spPr>
            <a:xfrm>
              <a:off x="4572000" y="3213360"/>
              <a:ext cx="4248000" cy="302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5"/>
            <p:cNvSpPr/>
            <p:nvPr/>
          </p:nvSpPr>
          <p:spPr>
            <a:xfrm>
              <a:off x="5175000" y="2805120"/>
              <a:ext cx="12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5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86A-33B9-4A4B-B343-D7A36DF588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6:47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4Z</dcterms:modified>
  <cp:revision>7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