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drumroll.wav" ContentType="audio/x-wav"/>
  <Override PartName="/ppt/media/image33.jpeg" ContentType="image/jpeg"/>
  <Override PartName="/ppt/media/image34.gif" ContentType="image/gif"/>
  <Override PartName="/ppt/media/image19.png" ContentType="image/png"/>
  <Override PartName="/ppt/media/image26.gif" ContentType="image/gif"/>
  <Override PartName="/ppt/media/image21.jpeg" ContentType="image/jpeg"/>
  <Override PartName="/ppt/media/chimes.wav" ContentType="audio/x-wav"/>
  <Override PartName="/ppt/media/image36.gif" ContentType="image/gif"/>
  <Override PartName="/ppt/media/image17.gif" ContentType="image/gif"/>
  <Override PartName="/ppt/media/image15.jpeg" ContentType="image/jpeg"/>
  <Override PartName="/ppt/media/image16.jpeg" ContentType="image/jpeg"/>
  <Override PartName="/ppt/media/image39.gif" ContentType="image/gif"/>
  <Override PartName="/ppt/media/image14.png" ContentType="image/png"/>
  <Override PartName="/ppt/media/image27.gif" ContentType="image/gif"/>
  <Override PartName="/ppt/media/image28.jpeg" ContentType="image/jpeg"/>
  <Override PartName="/ppt/media/image22.jpeg" ContentType="image/jpeg"/>
  <Override PartName="/ppt/media/image9.png" ContentType="image/png"/>
  <Override PartName="/ppt/media/image13.jpeg" ContentType="image/jpeg"/>
  <Override PartName="/ppt/media/image18.gif" ContentType="image/gif"/>
  <Override PartName="/ppt/media/image20.gif" ContentType="image/gif"/>
  <Override PartName="/ppt/media/image6.png" ContentType="image/png"/>
  <Override PartName="/ppt/media/image7.jpeg" ContentType="image/jpeg"/>
  <Override PartName="/ppt/media/image35.gif" ContentType="image/gif"/>
  <Override PartName="/ppt/media/image11.jpeg" ContentType="image/jpeg"/>
  <Override PartName="/ppt/media/image10.gif" ContentType="image/gif"/>
  <Override PartName="/ppt/media/image37.jpeg" ContentType="image/jpeg"/>
  <Override PartName="/ppt/media/image38.png" ContentType="image/png"/>
  <Override PartName="/ppt/media/image8.png" ContentType="image/png"/>
  <Override PartName="/ppt/media/image29.jpeg" ContentType="image/jpeg"/>
  <Override PartName="/ppt/media/image25.gif" ContentType="image/gif"/>
  <Override PartName="/ppt/media/image30.jpeg" ContentType="image/jpeg"/>
  <Override PartName="/ppt/media/image31.jpeg" ContentType="image/jpeg"/>
  <Override PartName="/ppt/media/image2.png" ContentType="image/png"/>
  <Override PartName="/ppt/media/image42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24.gif" ContentType="image/gif"/>
  <Override PartName="/ppt/media/image32.jpeg" ContentType="image/jpeg"/>
  <Override PartName="/ppt/media/image40.gif" ContentType="image/gif"/>
  <Override PartName="/ppt/media/image3.png" ContentType="image/png"/>
  <Override PartName="/ppt/media/image23.gif" ContentType="image/gif"/>
  <Override PartName="/ppt/media/image5.png" ContentType="image/png"/>
  <Override PartName="/ppt/media/image43.jpeg" ContentType="image/jpeg"/>
  <Override PartName="/ppt/media/applause.wav" ContentType="audio/x-wav"/>
  <Override PartName="/ppt/media/image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F21-C010-4AF1-B84B-AFEBE79F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272-799D-44DD-9D36-DFFA892F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D3BB2-383D-4627-B2E9-A1472E2E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ACF1C-AA46-470E-989C-F88DB86A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90718-7C04-4998-A8D5-501FC1F8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B383D-AD42-4767-9A19-0506B157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82CA6-2197-4859-A292-D0F5EE28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D23FC-313B-40D3-848C-80E79A6C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FA8FA-B8FE-44DB-8FD7-341F55DC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D591D-B5EC-4B4B-8CA2-35173304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A3270-4FF2-41B4-A279-4D12ACB2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2896F-8947-4457-9705-ADF59C5E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9BD-D9C2-47F3-92C9-BC774043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13B12-9903-4A12-A3F4-44202F5E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EC1BA-99F6-495B-A195-F89FB908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C26B9-6488-4620-A229-E7E861BA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62D49-340A-4E9C-9151-B10AC49D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7D31F-F125-4012-A410-35B4AABE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BC3D5-6843-40BD-BF45-EC0BF4A2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587B9-F578-4AE6-9E11-D6B2A9D5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4580D-7D96-491C-97D0-18401385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E94B6-4DAD-479E-B41D-9771E509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23FC3-E471-4D6A-8AAB-0E0709C1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330-F625-44D1-9C5D-052B4F75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C32FE-CA34-4CB0-A9D8-E5EE410E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FD8F8-1147-4464-8E21-9B74605F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EA5A3-164C-4C21-AE36-26E5F531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7A622-DC02-493B-94BE-22426194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2B996-1D77-4914-B15C-6E8D0846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1923F-B905-4493-99D2-80D7EA1D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141A9-AA5C-4173-8239-361C4EE2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2D431-341D-4413-BC9A-6F1C645D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E576C-143B-47EA-A6DF-4E11C7AA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F182D-5CB2-4B83-9DEB-9065B886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73A3-2BAC-4EFB-8D13-8CAF59A2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833FF-79BE-4C62-8182-1107ECAB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5542F-DD74-4895-90BD-7B201451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8886A-FD14-4DA7-8CC9-C3466D10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541DF-F577-4A4A-9C05-4E8FB297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587F0-EBF0-4F5B-B568-63413683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699AC-E327-4522-88FA-744643E4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10E88-F496-4015-93CF-F8F6DD52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DF869-80B1-4E1C-A769-59A5D4E4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452A3-2488-4D2A-8908-A9F54DA1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0B57F-A61A-4F2E-849A-FABAFC98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2B9F-FE4B-41AE-9346-1F890B3B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5C0EB-5FDA-4A8B-BFF5-7189C14B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F2EA4-BEE8-49E7-8AB2-C163F13D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AEE12-5397-48B8-BB8C-8BC6C134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42DC7-3635-416E-86AD-88FF4FEC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74223-39B7-4A5F-9C56-E022209B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F18CC-3140-4DBF-988F-66DEF22D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82EC9-1BDD-4D67-981A-3F19DC22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0E81A0-62C9-4783-9F59-342A06BD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59D2C-4D56-45A4-A304-915A63B3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CBEAC6-5769-45ED-A6BF-649DBB91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6713-6077-410F-A880-632930F1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BD905-DC98-433C-9A8E-3CAE91A7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11148-A315-46AC-9F2F-43268201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D5723-61EC-46F2-93A2-19F288BC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53A33-B9A4-41B3-AA11-A46424D0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92210-91DB-4BE4-9E58-119EEAF2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137AB-585A-4E78-944D-78C62B6D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A85B5-7A72-4579-99DB-8F8BF85C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E81879-118E-4E1D-A8FC-BCDE977B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5FDFBB-C74E-4100-9C60-223DDBA3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5962E4-418A-4ADC-A3E1-DDC28366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91D0-57DF-4856-9217-580DE9BF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16532D-ADE3-4D50-86A7-B4508420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D7780B-8625-4955-BD9A-0C37D8F0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1E11A1-B117-45FA-8323-925121DC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F09919-8493-4AB7-9765-EF62E207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170174-57D5-4E0A-BF34-EBCB8F80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5DBED9-6907-4AEF-B495-A5627216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183E11-BA1B-4649-97D8-15935D14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A8188A-E9F3-4023-8BE3-E9792BEC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C5DB7-494C-4CD9-BC13-5138A82E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F3CB-681E-4A9C-B2CB-A93B752B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51DD-950E-423B-9248-C6CEAF97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45A3-7C20-42B5-A0AF-76E6E98E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BEA1-A12B-41D5-892B-911B3576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7ECF-2523-425C-B5C5-7B84CE75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2560-6982-4F00-BF16-1FB45322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35DB-0933-4948-B2C7-0D4171A3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A508-C3E7-4138-B907-9AA875EC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F4D9-8EC6-4CF8-AD11-75E31F48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F56E5-0A47-4923-A74C-94193D1C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6CE6E-1068-4BFD-AE53-C9AF05B3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CDCBB-6C32-40F3-8AA7-C6F1A107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D8A85-BAD1-4B4D-AE3F-13C4893B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3023B-E3E4-4046-852A-FF12C822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D63-F98C-4E05-BCDD-C1F56B7E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ABB26-F76B-4485-A726-0D13D163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F00F4-CCEA-4C2A-A56E-6BB21671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F6115-A44A-4BDC-9FF9-E7D48743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DDEAE-BFFD-483E-BBA9-2AA62F53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1E1DB-2BBA-48BC-A5A7-FC6D0181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216ED-B478-4940-A3F9-417AD531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C26BC-1157-459F-8B97-912E65C9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C834E-5B46-4958-897F-838960EC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CBE6F-C4D3-4990-8510-4DEDBE2F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018DB-097E-45F1-A0B9-3DD44900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0E28-FF26-4A66-8050-98243678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66EDC-E2BC-4266-B791-DECD64FF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2B9D1-937A-4A04-B7A5-A19DB2D3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54A83-AF70-427B-BD71-65290AFA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E3192-7ABA-4329-B106-C6A5D1A8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BCF64-25B2-4FF3-BB99-691D37AD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6C6C7-8A0C-463A-8AB9-D669EA84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189CC-BB9C-46EF-A891-1DB264C8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81DA1-CEFE-4664-A31C-5211D042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22B60-C117-461E-B5D3-5386C130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3DC45-D1D1-4D8A-9F8C-C0C5AE0A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9DA-7BD7-4361-B767-A9EAED91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F9EA0-B845-4650-A023-F3253DC1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3675D-3FBA-4822-A8FC-927C074F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4F82F-6A00-42BB-A53D-0DD12DA8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5F4DC-53AD-4370-BA01-05A67C6A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73D7F-742E-49CE-87BF-058A51A0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8486E-0209-4AAF-812A-A5DC27E2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08410-87E6-4413-8DE6-A5999360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1DB6E-AC1C-4FB7-ADE7-AFBBE100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A83EA-D6BD-4337-B376-D9A6560D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526F1-683D-40DF-B56E-2A5E8995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0E3-9519-4689-BFF8-4CBDC79B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1A78A-5642-4E94-8427-6B716B6E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541A7-D0DF-4420-838F-6199DA19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9D24E-96CF-4FD5-8AFE-C87E2A34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E6AF4-A82B-4C62-AF6B-C5D94D81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EC5EB-886B-48A3-883A-A9B0BDC8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632C1-F0A1-413A-89A7-32A21070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EB3D5-5D1E-4023-BE8F-32B478CA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FF26C-F0D9-4F07-9E4F-6EB24541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33E8B-1553-4121-BE2B-D1754216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73B59-29FC-4560-9167-C45C4DC4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4B5B-AD14-4472-8076-F206A98F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0620F-D7C1-474E-86B4-B86F321C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7AE51-ECDE-4E95-85E6-323560E4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9846D-D15E-45AA-9DD3-72BC7CB3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693FF-925B-42E6-85AE-3CA0D264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FCB57-9D28-4C07-8497-DC2CC3C4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728B5-3430-470C-8EAF-2EFE8499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A7EAC-1145-4DB2-B88D-F8C64FCC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02BBA-75FF-4FD4-9F56-5605D19F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2E0E0-FD59-4918-8467-4A46AD23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F3A60-7EF8-4C6D-A89F-06EBB8E6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8FAC-B849-44F3-9270-2FC0D902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2F049-DCFE-4F75-9A35-858C535F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59673-18F3-45CC-9A44-7DE8D0B2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66436-5157-4600-8FEF-FA259CE3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ABB31-B6E8-4FE6-8D06-1E16B8B2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07262-3957-4D64-82B3-A6569D74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47770-DE3D-4E3E-8C8F-FDC24C55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38CEE-E446-461C-A072-A4B5ABCC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17C88-E5A3-4165-92E7-F04DEEA9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FDA17-812F-4BD0-AE6C-34B16EE7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325FF-84ED-42DD-9A0C-8CF70951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7A5-F00D-4087-AF45-E3FCD5E6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D2CFF-EADB-4C9B-848F-29AAB866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290F7-734A-477E-93B2-C095A3A0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07570-C8B0-42F4-9B46-AF26A924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475CD-ECC3-468F-B090-55A239E1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57397-2126-400D-9034-BFFAC36D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21DC0-ED11-4268-86FC-D0C9AA04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6CEF8-B476-4B2E-A2E4-3025D7B1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38304-EA0B-4504-86B0-B35C9A07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AE419-68D4-4C5D-ACA7-313F14BC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A9072-B0C4-4731-930B-A92521BF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5E26-2B84-4AC7-8A95-E95C1AC4EC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44E1-2E41-434A-89C1-2120F7ACB0F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4807-7E27-4CBB-A635-B355A8E48A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5390-0EDB-4A89-BA5F-1A0CA6DD343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B0C5-543E-4D3C-A8E9-1436BF31315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2799-C5F0-4760-8137-61E033481D4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6BC4-0573-46A3-A6C3-426B7E2FD3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110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1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5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7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0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32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133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EA73-70F5-4EF6-BDAF-D1755F0B00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B939-CE9A-4823-8F5D-063F98426B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B243-C063-4CEA-B827-1264431C494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5EB2-DB15-458B-987A-9B5205EFEC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9828-D5C2-4E0A-B921-D131DBCD54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BB65-CD2B-4E6B-9AFB-0E27AC0F19A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A7C5-746C-4610-B114-6ADE7F47954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5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6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" Target="slide17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18.gif"/><Relationship Id="rId5" Type="http://schemas.openxmlformats.org/officeDocument/2006/relationships/slide" Target="slide15.xml"/><Relationship Id="rId6" Type="http://schemas.openxmlformats.org/officeDocument/2006/relationships/image" Target="../media/image39.gi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image" Target="../media/image4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4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4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C:\Documents and Settings\Administrator\My Documents\杨燕霞\BC.jpg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3"/>
          <p:cNvSpPr/>
          <p:nvPr/>
        </p:nvSpPr>
        <p:spPr>
          <a:xfrm>
            <a:off x="3124080" y="83808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八年级语文课件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2201760" y="2428920"/>
            <a:ext cx="6621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老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1" name="矩形 7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C:\Documents and Settings\All Users\Documents\杨燕霞1\图片\背景 在 初二2 上\bgt009.gif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3"/>
          <p:cNvSpPr/>
          <p:nvPr/>
        </p:nvSpPr>
        <p:spPr>
          <a:xfrm>
            <a:off x="228600" y="1295280"/>
            <a:ext cx="85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、对课文结尾的最后一句话，应该怎样理解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609480" y="762120"/>
            <a:ext cx="6324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533520" y="2514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一个社会总有幸运者和不幸者，幸运者有责任关爱不幸者，关注他们的命运，让他们过上好日子，帮助改善他们的处境。作者回想起来对老王的关注很不够，所以感到“愧怍”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89" name="Picture 6" descr="\\初一3\杨燕霞\课件\yupian\31.gif"/>
          <p:cNvPicPr/>
          <p:nvPr/>
        </p:nvPicPr>
        <p:blipFill>
          <a:blip r:embed="rId2"/>
          <a:stretch/>
        </p:blipFill>
        <p:spPr>
          <a:xfrm>
            <a:off x="7350120" y="3733920"/>
            <a:ext cx="17938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2" descr="线条6"/>
          <p:cNvPicPr/>
          <p:nvPr/>
        </p:nvPicPr>
        <p:blipFill>
          <a:blip r:embed="rId1"/>
          <a:stretch/>
        </p:blipFill>
        <p:spPr>
          <a:xfrm flipH="1" rot="10800000">
            <a:off x="0" y="5943240"/>
            <a:ext cx="9144000" cy="25884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39625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探究品读：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4674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为什么作者一家对老王那样的不幸者能那么关心、爱护；社会地位、生活条件比较优越的人往往瞧不起卑微者，要有什么精神才能像作者那样尊重人、理解人、关心人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93" name="Rectangle 5"/>
          <p:cNvSpPr/>
          <p:nvPr/>
        </p:nvSpPr>
        <p:spPr>
          <a:xfrm>
            <a:off x="914400" y="3989520"/>
            <a:ext cx="784872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94" name="Text Box 6"/>
          <p:cNvSpPr/>
          <p:nvPr/>
        </p:nvSpPr>
        <p:spPr>
          <a:xfrm>
            <a:off x="838080" y="3733920"/>
            <a:ext cx="693432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原因：一、平等观念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二、人道主义精神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95" name="Picture 7" descr="32"/>
          <p:cNvPicPr/>
          <p:nvPr/>
        </p:nvPicPr>
        <p:blipFill>
          <a:blip r:embed="rId2"/>
          <a:stretch/>
        </p:blipFill>
        <p:spPr>
          <a:xfrm>
            <a:off x="7391520" y="4343400"/>
            <a:ext cx="1476360" cy="140004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8" descr="线条6"/>
          <p:cNvPicPr/>
          <p:nvPr/>
        </p:nvPicPr>
        <p:blipFill>
          <a:blip r:embed="rId3"/>
          <a:stretch/>
        </p:blipFill>
        <p:spPr>
          <a:xfrm flipH="1" rot="10800000">
            <a:off x="0" y="685080"/>
            <a:ext cx="914400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914040" y="19047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ahoma"/>
              </a:rPr>
              <a:t>你的生活周围有哪些不幸者，</a:t>
            </a: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  <a:p>
            <a:pPr marL="2091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ahoma"/>
              </a:rPr>
              <a:t>你是怎样对待他们的</a:t>
            </a:r>
            <a:r>
              <a:rPr b="1" lang="en-US" sz="4800" spc="-1" strike="noStrike">
                <a:solidFill>
                  <a:srgbClr val="660066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698" name="Picture 3" descr="C:\Documents and Settings\All Users\Documents\杨燕霞1\图片\My Pictures\图片收藏夹 在 初三1 上\D87BB0859286315FAF9FB745FC548E60.GIF"/>
          <p:cNvPicPr/>
          <p:nvPr/>
        </p:nvPicPr>
        <p:blipFill>
          <a:blip r:embed="rId1"/>
          <a:stretch/>
        </p:blipFill>
        <p:spPr>
          <a:xfrm>
            <a:off x="5943600" y="4648320"/>
            <a:ext cx="2857680" cy="1317600"/>
          </a:xfrm>
          <a:prstGeom prst="rect">
            <a:avLst/>
          </a:prstGeom>
          <a:ln w="0">
            <a:noFill/>
          </a:ln>
        </p:spPr>
      </p:pic>
      <p:sp>
        <p:nvSpPr>
          <p:cNvPr id="699" name="WordArt 4"/>
          <p:cNvSpPr txBox="1"/>
          <p:nvPr/>
        </p:nvSpPr>
        <p:spPr>
          <a:xfrm>
            <a:off x="685800" y="1219320"/>
            <a:ext cx="160020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思考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1015c-3"/>
          <p:cNvPicPr/>
          <p:nvPr/>
        </p:nvPicPr>
        <p:blipFill>
          <a:blip r:embed="rId1"/>
          <a:stretch/>
        </p:blipFill>
        <p:spPr>
          <a:xfrm>
            <a:off x="0" y="692280"/>
            <a:ext cx="2916360" cy="258444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3" descr="bb"/>
          <p:cNvPicPr/>
          <p:nvPr/>
        </p:nvPicPr>
        <p:blipFill>
          <a:blip r:embed="rId2"/>
          <a:stretch/>
        </p:blipFill>
        <p:spPr>
          <a:xfrm>
            <a:off x="0" y="3886200"/>
            <a:ext cx="2895480" cy="21589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4" descr="030610010b_1"/>
          <p:cNvPicPr/>
          <p:nvPr/>
        </p:nvPicPr>
        <p:blipFill>
          <a:blip r:embed="rId3"/>
          <a:stretch/>
        </p:blipFill>
        <p:spPr>
          <a:xfrm>
            <a:off x="5791320" y="914400"/>
            <a:ext cx="3352680" cy="22334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" descr="030308036a_1"/>
          <p:cNvPicPr/>
          <p:nvPr/>
        </p:nvPicPr>
        <p:blipFill>
          <a:blip r:embed="rId4"/>
          <a:stretch/>
        </p:blipFill>
        <p:spPr>
          <a:xfrm>
            <a:off x="5715000" y="3809880"/>
            <a:ext cx="3124080" cy="25322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7" descr="车夫2"/>
          <p:cNvPicPr/>
          <p:nvPr/>
        </p:nvPicPr>
        <p:blipFill>
          <a:blip r:embed="rId5"/>
          <a:stretch/>
        </p:blipFill>
        <p:spPr>
          <a:xfrm>
            <a:off x="2971800" y="1523880"/>
            <a:ext cx="27432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\\初二2\背景\03.jpg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46120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3"/>
          <p:cNvSpPr/>
          <p:nvPr/>
        </p:nvSpPr>
        <p:spPr>
          <a:xfrm>
            <a:off x="5638680" y="3124080"/>
            <a:ext cx="35053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3276720" y="1905120"/>
            <a:ext cx="50292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04920" y="2133720"/>
            <a:ext cx="85341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c6cda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6c6cda"/>
                </a:solidFill>
                <a:latin typeface="Tahoma"/>
              </a:rPr>
              <a:t>、当你不幸时，你得到过别人的关爱吗</a:t>
            </a:r>
            <a:r>
              <a:rPr b="1" lang="en-US" sz="3600" spc="-1" strike="noStrike">
                <a:solidFill>
                  <a:srgbClr val="6c6cda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c6cda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6c6cda"/>
                </a:solidFill>
                <a:latin typeface="Tahoma"/>
              </a:rPr>
              <a:t>、你怎样看待在与人交往时首先要付出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c6cda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6c6cda"/>
                </a:solidFill>
                <a:latin typeface="Tahoma"/>
              </a:rPr>
              <a:t>爱的问题</a:t>
            </a:r>
            <a:r>
              <a:rPr b="1" lang="en-US" sz="3600" spc="-1" strike="noStrike">
                <a:solidFill>
                  <a:srgbClr val="6c6cda"/>
                </a:solidFill>
                <a:latin typeface="Tahoma"/>
              </a:rPr>
              <a:t>?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09" name="WordArt 6"/>
          <p:cNvSpPr txBox="1"/>
          <p:nvPr/>
        </p:nvSpPr>
        <p:spPr>
          <a:xfrm>
            <a:off x="533520" y="106668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课后思考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10" name="Picture 7" descr="C:\Documents and Settings\All Users\Documents\杨燕霞1\图片\yupian\38.gif"/>
          <p:cNvPicPr/>
          <p:nvPr/>
        </p:nvPicPr>
        <p:blipFill>
          <a:blip r:embed="rId2"/>
          <a:stretch/>
        </p:blipFill>
        <p:spPr>
          <a:xfrm>
            <a:off x="7010280" y="4419720"/>
            <a:ext cx="192096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2" descr="C:\Documents and Settings\All Users\Documents\杨燕霞1\图片\yupian\１６.gif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712" name="WordArt 3"/>
          <p:cNvSpPr txBox="1"/>
          <p:nvPr/>
        </p:nvSpPr>
        <p:spPr>
          <a:xfrm>
            <a:off x="533520" y="106668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课后思考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2583360" y="2362320"/>
            <a:ext cx="419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c2d28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fc2d28"/>
                </a:solidFill>
                <a:latin typeface="Times New Roman"/>
              </a:rPr>
              <a:t>仔细阅读课文谈谈你对老王的认识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c2d28"/>
                </a:solidFill>
                <a:latin typeface="Times New Roman"/>
              </a:rPr>
              <a:t>4.</a:t>
            </a:r>
            <a:r>
              <a:rPr b="0" lang="zh-CN" sz="3600" spc="-1" strike="noStrike">
                <a:solidFill>
                  <a:srgbClr val="fc2d28"/>
                </a:solidFill>
                <a:latin typeface="Times New Roman"/>
              </a:rPr>
              <a:t>本文的写作很有特色试作浅析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c2d28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c2d28"/>
                </a:solidFill>
                <a:latin typeface="Times New Roman"/>
              </a:rPr>
              <a:t>（可从语言，组材方面考虑）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c2d28"/>
                </a:solidFill>
                <a:latin typeface="Times New Roman"/>
              </a:rPr>
              <a:t>5.</a:t>
            </a:r>
            <a:r>
              <a:rPr b="0" lang="zh-CN" sz="3600" spc="-1" strike="noStrike">
                <a:solidFill>
                  <a:srgbClr val="fc2d28"/>
                </a:solidFill>
                <a:latin typeface="Times New Roman"/>
              </a:rPr>
              <a:t>课外收集文学作品中的人力车夫形象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4" name="Oval 5">
            <a:hlinkClick r:id="rId2" action="ppaction://hlinksldjump"/>
          </p:cNvPr>
          <p:cNvSpPr/>
          <p:nvPr/>
        </p:nvSpPr>
        <p:spPr>
          <a:xfrm>
            <a:off x="2514600" y="4572000"/>
            <a:ext cx="152280" cy="152280"/>
          </a:xfrm>
          <a:prstGeom prst="ellipse">
            <a:avLst/>
          </a:prstGeom>
          <a:solidFill>
            <a:srgbClr val="93d32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5" name="Oval 6">
            <a:hlinkClick r:id="rId3" action="ppaction://hlinksldjump"/>
          </p:cNvPr>
          <p:cNvSpPr/>
          <p:nvPr/>
        </p:nvSpPr>
        <p:spPr>
          <a:xfrm>
            <a:off x="3886200" y="4495680"/>
            <a:ext cx="152280" cy="152640"/>
          </a:xfrm>
          <a:prstGeom prst="ellipse">
            <a:avLst/>
          </a:prstGeom>
          <a:solidFill>
            <a:srgbClr val="93d32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6" name="Oval 7"/>
          <p:cNvSpPr/>
          <p:nvPr/>
        </p:nvSpPr>
        <p:spPr>
          <a:xfrm>
            <a:off x="4343400" y="4495680"/>
            <a:ext cx="152280" cy="152640"/>
          </a:xfrm>
          <a:prstGeom prst="ellipse">
            <a:avLst/>
          </a:prstGeom>
          <a:solidFill>
            <a:srgbClr val="93d3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7" name="Oval 8">
            <a:hlinkClick r:id="rId4" action="ppaction://hlinksldjump"/>
          </p:cNvPr>
          <p:cNvSpPr/>
          <p:nvPr/>
        </p:nvSpPr>
        <p:spPr>
          <a:xfrm>
            <a:off x="7543800" y="5638680"/>
            <a:ext cx="152280" cy="228600"/>
          </a:xfrm>
          <a:prstGeom prst="ellipse">
            <a:avLst/>
          </a:prstGeom>
          <a:solidFill>
            <a:srgbClr val="93d3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C:\Documents and Settings\All Users\Documents\杨燕霞1\图片\yupian\２３.gif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719" name="WordArt 3"/>
          <p:cNvSpPr txBox="1"/>
          <p:nvPr/>
        </p:nvSpPr>
        <p:spPr>
          <a:xfrm>
            <a:off x="1981080" y="1447920"/>
            <a:ext cx="358164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92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！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720" name="Picture 4" descr="线条6"/>
          <p:cNvPicPr/>
          <p:nvPr/>
        </p:nvPicPr>
        <p:blipFill>
          <a:blip r:embed="rId2"/>
          <a:stretch/>
        </p:blipFill>
        <p:spPr>
          <a:xfrm flipH="1" rot="10800000">
            <a:off x="0" y="6171840"/>
            <a:ext cx="914400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2" descr="\\初二2\背景\04.jpg"/>
          <p:cNvPicPr/>
          <p:nvPr/>
        </p:nvPicPr>
        <p:blipFill>
          <a:blip r:embed="rId1"/>
          <a:stretch/>
        </p:blipFill>
        <p:spPr>
          <a:xfrm>
            <a:off x="0" y="69840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839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ahoma"/>
              </a:rPr>
              <a:t>①</a:t>
            </a:r>
            <a:r>
              <a:rPr b="1" lang="zh-CN" sz="3200" spc="-1" strike="noStrike">
                <a:solidFill>
                  <a:srgbClr val="6600ff"/>
                </a:solidFill>
                <a:latin typeface="Tahoma"/>
              </a:rPr>
              <a:t>他送的冰比他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前任</a:t>
            </a:r>
            <a:r>
              <a:rPr b="1" lang="zh-CN" sz="3200" spc="-1" strike="noStrike">
                <a:solidFill>
                  <a:srgbClr val="6600ff"/>
                </a:solidFill>
                <a:latin typeface="Tahoma"/>
              </a:rPr>
              <a:t>送的大一倍，冰价相同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ahoma"/>
              </a:rPr>
              <a:t>②</a:t>
            </a:r>
            <a:r>
              <a:rPr b="1" lang="zh-CN" sz="3200" spc="-1" strike="noStrike">
                <a:solidFill>
                  <a:srgbClr val="6600ff"/>
                </a:solidFill>
                <a:latin typeface="Tahoma"/>
              </a:rPr>
              <a:t>他送的冰比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前一个三轮车工人</a:t>
            </a:r>
            <a:r>
              <a:rPr b="1" lang="zh-CN" sz="3200" spc="-1" strike="noStrike">
                <a:solidFill>
                  <a:srgbClr val="6600ff"/>
                </a:solidFill>
                <a:latin typeface="Tahoma"/>
              </a:rPr>
              <a:t>送的大一倍，冰价相同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ahoma"/>
              </a:rPr>
              <a:t>①</a:t>
            </a:r>
            <a:r>
              <a:rPr b="1" lang="zh-CN" sz="3200" spc="-1" strike="noStrike">
                <a:solidFill>
                  <a:srgbClr val="6600ff"/>
                </a:solidFill>
                <a:latin typeface="Tahoma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强笑</a:t>
            </a:r>
            <a:r>
              <a:rPr b="1" lang="zh-CN" sz="3200" spc="-1" strike="noStrike">
                <a:solidFill>
                  <a:srgbClr val="6600ff"/>
                </a:solidFill>
                <a:latin typeface="Tahoma"/>
              </a:rPr>
              <a:t>说：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6600ff"/>
                </a:solidFill>
                <a:latin typeface="Tahoma"/>
              </a:rPr>
              <a:t>老王，这么新鲜的大鸡蛋，都给我们吃</a:t>
            </a:r>
            <a:r>
              <a:rPr b="1" lang="en-US" sz="3200" spc="-1" strike="noStrike">
                <a:solidFill>
                  <a:srgbClr val="6600ff"/>
                </a:solidFill>
                <a:latin typeface="Tahoma"/>
              </a:rPr>
              <a:t>?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66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ahoma"/>
              </a:rPr>
              <a:t>②</a:t>
            </a:r>
            <a:r>
              <a:rPr b="1" lang="zh-CN" sz="3200" spc="-1" strike="noStrike">
                <a:solidFill>
                  <a:srgbClr val="6600ff"/>
                </a:solidFill>
                <a:latin typeface="Tahoma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笑着</a:t>
            </a:r>
            <a:r>
              <a:rPr b="1" lang="zh-CN" sz="3200" spc="-1" strike="noStrike">
                <a:solidFill>
                  <a:srgbClr val="6600ff"/>
                </a:solidFill>
                <a:latin typeface="Tahoma"/>
              </a:rPr>
              <a:t>说：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6600ff"/>
                </a:solidFill>
                <a:latin typeface="Tahoma"/>
              </a:rPr>
              <a:t>老王，这么新鲜的大鸡蛋，都给我们吃</a:t>
            </a:r>
            <a:r>
              <a:rPr b="1" lang="en-US" sz="3200" spc="-1" strike="noStrike">
                <a:solidFill>
                  <a:srgbClr val="6600ff"/>
                </a:solidFill>
                <a:latin typeface="Tahoma"/>
              </a:rPr>
              <a:t>?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66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ahoma"/>
              </a:rPr>
              <a:t>①</a:t>
            </a:r>
            <a:r>
              <a:rPr b="1" lang="zh-CN" sz="3200" spc="-1" strike="noStrike">
                <a:solidFill>
                  <a:srgbClr val="6600ff"/>
                </a:solidFill>
                <a:latin typeface="Tahoma"/>
              </a:rPr>
              <a:t>我在家听到打门，开门看见老王直僵僵地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镶嵌在门框里</a:t>
            </a:r>
            <a:r>
              <a:rPr b="1" lang="zh-CN" sz="3200" spc="-1" strike="noStrike">
                <a:solidFill>
                  <a:srgbClr val="6600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ahoma"/>
              </a:rPr>
              <a:t>②</a:t>
            </a:r>
            <a:r>
              <a:rPr b="1" lang="zh-CN" sz="3200" spc="-1" strike="noStrike">
                <a:solidFill>
                  <a:srgbClr val="6600ff"/>
                </a:solidFill>
                <a:latin typeface="Tahoma"/>
              </a:rPr>
              <a:t>我在家听到打门，开门看见老王直僵僵地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站立在门口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。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23" name="Rectangle 4"/>
          <p:cNvSpPr/>
          <p:nvPr/>
        </p:nvSpPr>
        <p:spPr>
          <a:xfrm>
            <a:off x="-150840" y="0"/>
            <a:ext cx="91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．比较下边每组两个句子，联系上下文，说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表达上的好处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24" name="Picture 5" descr="线条6"/>
          <p:cNvPicPr/>
          <p:nvPr/>
        </p:nvPicPr>
        <p:blipFill>
          <a:blip r:embed="rId2"/>
          <a:stretch/>
        </p:blipFill>
        <p:spPr>
          <a:xfrm flipH="1" rot="10800000">
            <a:off x="0" y="472392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6" descr="线条6"/>
          <p:cNvPicPr/>
          <p:nvPr/>
        </p:nvPicPr>
        <p:blipFill>
          <a:blip r:embed="rId3"/>
          <a:stretch/>
        </p:blipFill>
        <p:spPr>
          <a:xfrm flipH="1" rot="10800000">
            <a:off x="0" y="2514240"/>
            <a:ext cx="914400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\\初二1\d\背景\05.gif"/>
          <p:cNvPicPr/>
          <p:nvPr/>
        </p:nvPicPr>
        <p:blipFill>
          <a:blip r:embed="rId1"/>
          <a:stretch/>
        </p:blipFill>
        <p:spPr>
          <a:xfrm>
            <a:off x="0" y="-227160"/>
            <a:ext cx="9144000" cy="2208240"/>
          </a:xfrm>
          <a:prstGeom prst="rect">
            <a:avLst/>
          </a:prstGeom>
          <a:ln w="0">
            <a:noFill/>
          </a:ln>
        </p:spPr>
      </p:pic>
      <p:sp>
        <p:nvSpPr>
          <p:cNvPr id="727" name="WordArt 3"/>
          <p:cNvSpPr txBox="1"/>
          <p:nvPr/>
        </p:nvSpPr>
        <p:spPr>
          <a:xfrm>
            <a:off x="914400" y="0"/>
            <a:ext cx="2133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思考要点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457200" y="2895480"/>
            <a:ext cx="85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强笑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不但准确，而且含蓄，透露见到老王病态，还来谢我们，心中有说不出的悲楚和感动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0" y="19810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前任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宋体"/>
              </a:rPr>
              <a:t>”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简练，小词大用，又很风趣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4876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镶嵌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宋体"/>
              </a:rPr>
              <a:t>”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，夸张手法，强调老王步履维艰，身体僵直的形态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31" name="Picture 7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0" y="-227160"/>
            <a:ext cx="838080" cy="989280"/>
          </a:xfrm>
          <a:prstGeom prst="rect">
            <a:avLst/>
          </a:prstGeom>
          <a:ln w="0">
            <a:noFill/>
          </a:ln>
        </p:spPr>
      </p:pic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  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733" name="Picture 9" descr="\\初二1\d\图片\34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772400" y="5943600"/>
            <a:ext cx="1066680" cy="609480"/>
          </a:xfrm>
          <a:prstGeom prst="rect">
            <a:avLst/>
          </a:prstGeom>
          <a:ln w="0">
            <a:noFill/>
          </a:ln>
        </p:spPr>
      </p:pic>
      <p:sp>
        <p:nvSpPr>
          <p:cNvPr id="734" name="Text Box 10"/>
          <p:cNvSpPr/>
          <p:nvPr/>
        </p:nvSpPr>
        <p:spPr>
          <a:xfrm>
            <a:off x="1792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2" descr="C:\Documents and Settings\All Users\Documents\杨燕霞1\图片\背景 在 初二2 上\backgroud.gif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3"/>
          <p:cNvSpPr/>
          <p:nvPr/>
        </p:nvSpPr>
        <p:spPr>
          <a:xfrm>
            <a:off x="-455760" y="762120"/>
            <a:ext cx="853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宋体"/>
              </a:rPr>
              <a:t>．这篇写人记事的散文，材料琐 碎，但是经过作者的组织，成为一个有机整体。作者是怎样组织的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533520" y="2362320"/>
            <a:ext cx="800100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9797b7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前四段以逻辑顺序（因果关系）来写：老王的职业、不幸遭遇、居住条件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9797b7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接下来的三个片段，按照时间顺序，写老王的工作与为人；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9797b7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38" name="Picture 5" descr="C:\Documents and Settings\All Users\Documents\杨燕霞1\图片\yupian\33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48720" y="50292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2" descr="C:\Documents and Settings\All Users\Documents\杨燕霞1\图片\背景 在 初二2 上\bgt009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3"/>
          <p:cNvSpPr/>
          <p:nvPr/>
        </p:nvSpPr>
        <p:spPr>
          <a:xfrm>
            <a:off x="684360" y="1557360"/>
            <a:ext cx="35272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老王</a:t>
            </a:r>
            <a:endParaRPr b="0" lang="en-US" sz="8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杨绛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34" name="Picture 4" descr="000055"/>
          <p:cNvPicPr/>
          <p:nvPr/>
        </p:nvPicPr>
        <p:blipFill>
          <a:blip r:embed="rId3"/>
          <a:stretch/>
        </p:blipFill>
        <p:spPr>
          <a:xfrm>
            <a:off x="3505320" y="76212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2"/>
          <p:cNvSpPr/>
          <p:nvPr/>
        </p:nvSpPr>
        <p:spPr>
          <a:xfrm>
            <a:off x="1685880" y="1490760"/>
            <a:ext cx="2314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_x000b__x000c_"/>
              </a:rPr>
              <a:t>四季的斑谰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_x000b__x000c_"/>
              </a:rPr>
              <a:t>悄然地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_x000b__x000c_"/>
              </a:rPr>
              <a:t>在你奔波的车轮中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_x000b__x000c_"/>
              </a:rPr>
              <a:t>演绎你生命的履历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_x000b__x000c_"/>
              </a:rPr>
              <a:t>你的背影曳着旭日升起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_x000b__x000c_"/>
              </a:rPr>
              <a:t>携着夕阳隐没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40" name="Text Box 3"/>
          <p:cNvSpPr/>
          <p:nvPr/>
        </p:nvSpPr>
        <p:spPr>
          <a:xfrm>
            <a:off x="5649480" y="1295280"/>
            <a:ext cx="2100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_x000b__x000c_"/>
              </a:rPr>
              <a:t>没有雄浑的豪言壮语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_x000b__x000c_"/>
              </a:rPr>
              <a:t>没有靓丽的西装革履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_x000b__x000c_"/>
              </a:rPr>
              <a:t>你擎起人生的火距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_x000b__x000c_"/>
              </a:rPr>
              <a:t>挺进于时光的隧道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_x000b__x000c_"/>
              </a:rPr>
              <a:t>为了生存的精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_x000b__x000c_"/>
              </a:rPr>
              <a:t>为了生活的热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41" name="Text Box 4"/>
          <p:cNvSpPr/>
          <p:nvPr/>
        </p:nvSpPr>
        <p:spPr>
          <a:xfrm>
            <a:off x="1242720" y="4191120"/>
            <a:ext cx="269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_x000b__x000c_"/>
              </a:rPr>
              <a:t>每一条蜿蜒的崎岖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_x000b__x000c_"/>
              </a:rPr>
              <a:t>都弹奏着你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_x000b__x000c_"/>
              </a:rPr>
              <a:t>铿锵的跫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  <a:ea typeface="_x000b__x000c_"/>
              </a:rPr>
              <a:t>qióng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_x000b__x000c_"/>
              </a:rPr>
              <a:t>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_x000b__x000c_"/>
              </a:rPr>
              <a:t>你的足迹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_x000b__x000c_"/>
              </a:rPr>
              <a:t>涂满东西南北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_x000b__x000c_"/>
              </a:rPr>
              <a:t>尽把生活的浓彩 描绘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42" name="WordArt 5"/>
          <p:cNvSpPr txBox="1"/>
          <p:nvPr/>
        </p:nvSpPr>
        <p:spPr>
          <a:xfrm>
            <a:off x="2133720" y="457200"/>
            <a:ext cx="243828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人力车夫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3" name="WordArt 6"/>
          <p:cNvSpPr txBox="1"/>
          <p:nvPr/>
        </p:nvSpPr>
        <p:spPr>
          <a:xfrm>
            <a:off x="5219640" y="914400"/>
            <a:ext cx="140976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李长春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44" name="Picture 7" descr="车夫2"/>
          <p:cNvPicPr/>
          <p:nvPr/>
        </p:nvPicPr>
        <p:blipFill>
          <a:blip r:embed="rId1"/>
          <a:stretch/>
        </p:blipFill>
        <p:spPr>
          <a:xfrm>
            <a:off x="5257800" y="4648320"/>
            <a:ext cx="3124080" cy="198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0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5" nodeType="after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61214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人力车夫</a:t>
            </a:r>
            <a:br>
              <a:rPr sz="4000"/>
            </a:b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胡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       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警察法令，十八岁以下，五十岁以上，皆不得为人力车夫。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车子！车子！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车来如飞。 </a:t>
            </a: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        客看车夫，忽然心中酸悲。 </a:t>
            </a: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        客问车夫：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今年几岁？拉车拉了多少时？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        车夫答客：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今年十六，拉过三年车了，你老别多疑。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        客告车夫：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你年纪太小，我不能坐你车，我坐你车，我心中惨凄。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        车夫告客：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半日没有生意，又寒又饥， </a:t>
            </a: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        你老的好心肠，饱不了我的饿肚皮， </a:t>
            </a: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        我年纪小拉车，警察还不管，你老又是谁？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        客人点头上车，说：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拉到内务部西。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14400" y="-303120"/>
            <a:ext cx="5541840" cy="114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老舍的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骆驼祥子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》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97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            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这是一个人力车夫祥子的悲剧故事。祥子原是一个破产农民，从农村流落到城市，做了人力车夫。他决心凭自己的力气攒钱买一辆车。他的理想就是买一辆自己的车，但他三次买车，三次丢车。他和虎妞结婚，虎妞难产而死。他最心爱的小福子受逼上吊自尽。最后曾经是一个勤劳、能干、健壮、朴实、善良的祥子终于成了一个吃、喝、嫖、赌、懒、狡猾等样样俱全的行尸走肉。</a:t>
            </a:r>
            <a:r>
              <a:rPr b="1" lang="zh-CN" sz="3200" spc="-1" strike="noStrike">
                <a:solidFill>
                  <a:srgbClr val="c7c7d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-633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50920" y="188640"/>
            <a:ext cx="86421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   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过了小桥，最引人注目的是一字排开的十几辆人力车。如旧北平骆驼祥子拉的那种洋车。这种车在中国早已绝迹。它被视为阶级社会的明显标志。坐车者为压迫者，拉车者为被压迫者。即使有人肯拉，又有哪位敢坐呢？但在这里却居然有声有色地存在。 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        这引起了我很大的兴趣。却不料，不约而同，我们这一行人，皆兴趣盎然。因为大概我们都是来自另一理念之地吧！大家一拥而上，围上前去，抓拍镜头。十几辆人力车整齐划一，排成一列。车的底色是黑的，车座和脚踏则是红的，黑红搭配，十分醒目。车上有篷，篷可展可缩，既可遮阳又可避雨。阔大的车轮，其辐条锃光瓦亮，熠熠闪光。整辆车油饰一新，似刚出厂门。每辆车前皆置一小脚凳，供上车之用。可以想见，游客乘上此等靓车，游兴一定会大增的。 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        我把目光移向车夫。洋车夫皆统一着装。一身淡兰色的簇新工作服，上衣背后绘一圆形的贴号码的象征性标志。一望可知，他就是一位人力车夫。他们为一色的年轻人，是名副其实的体力劳动者。生意却是要亲自揽的。他们手执照片，在桥上和路上招徕游客。照片上是以往游客轻松乘车之情景。这照片显系名片式的小广告。他们对游客不厌其烦地游说，一位不行，再游说下一位，始终面带笑容，十分耐心，亦十分有礼。</a:t>
            </a:r>
            <a:r>
              <a:rPr b="0" lang="zh-CN" sz="2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-703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88200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   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总有感兴趣者。只见一家三口，一对小夫妻加一男孩，乘上一辆车；另见一对老两口登上一辆车；又见一对情侣亦如之，只是略显羞涩。看起来，生意蛮不错。起车前，车夫轻轻地在他们膝上加盖一块洁净的红毛毯，以挡风寒。同时，还应游客的要求为他们拍照。然后，在我们相机的一片闪光灯中，车夫驾起车辕，轻快自如地由慢加快地起跑，眼神里流露出某种自豪感。 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        我们在岚山市镇上游逛，伴着一串清脆的车铃声，常能看到面露笑容、青春焕发的小伙子拉着洋车飞奔而来。大家急忙闪开，同时举起摄象机和照相机，把乘车的情侣和拉车的青年，纷纷抢入镜头。本来以为，只有在我国的风景胜地才有人力轿夫，没想到在经济高度发达的日本也有人力车夫。日本人力车夫身上焕发出来的欢乐气息，深深地感染着周边的人们。他们以这个职业为荣。这和老舍笔下旧北平的为讨生计而被迫拉车的可怜的骆驼祥子，不可同日而语。其实，细细想来，人力车夫同其他为人们服务的行当是一样的，亦是我为人人。人人为我，不应当有高低贵贱之分。当然，在旧中国是另一回事。 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        关于人力车夫还可以谈很多，就此打住。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753" name="Picture 4" descr="线条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800000">
            <a:off x="0" y="6248160"/>
            <a:ext cx="914400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精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2" descr="C:\Documents and Settings\All Users\Documents\杨燕霞1\图片\背景 在 初二2 上\10.jpg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524560"/>
          </a:xfrm>
          <a:prstGeom prst="rect">
            <a:avLst/>
          </a:prstGeom>
          <a:ln w="0">
            <a:noFill/>
          </a:ln>
        </p:spPr>
      </p:pic>
      <p:sp>
        <p:nvSpPr>
          <p:cNvPr id="758" name="Rectangle 3"/>
          <p:cNvSpPr/>
          <p:nvPr/>
        </p:nvSpPr>
        <p:spPr>
          <a:xfrm>
            <a:off x="0" y="914400"/>
            <a:ext cx="91440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亲近自己的双腿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应朋友之约，去他家议事。这是我第一次上他家去。朋友住在城南一幢别墅里，乘公交车去，下车之后，若步行，紧走慢赶，也要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40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分钟，这么长的路，怎么走啊？我顺手招了一辆人力三轮车。朋友事先在电话中告知：若坐三轮，只需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元。为保险起见，我上车前还是问了价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元，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车夫说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元？不是说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元吗？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我不想坐，可四周就只有这辆三轮车。车夫见我犹豫，就说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上车吧，就收你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元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车夫一面蹬车，一面以柔和的语气对我说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我要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元其实没多收你的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我说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人家已经告诉我，只要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元呢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”“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那是因为你下公交车下错了地方，如果在前一站就只收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元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随后他立即补充道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当然我还是收你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元，已经说好的价，就不会变。我是说，你以后来这里，就在前一站下车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他说得这般诚恳，话语里透着关切，使我情不自禁地看了看他。他穿着经营人力三轮车的人统一的黄马甲，剪得齐齐整整的头发已经花白了，至少有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50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岁的年纪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2" descr="C:\Documents and Settings\All Users\Documents\杨燕霞1\图片\背景 在 初二2 上\10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-360" y="7855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45472"/>
                </a:solidFill>
                <a:latin typeface="Tahoma"/>
              </a:rPr>
              <a:t>              </a:t>
            </a:r>
            <a:r>
              <a:rPr b="1" lang="zh-CN" sz="2000" spc="-1" strike="noStrike">
                <a:solidFill>
                  <a:srgbClr val="660066"/>
                </a:solidFill>
                <a:latin typeface="Tahoma"/>
              </a:rPr>
              <a:t>车前行着，我总觉得有点不太对劲，上好的马路，车身却微微颠簸，不像坐其他人的三轮车那么平稳，而是向前一冲，片刻的停顿之后，再向前一冲。我正觉奇怪，突然发现蹬车的人只有一条腿！他失去的是右腿。一截黄黄的裤管，挽一个疙瘩，悬在空中，随车轮向前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660066"/>
                </a:solidFill>
                <a:latin typeface="Tahoma"/>
              </a:rPr>
              <a:t>冲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000" spc="-1" strike="noStrike">
                <a:solidFill>
                  <a:srgbClr val="660066"/>
                </a:solidFill>
                <a:latin typeface="Tahoma"/>
              </a:rPr>
              <a:t>的频率前后晃荡着。他的左腿用力地蹬着踏板，为了让车走得快一些，臀部时时脱离坐垫，身子向左倾斜，以便把所有的力量都集中在左腿上。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ahoma"/>
              </a:rPr>
              <a:t>              </a:t>
            </a:r>
            <a:r>
              <a:rPr b="1" lang="zh-CN" sz="2000" spc="-1" strike="noStrike">
                <a:solidFill>
                  <a:srgbClr val="660066"/>
                </a:solidFill>
                <a:latin typeface="Tahoma"/>
              </a:rPr>
              <a:t>我猛然间觉得不是滋味，眼光直直地瞪着他的断腿，瞪着悬在空中前后摇摆的那截黄黄的裤管。我觉得我很不人道，我刚</a:t>
            </a: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30</a:t>
            </a:r>
            <a:r>
              <a:rPr b="1" lang="zh-CN" sz="2000" spc="-1" strike="noStrike">
                <a:solidFill>
                  <a:srgbClr val="660066"/>
                </a:solidFill>
                <a:latin typeface="Tahoma"/>
              </a:rPr>
              <a:t>出头，有</a:t>
            </a: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130</a:t>
            </a:r>
            <a:r>
              <a:rPr b="1" lang="zh-CN" sz="2000" spc="-1" strike="noStrike">
                <a:solidFill>
                  <a:srgbClr val="660066"/>
                </a:solidFill>
                <a:latin typeface="Tahoma"/>
              </a:rPr>
              <a:t>多斤的体重，体魄强壮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……</a:t>
            </a:r>
            <a:r>
              <a:rPr b="1" lang="zh-CN" sz="2000" spc="-1" strike="noStrike">
                <a:solidFill>
                  <a:srgbClr val="660066"/>
                </a:solidFill>
                <a:latin typeface="Tahoma"/>
              </a:rPr>
              <a:t>我的喉咙有些发干，心里被一种奇怪的惆怅的甚至悲凉的情绪纠缠着，笼罩着。我想对他说，不要再蹬了，我走着去。我当然会一分不少地给他钱，可我又生怕被他误解，同时我也怕自己的做法显得矫情，玷污了一种圣洁的东西。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ahoma"/>
              </a:rPr>
              <a:t>              </a:t>
            </a:r>
            <a:r>
              <a:rPr b="1" lang="zh-CN" sz="2000" spc="-1" strike="noStrike">
                <a:solidFill>
                  <a:srgbClr val="660066"/>
                </a:solidFill>
                <a:latin typeface="Tahoma"/>
              </a:rPr>
              <a:t>前面是一带缓坡，我说：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660066"/>
                </a:solidFill>
                <a:latin typeface="Tahoma"/>
              </a:rPr>
              <a:t>这里不好骑，我下车，我们把车推过去。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000" spc="-1" strike="noStrike">
                <a:solidFill>
                  <a:srgbClr val="660066"/>
                </a:solidFill>
                <a:latin typeface="Tahoma"/>
              </a:rPr>
              <a:t>他急忙制止：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660066"/>
                </a:solidFill>
                <a:latin typeface="Tahoma"/>
              </a:rPr>
              <a:t>没关系没关系，这点坡都骑不上去，我咋个挣生活啊？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000" spc="-1" strike="noStrike">
                <a:solidFill>
                  <a:srgbClr val="660066"/>
                </a:solidFill>
                <a:latin typeface="Tahoma"/>
              </a:rPr>
              <a:t>言毕，快乐地笑了两声，身子便弓了起来，加快了蹬踏的频率。车子遇到坡度，便倔强地不肯前行，甚至有后退的趋势。他的独腿顽强地与后退的力量抗争着，车轮发出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660066"/>
                </a:solidFill>
                <a:latin typeface="Tahoma"/>
              </a:rPr>
              <a:t>吱吱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000" spc="-1" strike="noStrike">
                <a:solidFill>
                  <a:srgbClr val="660066"/>
                </a:solidFill>
                <a:latin typeface="Tahoma"/>
              </a:rPr>
              <a:t>的尖叫，车身摇摇晃晃，极不情愿地向前扭动。我甚至觉得这车也是鄙夷我的！它是在痛恨我不怜惜它的主人，才这般固执的吗？车夫黝黑的后颈上高高绷起一股筋来，头使劲在向前耸，我想他的脸一定是紫红的，他那被单薄的衣服包裹起来的肋骨，一定根根可数。他是在跟自己较劲，与命运抗争！</a:t>
            </a:r>
            <a:r>
              <a:rPr b="1" lang="zh-CN" sz="18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1792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2" descr="C:\Documents and Settings\All Users\Documents\杨燕霞1\图片\背景 在 初二2 上\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3"/>
          <p:cNvSpPr/>
          <p:nvPr/>
        </p:nvSpPr>
        <p:spPr>
          <a:xfrm>
            <a:off x="4442040" y="320040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65" name="Rectangle 4"/>
          <p:cNvSpPr/>
          <p:nvPr/>
        </p:nvSpPr>
        <p:spPr>
          <a:xfrm>
            <a:off x="4442040" y="320040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228600"/>
            <a:ext cx="91440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坡总算爬上去了，车夫重浊地喘着气。不知怎么，我心里的惆怅和悲凉竟然了无影踪了。我在为他高兴，并暗暗受到鼓舞。在我面前的，无疑是一个强者，他把路扔在了后面，把坡扔在了后面，为自己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挣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来了坦荡而快乐的生活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             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待他喘息稍定，我说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你真不容易啊！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他自豪地说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这算啥呢！今年初，我一口气蹬过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80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多里，而且带的是两个人！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”“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怎么走那远？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我问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有两个外国人来成都，想坐人力车沿二环路走一趟，看看成都的风景，恰巧坐了我的车。途中，他们想换车，以为我会半路出丑的，没想到，嘿，我这条独腿竟然一口气蹬到底！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             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我不知道该说什么好，既心酸，又豪迈，是那种近乎悲壮的情感。不由自主地，我又看着他那条断腿。我很想打听一下他的那条腿是怎么失去的，可终于没有问，事实上，这已经无关紧要了。那条腿已经支撑起了他的人生和尊严，这就足够了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              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别墅到了。我下了车，给他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元钱，他坚决不收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讲好的价，怎么能变呢？你这叫我以后咋个在世上混啊？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我没勉强，收回了他找给的两元钱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             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返回时，我徒步走过了那段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40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分钟的路程。我从来没有与自己的两条腿这般亲近过，从来没有觉得自己的两条腿这般有力过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2" descr="C:\Documents and Settings\All Users\Documents\杨燕霞1\图片\背景 在 初二2 上\10.jpg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6134040"/>
          </a:xfrm>
          <a:prstGeom prst="rect">
            <a:avLst/>
          </a:prstGeom>
          <a:ln w="0">
            <a:noFill/>
          </a:ln>
        </p:spPr>
      </p:pic>
      <p:sp>
        <p:nvSpPr>
          <p:cNvPr id="768" name="Rectangle 3"/>
          <p:cNvSpPr/>
          <p:nvPr/>
        </p:nvSpPr>
        <p:spPr>
          <a:xfrm>
            <a:off x="0" y="0"/>
            <a:ext cx="93726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③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画线句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正觉奇怪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中，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奇怪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的是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ahoma"/>
              </a:rPr>
              <a:t>                 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。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④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中的省略号省略的是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的心理活动。请联系上下文，把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心里想的内容补充完整。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⑤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中加点词语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挣生活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的意思是 。从语言特点看，在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⑤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中有不少富有表现力的精彩语句。写出你最欣赏的一句，并陈述理由。</a:t>
            </a: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语句：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ahoma"/>
              </a:rPr>
              <a:t>                                                                   </a:t>
            </a: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理由：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ahoma"/>
              </a:rPr>
              <a:t>                                                                   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⑥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画线句说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心里的惆怅和悲凉竟然了无影踪了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。起先纠缠着、笼罩着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的惆怅和悲凉，为什么到此时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竟然了无影踪了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呢？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⑧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中说，车夫的那条独腿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支撑起了他的人生和尊严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。从全文看，车夫的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尊严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具体表现在：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从全文看，题目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亲近自己的双腿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的含义是：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ahoma"/>
              </a:rPr>
              <a:t>                             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。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-87480" y="44280"/>
            <a:ext cx="9371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③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画线句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正觉奇怪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中，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奇怪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的是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ahoma"/>
              </a:rPr>
              <a:t>                 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。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④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中的省略号省略的是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的心理活动。请联系上下文，把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心里想的内容补充完整。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⑤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中加点词语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挣生活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的意思是 。从语言特点看，在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⑤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中有不少富有表现力的精彩语句。写出你最欣赏的一句，并陈述理由。</a:t>
            </a: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语句：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ahoma"/>
              </a:rPr>
              <a:t>                                                                   </a:t>
            </a: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理由：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ahoma"/>
              </a:rPr>
              <a:t>                                                                   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⑥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画线句说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心里的惆怅和悲凉竟然了无影踪了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。起先纠缠着、笼罩着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的惆怅和悲凉，为什么到此时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竟然了无影踪了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呢？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⑧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中说，车夫的那条独腿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支撑起了他的人生和尊严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。从全文看，车夫的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尊严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具体表现在：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从全文看，题目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亲近自己的双腿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的含义是：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ahoma"/>
              </a:rPr>
              <a:t>                             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。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-28440" y="14400"/>
            <a:ext cx="9369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③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画线句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正觉奇怪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中，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奇怪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的是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ahoma"/>
              </a:rPr>
              <a:t>                 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。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④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中的省略号省略的是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的心理活动。请联系上下文，把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心里想的内容补充完整。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⑤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中加点词语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挣生活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的意思是 。从语言特点看，在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⑤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中有不少富有表现力的精彩语句。写出你最欣赏的一句，并陈述理由。</a:t>
            </a: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语句：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ahoma"/>
              </a:rPr>
              <a:t>                                                                   </a:t>
            </a: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理由：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ahoma"/>
              </a:rPr>
              <a:t>                                                                   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⑥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画线句说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心里的惆怅和悲凉竟然了无影踪了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。起先纠缠着、笼罩着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的惆怅和悲凉，为什么到此时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竟然了无影踪了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呢？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⑧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中说，车夫的那条独腿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支撑起了他的人生和尊严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。从全文看，车夫的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尊严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具体表现在：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从全文看，题目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亲近自己的双腿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的含义是：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ahoma"/>
              </a:rPr>
              <a:t>                             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。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-119160" y="60480"/>
            <a:ext cx="9371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③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画线句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正觉奇怪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中，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奇怪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的是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ahoma"/>
              </a:rPr>
              <a:t>                 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。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④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中的省略号省略的是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的心理活动。请联系上下文，把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心里想的内容补充完整。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⑤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中加点词语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挣生活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的意思是 。从语言特点看，在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⑤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中有不少富有表现力的精彩语句。写出你最欣赏的一句，并陈述理由。</a:t>
            </a: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语句：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ahoma"/>
              </a:rPr>
              <a:t>                                                                   </a:t>
            </a: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理由：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ahoma"/>
              </a:rPr>
              <a:t>                                                                   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⑥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画线句说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心里的惆怅和悲凉竟然了无影踪了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。起先纠缠着、笼罩着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我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的惆怅和悲凉，为什么到此时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竟然了无影踪了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呢？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⑧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段中说，车夫的那条独腿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支撑起了他的人生和尊严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。从全文看，车夫的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尊严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具体表现在：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．从全文看，题目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亲近自己的双腿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的含义是：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ahoma"/>
              </a:rPr>
              <a:t>                             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。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杨绛1"/>
          <p:cNvPicPr/>
          <p:nvPr/>
        </p:nvPicPr>
        <p:blipFill>
          <a:blip r:embed="rId1"/>
          <a:stretch/>
        </p:blipFill>
        <p:spPr>
          <a:xfrm>
            <a:off x="0" y="4892760"/>
            <a:ext cx="2209680" cy="196524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3"/>
          <p:cNvSpPr/>
          <p:nvPr/>
        </p:nvSpPr>
        <p:spPr>
          <a:xfrm>
            <a:off x="0" y="914400"/>
            <a:ext cx="6705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  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杨绛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(1911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，本名杨季康，祖籍江苏无锡，生于北京。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1932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年毕业于苏州东吴大学。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1935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1938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年留学英法，回国后曾在上海震旦女子文理学院、清华大学任教。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1949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年后，在中国社会科学院文学研究所、外国文学研究所工作。主要作品有剧本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称心如意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弄假成真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，长篇小说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洗澡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。文革后主要的散文创作成果是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干校六记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，记述作者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1969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年底到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1972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年春在河南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五七干校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中的生活经历。另有译文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堂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吉诃德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等。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1143000" y="1890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华文新魏"/>
              </a:rPr>
              <a:t>作者简介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38" name="Picture 5" descr="杨绛2"/>
          <p:cNvPicPr/>
          <p:nvPr/>
        </p:nvPicPr>
        <p:blipFill>
          <a:blip r:embed="rId2"/>
          <a:stretch/>
        </p:blipFill>
        <p:spPr>
          <a:xfrm>
            <a:off x="4648320" y="5118120"/>
            <a:ext cx="2057400" cy="1739880"/>
          </a:xfrm>
          <a:prstGeom prst="rect">
            <a:avLst/>
          </a:prstGeom>
          <a:ln w="9360">
            <a:solidFill>
              <a:srgbClr val="c7c7df"/>
            </a:solidFill>
            <a:miter/>
          </a:ln>
        </p:spPr>
      </p:pic>
      <p:pic>
        <p:nvPicPr>
          <p:cNvPr id="639" name="Picture 6" descr="杨绛6"/>
          <p:cNvPicPr/>
          <p:nvPr/>
        </p:nvPicPr>
        <p:blipFill>
          <a:blip r:embed="rId3"/>
          <a:stretch/>
        </p:blipFill>
        <p:spPr>
          <a:xfrm>
            <a:off x="2438280" y="5105520"/>
            <a:ext cx="1944720" cy="1600200"/>
          </a:xfrm>
          <a:prstGeom prst="rect">
            <a:avLst/>
          </a:prstGeom>
          <a:ln w="9360">
            <a:solidFill>
              <a:srgbClr val="c7c7df"/>
            </a:solidFill>
            <a:miter/>
          </a:ln>
        </p:spPr>
      </p:pic>
      <p:graphicFrame>
        <p:nvGraphicFramePr>
          <p:cNvPr id="640" name="Object 7"/>
          <p:cNvGraphicFramePr/>
          <p:nvPr/>
        </p:nvGraphicFramePr>
        <p:xfrm>
          <a:off x="7010280" y="0"/>
          <a:ext cx="3200400" cy="685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1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10280" y="0"/>
                    <a:ext cx="3200400" cy="6858000"/>
                  </a:xfrm>
                  <a:prstGeom prst="rect">
                    <a:avLst/>
                  </a:prstGeom>
                  <a:ln w="9360">
                    <a:solidFill>
                      <a:srgbClr val="c7c7d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c4fd"/>
            </a:gs>
            <a:gs pos="50000">
              <a:srgbClr val="ffffff"/>
            </a:gs>
            <a:gs pos="100000">
              <a:srgbClr val="fec4f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我们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仨</a:t>
            </a:r>
            <a:r>
              <a:rPr b="1" lang="zh-CN" sz="4400" spc="-1" strike="noStrike">
                <a:solidFill>
                  <a:srgbClr val="545472"/>
                </a:solidFill>
                <a:latin typeface="Tahoma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sā</a:t>
            </a:r>
            <a:r>
              <a:rPr b="1" lang="zh-CN" sz="4400" spc="-1" strike="noStrike">
                <a:solidFill>
                  <a:srgbClr val="545472"/>
                </a:solidFill>
                <a:latin typeface="Tahoma"/>
              </a:rPr>
              <a:t>）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643" name="Picture 3" descr="杨绛3"/>
          <p:cNvPicPr/>
          <p:nvPr/>
        </p:nvPicPr>
        <p:blipFill>
          <a:blip r:embed="rId1"/>
          <a:stretch/>
        </p:blipFill>
        <p:spPr>
          <a:xfrm>
            <a:off x="539640" y="1916280"/>
            <a:ext cx="3961080" cy="33843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4" descr="杨绛2"/>
          <p:cNvPicPr/>
          <p:nvPr/>
        </p:nvPicPr>
        <p:blipFill>
          <a:blip r:embed="rId2"/>
          <a:stretch/>
        </p:blipFill>
        <p:spPr>
          <a:xfrm>
            <a:off x="4788000" y="1916280"/>
            <a:ext cx="4032000" cy="338436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5"/>
          <p:cNvSpPr/>
          <p:nvPr/>
        </p:nvSpPr>
        <p:spPr>
          <a:xfrm>
            <a:off x="1967760" y="566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杨绛与钱钟书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5758560" y="566100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钱钟书夫妇和女儿钱媛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c6cda"/>
                </a:solidFill>
                <a:latin typeface="Tahoma"/>
              </a:rPr>
              <a:t>边读边想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、 本文的叙事线索是什么？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、老王的生活很苦，表现在哪些方面？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、老王的善良表现在哪里？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、作者一家人的善良表现在哪里？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、对课文结尾的最后一句话，应该怎样理解？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649" name="Picture 4" descr="C:\Documents and Settings\All Users\Documents\杨燕霞1\图片\My Pictures\02.gif"/>
          <p:cNvPicPr/>
          <p:nvPr/>
        </p:nvPicPr>
        <p:blipFill>
          <a:blip r:embed="rId2"/>
          <a:stretch/>
        </p:blipFill>
        <p:spPr>
          <a:xfrm>
            <a:off x="7238880" y="1523880"/>
            <a:ext cx="2057400" cy="48769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5" descr="上一页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80880" y="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609480" y="1600200"/>
            <a:ext cx="73152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9797b7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7ccd9"/>
                </a:solidFill>
                <a:latin typeface="Arial"/>
              </a:rPr>
              <a:t>解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9797b7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Arial"/>
              </a:rPr>
              <a:t>滞笨 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9797b7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545472"/>
                </a:solidFill>
                <a:latin typeface="Arial"/>
              </a:rPr>
              <a:t>愧怍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9797b7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7ccd9"/>
                </a:solidFill>
                <a:latin typeface="Arial"/>
              </a:rPr>
              <a:t>标音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595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545472"/>
                </a:solidFill>
                <a:latin typeface="Arial"/>
              </a:rPr>
              <a:t>塌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败</a:t>
            </a:r>
            <a:r>
              <a:rPr b="1" lang="zh-CN" sz="3600" spc="-1" strike="noStrike">
                <a:solidFill>
                  <a:srgbClr val="545472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取</a:t>
            </a:r>
            <a:r>
              <a:rPr b="1" lang="zh-CN" sz="3600" spc="-1" strike="noStrike">
                <a:solidFill>
                  <a:srgbClr val="545472"/>
                </a:solidFill>
                <a:latin typeface="Arial"/>
              </a:rPr>
              <a:t>缔   伛   翳   骷髅   绷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545472"/>
                </a:solidFill>
                <a:latin typeface="Arial"/>
              </a:rPr>
              <a:t>滞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笨</a:t>
            </a:r>
            <a:r>
              <a:rPr b="1" lang="zh-CN" sz="3600" spc="-1" strike="noStrike">
                <a:solidFill>
                  <a:srgbClr val="545472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愧</a:t>
            </a:r>
            <a:r>
              <a:rPr b="1" lang="zh-CN" sz="3600" spc="-1" strike="noStrike">
                <a:solidFill>
                  <a:srgbClr val="545472"/>
                </a:solidFill>
                <a:latin typeface="Arial"/>
              </a:rPr>
              <a:t>怍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3733920" y="83808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 Black"/>
              </a:rPr>
              <a:t>字词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2532240" y="236232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aaa3"/>
                </a:solidFill>
                <a:latin typeface="Times New Roman"/>
              </a:rPr>
              <a:t>呆滞笨拙</a:t>
            </a:r>
            <a:r>
              <a:rPr b="0" lang="zh-CN" sz="3200" spc="-1" strike="noStrike">
                <a:solidFill>
                  <a:srgbClr val="1caaa3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227016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2788200" y="32004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aaa3"/>
                </a:solidFill>
                <a:latin typeface="Times New Roman"/>
              </a:rPr>
              <a:t>惭愧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1079280" y="4495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aaa3"/>
                </a:solidFill>
                <a:latin typeface="Times New Roman"/>
              </a:rPr>
              <a:t>tā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2820960" y="44197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aaa3"/>
                </a:solidFill>
                <a:latin typeface="Times New Roman"/>
              </a:rPr>
              <a:t>dì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8" name="Text Box 9"/>
          <p:cNvSpPr/>
          <p:nvPr/>
        </p:nvSpPr>
        <p:spPr>
          <a:xfrm>
            <a:off x="3647520" y="441972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aaa3"/>
                </a:solidFill>
                <a:latin typeface="Times New Roman"/>
              </a:rPr>
              <a:t>yǔ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9" name="Text Box 10"/>
          <p:cNvSpPr/>
          <p:nvPr/>
        </p:nvSpPr>
        <p:spPr>
          <a:xfrm>
            <a:off x="4573080" y="4419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aaa3"/>
                </a:solidFill>
                <a:latin typeface="Times New Roman"/>
              </a:rPr>
              <a:t>yì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0" name="Text Box 11"/>
          <p:cNvSpPr/>
          <p:nvPr/>
        </p:nvSpPr>
        <p:spPr>
          <a:xfrm>
            <a:off x="5324400" y="434340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aaa3"/>
                </a:solidFill>
                <a:latin typeface="Times New Roman"/>
              </a:rPr>
              <a:t>kū  lóu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1" name="Text Box 12"/>
          <p:cNvSpPr/>
          <p:nvPr/>
        </p:nvSpPr>
        <p:spPr>
          <a:xfrm>
            <a:off x="6870600" y="434340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aaa3"/>
                </a:solidFill>
                <a:latin typeface="Times New Roman"/>
              </a:rPr>
              <a:t>bē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2" name="Text Box 13"/>
          <p:cNvSpPr/>
          <p:nvPr/>
        </p:nvSpPr>
        <p:spPr>
          <a:xfrm>
            <a:off x="915840" y="525780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aaa3"/>
                </a:solidFill>
                <a:latin typeface="Times New Roman"/>
              </a:rPr>
              <a:t>zhì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3" name="Text Box 14"/>
          <p:cNvSpPr/>
          <p:nvPr/>
        </p:nvSpPr>
        <p:spPr>
          <a:xfrm>
            <a:off x="2667600" y="53341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aaa3"/>
                </a:solidFill>
                <a:latin typeface="Times New Roman"/>
              </a:rPr>
              <a:t>zuò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64" name="Picture 15" descr="C:\Documents and Settings\All Users\Documents\杨燕霞1\图片\My Pictures\2004821594445.gif"/>
          <p:cNvPicPr/>
          <p:nvPr/>
        </p:nvPicPr>
        <p:blipFill>
          <a:blip r:embed="rId2"/>
          <a:stretch/>
        </p:blipFill>
        <p:spPr>
          <a:xfrm>
            <a:off x="0" y="0"/>
            <a:ext cx="2895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2" descr="C:\Documents and Settings\All Users\Documents\杨燕霞1\图片\背景 在 初二2 上\06.jpg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30856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3"/>
          <p:cNvSpPr/>
          <p:nvPr/>
        </p:nvSpPr>
        <p:spPr>
          <a:xfrm>
            <a:off x="6248520" y="1295280"/>
            <a:ext cx="198108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0" y="2438280"/>
            <a:ext cx="914400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199"/>
              </a:spcBef>
              <a:buClr>
                <a:srgbClr val="9797b7"/>
              </a:buClr>
              <a:buSzPct val="65000"/>
              <a:buFont typeface="Wingdings" charset="2"/>
              <a:buChar char="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宋体"/>
              </a:rPr>
              <a:t>线 索：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宋体"/>
              </a:rPr>
              <a:t>          </a:t>
            </a:r>
            <a:r>
              <a:rPr b="1" lang="zh-CN" sz="4800" spc="-1" strike="noStrike">
                <a:solidFill>
                  <a:srgbClr val="6600ff"/>
                </a:solidFill>
                <a:latin typeface="Times New Roman"/>
                <a:ea typeface="宋体"/>
              </a:rPr>
              <a:t>“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宋体"/>
              </a:rPr>
              <a:t>我</a:t>
            </a:r>
            <a:r>
              <a:rPr b="1" lang="zh-CN" sz="4800" spc="-1" strike="noStrike">
                <a:solidFill>
                  <a:srgbClr val="6600ff"/>
                </a:solidFill>
                <a:latin typeface="Times New Roman"/>
                <a:ea typeface="宋体"/>
              </a:rPr>
              <a:t>”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宋体"/>
              </a:rPr>
              <a:t>与老王的交往。 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68" name="Picture 5" descr="上一页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669" name="Rectangle 6"/>
          <p:cNvSpPr/>
          <p:nvPr/>
        </p:nvSpPr>
        <p:spPr>
          <a:xfrm>
            <a:off x="2334240" y="1371600"/>
            <a:ext cx="35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、 本文的叙事线索是什么？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C:\Documents and Settings\All Users\Documents\杨燕霞1\图片\背景 在 初二2 上\08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3"/>
          <p:cNvSpPr/>
          <p:nvPr/>
        </p:nvSpPr>
        <p:spPr>
          <a:xfrm>
            <a:off x="228600" y="12952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、老王的生活很苦，表现在哪些方面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533520" y="3276720"/>
            <a:ext cx="53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、老王的善良表现在哪里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228600" y="4114800"/>
            <a:ext cx="85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愿意给我们带送”冰块，车费减半；送钱先生看病不要钱，拿了钱还不放心，担心人家看病钱不够。去世前一天还拿了香油、鸡蛋上门来感谢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1051200" y="2209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谋生手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5" name="Text Box 7"/>
          <p:cNvSpPr/>
          <p:nvPr/>
        </p:nvSpPr>
        <p:spPr>
          <a:xfrm>
            <a:off x="4708800" y="2209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居住条件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2880000" y="2209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生理缺陷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7" name="Text Box 9"/>
          <p:cNvSpPr/>
          <p:nvPr/>
        </p:nvSpPr>
        <p:spPr>
          <a:xfrm>
            <a:off x="6385320" y="2209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生计艰难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78" name="Picture 10" descr="线条6"/>
          <p:cNvPicPr/>
          <p:nvPr/>
        </p:nvPicPr>
        <p:blipFill>
          <a:blip r:embed="rId2"/>
          <a:stretch/>
        </p:blipFill>
        <p:spPr>
          <a:xfrm flipH="1" rot="10800000">
            <a:off x="0" y="6019920"/>
            <a:ext cx="9144000" cy="25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2" descr="05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3"/>
          <p:cNvSpPr/>
          <p:nvPr/>
        </p:nvSpPr>
        <p:spPr>
          <a:xfrm>
            <a:off x="1793160" y="1143000"/>
            <a:ext cx="41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、作者一家人的善良表现在哪里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-684360" y="2286000"/>
            <a:ext cx="91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buClr>
                <a:srgbClr val="9797b7"/>
              </a:buClr>
              <a:buSzPct val="65000"/>
              <a:buFont typeface="Wingdings" charset="2"/>
              <a:buChar char="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宋体"/>
              </a:rPr>
              <a:t>作者一家人都关怀老王，常坐他的三轮车，照顾他的生意；知道他有夜盲症，送他大瓶的鱼肝油；老王送冰，不要他减半收费；不坐老王的车了，还问他现在的生活如何；老王送来香油、鸡蛋也给了钱，不让他白送等等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82" name="Picture 5" descr="2004822814435"/>
          <p:cNvPicPr/>
          <p:nvPr/>
        </p:nvPicPr>
        <p:blipFill>
          <a:blip r:embed="rId2"/>
          <a:stretch/>
        </p:blipFill>
        <p:spPr>
          <a:xfrm>
            <a:off x="6804000" y="4581360"/>
            <a:ext cx="2057400" cy="15242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" descr="线条6"/>
          <p:cNvPicPr/>
          <p:nvPr/>
        </p:nvPicPr>
        <p:blipFill>
          <a:blip r:embed="rId3"/>
          <a:stretch/>
        </p:blipFill>
        <p:spPr>
          <a:xfrm flipH="1" rot="10800000">
            <a:off x="0" y="6171840"/>
            <a:ext cx="9144000" cy="25884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7"/>
          <p:cNvSpPr/>
          <p:nvPr/>
        </p:nvSpPr>
        <p:spPr>
          <a:xfrm>
            <a:off x="1792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13:02:07Z</dcterms:created>
  <dc:creator/>
  <dc:description/>
  <cp:keywords>幻灯片之家 http:/www.eeppt.com</cp:keywords>
  <dc:language>en-US</dc:language>
  <cp:lastModifiedBy/>
  <dcterms:modified xsi:type="dcterms:W3CDTF">2015-07-20T02:22:1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