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explode.wav" ContentType="audio/x-wav"/>
  <Override PartName="/ppt/media/image7.jpeg" ContentType="image/jpeg"/>
  <Override PartName="/ppt/media/laser.wav" ContentType="audio/x-wav"/>
  <Override PartName="/ppt/media/image4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whoosh.wav" ContentType="audio/x-wav"/>
  <Override PartName="/ppt/media/image5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gif" ContentType="image/gif"/>
  <Override PartName="/ppt/media/image20.jpeg" ContentType="image/jpeg"/>
  <Override PartName="/ppt/media/image15.jpeg" ContentType="image/jpeg"/>
  <Override PartName="/ppt/media/image16.jpeg" ContentType="image/jpeg"/>
  <Override PartName="/ppt/media/image13.png" ContentType="image/png"/>
  <Override PartName="/ppt/media/image12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8A6-1FC2-4220-8624-860DBF24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AD6-4DCE-49CB-BA73-0B10F112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86D-DDA1-435E-BC71-37DE6BAA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B03-9F7C-4C76-AA8F-0CB9CBC1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491-27E7-4183-B920-0315E30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F32-DFD2-41D9-904E-E8DB3BFF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E93-F275-4928-8DA3-25B80AEA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DA4-1B69-4A34-8EB3-046BD971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D6F-3AAD-4560-B0EE-CD25AEFC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3B7-59C8-4FCE-A838-E99C4B17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BD2-3ED3-4E50-AE2E-B709810E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7B5-EAFF-4676-A81C-636CB44D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6D8A-4F93-4951-8CD9-4C58DD47DE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488fa14d8af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920" y="863640"/>
            <a:ext cx="8280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雷雨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课件完整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360" y="6445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440" y="54864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30012"/>
                </a:solidFill>
                <a:latin typeface="Arial"/>
                <a:ea typeface="楷体_GB2312"/>
              </a:rPr>
              <a:t>　满天的乌云，黑沉沉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压</a:t>
            </a:r>
            <a:r>
              <a:rPr b="1" lang="zh-CN" sz="4000" spc="-1" strike="noStrike">
                <a:solidFill>
                  <a:srgbClr val="030012"/>
                </a:solidFill>
                <a:latin typeface="Arial"/>
                <a:ea typeface="楷体_GB2312"/>
              </a:rPr>
              <a:t>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雷雨（昏暗）"/>
          <p:cNvPicPr/>
          <p:nvPr/>
        </p:nvPicPr>
        <p:blipFill>
          <a:blip r:embed="rId2"/>
          <a:stretch/>
        </p:blipFill>
        <p:spPr>
          <a:xfrm>
            <a:off x="228600" y="345960"/>
            <a:ext cx="8763120" cy="6207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143000" y="838080"/>
            <a:ext cx="3809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闪电越来越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000" y="6129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雷雨（昏暗）"/>
          <p:cNvPicPr/>
          <p:nvPr/>
        </p:nvPicPr>
        <p:blipFill>
          <a:blip r:embed="rId2"/>
          <a:stretch/>
        </p:blipFill>
        <p:spPr>
          <a:xfrm>
            <a:off x="228600" y="345960"/>
            <a:ext cx="8763120" cy="6207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143000" y="838080"/>
            <a:ext cx="3809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闪电越来越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雷雨（昏暗）"/>
          <p:cNvPicPr/>
          <p:nvPr/>
        </p:nvPicPr>
        <p:blipFill>
          <a:blip r:embed="rId2"/>
          <a:stretch/>
        </p:blipFill>
        <p:spPr>
          <a:xfrm>
            <a:off x="228600" y="76320"/>
            <a:ext cx="8763120" cy="6629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闪电越来越亮，雷声越来越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09480" y="36450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闪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越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yuè)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来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亮，雷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越来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7200" y="23623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闪电亮，雷声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220760" y="8589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华文新魏"/>
              </a:rPr>
              <a:t>比较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69236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rp0415013"/>
          <p:cNvPicPr/>
          <p:nvPr/>
        </p:nvPicPr>
        <p:blipFill>
          <a:blip r:embed="rId2"/>
          <a:stretch/>
        </p:blipFill>
        <p:spPr>
          <a:xfrm>
            <a:off x="0" y="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5029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乌云                树叶                蝉                 树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蜘蛛                      闪电                         雷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57200" y="51814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5049720"/>
            <a:ext cx="9298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压）            （不动）     （不叫）      （乱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逃走）              （亮）                     （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1523880" y="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雷雨前</a:t>
            </a:r>
            <a:endParaRPr b="1" lang="en-US" sz="4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862280" y="1635120"/>
            <a:ext cx="72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只蜘蛛从网上垂下来，逃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503360" y="62064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树上的叶子一动不动，蝉一声也不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083760" y="227664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蜘蛛从网上（）地垂下来，好像在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_______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三个“哗”字中你想到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32000" y="2637000"/>
            <a:ext cx="5060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雨下得大而且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为什么说树哇，房子啊，都看不清了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3589200"/>
            <a:ext cx="82296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因为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     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所以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——————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了两个“渐渐地”，你读懂什么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6240" y="1600200"/>
            <a:ext cx="808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读懂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916360" y="2060640"/>
            <a:ext cx="26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雨慢慢变小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1285920" y="1347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{4D77220D-B6C2-423B-8E74-7D38C1A9E10D}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3520" y="762120"/>
            <a:ext cx="615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考考你，会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41280" y="2889360"/>
            <a:ext cx="68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黑沉沉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摆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新宋体"/>
                <a:ea typeface="新宋体"/>
              </a:rPr>
              <a:t>压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下来             </a:t>
            </a:r>
            <a:r>
              <a:rPr b="1" lang="zh-CN" sz="4400" spc="-1" strike="noStrike">
                <a:solidFill>
                  <a:srgbClr val="ff3300"/>
                </a:solidFill>
                <a:latin typeface="新宋体"/>
                <a:ea typeface="新宋体"/>
              </a:rPr>
              <a:t>垂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下来   逃走   彩</a:t>
            </a:r>
            <a:r>
              <a:rPr b="1" lang="zh-CN" sz="4400" spc="-1" strike="noStrike">
                <a:solidFill>
                  <a:srgbClr val="ff3300"/>
                </a:solidFill>
                <a:latin typeface="新宋体"/>
                <a:ea typeface="新宋体"/>
              </a:rPr>
              <a:t>虹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      蝉     蜘蛛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越来越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rp041514"/>
          <p:cNvPicPr/>
          <p:nvPr/>
        </p:nvPicPr>
        <p:blipFill>
          <a:blip r:embed="rId2"/>
          <a:stretch/>
        </p:blipFill>
        <p:spPr>
          <a:xfrm>
            <a:off x="0" y="2090880"/>
            <a:ext cx="9144000" cy="4767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62000" y="-171360"/>
            <a:ext cx="8982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隶书"/>
                <a:ea typeface="隶书"/>
              </a:rPr>
              <a:t>试试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-8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圈出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-8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描写雷雨后的哪些景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压（        ）    乱（   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庄（        ）    扎（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垂（        ）    虹（   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睡（        ）    红（   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124000" y="1700280"/>
            <a:ext cx="129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压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124000" y="2565360"/>
            <a:ext cx="1295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村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651640" y="1700280"/>
            <a:ext cx="1295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乱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651640" y="2565360"/>
            <a:ext cx="129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扎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124000" y="4149720"/>
            <a:ext cx="129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垂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124000" y="5013360"/>
            <a:ext cx="129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睡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651640" y="4149720"/>
            <a:ext cx="1295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彩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651640" y="5013360"/>
            <a:ext cx="1295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红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865-F3A7-4434-8F04-EA92D4C772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rp041514"/>
          <p:cNvPicPr/>
          <p:nvPr/>
        </p:nvPicPr>
        <p:blipFill>
          <a:blip r:embed="rId2"/>
          <a:stretch/>
        </p:blipFill>
        <p:spPr>
          <a:xfrm>
            <a:off x="0" y="171936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0" y="233280"/>
            <a:ext cx="9318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         空气             雨            太阳         彩虹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蝉             蜘蛛           池塘           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50920" y="1676520"/>
          <a:ext cx="8686800" cy="5181480"/>
        </p:xfrm>
        <a:graphic>
          <a:graphicData uri="http://schemas.openxmlformats.org/drawingml/2006/table">
            <a:tbl>
              <a:tblPr/>
              <a:tblGrid>
                <a:gridCol w="1371600"/>
                <a:gridCol w="1384200"/>
                <a:gridCol w="1206720"/>
                <a:gridCol w="1295280"/>
                <a:gridCol w="1371600"/>
                <a:gridCol w="1068480"/>
                <a:gridCol w="9889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空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蜘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池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雷雨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雷雨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Text Box 41"/>
          <p:cNvSpPr/>
          <p:nvPr/>
        </p:nvSpPr>
        <p:spPr>
          <a:xfrm>
            <a:off x="0" y="304920"/>
            <a:ext cx="6629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课文，照样子比一比雷雨前和雷雨后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1676520" y="2819520"/>
            <a:ext cx="1295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黑沉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1600200" y="4267080"/>
            <a:ext cx="1447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太阳出来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彩虹出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3124080" y="2819520"/>
            <a:ext cx="91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闷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5"/>
          <p:cNvSpPr/>
          <p:nvPr/>
        </p:nvSpPr>
        <p:spPr>
          <a:xfrm>
            <a:off x="3124080" y="4267080"/>
            <a:ext cx="1143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清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6"/>
          <p:cNvSpPr/>
          <p:nvPr/>
        </p:nvSpPr>
        <p:spPr>
          <a:xfrm>
            <a:off x="4419720" y="2819520"/>
            <a:ext cx="990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不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7"/>
          <p:cNvSpPr/>
          <p:nvPr/>
        </p:nvSpPr>
        <p:spPr>
          <a:xfrm>
            <a:off x="4343400" y="4267080"/>
            <a:ext cx="99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叫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8"/>
          <p:cNvSpPr/>
          <p:nvPr/>
        </p:nvSpPr>
        <p:spPr>
          <a:xfrm>
            <a:off x="5562720" y="2819520"/>
            <a:ext cx="1447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逃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9"/>
          <p:cNvSpPr/>
          <p:nvPr/>
        </p:nvSpPr>
        <p:spPr>
          <a:xfrm>
            <a:off x="5562720" y="4343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又坐在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7086600" y="2819520"/>
            <a:ext cx="68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1"/>
          <p:cNvSpPr/>
          <p:nvPr/>
        </p:nvSpPr>
        <p:spPr>
          <a:xfrm>
            <a:off x="7086600" y="4267080"/>
            <a:ext cx="106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2"/>
          <p:cNvSpPr/>
          <p:nvPr/>
        </p:nvSpPr>
        <p:spPr>
          <a:xfrm>
            <a:off x="7924680" y="2819520"/>
            <a:ext cx="121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不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3"/>
          <p:cNvSpPr/>
          <p:nvPr/>
        </p:nvSpPr>
        <p:spPr>
          <a:xfrm>
            <a:off x="7924680" y="4267080"/>
            <a:ext cx="121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叫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4">
            <a:hlinkClick r:id="" action="ppaction://hlinkshowjump?jump=nextslide"/>
          </p:cNvPr>
          <p:cNvSpPr/>
          <p:nvPr/>
        </p:nvSpPr>
        <p:spPr>
          <a:xfrm>
            <a:off x="1066680" y="6477120"/>
            <a:ext cx="533520" cy="3808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98" y="1350"/>
                </a:lnTo>
                <a:lnTo>
                  <a:pt x="1350" y="135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98" y="20250"/>
                </a:lnTo>
                <a:lnTo>
                  <a:pt x="28898" y="135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98" y="2025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48" h="21600">
                <a:moveTo>
                  <a:pt x="8080" y="3756"/>
                </a:moveTo>
                <a:lnTo>
                  <a:pt x="22168" y="10800"/>
                </a:lnTo>
                <a:lnTo>
                  <a:pt x="8080" y="17844"/>
                </a:lnTo>
                <a:close/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5">
            <a:hlinkClick r:id="" action="ppaction://hlinkshowjump?jump=previousslide"/>
          </p:cNvPr>
          <p:cNvSpPr/>
          <p:nvPr/>
        </p:nvSpPr>
        <p:spPr>
          <a:xfrm>
            <a:off x="533520" y="6477120"/>
            <a:ext cx="533160" cy="380880"/>
          </a:xfrm>
          <a:custGeom>
            <a:avLst/>
            <a:gdLst>
              <a:gd name="textAreaLeft" fmla="*/ 23760 w 533160"/>
              <a:gd name="textAreaRight" fmla="*/ 509400 w 53316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78" y="1350"/>
                </a:lnTo>
                <a:lnTo>
                  <a:pt x="1350" y="135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78" y="20250"/>
                </a:lnTo>
                <a:lnTo>
                  <a:pt x="28878" y="135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78" y="2025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28" h="21600">
                <a:moveTo>
                  <a:pt x="8070" y="10800"/>
                </a:moveTo>
                <a:lnTo>
                  <a:pt x="22158" y="3756"/>
                </a:lnTo>
                <a:lnTo>
                  <a:pt x="22158" y="17844"/>
                </a:lnTo>
                <a:close/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bkarts062"/>
          <p:cNvPicPr/>
          <p:nvPr/>
        </p:nvPicPr>
        <p:blipFill>
          <a:blip r:embed="rId2"/>
          <a:stretch/>
        </p:blipFill>
        <p:spPr>
          <a:xfrm>
            <a:off x="228600" y="458640"/>
            <a:ext cx="8686800" cy="5965920"/>
          </a:xfrm>
          <a:prstGeom prst="rect">
            <a:avLst/>
          </a:prstGeom>
          <a:ln w="0">
            <a:noFill/>
          </a:ln>
        </p:spPr>
      </p:pic>
      <p:sp>
        <p:nvSpPr>
          <p:cNvPr id="142" name="WordArt 3"/>
          <p:cNvSpPr txBox="1"/>
          <p:nvPr/>
        </p:nvSpPr>
        <p:spPr>
          <a:xfrm>
            <a:off x="836640" y="2484360"/>
            <a:ext cx="7315200" cy="24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雨后图片展播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  <p:pic>
        <p:nvPicPr>
          <p:cNvPr id="143" name="Picture 4" descr="图片1"/>
          <p:cNvPicPr/>
          <p:nvPr/>
        </p:nvPicPr>
        <p:blipFill>
          <a:blip r:embed="rId3"/>
          <a:stretch/>
        </p:blipFill>
        <p:spPr>
          <a:xfrm>
            <a:off x="3176640" y="3159000"/>
            <a:ext cx="238428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雨后花朵2"/>
          <p:cNvPicPr/>
          <p:nvPr/>
        </p:nvPicPr>
        <p:blipFill>
          <a:blip r:embed="rId2"/>
          <a:stretch/>
        </p:blipFill>
        <p:spPr>
          <a:xfrm>
            <a:off x="0" y="152280"/>
            <a:ext cx="5156280" cy="6553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mmsXBZU9606N32"/>
          <p:cNvPicPr/>
          <p:nvPr/>
        </p:nvPicPr>
        <p:blipFill>
          <a:blip r:embed="rId3"/>
          <a:stretch/>
        </p:blipFill>
        <p:spPr>
          <a:xfrm>
            <a:off x="5257800" y="152280"/>
            <a:ext cx="3886200" cy="6629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2005217161222361_3L8qgmAmDmo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4"/>
          <p:cNvPicPr/>
          <p:nvPr/>
        </p:nvPicPr>
        <p:blipFill>
          <a:blip r:embed="rId2"/>
          <a:stretch/>
        </p:blipFill>
        <p:spPr>
          <a:xfrm>
            <a:off x="76320" y="7632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133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576360" y="3699000"/>
            <a:ext cx="97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看到这么美的雨后景色我想说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10134720" cy="6858000"/>
            <a:chOff x="0" y="0"/>
            <a:chExt cx="10134720" cy="6858000"/>
          </a:xfrm>
        </p:grpSpPr>
        <p:pic>
          <p:nvPicPr>
            <p:cNvPr id="154" name="Picture 3" descr="999999999999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4"/>
            <p:cNvSpPr/>
            <p:nvPr/>
          </p:nvSpPr>
          <p:spPr>
            <a:xfrm>
              <a:off x="990720" y="4701600"/>
              <a:ext cx="91440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5" descr="图片1"/>
          <p:cNvPicPr/>
          <p:nvPr/>
        </p:nvPicPr>
        <p:blipFill>
          <a:blip r:embed="rId3"/>
          <a:stretch/>
        </p:blipFill>
        <p:spPr>
          <a:xfrm>
            <a:off x="152280" y="76320"/>
            <a:ext cx="1905120" cy="1836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28600" y="2224080"/>
            <a:ext cx="8763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细细观察，自然现象真奇妙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会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3117600"/>
            <a:ext cx="867564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压     乱     垂     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06640" y="1763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Arial"/>
              </a:rPr>
              <a:t>y</a:t>
            </a:r>
            <a:r>
              <a:rPr b="1" lang="en-US" sz="5400" spc="-1" strike="noStrike">
                <a:solidFill>
                  <a:srgbClr val="00cc00"/>
                </a:solidFill>
                <a:latin typeface="宋体"/>
              </a:rPr>
              <a:t>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700360" y="1773360"/>
            <a:ext cx="1368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Arial"/>
              </a:rPr>
              <a:t>lu</a:t>
            </a:r>
            <a:r>
              <a:rPr b="1" lang="en-US" sz="5400" spc="-1" strike="noStrike">
                <a:solidFill>
                  <a:srgbClr val="00cc00"/>
                </a:solidFill>
                <a:latin typeface="宋体"/>
              </a:rPr>
              <a:t>à</a:t>
            </a:r>
            <a:r>
              <a:rPr b="0" lang="en-US" sz="4800" spc="-1" strike="noStrike">
                <a:solidFill>
                  <a:srgbClr val="00cc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751280" y="18543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Arial"/>
              </a:rPr>
              <a:t>chu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686640" y="185436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Arial"/>
              </a:rPr>
              <a:t>h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22360" y="279360"/>
            <a:ext cx="422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会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{70136D14-E394-47AE-A961-AE5DFD0D4E4E}"/>
          <p:cNvPicPr/>
          <p:nvPr/>
        </p:nvPicPr>
        <p:blipFill>
          <a:blip r:embed="rId2"/>
          <a:stretch/>
        </p:blipFill>
        <p:spPr>
          <a:xfrm>
            <a:off x="0" y="5184720"/>
            <a:ext cx="9144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图片1"/>
          <p:cNvPicPr/>
          <p:nvPr/>
        </p:nvPicPr>
        <p:blipFill>
          <a:blip r:embed="rId2"/>
          <a:stretch/>
        </p:blipFill>
        <p:spPr>
          <a:xfrm>
            <a:off x="533520" y="281160"/>
            <a:ext cx="2950920" cy="2842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3233160" y="5073480"/>
            <a:ext cx="27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模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雷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写一则观察天气的小日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46880" y="366696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隶书"/>
              </a:rPr>
              <a:t>拓展小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哗，哗，哗，雨下起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雨越下越大。往窗外望去，树哇，房子啊，都看不清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渐渐地，渐渐地，雷声小了，雨声也小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3"/>
          <p:cNvSpPr txBox="1"/>
          <p:nvPr/>
        </p:nvSpPr>
        <p:spPr>
          <a:xfrm>
            <a:off x="1828800" y="60948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雷雨中</a:t>
            </a:r>
            <a:endParaRPr b="1" lang="en-US" sz="10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106640" y="234936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836640" y="464328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{70136D14-E394-47AE-A961-AE5DFD0D4E4E}"/>
          <p:cNvPicPr/>
          <p:nvPr/>
        </p:nvPicPr>
        <p:blipFill>
          <a:blip r:embed="rId4"/>
          <a:stretch/>
        </p:blipFill>
        <p:spPr>
          <a:xfrm>
            <a:off x="0" y="5364000"/>
            <a:ext cx="9144000" cy="1494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照样子，说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沉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2708280"/>
            <a:ext cx="568944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白茫茫  黄澄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绿油油  红彤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子比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80880" y="1828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14400" y="1447920"/>
            <a:ext cx="754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比一比这两个句子有什么不同？那一个好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80880" y="3276720"/>
            <a:ext cx="609840" cy="1676160"/>
          </a:xfrm>
          <a:custGeom>
            <a:avLst/>
            <a:gdLst>
              <a:gd name="textAreaLeft" fmla="*/ 389520 w 609840"/>
              <a:gd name="textAreaRight" fmla="*/ 610200 w 6098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990720" y="2895480"/>
            <a:ext cx="7238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树上的叶子不动，蝉不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143000" y="4267080"/>
            <a:ext cx="7238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树上的叶子一动不动，蝉一声也不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2120" y="541008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一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2286000" y="57150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>
            <a:hlinkClick r:id="" action="ppaction://hlinkshowjump?jump=nextslide"/>
          </p:cNvPr>
          <p:cNvSpPr/>
          <p:nvPr/>
        </p:nvSpPr>
        <p:spPr>
          <a:xfrm>
            <a:off x="7924680" y="6019920"/>
            <a:ext cx="609840" cy="380880"/>
          </a:xfrm>
          <a:custGeom>
            <a:avLst/>
            <a:gdLst>
              <a:gd name="textAreaLeft" fmla="*/ 23760 w 609840"/>
              <a:gd name="textAreaRight" fmla="*/ 586080 w 6098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222" y="1350"/>
                </a:lnTo>
                <a:lnTo>
                  <a:pt x="1350" y="135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222" y="20250"/>
                </a:lnTo>
                <a:lnTo>
                  <a:pt x="33222" y="135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22" y="2025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72" h="21600">
                <a:moveTo>
                  <a:pt x="10242" y="3756"/>
                </a:moveTo>
                <a:lnTo>
                  <a:pt x="24330" y="10800"/>
                </a:lnTo>
                <a:lnTo>
                  <a:pt x="10242" y="17844"/>
                </a:lnTo>
                <a:close/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">
            <a:hlinkClick r:id="" action="ppaction://hlinkshowjump?jump=previousslide"/>
          </p:cNvPr>
          <p:cNvSpPr/>
          <p:nvPr/>
        </p:nvSpPr>
        <p:spPr>
          <a:xfrm>
            <a:off x="7162920" y="6019920"/>
            <a:ext cx="685800" cy="380880"/>
          </a:xfrm>
          <a:custGeom>
            <a:avLst/>
            <a:gdLst>
              <a:gd name="textAreaLeft" fmla="*/ 23760 w 685800"/>
              <a:gd name="textAreaRight" fmla="*/ 662040 w 6858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526" y="1350"/>
                </a:lnTo>
                <a:lnTo>
                  <a:pt x="1350" y="135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526" y="20250"/>
                </a:lnTo>
                <a:lnTo>
                  <a:pt x="37526" y="135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526" y="2025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876" h="21600">
                <a:moveTo>
                  <a:pt x="12394" y="10800"/>
                </a:moveTo>
                <a:lnTo>
                  <a:pt x="26482" y="3756"/>
                </a:lnTo>
                <a:lnTo>
                  <a:pt x="26482" y="17844"/>
                </a:lnTo>
                <a:close/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子比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闪电亮，雷声响，雨下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闪电越来越亮，雷声越来越响，雨越下越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0" y="2209680"/>
            <a:ext cx="609480" cy="1828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>
            <a:hlinkClick r:id="" action="ppaction://hlinkshowjump?jump=previousslide"/>
          </p:cNvPr>
          <p:cNvSpPr/>
          <p:nvPr/>
        </p:nvSpPr>
        <p:spPr>
          <a:xfrm>
            <a:off x="6705720" y="5943600"/>
            <a:ext cx="533160" cy="380880"/>
          </a:xfrm>
          <a:custGeom>
            <a:avLst/>
            <a:gdLst>
              <a:gd name="textAreaLeft" fmla="*/ 23760 w 533160"/>
              <a:gd name="textAreaRight" fmla="*/ 509400 w 53316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78" y="1350"/>
                </a:lnTo>
                <a:lnTo>
                  <a:pt x="1350" y="135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78" y="20250"/>
                </a:lnTo>
                <a:lnTo>
                  <a:pt x="28878" y="135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78" y="2025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28" h="21600">
                <a:moveTo>
                  <a:pt x="8070" y="10800"/>
                </a:moveTo>
                <a:lnTo>
                  <a:pt x="22158" y="3756"/>
                </a:lnTo>
                <a:lnTo>
                  <a:pt x="22158" y="17844"/>
                </a:lnTo>
                <a:close/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nextslide"/>
          </p:cNvPr>
          <p:cNvSpPr/>
          <p:nvPr/>
        </p:nvSpPr>
        <p:spPr>
          <a:xfrm>
            <a:off x="7315200" y="5943600"/>
            <a:ext cx="609480" cy="380880"/>
          </a:xfrm>
          <a:custGeom>
            <a:avLst/>
            <a:gdLst>
              <a:gd name="textAreaLeft" fmla="*/ 23760 w 609480"/>
              <a:gd name="textAreaRight" fmla="*/ 585720 w 6094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202" y="1350"/>
                </a:lnTo>
                <a:lnTo>
                  <a:pt x="1350" y="135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202" y="20250"/>
                </a:lnTo>
                <a:lnTo>
                  <a:pt x="33202" y="135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02" y="2025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52" h="21600">
                <a:moveTo>
                  <a:pt x="10232" y="3756"/>
                </a:moveTo>
                <a:lnTo>
                  <a:pt x="24320" y="10800"/>
                </a:lnTo>
                <a:lnTo>
                  <a:pt x="10232" y="17844"/>
                </a:lnTo>
                <a:close/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755640" y="4581360"/>
            <a:ext cx="3116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越来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295280" y="2971800"/>
            <a:ext cx="1905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18.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雷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3048120" y="2438280"/>
            <a:ext cx="380880" cy="1752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581280" y="2133720"/>
            <a:ext cx="137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幼圆"/>
              </a:rPr>
              <a:t>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 flipV="1">
            <a:off x="2895480" y="3121200"/>
            <a:ext cx="137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幼圆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581280" y="3886200"/>
            <a:ext cx="129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幼圆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427640" y="2133720"/>
            <a:ext cx="107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500720" y="3141720"/>
            <a:ext cx="10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500720" y="3933720"/>
            <a:ext cx="151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{70136D14-E394-47AE-A961-AE5DFD0D4E4E}"/>
          <p:cNvPicPr/>
          <p:nvPr/>
        </p:nvPicPr>
        <p:blipFill>
          <a:blip r:embed="rId2"/>
          <a:stretch/>
        </p:blipFill>
        <p:spPr>
          <a:xfrm>
            <a:off x="0" y="5094360"/>
            <a:ext cx="9144000" cy="1763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31640" y="458640"/>
            <a:ext cx="8326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读准这些句子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满天的乌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黑沉沉地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忽然一阵大风，吹得树枝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摆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只蜘蛛从网上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下来，逃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条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挂在天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图片1"/>
          <p:cNvPicPr/>
          <p:nvPr/>
        </p:nvPicPr>
        <p:blipFill>
          <a:blip r:embed="rId3"/>
          <a:stretch/>
        </p:blipFill>
        <p:spPr>
          <a:xfrm>
            <a:off x="250920" y="142920"/>
            <a:ext cx="144756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4488fa14d8afd"/>
          <p:cNvPicPr/>
          <p:nvPr/>
        </p:nvPicPr>
        <p:blipFill>
          <a:blip r:embed="rId2"/>
          <a:stretch/>
        </p:blipFill>
        <p:spPr>
          <a:xfrm>
            <a:off x="-196920" y="-34920"/>
            <a:ext cx="9402840" cy="6931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66"/>
                </a:solidFill>
                <a:latin typeface="Arial"/>
                <a:ea typeface="隶书"/>
              </a:rPr>
              <a:t>雷雨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00724152449890"/>
          <p:cNvPicPr/>
          <p:nvPr/>
        </p:nvPicPr>
        <p:blipFill>
          <a:blip r:embed="rId2"/>
          <a:stretch/>
        </p:blipFill>
        <p:spPr>
          <a:xfrm>
            <a:off x="-152280" y="-1158840"/>
            <a:ext cx="9583560" cy="8053200"/>
          </a:xfrm>
          <a:prstGeom prst="rect">
            <a:avLst/>
          </a:prstGeom>
          <a:ln w="0">
            <a:noFill/>
          </a:ln>
        </p:spPr>
      </p:pic>
      <p:sp>
        <p:nvSpPr>
          <p:cNvPr id="62" name="WordArt 3"/>
          <p:cNvSpPr txBox="1"/>
          <p:nvPr/>
        </p:nvSpPr>
        <p:spPr>
          <a:xfrm>
            <a:off x="3086280" y="0"/>
            <a:ext cx="445608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雷雨时</a:t>
            </a:r>
            <a:endParaRPr b="0" lang="en-US" sz="10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0724152444431"/>
          <p:cNvPicPr/>
          <p:nvPr/>
        </p:nvPicPr>
        <p:blipFill>
          <a:blip r:embed="rId2"/>
          <a:stretch/>
        </p:blipFill>
        <p:spPr>
          <a:xfrm>
            <a:off x="-396720" y="-2590920"/>
            <a:ext cx="10302840" cy="944892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4572000" y="0"/>
            <a:ext cx="2798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雷雨后</a:t>
            </a:r>
            <a:endParaRPr b="0" lang="en-US" sz="10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满天的乌云，黑沉沉地压下来。树上的叶子一动不动，蝉一声也不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忽然一阵大风，吹得树枝乱摆。一只蜘蛛从网上垂下来，逃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闪电越来越亮，雷声越来越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1523880" y="533520"/>
            <a:ext cx="6400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雷雨前</a:t>
            </a:r>
            <a:endParaRPr b="1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7" name="Line 5"/>
          <p:cNvSpPr/>
          <p:nvPr/>
        </p:nvSpPr>
        <p:spPr>
          <a:xfrm>
            <a:off x="5334120" y="2590920"/>
            <a:ext cx="2819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1066680" y="31240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17236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862280" y="1635120"/>
            <a:ext cx="72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只蜘蛛从网上垂下来，逃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503360" y="62064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树上的叶子一动不动，蝉一声也不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619280" y="2276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22:45:47Z</dcterms:created>
  <dc:creator/>
  <dc:description/>
  <cp:keywords>幻灯片之家 http:/www.eeppt.com</cp:keywords>
  <dc:language>en-US</dc:language>
  <cp:lastModifiedBy/>
  <dcterms:modified xsi:type="dcterms:W3CDTF">2015-07-20T07:34:33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