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41A8-17F7-4845-A72B-6F331765C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3334-BB4D-41EE-8BD9-2324AB160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9B20-6AF9-4D9F-8155-B54F2F4D4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0BD5-811D-4961-9434-B42E021EA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1E94-848F-4E46-A5D7-E64FD22C2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2E67-7BE5-4162-8228-4F854045C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C180-AF4D-462A-BF2F-497717FF9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FAAF-33FF-42D3-B56E-76A225A4D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618C-0DD5-4BDD-B4B5-3D7F795E2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7AAC-B470-4A14-A3C2-81B49013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E77C-1FF3-465F-A3DE-A86777B9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F273-8C4D-482B-A8C2-C5860CA9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D88D6-190A-4A70-9AD8-DA3A58E7D71A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6CBBA-DCD0-4C5C-BC3C-0A781FA844B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1428840" y="2071800"/>
            <a:ext cx="6227640" cy="718920"/>
            <a:chOff x="1428840" y="2071800"/>
            <a:chExt cx="6227640" cy="718920"/>
          </a:xfrm>
        </p:grpSpPr>
        <p:sp>
          <p:nvSpPr>
            <p:cNvPr id="43" name="AutoShape 3"/>
            <p:cNvSpPr/>
            <p:nvPr/>
          </p:nvSpPr>
          <p:spPr>
            <a:xfrm>
              <a:off x="1428840" y="2071800"/>
              <a:ext cx="6227640" cy="718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AutoShape 3"/>
            <p:cNvSpPr/>
            <p:nvPr/>
          </p:nvSpPr>
          <p:spPr>
            <a:xfrm>
              <a:off x="1428840" y="2160360"/>
              <a:ext cx="6227640" cy="541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Rectangle 16"/>
          <p:cNvSpPr/>
          <p:nvPr/>
        </p:nvSpPr>
        <p:spPr>
          <a:xfrm>
            <a:off x="3181320" y="22464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428840" y="3052800"/>
            <a:ext cx="6227640" cy="719280"/>
            <a:chOff x="1428840" y="3052800"/>
            <a:chExt cx="6227640" cy="719280"/>
          </a:xfrm>
        </p:grpSpPr>
        <p:sp>
          <p:nvSpPr>
            <p:cNvPr id="47" name="AutoShape 3"/>
            <p:cNvSpPr/>
            <p:nvPr/>
          </p:nvSpPr>
          <p:spPr>
            <a:xfrm>
              <a:off x="1428840" y="3052800"/>
              <a:ext cx="6227640" cy="71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3"/>
            <p:cNvSpPr/>
            <p:nvPr/>
          </p:nvSpPr>
          <p:spPr>
            <a:xfrm>
              <a:off x="1428840" y="3141720"/>
              <a:ext cx="6227640" cy="541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Rectangle 19"/>
          <p:cNvSpPr/>
          <p:nvPr/>
        </p:nvSpPr>
        <p:spPr>
          <a:xfrm>
            <a:off x="3181320" y="322884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428840" y="4078440"/>
            <a:ext cx="6227640" cy="718920"/>
            <a:chOff x="1428840" y="4078440"/>
            <a:chExt cx="6227640" cy="718920"/>
          </a:xfrm>
        </p:grpSpPr>
        <p:sp>
          <p:nvSpPr>
            <p:cNvPr id="51" name="AutoShape 3"/>
            <p:cNvSpPr/>
            <p:nvPr/>
          </p:nvSpPr>
          <p:spPr>
            <a:xfrm>
              <a:off x="1428840" y="4078440"/>
              <a:ext cx="6225840" cy="718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AutoShape 3"/>
            <p:cNvSpPr/>
            <p:nvPr/>
          </p:nvSpPr>
          <p:spPr>
            <a:xfrm>
              <a:off x="1428840" y="4167000"/>
              <a:ext cx="6227640" cy="541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22"/>
          <p:cNvSpPr/>
          <p:nvPr/>
        </p:nvSpPr>
        <p:spPr>
          <a:xfrm>
            <a:off x="3181320" y="423396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5760" y="64134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288720" y="0"/>
            <a:ext cx="450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目录动态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6970-8EBD-4262-9CDE-3CB0D4825B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; An</dc:creator>
  <dc:description/>
  <cp:keywords>幻灯片之家 http:/www.eeppt.com</cp:keywords>
  <dc:language>en-US</dc:language>
  <cp:lastModifiedBy/>
  <dcterms:modified xsi:type="dcterms:W3CDTF">2015-07-17T01:16:43Z</dcterms:modified>
  <cp:revision>82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