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4.jpeg" ContentType="image/jpe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E1F-8592-4EBF-B8EE-A9B9F1E5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4C0-C444-4DAD-B12B-AB19D1EC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261-21FD-4EC1-8AFF-9992C51A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684-FB45-44C5-8242-3D15A767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A200-DF50-4F2D-8557-27F2FF74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5598-D68D-4A37-ACE2-56D568BB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E234-F2AA-4EB5-9B4E-EF20063B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C644-F778-4959-87CB-5ADF32F3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462D-0655-4981-A9CE-B6A96397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7085-3432-4615-A7B4-867AC509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B731-C710-4674-9899-D70F2993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44C-0556-4038-B899-1BDBC145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E396-3DAD-4C19-85CC-5E0FAFCE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8B71-C012-489D-A6E1-0B476500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E077-2F7D-4D18-ABE1-477BC686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36C5-917C-40AB-ACA4-6BD33CE8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C2A9-5E78-4A75-BAF9-D656AC62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C7C6B-2454-4C1E-8F89-8B93D17F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B829F-13CC-4E4C-9948-2A5DE789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27987-75CE-4EF4-B993-7EBD7B32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5CF43-C684-4431-8BF5-C007E7D1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1F26E-2188-42EB-BC0A-86CF23B2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ACE-C951-41AC-95A8-D3FF9087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941AE-E2A9-4EE1-AC9D-B7A07ADC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B5BFB-4185-427D-9E6F-E68E919E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386C0-4153-4757-9317-47AE821D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8B9B6-BC66-4545-8FC9-AF34AF48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0FAD8-C48C-44D1-BC74-CFD0E69B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A4168-DA93-47B5-A03B-824DE21A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B00A2-4749-4D9B-8077-0880AFEB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20B0-320E-475D-BC03-F1B09CAF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E74-C294-4934-A303-957B9BBC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FA1-BFBF-4975-902A-D855D692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940-96ED-4F92-8B15-A6135A1B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F25-0415-4E91-9A60-884CB83D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65F0-142F-43E2-812F-A5F04621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ABFD-E70D-419A-BBD8-69EC94EBD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D7E7-42D6-4223-BEAD-5EBC0E39E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ABCB-DECD-48BB-8DC3-DA7F9B62C4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6.png"/><Relationship Id="rId11" Type="http://schemas.openxmlformats.org/officeDocument/2006/relationships/image" Target="../media/image8.png"/><Relationship Id="rId12" Type="http://schemas.openxmlformats.org/officeDocument/2006/relationships/image" Target="../media/image11.png"/><Relationship Id="rId13" Type="http://schemas.openxmlformats.org/officeDocument/2006/relationships/image" Target="../media/image13.png"/><Relationship Id="rId14" Type="http://schemas.openxmlformats.org/officeDocument/2006/relationships/image" Target="../media/image10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w1"/>
          <p:cNvPicPr/>
          <p:nvPr/>
        </p:nvPicPr>
        <p:blipFill>
          <a:blip r:embed="rId1">
            <a:lum contrast="30000"/>
          </a:blip>
          <a:srcRect l="784" t="0" r="3015" b="11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5265720" y="666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义务教育课程标准实验教科书人教版小学语文一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2873160" y="1700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美丽的小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背景"/>
          <p:cNvPicPr/>
          <p:nvPr/>
        </p:nvPicPr>
        <p:blipFill>
          <a:blip r:embed="rId2"/>
          <a:srcRect l="5364" t="0" r="5809" b="0"/>
          <a:stretch/>
        </p:blipFill>
        <p:spPr>
          <a:xfrm>
            <a:off x="0" y="189000"/>
            <a:ext cx="8893080" cy="2016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468360" y="43200"/>
            <a:ext cx="83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兔姑娘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轻轻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小路上走过，说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“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啊，多美的小路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背景"/>
          <p:cNvPicPr/>
          <p:nvPr/>
        </p:nvPicPr>
        <p:blipFill>
          <a:blip r:embed="rId2"/>
          <a:srcRect l="5364" t="0" r="5809" b="0"/>
          <a:stretch/>
        </p:blipFill>
        <p:spPr>
          <a:xfrm>
            <a:off x="179280" y="4842000"/>
            <a:ext cx="8280360" cy="2016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108000" y="4653000"/>
            <a:ext cx="86407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鹿先生</a:t>
            </a:r>
            <a:r>
              <a:rPr b="1" lang="zh-CN" sz="4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慢慢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小路上走过，说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啊，多美的小路啊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w1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9026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1332000" y="1844640"/>
            <a:ext cx="813600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路真美啊！我想在这里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87680" y="-1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787680" y="-1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3777480" y="324576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539640" y="3645000"/>
            <a:ext cx="770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图片6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013480" y="1700280"/>
            <a:ext cx="5194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皱起了眉头）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呀，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美丽的小路怎么不见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（捂上了鼻子）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咦，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美丽的小路哪儿去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（叫起来） 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哪！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我的美丽的小路呢</a:t>
            </a:r>
            <a:r>
              <a:rPr b="0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pic_253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pic_25305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828720" y="1628640"/>
            <a:ext cx="7203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美丽的小路好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香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啊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美丽的小路好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亮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啊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pic_25305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539640" y="184464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让美丽的小路一直和我们在一起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adf1"/>
            </a:gs>
            <a:gs pos="100000">
              <a:srgbClr val="f5c4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3005640" y="119700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美丽的小路不见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1539720" y="238932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美丽的小路怎么不见了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287280" y="361332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一定要把美丽的小路找回来！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背景"/>
          <p:cNvPicPr/>
          <p:nvPr/>
        </p:nvPicPr>
        <p:blipFill>
          <a:blip r:embed="rId2"/>
          <a:srcRect l="5364" t="0" r="5809" b="0"/>
          <a:stretch/>
        </p:blipFill>
        <p:spPr>
          <a:xfrm>
            <a:off x="0" y="0"/>
            <a:ext cx="9144000" cy="2016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324000" y="33336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可是过了不久，小路上堆积了许多垃圾，苍蝇在小路上嗡嗡地飞来飞去，美丽的小路不见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7"/>
          <p:cNvSpPr/>
          <p:nvPr/>
        </p:nvSpPr>
        <p:spPr>
          <a:xfrm>
            <a:off x="250920" y="16653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3348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"/>
          <p:cNvPicPr/>
          <p:nvPr/>
        </p:nvPicPr>
        <p:blipFill>
          <a:blip r:embed="rId2"/>
          <a:stretch/>
        </p:blipFill>
        <p:spPr>
          <a:xfrm>
            <a:off x="3348000" y="0"/>
            <a:ext cx="295272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12"/>
          <p:cNvPicPr/>
          <p:nvPr/>
        </p:nvPicPr>
        <p:blipFill>
          <a:blip r:embed="rId3"/>
          <a:stretch/>
        </p:blipFill>
        <p:spPr>
          <a:xfrm>
            <a:off x="6300720" y="0"/>
            <a:ext cx="28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图片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325440" y="90792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鸭先生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推来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辆小车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拿来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把扫帚，认真地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清扫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路上的垃圾。兔姑娘和鹿先生看见了，也赶来帮忙。他们提着洒水壶，给花儿浇浇水，给小路洗洗澡。没过多久，一条干干净净的小路又出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图片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395280" y="1557360"/>
            <a:ext cx="835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一条干净的小路又出现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一条干干净净的小路又出现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图片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468360" y="692280"/>
          <a:ext cx="8351640" cy="5505480"/>
        </p:xfrm>
        <a:graphic>
          <a:graphicData uri="http://schemas.openxmlformats.org/drawingml/2006/table">
            <a:tbl>
              <a:tblPr/>
              <a:tblGrid>
                <a:gridCol w="2717640"/>
                <a:gridCol w="2911680"/>
                <a:gridCol w="2722320"/>
              </a:tblGrid>
              <a:tr h="26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我们的校园美丽吗？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我们校园里的垃圾是从哪里来的？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这些垃圾到哪里去了呢？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图片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468360" y="1123920"/>
          <a:ext cx="8280360" cy="4978440"/>
        </p:xfrm>
        <a:graphic>
          <a:graphicData uri="http://schemas.openxmlformats.org/drawingml/2006/table">
            <a:tbl>
              <a:tblPr/>
              <a:tblGrid>
                <a:gridCol w="4154400"/>
                <a:gridCol w="4125960"/>
              </a:tblGrid>
              <a:tr h="23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我给校园作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美容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计划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我为校园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美容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所做的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Text Box 14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11"/>
          <p:cNvPicPr/>
          <p:nvPr/>
        </p:nvPicPr>
        <p:blipFill>
          <a:blip r:embed="rId1"/>
          <a:stretch/>
        </p:blipFill>
        <p:spPr>
          <a:xfrm>
            <a:off x="179280" y="404640"/>
            <a:ext cx="2949840" cy="381636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3492360" y="117360"/>
            <a:ext cx="1440000" cy="1655640"/>
            <a:chOff x="3492360" y="117360"/>
            <a:chExt cx="1440000" cy="1655640"/>
          </a:xfrm>
        </p:grpSpPr>
        <p:pic>
          <p:nvPicPr>
            <p:cNvPr id="135" name="Picture 11" descr="20066210209763"/>
            <p:cNvPicPr/>
            <p:nvPr/>
          </p:nvPicPr>
          <p:blipFill>
            <a:blip r:embed="rId2"/>
            <a:stretch/>
          </p:blipFill>
          <p:spPr>
            <a:xfrm>
              <a:off x="3492360" y="117360"/>
              <a:ext cx="144000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18"/>
            <p:cNvSpPr/>
            <p:nvPr/>
          </p:nvSpPr>
          <p:spPr>
            <a:xfrm>
              <a:off x="3729240" y="48564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先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5202360" y="260280"/>
            <a:ext cx="1272600" cy="1523880"/>
            <a:chOff x="5202360" y="260280"/>
            <a:chExt cx="1272600" cy="1523880"/>
          </a:xfrm>
        </p:grpSpPr>
        <p:pic>
          <p:nvPicPr>
            <p:cNvPr id="138" name="Picture 15" descr="200662102243589"/>
            <p:cNvPicPr/>
            <p:nvPr/>
          </p:nvPicPr>
          <p:blipFill>
            <a:blip r:embed="rId3"/>
            <a:stretch/>
          </p:blipFill>
          <p:spPr>
            <a:xfrm>
              <a:off x="5202360" y="260280"/>
              <a:ext cx="12700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23"/>
            <p:cNvSpPr/>
            <p:nvPr/>
          </p:nvSpPr>
          <p:spPr>
            <a:xfrm>
              <a:off x="5745600" y="32688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鹿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7308720" y="333360"/>
            <a:ext cx="1270080" cy="1379520"/>
            <a:chOff x="7308720" y="333360"/>
            <a:chExt cx="1270080" cy="1379520"/>
          </a:xfrm>
        </p:grpSpPr>
        <p:pic>
          <p:nvPicPr>
            <p:cNvPr id="141" name="Picture 14" descr="200662102143463"/>
            <p:cNvPicPr/>
            <p:nvPr/>
          </p:nvPicPr>
          <p:blipFill>
            <a:blip r:embed="rId4"/>
            <a:stretch/>
          </p:blipFill>
          <p:spPr>
            <a:xfrm>
              <a:off x="7308720" y="333360"/>
              <a:ext cx="1270080" cy="13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24"/>
            <p:cNvSpPr/>
            <p:nvPr/>
          </p:nvSpPr>
          <p:spPr>
            <a:xfrm>
              <a:off x="7635960" y="39852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慢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3348000" y="1989000"/>
            <a:ext cx="1366920" cy="1440000"/>
            <a:chOff x="3348000" y="1989000"/>
            <a:chExt cx="1366920" cy="1440000"/>
          </a:xfrm>
        </p:grpSpPr>
        <p:pic>
          <p:nvPicPr>
            <p:cNvPr id="144" name="Picture 7" descr="200771612414775_2"/>
            <p:cNvPicPr/>
            <p:nvPr/>
          </p:nvPicPr>
          <p:blipFill>
            <a:blip r:embed="rId5"/>
            <a:stretch/>
          </p:blipFill>
          <p:spPr>
            <a:xfrm>
              <a:off x="3348000" y="1989000"/>
              <a:ext cx="13669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25"/>
            <p:cNvSpPr/>
            <p:nvPr/>
          </p:nvSpPr>
          <p:spPr>
            <a:xfrm>
              <a:off x="3748320" y="206028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积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5"/>
          <p:cNvGrpSpPr/>
          <p:nvPr/>
        </p:nvGrpSpPr>
        <p:grpSpPr>
          <a:xfrm>
            <a:off x="5237280" y="1989000"/>
            <a:ext cx="1650960" cy="1727280"/>
            <a:chOff x="5237280" y="1989000"/>
            <a:chExt cx="1650960" cy="1727280"/>
          </a:xfrm>
        </p:grpSpPr>
        <p:pic>
          <p:nvPicPr>
            <p:cNvPr id="147" name="Picture 21" descr="u=2615487313,1643043339&amp;fm=0&amp;gp=34"/>
            <p:cNvPicPr/>
            <p:nvPr/>
          </p:nvPicPr>
          <p:blipFill>
            <a:blip r:embed="rId6"/>
            <a:stretch/>
          </p:blipFill>
          <p:spPr>
            <a:xfrm>
              <a:off x="5237280" y="1989000"/>
              <a:ext cx="165096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26"/>
            <p:cNvSpPr/>
            <p:nvPr/>
          </p:nvSpPr>
          <p:spPr>
            <a:xfrm>
              <a:off x="5764680" y="219852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鼻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8"/>
          <p:cNvGrpSpPr/>
          <p:nvPr/>
        </p:nvGrpSpPr>
        <p:grpSpPr>
          <a:xfrm>
            <a:off x="7308720" y="1989000"/>
            <a:ext cx="1202760" cy="1596960"/>
            <a:chOff x="7308720" y="1989000"/>
            <a:chExt cx="1202760" cy="1596960"/>
          </a:xfrm>
        </p:grpSpPr>
        <p:pic>
          <p:nvPicPr>
            <p:cNvPr id="150" name="Picture 38" descr="200662102243589"/>
            <p:cNvPicPr/>
            <p:nvPr/>
          </p:nvPicPr>
          <p:blipFill>
            <a:blip r:embed="rId7"/>
            <a:stretch/>
          </p:blipFill>
          <p:spPr>
            <a:xfrm>
              <a:off x="7308720" y="1989000"/>
              <a:ext cx="116532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27"/>
            <p:cNvSpPr/>
            <p:nvPr/>
          </p:nvSpPr>
          <p:spPr>
            <a:xfrm>
              <a:off x="7782120" y="205560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脑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1"/>
          <p:cNvGrpSpPr/>
          <p:nvPr/>
        </p:nvGrpSpPr>
        <p:grpSpPr>
          <a:xfrm>
            <a:off x="3492360" y="3573360"/>
            <a:ext cx="1150920" cy="1512720"/>
            <a:chOff x="3492360" y="3573360"/>
            <a:chExt cx="1150920" cy="1512720"/>
          </a:xfrm>
        </p:grpSpPr>
        <p:pic>
          <p:nvPicPr>
            <p:cNvPr id="153" name="Picture 19" descr="2008422133155292"/>
            <p:cNvPicPr/>
            <p:nvPr/>
          </p:nvPicPr>
          <p:blipFill>
            <a:blip r:embed="rId8"/>
            <a:stretch/>
          </p:blipFill>
          <p:spPr>
            <a:xfrm>
              <a:off x="3492360" y="3573360"/>
              <a:ext cx="11509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28"/>
            <p:cNvSpPr/>
            <p:nvPr/>
          </p:nvSpPr>
          <p:spPr>
            <a:xfrm>
              <a:off x="3677040" y="375264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袋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24"/>
          <p:cNvGrpSpPr/>
          <p:nvPr/>
        </p:nvGrpSpPr>
        <p:grpSpPr>
          <a:xfrm>
            <a:off x="5464080" y="3716280"/>
            <a:ext cx="1270080" cy="1297080"/>
            <a:chOff x="5464080" y="3716280"/>
            <a:chExt cx="1270080" cy="1297080"/>
          </a:xfrm>
        </p:grpSpPr>
        <p:pic>
          <p:nvPicPr>
            <p:cNvPr id="156" name="Picture 8" descr="200662101655444"/>
            <p:cNvPicPr/>
            <p:nvPr/>
          </p:nvPicPr>
          <p:blipFill>
            <a:blip r:embed="rId9"/>
            <a:stretch/>
          </p:blipFill>
          <p:spPr>
            <a:xfrm>
              <a:off x="5464080" y="3716280"/>
              <a:ext cx="127008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29"/>
            <p:cNvSpPr/>
            <p:nvPr/>
          </p:nvSpPr>
          <p:spPr>
            <a:xfrm>
              <a:off x="5693040" y="376560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怪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27"/>
          <p:cNvGrpSpPr/>
          <p:nvPr/>
        </p:nvGrpSpPr>
        <p:grpSpPr>
          <a:xfrm>
            <a:off x="7451640" y="3573360"/>
            <a:ext cx="1440000" cy="1657800"/>
            <a:chOff x="7451640" y="3573360"/>
            <a:chExt cx="1440000" cy="1657800"/>
          </a:xfrm>
        </p:grpSpPr>
        <p:pic>
          <p:nvPicPr>
            <p:cNvPr id="159" name="Picture 39" descr="20066210209763"/>
            <p:cNvPicPr/>
            <p:nvPr/>
          </p:nvPicPr>
          <p:blipFill>
            <a:blip r:embed="rId10"/>
            <a:stretch/>
          </p:blipFill>
          <p:spPr>
            <a:xfrm>
              <a:off x="7451640" y="3573360"/>
              <a:ext cx="144000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30"/>
            <p:cNvSpPr/>
            <p:nvPr/>
          </p:nvSpPr>
          <p:spPr>
            <a:xfrm>
              <a:off x="7709040" y="403992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推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30"/>
          <p:cNvGrpSpPr/>
          <p:nvPr/>
        </p:nvGrpSpPr>
        <p:grpSpPr>
          <a:xfrm>
            <a:off x="1979640" y="5084640"/>
            <a:ext cx="1270080" cy="1379520"/>
            <a:chOff x="1979640" y="5084640"/>
            <a:chExt cx="1270080" cy="1379520"/>
          </a:xfrm>
        </p:grpSpPr>
        <p:pic>
          <p:nvPicPr>
            <p:cNvPr id="162" name="Picture 36" descr="200662102143463"/>
            <p:cNvPicPr/>
            <p:nvPr/>
          </p:nvPicPr>
          <p:blipFill>
            <a:blip r:embed="rId11"/>
            <a:stretch/>
          </p:blipFill>
          <p:spPr>
            <a:xfrm>
              <a:off x="1979640" y="5084640"/>
              <a:ext cx="1270080" cy="13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31"/>
            <p:cNvSpPr/>
            <p:nvPr/>
          </p:nvSpPr>
          <p:spPr>
            <a:xfrm>
              <a:off x="2235600" y="515772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辆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33"/>
          <p:cNvGrpSpPr/>
          <p:nvPr/>
        </p:nvGrpSpPr>
        <p:grpSpPr>
          <a:xfrm>
            <a:off x="395280" y="5013360"/>
            <a:ext cx="1149480" cy="1512720"/>
            <a:chOff x="395280" y="5013360"/>
            <a:chExt cx="1149480" cy="1512720"/>
          </a:xfrm>
        </p:grpSpPr>
        <p:pic>
          <p:nvPicPr>
            <p:cNvPr id="165" name="Picture 41" descr="2008422133155292"/>
            <p:cNvPicPr/>
            <p:nvPr/>
          </p:nvPicPr>
          <p:blipFill>
            <a:blip r:embed="rId12"/>
            <a:stretch/>
          </p:blipFill>
          <p:spPr>
            <a:xfrm>
              <a:off x="395280" y="5013360"/>
              <a:ext cx="114948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32"/>
            <p:cNvSpPr/>
            <p:nvPr/>
          </p:nvSpPr>
          <p:spPr>
            <a:xfrm>
              <a:off x="579960" y="526428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赶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6"/>
          <p:cNvGrpSpPr/>
          <p:nvPr/>
        </p:nvGrpSpPr>
        <p:grpSpPr>
          <a:xfrm>
            <a:off x="3635280" y="5119560"/>
            <a:ext cx="1366920" cy="1347840"/>
            <a:chOff x="3635280" y="5119560"/>
            <a:chExt cx="1366920" cy="1347840"/>
          </a:xfrm>
        </p:grpSpPr>
        <p:pic>
          <p:nvPicPr>
            <p:cNvPr id="168" name="Picture 40" descr="200771612414775_2"/>
            <p:cNvPicPr/>
            <p:nvPr/>
          </p:nvPicPr>
          <p:blipFill>
            <a:blip r:embed="rId13"/>
            <a:stretch/>
          </p:blipFill>
          <p:spPr>
            <a:xfrm>
              <a:off x="3635280" y="5229000"/>
              <a:ext cx="13669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33"/>
            <p:cNvSpPr/>
            <p:nvPr/>
          </p:nvSpPr>
          <p:spPr>
            <a:xfrm>
              <a:off x="4035600" y="511956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久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9"/>
          <p:cNvGrpSpPr/>
          <p:nvPr/>
        </p:nvGrpSpPr>
        <p:grpSpPr>
          <a:xfrm>
            <a:off x="5292720" y="5130720"/>
            <a:ext cx="1650960" cy="1727280"/>
            <a:chOff x="5292720" y="5130720"/>
            <a:chExt cx="1650960" cy="1727280"/>
          </a:xfrm>
        </p:grpSpPr>
        <p:pic>
          <p:nvPicPr>
            <p:cNvPr id="171" name="Picture 37" descr="u=2615487313,1643043339&amp;fm=0&amp;gp=34"/>
            <p:cNvPicPr/>
            <p:nvPr/>
          </p:nvPicPr>
          <p:blipFill>
            <a:blip r:embed="rId14"/>
            <a:stretch/>
          </p:blipFill>
          <p:spPr>
            <a:xfrm>
              <a:off x="5292720" y="5130720"/>
              <a:ext cx="165096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34"/>
            <p:cNvSpPr/>
            <p:nvPr/>
          </p:nvSpPr>
          <p:spPr>
            <a:xfrm>
              <a:off x="5835960" y="537372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干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2"/>
          <p:cNvGrpSpPr/>
          <p:nvPr/>
        </p:nvGrpSpPr>
        <p:grpSpPr>
          <a:xfrm>
            <a:off x="7380360" y="5300640"/>
            <a:ext cx="1270080" cy="1299240"/>
            <a:chOff x="7380360" y="5300640"/>
            <a:chExt cx="1270080" cy="1299240"/>
          </a:xfrm>
        </p:grpSpPr>
        <p:pic>
          <p:nvPicPr>
            <p:cNvPr id="174" name="Picture 42" descr="200662101655444"/>
            <p:cNvPicPr/>
            <p:nvPr/>
          </p:nvPicPr>
          <p:blipFill>
            <a:blip r:embed="rId15"/>
            <a:stretch/>
          </p:blipFill>
          <p:spPr>
            <a:xfrm>
              <a:off x="7380360" y="5300640"/>
              <a:ext cx="127008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35"/>
            <p:cNvSpPr/>
            <p:nvPr/>
          </p:nvSpPr>
          <p:spPr>
            <a:xfrm>
              <a:off x="7618680" y="540864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净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1619280" y="1197000"/>
            <a:ext cx="626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丽  卵石  喜欢 散步   堆积  忽然  扫帚 清扫  认真  帮忙  浇水 一直干干净净     五颜六色 慢慢地 轻轻地  嗡嗡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ic_25305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40" y="47520"/>
            <a:ext cx="9142200" cy="67662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324000" y="907920"/>
            <a:ext cx="813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鹿先生慢慢地从小路上走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路上堆积了许多垃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鸭先生推来一辆小车，拿来一把扫帚，认真地清扫小路上的垃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过多久，一条干干净净的小路又出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13"/>
          <p:cNvPicPr/>
          <p:nvPr/>
        </p:nvPicPr>
        <p:blipFill>
          <a:blip r:embed="rId1"/>
          <a:stretch/>
        </p:blipFill>
        <p:spPr>
          <a:xfrm>
            <a:off x="1042920" y="0"/>
            <a:ext cx="712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w1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w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468360" y="119700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        </a:t>
            </a:r>
            <a:r>
              <a:rPr b="0" lang="zh-CN" sz="5400" spc="-1" strike="noStrike">
                <a:solidFill>
                  <a:srgbClr val="3333cc"/>
                </a:solidFill>
                <a:latin typeface="Arial"/>
                <a:ea typeface="楷体_GB2312"/>
              </a:rPr>
              <a:t>鸭先生的小屋前有一条长长的小路，路上铺着花花绿绿的鹅卵石，路旁开着五颜六色的鲜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w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468360" y="119700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        </a:t>
            </a:r>
            <a:r>
              <a:rPr b="0" lang="zh-CN" sz="5400" spc="-1" strike="noStrike">
                <a:solidFill>
                  <a:srgbClr val="3333cc"/>
                </a:solidFill>
                <a:latin typeface="Arial"/>
                <a:ea typeface="楷体_GB2312"/>
              </a:rPr>
              <a:t>鸭先生的小屋前有一条长长的小路，路上铺着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花花绿绿</a:t>
            </a:r>
            <a:r>
              <a:rPr b="0" lang="zh-CN" sz="5400" spc="-1" strike="noStrike">
                <a:solidFill>
                  <a:srgbClr val="3333cc"/>
                </a:solidFill>
                <a:latin typeface="Arial"/>
                <a:ea typeface="楷体_GB2312"/>
              </a:rPr>
              <a:t>的鹅卵石，路旁开着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五颜六色</a:t>
            </a:r>
            <a:r>
              <a:rPr b="0" lang="zh-CN" sz="5400" spc="-1" strike="noStrike">
                <a:solidFill>
                  <a:srgbClr val="3333cc"/>
                </a:solidFill>
                <a:latin typeface="Arial"/>
                <a:ea typeface="楷体_GB2312"/>
              </a:rPr>
              <a:t>的鲜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3:15:03Z</dcterms:created>
  <dc:creator/>
  <dc:description/>
  <cp:keywords>幻灯片之家 http:/www.eeppt.com</cp:keywords>
  <dc:language>en-US</dc:language>
  <cp:lastModifiedBy/>
  <dcterms:modified xsi:type="dcterms:W3CDTF">2015-07-20T06:37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