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12BEC0-B576-4F84-9F0E-D1DD226462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EBAA86-C971-41B3-9A3C-7711FE917A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B2EA87-64A3-43C9-8B62-2A8BF3246C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3952C9-0D3A-4058-9D8F-09695642B7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54855B-15FA-4964-9345-CB06E190D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98C02-E071-410D-9804-81F3CAAF4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08126F-2717-437C-8436-F7E8071A5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7D307-6785-4B5E-9BF0-6B6B8EFBBA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6DD3CC-0A64-4479-9160-71D36C7347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0981AC-4921-4D4B-A882-169C202A22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6059D1-75C6-443E-8474-BD4B749827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111AF6-5E35-433A-97AC-9445C8E845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111621-B680-49B8-9077-A8DD83CE25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B0C56D-8FAC-45AD-BA27-D4F3B82DA2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AF768D-852B-49B2-A7DD-1E5F3C85B6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7921C-F1BB-4215-8ADF-29B6AD343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B2EA1E-236C-40C1-96DF-ED161A489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80B637-DAAF-402C-8B8D-0B456E3DD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6E415C-AC2B-4940-A841-A1A5034FA6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D07C3A-7EDC-4E30-B4CA-ECF607E8ED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F09913-90EC-4A66-AC80-C76A835939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450B41-41F9-4D40-9268-0D7DB4809F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2E3BD0-7894-4E4A-87CC-17F5D7F239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EFCD4E-5928-48EC-B3E6-EEC6920E35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BBD7E6-040F-41E3-B7ED-92A22D954C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495ED9-220B-4DDF-B535-1B40BB13EE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81E3B6-A3E2-495A-BF79-7381DF4047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7DA55A-7E0F-497B-BC3A-0CFEA58AB0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DAE6B7-5A45-4FCC-B757-7CA47E1B85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C5282C-4FC4-482E-B34C-7ABB2865B2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350D5-CAAE-4B62-A0EE-762E102D1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FFD172-D874-4AB4-83FF-ECFE1C2BAB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593D54-DE6E-4CAA-A7A9-2ACB89E1CF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A7A34C-9186-489C-B061-61A3D6F9E6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49287E-065A-4EF6-94B9-838A962A12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DFEC1F-00B9-4058-B71A-07D5FAF470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2D1A92-EA71-4B29-B602-E5760B9B79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CBF3B5-D1F2-474B-9C29-7BE7835A84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D6BE43-B014-44D7-AF21-6CB8DEC280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C2D5FE-5ACC-4BA7-9212-D0AD3D8C96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BBD26B-8851-4305-829B-FEDBEB4654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D2090-DC85-49B9-B323-B79350AE5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07237D-2936-4EE7-9643-BC3A0774D3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B571DB-179C-4A15-8541-3730438379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F33F5A-A8AA-4C70-B49E-B07D393011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A7054B-031B-470D-8043-E1E456046E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31E69F-CE35-446B-B7DD-5D35F6C6EF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D0EF9BC-4545-4DDC-B418-18AECC27C6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0CCE40-053C-4173-BDDF-BBA52847AC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EF489D-A874-4C42-8D01-60D78B8FEF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F98305-6430-4ABA-97CD-04E4A8A168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A6A1D0-9862-49F9-9C18-17F1A448CD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7640F-409D-4C99-92E9-519562F65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E7DF68-111D-439D-8CEF-7BE10845BA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17536A-1423-433E-9C92-D71DC644A3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F78FEF-07D1-4E89-AFA2-39109353FA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1E7732-6A84-4191-A3E5-C3E9F97D94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8E7ADB-5C22-4F42-BFED-94C2FB69E2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8CB277-B581-4584-9D7C-622D508A6A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884F30-49B5-4D2A-BD9A-95E7D52F0C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3070A-F518-4B49-85C4-69EE8BC73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8F29B-3B12-4804-B58D-F6B06AB5B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6FB35-276C-4E87-9A59-24B31BC2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335E-7373-4CC6-A4E1-2AC4DCA07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F272-D83B-4008-A9BB-AD10ED206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5CCB-54BF-4E79-8BDE-633D4B4CE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62B50-3CC3-4010-8984-AD751E3D2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E1DB2-6C10-45CA-A0B9-8961F131B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EE1E6-7C93-42B3-9E58-118D93C51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DB089-09B2-4BD5-ABBA-DA931ACBB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56198-89BA-4AE8-BEF8-8A62E60C2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2B10E-7CF5-4066-AE4C-BFDEB0999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40218-2E21-4972-A788-716E412F8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3689E-00D5-4BA0-8459-EB09C377F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D9126-75A9-4B71-B42E-B7757F288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1B00E-BC2B-409B-B431-1263386A6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8B301-2335-4FFA-8B5D-65F80BB8A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665DC-73E7-409D-BBC3-74E67077E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341C7-6447-4BBD-8090-41707DDF1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F36CA-1EA0-46A2-978D-ACAFD2989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34481-CC47-4C61-8DCE-4931AB83B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CDDACF-7F9E-4CB3-BDA4-93420A1773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69A74-FD5C-4AF6-B6D8-B011ACFFE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C1FE8-6CAC-45B7-A1B4-686B0ABBF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539B5-F182-4885-9439-E25C3B54E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3AA34-AA4E-4ABC-81C8-E01509CE2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8B0CC3-6CA7-4773-8775-22D7E6D8A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A8354-60C5-4263-98F9-DAFC24462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6399C-1A9B-4807-AB9E-C0BB20045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830D4-E7FA-4BF3-BDE3-948449B5D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80757-266C-4E0E-8E18-39459FFD9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2D85A3-51A8-41E6-9602-A9AEE8BD66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569196-7594-4A97-9D5B-A924062403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20EBD0-5844-4C50-80A6-D14B85B810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CC2EE-0F6A-4015-92B7-15A0DBD5D7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B74C1-C170-4DA6-A840-D6778C348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44C3DF-ADAA-4DFB-B379-2F1B252BE9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076409-067B-4DAA-BFC9-B031C2520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2288C-BD2E-4FC1-8877-9218EE4E87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1A9EA-99BB-4D34-83FB-31CCECE53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2AE3D-AE66-425B-BCFF-A6F505C2D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484FD-51BE-4A96-AA33-AC939A06D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850F27-7DA3-47D6-8A6E-13ECA119F9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881EFF-39FC-4FBA-8438-9313E54193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A7D7B0-5FFF-4AC8-AA1E-1EBDB69ABA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C3C587-BFFE-48C4-ABCC-B20B066726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F95CD7-DCD6-4CC3-9C70-6469584F99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F6EED7-2BCC-41E3-B696-9901A8741B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5039EB-20DB-4899-8FBE-98467CCCFC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ABD47-1EFE-4A06-8A50-BEEEEDA49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FDDC34-1088-4995-B358-5E47419063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0BA50-F717-4502-A12D-3CAA2D330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44E0E-E3BD-4032-97DB-1219DD049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8EFD5-4F63-4245-B292-3580E68F6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8949F-BBB6-4439-9507-DCE7F6EF03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D3BDBF-74F9-4B0C-B7F9-E7D01EBD61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5A7AC6-B8C3-4F4A-9806-811F3DDF5B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07F1F3-E44B-49E0-B0DF-9651FE3959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F92C6B-D45F-4B00-B7BF-A6F1EE2263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AE072B-0847-465D-816E-5A8FD9A59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7A2EF4-A928-4BCB-95A5-B2F831488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A5EDFA-7B57-4FAC-98CE-3E81DA6447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E3C625-D8A3-4295-B9E1-A4F9B23BFD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9A868-7D89-49E5-BF8E-5A2E25949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B537DB-9D3E-4941-B37A-AEE97842F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229022-DEDB-43A1-9EC1-3203F49BE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7DBED7-F07A-4555-A8E6-2218D64131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ABA80D-38A3-4629-AE89-D494EB3DEE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9D898D-33DE-4A2D-9227-6A0361CBAC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9450CF-D6EC-4339-AB16-B4C9AA2C71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432BBE-FF49-4A60-9EF3-A757036B3C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5A2DFB-4C89-4B86-B851-D79619CAE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49B696-CFBD-4BC3-9BFB-310BC8B464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148921-7979-4EC3-A9B2-36E5CF8971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DB6FEA-B6B6-4154-9CB5-5FB5D3EA73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6A260-B981-4DD4-86BD-B22DE64C53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52E27-D5F8-49DC-A678-2AE26CAE3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4C8C72-752E-4879-B1C1-982F40E77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6BD646-54D6-4F10-B279-24AED31A9B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76A7DA-3D65-43F2-8E8A-DFCE187857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80A250-8CCD-4BB0-A69C-02E43B4FE5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0E74F4-A1C9-4F47-A17B-3B1369E380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97E27E-357B-47CC-B6A1-418ED68C4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5F69A1-4B63-485E-B60B-CAEA0627E8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1FC2-5551-4FBB-ADAA-1EC34142BE14}"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6569-CDAF-4A4C-9182-8B522FCE178B}"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5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5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A14E-F36E-4F4B-B3E6-8FE293B35BAD}"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9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123C-716F-4C0B-9955-104788442BD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5C92-F929-4D8D-A350-09596781BCD5}"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25DB-924F-40CB-AA87-EA9378F70679}"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2B99-96FC-4321-9AE1-AB8AF07ED54A}"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558B-66ED-4517-AF6D-ECABC62E42DF}"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86D2-DE6C-429C-BCE8-12D88BA5910B}"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590D-477B-4412-8357-60A4A7BA4C61}"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43E8-B853-4917-99F3-76B554B950F0}"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Arial"/>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8348-2875-48E3-98FE-F491A5793C24}"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00000" y="259920"/>
            <a:ext cx="869976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d"/>
                </a:solidFill>
                <a:latin typeface="汉仪行楷繁"/>
                <a:ea typeface="汉仪行楷繁"/>
              </a:rPr>
              <a:t>南瓜蔬菜主题</a:t>
            </a:r>
            <a:r>
              <a:rPr b="0" lang="en-US" sz="4000" spc="-1" strike="noStrike">
                <a:solidFill>
                  <a:srgbClr val="ffffcd"/>
                </a:solidFill>
                <a:latin typeface="汉仪行楷繁"/>
                <a:ea typeface="汉仪行楷繁"/>
              </a:rPr>
              <a:t>PPT</a:t>
            </a:r>
            <a:r>
              <a:rPr b="0" lang="zh-CN" sz="4000" spc="-1" strike="noStrike">
                <a:solidFill>
                  <a:srgbClr val="ffffcd"/>
                </a:solidFill>
                <a:latin typeface="汉仪行楷繁"/>
                <a:ea typeface="汉仪行楷繁"/>
              </a:rPr>
              <a:t>模板在线下载</a:t>
            </a:r>
            <a:endParaRPr b="0" lang="en-US" sz="4000" spc="-1" strike="noStrike">
              <a:solidFill>
                <a:srgbClr val="4d4d4d"/>
              </a:solidFill>
              <a:latin typeface="Microsoft Sans Serif"/>
            </a:endParaRPr>
          </a:p>
        </p:txBody>
      </p:sp>
      <p:sp>
        <p:nvSpPr>
          <p:cNvPr id="531" name="矩形 3"/>
          <p:cNvSpPr/>
          <p:nvPr/>
        </p:nvSpPr>
        <p:spPr>
          <a:xfrm>
            <a:off x="208800" y="64533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143000" y="1219320"/>
            <a:ext cx="73152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Slide master</a:t>
            </a:r>
            <a:endParaRPr b="0" lang="en-US" sz="4000" spc="-1" strike="noStrike">
              <a:solidFill>
                <a:srgbClr val="4d4d4d"/>
              </a:solidFill>
              <a:latin typeface="Microsoft Sans Serif"/>
            </a:endParaRPr>
          </a:p>
        </p:txBody>
      </p:sp>
      <p:sp>
        <p:nvSpPr>
          <p:cNvPr id="533" name="PlaceHolder 2"/>
          <p:cNvSpPr>
            <a:spLocks noGrp="1"/>
          </p:cNvSpPr>
          <p:nvPr>
            <p:ph/>
          </p:nvPr>
        </p:nvSpPr>
        <p:spPr>
          <a:xfrm>
            <a:off x="1143000" y="2057400"/>
            <a:ext cx="7315200" cy="419112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535"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536" name="矩形 4"/>
          <p:cNvSpPr/>
          <p:nvPr/>
        </p:nvSpPr>
        <p:spPr>
          <a:xfrm>
            <a:off x="8388360" y="6627960"/>
            <a:ext cx="662040" cy="2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下载：</a:t>
            </a:r>
            <a:r>
              <a:rPr b="0" lang="en-US" sz="100" spc="-1" strike="noStrike">
                <a:solidFill>
                  <a:srgbClr val="ffffff"/>
                </a:solidFill>
                <a:latin typeface="Arial"/>
                <a:ea typeface="宋体"/>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hangye/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ea typeface="宋体"/>
              </a:rPr>
              <a:t>www.1ppt.com/sucai/</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背景图片：</a:t>
            </a:r>
            <a:r>
              <a:rPr b="0" lang="en-US" sz="100" spc="-1" strike="noStrike">
                <a:solidFill>
                  <a:srgbClr val="ffffff"/>
                </a:solidFill>
                <a:latin typeface="Arial"/>
                <a:ea typeface="宋体"/>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ea typeface="宋体"/>
              </a:rPr>
              <a:t>www.1ppt.com/tubiao/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下载：</a:t>
            </a:r>
            <a:r>
              <a:rPr b="0" lang="en-US" sz="100" spc="-1" strike="noStrike">
                <a:solidFill>
                  <a:srgbClr val="ffffff"/>
                </a:solidFill>
                <a:latin typeface="Arial"/>
                <a:ea typeface="宋体"/>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powerpoint/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Word</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ea typeface="宋体"/>
              </a:rPr>
              <a:t>www.1ppt.com/excel/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ea typeface="宋体"/>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ea typeface="宋体"/>
              </a:rPr>
              <a:t>www.1ppt.com/kejian/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ea typeface="宋体"/>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ea typeface="宋体"/>
              </a:rPr>
              <a:t>www.1ppt.com/shiti/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ea typeface="宋体"/>
              </a:rPr>
              <a:t>www.1ppt.com/jiaoan/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 </a:t>
            </a:r>
            <a:endParaRPr b="0" lang="en-US" sz="100" spc="-1" strike="noStrike">
              <a:solidFill>
                <a:srgbClr val="4d4d4d"/>
              </a:solidFill>
              <a:latin typeface="Arial"/>
            </a:endParaRPr>
          </a:p>
        </p:txBody>
      </p:sp>
      <p:sp>
        <p:nvSpPr>
          <p:cNvPr id="537" name="Text Box 5"/>
          <p:cNvSpPr/>
          <p:nvPr/>
        </p:nvSpPr>
        <p:spPr>
          <a:xfrm>
            <a:off x="2124000" y="6308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ffcc3b"/>
                </a:solidFill>
                <a:uFillTx/>
                <a:latin typeface="Verdana"/>
                <a:ea typeface="宋体"/>
                <a:hlinkClick r:id="rId2"/>
              </a:rPr>
              <a:t>PPT之家</a:t>
            </a:r>
            <a:r>
              <a:rPr b="1" lang="zh-CN" sz="1400" spc="-1" strike="noStrike">
                <a:solidFill>
                  <a:srgbClr val="1c1c1c"/>
                </a:solidFill>
                <a:latin typeface="Verdana"/>
                <a:ea typeface="宋体"/>
              </a:rPr>
              <a:t>整理发布，更多免费</a:t>
            </a:r>
            <a:r>
              <a:rPr b="1" lang="zh-CN" sz="1400" spc="-1" strike="noStrike">
                <a:solidFill>
                  <a:srgbClr val="1c1c1c"/>
                </a:solidFill>
                <a:latin typeface="Verdana"/>
                <a:ea typeface="宋体"/>
              </a:rPr>
              <a:t>PPT</a:t>
            </a:r>
            <a:r>
              <a:rPr b="1" lang="zh-CN" sz="1400" spc="-1" strike="noStrike">
                <a:solidFill>
                  <a:srgbClr val="1c1c1c"/>
                </a:solidFill>
                <a:latin typeface="Verdana"/>
                <a:ea typeface="宋体"/>
              </a:rPr>
              <a:t>模板下载请访问：</a:t>
            </a:r>
            <a:r>
              <a:rPr b="1" lang="zh-CN" sz="1400" spc="-1" strike="noStrike">
                <a:solidFill>
                  <a:srgbClr val="1c1c1c"/>
                </a:solidFill>
                <a:latin typeface="Verdana"/>
                <a:ea typeface="宋体"/>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39"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模板下载网站  </a:t>
            </a:r>
            <a:r>
              <a:rPr b="0" lang="zh-CN" sz="1300" spc="-1" strike="noStrike">
                <a:solidFill>
                  <a:srgbClr val="ededed"/>
                </a:solidFill>
                <a:latin typeface="Calibri"/>
              </a:rPr>
              <a:t>http://www.eeppt.com/                      ppt</a:t>
            </a:r>
            <a:r>
              <a:rPr b="0" lang="zh-CN" sz="1300" spc="-1" strike="noStrike">
                <a:solidFill>
                  <a:srgbClr val="ededed"/>
                </a:solidFill>
                <a:latin typeface="Calibri"/>
              </a:rPr>
              <a:t>背景图片下载  </a:t>
            </a:r>
            <a:r>
              <a:rPr b="0" lang="zh-CN" sz="1300" spc="-1" strike="noStrike">
                <a:solidFill>
                  <a:srgbClr val="ededed"/>
                </a:solidFill>
                <a:latin typeface="Calibri"/>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动态</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dongtai/               </a:t>
            </a:r>
            <a:r>
              <a:rPr b="0" lang="zh-CN" sz="1300" spc="-1" strike="noStrike">
                <a:solidFill>
                  <a:srgbClr val="ededed"/>
                </a:solidFill>
                <a:latin typeface="Calibri"/>
              </a:rPr>
              <a:t>毕业设计</a:t>
            </a:r>
            <a:r>
              <a:rPr b="0" lang="zh-CN" sz="1300" spc="-1" strike="noStrike">
                <a:solidFill>
                  <a:srgbClr val="ededed"/>
                </a:solidFill>
                <a:latin typeface="Calibri"/>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图表模板  </a:t>
            </a:r>
            <a:r>
              <a:rPr b="0" lang="zh-CN" sz="1300" spc="-1" strike="noStrike">
                <a:solidFill>
                  <a:srgbClr val="ededed"/>
                </a:solidFill>
                <a:latin typeface="Calibri"/>
              </a:rPr>
              <a:t>http://www.eeppt.com/tubiao/                  </a:t>
            </a:r>
            <a:r>
              <a:rPr b="0" lang="zh-CN" sz="1300" spc="-1" strike="noStrike">
                <a:solidFill>
                  <a:srgbClr val="ededed"/>
                </a:solidFill>
                <a:latin typeface="Calibri"/>
              </a:rPr>
              <a:t>论文答辩</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模板打包下载  </a:t>
            </a:r>
            <a:r>
              <a:rPr b="0" lang="zh-CN" sz="1300" spc="-1" strike="noStrike">
                <a:solidFill>
                  <a:srgbClr val="ededed"/>
                </a:solidFill>
                <a:latin typeface="Calibri"/>
              </a:rPr>
              <a:t>http://www.eeppt.com/moban/         </a:t>
            </a:r>
            <a:r>
              <a:rPr b="0" lang="zh-CN" sz="1300" spc="-1" strike="noStrike">
                <a:solidFill>
                  <a:srgbClr val="ededed"/>
                </a:solidFill>
                <a:latin typeface="Calibri"/>
              </a:rPr>
              <a:t>好看的</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企业</a:t>
            </a:r>
            <a:r>
              <a:rPr b="0" lang="zh-CN" sz="1300" spc="-1" strike="noStrike">
                <a:solidFill>
                  <a:srgbClr val="ededed"/>
                </a:solidFill>
                <a:latin typeface="Calibri"/>
              </a:rPr>
              <a:t>ppt  http://www.eeppt.com/moban/qiye/                 </a:t>
            </a:r>
            <a:r>
              <a:rPr b="0" lang="zh-CN" sz="1300" spc="-1" strike="noStrike">
                <a:solidFill>
                  <a:srgbClr val="ededed"/>
                </a:solidFill>
                <a:latin typeface="Calibri"/>
              </a:rPr>
              <a:t>免费</a:t>
            </a:r>
            <a:r>
              <a:rPr b="0" lang="zh-CN" sz="1300" spc="-1" strike="noStrike">
                <a:solidFill>
                  <a:srgbClr val="ededed"/>
                </a:solidFill>
                <a:latin typeface="Calibri"/>
              </a:rPr>
              <a:t>ppt</a:t>
            </a:r>
            <a:r>
              <a:rPr b="0" lang="zh-CN" sz="1300" spc="-1" strike="noStrike">
                <a:solidFill>
                  <a:srgbClr val="ededed"/>
                </a:solidFill>
                <a:latin typeface="Calibri"/>
              </a:rPr>
              <a:t>课件下载  </a:t>
            </a:r>
            <a:r>
              <a:rPr b="0" lang="zh-CN" sz="1300" spc="-1" strike="noStrike">
                <a:solidFill>
                  <a:srgbClr val="ededed"/>
                </a:solidFill>
                <a:latin typeface="Calibri"/>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素材下载  </a:t>
            </a:r>
            <a:r>
              <a:rPr b="0" lang="zh-CN" sz="1300" spc="-1" strike="noStrike">
                <a:solidFill>
                  <a:srgbClr val="ededed"/>
                </a:solidFill>
                <a:latin typeface="Calibri"/>
              </a:rPr>
              <a:t>http://www.eeppt.com/sucai/                     </a:t>
            </a:r>
            <a:r>
              <a:rPr b="0" lang="zh-CN" sz="1300" spc="-1" strike="noStrike">
                <a:solidFill>
                  <a:srgbClr val="ededed"/>
                </a:solidFill>
                <a:latin typeface="Calibri"/>
              </a:rPr>
              <a:t>古典中国风</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营销策划</a:t>
            </a:r>
            <a:r>
              <a:rPr b="0" lang="zh-CN" sz="1300" spc="-1" strike="noStrike">
                <a:solidFill>
                  <a:srgbClr val="ededed"/>
                </a:solidFill>
                <a:latin typeface="Calibri"/>
              </a:rPr>
              <a:t>ppt  http://www.eeppt.com/moban/yingxiao/  </a:t>
            </a:r>
            <a:r>
              <a:rPr b="0" lang="zh-CN" sz="1300" spc="-1" strike="noStrike">
                <a:solidFill>
                  <a:srgbClr val="ededed"/>
                </a:solidFill>
                <a:latin typeface="Calibri"/>
              </a:rPr>
              <a:t>经典商务</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外国</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guowai/   </a:t>
            </a:r>
            <a:r>
              <a:rPr b="0" lang="zh-CN" sz="1300" spc="-1" strike="noStrike">
                <a:solidFill>
                  <a:srgbClr val="ededed"/>
                </a:solidFill>
                <a:latin typeface="Calibri"/>
              </a:rPr>
              <a:t>工作总结</a:t>
            </a:r>
            <a:r>
              <a:rPr b="0" lang="zh-CN" sz="1300" spc="-1" strike="noStrike">
                <a:solidFill>
                  <a:srgbClr val="ededed"/>
                </a:solidFill>
                <a:latin typeface="Calibri"/>
              </a:rPr>
              <a:t>ppt</a:t>
            </a:r>
            <a:r>
              <a:rPr b="0" lang="zh-CN" sz="1300" spc="-1" strike="noStrike">
                <a:solidFill>
                  <a:srgbClr val="ededed"/>
                </a:solidFill>
                <a:latin typeface="Calibri"/>
              </a:rPr>
              <a:t>模板下载  </a:t>
            </a:r>
            <a:r>
              <a:rPr b="0" lang="zh-CN" sz="1300" spc="-1" strike="noStrike">
                <a:solidFill>
                  <a:srgbClr val="ededed"/>
                </a:solidFill>
                <a:latin typeface="Calibri"/>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  </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4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05:24:29Z</dcterms:created>
  <dc:creator>幻灯片之家 http://www.eeppt.com</dc:creator>
  <dc:description>幻灯片之家 http://www.eeppt.com</dc:description>
  <cp:keywords>幻灯片之家 http:/www.eeppt.com</cp:keywords>
  <dc:language>en-US</dc:language>
  <cp:lastModifiedBy/>
  <dcterms:modified xsi:type="dcterms:W3CDTF">2015-07-20T06:37:1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