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C5C-8D85-4750-A8AA-481BF06A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1AD-8144-407B-8CDE-E4EA5267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AB04B-BF76-47E0-A143-538526B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C372-26BF-404B-A109-B42EAED6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B329-DB4A-490A-8E58-7296E8F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2D1A6-C3A9-4A50-8349-4DEF71B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0953-2AB8-4DED-9FB5-7FD280F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0B0D8-0273-44AA-A12F-8EBC52E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0650D-4767-4525-82F3-6CE0BE69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8E0AC-2F4A-4461-854B-AA046D20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4E8F-A92D-434B-B1D2-B8CEC3E4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B23AD-1ACF-4316-BC18-7E4EDD1E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83F-5F00-4E5A-8891-C1BF4F0D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4CA9A-0A7B-4A84-B06E-92676A05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7CC02-EC55-4B0B-B833-AE291BD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564E2-2AC5-4F2A-A8F9-F2BEBC78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50888-0B47-4FE1-A661-134A6CDD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63F9-070C-4DD8-97C5-96D4861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13538-276A-4D00-BD56-CF99952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79DB4-CEAE-42FD-A944-3E820F7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BF13E-3001-4ECB-9B5B-BBFCF58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10B64-0E55-4FB2-8136-62D7820D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8223-67B6-4998-AC07-2FEC8955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FBC-EC71-4069-A409-AA3F3B31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C23A-3D2D-4E75-AC15-9F144A3B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6B76C-3C60-44D6-9F72-7BBE8AAF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B206C-5321-4ED4-A262-C43DFCA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56915-7521-4B28-92DF-4CD1B725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CBBDA-7373-4478-A8E4-0610A7CF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9600F-8F3D-42B3-B7BB-9EF1CF90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6AAE-0435-4EF6-BDCA-A118FC35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CE080-4606-49B7-896E-0F859AD7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650E-82A3-405D-AA93-BEC8CAB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63CE-DEF2-475A-8AAA-E282A66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C4B5-B350-41AC-A277-896F1A99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5DBEF-57D9-495A-8648-A489D1E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D11A1-350C-49D9-9D4A-AB23527E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9B93-6349-40AC-BAB3-6C0EE899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AEAA4-8026-444C-89EE-2B6A8ED6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CDE3D-D77C-42F1-8A89-DB3286D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6E2A8-88CB-48A0-AD32-23D8A22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D301A-D568-47F9-930B-8B0FD226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94FFB-658C-4870-819A-A0FDFED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12804-1115-4676-A6F3-9D2E631F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AFE39-771A-4A9C-B3F2-0B5D4DF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794-DFF1-494C-8492-31DDED8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EA673-7FFD-4F99-A0FD-AC10932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2A27-70BF-435F-81B1-6F763F2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9FB4-401C-4EE9-8B34-85B3A77C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F5C9-7DFF-4F16-9D65-FD043B3B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66E4E-B4B5-47EF-AC9F-A80B2F55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66950-4CDB-43A6-8C9D-2450170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ABE70-6BF9-4EB0-A2EF-9706C9D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8E731-82E4-47B6-8FD9-9673106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6C340-3464-4EFA-9B60-1227A2B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6AADC-4823-4738-B15B-FD4B544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BEC3-071B-413E-BE8E-60BDB07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83B29-723D-41AA-84D3-ADB786AD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AE481-4647-4A9D-B095-DD48848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C1B01-9515-41BC-A2BD-242F74E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3A2F4-CD4B-4AF1-B2BB-2C3FC06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2E34C-6AD7-44EB-A3FD-C09412B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0F7CF-3C62-480F-ACF8-60FE8D1C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BECDC-810E-4BA0-88DA-B0E3908E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64C9-2154-4491-97DF-31E6AD32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580-F374-4C83-A4FD-2F921D6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8CB-0AB8-495D-86CD-08B4E441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C87-DBB5-4010-8ABB-1823F61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A8B-7A41-4B98-B6BF-3DE0D961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BAF0-6B72-4E96-9080-8C585B0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BAE0-ECEC-44C6-9C41-2DC8CB7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29D7-05FA-485E-AF3B-4D6E53A8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0B5-5925-4C34-9B53-2FC7A57C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EBE-FC59-445F-8BCA-6105240F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89F9-15B4-4B5F-A4B6-81454FE8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BC47-84A1-44BA-9C3A-FDDDB14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0B95-807E-45D6-AE04-921A7DC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C7F8-0AFB-4E93-9B0D-0B29751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CEEA-3851-4D53-ABCD-8358675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74B-5F96-4896-9A42-C7CCE15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7A91-F8E6-4B10-99DC-FF542A9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5BEF-5D78-4DA3-8FDF-19F0ECD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CE9E-9DD2-4E27-90DA-9CB718E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1E5E-31D2-4B0E-8551-03EC60F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3A9E-3978-409D-BB46-152B42E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8FC2-286D-4F6A-82D9-35BE50D1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D834-59B5-4837-9636-E7B7F3E5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F011-DB24-48D6-8A5B-1F01E08D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FACC-362C-4D8B-B555-E0A6D24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167B-A2C5-4880-8FBF-4153D632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EE6-5B36-4CFD-BEE2-CC29C8F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DC10-3929-4CF3-950F-83696FF4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5DFFB-B71E-4431-8538-18BFB621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AB5D-D624-4C50-BD24-38BC954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2F6CB-B234-4C64-BEAC-5FEDC23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8BBD-0350-4E29-AB45-89DB1059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EDA4-C42B-4904-9A95-52BF58E8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F066-5409-40F8-A11D-C0D6491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7C57-7E40-41A6-8A2F-B920A888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12D6-AB0A-4CCB-B6D5-44C59C7B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F8EFC-2EAA-4CA8-923A-87DD8E6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6FC-E44F-4D80-B87E-5356F65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BD88-E291-4F77-B10F-3CFACF64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DCC49-A58F-414E-B791-C38979F7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96DD-0297-440F-A0BB-8AE4511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07B4-D2D9-4066-AB91-834E89BE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9B6D-016A-4678-AFF6-2159EFF7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4C14-72D5-4BF0-ABE5-F58CBE8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173E-DD13-46A6-A266-9D8C233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4106-B4A3-4BE4-8456-C8BDCFC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1427-AF58-4FBA-9990-30179B3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E7CE8-0A14-4EB2-BAD4-2029716B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1EB-F5D3-4B8C-85E7-13255CDA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95D85-0BC2-467E-B7C5-C06B25AD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6863-9549-4FA0-92F9-80F91620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B202C-41E6-480C-9E79-1CC18D7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EFD1-B3E1-4403-88A5-9DE55FB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13DF-6846-4049-B40E-FCA40607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C0DB-256C-43FC-9958-AE507DF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A450-2859-4E36-92F1-DE930A3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7BE4-5E30-4049-BA13-9551D89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5D3E-B15F-4175-9210-9F6E290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84443-F95C-4F21-B8F8-4FF22FE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F0F-F805-4712-B76B-C3DD998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CDC9B-405C-4FBD-AF8D-7D2E6CDD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BB215-DDEE-4B7A-B837-049B9D04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7C274-7DEA-4EF0-BCEC-5A16BC97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83FA-E062-431B-81A1-B6C75605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376F6-8054-4AD2-A250-F9ED3A5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79C59-C95B-4BB0-BCA1-B11973E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6116-F3B9-426D-907B-2563A94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81FC-C332-42E4-B20F-3CE684C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1904-BD6E-41E4-9C1B-4E141616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9672-1BED-4DE8-97FF-B970A82A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65E-0434-4535-8CCD-9D17FE8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4058-3D27-4902-930B-D16C3AC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9520-B405-42D0-B181-7F3B644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2CC76-4FBB-4BAE-BA08-0099D4C5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727B-E9F3-4F70-8CA8-FAD140DB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8AEE-EA62-443C-B0DA-F2EF5CAB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1B04-79D6-48EE-A0B4-1158E682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68A9E-C892-4B1E-8D26-F023F08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E1CF4-6D2A-4D4C-A693-BFF0A566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B1A9-196C-4BF8-B0BD-0FAF5ED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59E0-7704-4D03-8D16-FA50E82C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131-D253-47A3-A99C-3896447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794A8-ECC1-4D74-B7D1-5C7B7D74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C279-2C3D-4F8C-8208-2F4D4A5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14F7-729D-4E2B-AEAA-F800604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F256-1BEE-455F-86CE-34C1544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57775-4C77-4935-9931-C836AAF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9AEF-3A69-4AD6-83B3-D46064E0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7324-5E4F-44E3-8E17-BF66054A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42979-9C65-4E58-85A9-99B77983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C9D64-EC19-464C-97E8-6EE7723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463D8-D85B-4089-9E0D-2FF35E02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9854-FEB0-42F4-8CD1-1794F719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4C4A-2C76-4A6E-AB63-0DADC8EFA2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88B-A541-49DD-B762-18325553CB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3643-5097-44FC-B54D-565BB88C00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52F8-3266-4331-B522-B5723DEEAC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57D-087B-4147-925A-B5C14538D7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D8C2-D609-49AB-AEE7-04AAE88A44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BA2-557A-48EF-BE51-CA946A86A0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FE2-304E-40A7-85A4-E0B59C3F05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0A3-318F-422A-9AC6-1E9E2A7BBE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239-0CBE-4A7E-87A1-9762480768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C1A-1178-4005-B2C3-6451BD0DA0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D632-62E6-42FE-83A4-8488CBBAC4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djzs.com/subject/yuanjiao/dzja/xiaoxue/118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1990440" y="1278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南辕北辙完整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朋友劝了那个人三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人接受了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他这样总是顽固地坚持自己的想法而不听别人意见的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一个成语形容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什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971640" y="4137120"/>
            <a:ext cx="7559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7696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朋友劝了那个人三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人接受了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他这样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总是顽固地坚持自己的想法而不听别人意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一个成语形容他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什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971640" y="4137120"/>
            <a:ext cx="7559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4356000" y="3213000"/>
            <a:ext cx="216000" cy="2087640"/>
          </a:xfrm>
          <a:prstGeom prst="upArrow">
            <a:avLst>
              <a:gd name="adj1" fmla="val 50000"/>
              <a:gd name="adj2" fmla="val 241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2268360" y="551664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固 执 己 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楚国在南边，他硬要往北边走。他的马越好，赶车的本领越大，盘缠带得越多，走得越远，就越到不了楚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900000" y="620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他能到得了楚国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tu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14440" y="-266760"/>
            <a:ext cx="10172880" cy="73915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5"/>
          <p:cNvSpPr/>
          <p:nvPr/>
        </p:nvSpPr>
        <p:spPr>
          <a:xfrm>
            <a:off x="539640" y="189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以后会怎么样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5003640" y="59500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受到什么启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我明白了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99cc00"/>
                </a:solidFill>
                <a:latin typeface="Arial"/>
                <a:ea typeface="楷体_GB2312"/>
              </a:rPr>
              <a:t>方向错了，永远也到不了目的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00000" y="90792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寓言告诉我们，无论做什么事，只有首先看准方向，才能充分发挥自己的有利条件；如果方向错了，那么有利条件只会起到相反的作用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2"/>
          <p:cNvSpPr/>
          <p:nvPr/>
        </p:nvSpPr>
        <p:spPr>
          <a:xfrm rot="17041800">
            <a:off x="698400" y="-41400"/>
            <a:ext cx="3809880" cy="4559040"/>
          </a:xfrm>
          <a:prstGeom prst="cloudCallout">
            <a:avLst>
              <a:gd name="adj1" fmla="val -21847"/>
              <a:gd name="adj2" fmla="val 82013"/>
            </a:avLst>
          </a:prstGeom>
          <a:solidFill>
            <a:srgbClr val="fee8f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pic_64015"/>
          <p:cNvPicPr/>
          <p:nvPr/>
        </p:nvPicPr>
        <p:blipFill>
          <a:blip r:embed="rId1"/>
          <a:srcRect l="72189" t="78373" r="2297" b="7869"/>
          <a:stretch/>
        </p:blipFill>
        <p:spPr>
          <a:xfrm>
            <a:off x="5867280" y="2708280"/>
            <a:ext cx="2784600" cy="3081240"/>
          </a:xfrm>
          <a:prstGeom prst="rect">
            <a:avLst/>
          </a:prstGeom>
          <a:ln w="0">
            <a:noFill/>
          </a:ln>
        </p:spPr>
      </p:pic>
      <p:sp>
        <p:nvSpPr>
          <p:cNvPr id="583" name="AutoShape 9"/>
          <p:cNvSpPr/>
          <p:nvPr/>
        </p:nvSpPr>
        <p:spPr>
          <a:xfrm>
            <a:off x="2195640" y="3141720"/>
            <a:ext cx="3024000" cy="1224000"/>
          </a:xfrm>
          <a:prstGeom prst="wedgeEllipseCallout">
            <a:avLst>
              <a:gd name="adj1" fmla="val 82912"/>
              <a:gd name="adj2" fmla="val 497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348000" y="5373720"/>
            <a:ext cx="71640" cy="71280"/>
          </a:xfrm>
          <a:prstGeom prst="cloudCallout">
            <a:avLst>
              <a:gd name="adj1" fmla="val 3023333"/>
              <a:gd name="adj2" fmla="val 72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1116000" y="1628640"/>
            <a:ext cx="295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想对那个楚国人说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8"/>
          <p:cNvSpPr/>
          <p:nvPr/>
        </p:nvSpPr>
        <p:spPr>
          <a:xfrm>
            <a:off x="3059280" y="1844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3"/>
          <p:cNvSpPr/>
          <p:nvPr/>
        </p:nvSpPr>
        <p:spPr>
          <a:xfrm>
            <a:off x="5003640" y="4581360"/>
            <a:ext cx="216000" cy="1079640"/>
          </a:xfrm>
          <a:prstGeom prst="up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716360" y="553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Comic Sans MS"/>
                <a:ea typeface="楷体_GB2312"/>
              </a:rPr>
              <a:t>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277880" y="404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辕：车前头架在牲口上的两根长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tu5"/>
          <p:cNvPicPr/>
          <p:nvPr/>
        </p:nvPicPr>
        <p:blipFill>
          <a:blip r:embed="rId1"/>
          <a:stretch/>
        </p:blipFill>
        <p:spPr>
          <a:xfrm>
            <a:off x="-514440" y="-266760"/>
            <a:ext cx="10172880" cy="739152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5"/>
          <p:cNvSpPr/>
          <p:nvPr/>
        </p:nvSpPr>
        <p:spPr>
          <a:xfrm>
            <a:off x="7451640" y="342900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8353440" y="2997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4500720" y="595008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辙：车轮碾过的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3505320" y="1706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 读 认 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03280" y="2708280"/>
            <a:ext cx="705636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u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　　　　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ì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258920" y="3227400"/>
            <a:ext cx="7200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北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盘 　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　式　　　街　　　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149200" y="9810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我读课文我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809800" y="3068640"/>
            <a:ext cx="441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宋体"/>
              </a:rPr>
              <a:t>课文主要讲了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辕北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那个人是怎么想怎么说的？他的朋友又是怎么说的？请你找出他们之间一共发生了几次对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tu5"/>
          <p:cNvPicPr/>
          <p:nvPr/>
        </p:nvPicPr>
        <p:blipFill>
          <a:blip r:embed="rId1"/>
          <a:stretch/>
        </p:blipFill>
        <p:spPr>
          <a:xfrm>
            <a:off x="4284720" y="3186000"/>
            <a:ext cx="4859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6756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99cc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国在南边，你怎么往北走呀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的马跑得快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跑得越快，离楚国不是越远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的车夫是个好把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哪一天才能到楚国呀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不怕时间久，我带的盘缠多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tu5"/>
          <p:cNvPicPr/>
          <p:nvPr/>
        </p:nvPicPr>
        <p:blipFill>
          <a:blip r:embed="rId1"/>
          <a:stretch/>
        </p:blipFill>
        <p:spPr>
          <a:xfrm>
            <a:off x="6156360" y="4797360"/>
            <a:ext cx="2987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6756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国在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，你怎么往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呀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马跑得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跑得越快，离楚国不是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越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车夫是个好把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哪一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能到楚国呀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不怕时间久，我带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盘缠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tu5"/>
          <p:cNvPicPr/>
          <p:nvPr/>
        </p:nvPicPr>
        <p:blipFill>
          <a:blip r:embed="rId1"/>
          <a:stretch/>
        </p:blipFill>
        <p:spPr>
          <a:xfrm>
            <a:off x="0" y="4869000"/>
            <a:ext cx="2916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国在南边，你怎么往北走呀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的马跑得快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跑得越快，离楚国不是越远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的车夫是个好把式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你哪一天才能到楚国呀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怕时间久，我带的盘缠多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05:29Z</dcterms:created>
  <dc:creator/>
  <dc:description/>
  <cp:keywords>幻灯片之家 http:/www.eeppt.com</cp:keywords>
  <dc:language>en-US</dc:language>
  <cp:lastModifiedBy/>
  <dcterms:modified xsi:type="dcterms:W3CDTF">2015-07-20T06:38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